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608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779-C811-42DC-964F-26315A9C939A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91840" y="4714560"/>
            <a:ext cx="5484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335400" y="9429840"/>
            <a:ext cx="3333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B77-7A0C-4C24-9DEB-F5DBB7DE92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91840" y="4714560"/>
            <a:ext cx="5484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disclosure at a bank level from 1 January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will use Tier 1 capital for the numerator. For the denominator, it will use total assets plus OBS after applying uniform CCF and a 10% CCF for unconditionally cancelable OBS commitments. Basel II netting will apply fo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leverage ratio constraint is permanent, it is expected to be binding only occasionally. Apart from institution-specific reasons, this is more likely during boom periods, as RWAs tend to fall relative to total assets, given prevailing risk measurement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591840" y="4714560"/>
            <a:ext cx="5484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raints imposed only relate to distributions, not the operations of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raints imposed on banks with capital levels at the top of the range would be minimal – Basel Committee does not want to impose constraints for entering the range that are so restrictive as to result in the range being viewed as a new minimum capital requirement; the closer a bank’s regulatory capital ratio is to the minimum requirements, the greater the constraint on earnings and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earnings: To be consistent, this would be distributable profits calculated prior to the deduction of elements subject to the restriction on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91840" y="4714560"/>
            <a:ext cx="5484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 III is at the centre of the financial reform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 III represents a substantial strengthening of global capital standards that will contribute to greater finan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EC5-ED24-4D7E-A858-53E49C9F0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2560" y="260388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1C22-3842-46FB-B208-7F1FA01D8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212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4E9C-CF1B-4DCA-B728-F6B691B72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040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256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1040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782A-9ED2-4B1F-9095-4463C3BFF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CF91-3EA6-4C53-8B61-CA30EE4791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82560" y="2338200"/>
            <a:ext cx="71805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A0B2-5B92-4148-9670-DD394DDC5B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71805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9B5C-17A3-4EE5-BB9C-4834F0CB3C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F734-BA62-4A6A-B3CE-D067E955B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605A-6E82-4270-BE41-7C1FD6209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82200" y="1420920"/>
            <a:ext cx="716292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BCCB-39A4-4751-ABDF-5E50CC4B86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37AC-379B-495F-BA89-0A7E9E4FF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2560" y="2338200"/>
            <a:ext cx="71805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A35C-A29A-42A9-9B33-475F720A8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6212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9AEB-D2F0-499E-A2E0-08FFEB6DE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D06C-D2FC-4B88-B549-B43D7C54B7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82560" y="260388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F23C-0D51-4176-81B1-31955B264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6212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288C-32C7-442A-96C1-E070B789D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040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8240" y="233820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8256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1040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8240" y="2603880"/>
            <a:ext cx="231192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C312-27A7-4502-83DB-3F57DE95E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71805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17F9-856A-4AEE-95DB-E84B8865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341A-B468-45F4-80A3-1BAAD9810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C9E3-D697-4C91-8BF0-D5E8F0EA0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2200" y="1420920"/>
            <a:ext cx="716292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BD72-EAD2-4449-B776-06DD57B7C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97D2-5BF0-426A-9555-D2AFB4754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2120" y="260388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B546-4D3A-40FA-94CF-A79A98547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256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2120" y="2338200"/>
            <a:ext cx="3503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2560" y="2603880"/>
            <a:ext cx="718056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0F52-7A66-479D-8B4B-6771D6716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11960" y="609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333300"/>
                </a:solidFill>
                <a:latin typeface="Arial"/>
              </a:rPr>
              <a:t>Restricted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111-615D-41F5-9C78-B42ABC66D54B}" type="slidenum"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82200" y="1420920"/>
            <a:ext cx="71629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08800" y="762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333300"/>
                </a:solidFill>
                <a:latin typeface="Arial"/>
              </a:rPr>
              <a:t>Restricted</a:t>
            </a:r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8267760" y="627336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96F-AECE-4338-B674-F60719FC8B37}" type="slidenum"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7760" y="627372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67AF-68F6-4AB1-B959-AEF1821260B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3986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0000"/>
                </a:solidFill>
                <a:latin typeface="Arial"/>
              </a:rPr>
              <a:t>Enhan</a:t>
            </a:r>
            <a:r>
              <a:rPr b="1" lang="de-CH" sz="3200" spc="-1" strike="noStrike">
                <a:solidFill>
                  <a:srgbClr val="a60000"/>
                </a:solidFill>
                <a:latin typeface="Arial"/>
              </a:rPr>
              <a:t>cements to the</a:t>
            </a:r>
            <a:br>
              <a:rPr sz="3200"/>
            </a:br>
            <a:r>
              <a:rPr b="1" lang="de-CH" sz="3200" spc="-1" strike="noStrike">
                <a:solidFill>
                  <a:srgbClr val="a60000"/>
                </a:solidFill>
                <a:latin typeface="Arial"/>
              </a:rPr>
              <a:t>Regulatory Capital Framework (Basel </a:t>
            </a:r>
            <a:r>
              <a:rPr b="1" lang="en-US" sz="3200" spc="-1" strike="noStrike">
                <a:solidFill>
                  <a:srgbClr val="a60000"/>
                </a:solidFill>
                <a:latin typeface="Arial"/>
              </a:rPr>
              <a:t>III)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005280"/>
            <a:ext cx="8497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AARCFINANCE Regional Seminar on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sel II Enhancements and Policy Responses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slamabad, Pakistan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11 April 2011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Jason Georg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inancial Stability Institute / Bank for International Settlements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ong Kong SAR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82200" y="2517840"/>
            <a:ext cx="7310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ed risk coverage/higher risk weights for securitisatio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redit conversion factors for short-term liquidity facilities to off-balance sheet con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igorous own credit analyses of externally rated securitisation exp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higher capital charge for securitsation and market risk by end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nominator: securitisation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2AE-D0BF-4AD0-831B-6BD4233F30A5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47280" y="2492280"/>
            <a:ext cx="73105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s from th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requirements for trading book exposures are low, even relative to banks’ economic capital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practices and the inputs to them were unreliable, particularly in times of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12-month stressed VaR capit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risk capital charge applied to the measurement of specific risk in credit sensitive positions when using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reatment for TB and BB securit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nominator: trading book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764-C36D-4AEA-96B4-428FDA644474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7360" y="2257560"/>
            <a:ext cx="7893000" cy="3722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nominator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B9F-5C77-4066-BE3C-4A458C9FF20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582560" y="2403360"/>
          <a:ext cx="6950160" cy="3959280"/>
        </p:xfrm>
        <a:graphic>
          <a:graphicData uri="http://schemas.openxmlformats.org/drawingml/2006/table">
            <a:tbl>
              <a:tblPr/>
              <a:tblGrid>
                <a:gridCol w="4269960"/>
                <a:gridCol w="216000"/>
                <a:gridCol w="1018080"/>
                <a:gridCol w="216000"/>
                <a:gridCol w="1230120"/>
              </a:tblGrid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Requirements (% of RWA)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 II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 III*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common equity capital ratio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conservation buffer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equity + capital conservation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Tier 1 capital ratio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total capital ratio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1803240"/>
                          <a:tab algn="l" pos="2705040"/>
                          <a:tab algn="l" pos="3606840"/>
                          <a:tab algn="l" pos="4508640"/>
                          <a:tab algn="l" pos="5410080"/>
                          <a:tab algn="l" pos="6311880"/>
                          <a:tab algn="l" pos="7213680"/>
                          <a:tab algn="l" pos="8115480"/>
                          <a:tab algn="l" pos="9016920"/>
                          <a:tab algn="l" pos="9918720"/>
                          <a:tab algn="l" pos="108205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pital + capital conservation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ratio (non-risk-based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ercyclical capital buffer (nat. discretion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.5%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FI capital buffer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r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547640" y="655308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Fully phased-in requirements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82560" y="1438200"/>
            <a:ext cx="693432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5AA-86D1-4939-8688-E80D174DE0A8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82560" y="1438200"/>
            <a:ext cx="693432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7C9D-6568-4E0C-8D6B-31E4847524B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197080"/>
            <a:ext cx="82090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Pillar 2 guidance to addres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-wide governance and 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of off-balance sheet exposures and securitis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risk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compens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Pillar 3 disclosures cover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isation exp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of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uner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3E10-4D6E-475A-94F3-64FA9D40B2EA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756144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upervisory guidanc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management principles (09/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essment of valuation practices (04/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testing principles (05/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 principles and standards assessment methodology (01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for enhancing corporate governance (1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principles on supervisory colleges (10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D178-A30A-4F88-9277-7BB62465623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yclicality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pen cyclicality in the minimum capital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forward looking pro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 capital to build buffers to be used during stress (capital conservation buf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the banking sector from periods of excess growth (countercyclical capital buf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measures for systemically important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97B-9DCF-495E-B6C1-271C97FCB37F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 the risk-based framework with a simple measure of total assets and off-balance sheet exp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 the build-up of leverage during boom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safeguards against model risk, measurement error and attempts to “game” risk-bas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y monitoring from 01.01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n 01.01.2013 – 01.01.2017       </a:t>
            </a:r>
            <a:r>
              <a:rPr b="0" lang="en-US" sz="2000" spc="-1" strike="noStrike">
                <a:solidFill>
                  <a:srgbClr val="a60000"/>
                </a:solidFill>
                <a:latin typeface="Arial"/>
              </a:rPr>
              <a:t>3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o migrate the requirement to Pillar 1 on 01.01.2018 after appropriate review and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rage ratio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0DE-BBB3-4455-8DF5-A53CCCB19BA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5120" y="536904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a6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82560" y="5877000"/>
            <a:ext cx="7166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leverage ratio for banks with TEC1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€ billion is 2.8%; for all other banks 3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rage ratio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19C-8827-4D09-9C30-D7549B0052E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4200" y="2492280"/>
            <a:ext cx="3602160" cy="2955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67280" y="1957320"/>
            <a:ext cx="48258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a6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82200" y="2517480"/>
            <a:ext cx="67345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apital and the financial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form of bank capital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prudential over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ically important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of the global r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B55-93D0-4078-B300-65F295A1B48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BS will collect data during the transition period to track the impact of using total reg. capital and CE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: Apply accounting measure of the exposure netting rules based upon Basel II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: Future potential exposure under current exposure method and netting rules based upon Basel II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OBS: 100%CCF unless unconditionally cancelable at any time by the bank, then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rage ratio: Definition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2B73-7899-4709-852D-CCFDFB4038F5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from th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made discretionary payments as their condition was deterio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should build capital buffers outside of periods of stress that can be drawn upon as losses are in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ffer should be sufficient to maintain capital levels above the minimum during a sector-wide down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s should be rebuilt through a reduction in discretionary distributions of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conservation buffer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140-D10C-46BB-A558-8F992A724CFE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range above the minimum capital requirements is established (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distribution constraints are imposed when capital levels fall within this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type: Buffer capital must be capable of absorbing losses on a going concern basis         Tier 1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subject to restriction: Dividends, share buybacks, discretionary bo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conservation buffer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4797360"/>
            <a:ext cx="358920" cy="216000"/>
          </a:xfrm>
          <a:prstGeom prst="right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2E14-3682-414D-A738-7EBBBB940DCF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3821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buffer of capital to protect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ing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periods of excess aggregate credit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adequate capital i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ing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intain the flow of credit in the economy during periods of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 to be deployed in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decisions and recipr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urisdiction is responsible for determining the buffer size (0-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size is based upon the location of th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cyclical capital buffer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C5E6-27DB-44A9-B6DB-E1744F3A8FF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authority must monitor credit growth and determine if it is excessive and leading to build-up of system-wid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judgment to determine if buffer should increase or decreas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n upper bound of 2.5% during periods of excess credit growth that increase system-wid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higher, but reciprocity provisions do not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add-on of zero at other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add-on decision announced 12 months in advance of its effective date (buffer release effective immediat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cyclical capital buffer: National buffer decision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37A-F0DB-4D63-9DAA-DCBAD0C84D2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ed as an extension to the capital conservation buffer with distribution restrictions applied to the combine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size is determined through judgment and the use of a private sector credit/GDP guide that serves as a star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/GDP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have been a useful indicator of build-up of systemic risk in the past,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work well in all jurisdictions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cyclical capital buffer: Buffer size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061-8BC8-4840-BE0D-131DAF5BC487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ment must be anchored to clear princi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decisions must be guided by the objectives to be achieved by the bu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/GDP guide is a starting point and does not need to play a domin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 misleading signals (decline in GDP); is credit/GDP signal consistent with other indicators (eg credit condition surveys, funding &amp; CDS spreads, real GDP growth, various asset pr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 release of the buffer in times of stress can reduce risk of the supply of credit being const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is one tool in a suite of macroprudential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of the rationale behind buffer decisions is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I. Macroprudential overlay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cyclical capital buffer: Buffer size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5197-897F-4BC3-A31C-71D6ED627A9E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day, the Seoul Summit deliv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elements of a new financial regulatory framework, including…measures to better regulate and effectively resolve systemically important financial institutions, complemented by more effective oversight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20 Seoul Su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ers’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-12 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60000"/>
                </a:solidFill>
                <a:latin typeface="Arial"/>
              </a:rPr>
              <a:t>No firm should be too big to fail or too complicated to fail; taxpayers should not bear the cost of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mandate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572-DA04-4950-9FCA-13794E541643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lobal and national SI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and efficient resolu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tense supervisory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Is should have a higher loss absorbenc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core financial market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upplementary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lobal SI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international recovery and resolu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orous assessment through supervisory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cross-border resolution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framework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2A18-D117-46B4-A2E5-DB683D2D8DD2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of disruption to financial services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aused by an impairment of all or parts of the financial system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potential to have serious negative consequences for the re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s will involve judgment and will be time va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boundarie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73C6-BC44-4B01-9083-9053E8D27E23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attempted to keep the overall level of capital the same as that under Base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did not sufficiently capture the risk in complex structur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capital requirements are procyclical; thereby amplifying business cycle fluc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did not consider the impact of stress in the broader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. Bank capital and the financial crisi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 II: Weaknesses identified by the crisi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3C88-BFD1-4B65-8F69-79C82B01D71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systemic damage caused by a disorderly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s should not be exposed to the risk of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continued performance of essent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terrupted access to deposit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and sale of portions of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t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national resolution reg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of mutual recognition (home – h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planning for handling stress and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and efficient resolution framework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6106-9DC3-4F4C-BA5C-E2EFEFC3A65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82200" y="3286080"/>
            <a:ext cx="731052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upervisory mandates, independence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ll suite of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n the area of early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tandards for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ng greater complexity of the financi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integration of micro and macro risk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icter assessment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detection of potential weaknesses in the oversigh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visory intensity and oversight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515-8428-42D1-AC8D-3A1C6D2E82D8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2517840"/>
            <a:ext cx="69580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changes are not enough: </a:t>
            </a:r>
            <a:r>
              <a:rPr b="0" i="1" lang="en-US" sz="2000" spc="-1" strike="noStrike">
                <a:solidFill>
                  <a:srgbClr val="a60000"/>
                </a:solidFill>
                <a:latin typeface="Arial"/>
              </a:rPr>
              <a:t>supervisors must have the will and ability to act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9640" indent="-359640">
              <a:lnSpc>
                <a:spcPct val="105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additional loss absorbency is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>
              <a:lnSpc>
                <a:spcPct val="105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sur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t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l-in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>
              <a:lnSpc>
                <a:spcPct val="105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and liquidity reforms affecting SI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s to use CCPs for OTC 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quirements for trading and derivative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quirements for inter-financial sector exp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080" indent="-282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equirements penalising excessive reliance on short-term interbank funding to support long da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loss absorbency capacity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8D4-A50A-42C4-A43B-81DA701DCED7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loss absorbency capacity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DC65-6033-4475-8522-1AD2AB6A9B27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60600" y="2841480"/>
            <a:ext cx="6946920" cy="3683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07680" y="2371680"/>
            <a:ext cx="55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.S. Bank Capital Ratios by Bank Size, 1976-2009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62320" y="6520320"/>
            <a:ext cx="42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Hanson, Kashyap, and Stein (July 2010)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82200" y="1437840"/>
            <a:ext cx="73105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s and process: Loss absorbency / capital surcharge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E55-403F-40AF-9873-2CBBF329B05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82560" y="2517840"/>
          <a:ext cx="6958080" cy="3949560"/>
        </p:xfrm>
        <a:graphic>
          <a:graphicData uri="http://schemas.openxmlformats.org/drawingml/2006/table">
            <a:tbl>
              <a:tblPr/>
              <a:tblGrid>
                <a:gridCol w="1765440"/>
                <a:gridCol w="519264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3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April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BS to finalise identification methodology; create a proposed bucketing approach; criteria for supervisory judgment; consultation with national authorities on accuracy of G-SIB lis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May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BS and FSB to consider draft proposals on instruments meeting additional loss absorbency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July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BS publishes consultative documen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s to G20 Leaders, Ministers and Governors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November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BS publishes final loss absorbency standards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up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enchmark guide approach” using: (1) quantitative indicator-based approach, (2) supervisory discretion and (3) a peer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antitative scorecard that uses a ranking methodology based upon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Scorecar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or-bas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 weighting to five categories of systemic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absorbency: Modified Scorecard Approach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7B1F-0D9F-40BA-868E-C539F75A3FFA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absorbency: Modified Scorecard Approach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EB7F-477B-4BE7-97D4-235F406DE6BA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93720" y="2222640"/>
            <a:ext cx="625644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surcharge for all S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, easy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consider differences between systemic importance of S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o five 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cket at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rongest incentive to reduce systemic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cliff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Scorecard may not be accurate enough for this approach (data iss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absorbency: Potential capital surcharge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A96A-B395-46F6-91A5-1C2773494F6A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ment of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 Review Counc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view wh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G-SIFI policy measures adopted constitute reasonable choices from amongst the available set of policy options and potential trade-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-SIFI Recovery and Resolution plans and institution-specific cooperation agreements are robust and likely to be effect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G-SIFI policy measures are globally consistent and mutually suppor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loss absorbency measures have been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implementat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4315-CD31-4C53-B5B6-4EE2B1D2C19C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challenges and issues associated with identifying SIF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jurisdictions do not have a SIFI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nd situation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 list of SIFIs be made publ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ome degree of moral hazard inevi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are fundamental to the financi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ces of a major bank liqui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ome degree of systemic risk is unavoid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808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over-reliance o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effective is legislation in the context of SIF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V. Systemically important financial institut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 for discuss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514C-EF3B-428F-BA2F-00A15D53FC0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recognition of risks involved in re-securitization and trading activities (insufficient risk cap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ild-up of excessive le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and low-quality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oss absorb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liquidity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yclical deleverag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edness of SI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. Bank capital and the financial crisi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s: Weaknesses identified by the crisis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71D-E68C-4C6D-9E36-6555BF033E63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82560" y="2517840"/>
            <a:ext cx="69580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I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3 banks from 23 Basel Committe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 Group 1 banks (Tier 1 capital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billion); very high coverage of the banking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9 Group 2 banks (Tier1 capital 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b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s of 31.12.2009 on consolidated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ssumptions about future profitibaility or behavioral responses (ie change in portfolio or business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V. Impact of the Global Reform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 III: Quantitative Impact Study (QIS)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E7F-1DBC-4A6A-AD06-3B286C3F13FE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0000"/>
                </a:solidFill>
                <a:latin typeface="Arial"/>
              </a:rPr>
              <a:t>V. Impact of the Global Reforms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 III: Quantitative Impact Study (QIS)</a:t>
            </a:r>
            <a:endParaRPr b="1" lang="en-US" sz="18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82200" y="4677840"/>
            <a:ext cx="6589800" cy="17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line in CET1 is largely attributable 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definition of capital deductions and filters not previously applied at CET1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risk weighted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 1 banks will need €165 billion to meet 4.5% CET1 requirement and €577 billion to meet CET1 target of 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C8E-A02D-4E1F-A2B5-A7AD84AFC74E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3640" y="2421000"/>
            <a:ext cx="6958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95400" y="2249640"/>
            <a:ext cx="715176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V. Impact of the Global Reform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 III: Quantitative Impact Study (QIS)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CD3D-B6A5-4D35-AD3F-1B123F8BBF20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82560" y="2505240"/>
            <a:ext cx="6958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economic assessment group (tran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er capital and liquidity standards will have only a modest impact on 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igher standards are implemented over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% decline in GDP for each 1.0% increase in capital once the new rule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% decline in the annual growt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economic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economic benefits from an increase in capital requirements (reduced probability of financial cr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 reduction in probability =&gt; 0.2 – 0.6%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V. Impact of the Global Reform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impact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53EA-648E-4A34-B541-C89F36392A25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review of the trading book: should a banking book - trading book distinction be maintai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ngs and securitisations: efforts to reduce the reliance on external ratings (an issue in the SA of Basel 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xposures: strengthened guidance (particularly important for SIF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border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Principles: review to incorporate lessons from th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atic peer reviews; pilot to take place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VI. Conclusio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B4B-E357-47BB-9D62-9C1B216084FB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I successfully addresses both firm-specific (microprudential) and systemic (macroprudential)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the quality of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the level of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a lever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coverage and capture of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 of procyclicality through capital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I represents a return to fundamentals and encourages banks to focus on core bank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I alone is not enough: enhanced supervision and regulation in a number of other areas is also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VI. Conclusions</a:t>
            </a:r>
            <a:br>
              <a:rPr sz="2400"/>
            </a:br>
            <a:endParaRPr b="1" lang="en-US" sz="24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805-2007-4EE8-B591-721B3DCFF51C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267760" y="627372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C19-F8A7-4E82-B529-21CA163B7066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13986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0000"/>
                </a:solidFill>
                <a:latin typeface="Arial"/>
              </a:rPr>
              <a:t>Enhan</a:t>
            </a:r>
            <a:r>
              <a:rPr b="1" lang="de-CH" sz="3200" spc="-1" strike="noStrike">
                <a:solidFill>
                  <a:srgbClr val="a60000"/>
                </a:solidFill>
                <a:latin typeface="Arial"/>
              </a:rPr>
              <a:t>cements to the</a:t>
            </a:r>
            <a:br>
              <a:rPr sz="3200"/>
            </a:br>
            <a:r>
              <a:rPr b="1" lang="de-CH" sz="3200" spc="-1" strike="noStrike">
                <a:solidFill>
                  <a:srgbClr val="a60000"/>
                </a:solidFill>
                <a:latin typeface="Arial"/>
              </a:rPr>
              <a:t>Regulatory Capital Framework (Basel </a:t>
            </a:r>
            <a:r>
              <a:rPr b="1" lang="en-US" sz="3200" spc="-1" strike="noStrike">
                <a:solidFill>
                  <a:srgbClr val="a60000"/>
                </a:solidFill>
                <a:latin typeface="Arial"/>
              </a:rPr>
              <a:t>III)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3005280"/>
            <a:ext cx="8497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AARCFINANCE Regional Seminar on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sel II Enhancements and Policy Responses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slamabad, Pakistan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11 April 2011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Jason Georg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inancial Stability Institute / Bank for International Settlements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ong Kong SAR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82560" y="2517480"/>
            <a:ext cx="716616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uly 2009 the BCBS issued measures to strengthen th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governing trading book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atment of certain securitisations in Pilla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eptember 2009 the Group of Central Bank Governors and Heads of Supervision reached agreement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 the quality, consistency and transparency of the capital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 lever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 framework for countercyclical capital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recommendations to reduce systemic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. Bank capital and the financial crisi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orm measures: firm-specific and macroprudential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5FE8-4DFA-4A5F-BB7E-A1C1C509239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Thirty years of bank capital regulation</a:t>
            </a:r>
            <a:endParaRPr b="1" lang="en-US" sz="2400" spc="-1" strike="noStrike">
              <a:solidFill>
                <a:srgbClr val="a6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4000" y="1951200"/>
            <a:ext cx="8569080" cy="4550760"/>
            <a:chOff x="324000" y="1951200"/>
            <a:chExt cx="8569080" cy="4550760"/>
          </a:xfrm>
        </p:grpSpPr>
        <p:sp>
          <p:nvSpPr>
            <p:cNvPr id="107" name=""/>
            <p:cNvSpPr/>
            <p:nvPr/>
          </p:nvSpPr>
          <p:spPr>
            <a:xfrm>
              <a:off x="2484360" y="5594040"/>
              <a:ext cx="3959280" cy="907920"/>
            </a:xfrm>
            <a:prstGeom prst="ellipse">
              <a:avLst/>
            </a:prstGeom>
            <a:solidFill>
              <a:srgbClr val="e5d58a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84440" y="5638680"/>
              <a:ext cx="374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a60000"/>
                  </a:solidFill>
                  <a:uFillTx/>
                  <a:latin typeface="Arial"/>
                </a:rPr>
                <a:t>11/2010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60000"/>
                  </a:solidFill>
                  <a:latin typeface="Arial"/>
                </a:rPr>
                <a:t>G20 endorsement of Basel III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3039840"/>
              <a:ext cx="8569080" cy="1223640"/>
            </a:xfrm>
            <a:prstGeom prst="rightArrow">
              <a:avLst>
                <a:gd name="adj1" fmla="val 48120"/>
                <a:gd name="adj2" fmla="val 66820"/>
              </a:avLst>
            </a:prstGeom>
            <a:solidFill>
              <a:srgbClr val="a60000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71560" y="3720960"/>
              <a:ext cx="2087640" cy="1871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12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3192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90800" y="356688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7824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8692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204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57680" y="3570120"/>
              <a:ext cx="15264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4320" y="3570120"/>
              <a:ext cx="15264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040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80360" y="357012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96800" y="2715840"/>
              <a:ext cx="216000" cy="86328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028880" y="3722400"/>
              <a:ext cx="244440" cy="52848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994040" y="2930040"/>
              <a:ext cx="71280" cy="62964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484000" y="3736800"/>
              <a:ext cx="71640" cy="5187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203640" y="2755440"/>
              <a:ext cx="1496880" cy="8139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24000" y="3722400"/>
              <a:ext cx="1361880" cy="5331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87640" y="3187440"/>
              <a:ext cx="817560" cy="38232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03960" y="3187080"/>
              <a:ext cx="139680" cy="3855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80440" y="3720960"/>
              <a:ext cx="576000" cy="57420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8008560" y="2980800"/>
              <a:ext cx="431640" cy="57564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9560" y="1952280"/>
              <a:ext cx="938520" cy="77868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06/2004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I issu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93920" y="1951200"/>
              <a:ext cx="122400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1996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Market risk amendment issu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1952280"/>
              <a:ext cx="906480" cy="79020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07/1988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 issu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6000" y="1963440"/>
              <a:ext cx="151272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01/2019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Full implementation of Basel III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9400" y="4255920"/>
              <a:ext cx="131292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1997 </a:t>
              </a: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Market risk amendment implement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000" y="4255920"/>
              <a:ext cx="1295280" cy="77868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1992 </a:t>
              </a: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 fully implement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1440" y="1951200"/>
              <a:ext cx="1224000" cy="123516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2009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II consultative document issu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8120" y="4254120"/>
              <a:ext cx="1295280" cy="77868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2006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I implement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30480" y="1952280"/>
              <a:ext cx="1719360" cy="123516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07/2009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Revised securitisation &amp; trading book rules issu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1760" y="356688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05320" y="4255920"/>
              <a:ext cx="178128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2007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I advanced approaches implement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6360" y="4267080"/>
              <a:ext cx="103176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01/2013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Basel III becomes effective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292360" y="3722400"/>
              <a:ext cx="747720" cy="54432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267080"/>
              <a:ext cx="1297080" cy="1006920"/>
            </a:xfrm>
            <a:prstGeom prst="rect">
              <a:avLst/>
            </a:prstGeom>
            <a:solidFill>
              <a:srgbClr val="e5d58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333300"/>
                  </a:solidFill>
                  <a:uFillTx/>
                  <a:latin typeface="Arial"/>
                </a:rPr>
                <a:t>12/2011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00"/>
                  </a:solidFill>
                  <a:latin typeface="Arial"/>
                </a:rPr>
                <a:t>Trading book rules implemented</a:t>
              </a:r>
              <a:endParaRPr b="0" lang="en-US" sz="15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00760" y="3566880"/>
              <a:ext cx="15264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77080" y="3720960"/>
              <a:ext cx="0" cy="53928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15280" y="3566880"/>
              <a:ext cx="152280" cy="151920"/>
            </a:xfrm>
            <a:prstGeom prst="ellipse">
              <a:avLst/>
            </a:prstGeom>
            <a:solidFill>
              <a:srgbClr val="e5d58a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9200" y="3700440"/>
            <a:ext cx="5667120" cy="929520"/>
            <a:chOff x="349200" y="3700440"/>
            <a:chExt cx="5667120" cy="929520"/>
          </a:xfrm>
        </p:grpSpPr>
        <p:sp>
          <p:nvSpPr>
            <p:cNvPr id="150" name=""/>
            <p:cNvSpPr/>
            <p:nvPr/>
          </p:nvSpPr>
          <p:spPr>
            <a:xfrm>
              <a:off x="349200" y="3924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60000"/>
                  </a:solidFill>
                  <a:latin typeface="Arial"/>
                </a:rPr>
                <a:t>Capital ratio =</a:t>
              </a:r>
              <a:r>
                <a:rPr b="0" lang="en-US" sz="2400" spc="-1" strike="noStrike">
                  <a:solidFill>
                    <a:srgbClr val="33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49280" y="370044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60000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2720" y="4136760"/>
              <a:ext cx="3143160" cy="1080"/>
            </a:xfrm>
            <a:prstGeom prst="line">
              <a:avLst/>
            </a:prstGeom>
            <a:ln cap="sq" w="25560">
              <a:solidFill>
                <a:srgbClr val="a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54120" y="4170240"/>
              <a:ext cx="35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60000"/>
                  </a:solidFill>
                  <a:latin typeface="Arial"/>
                </a:rPr>
                <a:t>Risk-weighted assets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rot="10800000">
            <a:off x="1908000" y="5084280"/>
            <a:ext cx="2826000" cy="1055880"/>
          </a:xfrm>
          <a:prstGeom prst="wedgeRectCallout">
            <a:avLst>
              <a:gd name="adj1" fmla="val -23597"/>
              <a:gd name="adj2" fmla="val 8984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nhancing risk coverage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itisation product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 book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101520" y="2199960"/>
            <a:ext cx="2756160" cy="1081080"/>
          </a:xfrm>
          <a:prstGeom prst="wedgeRectCallout">
            <a:avLst>
              <a:gd name="adj1" fmla="val -2939"/>
              <a:gd name="adj2" fmla="val -10874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ree minimum standard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on equity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er 1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apital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2974680" y="2199960"/>
            <a:ext cx="3011400" cy="1312920"/>
          </a:xfrm>
          <a:prstGeom prst="wedgeRectCallout">
            <a:avLst>
              <a:gd name="adj1" fmla="val 13148"/>
              <a:gd name="adj2" fmla="val -66449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266760" indent="-266760" algn="ctr"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aising the quality of capital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icter criteria for Tier 1 and Tier 2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8892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rmonised deductions from capital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2197080"/>
            <a:ext cx="2951280" cy="407844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ements to the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ratio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3640" y="3295800"/>
            <a:ext cx="2772000" cy="1082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 algn="ctr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tigating procyclicality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ilding buffer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ricting capita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tribution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0760" y="2860560"/>
            <a:ext cx="2771640" cy="349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rage ratio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0760" y="4481640"/>
            <a:ext cx="2771640" cy="1584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 algn="ctr">
              <a:spcBef>
                <a:spcPts val="100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measure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 algn="ctr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IFI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ital surcharge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ingent capital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il-in debt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 supervisory tools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57960" y="5027760"/>
            <a:ext cx="2376360" cy="0"/>
          </a:xfrm>
          <a:prstGeom prst="line">
            <a:avLst/>
          </a:prstGeom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0DB0-5559-4100-BB21-89E3254E737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82200" y="2517840"/>
            <a:ext cx="7310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us elements of capital with complicated maximums and minimums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equity can be as low as 2% of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harmonised deductions and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ystem in 2007 w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ly capitalised given the level of risk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capital was not of sufficient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leve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: weaknesses in the current definit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36D2-69AF-4128-9472-1926A8D1DF89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82200" y="2517480"/>
            <a:ext cx="73105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absorbtion matters…focus is on common equity capital (high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s can no longer report strong Tier 1 capital levels with limited tangible common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equity capital will be the predominant form of Tier 1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of roles different tiers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1 going concer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2 gone concer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eligibility requirements for all elements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6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deductions strengthened and harmon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tems deducted from common equity…improves consistency and comparability of retained e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582560" y="1437840"/>
            <a:ext cx="6934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0000"/>
                </a:solidFill>
                <a:latin typeface="Arial"/>
              </a:rPr>
              <a:t>II. The reform of bank capital regul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: a new, simpler definition</a:t>
            </a:r>
            <a:endParaRPr b="1" lang="en-US" sz="2000" spc="-1" strike="noStrike">
              <a:solidFill>
                <a:srgbClr val="a6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4C6-C257-4F9C-A67C-23A377FE8621}" type="slidenum">
              <a:rPr b="1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56:20Z</dcterms:created>
  <dc:creator>Corporate User</dc:creator>
  <dc:description/>
  <dc:language>en-US</dc:language>
  <cp:lastModifiedBy>Corporate User</cp:lastModifiedBy>
  <dcterms:modified xsi:type="dcterms:W3CDTF">2011-04-06T08:41:37Z</dcterms:modified>
  <cp:revision>108</cp:revision>
  <dc:subject/>
  <dc:title>Slide 1</dc:title>
</cp:coreProperties>
</file>