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52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8200" y="687240"/>
            <a:ext cx="4686120" cy="351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5840" y="4432320"/>
            <a:ext cx="51912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lnSpc>
                <a:spcPct val="12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62480"/>
            <a:ext cx="30528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04D5B-CA7C-49C3-9014-10601948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168560" y="4398480"/>
            <a:ext cx="4673520" cy="440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LOBALIZATION OF THE FINANCIAL SERVICES INDUSTR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lobalization and technology are fundamentally changing the financial services industry worldwide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etition has accelerated and is fierce for “best credits”/corporates in most countrie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rgins and fees are narrowing significantly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velopment of securities markets is creating additional competition for banks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wever: There is a large untapped market – both in the retail and in the commercial segment -&gt; in most emerging markets the banking sector penetration remains below 25% of the population…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9585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9585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4647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9585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3716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585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grung@ifc.or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3809880"/>
            <a:ext cx="85341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ow to make the SME Segment Profitable for Commercial Banks </a:t>
            </a:r>
            <a:br>
              <a:rPr sz="2800"/>
            </a:br>
            <a:br>
              <a:rPr sz="2800"/>
            </a:b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Greg Rung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Verdana"/>
              </a:rPr>
              <a:t>May 2005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Practice, Targeting SMEs Impact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Entire Value Cha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362320"/>
            <a:ext cx="2667240" cy="28191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3623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3623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6720" y="2362320"/>
            <a:ext cx="2000160" cy="28191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3048120"/>
            <a:ext cx="1467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Marketing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9200" y="2895480"/>
            <a:ext cx="1467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Products and services offering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048120"/>
            <a:ext cx="2000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Risk manage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1720" y="3048120"/>
            <a:ext cx="1467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Delivery channel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191120"/>
            <a:ext cx="56386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Organiz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800600"/>
            <a:ext cx="52578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IT / System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6720" y="4724280"/>
            <a:ext cx="7486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6720" y="4191120"/>
            <a:ext cx="7715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Marketing Strateg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0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In addition to conducting competitive analysis (on products, terms &amp; conditions; from other countries),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gment the market and build up in-depth knowledge of SME clusters, especially through third-party data provid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nd ways of retaining existing credit-worthy customers…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&amp; reducing cost of acquisition of new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targeted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customer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anage information transversally (e.g., get, compile and analyze default information, if available by industries &amp; companies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Offering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295280"/>
            <a:ext cx="723924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ximize client retention and profitability by offering product packages as well as cross- and up-sell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14560" y="2179440"/>
            <a:ext cx="7018200" cy="3983040"/>
            <a:chOff x="1114560" y="2179440"/>
            <a:chExt cx="7018200" cy="3983040"/>
          </a:xfrm>
        </p:grpSpPr>
        <p:sp>
          <p:nvSpPr>
            <p:cNvPr id="151" name=""/>
            <p:cNvSpPr/>
            <p:nvPr/>
          </p:nvSpPr>
          <p:spPr>
            <a:xfrm>
              <a:off x="4346640" y="2284560"/>
              <a:ext cx="3632040" cy="2044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3320" y="2259000"/>
              <a:ext cx="3632040" cy="204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73320" y="3998880"/>
              <a:ext cx="6705360" cy="2069640"/>
              <a:chOff x="1273320" y="3998880"/>
              <a:chExt cx="6705360" cy="2069640"/>
            </a:xfrm>
          </p:grpSpPr>
          <p:sp>
            <p:nvSpPr>
              <p:cNvPr id="154" name=""/>
              <p:cNvSpPr/>
              <p:nvPr/>
            </p:nvSpPr>
            <p:spPr>
              <a:xfrm>
                <a:off x="4346640" y="4024080"/>
                <a:ext cx="3632040" cy="20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3320" y="3998880"/>
                <a:ext cx="3632040" cy="20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755720" y="4859280"/>
              <a:ext cx="2895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Domestic pay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ternational payme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heck processin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51440" y="435456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Paymen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45040" y="288144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hecking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avings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ney market accoun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45040" y="484992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suranc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Brokerage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Information &amp; tool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3880" y="2855880"/>
              <a:ext cx="302256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o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Guarante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redit Card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ff99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verdraft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50120" y="238284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Deposi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2560" y="43639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Value-added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79680" y="2347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14560" y="2179440"/>
              <a:ext cx="7018200" cy="3983040"/>
              <a:chOff x="1114560" y="2179440"/>
              <a:chExt cx="7018200" cy="3983040"/>
            </a:xfrm>
          </p:grpSpPr>
          <p:sp>
            <p:nvSpPr>
              <p:cNvPr id="165" name=""/>
              <p:cNvSpPr/>
              <p:nvPr/>
            </p:nvSpPr>
            <p:spPr>
              <a:xfrm>
                <a:off x="1428840" y="378288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34"/>
                    </a:moveTo>
                    <a:cubicBezTo>
                      <a:pt x="54" y="23"/>
                      <a:pt x="43" y="12"/>
                      <a:pt x="32" y="0"/>
                    </a:cubicBezTo>
                    <a:cubicBezTo>
                      <a:pt x="23" y="12"/>
                      <a:pt x="12" y="24"/>
                      <a:pt x="0" y="35"/>
                    </a:cubicBezTo>
                    <a:cubicBezTo>
                      <a:pt x="10" y="46"/>
                      <a:pt x="22" y="56"/>
                      <a:pt x="34" y="66"/>
                    </a:cubicBezTo>
                    <a:cubicBezTo>
                      <a:pt x="45" y="56"/>
                      <a:pt x="56" y="45"/>
                      <a:pt x="66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14560" y="4454640"/>
                <a:ext cx="428400" cy="1179360"/>
              </a:xfrm>
              <a:custGeom>
                <a:avLst/>
                <a:gdLst/>
                <a:ahLst/>
                <a:rect l="l" t="t" r="r" b="b"/>
                <a:pathLst>
                  <a:path w="120" h="390">
                    <a:moveTo>
                      <a:pt x="115" y="34"/>
                    </a:moveTo>
                    <a:cubicBezTo>
                      <a:pt x="104" y="22"/>
                      <a:pt x="93" y="11"/>
                      <a:pt x="81" y="0"/>
                    </a:cubicBezTo>
                    <a:cubicBezTo>
                      <a:pt x="29" y="56"/>
                      <a:pt x="0" y="121"/>
                      <a:pt x="0" y="191"/>
                    </a:cubicBezTo>
                    <a:cubicBezTo>
                      <a:pt x="0" y="265"/>
                      <a:pt x="32" y="333"/>
                      <a:pt x="88" y="390"/>
                    </a:cubicBezTo>
                    <a:cubicBezTo>
                      <a:pt x="100" y="379"/>
                      <a:pt x="111" y="368"/>
                      <a:pt x="120" y="356"/>
                    </a:cubicBezTo>
                    <a:cubicBezTo>
                      <a:pt x="78" y="307"/>
                      <a:pt x="54" y="251"/>
                      <a:pt x="54" y="191"/>
                    </a:cubicBezTo>
                    <a:cubicBezTo>
                      <a:pt x="54" y="134"/>
                      <a:pt x="76" y="81"/>
                      <a:pt x="115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28840" y="5530680"/>
                <a:ext cx="2365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cubicBezTo>
                      <a:pt x="54" y="23"/>
                      <a:pt x="43" y="12"/>
                      <a:pt x="32" y="0"/>
                    </a:cubicBezTo>
                    <a:cubicBezTo>
                      <a:pt x="23" y="12"/>
                      <a:pt x="12" y="23"/>
                      <a:pt x="0" y="34"/>
                    </a:cubicBezTo>
                    <a:cubicBezTo>
                      <a:pt x="10" y="45"/>
                      <a:pt x="22" y="55"/>
                      <a:pt x="34" y="65"/>
                    </a:cubicBezTo>
                    <a:cubicBezTo>
                      <a:pt x="45" y="55"/>
                      <a:pt x="56" y="45"/>
                      <a:pt x="66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05080" y="4357800"/>
                <a:ext cx="2347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2"/>
                    </a:moveTo>
                    <a:cubicBezTo>
                      <a:pt x="12" y="43"/>
                      <a:pt x="23" y="54"/>
                      <a:pt x="34" y="66"/>
                    </a:cubicBezTo>
                    <a:cubicBezTo>
                      <a:pt x="43" y="54"/>
                      <a:pt x="54" y="42"/>
                      <a:pt x="66" y="31"/>
                    </a:cubicBezTo>
                    <a:cubicBezTo>
                      <a:pt x="56" y="21"/>
                      <a:pt x="44" y="10"/>
                      <a:pt x="32" y="0"/>
                    </a:cubicBezTo>
                    <a:cubicBezTo>
                      <a:pt x="21" y="10"/>
                      <a:pt x="10" y="21"/>
                      <a:pt x="0" y="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14560" y="2705040"/>
                <a:ext cx="428400" cy="1182600"/>
              </a:xfrm>
              <a:custGeom>
                <a:avLst/>
                <a:gdLst/>
                <a:ahLst/>
                <a:rect l="l" t="t" r="r" b="b"/>
                <a:pathLst>
                  <a:path w="120" h="391">
                    <a:moveTo>
                      <a:pt x="115" y="34"/>
                    </a:moveTo>
                    <a:cubicBezTo>
                      <a:pt x="104" y="23"/>
                      <a:pt x="93" y="11"/>
                      <a:pt x="81" y="0"/>
                    </a:cubicBezTo>
                    <a:cubicBezTo>
                      <a:pt x="29" y="56"/>
                      <a:pt x="0" y="122"/>
                      <a:pt x="0" y="192"/>
                    </a:cubicBezTo>
                    <a:cubicBezTo>
                      <a:pt x="0" y="265"/>
                      <a:pt x="32" y="334"/>
                      <a:pt x="88" y="391"/>
                    </a:cubicBezTo>
                    <a:cubicBezTo>
                      <a:pt x="100" y="380"/>
                      <a:pt x="111" y="368"/>
                      <a:pt x="120" y="356"/>
                    </a:cubicBezTo>
                    <a:cubicBezTo>
                      <a:pt x="78" y="308"/>
                      <a:pt x="54" y="252"/>
                      <a:pt x="54" y="192"/>
                    </a:cubicBezTo>
                    <a:cubicBezTo>
                      <a:pt x="54" y="135"/>
                      <a:pt x="76" y="81"/>
                      <a:pt x="115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19200" y="2179440"/>
                <a:ext cx="3519360" cy="221472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0"/>
                    </a:moveTo>
                    <a:cubicBezTo>
                      <a:pt x="258" y="0"/>
                      <a:pt x="101" y="56"/>
                      <a:pt x="0" y="143"/>
                    </a:cubicBezTo>
                    <a:cubicBezTo>
                      <a:pt x="12" y="153"/>
                      <a:pt x="24" y="163"/>
                      <a:pt x="34" y="174"/>
                    </a:cubicBezTo>
                    <a:cubicBezTo>
                      <a:pt x="124" y="91"/>
                      <a:pt x="270" y="37"/>
                      <a:pt x="436" y="37"/>
                    </a:cubicBezTo>
                    <a:cubicBezTo>
                      <a:pt x="709" y="37"/>
                      <a:pt x="930" y="184"/>
                      <a:pt x="930" y="366"/>
                    </a:cubicBezTo>
                    <a:cubicBezTo>
                      <a:pt x="930" y="548"/>
                      <a:pt x="709" y="695"/>
                      <a:pt x="436" y="695"/>
                    </a:cubicBezTo>
                    <a:cubicBezTo>
                      <a:pt x="275" y="695"/>
                      <a:pt x="131" y="644"/>
                      <a:pt x="41" y="564"/>
                    </a:cubicBezTo>
                    <a:cubicBezTo>
                      <a:pt x="31" y="575"/>
                      <a:pt x="20" y="586"/>
                      <a:pt x="9" y="596"/>
                    </a:cubicBezTo>
                    <a:cubicBezTo>
                      <a:pt x="109" y="679"/>
                      <a:pt x="263" y="732"/>
                      <a:pt x="436" y="732"/>
                    </a:cubicBezTo>
                    <a:cubicBezTo>
                      <a:pt x="739" y="732"/>
                      <a:pt x="985" y="568"/>
                      <a:pt x="985" y="366"/>
                    </a:cubicBezTo>
                    <a:cubicBezTo>
                      <a:pt x="985" y="164"/>
                      <a:pt x="739" y="0"/>
                      <a:pt x="436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19200" y="392436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0"/>
                    </a:moveTo>
                    <a:cubicBezTo>
                      <a:pt x="258" y="0"/>
                      <a:pt x="101" y="56"/>
                      <a:pt x="0" y="143"/>
                    </a:cubicBezTo>
                    <a:cubicBezTo>
                      <a:pt x="12" y="153"/>
                      <a:pt x="24" y="164"/>
                      <a:pt x="34" y="174"/>
                    </a:cubicBezTo>
                    <a:cubicBezTo>
                      <a:pt x="124" y="91"/>
                      <a:pt x="270" y="37"/>
                      <a:pt x="436" y="37"/>
                    </a:cubicBezTo>
                    <a:cubicBezTo>
                      <a:pt x="709" y="37"/>
                      <a:pt x="930" y="184"/>
                      <a:pt x="930" y="366"/>
                    </a:cubicBezTo>
                    <a:cubicBezTo>
                      <a:pt x="930" y="548"/>
                      <a:pt x="709" y="696"/>
                      <a:pt x="436" y="696"/>
                    </a:cubicBezTo>
                    <a:cubicBezTo>
                      <a:pt x="275" y="696"/>
                      <a:pt x="131" y="644"/>
                      <a:pt x="41" y="565"/>
                    </a:cubicBezTo>
                    <a:cubicBezTo>
                      <a:pt x="31" y="576"/>
                      <a:pt x="20" y="586"/>
                      <a:pt x="9" y="596"/>
                    </a:cubicBezTo>
                    <a:cubicBezTo>
                      <a:pt x="109" y="679"/>
                      <a:pt x="263" y="732"/>
                      <a:pt x="436" y="732"/>
                    </a:cubicBezTo>
                    <a:cubicBezTo>
                      <a:pt x="739" y="732"/>
                      <a:pt x="985" y="568"/>
                      <a:pt x="985" y="366"/>
                    </a:cubicBezTo>
                    <a:cubicBezTo>
                      <a:pt x="985" y="164"/>
                      <a:pt x="739" y="0"/>
                      <a:pt x="436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05080" y="2611440"/>
                <a:ext cx="2347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31"/>
                    </a:moveTo>
                    <a:cubicBezTo>
                      <a:pt x="12" y="42"/>
                      <a:pt x="23" y="54"/>
                      <a:pt x="34" y="65"/>
                    </a:cubicBezTo>
                    <a:cubicBezTo>
                      <a:pt x="43" y="53"/>
                      <a:pt x="54" y="42"/>
                      <a:pt x="66" y="31"/>
                    </a:cubicBezTo>
                    <a:cubicBezTo>
                      <a:pt x="56" y="20"/>
                      <a:pt x="44" y="10"/>
                      <a:pt x="32" y="0"/>
                    </a:cubicBezTo>
                    <a:cubicBezTo>
                      <a:pt x="21" y="10"/>
                      <a:pt x="10" y="21"/>
                      <a:pt x="0" y="31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27600" y="4094280"/>
                <a:ext cx="353880" cy="133200"/>
              </a:xfrm>
              <a:custGeom>
                <a:avLst/>
                <a:gdLst/>
                <a:ahLst/>
                <a:rect l="l" t="t" r="r" b="b"/>
                <a:pathLst>
                  <a:path w="99" h="44">
                    <a:moveTo>
                      <a:pt x="52" y="0"/>
                    </a:moveTo>
                    <a:cubicBezTo>
                      <a:pt x="35" y="8"/>
                      <a:pt x="18" y="15"/>
                      <a:pt x="0" y="22"/>
                    </a:cubicBezTo>
                    <a:cubicBezTo>
                      <a:pt x="18" y="28"/>
                      <a:pt x="35" y="36"/>
                      <a:pt x="52" y="44"/>
                    </a:cubicBezTo>
                    <a:cubicBezTo>
                      <a:pt x="68" y="37"/>
                      <a:pt x="84" y="29"/>
                      <a:pt x="99" y="22"/>
                    </a:cubicBezTo>
                    <a:cubicBezTo>
                      <a:pt x="84" y="14"/>
                      <a:pt x="68" y="6"/>
                      <a:pt x="52" y="0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68400" y="4094280"/>
                <a:ext cx="357120" cy="13320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0" y="22"/>
                    </a:moveTo>
                    <a:cubicBezTo>
                      <a:pt x="16" y="29"/>
                      <a:pt x="31" y="37"/>
                      <a:pt x="48" y="44"/>
                    </a:cubicBezTo>
                    <a:cubicBezTo>
                      <a:pt x="64" y="36"/>
                      <a:pt x="82" y="28"/>
                      <a:pt x="100" y="22"/>
                    </a:cubicBezTo>
                    <a:cubicBezTo>
                      <a:pt x="82" y="15"/>
                      <a:pt x="64" y="8"/>
                      <a:pt x="48" y="0"/>
                    </a:cubicBezTo>
                    <a:cubicBezTo>
                      <a:pt x="31" y="6"/>
                      <a:pt x="16" y="14"/>
                      <a:pt x="0" y="22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10200" y="2708280"/>
                <a:ext cx="428400" cy="1179360"/>
              </a:xfrm>
              <a:custGeom>
                <a:avLst/>
                <a:gdLst/>
                <a:ahLst/>
                <a:rect l="l" t="t" r="r" b="b"/>
                <a:pathLst>
                  <a:path w="120" h="390">
                    <a:moveTo>
                      <a:pt x="115" y="356"/>
                    </a:moveTo>
                    <a:cubicBezTo>
                      <a:pt x="104" y="368"/>
                      <a:pt x="93" y="380"/>
                      <a:pt x="81" y="390"/>
                    </a:cubicBezTo>
                    <a:cubicBezTo>
                      <a:pt x="29" y="335"/>
                      <a:pt x="0" y="269"/>
                      <a:pt x="0" y="199"/>
                    </a:cubicBezTo>
                    <a:cubicBezTo>
                      <a:pt x="0" y="126"/>
                      <a:pt x="32" y="57"/>
                      <a:pt x="88" y="0"/>
                    </a:cubicBezTo>
                    <a:cubicBezTo>
                      <a:pt x="100" y="11"/>
                      <a:pt x="111" y="23"/>
                      <a:pt x="120" y="35"/>
                    </a:cubicBezTo>
                    <a:cubicBezTo>
                      <a:pt x="79" y="83"/>
                      <a:pt x="55" y="139"/>
                      <a:pt x="55" y="199"/>
                    </a:cubicBezTo>
                    <a:cubicBezTo>
                      <a:pt x="55" y="256"/>
                      <a:pt x="76" y="310"/>
                      <a:pt x="115" y="356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24480" y="2614680"/>
                <a:ext cx="234720" cy="1998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31"/>
                    </a:moveTo>
                    <a:cubicBezTo>
                      <a:pt x="54" y="42"/>
                      <a:pt x="43" y="54"/>
                      <a:pt x="32" y="66"/>
                    </a:cubicBezTo>
                    <a:cubicBezTo>
                      <a:pt x="23" y="54"/>
                      <a:pt x="12" y="42"/>
                      <a:pt x="0" y="31"/>
                    </a:cubicBezTo>
                    <a:cubicBezTo>
                      <a:pt x="10" y="20"/>
                      <a:pt x="22" y="10"/>
                      <a:pt x="34" y="0"/>
                    </a:cubicBezTo>
                    <a:cubicBezTo>
                      <a:pt x="45" y="10"/>
                      <a:pt x="56" y="21"/>
                      <a:pt x="66" y="31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8920" y="378612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4"/>
                    </a:moveTo>
                    <a:cubicBezTo>
                      <a:pt x="12" y="24"/>
                      <a:pt x="23" y="12"/>
                      <a:pt x="34" y="0"/>
                    </a:cubicBezTo>
                    <a:cubicBezTo>
                      <a:pt x="43" y="12"/>
                      <a:pt x="54" y="24"/>
                      <a:pt x="66" y="35"/>
                    </a:cubicBezTo>
                    <a:cubicBezTo>
                      <a:pt x="56" y="46"/>
                      <a:pt x="44" y="56"/>
                      <a:pt x="32" y="66"/>
                    </a:cubicBezTo>
                    <a:cubicBezTo>
                      <a:pt x="21" y="56"/>
                      <a:pt x="10" y="45"/>
                      <a:pt x="0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10200" y="4454640"/>
                <a:ext cx="428400" cy="1182600"/>
              </a:xfrm>
              <a:custGeom>
                <a:avLst/>
                <a:gdLst/>
                <a:ahLst/>
                <a:rect l="l" t="t" r="r" b="b"/>
                <a:pathLst>
                  <a:path w="120" h="391">
                    <a:moveTo>
                      <a:pt x="115" y="357"/>
                    </a:moveTo>
                    <a:cubicBezTo>
                      <a:pt x="104" y="369"/>
                      <a:pt x="93" y="380"/>
                      <a:pt x="81" y="391"/>
                    </a:cubicBezTo>
                    <a:cubicBezTo>
                      <a:pt x="29" y="335"/>
                      <a:pt x="0" y="269"/>
                      <a:pt x="0" y="199"/>
                    </a:cubicBezTo>
                    <a:cubicBezTo>
                      <a:pt x="0" y="126"/>
                      <a:pt x="32" y="58"/>
                      <a:pt x="88" y="0"/>
                    </a:cubicBezTo>
                    <a:cubicBezTo>
                      <a:pt x="100" y="11"/>
                      <a:pt x="111" y="23"/>
                      <a:pt x="120" y="35"/>
                    </a:cubicBezTo>
                    <a:cubicBezTo>
                      <a:pt x="79" y="83"/>
                      <a:pt x="55" y="139"/>
                      <a:pt x="55" y="199"/>
                    </a:cubicBezTo>
                    <a:cubicBezTo>
                      <a:pt x="55" y="256"/>
                      <a:pt x="76" y="310"/>
                      <a:pt x="115" y="357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13400" y="394812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732"/>
                    </a:moveTo>
                    <a:cubicBezTo>
                      <a:pt x="258" y="732"/>
                      <a:pt x="101" y="676"/>
                      <a:pt x="0" y="589"/>
                    </a:cubicBezTo>
                    <a:cubicBezTo>
                      <a:pt x="12" y="579"/>
                      <a:pt x="24" y="569"/>
                      <a:pt x="34" y="558"/>
                    </a:cubicBezTo>
                    <a:cubicBezTo>
                      <a:pt x="124" y="641"/>
                      <a:pt x="270" y="696"/>
                      <a:pt x="436" y="696"/>
                    </a:cubicBezTo>
                    <a:cubicBezTo>
                      <a:pt x="709" y="696"/>
                      <a:pt x="930" y="548"/>
                      <a:pt x="930" y="366"/>
                    </a:cubicBezTo>
                    <a:cubicBezTo>
                      <a:pt x="930" y="184"/>
                      <a:pt x="709" y="37"/>
                      <a:pt x="436" y="37"/>
                    </a:cubicBezTo>
                    <a:cubicBezTo>
                      <a:pt x="275" y="37"/>
                      <a:pt x="132" y="88"/>
                      <a:pt x="41" y="168"/>
                    </a:cubicBezTo>
                    <a:cubicBezTo>
                      <a:pt x="31" y="157"/>
                      <a:pt x="20" y="146"/>
                      <a:pt x="9" y="136"/>
                    </a:cubicBezTo>
                    <a:cubicBezTo>
                      <a:pt x="109" y="53"/>
                      <a:pt x="263" y="0"/>
                      <a:pt x="436" y="0"/>
                    </a:cubicBezTo>
                    <a:cubicBezTo>
                      <a:pt x="739" y="0"/>
                      <a:pt x="985" y="164"/>
                      <a:pt x="985" y="366"/>
                    </a:cubicBezTo>
                    <a:cubicBezTo>
                      <a:pt x="985" y="568"/>
                      <a:pt x="739" y="732"/>
                      <a:pt x="436" y="7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13400" y="2203560"/>
                <a:ext cx="3519360" cy="2214360"/>
              </a:xfrm>
              <a:custGeom>
                <a:avLst/>
                <a:gdLst/>
                <a:ahLst/>
                <a:rect l="l" t="t" r="r" b="b"/>
                <a:pathLst>
                  <a:path w="985" h="732">
                    <a:moveTo>
                      <a:pt x="436" y="732"/>
                    </a:moveTo>
                    <a:cubicBezTo>
                      <a:pt x="258" y="732"/>
                      <a:pt x="101" y="676"/>
                      <a:pt x="0" y="589"/>
                    </a:cubicBezTo>
                    <a:cubicBezTo>
                      <a:pt x="12" y="579"/>
                      <a:pt x="24" y="569"/>
                      <a:pt x="34" y="558"/>
                    </a:cubicBezTo>
                    <a:cubicBezTo>
                      <a:pt x="124" y="641"/>
                      <a:pt x="270" y="695"/>
                      <a:pt x="436" y="695"/>
                    </a:cubicBezTo>
                    <a:cubicBezTo>
                      <a:pt x="709" y="695"/>
                      <a:pt x="930" y="548"/>
                      <a:pt x="930" y="366"/>
                    </a:cubicBezTo>
                    <a:cubicBezTo>
                      <a:pt x="930" y="184"/>
                      <a:pt x="709" y="37"/>
                      <a:pt x="436" y="37"/>
                    </a:cubicBezTo>
                    <a:cubicBezTo>
                      <a:pt x="275" y="37"/>
                      <a:pt x="132" y="88"/>
                      <a:pt x="41" y="167"/>
                    </a:cubicBezTo>
                    <a:cubicBezTo>
                      <a:pt x="31" y="157"/>
                      <a:pt x="20" y="146"/>
                      <a:pt x="9" y="136"/>
                    </a:cubicBezTo>
                    <a:cubicBezTo>
                      <a:pt x="109" y="53"/>
                      <a:pt x="263" y="0"/>
                      <a:pt x="436" y="0"/>
                    </a:cubicBezTo>
                    <a:cubicBezTo>
                      <a:pt x="739" y="0"/>
                      <a:pt x="985" y="164"/>
                      <a:pt x="985" y="366"/>
                    </a:cubicBezTo>
                    <a:cubicBezTo>
                      <a:pt x="985" y="568"/>
                      <a:pt x="739" y="732"/>
                      <a:pt x="436" y="73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98920" y="5533920"/>
                <a:ext cx="236520" cy="1969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34"/>
                    </a:moveTo>
                    <a:cubicBezTo>
                      <a:pt x="12" y="23"/>
                      <a:pt x="23" y="12"/>
                      <a:pt x="34" y="0"/>
                    </a:cubicBezTo>
                    <a:cubicBezTo>
                      <a:pt x="43" y="12"/>
                      <a:pt x="54" y="23"/>
                      <a:pt x="66" y="34"/>
                    </a:cubicBezTo>
                    <a:cubicBezTo>
                      <a:pt x="56" y="45"/>
                      <a:pt x="44" y="55"/>
                      <a:pt x="32" y="65"/>
                    </a:cubicBezTo>
                    <a:cubicBezTo>
                      <a:pt x="21" y="55"/>
                      <a:pt x="10" y="45"/>
                      <a:pt x="0" y="3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021440" y="4118040"/>
                <a:ext cx="354240" cy="133200"/>
              </a:xfrm>
              <a:custGeom>
                <a:avLst/>
                <a:gdLst/>
                <a:ahLst/>
                <a:rect l="l" t="t" r="r" b="b"/>
                <a:pathLst>
                  <a:path w="99" h="44">
                    <a:moveTo>
                      <a:pt x="52" y="44"/>
                    </a:moveTo>
                    <a:cubicBezTo>
                      <a:pt x="35" y="36"/>
                      <a:pt x="18" y="28"/>
                      <a:pt x="0" y="22"/>
                    </a:cubicBezTo>
                    <a:cubicBezTo>
                      <a:pt x="18" y="15"/>
                      <a:pt x="35" y="8"/>
                      <a:pt x="52" y="0"/>
                    </a:cubicBezTo>
                    <a:cubicBezTo>
                      <a:pt x="68" y="6"/>
                      <a:pt x="84" y="14"/>
                      <a:pt x="99" y="22"/>
                    </a:cubicBezTo>
                    <a:cubicBezTo>
                      <a:pt x="84" y="29"/>
                      <a:pt x="68" y="37"/>
                      <a:pt x="52" y="44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64040" y="4118040"/>
                <a:ext cx="357120" cy="13320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0" y="22"/>
                    </a:moveTo>
                    <a:cubicBezTo>
                      <a:pt x="16" y="14"/>
                      <a:pt x="31" y="6"/>
                      <a:pt x="48" y="0"/>
                    </a:cubicBezTo>
                    <a:cubicBezTo>
                      <a:pt x="64" y="8"/>
                      <a:pt x="82" y="15"/>
                      <a:pt x="100" y="22"/>
                    </a:cubicBezTo>
                    <a:cubicBezTo>
                      <a:pt x="82" y="28"/>
                      <a:pt x="64" y="36"/>
                      <a:pt x="48" y="44"/>
                    </a:cubicBezTo>
                    <a:cubicBezTo>
                      <a:pt x="31" y="37"/>
                      <a:pt x="16" y="30"/>
                      <a:pt x="0" y="22"/>
                    </a:cubicBez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160800"/>
            <a:ext cx="1315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2841480"/>
            <a:ext cx="1315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47760" y="3639960"/>
            <a:ext cx="131616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200" y="13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6200" y="167652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U.S. Small Business Profit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90680" y="3651120"/>
            <a:ext cx="752400" cy="239076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851200"/>
            <a:ext cx="743040" cy="319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7000" y="3174840"/>
            <a:ext cx="743040" cy="476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33960" y="2851200"/>
            <a:ext cx="752400" cy="323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85560" y="304812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posi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-8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36400" y="258444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oa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-1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6040" y="226548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ll Othe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47320" y="2055960"/>
            <a:ext cx="16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all Busines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3720" y="1143000"/>
            <a:ext cx="85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cus on deposits even if lending is necess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6041880"/>
            <a:ext cx="83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47760" y="6041880"/>
            <a:ext cx="4862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1520" y="1219320"/>
            <a:ext cx="834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deposit/loan ratio largely determines small business RO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2120" y="538164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3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4: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5: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7080" y="2552760"/>
            <a:ext cx="0" cy="2835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22640" y="5372280"/>
            <a:ext cx="4724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8920" y="2701800"/>
            <a:ext cx="771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071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mall Business Profitabil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089240" y="2781360"/>
            <a:ext cx="2679840" cy="15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51440" y="392436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1040" y="328932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67560" y="300996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56832" dir="12403642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7280" y="34783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45720" y="28558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5600" y="34275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nk 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6095880"/>
            <a:ext cx="28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rst Manhattan Consulting Group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756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posit-to-loan rat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6200000">
            <a:off x="110160" y="3831840"/>
            <a:ext cx="26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Small business unit RO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60760" y="2457360"/>
            <a:ext cx="0" cy="3810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6324480"/>
            <a:ext cx="10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16520" y="5835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Contribu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-138960" y="327276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Number of product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25640" y="1515960"/>
          <a:ext cx="7381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15960"/>
                    <a:ext cx="7381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04920" y="6095880"/>
            <a:ext cx="29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Oxford Information Technology, Ltd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143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ore products sold, the greater the profit contribu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Products &amp; Servic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ering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 Unicode MS"/>
              </a:rPr>
              <a:t>Efficiency Gains with Credit Scoring</a:t>
            </a:r>
            <a:endParaRPr b="1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838160" y="2351160"/>
            <a:ext cx="4129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7920" y="2357280"/>
            <a:ext cx="401760" cy="180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048040"/>
            <a:ext cx="992160" cy="714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55760" y="1905120"/>
            <a:ext cx="1059120" cy="1052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83160" y="2054160"/>
            <a:ext cx="992160" cy="7812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2640" y="2143080"/>
            <a:ext cx="7030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Enter 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Data</a:t>
            </a:r>
            <a:r>
              <a:rPr b="1" lang="en-US" sz="1700" spc="-1" strike="noStrike">
                <a:solidFill>
                  <a:srgbClr val="fcfeb9"/>
                </a:solidFill>
                <a:latin typeface="Arial Narrow"/>
                <a:ea typeface="MS PGothic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1480" y="2149560"/>
            <a:ext cx="9712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Generate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Score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720" y="2084400"/>
            <a:ext cx="9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1480" bIns="514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Apply</a:t>
            </a:r>
            <a:br>
              <a:rPr sz="1700"/>
            </a:b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Decision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 Narrow"/>
                <a:ea typeface="MS PGothic"/>
              </a:rPr>
              <a:t>Strategy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74840" y="2136600"/>
            <a:ext cx="4081680" cy="3608640"/>
            <a:chOff x="4074840" y="2136600"/>
            <a:chExt cx="4081680" cy="3608640"/>
          </a:xfrm>
        </p:grpSpPr>
        <p:sp>
          <p:nvSpPr>
            <p:cNvPr id="262" name=""/>
            <p:cNvSpPr/>
            <p:nvPr/>
          </p:nvSpPr>
          <p:spPr>
            <a:xfrm>
              <a:off x="6129360" y="4251240"/>
              <a:ext cx="2027160" cy="1494000"/>
            </a:xfrm>
            <a:custGeom>
              <a:avLst/>
              <a:gdLst/>
              <a:ahLst/>
              <a:rect l="l" t="t" r="r" b="b"/>
              <a:pathLst>
                <a:path w="1259" h="928">
                  <a:moveTo>
                    <a:pt x="0" y="927"/>
                  </a:moveTo>
                  <a:lnTo>
                    <a:pt x="1258" y="927"/>
                  </a:lnTo>
                  <a:lnTo>
                    <a:pt x="1202" y="920"/>
                  </a:lnTo>
                  <a:lnTo>
                    <a:pt x="1111" y="887"/>
                  </a:lnTo>
                  <a:lnTo>
                    <a:pt x="1037" y="841"/>
                  </a:lnTo>
                  <a:lnTo>
                    <a:pt x="964" y="779"/>
                  </a:lnTo>
                  <a:lnTo>
                    <a:pt x="879" y="711"/>
                  </a:lnTo>
                  <a:lnTo>
                    <a:pt x="806" y="636"/>
                  </a:lnTo>
                  <a:lnTo>
                    <a:pt x="720" y="545"/>
                  </a:lnTo>
                  <a:lnTo>
                    <a:pt x="641" y="455"/>
                  </a:lnTo>
                  <a:lnTo>
                    <a:pt x="555" y="346"/>
                  </a:lnTo>
                  <a:lnTo>
                    <a:pt x="476" y="250"/>
                  </a:lnTo>
                  <a:lnTo>
                    <a:pt x="409" y="182"/>
                  </a:lnTo>
                  <a:lnTo>
                    <a:pt x="336" y="119"/>
                  </a:lnTo>
                  <a:lnTo>
                    <a:pt x="268" y="79"/>
                  </a:lnTo>
                  <a:lnTo>
                    <a:pt x="207" y="51"/>
                  </a:lnTo>
                  <a:lnTo>
                    <a:pt x="134" y="23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074840" y="2136600"/>
              <a:ext cx="4075560" cy="3608640"/>
              <a:chOff x="4074840" y="2136600"/>
              <a:chExt cx="4075560" cy="3608640"/>
            </a:xfrm>
          </p:grpSpPr>
          <p:sp>
            <p:nvSpPr>
              <p:cNvPr id="264" name=""/>
              <p:cNvSpPr/>
              <p:nvPr/>
            </p:nvSpPr>
            <p:spPr>
              <a:xfrm>
                <a:off x="4700520" y="2638440"/>
                <a:ext cx="279360" cy="1265400"/>
              </a:xfrm>
              <a:custGeom>
                <a:avLst/>
                <a:gdLst/>
                <a:ahLst/>
                <a:rect l="l" t="t" r="r" b="b"/>
                <a:pathLst>
                  <a:path w="174" h="786">
                    <a:moveTo>
                      <a:pt x="0" y="0"/>
                    </a:moveTo>
                    <a:lnTo>
                      <a:pt x="173" y="0"/>
                    </a:lnTo>
                    <a:lnTo>
                      <a:pt x="173" y="785"/>
                    </a:lnTo>
                  </a:path>
                </a:pathLst>
              </a:custGeom>
              <a:noFill/>
              <a:ln cap="rnd" w="12600">
                <a:solidFill>
                  <a:srgbClr val="00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074840" y="2136600"/>
                <a:ext cx="4075560" cy="3608640"/>
                <a:chOff x="4074840" y="2136600"/>
                <a:chExt cx="4075560" cy="3608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648320" y="2394000"/>
                  <a:ext cx="1539720" cy="1508040"/>
                </a:xfrm>
                <a:custGeom>
                  <a:avLst/>
                  <a:gdLst/>
                  <a:ahLst/>
                  <a:rect l="l" t="t" r="r" b="b"/>
                  <a:pathLst>
                    <a:path w="957" h="937">
                      <a:moveTo>
                        <a:pt x="0" y="0"/>
                      </a:moveTo>
                      <a:lnTo>
                        <a:pt x="956" y="0"/>
                      </a:lnTo>
                      <a:lnTo>
                        <a:pt x="956" y="936"/>
                      </a:lnTo>
                    </a:path>
                  </a:pathLst>
                </a:custGeom>
                <a:noFill/>
                <a:ln cap="rnd" w="12600">
                  <a:solidFill>
                    <a:srgbClr val="00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479920" y="4191120"/>
                  <a:ext cx="0" cy="1536480"/>
                </a:xfrm>
                <a:prstGeom prst="line">
                  <a:avLst/>
                </a:prstGeom>
                <a:ln w="255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074840" y="2136600"/>
                  <a:ext cx="4075560" cy="3608640"/>
                  <a:chOff x="4074840" y="2136600"/>
                  <a:chExt cx="4075560" cy="36086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125960" y="4251240"/>
                    <a:ext cx="2025720" cy="149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9" h="928">
                        <a:moveTo>
                          <a:pt x="1258" y="927"/>
                        </a:moveTo>
                        <a:lnTo>
                          <a:pt x="0" y="927"/>
                        </a:lnTo>
                        <a:lnTo>
                          <a:pt x="55" y="920"/>
                        </a:lnTo>
                        <a:lnTo>
                          <a:pt x="146" y="887"/>
                        </a:lnTo>
                        <a:lnTo>
                          <a:pt x="220" y="841"/>
                        </a:lnTo>
                        <a:lnTo>
                          <a:pt x="293" y="779"/>
                        </a:lnTo>
                        <a:lnTo>
                          <a:pt x="378" y="711"/>
                        </a:lnTo>
                        <a:lnTo>
                          <a:pt x="451" y="636"/>
                        </a:lnTo>
                        <a:lnTo>
                          <a:pt x="537" y="545"/>
                        </a:lnTo>
                        <a:lnTo>
                          <a:pt x="616" y="455"/>
                        </a:lnTo>
                        <a:lnTo>
                          <a:pt x="702" y="346"/>
                        </a:lnTo>
                        <a:lnTo>
                          <a:pt x="781" y="250"/>
                        </a:lnTo>
                        <a:lnTo>
                          <a:pt x="848" y="182"/>
                        </a:lnTo>
                        <a:lnTo>
                          <a:pt x="921" y="119"/>
                        </a:lnTo>
                        <a:lnTo>
                          <a:pt x="989" y="79"/>
                        </a:lnTo>
                        <a:lnTo>
                          <a:pt x="1050" y="51"/>
                        </a:lnTo>
                        <a:lnTo>
                          <a:pt x="1123" y="23"/>
                        </a:lnTo>
                        <a:lnTo>
                          <a:pt x="1221" y="6"/>
                        </a:lnTo>
                        <a:lnTo>
                          <a:pt x="1258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00520" y="2136600"/>
                    <a:ext cx="27162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1088">
                        <a:moveTo>
                          <a:pt x="0" y="0"/>
                        </a:moveTo>
                        <a:lnTo>
                          <a:pt x="1687" y="0"/>
                        </a:lnTo>
                        <a:lnTo>
                          <a:pt x="1687" y="10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ffff"/>
                    </a:solidFill>
                    <a:round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074840" y="3949560"/>
                    <a:ext cx="126396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Auto decline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891840" y="3949560"/>
                    <a:ext cx="121680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Auto accept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789880" y="3949560"/>
                    <a:ext cx="81288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66"/>
                        </a:solidFill>
                        <a:latin typeface="Arial Narrow"/>
                        <a:ea typeface="MS PGothic"/>
                      </a:rPr>
                      <a:t>Review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25960" y="4545000"/>
                    <a:ext cx="136692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49" h="746">
                        <a:moveTo>
                          <a:pt x="845" y="745"/>
                        </a:moveTo>
                        <a:lnTo>
                          <a:pt x="0" y="745"/>
                        </a:lnTo>
                        <a:lnTo>
                          <a:pt x="55" y="738"/>
                        </a:lnTo>
                        <a:lnTo>
                          <a:pt x="146" y="705"/>
                        </a:lnTo>
                        <a:lnTo>
                          <a:pt x="220" y="659"/>
                        </a:lnTo>
                        <a:lnTo>
                          <a:pt x="292" y="597"/>
                        </a:lnTo>
                        <a:lnTo>
                          <a:pt x="378" y="529"/>
                        </a:lnTo>
                        <a:lnTo>
                          <a:pt x="451" y="454"/>
                        </a:lnTo>
                        <a:lnTo>
                          <a:pt x="536" y="364"/>
                        </a:lnTo>
                        <a:lnTo>
                          <a:pt x="616" y="272"/>
                        </a:lnTo>
                        <a:lnTo>
                          <a:pt x="701" y="165"/>
                        </a:lnTo>
                        <a:lnTo>
                          <a:pt x="781" y="68"/>
                        </a:lnTo>
                        <a:lnTo>
                          <a:pt x="848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893840" y="5105520"/>
                    <a:ext cx="59328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High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81680" y="4514760"/>
                    <a:ext cx="136872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0" h="746">
                        <a:moveTo>
                          <a:pt x="4" y="745"/>
                        </a:moveTo>
                        <a:lnTo>
                          <a:pt x="849" y="745"/>
                        </a:lnTo>
                        <a:lnTo>
                          <a:pt x="793" y="738"/>
                        </a:lnTo>
                        <a:lnTo>
                          <a:pt x="702" y="705"/>
                        </a:lnTo>
                        <a:lnTo>
                          <a:pt x="628" y="659"/>
                        </a:lnTo>
                        <a:lnTo>
                          <a:pt x="555" y="596"/>
                        </a:lnTo>
                        <a:lnTo>
                          <a:pt x="470" y="528"/>
                        </a:lnTo>
                        <a:lnTo>
                          <a:pt x="397" y="454"/>
                        </a:lnTo>
                        <a:lnTo>
                          <a:pt x="311" y="363"/>
                        </a:lnTo>
                        <a:lnTo>
                          <a:pt x="231" y="273"/>
                        </a:lnTo>
                        <a:lnTo>
                          <a:pt x="146" y="164"/>
                        </a:lnTo>
                        <a:lnTo>
                          <a:pt x="66" y="6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9966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713920" y="5095800"/>
                    <a:ext cx="87084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Medium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857640" y="5105520"/>
                    <a:ext cx="555120" cy="54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720" rIns="99720" tIns="51480" bIns="51480" anchor="t">
                    <a:spAutoFit/>
                  </a:bodyPr>
                  <a:p>
                    <a:pPr algn="ctr">
                      <a:lnSpc>
                        <a:spcPct val="85000"/>
                      </a:lnSpc>
                      <a:tabLst>
                        <a:tab algn="l" pos="0"/>
                        <a:tab algn="l" pos="1073160"/>
                        <a:tab algn="l" pos="2146320"/>
                        <a:tab algn="l" pos="3219480"/>
                        <a:tab algn="l" pos="4292640"/>
                        <a:tab algn="l" pos="5365800"/>
                        <a:tab algn="l" pos="6438960"/>
                        <a:tab algn="l" pos="7512120"/>
                        <a:tab algn="l" pos="8585280"/>
                        <a:tab algn="l" pos="9658440"/>
                        <a:tab algn="l" pos="10731600"/>
                      </a:tabLst>
                    </a:pP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Low</a:t>
                    </a:r>
                    <a:br>
                      <a:rPr sz="1700"/>
                    </a:br>
                    <a:r>
                      <a:rPr b="1" lang="en-US" sz="1700" spc="-1" strike="noStrike">
                        <a:solidFill>
                          <a:srgbClr val="0033cc"/>
                        </a:solidFill>
                        <a:latin typeface="Arial Narrow"/>
                        <a:ea typeface="MS PGothic"/>
                      </a:rPr>
                      <a:t>risk</a:t>
                    </a:r>
                    <a:endParaRPr b="0" lang="en-US" sz="17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>
                    <a:off x="6794640" y="4204800"/>
                    <a:ext cx="0" cy="1538280"/>
                  </a:xfrm>
                  <a:prstGeom prst="line">
                    <a:avLst/>
                  </a:prstGeom>
                  <a:ln w="255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80" name=""/>
          <p:cNvSpPr/>
          <p:nvPr/>
        </p:nvSpPr>
        <p:spPr>
          <a:xfrm>
            <a:off x="325440" y="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oals: cost efficiency, differentiation in the market and client satisfaction. For that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view existing delivery channel mix &amp; utilization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s well as current and potential level of autom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cus the branch network on marketing, sales and client relationship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57840" indent="-35784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sign multi-channel networks mixing branches – business bankers/agents – ATMs – mobile kiosks – call centers – electronic banking – smart cards – mobile ban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74880" y="1655640"/>
          <a:ext cx="8040600" cy="3930840"/>
        </p:xfrm>
        <a:graphic>
          <a:graphicData uri="http://schemas.openxmlformats.org/drawingml/2006/table">
            <a:tbl>
              <a:tblPr/>
              <a:tblGrid>
                <a:gridCol w="1277640"/>
                <a:gridCol w="1175040"/>
                <a:gridCol w="1481040"/>
                <a:gridCol w="1404720"/>
                <a:gridCol w="1309680"/>
                <a:gridCol w="1392480"/>
              </a:tblGrid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spect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yer Identification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yer Solicitat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formation Provis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ing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ailability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vice and Consultation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gregativ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tional Categorizatioi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lternative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der          Captu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ecification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try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der Processing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action Processing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ing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ustomer Suppor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laint Handling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lvl="1" marL="230040" indent="-1155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count Reconciliation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721760" y="5638680"/>
            <a:ext cx="3894840" cy="631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hannel Efficiency (Capacity to Cost Ratio)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igh                             Low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0" y="2043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Chann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17880"/>
            <a:ext cx="95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irect Mail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80" y="36003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hone C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0" y="4216320"/>
            <a:ext cx="9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VR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640" y="47149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ranc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21964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nlin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5400" y="1285920"/>
            <a:ext cx="39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e-Sal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1840" y="1555920"/>
            <a:ext cx="35989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65760" y="128592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16600" y="1554120"/>
            <a:ext cx="2457360" cy="3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72320" y="127008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st-Sa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13640" y="1555920"/>
            <a:ext cx="153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8640" y="321480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4476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594360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864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32440" y="4189320"/>
            <a:ext cx="228600" cy="228600"/>
          </a:xfrm>
          <a:prstGeom prst="ellipse">
            <a:avLst/>
          </a:prstGeom>
          <a:solidFill>
            <a:srgbClr val="eaeaea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156520" y="5286240"/>
            <a:ext cx="227880" cy="227880"/>
            <a:chOff x="8156520" y="5286240"/>
            <a:chExt cx="227880" cy="227880"/>
          </a:xfrm>
        </p:grpSpPr>
        <p:sp>
          <p:nvSpPr>
            <p:cNvPr id="318" name=""/>
            <p:cNvSpPr/>
            <p:nvPr/>
          </p:nvSpPr>
          <p:spPr>
            <a:xfrm>
              <a:off x="815652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5652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5652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5652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81480" y="5943600"/>
            <a:ext cx="227880" cy="227880"/>
            <a:chOff x="5181480" y="5943600"/>
            <a:chExt cx="227880" cy="227880"/>
          </a:xfrm>
        </p:grpSpPr>
        <p:sp>
          <p:nvSpPr>
            <p:cNvPr id="323" name=""/>
            <p:cNvSpPr/>
            <p:nvPr/>
          </p:nvSpPr>
          <p:spPr>
            <a:xfrm>
              <a:off x="5181480" y="5943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5943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1480" y="5943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1480" y="5943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542960" y="3711600"/>
            <a:ext cx="227880" cy="227880"/>
            <a:chOff x="1542960" y="3711600"/>
            <a:chExt cx="227880" cy="227880"/>
          </a:xfrm>
        </p:grpSpPr>
        <p:sp>
          <p:nvSpPr>
            <p:cNvPr id="328" name=""/>
            <p:cNvSpPr/>
            <p:nvPr/>
          </p:nvSpPr>
          <p:spPr>
            <a:xfrm>
              <a:off x="1542960" y="3711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42960" y="3711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42960" y="371196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42960" y="371160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42960" y="5286240"/>
            <a:ext cx="227880" cy="227880"/>
            <a:chOff x="1542960" y="5286240"/>
            <a:chExt cx="227880" cy="227880"/>
          </a:xfrm>
        </p:grpSpPr>
        <p:sp>
          <p:nvSpPr>
            <p:cNvPr id="333" name=""/>
            <p:cNvSpPr/>
            <p:nvPr/>
          </p:nvSpPr>
          <p:spPr>
            <a:xfrm>
              <a:off x="154296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4296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4296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296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01800" y="5286240"/>
            <a:ext cx="227880" cy="227880"/>
            <a:chOff x="2701800" y="5286240"/>
            <a:chExt cx="227880" cy="227880"/>
          </a:xfrm>
        </p:grpSpPr>
        <p:sp>
          <p:nvSpPr>
            <p:cNvPr id="338" name=""/>
            <p:cNvSpPr/>
            <p:nvPr/>
          </p:nvSpPr>
          <p:spPr>
            <a:xfrm>
              <a:off x="270180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0180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180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180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60840" y="5286240"/>
            <a:ext cx="227880" cy="227880"/>
            <a:chOff x="5460840" y="5286240"/>
            <a:chExt cx="227880" cy="227880"/>
          </a:xfrm>
        </p:grpSpPr>
        <p:sp>
          <p:nvSpPr>
            <p:cNvPr id="343" name=""/>
            <p:cNvSpPr/>
            <p:nvPr/>
          </p:nvSpPr>
          <p:spPr>
            <a:xfrm>
              <a:off x="54608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08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08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8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832440" y="5286240"/>
            <a:ext cx="227880" cy="227880"/>
            <a:chOff x="6832440" y="5286240"/>
            <a:chExt cx="227880" cy="227880"/>
          </a:xfrm>
        </p:grpSpPr>
        <p:sp>
          <p:nvSpPr>
            <p:cNvPr id="348" name=""/>
            <p:cNvSpPr/>
            <p:nvPr/>
          </p:nvSpPr>
          <p:spPr>
            <a:xfrm>
              <a:off x="68324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324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32440" y="528660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32440" y="528624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968640" y="4699080"/>
            <a:ext cx="227880" cy="227880"/>
            <a:chOff x="3968640" y="4699080"/>
            <a:chExt cx="227880" cy="227880"/>
          </a:xfrm>
        </p:grpSpPr>
        <p:sp>
          <p:nvSpPr>
            <p:cNvPr id="353" name=""/>
            <p:cNvSpPr/>
            <p:nvPr/>
          </p:nvSpPr>
          <p:spPr>
            <a:xfrm>
              <a:off x="3968640" y="469908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68640" y="46994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8640" y="46994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8640" y="4699080"/>
              <a:ext cx="2278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Business Banking Board Research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544400" y="4698720"/>
            <a:ext cx="228600" cy="228960"/>
            <a:chOff x="1544400" y="4698720"/>
            <a:chExt cx="228600" cy="228960"/>
          </a:xfrm>
        </p:grpSpPr>
        <p:sp>
          <p:nvSpPr>
            <p:cNvPr id="359" name=""/>
            <p:cNvSpPr/>
            <p:nvPr/>
          </p:nvSpPr>
          <p:spPr>
            <a:xfrm>
              <a:off x="154440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4440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4476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476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701440" y="4698720"/>
            <a:ext cx="228600" cy="228960"/>
            <a:chOff x="2701440" y="4698720"/>
            <a:chExt cx="228600" cy="228960"/>
          </a:xfrm>
        </p:grpSpPr>
        <p:sp>
          <p:nvSpPr>
            <p:cNvPr id="364" name=""/>
            <p:cNvSpPr/>
            <p:nvPr/>
          </p:nvSpPr>
          <p:spPr>
            <a:xfrm>
              <a:off x="270144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144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0180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180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701440" y="4188960"/>
            <a:ext cx="228600" cy="228960"/>
            <a:chOff x="2701440" y="4188960"/>
            <a:chExt cx="228600" cy="228960"/>
          </a:xfrm>
        </p:grpSpPr>
        <p:sp>
          <p:nvSpPr>
            <p:cNvPr id="369" name=""/>
            <p:cNvSpPr/>
            <p:nvPr/>
          </p:nvSpPr>
          <p:spPr>
            <a:xfrm>
              <a:off x="270144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144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0180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0180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460480" y="4188960"/>
            <a:ext cx="228600" cy="228960"/>
            <a:chOff x="5460480" y="4188960"/>
            <a:chExt cx="228600" cy="228960"/>
          </a:xfrm>
        </p:grpSpPr>
        <p:sp>
          <p:nvSpPr>
            <p:cNvPr id="374" name=""/>
            <p:cNvSpPr/>
            <p:nvPr/>
          </p:nvSpPr>
          <p:spPr>
            <a:xfrm>
              <a:off x="546048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6048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6084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6084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60480" y="3214440"/>
            <a:ext cx="228600" cy="228960"/>
            <a:chOff x="5460480" y="3214440"/>
            <a:chExt cx="228600" cy="228960"/>
          </a:xfrm>
        </p:grpSpPr>
        <p:sp>
          <p:nvSpPr>
            <p:cNvPr id="379" name=""/>
            <p:cNvSpPr/>
            <p:nvPr/>
          </p:nvSpPr>
          <p:spPr>
            <a:xfrm>
              <a:off x="546048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6048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6084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6084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832080" y="3214440"/>
            <a:ext cx="228600" cy="228960"/>
            <a:chOff x="6832080" y="3214440"/>
            <a:chExt cx="228600" cy="228960"/>
          </a:xfrm>
        </p:grpSpPr>
        <p:sp>
          <p:nvSpPr>
            <p:cNvPr id="384" name=""/>
            <p:cNvSpPr/>
            <p:nvPr/>
          </p:nvSpPr>
          <p:spPr>
            <a:xfrm>
              <a:off x="683208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3208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3244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244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156160" y="3214440"/>
            <a:ext cx="228600" cy="228960"/>
            <a:chOff x="8156160" y="3214440"/>
            <a:chExt cx="228600" cy="228960"/>
          </a:xfrm>
        </p:grpSpPr>
        <p:sp>
          <p:nvSpPr>
            <p:cNvPr id="389" name=""/>
            <p:cNvSpPr/>
            <p:nvPr/>
          </p:nvSpPr>
          <p:spPr>
            <a:xfrm>
              <a:off x="815616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616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5652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652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156160" y="4188960"/>
            <a:ext cx="228600" cy="228960"/>
            <a:chOff x="8156160" y="4188960"/>
            <a:chExt cx="228600" cy="228960"/>
          </a:xfrm>
        </p:grpSpPr>
        <p:sp>
          <p:nvSpPr>
            <p:cNvPr id="394" name=""/>
            <p:cNvSpPr/>
            <p:nvPr/>
          </p:nvSpPr>
          <p:spPr>
            <a:xfrm>
              <a:off x="8156160" y="41893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56160" y="41889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56520" y="41889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56520" y="41893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156160" y="4698720"/>
            <a:ext cx="228600" cy="228960"/>
            <a:chOff x="8156160" y="4698720"/>
            <a:chExt cx="228600" cy="228960"/>
          </a:xfrm>
        </p:grpSpPr>
        <p:sp>
          <p:nvSpPr>
            <p:cNvPr id="399" name=""/>
            <p:cNvSpPr/>
            <p:nvPr/>
          </p:nvSpPr>
          <p:spPr>
            <a:xfrm>
              <a:off x="815616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5616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5652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5652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544400" y="3214440"/>
            <a:ext cx="228600" cy="228960"/>
            <a:chOff x="1544400" y="3214440"/>
            <a:chExt cx="228600" cy="228960"/>
          </a:xfrm>
        </p:grpSpPr>
        <p:sp>
          <p:nvSpPr>
            <p:cNvPr id="404" name=""/>
            <p:cNvSpPr/>
            <p:nvPr/>
          </p:nvSpPr>
          <p:spPr>
            <a:xfrm>
              <a:off x="154440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4440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4476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4476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701440" y="3214440"/>
            <a:ext cx="228600" cy="228960"/>
            <a:chOff x="2701440" y="3214440"/>
            <a:chExt cx="228600" cy="228960"/>
          </a:xfrm>
        </p:grpSpPr>
        <p:sp>
          <p:nvSpPr>
            <p:cNvPr id="409" name=""/>
            <p:cNvSpPr/>
            <p:nvPr/>
          </p:nvSpPr>
          <p:spPr>
            <a:xfrm>
              <a:off x="2701440" y="3214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1440" y="32144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1800" y="32144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01800" y="3214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701440" y="3709800"/>
            <a:ext cx="228600" cy="228960"/>
            <a:chOff x="2701440" y="3709800"/>
            <a:chExt cx="228600" cy="228960"/>
          </a:xfrm>
        </p:grpSpPr>
        <p:sp>
          <p:nvSpPr>
            <p:cNvPr id="414" name=""/>
            <p:cNvSpPr/>
            <p:nvPr/>
          </p:nvSpPr>
          <p:spPr>
            <a:xfrm>
              <a:off x="270144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0144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180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0180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970080" y="3709800"/>
            <a:ext cx="228600" cy="228960"/>
            <a:chOff x="3970080" y="3709800"/>
            <a:chExt cx="228600" cy="228960"/>
          </a:xfrm>
        </p:grpSpPr>
        <p:sp>
          <p:nvSpPr>
            <p:cNvPr id="419" name=""/>
            <p:cNvSpPr/>
            <p:nvPr/>
          </p:nvSpPr>
          <p:spPr>
            <a:xfrm>
              <a:off x="39700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700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704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704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60480" y="3709800"/>
            <a:ext cx="228600" cy="228960"/>
            <a:chOff x="5460480" y="3709800"/>
            <a:chExt cx="228600" cy="228960"/>
          </a:xfrm>
        </p:grpSpPr>
        <p:sp>
          <p:nvSpPr>
            <p:cNvPr id="424" name=""/>
            <p:cNvSpPr/>
            <p:nvPr/>
          </p:nvSpPr>
          <p:spPr>
            <a:xfrm>
              <a:off x="54604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04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08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608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832080" y="3709800"/>
            <a:ext cx="228600" cy="228960"/>
            <a:chOff x="6832080" y="3709800"/>
            <a:chExt cx="228600" cy="228960"/>
          </a:xfrm>
        </p:grpSpPr>
        <p:sp>
          <p:nvSpPr>
            <p:cNvPr id="429" name=""/>
            <p:cNvSpPr/>
            <p:nvPr/>
          </p:nvSpPr>
          <p:spPr>
            <a:xfrm>
              <a:off x="683208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3208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3244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3244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8156160" y="3709800"/>
            <a:ext cx="228600" cy="228960"/>
            <a:chOff x="8156160" y="3709800"/>
            <a:chExt cx="228600" cy="228960"/>
          </a:xfrm>
        </p:grpSpPr>
        <p:sp>
          <p:nvSpPr>
            <p:cNvPr id="434" name=""/>
            <p:cNvSpPr/>
            <p:nvPr/>
          </p:nvSpPr>
          <p:spPr>
            <a:xfrm>
              <a:off x="8156160" y="371016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56160" y="370980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56520" y="370980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56520" y="371016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460480" y="4698720"/>
            <a:ext cx="228600" cy="228960"/>
            <a:chOff x="5460480" y="4698720"/>
            <a:chExt cx="228600" cy="228960"/>
          </a:xfrm>
        </p:grpSpPr>
        <p:sp>
          <p:nvSpPr>
            <p:cNvPr id="439" name=""/>
            <p:cNvSpPr/>
            <p:nvPr/>
          </p:nvSpPr>
          <p:spPr>
            <a:xfrm>
              <a:off x="546048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048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084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6084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832080" y="4698720"/>
            <a:ext cx="228600" cy="228960"/>
            <a:chOff x="6832080" y="4698720"/>
            <a:chExt cx="228600" cy="228960"/>
          </a:xfrm>
        </p:grpSpPr>
        <p:sp>
          <p:nvSpPr>
            <p:cNvPr id="444" name=""/>
            <p:cNvSpPr/>
            <p:nvPr/>
          </p:nvSpPr>
          <p:spPr>
            <a:xfrm>
              <a:off x="6832080" y="46990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32080" y="469872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32440" y="469872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32440" y="46990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970080" y="5285880"/>
            <a:ext cx="228600" cy="228960"/>
            <a:chOff x="3970080" y="5285880"/>
            <a:chExt cx="228600" cy="228960"/>
          </a:xfrm>
        </p:grpSpPr>
        <p:sp>
          <p:nvSpPr>
            <p:cNvPr id="449" name=""/>
            <p:cNvSpPr/>
            <p:nvPr/>
          </p:nvSpPr>
          <p:spPr>
            <a:xfrm>
              <a:off x="3970080" y="528624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2016"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70080" y="5285880"/>
              <a:ext cx="2286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81"/>
                  </a:moveTo>
                  <a:arcTo wR="10800" hR="10800" stAng="-37984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81"/>
                  </a:moveTo>
                  <a:arcTo wR="10800" hR="10800" stAng="-37984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70440" y="528588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37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37984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0440" y="5286240"/>
              <a:ext cx="227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1"/>
                  </a:moveTo>
                  <a:arcTo wR="10800" hR="10800" stAng="-10762016" swAng="5362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1"/>
                  </a:moveTo>
                  <a:arcTo wR="10800" hR="10800" stAng="-10762016" swAng="5362016"/>
                </a:path>
              </a:pathLst>
            </a:custGeom>
            <a:solidFill>
              <a:srgbClr val="eaeaea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In emerging markets, personal contact is critically important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609588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4224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co Solidario (Ecuador), reaches 45% of its customers through bankers in the field – similar situation for Bank Dagang Bali (Indonesia) which has very few branch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k BRI (Indonesia) received an award from the </a:t>
            </a:r>
            <a:r>
              <a:rPr b="0" i="1" lang="en-US" sz="2000" spc="-1" strike="noStrike">
                <a:solidFill>
                  <a:srgbClr val="003366"/>
                </a:solidFill>
                <a:latin typeface="Verdana"/>
              </a:rPr>
              <a:t>Indonesian Museum of Record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for establishing 4,658 branches throughout the country (92% of Bank BRI’s portfolio is microloan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ening Remark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alented speaker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ave already said a lot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s proves the quality of the conference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shows a common vision, ie need for economies of sca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1219320"/>
            <a:ext cx="8534160" cy="5105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7360" y="1438200"/>
            <a:ext cx="8742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 is word of mou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243160"/>
            <a:ext cx="75373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2999"/>
              </a:spcBef>
              <a:spcAft>
                <a:spcPts val="299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5 % of Banco Solidario’s new customers are referred by existing customer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2251"/>
              </a:spcBef>
              <a:spcAft>
                <a:spcPts val="2999"/>
              </a:spcAft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Bank BRI, a senior manager states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“All new customers are referrals.  Good [loan] customers never just walk into the bank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0"/>
            <a:ext cx="714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Delivery Channel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609588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urce: FIC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. Organiz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190160"/>
            <a:ext cx="8458200" cy="5133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ign organizational requirement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parate organizational responsibilities for SME Finance (part of retail rather than corporate banking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arket versus product focu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arify responsibilities for sales vs. credit vs. collec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ear responsibilities and incentives for deposit raising and cross-sales (including personal financing needs of the owner)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entralized processing of credit applica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463680" indent="-344520">
              <a:spcBef>
                <a:spcPts val="125"/>
              </a:spcBef>
              <a:spcAft>
                <a:spcPts val="125"/>
              </a:spcAft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ear processes for collection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. IT / System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s for the organization, client-driven vs. product-drive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 efficient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integrated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information systems by leveraging appropriate technologie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wards Customer Relationship Management (CRM) capabilitie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multi-channel manage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1389240"/>
            <a:ext cx="85341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Focus of the strategy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Key compon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Risk management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Use sophisticated credit scoring model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Build informal networks to gather asymetric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information on potential borrower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Develop deep understanding of industrial secto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argin management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Use of technology to reduce delivery and service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cost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Redesign organization structure to manage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operational cos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uperior value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- Gain in-depth understanding of customer needs and    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behavioral drivers to develop and deliver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  differentiated value pro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This, Several Types of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rategies can Emer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1676520"/>
            <a:ext cx="5181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51055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pro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 is hybri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t generally involves a specific strategy and a total redesign of the value chai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Quality of execution is ke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547560" y="1308240"/>
            <a:ext cx="8504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1 :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tandardization of Product Off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676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1596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1028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02520" y="32670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Collecte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3360" y="3570120"/>
            <a:ext cx="7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es contrats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0732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2340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65320" y="3267000"/>
            <a:ext cx="3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39080" y="357012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implémentation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0676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1596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1028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02520" y="32670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Collecte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3360" y="3570120"/>
            <a:ext cx="7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es contrats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0732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2340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65320" y="3267000"/>
            <a:ext cx="3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39080" y="357012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implémentation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7372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36480" y="3092400"/>
            <a:ext cx="1172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fine a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vised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duct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offering 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65680" y="341784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61000" y="3722760"/>
            <a:ext cx="3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7640" y="2557440"/>
            <a:ext cx="1047960" cy="1981080"/>
          </a:xfrm>
          <a:custGeom>
            <a:avLst/>
            <a:gdLst/>
            <a:ahLst/>
            <a:rect l="l" t="t" r="r" b="b"/>
            <a:pathLst>
              <a:path w="579" h="794">
                <a:moveTo>
                  <a:pt x="473" y="0"/>
                </a:moveTo>
                <a:lnTo>
                  <a:pt x="0" y="0"/>
                </a:lnTo>
                <a:lnTo>
                  <a:pt x="0" y="794"/>
                </a:lnTo>
                <a:lnTo>
                  <a:pt x="473" y="794"/>
                </a:lnTo>
                <a:lnTo>
                  <a:pt x="579" y="397"/>
                </a:lnTo>
                <a:lnTo>
                  <a:pt x="4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8280" y="2544840"/>
            <a:ext cx="1066680" cy="2006640"/>
          </a:xfrm>
          <a:custGeom>
            <a:avLst/>
            <a:gdLst/>
            <a:ahLst/>
            <a:rect l="l" t="t" r="r" b="b"/>
            <a:pathLst>
              <a:path w="589" h="804">
                <a:moveTo>
                  <a:pt x="579" y="403"/>
                </a:moveTo>
                <a:lnTo>
                  <a:pt x="570" y="364"/>
                </a:lnTo>
                <a:lnTo>
                  <a:pt x="579" y="362"/>
                </a:lnTo>
                <a:lnTo>
                  <a:pt x="589" y="401"/>
                </a:lnTo>
                <a:lnTo>
                  <a:pt x="579" y="403"/>
                </a:lnTo>
                <a:close/>
                <a:moveTo>
                  <a:pt x="561" y="335"/>
                </a:moveTo>
                <a:lnTo>
                  <a:pt x="551" y="296"/>
                </a:lnTo>
                <a:lnTo>
                  <a:pt x="561" y="293"/>
                </a:lnTo>
                <a:lnTo>
                  <a:pt x="571" y="332"/>
                </a:lnTo>
                <a:lnTo>
                  <a:pt x="561" y="335"/>
                </a:lnTo>
                <a:close/>
                <a:moveTo>
                  <a:pt x="543" y="266"/>
                </a:moveTo>
                <a:lnTo>
                  <a:pt x="532" y="226"/>
                </a:lnTo>
                <a:lnTo>
                  <a:pt x="541" y="224"/>
                </a:lnTo>
                <a:lnTo>
                  <a:pt x="552" y="263"/>
                </a:lnTo>
                <a:lnTo>
                  <a:pt x="543" y="266"/>
                </a:lnTo>
                <a:close/>
                <a:moveTo>
                  <a:pt x="524" y="197"/>
                </a:moveTo>
                <a:lnTo>
                  <a:pt x="513" y="158"/>
                </a:lnTo>
                <a:lnTo>
                  <a:pt x="523" y="155"/>
                </a:lnTo>
                <a:lnTo>
                  <a:pt x="534" y="194"/>
                </a:lnTo>
                <a:lnTo>
                  <a:pt x="524" y="197"/>
                </a:lnTo>
                <a:close/>
                <a:moveTo>
                  <a:pt x="506" y="128"/>
                </a:moveTo>
                <a:lnTo>
                  <a:pt x="495" y="89"/>
                </a:lnTo>
                <a:lnTo>
                  <a:pt x="505" y="87"/>
                </a:lnTo>
                <a:lnTo>
                  <a:pt x="516" y="126"/>
                </a:lnTo>
                <a:lnTo>
                  <a:pt x="506" y="128"/>
                </a:lnTo>
                <a:close/>
                <a:moveTo>
                  <a:pt x="488" y="60"/>
                </a:moveTo>
                <a:lnTo>
                  <a:pt x="477" y="20"/>
                </a:lnTo>
                <a:lnTo>
                  <a:pt x="487" y="17"/>
                </a:lnTo>
                <a:lnTo>
                  <a:pt x="498" y="56"/>
                </a:lnTo>
                <a:lnTo>
                  <a:pt x="488" y="60"/>
                </a:lnTo>
                <a:close/>
                <a:moveTo>
                  <a:pt x="461" y="10"/>
                </a:moveTo>
                <a:lnTo>
                  <a:pt x="421" y="10"/>
                </a:lnTo>
                <a:lnTo>
                  <a:pt x="421" y="0"/>
                </a:lnTo>
                <a:lnTo>
                  <a:pt x="461" y="0"/>
                </a:lnTo>
                <a:lnTo>
                  <a:pt x="461" y="10"/>
                </a:lnTo>
                <a:close/>
                <a:moveTo>
                  <a:pt x="390" y="10"/>
                </a:moveTo>
                <a:lnTo>
                  <a:pt x="350" y="10"/>
                </a:lnTo>
                <a:lnTo>
                  <a:pt x="350" y="0"/>
                </a:lnTo>
                <a:lnTo>
                  <a:pt x="390" y="0"/>
                </a:lnTo>
                <a:lnTo>
                  <a:pt x="390" y="10"/>
                </a:lnTo>
                <a:close/>
                <a:moveTo>
                  <a:pt x="319" y="10"/>
                </a:moveTo>
                <a:lnTo>
                  <a:pt x="278" y="10"/>
                </a:lnTo>
                <a:lnTo>
                  <a:pt x="278" y="0"/>
                </a:lnTo>
                <a:lnTo>
                  <a:pt x="319" y="0"/>
                </a:lnTo>
                <a:lnTo>
                  <a:pt x="319" y="10"/>
                </a:lnTo>
                <a:close/>
                <a:moveTo>
                  <a:pt x="247" y="10"/>
                </a:moveTo>
                <a:lnTo>
                  <a:pt x="207" y="10"/>
                </a:lnTo>
                <a:lnTo>
                  <a:pt x="207" y="0"/>
                </a:lnTo>
                <a:lnTo>
                  <a:pt x="247" y="0"/>
                </a:lnTo>
                <a:lnTo>
                  <a:pt x="247" y="10"/>
                </a:lnTo>
                <a:close/>
                <a:moveTo>
                  <a:pt x="177" y="10"/>
                </a:moveTo>
                <a:lnTo>
                  <a:pt x="136" y="10"/>
                </a:lnTo>
                <a:lnTo>
                  <a:pt x="136" y="0"/>
                </a:lnTo>
                <a:lnTo>
                  <a:pt x="177" y="0"/>
                </a:lnTo>
                <a:lnTo>
                  <a:pt x="177" y="10"/>
                </a:lnTo>
                <a:close/>
                <a:moveTo>
                  <a:pt x="106" y="10"/>
                </a:moveTo>
                <a:lnTo>
                  <a:pt x="64" y="10"/>
                </a:lnTo>
                <a:lnTo>
                  <a:pt x="64" y="0"/>
                </a:lnTo>
                <a:lnTo>
                  <a:pt x="106" y="0"/>
                </a:lnTo>
                <a:lnTo>
                  <a:pt x="106" y="10"/>
                </a:lnTo>
                <a:close/>
                <a:moveTo>
                  <a:pt x="34" y="10"/>
                </a:moveTo>
                <a:lnTo>
                  <a:pt x="5" y="10"/>
                </a:lnTo>
                <a:lnTo>
                  <a:pt x="11" y="5"/>
                </a:lnTo>
                <a:lnTo>
                  <a:pt x="11" y="17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34" y="10"/>
                </a:lnTo>
                <a:close/>
                <a:moveTo>
                  <a:pt x="11" y="48"/>
                </a:moveTo>
                <a:lnTo>
                  <a:pt x="11" y="88"/>
                </a:lnTo>
                <a:lnTo>
                  <a:pt x="0" y="88"/>
                </a:lnTo>
                <a:lnTo>
                  <a:pt x="0" y="48"/>
                </a:lnTo>
                <a:lnTo>
                  <a:pt x="11" y="48"/>
                </a:lnTo>
                <a:close/>
                <a:moveTo>
                  <a:pt x="11" y="119"/>
                </a:moveTo>
                <a:lnTo>
                  <a:pt x="11" y="159"/>
                </a:lnTo>
                <a:lnTo>
                  <a:pt x="0" y="159"/>
                </a:lnTo>
                <a:lnTo>
                  <a:pt x="0" y="119"/>
                </a:lnTo>
                <a:lnTo>
                  <a:pt x="11" y="119"/>
                </a:lnTo>
                <a:close/>
                <a:moveTo>
                  <a:pt x="11" y="189"/>
                </a:moveTo>
                <a:lnTo>
                  <a:pt x="11" y="231"/>
                </a:lnTo>
                <a:lnTo>
                  <a:pt x="0" y="231"/>
                </a:lnTo>
                <a:lnTo>
                  <a:pt x="0" y="189"/>
                </a:lnTo>
                <a:lnTo>
                  <a:pt x="11" y="189"/>
                </a:lnTo>
                <a:close/>
                <a:moveTo>
                  <a:pt x="11" y="261"/>
                </a:moveTo>
                <a:lnTo>
                  <a:pt x="11" y="302"/>
                </a:lnTo>
                <a:lnTo>
                  <a:pt x="0" y="302"/>
                </a:lnTo>
                <a:lnTo>
                  <a:pt x="0" y="261"/>
                </a:lnTo>
                <a:lnTo>
                  <a:pt x="11" y="261"/>
                </a:lnTo>
                <a:close/>
                <a:moveTo>
                  <a:pt x="11" y="332"/>
                </a:moveTo>
                <a:lnTo>
                  <a:pt x="11" y="373"/>
                </a:lnTo>
                <a:lnTo>
                  <a:pt x="0" y="373"/>
                </a:lnTo>
                <a:lnTo>
                  <a:pt x="0" y="332"/>
                </a:lnTo>
                <a:lnTo>
                  <a:pt x="11" y="332"/>
                </a:lnTo>
                <a:close/>
                <a:moveTo>
                  <a:pt x="11" y="403"/>
                </a:moveTo>
                <a:lnTo>
                  <a:pt x="11" y="445"/>
                </a:lnTo>
                <a:lnTo>
                  <a:pt x="0" y="445"/>
                </a:lnTo>
                <a:lnTo>
                  <a:pt x="0" y="403"/>
                </a:lnTo>
                <a:lnTo>
                  <a:pt x="11" y="403"/>
                </a:lnTo>
                <a:close/>
                <a:moveTo>
                  <a:pt x="11" y="475"/>
                </a:moveTo>
                <a:lnTo>
                  <a:pt x="11" y="516"/>
                </a:lnTo>
                <a:lnTo>
                  <a:pt x="0" y="516"/>
                </a:lnTo>
                <a:lnTo>
                  <a:pt x="0" y="475"/>
                </a:lnTo>
                <a:lnTo>
                  <a:pt x="11" y="475"/>
                </a:lnTo>
                <a:close/>
                <a:moveTo>
                  <a:pt x="11" y="546"/>
                </a:moveTo>
                <a:lnTo>
                  <a:pt x="11" y="586"/>
                </a:lnTo>
                <a:lnTo>
                  <a:pt x="0" y="586"/>
                </a:lnTo>
                <a:lnTo>
                  <a:pt x="0" y="546"/>
                </a:lnTo>
                <a:lnTo>
                  <a:pt x="11" y="546"/>
                </a:lnTo>
                <a:close/>
                <a:moveTo>
                  <a:pt x="11" y="617"/>
                </a:moveTo>
                <a:lnTo>
                  <a:pt x="11" y="658"/>
                </a:lnTo>
                <a:lnTo>
                  <a:pt x="0" y="658"/>
                </a:lnTo>
                <a:lnTo>
                  <a:pt x="0" y="617"/>
                </a:lnTo>
                <a:lnTo>
                  <a:pt x="11" y="617"/>
                </a:lnTo>
                <a:close/>
                <a:moveTo>
                  <a:pt x="11" y="689"/>
                </a:moveTo>
                <a:lnTo>
                  <a:pt x="11" y="729"/>
                </a:lnTo>
                <a:lnTo>
                  <a:pt x="0" y="729"/>
                </a:lnTo>
                <a:lnTo>
                  <a:pt x="0" y="689"/>
                </a:lnTo>
                <a:lnTo>
                  <a:pt x="11" y="689"/>
                </a:lnTo>
                <a:close/>
                <a:moveTo>
                  <a:pt x="11" y="760"/>
                </a:moveTo>
                <a:lnTo>
                  <a:pt x="11" y="799"/>
                </a:lnTo>
                <a:lnTo>
                  <a:pt x="5" y="794"/>
                </a:lnTo>
                <a:lnTo>
                  <a:pt x="6" y="794"/>
                </a:lnTo>
                <a:lnTo>
                  <a:pt x="6" y="804"/>
                </a:lnTo>
                <a:lnTo>
                  <a:pt x="0" y="804"/>
                </a:lnTo>
                <a:lnTo>
                  <a:pt x="0" y="760"/>
                </a:lnTo>
                <a:lnTo>
                  <a:pt x="11" y="760"/>
                </a:lnTo>
                <a:close/>
                <a:moveTo>
                  <a:pt x="36" y="794"/>
                </a:moveTo>
                <a:lnTo>
                  <a:pt x="78" y="794"/>
                </a:lnTo>
                <a:lnTo>
                  <a:pt x="78" y="804"/>
                </a:lnTo>
                <a:lnTo>
                  <a:pt x="36" y="804"/>
                </a:lnTo>
                <a:lnTo>
                  <a:pt x="36" y="794"/>
                </a:lnTo>
                <a:close/>
                <a:moveTo>
                  <a:pt x="108" y="794"/>
                </a:moveTo>
                <a:lnTo>
                  <a:pt x="149" y="794"/>
                </a:lnTo>
                <a:lnTo>
                  <a:pt x="149" y="804"/>
                </a:lnTo>
                <a:lnTo>
                  <a:pt x="108" y="804"/>
                </a:lnTo>
                <a:lnTo>
                  <a:pt x="108" y="794"/>
                </a:lnTo>
                <a:close/>
                <a:moveTo>
                  <a:pt x="179" y="794"/>
                </a:moveTo>
                <a:lnTo>
                  <a:pt x="219" y="794"/>
                </a:lnTo>
                <a:lnTo>
                  <a:pt x="219" y="804"/>
                </a:lnTo>
                <a:lnTo>
                  <a:pt x="179" y="804"/>
                </a:lnTo>
                <a:lnTo>
                  <a:pt x="179" y="794"/>
                </a:lnTo>
                <a:close/>
                <a:moveTo>
                  <a:pt x="250" y="794"/>
                </a:moveTo>
                <a:lnTo>
                  <a:pt x="291" y="794"/>
                </a:lnTo>
                <a:lnTo>
                  <a:pt x="291" y="804"/>
                </a:lnTo>
                <a:lnTo>
                  <a:pt x="250" y="804"/>
                </a:lnTo>
                <a:lnTo>
                  <a:pt x="250" y="794"/>
                </a:lnTo>
                <a:close/>
                <a:moveTo>
                  <a:pt x="322" y="794"/>
                </a:moveTo>
                <a:lnTo>
                  <a:pt x="362" y="794"/>
                </a:lnTo>
                <a:lnTo>
                  <a:pt x="362" y="804"/>
                </a:lnTo>
                <a:lnTo>
                  <a:pt x="322" y="804"/>
                </a:lnTo>
                <a:lnTo>
                  <a:pt x="322" y="794"/>
                </a:lnTo>
                <a:close/>
                <a:moveTo>
                  <a:pt x="393" y="794"/>
                </a:moveTo>
                <a:lnTo>
                  <a:pt x="433" y="794"/>
                </a:lnTo>
                <a:lnTo>
                  <a:pt x="433" y="804"/>
                </a:lnTo>
                <a:lnTo>
                  <a:pt x="393" y="804"/>
                </a:lnTo>
                <a:lnTo>
                  <a:pt x="393" y="794"/>
                </a:lnTo>
                <a:close/>
                <a:moveTo>
                  <a:pt x="463" y="794"/>
                </a:moveTo>
                <a:lnTo>
                  <a:pt x="478" y="794"/>
                </a:lnTo>
                <a:lnTo>
                  <a:pt x="473" y="798"/>
                </a:lnTo>
                <a:lnTo>
                  <a:pt x="480" y="772"/>
                </a:lnTo>
                <a:lnTo>
                  <a:pt x="490" y="775"/>
                </a:lnTo>
                <a:lnTo>
                  <a:pt x="482" y="804"/>
                </a:lnTo>
                <a:lnTo>
                  <a:pt x="463" y="804"/>
                </a:lnTo>
                <a:lnTo>
                  <a:pt x="463" y="794"/>
                </a:lnTo>
                <a:close/>
                <a:moveTo>
                  <a:pt x="488" y="743"/>
                </a:moveTo>
                <a:lnTo>
                  <a:pt x="499" y="704"/>
                </a:lnTo>
                <a:lnTo>
                  <a:pt x="509" y="706"/>
                </a:lnTo>
                <a:lnTo>
                  <a:pt x="498" y="745"/>
                </a:lnTo>
                <a:lnTo>
                  <a:pt x="488" y="743"/>
                </a:lnTo>
                <a:close/>
                <a:moveTo>
                  <a:pt x="506" y="674"/>
                </a:moveTo>
                <a:lnTo>
                  <a:pt x="517" y="634"/>
                </a:lnTo>
                <a:lnTo>
                  <a:pt x="527" y="638"/>
                </a:lnTo>
                <a:lnTo>
                  <a:pt x="516" y="677"/>
                </a:lnTo>
                <a:lnTo>
                  <a:pt x="506" y="674"/>
                </a:lnTo>
                <a:close/>
                <a:moveTo>
                  <a:pt x="524" y="605"/>
                </a:moveTo>
                <a:lnTo>
                  <a:pt x="535" y="566"/>
                </a:lnTo>
                <a:lnTo>
                  <a:pt x="545" y="568"/>
                </a:lnTo>
                <a:lnTo>
                  <a:pt x="534" y="607"/>
                </a:lnTo>
                <a:lnTo>
                  <a:pt x="524" y="605"/>
                </a:lnTo>
                <a:close/>
                <a:moveTo>
                  <a:pt x="544" y="536"/>
                </a:moveTo>
                <a:lnTo>
                  <a:pt x="554" y="497"/>
                </a:lnTo>
                <a:lnTo>
                  <a:pt x="563" y="500"/>
                </a:lnTo>
                <a:lnTo>
                  <a:pt x="554" y="539"/>
                </a:lnTo>
                <a:lnTo>
                  <a:pt x="544" y="536"/>
                </a:lnTo>
                <a:close/>
                <a:moveTo>
                  <a:pt x="562" y="468"/>
                </a:moveTo>
                <a:lnTo>
                  <a:pt x="572" y="428"/>
                </a:lnTo>
                <a:lnTo>
                  <a:pt x="582" y="431"/>
                </a:lnTo>
                <a:lnTo>
                  <a:pt x="572" y="470"/>
                </a:lnTo>
                <a:lnTo>
                  <a:pt x="562" y="4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2320" y="3124080"/>
            <a:ext cx="9043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et infor-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ation 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ist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duct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76480" y="3570120"/>
            <a:ext cx="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6832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120" y="2887560"/>
            <a:ext cx="178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ze performan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6832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14800" y="3948120"/>
            <a:ext cx="122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nchmark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29240" y="2557440"/>
            <a:ext cx="215748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37560" y="3267000"/>
            <a:ext cx="139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mplementati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26240" y="3570120"/>
            <a:ext cx="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547560" y="1219320"/>
            <a:ext cx="8504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2 : Improvement of Loan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ppraisal Process and Sco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1640" y="2725560"/>
            <a:ext cx="139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a warehous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2536920"/>
            <a:ext cx="1905120" cy="348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483000"/>
              <a:gd name="textAreaBottom" fmla="*/ 348336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58" y="0"/>
                </a:lnTo>
                <a:lnTo>
                  <a:pt x="21600" y="10800"/>
                </a:lnTo>
                <a:lnTo>
                  <a:pt x="16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fr-FR" sz="1400" spc="-1" strike="noStrike">
                <a:solidFill>
                  <a:srgbClr val="003366"/>
                </a:solidFill>
                <a:latin typeface="Verdana"/>
              </a:rPr>
              <a:t>Analysis of current situ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ata availab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Scoring tools in pla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Loan appraisal form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Methodologies/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746680" y="2536920"/>
            <a:ext cx="2330640" cy="15015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1480" rIns="90000" tIns="0" bIns="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Find data and follow-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7560" y="4800600"/>
            <a:ext cx="1203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or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ol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25720" y="4440240"/>
            <a:ext cx="2264040" cy="1579680"/>
          </a:xfrm>
          <a:custGeom>
            <a:avLst/>
            <a:gdLst>
              <a:gd name="textAreaLeft" fmla="*/ 0 w 2264040"/>
              <a:gd name="textAreaRight" fmla="*/ 2264400 w 226404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0" y="0"/>
                </a:lnTo>
                <a:lnTo>
                  <a:pt x="21600" y="10800"/>
                </a:lnTo>
                <a:lnTo>
                  <a:pt x="18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velopment of scoring tool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75200" y="4440240"/>
            <a:ext cx="2264040" cy="1579680"/>
          </a:xfrm>
          <a:custGeom>
            <a:avLst/>
            <a:gdLst>
              <a:gd name="textAreaLeft" fmla="*/ 0 w 2264040"/>
              <a:gd name="textAreaRight" fmla="*/ 2264400 w 226404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96" y="0"/>
                </a:lnTo>
                <a:lnTo>
                  <a:pt x="21600" y="10800"/>
                </a:lnTo>
                <a:lnTo>
                  <a:pt x="18296" y="21600"/>
                </a:lnTo>
                <a:lnTo>
                  <a:pt x="0" y="21600"/>
                </a:lnTo>
                <a:lnTo>
                  <a:pt x="3304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5760" rIns="90000" tIns="0" bIns="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Back-test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finition of new procedur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Train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Follow-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5720" y="2536920"/>
            <a:ext cx="2330640" cy="150156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58" y="0"/>
                </a:lnTo>
                <a:lnTo>
                  <a:pt x="21600" y="10800"/>
                </a:lnTo>
                <a:lnTo>
                  <a:pt x="161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Define missing 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 of Project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1312920"/>
            <a:ext cx="8504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odule 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 : Improvement of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 C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ollec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5460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764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9684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9116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8820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0428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54600" y="2557440"/>
            <a:ext cx="215892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87640" y="3114720"/>
            <a:ext cx="122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Elaboration         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6840" y="34178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d’une gamme d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91160" y="3722760"/>
            <a:ext cx="90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produits cibl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88200" y="2887560"/>
            <a:ext cx="160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Analyse de performanc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4280" y="3948120"/>
            <a:ext cx="969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4600" y="2557440"/>
            <a:ext cx="410976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4600" y="2557440"/>
            <a:ext cx="4109760" cy="19810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020" y="0"/>
                </a:moveTo>
                <a:lnTo>
                  <a:pt x="0" y="0"/>
                </a:lnTo>
                <a:lnTo>
                  <a:pt x="172" y="397"/>
                </a:lnTo>
                <a:lnTo>
                  <a:pt x="0" y="794"/>
                </a:lnTo>
                <a:lnTo>
                  <a:pt x="1020" y="794"/>
                </a:lnTo>
                <a:lnTo>
                  <a:pt x="1192" y="397"/>
                </a:lnTo>
                <a:lnTo>
                  <a:pt x="1020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83400" y="3068640"/>
            <a:ext cx="1655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entify quick wi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mprove 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t-up a call c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ining       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6560" y="341784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41880" y="3722760"/>
            <a:ext cx="3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49200" y="2557440"/>
            <a:ext cx="2708280" cy="92088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1" y="0"/>
                </a:moveTo>
                <a:lnTo>
                  <a:pt x="0" y="0"/>
                </a:lnTo>
                <a:lnTo>
                  <a:pt x="0" y="369"/>
                </a:lnTo>
                <a:lnTo>
                  <a:pt x="1411" y="369"/>
                </a:lnTo>
                <a:lnTo>
                  <a:pt x="1496" y="184"/>
                </a:lnTo>
                <a:lnTo>
                  <a:pt x="141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89400" y="2887560"/>
            <a:ext cx="198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is of the portfoli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49200" y="3618000"/>
            <a:ext cx="2708280" cy="920520"/>
          </a:xfrm>
          <a:custGeom>
            <a:avLst/>
            <a:gdLst/>
            <a:ahLst/>
            <a:rect l="l" t="t" r="r" b="b"/>
            <a:pathLst>
              <a:path w="1496" h="369">
                <a:moveTo>
                  <a:pt x="1418" y="0"/>
                </a:moveTo>
                <a:lnTo>
                  <a:pt x="0" y="0"/>
                </a:lnTo>
                <a:lnTo>
                  <a:pt x="0" y="369"/>
                </a:lnTo>
                <a:lnTo>
                  <a:pt x="1418" y="369"/>
                </a:lnTo>
                <a:lnTo>
                  <a:pt x="1496" y="185"/>
                </a:lnTo>
                <a:lnTo>
                  <a:pt x="1418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2000" y="3948120"/>
            <a:ext cx="209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is of the process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sible Next Step if Interest: Diagnostic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1644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Gather data 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19810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ustomer segment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ales organiz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R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isk-based pric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306216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entralization of credit-approv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Accuracy of Risk Report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Efficiency of Collec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4145040"/>
            <a:ext cx="2595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cesses streamlinin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coring/Rating to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Branch as a distribution channe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rganization of back-offi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5410080"/>
            <a:ext cx="259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duct mix and impact on fun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Governance/Disclosur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Treasury Management / AL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981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Fee vs. interest income rat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rofitability by customer seg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3062160"/>
            <a:ext cx="33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Portfolio-at-Ris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% loans with early defaul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% Non Performing Loa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s on Collections Efficienc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s on Provisions and Write-of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80000" y="4145040"/>
            <a:ext cx="189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verhead/Net Incom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Staff produ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Branch productiv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5410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 loans/deposi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Ratio interest bearing / non interest bearing deposi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ALM key ratio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552276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f Fun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0800" y="4191120"/>
            <a:ext cx="811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ver-hea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00800" y="327672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ost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of Ris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2209680"/>
            <a:ext cx="811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Gros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Marg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66880" y="1676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alculate key indicato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248520" y="1371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Understand profitability driver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1969920"/>
            <a:ext cx="1905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43200" y="1981080"/>
            <a:ext cx="32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1981080"/>
            <a:ext cx="2362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5814000" y="234540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5400000">
            <a:off x="5837760" y="345816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5837760" y="4418640"/>
            <a:ext cx="71604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5838120" y="5820480"/>
            <a:ext cx="715680" cy="200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11880" y="24382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38880" y="350532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11880" y="44956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11880" y="5867280"/>
            <a:ext cx="1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391160" y="2438280"/>
            <a:ext cx="27000" cy="3429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4038480"/>
            <a:ext cx="179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70800" y="2995560"/>
            <a:ext cx="1116000" cy="19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Formulate a diagnostic on current situation and ways of improving net marg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Draft a propos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ct Detail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Greg R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grung@ifc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E Banking Framework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ifting the Produ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ronti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371600" y="2392200"/>
            <a:ext cx="0" cy="182880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6095880"/>
            <a:ext cx="2438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6095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Broader service offerings &amp; higher asset qual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316760"/>
            <a:ext cx="1447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Lower unit costs per transactio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or serv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523880"/>
            <a:ext cx="6858000" cy="4496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0200" y="1949400"/>
            <a:ext cx="306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33"/>
                </a:solidFill>
                <a:latin typeface="Arial"/>
              </a:rPr>
              <a:t>Productivity Fronti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(Future state of Best Pract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00240" y="2316240"/>
            <a:ext cx="3049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099160" y="2394000"/>
            <a:ext cx="808524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4" y="45"/>
                </a:moveTo>
                <a:arcTo wR="10800" hR="10800" stAng="-5714204" swAng="5714204"/>
                <a:lnTo>
                  <a:pt x="10800" y="10800"/>
                </a:lnTo>
                <a:close/>
              </a:path>
              <a:path fill="none" w="21600" h="21600">
                <a:moveTo>
                  <a:pt x="9814" y="45"/>
                </a:moveTo>
                <a:arcTo wR="10800" hR="10800" stAng="-5714204" swAng="5714204"/>
              </a:path>
            </a:pathLst>
          </a:cu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756320"/>
            <a:ext cx="1828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Limite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services 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limited numb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of custome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5050"/>
                </a:solidFill>
                <a:latin typeface="Arial Narrow"/>
              </a:rPr>
              <a:t>UNPROFITAB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590920"/>
            <a:ext cx="0" cy="68580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641800">
            <a:off x="3200040" y="3276720"/>
            <a:ext cx="1219320" cy="1724040"/>
          </a:xfrm>
          <a:prstGeom prst="upArrow">
            <a:avLst>
              <a:gd name="adj1" fmla="val 50000"/>
              <a:gd name="adj2" fmla="val 35348"/>
            </a:avLst>
          </a:prstGeom>
          <a:solidFill>
            <a:srgbClr val="33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560" y="4602240"/>
            <a:ext cx="32018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47" y="178"/>
                </a:moveTo>
                <a:arcTo wR="10800" hR="10800" stAng="-6025020" swAng="6423659"/>
                <a:lnTo>
                  <a:pt x="10800" y="10800"/>
                </a:lnTo>
                <a:close/>
              </a:path>
              <a:path fill="none" w="21600" h="21600">
                <a:moveTo>
                  <a:pt x="8847" y="178"/>
                </a:moveTo>
                <a:arcTo wR="10800" hR="10800" stAng="-6025020" swAng="6423659"/>
              </a:path>
            </a:pathLst>
          </a:cu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9080" y="1523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1935000"/>
            <a:ext cx="0" cy="33530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1884240"/>
            <a:ext cx="2133720" cy="10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ing Growth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profitable marketing strategies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124080"/>
            <a:ext cx="2133720" cy="10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roving Asset Quality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enhanced risk management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481640"/>
            <a:ext cx="2133720" cy="153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asing Operating Efficiency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Through technological innovatio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61388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are banks trying to do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6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3366"/>
                </a:solidFill>
                <a:latin typeface="Verdana"/>
              </a:rPr>
              <a:t>out</a:t>
            </a:r>
            <a:endParaRPr b="0" lang="en-US" sz="10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Is Difficult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market knowledge is difficult to acqui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 Corporate” market composed of a few hundreds of large well-known companies,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vs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 mass market composed of hundreds of thousands of SMEs in different Industry Sectors and Geographic area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Risk is difficult to manage for traditional bank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Financial information on the business is scarce and often non reliable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are often under-capitalized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are often unable to provide adequate collateral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MEs lack Financial Management culture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 has high cost-to-serv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One Corporate transaction can generate the same Net Banking Income as 50 SME transactions…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But is not much costlier to the Bank than 1 SME transactio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Countries with the Adequate Environmen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nking Regulatio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Judicial Syste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hould enforce creditor right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Should allow quick and efficient dispute resolutio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ayment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To improve productivity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To develop value–added products with good service quality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mmunications, Infrastructur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Easy contact with customers and branches across country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redit Informa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redit-Information Sharing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149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se of advanced, cost effective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tools &amp; processe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for comprehensive risk management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rom data capture &amp; management to data analysis and monitoring..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y possibly leveraging information derived from historical performance of SME clients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scoring experience of consumer credit underwriting (models, application processing, reporting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s supposes good coordination between portfolio management and collections departments, in particula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6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0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 Unicode MS"/>
              </a:rPr>
              <a:t>Example of a Simple Scorecar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914400"/>
            <a:ext cx="8748720" cy="5971680"/>
            <a:chOff x="228600" y="914400"/>
            <a:chExt cx="8748720" cy="5971680"/>
          </a:xfrm>
        </p:grpSpPr>
        <p:sp>
          <p:nvSpPr>
            <p:cNvPr id="664" name=""/>
            <p:cNvSpPr/>
            <p:nvPr/>
          </p:nvSpPr>
          <p:spPr>
            <a:xfrm>
              <a:off x="228600" y="938160"/>
              <a:ext cx="8710560" cy="565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1280" y="3733920"/>
              <a:ext cx="6143400" cy="241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87400" y="6016680"/>
              <a:ext cx="5135760" cy="3031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87400" y="5491080"/>
              <a:ext cx="3016440" cy="281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87400" y="4905360"/>
              <a:ext cx="6142320" cy="2732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78200" y="4876920"/>
              <a:ext cx="5601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&lt; .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990800" y="5510160"/>
              <a:ext cx="10047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GT 100,00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	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47960" y="6019920"/>
              <a:ext cx="691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Y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–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960" y="4930920"/>
              <a:ext cx="809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Years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 Busin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080" y="5478480"/>
              <a:ext cx="11919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Total Asse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760" y="6060960"/>
              <a:ext cx="1238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Negativ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File Inform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6120" y="4876920"/>
              <a:ext cx="412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.5 – &lt; 2.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1720" y="5526000"/>
              <a:ext cx="4125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LT $100,00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94120" y="6019920"/>
              <a:ext cx="7966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o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19480" y="4876920"/>
              <a:ext cx="412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.5 – &lt; 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84560" y="5526000"/>
              <a:ext cx="41112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16480" y="6019920"/>
              <a:ext cx="7970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o Investig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76800" y="4876920"/>
              <a:ext cx="411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 – &lt; 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6200" y="6019920"/>
              <a:ext cx="8985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78680" y="4876920"/>
              <a:ext cx="4554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8 – &lt; 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87400" y="1506600"/>
              <a:ext cx="5127840" cy="2523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87400" y="2092320"/>
              <a:ext cx="6143760" cy="241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87400" y="2619360"/>
              <a:ext cx="5127840" cy="2635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87400" y="3184560"/>
              <a:ext cx="7189920" cy="268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87400" y="4330800"/>
              <a:ext cx="3021120" cy="2635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87400" y="920880"/>
              <a:ext cx="7175520" cy="261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47760" y="1525680"/>
              <a:ext cx="35244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Singl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81160" y="2085840"/>
              <a:ext cx="4860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4000" y="2590920"/>
              <a:ext cx="3999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w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44800" y="3225960"/>
              <a:ext cx="5587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&lt; 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33560" y="3733920"/>
              <a:ext cx="7812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rof. Servic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95560" y="4276800"/>
              <a:ext cx="457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Heavy Manuf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6560" y="1565280"/>
              <a:ext cx="98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Marital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Statu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3720" y="2109960"/>
              <a:ext cx="10749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# of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Dependen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5040" y="2698920"/>
              <a:ext cx="1192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Residential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Statu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4160" y="3251160"/>
              <a:ext cx="141444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Years at </a:t>
              </a:r>
              <a:br>
                <a:rPr sz="1400"/>
              </a:b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Addres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880" y="3887640"/>
              <a:ext cx="944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dustr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4840" y="4375080"/>
              <a:ext cx="973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90000"/>
                </a:lnSpc>
                <a:spcBef>
                  <a:spcPts val="62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Industry - continu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986200" y="1525680"/>
              <a:ext cx="7221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Marri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949480" y="2085840"/>
              <a:ext cx="795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86200" y="2590920"/>
              <a:ext cx="7221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R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71800" y="3225960"/>
              <a:ext cx="7509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 – &lt; 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76560" y="3733920"/>
              <a:ext cx="5446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I.T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8120" y="4276800"/>
              <a:ext cx="6188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06720" y="1525680"/>
              <a:ext cx="8287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Divorc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84560" y="2085840"/>
              <a:ext cx="4716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06720" y="2590920"/>
              <a:ext cx="828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Parent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51360" y="3225960"/>
              <a:ext cx="738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– &lt; 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00600" y="3733920"/>
              <a:ext cx="8413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 Servic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11480" y="4276800"/>
              <a:ext cx="619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25880" y="1525680"/>
              <a:ext cx="9288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Oth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45120" y="1501920"/>
              <a:ext cx="70812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32520" y="2085840"/>
              <a:ext cx="5299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 – 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6120" y="2590920"/>
              <a:ext cx="8240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ompan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46560" y="3225960"/>
              <a:ext cx="515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6 – &lt; 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18120" y="3733920"/>
              <a:ext cx="5889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Retai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7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18200" y="2085840"/>
              <a:ext cx="6206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56200" y="2590920"/>
              <a:ext cx="9302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45120" y="3225960"/>
              <a:ext cx="7524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 – &lt; 1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37360" y="3733920"/>
              <a:ext cx="353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Catering.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54720" y="3225960"/>
              <a:ext cx="351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5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7240" y="2085840"/>
              <a:ext cx="72216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73240" y="932040"/>
              <a:ext cx="5018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 – &lt; 2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90960" y="932040"/>
              <a:ext cx="5158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1 – &lt; 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25880" y="932040"/>
              <a:ext cx="5904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 – &lt; 3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8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05240" y="932040"/>
              <a:ext cx="354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0 – &lt; 4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6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0200" y="1022400"/>
              <a:ext cx="1062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e3e3e3"/>
                  </a:solidFill>
                  <a:latin typeface="Arial Narrow"/>
                  <a:ea typeface="MS PGothic"/>
                </a:rPr>
                <a:t>Age of Own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60280" y="1506600"/>
              <a:ext cx="8710200" cy="5068800"/>
              <a:chOff x="260280" y="1506600"/>
              <a:chExt cx="8710200" cy="5068800"/>
            </a:xfrm>
          </p:grpSpPr>
          <p:sp>
            <p:nvSpPr>
              <p:cNvPr id="732" name=""/>
              <p:cNvSpPr/>
              <p:nvPr/>
            </p:nvSpPr>
            <p:spPr>
              <a:xfrm>
                <a:off x="260280" y="206028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0280" y="261612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0280" y="374004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0280" y="317016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0280" y="4327200"/>
                <a:ext cx="86976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0280" y="15066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0280" y="65754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0280" y="6008400"/>
                <a:ext cx="87102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2880" y="5465520"/>
                <a:ext cx="8697600" cy="0"/>
              </a:xfrm>
              <a:prstGeom prst="line">
                <a:avLst/>
              </a:prstGeom>
              <a:ln w="12600">
                <a:solidFill>
                  <a:srgbClr val="00b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1960" y="4900320"/>
                <a:ext cx="8659080" cy="0"/>
              </a:xfrm>
              <a:prstGeom prst="line">
                <a:avLst/>
              </a:prstGeom>
              <a:ln w="25560">
                <a:solidFill>
                  <a:srgbClr val="ff2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6251400" y="932040"/>
              <a:ext cx="354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0 – &lt; 5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3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54720" y="932040"/>
              <a:ext cx="351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50 – Hig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4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99440" y="932040"/>
              <a:ext cx="3538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69200" y="3225960"/>
              <a:ext cx="35424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5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69120" y="3733920"/>
              <a:ext cx="353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Buildin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1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80200" y="4876920"/>
              <a:ext cx="4572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27000" bIns="27000" anchor="t">
              <a:noAutofit/>
            </a:bodyPr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N I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264"/>
                </a:spcBef>
                <a:tabLst>
                  <a:tab algn="l" pos="0"/>
                  <a:tab algn="l" pos="458640"/>
                  <a:tab algn="l" pos="915840"/>
                  <a:tab algn="l" pos="1374840"/>
                  <a:tab algn="l" pos="2108160"/>
                  <a:tab algn="l" pos="3162240"/>
                  <a:tab algn="l" pos="4216320"/>
                  <a:tab algn="l" pos="5270400"/>
                  <a:tab algn="l" pos="6324480"/>
                  <a:tab algn="l" pos="7378560"/>
                  <a:tab algn="l" pos="8432640"/>
                  <a:tab algn="l" pos="9487080"/>
                  <a:tab algn="l" pos="105411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20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8748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520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08520" y="914400"/>
              <a:ext cx="0" cy="509580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6908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1524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7732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31160" y="923760"/>
              <a:ext cx="0" cy="564696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71560" y="914400"/>
              <a:ext cx="0" cy="5656320"/>
            </a:xfrm>
            <a:prstGeom prst="line">
              <a:avLst/>
            </a:prstGeom>
            <a:ln w="12600">
              <a:solidFill>
                <a:srgbClr val="00b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11760" y="6707160"/>
              <a:ext cx="137448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700" spc="-1" strike="noStrike">
                  <a:solidFill>
                    <a:srgbClr val="00a8f0"/>
                  </a:solidFill>
                  <a:latin typeface="Arial Narrow"/>
                  <a:ea typeface="MS PGothic"/>
                </a:rPr>
                <a:t>© 1995 Fair, Isaac and Co, Inc.</a:t>
              </a:r>
              <a:endParaRPr b="0" lang="en-US" sz="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91960" y="-1522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52280" y="456840"/>
            <a:ext cx="74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 Unicode MS"/>
              </a:rPr>
              <a:t>Evaluating the Credit Applica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"/>
          <p:cNvSpPr/>
          <p:nvPr/>
        </p:nvSpPr>
        <p:spPr>
          <a:xfrm>
            <a:off x="-119160" y="909720"/>
            <a:ext cx="9261720" cy="594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-119160" y="3327480"/>
            <a:ext cx="9263160" cy="3530520"/>
          </a:xfrm>
          <a:custGeom>
            <a:avLst/>
            <a:gdLst/>
            <a:ahLst/>
            <a:rect l="l" t="t" r="r" b="b"/>
            <a:pathLst>
              <a:path w="5834" h="2224">
                <a:moveTo>
                  <a:pt x="0" y="0"/>
                </a:moveTo>
                <a:lnTo>
                  <a:pt x="0" y="2223"/>
                </a:lnTo>
                <a:lnTo>
                  <a:pt x="5833" y="2223"/>
                </a:lnTo>
                <a:lnTo>
                  <a:pt x="5833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f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60200" y="1052640"/>
            <a:ext cx="8840520" cy="5591160"/>
            <a:chOff x="160200" y="1052640"/>
            <a:chExt cx="8840520" cy="5591160"/>
          </a:xfrm>
        </p:grpSpPr>
        <p:sp>
          <p:nvSpPr>
            <p:cNvPr id="769" name=""/>
            <p:cNvSpPr/>
            <p:nvPr/>
          </p:nvSpPr>
          <p:spPr>
            <a:xfrm>
              <a:off x="6371640" y="1052640"/>
              <a:ext cx="2629080" cy="55911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6200" y="1052640"/>
              <a:ext cx="2667240" cy="55911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200" y="1067040"/>
              <a:ext cx="3188160" cy="5576760"/>
            </a:xfrm>
            <a:prstGeom prst="rect">
              <a:avLst/>
            </a:prstGeom>
            <a:gradFill rotWithShape="0">
              <a:gsLst>
                <a:gs pos="0">
                  <a:srgbClr val="002fbc"/>
                </a:gs>
                <a:gs pos="100000">
                  <a:srgbClr val="000d3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1c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452520" y="1081080"/>
            <a:ext cx="2514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C H A R A C T E R I S T I 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59360" y="1081080"/>
            <a:ext cx="1589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J U D G M E N 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23120" y="1081080"/>
            <a:ext cx="2489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9aa"/>
                </a:solidFill>
                <a:latin typeface="Arial Narrow"/>
                <a:ea typeface="MS PGothic"/>
              </a:rPr>
              <a:t>C R E D I T   S C O R I N 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27640" y="1523880"/>
            <a:ext cx="7887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13480" y="1523880"/>
            <a:ext cx="7876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2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9120" y="1523880"/>
            <a:ext cx="276876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Marital statu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# of depend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Residential statu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ime at 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Indust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ime in Busin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Total Asse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Negative file information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38720" y="5870520"/>
            <a:ext cx="1120680" cy="960480"/>
          </a:xfrm>
          <a:custGeom>
            <a:avLst/>
            <a:gdLst/>
            <a:ahLst/>
            <a:rect l="l" t="t" r="r" b="b"/>
            <a:pathLst>
              <a:path w="705" h="605">
                <a:moveTo>
                  <a:pt x="192" y="279"/>
                </a:moveTo>
                <a:lnTo>
                  <a:pt x="72" y="135"/>
                </a:lnTo>
                <a:lnTo>
                  <a:pt x="272" y="207"/>
                </a:lnTo>
                <a:lnTo>
                  <a:pt x="232" y="90"/>
                </a:lnTo>
                <a:lnTo>
                  <a:pt x="320" y="189"/>
                </a:lnTo>
                <a:lnTo>
                  <a:pt x="480" y="0"/>
                </a:lnTo>
                <a:lnTo>
                  <a:pt x="432" y="216"/>
                </a:lnTo>
                <a:lnTo>
                  <a:pt x="600" y="171"/>
                </a:lnTo>
                <a:lnTo>
                  <a:pt x="488" y="270"/>
                </a:lnTo>
                <a:lnTo>
                  <a:pt x="704" y="361"/>
                </a:lnTo>
                <a:lnTo>
                  <a:pt x="480" y="361"/>
                </a:lnTo>
                <a:lnTo>
                  <a:pt x="560" y="514"/>
                </a:lnTo>
                <a:lnTo>
                  <a:pt x="424" y="460"/>
                </a:lnTo>
                <a:lnTo>
                  <a:pt x="424" y="604"/>
                </a:lnTo>
                <a:lnTo>
                  <a:pt x="312" y="478"/>
                </a:lnTo>
                <a:lnTo>
                  <a:pt x="144" y="577"/>
                </a:lnTo>
                <a:lnTo>
                  <a:pt x="232" y="442"/>
                </a:lnTo>
                <a:lnTo>
                  <a:pt x="0" y="352"/>
                </a:lnTo>
                <a:lnTo>
                  <a:pt x="192" y="288"/>
                </a:lnTo>
              </a:path>
            </a:pathLst>
          </a:custGeom>
          <a:solidFill>
            <a:srgbClr val="ff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68760" y="6100920"/>
            <a:ext cx="6858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 Narrow"/>
                <a:ea typeface="MS PGothic"/>
              </a:rPr>
              <a:t>?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3160" y="1449360"/>
            <a:ext cx="880272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0200" y="5065560"/>
            <a:ext cx="881568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6680" y="5942160"/>
            <a:ext cx="8827920" cy="0"/>
          </a:xfrm>
          <a:prstGeom prst="line">
            <a:avLst/>
          </a:prstGeom>
          <a:ln w="1260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6680" y="5899320"/>
            <a:ext cx="8827920" cy="0"/>
          </a:xfrm>
          <a:prstGeom prst="line">
            <a:avLst/>
          </a:prstGeom>
          <a:ln w="1260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520" y="4913280"/>
            <a:ext cx="21081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0960" y="6114960"/>
            <a:ext cx="2845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ODDS OF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  <a:ea typeface="MS PGothic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REPAY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50120" y="6086520"/>
            <a:ext cx="914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699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 Narrow"/>
                <a:ea typeface="MS PGothic"/>
              </a:rPr>
              <a:t>95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7120" y="5105520"/>
            <a:ext cx="1179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OVERA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Deci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76160" y="5105520"/>
            <a:ext cx="878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+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ccep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68480" y="5105520"/>
            <a:ext cx="878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ts val="23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19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PGothic"/>
              </a:rPr>
              <a:t>Accep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36880" y="6661080"/>
            <a:ext cx="13622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a8f0"/>
                </a:solidFill>
                <a:latin typeface="Arial Narrow"/>
                <a:ea typeface="MS PGothic"/>
              </a:rPr>
              <a:t>© 1995 Fair, Isaac and Co, Inc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6880" y="-1522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Risk Management / Analytics (Cont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143920" y="533520"/>
            <a:ext cx="77148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25804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48840" y="380880"/>
            <a:ext cx="266400" cy="282600"/>
          </a:xfrm>
          <a:custGeom>
            <a:avLst/>
            <a:gdLst>
              <a:gd name="textAreaLeft" fmla="*/ 0 w 266400"/>
              <a:gd name="textAreaRight" fmla="*/ 266760 w 266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629560" y="380880"/>
            <a:ext cx="266760" cy="282600"/>
          </a:xfrm>
          <a:custGeom>
            <a:avLst/>
            <a:gdLst>
              <a:gd name="textAreaLeft" fmla="*/ 0 w 266760"/>
              <a:gd name="textAreaRight" fmla="*/ 266760 w 266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124840" y="380880"/>
            <a:ext cx="200160" cy="282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24840" y="663480"/>
            <a:ext cx="714240" cy="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24840" y="762120"/>
            <a:ext cx="7142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p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Taken out of this presentation but important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ight environment is needed: credit bureaus, appropriate tax system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easing is definitely part of SME banking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lements on program lending, scoring…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What is left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olistic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ybrid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oject/change manage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ey messages / Presentation Outlin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ME banking, although difficult, can be highly profitabl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ifferences across markets tend to disappear with the globalization of the financial services industry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practice, it means that targeting SMEs impacts the entire value chai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sed on this, several types of strategies can emerg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mplementation is critic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575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Can Be Highly Profitab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the US, the SME segment generates higher return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3840" y="2286000"/>
            <a:ext cx="8021880" cy="3409200"/>
            <a:chOff x="483840" y="2286000"/>
            <a:chExt cx="8021880" cy="3409200"/>
          </a:xfrm>
        </p:grpSpPr>
        <p:sp>
          <p:nvSpPr>
            <p:cNvPr id="76" name=""/>
            <p:cNvSpPr/>
            <p:nvPr/>
          </p:nvSpPr>
          <p:spPr>
            <a:xfrm>
              <a:off x="1514520" y="5695200"/>
              <a:ext cx="67100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514520" y="2286000"/>
              <a:ext cx="0" cy="340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65360" y="492048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RO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3840" y="2286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Market</a:t>
              </a:r>
              <a:br>
                <a:rPr sz="1400"/>
              </a:br>
              <a:r>
                <a:rPr b="1" lang="en-US" sz="1400" spc="-1" strike="noStrike">
                  <a:solidFill>
                    <a:srgbClr val="003366"/>
                  </a:solidFill>
                  <a:latin typeface="Verdana"/>
                </a:rPr>
                <a:t> Siz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8280" y="2376000"/>
              <a:ext cx="1629360" cy="16466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2320" y="2873160"/>
              <a:ext cx="1102680" cy="1272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5280" y="4348800"/>
              <a:ext cx="862560" cy="10368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82440" y="4717080"/>
              <a:ext cx="670680" cy="8236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5680" y="3771000"/>
              <a:ext cx="812880" cy="11494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0760" y="2286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Insuranc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4280" y="2440440"/>
              <a:ext cx="99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onsumer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redit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95080" y="4765320"/>
              <a:ext cx="68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redit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Card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26720" y="477864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Mortgag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23720" y="321588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SME </a:t>
              </a:r>
              <a:br>
                <a:rPr sz="1200"/>
              </a:br>
              <a:r>
                <a:rPr b="1" lang="en-US" sz="1200" spc="-1" strike="noStrike">
                  <a:solidFill>
                    <a:srgbClr val="003366"/>
                  </a:solidFill>
                  <a:latin typeface="Verdana"/>
                </a:rPr>
                <a:t>Banking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1066680"/>
            <a:ext cx="9753840" cy="6705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457560" y="990360"/>
            <a:ext cx="9906120" cy="2057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 a number of Emerging Markets, some banks also generate high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turns in the SME segmen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xample of a bank in South East As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-304920" y="6781680"/>
            <a:ext cx="9906120" cy="251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5575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E Banking Can Be Highly Profitable (Contd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ces across markets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Leading wholesale banks i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US and Europe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ain European Banks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and some other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Most other bank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133720"/>
            <a:ext cx="2590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portfolio is: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d actively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(ex: secondary marke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activities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d like a profi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enter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inked to overall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balance shee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agement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886200"/>
            <a:ext cx="25909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assessment done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in a “traditional” way.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any processes remain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engthy and costly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No systematic rating,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implementation of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AROC concepts nor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link between credit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worthiness and pricin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2240" y="2895480"/>
            <a:ext cx="270504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rating is used for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key business decisions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(pricing, capital allocation)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Credit portfolio exposure,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isk and profitability are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measured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Some processes often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Verdana"/>
              </a:rPr>
              <a:t>remain lengthy and costly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752480"/>
            <a:ext cx="2286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nd to Disappear with th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lobalization of the Financi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vices Industr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2362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rowing competi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pportunity to charge higher interests and transaction fees to S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Need to diversify portfolio to lower overall ris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Aft>
                <a:spcPts val="499"/>
              </a:spcAft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formation technologies lowering cost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2971800"/>
            <a:ext cx="2362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Banks have an incentive to tap new markets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071440" y="3382920"/>
            <a:ext cx="2057400" cy="35244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941720" y="1752480"/>
            <a:ext cx="4267080" cy="4038480"/>
            <a:chOff x="4941720" y="1752480"/>
            <a:chExt cx="4267080" cy="4038480"/>
          </a:xfrm>
        </p:grpSpPr>
        <p:grpSp>
          <p:nvGrpSpPr>
            <p:cNvPr id="106" name=""/>
            <p:cNvGrpSpPr/>
            <p:nvPr/>
          </p:nvGrpSpPr>
          <p:grpSpPr>
            <a:xfrm>
              <a:off x="4941720" y="1752480"/>
              <a:ext cx="4267080" cy="4038480"/>
              <a:chOff x="4941720" y="1752480"/>
              <a:chExt cx="4267080" cy="403848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6922440" y="2639880"/>
                <a:ext cx="6858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941720" y="1752480"/>
                <a:ext cx="4267080" cy="4038480"/>
                <a:chOff x="4941720" y="1752480"/>
                <a:chExt cx="4267080" cy="4038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761240" y="4128840"/>
                  <a:ext cx="14475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Under-served Market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27600" y="2376720"/>
                  <a:ext cx="990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Current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Verdana"/>
                    </a:rPr>
                    <a:t>Client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941720" y="1765080"/>
                  <a:ext cx="3352680" cy="402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991120" y="1752480"/>
                  <a:ext cx="1235160" cy="1476360"/>
                </a:xfrm>
                <a:prstGeom prst="triangle">
                  <a:avLst>
                    <a:gd name="adj" fmla="val 49870"/>
                  </a:avLst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6298920" y="3041280"/>
                  <a:ext cx="693720" cy="85896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75240" y="4340160"/>
                  <a:ext cx="2295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66"/>
                      </a:solidFill>
                      <a:latin typeface="Verdana"/>
                    </a:rPr>
                    <a:t>SMEs, Microenter-prises &amp; 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66"/>
                      </a:solidFill>
                      <a:latin typeface="Verdana"/>
                    </a:rPr>
                    <a:t>Mass-marke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932440" y="2347560"/>
                  <a:ext cx="1360440" cy="77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Large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Cos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an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“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Verdana"/>
                    </a:rPr>
                    <a:t>A” Clients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 flipH="1">
              <a:off x="7220880" y="4271760"/>
              <a:ext cx="5446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1:35:45Z</dcterms:created>
  <dc:creator>Ary NAIM</dc:creator>
  <dc:description/>
  <dc:language>en-US</dc:language>
  <cp:lastModifiedBy>grung</cp:lastModifiedBy>
  <dcterms:modified xsi:type="dcterms:W3CDTF">2005-05-10T19:05:15Z</dcterms:modified>
  <cp:revision>256</cp:revision>
  <dc:subject/>
  <dc:title>Histoire</dc:title>
</cp:coreProperties>
</file>