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528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528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68200" y="687240"/>
            <a:ext cx="4686120" cy="351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5840" y="4432320"/>
            <a:ext cx="5191200" cy="42019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just">
              <a:lnSpc>
                <a:spcPct val="12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8862480"/>
            <a:ext cx="30528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970440" y="8862480"/>
            <a:ext cx="30528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539B2E6-4D7A-418A-A0E1-361149F756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8440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1168560" y="4398480"/>
            <a:ext cx="4673520" cy="440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just">
              <a:lnSpc>
                <a:spcPct val="95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GLOBALIZATION OF THE FINANCIAL SERVICES INDUSTRY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95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Globalization and technology are fundamentally changing the financial services industry worldwide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95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etition has accelerated and is fierce for “best credits”/corporates in most countries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95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Margins and fees are narrowing significantly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95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Development of securities markets is creating additional competition for banks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95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However: There is a large untapped market – both in the retail and in the commercial segment -&gt; in most emerging markets the banking sector penetration remains below 25% of the population…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95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4647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04920" y="3958560"/>
            <a:ext cx="8534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4647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60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95856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7840" y="395856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4647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90680" y="137160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76080" y="137160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04920" y="395856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90680" y="395856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76080" y="395856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4647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04920" y="13716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4647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4647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4164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7840" y="1371600"/>
            <a:ext cx="4164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4647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04560" y="-360"/>
            <a:ext cx="46479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4647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840" y="1371600"/>
            <a:ext cx="4164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04920" y="395856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4647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4164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840" y="137160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7840" y="395856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4647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840" y="137160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58560"/>
            <a:ext cx="8534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4647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371600"/>
            <a:ext cx="8534160" cy="4952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343080" indent="-343080">
              <a:spcBef>
                <a:spcPts val="1250"/>
              </a:spcBef>
              <a:buClr>
                <a:srgbClr val="003366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343080" indent="-343080">
              <a:spcBef>
                <a:spcPts val="1250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343080" indent="-343080">
              <a:spcBef>
                <a:spcPts val="1250"/>
              </a:spcBef>
              <a:buClr>
                <a:srgbClr val="003366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343080" indent="-343080">
              <a:spcBef>
                <a:spcPts val="1250"/>
              </a:spcBef>
              <a:buClr>
                <a:srgbClr val="003366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343080" indent="-343080">
              <a:spcBef>
                <a:spcPts val="1250"/>
              </a:spcBef>
              <a:buClr>
                <a:srgbClr val="003366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343080" indent="-343080">
              <a:spcBef>
                <a:spcPts val="1250"/>
              </a:spcBef>
              <a:buClr>
                <a:srgbClr val="003366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mailto:grung@ifc.org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304920" y="3809880"/>
            <a:ext cx="853416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How to make the SME Segment Profitable for Commercial Banks </a:t>
            </a:r>
            <a:br>
              <a:rPr sz="2800"/>
            </a:br>
            <a:br>
              <a:rPr sz="2800"/>
            </a:br>
            <a:r>
              <a:rPr b="0" i="1" lang="en-US" sz="1800" spc="-1" strike="noStrike">
                <a:solidFill>
                  <a:srgbClr val="003366"/>
                </a:solidFill>
                <a:latin typeface="Verdana"/>
              </a:rPr>
              <a:t>Greg Rung</a:t>
            </a:r>
            <a:br>
              <a:rPr sz="1800"/>
            </a:br>
            <a:r>
              <a:rPr b="0" i="1" lang="en-US" sz="1800" spc="-1" strike="noStrike">
                <a:solidFill>
                  <a:srgbClr val="003366"/>
                </a:solidFill>
                <a:latin typeface="Verdana"/>
              </a:rPr>
              <a:t>May 2005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04920" y="1371600"/>
            <a:ext cx="8534160" cy="4952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-7632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n Practice, Targeting SMEs Impacts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e Entire Value Chai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81080" y="2362320"/>
            <a:ext cx="2667240" cy="281916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62520" y="2362320"/>
            <a:ext cx="2666880" cy="2819160"/>
          </a:xfrm>
          <a:custGeom>
            <a:avLst/>
            <a:gdLst>
              <a:gd name="textAreaLeft" fmla="*/ 0 w 2666880"/>
              <a:gd name="textAreaRight" fmla="*/ 2666880 w 266688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43600" y="2362320"/>
            <a:ext cx="2666880" cy="2819160"/>
          </a:xfrm>
          <a:custGeom>
            <a:avLst/>
            <a:gdLst>
              <a:gd name="textAreaLeft" fmla="*/ 0 w 2666880"/>
              <a:gd name="textAreaRight" fmla="*/ 2666880 w 266688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6720" y="2362320"/>
            <a:ext cx="2000160" cy="2819160"/>
          </a:xfrm>
          <a:custGeom>
            <a:avLst/>
            <a:gdLst>
              <a:gd name="textAreaLeft" fmla="*/ 0 w 2000160"/>
              <a:gd name="textAreaRight" fmla="*/ 2000520 w 200016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3048120"/>
            <a:ext cx="14670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Marketing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strategy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419200" y="2895480"/>
            <a:ext cx="14670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Products and services offering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343400" y="3048120"/>
            <a:ext cx="20001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Risk management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1720" y="3048120"/>
            <a:ext cx="14670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Delivery channel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4191120"/>
            <a:ext cx="5638680" cy="838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Organizatio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81080" y="4800600"/>
            <a:ext cx="5257800" cy="380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IT / System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66720" y="4724280"/>
            <a:ext cx="74865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66720" y="4191120"/>
            <a:ext cx="77151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7149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. Marketing Strategy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458200" cy="4600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125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In addition to conducting competitive analysis (on products, terms &amp; conditions; from other countries),…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358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35880" indent="-335880">
              <a:spcBef>
                <a:spcPts val="1125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… 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segment the market and build up in-depth knowledge of SME clusters, especially through third-party data provider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358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35880" indent="-335880">
              <a:spcBef>
                <a:spcPts val="1125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Find ways of retaining existing credit-worthy customers…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358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35880" indent="-335880">
              <a:spcBef>
                <a:spcPts val="1125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… 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&amp; reducing cost of acquisition of new 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Verdana"/>
              </a:rPr>
              <a:t>targeted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 customer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358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35880" indent="-335880">
              <a:spcBef>
                <a:spcPts val="1125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Manage information transversally (e.g., get, compile and analyze default information, if available by industries &amp; companies)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358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8143920" y="533520"/>
            <a:ext cx="771480" cy="1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258040" y="380880"/>
            <a:ext cx="266760" cy="282600"/>
          </a:xfrm>
          <a:custGeom>
            <a:avLst/>
            <a:gdLst>
              <a:gd name="textAreaLeft" fmla="*/ 0 w 266760"/>
              <a:gd name="textAreaRight" fmla="*/ 266760 w 2667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448840" y="380880"/>
            <a:ext cx="266400" cy="282600"/>
          </a:xfrm>
          <a:custGeom>
            <a:avLst/>
            <a:gdLst>
              <a:gd name="textAreaLeft" fmla="*/ 0 w 266400"/>
              <a:gd name="textAreaRight" fmla="*/ 266760 w 26640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629560" y="380880"/>
            <a:ext cx="266760" cy="282600"/>
          </a:xfrm>
          <a:custGeom>
            <a:avLst/>
            <a:gdLst>
              <a:gd name="textAreaLeft" fmla="*/ 0 w 266760"/>
              <a:gd name="textAreaRight" fmla="*/ 266760 w 2667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124840" y="380880"/>
            <a:ext cx="200160" cy="282600"/>
          </a:xfrm>
          <a:custGeom>
            <a:avLst/>
            <a:gdLst>
              <a:gd name="textAreaLeft" fmla="*/ 0 w 200160"/>
              <a:gd name="textAreaRight" fmla="*/ 200520 w 2001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124840" y="663480"/>
            <a:ext cx="714240" cy="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124840" y="762120"/>
            <a:ext cx="714240" cy="9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04920" y="1218960"/>
            <a:ext cx="8534160" cy="5105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304560" y="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. Products &amp; Services Offering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1295280"/>
            <a:ext cx="7239240" cy="685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aximize client retention and profitability by offering product packages as well as cross- and up-selling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143920" y="533520"/>
            <a:ext cx="771480" cy="1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258040" y="380880"/>
            <a:ext cx="266760" cy="282600"/>
          </a:xfrm>
          <a:custGeom>
            <a:avLst/>
            <a:gdLst>
              <a:gd name="textAreaLeft" fmla="*/ 0 w 266760"/>
              <a:gd name="textAreaRight" fmla="*/ 266760 w 2667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448840" y="380880"/>
            <a:ext cx="266400" cy="282600"/>
          </a:xfrm>
          <a:custGeom>
            <a:avLst/>
            <a:gdLst>
              <a:gd name="textAreaLeft" fmla="*/ 0 w 266400"/>
              <a:gd name="textAreaRight" fmla="*/ 266760 w 26640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629560" y="380880"/>
            <a:ext cx="266760" cy="282600"/>
          </a:xfrm>
          <a:custGeom>
            <a:avLst/>
            <a:gdLst>
              <a:gd name="textAreaLeft" fmla="*/ 0 w 266760"/>
              <a:gd name="textAreaRight" fmla="*/ 266760 w 2667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124840" y="380880"/>
            <a:ext cx="200160" cy="282600"/>
          </a:xfrm>
          <a:custGeom>
            <a:avLst/>
            <a:gdLst>
              <a:gd name="textAreaLeft" fmla="*/ 0 w 200160"/>
              <a:gd name="textAreaRight" fmla="*/ 200520 w 2001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124840" y="663480"/>
            <a:ext cx="714240" cy="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124840" y="762120"/>
            <a:ext cx="714240" cy="9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114560" y="2179440"/>
            <a:ext cx="7018200" cy="3983040"/>
            <a:chOff x="1114560" y="2179440"/>
            <a:chExt cx="7018200" cy="3983040"/>
          </a:xfrm>
        </p:grpSpPr>
        <p:sp>
          <p:nvSpPr>
            <p:cNvPr id="151" name=""/>
            <p:cNvSpPr/>
            <p:nvPr/>
          </p:nvSpPr>
          <p:spPr>
            <a:xfrm>
              <a:off x="4346640" y="2284560"/>
              <a:ext cx="3632040" cy="2044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73320" y="2259000"/>
              <a:ext cx="3632040" cy="204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1273320" y="3998880"/>
              <a:ext cx="6705360" cy="2069640"/>
              <a:chOff x="1273320" y="3998880"/>
              <a:chExt cx="6705360" cy="2069640"/>
            </a:xfrm>
          </p:grpSpPr>
          <p:sp>
            <p:nvSpPr>
              <p:cNvPr id="154" name=""/>
              <p:cNvSpPr/>
              <p:nvPr/>
            </p:nvSpPr>
            <p:spPr>
              <a:xfrm>
                <a:off x="4346640" y="4024080"/>
                <a:ext cx="3632040" cy="204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273320" y="3998880"/>
                <a:ext cx="3632040" cy="204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>
              <a:off x="1755720" y="4859280"/>
              <a:ext cx="28958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99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Domestic payments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99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International payments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99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Check processing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51440" y="4354560"/>
              <a:ext cx="138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00"/>
                  </a:solidFill>
                  <a:latin typeface="Arial"/>
                </a:rPr>
                <a:t>Payments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045040" y="2881440"/>
              <a:ext cx="28195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99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Checking accounts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99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Savings accounts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99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Money market accounts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045040" y="4849920"/>
              <a:ext cx="28195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99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Insurance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99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Brokerage 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99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Information &amp; tools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793880" y="2855880"/>
              <a:ext cx="3022560" cy="92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buClr>
                  <a:srgbClr val="ff99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Loans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buClr>
                  <a:srgbClr val="ff99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Guarantees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buClr>
                  <a:srgbClr val="ff99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Credit Cards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buClr>
                  <a:srgbClr val="ff99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Overdrafts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550120" y="2382840"/>
              <a:ext cx="125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00"/>
                  </a:solidFill>
                  <a:latin typeface="Arial"/>
                </a:rPr>
                <a:t>Deposits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62560" y="4363920"/>
              <a:ext cx="19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00"/>
                  </a:solidFill>
                  <a:latin typeface="Arial"/>
                </a:rPr>
                <a:t>Value-added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479680" y="234792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00"/>
                  </a:solidFill>
                  <a:latin typeface="Arial"/>
                </a:rPr>
                <a:t>Credit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1114560" y="2179440"/>
              <a:ext cx="7018200" cy="3983040"/>
              <a:chOff x="1114560" y="2179440"/>
              <a:chExt cx="7018200" cy="3983040"/>
            </a:xfrm>
          </p:grpSpPr>
          <p:sp>
            <p:nvSpPr>
              <p:cNvPr id="165" name=""/>
              <p:cNvSpPr/>
              <p:nvPr/>
            </p:nvSpPr>
            <p:spPr>
              <a:xfrm>
                <a:off x="1428840" y="3782880"/>
                <a:ext cx="236520" cy="19836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66" y="34"/>
                    </a:moveTo>
                    <a:cubicBezTo>
                      <a:pt x="54" y="23"/>
                      <a:pt x="43" y="12"/>
                      <a:pt x="32" y="0"/>
                    </a:cubicBezTo>
                    <a:cubicBezTo>
                      <a:pt x="23" y="12"/>
                      <a:pt x="12" y="24"/>
                      <a:pt x="0" y="35"/>
                    </a:cubicBezTo>
                    <a:cubicBezTo>
                      <a:pt x="10" y="46"/>
                      <a:pt x="22" y="56"/>
                      <a:pt x="34" y="66"/>
                    </a:cubicBezTo>
                    <a:cubicBezTo>
                      <a:pt x="45" y="56"/>
                      <a:pt x="56" y="45"/>
                      <a:pt x="66" y="34"/>
                    </a:cubicBez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114560" y="4454640"/>
                <a:ext cx="428400" cy="1179360"/>
              </a:xfrm>
              <a:custGeom>
                <a:avLst/>
                <a:gdLst/>
                <a:ahLst/>
                <a:rect l="l" t="t" r="r" b="b"/>
                <a:pathLst>
                  <a:path w="120" h="390">
                    <a:moveTo>
                      <a:pt x="115" y="34"/>
                    </a:moveTo>
                    <a:cubicBezTo>
                      <a:pt x="104" y="22"/>
                      <a:pt x="93" y="11"/>
                      <a:pt x="81" y="0"/>
                    </a:cubicBezTo>
                    <a:cubicBezTo>
                      <a:pt x="29" y="56"/>
                      <a:pt x="0" y="121"/>
                      <a:pt x="0" y="191"/>
                    </a:cubicBezTo>
                    <a:cubicBezTo>
                      <a:pt x="0" y="265"/>
                      <a:pt x="32" y="333"/>
                      <a:pt x="88" y="390"/>
                    </a:cubicBezTo>
                    <a:cubicBezTo>
                      <a:pt x="100" y="379"/>
                      <a:pt x="111" y="368"/>
                      <a:pt x="120" y="356"/>
                    </a:cubicBezTo>
                    <a:cubicBezTo>
                      <a:pt x="78" y="307"/>
                      <a:pt x="54" y="251"/>
                      <a:pt x="54" y="191"/>
                    </a:cubicBezTo>
                    <a:cubicBezTo>
                      <a:pt x="54" y="134"/>
                      <a:pt x="76" y="81"/>
                      <a:pt x="115" y="34"/>
                    </a:cubicBez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428840" y="5530680"/>
                <a:ext cx="236520" cy="196920"/>
              </a:xfrm>
              <a:custGeom>
                <a:avLst/>
                <a:gdLst/>
                <a:ahLst/>
                <a:rect l="l" t="t" r="r" b="b"/>
                <a:pathLst>
                  <a:path w="66" h="65">
                    <a:moveTo>
                      <a:pt x="66" y="34"/>
                    </a:moveTo>
                    <a:cubicBezTo>
                      <a:pt x="54" y="23"/>
                      <a:pt x="43" y="12"/>
                      <a:pt x="32" y="0"/>
                    </a:cubicBezTo>
                    <a:cubicBezTo>
                      <a:pt x="23" y="12"/>
                      <a:pt x="12" y="23"/>
                      <a:pt x="0" y="34"/>
                    </a:cubicBezTo>
                    <a:cubicBezTo>
                      <a:pt x="10" y="45"/>
                      <a:pt x="22" y="55"/>
                      <a:pt x="34" y="65"/>
                    </a:cubicBezTo>
                    <a:cubicBezTo>
                      <a:pt x="45" y="55"/>
                      <a:pt x="56" y="45"/>
                      <a:pt x="66" y="34"/>
                    </a:cubicBez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405080" y="4357800"/>
                <a:ext cx="234720" cy="19836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0" y="32"/>
                    </a:moveTo>
                    <a:cubicBezTo>
                      <a:pt x="12" y="43"/>
                      <a:pt x="23" y="54"/>
                      <a:pt x="34" y="66"/>
                    </a:cubicBezTo>
                    <a:cubicBezTo>
                      <a:pt x="43" y="54"/>
                      <a:pt x="54" y="42"/>
                      <a:pt x="66" y="31"/>
                    </a:cubicBezTo>
                    <a:cubicBezTo>
                      <a:pt x="56" y="21"/>
                      <a:pt x="44" y="10"/>
                      <a:pt x="32" y="0"/>
                    </a:cubicBezTo>
                    <a:cubicBezTo>
                      <a:pt x="21" y="10"/>
                      <a:pt x="10" y="21"/>
                      <a:pt x="0" y="32"/>
                    </a:cubicBez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114560" y="2705040"/>
                <a:ext cx="428400" cy="1182600"/>
              </a:xfrm>
              <a:custGeom>
                <a:avLst/>
                <a:gdLst/>
                <a:ahLst/>
                <a:rect l="l" t="t" r="r" b="b"/>
                <a:pathLst>
                  <a:path w="120" h="391">
                    <a:moveTo>
                      <a:pt x="115" y="34"/>
                    </a:moveTo>
                    <a:cubicBezTo>
                      <a:pt x="104" y="23"/>
                      <a:pt x="93" y="11"/>
                      <a:pt x="81" y="0"/>
                    </a:cubicBezTo>
                    <a:cubicBezTo>
                      <a:pt x="29" y="56"/>
                      <a:pt x="0" y="122"/>
                      <a:pt x="0" y="192"/>
                    </a:cubicBezTo>
                    <a:cubicBezTo>
                      <a:pt x="0" y="265"/>
                      <a:pt x="32" y="334"/>
                      <a:pt x="88" y="391"/>
                    </a:cubicBezTo>
                    <a:cubicBezTo>
                      <a:pt x="100" y="380"/>
                      <a:pt x="111" y="368"/>
                      <a:pt x="120" y="356"/>
                    </a:cubicBezTo>
                    <a:cubicBezTo>
                      <a:pt x="78" y="308"/>
                      <a:pt x="54" y="252"/>
                      <a:pt x="54" y="192"/>
                    </a:cubicBezTo>
                    <a:cubicBezTo>
                      <a:pt x="54" y="135"/>
                      <a:pt x="76" y="81"/>
                      <a:pt x="115" y="34"/>
                    </a:cubicBezTo>
                    <a:close/>
                  </a:path>
                </a:pathLst>
              </a:custGeom>
              <a:solidFill>
                <a:srgbClr val="969696"/>
              </a:solidFill>
              <a:ln w="93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519200" y="2179440"/>
                <a:ext cx="3519360" cy="2214720"/>
              </a:xfrm>
              <a:custGeom>
                <a:avLst/>
                <a:gdLst/>
                <a:ahLst/>
                <a:rect l="l" t="t" r="r" b="b"/>
                <a:pathLst>
                  <a:path w="985" h="732">
                    <a:moveTo>
                      <a:pt x="436" y="0"/>
                    </a:moveTo>
                    <a:cubicBezTo>
                      <a:pt x="258" y="0"/>
                      <a:pt x="101" y="56"/>
                      <a:pt x="0" y="143"/>
                    </a:cubicBezTo>
                    <a:cubicBezTo>
                      <a:pt x="12" y="153"/>
                      <a:pt x="24" y="163"/>
                      <a:pt x="34" y="174"/>
                    </a:cubicBezTo>
                    <a:cubicBezTo>
                      <a:pt x="124" y="91"/>
                      <a:pt x="270" y="37"/>
                      <a:pt x="436" y="37"/>
                    </a:cubicBezTo>
                    <a:cubicBezTo>
                      <a:pt x="709" y="37"/>
                      <a:pt x="930" y="184"/>
                      <a:pt x="930" y="366"/>
                    </a:cubicBezTo>
                    <a:cubicBezTo>
                      <a:pt x="930" y="548"/>
                      <a:pt x="709" y="695"/>
                      <a:pt x="436" y="695"/>
                    </a:cubicBezTo>
                    <a:cubicBezTo>
                      <a:pt x="275" y="695"/>
                      <a:pt x="131" y="644"/>
                      <a:pt x="41" y="564"/>
                    </a:cubicBezTo>
                    <a:cubicBezTo>
                      <a:pt x="31" y="575"/>
                      <a:pt x="20" y="586"/>
                      <a:pt x="9" y="596"/>
                    </a:cubicBezTo>
                    <a:cubicBezTo>
                      <a:pt x="109" y="679"/>
                      <a:pt x="263" y="732"/>
                      <a:pt x="436" y="732"/>
                    </a:cubicBezTo>
                    <a:cubicBezTo>
                      <a:pt x="739" y="732"/>
                      <a:pt x="985" y="568"/>
                      <a:pt x="985" y="366"/>
                    </a:cubicBezTo>
                    <a:cubicBezTo>
                      <a:pt x="985" y="164"/>
                      <a:pt x="739" y="0"/>
                      <a:pt x="436" y="0"/>
                    </a:cubicBezTo>
                    <a:close/>
                  </a:path>
                </a:pathLst>
              </a:custGeom>
              <a:solidFill>
                <a:srgbClr val="969696"/>
              </a:solidFill>
              <a:ln w="93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519200" y="3924360"/>
                <a:ext cx="3519360" cy="2214360"/>
              </a:xfrm>
              <a:custGeom>
                <a:avLst/>
                <a:gdLst/>
                <a:ahLst/>
                <a:rect l="l" t="t" r="r" b="b"/>
                <a:pathLst>
                  <a:path w="985" h="732">
                    <a:moveTo>
                      <a:pt x="436" y="0"/>
                    </a:moveTo>
                    <a:cubicBezTo>
                      <a:pt x="258" y="0"/>
                      <a:pt x="101" y="56"/>
                      <a:pt x="0" y="143"/>
                    </a:cubicBezTo>
                    <a:cubicBezTo>
                      <a:pt x="12" y="153"/>
                      <a:pt x="24" y="164"/>
                      <a:pt x="34" y="174"/>
                    </a:cubicBezTo>
                    <a:cubicBezTo>
                      <a:pt x="124" y="91"/>
                      <a:pt x="270" y="37"/>
                      <a:pt x="436" y="37"/>
                    </a:cubicBezTo>
                    <a:cubicBezTo>
                      <a:pt x="709" y="37"/>
                      <a:pt x="930" y="184"/>
                      <a:pt x="930" y="366"/>
                    </a:cubicBezTo>
                    <a:cubicBezTo>
                      <a:pt x="930" y="548"/>
                      <a:pt x="709" y="696"/>
                      <a:pt x="436" y="696"/>
                    </a:cubicBezTo>
                    <a:cubicBezTo>
                      <a:pt x="275" y="696"/>
                      <a:pt x="131" y="644"/>
                      <a:pt x="41" y="565"/>
                    </a:cubicBezTo>
                    <a:cubicBezTo>
                      <a:pt x="31" y="576"/>
                      <a:pt x="20" y="586"/>
                      <a:pt x="9" y="596"/>
                    </a:cubicBezTo>
                    <a:cubicBezTo>
                      <a:pt x="109" y="679"/>
                      <a:pt x="263" y="732"/>
                      <a:pt x="436" y="732"/>
                    </a:cubicBezTo>
                    <a:cubicBezTo>
                      <a:pt x="739" y="732"/>
                      <a:pt x="985" y="568"/>
                      <a:pt x="985" y="366"/>
                    </a:cubicBezTo>
                    <a:cubicBezTo>
                      <a:pt x="985" y="164"/>
                      <a:pt x="739" y="0"/>
                      <a:pt x="436" y="0"/>
                    </a:cubicBezTo>
                    <a:close/>
                  </a:path>
                </a:pathLst>
              </a:custGeom>
              <a:solidFill>
                <a:srgbClr val="969696"/>
              </a:solidFill>
              <a:ln w="93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405080" y="2611440"/>
                <a:ext cx="234720" cy="196920"/>
              </a:xfrm>
              <a:custGeom>
                <a:avLst/>
                <a:gdLst/>
                <a:ahLst/>
                <a:rect l="l" t="t" r="r" b="b"/>
                <a:pathLst>
                  <a:path w="66" h="65">
                    <a:moveTo>
                      <a:pt x="0" y="31"/>
                    </a:moveTo>
                    <a:cubicBezTo>
                      <a:pt x="12" y="42"/>
                      <a:pt x="23" y="54"/>
                      <a:pt x="34" y="65"/>
                    </a:cubicBezTo>
                    <a:cubicBezTo>
                      <a:pt x="43" y="53"/>
                      <a:pt x="54" y="42"/>
                      <a:pt x="66" y="31"/>
                    </a:cubicBezTo>
                    <a:cubicBezTo>
                      <a:pt x="56" y="20"/>
                      <a:pt x="44" y="10"/>
                      <a:pt x="32" y="0"/>
                    </a:cubicBezTo>
                    <a:cubicBezTo>
                      <a:pt x="21" y="10"/>
                      <a:pt x="10" y="21"/>
                      <a:pt x="0" y="31"/>
                    </a:cubicBez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927600" y="4094280"/>
                <a:ext cx="353880" cy="133200"/>
              </a:xfrm>
              <a:custGeom>
                <a:avLst/>
                <a:gdLst/>
                <a:ahLst/>
                <a:rect l="l" t="t" r="r" b="b"/>
                <a:pathLst>
                  <a:path w="99" h="44">
                    <a:moveTo>
                      <a:pt x="52" y="0"/>
                    </a:moveTo>
                    <a:cubicBezTo>
                      <a:pt x="35" y="8"/>
                      <a:pt x="18" y="15"/>
                      <a:pt x="0" y="22"/>
                    </a:cubicBezTo>
                    <a:cubicBezTo>
                      <a:pt x="18" y="28"/>
                      <a:pt x="35" y="36"/>
                      <a:pt x="52" y="44"/>
                    </a:cubicBezTo>
                    <a:cubicBezTo>
                      <a:pt x="68" y="37"/>
                      <a:pt x="84" y="29"/>
                      <a:pt x="99" y="22"/>
                    </a:cubicBezTo>
                    <a:cubicBezTo>
                      <a:pt x="84" y="14"/>
                      <a:pt x="68" y="6"/>
                      <a:pt x="52" y="0"/>
                    </a:cubicBez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868400" y="4094280"/>
                <a:ext cx="357120" cy="133200"/>
              </a:xfrm>
              <a:custGeom>
                <a:avLst/>
                <a:gdLst/>
                <a:ahLst/>
                <a:rect l="l" t="t" r="r" b="b"/>
                <a:pathLst>
                  <a:path w="100" h="44">
                    <a:moveTo>
                      <a:pt x="0" y="22"/>
                    </a:moveTo>
                    <a:cubicBezTo>
                      <a:pt x="16" y="29"/>
                      <a:pt x="31" y="37"/>
                      <a:pt x="48" y="44"/>
                    </a:cubicBezTo>
                    <a:cubicBezTo>
                      <a:pt x="64" y="36"/>
                      <a:pt x="82" y="28"/>
                      <a:pt x="100" y="22"/>
                    </a:cubicBezTo>
                    <a:cubicBezTo>
                      <a:pt x="82" y="15"/>
                      <a:pt x="64" y="8"/>
                      <a:pt x="48" y="0"/>
                    </a:cubicBezTo>
                    <a:cubicBezTo>
                      <a:pt x="31" y="6"/>
                      <a:pt x="16" y="14"/>
                      <a:pt x="0" y="22"/>
                    </a:cubicBez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210200" y="2708280"/>
                <a:ext cx="428400" cy="1179360"/>
              </a:xfrm>
              <a:custGeom>
                <a:avLst/>
                <a:gdLst/>
                <a:ahLst/>
                <a:rect l="l" t="t" r="r" b="b"/>
                <a:pathLst>
                  <a:path w="120" h="390">
                    <a:moveTo>
                      <a:pt x="115" y="356"/>
                    </a:moveTo>
                    <a:cubicBezTo>
                      <a:pt x="104" y="368"/>
                      <a:pt x="93" y="380"/>
                      <a:pt x="81" y="390"/>
                    </a:cubicBezTo>
                    <a:cubicBezTo>
                      <a:pt x="29" y="335"/>
                      <a:pt x="0" y="269"/>
                      <a:pt x="0" y="199"/>
                    </a:cubicBezTo>
                    <a:cubicBezTo>
                      <a:pt x="0" y="126"/>
                      <a:pt x="32" y="57"/>
                      <a:pt x="88" y="0"/>
                    </a:cubicBezTo>
                    <a:cubicBezTo>
                      <a:pt x="100" y="11"/>
                      <a:pt x="111" y="23"/>
                      <a:pt x="120" y="35"/>
                    </a:cubicBezTo>
                    <a:cubicBezTo>
                      <a:pt x="79" y="83"/>
                      <a:pt x="55" y="139"/>
                      <a:pt x="55" y="199"/>
                    </a:cubicBezTo>
                    <a:cubicBezTo>
                      <a:pt x="55" y="256"/>
                      <a:pt x="76" y="310"/>
                      <a:pt x="115" y="356"/>
                    </a:cubicBezTo>
                    <a:close/>
                  </a:path>
                </a:pathLst>
              </a:custGeom>
              <a:solidFill>
                <a:srgbClr val="969696"/>
              </a:solidFill>
              <a:ln w="93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524480" y="2614680"/>
                <a:ext cx="234720" cy="19980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66" y="31"/>
                    </a:moveTo>
                    <a:cubicBezTo>
                      <a:pt x="54" y="42"/>
                      <a:pt x="43" y="54"/>
                      <a:pt x="32" y="66"/>
                    </a:cubicBezTo>
                    <a:cubicBezTo>
                      <a:pt x="23" y="54"/>
                      <a:pt x="12" y="42"/>
                      <a:pt x="0" y="31"/>
                    </a:cubicBezTo>
                    <a:cubicBezTo>
                      <a:pt x="10" y="20"/>
                      <a:pt x="22" y="10"/>
                      <a:pt x="34" y="0"/>
                    </a:cubicBezTo>
                    <a:cubicBezTo>
                      <a:pt x="45" y="10"/>
                      <a:pt x="56" y="21"/>
                      <a:pt x="66" y="31"/>
                    </a:cubicBez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498920" y="3786120"/>
                <a:ext cx="236520" cy="19836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0" y="34"/>
                    </a:moveTo>
                    <a:cubicBezTo>
                      <a:pt x="12" y="24"/>
                      <a:pt x="23" y="12"/>
                      <a:pt x="34" y="0"/>
                    </a:cubicBezTo>
                    <a:cubicBezTo>
                      <a:pt x="43" y="12"/>
                      <a:pt x="54" y="24"/>
                      <a:pt x="66" y="35"/>
                    </a:cubicBezTo>
                    <a:cubicBezTo>
                      <a:pt x="56" y="46"/>
                      <a:pt x="44" y="56"/>
                      <a:pt x="32" y="66"/>
                    </a:cubicBezTo>
                    <a:cubicBezTo>
                      <a:pt x="21" y="56"/>
                      <a:pt x="10" y="45"/>
                      <a:pt x="0" y="34"/>
                    </a:cubicBez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210200" y="4454640"/>
                <a:ext cx="428400" cy="1182600"/>
              </a:xfrm>
              <a:custGeom>
                <a:avLst/>
                <a:gdLst/>
                <a:ahLst/>
                <a:rect l="l" t="t" r="r" b="b"/>
                <a:pathLst>
                  <a:path w="120" h="391">
                    <a:moveTo>
                      <a:pt x="115" y="357"/>
                    </a:moveTo>
                    <a:cubicBezTo>
                      <a:pt x="104" y="369"/>
                      <a:pt x="93" y="380"/>
                      <a:pt x="81" y="391"/>
                    </a:cubicBezTo>
                    <a:cubicBezTo>
                      <a:pt x="29" y="335"/>
                      <a:pt x="0" y="269"/>
                      <a:pt x="0" y="199"/>
                    </a:cubicBezTo>
                    <a:cubicBezTo>
                      <a:pt x="0" y="126"/>
                      <a:pt x="32" y="58"/>
                      <a:pt x="88" y="0"/>
                    </a:cubicBezTo>
                    <a:cubicBezTo>
                      <a:pt x="100" y="11"/>
                      <a:pt x="111" y="23"/>
                      <a:pt x="120" y="35"/>
                    </a:cubicBezTo>
                    <a:cubicBezTo>
                      <a:pt x="79" y="83"/>
                      <a:pt x="55" y="139"/>
                      <a:pt x="55" y="199"/>
                    </a:cubicBezTo>
                    <a:cubicBezTo>
                      <a:pt x="55" y="256"/>
                      <a:pt x="76" y="310"/>
                      <a:pt x="115" y="357"/>
                    </a:cubicBezTo>
                    <a:close/>
                  </a:path>
                </a:pathLst>
              </a:custGeom>
              <a:solidFill>
                <a:srgbClr val="969696"/>
              </a:solidFill>
              <a:ln w="93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613400" y="3948120"/>
                <a:ext cx="3519360" cy="2214360"/>
              </a:xfrm>
              <a:custGeom>
                <a:avLst/>
                <a:gdLst/>
                <a:ahLst/>
                <a:rect l="l" t="t" r="r" b="b"/>
                <a:pathLst>
                  <a:path w="985" h="732">
                    <a:moveTo>
                      <a:pt x="436" y="732"/>
                    </a:moveTo>
                    <a:cubicBezTo>
                      <a:pt x="258" y="732"/>
                      <a:pt x="101" y="676"/>
                      <a:pt x="0" y="589"/>
                    </a:cubicBezTo>
                    <a:cubicBezTo>
                      <a:pt x="12" y="579"/>
                      <a:pt x="24" y="569"/>
                      <a:pt x="34" y="558"/>
                    </a:cubicBezTo>
                    <a:cubicBezTo>
                      <a:pt x="124" y="641"/>
                      <a:pt x="270" y="696"/>
                      <a:pt x="436" y="696"/>
                    </a:cubicBezTo>
                    <a:cubicBezTo>
                      <a:pt x="709" y="696"/>
                      <a:pt x="930" y="548"/>
                      <a:pt x="930" y="366"/>
                    </a:cubicBezTo>
                    <a:cubicBezTo>
                      <a:pt x="930" y="184"/>
                      <a:pt x="709" y="37"/>
                      <a:pt x="436" y="37"/>
                    </a:cubicBezTo>
                    <a:cubicBezTo>
                      <a:pt x="275" y="37"/>
                      <a:pt x="132" y="88"/>
                      <a:pt x="41" y="168"/>
                    </a:cubicBezTo>
                    <a:cubicBezTo>
                      <a:pt x="31" y="157"/>
                      <a:pt x="20" y="146"/>
                      <a:pt x="9" y="136"/>
                    </a:cubicBezTo>
                    <a:cubicBezTo>
                      <a:pt x="109" y="53"/>
                      <a:pt x="263" y="0"/>
                      <a:pt x="436" y="0"/>
                    </a:cubicBezTo>
                    <a:cubicBezTo>
                      <a:pt x="739" y="0"/>
                      <a:pt x="985" y="164"/>
                      <a:pt x="985" y="366"/>
                    </a:cubicBezTo>
                    <a:cubicBezTo>
                      <a:pt x="985" y="568"/>
                      <a:pt x="739" y="732"/>
                      <a:pt x="436" y="732"/>
                    </a:cubicBezTo>
                    <a:close/>
                  </a:path>
                </a:pathLst>
              </a:custGeom>
              <a:solidFill>
                <a:srgbClr val="969696"/>
              </a:solidFill>
              <a:ln w="93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613400" y="2203560"/>
                <a:ext cx="3519360" cy="2214360"/>
              </a:xfrm>
              <a:custGeom>
                <a:avLst/>
                <a:gdLst/>
                <a:ahLst/>
                <a:rect l="l" t="t" r="r" b="b"/>
                <a:pathLst>
                  <a:path w="985" h="732">
                    <a:moveTo>
                      <a:pt x="436" y="732"/>
                    </a:moveTo>
                    <a:cubicBezTo>
                      <a:pt x="258" y="732"/>
                      <a:pt x="101" y="676"/>
                      <a:pt x="0" y="589"/>
                    </a:cubicBezTo>
                    <a:cubicBezTo>
                      <a:pt x="12" y="579"/>
                      <a:pt x="24" y="569"/>
                      <a:pt x="34" y="558"/>
                    </a:cubicBezTo>
                    <a:cubicBezTo>
                      <a:pt x="124" y="641"/>
                      <a:pt x="270" y="695"/>
                      <a:pt x="436" y="695"/>
                    </a:cubicBezTo>
                    <a:cubicBezTo>
                      <a:pt x="709" y="695"/>
                      <a:pt x="930" y="548"/>
                      <a:pt x="930" y="366"/>
                    </a:cubicBezTo>
                    <a:cubicBezTo>
                      <a:pt x="930" y="184"/>
                      <a:pt x="709" y="37"/>
                      <a:pt x="436" y="37"/>
                    </a:cubicBezTo>
                    <a:cubicBezTo>
                      <a:pt x="275" y="37"/>
                      <a:pt x="132" y="88"/>
                      <a:pt x="41" y="167"/>
                    </a:cubicBezTo>
                    <a:cubicBezTo>
                      <a:pt x="31" y="157"/>
                      <a:pt x="20" y="146"/>
                      <a:pt x="9" y="136"/>
                    </a:cubicBezTo>
                    <a:cubicBezTo>
                      <a:pt x="109" y="53"/>
                      <a:pt x="263" y="0"/>
                      <a:pt x="436" y="0"/>
                    </a:cubicBezTo>
                    <a:cubicBezTo>
                      <a:pt x="739" y="0"/>
                      <a:pt x="985" y="164"/>
                      <a:pt x="985" y="366"/>
                    </a:cubicBezTo>
                    <a:cubicBezTo>
                      <a:pt x="985" y="568"/>
                      <a:pt x="739" y="732"/>
                      <a:pt x="436" y="732"/>
                    </a:cubicBezTo>
                    <a:close/>
                  </a:path>
                </a:pathLst>
              </a:custGeom>
              <a:solidFill>
                <a:srgbClr val="969696"/>
              </a:solidFill>
              <a:ln w="93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498920" y="5533920"/>
                <a:ext cx="236520" cy="196920"/>
              </a:xfrm>
              <a:custGeom>
                <a:avLst/>
                <a:gdLst/>
                <a:ahLst/>
                <a:rect l="l" t="t" r="r" b="b"/>
                <a:pathLst>
                  <a:path w="66" h="65">
                    <a:moveTo>
                      <a:pt x="0" y="34"/>
                    </a:moveTo>
                    <a:cubicBezTo>
                      <a:pt x="12" y="23"/>
                      <a:pt x="23" y="12"/>
                      <a:pt x="34" y="0"/>
                    </a:cubicBezTo>
                    <a:cubicBezTo>
                      <a:pt x="43" y="12"/>
                      <a:pt x="54" y="23"/>
                      <a:pt x="66" y="34"/>
                    </a:cubicBezTo>
                    <a:cubicBezTo>
                      <a:pt x="56" y="45"/>
                      <a:pt x="44" y="55"/>
                      <a:pt x="32" y="65"/>
                    </a:cubicBezTo>
                    <a:cubicBezTo>
                      <a:pt x="21" y="55"/>
                      <a:pt x="10" y="45"/>
                      <a:pt x="0" y="34"/>
                    </a:cubicBez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021440" y="4118040"/>
                <a:ext cx="354240" cy="133200"/>
              </a:xfrm>
              <a:custGeom>
                <a:avLst/>
                <a:gdLst/>
                <a:ahLst/>
                <a:rect l="l" t="t" r="r" b="b"/>
                <a:pathLst>
                  <a:path w="99" h="44">
                    <a:moveTo>
                      <a:pt x="52" y="44"/>
                    </a:moveTo>
                    <a:cubicBezTo>
                      <a:pt x="35" y="36"/>
                      <a:pt x="18" y="28"/>
                      <a:pt x="0" y="22"/>
                    </a:cubicBezTo>
                    <a:cubicBezTo>
                      <a:pt x="18" y="15"/>
                      <a:pt x="35" y="8"/>
                      <a:pt x="52" y="0"/>
                    </a:cubicBezTo>
                    <a:cubicBezTo>
                      <a:pt x="68" y="6"/>
                      <a:pt x="84" y="14"/>
                      <a:pt x="99" y="22"/>
                    </a:cubicBezTo>
                    <a:cubicBezTo>
                      <a:pt x="84" y="29"/>
                      <a:pt x="68" y="37"/>
                      <a:pt x="52" y="44"/>
                    </a:cubicBez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964040" y="4118040"/>
                <a:ext cx="357120" cy="133200"/>
              </a:xfrm>
              <a:custGeom>
                <a:avLst/>
                <a:gdLst/>
                <a:ahLst/>
                <a:rect l="l" t="t" r="r" b="b"/>
                <a:pathLst>
                  <a:path w="100" h="44">
                    <a:moveTo>
                      <a:pt x="0" y="22"/>
                    </a:moveTo>
                    <a:cubicBezTo>
                      <a:pt x="16" y="14"/>
                      <a:pt x="31" y="6"/>
                      <a:pt x="48" y="0"/>
                    </a:cubicBezTo>
                    <a:cubicBezTo>
                      <a:pt x="64" y="8"/>
                      <a:pt x="82" y="15"/>
                      <a:pt x="100" y="22"/>
                    </a:cubicBezTo>
                    <a:cubicBezTo>
                      <a:pt x="82" y="28"/>
                      <a:pt x="64" y="36"/>
                      <a:pt x="48" y="44"/>
                    </a:cubicBezTo>
                    <a:cubicBezTo>
                      <a:pt x="31" y="37"/>
                      <a:pt x="16" y="30"/>
                      <a:pt x="0" y="22"/>
                    </a:cubicBezTo>
                    <a:close/>
                  </a:path>
                </a:pathLst>
              </a:custGeom>
              <a:solidFill>
                <a:srgbClr val="969696"/>
              </a:solidFill>
              <a:ln w="93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04920" y="1219320"/>
            <a:ext cx="8534160" cy="5105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160800"/>
            <a:ext cx="1315800" cy="0"/>
          </a:xfrm>
          <a:prstGeom prst="line">
            <a:avLst/>
          </a:prstGeom>
          <a:ln w="1260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72240" y="2841480"/>
            <a:ext cx="1315800" cy="0"/>
          </a:xfrm>
          <a:prstGeom prst="line">
            <a:avLst/>
          </a:prstGeom>
          <a:ln w="1260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47760" y="3639960"/>
            <a:ext cx="1316160" cy="0"/>
          </a:xfrm>
          <a:prstGeom prst="line">
            <a:avLst/>
          </a:prstGeom>
          <a:ln w="1260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6200" y="1387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76200" y="1676520"/>
            <a:ext cx="83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U.S. Small Business Profit Distributio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390680" y="3651120"/>
            <a:ext cx="752400" cy="2390760"/>
          </a:xfrm>
          <a:prstGeom prst="rect">
            <a:avLst/>
          </a:prstGeom>
          <a:solidFill>
            <a:srgbClr val="cc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10280" y="2851200"/>
            <a:ext cx="743040" cy="3190680"/>
          </a:xfrm>
          <a:prstGeom prst="rect">
            <a:avLst/>
          </a:prstGeom>
          <a:solidFill>
            <a:srgbClr val="cc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67000" y="3174840"/>
            <a:ext cx="743040" cy="476280"/>
          </a:xfrm>
          <a:prstGeom prst="rect">
            <a:avLst/>
          </a:prstGeom>
          <a:solidFill>
            <a:srgbClr val="cc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133960" y="2851200"/>
            <a:ext cx="752400" cy="323640"/>
          </a:xfrm>
          <a:prstGeom prst="rect">
            <a:avLst/>
          </a:prstGeom>
          <a:solidFill>
            <a:srgbClr val="cc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85560" y="3048120"/>
            <a:ext cx="103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Deposi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70-85%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36400" y="2584440"/>
            <a:ext cx="878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Loan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0-15%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46040" y="2265480"/>
            <a:ext cx="114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ll Other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5%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547320" y="2055960"/>
            <a:ext cx="1678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Small Busines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Profitability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00%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3720" y="1143000"/>
            <a:ext cx="85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Focus on deposits even if lending is necessar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0"/>
            <a:ext cx="7467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. Products &amp; Services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fferings (Contd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143920" y="533520"/>
            <a:ext cx="771480" cy="1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258040" y="380880"/>
            <a:ext cx="266760" cy="282600"/>
          </a:xfrm>
          <a:custGeom>
            <a:avLst/>
            <a:gdLst>
              <a:gd name="textAreaLeft" fmla="*/ 0 w 266760"/>
              <a:gd name="textAreaRight" fmla="*/ 266760 w 2667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448840" y="380880"/>
            <a:ext cx="266400" cy="282600"/>
          </a:xfrm>
          <a:custGeom>
            <a:avLst/>
            <a:gdLst>
              <a:gd name="textAreaLeft" fmla="*/ 0 w 266400"/>
              <a:gd name="textAreaRight" fmla="*/ 266760 w 26640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629560" y="380880"/>
            <a:ext cx="266760" cy="282600"/>
          </a:xfrm>
          <a:custGeom>
            <a:avLst/>
            <a:gdLst>
              <a:gd name="textAreaLeft" fmla="*/ 0 w 266760"/>
              <a:gd name="textAreaRight" fmla="*/ 266760 w 2667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124840" y="380880"/>
            <a:ext cx="200160" cy="282600"/>
          </a:xfrm>
          <a:custGeom>
            <a:avLst/>
            <a:gdLst>
              <a:gd name="textAreaLeft" fmla="*/ 0 w 200160"/>
              <a:gd name="textAreaRight" fmla="*/ 200520 w 2001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124840" y="663480"/>
            <a:ext cx="714240" cy="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124840" y="762120"/>
            <a:ext cx="714240" cy="9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4920" y="6041880"/>
            <a:ext cx="838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ource: FIC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147760" y="6041880"/>
            <a:ext cx="48625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304920" y="1219320"/>
            <a:ext cx="8534160" cy="5105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71520" y="1219320"/>
            <a:ext cx="8343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e deposit/loan ratio largely determines small business RO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012120" y="5381640"/>
            <a:ext cx="413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1:1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2:1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3:1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4:1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5:1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197080" y="2552760"/>
            <a:ext cx="0" cy="2835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22640" y="5372280"/>
            <a:ext cx="47242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8920" y="2701800"/>
            <a:ext cx="7714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40%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20%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0%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20718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Small Business Profitability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089240" y="2781360"/>
            <a:ext cx="2679840" cy="1549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051440" y="3924360"/>
            <a:ext cx="215640" cy="216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3366"/>
            </a:solidFill>
            <a:miter/>
          </a:ln>
          <a:effectLst>
            <a:outerShdw dist="56832" dir="12403642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991040" y="3289320"/>
            <a:ext cx="216000" cy="216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3366"/>
            </a:solidFill>
            <a:miter/>
          </a:ln>
          <a:effectLst>
            <a:outerShdw dist="56832" dir="12403642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67560" y="3009960"/>
            <a:ext cx="216000" cy="216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3366"/>
            </a:solidFill>
            <a:miter/>
          </a:ln>
          <a:effectLst>
            <a:outerShdw dist="56832" dir="12403642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07280" y="347832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Bank A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545720" y="285588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Bank B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285600" y="342756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Bank 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4920" y="6095880"/>
            <a:ext cx="283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ource: First Manhattan Consulting Group 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57564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Deposit-to-loan ratio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 rot="16200000">
            <a:off x="110160" y="3831840"/>
            <a:ext cx="268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Small business unit RO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4920" y="0"/>
            <a:ext cx="7467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. Products &amp; Services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fferings (Contd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143920" y="533520"/>
            <a:ext cx="771480" cy="1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258040" y="380880"/>
            <a:ext cx="266760" cy="282600"/>
          </a:xfrm>
          <a:custGeom>
            <a:avLst/>
            <a:gdLst>
              <a:gd name="textAreaLeft" fmla="*/ 0 w 266760"/>
              <a:gd name="textAreaRight" fmla="*/ 266760 w 2667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448840" y="380880"/>
            <a:ext cx="266400" cy="282600"/>
          </a:xfrm>
          <a:custGeom>
            <a:avLst/>
            <a:gdLst>
              <a:gd name="textAreaLeft" fmla="*/ 0 w 266400"/>
              <a:gd name="textAreaRight" fmla="*/ 266760 w 26640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629560" y="380880"/>
            <a:ext cx="266760" cy="282600"/>
          </a:xfrm>
          <a:custGeom>
            <a:avLst/>
            <a:gdLst>
              <a:gd name="textAreaLeft" fmla="*/ 0 w 266760"/>
              <a:gd name="textAreaRight" fmla="*/ 266760 w 2667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124840" y="380880"/>
            <a:ext cx="200160" cy="282600"/>
          </a:xfrm>
          <a:custGeom>
            <a:avLst/>
            <a:gdLst>
              <a:gd name="textAreaLeft" fmla="*/ 0 w 200160"/>
              <a:gd name="textAreaRight" fmla="*/ 200520 w 2001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124840" y="663480"/>
            <a:ext cx="714240" cy="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124840" y="762120"/>
            <a:ext cx="714240" cy="9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04920" y="1219320"/>
            <a:ext cx="8534160" cy="5105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4460760" y="2457360"/>
            <a:ext cx="0" cy="381024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162920" y="6324480"/>
            <a:ext cx="1066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016520" y="58356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Contributio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rot="16200000">
            <a:off x="-138960" y="327276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Number of products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1025640" y="1515960"/>
          <a:ext cx="7381800" cy="448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5640" y="1515960"/>
                    <a:ext cx="7381800" cy="44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"/>
          <p:cNvSpPr/>
          <p:nvPr/>
        </p:nvSpPr>
        <p:spPr>
          <a:xfrm>
            <a:off x="304920" y="6095880"/>
            <a:ext cx="299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ource: Oxford Information Technology, Ltd.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114300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e more products sold, the greater the profit contribution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4920" y="0"/>
            <a:ext cx="7467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. Products &amp; Services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fferings (Contd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143920" y="533520"/>
            <a:ext cx="771480" cy="1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258040" y="380880"/>
            <a:ext cx="266760" cy="282600"/>
          </a:xfrm>
          <a:custGeom>
            <a:avLst/>
            <a:gdLst>
              <a:gd name="textAreaLeft" fmla="*/ 0 w 266760"/>
              <a:gd name="textAreaRight" fmla="*/ 266760 w 2667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448840" y="380880"/>
            <a:ext cx="266400" cy="282600"/>
          </a:xfrm>
          <a:custGeom>
            <a:avLst/>
            <a:gdLst>
              <a:gd name="textAreaLeft" fmla="*/ 0 w 266400"/>
              <a:gd name="textAreaRight" fmla="*/ 266760 w 26640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629560" y="380880"/>
            <a:ext cx="266760" cy="282600"/>
          </a:xfrm>
          <a:custGeom>
            <a:avLst/>
            <a:gdLst>
              <a:gd name="textAreaLeft" fmla="*/ 0 w 266760"/>
              <a:gd name="textAreaRight" fmla="*/ 266760 w 2667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124840" y="380880"/>
            <a:ext cx="200160" cy="282600"/>
          </a:xfrm>
          <a:custGeom>
            <a:avLst/>
            <a:gdLst>
              <a:gd name="textAreaLeft" fmla="*/ 0 w 200160"/>
              <a:gd name="textAreaRight" fmla="*/ 200520 w 2001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124840" y="663480"/>
            <a:ext cx="714240" cy="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124840" y="762120"/>
            <a:ext cx="714240" cy="9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04920" y="1371600"/>
            <a:ext cx="8534160" cy="4952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1760" y="990360"/>
            <a:ext cx="77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66"/>
                </a:solidFill>
                <a:latin typeface="Arial Unicode MS"/>
              </a:rPr>
              <a:t>Efficiency Gains with Credit Scoring</a:t>
            </a:r>
            <a:endParaRPr b="1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/>
          <p:nvPr/>
        </p:nvSpPr>
        <p:spPr>
          <a:xfrm>
            <a:off x="1838160" y="2351160"/>
            <a:ext cx="412920" cy="0"/>
          </a:xfrm>
          <a:prstGeom prst="line">
            <a:avLst/>
          </a:prstGeom>
          <a:ln w="1260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47920" y="2357280"/>
            <a:ext cx="401760" cy="1800"/>
          </a:xfrm>
          <a:prstGeom prst="line">
            <a:avLst/>
          </a:prstGeom>
          <a:ln w="1260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38080" y="2048040"/>
            <a:ext cx="992160" cy="71424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255760" y="1905120"/>
            <a:ext cx="1059120" cy="10522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683160" y="2054160"/>
            <a:ext cx="992160" cy="78120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052640" y="2143080"/>
            <a:ext cx="70308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720" rIns="99720" tIns="51480" bIns="514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 Narrow"/>
                <a:ea typeface="MS PGothic"/>
              </a:rPr>
              <a:t>Enter </a:t>
            </a:r>
            <a:br>
              <a:rPr sz="1700"/>
            </a:br>
            <a:r>
              <a:rPr b="1" lang="en-US" sz="1700" spc="-1" strike="noStrike">
                <a:solidFill>
                  <a:srgbClr val="0033cc"/>
                </a:solidFill>
                <a:latin typeface="Arial Narrow"/>
                <a:ea typeface="MS PGothic"/>
              </a:rPr>
              <a:t>Data</a:t>
            </a:r>
            <a:r>
              <a:rPr b="1" lang="en-US" sz="1700" spc="-1" strike="noStrike">
                <a:solidFill>
                  <a:srgbClr val="fcfeb9"/>
                </a:solidFill>
                <a:latin typeface="Arial Narrow"/>
                <a:ea typeface="MS PGothic"/>
              </a:rPr>
              <a:t> </a:t>
            </a:r>
            <a:endParaRPr b="0" lang="en-US" sz="17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301480" y="2149560"/>
            <a:ext cx="97128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720" rIns="99720" tIns="51480" bIns="514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 Narrow"/>
                <a:ea typeface="MS PGothic"/>
              </a:rPr>
              <a:t>Generate</a:t>
            </a:r>
            <a:br>
              <a:rPr sz="1700"/>
            </a:br>
            <a:r>
              <a:rPr b="1" lang="en-US" sz="1700" spc="-1" strike="noStrike">
                <a:solidFill>
                  <a:srgbClr val="0033cc"/>
                </a:solidFill>
                <a:latin typeface="Arial Narrow"/>
                <a:ea typeface="MS PGothic"/>
              </a:rPr>
              <a:t>Score</a:t>
            </a:r>
            <a:endParaRPr b="0" lang="en-US" sz="17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708720" y="2084400"/>
            <a:ext cx="93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720" rIns="99720" tIns="51480" bIns="514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 Narrow"/>
                <a:ea typeface="MS PGothic"/>
              </a:rPr>
              <a:t>Apply</a:t>
            </a:r>
            <a:br>
              <a:rPr sz="1700"/>
            </a:br>
            <a:r>
              <a:rPr b="1" lang="en-US" sz="1700" spc="-1" strike="noStrike">
                <a:solidFill>
                  <a:srgbClr val="0033cc"/>
                </a:solidFill>
                <a:latin typeface="Arial Narrow"/>
                <a:ea typeface="MS PGothic"/>
              </a:rPr>
              <a:t>Decision</a:t>
            </a:r>
            <a:endParaRPr b="0" lang="en-US" sz="17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 Narrow"/>
                <a:ea typeface="MS PGothic"/>
              </a:rPr>
              <a:t>Strategy</a:t>
            </a:r>
            <a:endParaRPr b="0" lang="en-US" sz="17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4074840" y="2136600"/>
            <a:ext cx="4081680" cy="3608640"/>
            <a:chOff x="4074840" y="2136600"/>
            <a:chExt cx="4081680" cy="3608640"/>
          </a:xfrm>
        </p:grpSpPr>
        <p:sp>
          <p:nvSpPr>
            <p:cNvPr id="262" name=""/>
            <p:cNvSpPr/>
            <p:nvPr/>
          </p:nvSpPr>
          <p:spPr>
            <a:xfrm>
              <a:off x="6129360" y="4251240"/>
              <a:ext cx="2027160" cy="1494000"/>
            </a:xfrm>
            <a:custGeom>
              <a:avLst/>
              <a:gdLst/>
              <a:ahLst/>
              <a:rect l="l" t="t" r="r" b="b"/>
              <a:pathLst>
                <a:path w="1259" h="928">
                  <a:moveTo>
                    <a:pt x="0" y="927"/>
                  </a:moveTo>
                  <a:lnTo>
                    <a:pt x="1258" y="927"/>
                  </a:lnTo>
                  <a:lnTo>
                    <a:pt x="1202" y="920"/>
                  </a:lnTo>
                  <a:lnTo>
                    <a:pt x="1111" y="887"/>
                  </a:lnTo>
                  <a:lnTo>
                    <a:pt x="1037" y="841"/>
                  </a:lnTo>
                  <a:lnTo>
                    <a:pt x="964" y="779"/>
                  </a:lnTo>
                  <a:lnTo>
                    <a:pt x="879" y="711"/>
                  </a:lnTo>
                  <a:lnTo>
                    <a:pt x="806" y="636"/>
                  </a:lnTo>
                  <a:lnTo>
                    <a:pt x="720" y="545"/>
                  </a:lnTo>
                  <a:lnTo>
                    <a:pt x="641" y="455"/>
                  </a:lnTo>
                  <a:lnTo>
                    <a:pt x="555" y="346"/>
                  </a:lnTo>
                  <a:lnTo>
                    <a:pt x="476" y="250"/>
                  </a:lnTo>
                  <a:lnTo>
                    <a:pt x="409" y="182"/>
                  </a:lnTo>
                  <a:lnTo>
                    <a:pt x="336" y="119"/>
                  </a:lnTo>
                  <a:lnTo>
                    <a:pt x="268" y="79"/>
                  </a:lnTo>
                  <a:lnTo>
                    <a:pt x="207" y="51"/>
                  </a:lnTo>
                  <a:lnTo>
                    <a:pt x="134" y="23"/>
                  </a:lnTo>
                  <a:lnTo>
                    <a:pt x="36" y="6"/>
                  </a:lnTo>
                  <a:lnTo>
                    <a:pt x="0" y="0"/>
                  </a:lnTo>
                </a:path>
              </a:pathLst>
            </a:custGeom>
            <a:solidFill>
              <a:srgbClr val="a2c1fe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4074840" y="2136600"/>
              <a:ext cx="4075560" cy="3608640"/>
              <a:chOff x="4074840" y="2136600"/>
              <a:chExt cx="4075560" cy="3608640"/>
            </a:xfrm>
          </p:grpSpPr>
          <p:sp>
            <p:nvSpPr>
              <p:cNvPr id="264" name=""/>
              <p:cNvSpPr/>
              <p:nvPr/>
            </p:nvSpPr>
            <p:spPr>
              <a:xfrm>
                <a:off x="4700520" y="2638440"/>
                <a:ext cx="279360" cy="1265400"/>
              </a:xfrm>
              <a:custGeom>
                <a:avLst/>
                <a:gdLst/>
                <a:ahLst/>
                <a:rect l="l" t="t" r="r" b="b"/>
                <a:pathLst>
                  <a:path w="174" h="786">
                    <a:moveTo>
                      <a:pt x="0" y="0"/>
                    </a:moveTo>
                    <a:lnTo>
                      <a:pt x="173" y="0"/>
                    </a:lnTo>
                    <a:lnTo>
                      <a:pt x="173" y="785"/>
                    </a:lnTo>
                  </a:path>
                </a:pathLst>
              </a:custGeom>
              <a:noFill/>
              <a:ln cap="rnd" w="12600">
                <a:solidFill>
                  <a:srgbClr val="00ffff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265" name=""/>
              <p:cNvGrpSpPr/>
              <p:nvPr/>
            </p:nvGrpSpPr>
            <p:grpSpPr>
              <a:xfrm>
                <a:off x="4074840" y="2136600"/>
                <a:ext cx="4075560" cy="3608640"/>
                <a:chOff x="4074840" y="2136600"/>
                <a:chExt cx="4075560" cy="360864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4648320" y="2394000"/>
                  <a:ext cx="1539720" cy="1508040"/>
                </a:xfrm>
                <a:custGeom>
                  <a:avLst/>
                  <a:gdLst/>
                  <a:ahLst/>
                  <a:rect l="l" t="t" r="r" b="b"/>
                  <a:pathLst>
                    <a:path w="957" h="937">
                      <a:moveTo>
                        <a:pt x="0" y="0"/>
                      </a:moveTo>
                      <a:lnTo>
                        <a:pt x="956" y="0"/>
                      </a:lnTo>
                      <a:lnTo>
                        <a:pt x="956" y="936"/>
                      </a:lnTo>
                    </a:path>
                  </a:pathLst>
                </a:custGeom>
                <a:noFill/>
                <a:ln cap="rnd" w="12600">
                  <a:solidFill>
                    <a:srgbClr val="00ffff"/>
                  </a:solidFill>
                  <a:round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 flipV="1">
                  <a:off x="5479920" y="4191120"/>
                  <a:ext cx="0" cy="1536480"/>
                </a:xfrm>
                <a:prstGeom prst="line">
                  <a:avLst/>
                </a:prstGeom>
                <a:ln w="2556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8" name=""/>
                <p:cNvGrpSpPr/>
                <p:nvPr/>
              </p:nvGrpSpPr>
              <p:grpSpPr>
                <a:xfrm>
                  <a:off x="4074840" y="2136600"/>
                  <a:ext cx="4075560" cy="3608640"/>
                  <a:chOff x="4074840" y="2136600"/>
                  <a:chExt cx="4075560" cy="3608640"/>
                </a:xfrm>
              </p:grpSpPr>
              <p:sp>
                <p:nvSpPr>
                  <p:cNvPr id="269" name=""/>
                  <p:cNvSpPr/>
                  <p:nvPr/>
                </p:nvSpPr>
                <p:spPr>
                  <a:xfrm>
                    <a:off x="4125960" y="4251240"/>
                    <a:ext cx="2025720" cy="149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59" h="928">
                        <a:moveTo>
                          <a:pt x="1258" y="927"/>
                        </a:moveTo>
                        <a:lnTo>
                          <a:pt x="0" y="927"/>
                        </a:lnTo>
                        <a:lnTo>
                          <a:pt x="55" y="920"/>
                        </a:lnTo>
                        <a:lnTo>
                          <a:pt x="146" y="887"/>
                        </a:lnTo>
                        <a:lnTo>
                          <a:pt x="220" y="841"/>
                        </a:lnTo>
                        <a:lnTo>
                          <a:pt x="293" y="779"/>
                        </a:lnTo>
                        <a:lnTo>
                          <a:pt x="378" y="711"/>
                        </a:lnTo>
                        <a:lnTo>
                          <a:pt x="451" y="636"/>
                        </a:lnTo>
                        <a:lnTo>
                          <a:pt x="537" y="545"/>
                        </a:lnTo>
                        <a:lnTo>
                          <a:pt x="616" y="455"/>
                        </a:lnTo>
                        <a:lnTo>
                          <a:pt x="702" y="346"/>
                        </a:lnTo>
                        <a:lnTo>
                          <a:pt x="781" y="250"/>
                        </a:lnTo>
                        <a:lnTo>
                          <a:pt x="848" y="182"/>
                        </a:lnTo>
                        <a:lnTo>
                          <a:pt x="921" y="119"/>
                        </a:lnTo>
                        <a:lnTo>
                          <a:pt x="989" y="79"/>
                        </a:lnTo>
                        <a:lnTo>
                          <a:pt x="1050" y="51"/>
                        </a:lnTo>
                        <a:lnTo>
                          <a:pt x="1123" y="23"/>
                        </a:lnTo>
                        <a:lnTo>
                          <a:pt x="1221" y="6"/>
                        </a:lnTo>
                        <a:lnTo>
                          <a:pt x="1258" y="0"/>
                        </a:lnTo>
                      </a:path>
                    </a:pathLst>
                  </a:custGeom>
                  <a:solidFill>
                    <a:srgbClr val="a2c1fe"/>
                  </a:solidFill>
                  <a:ln cap="rnd" w="1260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4700520" y="2136600"/>
                    <a:ext cx="27162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688" h="1088">
                        <a:moveTo>
                          <a:pt x="0" y="0"/>
                        </a:moveTo>
                        <a:lnTo>
                          <a:pt x="1687" y="0"/>
                        </a:lnTo>
                        <a:lnTo>
                          <a:pt x="1687" y="1087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ffff"/>
                    </a:solidFill>
                    <a:round/>
                    <a:tailEnd len="lg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4074840" y="3949560"/>
                    <a:ext cx="1263960" cy="323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720" rIns="99720" tIns="51480" bIns="51480" anchor="t">
                    <a:spAutoFit/>
                  </a:bodyPr>
                  <a:p>
                    <a:pPr algn="ctr">
                      <a:lnSpc>
                        <a:spcPct val="85000"/>
                      </a:lnSpc>
                      <a:tabLst>
                        <a:tab algn="l" pos="0"/>
                        <a:tab algn="l" pos="1073160"/>
                        <a:tab algn="l" pos="2146320"/>
                        <a:tab algn="l" pos="3219480"/>
                        <a:tab algn="l" pos="4292640"/>
                        <a:tab algn="l" pos="5365800"/>
                        <a:tab algn="l" pos="6438960"/>
                        <a:tab algn="l" pos="7512120"/>
                        <a:tab algn="l" pos="8585280"/>
                        <a:tab algn="l" pos="9658440"/>
                        <a:tab algn="l" pos="10731600"/>
                      </a:tabLst>
                    </a:pPr>
                    <a:r>
                      <a:rPr b="1" lang="en-US" sz="1700" spc="-1" strike="noStrike">
                        <a:solidFill>
                          <a:srgbClr val="003366"/>
                        </a:solidFill>
                        <a:latin typeface="Arial Narrow"/>
                        <a:ea typeface="MS PGothic"/>
                      </a:rPr>
                      <a:t>Auto decline</a:t>
                    </a:r>
                    <a:endParaRPr b="0" lang="en-US" sz="17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6891840" y="3949560"/>
                    <a:ext cx="1216800" cy="323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720" rIns="99720" tIns="51480" bIns="51480" anchor="t">
                    <a:spAutoFit/>
                  </a:bodyPr>
                  <a:p>
                    <a:pPr algn="ctr">
                      <a:lnSpc>
                        <a:spcPct val="85000"/>
                      </a:lnSpc>
                      <a:tabLst>
                        <a:tab algn="l" pos="0"/>
                        <a:tab algn="l" pos="1073160"/>
                        <a:tab algn="l" pos="2146320"/>
                        <a:tab algn="l" pos="3219480"/>
                        <a:tab algn="l" pos="4292640"/>
                        <a:tab algn="l" pos="5365800"/>
                        <a:tab algn="l" pos="6438960"/>
                        <a:tab algn="l" pos="7512120"/>
                        <a:tab algn="l" pos="8585280"/>
                        <a:tab algn="l" pos="9658440"/>
                        <a:tab algn="l" pos="10731600"/>
                      </a:tabLst>
                    </a:pPr>
                    <a:r>
                      <a:rPr b="1" lang="en-US" sz="1700" spc="-1" strike="noStrike">
                        <a:solidFill>
                          <a:srgbClr val="003366"/>
                        </a:solidFill>
                        <a:latin typeface="Arial Narrow"/>
                        <a:ea typeface="MS PGothic"/>
                      </a:rPr>
                      <a:t>Auto accept</a:t>
                    </a:r>
                    <a:endParaRPr b="0" lang="en-US" sz="17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5789880" y="3949560"/>
                    <a:ext cx="812880" cy="323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720" rIns="99720" tIns="51480" bIns="51480" anchor="t">
                    <a:spAutoFit/>
                  </a:bodyPr>
                  <a:p>
                    <a:pPr algn="ctr">
                      <a:lnSpc>
                        <a:spcPct val="85000"/>
                      </a:lnSpc>
                      <a:tabLst>
                        <a:tab algn="l" pos="0"/>
                        <a:tab algn="l" pos="1073160"/>
                        <a:tab algn="l" pos="2146320"/>
                        <a:tab algn="l" pos="3219480"/>
                        <a:tab algn="l" pos="4292640"/>
                        <a:tab algn="l" pos="5365800"/>
                        <a:tab algn="l" pos="6438960"/>
                        <a:tab algn="l" pos="7512120"/>
                        <a:tab algn="l" pos="8585280"/>
                        <a:tab algn="l" pos="9658440"/>
                        <a:tab algn="l" pos="10731600"/>
                      </a:tabLst>
                    </a:pPr>
                    <a:r>
                      <a:rPr b="1" lang="en-US" sz="1700" spc="-1" strike="noStrike">
                        <a:solidFill>
                          <a:srgbClr val="003366"/>
                        </a:solidFill>
                        <a:latin typeface="Arial Narrow"/>
                        <a:ea typeface="MS PGothic"/>
                      </a:rPr>
                      <a:t>Review</a:t>
                    </a:r>
                    <a:endParaRPr b="0" lang="en-US" sz="17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4125960" y="4545000"/>
                    <a:ext cx="1366920" cy="1200240"/>
                  </a:xfrm>
                  <a:custGeom>
                    <a:avLst/>
                    <a:gdLst/>
                    <a:ahLst/>
                    <a:rect l="l" t="t" r="r" b="b"/>
                    <a:pathLst>
                      <a:path w="849" h="746">
                        <a:moveTo>
                          <a:pt x="845" y="745"/>
                        </a:moveTo>
                        <a:lnTo>
                          <a:pt x="0" y="745"/>
                        </a:lnTo>
                        <a:lnTo>
                          <a:pt x="55" y="738"/>
                        </a:lnTo>
                        <a:lnTo>
                          <a:pt x="146" y="705"/>
                        </a:lnTo>
                        <a:lnTo>
                          <a:pt x="220" y="659"/>
                        </a:lnTo>
                        <a:lnTo>
                          <a:pt x="292" y="597"/>
                        </a:lnTo>
                        <a:lnTo>
                          <a:pt x="378" y="529"/>
                        </a:lnTo>
                        <a:lnTo>
                          <a:pt x="451" y="454"/>
                        </a:lnTo>
                        <a:lnTo>
                          <a:pt x="536" y="364"/>
                        </a:lnTo>
                        <a:lnTo>
                          <a:pt x="616" y="272"/>
                        </a:lnTo>
                        <a:lnTo>
                          <a:pt x="701" y="165"/>
                        </a:lnTo>
                        <a:lnTo>
                          <a:pt x="781" y="68"/>
                        </a:lnTo>
                        <a:lnTo>
                          <a:pt x="848" y="0"/>
                        </a:lnTo>
                      </a:path>
                    </a:pathLst>
                  </a:custGeom>
                  <a:solidFill>
                    <a:srgbClr val="00ffff"/>
                  </a:solidFill>
                  <a:ln cap="rnd" w="1260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4893840" y="5105520"/>
                    <a:ext cx="593280" cy="543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720" rIns="99720" tIns="51480" bIns="51480" anchor="t">
                    <a:spAutoFit/>
                  </a:bodyPr>
                  <a:p>
                    <a:pPr algn="ctr">
                      <a:lnSpc>
                        <a:spcPct val="85000"/>
                      </a:lnSpc>
                      <a:tabLst>
                        <a:tab algn="l" pos="0"/>
                        <a:tab algn="l" pos="1073160"/>
                        <a:tab algn="l" pos="2146320"/>
                        <a:tab algn="l" pos="3219480"/>
                        <a:tab algn="l" pos="4292640"/>
                        <a:tab algn="l" pos="5365800"/>
                        <a:tab algn="l" pos="6438960"/>
                        <a:tab algn="l" pos="7512120"/>
                        <a:tab algn="l" pos="8585280"/>
                        <a:tab algn="l" pos="9658440"/>
                        <a:tab algn="l" pos="10731600"/>
                      </a:tabLst>
                    </a:pPr>
                    <a:r>
                      <a:rPr b="1" lang="en-US" sz="1700" spc="-1" strike="noStrike">
                        <a:solidFill>
                          <a:srgbClr val="0033cc"/>
                        </a:solidFill>
                        <a:latin typeface="Arial Narrow"/>
                        <a:ea typeface="MS PGothic"/>
                      </a:rPr>
                      <a:t>High</a:t>
                    </a:r>
                    <a:br>
                      <a:rPr sz="1700"/>
                    </a:br>
                    <a:r>
                      <a:rPr b="1" lang="en-US" sz="1700" spc="-1" strike="noStrike">
                        <a:solidFill>
                          <a:srgbClr val="0033cc"/>
                        </a:solidFill>
                        <a:latin typeface="Arial Narrow"/>
                        <a:ea typeface="MS PGothic"/>
                      </a:rPr>
                      <a:t>risk</a:t>
                    </a:r>
                    <a:endParaRPr b="0" lang="en-US" sz="17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6781680" y="4514760"/>
                    <a:ext cx="1368720" cy="1200240"/>
                  </a:xfrm>
                  <a:custGeom>
                    <a:avLst/>
                    <a:gdLst/>
                    <a:ahLst/>
                    <a:rect l="l" t="t" r="r" b="b"/>
                    <a:pathLst>
                      <a:path w="850" h="746">
                        <a:moveTo>
                          <a:pt x="4" y="745"/>
                        </a:moveTo>
                        <a:lnTo>
                          <a:pt x="849" y="745"/>
                        </a:lnTo>
                        <a:lnTo>
                          <a:pt x="793" y="738"/>
                        </a:lnTo>
                        <a:lnTo>
                          <a:pt x="702" y="705"/>
                        </a:lnTo>
                        <a:lnTo>
                          <a:pt x="628" y="659"/>
                        </a:lnTo>
                        <a:lnTo>
                          <a:pt x="555" y="596"/>
                        </a:lnTo>
                        <a:lnTo>
                          <a:pt x="470" y="528"/>
                        </a:lnTo>
                        <a:lnTo>
                          <a:pt x="397" y="454"/>
                        </a:lnTo>
                        <a:lnTo>
                          <a:pt x="311" y="363"/>
                        </a:lnTo>
                        <a:lnTo>
                          <a:pt x="231" y="273"/>
                        </a:lnTo>
                        <a:lnTo>
                          <a:pt x="146" y="164"/>
                        </a:lnTo>
                        <a:lnTo>
                          <a:pt x="66" y="6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339966"/>
                  </a:solidFill>
                  <a:ln cap="rnd" w="1260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5713920" y="5095800"/>
                    <a:ext cx="870840" cy="543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720" rIns="99720" tIns="51480" bIns="51480" anchor="t">
                    <a:spAutoFit/>
                  </a:bodyPr>
                  <a:p>
                    <a:pPr algn="ctr">
                      <a:lnSpc>
                        <a:spcPct val="85000"/>
                      </a:lnSpc>
                      <a:tabLst>
                        <a:tab algn="l" pos="0"/>
                        <a:tab algn="l" pos="1073160"/>
                        <a:tab algn="l" pos="2146320"/>
                        <a:tab algn="l" pos="3219480"/>
                        <a:tab algn="l" pos="4292640"/>
                        <a:tab algn="l" pos="5365800"/>
                        <a:tab algn="l" pos="6438960"/>
                        <a:tab algn="l" pos="7512120"/>
                        <a:tab algn="l" pos="8585280"/>
                        <a:tab algn="l" pos="9658440"/>
                        <a:tab algn="l" pos="10731600"/>
                      </a:tabLst>
                    </a:pPr>
                    <a:r>
                      <a:rPr b="1" lang="en-US" sz="1700" spc="-1" strike="noStrike">
                        <a:solidFill>
                          <a:srgbClr val="0033cc"/>
                        </a:solidFill>
                        <a:latin typeface="Arial Narrow"/>
                        <a:ea typeface="MS PGothic"/>
                      </a:rPr>
                      <a:t>Medium</a:t>
                    </a:r>
                    <a:br>
                      <a:rPr sz="1700"/>
                    </a:br>
                    <a:r>
                      <a:rPr b="1" lang="en-US" sz="1700" spc="-1" strike="noStrike">
                        <a:solidFill>
                          <a:srgbClr val="0033cc"/>
                        </a:solidFill>
                        <a:latin typeface="Arial Narrow"/>
                        <a:ea typeface="MS PGothic"/>
                      </a:rPr>
                      <a:t>risk</a:t>
                    </a:r>
                    <a:endParaRPr b="0" lang="en-US" sz="17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6857640" y="5105520"/>
                    <a:ext cx="555120" cy="543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720" rIns="99720" tIns="51480" bIns="51480" anchor="t">
                    <a:spAutoFit/>
                  </a:bodyPr>
                  <a:p>
                    <a:pPr algn="ctr">
                      <a:lnSpc>
                        <a:spcPct val="85000"/>
                      </a:lnSpc>
                      <a:tabLst>
                        <a:tab algn="l" pos="0"/>
                        <a:tab algn="l" pos="1073160"/>
                        <a:tab algn="l" pos="2146320"/>
                        <a:tab algn="l" pos="3219480"/>
                        <a:tab algn="l" pos="4292640"/>
                        <a:tab algn="l" pos="5365800"/>
                        <a:tab algn="l" pos="6438960"/>
                        <a:tab algn="l" pos="7512120"/>
                        <a:tab algn="l" pos="8585280"/>
                        <a:tab algn="l" pos="9658440"/>
                        <a:tab algn="l" pos="10731600"/>
                      </a:tabLst>
                    </a:pPr>
                    <a:r>
                      <a:rPr b="1" lang="en-US" sz="1700" spc="-1" strike="noStrike">
                        <a:solidFill>
                          <a:srgbClr val="0033cc"/>
                        </a:solidFill>
                        <a:latin typeface="Arial Narrow"/>
                        <a:ea typeface="MS PGothic"/>
                      </a:rPr>
                      <a:t>Low</a:t>
                    </a:r>
                    <a:br>
                      <a:rPr sz="1700"/>
                    </a:br>
                    <a:r>
                      <a:rPr b="1" lang="en-US" sz="1700" spc="-1" strike="noStrike">
                        <a:solidFill>
                          <a:srgbClr val="0033cc"/>
                        </a:solidFill>
                        <a:latin typeface="Arial Narrow"/>
                        <a:ea typeface="MS PGothic"/>
                      </a:rPr>
                      <a:t>risk</a:t>
                    </a:r>
                    <a:endParaRPr b="0" lang="en-US" sz="17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 flipV="1">
                    <a:off x="6794640" y="4204800"/>
                    <a:ext cx="0" cy="1538280"/>
                  </a:xfrm>
                  <a:prstGeom prst="line">
                    <a:avLst/>
                  </a:prstGeom>
                  <a:ln w="25560">
                    <a:solidFill>
                      <a:srgbClr val="ffff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280" name=""/>
          <p:cNvSpPr/>
          <p:nvPr/>
        </p:nvSpPr>
        <p:spPr>
          <a:xfrm>
            <a:off x="325440" y="0"/>
            <a:ext cx="7086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3. Risk Management / Analytic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143920" y="533520"/>
            <a:ext cx="771480" cy="1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258040" y="380880"/>
            <a:ext cx="266760" cy="282600"/>
          </a:xfrm>
          <a:custGeom>
            <a:avLst/>
            <a:gdLst>
              <a:gd name="textAreaLeft" fmla="*/ 0 w 266760"/>
              <a:gd name="textAreaRight" fmla="*/ 266760 w 2667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448840" y="380880"/>
            <a:ext cx="266400" cy="282600"/>
          </a:xfrm>
          <a:custGeom>
            <a:avLst/>
            <a:gdLst>
              <a:gd name="textAreaLeft" fmla="*/ 0 w 266400"/>
              <a:gd name="textAreaRight" fmla="*/ 266760 w 26640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629560" y="380880"/>
            <a:ext cx="266760" cy="282600"/>
          </a:xfrm>
          <a:custGeom>
            <a:avLst/>
            <a:gdLst>
              <a:gd name="textAreaLeft" fmla="*/ 0 w 266760"/>
              <a:gd name="textAreaRight" fmla="*/ 266760 w 2667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124840" y="380880"/>
            <a:ext cx="200160" cy="282600"/>
          </a:xfrm>
          <a:custGeom>
            <a:avLst/>
            <a:gdLst>
              <a:gd name="textAreaLeft" fmla="*/ 0 w 200160"/>
              <a:gd name="textAreaRight" fmla="*/ 200520 w 2001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124840" y="663480"/>
            <a:ext cx="714240" cy="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124840" y="762120"/>
            <a:ext cx="714240" cy="9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7149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4. Delivery Channel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458200" cy="5105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5784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5784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57840" indent="-357840">
              <a:lnSpc>
                <a:spcPct val="80000"/>
              </a:lnSpc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Goals: cost efficiency, differentiation in the market and client satisfaction. For that: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5784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57840" indent="-357840">
              <a:lnSpc>
                <a:spcPct val="80000"/>
              </a:lnSpc>
              <a:spcBef>
                <a:spcPts val="1250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Review existing delivery channel mix &amp; utilization…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5784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57840" indent="-357840">
              <a:lnSpc>
                <a:spcPct val="80000"/>
              </a:lnSpc>
              <a:spcBef>
                <a:spcPts val="1250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… 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as well as current and potential level of automation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5784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57840" indent="-357840">
              <a:lnSpc>
                <a:spcPct val="80000"/>
              </a:lnSpc>
              <a:spcBef>
                <a:spcPts val="1250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cus the branch network on marketing, sales and client relationship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5784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57840" indent="-357840">
              <a:lnSpc>
                <a:spcPct val="80000"/>
              </a:lnSpc>
              <a:spcBef>
                <a:spcPts val="1250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Design multi-channel networks mixing branches – business bankers/agents – ATMs – mobile kiosks – call centers – electronic banking – smart cards – mobile banking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16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8143920" y="533520"/>
            <a:ext cx="771480" cy="1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258040" y="380880"/>
            <a:ext cx="266760" cy="282600"/>
          </a:xfrm>
          <a:custGeom>
            <a:avLst/>
            <a:gdLst>
              <a:gd name="textAreaLeft" fmla="*/ 0 w 266760"/>
              <a:gd name="textAreaRight" fmla="*/ 266760 w 2667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448840" y="380880"/>
            <a:ext cx="266400" cy="282600"/>
          </a:xfrm>
          <a:custGeom>
            <a:avLst/>
            <a:gdLst>
              <a:gd name="textAreaLeft" fmla="*/ 0 w 266400"/>
              <a:gd name="textAreaRight" fmla="*/ 266760 w 26640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629560" y="380880"/>
            <a:ext cx="266760" cy="282600"/>
          </a:xfrm>
          <a:custGeom>
            <a:avLst/>
            <a:gdLst>
              <a:gd name="textAreaLeft" fmla="*/ 0 w 266760"/>
              <a:gd name="textAreaRight" fmla="*/ 266760 w 2667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124840" y="380880"/>
            <a:ext cx="200160" cy="282600"/>
          </a:xfrm>
          <a:custGeom>
            <a:avLst/>
            <a:gdLst>
              <a:gd name="textAreaLeft" fmla="*/ 0 w 200160"/>
              <a:gd name="textAreaRight" fmla="*/ 200520 w 2001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124840" y="663480"/>
            <a:ext cx="714240" cy="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124840" y="762120"/>
            <a:ext cx="714240" cy="9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2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2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0" y="1219320"/>
            <a:ext cx="9144000" cy="5105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974880" y="1655640"/>
          <a:ext cx="8040600" cy="3930840"/>
        </p:xfrm>
        <a:graphic>
          <a:graphicData uri="http://schemas.openxmlformats.org/drawingml/2006/table">
            <a:tbl>
              <a:tblPr/>
              <a:tblGrid>
                <a:gridCol w="1277640"/>
                <a:gridCol w="1175040"/>
                <a:gridCol w="1481040"/>
                <a:gridCol w="1404720"/>
                <a:gridCol w="1309680"/>
                <a:gridCol w="1392480"/>
              </a:tblGrid>
              <a:tr h="139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ospecting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lvl="1" marL="230040" indent="-11556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33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uyer Identification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lvl="1" marL="230040" indent="-11556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33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uyer Solicitation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formation Provisio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lvl="1" marL="230040" indent="-11556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33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eatures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lvl="1" marL="230040" indent="-11556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33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icing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lvl="1" marL="230040" indent="-11556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33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election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lvl="1" marL="230040" indent="-11556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33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vailability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dvice and Consultation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lvl="1" marL="230040" indent="-11556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33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ggregatives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lvl="1" marL="230040" indent="-11556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33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ptional Categorizatioin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lvl="1" marL="230040" indent="-11556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33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lternatives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rder          Capture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lvl="1" marL="230040" indent="-11556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33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pecifications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lvl="1" marL="230040" indent="-11556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33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eature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lvl="1" marL="230040" indent="-11556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33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ntry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rder Processing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lvl="1" marL="230040" indent="-11556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33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ansaction Processing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lvl="1" marL="230040" indent="-11556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33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illing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ustomer Support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lvl="1" marL="230040" indent="-11556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33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mplaint Handling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lvl="1" marL="230040" indent="-11556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33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ccount Reconciliation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9" name=""/>
          <p:cNvSpPr/>
          <p:nvPr/>
        </p:nvSpPr>
        <p:spPr>
          <a:xfrm>
            <a:off x="4721760" y="5638680"/>
            <a:ext cx="3894840" cy="6314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Channel Efficiency (Capacity to Cost Ratio)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High                             Low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880" y="2043000"/>
            <a:ext cx="103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</a:rPr>
              <a:t>Channel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3017880"/>
            <a:ext cx="958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Direct Mail 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680" y="3600360"/>
            <a:ext cx="95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Phone Center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680" y="4216320"/>
            <a:ext cx="95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VRU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640" y="4714920"/>
            <a:ext cx="95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Branch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5219640"/>
            <a:ext cx="95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Online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995400" y="1285920"/>
            <a:ext cx="391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Pre-Sale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131840" y="1555920"/>
            <a:ext cx="3598920" cy="1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865760" y="1285920"/>
            <a:ext cx="27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Sale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016600" y="1554120"/>
            <a:ext cx="2457360" cy="32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672320" y="1270080"/>
            <a:ext cx="12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Post-Sal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613640" y="1555920"/>
            <a:ext cx="1530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968640" y="3214800"/>
            <a:ext cx="228600" cy="228600"/>
          </a:xfrm>
          <a:prstGeom prst="ellipse">
            <a:avLst/>
          </a:prstGeom>
          <a:solidFill>
            <a:srgbClr val="eaeaea"/>
          </a:solidFill>
          <a:ln w="3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44760" y="4189320"/>
            <a:ext cx="228600" cy="228600"/>
          </a:xfrm>
          <a:prstGeom prst="ellipse">
            <a:avLst/>
          </a:prstGeom>
          <a:solidFill>
            <a:srgbClr val="eaeaea"/>
          </a:solidFill>
          <a:ln w="3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010280" y="5943600"/>
            <a:ext cx="228600" cy="228600"/>
          </a:xfrm>
          <a:prstGeom prst="ellipse">
            <a:avLst/>
          </a:prstGeom>
          <a:solidFill>
            <a:srgbClr val="eaeaea"/>
          </a:solidFill>
          <a:ln w="3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968640" y="4189320"/>
            <a:ext cx="228600" cy="228600"/>
          </a:xfrm>
          <a:prstGeom prst="ellipse">
            <a:avLst/>
          </a:prstGeom>
          <a:solidFill>
            <a:srgbClr val="eaeaea"/>
          </a:solidFill>
          <a:ln w="3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832440" y="4189320"/>
            <a:ext cx="228600" cy="228600"/>
          </a:xfrm>
          <a:prstGeom prst="ellipse">
            <a:avLst/>
          </a:prstGeom>
          <a:solidFill>
            <a:srgbClr val="eaeaea"/>
          </a:solidFill>
          <a:ln w="3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8156520" y="5286240"/>
            <a:ext cx="227880" cy="227880"/>
            <a:chOff x="8156520" y="5286240"/>
            <a:chExt cx="227880" cy="227880"/>
          </a:xfrm>
        </p:grpSpPr>
        <p:sp>
          <p:nvSpPr>
            <p:cNvPr id="318" name=""/>
            <p:cNvSpPr/>
            <p:nvPr/>
          </p:nvSpPr>
          <p:spPr>
            <a:xfrm>
              <a:off x="8156520" y="5286240"/>
              <a:ext cx="227880" cy="22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62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62016"/>
                </a:path>
              </a:pathLst>
            </a:custGeom>
            <a:solidFill>
              <a:srgbClr val="eaeaea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156520" y="5286600"/>
              <a:ext cx="227880" cy="227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9" y="10681"/>
                  </a:moveTo>
                  <a:arcTo wR="10800" hR="10800" stAng="-37984" swAng="5437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9" y="10681"/>
                  </a:moveTo>
                  <a:arcTo wR="10800" hR="10800" stAng="-37984" swAng="5437984"/>
                </a:path>
              </a:pathLst>
            </a:custGeom>
            <a:solidFill>
              <a:srgbClr val="eaeaea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156520" y="5286600"/>
              <a:ext cx="227880" cy="227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37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37984"/>
                </a:path>
              </a:pathLst>
            </a:custGeom>
            <a:solidFill>
              <a:srgbClr val="eaeaea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156520" y="5286240"/>
              <a:ext cx="227880" cy="22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81"/>
                  </a:moveTo>
                  <a:arcTo wR="10800" hR="10800" stAng="-10762016" swAng="5362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81"/>
                  </a:moveTo>
                  <a:arcTo wR="10800" hR="10800" stAng="-10762016" swAng="5362016"/>
                </a:path>
              </a:pathLst>
            </a:custGeom>
            <a:solidFill>
              <a:srgbClr val="eaeaea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5181480" y="5943600"/>
            <a:ext cx="227880" cy="227880"/>
            <a:chOff x="5181480" y="5943600"/>
            <a:chExt cx="227880" cy="227880"/>
          </a:xfrm>
        </p:grpSpPr>
        <p:sp>
          <p:nvSpPr>
            <p:cNvPr id="323" name=""/>
            <p:cNvSpPr/>
            <p:nvPr/>
          </p:nvSpPr>
          <p:spPr>
            <a:xfrm>
              <a:off x="5181480" y="5943600"/>
              <a:ext cx="227880" cy="22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62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62016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181480" y="5943960"/>
              <a:ext cx="227880" cy="227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9" y="10681"/>
                  </a:moveTo>
                  <a:arcTo wR="10800" hR="10800" stAng="-37984" swAng="5437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9" y="10681"/>
                  </a:moveTo>
                  <a:arcTo wR="10800" hR="10800" stAng="-37984" swAng="5437984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181480" y="5943960"/>
              <a:ext cx="227880" cy="227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37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37984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181480" y="5943600"/>
              <a:ext cx="227880" cy="22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81"/>
                  </a:moveTo>
                  <a:arcTo wR="10800" hR="10800" stAng="-10762016" swAng="5362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81"/>
                  </a:moveTo>
                  <a:arcTo wR="10800" hR="10800" stAng="-10762016" swAng="5362016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1542960" y="3711600"/>
            <a:ext cx="227880" cy="227880"/>
            <a:chOff x="1542960" y="3711600"/>
            <a:chExt cx="227880" cy="227880"/>
          </a:xfrm>
        </p:grpSpPr>
        <p:sp>
          <p:nvSpPr>
            <p:cNvPr id="328" name=""/>
            <p:cNvSpPr/>
            <p:nvPr/>
          </p:nvSpPr>
          <p:spPr>
            <a:xfrm>
              <a:off x="1542960" y="3711600"/>
              <a:ext cx="227880" cy="22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62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62016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542960" y="3711960"/>
              <a:ext cx="227880" cy="227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9" y="10681"/>
                  </a:moveTo>
                  <a:arcTo wR="10800" hR="10800" stAng="-37984" swAng="5437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9" y="10681"/>
                  </a:moveTo>
                  <a:arcTo wR="10800" hR="10800" stAng="-37984" swAng="5437984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542960" y="3711960"/>
              <a:ext cx="227880" cy="227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37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37984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542960" y="3711600"/>
              <a:ext cx="227880" cy="22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81"/>
                  </a:moveTo>
                  <a:arcTo wR="10800" hR="10800" stAng="-10762016" swAng="5362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81"/>
                  </a:moveTo>
                  <a:arcTo wR="10800" hR="10800" stAng="-10762016" swAng="5362016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542960" y="5286240"/>
            <a:ext cx="227880" cy="227880"/>
            <a:chOff x="1542960" y="5286240"/>
            <a:chExt cx="227880" cy="227880"/>
          </a:xfrm>
        </p:grpSpPr>
        <p:sp>
          <p:nvSpPr>
            <p:cNvPr id="333" name=""/>
            <p:cNvSpPr/>
            <p:nvPr/>
          </p:nvSpPr>
          <p:spPr>
            <a:xfrm>
              <a:off x="1542960" y="5286240"/>
              <a:ext cx="227880" cy="22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62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62016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542960" y="5286600"/>
              <a:ext cx="227880" cy="227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9" y="10681"/>
                  </a:moveTo>
                  <a:arcTo wR="10800" hR="10800" stAng="-37984" swAng="5437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9" y="10681"/>
                  </a:moveTo>
                  <a:arcTo wR="10800" hR="10800" stAng="-37984" swAng="5437984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542960" y="5286600"/>
              <a:ext cx="227880" cy="227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37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37984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542960" y="5286240"/>
              <a:ext cx="227880" cy="22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81"/>
                  </a:moveTo>
                  <a:arcTo wR="10800" hR="10800" stAng="-10762016" swAng="5362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81"/>
                  </a:moveTo>
                  <a:arcTo wR="10800" hR="10800" stAng="-10762016" swAng="5362016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2701800" y="5286240"/>
            <a:ext cx="227880" cy="227880"/>
            <a:chOff x="2701800" y="5286240"/>
            <a:chExt cx="227880" cy="227880"/>
          </a:xfrm>
        </p:grpSpPr>
        <p:sp>
          <p:nvSpPr>
            <p:cNvPr id="338" name=""/>
            <p:cNvSpPr/>
            <p:nvPr/>
          </p:nvSpPr>
          <p:spPr>
            <a:xfrm>
              <a:off x="2701800" y="5286240"/>
              <a:ext cx="227880" cy="22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62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62016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01800" y="5286600"/>
              <a:ext cx="227880" cy="227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9" y="10681"/>
                  </a:moveTo>
                  <a:arcTo wR="10800" hR="10800" stAng="-37984" swAng="5437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9" y="10681"/>
                  </a:moveTo>
                  <a:arcTo wR="10800" hR="10800" stAng="-37984" swAng="5437984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01800" y="5286600"/>
              <a:ext cx="227880" cy="227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37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37984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01800" y="5286240"/>
              <a:ext cx="227880" cy="22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81"/>
                  </a:moveTo>
                  <a:arcTo wR="10800" hR="10800" stAng="-10762016" swAng="5362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81"/>
                  </a:moveTo>
                  <a:arcTo wR="10800" hR="10800" stAng="-10762016" swAng="5362016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5460840" y="5286240"/>
            <a:ext cx="227880" cy="227880"/>
            <a:chOff x="5460840" y="5286240"/>
            <a:chExt cx="227880" cy="227880"/>
          </a:xfrm>
        </p:grpSpPr>
        <p:sp>
          <p:nvSpPr>
            <p:cNvPr id="343" name=""/>
            <p:cNvSpPr/>
            <p:nvPr/>
          </p:nvSpPr>
          <p:spPr>
            <a:xfrm>
              <a:off x="5460840" y="5286240"/>
              <a:ext cx="227880" cy="22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62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62016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60840" y="5286600"/>
              <a:ext cx="227880" cy="227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9" y="10681"/>
                  </a:moveTo>
                  <a:arcTo wR="10800" hR="10800" stAng="-37984" swAng="5437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9" y="10681"/>
                  </a:moveTo>
                  <a:arcTo wR="10800" hR="10800" stAng="-37984" swAng="5437984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460840" y="5286600"/>
              <a:ext cx="227880" cy="227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37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37984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460840" y="5286240"/>
              <a:ext cx="227880" cy="22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81"/>
                  </a:moveTo>
                  <a:arcTo wR="10800" hR="10800" stAng="-10762016" swAng="5362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81"/>
                  </a:moveTo>
                  <a:arcTo wR="10800" hR="10800" stAng="-10762016" swAng="5362016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6832440" y="5286240"/>
            <a:ext cx="227880" cy="227880"/>
            <a:chOff x="6832440" y="5286240"/>
            <a:chExt cx="227880" cy="227880"/>
          </a:xfrm>
        </p:grpSpPr>
        <p:sp>
          <p:nvSpPr>
            <p:cNvPr id="348" name=""/>
            <p:cNvSpPr/>
            <p:nvPr/>
          </p:nvSpPr>
          <p:spPr>
            <a:xfrm>
              <a:off x="6832440" y="5286240"/>
              <a:ext cx="227880" cy="22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62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62016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832440" y="5286600"/>
              <a:ext cx="227880" cy="227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9" y="10681"/>
                  </a:moveTo>
                  <a:arcTo wR="10800" hR="10800" stAng="-37984" swAng="5437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9" y="10681"/>
                  </a:moveTo>
                  <a:arcTo wR="10800" hR="10800" stAng="-37984" swAng="5437984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832440" y="5286600"/>
              <a:ext cx="227880" cy="227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37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37984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832440" y="5286240"/>
              <a:ext cx="227880" cy="22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81"/>
                  </a:moveTo>
                  <a:arcTo wR="10800" hR="10800" stAng="-10762016" swAng="5362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81"/>
                  </a:moveTo>
                  <a:arcTo wR="10800" hR="10800" stAng="-10762016" swAng="5362016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3968640" y="4699080"/>
            <a:ext cx="227880" cy="227880"/>
            <a:chOff x="3968640" y="4699080"/>
            <a:chExt cx="227880" cy="227880"/>
          </a:xfrm>
        </p:grpSpPr>
        <p:sp>
          <p:nvSpPr>
            <p:cNvPr id="353" name=""/>
            <p:cNvSpPr/>
            <p:nvPr/>
          </p:nvSpPr>
          <p:spPr>
            <a:xfrm>
              <a:off x="3968640" y="4699080"/>
              <a:ext cx="227880" cy="22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62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62016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968640" y="4699440"/>
              <a:ext cx="227880" cy="227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9" y="10681"/>
                  </a:moveTo>
                  <a:arcTo wR="10800" hR="10800" stAng="-37984" swAng="5437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9" y="10681"/>
                  </a:moveTo>
                  <a:arcTo wR="10800" hR="10800" stAng="-37984" swAng="5437984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968640" y="4699440"/>
              <a:ext cx="227880" cy="227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37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37984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968640" y="4699080"/>
              <a:ext cx="227880" cy="22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81"/>
                  </a:moveTo>
                  <a:arcTo wR="10800" hR="10800" stAng="-10762016" swAng="5362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81"/>
                  </a:moveTo>
                  <a:arcTo wR="10800" hR="10800" stAng="-10762016" swAng="5362016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380880" y="6019920"/>
            <a:ext cx="419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ource: Business Banking Board Research 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1544400" y="4698720"/>
            <a:ext cx="228600" cy="228960"/>
            <a:chOff x="1544400" y="4698720"/>
            <a:chExt cx="228600" cy="228960"/>
          </a:xfrm>
        </p:grpSpPr>
        <p:sp>
          <p:nvSpPr>
            <p:cNvPr id="359" name=""/>
            <p:cNvSpPr/>
            <p:nvPr/>
          </p:nvSpPr>
          <p:spPr>
            <a:xfrm>
              <a:off x="1544400" y="4699080"/>
              <a:ext cx="22860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62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62016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544400" y="4698720"/>
              <a:ext cx="22860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9" y="10681"/>
                  </a:moveTo>
                  <a:arcTo wR="10800" hR="10800" stAng="-37984" swAng="5437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9" y="10681"/>
                  </a:moveTo>
                  <a:arcTo wR="10800" hR="10800" stAng="-37984" swAng="5437984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544760" y="4698720"/>
              <a:ext cx="22788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37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37984"/>
                </a:path>
              </a:pathLst>
            </a:custGeom>
            <a:solidFill>
              <a:srgbClr val="eaeaea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544760" y="4699080"/>
              <a:ext cx="22788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81"/>
                  </a:moveTo>
                  <a:arcTo wR="10800" hR="10800" stAng="-10762016" swAng="5362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81"/>
                  </a:moveTo>
                  <a:arcTo wR="10800" hR="10800" stAng="-10762016" swAng="5362016"/>
                </a:path>
              </a:pathLst>
            </a:custGeom>
            <a:solidFill>
              <a:srgbClr val="eaeaea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2701440" y="4698720"/>
            <a:ext cx="228600" cy="228960"/>
            <a:chOff x="2701440" y="4698720"/>
            <a:chExt cx="228600" cy="228960"/>
          </a:xfrm>
        </p:grpSpPr>
        <p:sp>
          <p:nvSpPr>
            <p:cNvPr id="364" name=""/>
            <p:cNvSpPr/>
            <p:nvPr/>
          </p:nvSpPr>
          <p:spPr>
            <a:xfrm>
              <a:off x="2701440" y="4699080"/>
              <a:ext cx="22860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62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62016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701440" y="4698720"/>
              <a:ext cx="22860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9" y="10681"/>
                  </a:moveTo>
                  <a:arcTo wR="10800" hR="10800" stAng="-37984" swAng="5437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9" y="10681"/>
                  </a:moveTo>
                  <a:arcTo wR="10800" hR="10800" stAng="-37984" swAng="5437984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701800" y="4698720"/>
              <a:ext cx="22788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37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37984"/>
                </a:path>
              </a:pathLst>
            </a:custGeom>
            <a:solidFill>
              <a:srgbClr val="eaeaea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701800" y="4699080"/>
              <a:ext cx="22788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81"/>
                  </a:moveTo>
                  <a:arcTo wR="10800" hR="10800" stAng="-10762016" swAng="5362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81"/>
                  </a:moveTo>
                  <a:arcTo wR="10800" hR="10800" stAng="-10762016" swAng="5362016"/>
                </a:path>
              </a:pathLst>
            </a:custGeom>
            <a:solidFill>
              <a:srgbClr val="eaeaea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2701440" y="4188960"/>
            <a:ext cx="228600" cy="228960"/>
            <a:chOff x="2701440" y="4188960"/>
            <a:chExt cx="228600" cy="228960"/>
          </a:xfrm>
        </p:grpSpPr>
        <p:sp>
          <p:nvSpPr>
            <p:cNvPr id="369" name=""/>
            <p:cNvSpPr/>
            <p:nvPr/>
          </p:nvSpPr>
          <p:spPr>
            <a:xfrm>
              <a:off x="2701440" y="4189320"/>
              <a:ext cx="22860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62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62016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701440" y="4188960"/>
              <a:ext cx="22860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9" y="10681"/>
                  </a:moveTo>
                  <a:arcTo wR="10800" hR="10800" stAng="-37984" swAng="5437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9" y="10681"/>
                  </a:moveTo>
                  <a:arcTo wR="10800" hR="10800" stAng="-37984" swAng="5437984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701800" y="4188960"/>
              <a:ext cx="22788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37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37984"/>
                </a:path>
              </a:pathLst>
            </a:custGeom>
            <a:solidFill>
              <a:srgbClr val="eaeaea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701800" y="4189320"/>
              <a:ext cx="22788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81"/>
                  </a:moveTo>
                  <a:arcTo wR="10800" hR="10800" stAng="-10762016" swAng="5362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81"/>
                  </a:moveTo>
                  <a:arcTo wR="10800" hR="10800" stAng="-10762016" swAng="5362016"/>
                </a:path>
              </a:pathLst>
            </a:custGeom>
            <a:solidFill>
              <a:srgbClr val="eaeaea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5460480" y="4188960"/>
            <a:ext cx="228600" cy="228960"/>
            <a:chOff x="5460480" y="4188960"/>
            <a:chExt cx="228600" cy="228960"/>
          </a:xfrm>
        </p:grpSpPr>
        <p:sp>
          <p:nvSpPr>
            <p:cNvPr id="374" name=""/>
            <p:cNvSpPr/>
            <p:nvPr/>
          </p:nvSpPr>
          <p:spPr>
            <a:xfrm>
              <a:off x="5460480" y="4189320"/>
              <a:ext cx="22860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62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62016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460480" y="4188960"/>
              <a:ext cx="22860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9" y="10681"/>
                  </a:moveTo>
                  <a:arcTo wR="10800" hR="10800" stAng="-37984" swAng="5437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9" y="10681"/>
                  </a:moveTo>
                  <a:arcTo wR="10800" hR="10800" stAng="-37984" swAng="5437984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460840" y="4188960"/>
              <a:ext cx="22788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37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37984"/>
                </a:path>
              </a:pathLst>
            </a:custGeom>
            <a:solidFill>
              <a:srgbClr val="eaeaea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460840" y="4189320"/>
              <a:ext cx="22788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81"/>
                  </a:moveTo>
                  <a:arcTo wR="10800" hR="10800" stAng="-10762016" swAng="5362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81"/>
                  </a:moveTo>
                  <a:arcTo wR="10800" hR="10800" stAng="-10762016" swAng="5362016"/>
                </a:path>
              </a:pathLst>
            </a:custGeom>
            <a:solidFill>
              <a:srgbClr val="eaeaea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5460480" y="3214440"/>
            <a:ext cx="228600" cy="228960"/>
            <a:chOff x="5460480" y="3214440"/>
            <a:chExt cx="228600" cy="228960"/>
          </a:xfrm>
        </p:grpSpPr>
        <p:sp>
          <p:nvSpPr>
            <p:cNvPr id="379" name=""/>
            <p:cNvSpPr/>
            <p:nvPr/>
          </p:nvSpPr>
          <p:spPr>
            <a:xfrm>
              <a:off x="5460480" y="3214800"/>
              <a:ext cx="22860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62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62016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460480" y="3214440"/>
              <a:ext cx="22860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9" y="10681"/>
                  </a:moveTo>
                  <a:arcTo wR="10800" hR="10800" stAng="-37984" swAng="5437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9" y="10681"/>
                  </a:moveTo>
                  <a:arcTo wR="10800" hR="10800" stAng="-37984" swAng="5437984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460840" y="3214440"/>
              <a:ext cx="22788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37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37984"/>
                </a:path>
              </a:pathLst>
            </a:custGeom>
            <a:solidFill>
              <a:srgbClr val="eaeaea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460840" y="3214800"/>
              <a:ext cx="22788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81"/>
                  </a:moveTo>
                  <a:arcTo wR="10800" hR="10800" stAng="-10762016" swAng="5362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81"/>
                  </a:moveTo>
                  <a:arcTo wR="10800" hR="10800" stAng="-10762016" swAng="5362016"/>
                </a:path>
              </a:pathLst>
            </a:custGeom>
            <a:solidFill>
              <a:srgbClr val="eaeaea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6832080" y="3214440"/>
            <a:ext cx="228600" cy="228960"/>
            <a:chOff x="6832080" y="3214440"/>
            <a:chExt cx="228600" cy="228960"/>
          </a:xfrm>
        </p:grpSpPr>
        <p:sp>
          <p:nvSpPr>
            <p:cNvPr id="384" name=""/>
            <p:cNvSpPr/>
            <p:nvPr/>
          </p:nvSpPr>
          <p:spPr>
            <a:xfrm>
              <a:off x="6832080" y="3214800"/>
              <a:ext cx="22860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62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62016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832080" y="3214440"/>
              <a:ext cx="22860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9" y="10681"/>
                  </a:moveTo>
                  <a:arcTo wR="10800" hR="10800" stAng="-37984" swAng="5437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9" y="10681"/>
                  </a:moveTo>
                  <a:arcTo wR="10800" hR="10800" stAng="-37984" swAng="5437984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832440" y="3214440"/>
              <a:ext cx="22788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37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37984"/>
                </a:path>
              </a:pathLst>
            </a:custGeom>
            <a:solidFill>
              <a:srgbClr val="eaeaea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32440" y="3214800"/>
              <a:ext cx="22788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81"/>
                  </a:moveTo>
                  <a:arcTo wR="10800" hR="10800" stAng="-10762016" swAng="5362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81"/>
                  </a:moveTo>
                  <a:arcTo wR="10800" hR="10800" stAng="-10762016" swAng="5362016"/>
                </a:path>
              </a:pathLst>
            </a:custGeom>
            <a:solidFill>
              <a:srgbClr val="eaeaea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8156160" y="3214440"/>
            <a:ext cx="228600" cy="228960"/>
            <a:chOff x="8156160" y="3214440"/>
            <a:chExt cx="228600" cy="228960"/>
          </a:xfrm>
        </p:grpSpPr>
        <p:sp>
          <p:nvSpPr>
            <p:cNvPr id="389" name=""/>
            <p:cNvSpPr/>
            <p:nvPr/>
          </p:nvSpPr>
          <p:spPr>
            <a:xfrm>
              <a:off x="8156160" y="3214800"/>
              <a:ext cx="22860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62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62016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156160" y="3214440"/>
              <a:ext cx="22860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9" y="10681"/>
                  </a:moveTo>
                  <a:arcTo wR="10800" hR="10800" stAng="-37984" swAng="5437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9" y="10681"/>
                  </a:moveTo>
                  <a:arcTo wR="10800" hR="10800" stAng="-37984" swAng="5437984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156520" y="3214440"/>
              <a:ext cx="22788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37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37984"/>
                </a:path>
              </a:pathLst>
            </a:custGeom>
            <a:solidFill>
              <a:srgbClr val="eaeaea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156520" y="3214800"/>
              <a:ext cx="22788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81"/>
                  </a:moveTo>
                  <a:arcTo wR="10800" hR="10800" stAng="-10762016" swAng="5362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81"/>
                  </a:moveTo>
                  <a:arcTo wR="10800" hR="10800" stAng="-10762016" swAng="5362016"/>
                </a:path>
              </a:pathLst>
            </a:custGeom>
            <a:solidFill>
              <a:srgbClr val="eaeaea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8156160" y="4188960"/>
            <a:ext cx="228600" cy="228960"/>
            <a:chOff x="8156160" y="4188960"/>
            <a:chExt cx="228600" cy="228960"/>
          </a:xfrm>
        </p:grpSpPr>
        <p:sp>
          <p:nvSpPr>
            <p:cNvPr id="394" name=""/>
            <p:cNvSpPr/>
            <p:nvPr/>
          </p:nvSpPr>
          <p:spPr>
            <a:xfrm>
              <a:off x="8156160" y="4189320"/>
              <a:ext cx="22860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62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62016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156160" y="4188960"/>
              <a:ext cx="22860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9" y="10681"/>
                  </a:moveTo>
                  <a:arcTo wR="10800" hR="10800" stAng="-37984" swAng="5437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9" y="10681"/>
                  </a:moveTo>
                  <a:arcTo wR="10800" hR="10800" stAng="-37984" swAng="5437984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156520" y="4188960"/>
              <a:ext cx="22788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37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37984"/>
                </a:path>
              </a:pathLst>
            </a:custGeom>
            <a:solidFill>
              <a:srgbClr val="eaeaea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156520" y="4189320"/>
              <a:ext cx="22788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81"/>
                  </a:moveTo>
                  <a:arcTo wR="10800" hR="10800" stAng="-10762016" swAng="5362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81"/>
                  </a:moveTo>
                  <a:arcTo wR="10800" hR="10800" stAng="-10762016" swAng="5362016"/>
                </a:path>
              </a:pathLst>
            </a:custGeom>
            <a:solidFill>
              <a:srgbClr val="eaeaea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8156160" y="4698720"/>
            <a:ext cx="228600" cy="228960"/>
            <a:chOff x="8156160" y="4698720"/>
            <a:chExt cx="228600" cy="228960"/>
          </a:xfrm>
        </p:grpSpPr>
        <p:sp>
          <p:nvSpPr>
            <p:cNvPr id="399" name=""/>
            <p:cNvSpPr/>
            <p:nvPr/>
          </p:nvSpPr>
          <p:spPr>
            <a:xfrm>
              <a:off x="8156160" y="4699080"/>
              <a:ext cx="22860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62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62016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156160" y="4698720"/>
              <a:ext cx="22860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9" y="10681"/>
                  </a:moveTo>
                  <a:arcTo wR="10800" hR="10800" stAng="-37984" swAng="5437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9" y="10681"/>
                  </a:moveTo>
                  <a:arcTo wR="10800" hR="10800" stAng="-37984" swAng="5437984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156520" y="4698720"/>
              <a:ext cx="22788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37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37984"/>
                </a:path>
              </a:pathLst>
            </a:custGeom>
            <a:solidFill>
              <a:srgbClr val="eaeaea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156520" y="4699080"/>
              <a:ext cx="22788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81"/>
                  </a:moveTo>
                  <a:arcTo wR="10800" hR="10800" stAng="-10762016" swAng="5362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81"/>
                  </a:moveTo>
                  <a:arcTo wR="10800" hR="10800" stAng="-10762016" swAng="5362016"/>
                </a:path>
              </a:pathLst>
            </a:custGeom>
            <a:solidFill>
              <a:srgbClr val="eaeaea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1544400" y="3214440"/>
            <a:ext cx="228600" cy="228960"/>
            <a:chOff x="1544400" y="3214440"/>
            <a:chExt cx="228600" cy="228960"/>
          </a:xfrm>
        </p:grpSpPr>
        <p:sp>
          <p:nvSpPr>
            <p:cNvPr id="404" name=""/>
            <p:cNvSpPr/>
            <p:nvPr/>
          </p:nvSpPr>
          <p:spPr>
            <a:xfrm>
              <a:off x="1544400" y="3214800"/>
              <a:ext cx="22860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62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62016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544400" y="3214440"/>
              <a:ext cx="22860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9" y="10681"/>
                  </a:moveTo>
                  <a:arcTo wR="10800" hR="10800" stAng="-37984" swAng="5437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9" y="10681"/>
                  </a:moveTo>
                  <a:arcTo wR="10800" hR="10800" stAng="-37984" swAng="5437984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544760" y="3214440"/>
              <a:ext cx="22788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37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37984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544760" y="3214800"/>
              <a:ext cx="22788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81"/>
                  </a:moveTo>
                  <a:arcTo wR="10800" hR="10800" stAng="-10762016" swAng="5362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81"/>
                  </a:moveTo>
                  <a:arcTo wR="10800" hR="10800" stAng="-10762016" swAng="5362016"/>
                </a:path>
              </a:pathLst>
            </a:custGeom>
            <a:solidFill>
              <a:srgbClr val="eaeaea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2701440" y="3214440"/>
            <a:ext cx="228600" cy="228960"/>
            <a:chOff x="2701440" y="3214440"/>
            <a:chExt cx="228600" cy="228960"/>
          </a:xfrm>
        </p:grpSpPr>
        <p:sp>
          <p:nvSpPr>
            <p:cNvPr id="409" name=""/>
            <p:cNvSpPr/>
            <p:nvPr/>
          </p:nvSpPr>
          <p:spPr>
            <a:xfrm>
              <a:off x="2701440" y="3214800"/>
              <a:ext cx="22860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62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62016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701440" y="3214440"/>
              <a:ext cx="22860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9" y="10681"/>
                  </a:moveTo>
                  <a:arcTo wR="10800" hR="10800" stAng="-37984" swAng="5437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9" y="10681"/>
                  </a:moveTo>
                  <a:arcTo wR="10800" hR="10800" stAng="-37984" swAng="5437984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701800" y="3214440"/>
              <a:ext cx="22788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37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37984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701800" y="3214800"/>
              <a:ext cx="22788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81"/>
                  </a:moveTo>
                  <a:arcTo wR="10800" hR="10800" stAng="-10762016" swAng="5362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81"/>
                  </a:moveTo>
                  <a:arcTo wR="10800" hR="10800" stAng="-10762016" swAng="5362016"/>
                </a:path>
              </a:pathLst>
            </a:custGeom>
            <a:solidFill>
              <a:srgbClr val="eaeaea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2701440" y="3709800"/>
            <a:ext cx="228600" cy="228960"/>
            <a:chOff x="2701440" y="3709800"/>
            <a:chExt cx="228600" cy="228960"/>
          </a:xfrm>
        </p:grpSpPr>
        <p:sp>
          <p:nvSpPr>
            <p:cNvPr id="414" name=""/>
            <p:cNvSpPr/>
            <p:nvPr/>
          </p:nvSpPr>
          <p:spPr>
            <a:xfrm>
              <a:off x="2701440" y="3710160"/>
              <a:ext cx="22860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62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62016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701440" y="3709800"/>
              <a:ext cx="22860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9" y="10681"/>
                  </a:moveTo>
                  <a:arcTo wR="10800" hR="10800" stAng="-37984" swAng="5437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9" y="10681"/>
                  </a:moveTo>
                  <a:arcTo wR="10800" hR="10800" stAng="-37984" swAng="5437984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701800" y="3709800"/>
              <a:ext cx="22788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37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37984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701800" y="3710160"/>
              <a:ext cx="22788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81"/>
                  </a:moveTo>
                  <a:arcTo wR="10800" hR="10800" stAng="-10762016" swAng="5362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81"/>
                  </a:moveTo>
                  <a:arcTo wR="10800" hR="10800" stAng="-10762016" swAng="5362016"/>
                </a:path>
              </a:pathLst>
            </a:custGeom>
            <a:solidFill>
              <a:srgbClr val="eaeaea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970080" y="3709800"/>
            <a:ext cx="228600" cy="228960"/>
            <a:chOff x="3970080" y="3709800"/>
            <a:chExt cx="228600" cy="228960"/>
          </a:xfrm>
        </p:grpSpPr>
        <p:sp>
          <p:nvSpPr>
            <p:cNvPr id="419" name=""/>
            <p:cNvSpPr/>
            <p:nvPr/>
          </p:nvSpPr>
          <p:spPr>
            <a:xfrm>
              <a:off x="3970080" y="3710160"/>
              <a:ext cx="22860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62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62016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970080" y="3709800"/>
              <a:ext cx="22860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9" y="10681"/>
                  </a:moveTo>
                  <a:arcTo wR="10800" hR="10800" stAng="-37984" swAng="5437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9" y="10681"/>
                  </a:moveTo>
                  <a:arcTo wR="10800" hR="10800" stAng="-37984" swAng="5437984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970440" y="3709800"/>
              <a:ext cx="22788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37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37984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970440" y="3710160"/>
              <a:ext cx="22788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81"/>
                  </a:moveTo>
                  <a:arcTo wR="10800" hR="10800" stAng="-10762016" swAng="5362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81"/>
                  </a:moveTo>
                  <a:arcTo wR="10800" hR="10800" stAng="-10762016" swAng="5362016"/>
                </a:path>
              </a:pathLst>
            </a:custGeom>
            <a:solidFill>
              <a:srgbClr val="eaeaea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5460480" y="3709800"/>
            <a:ext cx="228600" cy="228960"/>
            <a:chOff x="5460480" y="3709800"/>
            <a:chExt cx="228600" cy="228960"/>
          </a:xfrm>
        </p:grpSpPr>
        <p:sp>
          <p:nvSpPr>
            <p:cNvPr id="424" name=""/>
            <p:cNvSpPr/>
            <p:nvPr/>
          </p:nvSpPr>
          <p:spPr>
            <a:xfrm>
              <a:off x="5460480" y="3710160"/>
              <a:ext cx="22860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62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62016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460480" y="3709800"/>
              <a:ext cx="22860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9" y="10681"/>
                  </a:moveTo>
                  <a:arcTo wR="10800" hR="10800" stAng="-37984" swAng="5437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9" y="10681"/>
                  </a:moveTo>
                  <a:arcTo wR="10800" hR="10800" stAng="-37984" swAng="5437984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460840" y="3709800"/>
              <a:ext cx="22788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37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37984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460840" y="3710160"/>
              <a:ext cx="22788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81"/>
                  </a:moveTo>
                  <a:arcTo wR="10800" hR="10800" stAng="-10762016" swAng="5362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81"/>
                  </a:moveTo>
                  <a:arcTo wR="10800" hR="10800" stAng="-10762016" swAng="5362016"/>
                </a:path>
              </a:pathLst>
            </a:custGeom>
            <a:solidFill>
              <a:srgbClr val="eaeaea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6832080" y="3709800"/>
            <a:ext cx="228600" cy="228960"/>
            <a:chOff x="6832080" y="3709800"/>
            <a:chExt cx="228600" cy="228960"/>
          </a:xfrm>
        </p:grpSpPr>
        <p:sp>
          <p:nvSpPr>
            <p:cNvPr id="429" name=""/>
            <p:cNvSpPr/>
            <p:nvPr/>
          </p:nvSpPr>
          <p:spPr>
            <a:xfrm>
              <a:off x="6832080" y="3710160"/>
              <a:ext cx="22860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62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62016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832080" y="3709800"/>
              <a:ext cx="22860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9" y="10681"/>
                  </a:moveTo>
                  <a:arcTo wR="10800" hR="10800" stAng="-37984" swAng="5437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9" y="10681"/>
                  </a:moveTo>
                  <a:arcTo wR="10800" hR="10800" stAng="-37984" swAng="5437984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832440" y="3709800"/>
              <a:ext cx="22788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37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37984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832440" y="3710160"/>
              <a:ext cx="22788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81"/>
                  </a:moveTo>
                  <a:arcTo wR="10800" hR="10800" stAng="-10762016" swAng="5362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81"/>
                  </a:moveTo>
                  <a:arcTo wR="10800" hR="10800" stAng="-10762016" swAng="5362016"/>
                </a:path>
              </a:pathLst>
            </a:custGeom>
            <a:solidFill>
              <a:srgbClr val="eaeaea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8156160" y="3709800"/>
            <a:ext cx="228600" cy="228960"/>
            <a:chOff x="8156160" y="3709800"/>
            <a:chExt cx="228600" cy="228960"/>
          </a:xfrm>
        </p:grpSpPr>
        <p:sp>
          <p:nvSpPr>
            <p:cNvPr id="434" name=""/>
            <p:cNvSpPr/>
            <p:nvPr/>
          </p:nvSpPr>
          <p:spPr>
            <a:xfrm>
              <a:off x="8156160" y="3710160"/>
              <a:ext cx="22860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62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62016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156160" y="3709800"/>
              <a:ext cx="22860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9" y="10681"/>
                  </a:moveTo>
                  <a:arcTo wR="10800" hR="10800" stAng="-37984" swAng="5437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9" y="10681"/>
                  </a:moveTo>
                  <a:arcTo wR="10800" hR="10800" stAng="-37984" swAng="5437984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156520" y="3709800"/>
              <a:ext cx="22788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37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37984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156520" y="3710160"/>
              <a:ext cx="22788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81"/>
                  </a:moveTo>
                  <a:arcTo wR="10800" hR="10800" stAng="-10762016" swAng="5362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81"/>
                  </a:moveTo>
                  <a:arcTo wR="10800" hR="10800" stAng="-10762016" swAng="5362016"/>
                </a:path>
              </a:pathLst>
            </a:custGeom>
            <a:solidFill>
              <a:srgbClr val="eaeaea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5460480" y="4698720"/>
            <a:ext cx="228600" cy="228960"/>
            <a:chOff x="5460480" y="4698720"/>
            <a:chExt cx="228600" cy="228960"/>
          </a:xfrm>
        </p:grpSpPr>
        <p:sp>
          <p:nvSpPr>
            <p:cNvPr id="439" name=""/>
            <p:cNvSpPr/>
            <p:nvPr/>
          </p:nvSpPr>
          <p:spPr>
            <a:xfrm>
              <a:off x="5460480" y="4699080"/>
              <a:ext cx="22860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62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62016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460480" y="4698720"/>
              <a:ext cx="22860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9" y="10681"/>
                  </a:moveTo>
                  <a:arcTo wR="10800" hR="10800" stAng="-37984" swAng="5437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9" y="10681"/>
                  </a:moveTo>
                  <a:arcTo wR="10800" hR="10800" stAng="-37984" swAng="5437984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460840" y="4698720"/>
              <a:ext cx="22788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37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37984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460840" y="4699080"/>
              <a:ext cx="22788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81"/>
                  </a:moveTo>
                  <a:arcTo wR="10800" hR="10800" stAng="-10762016" swAng="5362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81"/>
                  </a:moveTo>
                  <a:arcTo wR="10800" hR="10800" stAng="-10762016" swAng="5362016"/>
                </a:path>
              </a:pathLst>
            </a:custGeom>
            <a:solidFill>
              <a:srgbClr val="eaeaea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6832080" y="4698720"/>
            <a:ext cx="228600" cy="228960"/>
            <a:chOff x="6832080" y="4698720"/>
            <a:chExt cx="228600" cy="228960"/>
          </a:xfrm>
        </p:grpSpPr>
        <p:sp>
          <p:nvSpPr>
            <p:cNvPr id="444" name=""/>
            <p:cNvSpPr/>
            <p:nvPr/>
          </p:nvSpPr>
          <p:spPr>
            <a:xfrm>
              <a:off x="6832080" y="4699080"/>
              <a:ext cx="22860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62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62016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832080" y="4698720"/>
              <a:ext cx="22860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9" y="10681"/>
                  </a:moveTo>
                  <a:arcTo wR="10800" hR="10800" stAng="-37984" swAng="5437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9" y="10681"/>
                  </a:moveTo>
                  <a:arcTo wR="10800" hR="10800" stAng="-37984" swAng="5437984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832440" y="4698720"/>
              <a:ext cx="22788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37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37984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832440" y="4699080"/>
              <a:ext cx="22788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81"/>
                  </a:moveTo>
                  <a:arcTo wR="10800" hR="10800" stAng="-10762016" swAng="5362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81"/>
                  </a:moveTo>
                  <a:arcTo wR="10800" hR="10800" stAng="-10762016" swAng="5362016"/>
                </a:path>
              </a:pathLst>
            </a:custGeom>
            <a:solidFill>
              <a:srgbClr val="eaeaea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3970080" y="5285880"/>
            <a:ext cx="228600" cy="228960"/>
            <a:chOff x="3970080" y="5285880"/>
            <a:chExt cx="228600" cy="228960"/>
          </a:xfrm>
        </p:grpSpPr>
        <p:sp>
          <p:nvSpPr>
            <p:cNvPr id="449" name=""/>
            <p:cNvSpPr/>
            <p:nvPr/>
          </p:nvSpPr>
          <p:spPr>
            <a:xfrm>
              <a:off x="3970080" y="5286240"/>
              <a:ext cx="22860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62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62016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970080" y="5285880"/>
              <a:ext cx="22860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9" y="10681"/>
                  </a:moveTo>
                  <a:arcTo wR="10800" hR="10800" stAng="-37984" swAng="5437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9" y="10681"/>
                  </a:moveTo>
                  <a:arcTo wR="10800" hR="10800" stAng="-37984" swAng="5437984"/>
                </a:path>
              </a:pathLst>
            </a:custGeom>
            <a:solidFill>
              <a:srgbClr val="eaeaea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970440" y="5285880"/>
              <a:ext cx="22788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37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37984"/>
                </a:path>
              </a:pathLst>
            </a:custGeom>
            <a:solidFill>
              <a:srgbClr val="eaeaea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970440" y="5286240"/>
              <a:ext cx="22788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81"/>
                  </a:moveTo>
                  <a:arcTo wR="10800" hR="10800" stAng="-10762016" swAng="5362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81"/>
                  </a:moveTo>
                  <a:arcTo wR="10800" hR="10800" stAng="-10762016" swAng="5362016"/>
                </a:path>
              </a:pathLst>
            </a:custGeom>
            <a:solidFill>
              <a:srgbClr val="eaeaea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304920" y="0"/>
            <a:ext cx="7149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4. Delivery Channels (Contd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143920" y="533520"/>
            <a:ext cx="771480" cy="1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8258040" y="380880"/>
            <a:ext cx="266760" cy="282600"/>
          </a:xfrm>
          <a:custGeom>
            <a:avLst/>
            <a:gdLst>
              <a:gd name="textAreaLeft" fmla="*/ 0 w 266760"/>
              <a:gd name="textAreaRight" fmla="*/ 266760 w 2667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448840" y="380880"/>
            <a:ext cx="266400" cy="282600"/>
          </a:xfrm>
          <a:custGeom>
            <a:avLst/>
            <a:gdLst>
              <a:gd name="textAreaLeft" fmla="*/ 0 w 266400"/>
              <a:gd name="textAreaRight" fmla="*/ 266760 w 26640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629560" y="380880"/>
            <a:ext cx="266760" cy="282600"/>
          </a:xfrm>
          <a:custGeom>
            <a:avLst/>
            <a:gdLst>
              <a:gd name="textAreaLeft" fmla="*/ 0 w 266760"/>
              <a:gd name="textAreaRight" fmla="*/ 266760 w 2667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8124840" y="380880"/>
            <a:ext cx="200160" cy="282600"/>
          </a:xfrm>
          <a:custGeom>
            <a:avLst/>
            <a:gdLst>
              <a:gd name="textAreaLeft" fmla="*/ 0 w 200160"/>
              <a:gd name="textAreaRight" fmla="*/ 200520 w 2001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8124840" y="663480"/>
            <a:ext cx="714240" cy="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8124840" y="762120"/>
            <a:ext cx="714240" cy="9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457200" y="1142640"/>
            <a:ext cx="8305920" cy="5181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Verdana"/>
              </a:rPr>
              <a:t>In emerging markets, personal contact is critically important…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304920" y="0"/>
            <a:ext cx="7149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4. Delivery Channels (Contd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8143920" y="533520"/>
            <a:ext cx="771480" cy="1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8040" y="380880"/>
            <a:ext cx="266760" cy="282600"/>
          </a:xfrm>
          <a:custGeom>
            <a:avLst/>
            <a:gdLst>
              <a:gd name="textAreaLeft" fmla="*/ 0 w 266760"/>
              <a:gd name="textAreaRight" fmla="*/ 266760 w 2667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8448840" y="380880"/>
            <a:ext cx="266400" cy="282600"/>
          </a:xfrm>
          <a:custGeom>
            <a:avLst/>
            <a:gdLst>
              <a:gd name="textAreaLeft" fmla="*/ 0 w 266400"/>
              <a:gd name="textAreaRight" fmla="*/ 266760 w 26640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629560" y="380880"/>
            <a:ext cx="266760" cy="282600"/>
          </a:xfrm>
          <a:custGeom>
            <a:avLst/>
            <a:gdLst>
              <a:gd name="textAreaLeft" fmla="*/ 0 w 266760"/>
              <a:gd name="textAreaRight" fmla="*/ 266760 w 2667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8124840" y="380880"/>
            <a:ext cx="200160" cy="282600"/>
          </a:xfrm>
          <a:custGeom>
            <a:avLst/>
            <a:gdLst>
              <a:gd name="textAreaLeft" fmla="*/ 0 w 200160"/>
              <a:gd name="textAreaRight" fmla="*/ 200520 w 2001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124840" y="663480"/>
            <a:ext cx="714240" cy="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8124840" y="762120"/>
            <a:ext cx="714240" cy="9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80880" y="6095880"/>
            <a:ext cx="419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ource: FIC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62120" y="2422440"/>
            <a:ext cx="75628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Banco Solidario (Ecuador), reaches 45% of its customers through bankers in the field – similar situation for Bank Dagang Bali (Indonesia) which has very few branche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V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Bank BRI (Indonesia) received an award from the </a:t>
            </a:r>
            <a:r>
              <a:rPr b="0" i="1" lang="en-US" sz="2000" spc="-1" strike="noStrike">
                <a:solidFill>
                  <a:srgbClr val="003366"/>
                </a:solidFill>
                <a:latin typeface="Verdana"/>
              </a:rPr>
              <a:t>Indonesian Museum of Records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 for establishing 4,658 branches throughout the country (92% of Bank BRI’s portfolio is microloans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4647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pening Remark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952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alented speakers…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… 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have already said a lot 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s proves the quality of the conference…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… 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and shows a common vision, ie need for economies of scale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304920" y="1219320"/>
            <a:ext cx="8534160" cy="5105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87360" y="1438200"/>
            <a:ext cx="87422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s is word of mouth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85800" y="2243160"/>
            <a:ext cx="7537320" cy="25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00000"/>
              </a:lnSpc>
              <a:spcBef>
                <a:spcPts val="2999"/>
              </a:spcBef>
              <a:spcAft>
                <a:spcPts val="2999"/>
              </a:spcAft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45 % of Banco Solidario’s new customers are referred by existing customers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2251"/>
              </a:spcBef>
              <a:spcAft>
                <a:spcPts val="2999"/>
              </a:spcAft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 Bank BRI, a senior manager states,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“All new customers are referrals.  Good [loan] customers never just walk into the bank”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04920" y="0"/>
            <a:ext cx="7149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4. Delivery Channels (Contd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143920" y="533520"/>
            <a:ext cx="771480" cy="1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258040" y="380880"/>
            <a:ext cx="266760" cy="282600"/>
          </a:xfrm>
          <a:custGeom>
            <a:avLst/>
            <a:gdLst>
              <a:gd name="textAreaLeft" fmla="*/ 0 w 266760"/>
              <a:gd name="textAreaRight" fmla="*/ 266760 w 2667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448840" y="380880"/>
            <a:ext cx="266400" cy="282600"/>
          </a:xfrm>
          <a:custGeom>
            <a:avLst/>
            <a:gdLst>
              <a:gd name="textAreaLeft" fmla="*/ 0 w 266400"/>
              <a:gd name="textAreaRight" fmla="*/ 266760 w 26640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629560" y="380880"/>
            <a:ext cx="266760" cy="282600"/>
          </a:xfrm>
          <a:custGeom>
            <a:avLst/>
            <a:gdLst>
              <a:gd name="textAreaLeft" fmla="*/ 0 w 266760"/>
              <a:gd name="textAreaRight" fmla="*/ 266760 w 2667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8124840" y="380880"/>
            <a:ext cx="200160" cy="282600"/>
          </a:xfrm>
          <a:custGeom>
            <a:avLst/>
            <a:gdLst>
              <a:gd name="textAreaLeft" fmla="*/ 0 w 200160"/>
              <a:gd name="textAreaRight" fmla="*/ 200520 w 2001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124840" y="663480"/>
            <a:ext cx="714240" cy="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124840" y="762120"/>
            <a:ext cx="714240" cy="9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80880" y="6095880"/>
            <a:ext cx="419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ource: FIC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7149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5. Organizatio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6840" y="1190160"/>
            <a:ext cx="8458200" cy="5133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lign organizational requirement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463680" indent="-344520">
              <a:spcBef>
                <a:spcPts val="125"/>
              </a:spcBef>
              <a:spcAft>
                <a:spcPts val="125"/>
              </a:spcAft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parate organizational responsibilities for SME Finance (part of retail rather than corporate banking)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463680" indent="0"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463680" indent="-344520">
              <a:spcBef>
                <a:spcPts val="125"/>
              </a:spcBef>
              <a:spcAft>
                <a:spcPts val="125"/>
              </a:spcAft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Market versus product focus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463680" indent="0"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463680" indent="-344520">
              <a:spcBef>
                <a:spcPts val="125"/>
              </a:spcBef>
              <a:spcAft>
                <a:spcPts val="125"/>
              </a:spcAft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arify responsibilities for sales vs. credit vs. collections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463680" indent="0"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463680" indent="-344520">
              <a:spcBef>
                <a:spcPts val="125"/>
              </a:spcBef>
              <a:spcAft>
                <a:spcPts val="125"/>
              </a:spcAft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ear responsibilities and incentives for deposit raising and cross-sales (including personal financing needs of the owner)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463680" indent="0"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463680" indent="-344520">
              <a:spcBef>
                <a:spcPts val="125"/>
              </a:spcBef>
              <a:spcAft>
                <a:spcPts val="125"/>
              </a:spcAft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entralized processing of credit applications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463680" indent="0"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463680" indent="-344520">
              <a:spcBef>
                <a:spcPts val="125"/>
              </a:spcBef>
              <a:spcAft>
                <a:spcPts val="125"/>
              </a:spcAft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ear processes for collections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8143920" y="533520"/>
            <a:ext cx="771480" cy="1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8258040" y="380880"/>
            <a:ext cx="266760" cy="282600"/>
          </a:xfrm>
          <a:custGeom>
            <a:avLst/>
            <a:gdLst>
              <a:gd name="textAreaLeft" fmla="*/ 0 w 266760"/>
              <a:gd name="textAreaRight" fmla="*/ 266760 w 2667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8448840" y="380880"/>
            <a:ext cx="266400" cy="282600"/>
          </a:xfrm>
          <a:custGeom>
            <a:avLst/>
            <a:gdLst>
              <a:gd name="textAreaLeft" fmla="*/ 0 w 266400"/>
              <a:gd name="textAreaRight" fmla="*/ 266760 w 26640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629560" y="380880"/>
            <a:ext cx="266760" cy="282600"/>
          </a:xfrm>
          <a:custGeom>
            <a:avLst/>
            <a:gdLst>
              <a:gd name="textAreaLeft" fmla="*/ 0 w 266760"/>
              <a:gd name="textAreaRight" fmla="*/ 266760 w 2667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8124840" y="380880"/>
            <a:ext cx="200160" cy="282600"/>
          </a:xfrm>
          <a:custGeom>
            <a:avLst/>
            <a:gdLst>
              <a:gd name="textAreaLeft" fmla="*/ 0 w 200160"/>
              <a:gd name="textAreaRight" fmla="*/ 200520 w 2001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8124840" y="663480"/>
            <a:ext cx="714240" cy="98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8124840" y="762120"/>
            <a:ext cx="714240" cy="9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0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4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4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4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4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7149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6. IT / System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5181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As for the organization, client-driven vs. product-driven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Develop efficient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Verdana"/>
              </a:rPr>
              <a:t>integrated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 information systems by leveraging appropriate technologies…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… 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owards Customer Relationship Management (CRM) capabilities…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… 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and multi-channel managemen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8143920" y="533520"/>
            <a:ext cx="771480" cy="1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58040" y="380880"/>
            <a:ext cx="266760" cy="282600"/>
          </a:xfrm>
          <a:custGeom>
            <a:avLst/>
            <a:gdLst>
              <a:gd name="textAreaLeft" fmla="*/ 0 w 266760"/>
              <a:gd name="textAreaRight" fmla="*/ 266760 w 2667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448840" y="380880"/>
            <a:ext cx="266400" cy="282600"/>
          </a:xfrm>
          <a:custGeom>
            <a:avLst/>
            <a:gdLst>
              <a:gd name="textAreaLeft" fmla="*/ 0 w 266400"/>
              <a:gd name="textAreaRight" fmla="*/ 266760 w 26640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629560" y="380880"/>
            <a:ext cx="266760" cy="282600"/>
          </a:xfrm>
          <a:custGeom>
            <a:avLst/>
            <a:gdLst>
              <a:gd name="textAreaLeft" fmla="*/ 0 w 266760"/>
              <a:gd name="textAreaRight" fmla="*/ 266760 w 2667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124840" y="380880"/>
            <a:ext cx="200160" cy="282600"/>
          </a:xfrm>
          <a:custGeom>
            <a:avLst/>
            <a:gdLst>
              <a:gd name="textAreaLeft" fmla="*/ 0 w 200160"/>
              <a:gd name="textAreaRight" fmla="*/ 200520 w 2001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8124840" y="663480"/>
            <a:ext cx="714240" cy="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8124840" y="762120"/>
            <a:ext cx="714240" cy="9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4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304920" y="1371600"/>
            <a:ext cx="8534160" cy="4952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04920" y="1389240"/>
            <a:ext cx="8534160" cy="48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Focus of the strategy</a:t>
            </a: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Key componen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Risk management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- Use sophisticated credit scoring models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- Build informal networks to gather asymetric 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   information on potential borrowers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- Develop deep understanding of industrial sector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Margin management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- Use of technology to reduce delivery and service  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   costs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- Redesign organization structure to manage 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   operational cos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Superior value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- Gain in-depth understanding of customer needs and     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   behavioral drivers to develop and deliver 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   differentiated value propositio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80880" y="-7632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Based on This, Several Types of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rategies can Emerg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80880" y="1676520"/>
            <a:ext cx="2438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124080" y="1676520"/>
            <a:ext cx="51818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0" y="5105520"/>
            <a:ext cx="85345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propositio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5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8" dur="500"/>
                                        <p:tgtEl>
                                          <p:spTgt spid="5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7149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nclusion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5181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ME banking is hybrid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It generally involves a specific strategy and a total redesign of the value chain 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Quality of execution is key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5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7149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xample of Projec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5181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2" name=""/>
          <p:cNvSpPr/>
          <p:nvPr/>
        </p:nvSpPr>
        <p:spPr>
          <a:xfrm>
            <a:off x="547560" y="1308240"/>
            <a:ext cx="85042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Verdana"/>
              </a:rPr>
              <a:t>Module 1 : </a:t>
            </a: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Standardization of Product Offer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473720" y="2557440"/>
            <a:ext cx="2158920" cy="1981080"/>
          </a:xfrm>
          <a:custGeom>
            <a:avLst/>
            <a:gdLst/>
            <a:ahLst/>
            <a:rect l="l" t="t" r="r" b="b"/>
            <a:pathLst>
              <a:path w="1192" h="794">
                <a:moveTo>
                  <a:pt x="1020" y="0"/>
                </a:moveTo>
                <a:lnTo>
                  <a:pt x="0" y="0"/>
                </a:lnTo>
                <a:lnTo>
                  <a:pt x="172" y="397"/>
                </a:lnTo>
                <a:lnTo>
                  <a:pt x="0" y="794"/>
                </a:lnTo>
                <a:lnTo>
                  <a:pt x="1020" y="794"/>
                </a:lnTo>
                <a:lnTo>
                  <a:pt x="1192" y="397"/>
                </a:lnTo>
                <a:lnTo>
                  <a:pt x="102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473720" y="2557440"/>
            <a:ext cx="2158920" cy="1981080"/>
          </a:xfrm>
          <a:custGeom>
            <a:avLst/>
            <a:gdLst/>
            <a:ahLst/>
            <a:rect l="l" t="t" r="r" b="b"/>
            <a:pathLst>
              <a:path w="1192" h="794">
                <a:moveTo>
                  <a:pt x="1020" y="0"/>
                </a:moveTo>
                <a:lnTo>
                  <a:pt x="0" y="0"/>
                </a:lnTo>
                <a:lnTo>
                  <a:pt x="172" y="397"/>
                </a:lnTo>
                <a:lnTo>
                  <a:pt x="0" y="794"/>
                </a:lnTo>
                <a:lnTo>
                  <a:pt x="1020" y="794"/>
                </a:lnTo>
                <a:lnTo>
                  <a:pt x="1192" y="397"/>
                </a:lnTo>
                <a:lnTo>
                  <a:pt x="1020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306760" y="3114720"/>
            <a:ext cx="1221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Elaboration           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115960" y="3417840"/>
            <a:ext cx="1098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d’une gamme de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210280" y="3722760"/>
            <a:ext cx="901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produits cible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47640" y="2557440"/>
            <a:ext cx="1047960" cy="1981080"/>
          </a:xfrm>
          <a:custGeom>
            <a:avLst/>
            <a:gdLst/>
            <a:ahLst/>
            <a:rect l="l" t="t" r="r" b="b"/>
            <a:pathLst>
              <a:path w="579" h="794">
                <a:moveTo>
                  <a:pt x="473" y="0"/>
                </a:moveTo>
                <a:lnTo>
                  <a:pt x="0" y="0"/>
                </a:lnTo>
                <a:lnTo>
                  <a:pt x="0" y="794"/>
                </a:lnTo>
                <a:lnTo>
                  <a:pt x="473" y="794"/>
                </a:lnTo>
                <a:lnTo>
                  <a:pt x="579" y="397"/>
                </a:lnTo>
                <a:lnTo>
                  <a:pt x="47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38280" y="2544840"/>
            <a:ext cx="1066680" cy="2006640"/>
          </a:xfrm>
          <a:custGeom>
            <a:avLst/>
            <a:gdLst/>
            <a:ahLst/>
            <a:rect l="l" t="t" r="r" b="b"/>
            <a:pathLst>
              <a:path w="589" h="804">
                <a:moveTo>
                  <a:pt x="579" y="403"/>
                </a:moveTo>
                <a:lnTo>
                  <a:pt x="570" y="364"/>
                </a:lnTo>
                <a:lnTo>
                  <a:pt x="579" y="362"/>
                </a:lnTo>
                <a:lnTo>
                  <a:pt x="589" y="401"/>
                </a:lnTo>
                <a:lnTo>
                  <a:pt x="579" y="403"/>
                </a:lnTo>
                <a:close/>
                <a:moveTo>
                  <a:pt x="561" y="335"/>
                </a:moveTo>
                <a:lnTo>
                  <a:pt x="551" y="296"/>
                </a:lnTo>
                <a:lnTo>
                  <a:pt x="561" y="293"/>
                </a:lnTo>
                <a:lnTo>
                  <a:pt x="571" y="332"/>
                </a:lnTo>
                <a:lnTo>
                  <a:pt x="561" y="335"/>
                </a:lnTo>
                <a:close/>
                <a:moveTo>
                  <a:pt x="543" y="266"/>
                </a:moveTo>
                <a:lnTo>
                  <a:pt x="532" y="226"/>
                </a:lnTo>
                <a:lnTo>
                  <a:pt x="541" y="224"/>
                </a:lnTo>
                <a:lnTo>
                  <a:pt x="552" y="263"/>
                </a:lnTo>
                <a:lnTo>
                  <a:pt x="543" y="266"/>
                </a:lnTo>
                <a:close/>
                <a:moveTo>
                  <a:pt x="524" y="197"/>
                </a:moveTo>
                <a:lnTo>
                  <a:pt x="513" y="158"/>
                </a:lnTo>
                <a:lnTo>
                  <a:pt x="523" y="155"/>
                </a:lnTo>
                <a:lnTo>
                  <a:pt x="534" y="194"/>
                </a:lnTo>
                <a:lnTo>
                  <a:pt x="524" y="197"/>
                </a:lnTo>
                <a:close/>
                <a:moveTo>
                  <a:pt x="506" y="128"/>
                </a:moveTo>
                <a:lnTo>
                  <a:pt x="495" y="89"/>
                </a:lnTo>
                <a:lnTo>
                  <a:pt x="505" y="87"/>
                </a:lnTo>
                <a:lnTo>
                  <a:pt x="516" y="126"/>
                </a:lnTo>
                <a:lnTo>
                  <a:pt x="506" y="128"/>
                </a:lnTo>
                <a:close/>
                <a:moveTo>
                  <a:pt x="488" y="60"/>
                </a:moveTo>
                <a:lnTo>
                  <a:pt x="477" y="20"/>
                </a:lnTo>
                <a:lnTo>
                  <a:pt x="487" y="17"/>
                </a:lnTo>
                <a:lnTo>
                  <a:pt x="498" y="56"/>
                </a:lnTo>
                <a:lnTo>
                  <a:pt x="488" y="60"/>
                </a:lnTo>
                <a:close/>
                <a:moveTo>
                  <a:pt x="461" y="10"/>
                </a:moveTo>
                <a:lnTo>
                  <a:pt x="421" y="10"/>
                </a:lnTo>
                <a:lnTo>
                  <a:pt x="421" y="0"/>
                </a:lnTo>
                <a:lnTo>
                  <a:pt x="461" y="0"/>
                </a:lnTo>
                <a:lnTo>
                  <a:pt x="461" y="10"/>
                </a:lnTo>
                <a:close/>
                <a:moveTo>
                  <a:pt x="390" y="10"/>
                </a:moveTo>
                <a:lnTo>
                  <a:pt x="350" y="10"/>
                </a:lnTo>
                <a:lnTo>
                  <a:pt x="350" y="0"/>
                </a:lnTo>
                <a:lnTo>
                  <a:pt x="390" y="0"/>
                </a:lnTo>
                <a:lnTo>
                  <a:pt x="390" y="10"/>
                </a:lnTo>
                <a:close/>
                <a:moveTo>
                  <a:pt x="319" y="10"/>
                </a:moveTo>
                <a:lnTo>
                  <a:pt x="278" y="10"/>
                </a:lnTo>
                <a:lnTo>
                  <a:pt x="278" y="0"/>
                </a:lnTo>
                <a:lnTo>
                  <a:pt x="319" y="0"/>
                </a:lnTo>
                <a:lnTo>
                  <a:pt x="319" y="10"/>
                </a:lnTo>
                <a:close/>
                <a:moveTo>
                  <a:pt x="247" y="10"/>
                </a:moveTo>
                <a:lnTo>
                  <a:pt x="207" y="10"/>
                </a:lnTo>
                <a:lnTo>
                  <a:pt x="207" y="0"/>
                </a:lnTo>
                <a:lnTo>
                  <a:pt x="247" y="0"/>
                </a:lnTo>
                <a:lnTo>
                  <a:pt x="247" y="10"/>
                </a:lnTo>
                <a:close/>
                <a:moveTo>
                  <a:pt x="177" y="10"/>
                </a:moveTo>
                <a:lnTo>
                  <a:pt x="136" y="10"/>
                </a:lnTo>
                <a:lnTo>
                  <a:pt x="136" y="0"/>
                </a:lnTo>
                <a:lnTo>
                  <a:pt x="177" y="0"/>
                </a:lnTo>
                <a:lnTo>
                  <a:pt x="177" y="10"/>
                </a:lnTo>
                <a:close/>
                <a:moveTo>
                  <a:pt x="106" y="10"/>
                </a:moveTo>
                <a:lnTo>
                  <a:pt x="64" y="10"/>
                </a:lnTo>
                <a:lnTo>
                  <a:pt x="64" y="0"/>
                </a:lnTo>
                <a:lnTo>
                  <a:pt x="106" y="0"/>
                </a:lnTo>
                <a:lnTo>
                  <a:pt x="106" y="10"/>
                </a:lnTo>
                <a:close/>
                <a:moveTo>
                  <a:pt x="34" y="10"/>
                </a:moveTo>
                <a:lnTo>
                  <a:pt x="5" y="10"/>
                </a:lnTo>
                <a:lnTo>
                  <a:pt x="11" y="5"/>
                </a:lnTo>
                <a:lnTo>
                  <a:pt x="11" y="17"/>
                </a:lnTo>
                <a:lnTo>
                  <a:pt x="0" y="17"/>
                </a:lnTo>
                <a:lnTo>
                  <a:pt x="0" y="0"/>
                </a:lnTo>
                <a:lnTo>
                  <a:pt x="34" y="0"/>
                </a:lnTo>
                <a:lnTo>
                  <a:pt x="34" y="10"/>
                </a:lnTo>
                <a:close/>
                <a:moveTo>
                  <a:pt x="11" y="48"/>
                </a:moveTo>
                <a:lnTo>
                  <a:pt x="11" y="88"/>
                </a:lnTo>
                <a:lnTo>
                  <a:pt x="0" y="88"/>
                </a:lnTo>
                <a:lnTo>
                  <a:pt x="0" y="48"/>
                </a:lnTo>
                <a:lnTo>
                  <a:pt x="11" y="48"/>
                </a:lnTo>
                <a:close/>
                <a:moveTo>
                  <a:pt x="11" y="119"/>
                </a:moveTo>
                <a:lnTo>
                  <a:pt x="11" y="159"/>
                </a:lnTo>
                <a:lnTo>
                  <a:pt x="0" y="159"/>
                </a:lnTo>
                <a:lnTo>
                  <a:pt x="0" y="119"/>
                </a:lnTo>
                <a:lnTo>
                  <a:pt x="11" y="119"/>
                </a:lnTo>
                <a:close/>
                <a:moveTo>
                  <a:pt x="11" y="189"/>
                </a:moveTo>
                <a:lnTo>
                  <a:pt x="11" y="231"/>
                </a:lnTo>
                <a:lnTo>
                  <a:pt x="0" y="231"/>
                </a:lnTo>
                <a:lnTo>
                  <a:pt x="0" y="189"/>
                </a:lnTo>
                <a:lnTo>
                  <a:pt x="11" y="189"/>
                </a:lnTo>
                <a:close/>
                <a:moveTo>
                  <a:pt x="11" y="261"/>
                </a:moveTo>
                <a:lnTo>
                  <a:pt x="11" y="302"/>
                </a:lnTo>
                <a:lnTo>
                  <a:pt x="0" y="302"/>
                </a:lnTo>
                <a:lnTo>
                  <a:pt x="0" y="261"/>
                </a:lnTo>
                <a:lnTo>
                  <a:pt x="11" y="261"/>
                </a:lnTo>
                <a:close/>
                <a:moveTo>
                  <a:pt x="11" y="332"/>
                </a:moveTo>
                <a:lnTo>
                  <a:pt x="11" y="373"/>
                </a:lnTo>
                <a:lnTo>
                  <a:pt x="0" y="373"/>
                </a:lnTo>
                <a:lnTo>
                  <a:pt x="0" y="332"/>
                </a:lnTo>
                <a:lnTo>
                  <a:pt x="11" y="332"/>
                </a:lnTo>
                <a:close/>
                <a:moveTo>
                  <a:pt x="11" y="403"/>
                </a:moveTo>
                <a:lnTo>
                  <a:pt x="11" y="445"/>
                </a:lnTo>
                <a:lnTo>
                  <a:pt x="0" y="445"/>
                </a:lnTo>
                <a:lnTo>
                  <a:pt x="0" y="403"/>
                </a:lnTo>
                <a:lnTo>
                  <a:pt x="11" y="403"/>
                </a:lnTo>
                <a:close/>
                <a:moveTo>
                  <a:pt x="11" y="475"/>
                </a:moveTo>
                <a:lnTo>
                  <a:pt x="11" y="516"/>
                </a:lnTo>
                <a:lnTo>
                  <a:pt x="0" y="516"/>
                </a:lnTo>
                <a:lnTo>
                  <a:pt x="0" y="475"/>
                </a:lnTo>
                <a:lnTo>
                  <a:pt x="11" y="475"/>
                </a:lnTo>
                <a:close/>
                <a:moveTo>
                  <a:pt x="11" y="546"/>
                </a:moveTo>
                <a:lnTo>
                  <a:pt x="11" y="586"/>
                </a:lnTo>
                <a:lnTo>
                  <a:pt x="0" y="586"/>
                </a:lnTo>
                <a:lnTo>
                  <a:pt x="0" y="546"/>
                </a:lnTo>
                <a:lnTo>
                  <a:pt x="11" y="546"/>
                </a:lnTo>
                <a:close/>
                <a:moveTo>
                  <a:pt x="11" y="617"/>
                </a:moveTo>
                <a:lnTo>
                  <a:pt x="11" y="658"/>
                </a:lnTo>
                <a:lnTo>
                  <a:pt x="0" y="658"/>
                </a:lnTo>
                <a:lnTo>
                  <a:pt x="0" y="617"/>
                </a:lnTo>
                <a:lnTo>
                  <a:pt x="11" y="617"/>
                </a:lnTo>
                <a:close/>
                <a:moveTo>
                  <a:pt x="11" y="689"/>
                </a:moveTo>
                <a:lnTo>
                  <a:pt x="11" y="729"/>
                </a:lnTo>
                <a:lnTo>
                  <a:pt x="0" y="729"/>
                </a:lnTo>
                <a:lnTo>
                  <a:pt x="0" y="689"/>
                </a:lnTo>
                <a:lnTo>
                  <a:pt x="11" y="689"/>
                </a:lnTo>
                <a:close/>
                <a:moveTo>
                  <a:pt x="11" y="760"/>
                </a:moveTo>
                <a:lnTo>
                  <a:pt x="11" y="799"/>
                </a:lnTo>
                <a:lnTo>
                  <a:pt x="5" y="794"/>
                </a:lnTo>
                <a:lnTo>
                  <a:pt x="6" y="794"/>
                </a:lnTo>
                <a:lnTo>
                  <a:pt x="6" y="804"/>
                </a:lnTo>
                <a:lnTo>
                  <a:pt x="0" y="804"/>
                </a:lnTo>
                <a:lnTo>
                  <a:pt x="0" y="760"/>
                </a:lnTo>
                <a:lnTo>
                  <a:pt x="11" y="760"/>
                </a:lnTo>
                <a:close/>
                <a:moveTo>
                  <a:pt x="36" y="794"/>
                </a:moveTo>
                <a:lnTo>
                  <a:pt x="78" y="794"/>
                </a:lnTo>
                <a:lnTo>
                  <a:pt x="78" y="804"/>
                </a:lnTo>
                <a:lnTo>
                  <a:pt x="36" y="804"/>
                </a:lnTo>
                <a:lnTo>
                  <a:pt x="36" y="794"/>
                </a:lnTo>
                <a:close/>
                <a:moveTo>
                  <a:pt x="108" y="794"/>
                </a:moveTo>
                <a:lnTo>
                  <a:pt x="149" y="794"/>
                </a:lnTo>
                <a:lnTo>
                  <a:pt x="149" y="804"/>
                </a:lnTo>
                <a:lnTo>
                  <a:pt x="108" y="804"/>
                </a:lnTo>
                <a:lnTo>
                  <a:pt x="108" y="794"/>
                </a:lnTo>
                <a:close/>
                <a:moveTo>
                  <a:pt x="179" y="794"/>
                </a:moveTo>
                <a:lnTo>
                  <a:pt x="219" y="794"/>
                </a:lnTo>
                <a:lnTo>
                  <a:pt x="219" y="804"/>
                </a:lnTo>
                <a:lnTo>
                  <a:pt x="179" y="804"/>
                </a:lnTo>
                <a:lnTo>
                  <a:pt x="179" y="794"/>
                </a:lnTo>
                <a:close/>
                <a:moveTo>
                  <a:pt x="250" y="794"/>
                </a:moveTo>
                <a:lnTo>
                  <a:pt x="291" y="794"/>
                </a:lnTo>
                <a:lnTo>
                  <a:pt x="291" y="804"/>
                </a:lnTo>
                <a:lnTo>
                  <a:pt x="250" y="804"/>
                </a:lnTo>
                <a:lnTo>
                  <a:pt x="250" y="794"/>
                </a:lnTo>
                <a:close/>
                <a:moveTo>
                  <a:pt x="322" y="794"/>
                </a:moveTo>
                <a:lnTo>
                  <a:pt x="362" y="794"/>
                </a:lnTo>
                <a:lnTo>
                  <a:pt x="362" y="804"/>
                </a:lnTo>
                <a:lnTo>
                  <a:pt x="322" y="804"/>
                </a:lnTo>
                <a:lnTo>
                  <a:pt x="322" y="794"/>
                </a:lnTo>
                <a:close/>
                <a:moveTo>
                  <a:pt x="393" y="794"/>
                </a:moveTo>
                <a:lnTo>
                  <a:pt x="433" y="794"/>
                </a:lnTo>
                <a:lnTo>
                  <a:pt x="433" y="804"/>
                </a:lnTo>
                <a:lnTo>
                  <a:pt x="393" y="804"/>
                </a:lnTo>
                <a:lnTo>
                  <a:pt x="393" y="794"/>
                </a:lnTo>
                <a:close/>
                <a:moveTo>
                  <a:pt x="463" y="794"/>
                </a:moveTo>
                <a:lnTo>
                  <a:pt x="478" y="794"/>
                </a:lnTo>
                <a:lnTo>
                  <a:pt x="473" y="798"/>
                </a:lnTo>
                <a:lnTo>
                  <a:pt x="480" y="772"/>
                </a:lnTo>
                <a:lnTo>
                  <a:pt x="490" y="775"/>
                </a:lnTo>
                <a:lnTo>
                  <a:pt x="482" y="804"/>
                </a:lnTo>
                <a:lnTo>
                  <a:pt x="463" y="804"/>
                </a:lnTo>
                <a:lnTo>
                  <a:pt x="463" y="794"/>
                </a:lnTo>
                <a:close/>
                <a:moveTo>
                  <a:pt x="488" y="743"/>
                </a:moveTo>
                <a:lnTo>
                  <a:pt x="499" y="704"/>
                </a:lnTo>
                <a:lnTo>
                  <a:pt x="509" y="706"/>
                </a:lnTo>
                <a:lnTo>
                  <a:pt x="498" y="745"/>
                </a:lnTo>
                <a:lnTo>
                  <a:pt x="488" y="743"/>
                </a:lnTo>
                <a:close/>
                <a:moveTo>
                  <a:pt x="506" y="674"/>
                </a:moveTo>
                <a:lnTo>
                  <a:pt x="517" y="634"/>
                </a:lnTo>
                <a:lnTo>
                  <a:pt x="527" y="638"/>
                </a:lnTo>
                <a:lnTo>
                  <a:pt x="516" y="677"/>
                </a:lnTo>
                <a:lnTo>
                  <a:pt x="506" y="674"/>
                </a:lnTo>
                <a:close/>
                <a:moveTo>
                  <a:pt x="524" y="605"/>
                </a:moveTo>
                <a:lnTo>
                  <a:pt x="535" y="566"/>
                </a:lnTo>
                <a:lnTo>
                  <a:pt x="545" y="568"/>
                </a:lnTo>
                <a:lnTo>
                  <a:pt x="534" y="607"/>
                </a:lnTo>
                <a:lnTo>
                  <a:pt x="524" y="605"/>
                </a:lnTo>
                <a:close/>
                <a:moveTo>
                  <a:pt x="544" y="536"/>
                </a:moveTo>
                <a:lnTo>
                  <a:pt x="554" y="497"/>
                </a:lnTo>
                <a:lnTo>
                  <a:pt x="563" y="500"/>
                </a:lnTo>
                <a:lnTo>
                  <a:pt x="554" y="539"/>
                </a:lnTo>
                <a:lnTo>
                  <a:pt x="544" y="536"/>
                </a:lnTo>
                <a:close/>
                <a:moveTo>
                  <a:pt x="562" y="468"/>
                </a:moveTo>
                <a:lnTo>
                  <a:pt x="572" y="428"/>
                </a:lnTo>
                <a:lnTo>
                  <a:pt x="582" y="431"/>
                </a:lnTo>
                <a:lnTo>
                  <a:pt x="572" y="470"/>
                </a:lnTo>
                <a:lnTo>
                  <a:pt x="562" y="468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902520" y="3267000"/>
            <a:ext cx="590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Collecte 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83360" y="3570120"/>
            <a:ext cx="782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des contrats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768320" y="2557440"/>
            <a:ext cx="2708280" cy="920880"/>
          </a:xfrm>
          <a:custGeom>
            <a:avLst/>
            <a:gdLst/>
            <a:ahLst/>
            <a:rect l="l" t="t" r="r" b="b"/>
            <a:pathLst>
              <a:path w="1496" h="369">
                <a:moveTo>
                  <a:pt x="1411" y="0"/>
                </a:moveTo>
                <a:lnTo>
                  <a:pt x="0" y="0"/>
                </a:lnTo>
                <a:lnTo>
                  <a:pt x="0" y="369"/>
                </a:lnTo>
                <a:lnTo>
                  <a:pt x="1411" y="369"/>
                </a:lnTo>
                <a:lnTo>
                  <a:pt x="1496" y="184"/>
                </a:lnTo>
                <a:lnTo>
                  <a:pt x="141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768320" y="2557440"/>
            <a:ext cx="2708280" cy="920880"/>
          </a:xfrm>
          <a:custGeom>
            <a:avLst/>
            <a:gdLst/>
            <a:ahLst/>
            <a:rect l="l" t="t" r="r" b="b"/>
            <a:pathLst>
              <a:path w="1496" h="369">
                <a:moveTo>
                  <a:pt x="1411" y="0"/>
                </a:moveTo>
                <a:lnTo>
                  <a:pt x="0" y="0"/>
                </a:lnTo>
                <a:lnTo>
                  <a:pt x="0" y="369"/>
                </a:lnTo>
                <a:lnTo>
                  <a:pt x="1411" y="369"/>
                </a:lnTo>
                <a:lnTo>
                  <a:pt x="1496" y="184"/>
                </a:lnTo>
                <a:lnTo>
                  <a:pt x="1411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407320" y="2887560"/>
            <a:ext cx="1609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Analyse de performance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768320" y="3618000"/>
            <a:ext cx="2708280" cy="920520"/>
          </a:xfrm>
          <a:custGeom>
            <a:avLst/>
            <a:gdLst/>
            <a:ahLst/>
            <a:rect l="l" t="t" r="r" b="b"/>
            <a:pathLst>
              <a:path w="1496" h="369">
                <a:moveTo>
                  <a:pt x="1418" y="0"/>
                </a:moveTo>
                <a:lnTo>
                  <a:pt x="0" y="0"/>
                </a:lnTo>
                <a:lnTo>
                  <a:pt x="0" y="369"/>
                </a:lnTo>
                <a:lnTo>
                  <a:pt x="1418" y="369"/>
                </a:lnTo>
                <a:lnTo>
                  <a:pt x="1496" y="185"/>
                </a:lnTo>
                <a:lnTo>
                  <a:pt x="141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768320" y="3618000"/>
            <a:ext cx="2708280" cy="920520"/>
          </a:xfrm>
          <a:custGeom>
            <a:avLst/>
            <a:gdLst/>
            <a:ahLst/>
            <a:rect l="l" t="t" r="r" b="b"/>
            <a:pathLst>
              <a:path w="1496" h="369">
                <a:moveTo>
                  <a:pt x="1418" y="0"/>
                </a:moveTo>
                <a:lnTo>
                  <a:pt x="0" y="0"/>
                </a:lnTo>
                <a:lnTo>
                  <a:pt x="0" y="369"/>
                </a:lnTo>
                <a:lnTo>
                  <a:pt x="1418" y="369"/>
                </a:lnTo>
                <a:lnTo>
                  <a:pt x="1496" y="185"/>
                </a:lnTo>
                <a:lnTo>
                  <a:pt x="1418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723400" y="3948120"/>
            <a:ext cx="969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Benchmarking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429240" y="2557440"/>
            <a:ext cx="2157480" cy="1981080"/>
          </a:xfrm>
          <a:custGeom>
            <a:avLst/>
            <a:gdLst/>
            <a:ahLst/>
            <a:rect l="l" t="t" r="r" b="b"/>
            <a:pathLst>
              <a:path w="1192" h="794">
                <a:moveTo>
                  <a:pt x="1020" y="0"/>
                </a:moveTo>
                <a:lnTo>
                  <a:pt x="0" y="0"/>
                </a:lnTo>
                <a:lnTo>
                  <a:pt x="172" y="397"/>
                </a:lnTo>
                <a:lnTo>
                  <a:pt x="0" y="794"/>
                </a:lnTo>
                <a:lnTo>
                  <a:pt x="1020" y="794"/>
                </a:lnTo>
                <a:lnTo>
                  <a:pt x="1192" y="397"/>
                </a:lnTo>
                <a:lnTo>
                  <a:pt x="102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429240" y="2557440"/>
            <a:ext cx="2157480" cy="1981080"/>
          </a:xfrm>
          <a:custGeom>
            <a:avLst/>
            <a:gdLst/>
            <a:ahLst/>
            <a:rect l="l" t="t" r="r" b="b"/>
            <a:pathLst>
              <a:path w="1192" h="794">
                <a:moveTo>
                  <a:pt x="1020" y="0"/>
                </a:moveTo>
                <a:lnTo>
                  <a:pt x="0" y="0"/>
                </a:lnTo>
                <a:lnTo>
                  <a:pt x="172" y="397"/>
                </a:lnTo>
                <a:lnTo>
                  <a:pt x="0" y="794"/>
                </a:lnTo>
                <a:lnTo>
                  <a:pt x="1020" y="794"/>
                </a:lnTo>
                <a:lnTo>
                  <a:pt x="1192" y="397"/>
                </a:lnTo>
                <a:lnTo>
                  <a:pt x="1020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465320" y="3267000"/>
            <a:ext cx="334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Plan 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039080" y="3570120"/>
            <a:ext cx="1171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d’implémentation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473720" y="2557440"/>
            <a:ext cx="2158920" cy="1981080"/>
          </a:xfrm>
          <a:custGeom>
            <a:avLst/>
            <a:gdLst/>
            <a:ahLst/>
            <a:rect l="l" t="t" r="r" b="b"/>
            <a:pathLst>
              <a:path w="1192" h="794">
                <a:moveTo>
                  <a:pt x="1020" y="0"/>
                </a:moveTo>
                <a:lnTo>
                  <a:pt x="0" y="0"/>
                </a:lnTo>
                <a:lnTo>
                  <a:pt x="172" y="397"/>
                </a:lnTo>
                <a:lnTo>
                  <a:pt x="0" y="794"/>
                </a:lnTo>
                <a:lnTo>
                  <a:pt x="1020" y="794"/>
                </a:lnTo>
                <a:lnTo>
                  <a:pt x="1192" y="397"/>
                </a:lnTo>
                <a:lnTo>
                  <a:pt x="102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473720" y="2557440"/>
            <a:ext cx="2158920" cy="1981080"/>
          </a:xfrm>
          <a:custGeom>
            <a:avLst/>
            <a:gdLst/>
            <a:ahLst/>
            <a:rect l="l" t="t" r="r" b="b"/>
            <a:pathLst>
              <a:path w="1192" h="794">
                <a:moveTo>
                  <a:pt x="1020" y="0"/>
                </a:moveTo>
                <a:lnTo>
                  <a:pt x="0" y="0"/>
                </a:lnTo>
                <a:lnTo>
                  <a:pt x="172" y="397"/>
                </a:lnTo>
                <a:lnTo>
                  <a:pt x="0" y="794"/>
                </a:lnTo>
                <a:lnTo>
                  <a:pt x="1020" y="794"/>
                </a:lnTo>
                <a:lnTo>
                  <a:pt x="1192" y="397"/>
                </a:lnTo>
                <a:lnTo>
                  <a:pt x="1020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306760" y="3114720"/>
            <a:ext cx="1221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Elaboration           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115960" y="3417840"/>
            <a:ext cx="1098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d’une gamme de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210280" y="3722760"/>
            <a:ext cx="901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produits cible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47640" y="2557440"/>
            <a:ext cx="1047960" cy="1981080"/>
          </a:xfrm>
          <a:custGeom>
            <a:avLst/>
            <a:gdLst/>
            <a:ahLst/>
            <a:rect l="l" t="t" r="r" b="b"/>
            <a:pathLst>
              <a:path w="579" h="794">
                <a:moveTo>
                  <a:pt x="473" y="0"/>
                </a:moveTo>
                <a:lnTo>
                  <a:pt x="0" y="0"/>
                </a:lnTo>
                <a:lnTo>
                  <a:pt x="0" y="794"/>
                </a:lnTo>
                <a:lnTo>
                  <a:pt x="473" y="794"/>
                </a:lnTo>
                <a:lnTo>
                  <a:pt x="579" y="397"/>
                </a:lnTo>
                <a:lnTo>
                  <a:pt x="47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38280" y="2544840"/>
            <a:ext cx="1066680" cy="2006640"/>
          </a:xfrm>
          <a:custGeom>
            <a:avLst/>
            <a:gdLst/>
            <a:ahLst/>
            <a:rect l="l" t="t" r="r" b="b"/>
            <a:pathLst>
              <a:path w="589" h="804">
                <a:moveTo>
                  <a:pt x="579" y="403"/>
                </a:moveTo>
                <a:lnTo>
                  <a:pt x="570" y="364"/>
                </a:lnTo>
                <a:lnTo>
                  <a:pt x="579" y="362"/>
                </a:lnTo>
                <a:lnTo>
                  <a:pt x="589" y="401"/>
                </a:lnTo>
                <a:lnTo>
                  <a:pt x="579" y="403"/>
                </a:lnTo>
                <a:close/>
                <a:moveTo>
                  <a:pt x="561" y="335"/>
                </a:moveTo>
                <a:lnTo>
                  <a:pt x="551" y="296"/>
                </a:lnTo>
                <a:lnTo>
                  <a:pt x="561" y="293"/>
                </a:lnTo>
                <a:lnTo>
                  <a:pt x="571" y="332"/>
                </a:lnTo>
                <a:lnTo>
                  <a:pt x="561" y="335"/>
                </a:lnTo>
                <a:close/>
                <a:moveTo>
                  <a:pt x="543" y="266"/>
                </a:moveTo>
                <a:lnTo>
                  <a:pt x="532" y="226"/>
                </a:lnTo>
                <a:lnTo>
                  <a:pt x="541" y="224"/>
                </a:lnTo>
                <a:lnTo>
                  <a:pt x="552" y="263"/>
                </a:lnTo>
                <a:lnTo>
                  <a:pt x="543" y="266"/>
                </a:lnTo>
                <a:close/>
                <a:moveTo>
                  <a:pt x="524" y="197"/>
                </a:moveTo>
                <a:lnTo>
                  <a:pt x="513" y="158"/>
                </a:lnTo>
                <a:lnTo>
                  <a:pt x="523" y="155"/>
                </a:lnTo>
                <a:lnTo>
                  <a:pt x="534" y="194"/>
                </a:lnTo>
                <a:lnTo>
                  <a:pt x="524" y="197"/>
                </a:lnTo>
                <a:close/>
                <a:moveTo>
                  <a:pt x="506" y="128"/>
                </a:moveTo>
                <a:lnTo>
                  <a:pt x="495" y="89"/>
                </a:lnTo>
                <a:lnTo>
                  <a:pt x="505" y="87"/>
                </a:lnTo>
                <a:lnTo>
                  <a:pt x="516" y="126"/>
                </a:lnTo>
                <a:lnTo>
                  <a:pt x="506" y="128"/>
                </a:lnTo>
                <a:close/>
                <a:moveTo>
                  <a:pt x="488" y="60"/>
                </a:moveTo>
                <a:lnTo>
                  <a:pt x="477" y="20"/>
                </a:lnTo>
                <a:lnTo>
                  <a:pt x="487" y="17"/>
                </a:lnTo>
                <a:lnTo>
                  <a:pt x="498" y="56"/>
                </a:lnTo>
                <a:lnTo>
                  <a:pt x="488" y="60"/>
                </a:lnTo>
                <a:close/>
                <a:moveTo>
                  <a:pt x="461" y="10"/>
                </a:moveTo>
                <a:lnTo>
                  <a:pt x="421" y="10"/>
                </a:lnTo>
                <a:lnTo>
                  <a:pt x="421" y="0"/>
                </a:lnTo>
                <a:lnTo>
                  <a:pt x="461" y="0"/>
                </a:lnTo>
                <a:lnTo>
                  <a:pt x="461" y="10"/>
                </a:lnTo>
                <a:close/>
                <a:moveTo>
                  <a:pt x="390" y="10"/>
                </a:moveTo>
                <a:lnTo>
                  <a:pt x="350" y="10"/>
                </a:lnTo>
                <a:lnTo>
                  <a:pt x="350" y="0"/>
                </a:lnTo>
                <a:lnTo>
                  <a:pt x="390" y="0"/>
                </a:lnTo>
                <a:lnTo>
                  <a:pt x="390" y="10"/>
                </a:lnTo>
                <a:close/>
                <a:moveTo>
                  <a:pt x="319" y="10"/>
                </a:moveTo>
                <a:lnTo>
                  <a:pt x="278" y="10"/>
                </a:lnTo>
                <a:lnTo>
                  <a:pt x="278" y="0"/>
                </a:lnTo>
                <a:lnTo>
                  <a:pt x="319" y="0"/>
                </a:lnTo>
                <a:lnTo>
                  <a:pt x="319" y="10"/>
                </a:lnTo>
                <a:close/>
                <a:moveTo>
                  <a:pt x="247" y="10"/>
                </a:moveTo>
                <a:lnTo>
                  <a:pt x="207" y="10"/>
                </a:lnTo>
                <a:lnTo>
                  <a:pt x="207" y="0"/>
                </a:lnTo>
                <a:lnTo>
                  <a:pt x="247" y="0"/>
                </a:lnTo>
                <a:lnTo>
                  <a:pt x="247" y="10"/>
                </a:lnTo>
                <a:close/>
                <a:moveTo>
                  <a:pt x="177" y="10"/>
                </a:moveTo>
                <a:lnTo>
                  <a:pt x="136" y="10"/>
                </a:lnTo>
                <a:lnTo>
                  <a:pt x="136" y="0"/>
                </a:lnTo>
                <a:lnTo>
                  <a:pt x="177" y="0"/>
                </a:lnTo>
                <a:lnTo>
                  <a:pt x="177" y="10"/>
                </a:lnTo>
                <a:close/>
                <a:moveTo>
                  <a:pt x="106" y="10"/>
                </a:moveTo>
                <a:lnTo>
                  <a:pt x="64" y="10"/>
                </a:lnTo>
                <a:lnTo>
                  <a:pt x="64" y="0"/>
                </a:lnTo>
                <a:lnTo>
                  <a:pt x="106" y="0"/>
                </a:lnTo>
                <a:lnTo>
                  <a:pt x="106" y="10"/>
                </a:lnTo>
                <a:close/>
                <a:moveTo>
                  <a:pt x="34" y="10"/>
                </a:moveTo>
                <a:lnTo>
                  <a:pt x="5" y="10"/>
                </a:lnTo>
                <a:lnTo>
                  <a:pt x="11" y="5"/>
                </a:lnTo>
                <a:lnTo>
                  <a:pt x="11" y="17"/>
                </a:lnTo>
                <a:lnTo>
                  <a:pt x="0" y="17"/>
                </a:lnTo>
                <a:lnTo>
                  <a:pt x="0" y="0"/>
                </a:lnTo>
                <a:lnTo>
                  <a:pt x="34" y="0"/>
                </a:lnTo>
                <a:lnTo>
                  <a:pt x="34" y="10"/>
                </a:lnTo>
                <a:close/>
                <a:moveTo>
                  <a:pt x="11" y="48"/>
                </a:moveTo>
                <a:lnTo>
                  <a:pt x="11" y="88"/>
                </a:lnTo>
                <a:lnTo>
                  <a:pt x="0" y="88"/>
                </a:lnTo>
                <a:lnTo>
                  <a:pt x="0" y="48"/>
                </a:lnTo>
                <a:lnTo>
                  <a:pt x="11" y="48"/>
                </a:lnTo>
                <a:close/>
                <a:moveTo>
                  <a:pt x="11" y="119"/>
                </a:moveTo>
                <a:lnTo>
                  <a:pt x="11" y="159"/>
                </a:lnTo>
                <a:lnTo>
                  <a:pt x="0" y="159"/>
                </a:lnTo>
                <a:lnTo>
                  <a:pt x="0" y="119"/>
                </a:lnTo>
                <a:lnTo>
                  <a:pt x="11" y="119"/>
                </a:lnTo>
                <a:close/>
                <a:moveTo>
                  <a:pt x="11" y="189"/>
                </a:moveTo>
                <a:lnTo>
                  <a:pt x="11" y="231"/>
                </a:lnTo>
                <a:lnTo>
                  <a:pt x="0" y="231"/>
                </a:lnTo>
                <a:lnTo>
                  <a:pt x="0" y="189"/>
                </a:lnTo>
                <a:lnTo>
                  <a:pt x="11" y="189"/>
                </a:lnTo>
                <a:close/>
                <a:moveTo>
                  <a:pt x="11" y="261"/>
                </a:moveTo>
                <a:lnTo>
                  <a:pt x="11" y="302"/>
                </a:lnTo>
                <a:lnTo>
                  <a:pt x="0" y="302"/>
                </a:lnTo>
                <a:lnTo>
                  <a:pt x="0" y="261"/>
                </a:lnTo>
                <a:lnTo>
                  <a:pt x="11" y="261"/>
                </a:lnTo>
                <a:close/>
                <a:moveTo>
                  <a:pt x="11" y="332"/>
                </a:moveTo>
                <a:lnTo>
                  <a:pt x="11" y="373"/>
                </a:lnTo>
                <a:lnTo>
                  <a:pt x="0" y="373"/>
                </a:lnTo>
                <a:lnTo>
                  <a:pt x="0" y="332"/>
                </a:lnTo>
                <a:lnTo>
                  <a:pt x="11" y="332"/>
                </a:lnTo>
                <a:close/>
                <a:moveTo>
                  <a:pt x="11" y="403"/>
                </a:moveTo>
                <a:lnTo>
                  <a:pt x="11" y="445"/>
                </a:lnTo>
                <a:lnTo>
                  <a:pt x="0" y="445"/>
                </a:lnTo>
                <a:lnTo>
                  <a:pt x="0" y="403"/>
                </a:lnTo>
                <a:lnTo>
                  <a:pt x="11" y="403"/>
                </a:lnTo>
                <a:close/>
                <a:moveTo>
                  <a:pt x="11" y="475"/>
                </a:moveTo>
                <a:lnTo>
                  <a:pt x="11" y="516"/>
                </a:lnTo>
                <a:lnTo>
                  <a:pt x="0" y="516"/>
                </a:lnTo>
                <a:lnTo>
                  <a:pt x="0" y="475"/>
                </a:lnTo>
                <a:lnTo>
                  <a:pt x="11" y="475"/>
                </a:lnTo>
                <a:close/>
                <a:moveTo>
                  <a:pt x="11" y="546"/>
                </a:moveTo>
                <a:lnTo>
                  <a:pt x="11" y="586"/>
                </a:lnTo>
                <a:lnTo>
                  <a:pt x="0" y="586"/>
                </a:lnTo>
                <a:lnTo>
                  <a:pt x="0" y="546"/>
                </a:lnTo>
                <a:lnTo>
                  <a:pt x="11" y="546"/>
                </a:lnTo>
                <a:close/>
                <a:moveTo>
                  <a:pt x="11" y="617"/>
                </a:moveTo>
                <a:lnTo>
                  <a:pt x="11" y="658"/>
                </a:lnTo>
                <a:lnTo>
                  <a:pt x="0" y="658"/>
                </a:lnTo>
                <a:lnTo>
                  <a:pt x="0" y="617"/>
                </a:lnTo>
                <a:lnTo>
                  <a:pt x="11" y="617"/>
                </a:lnTo>
                <a:close/>
                <a:moveTo>
                  <a:pt x="11" y="689"/>
                </a:moveTo>
                <a:lnTo>
                  <a:pt x="11" y="729"/>
                </a:lnTo>
                <a:lnTo>
                  <a:pt x="0" y="729"/>
                </a:lnTo>
                <a:lnTo>
                  <a:pt x="0" y="689"/>
                </a:lnTo>
                <a:lnTo>
                  <a:pt x="11" y="689"/>
                </a:lnTo>
                <a:close/>
                <a:moveTo>
                  <a:pt x="11" y="760"/>
                </a:moveTo>
                <a:lnTo>
                  <a:pt x="11" y="799"/>
                </a:lnTo>
                <a:lnTo>
                  <a:pt x="5" y="794"/>
                </a:lnTo>
                <a:lnTo>
                  <a:pt x="6" y="794"/>
                </a:lnTo>
                <a:lnTo>
                  <a:pt x="6" y="804"/>
                </a:lnTo>
                <a:lnTo>
                  <a:pt x="0" y="804"/>
                </a:lnTo>
                <a:lnTo>
                  <a:pt x="0" y="760"/>
                </a:lnTo>
                <a:lnTo>
                  <a:pt x="11" y="760"/>
                </a:lnTo>
                <a:close/>
                <a:moveTo>
                  <a:pt x="36" y="794"/>
                </a:moveTo>
                <a:lnTo>
                  <a:pt x="78" y="794"/>
                </a:lnTo>
                <a:lnTo>
                  <a:pt x="78" y="804"/>
                </a:lnTo>
                <a:lnTo>
                  <a:pt x="36" y="804"/>
                </a:lnTo>
                <a:lnTo>
                  <a:pt x="36" y="794"/>
                </a:lnTo>
                <a:close/>
                <a:moveTo>
                  <a:pt x="108" y="794"/>
                </a:moveTo>
                <a:lnTo>
                  <a:pt x="149" y="794"/>
                </a:lnTo>
                <a:lnTo>
                  <a:pt x="149" y="804"/>
                </a:lnTo>
                <a:lnTo>
                  <a:pt x="108" y="804"/>
                </a:lnTo>
                <a:lnTo>
                  <a:pt x="108" y="794"/>
                </a:lnTo>
                <a:close/>
                <a:moveTo>
                  <a:pt x="179" y="794"/>
                </a:moveTo>
                <a:lnTo>
                  <a:pt x="219" y="794"/>
                </a:lnTo>
                <a:lnTo>
                  <a:pt x="219" y="804"/>
                </a:lnTo>
                <a:lnTo>
                  <a:pt x="179" y="804"/>
                </a:lnTo>
                <a:lnTo>
                  <a:pt x="179" y="794"/>
                </a:lnTo>
                <a:close/>
                <a:moveTo>
                  <a:pt x="250" y="794"/>
                </a:moveTo>
                <a:lnTo>
                  <a:pt x="291" y="794"/>
                </a:lnTo>
                <a:lnTo>
                  <a:pt x="291" y="804"/>
                </a:lnTo>
                <a:lnTo>
                  <a:pt x="250" y="804"/>
                </a:lnTo>
                <a:lnTo>
                  <a:pt x="250" y="794"/>
                </a:lnTo>
                <a:close/>
                <a:moveTo>
                  <a:pt x="322" y="794"/>
                </a:moveTo>
                <a:lnTo>
                  <a:pt x="362" y="794"/>
                </a:lnTo>
                <a:lnTo>
                  <a:pt x="362" y="804"/>
                </a:lnTo>
                <a:lnTo>
                  <a:pt x="322" y="804"/>
                </a:lnTo>
                <a:lnTo>
                  <a:pt x="322" y="794"/>
                </a:lnTo>
                <a:close/>
                <a:moveTo>
                  <a:pt x="393" y="794"/>
                </a:moveTo>
                <a:lnTo>
                  <a:pt x="433" y="794"/>
                </a:lnTo>
                <a:lnTo>
                  <a:pt x="433" y="804"/>
                </a:lnTo>
                <a:lnTo>
                  <a:pt x="393" y="804"/>
                </a:lnTo>
                <a:lnTo>
                  <a:pt x="393" y="794"/>
                </a:lnTo>
                <a:close/>
                <a:moveTo>
                  <a:pt x="463" y="794"/>
                </a:moveTo>
                <a:lnTo>
                  <a:pt x="478" y="794"/>
                </a:lnTo>
                <a:lnTo>
                  <a:pt x="473" y="798"/>
                </a:lnTo>
                <a:lnTo>
                  <a:pt x="480" y="772"/>
                </a:lnTo>
                <a:lnTo>
                  <a:pt x="490" y="775"/>
                </a:lnTo>
                <a:lnTo>
                  <a:pt x="482" y="804"/>
                </a:lnTo>
                <a:lnTo>
                  <a:pt x="463" y="804"/>
                </a:lnTo>
                <a:lnTo>
                  <a:pt x="463" y="794"/>
                </a:lnTo>
                <a:close/>
                <a:moveTo>
                  <a:pt x="488" y="743"/>
                </a:moveTo>
                <a:lnTo>
                  <a:pt x="499" y="704"/>
                </a:lnTo>
                <a:lnTo>
                  <a:pt x="509" y="706"/>
                </a:lnTo>
                <a:lnTo>
                  <a:pt x="498" y="745"/>
                </a:lnTo>
                <a:lnTo>
                  <a:pt x="488" y="743"/>
                </a:lnTo>
                <a:close/>
                <a:moveTo>
                  <a:pt x="506" y="674"/>
                </a:moveTo>
                <a:lnTo>
                  <a:pt x="517" y="634"/>
                </a:lnTo>
                <a:lnTo>
                  <a:pt x="527" y="638"/>
                </a:lnTo>
                <a:lnTo>
                  <a:pt x="516" y="677"/>
                </a:lnTo>
                <a:lnTo>
                  <a:pt x="506" y="674"/>
                </a:lnTo>
                <a:close/>
                <a:moveTo>
                  <a:pt x="524" y="605"/>
                </a:moveTo>
                <a:lnTo>
                  <a:pt x="535" y="566"/>
                </a:lnTo>
                <a:lnTo>
                  <a:pt x="545" y="568"/>
                </a:lnTo>
                <a:lnTo>
                  <a:pt x="534" y="607"/>
                </a:lnTo>
                <a:lnTo>
                  <a:pt x="524" y="605"/>
                </a:lnTo>
                <a:close/>
                <a:moveTo>
                  <a:pt x="544" y="536"/>
                </a:moveTo>
                <a:lnTo>
                  <a:pt x="554" y="497"/>
                </a:lnTo>
                <a:lnTo>
                  <a:pt x="563" y="500"/>
                </a:lnTo>
                <a:lnTo>
                  <a:pt x="554" y="539"/>
                </a:lnTo>
                <a:lnTo>
                  <a:pt x="544" y="536"/>
                </a:lnTo>
                <a:close/>
                <a:moveTo>
                  <a:pt x="562" y="468"/>
                </a:moveTo>
                <a:lnTo>
                  <a:pt x="572" y="428"/>
                </a:lnTo>
                <a:lnTo>
                  <a:pt x="582" y="431"/>
                </a:lnTo>
                <a:lnTo>
                  <a:pt x="572" y="470"/>
                </a:lnTo>
                <a:lnTo>
                  <a:pt x="562" y="468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902520" y="3267000"/>
            <a:ext cx="590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Collecte 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83360" y="3570120"/>
            <a:ext cx="782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des contrats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768320" y="2557440"/>
            <a:ext cx="2708280" cy="920880"/>
          </a:xfrm>
          <a:custGeom>
            <a:avLst/>
            <a:gdLst/>
            <a:ahLst/>
            <a:rect l="l" t="t" r="r" b="b"/>
            <a:pathLst>
              <a:path w="1496" h="369">
                <a:moveTo>
                  <a:pt x="1411" y="0"/>
                </a:moveTo>
                <a:lnTo>
                  <a:pt x="0" y="0"/>
                </a:lnTo>
                <a:lnTo>
                  <a:pt x="0" y="369"/>
                </a:lnTo>
                <a:lnTo>
                  <a:pt x="1411" y="369"/>
                </a:lnTo>
                <a:lnTo>
                  <a:pt x="1496" y="184"/>
                </a:lnTo>
                <a:lnTo>
                  <a:pt x="141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768320" y="2557440"/>
            <a:ext cx="2708280" cy="920880"/>
          </a:xfrm>
          <a:custGeom>
            <a:avLst/>
            <a:gdLst/>
            <a:ahLst/>
            <a:rect l="l" t="t" r="r" b="b"/>
            <a:pathLst>
              <a:path w="1496" h="369">
                <a:moveTo>
                  <a:pt x="1411" y="0"/>
                </a:moveTo>
                <a:lnTo>
                  <a:pt x="0" y="0"/>
                </a:lnTo>
                <a:lnTo>
                  <a:pt x="0" y="369"/>
                </a:lnTo>
                <a:lnTo>
                  <a:pt x="1411" y="369"/>
                </a:lnTo>
                <a:lnTo>
                  <a:pt x="1496" y="184"/>
                </a:lnTo>
                <a:lnTo>
                  <a:pt x="1411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407320" y="2887560"/>
            <a:ext cx="1609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Analyse de performance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768320" y="3618000"/>
            <a:ext cx="2708280" cy="920520"/>
          </a:xfrm>
          <a:custGeom>
            <a:avLst/>
            <a:gdLst/>
            <a:ahLst/>
            <a:rect l="l" t="t" r="r" b="b"/>
            <a:pathLst>
              <a:path w="1496" h="369">
                <a:moveTo>
                  <a:pt x="1418" y="0"/>
                </a:moveTo>
                <a:lnTo>
                  <a:pt x="0" y="0"/>
                </a:lnTo>
                <a:lnTo>
                  <a:pt x="0" y="369"/>
                </a:lnTo>
                <a:lnTo>
                  <a:pt x="1418" y="369"/>
                </a:lnTo>
                <a:lnTo>
                  <a:pt x="1496" y="185"/>
                </a:lnTo>
                <a:lnTo>
                  <a:pt x="141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768320" y="3618000"/>
            <a:ext cx="2708280" cy="920520"/>
          </a:xfrm>
          <a:custGeom>
            <a:avLst/>
            <a:gdLst/>
            <a:ahLst/>
            <a:rect l="l" t="t" r="r" b="b"/>
            <a:pathLst>
              <a:path w="1496" h="369">
                <a:moveTo>
                  <a:pt x="1418" y="0"/>
                </a:moveTo>
                <a:lnTo>
                  <a:pt x="0" y="0"/>
                </a:lnTo>
                <a:lnTo>
                  <a:pt x="0" y="369"/>
                </a:lnTo>
                <a:lnTo>
                  <a:pt x="1418" y="369"/>
                </a:lnTo>
                <a:lnTo>
                  <a:pt x="1496" y="185"/>
                </a:lnTo>
                <a:lnTo>
                  <a:pt x="1418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723400" y="3948120"/>
            <a:ext cx="969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Benchmarking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429240" y="2557440"/>
            <a:ext cx="2157480" cy="1981080"/>
          </a:xfrm>
          <a:custGeom>
            <a:avLst/>
            <a:gdLst/>
            <a:ahLst/>
            <a:rect l="l" t="t" r="r" b="b"/>
            <a:pathLst>
              <a:path w="1192" h="794">
                <a:moveTo>
                  <a:pt x="1020" y="0"/>
                </a:moveTo>
                <a:lnTo>
                  <a:pt x="0" y="0"/>
                </a:lnTo>
                <a:lnTo>
                  <a:pt x="172" y="397"/>
                </a:lnTo>
                <a:lnTo>
                  <a:pt x="0" y="794"/>
                </a:lnTo>
                <a:lnTo>
                  <a:pt x="1020" y="794"/>
                </a:lnTo>
                <a:lnTo>
                  <a:pt x="1192" y="397"/>
                </a:lnTo>
                <a:lnTo>
                  <a:pt x="102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429240" y="2557440"/>
            <a:ext cx="2157480" cy="1981080"/>
          </a:xfrm>
          <a:custGeom>
            <a:avLst/>
            <a:gdLst/>
            <a:ahLst/>
            <a:rect l="l" t="t" r="r" b="b"/>
            <a:pathLst>
              <a:path w="1192" h="794">
                <a:moveTo>
                  <a:pt x="1020" y="0"/>
                </a:moveTo>
                <a:lnTo>
                  <a:pt x="0" y="0"/>
                </a:lnTo>
                <a:lnTo>
                  <a:pt x="172" y="397"/>
                </a:lnTo>
                <a:lnTo>
                  <a:pt x="0" y="794"/>
                </a:lnTo>
                <a:lnTo>
                  <a:pt x="1020" y="794"/>
                </a:lnTo>
                <a:lnTo>
                  <a:pt x="1192" y="397"/>
                </a:lnTo>
                <a:lnTo>
                  <a:pt x="1020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465320" y="3267000"/>
            <a:ext cx="334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Plan 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039080" y="3570120"/>
            <a:ext cx="1171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d’implémentation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473720" y="2557440"/>
            <a:ext cx="2158920" cy="1981080"/>
          </a:xfrm>
          <a:custGeom>
            <a:avLst/>
            <a:gdLst/>
            <a:ahLst/>
            <a:rect l="l" t="t" r="r" b="b"/>
            <a:pathLst>
              <a:path w="1192" h="794">
                <a:moveTo>
                  <a:pt x="1020" y="0"/>
                </a:moveTo>
                <a:lnTo>
                  <a:pt x="0" y="0"/>
                </a:lnTo>
                <a:lnTo>
                  <a:pt x="172" y="397"/>
                </a:lnTo>
                <a:lnTo>
                  <a:pt x="0" y="794"/>
                </a:lnTo>
                <a:lnTo>
                  <a:pt x="1020" y="794"/>
                </a:lnTo>
                <a:lnTo>
                  <a:pt x="1192" y="397"/>
                </a:lnTo>
                <a:lnTo>
                  <a:pt x="102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473720" y="2557440"/>
            <a:ext cx="2158920" cy="1981080"/>
          </a:xfrm>
          <a:custGeom>
            <a:avLst/>
            <a:gdLst/>
            <a:ahLst/>
            <a:rect l="l" t="t" r="r" b="b"/>
            <a:pathLst>
              <a:path w="1192" h="794">
                <a:moveTo>
                  <a:pt x="1020" y="0"/>
                </a:moveTo>
                <a:lnTo>
                  <a:pt x="0" y="0"/>
                </a:lnTo>
                <a:lnTo>
                  <a:pt x="172" y="397"/>
                </a:lnTo>
                <a:lnTo>
                  <a:pt x="0" y="794"/>
                </a:lnTo>
                <a:lnTo>
                  <a:pt x="1020" y="794"/>
                </a:lnTo>
                <a:lnTo>
                  <a:pt x="1192" y="397"/>
                </a:lnTo>
                <a:lnTo>
                  <a:pt x="1020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136480" y="3092400"/>
            <a:ext cx="117252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efine a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revised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product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offering          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665680" y="3417840"/>
            <a:ext cx="18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661000" y="3722760"/>
            <a:ext cx="32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47640" y="2557440"/>
            <a:ext cx="1047960" cy="1981080"/>
          </a:xfrm>
          <a:custGeom>
            <a:avLst/>
            <a:gdLst/>
            <a:ahLst/>
            <a:rect l="l" t="t" r="r" b="b"/>
            <a:pathLst>
              <a:path w="579" h="794">
                <a:moveTo>
                  <a:pt x="473" y="0"/>
                </a:moveTo>
                <a:lnTo>
                  <a:pt x="0" y="0"/>
                </a:lnTo>
                <a:lnTo>
                  <a:pt x="0" y="794"/>
                </a:lnTo>
                <a:lnTo>
                  <a:pt x="473" y="794"/>
                </a:lnTo>
                <a:lnTo>
                  <a:pt x="579" y="397"/>
                </a:lnTo>
                <a:lnTo>
                  <a:pt x="47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38280" y="2544840"/>
            <a:ext cx="1066680" cy="2006640"/>
          </a:xfrm>
          <a:custGeom>
            <a:avLst/>
            <a:gdLst/>
            <a:ahLst/>
            <a:rect l="l" t="t" r="r" b="b"/>
            <a:pathLst>
              <a:path w="589" h="804">
                <a:moveTo>
                  <a:pt x="579" y="403"/>
                </a:moveTo>
                <a:lnTo>
                  <a:pt x="570" y="364"/>
                </a:lnTo>
                <a:lnTo>
                  <a:pt x="579" y="362"/>
                </a:lnTo>
                <a:lnTo>
                  <a:pt x="589" y="401"/>
                </a:lnTo>
                <a:lnTo>
                  <a:pt x="579" y="403"/>
                </a:lnTo>
                <a:close/>
                <a:moveTo>
                  <a:pt x="561" y="335"/>
                </a:moveTo>
                <a:lnTo>
                  <a:pt x="551" y="296"/>
                </a:lnTo>
                <a:lnTo>
                  <a:pt x="561" y="293"/>
                </a:lnTo>
                <a:lnTo>
                  <a:pt x="571" y="332"/>
                </a:lnTo>
                <a:lnTo>
                  <a:pt x="561" y="335"/>
                </a:lnTo>
                <a:close/>
                <a:moveTo>
                  <a:pt x="543" y="266"/>
                </a:moveTo>
                <a:lnTo>
                  <a:pt x="532" y="226"/>
                </a:lnTo>
                <a:lnTo>
                  <a:pt x="541" y="224"/>
                </a:lnTo>
                <a:lnTo>
                  <a:pt x="552" y="263"/>
                </a:lnTo>
                <a:lnTo>
                  <a:pt x="543" y="266"/>
                </a:lnTo>
                <a:close/>
                <a:moveTo>
                  <a:pt x="524" y="197"/>
                </a:moveTo>
                <a:lnTo>
                  <a:pt x="513" y="158"/>
                </a:lnTo>
                <a:lnTo>
                  <a:pt x="523" y="155"/>
                </a:lnTo>
                <a:lnTo>
                  <a:pt x="534" y="194"/>
                </a:lnTo>
                <a:lnTo>
                  <a:pt x="524" y="197"/>
                </a:lnTo>
                <a:close/>
                <a:moveTo>
                  <a:pt x="506" y="128"/>
                </a:moveTo>
                <a:lnTo>
                  <a:pt x="495" y="89"/>
                </a:lnTo>
                <a:lnTo>
                  <a:pt x="505" y="87"/>
                </a:lnTo>
                <a:lnTo>
                  <a:pt x="516" y="126"/>
                </a:lnTo>
                <a:lnTo>
                  <a:pt x="506" y="128"/>
                </a:lnTo>
                <a:close/>
                <a:moveTo>
                  <a:pt x="488" y="60"/>
                </a:moveTo>
                <a:lnTo>
                  <a:pt x="477" y="20"/>
                </a:lnTo>
                <a:lnTo>
                  <a:pt x="487" y="17"/>
                </a:lnTo>
                <a:lnTo>
                  <a:pt x="498" y="56"/>
                </a:lnTo>
                <a:lnTo>
                  <a:pt x="488" y="60"/>
                </a:lnTo>
                <a:close/>
                <a:moveTo>
                  <a:pt x="461" y="10"/>
                </a:moveTo>
                <a:lnTo>
                  <a:pt x="421" y="10"/>
                </a:lnTo>
                <a:lnTo>
                  <a:pt x="421" y="0"/>
                </a:lnTo>
                <a:lnTo>
                  <a:pt x="461" y="0"/>
                </a:lnTo>
                <a:lnTo>
                  <a:pt x="461" y="10"/>
                </a:lnTo>
                <a:close/>
                <a:moveTo>
                  <a:pt x="390" y="10"/>
                </a:moveTo>
                <a:lnTo>
                  <a:pt x="350" y="10"/>
                </a:lnTo>
                <a:lnTo>
                  <a:pt x="350" y="0"/>
                </a:lnTo>
                <a:lnTo>
                  <a:pt x="390" y="0"/>
                </a:lnTo>
                <a:lnTo>
                  <a:pt x="390" y="10"/>
                </a:lnTo>
                <a:close/>
                <a:moveTo>
                  <a:pt x="319" y="10"/>
                </a:moveTo>
                <a:lnTo>
                  <a:pt x="278" y="10"/>
                </a:lnTo>
                <a:lnTo>
                  <a:pt x="278" y="0"/>
                </a:lnTo>
                <a:lnTo>
                  <a:pt x="319" y="0"/>
                </a:lnTo>
                <a:lnTo>
                  <a:pt x="319" y="10"/>
                </a:lnTo>
                <a:close/>
                <a:moveTo>
                  <a:pt x="247" y="10"/>
                </a:moveTo>
                <a:lnTo>
                  <a:pt x="207" y="10"/>
                </a:lnTo>
                <a:lnTo>
                  <a:pt x="207" y="0"/>
                </a:lnTo>
                <a:lnTo>
                  <a:pt x="247" y="0"/>
                </a:lnTo>
                <a:lnTo>
                  <a:pt x="247" y="10"/>
                </a:lnTo>
                <a:close/>
                <a:moveTo>
                  <a:pt x="177" y="10"/>
                </a:moveTo>
                <a:lnTo>
                  <a:pt x="136" y="10"/>
                </a:lnTo>
                <a:lnTo>
                  <a:pt x="136" y="0"/>
                </a:lnTo>
                <a:lnTo>
                  <a:pt x="177" y="0"/>
                </a:lnTo>
                <a:lnTo>
                  <a:pt x="177" y="10"/>
                </a:lnTo>
                <a:close/>
                <a:moveTo>
                  <a:pt x="106" y="10"/>
                </a:moveTo>
                <a:lnTo>
                  <a:pt x="64" y="10"/>
                </a:lnTo>
                <a:lnTo>
                  <a:pt x="64" y="0"/>
                </a:lnTo>
                <a:lnTo>
                  <a:pt x="106" y="0"/>
                </a:lnTo>
                <a:lnTo>
                  <a:pt x="106" y="10"/>
                </a:lnTo>
                <a:close/>
                <a:moveTo>
                  <a:pt x="34" y="10"/>
                </a:moveTo>
                <a:lnTo>
                  <a:pt x="5" y="10"/>
                </a:lnTo>
                <a:lnTo>
                  <a:pt x="11" y="5"/>
                </a:lnTo>
                <a:lnTo>
                  <a:pt x="11" y="17"/>
                </a:lnTo>
                <a:lnTo>
                  <a:pt x="0" y="17"/>
                </a:lnTo>
                <a:lnTo>
                  <a:pt x="0" y="0"/>
                </a:lnTo>
                <a:lnTo>
                  <a:pt x="34" y="0"/>
                </a:lnTo>
                <a:lnTo>
                  <a:pt x="34" y="10"/>
                </a:lnTo>
                <a:close/>
                <a:moveTo>
                  <a:pt x="11" y="48"/>
                </a:moveTo>
                <a:lnTo>
                  <a:pt x="11" y="88"/>
                </a:lnTo>
                <a:lnTo>
                  <a:pt x="0" y="88"/>
                </a:lnTo>
                <a:lnTo>
                  <a:pt x="0" y="48"/>
                </a:lnTo>
                <a:lnTo>
                  <a:pt x="11" y="48"/>
                </a:lnTo>
                <a:close/>
                <a:moveTo>
                  <a:pt x="11" y="119"/>
                </a:moveTo>
                <a:lnTo>
                  <a:pt x="11" y="159"/>
                </a:lnTo>
                <a:lnTo>
                  <a:pt x="0" y="159"/>
                </a:lnTo>
                <a:lnTo>
                  <a:pt x="0" y="119"/>
                </a:lnTo>
                <a:lnTo>
                  <a:pt x="11" y="119"/>
                </a:lnTo>
                <a:close/>
                <a:moveTo>
                  <a:pt x="11" y="189"/>
                </a:moveTo>
                <a:lnTo>
                  <a:pt x="11" y="231"/>
                </a:lnTo>
                <a:lnTo>
                  <a:pt x="0" y="231"/>
                </a:lnTo>
                <a:lnTo>
                  <a:pt x="0" y="189"/>
                </a:lnTo>
                <a:lnTo>
                  <a:pt x="11" y="189"/>
                </a:lnTo>
                <a:close/>
                <a:moveTo>
                  <a:pt x="11" y="261"/>
                </a:moveTo>
                <a:lnTo>
                  <a:pt x="11" y="302"/>
                </a:lnTo>
                <a:lnTo>
                  <a:pt x="0" y="302"/>
                </a:lnTo>
                <a:lnTo>
                  <a:pt x="0" y="261"/>
                </a:lnTo>
                <a:lnTo>
                  <a:pt x="11" y="261"/>
                </a:lnTo>
                <a:close/>
                <a:moveTo>
                  <a:pt x="11" y="332"/>
                </a:moveTo>
                <a:lnTo>
                  <a:pt x="11" y="373"/>
                </a:lnTo>
                <a:lnTo>
                  <a:pt x="0" y="373"/>
                </a:lnTo>
                <a:lnTo>
                  <a:pt x="0" y="332"/>
                </a:lnTo>
                <a:lnTo>
                  <a:pt x="11" y="332"/>
                </a:lnTo>
                <a:close/>
                <a:moveTo>
                  <a:pt x="11" y="403"/>
                </a:moveTo>
                <a:lnTo>
                  <a:pt x="11" y="445"/>
                </a:lnTo>
                <a:lnTo>
                  <a:pt x="0" y="445"/>
                </a:lnTo>
                <a:lnTo>
                  <a:pt x="0" y="403"/>
                </a:lnTo>
                <a:lnTo>
                  <a:pt x="11" y="403"/>
                </a:lnTo>
                <a:close/>
                <a:moveTo>
                  <a:pt x="11" y="475"/>
                </a:moveTo>
                <a:lnTo>
                  <a:pt x="11" y="516"/>
                </a:lnTo>
                <a:lnTo>
                  <a:pt x="0" y="516"/>
                </a:lnTo>
                <a:lnTo>
                  <a:pt x="0" y="475"/>
                </a:lnTo>
                <a:lnTo>
                  <a:pt x="11" y="475"/>
                </a:lnTo>
                <a:close/>
                <a:moveTo>
                  <a:pt x="11" y="546"/>
                </a:moveTo>
                <a:lnTo>
                  <a:pt x="11" y="586"/>
                </a:lnTo>
                <a:lnTo>
                  <a:pt x="0" y="586"/>
                </a:lnTo>
                <a:lnTo>
                  <a:pt x="0" y="546"/>
                </a:lnTo>
                <a:lnTo>
                  <a:pt x="11" y="546"/>
                </a:lnTo>
                <a:close/>
                <a:moveTo>
                  <a:pt x="11" y="617"/>
                </a:moveTo>
                <a:lnTo>
                  <a:pt x="11" y="658"/>
                </a:lnTo>
                <a:lnTo>
                  <a:pt x="0" y="658"/>
                </a:lnTo>
                <a:lnTo>
                  <a:pt x="0" y="617"/>
                </a:lnTo>
                <a:lnTo>
                  <a:pt x="11" y="617"/>
                </a:lnTo>
                <a:close/>
                <a:moveTo>
                  <a:pt x="11" y="689"/>
                </a:moveTo>
                <a:lnTo>
                  <a:pt x="11" y="729"/>
                </a:lnTo>
                <a:lnTo>
                  <a:pt x="0" y="729"/>
                </a:lnTo>
                <a:lnTo>
                  <a:pt x="0" y="689"/>
                </a:lnTo>
                <a:lnTo>
                  <a:pt x="11" y="689"/>
                </a:lnTo>
                <a:close/>
                <a:moveTo>
                  <a:pt x="11" y="760"/>
                </a:moveTo>
                <a:lnTo>
                  <a:pt x="11" y="799"/>
                </a:lnTo>
                <a:lnTo>
                  <a:pt x="5" y="794"/>
                </a:lnTo>
                <a:lnTo>
                  <a:pt x="6" y="794"/>
                </a:lnTo>
                <a:lnTo>
                  <a:pt x="6" y="804"/>
                </a:lnTo>
                <a:lnTo>
                  <a:pt x="0" y="804"/>
                </a:lnTo>
                <a:lnTo>
                  <a:pt x="0" y="760"/>
                </a:lnTo>
                <a:lnTo>
                  <a:pt x="11" y="760"/>
                </a:lnTo>
                <a:close/>
                <a:moveTo>
                  <a:pt x="36" y="794"/>
                </a:moveTo>
                <a:lnTo>
                  <a:pt x="78" y="794"/>
                </a:lnTo>
                <a:lnTo>
                  <a:pt x="78" y="804"/>
                </a:lnTo>
                <a:lnTo>
                  <a:pt x="36" y="804"/>
                </a:lnTo>
                <a:lnTo>
                  <a:pt x="36" y="794"/>
                </a:lnTo>
                <a:close/>
                <a:moveTo>
                  <a:pt x="108" y="794"/>
                </a:moveTo>
                <a:lnTo>
                  <a:pt x="149" y="794"/>
                </a:lnTo>
                <a:lnTo>
                  <a:pt x="149" y="804"/>
                </a:lnTo>
                <a:lnTo>
                  <a:pt x="108" y="804"/>
                </a:lnTo>
                <a:lnTo>
                  <a:pt x="108" y="794"/>
                </a:lnTo>
                <a:close/>
                <a:moveTo>
                  <a:pt x="179" y="794"/>
                </a:moveTo>
                <a:lnTo>
                  <a:pt x="219" y="794"/>
                </a:lnTo>
                <a:lnTo>
                  <a:pt x="219" y="804"/>
                </a:lnTo>
                <a:lnTo>
                  <a:pt x="179" y="804"/>
                </a:lnTo>
                <a:lnTo>
                  <a:pt x="179" y="794"/>
                </a:lnTo>
                <a:close/>
                <a:moveTo>
                  <a:pt x="250" y="794"/>
                </a:moveTo>
                <a:lnTo>
                  <a:pt x="291" y="794"/>
                </a:lnTo>
                <a:lnTo>
                  <a:pt x="291" y="804"/>
                </a:lnTo>
                <a:lnTo>
                  <a:pt x="250" y="804"/>
                </a:lnTo>
                <a:lnTo>
                  <a:pt x="250" y="794"/>
                </a:lnTo>
                <a:close/>
                <a:moveTo>
                  <a:pt x="322" y="794"/>
                </a:moveTo>
                <a:lnTo>
                  <a:pt x="362" y="794"/>
                </a:lnTo>
                <a:lnTo>
                  <a:pt x="362" y="804"/>
                </a:lnTo>
                <a:lnTo>
                  <a:pt x="322" y="804"/>
                </a:lnTo>
                <a:lnTo>
                  <a:pt x="322" y="794"/>
                </a:lnTo>
                <a:close/>
                <a:moveTo>
                  <a:pt x="393" y="794"/>
                </a:moveTo>
                <a:lnTo>
                  <a:pt x="433" y="794"/>
                </a:lnTo>
                <a:lnTo>
                  <a:pt x="433" y="804"/>
                </a:lnTo>
                <a:lnTo>
                  <a:pt x="393" y="804"/>
                </a:lnTo>
                <a:lnTo>
                  <a:pt x="393" y="794"/>
                </a:lnTo>
                <a:close/>
                <a:moveTo>
                  <a:pt x="463" y="794"/>
                </a:moveTo>
                <a:lnTo>
                  <a:pt x="478" y="794"/>
                </a:lnTo>
                <a:lnTo>
                  <a:pt x="473" y="798"/>
                </a:lnTo>
                <a:lnTo>
                  <a:pt x="480" y="772"/>
                </a:lnTo>
                <a:lnTo>
                  <a:pt x="490" y="775"/>
                </a:lnTo>
                <a:lnTo>
                  <a:pt x="482" y="804"/>
                </a:lnTo>
                <a:lnTo>
                  <a:pt x="463" y="804"/>
                </a:lnTo>
                <a:lnTo>
                  <a:pt x="463" y="794"/>
                </a:lnTo>
                <a:close/>
                <a:moveTo>
                  <a:pt x="488" y="743"/>
                </a:moveTo>
                <a:lnTo>
                  <a:pt x="499" y="704"/>
                </a:lnTo>
                <a:lnTo>
                  <a:pt x="509" y="706"/>
                </a:lnTo>
                <a:lnTo>
                  <a:pt x="498" y="745"/>
                </a:lnTo>
                <a:lnTo>
                  <a:pt x="488" y="743"/>
                </a:lnTo>
                <a:close/>
                <a:moveTo>
                  <a:pt x="506" y="674"/>
                </a:moveTo>
                <a:lnTo>
                  <a:pt x="517" y="634"/>
                </a:lnTo>
                <a:lnTo>
                  <a:pt x="527" y="638"/>
                </a:lnTo>
                <a:lnTo>
                  <a:pt x="516" y="677"/>
                </a:lnTo>
                <a:lnTo>
                  <a:pt x="506" y="674"/>
                </a:lnTo>
                <a:close/>
                <a:moveTo>
                  <a:pt x="524" y="605"/>
                </a:moveTo>
                <a:lnTo>
                  <a:pt x="535" y="566"/>
                </a:lnTo>
                <a:lnTo>
                  <a:pt x="545" y="568"/>
                </a:lnTo>
                <a:lnTo>
                  <a:pt x="534" y="607"/>
                </a:lnTo>
                <a:lnTo>
                  <a:pt x="524" y="605"/>
                </a:lnTo>
                <a:close/>
                <a:moveTo>
                  <a:pt x="544" y="536"/>
                </a:moveTo>
                <a:lnTo>
                  <a:pt x="554" y="497"/>
                </a:lnTo>
                <a:lnTo>
                  <a:pt x="563" y="500"/>
                </a:lnTo>
                <a:lnTo>
                  <a:pt x="554" y="539"/>
                </a:lnTo>
                <a:lnTo>
                  <a:pt x="544" y="536"/>
                </a:lnTo>
                <a:close/>
                <a:moveTo>
                  <a:pt x="562" y="468"/>
                </a:moveTo>
                <a:lnTo>
                  <a:pt x="572" y="428"/>
                </a:lnTo>
                <a:lnTo>
                  <a:pt x="582" y="431"/>
                </a:lnTo>
                <a:lnTo>
                  <a:pt x="572" y="470"/>
                </a:lnTo>
                <a:lnTo>
                  <a:pt x="562" y="468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42320" y="3124080"/>
            <a:ext cx="90432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Get infor-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mation on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existing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products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176480" y="3570120"/>
            <a:ext cx="1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768320" y="2557440"/>
            <a:ext cx="2708280" cy="920880"/>
          </a:xfrm>
          <a:custGeom>
            <a:avLst/>
            <a:gdLst/>
            <a:ahLst/>
            <a:rect l="l" t="t" r="r" b="b"/>
            <a:pathLst>
              <a:path w="1496" h="369">
                <a:moveTo>
                  <a:pt x="1411" y="0"/>
                </a:moveTo>
                <a:lnTo>
                  <a:pt x="0" y="0"/>
                </a:lnTo>
                <a:lnTo>
                  <a:pt x="0" y="369"/>
                </a:lnTo>
                <a:lnTo>
                  <a:pt x="1411" y="369"/>
                </a:lnTo>
                <a:lnTo>
                  <a:pt x="1496" y="184"/>
                </a:lnTo>
                <a:lnTo>
                  <a:pt x="141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768320" y="2557440"/>
            <a:ext cx="2708280" cy="920880"/>
          </a:xfrm>
          <a:custGeom>
            <a:avLst/>
            <a:gdLst/>
            <a:ahLst/>
            <a:rect l="l" t="t" r="r" b="b"/>
            <a:pathLst>
              <a:path w="1496" h="369">
                <a:moveTo>
                  <a:pt x="1411" y="0"/>
                </a:moveTo>
                <a:lnTo>
                  <a:pt x="0" y="0"/>
                </a:lnTo>
                <a:lnTo>
                  <a:pt x="0" y="369"/>
                </a:lnTo>
                <a:lnTo>
                  <a:pt x="1411" y="369"/>
                </a:lnTo>
                <a:lnTo>
                  <a:pt x="1496" y="184"/>
                </a:lnTo>
                <a:lnTo>
                  <a:pt x="1411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328120" y="2887560"/>
            <a:ext cx="178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nalyze performance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768320" y="3618000"/>
            <a:ext cx="2708280" cy="920520"/>
          </a:xfrm>
          <a:custGeom>
            <a:avLst/>
            <a:gdLst/>
            <a:ahLst/>
            <a:rect l="l" t="t" r="r" b="b"/>
            <a:pathLst>
              <a:path w="1496" h="369">
                <a:moveTo>
                  <a:pt x="1418" y="0"/>
                </a:moveTo>
                <a:lnTo>
                  <a:pt x="0" y="0"/>
                </a:lnTo>
                <a:lnTo>
                  <a:pt x="0" y="369"/>
                </a:lnTo>
                <a:lnTo>
                  <a:pt x="1418" y="369"/>
                </a:lnTo>
                <a:lnTo>
                  <a:pt x="1496" y="185"/>
                </a:lnTo>
                <a:lnTo>
                  <a:pt x="141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768320" y="3618000"/>
            <a:ext cx="2708280" cy="920520"/>
          </a:xfrm>
          <a:custGeom>
            <a:avLst/>
            <a:gdLst/>
            <a:ahLst/>
            <a:rect l="l" t="t" r="r" b="b"/>
            <a:pathLst>
              <a:path w="1496" h="369">
                <a:moveTo>
                  <a:pt x="1418" y="0"/>
                </a:moveTo>
                <a:lnTo>
                  <a:pt x="0" y="0"/>
                </a:lnTo>
                <a:lnTo>
                  <a:pt x="0" y="369"/>
                </a:lnTo>
                <a:lnTo>
                  <a:pt x="1418" y="369"/>
                </a:lnTo>
                <a:lnTo>
                  <a:pt x="1496" y="185"/>
                </a:lnTo>
                <a:lnTo>
                  <a:pt x="1418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314800" y="3948120"/>
            <a:ext cx="1221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Benchmarkin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429240" y="2557440"/>
            <a:ext cx="2157480" cy="1981080"/>
          </a:xfrm>
          <a:custGeom>
            <a:avLst/>
            <a:gdLst/>
            <a:ahLst/>
            <a:rect l="l" t="t" r="r" b="b"/>
            <a:pathLst>
              <a:path w="1192" h="794">
                <a:moveTo>
                  <a:pt x="1020" y="0"/>
                </a:moveTo>
                <a:lnTo>
                  <a:pt x="0" y="0"/>
                </a:lnTo>
                <a:lnTo>
                  <a:pt x="172" y="397"/>
                </a:lnTo>
                <a:lnTo>
                  <a:pt x="0" y="794"/>
                </a:lnTo>
                <a:lnTo>
                  <a:pt x="1020" y="794"/>
                </a:lnTo>
                <a:lnTo>
                  <a:pt x="1192" y="397"/>
                </a:lnTo>
                <a:lnTo>
                  <a:pt x="102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429240" y="2557440"/>
            <a:ext cx="2157480" cy="1981080"/>
          </a:xfrm>
          <a:custGeom>
            <a:avLst/>
            <a:gdLst/>
            <a:ahLst/>
            <a:rect l="l" t="t" r="r" b="b"/>
            <a:pathLst>
              <a:path w="1192" h="794">
                <a:moveTo>
                  <a:pt x="1020" y="0"/>
                </a:moveTo>
                <a:lnTo>
                  <a:pt x="0" y="0"/>
                </a:lnTo>
                <a:lnTo>
                  <a:pt x="172" y="397"/>
                </a:lnTo>
                <a:lnTo>
                  <a:pt x="0" y="794"/>
                </a:lnTo>
                <a:lnTo>
                  <a:pt x="1020" y="794"/>
                </a:lnTo>
                <a:lnTo>
                  <a:pt x="1192" y="397"/>
                </a:lnTo>
                <a:lnTo>
                  <a:pt x="1020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937560" y="3267000"/>
            <a:ext cx="1398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Implementation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626240" y="3570120"/>
            <a:ext cx="1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7149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xample of Project (Contd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5181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2" name=""/>
          <p:cNvSpPr/>
          <p:nvPr/>
        </p:nvSpPr>
        <p:spPr>
          <a:xfrm>
            <a:off x="547560" y="1219320"/>
            <a:ext cx="85042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Verdana"/>
              </a:rPr>
              <a:t>Module 2 : Improvement of Loan </a:t>
            </a: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A</a:t>
            </a:r>
            <a:r>
              <a:rPr b="1" lang="fr-FR" sz="2400" spc="-1" strike="noStrike">
                <a:solidFill>
                  <a:srgbClr val="003366"/>
                </a:solidFill>
                <a:latin typeface="Verdana"/>
              </a:rPr>
              <a:t>ppraisal Process and Scor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31640" y="2725560"/>
            <a:ext cx="13971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ata warehousin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828800" y="2536920"/>
            <a:ext cx="1905120" cy="3483000"/>
          </a:xfrm>
          <a:custGeom>
            <a:avLst/>
            <a:gdLst>
              <a:gd name="textAreaLeft" fmla="*/ 0 w 1905120"/>
              <a:gd name="textAreaRight" fmla="*/ 1905480 w 1905120"/>
              <a:gd name="textAreaTop" fmla="*/ 0 h 3483000"/>
              <a:gd name="textAreaBottom" fmla="*/ 3483360 h 348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158" y="0"/>
                </a:lnTo>
                <a:lnTo>
                  <a:pt x="21600" y="10800"/>
                </a:lnTo>
                <a:lnTo>
                  <a:pt x="1615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marL="112680" indent="-112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1" lang="fr-FR" sz="1400" spc="-1" strike="noStrike">
                <a:solidFill>
                  <a:srgbClr val="003366"/>
                </a:solidFill>
                <a:latin typeface="Verdana"/>
              </a:rPr>
              <a:t>Analysis of current situation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66"/>
                </a:solidFill>
                <a:latin typeface="Verdana"/>
              </a:rPr>
              <a:t>Data available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66"/>
                </a:solidFill>
                <a:latin typeface="Verdana"/>
              </a:rPr>
              <a:t>Scoring tools in place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66"/>
                </a:solidFill>
                <a:latin typeface="Verdana"/>
              </a:rPr>
              <a:t>Loan appraisal forms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66"/>
                </a:solidFill>
                <a:latin typeface="Verdana"/>
              </a:rPr>
              <a:t>Methodologies/processes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746680" y="2536920"/>
            <a:ext cx="2330640" cy="1501560"/>
          </a:xfrm>
          <a:custGeom>
            <a:avLst/>
            <a:gdLst>
              <a:gd name="textAreaLeft" fmla="*/ 0 w 2330640"/>
              <a:gd name="textAreaRight" fmla="*/ 2331000 w 2330640"/>
              <a:gd name="textAreaTop" fmla="*/ 0 h 1501560"/>
              <a:gd name="textAreaBottom" fmla="*/ 1501920 h 1501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1480" rIns="90000" tIns="0" bIns="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66"/>
                </a:solidFill>
                <a:latin typeface="Verdana"/>
              </a:rPr>
              <a:t>Find data and follow-up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47560" y="4800600"/>
            <a:ext cx="1203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Scoring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tool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825720" y="4440240"/>
            <a:ext cx="2264040" cy="1579680"/>
          </a:xfrm>
          <a:custGeom>
            <a:avLst/>
            <a:gdLst>
              <a:gd name="textAreaLeft" fmla="*/ 0 w 2264040"/>
              <a:gd name="textAreaRight" fmla="*/ 2264400 w 2264040"/>
              <a:gd name="textAreaTop" fmla="*/ 0 h 1579680"/>
              <a:gd name="textAreaBottom" fmla="*/ 1580040 h 157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10" y="0"/>
                </a:lnTo>
                <a:lnTo>
                  <a:pt x="21600" y="10800"/>
                </a:lnTo>
                <a:lnTo>
                  <a:pt x="183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marL="112680" indent="-112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0" lang="fr-FR" sz="1400" spc="-1" strike="noStrike">
                <a:solidFill>
                  <a:srgbClr val="003366"/>
                </a:solidFill>
                <a:latin typeface="Verdana"/>
              </a:rPr>
              <a:t>Development of scoring tools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875200" y="4440240"/>
            <a:ext cx="2264040" cy="1579680"/>
          </a:xfrm>
          <a:custGeom>
            <a:avLst/>
            <a:gdLst>
              <a:gd name="textAreaLeft" fmla="*/ 0 w 2264040"/>
              <a:gd name="textAreaRight" fmla="*/ 2264400 w 2264040"/>
              <a:gd name="textAreaTop" fmla="*/ 0 h 1579680"/>
              <a:gd name="textAreaBottom" fmla="*/ 1580040 h 157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96" y="0"/>
                </a:lnTo>
                <a:lnTo>
                  <a:pt x="21600" y="10800"/>
                </a:lnTo>
                <a:lnTo>
                  <a:pt x="18296" y="21600"/>
                </a:lnTo>
                <a:lnTo>
                  <a:pt x="0" y="21600"/>
                </a:lnTo>
                <a:lnTo>
                  <a:pt x="3304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5760" rIns="90000" tIns="0" bIns="0" anchor="ctr">
            <a:noAutofit/>
          </a:bodyPr>
          <a:p>
            <a:pPr marL="112680" indent="-112680">
              <a:lnSpc>
                <a:spcPct val="100000"/>
              </a:lnSpc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66"/>
                </a:solidFill>
                <a:latin typeface="Verdana"/>
              </a:rPr>
              <a:t>Back-testin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66"/>
                </a:solidFill>
                <a:latin typeface="Verdana"/>
              </a:rPr>
              <a:t>Definition of new procedures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66"/>
                </a:solidFill>
                <a:latin typeface="Verdana"/>
              </a:rPr>
              <a:t>Communication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66"/>
                </a:solidFill>
                <a:latin typeface="Verdana"/>
              </a:rPr>
              <a:t>Trainin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66"/>
                </a:solidFill>
                <a:latin typeface="Verdana"/>
              </a:rPr>
              <a:t>Follow-up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825720" y="2536920"/>
            <a:ext cx="2330640" cy="1501560"/>
          </a:xfrm>
          <a:custGeom>
            <a:avLst/>
            <a:gdLst>
              <a:gd name="textAreaLeft" fmla="*/ 0 w 2330640"/>
              <a:gd name="textAreaRight" fmla="*/ 2331000 w 2330640"/>
              <a:gd name="textAreaTop" fmla="*/ 0 h 1501560"/>
              <a:gd name="textAreaBottom" fmla="*/ 1501920 h 1501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158" y="0"/>
                </a:lnTo>
                <a:lnTo>
                  <a:pt x="21600" y="10800"/>
                </a:lnTo>
                <a:lnTo>
                  <a:pt x="1615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66"/>
                </a:solidFill>
                <a:latin typeface="Verdana"/>
              </a:rPr>
              <a:t>Define missing data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7149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xample of Project (Contd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5181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2" name=""/>
          <p:cNvSpPr/>
          <p:nvPr/>
        </p:nvSpPr>
        <p:spPr>
          <a:xfrm>
            <a:off x="457200" y="1312920"/>
            <a:ext cx="850428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Verdana"/>
              </a:rPr>
              <a:t>Module </a:t>
            </a: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3</a:t>
            </a:r>
            <a:r>
              <a:rPr b="1" lang="fr-FR" sz="2400" spc="-1" strike="noStrike">
                <a:solidFill>
                  <a:srgbClr val="003366"/>
                </a:solidFill>
                <a:latin typeface="Verdana"/>
              </a:rPr>
              <a:t> : Improvement of</a:t>
            </a: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 C</a:t>
            </a:r>
            <a:r>
              <a:rPr b="1" lang="fr-FR" sz="2400" spc="-1" strike="noStrike">
                <a:solidFill>
                  <a:srgbClr val="003366"/>
                </a:solidFill>
                <a:latin typeface="Verdana"/>
              </a:rPr>
              <a:t>ollection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954600" y="2557440"/>
            <a:ext cx="2158920" cy="1981080"/>
          </a:xfrm>
          <a:custGeom>
            <a:avLst/>
            <a:gdLst/>
            <a:ahLst/>
            <a:rect l="l" t="t" r="r" b="b"/>
            <a:pathLst>
              <a:path w="1192" h="794">
                <a:moveTo>
                  <a:pt x="1020" y="0"/>
                </a:moveTo>
                <a:lnTo>
                  <a:pt x="0" y="0"/>
                </a:lnTo>
                <a:lnTo>
                  <a:pt x="172" y="397"/>
                </a:lnTo>
                <a:lnTo>
                  <a:pt x="0" y="794"/>
                </a:lnTo>
                <a:lnTo>
                  <a:pt x="1020" y="794"/>
                </a:lnTo>
                <a:lnTo>
                  <a:pt x="1192" y="397"/>
                </a:lnTo>
                <a:lnTo>
                  <a:pt x="102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787640" y="3114720"/>
            <a:ext cx="1221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Elaboration           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596840" y="3417840"/>
            <a:ext cx="1098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d’une gamme de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691160" y="3722760"/>
            <a:ext cx="901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produits cible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249200" y="2557440"/>
            <a:ext cx="2708280" cy="920880"/>
          </a:xfrm>
          <a:custGeom>
            <a:avLst/>
            <a:gdLst/>
            <a:ahLst/>
            <a:rect l="l" t="t" r="r" b="b"/>
            <a:pathLst>
              <a:path w="1496" h="369">
                <a:moveTo>
                  <a:pt x="1411" y="0"/>
                </a:moveTo>
                <a:lnTo>
                  <a:pt x="0" y="0"/>
                </a:lnTo>
                <a:lnTo>
                  <a:pt x="0" y="369"/>
                </a:lnTo>
                <a:lnTo>
                  <a:pt x="1411" y="369"/>
                </a:lnTo>
                <a:lnTo>
                  <a:pt x="1496" y="184"/>
                </a:lnTo>
                <a:lnTo>
                  <a:pt x="141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249200" y="2557440"/>
            <a:ext cx="2708280" cy="920880"/>
          </a:xfrm>
          <a:custGeom>
            <a:avLst/>
            <a:gdLst/>
            <a:ahLst/>
            <a:rect l="l" t="t" r="r" b="b"/>
            <a:pathLst>
              <a:path w="1496" h="369">
                <a:moveTo>
                  <a:pt x="1411" y="0"/>
                </a:moveTo>
                <a:lnTo>
                  <a:pt x="0" y="0"/>
                </a:lnTo>
                <a:lnTo>
                  <a:pt x="0" y="369"/>
                </a:lnTo>
                <a:lnTo>
                  <a:pt x="1411" y="369"/>
                </a:lnTo>
                <a:lnTo>
                  <a:pt x="1496" y="184"/>
                </a:lnTo>
                <a:lnTo>
                  <a:pt x="1411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888200" y="2887560"/>
            <a:ext cx="1609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Analyse de performance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249200" y="3618000"/>
            <a:ext cx="2708280" cy="920520"/>
          </a:xfrm>
          <a:custGeom>
            <a:avLst/>
            <a:gdLst/>
            <a:ahLst/>
            <a:rect l="l" t="t" r="r" b="b"/>
            <a:pathLst>
              <a:path w="1496" h="369">
                <a:moveTo>
                  <a:pt x="1418" y="0"/>
                </a:moveTo>
                <a:lnTo>
                  <a:pt x="0" y="0"/>
                </a:lnTo>
                <a:lnTo>
                  <a:pt x="0" y="369"/>
                </a:lnTo>
                <a:lnTo>
                  <a:pt x="1418" y="369"/>
                </a:lnTo>
                <a:lnTo>
                  <a:pt x="1496" y="185"/>
                </a:lnTo>
                <a:lnTo>
                  <a:pt x="141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249200" y="3618000"/>
            <a:ext cx="2708280" cy="920520"/>
          </a:xfrm>
          <a:custGeom>
            <a:avLst/>
            <a:gdLst/>
            <a:ahLst/>
            <a:rect l="l" t="t" r="r" b="b"/>
            <a:pathLst>
              <a:path w="1496" h="369">
                <a:moveTo>
                  <a:pt x="1418" y="0"/>
                </a:moveTo>
                <a:lnTo>
                  <a:pt x="0" y="0"/>
                </a:lnTo>
                <a:lnTo>
                  <a:pt x="0" y="369"/>
                </a:lnTo>
                <a:lnTo>
                  <a:pt x="1418" y="369"/>
                </a:lnTo>
                <a:lnTo>
                  <a:pt x="1496" y="185"/>
                </a:lnTo>
                <a:lnTo>
                  <a:pt x="1418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204280" y="3948120"/>
            <a:ext cx="969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Benchmarking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954600" y="2557440"/>
            <a:ext cx="2158920" cy="1981080"/>
          </a:xfrm>
          <a:custGeom>
            <a:avLst/>
            <a:gdLst/>
            <a:ahLst/>
            <a:rect l="l" t="t" r="r" b="b"/>
            <a:pathLst>
              <a:path w="1192" h="794">
                <a:moveTo>
                  <a:pt x="1020" y="0"/>
                </a:moveTo>
                <a:lnTo>
                  <a:pt x="0" y="0"/>
                </a:lnTo>
                <a:lnTo>
                  <a:pt x="172" y="397"/>
                </a:lnTo>
                <a:lnTo>
                  <a:pt x="0" y="794"/>
                </a:lnTo>
                <a:lnTo>
                  <a:pt x="1020" y="794"/>
                </a:lnTo>
                <a:lnTo>
                  <a:pt x="1192" y="397"/>
                </a:lnTo>
                <a:lnTo>
                  <a:pt x="102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787640" y="3114720"/>
            <a:ext cx="1221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Elaboration           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596840" y="3417840"/>
            <a:ext cx="1098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d’une gamme de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691160" y="3722760"/>
            <a:ext cx="901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produits cible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249200" y="2557440"/>
            <a:ext cx="2708280" cy="920880"/>
          </a:xfrm>
          <a:custGeom>
            <a:avLst/>
            <a:gdLst/>
            <a:ahLst/>
            <a:rect l="l" t="t" r="r" b="b"/>
            <a:pathLst>
              <a:path w="1496" h="369">
                <a:moveTo>
                  <a:pt x="1411" y="0"/>
                </a:moveTo>
                <a:lnTo>
                  <a:pt x="0" y="0"/>
                </a:lnTo>
                <a:lnTo>
                  <a:pt x="0" y="369"/>
                </a:lnTo>
                <a:lnTo>
                  <a:pt x="1411" y="369"/>
                </a:lnTo>
                <a:lnTo>
                  <a:pt x="1496" y="184"/>
                </a:lnTo>
                <a:lnTo>
                  <a:pt x="141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249200" y="2557440"/>
            <a:ext cx="2708280" cy="920880"/>
          </a:xfrm>
          <a:custGeom>
            <a:avLst/>
            <a:gdLst/>
            <a:ahLst/>
            <a:rect l="l" t="t" r="r" b="b"/>
            <a:pathLst>
              <a:path w="1496" h="369">
                <a:moveTo>
                  <a:pt x="1411" y="0"/>
                </a:moveTo>
                <a:lnTo>
                  <a:pt x="0" y="0"/>
                </a:lnTo>
                <a:lnTo>
                  <a:pt x="0" y="369"/>
                </a:lnTo>
                <a:lnTo>
                  <a:pt x="1411" y="369"/>
                </a:lnTo>
                <a:lnTo>
                  <a:pt x="1496" y="184"/>
                </a:lnTo>
                <a:lnTo>
                  <a:pt x="1411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888200" y="2887560"/>
            <a:ext cx="1609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Analyse de performance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249200" y="3618000"/>
            <a:ext cx="2708280" cy="920520"/>
          </a:xfrm>
          <a:custGeom>
            <a:avLst/>
            <a:gdLst/>
            <a:ahLst/>
            <a:rect l="l" t="t" r="r" b="b"/>
            <a:pathLst>
              <a:path w="1496" h="369">
                <a:moveTo>
                  <a:pt x="1418" y="0"/>
                </a:moveTo>
                <a:lnTo>
                  <a:pt x="0" y="0"/>
                </a:lnTo>
                <a:lnTo>
                  <a:pt x="0" y="369"/>
                </a:lnTo>
                <a:lnTo>
                  <a:pt x="1418" y="369"/>
                </a:lnTo>
                <a:lnTo>
                  <a:pt x="1496" y="185"/>
                </a:lnTo>
                <a:lnTo>
                  <a:pt x="141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249200" y="3618000"/>
            <a:ext cx="2708280" cy="920520"/>
          </a:xfrm>
          <a:custGeom>
            <a:avLst/>
            <a:gdLst/>
            <a:ahLst/>
            <a:rect l="l" t="t" r="r" b="b"/>
            <a:pathLst>
              <a:path w="1496" h="369">
                <a:moveTo>
                  <a:pt x="1418" y="0"/>
                </a:moveTo>
                <a:lnTo>
                  <a:pt x="0" y="0"/>
                </a:lnTo>
                <a:lnTo>
                  <a:pt x="0" y="369"/>
                </a:lnTo>
                <a:lnTo>
                  <a:pt x="1418" y="369"/>
                </a:lnTo>
                <a:lnTo>
                  <a:pt x="1496" y="185"/>
                </a:lnTo>
                <a:lnTo>
                  <a:pt x="1418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204280" y="3948120"/>
            <a:ext cx="969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Benchmarking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954600" y="2557440"/>
            <a:ext cx="4109760" cy="1981080"/>
          </a:xfrm>
          <a:custGeom>
            <a:avLst/>
            <a:gdLst/>
            <a:ahLst/>
            <a:rect l="l" t="t" r="r" b="b"/>
            <a:pathLst>
              <a:path w="1192" h="794">
                <a:moveTo>
                  <a:pt x="1020" y="0"/>
                </a:moveTo>
                <a:lnTo>
                  <a:pt x="0" y="0"/>
                </a:lnTo>
                <a:lnTo>
                  <a:pt x="172" y="397"/>
                </a:lnTo>
                <a:lnTo>
                  <a:pt x="0" y="794"/>
                </a:lnTo>
                <a:lnTo>
                  <a:pt x="1020" y="794"/>
                </a:lnTo>
                <a:lnTo>
                  <a:pt x="1192" y="397"/>
                </a:lnTo>
                <a:lnTo>
                  <a:pt x="102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954600" y="2557440"/>
            <a:ext cx="4109760" cy="1981080"/>
          </a:xfrm>
          <a:custGeom>
            <a:avLst/>
            <a:gdLst/>
            <a:ahLst/>
            <a:rect l="l" t="t" r="r" b="b"/>
            <a:pathLst>
              <a:path w="1192" h="794">
                <a:moveTo>
                  <a:pt x="1020" y="0"/>
                </a:moveTo>
                <a:lnTo>
                  <a:pt x="0" y="0"/>
                </a:lnTo>
                <a:lnTo>
                  <a:pt x="172" y="397"/>
                </a:lnTo>
                <a:lnTo>
                  <a:pt x="0" y="794"/>
                </a:lnTo>
                <a:lnTo>
                  <a:pt x="1020" y="794"/>
                </a:lnTo>
                <a:lnTo>
                  <a:pt x="1192" y="397"/>
                </a:lnTo>
                <a:lnTo>
                  <a:pt x="1020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883400" y="3068640"/>
            <a:ext cx="165528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Identify quick wins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Improve processes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Set-up a call center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Training          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146560" y="3417840"/>
            <a:ext cx="18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141880" y="3722760"/>
            <a:ext cx="32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249200" y="2557440"/>
            <a:ext cx="2708280" cy="920880"/>
          </a:xfrm>
          <a:custGeom>
            <a:avLst/>
            <a:gdLst/>
            <a:ahLst/>
            <a:rect l="l" t="t" r="r" b="b"/>
            <a:pathLst>
              <a:path w="1496" h="369">
                <a:moveTo>
                  <a:pt x="1411" y="0"/>
                </a:moveTo>
                <a:lnTo>
                  <a:pt x="0" y="0"/>
                </a:lnTo>
                <a:lnTo>
                  <a:pt x="0" y="369"/>
                </a:lnTo>
                <a:lnTo>
                  <a:pt x="1411" y="369"/>
                </a:lnTo>
                <a:lnTo>
                  <a:pt x="1496" y="184"/>
                </a:lnTo>
                <a:lnTo>
                  <a:pt x="141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249200" y="2557440"/>
            <a:ext cx="2708280" cy="920880"/>
          </a:xfrm>
          <a:custGeom>
            <a:avLst/>
            <a:gdLst/>
            <a:ahLst/>
            <a:rect l="l" t="t" r="r" b="b"/>
            <a:pathLst>
              <a:path w="1496" h="369">
                <a:moveTo>
                  <a:pt x="1411" y="0"/>
                </a:moveTo>
                <a:lnTo>
                  <a:pt x="0" y="0"/>
                </a:lnTo>
                <a:lnTo>
                  <a:pt x="0" y="369"/>
                </a:lnTo>
                <a:lnTo>
                  <a:pt x="1411" y="369"/>
                </a:lnTo>
                <a:lnTo>
                  <a:pt x="1496" y="184"/>
                </a:lnTo>
                <a:lnTo>
                  <a:pt x="1411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589400" y="2887560"/>
            <a:ext cx="1983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nalysis of the portfolio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249200" y="3618000"/>
            <a:ext cx="2708280" cy="920520"/>
          </a:xfrm>
          <a:custGeom>
            <a:avLst/>
            <a:gdLst/>
            <a:ahLst/>
            <a:rect l="l" t="t" r="r" b="b"/>
            <a:pathLst>
              <a:path w="1496" h="369">
                <a:moveTo>
                  <a:pt x="1418" y="0"/>
                </a:moveTo>
                <a:lnTo>
                  <a:pt x="0" y="0"/>
                </a:lnTo>
                <a:lnTo>
                  <a:pt x="0" y="369"/>
                </a:lnTo>
                <a:lnTo>
                  <a:pt x="1418" y="369"/>
                </a:lnTo>
                <a:lnTo>
                  <a:pt x="1496" y="185"/>
                </a:lnTo>
                <a:lnTo>
                  <a:pt x="141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249200" y="3618000"/>
            <a:ext cx="2708280" cy="920520"/>
          </a:xfrm>
          <a:custGeom>
            <a:avLst/>
            <a:gdLst/>
            <a:ahLst/>
            <a:rect l="l" t="t" r="r" b="b"/>
            <a:pathLst>
              <a:path w="1496" h="369">
                <a:moveTo>
                  <a:pt x="1418" y="0"/>
                </a:moveTo>
                <a:lnTo>
                  <a:pt x="0" y="0"/>
                </a:lnTo>
                <a:lnTo>
                  <a:pt x="0" y="369"/>
                </a:lnTo>
                <a:lnTo>
                  <a:pt x="1418" y="369"/>
                </a:lnTo>
                <a:lnTo>
                  <a:pt x="1496" y="185"/>
                </a:lnTo>
                <a:lnTo>
                  <a:pt x="1418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602000" y="3948120"/>
            <a:ext cx="2093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nalysis of the processes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4647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ssible Next Step if Interest: Diagnostic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952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04920" y="16444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Gather data o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04920" y="1981080"/>
            <a:ext cx="24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Customer segmentation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Sales organization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CRM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Risk-based pricing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04920" y="3062160"/>
            <a:ext cx="24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Centralization of credit-approval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Accuracy of Risk Reporting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Efficiency of Collection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04920" y="4145040"/>
            <a:ext cx="2595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Processes streamlining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Scoring/Rating tool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Branch as a distribution channel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Organization of back-offic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04920" y="5410080"/>
            <a:ext cx="2595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Product mix and impact on fund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Governance/Disclosur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Treasury Management / ALM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819520" y="1981080"/>
            <a:ext cx="3200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Fee vs. interest income ratio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Profitability by customer segment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819520" y="3062160"/>
            <a:ext cx="3352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Portfolio-at-Risk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% loans with early default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% Non Performing Loan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Ratios on Collections Efficienc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Ratios on Provisions and Write-off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880000" y="4145040"/>
            <a:ext cx="1893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Overhead/Net Incom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Staff productivi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Branch productivi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819520" y="5410080"/>
            <a:ext cx="3047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Ratio loans/deposit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Ratio interest bearing / non interest bearing deposit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ALM key ratio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400800" y="5522760"/>
            <a:ext cx="81108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Cost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of Fund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400800" y="4191120"/>
            <a:ext cx="81108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Over-head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Cost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400800" y="3276720"/>
            <a:ext cx="81108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Cost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of Risk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400800" y="2209680"/>
            <a:ext cx="81108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Gros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Margin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666880" y="167652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Calculate key indicator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248520" y="1371600"/>
            <a:ext cx="266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Understand profitability driver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80880" y="1969920"/>
            <a:ext cx="19051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743200" y="1981080"/>
            <a:ext cx="32767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324480" y="1981080"/>
            <a:ext cx="23623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rot="5400000">
            <a:off x="5814000" y="2345400"/>
            <a:ext cx="716040" cy="20016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rot="5400000">
            <a:off x="5837760" y="3458160"/>
            <a:ext cx="716040" cy="20016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rot="5400000">
            <a:off x="5837760" y="4418640"/>
            <a:ext cx="716040" cy="20016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rot="5400000">
            <a:off x="5838120" y="5820480"/>
            <a:ext cx="715680" cy="20016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211880" y="2438280"/>
            <a:ext cx="179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238880" y="3505320"/>
            <a:ext cx="179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211880" y="4495680"/>
            <a:ext cx="179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211880" y="5867280"/>
            <a:ext cx="179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H="1">
            <a:off x="7391160" y="2438280"/>
            <a:ext cx="27000" cy="3429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391520" y="4038480"/>
            <a:ext cx="1792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570800" y="2995560"/>
            <a:ext cx="1116000" cy="191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Formulate a diagnostic on current situation and ways of improving net margin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Draft a proposal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8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7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6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4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9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7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0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8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1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4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7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0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3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4647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ntact Detail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952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7" name=""/>
          <p:cNvSpPr/>
          <p:nvPr/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Verdana"/>
              </a:rPr>
              <a:t>Greg Ru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Verdana"/>
              </a:rPr>
              <a:t>Email: </a:t>
            </a:r>
            <a:r>
              <a:rPr b="0" lang="en-US" sz="3200" spc="-1" strike="noStrike" u="sng">
                <a:solidFill>
                  <a:srgbClr val="cc3300"/>
                </a:solidFill>
                <a:uFillTx/>
                <a:latin typeface="Verdana"/>
                <a:hlinkClick r:id="rId1"/>
              </a:rPr>
              <a:t>grung@ifc.or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-766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ME Banking Framework: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hifting the Productivity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rontier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371600" y="2392200"/>
            <a:ext cx="0" cy="182880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05320" y="6095880"/>
            <a:ext cx="243828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3880" y="609516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 Narrow"/>
              </a:rPr>
              <a:t>Broader service offerings &amp; higher asset quality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320" y="4316760"/>
            <a:ext cx="14475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 Narrow"/>
              </a:rPr>
              <a:t>Lower unit costs per transaction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 Narrow"/>
              </a:rPr>
              <a:t>or servic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00200" y="1523880"/>
            <a:ext cx="6858000" cy="4496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950200" y="1949400"/>
            <a:ext cx="3061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33"/>
                </a:solidFill>
                <a:latin typeface="Arial"/>
              </a:rPr>
              <a:t>Productivity Frontier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(Future state of Best Practice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00240" y="2316240"/>
            <a:ext cx="30492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-2099160" y="2394000"/>
            <a:ext cx="8085240" cy="716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14" y="45"/>
                </a:moveTo>
                <a:arcTo wR="10800" hR="10800" stAng="-5714204" swAng="5714204"/>
                <a:lnTo>
                  <a:pt x="10800" y="10800"/>
                </a:lnTo>
                <a:close/>
              </a:path>
              <a:path fill="none" w="21600" h="21600">
                <a:moveTo>
                  <a:pt x="9814" y="45"/>
                </a:moveTo>
                <a:arcTo wR="10800" hR="10800" stAng="-5714204" swAng="5714204"/>
              </a:path>
            </a:pathLst>
          </a:custGeom>
          <a:noFill/>
          <a:ln w="22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76520" y="4756320"/>
            <a:ext cx="182880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 Narrow"/>
              </a:rPr>
              <a:t>Limited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 Narrow"/>
              </a:rPr>
              <a:t>services to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 Narrow"/>
              </a:rPr>
              <a:t>limited number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 Narrow"/>
              </a:rPr>
              <a:t>of customer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5050"/>
                </a:solidFill>
                <a:latin typeface="Arial Narrow"/>
              </a:rPr>
              <a:t>UNPROFITABL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48320" y="2590920"/>
            <a:ext cx="0" cy="68580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2641800">
            <a:off x="3200040" y="3276720"/>
            <a:ext cx="1219320" cy="1724040"/>
          </a:xfrm>
          <a:prstGeom prst="upArrow">
            <a:avLst>
              <a:gd name="adj1" fmla="val 50000"/>
              <a:gd name="adj2" fmla="val 35348"/>
            </a:avLst>
          </a:prstGeom>
          <a:solidFill>
            <a:srgbClr val="3333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560" y="4602240"/>
            <a:ext cx="3201840" cy="243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847" y="178"/>
                </a:moveTo>
                <a:arcTo wR="10800" hR="10800" stAng="-6025020" swAng="6423659"/>
                <a:lnTo>
                  <a:pt x="10800" y="10800"/>
                </a:lnTo>
                <a:close/>
              </a:path>
              <a:path fill="none" w="21600" h="21600">
                <a:moveTo>
                  <a:pt x="8847" y="178"/>
                </a:moveTo>
                <a:arcTo wR="10800" hR="10800" stAng="-6025020" swAng="6423659"/>
              </a:path>
            </a:pathLst>
          </a:custGeom>
          <a:noFill/>
          <a:ln w="22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9080" y="152316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ow?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238880" y="1935000"/>
            <a:ext cx="0" cy="335304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172200" y="1884240"/>
            <a:ext cx="2133720" cy="1080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enerating Growth:</a:t>
            </a:r>
            <a:r>
              <a:rPr b="1" lang="en-US" sz="15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99"/>
                </a:solidFill>
                <a:latin typeface="Arial"/>
              </a:rPr>
              <a:t>Through profitable marketing strategies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72200" y="3124080"/>
            <a:ext cx="2133720" cy="1080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mproving Asset Quality:</a:t>
            </a:r>
            <a:r>
              <a:rPr b="1" lang="en-US" sz="15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99"/>
                </a:solidFill>
                <a:latin typeface="Arial"/>
              </a:rPr>
              <a:t>Through enhanced risk management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72200" y="4481640"/>
            <a:ext cx="2133720" cy="153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creasing Operating Efficiency: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99"/>
                </a:solidFill>
                <a:latin typeface="Arial"/>
              </a:rPr>
              <a:t>Through technological innovation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19280" y="1613880"/>
            <a:ext cx="33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hat are banks trying to do?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952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 algn="ctr">
              <a:spcBef>
                <a:spcPts val="6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3366"/>
                </a:solidFill>
                <a:latin typeface="Verdana"/>
              </a:rPr>
              <a:t>out</a:t>
            </a:r>
            <a:endParaRPr b="0" lang="en-US" sz="106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p:transition>
    <p:dissolve/>
  </p:transition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0" dur="500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4647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ME Banking Is Difficult…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952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ME market knowledge is difficult to acquire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“</a:t>
            </a: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A Corporate” market composed of a few hundreds of large well-known companies,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vs.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A mass market composed of hundreds of thousands of SMEs in different Industry Sectors and Geographic areas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ME Risk is difficult to manage for traditional bank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Financial information on the business is scarce and often non reliable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SMEs are often under-capitalized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SMEs are often unable to provide adequate collaterals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SMEs lack Financial Management culture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ME banking has high cost-to-serve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One Corporate transaction can generate the same Net Banking Income as 50 SME transactions…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… </a:t>
            </a: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But is not much costlier to the Bank than 1 SME transaction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p:transition>
    <p:dissolve/>
  </p:transition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7" dur="500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2" dur="500"/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5" dur="500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6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6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6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1" dur="500"/>
                                        <p:tgtEl>
                                          <p:spTgt spid="6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4" dur="500"/>
                                        <p:tgtEl>
                                          <p:spTgt spid="6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7" dur="500"/>
                                        <p:tgtEl>
                                          <p:spTgt spid="6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2" dur="500"/>
                                        <p:tgtEl>
                                          <p:spTgt spid="6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7" dur="500"/>
                                        <p:tgtEl>
                                          <p:spTgt spid="6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0" dur="500"/>
                                        <p:tgtEl>
                                          <p:spTgt spid="6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4876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…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 Countries with the Adequate Environmen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952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Banking Regulation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Judicial System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Should enforce creditor rights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Should allow quick and efficient dispute resolution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Payment System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To improve productivity 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To develop value–added products with good service quality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ommunications, Infrastructure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Easy contact with customers and branches across country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redit Information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Credit-Information Sharing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p:transition>
    <p:dissolve/>
  </p:transition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7" dur="500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2" dur="500"/>
                                        <p:tgtEl>
                                          <p:spTgt spid="6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5" dur="500"/>
                                        <p:tgtEl>
                                          <p:spTgt spid="6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8" dur="500"/>
                                        <p:tgtEl>
                                          <p:spTgt spid="6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3" dur="500"/>
                                        <p:tgtEl>
                                          <p:spTgt spid="6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6" dur="500"/>
                                        <p:tgtEl>
                                          <p:spTgt spid="6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9" dur="500"/>
                                        <p:tgtEl>
                                          <p:spTgt spid="6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4" dur="500"/>
                                        <p:tgtEl>
                                          <p:spTgt spid="6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7" dur="500"/>
                                        <p:tgtEl>
                                          <p:spTgt spid="6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2" dur="500"/>
                                        <p:tgtEl>
                                          <p:spTgt spid="6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5" dur="500"/>
                                        <p:tgtEl>
                                          <p:spTgt spid="6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7149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3. Risk Management / Analytic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5105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1250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Use of advanced, cost effective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Verdana"/>
              </a:rPr>
              <a:t>tools &amp; processes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 for comprehensive risk management…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1250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… 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rom data capture &amp; management to data analysis and monitoring...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1250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… 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by possibly leveraging information derived from historical performance of SME clients…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1250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… 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and scoring experience of consumer credit underwriting (models, application processing, reporting)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1250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s supposes good coordination between portfolio management and collections departments, in particular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55" name=""/>
          <p:cNvSpPr/>
          <p:nvPr/>
        </p:nvSpPr>
        <p:spPr>
          <a:xfrm>
            <a:off x="8143920" y="533520"/>
            <a:ext cx="771480" cy="1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8258040" y="380880"/>
            <a:ext cx="266760" cy="282600"/>
          </a:xfrm>
          <a:custGeom>
            <a:avLst/>
            <a:gdLst>
              <a:gd name="textAreaLeft" fmla="*/ 0 w 266760"/>
              <a:gd name="textAreaRight" fmla="*/ 266760 w 2667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8448840" y="380880"/>
            <a:ext cx="266400" cy="282600"/>
          </a:xfrm>
          <a:custGeom>
            <a:avLst/>
            <a:gdLst>
              <a:gd name="textAreaLeft" fmla="*/ 0 w 266400"/>
              <a:gd name="textAreaRight" fmla="*/ 266760 w 26640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8629560" y="380880"/>
            <a:ext cx="266760" cy="282600"/>
          </a:xfrm>
          <a:custGeom>
            <a:avLst/>
            <a:gdLst>
              <a:gd name="textAreaLeft" fmla="*/ 0 w 266760"/>
              <a:gd name="textAreaRight" fmla="*/ 266760 w 2667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8124840" y="380880"/>
            <a:ext cx="200160" cy="282600"/>
          </a:xfrm>
          <a:custGeom>
            <a:avLst/>
            <a:gdLst>
              <a:gd name="textAreaLeft" fmla="*/ 0 w 200160"/>
              <a:gd name="textAreaRight" fmla="*/ 200520 w 2001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8124840" y="663480"/>
            <a:ext cx="714240" cy="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8124840" y="762120"/>
            <a:ext cx="714240" cy="9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2" dur="500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7" dur="500"/>
                                        <p:tgtEl>
                                          <p:spTgt spid="6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2" dur="500"/>
                                        <p:tgtEl>
                                          <p:spTgt spid="6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7" dur="500"/>
                                        <p:tgtEl>
                                          <p:spTgt spid="6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2" dur="500"/>
                                        <p:tgtEl>
                                          <p:spTgt spid="6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7507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 Unicode MS"/>
              </a:rPr>
              <a:t>Example of a Simple Scorecard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228600" y="914400"/>
            <a:ext cx="8748720" cy="5971680"/>
            <a:chOff x="228600" y="914400"/>
            <a:chExt cx="8748720" cy="5971680"/>
          </a:xfrm>
        </p:grpSpPr>
        <p:sp>
          <p:nvSpPr>
            <p:cNvPr id="664" name=""/>
            <p:cNvSpPr/>
            <p:nvPr/>
          </p:nvSpPr>
          <p:spPr>
            <a:xfrm>
              <a:off x="228600" y="938160"/>
              <a:ext cx="8710560" cy="5656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b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781280" y="3733920"/>
              <a:ext cx="6143400" cy="24120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787400" y="6016680"/>
              <a:ext cx="5135760" cy="30312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787400" y="5491080"/>
              <a:ext cx="3016440" cy="28116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787400" y="4905360"/>
              <a:ext cx="6142320" cy="27324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978200" y="4876920"/>
              <a:ext cx="560160" cy="6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&lt; .5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16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990800" y="5510160"/>
              <a:ext cx="1004760" cy="6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GT 100,000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	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	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27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947960" y="6019920"/>
              <a:ext cx="691920" cy="6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Yes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–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30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34960" y="4930920"/>
              <a:ext cx="8096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90000"/>
                </a:lnSpc>
                <a:spcBef>
                  <a:spcPts val="62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e3e3e3"/>
                  </a:solidFill>
                  <a:latin typeface="Arial Narrow"/>
                  <a:ea typeface="MS PGothic"/>
                </a:rPr>
                <a:t>Years </a:t>
              </a:r>
              <a:br>
                <a:rPr sz="1400"/>
              </a:br>
              <a:r>
                <a:rPr b="1" lang="en-US" sz="1400" spc="-1" strike="noStrike">
                  <a:solidFill>
                    <a:srgbClr val="e3e3e3"/>
                  </a:solidFill>
                  <a:latin typeface="Arial Narrow"/>
                  <a:ea typeface="MS PGothic"/>
                </a:rPr>
                <a:t>in Business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62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43080" y="5478480"/>
              <a:ext cx="11919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90000"/>
                </a:lnSpc>
                <a:spcBef>
                  <a:spcPts val="62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e3e3e3"/>
                  </a:solidFill>
                  <a:latin typeface="Arial Narrow"/>
                  <a:ea typeface="MS PGothic"/>
                </a:rPr>
                <a:t>Total Assets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01760" y="6060960"/>
              <a:ext cx="123804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90000"/>
                </a:lnSpc>
                <a:spcBef>
                  <a:spcPts val="62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e3e3e3"/>
                  </a:solidFill>
                  <a:latin typeface="Arial Narrow"/>
                  <a:ea typeface="MS PGothic"/>
                </a:rPr>
                <a:t>Negative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62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e3e3e3"/>
                  </a:solidFill>
                  <a:latin typeface="Arial Narrow"/>
                  <a:ea typeface="MS PGothic"/>
                </a:rPr>
                <a:t>File Information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156120" y="4876920"/>
              <a:ext cx="412560" cy="6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.5 – &lt; 2.5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20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141720" y="5526000"/>
              <a:ext cx="412560" cy="59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LT $100,000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18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994120" y="6019920"/>
              <a:ext cx="796680" cy="6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No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15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119480" y="4876920"/>
              <a:ext cx="412920" cy="6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2.5 – &lt; 5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27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084560" y="5526000"/>
              <a:ext cx="411120" cy="59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N I 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10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16480" y="6019920"/>
              <a:ext cx="797040" cy="6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No Investigation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0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176800" y="4876920"/>
              <a:ext cx="411120" cy="6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5 – &lt; 8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34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956200" y="6019920"/>
              <a:ext cx="898560" cy="6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N I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0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178680" y="4876920"/>
              <a:ext cx="455400" cy="6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8 – &lt; 15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38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787400" y="1506600"/>
              <a:ext cx="5127840" cy="25236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787400" y="2092320"/>
              <a:ext cx="6143760" cy="24120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787400" y="2619360"/>
              <a:ext cx="5127840" cy="26352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787400" y="3184560"/>
              <a:ext cx="7189920" cy="26820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787400" y="4330800"/>
              <a:ext cx="3021120" cy="26352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787400" y="920880"/>
              <a:ext cx="7175520" cy="26172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147760" y="1525680"/>
              <a:ext cx="352440" cy="59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Single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14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081160" y="2085840"/>
              <a:ext cx="486000" cy="6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0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14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124000" y="2590920"/>
              <a:ext cx="39996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Own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40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044800" y="3225960"/>
              <a:ext cx="558720" cy="59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&lt; 1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18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933560" y="3733920"/>
              <a:ext cx="781200" cy="59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Prof. Services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38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095560" y="4276800"/>
              <a:ext cx="457200" cy="6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Heavy Manuf.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8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66560" y="1565280"/>
              <a:ext cx="9892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90000"/>
                </a:lnSpc>
                <a:spcBef>
                  <a:spcPts val="62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e3e3e3"/>
                  </a:solidFill>
                  <a:latin typeface="Arial Narrow"/>
                  <a:ea typeface="MS PGothic"/>
                </a:rPr>
                <a:t>Marital </a:t>
              </a:r>
              <a:br>
                <a:rPr sz="1400"/>
              </a:br>
              <a:r>
                <a:rPr b="1" lang="en-US" sz="1400" spc="-1" strike="noStrike">
                  <a:solidFill>
                    <a:srgbClr val="e3e3e3"/>
                  </a:solidFill>
                  <a:latin typeface="Arial Narrow"/>
                  <a:ea typeface="MS PGothic"/>
                </a:rPr>
                <a:t>Status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23720" y="2109960"/>
              <a:ext cx="1074960" cy="3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90000"/>
                </a:lnSpc>
                <a:spcBef>
                  <a:spcPts val="62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e3e3e3"/>
                  </a:solidFill>
                  <a:latin typeface="Arial Narrow"/>
                  <a:ea typeface="MS PGothic"/>
                </a:rPr>
                <a:t># of </a:t>
              </a:r>
              <a:br>
                <a:rPr sz="1400"/>
              </a:br>
              <a:r>
                <a:rPr b="1" lang="en-US" sz="1400" spc="-1" strike="noStrike">
                  <a:solidFill>
                    <a:srgbClr val="e3e3e3"/>
                  </a:solidFill>
                  <a:latin typeface="Arial Narrow"/>
                  <a:ea typeface="MS PGothic"/>
                </a:rPr>
                <a:t>Dependents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65040" y="2698920"/>
              <a:ext cx="119232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90000"/>
                </a:lnSpc>
                <a:spcBef>
                  <a:spcPts val="62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e3e3e3"/>
                  </a:solidFill>
                  <a:latin typeface="Arial Narrow"/>
                  <a:ea typeface="MS PGothic"/>
                </a:rPr>
                <a:t>Residential </a:t>
              </a:r>
              <a:br>
                <a:rPr sz="1400"/>
              </a:br>
              <a:r>
                <a:rPr b="1" lang="en-US" sz="1400" spc="-1" strike="noStrike">
                  <a:solidFill>
                    <a:srgbClr val="e3e3e3"/>
                  </a:solidFill>
                  <a:latin typeface="Arial Narrow"/>
                  <a:ea typeface="MS PGothic"/>
                </a:rPr>
                <a:t>Status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54160" y="3251160"/>
              <a:ext cx="141444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90000"/>
                </a:lnSpc>
                <a:spcBef>
                  <a:spcPts val="62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e3e3e3"/>
                  </a:solidFill>
                  <a:latin typeface="Arial Narrow"/>
                  <a:ea typeface="MS PGothic"/>
                </a:rPr>
                <a:t>Years at </a:t>
              </a:r>
              <a:br>
                <a:rPr sz="1400"/>
              </a:br>
              <a:r>
                <a:rPr b="1" lang="en-US" sz="1400" spc="-1" strike="noStrike">
                  <a:solidFill>
                    <a:srgbClr val="e3e3e3"/>
                  </a:solidFill>
                  <a:latin typeface="Arial Narrow"/>
                  <a:ea typeface="MS PGothic"/>
                </a:rPr>
                <a:t>Address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88880" y="3887640"/>
              <a:ext cx="944640" cy="5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9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e3e3e3"/>
                  </a:solidFill>
                  <a:latin typeface="Arial Narrow"/>
                  <a:ea typeface="MS PGothic"/>
                </a:rPr>
                <a:t>Industry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74840" y="4375080"/>
              <a:ext cx="9730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90000"/>
                </a:lnSpc>
                <a:spcBef>
                  <a:spcPts val="62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e3e3e3"/>
                  </a:solidFill>
                  <a:latin typeface="Arial Narrow"/>
                  <a:ea typeface="MS PGothic"/>
                </a:rPr>
                <a:t>Industry - continued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986200" y="1525680"/>
              <a:ext cx="722160" cy="59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Married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30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949480" y="2085840"/>
              <a:ext cx="795600" cy="6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1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14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986200" y="2590920"/>
              <a:ext cx="72216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Rent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15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971800" y="3225960"/>
              <a:ext cx="750960" cy="59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1 – &lt; 3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20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076560" y="3733920"/>
              <a:ext cx="544680" cy="59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I.T.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35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048120" y="4276800"/>
              <a:ext cx="618840" cy="6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Others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27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906720" y="1525680"/>
              <a:ext cx="828720" cy="59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Divorced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5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084560" y="2085840"/>
              <a:ext cx="471600" cy="6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2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25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906720" y="2590920"/>
              <a:ext cx="82872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Parents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20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951360" y="3225960"/>
              <a:ext cx="738000" cy="59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3 – &lt; 6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25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900600" y="3733920"/>
              <a:ext cx="841320" cy="59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Other Services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30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011480" y="4276800"/>
              <a:ext cx="619200" cy="6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N I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27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925880" y="1525680"/>
              <a:ext cx="928800" cy="59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Other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14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045120" y="1501920"/>
              <a:ext cx="708120" cy="59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NI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14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132520" y="2085840"/>
              <a:ext cx="529920" cy="6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3 – 4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10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956120" y="2590920"/>
              <a:ext cx="82404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Company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18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146560" y="3225960"/>
              <a:ext cx="515880" cy="59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6 – &lt; 10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30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118120" y="3733920"/>
              <a:ext cx="588960" cy="59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Retail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27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118200" y="2085840"/>
              <a:ext cx="620640" cy="6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4 – High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5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956200" y="2590920"/>
              <a:ext cx="93024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N I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20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045120" y="3225960"/>
              <a:ext cx="752400" cy="59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10 – &lt; 15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33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237360" y="3733920"/>
              <a:ext cx="353880" cy="59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Catering.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20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254720" y="3225960"/>
              <a:ext cx="351000" cy="59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15 – High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40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077240" y="2085840"/>
              <a:ext cx="722160" cy="6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N I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14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073240" y="932040"/>
              <a:ext cx="5018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18 – &lt; 21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6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090960" y="932040"/>
              <a:ext cx="51588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21 – &lt; 25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10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025880" y="932040"/>
              <a:ext cx="59040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25 – &lt; 30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18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205240" y="932040"/>
              <a:ext cx="3542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30 – &lt; 40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26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30200" y="1022400"/>
              <a:ext cx="106200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e3e3e3"/>
                  </a:solidFill>
                  <a:latin typeface="Arial Narrow"/>
                  <a:ea typeface="MS PGothic"/>
                </a:rPr>
                <a:t>Age of Owner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731" name=""/>
            <p:cNvGrpSpPr/>
            <p:nvPr/>
          </p:nvGrpSpPr>
          <p:grpSpPr>
            <a:xfrm>
              <a:off x="260280" y="1506600"/>
              <a:ext cx="8710200" cy="5068800"/>
              <a:chOff x="260280" y="1506600"/>
              <a:chExt cx="8710200" cy="5068800"/>
            </a:xfrm>
          </p:grpSpPr>
          <p:sp>
            <p:nvSpPr>
              <p:cNvPr id="732" name=""/>
              <p:cNvSpPr/>
              <p:nvPr/>
            </p:nvSpPr>
            <p:spPr>
              <a:xfrm>
                <a:off x="260280" y="2060280"/>
                <a:ext cx="8710200" cy="0"/>
              </a:xfrm>
              <a:prstGeom prst="line">
                <a:avLst/>
              </a:prstGeom>
              <a:ln w="12600">
                <a:solidFill>
                  <a:srgbClr val="00b4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260280" y="2616120"/>
                <a:ext cx="8710200" cy="0"/>
              </a:xfrm>
              <a:prstGeom prst="line">
                <a:avLst/>
              </a:prstGeom>
              <a:ln w="12600">
                <a:solidFill>
                  <a:srgbClr val="00b4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260280" y="3740040"/>
                <a:ext cx="8710200" cy="0"/>
              </a:xfrm>
              <a:prstGeom prst="line">
                <a:avLst/>
              </a:prstGeom>
              <a:ln w="12600">
                <a:solidFill>
                  <a:srgbClr val="00b4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260280" y="3170160"/>
                <a:ext cx="8710200" cy="0"/>
              </a:xfrm>
              <a:prstGeom prst="line">
                <a:avLst/>
              </a:prstGeom>
              <a:ln w="12600">
                <a:solidFill>
                  <a:srgbClr val="00b4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260280" y="4327200"/>
                <a:ext cx="8697600" cy="0"/>
              </a:xfrm>
              <a:prstGeom prst="line">
                <a:avLst/>
              </a:prstGeom>
              <a:ln w="12600">
                <a:solidFill>
                  <a:srgbClr val="00b4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260280" y="1506600"/>
                <a:ext cx="8710200" cy="0"/>
              </a:xfrm>
              <a:prstGeom prst="line">
                <a:avLst/>
              </a:prstGeom>
              <a:ln w="12600">
                <a:solidFill>
                  <a:srgbClr val="00b4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260280" y="6575400"/>
                <a:ext cx="8710200" cy="0"/>
              </a:xfrm>
              <a:prstGeom prst="line">
                <a:avLst/>
              </a:prstGeom>
              <a:ln w="12600">
                <a:solidFill>
                  <a:srgbClr val="00b4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260280" y="6008400"/>
                <a:ext cx="8710200" cy="0"/>
              </a:xfrm>
              <a:prstGeom prst="line">
                <a:avLst/>
              </a:prstGeom>
              <a:ln w="12600">
                <a:solidFill>
                  <a:srgbClr val="00b4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272880" y="5465520"/>
                <a:ext cx="8697600" cy="0"/>
              </a:xfrm>
              <a:prstGeom prst="line">
                <a:avLst/>
              </a:prstGeom>
              <a:ln w="12600">
                <a:solidFill>
                  <a:srgbClr val="00b4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291960" y="4900320"/>
                <a:ext cx="8659080" cy="0"/>
              </a:xfrm>
              <a:prstGeom prst="line">
                <a:avLst/>
              </a:prstGeom>
              <a:ln w="25560">
                <a:solidFill>
                  <a:srgbClr val="ff2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742" name=""/>
            <p:cNvSpPr/>
            <p:nvPr/>
          </p:nvSpPr>
          <p:spPr>
            <a:xfrm>
              <a:off x="6251400" y="932040"/>
              <a:ext cx="3542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40 – &lt; 50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35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254720" y="932040"/>
              <a:ext cx="35100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50 – High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42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8299440" y="932040"/>
              <a:ext cx="35388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N I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10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8269200" y="3225960"/>
              <a:ext cx="354240" cy="59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N I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25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269120" y="3733920"/>
              <a:ext cx="353880" cy="59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Building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10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180200" y="4876920"/>
              <a:ext cx="457200" cy="6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N I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20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787480" y="914400"/>
              <a:ext cx="0" cy="5656320"/>
            </a:xfrm>
            <a:prstGeom prst="line">
              <a:avLst/>
            </a:prstGeom>
            <a:ln w="12600">
              <a:solidFill>
                <a:srgbClr val="00b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805200" y="914400"/>
              <a:ext cx="0" cy="5656320"/>
            </a:xfrm>
            <a:prstGeom prst="line">
              <a:avLst/>
            </a:prstGeom>
            <a:ln w="12600">
              <a:solidFill>
                <a:srgbClr val="00b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808520" y="914400"/>
              <a:ext cx="0" cy="5095800"/>
            </a:xfrm>
            <a:prstGeom prst="line">
              <a:avLst/>
            </a:prstGeom>
            <a:ln w="12600">
              <a:solidFill>
                <a:srgbClr val="00b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869080" y="914400"/>
              <a:ext cx="0" cy="5656320"/>
            </a:xfrm>
            <a:prstGeom prst="line">
              <a:avLst/>
            </a:prstGeom>
            <a:ln w="12600">
              <a:solidFill>
                <a:srgbClr val="00b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915240" y="914400"/>
              <a:ext cx="0" cy="5656320"/>
            </a:xfrm>
            <a:prstGeom prst="line">
              <a:avLst/>
            </a:prstGeom>
            <a:ln w="12600">
              <a:solidFill>
                <a:srgbClr val="00b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8977320" y="914400"/>
              <a:ext cx="0" cy="5656320"/>
            </a:xfrm>
            <a:prstGeom prst="line">
              <a:avLst/>
            </a:prstGeom>
            <a:ln w="12600">
              <a:solidFill>
                <a:srgbClr val="00b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931160" y="923760"/>
              <a:ext cx="0" cy="5646960"/>
            </a:xfrm>
            <a:prstGeom prst="line">
              <a:avLst/>
            </a:prstGeom>
            <a:ln w="12600">
              <a:solidFill>
                <a:srgbClr val="00b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771560" y="914400"/>
              <a:ext cx="0" cy="5656320"/>
            </a:xfrm>
            <a:prstGeom prst="line">
              <a:avLst/>
            </a:prstGeom>
            <a:ln w="12600">
              <a:solidFill>
                <a:srgbClr val="00b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911760" y="6707160"/>
              <a:ext cx="1374480" cy="1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700" spc="-1" strike="noStrike">
                  <a:solidFill>
                    <a:srgbClr val="00a8f0"/>
                  </a:solidFill>
                  <a:latin typeface="Arial Narrow"/>
                  <a:ea typeface="MS PGothic"/>
                </a:rPr>
                <a:t>© 1995 Fair, Isaac and Co, Inc.</a:t>
              </a:r>
              <a:endParaRPr b="0" lang="en-US" sz="7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757" name=""/>
          <p:cNvSpPr/>
          <p:nvPr/>
        </p:nvSpPr>
        <p:spPr>
          <a:xfrm>
            <a:off x="291960" y="-152280"/>
            <a:ext cx="7086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3. Risk Management / Analytics (Contd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8143920" y="533520"/>
            <a:ext cx="771480" cy="1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8258040" y="380880"/>
            <a:ext cx="266760" cy="282600"/>
          </a:xfrm>
          <a:custGeom>
            <a:avLst/>
            <a:gdLst>
              <a:gd name="textAreaLeft" fmla="*/ 0 w 266760"/>
              <a:gd name="textAreaRight" fmla="*/ 266760 w 2667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8448840" y="380880"/>
            <a:ext cx="266400" cy="282600"/>
          </a:xfrm>
          <a:custGeom>
            <a:avLst/>
            <a:gdLst>
              <a:gd name="textAreaLeft" fmla="*/ 0 w 266400"/>
              <a:gd name="textAreaRight" fmla="*/ 266760 w 26640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8629560" y="380880"/>
            <a:ext cx="266760" cy="282600"/>
          </a:xfrm>
          <a:custGeom>
            <a:avLst/>
            <a:gdLst>
              <a:gd name="textAreaLeft" fmla="*/ 0 w 266760"/>
              <a:gd name="textAreaRight" fmla="*/ 266760 w 2667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8124840" y="380880"/>
            <a:ext cx="200160" cy="282600"/>
          </a:xfrm>
          <a:custGeom>
            <a:avLst/>
            <a:gdLst>
              <a:gd name="textAreaLeft" fmla="*/ 0 w 200160"/>
              <a:gd name="textAreaRight" fmla="*/ 200520 w 2001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8124840" y="663480"/>
            <a:ext cx="714240" cy="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8124840" y="762120"/>
            <a:ext cx="714240" cy="9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052280" y="456840"/>
            <a:ext cx="740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 Unicode MS"/>
              </a:rPr>
              <a:t>Evaluating the Credit Applicant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6" name=""/>
          <p:cNvSpPr/>
          <p:nvPr/>
        </p:nvSpPr>
        <p:spPr>
          <a:xfrm>
            <a:off x="-119160" y="909720"/>
            <a:ext cx="9261720" cy="59468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-119160" y="3327480"/>
            <a:ext cx="9263160" cy="3530520"/>
          </a:xfrm>
          <a:custGeom>
            <a:avLst/>
            <a:gdLst/>
            <a:ahLst/>
            <a:rect l="l" t="t" r="r" b="b"/>
            <a:pathLst>
              <a:path w="5834" h="2224">
                <a:moveTo>
                  <a:pt x="0" y="0"/>
                </a:moveTo>
                <a:lnTo>
                  <a:pt x="0" y="2223"/>
                </a:lnTo>
                <a:lnTo>
                  <a:pt x="5833" y="2223"/>
                </a:lnTo>
                <a:lnTo>
                  <a:pt x="5833" y="0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2fb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160200" y="1052640"/>
            <a:ext cx="8840520" cy="5591160"/>
            <a:chOff x="160200" y="1052640"/>
            <a:chExt cx="8840520" cy="5591160"/>
          </a:xfrm>
        </p:grpSpPr>
        <p:sp>
          <p:nvSpPr>
            <p:cNvPr id="769" name=""/>
            <p:cNvSpPr/>
            <p:nvPr/>
          </p:nvSpPr>
          <p:spPr>
            <a:xfrm>
              <a:off x="6371640" y="1052640"/>
              <a:ext cx="2629080" cy="5591160"/>
            </a:xfrm>
            <a:prstGeom prst="rect">
              <a:avLst/>
            </a:prstGeom>
            <a:gradFill rotWithShape="0">
              <a:gsLst>
                <a:gs pos="0">
                  <a:srgbClr val="002fbc"/>
                </a:gs>
                <a:gs pos="100000">
                  <a:srgbClr val="000d3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1c7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526200" y="1052640"/>
              <a:ext cx="2667240" cy="5591160"/>
            </a:xfrm>
            <a:prstGeom prst="rect">
              <a:avLst/>
            </a:prstGeom>
            <a:gradFill rotWithShape="0">
              <a:gsLst>
                <a:gs pos="0">
                  <a:srgbClr val="002fbc"/>
                </a:gs>
                <a:gs pos="100000">
                  <a:srgbClr val="000d3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1c7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60200" y="1067040"/>
              <a:ext cx="3188160" cy="5576760"/>
            </a:xfrm>
            <a:prstGeom prst="rect">
              <a:avLst/>
            </a:prstGeom>
            <a:gradFill rotWithShape="0">
              <a:gsLst>
                <a:gs pos="0">
                  <a:srgbClr val="002fbc"/>
                </a:gs>
                <a:gs pos="100000">
                  <a:srgbClr val="000d3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1c7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772" name=""/>
          <p:cNvSpPr/>
          <p:nvPr/>
        </p:nvSpPr>
        <p:spPr>
          <a:xfrm>
            <a:off x="452520" y="1081080"/>
            <a:ext cx="25146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e9aa"/>
                </a:solidFill>
                <a:latin typeface="Arial Narrow"/>
                <a:ea typeface="MS PGothic"/>
              </a:rPr>
              <a:t>C H A R A C T E R I S T I 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059360" y="1081080"/>
            <a:ext cx="15890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e9aa"/>
                </a:solidFill>
                <a:latin typeface="Arial Narrow"/>
                <a:ea typeface="MS PGothic"/>
              </a:rPr>
              <a:t>J U D G M E N 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423120" y="1081080"/>
            <a:ext cx="24890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e9aa"/>
                </a:solidFill>
                <a:latin typeface="Arial Narrow"/>
                <a:ea typeface="MS PGothic"/>
              </a:rPr>
              <a:t>C R E D I T   S C O R I N G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427640" y="1523880"/>
            <a:ext cx="788760" cy="46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398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MS PGothic"/>
              </a:rPr>
              <a:t>+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MS PGothic"/>
              </a:rPr>
              <a:t>–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MS PGothic"/>
              </a:rPr>
              <a:t>+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MS PGothic"/>
              </a:rPr>
              <a:t>–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MS PGothic"/>
              </a:rPr>
              <a:t>+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MS PGothic"/>
              </a:rPr>
              <a:t>–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MS PGothic"/>
              </a:rPr>
              <a:t>–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MS PGothic"/>
              </a:rPr>
              <a:t>+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MS PGothic"/>
              </a:rPr>
              <a:t>+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413480" y="1523880"/>
            <a:ext cx="787680" cy="50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398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MS PGothic"/>
              </a:rPr>
              <a:t>26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MS PGothic"/>
              </a:rPr>
              <a:t>14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MS PGothic"/>
              </a:rPr>
              <a:t>25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MS PGothic"/>
              </a:rPr>
              <a:t>18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MS PGothic"/>
              </a:rPr>
              <a:t>25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MS PGothic"/>
              </a:rPr>
              <a:t>20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MS PGothic"/>
              </a:rPr>
              <a:t>20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MS PGothic"/>
              </a:rPr>
              <a:t>27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MS PGothic"/>
              </a:rPr>
              <a:t>15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49120" y="1523880"/>
            <a:ext cx="2768760" cy="49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398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MS PGothic"/>
              </a:rPr>
              <a:t>Ag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2398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MS PGothic"/>
              </a:rPr>
              <a:t>Marital statu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2398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MS PGothic"/>
              </a:rPr>
              <a:t># of dependent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2398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MS PGothic"/>
              </a:rPr>
              <a:t>Residential statu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2398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MS PGothic"/>
              </a:rPr>
              <a:t>Time at addres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2398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MS PGothic"/>
              </a:rPr>
              <a:t>Industry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2398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MS PGothic"/>
              </a:rPr>
              <a:t>Time in Busines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2398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MS PGothic"/>
              </a:rPr>
              <a:t>Total Asset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2398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MS PGothic"/>
              </a:rPr>
              <a:t>Negative file information</a:t>
            </a:r>
            <a:br>
              <a:rPr sz="2000"/>
            </a:b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338720" y="5870520"/>
            <a:ext cx="1120680" cy="960480"/>
          </a:xfrm>
          <a:custGeom>
            <a:avLst/>
            <a:gdLst/>
            <a:ahLst/>
            <a:rect l="l" t="t" r="r" b="b"/>
            <a:pathLst>
              <a:path w="705" h="605">
                <a:moveTo>
                  <a:pt x="192" y="279"/>
                </a:moveTo>
                <a:lnTo>
                  <a:pt x="72" y="135"/>
                </a:lnTo>
                <a:lnTo>
                  <a:pt x="272" y="207"/>
                </a:lnTo>
                <a:lnTo>
                  <a:pt x="232" y="90"/>
                </a:lnTo>
                <a:lnTo>
                  <a:pt x="320" y="189"/>
                </a:lnTo>
                <a:lnTo>
                  <a:pt x="480" y="0"/>
                </a:lnTo>
                <a:lnTo>
                  <a:pt x="432" y="216"/>
                </a:lnTo>
                <a:lnTo>
                  <a:pt x="600" y="171"/>
                </a:lnTo>
                <a:lnTo>
                  <a:pt x="488" y="270"/>
                </a:lnTo>
                <a:lnTo>
                  <a:pt x="704" y="361"/>
                </a:lnTo>
                <a:lnTo>
                  <a:pt x="480" y="361"/>
                </a:lnTo>
                <a:lnTo>
                  <a:pt x="560" y="514"/>
                </a:lnTo>
                <a:lnTo>
                  <a:pt x="424" y="460"/>
                </a:lnTo>
                <a:lnTo>
                  <a:pt x="424" y="604"/>
                </a:lnTo>
                <a:lnTo>
                  <a:pt x="312" y="478"/>
                </a:lnTo>
                <a:lnTo>
                  <a:pt x="144" y="577"/>
                </a:lnTo>
                <a:lnTo>
                  <a:pt x="232" y="442"/>
                </a:lnTo>
                <a:lnTo>
                  <a:pt x="0" y="352"/>
                </a:lnTo>
                <a:lnTo>
                  <a:pt x="192" y="288"/>
                </a:lnTo>
              </a:path>
            </a:pathLst>
          </a:custGeom>
          <a:solidFill>
            <a:srgbClr val="ff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568760" y="6100920"/>
            <a:ext cx="68580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66"/>
                </a:solidFill>
                <a:latin typeface="Arial Narrow"/>
                <a:ea typeface="MS PGothic"/>
              </a:rPr>
              <a:t>?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73160" y="1449360"/>
            <a:ext cx="8802720" cy="0"/>
          </a:xfrm>
          <a:prstGeom prst="line">
            <a:avLst/>
          </a:prstGeom>
          <a:ln w="25560">
            <a:solidFill>
              <a:srgbClr val="ff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60200" y="5065560"/>
            <a:ext cx="8815680" cy="0"/>
          </a:xfrm>
          <a:prstGeom prst="line">
            <a:avLst/>
          </a:prstGeom>
          <a:ln w="25560">
            <a:solidFill>
              <a:srgbClr val="ff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66680" y="5942160"/>
            <a:ext cx="8827920" cy="0"/>
          </a:xfrm>
          <a:prstGeom prst="line">
            <a:avLst/>
          </a:prstGeom>
          <a:ln w="12600">
            <a:solidFill>
              <a:srgbClr val="ff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66680" y="5899320"/>
            <a:ext cx="8827920" cy="0"/>
          </a:xfrm>
          <a:prstGeom prst="line">
            <a:avLst/>
          </a:prstGeom>
          <a:ln w="12600">
            <a:solidFill>
              <a:srgbClr val="ff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36520" y="4913280"/>
            <a:ext cx="210816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10960" y="6114960"/>
            <a:ext cx="284508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699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 Narrow"/>
                <a:ea typeface="MS PGothic"/>
              </a:rPr>
              <a:t>ODDS OF</a:t>
            </a:r>
            <a:r>
              <a:rPr b="1" lang="en-US" sz="2000" spc="-1" strike="noStrike">
                <a:solidFill>
                  <a:srgbClr val="3333cc"/>
                </a:solidFill>
                <a:latin typeface="Arial Narrow"/>
                <a:ea typeface="MS PGothic"/>
              </a:rPr>
              <a:t> </a:t>
            </a:r>
            <a:r>
              <a:rPr b="1" lang="en-US" sz="2000" spc="-1" strike="noStrike">
                <a:solidFill>
                  <a:srgbClr val="ffcc66"/>
                </a:solidFill>
                <a:latin typeface="Arial Narrow"/>
                <a:ea typeface="MS PGothic"/>
              </a:rPr>
              <a:t>REPAYMEN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7350120" y="6086520"/>
            <a:ext cx="9144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699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 Narrow"/>
                <a:ea typeface="MS PGothic"/>
              </a:rPr>
              <a:t>95%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77120" y="5105520"/>
            <a:ext cx="11797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MS PGothic"/>
              </a:rPr>
              <a:t>OVERA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MS PGothic"/>
              </a:rPr>
              <a:t>Decisio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376160" y="5105520"/>
            <a:ext cx="87804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ts val="2398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MS PGothic"/>
              </a:rPr>
              <a:t>+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MS PGothic"/>
              </a:rPr>
              <a:t>Accep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7368480" y="5105520"/>
            <a:ext cx="87804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ts val="2398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MS PGothic"/>
              </a:rPr>
              <a:t>19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MS PGothic"/>
              </a:rPr>
              <a:t>Accep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836880" y="6661080"/>
            <a:ext cx="136224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700" spc="-1" strike="noStrike">
                <a:solidFill>
                  <a:srgbClr val="00a8f0"/>
                </a:solidFill>
                <a:latin typeface="Arial Narrow"/>
                <a:ea typeface="MS PGothic"/>
              </a:rPr>
              <a:t>© 1995 Fair, Isaac and Co, Inc.</a:t>
            </a:r>
            <a:endParaRPr b="0" lang="en-US" sz="7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26880" y="-152280"/>
            <a:ext cx="7086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3. Risk Management / Analytics (Contd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8143920" y="533520"/>
            <a:ext cx="771480" cy="1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8258040" y="380880"/>
            <a:ext cx="266760" cy="282600"/>
          </a:xfrm>
          <a:custGeom>
            <a:avLst/>
            <a:gdLst>
              <a:gd name="textAreaLeft" fmla="*/ 0 w 266760"/>
              <a:gd name="textAreaRight" fmla="*/ 266760 w 2667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8448840" y="380880"/>
            <a:ext cx="266400" cy="282600"/>
          </a:xfrm>
          <a:custGeom>
            <a:avLst/>
            <a:gdLst>
              <a:gd name="textAreaLeft" fmla="*/ 0 w 266400"/>
              <a:gd name="textAreaRight" fmla="*/ 266760 w 26640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8629560" y="380880"/>
            <a:ext cx="266760" cy="282600"/>
          </a:xfrm>
          <a:custGeom>
            <a:avLst/>
            <a:gdLst>
              <a:gd name="textAreaLeft" fmla="*/ 0 w 266760"/>
              <a:gd name="textAreaRight" fmla="*/ 266760 w 2667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8124840" y="380880"/>
            <a:ext cx="200160" cy="282600"/>
          </a:xfrm>
          <a:custGeom>
            <a:avLst/>
            <a:gdLst>
              <a:gd name="textAreaLeft" fmla="*/ 0 w 200160"/>
              <a:gd name="textAreaRight" fmla="*/ 200520 w 2001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8124840" y="663480"/>
            <a:ext cx="714240" cy="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8124840" y="762120"/>
            <a:ext cx="714240" cy="9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9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2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5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8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1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4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7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4647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cop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952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Verdana"/>
              </a:rPr>
              <a:t>Taken out of this presentation but important: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Right environment is needed: credit bureaus, appropriate tax system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Leasing is definitely part of SME banking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Elements on program lending, scoring…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Verdana"/>
              </a:rPr>
              <a:t>What is left?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Holistic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Hybrid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Project/change managemen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Execution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p:transition>
    <p:dissolv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4647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Key messages / Presentation Outlin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952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ME banking, although difficult, can be highly profitable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Differences across markets tend to disappear with the globalization of the financial services industry.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In practice, it means that targeting SMEs impacts the entire value chain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Based on this, several types of strategies can emerge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Implementation is critica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p:transition>
    <p:dissolv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5575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ME Banking Can Be Highly Profitabl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952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In the US, the SME segment generates higher return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83840" y="2286000"/>
            <a:ext cx="8021880" cy="3409200"/>
            <a:chOff x="483840" y="2286000"/>
            <a:chExt cx="8021880" cy="3409200"/>
          </a:xfrm>
        </p:grpSpPr>
        <p:sp>
          <p:nvSpPr>
            <p:cNvPr id="76" name=""/>
            <p:cNvSpPr/>
            <p:nvPr/>
          </p:nvSpPr>
          <p:spPr>
            <a:xfrm>
              <a:off x="1514520" y="5695200"/>
              <a:ext cx="671004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1514520" y="2286000"/>
              <a:ext cx="0" cy="340920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965360" y="4920480"/>
              <a:ext cx="54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Verdana"/>
                </a:rPr>
                <a:t>ROE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3840" y="2286000"/>
              <a:ext cx="831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Verdana"/>
                </a:rPr>
                <a:t>Market</a:t>
              </a:r>
              <a:br>
                <a:rPr sz="1400"/>
              </a:br>
              <a:r>
                <a:rPr b="1" lang="en-US" sz="1400" spc="-1" strike="noStrike">
                  <a:solidFill>
                    <a:srgbClr val="003366"/>
                  </a:solidFill>
                  <a:latin typeface="Verdana"/>
                </a:rPr>
                <a:t> Size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898280" y="2376000"/>
              <a:ext cx="1629360" cy="16466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342320" y="2873160"/>
              <a:ext cx="1102680" cy="1272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5280" y="4348800"/>
              <a:ext cx="862560" cy="10368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582440" y="4717080"/>
              <a:ext cx="670680" cy="8236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115680" y="3771000"/>
              <a:ext cx="812880" cy="11494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110760" y="2286000"/>
              <a:ext cx="94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Verdana"/>
                </a:rPr>
                <a:t>Insurance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264280" y="2440440"/>
              <a:ext cx="997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Verdana"/>
                </a:rPr>
                <a:t>Consumer </a:t>
              </a:r>
              <a:br>
                <a:rPr sz="1200"/>
              </a:br>
              <a:r>
                <a:rPr b="1" lang="en-US" sz="1200" spc="-1" strike="noStrike">
                  <a:solidFill>
                    <a:srgbClr val="003366"/>
                  </a:solidFill>
                  <a:latin typeface="Verdana"/>
                </a:rPr>
                <a:t>Credit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95080" y="4765320"/>
              <a:ext cx="685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Verdana"/>
                </a:rPr>
                <a:t>Credit </a:t>
              </a:r>
              <a:br>
                <a:rPr sz="1200"/>
              </a:br>
              <a:r>
                <a:rPr b="1" lang="en-US" sz="1200" spc="-1" strike="noStrike">
                  <a:solidFill>
                    <a:srgbClr val="003366"/>
                  </a:solidFill>
                  <a:latin typeface="Verdana"/>
                </a:rPr>
                <a:t>Cards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826720" y="4778640"/>
              <a:ext cx="1002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Verdana"/>
                </a:rPr>
                <a:t>Mortgages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23720" y="3215880"/>
              <a:ext cx="813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Verdana"/>
                </a:rPr>
                <a:t>SME </a:t>
              </a:r>
              <a:br>
                <a:rPr sz="1200"/>
              </a:br>
              <a:r>
                <a:rPr b="1" lang="en-US" sz="1200" spc="-1" strike="noStrike">
                  <a:solidFill>
                    <a:srgbClr val="003366"/>
                  </a:solidFill>
                  <a:latin typeface="Verdana"/>
                </a:rPr>
                <a:t>Banking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-304920" y="1066680"/>
            <a:ext cx="9753840" cy="67057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-457560" y="990360"/>
            <a:ext cx="9906120" cy="2057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In a number of Emerging Markets, some banks also generate high 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returns in the SME segmen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Verdana"/>
              </a:rPr>
              <a:t>Example of a bank in South East Asia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-304920" y="6781680"/>
            <a:ext cx="9906120" cy="2514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304560" y="-360"/>
            <a:ext cx="5575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ME Banking Can Be Highly Profitable (Contd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ifferences across markets…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952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Leading wholesale banks in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US and Europe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Main European Banks 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and some others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   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Most other banks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2133720"/>
            <a:ext cx="2590920" cy="25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66"/>
                </a:solidFill>
                <a:latin typeface="Verdana"/>
              </a:rPr>
              <a:t>Credit portfolio is: 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66"/>
                </a:solidFill>
                <a:latin typeface="Verdana"/>
              </a:rPr>
              <a:t>Managed actively 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66"/>
                </a:solidFill>
                <a:latin typeface="Verdana"/>
              </a:rPr>
              <a:t>(ex: secondary market 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66"/>
                </a:solidFill>
                <a:latin typeface="Verdana"/>
              </a:rPr>
              <a:t>activities)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66"/>
                </a:solidFill>
                <a:latin typeface="Verdana"/>
              </a:rPr>
              <a:t>Managed like a profit 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66"/>
                </a:solidFill>
                <a:latin typeface="Verdana"/>
              </a:rPr>
              <a:t>center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66"/>
                </a:solidFill>
                <a:latin typeface="Verdana"/>
              </a:rPr>
              <a:t>Linked to overall 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66"/>
                </a:solidFill>
                <a:latin typeface="Verdana"/>
              </a:rPr>
              <a:t>balance sheet 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66"/>
                </a:solidFill>
                <a:latin typeface="Verdana"/>
              </a:rPr>
              <a:t>management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5880" y="3886200"/>
            <a:ext cx="2590920" cy="243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66"/>
                </a:solidFill>
                <a:latin typeface="Verdana"/>
              </a:rPr>
              <a:t>Credit assessment done 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66"/>
                </a:solidFill>
                <a:latin typeface="Verdana"/>
              </a:rPr>
              <a:t>in a “traditional” way. 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66"/>
                </a:solidFill>
                <a:latin typeface="Verdana"/>
              </a:rPr>
              <a:t>Many processes remain 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66"/>
                </a:solidFill>
                <a:latin typeface="Verdana"/>
              </a:rPr>
              <a:t>lengthy and costly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66"/>
                </a:solidFill>
                <a:latin typeface="Verdana"/>
              </a:rPr>
              <a:t>No systematic rating, 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66"/>
                </a:solidFill>
                <a:latin typeface="Verdana"/>
              </a:rPr>
              <a:t>implementation of 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66"/>
                </a:solidFill>
                <a:latin typeface="Verdana"/>
              </a:rPr>
              <a:t>RAROC concepts nor 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66"/>
                </a:solidFill>
                <a:latin typeface="Verdana"/>
              </a:rPr>
              <a:t>link between credit 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66"/>
                </a:solidFill>
                <a:latin typeface="Verdana"/>
              </a:rPr>
              <a:t>worthiness and pricing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62240" y="2895480"/>
            <a:ext cx="2705040" cy="26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66"/>
                </a:solidFill>
                <a:latin typeface="Verdana"/>
              </a:rPr>
              <a:t>Credit rating is used for 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66"/>
                </a:solidFill>
                <a:latin typeface="Verdana"/>
              </a:rPr>
              <a:t>key business decisions 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66"/>
                </a:solidFill>
                <a:latin typeface="Verdana"/>
              </a:rPr>
              <a:t>(pricing, capital allocation)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66"/>
                </a:solidFill>
                <a:latin typeface="Verdana"/>
              </a:rPr>
              <a:t>Credit portfolio exposure, 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66"/>
                </a:solidFill>
                <a:latin typeface="Verdana"/>
              </a:rPr>
              <a:t>risk and profitability are 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66"/>
                </a:solidFill>
                <a:latin typeface="Verdana"/>
              </a:rPr>
              <a:t>measured 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66"/>
                </a:solidFill>
                <a:latin typeface="Verdana"/>
              </a:rPr>
              <a:t>Some processes often 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66"/>
                </a:solidFill>
                <a:latin typeface="Verdana"/>
              </a:rPr>
              <a:t>remain lengthy and costly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1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1752480"/>
            <a:ext cx="2286000" cy="441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…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end to Disappear with the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Globalization of the Financial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ervices Industry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905120"/>
            <a:ext cx="23623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1360" indent="-171360">
              <a:lnSpc>
                <a:spcPct val="85000"/>
              </a:lnSpc>
              <a:spcAft>
                <a:spcPts val="499"/>
              </a:spcAft>
              <a:buClr>
                <a:srgbClr val="0033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Growing competitio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171360" indent="-171360">
              <a:lnSpc>
                <a:spcPct val="85000"/>
              </a:lnSpc>
              <a:spcAft>
                <a:spcPts val="499"/>
              </a:spcAft>
              <a:buClr>
                <a:srgbClr val="0033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Opportunity to charge higher interests and transaction fees to SME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171360" indent="-171360">
              <a:lnSpc>
                <a:spcPct val="85000"/>
              </a:lnSpc>
              <a:spcAft>
                <a:spcPts val="499"/>
              </a:spcAft>
              <a:buClr>
                <a:srgbClr val="0033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Need to diversify portfolio to lower overall risk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171360" indent="-171360">
              <a:lnSpc>
                <a:spcPct val="85000"/>
              </a:lnSpc>
              <a:spcAft>
                <a:spcPts val="499"/>
              </a:spcAft>
              <a:buClr>
                <a:srgbClr val="0033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Information technologies lowering costs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24080" y="2971800"/>
            <a:ext cx="23623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1360" indent="-171360">
              <a:lnSpc>
                <a:spcPct val="85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Banks have an incentive to tap new markets 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2071440" y="3382920"/>
            <a:ext cx="2057400" cy="35244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941720" y="1752480"/>
            <a:ext cx="4267080" cy="4038480"/>
            <a:chOff x="4941720" y="1752480"/>
            <a:chExt cx="4267080" cy="4038480"/>
          </a:xfrm>
        </p:grpSpPr>
        <p:grpSp>
          <p:nvGrpSpPr>
            <p:cNvPr id="106" name=""/>
            <p:cNvGrpSpPr/>
            <p:nvPr/>
          </p:nvGrpSpPr>
          <p:grpSpPr>
            <a:xfrm>
              <a:off x="4941720" y="1752480"/>
              <a:ext cx="4267080" cy="4038480"/>
              <a:chOff x="4941720" y="1752480"/>
              <a:chExt cx="4267080" cy="4038480"/>
            </a:xfrm>
          </p:grpSpPr>
          <p:sp>
            <p:nvSpPr>
              <p:cNvPr id="107" name=""/>
              <p:cNvSpPr/>
              <p:nvPr/>
            </p:nvSpPr>
            <p:spPr>
              <a:xfrm flipH="1">
                <a:off x="6922440" y="2639880"/>
                <a:ext cx="68580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108" name=""/>
              <p:cNvGrpSpPr/>
              <p:nvPr/>
            </p:nvGrpSpPr>
            <p:grpSpPr>
              <a:xfrm>
                <a:off x="4941720" y="1752480"/>
                <a:ext cx="4267080" cy="4038480"/>
                <a:chOff x="4941720" y="1752480"/>
                <a:chExt cx="4267080" cy="403848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7761240" y="4128840"/>
                  <a:ext cx="144756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66"/>
                      </a:solidFill>
                      <a:latin typeface="Verdana"/>
                    </a:rPr>
                    <a:t>Under-served Market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7527600" y="2376720"/>
                  <a:ext cx="99072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66"/>
                      </a:solidFill>
                      <a:latin typeface="Verdana"/>
                    </a:rPr>
                    <a:t>Current 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66"/>
                      </a:solidFill>
                      <a:latin typeface="Verdana"/>
                    </a:rPr>
                    <a:t>Clients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4941720" y="1765080"/>
                  <a:ext cx="3352680" cy="40258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ccecff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5991120" y="1752480"/>
                  <a:ext cx="1235160" cy="1476360"/>
                </a:xfrm>
                <a:prstGeom prst="triangle">
                  <a:avLst>
                    <a:gd name="adj" fmla="val 49870"/>
                  </a:avLst>
                </a:prstGeom>
                <a:solidFill>
                  <a:srgbClr val="3333cc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 rot="5400000">
                  <a:off x="6298920" y="3041280"/>
                  <a:ext cx="693720" cy="858960"/>
                </a:xfrm>
                <a:prstGeom prst="rightArrow">
                  <a:avLst>
                    <a:gd name="adj1" fmla="val 50000"/>
                    <a:gd name="adj2" fmla="val 25000"/>
                  </a:avLst>
                </a:prstGeom>
                <a:solidFill>
                  <a:srgbClr val="808080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5475240" y="4340160"/>
                  <a:ext cx="229536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66"/>
                      </a:solidFill>
                      <a:latin typeface="Verdana"/>
                    </a:rPr>
                    <a:t>SMEs, Microenter-prises &amp; </a:t>
                  </a: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66"/>
                      </a:solidFill>
                      <a:latin typeface="Verdana"/>
                    </a:rPr>
                    <a:t>Mass-market</a:t>
                  </a: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5932440" y="2347560"/>
                  <a:ext cx="1360440" cy="77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Verdana"/>
                    </a:rPr>
                    <a:t>Large 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Verdana"/>
                    </a:rPr>
                    <a:t>Cos 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Verdana"/>
                    </a:rPr>
                    <a:t>and 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Verdana"/>
                    </a:rPr>
                    <a:t>“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Verdana"/>
                    </a:rPr>
                    <a:t>A” Clients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6" name=""/>
            <p:cNvSpPr/>
            <p:nvPr/>
          </p:nvSpPr>
          <p:spPr>
            <a:xfrm flipH="1">
              <a:off x="7220880" y="4271760"/>
              <a:ext cx="54468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0T11:35:45Z</dcterms:created>
  <dc:creator>Ary NAIM</dc:creator>
  <dc:description/>
  <dc:language>en-US</dc:language>
  <cp:lastModifiedBy>grung</cp:lastModifiedBy>
  <dcterms:modified xsi:type="dcterms:W3CDTF">2005-05-10T19:05:15Z</dcterms:modified>
  <cp:revision>256</cp:revision>
  <dc:subject/>
  <dc:title>Histoire</dc:title>
</cp:coreProperties>
</file>