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7D13-DEA6-40C2-B225-49EF67CA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1BE8-8BBF-468E-9043-00A69651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49BE-7513-4149-AA8B-CA29D86F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BCEB-B6F4-4739-BDFF-E1B49C7B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4EE9-D454-4EDB-9C35-F629FE50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58F0-13C6-469A-BEBF-43460138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1CFC-6B5D-47C9-B46E-535EA8E1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BD3F-BC7E-4B96-8269-E5DEC731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51F4-4D5C-4C96-BC8D-B15A5D8B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A665-4D88-49D0-892D-A5FCB2CC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381F-F55C-4983-B124-14907011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CD77-FB16-4EEA-BDDE-CDE5602B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A809-6C29-4F28-8702-D7777ADA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8452-B919-4A92-94CB-66DD40D2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8FF8-C9E2-4255-9753-D651CFC6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DFF2-32FF-46EA-BF9F-A6F90417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1517-5B11-49EA-9859-9F87AFE2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08F0-F442-4ED3-AF1D-E3B07B1B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7601-CF99-452E-8AED-C5F23EF9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81F-24F9-4F74-A84D-D4C11691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6D15-8673-4870-833D-86070A41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600F-EC6F-4AB5-8A27-C5CE9DC8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12A1-9AE5-4D85-A6EB-6C2AE1D2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BD2F-B319-4A27-A088-40B7DD60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5343-FF62-403A-B1FC-DE4F6AA249E8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C131-A8B3-4015-B679-0D0FB114D8D3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How to Make SMEs More Bankable Through </a:t>
            </a:r>
            <a:br>
              <a:rPr sz="4400"/>
            </a:b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SMEDA’s Help?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932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</a:rPr>
              <a:t>Group-5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Recommendation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Adequate geographic coverage and staffing at SMEDA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edicated advisors on banking for SMEs at SMEDA offic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Training to address concerns of SMEs for entering into formal sector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Benchmarks for industries and cluster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Assist in preparation of documents and business plans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7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7200" spc="-1" strike="noStrike">
                <a:solidFill>
                  <a:srgbClr val="00264c"/>
                </a:solidFill>
                <a:latin typeface="Times New Roman"/>
              </a:rPr>
              <a:t>Thanks</a:t>
            </a:r>
            <a:endParaRPr b="0" lang="en-US" sz="7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7:28:19Z</dcterms:created>
  <dc:creator>inayat hussain</dc:creator>
  <dc:description/>
  <dc:language>en-US</dc:language>
  <cp:lastModifiedBy>inayat hussain</cp:lastModifiedBy>
  <dcterms:modified xsi:type="dcterms:W3CDTF">2005-05-11T08:38:13Z</dcterms:modified>
  <cp:revision>7</cp:revision>
  <dc:subject/>
  <dc:title>How to Make SMEs More Bankable Through SMEDA’s Help</dc:title>
</cp:coreProperties>
</file>