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3EBD-0BB3-46C6-8094-D2E33398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BDC4-3A0B-48D5-86C7-9A8E49CB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DEE1-DCB0-457E-BAFF-483D456C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68B7-07D2-4CB5-91DB-F3DF281F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A277-40FB-4C67-9CA7-5A3FA026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B402-FE2B-4460-87D0-A318A7D8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A0F2-550B-431F-BB1B-52432F9F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1ED8-4ED9-4812-BA06-A2D1C7A6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23B9-B482-4CD7-BFAC-F337621C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E41E-0172-459E-A1A1-0399A9C2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C204-D90A-45B4-94CB-BE2AC223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2214-0B9A-4C82-AED7-A79A67EA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677B-E9A8-4101-939B-0CF22FC3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8EFE-E33C-45D1-A737-8F0B673E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3723-339F-4A64-BAC3-178104E1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DE13-8B8C-4A3B-88F5-8494F898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9919-9C9C-4606-8B1A-6D59475B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5C25-1EE6-4460-BFAD-EA3F3702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5160-7BC2-4CBC-9129-A9E832E3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C67D-9890-4261-9B87-FC3F3AA8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853D-DFB9-4B63-AA56-E99B6485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9C89-8347-41D6-95C6-324D137D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5D4B-25F5-4EDA-A811-F65E5B59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8E4F-A1F0-42AD-8373-6878DD97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B68C-D473-4AAF-99D8-8ECA5F40D97B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4CF2-84AD-43A4-B281-A877B9FAB554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How to Make SMEs More Bankable Through </a:t>
            </a:r>
            <a:br>
              <a:rPr sz="4400"/>
            </a:b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SMEDA’s Help?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932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</a:rPr>
              <a:t>Group-5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Recommendation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Adequate geographic coverage and staffing at SMEDA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edicated advisors on banking for SMEs at SMEDA offic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Training to address concerns of SMEs for entering into formal sector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Benchmarks for industries and cluster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Assist in preparation of documents and business plans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7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7200" spc="-1" strike="noStrike">
                <a:solidFill>
                  <a:srgbClr val="00264c"/>
                </a:solidFill>
                <a:latin typeface="Times New Roman"/>
              </a:rPr>
              <a:t>Thanks</a:t>
            </a:r>
            <a:endParaRPr b="0" lang="en-US" sz="7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7:28:19Z</dcterms:created>
  <dc:creator>inayat hussain</dc:creator>
  <dc:description/>
  <dc:language>en-US</dc:language>
  <cp:lastModifiedBy>inayat hussain</cp:lastModifiedBy>
  <dcterms:modified xsi:type="dcterms:W3CDTF">2005-05-11T08:38:13Z</dcterms:modified>
  <cp:revision>7</cp:revision>
  <dc:subject/>
  <dc:title>How to Make SMEs More Bankable Through SMEDA’s Help</dc:title>
</cp:coreProperties>
</file>