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3D6-9555-4B57-9579-72897713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62FE-E2E9-4C96-8BC8-12D72538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C1A-DC54-4AB9-A08C-B6F00AD4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DE2-3EFB-442B-B1E5-8E8577DF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2D7-D6B5-40CD-86E2-E866A5DD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6C0-BCCF-4AB8-BBF1-325BC475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6D0-F30B-4713-9B6B-FF4D6A2A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4687-190D-49E1-B3BE-48DFDE20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F01-CA92-4DBB-A074-ECCCCF87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1AF1-9829-45A7-BFF0-B06C566D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C07-9A14-4E70-A4B6-06D80729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648-2FF5-48E7-8636-C823D192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8B6E-B98C-472F-A22C-9B11097C1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ning Issues: Training needs Assessments, new training approaches as well as incentivising staff for developing SMEs finance business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R/team building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in mind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E being a specialized area requires a dedicated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am should focus on real issues through market inte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eds Assess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am to identify the gaps with market 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R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will result in identifying the need for focused/targeted training and its priori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Training Approa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tical and prac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orien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sk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class room, on job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study methods, Role playing, Inter active Computer based training modules, success stories, distance learning &amp; field visit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entivi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etary and non-monetary incen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/evaluation should be fair, transparent that could be translated into performance based awards/ rew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entives should influence performance behavio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in line with best market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 to incentive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nd discuss clear strategic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nd discuss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and communicate quantum of rewards to be given to different staff levels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mechanism of  incentive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and monitor the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9:39:03Z</dcterms:created>
  <dc:creator>inayat hussain</dc:creator>
  <dc:description/>
  <dc:language>en-US</dc:language>
  <cp:lastModifiedBy>inayat hussain</cp:lastModifiedBy>
  <dcterms:modified xsi:type="dcterms:W3CDTF">2005-05-11T09:39:39Z</dcterms:modified>
  <cp:revision>1</cp:revision>
  <dc:subject/>
  <dc:title>Training Issues: Training needs Assessments, new training approaches as well as incentivising staff for developing SMEs finance business line</dc:title>
</cp:coreProperties>
</file>