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2C9-4E08-44CB-9311-132EDF40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9C8-3AC0-4A06-BFC0-61ABAB58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6513-6D51-4717-8865-84AEBF5A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2F2-931B-41A0-A212-EC07DCBE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EE8-2A70-48DA-BEA3-EE349FC8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4FD-F5AD-44C6-A36D-929F3AB0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05F-D53C-428F-8966-BCCA71A8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48F-71DB-41C7-8739-EC15836E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178-8AB0-4A1E-B437-A753D698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172-A6D8-46A9-9CC4-690AC385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6F5-34ED-45F8-9A2F-B34CA5AA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966-82AE-4F52-8606-E9CF7BA9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8DF9-1AA3-450B-99B4-7B4A31A82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ning Issues: Training needs Assessments, new training approaches as well as incentivising staff for developing SMEs finance business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R/team building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n mind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E being a specialized area requires a dedicated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am should focus on real issues through market inte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eds Assess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am to identify the gaps with market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R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will result in identifying the need for focused/targeted training and its priori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Training Approa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tical and prac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orien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sk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class room, on job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study methods, Role playing, Inter active Computer based training modules, success stories, distance learning &amp; field visit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entivi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etary and non-monetary incen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/evaluation should be fair, transparent that could be translated into performance based awards/ rew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entives should influence performance behavio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in line with best market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 to incentive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nd discuss clear strategic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nd discuss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and communicate quantum of rewards to be given to different staff levels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mechanism of  incentive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and monitor the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9:39:03Z</dcterms:created>
  <dc:creator>inayat hussain</dc:creator>
  <dc:description/>
  <dc:language>en-US</dc:language>
  <cp:lastModifiedBy>inayat hussain</cp:lastModifiedBy>
  <dcterms:modified xsi:type="dcterms:W3CDTF">2005-05-11T09:39:39Z</dcterms:modified>
  <cp:revision>1</cp:revision>
  <dc:subject/>
  <dc:title>Training Issues: Training needs Assessments, new training approaches as well as incentivising staff for developing SMEs finance business line</dc:title>
</cp:coreProperties>
</file>