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B06-A1B0-4EF8-8267-9309F4FF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0A2-A439-46E9-A077-6D7C702B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AEF-E30A-4F3C-8F40-17B544F9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C13-1126-4A44-B721-A04948B3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EB4-A092-4E26-B28C-D99B4265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F4B-0E9E-4945-918C-B4C1DD3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267-9C86-4F69-951D-6910346D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412-2232-47C3-89A6-93D89CD7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2DA-F4E1-4A14-BD89-29387D7D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483-D373-4DF7-8599-9CE740D4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0C7-DB89-4D23-ABC0-557BC55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BEC-9D86-4025-A0DC-1C766A7B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604E-72AE-4D58-B3DE-8A9ED57B3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3:Risk Management &amp; M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Safar Ali Lakh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Soneri Bank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SME as dedicated BU within Ban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sector know-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gmentation &amp; coverag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-your-customer (relationship based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dset shift in Risk Management (portfolio based management with predefined trigg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limited expo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limit for starters at maximum consumer finance (e.g. PKR 500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job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t simple and sh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ustomers have limit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self assessment to be used (sales fig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atrix of Years in Business and Years with Bank and provide financing as % of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of loan utilis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payment from Bank to Vendor for larger amounts, if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 in IT to track and monitor large number of accounts and its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Mi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 eligible col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-flow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and/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arty guaran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based 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IS (centralis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Triggers (predefin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s incl. Time buckets and ac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ening of Credit Burea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ing role of private Credit Bureau (incl. Rating agenc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8:09:07Z</dcterms:created>
  <dc:creator>inayat hussain</dc:creator>
  <dc:description/>
  <dc:language>en-US</dc:language>
  <cp:lastModifiedBy>inayat hussain</cp:lastModifiedBy>
  <dcterms:modified xsi:type="dcterms:W3CDTF">2005-05-11T08:22:05Z</dcterms:modified>
  <cp:revision>7</cp:revision>
  <dc:subject/>
  <dc:title>Group 3:Risk Management &amp; MIS</dc:title>
</cp:coreProperties>
</file>