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17-00DB-4D1F-A31D-96EE0F60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FAF-5F2A-48B3-A303-1280E97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B6D-2932-40B6-89E9-23931AEF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FDD-C21F-48F2-AC0F-31B6398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636-EBD9-4B92-A64A-73D7D99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DC0-FE74-4455-BEEB-A1FE1460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03D-6DD3-4C10-B669-32FA5044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FB8-F436-4C07-801F-8CDE676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9E8-8B32-4369-8206-7A8EA57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FBC-A3BC-4B5C-ADD6-74B8DC7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805-1F5B-4462-A655-0ACD281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7CE-AE38-42CE-810A-C8D46D47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A3A3-67C8-4E54-8122-13B36FEBB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3:Risk Management &amp; M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Safar Ali Lakh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Soneri Bank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SME as dedicated BU within Ba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sector know-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gmentation &amp; cover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your-customer (relationship based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dset shift in Risk Management (portfolio based management with predefined trigg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limited expo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limit for starters at maximum consumer finance (e.g. PKR 500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job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t simple and sh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ustomers have limi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self assessment to be used (sales fig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trix of Years in Business and Years with Bank and provide financing as % of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of loan utilis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payment from Bank to Vendor for larger amounts, if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in IT to track and monitor large number of accounts and its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M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eligible col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-flow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and/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ty guaran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based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IS (centralis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riggers (predefin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incl. Time buckets and ac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ing of Credit Burea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ing role of private Credit Bureau (incl. Rating agen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8:09:07Z</dcterms:created>
  <dc:creator>inayat hussain</dc:creator>
  <dc:description/>
  <dc:language>en-US</dc:language>
  <cp:lastModifiedBy>inayat hussain</cp:lastModifiedBy>
  <dcterms:modified xsi:type="dcterms:W3CDTF">2005-05-11T08:22:05Z</dcterms:modified>
  <cp:revision>7</cp:revision>
  <dc:subject/>
  <dc:title>Group 3:Risk Management &amp; MIS</dc:title>
</cp:coreProperties>
</file>