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36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108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36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108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216000"/>
            <a:ext cx="426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736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1080" y="151740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400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736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1080" y="3852360"/>
            <a:ext cx="271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216000"/>
            <a:ext cx="426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8320" y="385236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17400"/>
            <a:ext cx="411804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852360"/>
            <a:ext cx="843912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4560" y="65052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4A7-0FB5-470E-86E5-AE98CAB951BE}" type="datetime">
              <a:rPr b="0" lang="en-US" sz="1000" spc="-1" strike="noStrike">
                <a:solidFill>
                  <a:srgbClr val="80808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436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67E2-E3E5-4012-BCFD-CA8E4CC93D8D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21600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708600"/>
            <a:ext cx="9145440" cy="147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1104840"/>
            <a:ext cx="9144000" cy="0"/>
          </a:xfrm>
          <a:prstGeom prst="line">
            <a:avLst/>
          </a:prstGeom>
          <a:ln w="38160">
            <a:solidFill>
              <a:srgbClr val="007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749840" y="355680"/>
            <a:ext cx="40132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600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248000"/>
            <a:ext cx="9144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5040" y="4253040"/>
            <a:ext cx="56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040" y="3065040"/>
            <a:ext cx="82504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400" y="4022640"/>
            <a:ext cx="3636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3240" y="1104840"/>
            <a:ext cx="9144000" cy="0"/>
          </a:xfrm>
          <a:prstGeom prst="line">
            <a:avLst/>
          </a:prstGeom>
          <a:ln w="38160">
            <a:solidFill>
              <a:srgbClr val="007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49840" y="355680"/>
            <a:ext cx="4013280" cy="546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64200"/>
            <a:ext cx="82501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Art of SME Loan Apprai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7000" y="5393880"/>
            <a:ext cx="7907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ylvia Wisni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ankakademie 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hore, 11 Ma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Appraisal - Classic Corporate Lending Prac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n formally registered SMEs and, hence, on corporat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hasis on official business documents, particularly past and future balance sheet and P&amp;L, business and investment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rrowers are required to submit these documents upfront prior to starting the loa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n ratio analysis and credit rating based on official business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on collateral, both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ity - often 150-200% of loan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lity -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86D0E-356C-45BC-B2A4-E712F4C60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Appraisal - Best Practice Small Lending Prac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3628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essment of the behavior and personality of the potential borrower is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ue“ balance sheet, P&amp;L as of today and future cash-flow statement are jointly developed between borrower and loan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h-flow statement is the core instrument to assess the repayment capacity of a potential bor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19112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48769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s must be repaid from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3658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ctions of future cash-flows may include a sensitivity analysis if needed (e.g. for borderline borrow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410080"/>
            <a:ext cx="990360" cy="381240"/>
          </a:xfrm>
          <a:custGeom>
            <a:avLst/>
            <a:gdLst>
              <a:gd name="textAreaLeft" fmla="*/ 0 w 990360"/>
              <a:gd name="textAreaRight" fmla="*/ 990720 w 990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87692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40543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sh-flow reveals what funds have been raised and how they have been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DB3BA-2F1E-4DF8-BE1D-36045E407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cture of Cash-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Cash from Ope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it generated by the production &amp; sales of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justments for the expansion and tightening of work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/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justments for non-cash income and expens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59759"/>
                </a:solidFill>
                <a:latin typeface="Arial"/>
              </a:rPr>
              <a:t>Cash from Invest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h generated by changing the asset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00"/>
                </a:solidFill>
                <a:latin typeface="Arial"/>
              </a:rPr>
              <a:t>Cash from Financ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h associated with borrowings, dividends pai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vate withdraw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Consideration of opening cash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47030-4580-4E69-A50D-810F8D3604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tailed Structure of the Cash-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480" y="1447920"/>
          <a:ext cx="5869080" cy="189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586908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724280" y="1523880"/>
            <a:ext cx="609840" cy="1752840"/>
          </a:xfrm>
          <a:custGeom>
            <a:avLst/>
            <a:gdLst>
              <a:gd name="textAreaLeft" fmla="*/ 0 w 609840"/>
              <a:gd name="textAreaRight" fmla="*/ 220320 w 6098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2543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Cash from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3505320"/>
          <a:ext cx="5869080" cy="32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05320"/>
                    <a:ext cx="58690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724280" y="3505320"/>
            <a:ext cx="533520" cy="380880"/>
          </a:xfrm>
          <a:custGeom>
            <a:avLst/>
            <a:gdLst>
              <a:gd name="textAreaLeft" fmla="*/ 0 w 533520"/>
              <a:gd name="textAreaRight" fmla="*/ 192600 w 5335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5496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59759"/>
                </a:solidFill>
                <a:latin typeface="Arial"/>
              </a:rPr>
              <a:t>Cash from Inve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08040" y="4038480"/>
          <a:ext cx="5869080" cy="1266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4038480"/>
                    <a:ext cx="58690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4724280" y="4114800"/>
            <a:ext cx="609840" cy="1066680"/>
          </a:xfrm>
          <a:custGeom>
            <a:avLst/>
            <a:gdLst>
              <a:gd name="textAreaLeft" fmla="*/ 0 w 609840"/>
              <a:gd name="textAreaRight" fmla="*/ 220320 w 6098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44956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0000"/>
                </a:solidFill>
                <a:latin typeface="Arial"/>
              </a:rPr>
              <a:t>Cash from Fin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8040" y="5410080"/>
          <a:ext cx="5869080" cy="952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040" y="5410080"/>
                    <a:ext cx="5869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57FA6-52B0-43E0-A0C5-636FE14C3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Sources for determining Cash-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-site interview of the potential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s that sustain cash-flow information, e.g. cashbook, personal notes, invoices from suppliers, bank statements on current and savings account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ysical assessment of the inventory of finished, semi-finished goods and 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ysical assessment of fixed assets, e.g. machi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 of informal information sources: family members, neighbours, reputable members of the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rison with peer family households and 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64F84-02DD-4ACB-9C25-C8C0337974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ture Cash-flow Proj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um period: following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hly basis if strong seasonal variations ar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 an input, forecast of balance sheet and P&amp;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al attention t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of expected tax payments - increasing the envisaged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official tax payment by a safety cu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of likely private withdraw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changes of payme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changes in inventory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changes in fix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ecast likely borrowings (own loan and others) under different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883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an to be approved if there is a sufficient liquidity cushion after loan re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DD3E3-871B-445D-B6E0-9ACD6983DE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51804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920" y="1295280"/>
          <a:ext cx="6172200" cy="46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61722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191120" y="2362320"/>
          <a:ext cx="5715000" cy="429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36232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17AA4-AD95-4C49-9AFC-781E1318A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chanisms to improve operational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 of streamlined, simple standar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 support systems critical - high level of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rom loan application to loan repayment all forms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ti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se of innovative technical features, e.g. palm pilots d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onsite visits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aily automatic reporting on loan portfolio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orage of all current and historic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 start-up investment in building the relationship with a new borrower will later be offset by simpler procedures for repeat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entives for borrowers to repay through appropriate „carrots and stick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entives for loan officers to ensure efficient and effective lo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F69B0-1985-4EDD-8927-87C874B34A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inciples of Best Practice Small 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439120" cy="43495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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arious filtering mechanisms to screen out bad credit risks as early as possible in the loa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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stablishment of a close relationship with the borrower, e.g. on-site visits to the workplace and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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Joint development of „true“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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cus on cash-flow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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cus on personal character and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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ssessment of the repayment capacity of the SME household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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Triangulation of information using informa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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Keeping transaction costs for the borrowers at a minimum through streamlined and automat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9A15E-2117-4E67-8999-2475C322D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-33120"/>
            <a:ext cx="42670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ications for Commercial Banks when implementing Best Practices Small 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439120" cy="43495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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reparation of well-experienced loan officers that establish close relationship with the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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High level of automation of lending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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reation of a comprehensive database of customer information to facilitate determination of filter mechanisms/scorecards and speed up processing repea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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ecentralisation of decision-making, empowering branc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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djustments of internal control systems due to highly decentralised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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nhancing operational efficiency and maintaining high loan portfolio quality by providing a combination of „carrots and sticks“ to loan officers and borrowers a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6EBF6-770D-4604-82C5-65E62A737F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ortance of SME S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04880" y="1219320"/>
          <a:ext cx="760104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219320"/>
                    <a:ext cx="76010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480" y="55022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MEs contribute significantly to the local economies but have limited access to loan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446B1-D6B5-4ADE-AE27-40EF35DDF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590920"/>
            <a:ext cx="375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nkakademie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nnemannstraße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-60314 Frankfurt am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 +49-69 154008-6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+49-69 154008-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-Mail: international@bankakademie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international.bankakademie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35400" y="2805120"/>
            <a:ext cx="46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nsitivity Analysis of Future Cash-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Optimist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 case“ in terms of sales volume an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lly based on highest historic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59759"/>
                </a:solidFill>
                <a:latin typeface="Arial"/>
              </a:rPr>
              <a:t>Base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ually based on historic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justed for obvious positive or negative marke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00"/>
                </a:solidFill>
                <a:latin typeface="Arial"/>
              </a:rPr>
              <a:t>Pessimist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rst case“ in terms of sales volume an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lly based on lowest historic result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E2C2F-29E1-4450-A3F6-5BF3E9344E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y are Banks reluctant to venture into SME Lend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43912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ited or lack of audited financial statements or other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ck of track record of SMEs in the banking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mited or lack of col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mall ticket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1055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267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MEs are often perceived as risky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MEs are often perceived as costly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3CFD8-51FA-4499-BF6F-4869399417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ME Banks Worldw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520" y="1355760"/>
            <a:ext cx="8613720" cy="5123160"/>
            <a:chOff x="380520" y="1355760"/>
            <a:chExt cx="8613720" cy="51231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514600" y="2087640"/>
              <a:ext cx="3521160" cy="34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019920" y="3687840"/>
              <a:ext cx="1171440" cy="36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" name=""/>
            <p:cNvGraphicFramePr/>
            <p:nvPr/>
          </p:nvGraphicFramePr>
          <p:xfrm>
            <a:off x="5867280" y="4678200"/>
            <a:ext cx="1157400" cy="42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4678200"/>
                      <a:ext cx="1157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7219440" y="3687840"/>
              <a:ext cx="1774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icro Enterprise Credi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oldov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0040" y="4830840"/>
              <a:ext cx="170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Credit Bank, Serb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3733920" y="1736640"/>
              <a:ext cx="114300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2133720" y="4602240"/>
              <a:ext cx="4824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9000" y="467820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XAC Bank, Mongol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10240" y="1355760"/>
              <a:ext cx="111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KMB, Russ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7"/>
            <a:srcRect l="39038" t="0" r="0" b="0"/>
            <a:stretch/>
          </p:blipFill>
          <p:spPr>
            <a:xfrm>
              <a:off x="2793960" y="5365800"/>
              <a:ext cx="482760" cy="4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6920" y="5440320"/>
              <a:ext cx="20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ople`s Bank, Sri Lan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8"/>
            <a:stretch/>
          </p:blipFill>
          <p:spPr>
            <a:xfrm>
              <a:off x="4038480" y="566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583080" y="6202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C, Thai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9"/>
            <a:srcRect l="92627" t="0" r="1310" b="30971"/>
            <a:stretch/>
          </p:blipFill>
          <p:spPr>
            <a:xfrm>
              <a:off x="2057400" y="3611520"/>
              <a:ext cx="4208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00040" y="3611520"/>
              <a:ext cx="1402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utunska Banka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cedo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0"/>
            <a:srcRect l="35174" t="13070" r="53674" b="9184"/>
            <a:stretch/>
          </p:blipFill>
          <p:spPr>
            <a:xfrm>
              <a:off x="2133720" y="2697120"/>
              <a:ext cx="4586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80520" y="2773440"/>
              <a:ext cx="170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IK Banka, Macedo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1"/>
            <a:stretch/>
          </p:blipFill>
          <p:spPr>
            <a:xfrm>
              <a:off x="2819520" y="1935000"/>
              <a:ext cx="457200" cy="4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74640" y="2011320"/>
              <a:ext cx="124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RI, Indones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2"/>
            <a:stretch/>
          </p:blipFill>
          <p:spPr>
            <a:xfrm>
              <a:off x="5181480" y="1859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865120" y="198108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aiffeisen Bank, Bi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3"/>
            <a:stretch/>
          </p:blipFill>
          <p:spPr>
            <a:xfrm>
              <a:off x="5867280" y="2620800"/>
              <a:ext cx="6048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549120" y="2743200"/>
              <a:ext cx="158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Universal Banka, Bi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5029200" y="5440320"/>
              <a:ext cx="80964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865480" y="556272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UPI Banka, Bi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90A2C-6510-46D3-BC4F-A2CB41169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cus on Small 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rge number, huge marke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ss price sensitive compared to medium-sized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ater customer loyalty - „house bank“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ater cross-selling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ter repayment performance as they do not want to endanger access to bank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00200" y="4038480"/>
            <a:ext cx="1295280" cy="533520"/>
            <a:chOff x="1600200" y="4038480"/>
            <a:chExt cx="1295280" cy="533520"/>
          </a:xfrm>
        </p:grpSpPr>
        <p:sp>
          <p:nvSpPr>
            <p:cNvPr id="132" name=""/>
            <p:cNvSpPr/>
            <p:nvPr/>
          </p:nvSpPr>
          <p:spPr>
            <a:xfrm>
              <a:off x="1600200" y="4038480"/>
              <a:ext cx="129528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4760" y="4114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600" y="4038480"/>
            <a:ext cx="1295280" cy="533520"/>
            <a:chOff x="5943600" y="4038480"/>
            <a:chExt cx="1295280" cy="533520"/>
          </a:xfrm>
        </p:grpSpPr>
        <p:sp>
          <p:nvSpPr>
            <p:cNvPr id="135" name=""/>
            <p:cNvSpPr/>
            <p:nvPr/>
          </p:nvSpPr>
          <p:spPr>
            <a:xfrm>
              <a:off x="5943600" y="4038480"/>
              <a:ext cx="1295280" cy="533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27560" y="4114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294920" y="47242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47242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105520"/>
            <a:ext cx="1676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50,000 Rs. 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million 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collateralized le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13252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 to 10 million 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audited financi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157720"/>
            <a:ext cx="358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to 75 million Rs./Single bank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to 150 million Rs./Banking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471FA-F3B4-4CDB-8F70-B6BC77298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Cycle: 7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438280"/>
            <a:ext cx="1447920" cy="1905120"/>
            <a:chOff x="228600" y="2438280"/>
            <a:chExt cx="1447920" cy="1905120"/>
          </a:xfrm>
        </p:grpSpPr>
        <p:sp>
          <p:nvSpPr>
            <p:cNvPr id="145" name=""/>
            <p:cNvSpPr/>
            <p:nvPr/>
          </p:nvSpPr>
          <p:spPr>
            <a:xfrm>
              <a:off x="228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371600" y="2438280"/>
            <a:ext cx="1447920" cy="1905120"/>
            <a:chOff x="1371600" y="2438280"/>
            <a:chExt cx="1447920" cy="1905120"/>
          </a:xfrm>
        </p:grpSpPr>
        <p:sp>
          <p:nvSpPr>
            <p:cNvPr id="148" name=""/>
            <p:cNvSpPr/>
            <p:nvPr/>
          </p:nvSpPr>
          <p:spPr>
            <a:xfrm>
              <a:off x="1371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0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14600" y="2438280"/>
            <a:ext cx="1447920" cy="1905120"/>
            <a:chOff x="2514600" y="2438280"/>
            <a:chExt cx="1447920" cy="1905120"/>
          </a:xfrm>
        </p:grpSpPr>
        <p:sp>
          <p:nvSpPr>
            <p:cNvPr id="151" name=""/>
            <p:cNvSpPr/>
            <p:nvPr/>
          </p:nvSpPr>
          <p:spPr>
            <a:xfrm>
              <a:off x="2514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43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pprai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57600" y="2438280"/>
            <a:ext cx="1447920" cy="1905120"/>
            <a:chOff x="3657600" y="2438280"/>
            <a:chExt cx="1447920" cy="1905120"/>
          </a:xfrm>
        </p:grpSpPr>
        <p:sp>
          <p:nvSpPr>
            <p:cNvPr id="154" name=""/>
            <p:cNvSpPr/>
            <p:nvPr/>
          </p:nvSpPr>
          <p:spPr>
            <a:xfrm>
              <a:off x="3657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6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00600" y="2438280"/>
            <a:ext cx="1447920" cy="1905120"/>
            <a:chOff x="4800600" y="2438280"/>
            <a:chExt cx="1447920" cy="1905120"/>
          </a:xfrm>
        </p:grpSpPr>
        <p:sp>
          <p:nvSpPr>
            <p:cNvPr id="157" name=""/>
            <p:cNvSpPr/>
            <p:nvPr/>
          </p:nvSpPr>
          <p:spPr>
            <a:xfrm>
              <a:off x="4800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29120" y="2819520"/>
              <a:ext cx="129564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isburs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943600" y="2438280"/>
            <a:ext cx="1447920" cy="1905120"/>
            <a:chOff x="5943600" y="2438280"/>
            <a:chExt cx="1447920" cy="1905120"/>
          </a:xfrm>
        </p:grpSpPr>
        <p:sp>
          <p:nvSpPr>
            <p:cNvPr id="160" name=""/>
            <p:cNvSpPr/>
            <p:nvPr/>
          </p:nvSpPr>
          <p:spPr>
            <a:xfrm>
              <a:off x="5943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2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086600" y="2438280"/>
            <a:ext cx="1447920" cy="1905120"/>
            <a:chOff x="7086600" y="2438280"/>
            <a:chExt cx="1447920" cy="1905120"/>
          </a:xfrm>
        </p:grpSpPr>
        <p:sp>
          <p:nvSpPr>
            <p:cNvPr id="163" name=""/>
            <p:cNvSpPr/>
            <p:nvPr/>
          </p:nvSpPr>
          <p:spPr>
            <a:xfrm>
              <a:off x="7086600" y="24382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5120" y="2819520"/>
              <a:ext cx="129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epa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86600" y="4495680"/>
            <a:ext cx="1447920" cy="1905120"/>
            <a:chOff x="7086600" y="4495680"/>
            <a:chExt cx="1447920" cy="1905120"/>
          </a:xfrm>
        </p:grpSpPr>
        <p:sp>
          <p:nvSpPr>
            <p:cNvPr id="166" name=""/>
            <p:cNvSpPr/>
            <p:nvPr/>
          </p:nvSpPr>
          <p:spPr>
            <a:xfrm>
              <a:off x="7086600" y="4495680"/>
              <a:ext cx="1447920" cy="190512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5120" y="4876920"/>
              <a:ext cx="12956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roblem</a:t>
              </a:r>
              <a:br>
                <a:rPr sz="1600"/>
              </a:b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anage-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rot="5392800">
            <a:off x="6324120" y="4732200"/>
            <a:ext cx="761760" cy="1066680"/>
          </a:xfrm>
          <a:custGeom>
            <a:avLst/>
            <a:gdLst>
              <a:gd name="textAreaLeft" fmla="*/ 253800 w 761760"/>
              <a:gd name="textAreaRight" fmla="*/ 652680 w 76176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7976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D35A8-A48B-4742-A0F7-8E286D9A03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13480"/>
            <a:ext cx="4267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sts associated with Borrower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1752480"/>
            <a:ext cx="0" cy="3353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41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ccumulated operational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752480"/>
            <a:ext cx="0" cy="33530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1752480"/>
            <a:ext cx="2133720" cy="33530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737280 h 3353040"/>
              <a:gd name="textAreaBottom" fmla="*/ 261576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495680" y="1780560"/>
            <a:ext cx="2133720" cy="33526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737280 h 3352680"/>
              <a:gd name="textAreaBottom" fmla="*/ 26154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3341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Number of (potential) borr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676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an Ori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1752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an Ori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95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dit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45720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dit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6FC72-2C54-4903-9D07-1C008D4C82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mensions of Creditworth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66680" y="1600200"/>
            <a:ext cx="2590560" cy="1371240"/>
            <a:chOff x="1066680" y="1600200"/>
            <a:chExt cx="2590560" cy="1371240"/>
          </a:xfrm>
        </p:grpSpPr>
        <p:sp>
          <p:nvSpPr>
            <p:cNvPr id="183" name=""/>
            <p:cNvSpPr/>
            <p:nvPr/>
          </p:nvSpPr>
          <p:spPr>
            <a:xfrm>
              <a:off x="1066680" y="1600200"/>
              <a:ext cx="2590560" cy="137124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00760" y="1942920"/>
              <a:ext cx="192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Personality of the borr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724280" y="1600200"/>
            <a:ext cx="2590560" cy="1371240"/>
            <a:chOff x="4724280" y="1600200"/>
            <a:chExt cx="2590560" cy="1371240"/>
          </a:xfrm>
        </p:grpSpPr>
        <p:sp>
          <p:nvSpPr>
            <p:cNvPr id="186" name=""/>
            <p:cNvSpPr/>
            <p:nvPr/>
          </p:nvSpPr>
          <p:spPr>
            <a:xfrm>
              <a:off x="4724280" y="1600200"/>
              <a:ext cx="2590560" cy="1371240"/>
            </a:xfrm>
            <a:prstGeom prst="foldedCorner">
              <a:avLst>
                <a:gd name="adj" fmla="val 125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8360" y="1857240"/>
              <a:ext cx="1922040" cy="82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Repayment capacity of the borr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990720" y="3200400"/>
            <a:ext cx="3045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20040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95320" y="3124080"/>
            <a:ext cx="3049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1240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04920" y="4419720"/>
            <a:ext cx="1676160" cy="1218960"/>
            <a:chOff x="304920" y="4419720"/>
            <a:chExt cx="1676160" cy="1218960"/>
          </a:xfrm>
        </p:grpSpPr>
        <p:sp>
          <p:nvSpPr>
            <p:cNvPr id="193" name=""/>
            <p:cNvSpPr/>
            <p:nvPr/>
          </p:nvSpPr>
          <p:spPr>
            <a:xfrm>
              <a:off x="304920" y="4419720"/>
              <a:ext cx="1676160" cy="12189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47530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Willingness to rep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352680" y="4419720"/>
            <a:ext cx="1692360" cy="1218960"/>
            <a:chOff x="3352680" y="4419720"/>
            <a:chExt cx="1692360" cy="1218960"/>
          </a:xfrm>
        </p:grpSpPr>
        <p:sp>
          <p:nvSpPr>
            <p:cNvPr id="196" name=""/>
            <p:cNvSpPr/>
            <p:nvPr/>
          </p:nvSpPr>
          <p:spPr>
            <a:xfrm>
              <a:off x="3352680" y="4419720"/>
              <a:ext cx="1692360" cy="1218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9000" y="4753080"/>
              <a:ext cx="1523880" cy="58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nagement tal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629400" y="4419720"/>
            <a:ext cx="1676520" cy="1218960"/>
            <a:chOff x="6629400" y="4419720"/>
            <a:chExt cx="1676520" cy="1218960"/>
          </a:xfrm>
        </p:grpSpPr>
        <p:sp>
          <p:nvSpPr>
            <p:cNvPr id="199" name=""/>
            <p:cNvSpPr/>
            <p:nvPr/>
          </p:nvSpPr>
          <p:spPr>
            <a:xfrm>
              <a:off x="6629400" y="4419720"/>
              <a:ext cx="1676520" cy="1218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81680" y="457200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esults of economic activ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17D6A-1A1D-497E-A97A-A5E631641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548640"/>
            <a:ext cx="4267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an Acquisition and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517400"/>
            <a:ext cx="843912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keting efforts to directly capture good SME credi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ntacts with Chambers of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ontacts with high-quality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tering mechanisms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ri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 loan application by determining simple eligibilit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xclusion of certain sectors and busines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inimum number of years in business or minimum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tering mechanisms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lo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imple scorecard of 5-10 ke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Possible actions: Immediate loan objection - for higher risk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ategories requirement of risk mitigating measures - implications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or subsequent lo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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First check on personal character of the potential bor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B09FD-A585-42CB-A68F-B605EADB60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2:35:39Z</dcterms:created>
  <dc:creator>Bankakademie e. V.</dc:creator>
  <dc:description/>
  <dc:language>en-US</dc:language>
  <cp:lastModifiedBy>SBP</cp:lastModifiedBy>
  <cp:lastPrinted>2004-03-16T11:27:18Z</cp:lastPrinted>
  <dcterms:modified xsi:type="dcterms:W3CDTF">2005-05-11T03:44:38Z</dcterms:modified>
  <cp:revision>76</cp:revision>
  <dc:subject/>
  <dc:title>Bankakademie International</dc:title>
</cp:coreProperties>
</file>