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727200"/>
            <a:ext cx="716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391520" y="304920"/>
            <a:ext cx="1547640" cy="41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3399"/>
                </a:solidFill>
                <a:latin typeface="Trebuchet MS"/>
              </a:rPr>
              <a:t>The SME Challenge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rebuchet MS"/>
              </a:rPr>
              <a:t>May 10</a:t>
            </a:r>
            <a:r>
              <a:rPr b="0" lang="en-US" sz="1800" spc="-1" strike="noStrike" baseline="30000">
                <a:solidFill>
                  <a:srgbClr val="003399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003399"/>
                </a:solidFill>
                <a:latin typeface="Trebuchet MS"/>
              </a:rPr>
              <a:t> 2005 (Pakist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523880"/>
            <a:ext cx="4343400" cy="914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Trebuchet MS"/>
              </a:rPr>
              <a:t>Target Marke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ey To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hould Be Able To Weather Economic Downtu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The Business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362320"/>
            <a:ext cx="3809880" cy="259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Business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ustomer Acquisition &amp; At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duct Cross S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ow cost Funding Of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anagement Metr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xpens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ow Cost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lectronic Banking Plat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isk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19520"/>
            <a:ext cx="4343400" cy="9903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Trebuchet MS"/>
              </a:rPr>
              <a:t>Separation Of Customer Acqui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Trebuchet MS"/>
              </a:rPr>
              <a:t>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ey To Managing Large Volume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mproving Returns Through Cross S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114800"/>
            <a:ext cx="4343400" cy="60948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Trebuchet MS"/>
              </a:rPr>
              <a:t>Differentiated Risk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xposure 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181480"/>
            <a:ext cx="4343400" cy="685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Trebuchet MS"/>
              </a:rPr>
              <a:t>Low Cost Proces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f Small Ticket &amp; Large Volu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447560" y="4419000"/>
            <a:ext cx="3048120" cy="10670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Credit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rogram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50720" y="2139480"/>
            <a:ext cx="19047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L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Expo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1704600" y="3616560"/>
            <a:ext cx="5029200" cy="6919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Exposure Based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Risk </a:t>
            </a:r>
            <a:r>
              <a:rPr b="1" lang="pl-PL" sz="1600" spc="-1" strike="noStrike">
                <a:solidFill>
                  <a:srgbClr val="000000"/>
                </a:solidFill>
                <a:latin typeface="Trebuchet MS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80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70680" y="3913560"/>
            <a:ext cx="1490760" cy="520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Medium Sized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670680" y="5470920"/>
            <a:ext cx="1490760" cy="52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Sm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2027880" y="1857600"/>
            <a:ext cx="1887480" cy="10670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Single Obligor Appro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419720"/>
            <a:ext cx="533520" cy="990360"/>
          </a:xfrm>
          <a:custGeom>
            <a:avLst/>
            <a:gdLst>
              <a:gd name="textAreaLeft" fmla="*/ 83160 w 533520"/>
              <a:gd name="textAreaRight" fmla="*/ 466920 w 5335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533520" cy="990720"/>
          </a:xfrm>
          <a:custGeom>
            <a:avLst/>
            <a:gdLst>
              <a:gd name="textAreaLeft" fmla="*/ 83160 w 533520"/>
              <a:gd name="textAreaRight" fmla="*/ 466920 w 533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8080"/>
            <a:ext cx="9144000" cy="533520"/>
          </a:xfrm>
          <a:prstGeom prst="bevel">
            <a:avLst>
              <a:gd name="adj" fmla="val 1279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rebuchet MS"/>
              </a:rPr>
              <a:t>Managing Scale - Credit Ris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1447920"/>
            <a:ext cx="5105520" cy="1904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ailored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Some Product Tailoring To Meet Specific Customer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Secured &amp; Unsecured Cash Flow Based L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Obligor Risk Rating Models - To Differentiate Credit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429000"/>
            <a:ext cx="5105520" cy="1523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Credit Program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Broader Product Rang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Trade, Generally Short Term loans, F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Mostly Secured L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Rating Or Scoring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Some exceptions allowed based on grading of 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029200"/>
            <a:ext cx="5105520" cy="1447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Credit Factory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Highly Standardized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Standard Products (Trade, Generally Short Term loans, F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No Exceptions &amp; Limited Product 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Delinquency 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124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Citigroup – Commercial Ban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1160" y="137160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$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86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64040" y="1295280"/>
            <a:ext cx="77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$66 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5320" y="167652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$56 B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9144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rebuchet MS"/>
              </a:rPr>
              <a:t>Citigroup Commercial Busi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4572000"/>
          <a:ext cx="7696440" cy="198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572000"/>
                    <a:ext cx="769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4038480"/>
            <a:ext cx="9144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rebuchet MS"/>
              </a:rPr>
              <a:t>Global but Selective Pres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0380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Role Of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rebuchet MS"/>
              </a:rPr>
              <a:t>As the EU see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Governments As Information Provider - Statistics in Foc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Statistical Datab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efault His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wnership Detai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etailed Annual 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Financial History Of All Registered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umber Of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Available In Most Of CE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oland, Hungary, Czech, Slovak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Largely Available In Turkey</a:t>
            </a: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Governments As Facilita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Help With Cheaper &amp; Faster Start-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ne Stop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mplified Application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nline Registration Of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Access To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ome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Reduced Requirements For Participation In Government Te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Targets For SME Participation In Government Procurement Of Goods &amp;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Information On International 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Education On Key Success Factors In The International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Help Participation In Trade F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Education &amp; Training Resources To Develop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ntrepren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dequate Supply Of Skilled 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Governments As Funding Support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U Grants Under Various Progra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vailability Based On Screening Criteria &amp;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Subsidies To Financial Instit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E Credit Risk Remains With The 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uropean Investment Bank (EIB) Provides Subsidized Balance Sheet Funding To SME 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U Monetary Incentives To Banks – Up To  Euro 5000 Per Deal Booked For Qualifying Transactions (Eur 40K To Eur 500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Credit Support/Guara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rtial Credit Risk Sharing - Up To 80% Of First Loss - Generally Through Portfolio Risk In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surance Cover For Receiv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Venture Capital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Governments As Business Enabl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T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mplification &amp; Reduction Of Tax Compliance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entives To Encourage Earnings Retention &amp; Balance Sheet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at tax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rebuchet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rebuchet MS"/>
              </a:rPr>
              <a:t>Why 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rebuchet MS"/>
              </a:rPr>
              <a:t>Wh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rebuchet MS"/>
              </a:rPr>
              <a:t>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rebuchet MS"/>
              </a:rPr>
              <a:t>Citigroup &amp; 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rebuchet MS"/>
              </a:rPr>
              <a:t>Role of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rebuchet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rebuchet MS"/>
              </a:rPr>
              <a:t>Some Take Aways For Lend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Strong Target Marke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Key To Building A Balanced Portfolio &amp; Reducing Credit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Separation Of Marketing, Sales For Managing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ocus On New Customer 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aintaining Existing Customer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X-S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Management By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Well Defined &amp; Well Communicated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Differentiated Credi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n Efficient System Demands Differentiation In Credit Maintenance Process Based On Exposure/Risk Being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rebuchet MS"/>
              </a:rPr>
              <a:t>Low Cost Transaction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mall Ticket Size &amp; Large Number Of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echnology Based &amp; Centralized Transactions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And Points For The Government To Consi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ridge The Information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elp With Cheaper &amp; Faster Start-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elp Increase Supply Of Financing For 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Facilitate Access To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nhance Education &amp; Train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rebuchet MS"/>
              </a:rPr>
              <a:t>Why S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rebuchet MS"/>
              </a:rPr>
              <a:t>For The Banking System SME Repre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 Large &amp; Growing Opport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rebuchet MS"/>
              </a:rPr>
              <a:t>Emerging Markets Banking Revenue Estimated At Over $40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rebuchet MS"/>
              </a:rPr>
              <a:t>For Policy Makers – It Is A Means To Ach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igh Employment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rebuchet MS"/>
              </a:rPr>
              <a:t>Employs Over 50% Of Labour Force Even In The Developed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igh Econom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rebuchet MS"/>
              </a:rPr>
              <a:t>50-60% Share of GDP – Engine Of Economic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ulture Of Entrepreneu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ider Tax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lleviation Of Pov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rebuchet MS"/>
              </a:rPr>
              <a:t>Why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Economic Liberalization (Last 15 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eclining Public Sector 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rebuchet MS"/>
              </a:rPr>
              <a:t>Privatization Of Power Sector, Oil &amp; Gas, Telecommunications &amp; Other Indus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mergence Of Private Enterprise As The Engine Of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rebuchet MS"/>
              </a:rPr>
              <a:t>Central &amp; Eastern Europe, China, India, Pakis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creasing Regional Economic Cooperation</a:t>
            </a:r>
            <a:r>
              <a:rPr b="1" lang="en-US" sz="16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rebuchet MS"/>
              </a:rPr>
              <a:t>ECC/EU, NAF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 “Freer” Trade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rebuchet MS"/>
              </a:rPr>
              <a:t>Reducing Trade Barriers (Tarif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Privatization Of 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ntrepreneurial &amp; Performance Drive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creasing Product Sophistication &amp; Better Risk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mproving Cost Management &amp; Operating Efficienc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Banking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mprovements In Legislation &amp; Legal Infrastructure To Protect Rights Of The Le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rebuchet MS"/>
              </a:rPr>
              <a:t>What Is S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rebuchet MS"/>
              </a:rPr>
              <a:t>Various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fined By Size Of Sales Or Number Of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epends On Size Of Companies Relative To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U</a:t>
            </a: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Less Than 250 Employees &amp; Sales Of Eur 50Million Or </a:t>
            </a: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lance Sheet Of Eur 43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itigroup $2-$50 Million In Sales [Up To$250MM In Some Countri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rebuchet MS"/>
              </a:rPr>
              <a:t>Differentiat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wner/Family Manag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prietorships, Partnerships Or Small Private Or Public Limited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Generally Suppliers To Larger Local Or Multinational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ow Capitalization &amp; Limited Financi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eeds A Mix Of Consumer &amp; Corporate Banking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SME - A Hybri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95280"/>
            <a:ext cx="2971800" cy="4876920"/>
          </a:xfrm>
          <a:prstGeom prst="rect">
            <a:avLst/>
          </a:prstGeom>
          <a:solidFill>
            <a:srgbClr val="e7fafd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44720"/>
            <a:ext cx="4419360" cy="4075200"/>
          </a:xfrm>
          <a:custGeom>
            <a:avLst/>
            <a:gdLst/>
            <a:ahLst/>
            <a:rect l="l" t="t" r="r" b="b"/>
            <a:pathLst>
              <a:path w="1719" h="1632">
                <a:moveTo>
                  <a:pt x="859" y="0"/>
                </a:moveTo>
                <a:lnTo>
                  <a:pt x="0" y="1632"/>
                </a:lnTo>
                <a:lnTo>
                  <a:pt x="1719" y="1632"/>
                </a:lnTo>
                <a:lnTo>
                  <a:pt x="859" y="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d0e2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3800" y="2849400"/>
            <a:ext cx="4316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114800"/>
            <a:ext cx="3638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7360" y="1905120"/>
            <a:ext cx="9026640" cy="54000"/>
          </a:xfrm>
          <a:custGeom>
            <a:avLst/>
            <a:gdLst/>
            <a:ahLst/>
            <a:rect l="l" t="t" r="r" b="b"/>
            <a:pathLst>
              <a:path w="5377" h="13">
                <a:moveTo>
                  <a:pt x="0" y="0"/>
                </a:moveTo>
                <a:lnTo>
                  <a:pt x="0" y="12"/>
                </a:lnTo>
                <a:lnTo>
                  <a:pt x="5377" y="13"/>
                </a:lnTo>
                <a:lnTo>
                  <a:pt x="5377" y="1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47560" y="1905120"/>
            <a:ext cx="3477960" cy="3227040"/>
            <a:chOff x="1447560" y="1905120"/>
            <a:chExt cx="3477960" cy="3227040"/>
          </a:xfrm>
        </p:grpSpPr>
        <p:sp>
          <p:nvSpPr>
            <p:cNvPr id="55" name=""/>
            <p:cNvSpPr/>
            <p:nvPr/>
          </p:nvSpPr>
          <p:spPr>
            <a:xfrm flipH="1">
              <a:off x="1447200" y="1905120"/>
              <a:ext cx="1752840" cy="322704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760" y="1905120"/>
              <a:ext cx="1724760" cy="322704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209320" y="1905120"/>
            <a:ext cx="1981080" cy="1828440"/>
            <a:chOff x="2209320" y="1905120"/>
            <a:chExt cx="1981080" cy="1828440"/>
          </a:xfrm>
        </p:grpSpPr>
        <p:sp>
          <p:nvSpPr>
            <p:cNvPr id="58" name=""/>
            <p:cNvSpPr/>
            <p:nvPr/>
          </p:nvSpPr>
          <p:spPr>
            <a:xfrm>
              <a:off x="3200040" y="1905120"/>
              <a:ext cx="990360" cy="182844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208960" y="1905120"/>
              <a:ext cx="990360" cy="1828440"/>
            </a:xfrm>
            <a:prstGeom prst="rtTriangl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28520" y="5105520"/>
            <a:ext cx="9015480" cy="55440"/>
          </a:xfrm>
          <a:custGeom>
            <a:avLst/>
            <a:gdLst/>
            <a:ahLst/>
            <a:rect l="l" t="t" r="r" b="b"/>
            <a:pathLst>
              <a:path w="5377" h="13">
                <a:moveTo>
                  <a:pt x="0" y="0"/>
                </a:moveTo>
                <a:lnTo>
                  <a:pt x="0" y="12"/>
                </a:lnTo>
                <a:lnTo>
                  <a:pt x="5377" y="13"/>
                </a:lnTo>
                <a:lnTo>
                  <a:pt x="5377" y="1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068560"/>
            <a:ext cx="281952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Large &amp; sophisticated relationship managed multi-product customers (need investment banking/corporate finance, derivatives and other high value added products along with traditional banking produ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76920" y="2428920"/>
            <a:ext cx="157320" cy="1162080"/>
          </a:xfrm>
          <a:custGeom>
            <a:avLst/>
            <a:gdLst>
              <a:gd name="textAreaLeft" fmla="*/ 0 w 157320"/>
              <a:gd name="textAreaRight" fmla="*/ 56880 w 157320"/>
              <a:gd name="textAreaTop" fmla="*/ 30240 h 1162080"/>
              <a:gd name="textAreaBottom" fmla="*/ 113184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76920" y="3009960"/>
            <a:ext cx="157320" cy="1162080"/>
          </a:xfrm>
          <a:custGeom>
            <a:avLst/>
            <a:gdLst>
              <a:gd name="textAreaLeft" fmla="*/ 0 w 157320"/>
              <a:gd name="textAreaRight" fmla="*/ 56880 w 157320"/>
              <a:gd name="textAreaTop" fmla="*/ 30240 h 1162080"/>
              <a:gd name="textAreaBottom" fmla="*/ 113184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99160" y="3397320"/>
            <a:ext cx="155520" cy="1162080"/>
          </a:xfrm>
          <a:custGeom>
            <a:avLst/>
            <a:gdLst>
              <a:gd name="textAreaLeft" fmla="*/ 0 w 155520"/>
              <a:gd name="textAreaRight" fmla="*/ 56160 w 155520"/>
              <a:gd name="textAreaTop" fmla="*/ 30240 h 1162080"/>
              <a:gd name="textAreaBottom" fmla="*/ 113184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801960"/>
            <a:ext cx="320040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Upper tiers need relatively wider product set similar to the larger corporate e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Lower tier, clients needs cut across boundaries of traditional consumer and corporate banking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362320"/>
            <a:ext cx="533160" cy="685800"/>
          </a:xfrm>
          <a:prstGeom prst="rightArrow">
            <a:avLst>
              <a:gd name="adj1" fmla="val 57407"/>
              <a:gd name="adj2" fmla="val 67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962520"/>
            <a:ext cx="533160" cy="685800"/>
          </a:xfrm>
          <a:prstGeom prst="rightArrow">
            <a:avLst>
              <a:gd name="adj1" fmla="val 57407"/>
              <a:gd name="adj2" fmla="val 67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257800"/>
            <a:ext cx="533160" cy="685800"/>
          </a:xfrm>
          <a:prstGeom prst="rightArrow">
            <a:avLst>
              <a:gd name="adj1" fmla="val 57407"/>
              <a:gd name="adj2" fmla="val 67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240" y="3733920"/>
            <a:ext cx="90057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971800"/>
            <a:ext cx="10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191120"/>
            <a:ext cx="9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41008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i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rebuchet MS"/>
              </a:rPr>
              <a:t>SME - Segment Nee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1600200"/>
          <a:ext cx="7691400" cy="42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69140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Business Model</a:t>
            </a: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The Challenge Of Managing Scale &amp; Diver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752480"/>
            <a:ext cx="7391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A Full Service Relationship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A Customer Relationship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ot A Product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rving All Our Customer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We Manage Our Credit Risk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ifferentiated Processes Based On Size Of Exp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rebuchet MS"/>
              </a:rPr>
              <a:t>Our Transaction Processing Aims To Lower Unit Cost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Use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ecialization &amp; Centralization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38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rebuchet MS"/>
              </a:rPr>
              <a:t>Elements of the Business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4:45Z</dcterms:created>
  <dc:creator>Berat Er</dc:creator>
  <dc:description/>
  <dc:language>en-US</dc:language>
  <cp:lastModifiedBy>AA24797</cp:lastModifiedBy>
  <dcterms:modified xsi:type="dcterms:W3CDTF">2005-05-10T09:03:51Z</dcterms:modified>
  <cp:revision>1453</cp:revision>
  <dc:subject/>
  <dc:title>PowerPoint Presentation</dc:title>
</cp:coreProperties>
</file>