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33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33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33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33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33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33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33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33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33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Click to edit the title text format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7200" y="6324120"/>
            <a:ext cx="822960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EMR10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MR10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MR10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EMR10"/>
              </a:rPr>
              <a:t>© 2005 by Microfinance Risk Management, L.L.C., </a:t>
            </a:r>
            <a:r>
              <a:rPr b="0" lang="en-US" sz="1200" spc="-1" strike="noStrike">
                <a:solidFill>
                  <a:srgbClr val="000000"/>
                </a:solidFill>
                <a:latin typeface="EMTT10"/>
              </a:rPr>
              <a:t>http://www.microfinance.com</a:t>
            </a:r>
            <a:r>
              <a:rPr b="0" lang="en-US" sz="1200" spc="-1" strike="noStrike">
                <a:solidFill>
                  <a:srgbClr val="000000"/>
                </a:solidFill>
                <a:latin typeface="EMR10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EMR10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EMR10"/>
              </a:rPr>
              <a:t>     p. </a:t>
            </a:r>
            <a:fld id="{15F247CD-616F-493A-B0FF-08B7AB6BA87C}" type="slidenum">
              <a:rPr b="0" lang="en-US" sz="1200" spc="-1" strike="noStrike">
                <a:solidFill>
                  <a:srgbClr val="000000"/>
                </a:solidFill>
                <a:latin typeface="EMR10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533520" y="6324480"/>
            <a:ext cx="732240" cy="733320"/>
            <a:chOff x="533520" y="6324480"/>
            <a:chExt cx="732240" cy="733320"/>
          </a:xfrm>
        </p:grpSpPr>
        <p:sp>
          <p:nvSpPr>
            <p:cNvPr id="4" name=""/>
            <p:cNvSpPr/>
            <p:nvPr/>
          </p:nvSpPr>
          <p:spPr>
            <a:xfrm flipH="1">
              <a:off x="533520" y="6324480"/>
              <a:ext cx="366480" cy="366840"/>
            </a:xfrm>
            <a:prstGeom prst="rtTriangl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533520" y="6324480"/>
              <a:ext cx="73224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 Black"/>
              </a:rPr>
              <a:t>Scoring for SMEs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160" y="2819160"/>
            <a:ext cx="80010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ME Financing: Issues and Strategies’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tate Bank of Pakista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hore, May 10, 2005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rk Schreine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icrofinance Risk Managemen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ttp://www.microfinance.com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990720" y="4495680"/>
            <a:ext cx="2558160" cy="2559240"/>
            <a:chOff x="990720" y="4495680"/>
            <a:chExt cx="2558160" cy="2559240"/>
          </a:xfrm>
        </p:grpSpPr>
        <p:sp>
          <p:nvSpPr>
            <p:cNvPr id="45" name=""/>
            <p:cNvSpPr/>
            <p:nvPr/>
          </p:nvSpPr>
          <p:spPr>
            <a:xfrm flipH="1">
              <a:off x="990720" y="4495680"/>
              <a:ext cx="1279440" cy="1279800"/>
            </a:xfrm>
            <a:prstGeom prst="rtTriangl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990720" y="4495680"/>
              <a:ext cx="2558160" cy="255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2. Scorecards: Source of weights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Black"/>
              </a:rPr>
              <a:t>Generi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: Made for ‘general’ lende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Black"/>
              </a:rPr>
              <a:t>Tailore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: Made for specific lende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ource of informa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Black"/>
              </a:rPr>
              <a:t>Expert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: Experience, common sens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Black"/>
              </a:rPr>
              <a:t>Dat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: Statistics on past loa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ll have pros and co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2. Scorecards (cont.)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57200" y="1066680"/>
          <a:ext cx="8229600" cy="5124600"/>
        </p:xfrm>
        <a:graphic>
          <a:graphicData uri="http://schemas.openxmlformats.org/drawingml/2006/table">
            <a:tbl>
              <a:tblPr/>
              <a:tblGrid>
                <a:gridCol w="990720"/>
                <a:gridCol w="1371600"/>
                <a:gridCol w="2819160"/>
                <a:gridCol w="3048120"/>
              </a:tblGrid>
              <a:tr h="37080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 Black"/>
                          <a:ea typeface="Times New Roman"/>
                        </a:rPr>
                        <a:t>Source of infor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x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7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 Black"/>
                        </a:rPr>
                        <a:t>Sc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Gener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2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ailo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7010280" y="42670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10280" y="426708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4191120"/>
            <a:ext cx="1905120" cy="45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ccep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57600" y="2590920"/>
            <a:ext cx="3429000" cy="2743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5410080"/>
            <a:ext cx="1434960" cy="45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ccu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200040" y="4191120"/>
            <a:ext cx="3809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38680" y="2438280"/>
            <a:ext cx="0" cy="2927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57800" y="5410080"/>
            <a:ext cx="838080" cy="45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2. Scorecards (Colombia example)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ge of borrower and risk &gt;30 days 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1523880"/>
          <a:ext cx="815328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15328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2. Scorecards (Bolivia example)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Black"/>
              </a:rPr>
              <a:t>Longest spell of arrears, last three loa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33520" y="1676520"/>
          <a:ext cx="7848360" cy="46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848360" cy="46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2. Scorecards (Dominican Republic)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Black"/>
              </a:rPr>
              <a:t>Type of business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Black"/>
              </a:rPr>
              <a:t>Weight (% pts.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Taxi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–3.6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Corner store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–2.1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Fried street food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–1.2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Others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  0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Beauty salon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+0.5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Clothesmaking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+1.4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Farming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+1.7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Construction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+2.3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Carpentry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+4.0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3. Use of sco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wo common views of scoring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nnot help at al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n do all the work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Black"/>
              </a:rPr>
              <a:t>Reality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: Scoring can help som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ME lending is too complex to automate completel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nnot replace loan officers’ evaluation of cash flow, character (cannot rescue lender with big problems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oes not save time up-front, instead saves time in collection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coring can reject, but not approv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3. Use of pre-disbursement sco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1532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3. Use: Effects of contract changes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73280" y="954000"/>
            <a:ext cx="729288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3. Use: Reasons for high/low risk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03480" y="1079640"/>
            <a:ext cx="6811920" cy="51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3. Use: Loan-officer portfolio summary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8600" y="1128600"/>
            <a:ext cx="8534520" cy="4370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715000" y="1447920"/>
            <a:ext cx="3200400" cy="449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Agenda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What is scoring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Scorecard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Use of scor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Benefits and cos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Information requiremen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Steps in a scoring projec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3. Use: Prioritizing collection efforts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8600" y="868320"/>
            <a:ext cx="838188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3. Use of scoring: Back-test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oes scoring predict accurately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 Black"/>
              </a:rPr>
              <a:t>Back-testing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: Before use, check if scorecard predicted historical ‘bads’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olovian example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ad” = In arrears on last day of month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corecard data: 1993 to 2001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est period: January to August 2002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36 percent of 8,549 cases were “bad”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o need to trust that scoring works; with back-testing you can know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3. Use of scoring: Bolivian back-test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458200" cy="5257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7467480" y="838080"/>
            <a:ext cx="990720" cy="5105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3. Use: Bolivian back-test (cont.)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olicy: Reject if risk &gt; threshol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f ‘very risky’ threshold = 80% risk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uccessfully reject 1,259 ‘bads’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istakenly reject 295 ‘goods’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void 4.3 ‘bads’ per ‘good’ los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void 40% of ‘bads’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pprove 95% of ‘goods’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anagers set policy based on effects of different threshold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3. Use: Bolivian back-test (PAR)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ffect on portfolio-at-ris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7415280" cy="50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3. Use: Effect on net profit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Rejecting ‘very risky’ cases means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Avoiding some ‘Bads’ (a benefit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Lower write-offs and lower loan-loss provision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Less time spent in collection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Losing some ‘Goods’ (a cost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uppose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Benefit of avoiding 1 ‘bad’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= $150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Cost of losing 1 ‘good’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= $150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In reality, cost of ‘bad’ &gt; benefit of ‘good’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Effect on net profit in Bolivia, 80% threshold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= ‘Bads’ avoided x benefit – ‘Goods’ lost x cost = 1,259 x $150 – 295 x $150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= +$144,600 (in 8 months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3. Use: Effect on portfolio size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 Bolivia (and elsewhere), loan officers spend each week about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2 days on evaluation/disbursemen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1 day on meetings and office work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2 days in collecting from delinquent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coring reduces ‘bads’ by 40%, freeing up 6.4 hours/officer/wee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f extra time used to attract new borrowers, lending grows by 22%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us, scoring decreases arrears and increases portfolio size (and depth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3. Use of scoring: Test, test, test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ake sure scoring works (and that users see that it works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st before use (back-testing)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gardless of scorecard typ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Use to set polic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st during use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tect branches that ignore scoring policy and users who ‘cook’ dat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trol overrid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Know when to refresh scorecard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4. Benefits of sco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Finance is risk management; scoring improves risk managemen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Quantifies risk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as probability something ‘bad’ will happe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Makes risk evaluatio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explicit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consistent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(not just loan officers’ ‘gut feeling’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Help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train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new loan officers and reduces the need for highly qualified officer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Better risk management means larger portfolios, more clients (and more poor clients), and greater profit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4. Benefits of scoring (cont.)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ocus evaluation where it counts most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Reward ‘very safe’, do nothing for ‘average’, adjust ‘risky’, reject ‘very risky’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Manage risk after disbursement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Preventive’ courtesy visits to ‘risky’ client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Prioritize collection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acilitates portfolio management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Precisely loosen/tighten credit polic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Strengthen centralized contro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Foresee effects of new policies via back-testing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Detect shifts in risk profile before crisis hit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Set prices based on risk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Biggest benefit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: Strengthen culture of explicit, conscious risk management based on quantitative analysis of dat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1.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What is scoring?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Scoring forecasts risk (% chance, like a weather forecast) that client will behave ‘badly’ based on historical links between behavior and indicator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Example risks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Arrears &gt;30 day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A ‘good’ borrower will not return for ‘repeat’ loan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Example indicators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Borrower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(Education, Size of family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Business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(Debt/equity ratio, Type of business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Loan history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(Max. arrears previous loan, # loans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Bureau history  (Arrears elsewhere, Debt/income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Saving history  (Presence of account, Balance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Loan proposed (Amount, #/Frequency installments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Lender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(Branch, Loan officer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4. Costs of sco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Sharp organizational change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hange is never eas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ower shifts from Credit to IT and from loan officers to scorecard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Not a project but a (long-term) proces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Must manage like any large chang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Users must believe scoring works. To believe, they must understand. To understand, they need demonstrations, training, tests, and follow-up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Training and follow-up is the key!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4. Costs of scoring (cont.)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anagement skill is crucial. S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coring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Does not approve nor rejec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ounts characteristics, ignores characte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redicts risk, but does not manage i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upposes the future will be like the past, but everything changes (economy, competition, credit policy itself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Requires careful data collect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Change in habits of front-line worker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Store data received from credit bureaux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Requires tracking overrid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Requires a local ‘Scoring Manager’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4. Costs of scoring (cont.)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grate in MIS (or use on paper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ire external skill if needed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ublic-relations risk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ems ‘inhuman’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kes rejected ‘goods’ explici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void illegal indicators (e.g. marital status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ceptance by front-line user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No ‘extra’ work due to scoring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monstrate predictive accurac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ersistent training and follow-up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5. Data requirement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Black"/>
              </a:rPr>
              <a:t> 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General guidelines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Do not throw data aw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Key-punchers are inexpensiv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Record data on rejects also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Train loan officers and key-puncher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Quantify loan officers’ judgment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Audit data qual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Need data on many past loa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Start to improve data now!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In interim, use ‘expert’ scorecard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5. Data: Credit bureau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rrears in current and paid-off loa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umber of inquiries in past yea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mounts owed to current creditor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or current and paid-off loans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dentity credito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ate disbursed (and dates paid-off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mount disbursed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onthly installment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ximum line of credi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oth positive and negative info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 Black"/>
              </a:rPr>
              <a:t>5. Data: Loan officer subjective judgments</a:t>
            </a:r>
            <a:endParaRPr b="0" lang="en-US" sz="30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5-point scale (far below-average, below-average, average, above-average, or far above-average)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verall credit risk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onesty and transparency of respons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Quality of referenc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ntrepreneurial skill and ‘oomph’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ospects for line of busines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ariability and seasonality of cash flow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cent investment in home and busines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rasp of rules in loan contrac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Quality of family relationships and informal support network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5. Data: Applicant demographics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Year of birth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Gende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arital status (and year changed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st grade completed in scho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# household members (including applicant) &gt; age 18 or olde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# household members &lt; age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# household members with salaried job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# enterprises run by HH member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5. Data: Contact particulars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hone number to contact at home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s it a neighbor’s phone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s it a cell phone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hone number to contact at business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s it a neighbor’s phone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s it a cell phone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s it different from home phone number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-mail addres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5. Data: Household assets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Home tenure (owner, renter, other)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Year took up current residenc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Number of rooms (excluding bathroom, kitchen)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Hectares of non-homestead, arable land owned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Roof and floor construction material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Household service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Electricity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Drinking water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Cooking fuel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Type of toile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Vehicles (working)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Automobile, tractor, truck, or bu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Motorcycl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Bicycl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5. Data: Household assets (cont.)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ppliances (working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rigerato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lor televisio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ashing machine (clothes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text-specific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rmal savings accoun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e opened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ssbook or tim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alan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req. of receipt of remittanc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What is scoring? (cont.)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Black"/>
              </a:rPr>
              <a:t>Assumption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: Cases today will behave like past cases with similar indicator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Black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: Historically, 18% of dairy farmers had arrears &gt;30 days. Risk forecast for a loan approved today to a dairy farmer is assumed to be 18%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 Black"/>
              </a:rPr>
              <a:t>Scoring links risk with indicators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5. Data: Business ‘demographics’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ctor (manufacturing, services, trade, agriculture, other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pecific type of business (list of 30–50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Year founded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ormaliz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nure of locale (owned, rented, other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erson-months of full-time-equivalent workers per yea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pplican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amily members (excluding applicant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Non-family member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-457200" y="-453960"/>
            <a:ext cx="10058400" cy="776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5. Data: Monthly business fin. flows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al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xpens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stallments paid on other debts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usines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ousehold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5. Data: Business financial stocks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ash and savings-account balanc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ventor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xed asse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eb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orma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forma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5. Data: Repayment record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r each scheduled installment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e du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e paid-of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dentity of the lender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ranch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an officer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t disbursemen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urren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5. Data: Aspects of loan contract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ate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pplication submitted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Loan disbursed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Loan paid-off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mount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isbursed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verage installmen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# installment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requency of installment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financed statu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ype of guarantee(s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alue of guarantee(s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dentity of co-signer(s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6. Steps in a scoring project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Make sure you are read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Define ‘Bad’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Plan to improve data qualit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Build scorecar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Integrate scoring in MI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Pilo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Expand, monitor, maintai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1. Make sure you are ready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Efficient, stable lending technology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Adequate MIS and data base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Upper management champion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Manage like any large change project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orm a strategic pla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onvene an Advisory Committe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Involve people from Credit and I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Designate a ‘Scoring Manager’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Build-in feedback process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2. Define ‘Bad’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When do arrears become ‘costly’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When do arrears preclude repeat loans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Read ‘Credit Manual’, but also talk with loan officers and examine incentiv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Choose a risk that policy can affect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Not borrower death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Loans become unprofitable long before they become uncollectibl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Start simple, but think big. Get a simple scorecard accepted before adding more or increasing complex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4. Build scorecard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Make your own or hire experti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If possible, use data-based weights; else, use expert weigh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Ask users to review weigh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Regardless of scorecard type, </a:t>
            </a:r>
            <a:r>
              <a:rPr b="1" i="1" lang="en-US" sz="3200" spc="-1" strike="noStrike">
                <a:solidFill>
                  <a:srgbClr val="000000"/>
                </a:solidFill>
                <a:latin typeface="Arial Black"/>
              </a:rPr>
              <a:t>always back-test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to see if it work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2. Scorecards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371600"/>
          <a:ext cx="8229600" cy="4581360"/>
        </p:xfrm>
        <a:graphic>
          <a:graphicData uri="http://schemas.openxmlformats.org/drawingml/2006/table">
            <a:tbl>
              <a:tblPr/>
              <a:tblGrid>
                <a:gridCol w="2590920"/>
                <a:gridCol w="1981080"/>
                <a:gridCol w="2514600"/>
                <a:gridCol w="1143000"/>
              </a:tblGrid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 Black"/>
                        </a:rPr>
                        <a:t>Indic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 Black"/>
                        </a:rPr>
                        <a:t>Indicator val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 Black"/>
                        </a:rPr>
                        <a:t>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. Sector busines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g., services, manufactu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B. Previous lo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Repeat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ew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. Most days late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evious lo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one or ‘New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Repeat’ w/arr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/day, up to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D. Savings ac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otal scor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5. Integrate scoring in the MIS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Goal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: Make scoring easy to u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MIS computes and displays forecast risk and realized risk in all standard screens and reports familiar to user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Grafts scoring onto the daily routin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Avoids ‘extra’ work for use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Helps managers, loan officers see that scoring 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Tells why a case has high or low ris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Users will look for excuse not to us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6. Pilot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Write ‘Scoring Manual’ with policy based on back-test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Train loan officers, branch manager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oncepts, results of back-testing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coring in MIS screens and report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Affects on performance incentiv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ilot in 2–3 branches for 6–12 month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Hold hands on all cases for a few day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rovide weekly (then monthly) follow-up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Lasts for an average loan cycl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lan formal opportunities for feedbac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7. Expand, monitor, maintain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Based on feedback, adjust MIS implementation and ‘Scoring Manual’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Second round of training in branch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Testimonials from pilot user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how lower arrears, higher profit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Weekly follow-up (then monthly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Track overrid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onstantly test predictive powe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Manage stubborn branches, officer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Summary: Challenges of sco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Key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data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training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, an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project management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, not computers and statistic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Users must see that scoring works and does not make them work mo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Scoring is not a project but a process with profound chang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MIS integration helps win over user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lways back-tes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armer w/savings acct. and no past loans (‘new’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2. Example scorecard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1219320"/>
            <a:ext cx="82296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09480" y="1600200"/>
          <a:ext cx="8001000" cy="4505400"/>
        </p:xfrm>
        <a:graphic>
          <a:graphicData uri="http://schemas.openxmlformats.org/drawingml/2006/table">
            <a:tbl>
              <a:tblPr/>
              <a:tblGrid>
                <a:gridCol w="2743200"/>
                <a:gridCol w="2210040"/>
                <a:gridCol w="2057400"/>
                <a:gridCol w="99036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 Black"/>
                        </a:rPr>
                        <a:t>Indic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 Black"/>
                        </a:rPr>
                        <a:t>Indicator val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 Black"/>
                        </a:rPr>
                        <a:t>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. Sector busines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g., services, manufactu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3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B. Previous lo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Repeat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ew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38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. Most days late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evious lo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one or ‘New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Repeat’ w/arr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/day, up to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D. Savings ac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38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otal scor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5638680" y="1981080"/>
            <a:ext cx="182880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3048120"/>
            <a:ext cx="12193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3809880"/>
            <a:ext cx="21337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86200" y="4952880"/>
            <a:ext cx="12193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2. Example scorecard (II)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295280"/>
          <a:ext cx="8229600" cy="5010120"/>
        </p:xfrm>
        <a:graphic>
          <a:graphicData uri="http://schemas.openxmlformats.org/drawingml/2006/table">
            <a:tbl>
              <a:tblPr/>
              <a:tblGrid>
                <a:gridCol w="2820960"/>
                <a:gridCol w="2273400"/>
                <a:gridCol w="2116080"/>
                <a:gridCol w="1019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 Black"/>
                        </a:rPr>
                        <a:t>Indic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 Black"/>
                        </a:rPr>
                        <a:t>Indicator val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 Black"/>
                        </a:rPr>
                        <a:t>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. Sector busines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g., services, manufactu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B. Previous lo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Repeat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ew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43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. Most days late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evious lo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one or ‘New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Repeat’ w/arr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/day, up to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D. Savings ac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otal scor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228600" y="91440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rader, 1 previous loan with 4 days arrears, no savings ac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33920" y="1676520"/>
            <a:ext cx="12952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2819520"/>
            <a:ext cx="1295280" cy="761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3657600"/>
            <a:ext cx="190512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48520" y="4952880"/>
            <a:ext cx="68580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2. Associating Scores with Risk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core is converted to risk (probability of going ‘bad’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3520" y="1682640"/>
          <a:ext cx="8076960" cy="4556160"/>
        </p:xfrm>
        <a:graphic>
          <a:graphicData uri="http://schemas.openxmlformats.org/drawingml/2006/table">
            <a:tbl>
              <a:tblPr/>
              <a:tblGrid>
                <a:gridCol w="1616040"/>
                <a:gridCol w="1616040"/>
                <a:gridCol w="1612800"/>
                <a:gridCol w="1616040"/>
                <a:gridCol w="1616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c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Risk 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c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Risk 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762120" y="4343400"/>
            <a:ext cx="26668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5715000"/>
            <a:ext cx="26668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2. Scorecard notes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 real life, 30-50 indicators (not 4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coring for SMEs less powerful than scoring for credit cards, homes, or car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lf-employed, not salaried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ubject to greater and more varied risk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ess (or no) collatera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ess complete info. from credit bureaux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oes not replace ‘traditional’ evaluation by loan officer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etects high-risk cases that otherwise slip through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8T21:09:35Z</dcterms:created>
  <dc:creator>Mark Schreiner</dc:creator>
  <dc:description/>
  <dc:language>en-US</dc:language>
  <cp:lastModifiedBy>SBP</cp:lastModifiedBy>
  <dcterms:modified xsi:type="dcterms:W3CDTF">2005-05-25T07:08:18Z</dcterms:modified>
  <cp:revision>146</cp:revision>
  <dc:subject/>
  <dc:title>Slide 1</dc:title>
</cp:coreProperties>
</file>