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324120"/>
            <a:ext cx="8229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MR1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© 2005 by Microfinance Risk Management, L.L.C., </a:t>
            </a:r>
            <a:r>
              <a:rPr b="0" lang="en-US" sz="1200" spc="-1" strike="noStrike">
                <a:solidFill>
                  <a:srgbClr val="000000"/>
                </a:solidFill>
                <a:latin typeface="EMTT10"/>
              </a:rPr>
              <a:t>http://www.microfinance.com</a:t>
            </a: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     p. </a:t>
            </a:r>
            <a:fld id="{D183E757-4E18-41B8-ACA4-A1DD5EFFA9F7}" type="slidenum">
              <a:rPr b="0" lang="en-US" sz="1200" spc="-1" strike="noStrike">
                <a:solidFill>
                  <a:srgbClr val="000000"/>
                </a:solidFill>
                <a:latin typeface="EMR10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3520" y="6324480"/>
            <a:ext cx="732240" cy="733320"/>
            <a:chOff x="533520" y="6324480"/>
            <a:chExt cx="732240" cy="733320"/>
          </a:xfrm>
        </p:grpSpPr>
        <p:sp>
          <p:nvSpPr>
            <p:cNvPr id="4" name=""/>
            <p:cNvSpPr/>
            <p:nvPr/>
          </p:nvSpPr>
          <p:spPr>
            <a:xfrm flipH="1">
              <a:off x="533520" y="6324480"/>
              <a:ext cx="366480" cy="36684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33520" y="6324480"/>
              <a:ext cx="7322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 Black"/>
              </a:rPr>
              <a:t>Scoring for SMEs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E Financing: Issues and Strategie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e Bank of Pakist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hore, May 10, 2005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 Schrein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finance Risk Manag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ttp://www.microfinance.co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4495680"/>
            <a:ext cx="2558160" cy="2559240"/>
            <a:chOff x="990720" y="4495680"/>
            <a:chExt cx="2558160" cy="2559240"/>
          </a:xfrm>
        </p:grpSpPr>
        <p:sp>
          <p:nvSpPr>
            <p:cNvPr id="45" name=""/>
            <p:cNvSpPr/>
            <p:nvPr/>
          </p:nvSpPr>
          <p:spPr>
            <a:xfrm flipH="1">
              <a:off x="990720" y="4495680"/>
              <a:ext cx="1279440" cy="1279800"/>
            </a:xfrm>
            <a:prstGeom prst="rtTriangl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990720" y="4495680"/>
              <a:ext cx="2558160" cy="255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: Source of weight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Made for ‘general’ len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Tailore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Made for specific len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urce of inform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Expert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Experience, common sen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Statistics on past lo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ll have pros and c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066680"/>
          <a:ext cx="8229600" cy="5124600"/>
        </p:xfrm>
        <a:graphic>
          <a:graphicData uri="http://schemas.openxmlformats.org/drawingml/2006/table">
            <a:tbl>
              <a:tblPr/>
              <a:tblGrid>
                <a:gridCol w="990720"/>
                <a:gridCol w="1371600"/>
                <a:gridCol w="2819160"/>
                <a:gridCol w="3048120"/>
              </a:tblGrid>
              <a:tr h="3708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Source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7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ail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7010280" y="42670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42670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4191120"/>
            <a:ext cx="1905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2590920"/>
            <a:ext cx="342900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410080"/>
            <a:ext cx="143496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0040" y="41911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2438280"/>
            <a:ext cx="0" cy="292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410080"/>
            <a:ext cx="83808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 (Colombia example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ge of borrower and risk &gt;30 days 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23880"/>
          <a:ext cx="81532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532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 (Bolivia example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Longest spell of arrears, last three lo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1676520"/>
          <a:ext cx="784836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8483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 (Dominican Republic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Type of busines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Weight (% pts.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Taxi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–3.6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Corner store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–2.1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Fried street food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–1.2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Others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0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Beauty salon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0.5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Clothesmaking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1.4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Farming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1.7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Construction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2.3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Carpentry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4.0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 of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common views of scoring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not help at al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 do all the w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Reality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Scoring can help so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ME lending is too complex to automate completel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not replace loan officers’ evaluation of cash flow, character (cannot rescue lender with big problem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es not save time up-front, instead saves time in colle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oring can reject, but not approv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 of pre-disbursement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: Effects of contract chang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3280" y="954000"/>
            <a:ext cx="729288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: Reasons for high/low risk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03480" y="1079640"/>
            <a:ext cx="68119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: Loan-officer portfolio summary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128600"/>
            <a:ext cx="8534520" cy="4370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15000" y="1447920"/>
            <a:ext cx="320040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Agend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 is scoring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corecar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 of scor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enefits and cos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formation require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teps in a scoring proje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: Prioritizing collection effort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868320"/>
            <a:ext cx="83818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 of scoring: Back-test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es scoring predict accurately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Back-testi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Before use, check if scorecard predicted historical ‘ba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lovian exampl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d” = In arrears on last day of mont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orecard data: 1993 to 200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period: January to August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6 percent of 8,549 cases were “bad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 need to trust that scoring works; with back-testing you can kno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 of scoring: Bolivian back-tes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467480" y="838080"/>
            <a:ext cx="990720" cy="5105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: Bolivian back-test (cont.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licy: Reject if risk &gt; threshol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‘very risky’ threshold = 80% risk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ccessfully reject 1,259 ‘ba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stakenly reject 295 ‘goo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void 4.3 ‘bads’ per ‘good’ los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void 40% of ‘ba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prove 95% of ‘goo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nagers set policy based on effects of different threshol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: Bolivian back-test (PAR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ffect on portfolio-at-ris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41528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: Effect on net profi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jecting ‘very risky’ cases mean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voiding some ‘Bads’ (a benefit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ower write-offs and lower loan-loss provis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ss time spent in collec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sing some ‘Goods’ (a cost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uppos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enefit of avoiding 1 ‘bad’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= $15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ost of losing 1 ‘good’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= $15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 reality, cost of ‘bad’ &gt; benefit of ‘good’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ffect on net profit in Bolivia, 80% threshold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 ‘Bads’ avoided x benefit – ‘Goods’ lost x cost = 1,259 x $150 – 295 x $15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 +$144,600 (in 8 month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: Effect on portfolio siz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Bolivia (and elsewhere), loan officers spend each week about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 days on evaluation/disburs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 day on meetings and office w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 days in collecting from delinqu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oring reduces ‘bads’ by 40%, freeing up 6.4 hours/officer/wee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f extra time used to attract new borrowers, lending grows by 22%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us, scoring decreases arrears and increases portfolio size (and depth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 of scoring: Test, test, tes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ke sure scoring works (and that users see that it work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st before use (back-testing)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ardless of scorecard typ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 to set polic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st during us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tect branches that ignore scoring policy and users who ‘cook’ da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ol overri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now when to refresh scorecar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Benefits of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Finance is risk management; scoring improves risk manage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Quantifies risk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as probability something ‘bad’ will happ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kes risk evaluati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explicit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consistent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(not just loan officers’ ‘gut feeling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elp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trai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new loan officers and reduces the need for highly qualified offic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tter risk management means larger portfolios, more clients (and more poor clients), and greater profi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Benefits of scoring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cus evaluation where it counts most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ward ‘very safe’, do nothing for ‘average’, adjust ‘risky’, reject ‘very risky’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nage risk after disbursement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eventive’ courtesy visits to ‘risky’ cli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ioritize collec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acilitates portfolio management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ecisely loosen/tighten credit polic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rengthen centralized contro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Foresee effects of new policies via back-testing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etect shifts in risk profile before crisis hi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et prices based on risk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Biggest benefit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: Strengthen culture of explicit, conscious risk management based on quantitative analysis of da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1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What is scoring?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coring forecasts risk (% chance, like a weather forecast) that client will behave ‘badly’ based on historical links between behavior and indicato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Example risks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rrears &gt;30 day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‘good’ borrower will not return for ‘repeat’ loa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Example indicators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orrower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(Education, Size of family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usiness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(Debt/equity ratio, Type of busines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an history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(Max. arrears previous loan, # loa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ureau history  (Arrears elsewhere, Debt/income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aving history  (Presence of account, Balance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an proposed (Amount, #/Frequency installment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ender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(Branch, Loan officer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Costs of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harp organizational chang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hange is never eas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ower shifts from Credit to IT and from loan officers to scorecar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Not a project but a (long-term) proc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ust manage like any large chan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sers must believe scoring works. To believe, they must understand. To understand, they need demonstrations, training, tests, and follow-u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raining and follow-up is the key!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Costs of scoring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ment skill is crucial. S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oring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oes not approve nor reje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unts characteristics, ignores charac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edicts risk, but does not manage 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upposes the future will be like the past, but everything changes (economy, competition, credit policy itself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quires careful data colle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hange in habits of front-line worke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ore data received from credit bureaux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quires tracking overri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quires a local ‘Scoring Manager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Costs of scoring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grate in MIS (or use on pape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re external skill if nee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ublic-relations risk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ms ‘inhuman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kes rejected ‘goods’ explic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void illegal indicators (e.g. marital statu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ceptance by front-line us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 ‘extra’ work due to scor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monstrate predictive accurac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istent training and follow-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 requirement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General guidelin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o not throw data aw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Key-punchers are inexpensiv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Record data on rejects als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rain loan officers and key-punch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antify loan officers’ judg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udit data qual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Need data on many past lo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tart to improve data now!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In interim, use ‘expert’ scorecar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Credit bureau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rrears in current and paid-off lo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inquiries in past ye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mounts owed to current credi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current and paid-off loa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ty credi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e disbursed (and dates paid-off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ount disburs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nthly install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ximum line of cred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positive and negative inf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5. Data: Loan officer subjective judgments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-point scale (far below-average, below-average, average, above-average, or far above-average)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verall credit ris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nesty and transparency of respons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lity of referen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ntrepreneurial skill and ‘oomph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spects for line of busin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riability and seasonality of cash flow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ent investment in home and busin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asp of rules in loan contr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lity of family relationships and informal support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Applicant demographic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ear of bir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ital status (and year change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st grade completed in scho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# household members (including applicant) &gt; age 18 or ol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# household members &lt; age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# household members with salaried jo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# enterprises run by HH memb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Contact particular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one number to contact at hom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a neighbor’s phon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a cell phon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one number to contact at busines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a neighbor’s phon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a cell phon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different from home phone number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-mail addres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Household asset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ome tenure (owner, renter, other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Year took up current reside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umber of rooms (excluding bathroom, kitchen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ectares of non-homestead, arable land owned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Roof and floor construction material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ousehold servi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lectricit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Drinking water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oking fu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Type of toil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Vehicles (working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tomobile, tractor, truck, or b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torcyc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Bicyc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Household assets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pliances (workin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lor televisio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ashing machine (clothe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text-specific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mal savings accou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e open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ssbook or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eq. of receipt of remittan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What is scoring?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Assumption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: Cases today will behave like past cases with similar indica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: Historically, 18% of dairy farmers had arrears &gt;30 days. Risk forecast for a loan approved today to a dairy farmer is assumed to be 18%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 Black"/>
              </a:rPr>
              <a:t>Scoring links risk with indicator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Business ‘demographics’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tor (manufacturing, services, trade, agriculture, othe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cific type of business (list of 30–50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ear f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mal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nure of locale (owned, rented, othe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rson-months of full-time-equivalent workers per ye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mily members (excluding applicant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n-family memb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Monthly business fin. flow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en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stallments paid on other debt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use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Business financial stock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sh and savings-account balan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vent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xed asse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b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Repayment record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each scheduled installment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e du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e paid-of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ntity of the lender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an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an officer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t disburs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Aspects of loan contrac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plication submitt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n disburs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n paid-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ount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isburs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verage installmen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# install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equency of install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inanced statu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ype of guarantee(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ue of guarantee(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ty of co-signer(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6. Steps in a scoring projec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ake sure you are read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efine ‘Bad’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lan to improve data qua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uild scorecar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tegrate scoring in M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i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xpand, monitor, maintai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1. Make sure you are read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fficient, stable lending technology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dequate MIS and data bas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pper management champion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anage like any large change project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m a strategic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nvene an Advisory Committe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volve people from Credit and 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signate a ‘Scoring Manager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uild-in feedback proces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Define ‘Bad’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When do arrears become ‘costly’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hen do arrears preclude repeat loans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ad ‘Credit Manual’, but also talk with loan officers and examine incentiv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hoose a risk that policy can affect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Not borrower deat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oans become unprofitable long before they become uncollect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tart simple, but think big. Get a simple scorecard accepted before adding more or increasing complex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Build scorecard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ake your own or hire expert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f possible, use data-based weights; else, use expert weigh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sk users to review weigh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gardless of scorecard type,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always back-tes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to see if it wor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371600"/>
          <a:ext cx="8229600" cy="4581360"/>
        </p:xfrm>
        <a:graphic>
          <a:graphicData uri="http://schemas.openxmlformats.org/drawingml/2006/table">
            <a:tbl>
              <a:tblPr/>
              <a:tblGrid>
                <a:gridCol w="2590920"/>
                <a:gridCol w="1981080"/>
                <a:gridCol w="2514600"/>
                <a:gridCol w="114300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. Sector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g., services, manufact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. Previous lo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. Most days lat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vious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e or ‘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 w/arr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/day, up to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. Savings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 sco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Integrate scoring in the MI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Goal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: Make scoring easy to u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IS computes and displays forecast risk and realized risk in all standard screens and reports familiar to us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Grafts scoring onto the daily rout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voids ‘extra’ work for us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elps managers, loan officers see that scoring 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ells why a case has high or low ris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sers will look for excuse not to u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6. Pilo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Write ‘Scoring Manual’ with policy based on back-tes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rain loan officers, branch manag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ncepts, results of back-tes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coring in MIS screens and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ffects on performance incentiv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ilot in 2–3 branches for 6–12 month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old hands on all cases for a few day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vide weekly (then monthly) follow-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asts for an average loan cyc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lan formal opportunities for feedbac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7. Expand, monitor, maintai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ased on feedback, adjust MIS implementation and ‘Scoring Manual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econd round of training in branch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estimonials from pilot us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ow lower arrears, higher profi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Weekly follow-up (then monthly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rack overri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nstantly test predictive pow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anage stubborn branches, offic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Summary: Challenges of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Key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data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training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,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project manage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, not computers and statistic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sers must see that scoring works and does not make them work mo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coring is not a project but a process with profound chang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IS integration helps win over us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lways back-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rmer w/savings acct. and no past loans (‘new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Example scorecard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09480" y="1600200"/>
          <a:ext cx="8001000" cy="4505400"/>
        </p:xfrm>
        <a:graphic>
          <a:graphicData uri="http://schemas.openxmlformats.org/drawingml/2006/table">
            <a:tbl>
              <a:tblPr/>
              <a:tblGrid>
                <a:gridCol w="2743200"/>
                <a:gridCol w="2210040"/>
                <a:gridCol w="2057400"/>
                <a:gridCol w="9903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. Sector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g., services, manufact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. Previous lo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. Most days lat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vious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e or ‘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 w/arr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/day, up to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. Savings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 sco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638680" y="1981080"/>
            <a:ext cx="182880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304812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809880"/>
            <a:ext cx="21337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95288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2. Example scorecard (II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295280"/>
          <a:ext cx="8229600" cy="5010120"/>
        </p:xfrm>
        <a:graphic>
          <a:graphicData uri="http://schemas.openxmlformats.org/drawingml/2006/table">
            <a:tbl>
              <a:tblPr/>
              <a:tblGrid>
                <a:gridCol w="2820960"/>
                <a:gridCol w="2273400"/>
                <a:gridCol w="2116080"/>
                <a:gridCol w="10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. Sector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g., services, manufact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. Previous lo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. Most days lat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vious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e or ‘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 w/arr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/day, up to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. Savings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 sco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28600" y="9144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ader, 1 previous loan with 4 days arrears, no savings ac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1676520"/>
            <a:ext cx="12952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819520"/>
            <a:ext cx="129528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3657600"/>
            <a:ext cx="190512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4952880"/>
            <a:ext cx="6858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2. Associating Scores with Risk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ore is converted to risk (probability of going ‘bad’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682640"/>
          <a:ext cx="8076960" cy="4556160"/>
        </p:xfrm>
        <a:graphic>
          <a:graphicData uri="http://schemas.openxmlformats.org/drawingml/2006/table">
            <a:tbl>
              <a:tblPr/>
              <a:tblGrid>
                <a:gridCol w="1616040"/>
                <a:gridCol w="1616040"/>
                <a:gridCol w="1612800"/>
                <a:gridCol w="1616040"/>
                <a:gridCol w="1616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isk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isk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762120" y="4343400"/>
            <a:ext cx="26668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715000"/>
            <a:ext cx="26668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 not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real life, 30-50 indicators (not 4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oring for SMEs less powerful than scoring for credit cards, homes, or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f-employed, not salari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bject to greater and more varied ris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 (or no) collater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 complete info. from credit bureaux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es not replace ‘traditional’ evaluation by loan offic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tects high-risk cases that otherwise slip throug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09:35Z</dcterms:created>
  <dc:creator>Mark Schreiner</dc:creator>
  <dc:description/>
  <dc:language>en-US</dc:language>
  <cp:lastModifiedBy>SBP</cp:lastModifiedBy>
  <dcterms:modified xsi:type="dcterms:W3CDTF">2005-05-25T07:08:18Z</dcterms:modified>
  <cp:revision>146</cp:revision>
  <dc:subject/>
  <dc:title>Slide 1</dc:title>
</cp:coreProperties>
</file>