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8.wmf" ContentType="image/x-wmf"/>
  <Override PartName="/ppt/media/image13.png" ContentType="image/png"/>
  <Override PartName="/ppt/media/image18.png" ContentType="image/png"/>
  <Override PartName="/ppt/media/image17.wmf" ContentType="image/x-wmf"/>
  <Override PartName="/ppt/media/image16.png" ContentType="image/png"/>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11160"/>
            <a:ext cx="2970360" cy="43488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3"/>
          </p:nvPr>
        </p:nvSpPr>
        <p:spPr>
          <a:xfrm>
            <a:off x="3887280" y="11160"/>
            <a:ext cx="2970360" cy="43488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4"/>
          </p:nvPr>
        </p:nvSpPr>
        <p:spPr>
          <a:xfrm>
            <a:off x="-360" y="8848800"/>
            <a:ext cx="2970360" cy="43632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5"/>
          </p:nvPr>
        </p:nvSpPr>
        <p:spPr>
          <a:xfrm>
            <a:off x="3887280" y="8848800"/>
            <a:ext cx="2970360" cy="43632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5F5DDA-3C1A-451A-994A-BB8413F1961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
          <p:cNvSpPr/>
          <p:nvPr/>
        </p:nvSpPr>
        <p:spPr>
          <a:xfrm>
            <a:off x="2792520" y="88581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60DF87FA-AA9B-40BB-8903-D55C4ECC3484}"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1" name="PlaceHolder 5"/>
          <p:cNvSpPr>
            <a:spLocks noGrp="1"/>
          </p:cNvSpPr>
          <p:nvPr>
            <p:ph type="sldImg"/>
          </p:nvPr>
        </p:nvSpPr>
        <p:spPr>
          <a:xfrm>
            <a:off x="1252080" y="808200"/>
            <a:ext cx="4349880" cy="3262320"/>
          </a:xfrm>
          <a:prstGeom prst="rect">
            <a:avLst/>
          </a:prstGeom>
          <a:noFill/>
          <a:ln w="12600">
            <a:solidFill>
              <a:srgbClr val="000000"/>
            </a:solidFill>
            <a:miter/>
          </a:ln>
        </p:spPr>
        <p:txBody>
          <a:bodyPr lIns="90000" rIns="90000" tIns="46800" bIns="46800" anchor="ctr">
            <a:no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2" name="PlaceHolder 6"/>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254240" y="808200"/>
            <a:ext cx="4349520" cy="3262320"/>
          </a:xfrm>
          <a:prstGeom prst="rect">
            <a:avLst/>
          </a:prstGeom>
          <a:ln w="0">
            <a:noFill/>
          </a:ln>
        </p:spPr>
      </p:sp>
      <p:sp>
        <p:nvSpPr>
          <p:cNvPr id="1047"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raditional deal based underwriting, the level of inefficiencies rises with higher volume.</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254240" y="808200"/>
            <a:ext cx="4349520" cy="3262320"/>
          </a:xfrm>
          <a:prstGeom prst="rect">
            <a:avLst/>
          </a:prstGeom>
          <a:ln w="0">
            <a:noFill/>
          </a:ln>
        </p:spPr>
      </p:sp>
      <p:sp>
        <p:nvSpPr>
          <p:cNvPr id="1049"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 through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324080" y="905040"/>
            <a:ext cx="4084560" cy="3063600"/>
          </a:xfrm>
          <a:prstGeom prst="rect">
            <a:avLst/>
          </a:prstGeom>
          <a:ln w="0">
            <a:noFill/>
          </a:ln>
        </p:spPr>
      </p:sp>
      <p:sp>
        <p:nvSpPr>
          <p:cNvPr id="1051" name="PlaceHolder 2"/>
          <p:cNvSpPr>
            <a:spLocks noGrp="1"/>
          </p:cNvSpPr>
          <p:nvPr>
            <p:ph type="body"/>
          </p:nvPr>
        </p:nvSpPr>
        <p:spPr>
          <a:xfrm>
            <a:off x="914400" y="4417920"/>
            <a:ext cx="5029200" cy="39132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254240" y="808200"/>
            <a:ext cx="4349520" cy="3262320"/>
          </a:xfrm>
          <a:prstGeom prst="rect">
            <a:avLst/>
          </a:prstGeom>
          <a:ln w="0">
            <a:noFill/>
          </a:ln>
        </p:spPr>
      </p:sp>
      <p:sp>
        <p:nvSpPr>
          <p:cNvPr id="1053"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254240" y="808200"/>
            <a:ext cx="4349520" cy="3262320"/>
          </a:xfrm>
          <a:prstGeom prst="rect">
            <a:avLst/>
          </a:prstGeom>
          <a:ln w="0">
            <a:noFill/>
          </a:ln>
        </p:spPr>
      </p:sp>
      <p:sp>
        <p:nvSpPr>
          <p:cNvPr id="1055" name="PlaceHolder 2"/>
          <p:cNvSpPr>
            <a:spLocks noGrp="1"/>
          </p:cNvSpPr>
          <p:nvPr>
            <p:ph type="body"/>
          </p:nvPr>
        </p:nvSpPr>
        <p:spPr>
          <a:xfrm>
            <a:off x="914400" y="4417920"/>
            <a:ext cx="5029200" cy="391176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792000" y="316080"/>
            <a:ext cx="5561280" cy="4170240"/>
          </a:xfrm>
          <a:prstGeom prst="rect">
            <a:avLst/>
          </a:prstGeom>
          <a:ln w="0">
            <a:noFill/>
          </a:ln>
        </p:spPr>
      </p:sp>
      <p:sp>
        <p:nvSpPr>
          <p:cNvPr id="1057" name="PlaceHolder 2"/>
          <p:cNvSpPr>
            <a:spLocks noGrp="1"/>
          </p:cNvSpPr>
          <p:nvPr>
            <p:ph type="body"/>
          </p:nvPr>
        </p:nvSpPr>
        <p:spPr>
          <a:xfrm>
            <a:off x="893520" y="4421160"/>
            <a:ext cx="5073480" cy="4192560"/>
          </a:xfrm>
          <a:prstGeom prst="rect">
            <a:avLst/>
          </a:prstGeom>
          <a:noFill/>
          <a:ln w="0">
            <a:noFill/>
          </a:ln>
        </p:spPr>
        <p:txBody>
          <a:bodyPr lIns="93240" rIns="93240" tIns="46440" bIns="4644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 slide more clearly illustrates the reason for scoring</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6 customers applying for credit and their appearance is directly associated with their payment ability</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il” is easily identified as being a “super bad” and will not qualify for credit</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el” will most definitely be approved, even though she may not be the most profitable customer in the long term</a:t>
            </a:r>
            <a:endParaRPr b="0" lang="en-US" sz="1200" spc="-1" strike="noStrike">
              <a:solidFill>
                <a:srgbClr val="000000"/>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ng allows us to risk rank order the customers in between by allocating a single value to each applicant i.e. “dressing” each applicant in the appropriate cloth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68400" y="414360"/>
            <a:ext cx="5226120" cy="3917880"/>
          </a:xfrm>
          <a:prstGeom prst="rect">
            <a:avLst/>
          </a:prstGeom>
          <a:ln w="0">
            <a:noFill/>
          </a:ln>
        </p:spPr>
      </p:sp>
      <p:sp>
        <p:nvSpPr>
          <p:cNvPr id="1059" name="PlaceHolder 2"/>
          <p:cNvSpPr>
            <a:spLocks noGrp="1"/>
          </p:cNvSpPr>
          <p:nvPr>
            <p:ph type="body"/>
          </p:nvPr>
        </p:nvSpPr>
        <p:spPr>
          <a:xfrm>
            <a:off x="685800" y="4414680"/>
            <a:ext cx="5486400" cy="4184640"/>
          </a:xfrm>
          <a:prstGeom prst="rect">
            <a:avLst/>
          </a:prstGeom>
          <a:noFill/>
          <a:ln w="0">
            <a:noFill/>
          </a:ln>
        </p:spPr>
        <p:txBody>
          <a:bodyPr lIns="92160" rIns="92160" tIns="46080" bIns="4608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re are three broad ranges of scorecard types, namely:</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pplication</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Behaviour and Collections Scoring – AA definition</a:t>
            </a:r>
            <a:r>
              <a:rPr b="0" lang="en-ZA"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Credit Bureau </a:t>
            </a:r>
            <a:endParaRPr b="0" lang="en-US" sz="1200" spc="-1" strike="noStrike">
              <a:solidFill>
                <a:srgbClr val="000000"/>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 application scorecard is internal and utilises a customers demographic information for risk assessment. It is used for first time risk assessment of customers</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scoring may also use credit bureau information of the customer – DEBATEABLE!</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behaviour scorecard is internal and uses the customers past performance track record to assess future risk. It is used for repeat business and collections. Behaviour scoring can include risk assessment for account management, collections, recovery, attrition, spend etc.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you won’t mind I would like to split behaviour scoring in behaviour scoring  and collections scoring as this is common at AA. Furthermore, I would like to inform you about the fact that </a:t>
            </a:r>
            <a:r>
              <a:rPr b="1" i="1" lang="en-GB" sz="1200" spc="-1" strike="noStrike">
                <a:solidFill>
                  <a:srgbClr val="000000"/>
                </a:solidFill>
                <a:latin typeface="Arial"/>
              </a:rPr>
              <a:t>solicitation scoring </a:t>
            </a:r>
            <a:r>
              <a:rPr b="1" lang="en-GB" sz="1200" spc="-1" strike="noStrike">
                <a:solidFill>
                  <a:srgbClr val="000000"/>
                </a:solidFill>
                <a:latin typeface="Arial"/>
              </a:rPr>
              <a:t>is still mentioned as a category at AA (just in case someone asks).</a:t>
            </a:r>
            <a:br>
              <a:rPr sz="1200"/>
            </a:br>
            <a:br>
              <a:rPr sz="1200"/>
            </a:br>
            <a:r>
              <a:rPr b="1"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 credit bureau scorecard is external and resides at a Credit Bureau. It is based on the pooled performance of a customer who holds credit facilities with a number of organisations. It is used for both first time and repeat busin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887280" y="8848800"/>
            <a:ext cx="2970360" cy="43632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55D7733-6372-45DD-849A-8DD9F879E0C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1" name=""/>
          <p:cNvSpPr txBox="1"/>
          <p:nvPr/>
        </p:nvSpPr>
        <p:spPr>
          <a:xfrm>
            <a:off x="-360" y="8848800"/>
            <a:ext cx="2970360" cy="43632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42" name=""/>
          <p:cNvSpPr txBox="1"/>
          <p:nvPr/>
        </p:nvSpPr>
        <p:spPr>
          <a:xfrm>
            <a:off x="-360" y="11160"/>
            <a:ext cx="2970360" cy="434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3" name=""/>
          <p:cNvSpPr txBox="1"/>
          <p:nvPr/>
        </p:nvSpPr>
        <p:spPr>
          <a:xfrm>
            <a:off x="3887280" y="11160"/>
            <a:ext cx="2970360" cy="434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44" name="PlaceHolder 1"/>
          <p:cNvSpPr>
            <a:spLocks noGrp="1"/>
          </p:cNvSpPr>
          <p:nvPr>
            <p:ph type="sldImg"/>
          </p:nvPr>
        </p:nvSpPr>
        <p:spPr>
          <a:xfrm>
            <a:off x="1104840" y="696960"/>
            <a:ext cx="4649760" cy="3487680"/>
          </a:xfrm>
          <a:prstGeom prst="rect">
            <a:avLst/>
          </a:prstGeom>
          <a:ln w="0">
            <a:noFill/>
          </a:ln>
        </p:spPr>
      </p:sp>
      <p:sp>
        <p:nvSpPr>
          <p:cNvPr id="1045"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C8511-5B71-4B2D-A615-9BD820CB71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322200" y="161892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16E9C245-1694-43FF-B9AE-4FEAB869E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A79F88FF-F22F-44E4-AE31-1F9E253EF9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32220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13344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594468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32220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13344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594468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CA19CA20-60D3-4E97-AE7C-86EA5AAAF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5E23E2-785F-414C-8067-FF36853F50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322200" y="1618920"/>
            <a:ext cx="8313840" cy="4498920"/>
          </a:xfrm>
          <a:prstGeom prst="rect">
            <a:avLst/>
          </a:prstGeom>
          <a:noFill/>
          <a:ln w="0">
            <a:noFill/>
          </a:ln>
        </p:spPr>
        <p:txBody>
          <a:bodyPr lIns="0" rIns="0" tIns="0" bIns="0" anchor="ctr">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4" name="PlaceHolder 3"/>
          <p:cNvSpPr>
            <a:spLocks noGrp="1"/>
          </p:cNvSpPr>
          <p:nvPr>
            <p:ph type="sldNum" idx="2"/>
          </p:nvPr>
        </p:nvSpPr>
        <p:spPr/>
        <p:txBody>
          <a:bodyPr/>
          <a:p>
            <a:fld id="{38D9BD3C-3C0D-47D6-ADC9-D1F83FAC09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
          </p:nvPr>
        </p:nvSpPr>
        <p:spPr/>
        <p:txBody>
          <a:bodyPr/>
          <a:p>
            <a:fld id="{A5EC4A35-D5FA-46EC-B291-58E4E73D5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373309B3-74EF-4C4C-BBA3-29998CF94A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2"/>
          </p:nvPr>
        </p:nvSpPr>
        <p:spPr/>
        <p:txBody>
          <a:bodyPr/>
          <a:p>
            <a:fld id="{75D3F1F2-7D14-4F15-BB87-56BB243B1B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2280"/>
            <a:ext cx="7917120" cy="5174280"/>
          </a:xfrm>
          <a:prstGeom prst="rect">
            <a:avLst/>
          </a:prstGeom>
          <a:noFill/>
          <a:ln w="0">
            <a:noFill/>
          </a:ln>
        </p:spPr>
        <p:txBody>
          <a:bodyPr lIns="0" rIns="0" tIns="0" bIns="0" anchor="ctr">
            <a:noAutofit/>
          </a:bodyPr>
          <a:p>
            <a:pPr>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3" name="PlaceHolder 2"/>
          <p:cNvSpPr>
            <a:spLocks noGrp="1"/>
          </p:cNvSpPr>
          <p:nvPr>
            <p:ph type="sldNum" idx="2"/>
          </p:nvPr>
        </p:nvSpPr>
        <p:spPr/>
        <p:txBody>
          <a:bodyPr/>
          <a:p>
            <a:fld id="{FFC14DC6-0145-4AC4-BA38-3C34382EFD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CC3FDEA4-3604-49E9-9875-62FF86988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322200" y="1618920"/>
            <a:ext cx="8313840" cy="4498920"/>
          </a:xfrm>
          <a:prstGeom prst="rect">
            <a:avLst/>
          </a:prstGeom>
          <a:noFill/>
          <a:ln w="0">
            <a:noFill/>
          </a:ln>
        </p:spPr>
        <p:txBody>
          <a:bodyPr lIns="0" rIns="0" tIns="0" bIns="0" anchor="ctr">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4" name="PlaceHolder 3"/>
          <p:cNvSpPr>
            <a:spLocks noGrp="1"/>
          </p:cNvSpPr>
          <p:nvPr>
            <p:ph type="sldNum" idx="1"/>
          </p:nvPr>
        </p:nvSpPr>
        <p:spPr/>
        <p:txBody>
          <a:bodyPr/>
          <a:p>
            <a:fld id="{E4D35769-BCBB-4BF4-A90F-B7CC8A76C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444CA8CF-C3F6-4278-99F6-BBFA2ACF07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961081C2-B584-4937-9EC3-E5848B9F4A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322200" y="161892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41F510A4-3A54-49E7-94A6-E3D732E1F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5"/>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2"/>
          </p:nvPr>
        </p:nvSpPr>
        <p:spPr/>
        <p:txBody>
          <a:bodyPr/>
          <a:p>
            <a:fld id="{97F26F0D-0414-429B-A355-DDFA67FD9C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32220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313344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5944680" y="161892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32220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6"/>
          <p:cNvSpPr>
            <a:spLocks noGrp="1"/>
          </p:cNvSpPr>
          <p:nvPr>
            <p:ph/>
          </p:nvPr>
        </p:nvSpPr>
        <p:spPr>
          <a:xfrm>
            <a:off x="313344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7"/>
          <p:cNvSpPr>
            <a:spLocks noGrp="1"/>
          </p:cNvSpPr>
          <p:nvPr>
            <p:ph/>
          </p:nvPr>
        </p:nvSpPr>
        <p:spPr>
          <a:xfrm>
            <a:off x="5944680" y="3969000"/>
            <a:ext cx="267696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2"/>
          </p:nvPr>
        </p:nvSpPr>
        <p:spPr/>
        <p:txBody>
          <a:bodyPr/>
          <a:p>
            <a:fld id="{00D24D74-1976-4DF7-9681-7870D048D0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01AFC05A-12AA-46B4-8E6F-9F527BDDD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43A932F6-F36A-443D-AA33-2B452FAA9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24FA4610-BFB4-4925-99D4-17908810CA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152280"/>
            <a:ext cx="7917120" cy="5174280"/>
          </a:xfrm>
          <a:prstGeom prst="rect">
            <a:avLst/>
          </a:prstGeom>
          <a:noFill/>
          <a:ln w="0">
            <a:noFill/>
          </a:ln>
        </p:spPr>
        <p:txBody>
          <a:bodyPr lIns="0" rIns="0" tIns="0" bIns="0" anchor="ctr">
            <a:noAutofit/>
          </a:bodyPr>
          <a:p>
            <a:pPr>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p:txBody>
      </p:sp>
      <p:sp>
        <p:nvSpPr>
          <p:cNvPr id="3" name="PlaceHolder 2"/>
          <p:cNvSpPr>
            <a:spLocks noGrp="1"/>
          </p:cNvSpPr>
          <p:nvPr>
            <p:ph type="sldNum" idx="1"/>
          </p:nvPr>
        </p:nvSpPr>
        <p:spPr/>
        <p:txBody>
          <a:bodyPr/>
          <a:p>
            <a:fld id="{775000E2-CE25-458B-A285-5D6306CC1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58244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32220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1726359E-BB4F-4AB5-8579-A8077917F4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322200" y="1618920"/>
            <a:ext cx="4056840" cy="449892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82440" y="396900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A5E093D-9E7C-40D3-B532-F023E9047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32220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582440" y="1618920"/>
            <a:ext cx="4056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322200" y="3969000"/>
            <a:ext cx="8313840" cy="2145960"/>
          </a:xfrm>
          <a:prstGeom prst="rect">
            <a:avLst/>
          </a:prstGeom>
          <a:noFill/>
          <a:ln w="0">
            <a:noFill/>
          </a:ln>
        </p:spPr>
        <p:txBody>
          <a:bodyPr lIns="0" rIns="0" tIns="0" bIns="0" anchor="t">
            <a:normAutofit/>
          </a:bodyPr>
          <a:p>
            <a:pPr indent="0">
              <a:lnSpc>
                <a:spcPts val="36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B9E442F-7E62-4DDD-B137-2F73151F0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57480"/>
          </a:xfrm>
          <a:prstGeom prst="rect">
            <a:avLst/>
          </a:prstGeom>
          <a:ln w="0">
            <a:noFill/>
          </a:ln>
        </p:spPr>
      </p:pic>
      <p:sp>
        <p:nvSpPr>
          <p:cNvPr id="1" name=""/>
          <p:cNvSpPr/>
          <p:nvPr/>
        </p:nvSpPr>
        <p:spPr>
          <a:xfrm>
            <a:off x="0" y="6264360"/>
            <a:ext cx="91440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a:xfrm>
            <a:off x="6837480" y="6351480"/>
            <a:ext cx="180000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77D5-7420-4D8A-9634-F72C9931B96E}" type="slidenum">
              <a:rPr b="0" lang="en-US" sz="1200" spc="-1" strike="noStrike">
                <a:solidFill>
                  <a:srgbClr val="999999"/>
                </a:solidFill>
                <a:latin typeface="Arial"/>
              </a:rPr>
              <a:t>&lt;number&gt;</a:t>
            </a:fld>
            <a:endParaRPr b="0" lang="en-US" sz="1200" spc="-1" strike="noStrike">
              <a:solidFill>
                <a:srgbClr val="ffffff"/>
              </a:solidFill>
              <a:latin typeface="Times New Roman"/>
            </a:endParaRPr>
          </a:p>
        </p:txBody>
      </p:sp>
      <p:pic>
        <p:nvPicPr>
          <p:cNvPr id="3" name="" descr=""/>
          <p:cNvPicPr/>
          <p:nvPr/>
        </p:nvPicPr>
        <p:blipFill>
          <a:blip r:embed="rId3"/>
          <a:stretch/>
        </p:blipFill>
        <p:spPr>
          <a:xfrm>
            <a:off x="719280" y="6351480"/>
            <a:ext cx="1650960" cy="406440"/>
          </a:xfrm>
          <a:prstGeom prst="rect">
            <a:avLst/>
          </a:prstGeom>
          <a:ln w="0">
            <a:noFill/>
          </a:ln>
        </p:spPr>
      </p:pic>
      <p:sp>
        <p:nvSpPr>
          <p:cNvPr id="4" name="PlaceHolder 2"/>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3"/>
          <p:cNvSpPr>
            <a:spLocks noGrp="1"/>
          </p:cNvSpPr>
          <p:nvPr>
            <p:ph type="body"/>
          </p:nvPr>
        </p:nvSpPr>
        <p:spPr>
          <a:xfrm>
            <a:off x="322200" y="1618920"/>
            <a:ext cx="8313840" cy="4498920"/>
          </a:xfrm>
          <a:prstGeom prst="rect">
            <a:avLst/>
          </a:prstGeom>
          <a:noFill/>
          <a:ln w="0">
            <a:noFill/>
          </a:ln>
        </p:spPr>
        <p:txBody>
          <a:bodyPr lIns="0" rIns="0" tIns="0" bIns="0" anchor="t">
            <a:normAutofit/>
          </a:bodyPr>
          <a:p>
            <a:pPr marL="380880" indent="-380880">
              <a:lnSpc>
                <a:spcPts val="36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36036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27080" indent="-28260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65120" indent="-336240">
              <a:lnSpc>
                <a:spcPts val="36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600200" indent="-233280">
              <a:lnSpc>
                <a:spcPts val="3600"/>
              </a:lnSpc>
              <a:spcBef>
                <a:spcPts val="11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
          <p:cNvSpPr/>
          <p:nvPr/>
        </p:nvSpPr>
        <p:spPr>
          <a:xfrm>
            <a:off x="0" y="1258920"/>
            <a:ext cx="9144000" cy="0"/>
          </a:xfrm>
          <a:prstGeom prst="line">
            <a:avLst/>
          </a:prstGeom>
          <a:ln w="9360">
            <a:solidFill>
              <a:srgbClr val="0092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6261120"/>
            <a:ext cx="9144000" cy="0"/>
          </a:xfrm>
          <a:prstGeom prst="line">
            <a:avLst/>
          </a:prstGeom>
          <a:ln w="9360">
            <a:solidFill>
              <a:srgbClr val="003e4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70600"/>
          </a:xfrm>
          <a:prstGeom prst="rect">
            <a:avLst/>
          </a:prstGeom>
          <a:ln w="0">
            <a:noFill/>
          </a:ln>
        </p:spPr>
      </p:pic>
      <p:pic>
        <p:nvPicPr>
          <p:cNvPr id="45" name="" descr=""/>
          <p:cNvPicPr/>
          <p:nvPr/>
        </p:nvPicPr>
        <p:blipFill>
          <a:blip r:embed="rId3"/>
          <a:stretch/>
        </p:blipFill>
        <p:spPr>
          <a:xfrm>
            <a:off x="934920" y="438120"/>
            <a:ext cx="3479760" cy="901800"/>
          </a:xfrm>
          <a:prstGeom prst="rect">
            <a:avLst/>
          </a:prstGeom>
          <a:ln w="0">
            <a:noFill/>
          </a:ln>
        </p:spPr>
      </p:pic>
      <p:sp>
        <p:nvSpPr>
          <p:cNvPr id="46" name="PlaceHolder 1"/>
          <p:cNvSpPr>
            <a:spLocks noGrp="1"/>
          </p:cNvSpPr>
          <p:nvPr>
            <p:ph type="sldNum" idx="2"/>
          </p:nvPr>
        </p:nvSpPr>
        <p:spPr>
          <a:xfrm>
            <a:off x="6837480" y="6351480"/>
            <a:ext cx="1800000" cy="44928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200" spc="-1" strike="noStrike">
                <a:solidFill>
                  <a:srgbClr val="868686"/>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F031AE2-214E-4A35-94AF-47C7463BD7CF}" type="slidenum">
              <a:rPr b="0" lang="en-US" sz="1200" spc="-1" strike="noStrike">
                <a:solidFill>
                  <a:srgbClr val="868686"/>
                </a:solidFill>
                <a:latin typeface="Arial"/>
              </a:rPr>
              <a:t>&lt;number&gt;</a:t>
            </a:fld>
            <a:endParaRPr b="0" lang="en-US" sz="1200" spc="-1" strike="noStrike">
              <a:solidFill>
                <a:srgbClr val="ffffff"/>
              </a:solidFill>
              <a:latin typeface="Times New Roman"/>
            </a:endParaRPr>
          </a:p>
        </p:txBody>
      </p:sp>
      <p:sp>
        <p:nvSpPr>
          <p:cNvPr id="47" name="PlaceHolder 2"/>
          <p:cNvSpPr>
            <a:spLocks noGrp="1"/>
          </p:cNvSpPr>
          <p:nvPr>
            <p:ph type="title"/>
          </p:nvPr>
        </p:nvSpPr>
        <p:spPr>
          <a:xfrm>
            <a:off x="1276200" y="1619280"/>
            <a:ext cx="7359840" cy="161928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Click to edit the outline text format</a:t>
            </a:r>
            <a:endParaRPr b="0" lang="en-US" sz="2400" spc="-1" strike="noStrike">
              <a:solidFill>
                <a:srgbClr val="f3c000"/>
              </a:solidFill>
              <a:latin typeface="Arial"/>
            </a:endParaRPr>
          </a:p>
          <a:p>
            <a:pPr lvl="1" marL="743040" indent="-360360" algn="ctr">
              <a:lnSpc>
                <a:spcPts val="36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27080" indent="-282600" algn="ctr">
              <a:lnSpc>
                <a:spcPts val="2398"/>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65120" indent="-336240" algn="ctr">
              <a:lnSpc>
                <a:spcPts val="18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387360" indent="979560" algn="ctr">
              <a:lnSpc>
                <a:spcPts val="2398"/>
              </a:lnSpc>
              <a:spcBef>
                <a:spcPts val="1001"/>
              </a:spcBef>
              <a:buClr>
                <a:srgbClr val="ffffff"/>
              </a:buClr>
              <a:buSzPct val="14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87360" indent="979560">
              <a:spcBef>
                <a:spcPts val="4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87360" indent="979560">
              <a:spcBef>
                <a:spcPts val="499"/>
              </a:spcBef>
              <a:buClr>
                <a:srgbClr val="ffff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mailto:david.yong@nl.abnamro.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828440"/>
            <a:ext cx="7359480" cy="184788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ME Programme Lending</a:t>
            </a:r>
            <a:br>
              <a:rPr sz="4000"/>
            </a:br>
            <a:r>
              <a:rPr b="0" i="1" lang="en-US" sz="3200" spc="-1" strike="noStrike">
                <a:solidFill>
                  <a:srgbClr val="ffffff"/>
                </a:solidFill>
                <a:latin typeface="Arial"/>
              </a:rPr>
              <a:t>Overview Group Best Practices &amp; </a:t>
            </a:r>
            <a:br>
              <a:rPr sz="3200"/>
            </a:br>
            <a:r>
              <a:rPr b="0" i="1" lang="en-US" sz="3200" spc="-1" strike="noStrike">
                <a:solidFill>
                  <a:srgbClr val="ffffff"/>
                </a:solidFill>
                <a:latin typeface="Arial"/>
              </a:rPr>
              <a:t>Key Challenges</a:t>
            </a:r>
            <a:endParaRPr b="0" lang="en-US" sz="3200" spc="-1" strike="noStrike">
              <a:solidFill>
                <a:srgbClr val="ffffff"/>
              </a:solidFill>
              <a:latin typeface="Arial"/>
            </a:endParaRPr>
          </a:p>
        </p:txBody>
      </p:sp>
      <p:sp>
        <p:nvSpPr>
          <p:cNvPr id="94" name="PlaceHolder 2"/>
          <p:cNvSpPr>
            <a:spLocks noGrp="1"/>
          </p:cNvSpPr>
          <p:nvPr>
            <p:ph type="subTitle"/>
          </p:nvPr>
        </p:nvSpPr>
        <p:spPr>
          <a:xfrm>
            <a:off x="1186920" y="4292640"/>
            <a:ext cx="6705720" cy="1922400"/>
          </a:xfrm>
          <a:prstGeom prst="rect">
            <a:avLst/>
          </a:prstGeom>
          <a:noFill/>
          <a:ln w="0">
            <a:noFill/>
          </a:ln>
        </p:spPr>
        <p:txBody>
          <a:bodyPr lIns="36000" rIns="0" tIns="0" bIns="0" anchor="t">
            <a:noAutofit/>
          </a:bodyPr>
          <a:p>
            <a:pPr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SME Conference</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c000"/>
                </a:solidFill>
                <a:latin typeface="Arial"/>
              </a:rPr>
              <a:t>Lahore, Pakistan - May 2005</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3c000"/>
                </a:solidFill>
                <a:latin typeface="Arial"/>
              </a:rPr>
              <a:t>David Yong</a:t>
            </a:r>
            <a:endParaRPr b="0" lang="en-US" sz="2400" spc="-1" strike="noStrike">
              <a:solidFill>
                <a:srgbClr val="f3c000"/>
              </a:solidFill>
              <a:latin typeface="Arial"/>
            </a:endParaRPr>
          </a:p>
          <a:p>
            <a:pPr indent="0">
              <a:lnSpc>
                <a:spcPts val="25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3c000"/>
                </a:solidFill>
                <a:latin typeface="Arial"/>
              </a:rPr>
              <a:t>GRM Consumer &amp; Programme Lending</a:t>
            </a:r>
            <a:endParaRPr b="0" lang="en-US" sz="2400" spc="-1" strike="noStrike">
              <a:solidFill>
                <a:srgbClr val="f3c000"/>
              </a:solidFill>
              <a:latin typeface="Arial"/>
            </a:endParaRPr>
          </a:p>
        </p:txBody>
      </p:sp>
      <p:sp>
        <p:nvSpPr>
          <p:cNvPr id="4" name="PlaceHolder 3"/>
          <p:cNvSpPr>
            <a:spLocks noGrp="1"/>
          </p:cNvSpPr>
          <p:nvPr>
            <p:ph type="sldNum" idx="2"/>
          </p:nvPr>
        </p:nvSpPr>
        <p:spPr/>
        <p:txBody>
          <a:bodyPr/>
          <a:p>
            <a:fld id="{A550EEE1-B378-4955-9750-D23F1F27F8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Overview - </a:t>
            </a:r>
            <a:br>
              <a:rPr sz="3600"/>
            </a:br>
            <a:r>
              <a:rPr b="1" lang="en-US" sz="2400" spc="-1" strike="noStrike">
                <a:solidFill>
                  <a:srgbClr val="f3c000"/>
                </a:solidFill>
                <a:latin typeface="Arial"/>
              </a:rPr>
              <a:t>Total Portfolio (December 2004)</a:t>
            </a:r>
            <a:endParaRPr b="1" lang="en-US" sz="2400" spc="-1" strike="noStrike">
              <a:solidFill>
                <a:srgbClr val="ffffff"/>
              </a:solidFill>
              <a:latin typeface="Arial"/>
            </a:endParaRPr>
          </a:p>
        </p:txBody>
      </p:sp>
      <p:sp>
        <p:nvSpPr>
          <p:cNvPr id="208" name="PlaceHolder 2"/>
          <p:cNvSpPr>
            <a:spLocks noGrp="1"/>
          </p:cNvSpPr>
          <p:nvPr>
            <p:ph/>
          </p:nvPr>
        </p:nvSpPr>
        <p:spPr>
          <a:xfrm>
            <a:off x="322200" y="1413000"/>
            <a:ext cx="3183120" cy="4705200"/>
          </a:xfrm>
          <a:prstGeom prst="rect">
            <a:avLst/>
          </a:prstGeom>
          <a:noFill/>
          <a:ln w="0">
            <a:noFill/>
          </a:ln>
        </p:spPr>
        <p:txBody>
          <a:bodyPr lIns="0" rIns="0" tIns="0" bIns="0" anchor="t">
            <a:normAutofit/>
          </a:bodyPr>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rtfolio: EUR 2,8 Billion (Dec 2004)</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portfolio: BU US with USD 1,3 Bill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consist of traditional and simple products (4Q2004: 84%)</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pid growth in NL (organic) and Brazil (organic + acquisit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portfolio BU NL earmarked &gt;EUR 2,2 Billion</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tious start in India &amp; Indonesia</a:t>
            </a:r>
            <a:endParaRPr b="1" lang="en-US" sz="2000" spc="-1" strike="noStrike">
              <a:solidFill>
                <a:srgbClr val="ffffff"/>
              </a:solidFill>
              <a:latin typeface="Arial"/>
            </a:endParaRPr>
          </a:p>
          <a:p>
            <a:pPr marL="380880" indent="-380880">
              <a:lnSpc>
                <a:spcPts val="18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plans for VGPB Business Owners in NGM Asia </a:t>
            </a:r>
            <a:endParaRPr b="1" lang="en-US" sz="2000" spc="-1" strike="noStrike">
              <a:solidFill>
                <a:srgbClr val="ffffff"/>
              </a:solidFill>
              <a:latin typeface="Arial"/>
            </a:endParaRPr>
          </a:p>
        </p:txBody>
      </p:sp>
      <p:graphicFrame>
        <p:nvGraphicFramePr>
          <p:cNvPr id="209" name=""/>
          <p:cNvGraphicFramePr/>
          <p:nvPr/>
        </p:nvGraphicFramePr>
        <p:xfrm>
          <a:off x="3635280" y="1268280"/>
          <a:ext cx="5112000" cy="2546640"/>
        </p:xfrm>
        <a:graphic>
          <a:graphicData uri="http://schemas.openxmlformats.org/presentationml/2006/ole">
            <p:oleObj progId="Excel.Sheet.12" r:id="rId1" spid="">
              <p:embed/>
              <p:pic>
                <p:nvPicPr>
                  <p:cNvPr id="210" name="" descr=""/>
                  <p:cNvPicPr/>
                  <p:nvPr/>
                </p:nvPicPr>
                <p:blipFill>
                  <a:blip r:embed="rId2"/>
                  <a:stretch/>
                </p:blipFill>
                <p:spPr>
                  <a:xfrm>
                    <a:off x="3635280" y="1268280"/>
                    <a:ext cx="5112000" cy="2546640"/>
                  </a:xfrm>
                  <a:prstGeom prst="rect">
                    <a:avLst/>
                  </a:prstGeom>
                  <a:ln w="0">
                    <a:noFill/>
                  </a:ln>
                </p:spPr>
              </p:pic>
            </p:oleObj>
          </a:graphicData>
        </a:graphic>
      </p:graphicFrame>
      <p:graphicFrame>
        <p:nvGraphicFramePr>
          <p:cNvPr id="211" name=""/>
          <p:cNvGraphicFramePr/>
          <p:nvPr/>
        </p:nvGraphicFramePr>
        <p:xfrm>
          <a:off x="3635280" y="3645000"/>
          <a:ext cx="5099040" cy="2651040"/>
        </p:xfrm>
        <a:graphic>
          <a:graphicData uri="http://schemas.openxmlformats.org/presentationml/2006/ole">
            <p:oleObj progId="Excel.Sheet.12" r:id="rId3" spid="">
              <p:embed/>
              <p:pic>
                <p:nvPicPr>
                  <p:cNvPr id="212" name="" descr=""/>
                  <p:cNvPicPr/>
                  <p:nvPr/>
                </p:nvPicPr>
                <p:blipFill>
                  <a:blip r:embed="rId4"/>
                  <a:stretch/>
                </p:blipFill>
                <p:spPr>
                  <a:xfrm>
                    <a:off x="3635280" y="3645000"/>
                    <a:ext cx="5099040" cy="2651040"/>
                  </a:xfrm>
                  <a:prstGeom prst="rect">
                    <a:avLst/>
                  </a:prstGeom>
                  <a:ln w="0">
                    <a:noFill/>
                  </a:ln>
                </p:spPr>
              </p:pic>
            </p:oleObj>
          </a:graphicData>
        </a:graphic>
      </p:graphicFrame>
      <p:sp>
        <p:nvSpPr>
          <p:cNvPr id="4" name="PlaceHolder 3"/>
          <p:cNvSpPr>
            <a:spLocks noGrp="1"/>
          </p:cNvSpPr>
          <p:nvPr>
            <p:ph type="sldNum" idx="1"/>
          </p:nvPr>
        </p:nvSpPr>
        <p:spPr/>
        <p:txBody>
          <a:bodyPr/>
          <a:p>
            <a:fld id="{70D4B1D3-8EFC-480F-BAF1-94DDE6CE2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siness models</a:t>
            </a:r>
            <a:br>
              <a:rPr sz="3600"/>
            </a:br>
            <a:endParaRPr b="1" lang="en-US" sz="3600" spc="-1" strike="noStrike">
              <a:solidFill>
                <a:srgbClr val="ffffff"/>
              </a:solidFill>
              <a:latin typeface="Arial"/>
            </a:endParaRPr>
          </a:p>
        </p:txBody>
      </p:sp>
      <p:sp>
        <p:nvSpPr>
          <p:cNvPr id="214" name="PlaceHolder 2"/>
          <p:cNvSpPr>
            <a:spLocks noGrp="1"/>
          </p:cNvSpPr>
          <p:nvPr>
            <p:ph/>
          </p:nvPr>
        </p:nvSpPr>
        <p:spPr>
          <a:xfrm>
            <a:off x="323640" y="1412640"/>
            <a:ext cx="8313480" cy="4647960"/>
          </a:xfrm>
          <a:prstGeom prst="rect">
            <a:avLst/>
          </a:prstGeom>
          <a:noFill/>
          <a:ln w="0">
            <a:noFill/>
          </a:ln>
        </p:spPr>
        <p:txBody>
          <a:bodyPr lIns="0" rIns="0" tIns="0" bIns="0" anchor="t">
            <a:normAutofit fontScale="98000"/>
          </a:bodyPr>
          <a:p>
            <a:pPr marL="372960" indent="-372960">
              <a:lnSpc>
                <a:spcPts val="2999"/>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positioning: Home Market BUs</a:t>
            </a:r>
            <a:r>
              <a:rPr b="1" lang="en-GB" sz="2800" spc="-1" strike="noStrike">
                <a:solidFill>
                  <a:srgbClr val="ffffff"/>
                </a:solidFill>
                <a:latin typeface="Arial"/>
              </a:rPr>
              <a:t>	</a:t>
            </a:r>
            <a:endParaRPr b="1" lang="en-US" sz="28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rge client base</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ditional domestic standardised products</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ly larger distribution network</a:t>
            </a:r>
            <a:endParaRPr b="1" lang="en-US" sz="2000" spc="-1" strike="noStrike">
              <a:solidFill>
                <a:srgbClr val="ffffff"/>
              </a:solidFill>
              <a:latin typeface="Arial"/>
            </a:endParaRPr>
          </a:p>
          <a:p>
            <a:pPr lvl="1" marL="727920" indent="0">
              <a:lnSpc>
                <a:spcPts val="2999"/>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72960" indent="-372960">
              <a:lnSpc>
                <a:spcPts val="2999"/>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enfields: International Network</a:t>
            </a:r>
            <a:endParaRPr b="1" lang="en-US" sz="28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t from (‘almost’) zero</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itive edge</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mited distribution network</a:t>
            </a:r>
            <a:endParaRPr b="1" lang="en-US" sz="2000" spc="-1" strike="noStrike">
              <a:solidFill>
                <a:srgbClr val="ffffff"/>
              </a:solidFill>
              <a:latin typeface="Arial"/>
            </a:endParaRPr>
          </a:p>
          <a:p>
            <a:pPr lvl="1" marL="727920" indent="-352800">
              <a:lnSpc>
                <a:spcPts val="2999"/>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mited reliable data for credit assessment</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D3B49AB8-6AB2-4C5E-8DC1-93F4DD2038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800" spc="-1" strike="noStrike">
                <a:solidFill>
                  <a:srgbClr val="f3c000"/>
                </a:solidFill>
                <a:latin typeface="Arial"/>
              </a:rPr>
              <a:t>There are many ways to create growth in Small Business banking</a:t>
            </a:r>
            <a:endParaRPr b="1" lang="en-US" sz="2800" spc="-1" strike="noStrike">
              <a:solidFill>
                <a:srgbClr val="ffffff"/>
              </a:solidFill>
              <a:latin typeface="Arial"/>
            </a:endParaRPr>
          </a:p>
        </p:txBody>
      </p:sp>
      <p:sp>
        <p:nvSpPr>
          <p:cNvPr id="216" name=""/>
          <p:cNvSpPr/>
          <p:nvPr/>
        </p:nvSpPr>
        <p:spPr>
          <a:xfrm>
            <a:off x="4788000" y="1413000"/>
            <a:ext cx="374472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684360" y="1413000"/>
            <a:ext cx="369540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768240" y="1719360"/>
            <a:ext cx="3544920" cy="141444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us/NZ Bank had lost Small Business (SB) share after attempting to build low-cost remote channel model</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launched a named local point of contact (RM or branch manager, direct dial number) with letter campaign and outbound follow-up</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w +50% increase in customer satisfaction, 4-5 points of share gain and now back in top 2 share position, in less than 18 months</a:t>
            </a:r>
            <a:endParaRPr b="0" lang="en-US" sz="1000" spc="-1" strike="noStrike">
              <a:solidFill>
                <a:srgbClr val="ffffff"/>
              </a:solidFill>
              <a:latin typeface="Times New Roman"/>
            </a:endParaRPr>
          </a:p>
        </p:txBody>
      </p:sp>
      <p:sp>
        <p:nvSpPr>
          <p:cNvPr id="219" name=""/>
          <p:cNvSpPr/>
          <p:nvPr/>
        </p:nvSpPr>
        <p:spPr>
          <a:xfrm>
            <a:off x="4840200" y="1719360"/>
            <a:ext cx="3568680" cy="124956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pital One entered SB market in ’99-’00 applying IBS techniques</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bined marketing and risk analytics, with predictive modelling to target asset-based products with a direct marketing model</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9% 3-yr CAGR in asset growth, now #2 in SB cards and #3 in SBA loan origination</a:t>
            </a:r>
            <a:endParaRPr b="0" lang="en-US" sz="1000" spc="-1" strike="noStrike">
              <a:solidFill>
                <a:srgbClr val="ffffff"/>
              </a:solidFill>
              <a:latin typeface="Times New Roman"/>
            </a:endParaRPr>
          </a:p>
        </p:txBody>
      </p:sp>
      <p:sp>
        <p:nvSpPr>
          <p:cNvPr id="220" name=""/>
          <p:cNvSpPr/>
          <p:nvPr/>
        </p:nvSpPr>
        <p:spPr>
          <a:xfrm>
            <a:off x="4859280" y="1484280"/>
            <a:ext cx="3549600" cy="24768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Information-based Strategy</a:t>
            </a:r>
            <a:endParaRPr b="0" lang="en-US" sz="1100" spc="-1" strike="noStrike">
              <a:solidFill>
                <a:srgbClr val="ffffff"/>
              </a:solidFill>
              <a:latin typeface="Times New Roman"/>
            </a:endParaRPr>
          </a:p>
        </p:txBody>
      </p:sp>
      <p:sp>
        <p:nvSpPr>
          <p:cNvPr id="221" name=""/>
          <p:cNvSpPr/>
          <p:nvPr/>
        </p:nvSpPr>
        <p:spPr>
          <a:xfrm>
            <a:off x="826920" y="1484280"/>
            <a:ext cx="3489480" cy="24768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Return to Local Intimacy</a:t>
            </a:r>
            <a:endParaRPr b="0" lang="en-US" sz="1100" spc="-1" strike="noStrike">
              <a:solidFill>
                <a:srgbClr val="ffffff"/>
              </a:solidFill>
              <a:latin typeface="Times New Roman"/>
            </a:endParaRPr>
          </a:p>
        </p:txBody>
      </p:sp>
      <p:sp>
        <p:nvSpPr>
          <p:cNvPr id="222" name=""/>
          <p:cNvSpPr/>
          <p:nvPr/>
        </p:nvSpPr>
        <p:spPr>
          <a:xfrm>
            <a:off x="4748040" y="3759120"/>
            <a:ext cx="374508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684360" y="3789360"/>
            <a:ext cx="3695400" cy="2162160"/>
          </a:xfrm>
          <a:prstGeom prst="rect">
            <a:avLst/>
          </a:prstGeom>
          <a:solidFill>
            <a:srgbClr val="003e4d"/>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826920" y="4149720"/>
            <a:ext cx="3544920" cy="174420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BOS’s merger had given it a strong SB business with the BoS franchise but locked into small branch footprint </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pidly hired network of RMs to tackle the £1-10MM turnover segment – ‘hunter’ force to source acquisitions – and doubled UK share from 3% to 6%</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w re-branding 400 branches (out of 800) in England in 2005 and creating in-branch SB specialists to exploit full retail presence and go after £0-1MM businesses</a:t>
            </a:r>
            <a:endParaRPr b="0" lang="en-US" sz="1000" spc="-1" strike="noStrike">
              <a:solidFill>
                <a:srgbClr val="ffffff"/>
              </a:solidFill>
              <a:latin typeface="Times New Roman"/>
            </a:endParaRPr>
          </a:p>
        </p:txBody>
      </p:sp>
      <p:sp>
        <p:nvSpPr>
          <p:cNvPr id="225" name=""/>
          <p:cNvSpPr/>
          <p:nvPr/>
        </p:nvSpPr>
        <p:spPr>
          <a:xfrm>
            <a:off x="4840200" y="4233960"/>
            <a:ext cx="3568680" cy="1579320"/>
          </a:xfrm>
          <a:prstGeom prst="rect">
            <a:avLst/>
          </a:prstGeom>
          <a:noFill/>
          <a:ln w="0">
            <a:noFill/>
          </a:ln>
        </p:spPr>
        <p:style>
          <a:lnRef idx="0"/>
          <a:fillRef idx="0"/>
          <a:effectRef idx="0"/>
          <a:fontRef idx="minor"/>
        </p:style>
        <p:txBody>
          <a:bodyPr lIns="0" rIns="0" tIns="0" bIns="0" anchor="t">
            <a:spAutoFit/>
          </a:bodyPr>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 bank had reduced branch network and lapsed in service quality – suffering SB attrition rates of 30%</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gmented business into 3 distinct propositions: national direct, ‘affluent’/upper-end SB and branch-based micro-SB, combining personal/business accounts</a:t>
            </a:r>
            <a:endParaRPr b="0" lang="en-US" sz="1000" spc="-1" strike="noStrike">
              <a:solidFill>
                <a:srgbClr val="ffffff"/>
              </a:solidFill>
              <a:latin typeface="Times New Roman"/>
            </a:endParaRPr>
          </a:p>
          <a:p>
            <a:pPr marL="266760" indent="-26676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panded SB franchise beyond branch footprint, now in Top 3 in US SB lenders. Grew profits at 30% CAGR over 5 years, vs. bank growth of 20% CAGR</a:t>
            </a:r>
            <a:endParaRPr b="0" lang="en-US" sz="1000" spc="-1" strike="noStrike">
              <a:solidFill>
                <a:srgbClr val="ffffff"/>
              </a:solidFill>
              <a:latin typeface="Times New Roman"/>
            </a:endParaRPr>
          </a:p>
        </p:txBody>
      </p:sp>
      <p:sp>
        <p:nvSpPr>
          <p:cNvPr id="226" name=""/>
          <p:cNvSpPr/>
          <p:nvPr/>
        </p:nvSpPr>
        <p:spPr>
          <a:xfrm>
            <a:off x="4861080" y="3876840"/>
            <a:ext cx="3549600" cy="24732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Multiple Business Model Focus</a:t>
            </a:r>
            <a:endParaRPr b="0" lang="en-US" sz="1100" spc="-1" strike="noStrike">
              <a:solidFill>
                <a:srgbClr val="ffffff"/>
              </a:solidFill>
              <a:latin typeface="Times New Roman"/>
            </a:endParaRPr>
          </a:p>
        </p:txBody>
      </p:sp>
      <p:sp>
        <p:nvSpPr>
          <p:cNvPr id="227" name=""/>
          <p:cNvSpPr/>
          <p:nvPr/>
        </p:nvSpPr>
        <p:spPr>
          <a:xfrm>
            <a:off x="801720" y="3876840"/>
            <a:ext cx="3489120" cy="247320"/>
          </a:xfrm>
          <a:prstGeom prst="rect">
            <a:avLst/>
          </a:prstGeom>
          <a:noFill/>
          <a:ln w="0">
            <a:noFill/>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Exploit Retail Branch Coverage </a:t>
            </a:r>
            <a:endParaRPr b="0" lang="en-US" sz="1100" spc="-1" strike="noStrike">
              <a:solidFill>
                <a:srgbClr val="ffffff"/>
              </a:solidFill>
              <a:latin typeface="Times New Roman"/>
            </a:endParaRPr>
          </a:p>
        </p:txBody>
      </p:sp>
      <p:sp>
        <p:nvSpPr>
          <p:cNvPr id="228" name=""/>
          <p:cNvSpPr/>
          <p:nvPr/>
        </p:nvSpPr>
        <p:spPr>
          <a:xfrm>
            <a:off x="25704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52188536-F71A-4C51-8222-C11936FC5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52280"/>
            <a:ext cx="845820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Credit Process:</a:t>
            </a:r>
            <a:r>
              <a:rPr b="1" lang="en-US" sz="3200" spc="-1" strike="noStrike">
                <a:solidFill>
                  <a:srgbClr val="f3c000"/>
                </a:solidFill>
                <a:latin typeface="Arial"/>
              </a:rPr>
              <a:t> </a:t>
            </a:r>
            <a:br>
              <a:rPr sz="3200"/>
            </a:br>
            <a:r>
              <a:rPr b="1" lang="en-US" sz="3200" spc="-1" strike="noStrike">
                <a:solidFill>
                  <a:srgbClr val="f3c000"/>
                </a:solidFill>
                <a:latin typeface="Arial"/>
              </a:rPr>
              <a:t>Commercial versus Consumer/SME</a:t>
            </a:r>
            <a:endParaRPr b="1" lang="en-US" sz="3200" spc="-1" strike="noStrike">
              <a:solidFill>
                <a:srgbClr val="ffffff"/>
              </a:solidFill>
              <a:latin typeface="Arial"/>
            </a:endParaRPr>
          </a:p>
        </p:txBody>
      </p:sp>
      <p:sp>
        <p:nvSpPr>
          <p:cNvPr id="230" name=""/>
          <p:cNvSpPr/>
          <p:nvPr/>
        </p:nvSpPr>
        <p:spPr>
          <a:xfrm>
            <a:off x="2743200" y="1523880"/>
            <a:ext cx="3048120" cy="445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ommercial Loan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ow volume</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arge heterogeneou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Deal-based</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Audited financial statement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Account management</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Review loan-by-loan</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enior managers approve large/complex loans</a:t>
            </a:r>
            <a:endParaRPr b="0" lang="en-US" sz="1800" spc="-1" strike="noStrike">
              <a:solidFill>
                <a:srgbClr val="ffffff"/>
              </a:solidFill>
              <a:latin typeface="Times New Roman"/>
            </a:endParaRPr>
          </a:p>
        </p:txBody>
      </p:sp>
      <p:sp>
        <p:nvSpPr>
          <p:cNvPr id="231" name=""/>
          <p:cNvSpPr/>
          <p:nvPr/>
        </p:nvSpPr>
        <p:spPr>
          <a:xfrm>
            <a:off x="5715000" y="1523880"/>
            <a:ext cx="3429000" cy="4428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onsumer &amp; SME Loan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High volume</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mall heterogeneou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Volume-based</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Limited consumer financial data</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Portfolio management by statistic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ngsana New"/>
              </a:rPr>
              <a:t>Senior managers approve credit product programmes</a:t>
            </a:r>
            <a:endParaRPr b="0" lang="en-US" sz="1800" spc="-1" strike="noStrike">
              <a:solidFill>
                <a:srgbClr val="ffffff"/>
              </a:solidFill>
              <a:latin typeface="Times New Roman"/>
            </a:endParaRPr>
          </a:p>
        </p:txBody>
      </p:sp>
      <p:sp>
        <p:nvSpPr>
          <p:cNvPr id="232" name=""/>
          <p:cNvSpPr/>
          <p:nvPr/>
        </p:nvSpPr>
        <p:spPr>
          <a:xfrm>
            <a:off x="457200" y="1523880"/>
            <a:ext cx="2286000" cy="4428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Transaction characteristic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Approval process</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Credit data</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Handling and checking</a:t>
            </a: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ngsana New"/>
              </a:rPr>
              <a:t>Hierarchy of approval</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480D7BF-0657-4C41-A353-EB5B3CCBF0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80880"/>
            <a:ext cx="9448560" cy="5335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000" spc="-1" strike="noStrike">
                <a:solidFill>
                  <a:srgbClr val="f3c000"/>
                </a:solidFill>
                <a:latin typeface="Arial"/>
              </a:rPr>
              <a:t>Traditional deal-based underwriting don’t work in high volume lending</a:t>
            </a:r>
            <a:endParaRPr b="1" lang="en-US" sz="2000" spc="-1" strike="noStrike">
              <a:solidFill>
                <a:srgbClr val="ffffff"/>
              </a:solidFill>
              <a:latin typeface="Arial"/>
            </a:endParaRPr>
          </a:p>
        </p:txBody>
      </p:sp>
      <p:grpSp>
        <p:nvGrpSpPr>
          <p:cNvPr id="234" name=""/>
          <p:cNvGrpSpPr/>
          <p:nvPr/>
        </p:nvGrpSpPr>
        <p:grpSpPr>
          <a:xfrm>
            <a:off x="76320" y="4038480"/>
            <a:ext cx="2098440" cy="2134080"/>
            <a:chOff x="76320" y="4038480"/>
            <a:chExt cx="2098440" cy="2134080"/>
          </a:xfrm>
        </p:grpSpPr>
        <p:graphicFrame>
          <p:nvGraphicFramePr>
            <p:cNvPr id="235" name=""/>
            <p:cNvGraphicFramePr/>
            <p:nvPr/>
          </p:nvGraphicFramePr>
          <p:xfrm>
            <a:off x="76320" y="4038480"/>
            <a:ext cx="2098440" cy="1676520"/>
          </p:xfrm>
          <a:graphic>
            <a:graphicData uri="http://schemas.openxmlformats.org/presentationml/2006/ole">
              <p:oleObj r:id="rId1" spid="">
                <p:embed/>
                <p:pic>
                  <p:nvPicPr>
                    <p:cNvPr id="236" name="" descr=""/>
                    <p:cNvPicPr/>
                    <p:nvPr/>
                  </p:nvPicPr>
                  <p:blipFill>
                    <a:blip r:embed="rId2"/>
                    <a:stretch/>
                  </p:blipFill>
                  <p:spPr>
                    <a:xfrm>
                      <a:off x="76320" y="4038480"/>
                      <a:ext cx="2098440" cy="1676520"/>
                    </a:xfrm>
                    <a:prstGeom prst="rect">
                      <a:avLst/>
                    </a:prstGeom>
                    <a:ln w="0">
                      <a:noFill/>
                    </a:ln>
                  </p:spPr>
                </p:pic>
              </p:oleObj>
            </a:graphicData>
          </a:graphic>
        </p:graphicFrame>
        <p:sp>
          <p:nvSpPr>
            <p:cNvPr id="237" name=""/>
            <p:cNvSpPr/>
            <p:nvPr/>
          </p:nvSpPr>
          <p:spPr>
            <a:xfrm>
              <a:off x="586080" y="5562720"/>
              <a:ext cx="9684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Planning</a:t>
              </a:r>
              <a:endParaRPr b="0" lang="en-US" sz="1800" spc="-1" strike="noStrike">
                <a:solidFill>
                  <a:srgbClr val="ffffff"/>
                </a:solidFill>
                <a:latin typeface="Times New Roman"/>
              </a:endParaRPr>
            </a:p>
          </p:txBody>
        </p:sp>
      </p:grpSp>
      <p:grpSp>
        <p:nvGrpSpPr>
          <p:cNvPr id="238" name=""/>
          <p:cNvGrpSpPr/>
          <p:nvPr/>
        </p:nvGrpSpPr>
        <p:grpSpPr>
          <a:xfrm>
            <a:off x="2286000" y="4038480"/>
            <a:ext cx="2133720" cy="2134080"/>
            <a:chOff x="2286000" y="4038480"/>
            <a:chExt cx="2133720" cy="2134080"/>
          </a:xfrm>
        </p:grpSpPr>
        <p:graphicFrame>
          <p:nvGraphicFramePr>
            <p:cNvPr id="239" name=""/>
            <p:cNvGraphicFramePr/>
            <p:nvPr/>
          </p:nvGraphicFramePr>
          <p:xfrm>
            <a:off x="2286000" y="4038480"/>
            <a:ext cx="2133720" cy="1676520"/>
          </p:xfrm>
          <a:graphic>
            <a:graphicData uri="http://schemas.openxmlformats.org/presentationml/2006/ole">
              <p:oleObj r:id="rId3" spid="">
                <p:embed/>
                <p:pic>
                  <p:nvPicPr>
                    <p:cNvPr id="240" name="" descr=""/>
                    <p:cNvPicPr/>
                    <p:nvPr/>
                  </p:nvPicPr>
                  <p:blipFill>
                    <a:blip r:embed="rId4"/>
                    <a:stretch/>
                  </p:blipFill>
                  <p:spPr>
                    <a:xfrm>
                      <a:off x="2286000" y="4038480"/>
                      <a:ext cx="2133720" cy="1676520"/>
                    </a:xfrm>
                    <a:prstGeom prst="rect">
                      <a:avLst/>
                    </a:prstGeom>
                    <a:ln w="0">
                      <a:noFill/>
                    </a:ln>
                  </p:spPr>
                </p:pic>
              </p:oleObj>
            </a:graphicData>
          </a:graphic>
        </p:graphicFrame>
        <p:sp>
          <p:nvSpPr>
            <p:cNvPr id="241" name=""/>
            <p:cNvSpPr/>
            <p:nvPr/>
          </p:nvSpPr>
          <p:spPr>
            <a:xfrm>
              <a:off x="2637360" y="5562720"/>
              <a:ext cx="141192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Underwriting</a:t>
              </a:r>
              <a:endParaRPr b="0" lang="en-US" sz="1800" spc="-1" strike="noStrike">
                <a:solidFill>
                  <a:srgbClr val="ffffff"/>
                </a:solidFill>
                <a:latin typeface="Times New Roman"/>
              </a:endParaRPr>
            </a:p>
          </p:txBody>
        </p:sp>
      </p:grpSp>
      <p:grpSp>
        <p:nvGrpSpPr>
          <p:cNvPr id="242" name=""/>
          <p:cNvGrpSpPr/>
          <p:nvPr/>
        </p:nvGrpSpPr>
        <p:grpSpPr>
          <a:xfrm>
            <a:off x="4572000" y="4038480"/>
            <a:ext cx="2133720" cy="2134080"/>
            <a:chOff x="4572000" y="4038480"/>
            <a:chExt cx="2133720" cy="2134080"/>
          </a:xfrm>
        </p:grpSpPr>
        <p:graphicFrame>
          <p:nvGraphicFramePr>
            <p:cNvPr id="243" name=""/>
            <p:cNvGraphicFramePr/>
            <p:nvPr/>
          </p:nvGraphicFramePr>
          <p:xfrm>
            <a:off x="4572000" y="4038480"/>
            <a:ext cx="2133720" cy="1676520"/>
          </p:xfrm>
          <a:graphic>
            <a:graphicData uri="http://schemas.openxmlformats.org/presentationml/2006/ole">
              <p:oleObj r:id="rId5" spid="">
                <p:embed/>
                <p:pic>
                  <p:nvPicPr>
                    <p:cNvPr id="244" name="" descr=""/>
                    <p:cNvPicPr/>
                    <p:nvPr/>
                  </p:nvPicPr>
                  <p:blipFill>
                    <a:blip r:embed="rId6"/>
                    <a:stretch/>
                  </p:blipFill>
                  <p:spPr>
                    <a:xfrm>
                      <a:off x="4572000" y="4038480"/>
                      <a:ext cx="2133720" cy="1676520"/>
                    </a:xfrm>
                    <a:prstGeom prst="rect">
                      <a:avLst/>
                    </a:prstGeom>
                    <a:ln w="0">
                      <a:noFill/>
                    </a:ln>
                  </p:spPr>
                </p:pic>
              </p:oleObj>
            </a:graphicData>
          </a:graphic>
        </p:graphicFrame>
        <p:sp>
          <p:nvSpPr>
            <p:cNvPr id="245" name=""/>
            <p:cNvSpPr/>
            <p:nvPr/>
          </p:nvSpPr>
          <p:spPr>
            <a:xfrm>
              <a:off x="4996800" y="5562720"/>
              <a:ext cx="12078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Operations</a:t>
              </a:r>
              <a:endParaRPr b="0" lang="en-US" sz="1800" spc="-1" strike="noStrike">
                <a:solidFill>
                  <a:srgbClr val="ffffff"/>
                </a:solidFill>
                <a:latin typeface="Times New Roman"/>
              </a:endParaRPr>
            </a:p>
          </p:txBody>
        </p:sp>
      </p:grpSp>
      <p:grpSp>
        <p:nvGrpSpPr>
          <p:cNvPr id="246" name=""/>
          <p:cNvGrpSpPr/>
          <p:nvPr/>
        </p:nvGrpSpPr>
        <p:grpSpPr>
          <a:xfrm>
            <a:off x="6858000" y="4038480"/>
            <a:ext cx="2209680" cy="2134080"/>
            <a:chOff x="6858000" y="4038480"/>
            <a:chExt cx="2209680" cy="2134080"/>
          </a:xfrm>
        </p:grpSpPr>
        <p:graphicFrame>
          <p:nvGraphicFramePr>
            <p:cNvPr id="247" name=""/>
            <p:cNvGraphicFramePr/>
            <p:nvPr/>
          </p:nvGraphicFramePr>
          <p:xfrm>
            <a:off x="6858000" y="4038480"/>
            <a:ext cx="2209680" cy="1676520"/>
          </p:xfrm>
          <a:graphic>
            <a:graphicData uri="http://schemas.openxmlformats.org/presentationml/2006/ole">
              <p:oleObj r:id="rId7" spid="">
                <p:embed/>
                <p:pic>
                  <p:nvPicPr>
                    <p:cNvPr id="248" name="" descr=""/>
                    <p:cNvPicPr/>
                    <p:nvPr/>
                  </p:nvPicPr>
                  <p:blipFill>
                    <a:blip r:embed="rId8"/>
                    <a:stretch/>
                  </p:blipFill>
                  <p:spPr>
                    <a:xfrm>
                      <a:off x="6858000" y="4038480"/>
                      <a:ext cx="2209680" cy="1676520"/>
                    </a:xfrm>
                    <a:prstGeom prst="rect">
                      <a:avLst/>
                    </a:prstGeom>
                    <a:ln w="0">
                      <a:noFill/>
                    </a:ln>
                  </p:spPr>
                </p:pic>
              </p:oleObj>
            </a:graphicData>
          </a:graphic>
        </p:graphicFrame>
        <p:sp>
          <p:nvSpPr>
            <p:cNvPr id="249" name=""/>
            <p:cNvSpPr/>
            <p:nvPr/>
          </p:nvSpPr>
          <p:spPr>
            <a:xfrm>
              <a:off x="7327080" y="5562720"/>
              <a:ext cx="123372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Collections</a:t>
              </a:r>
              <a:endParaRPr b="0" lang="en-US" sz="1800" spc="-1" strike="noStrike">
                <a:solidFill>
                  <a:srgbClr val="ffffff"/>
                </a:solidFill>
                <a:latin typeface="Times New Roman"/>
              </a:endParaRPr>
            </a:p>
          </p:txBody>
        </p:sp>
      </p:grpSp>
      <p:grpSp>
        <p:nvGrpSpPr>
          <p:cNvPr id="250" name=""/>
          <p:cNvGrpSpPr/>
          <p:nvPr/>
        </p:nvGrpSpPr>
        <p:grpSpPr>
          <a:xfrm>
            <a:off x="2971800" y="1371600"/>
            <a:ext cx="2209680" cy="2286360"/>
            <a:chOff x="2971800" y="1371600"/>
            <a:chExt cx="2209680" cy="2286360"/>
          </a:xfrm>
        </p:grpSpPr>
        <p:pic>
          <p:nvPicPr>
            <p:cNvPr id="251" name="" descr=""/>
            <p:cNvPicPr/>
            <p:nvPr/>
          </p:nvPicPr>
          <p:blipFill>
            <a:blip r:embed="rId9"/>
            <a:stretch/>
          </p:blipFill>
          <p:spPr>
            <a:xfrm>
              <a:off x="2971800" y="1371600"/>
              <a:ext cx="2209680" cy="1830240"/>
            </a:xfrm>
            <a:prstGeom prst="rect">
              <a:avLst/>
            </a:prstGeom>
            <a:ln w="0">
              <a:noFill/>
            </a:ln>
          </p:spPr>
        </p:pic>
        <p:sp>
          <p:nvSpPr>
            <p:cNvPr id="252" name=""/>
            <p:cNvSpPr/>
            <p:nvPr/>
          </p:nvSpPr>
          <p:spPr>
            <a:xfrm>
              <a:off x="3428640" y="3048120"/>
              <a:ext cx="102960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The Boss</a:t>
              </a:r>
              <a:endParaRPr b="0" lang="en-US" sz="1800" spc="-1" strike="noStrike">
                <a:solidFill>
                  <a:srgbClr val="ffffff"/>
                </a:solidFill>
                <a:latin typeface="Times New Roman"/>
              </a:endParaRPr>
            </a:p>
          </p:txBody>
        </p:sp>
      </p:grpSp>
      <p:sp>
        <p:nvSpPr>
          <p:cNvPr id="253" name=""/>
          <p:cNvSpPr/>
          <p:nvPr/>
        </p:nvSpPr>
        <p:spPr>
          <a:xfrm rot="18591600">
            <a:off x="663480" y="2249280"/>
            <a:ext cx="2133360" cy="762120"/>
          </a:xfrm>
          <a:custGeom>
            <a:avLst/>
            <a:gdLst>
              <a:gd name="textAreaLeft" fmla="*/ 373320 w 2133360"/>
              <a:gd name="textAreaRight" fmla="*/ 1546920 w 213336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4" name=""/>
          <p:cNvSpPr/>
          <p:nvPr/>
        </p:nvSpPr>
        <p:spPr>
          <a:xfrm rot="18591600">
            <a:off x="1944360" y="3025080"/>
            <a:ext cx="1295640" cy="555840"/>
          </a:xfrm>
          <a:custGeom>
            <a:avLst/>
            <a:gdLst>
              <a:gd name="textAreaLeft" fmla="*/ 226800 w 1295640"/>
              <a:gd name="textAreaRight" fmla="*/ 939600 w 1295640"/>
              <a:gd name="textAreaTop" fmla="*/ 74160 h 555840"/>
              <a:gd name="textAreaBottom" fmla="*/ 481680 h 555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5" name=""/>
          <p:cNvSpPr/>
          <p:nvPr/>
        </p:nvSpPr>
        <p:spPr>
          <a:xfrm rot="13380000">
            <a:off x="5130360" y="290520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56" name=""/>
          <p:cNvSpPr/>
          <p:nvPr/>
        </p:nvSpPr>
        <p:spPr>
          <a:xfrm rot="13539600">
            <a:off x="5295960" y="2361960"/>
            <a:ext cx="2311200" cy="558720"/>
          </a:xfrm>
          <a:custGeom>
            <a:avLst/>
            <a:gdLst>
              <a:gd name="textAreaLeft" fmla="*/ 404280 w 2311200"/>
              <a:gd name="textAreaRight" fmla="*/ 1675800 w 2311200"/>
              <a:gd name="textAreaTop" fmla="*/ 74880 h 558720"/>
              <a:gd name="textAreaBottom" fmla="*/ 483840 h 558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735F16-137C-493C-840D-799EDF312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0"/>
            <a:ext cx="89917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3c000"/>
                </a:solidFill>
                <a:latin typeface="Arial"/>
              </a:rPr>
              <a:t>Portfolio Management is in the core of Risk Management function</a:t>
            </a:r>
            <a:endParaRPr b="1" lang="en-US" sz="2000" spc="-1" strike="noStrike">
              <a:solidFill>
                <a:srgbClr val="ffffff"/>
              </a:solidFill>
              <a:latin typeface="Arial"/>
            </a:endParaRPr>
          </a:p>
        </p:txBody>
      </p:sp>
      <p:sp>
        <p:nvSpPr>
          <p:cNvPr id="258" name="PlaceHolder 2"/>
          <p:cNvSpPr>
            <a:spLocks noGrp="1"/>
          </p:cNvSpPr>
          <p:nvPr>
            <p:ph/>
          </p:nvPr>
        </p:nvSpPr>
        <p:spPr>
          <a:xfrm>
            <a:off x="152280" y="1371240"/>
            <a:ext cx="8313840" cy="4498920"/>
          </a:xfrm>
          <a:prstGeom prst="rect">
            <a:avLst/>
          </a:prstGeom>
          <a:noFill/>
          <a:ln w="0">
            <a:noFill/>
          </a:ln>
        </p:spPr>
        <p:txBody>
          <a:bodyPr lIns="0" rIns="0" tIns="0" bIns="0" anchor="t">
            <a:normAutofit/>
          </a:bodyPr>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3c000"/>
                </a:solidFill>
                <a:latin typeface="Arial"/>
              </a:rPr>
              <a:t>Credit Cycle</a:t>
            </a:r>
            <a:endParaRPr b="1" lang="en-US" sz="36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80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
          <p:cNvSpPr/>
          <p:nvPr/>
        </p:nvSpPr>
        <p:spPr>
          <a:xfrm>
            <a:off x="4495680" y="3124080"/>
            <a:ext cx="1828800" cy="1600200"/>
          </a:xfrm>
          <a:prstGeom prst="ellipse">
            <a:avLst/>
          </a:prstGeom>
          <a:solidFill>
            <a:srgbClr val="ffff99">
              <a:alpha val="50000"/>
            </a:srgbClr>
          </a:solidFill>
          <a:ln w="38160">
            <a:solidFill>
              <a:srgbClr val="003e4d"/>
            </a:solidFill>
            <a:miter/>
          </a:ln>
        </p:spPr>
        <p:style>
          <a:lnRef idx="0"/>
          <a:fillRef idx="0"/>
          <a:effectRef idx="0"/>
          <a:fontRef idx="minor"/>
        </p:style>
        <p:txBody>
          <a:bodyPr wrap="none" lIns="0" rIns="0" tIns="0" bIns="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010280" y="3352680"/>
            <a:ext cx="173844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1" name=""/>
          <p:cNvSpPr/>
          <p:nvPr/>
        </p:nvSpPr>
        <p:spPr>
          <a:xfrm>
            <a:off x="4716360" y="1523880"/>
            <a:ext cx="1368360" cy="109080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2" name=""/>
          <p:cNvSpPr/>
          <p:nvPr/>
        </p:nvSpPr>
        <p:spPr>
          <a:xfrm>
            <a:off x="2590920" y="3352680"/>
            <a:ext cx="124128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3" name=""/>
          <p:cNvSpPr/>
          <p:nvPr/>
        </p:nvSpPr>
        <p:spPr>
          <a:xfrm>
            <a:off x="4427640" y="5257800"/>
            <a:ext cx="1944720" cy="100008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4" name=""/>
          <p:cNvSpPr/>
          <p:nvPr/>
        </p:nvSpPr>
        <p:spPr>
          <a:xfrm>
            <a:off x="1716120" y="2093760"/>
            <a:ext cx="1241280" cy="1000440"/>
          </a:xfrm>
          <a:prstGeom prst="ellipse">
            <a:avLst/>
          </a:prstGeom>
          <a:solidFill>
            <a:srgbClr val="ffff99"/>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5" name=""/>
          <p:cNvSpPr/>
          <p:nvPr/>
        </p:nvSpPr>
        <p:spPr>
          <a:xfrm rot="1980000">
            <a:off x="6849720" y="4613040"/>
            <a:ext cx="693720" cy="1330200"/>
          </a:xfrm>
          <a:custGeom>
            <a:avLst/>
            <a:gdLst>
              <a:gd name="textAreaLeft" fmla="*/ 92880 w 693720"/>
              <a:gd name="textAreaRight" fmla="*/ 600840 w 693720"/>
              <a:gd name="textAreaTop" fmla="*/ 232560 h 1330200"/>
              <a:gd name="textAreaBottom" fmla="*/ 964440 h 133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6" name=""/>
          <p:cNvSpPr/>
          <p:nvPr/>
        </p:nvSpPr>
        <p:spPr>
          <a:xfrm rot="9660000">
            <a:off x="1142280" y="2927160"/>
            <a:ext cx="746280" cy="1328400"/>
          </a:xfrm>
          <a:custGeom>
            <a:avLst/>
            <a:gdLst>
              <a:gd name="textAreaLeft" fmla="*/ 99720 w 746280"/>
              <a:gd name="textAreaRight" fmla="*/ 646560 w 746280"/>
              <a:gd name="textAreaTop" fmla="*/ 232200 h 1328400"/>
              <a:gd name="textAreaBottom" fmla="*/ 963000 h 1328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7" name=""/>
          <p:cNvSpPr/>
          <p:nvPr/>
        </p:nvSpPr>
        <p:spPr>
          <a:xfrm rot="9360000">
            <a:off x="3215520" y="4495680"/>
            <a:ext cx="746280" cy="1330560"/>
          </a:xfrm>
          <a:custGeom>
            <a:avLst/>
            <a:gdLst>
              <a:gd name="textAreaLeft" fmla="*/ 99720 w 746280"/>
              <a:gd name="textAreaRight" fmla="*/ 646560 w 746280"/>
              <a:gd name="textAreaTop" fmla="*/ 232560 h 1330560"/>
              <a:gd name="textAreaBottom" fmla="*/ 964800 h 133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8" name=""/>
          <p:cNvSpPr/>
          <p:nvPr/>
        </p:nvSpPr>
        <p:spPr>
          <a:xfrm rot="19260000">
            <a:off x="6705360" y="1676160"/>
            <a:ext cx="745920" cy="1412640"/>
          </a:xfrm>
          <a:custGeom>
            <a:avLst/>
            <a:gdLst>
              <a:gd name="textAreaLeft" fmla="*/ 99720 w 745920"/>
              <a:gd name="textAreaRight" fmla="*/ 646200 w 745920"/>
              <a:gd name="textAreaTop" fmla="*/ 246960 h 1412640"/>
              <a:gd name="textAreaBottom" fmla="*/ 1024200 h 141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69" name=""/>
          <p:cNvSpPr/>
          <p:nvPr/>
        </p:nvSpPr>
        <p:spPr>
          <a:xfrm>
            <a:off x="4419720" y="160020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Product Planning</a:t>
            </a:r>
            <a:endParaRPr b="0" lang="en-US" sz="1200" spc="-1" strike="noStrike">
              <a:solidFill>
                <a:srgbClr val="ffffff"/>
              </a:solidFill>
              <a:latin typeface="Times New Roman"/>
            </a:endParaRPr>
          </a:p>
        </p:txBody>
      </p:sp>
      <p:sp>
        <p:nvSpPr>
          <p:cNvPr id="270" name=""/>
          <p:cNvSpPr/>
          <p:nvPr/>
        </p:nvSpPr>
        <p:spPr>
          <a:xfrm>
            <a:off x="3886200" y="2895480"/>
            <a:ext cx="3124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ngsana New"/>
              </a:rPr>
              <a:t>Management Information Systems</a:t>
            </a:r>
            <a:endParaRPr b="0" lang="en-US" sz="1200" spc="-1" strike="noStrike">
              <a:solidFill>
                <a:srgbClr val="ffffff"/>
              </a:solidFill>
              <a:latin typeface="Times New Roman"/>
            </a:endParaRPr>
          </a:p>
        </p:txBody>
      </p:sp>
      <p:sp>
        <p:nvSpPr>
          <p:cNvPr id="271" name=""/>
          <p:cNvSpPr/>
          <p:nvPr/>
        </p:nvSpPr>
        <p:spPr>
          <a:xfrm>
            <a:off x="7020000" y="3429000"/>
            <a:ext cx="166680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Credit Acquisition</a:t>
            </a:r>
            <a:endParaRPr b="0" lang="en-US" sz="1200" spc="-1" strike="noStrike">
              <a:solidFill>
                <a:srgbClr val="ffffff"/>
              </a:solidFill>
              <a:latin typeface="Times New Roman"/>
            </a:endParaRPr>
          </a:p>
        </p:txBody>
      </p:sp>
      <p:sp>
        <p:nvSpPr>
          <p:cNvPr id="272" name=""/>
          <p:cNvSpPr/>
          <p:nvPr/>
        </p:nvSpPr>
        <p:spPr>
          <a:xfrm>
            <a:off x="3886200" y="5334120"/>
            <a:ext cx="3124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Account Maintenance</a:t>
            </a:r>
            <a:endParaRPr b="0" lang="en-US" sz="1200" spc="-1" strike="noStrike">
              <a:solidFill>
                <a:srgbClr val="ffffff"/>
              </a:solidFill>
              <a:latin typeface="Times New Roman"/>
            </a:endParaRPr>
          </a:p>
        </p:txBody>
      </p:sp>
      <p:sp>
        <p:nvSpPr>
          <p:cNvPr id="273" name=""/>
          <p:cNvSpPr/>
          <p:nvPr/>
        </p:nvSpPr>
        <p:spPr>
          <a:xfrm>
            <a:off x="4800600" y="3429000"/>
            <a:ext cx="1219320" cy="990720"/>
          </a:xfrm>
          <a:prstGeom prst="ellipse">
            <a:avLst/>
          </a:prstGeom>
          <a:solidFill>
            <a:srgbClr val="ffff99"/>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4" name=""/>
          <p:cNvSpPr/>
          <p:nvPr/>
        </p:nvSpPr>
        <p:spPr>
          <a:xfrm>
            <a:off x="2209680" y="3352680"/>
            <a:ext cx="198144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Collections</a:t>
            </a:r>
            <a:endParaRPr b="0" lang="en-US" sz="1200" spc="-1" strike="noStrike">
              <a:solidFill>
                <a:srgbClr val="ffffff"/>
              </a:solidFill>
              <a:latin typeface="Times New Roman"/>
            </a:endParaRPr>
          </a:p>
        </p:txBody>
      </p:sp>
      <p:sp>
        <p:nvSpPr>
          <p:cNvPr id="275" name=""/>
          <p:cNvSpPr/>
          <p:nvPr/>
        </p:nvSpPr>
        <p:spPr>
          <a:xfrm>
            <a:off x="1371600" y="213372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e4d"/>
                </a:solidFill>
                <a:latin typeface="Arial"/>
                <a:ea typeface="Angsana New"/>
              </a:rPr>
              <a:t>Write-Off</a:t>
            </a:r>
            <a:endParaRPr b="0" lang="en-US" sz="1200" spc="-1" strike="noStrike">
              <a:solidFill>
                <a:srgbClr val="ffffff"/>
              </a:solidFill>
              <a:latin typeface="Times New Roman"/>
            </a:endParaRPr>
          </a:p>
        </p:txBody>
      </p:sp>
      <p:sp>
        <p:nvSpPr>
          <p:cNvPr id="276" name=""/>
          <p:cNvSpPr/>
          <p:nvPr/>
        </p:nvSpPr>
        <p:spPr>
          <a:xfrm>
            <a:off x="4419720" y="3505320"/>
            <a:ext cx="1981080" cy="609840"/>
          </a:xfrm>
          <a:prstGeom prst="rect">
            <a:avLst/>
          </a:prstGeom>
          <a:noFill/>
          <a:ln w="0">
            <a:noFill/>
          </a:ln>
        </p:spPr>
        <p:style>
          <a:lnRef idx="0"/>
          <a:fillRef idx="0"/>
          <a:effectRef idx="0"/>
          <a:fontRef idx="minor"/>
        </p:style>
        <p:txBody>
          <a:bodyPr lIns="0" rIns="0" tIns="0" bIns="0" anchor="t">
            <a:spAutoFit/>
          </a:bodyPr>
          <a:p>
            <a:pPr algn="ctr">
              <a:lnSpc>
                <a:spcPts val="4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e4d"/>
                </a:solidFill>
                <a:latin typeface="Arial"/>
                <a:ea typeface="Angsana New"/>
              </a:rPr>
              <a:t>Risk Management</a:t>
            </a:r>
            <a:endParaRPr b="0" lang="en-US" sz="1400" spc="-1" strike="noStrike">
              <a:solidFill>
                <a:srgbClr val="ffffff"/>
              </a:solidFill>
              <a:latin typeface="Times New Roman"/>
            </a:endParaRPr>
          </a:p>
        </p:txBody>
      </p:sp>
      <p:sp>
        <p:nvSpPr>
          <p:cNvPr id="277" name=""/>
          <p:cNvSpPr/>
          <p:nvPr/>
        </p:nvSpPr>
        <p:spPr>
          <a:xfrm>
            <a:off x="5181480" y="4724280"/>
            <a:ext cx="486000" cy="533520"/>
          </a:xfrm>
          <a:prstGeom prst="upDownArrow">
            <a:avLst>
              <a:gd name="adj1" fmla="val 50000"/>
              <a:gd name="adj2" fmla="val 2185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8" name=""/>
          <p:cNvSpPr/>
          <p:nvPr/>
        </p:nvSpPr>
        <p:spPr>
          <a:xfrm>
            <a:off x="5181480" y="2590920"/>
            <a:ext cx="486000" cy="533160"/>
          </a:xfrm>
          <a:prstGeom prst="upDownArrow">
            <a:avLst>
              <a:gd name="adj1" fmla="val 50000"/>
              <a:gd name="adj2" fmla="val 21839"/>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9" name=""/>
          <p:cNvSpPr/>
          <p:nvPr/>
        </p:nvSpPr>
        <p:spPr>
          <a:xfrm>
            <a:off x="3886200" y="3733920"/>
            <a:ext cx="604800" cy="457200"/>
          </a:xfrm>
          <a:prstGeom prst="leftRightArrow">
            <a:avLst>
              <a:gd name="adj1" fmla="val 50000"/>
              <a:gd name="adj2" fmla="val 2633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0" name=""/>
          <p:cNvSpPr/>
          <p:nvPr/>
        </p:nvSpPr>
        <p:spPr>
          <a:xfrm>
            <a:off x="6400800" y="3733920"/>
            <a:ext cx="604800" cy="457200"/>
          </a:xfrm>
          <a:prstGeom prst="leftRightArrow">
            <a:avLst>
              <a:gd name="adj1" fmla="val 50000"/>
              <a:gd name="adj2" fmla="val 26334"/>
            </a:avLst>
          </a:pr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grpSp>
        <p:nvGrpSpPr>
          <p:cNvPr id="281" name=""/>
          <p:cNvGrpSpPr/>
          <p:nvPr/>
        </p:nvGrpSpPr>
        <p:grpSpPr>
          <a:xfrm>
            <a:off x="914400" y="4191120"/>
            <a:ext cx="2057400" cy="1447560"/>
            <a:chOff x="914400" y="4191120"/>
            <a:chExt cx="2057400" cy="1447560"/>
          </a:xfrm>
        </p:grpSpPr>
        <p:sp>
          <p:nvSpPr>
            <p:cNvPr id="282" name=""/>
            <p:cNvSpPr/>
            <p:nvPr/>
          </p:nvSpPr>
          <p:spPr>
            <a:xfrm>
              <a:off x="914400" y="4191120"/>
              <a:ext cx="2057400" cy="1447560"/>
            </a:xfrm>
            <a:prstGeom prst="irregularSeal1">
              <a:avLst/>
            </a:prstGeom>
            <a:solidFill>
              <a:srgbClr val="003e4d"/>
            </a:solidFill>
            <a:ln w="38160">
              <a:solidFill>
                <a:srgbClr val="009286"/>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3" name=""/>
            <p:cNvSpPr/>
            <p:nvPr/>
          </p:nvSpPr>
          <p:spPr>
            <a:xfrm>
              <a:off x="1343160" y="4471560"/>
              <a:ext cx="114228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Interactive</a:t>
              </a:r>
              <a:endParaRPr b="0" lang="en-US" sz="1800" spc="-1" strike="noStrike">
                <a:solidFill>
                  <a:srgbClr val="ffffff"/>
                </a:solidFill>
                <a:latin typeface="Times New Roman"/>
              </a:endParaRPr>
            </a:p>
          </p:txBody>
        </p:sp>
      </p:grpSp>
      <p:sp>
        <p:nvSpPr>
          <p:cNvPr id="284" name=""/>
          <p:cNvSpPr/>
          <p:nvPr/>
        </p:nvSpPr>
        <p:spPr>
          <a:xfrm rot="15285600">
            <a:off x="3546720" y="727560"/>
            <a:ext cx="557280" cy="2006640"/>
          </a:xfrm>
          <a:custGeom>
            <a:avLst/>
            <a:gdLst>
              <a:gd name="textAreaLeft" fmla="*/ 74520 w 557280"/>
              <a:gd name="textAreaRight" fmla="*/ 482760 w 557280"/>
              <a:gd name="textAreaTop" fmla="*/ 351000 h 2006640"/>
              <a:gd name="textAreaBottom" fmla="*/ 1454760 h 2006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grpSp>
        <p:nvGrpSpPr>
          <p:cNvPr id="285" name=""/>
          <p:cNvGrpSpPr/>
          <p:nvPr/>
        </p:nvGrpSpPr>
        <p:grpSpPr>
          <a:xfrm>
            <a:off x="7543800" y="1676520"/>
            <a:ext cx="1600200" cy="1447560"/>
            <a:chOff x="7543800" y="1676520"/>
            <a:chExt cx="1600200" cy="1447560"/>
          </a:xfrm>
        </p:grpSpPr>
        <p:sp>
          <p:nvSpPr>
            <p:cNvPr id="286" name=""/>
            <p:cNvSpPr/>
            <p:nvPr/>
          </p:nvSpPr>
          <p:spPr>
            <a:xfrm>
              <a:off x="7543800" y="1676520"/>
              <a:ext cx="1600200" cy="1447560"/>
            </a:xfrm>
            <a:prstGeom prst="irregularSeal1">
              <a:avLst/>
            </a:prstGeom>
            <a:solidFill>
              <a:srgbClr val="003e4d"/>
            </a:solidFill>
            <a:ln w="38160">
              <a:solidFill>
                <a:srgbClr val="009286"/>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87" name=""/>
            <p:cNvSpPr/>
            <p:nvPr/>
          </p:nvSpPr>
          <p:spPr>
            <a:xfrm>
              <a:off x="7886880" y="1905120"/>
              <a:ext cx="95184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ff"/>
                  </a:solidFill>
                  <a:latin typeface="Arial"/>
                  <a:ea typeface="Arial"/>
                </a:rPr>
                <a:t>Dynamic</a:t>
              </a:r>
              <a:endParaRPr b="0" lang="en-US" sz="1800" spc="-1" strike="noStrike">
                <a:solidFill>
                  <a:srgbClr val="ffffff"/>
                </a:solidFill>
                <a:latin typeface="Times New Roman"/>
              </a:endParaRPr>
            </a:p>
          </p:txBody>
        </p:sp>
      </p:grpSp>
      <p:sp>
        <p:nvSpPr>
          <p:cNvPr id="288" name=""/>
          <p:cNvSpPr/>
          <p:nvPr/>
        </p:nvSpPr>
        <p:spPr>
          <a:xfrm>
            <a:off x="4347360" y="3276720"/>
            <a:ext cx="2126880" cy="609840"/>
          </a:xfrm>
          <a:prstGeom prst="rect">
            <a:avLst/>
          </a:prstGeom>
          <a:noFill/>
          <a:ln w="0">
            <a:noFill/>
          </a:ln>
        </p:spPr>
        <p:style>
          <a:lnRef idx="0"/>
          <a:fillRef idx="0"/>
          <a:effectRef idx="0"/>
          <a:fontRef idx="minor"/>
        </p:style>
        <p:txBody>
          <a:bodyPr wrap="none" lIns="0" rIns="0" tIns="0" bIns="0" anchor="ctr">
            <a:sp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1600" spc="-1" strike="noStrike">
                <a:solidFill>
                  <a:srgbClr val="b60000"/>
                </a:solidFill>
                <a:latin typeface="Arial"/>
                <a:ea typeface="Arial"/>
              </a:rPr>
              <a:t>Portfolio Management</a:t>
            </a:r>
            <a:endParaRPr b="0" lang="en-US" sz="1600" spc="-1" strike="noStrike">
              <a:solidFill>
                <a:srgbClr val="ffffff"/>
              </a:solidFill>
              <a:latin typeface="Times New Roman"/>
            </a:endParaRPr>
          </a:p>
        </p:txBody>
      </p:sp>
      <p:sp>
        <p:nvSpPr>
          <p:cNvPr id="289" name=""/>
          <p:cNvSpPr/>
          <p:nvPr/>
        </p:nvSpPr>
        <p:spPr>
          <a:xfrm rot="12801000">
            <a:off x="3428640" y="1599480"/>
            <a:ext cx="746280" cy="1413000"/>
          </a:xfrm>
          <a:custGeom>
            <a:avLst/>
            <a:gdLst>
              <a:gd name="textAreaLeft" fmla="*/ 99720 w 746280"/>
              <a:gd name="textAreaRight" fmla="*/ 646560 w 746280"/>
              <a:gd name="textAreaTop" fmla="*/ 247320 h 1413000"/>
              <a:gd name="textAreaBottom" fmla="*/ 1024560 h 141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286"/>
          </a:solidFill>
          <a:ln w="38160">
            <a:solidFill>
              <a:srgbClr val="003e4d"/>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F22DA57-82A3-4E4B-AAF6-AE44E380A18C}" type="slidenum">
              <a:t>15</a:t>
            </a:fld>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499"/>
                                          </p:stCondLst>
                                        </p:cTn>
                                        <p:tgtEl>
                                          <p:spTgt spid="288"/>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500"/>
                                  </p:stCondLst>
                                  <p:childTnLst>
                                    <p:set>
                                      <p:cBhvr>
                                        <p:cTn id="9" dur="1" fill="hold">
                                          <p:stCondLst>
                                            <p:cond delay="499"/>
                                          </p:stCondLst>
                                        </p:cTn>
                                        <p:tgtEl>
                                          <p:spTgt spid="2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
                                  </p:stCondLst>
                                  <p:childTnLst>
                                    <p:set>
                                      <p:cBhvr>
                                        <p:cTn id="12"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Risk Management -</a:t>
            </a:r>
            <a:br>
              <a:rPr sz="3600"/>
            </a:br>
            <a:r>
              <a:rPr b="1" lang="en-US" sz="2800" spc="-1" strike="noStrike">
                <a:solidFill>
                  <a:srgbClr val="f3c000"/>
                </a:solidFill>
                <a:latin typeface="Arial"/>
              </a:rPr>
              <a:t>Programme Lending features</a:t>
            </a:r>
            <a:endParaRPr b="1" lang="en-US" sz="2800" spc="-1" strike="noStrike">
              <a:solidFill>
                <a:srgbClr val="ffffff"/>
              </a:solidFill>
              <a:latin typeface="Arial"/>
            </a:endParaRPr>
          </a:p>
        </p:txBody>
      </p:sp>
      <p:sp>
        <p:nvSpPr>
          <p:cNvPr id="291" name="PlaceHolder 2"/>
          <p:cNvSpPr>
            <a:spLocks noGrp="1"/>
          </p:cNvSpPr>
          <p:nvPr>
            <p:ph/>
          </p:nvPr>
        </p:nvSpPr>
        <p:spPr>
          <a:xfrm>
            <a:off x="322200" y="1618920"/>
            <a:ext cx="8313840" cy="4498920"/>
          </a:xfrm>
          <a:prstGeom prst="rect">
            <a:avLst/>
          </a:prstGeom>
          <a:noFill/>
          <a:ln w="0">
            <a:noFill/>
          </a:ln>
        </p:spPr>
        <p:txBody>
          <a:bodyPr lIns="0" rIns="0" tIns="0" bIns="0" anchor="t">
            <a:normAutofit/>
          </a:bodyPr>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ised and ‘simple’ product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mass/scal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 reward balanc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ability</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tory - style</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by exceptions</a:t>
            </a:r>
            <a:endParaRPr b="1" lang="en-US" sz="2400" spc="-1" strike="noStrike">
              <a:solidFill>
                <a:srgbClr val="ffffff"/>
              </a:solidFill>
              <a:latin typeface="Arial"/>
            </a:endParaRPr>
          </a:p>
          <a:p>
            <a:pPr marL="380880" indent="0">
              <a:lnSpc>
                <a:spcPts val="36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
          <p:cNvSpPr/>
          <p:nvPr/>
        </p:nvSpPr>
        <p:spPr>
          <a:xfrm>
            <a:off x="324000" y="5445000"/>
            <a:ext cx="849600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3c000"/>
                </a:solidFill>
                <a:latin typeface="Arial"/>
              </a:rPr>
              <a:t>Portfolio Management done through approved Product Programmes</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7EF8A173-5311-4D50-B723-4DA4E7BA81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323640" y="1341000"/>
            <a:ext cx="8313480" cy="4257720"/>
          </a:xfrm>
          <a:prstGeom prst="rect">
            <a:avLst/>
          </a:prstGeom>
          <a:noFill/>
          <a:ln w="0">
            <a:noFill/>
          </a:ln>
        </p:spPr>
        <p:txBody>
          <a:bodyPr lIns="0" rIns="0" tIns="0" bIns="0" anchor="t">
            <a:normAutofit fontScale="99000"/>
          </a:bodyPr>
          <a:p>
            <a:pPr marL="376920" indent="0">
              <a:lnSpc>
                <a:spcPts val="2699"/>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76920" indent="-376920">
              <a:lnSpc>
                <a:spcPts val="26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tandardized  set of rules of credit extension for a group of customer with similar characteristics or product needs</a:t>
            </a:r>
            <a:endParaRPr b="1" lang="en-US" sz="2400" spc="-1" strike="noStrike">
              <a:solidFill>
                <a:srgbClr val="ffffff"/>
              </a:solidFill>
              <a:latin typeface="Arial"/>
            </a:endParaRPr>
          </a:p>
          <a:p>
            <a:pPr marL="376920" indent="0">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76920" indent="-376920">
              <a:lnSpc>
                <a:spcPts val="26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gn-off on a Product Program is considered an approval of  the complete risk/reward characteristics of the product and the credit cycle process</a:t>
            </a:r>
            <a:endParaRPr b="1" lang="en-US" sz="2400" spc="-1" strike="noStrike">
              <a:solidFill>
                <a:srgbClr val="ffffff"/>
              </a:solidFill>
              <a:latin typeface="Arial"/>
            </a:endParaRPr>
          </a:p>
          <a:p>
            <a:pPr marL="376920"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76920" indent="-376920">
              <a:lnSpc>
                <a:spcPts val="25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monstrates that portfolio performance will be predictable in terms of revenues, delinquencies, and losses</a:t>
            </a:r>
            <a:endParaRPr b="1" lang="en-US" sz="2400" spc="-1" strike="noStrike">
              <a:solidFill>
                <a:srgbClr val="ffffff"/>
              </a:solidFill>
              <a:latin typeface="Arial"/>
            </a:endParaRPr>
          </a:p>
        </p:txBody>
      </p:sp>
      <p:sp>
        <p:nvSpPr>
          <p:cNvPr id="294" name="PlaceHolder 2"/>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What is a Product Programme?</a:t>
            </a:r>
            <a:br>
              <a:rPr sz="3600"/>
            </a:b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1E0FA01A-4946-4DBA-9459-2F8A85471815}" type="slidenum">
              <a:t>17</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3640" y="152280"/>
            <a:ext cx="8202600" cy="1116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The Product Program contains ...</a:t>
            </a:r>
            <a:br>
              <a:rPr sz="3200"/>
            </a:br>
            <a:endParaRPr b="1" lang="en-US" sz="3200" spc="-1" strike="noStrike">
              <a:solidFill>
                <a:srgbClr val="ffffff"/>
              </a:solidFill>
              <a:latin typeface="Arial"/>
            </a:endParaRPr>
          </a:p>
        </p:txBody>
      </p:sp>
      <p:sp>
        <p:nvSpPr>
          <p:cNvPr id="296" name="PlaceHolder 2"/>
          <p:cNvSpPr>
            <a:spLocks noGrp="1"/>
          </p:cNvSpPr>
          <p:nvPr>
            <p:ph/>
          </p:nvPr>
        </p:nvSpPr>
        <p:spPr>
          <a:xfrm>
            <a:off x="395280" y="1371240"/>
            <a:ext cx="8367840" cy="4498920"/>
          </a:xfrm>
          <a:prstGeom prst="rect">
            <a:avLst/>
          </a:prstGeom>
          <a:noFill/>
          <a:ln w="0">
            <a:noFill/>
          </a:ln>
        </p:spPr>
        <p:txBody>
          <a:bodyPr lIns="0" rIns="0" tIns="0" bIns="0" anchor="t">
            <a:normAutofit/>
          </a:bodyPr>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Description</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Market</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and Competitive Environment</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ility Criteria (Terms and Condition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Initiation</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Maintenance</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on and Write-Off Policy</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Funding, and Pricing Consideration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ystems and MIS reports</a:t>
            </a: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Profitability and Stress Testing</a:t>
            </a:r>
            <a:endParaRPr b="1" lang="en-US" sz="2400" spc="-1" strike="noStrike">
              <a:solidFill>
                <a:srgbClr val="ffffff"/>
              </a:solidFill>
              <a:latin typeface="Arial"/>
            </a:endParaRPr>
          </a:p>
        </p:txBody>
      </p:sp>
      <p:sp>
        <p:nvSpPr>
          <p:cNvPr id="297" name=""/>
          <p:cNvSpPr/>
          <p:nvPr/>
        </p:nvSpPr>
        <p:spPr>
          <a:xfrm>
            <a:off x="395280" y="5661000"/>
            <a:ext cx="8964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3c000"/>
                </a:solidFill>
                <a:latin typeface="Arial"/>
                <a:ea typeface="Angsana New"/>
              </a:rPr>
              <a:t>The Product Programme  process is strongly supported through MI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C0DC6269-5B76-452B-B59A-4BA97B0623FE}" type="slidenum">
              <a:t>18</a:t>
            </a:fld>
          </a:p>
        </p:txBody>
      </p:sp>
    </p:spTree>
  </p:cSld>
  <p:transition spd="med">
    <p:pull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500"/>
                                  </p:stCondLst>
                                  <p:childTnLst>
                                    <p:set>
                                      <p:cBhvr>
                                        <p:cTn id="32" dur="1" fill="hold">
                                          <p:stCondLst>
                                            <p:cond delay="499"/>
                                          </p:stCondLst>
                                        </p:cTn>
                                        <p:tgtEl>
                                          <p:spTgt spid="296">
                                            <p:txEl>
                                              <p:pRg st="0" end="0"/>
                                            </p:txEl>
                                          </p:spTgt>
                                        </p:tgtEl>
                                        <p:attrNameLst>
                                          <p:attrName>style.visibility</p:attrName>
                                        </p:attrNameLst>
                                      </p:cBhvr>
                                      <p:to>
                                        <p:strVal val="visible"/>
                                      </p:to>
                                    </p:set>
                                  </p:childTnLst>
                                </p:cTn>
                              </p:par>
                            </p:childTnLst>
                          </p:cTn>
                        </p:par>
                        <p:par>
                          <p:cTn id="33" fill="hold">
                            <p:stCondLst>
                              <p:cond delay="1000"/>
                            </p:stCondLst>
                            <p:childTnLst>
                              <p:par>
                                <p:cTn id="34" nodeType="afterEffect" fill="hold" presetClass="entr" presetID="1">
                                  <p:stCondLst>
                                    <p:cond delay="500"/>
                                  </p:stCondLst>
                                  <p:childTnLst>
                                    <p:set>
                                      <p:cBhvr>
                                        <p:cTn id="35" dur="1" fill="hold">
                                          <p:stCondLst>
                                            <p:cond delay="499"/>
                                          </p:stCondLst>
                                        </p:cTn>
                                        <p:tgtEl>
                                          <p:spTgt spid="296">
                                            <p:txEl>
                                              <p:pRg st="1" end="1"/>
                                            </p:txEl>
                                          </p:spTgt>
                                        </p:tgtEl>
                                        <p:attrNameLst>
                                          <p:attrName>style.visibility</p:attrName>
                                        </p:attrNameLst>
                                      </p:cBhvr>
                                      <p:to>
                                        <p:strVal val="visible"/>
                                      </p:to>
                                    </p:set>
                                  </p:childTnLst>
                                </p:cTn>
                              </p:par>
                            </p:childTnLst>
                          </p:cTn>
                        </p:par>
                        <p:par>
                          <p:cTn id="36" fill="hold">
                            <p:stCondLst>
                              <p:cond delay="2000"/>
                            </p:stCondLst>
                            <p:childTnLst>
                              <p:par>
                                <p:cTn id="37" nodeType="afterEffect" fill="hold" presetClass="entr" presetID="1">
                                  <p:stCondLst>
                                    <p:cond delay="500"/>
                                  </p:stCondLst>
                                  <p:childTnLst>
                                    <p:set>
                                      <p:cBhvr>
                                        <p:cTn id="38" dur="1" fill="hold">
                                          <p:stCondLst>
                                            <p:cond delay="499"/>
                                          </p:stCondLst>
                                        </p:cTn>
                                        <p:tgtEl>
                                          <p:spTgt spid="296">
                                            <p:txEl>
                                              <p:pRg st="2" end="2"/>
                                            </p:txEl>
                                          </p:spTgt>
                                        </p:tgtEl>
                                        <p:attrNameLst>
                                          <p:attrName>style.visibility</p:attrName>
                                        </p:attrNameLst>
                                      </p:cBhvr>
                                      <p:to>
                                        <p:strVal val="visible"/>
                                      </p:to>
                                    </p:set>
                                  </p:childTnLst>
                                </p:cTn>
                              </p:par>
                            </p:childTnLst>
                          </p:cTn>
                        </p:par>
                        <p:par>
                          <p:cTn id="39" fill="hold">
                            <p:stCondLst>
                              <p:cond delay="3000"/>
                            </p:stCondLst>
                            <p:childTnLst>
                              <p:par>
                                <p:cTn id="40" nodeType="afterEffect" fill="hold" presetClass="entr" presetID="1">
                                  <p:stCondLst>
                                    <p:cond delay="500"/>
                                  </p:stCondLst>
                                  <p:childTnLst>
                                    <p:set>
                                      <p:cBhvr>
                                        <p:cTn id="41" dur="1" fill="hold">
                                          <p:stCondLst>
                                            <p:cond delay="499"/>
                                          </p:stCondLst>
                                        </p:cTn>
                                        <p:tgtEl>
                                          <p:spTgt spid="296">
                                            <p:txEl>
                                              <p:pRg st="3" end="3"/>
                                            </p:txEl>
                                          </p:spTgt>
                                        </p:tgtEl>
                                        <p:attrNameLst>
                                          <p:attrName>style.visibility</p:attrName>
                                        </p:attrNameLst>
                                      </p:cBhvr>
                                      <p:to>
                                        <p:strVal val="visible"/>
                                      </p:to>
                                    </p:set>
                                  </p:childTnLst>
                                </p:cTn>
                              </p:par>
                            </p:childTnLst>
                          </p:cTn>
                        </p:par>
                        <p:par>
                          <p:cTn id="42" fill="hold">
                            <p:stCondLst>
                              <p:cond delay="4000"/>
                            </p:stCondLst>
                            <p:childTnLst>
                              <p:par>
                                <p:cTn id="43" nodeType="afterEffect" fill="hold" presetClass="entr" presetID="1">
                                  <p:stCondLst>
                                    <p:cond delay="500"/>
                                  </p:stCondLst>
                                  <p:childTnLst>
                                    <p:set>
                                      <p:cBhvr>
                                        <p:cTn id="44" dur="1" fill="hold">
                                          <p:stCondLst>
                                            <p:cond delay="499"/>
                                          </p:stCondLst>
                                        </p:cTn>
                                        <p:tgtEl>
                                          <p:spTgt spid="296">
                                            <p:txEl>
                                              <p:pRg st="4" end="4"/>
                                            </p:txEl>
                                          </p:spTgt>
                                        </p:tgtEl>
                                        <p:attrNameLst>
                                          <p:attrName>style.visibility</p:attrName>
                                        </p:attrNameLst>
                                      </p:cBhvr>
                                      <p:to>
                                        <p:strVal val="visible"/>
                                      </p:to>
                                    </p:set>
                                  </p:childTnLst>
                                </p:cTn>
                              </p:par>
                            </p:childTnLst>
                          </p:cTn>
                        </p:par>
                        <p:par>
                          <p:cTn id="45" fill="hold">
                            <p:stCondLst>
                              <p:cond delay="5000"/>
                            </p:stCondLst>
                            <p:childTnLst>
                              <p:par>
                                <p:cTn id="46" nodeType="afterEffect" fill="hold" presetClass="entr" presetID="1">
                                  <p:stCondLst>
                                    <p:cond delay="500"/>
                                  </p:stCondLst>
                                  <p:childTnLst>
                                    <p:set>
                                      <p:cBhvr>
                                        <p:cTn id="47" dur="1" fill="hold">
                                          <p:stCondLst>
                                            <p:cond delay="499"/>
                                          </p:stCondLst>
                                        </p:cTn>
                                        <p:tgtEl>
                                          <p:spTgt spid="296">
                                            <p:txEl>
                                              <p:pRg st="5" end="5"/>
                                            </p:txEl>
                                          </p:spTgt>
                                        </p:tgtEl>
                                        <p:attrNameLst>
                                          <p:attrName>style.visibility</p:attrName>
                                        </p:attrNameLst>
                                      </p:cBhvr>
                                      <p:to>
                                        <p:strVal val="visible"/>
                                      </p:to>
                                    </p:set>
                                  </p:childTnLst>
                                </p:cTn>
                              </p:par>
                            </p:childTnLst>
                          </p:cTn>
                        </p:par>
                        <p:par>
                          <p:cTn id="48" fill="hold">
                            <p:stCondLst>
                              <p:cond delay="6000"/>
                            </p:stCondLst>
                            <p:childTnLst>
                              <p:par>
                                <p:cTn id="49" nodeType="afterEffect" fill="hold" presetClass="entr" presetID="1">
                                  <p:stCondLst>
                                    <p:cond delay="500"/>
                                  </p:stCondLst>
                                  <p:childTnLst>
                                    <p:set>
                                      <p:cBhvr>
                                        <p:cTn id="50" dur="1" fill="hold">
                                          <p:stCondLst>
                                            <p:cond delay="499"/>
                                          </p:stCondLst>
                                        </p:cTn>
                                        <p:tgtEl>
                                          <p:spTgt spid="296">
                                            <p:txEl>
                                              <p:pRg st="6" end="6"/>
                                            </p:txEl>
                                          </p:spTgt>
                                        </p:tgtEl>
                                        <p:attrNameLst>
                                          <p:attrName>style.visibility</p:attrName>
                                        </p:attrNameLst>
                                      </p:cBhvr>
                                      <p:to>
                                        <p:strVal val="visible"/>
                                      </p:to>
                                    </p:set>
                                  </p:childTnLst>
                                </p:cTn>
                              </p:par>
                            </p:childTnLst>
                          </p:cTn>
                        </p:par>
                        <p:par>
                          <p:cTn id="51" fill="hold">
                            <p:stCondLst>
                              <p:cond delay="7000"/>
                            </p:stCondLst>
                            <p:childTnLst>
                              <p:par>
                                <p:cTn id="52" nodeType="afterEffect" fill="hold" presetClass="entr" presetID="1">
                                  <p:stCondLst>
                                    <p:cond delay="500"/>
                                  </p:stCondLst>
                                  <p:childTnLst>
                                    <p:set>
                                      <p:cBhvr>
                                        <p:cTn id="53" dur="1" fill="hold">
                                          <p:stCondLst>
                                            <p:cond delay="499"/>
                                          </p:stCondLst>
                                        </p:cTn>
                                        <p:tgtEl>
                                          <p:spTgt spid="296">
                                            <p:txEl>
                                              <p:pRg st="7" end="7"/>
                                            </p:txEl>
                                          </p:spTgt>
                                        </p:tgtEl>
                                        <p:attrNameLst>
                                          <p:attrName>style.visibility</p:attrName>
                                        </p:attrNameLst>
                                      </p:cBhvr>
                                      <p:to>
                                        <p:strVal val="visible"/>
                                      </p:to>
                                    </p:set>
                                  </p:childTnLst>
                                </p:cTn>
                              </p:par>
                            </p:childTnLst>
                          </p:cTn>
                        </p:par>
                        <p:par>
                          <p:cTn id="54" fill="hold">
                            <p:stCondLst>
                              <p:cond delay="8000"/>
                            </p:stCondLst>
                            <p:childTnLst>
                              <p:par>
                                <p:cTn id="55" nodeType="afterEffect" fill="hold" presetClass="entr" presetID="1">
                                  <p:stCondLst>
                                    <p:cond delay="500"/>
                                  </p:stCondLst>
                                  <p:childTnLst>
                                    <p:set>
                                      <p:cBhvr>
                                        <p:cTn id="56" dur="1" fill="hold">
                                          <p:stCondLst>
                                            <p:cond delay="499"/>
                                          </p:stCondLst>
                                        </p:cTn>
                                        <p:tgtEl>
                                          <p:spTgt spid="296">
                                            <p:txEl>
                                              <p:pRg st="8" end="8"/>
                                            </p:txEl>
                                          </p:spTgt>
                                        </p:tgtEl>
                                        <p:attrNameLst>
                                          <p:attrName>style.visibility</p:attrName>
                                        </p:attrNameLst>
                                      </p:cBhvr>
                                      <p:to>
                                        <p:strVal val="visible"/>
                                      </p:to>
                                    </p:set>
                                  </p:childTnLst>
                                </p:cTn>
                              </p:par>
                            </p:childTnLst>
                          </p:cTn>
                        </p:par>
                        <p:par>
                          <p:cTn id="57" fill="hold">
                            <p:stCondLst>
                              <p:cond delay="9000"/>
                            </p:stCondLst>
                            <p:childTnLst>
                              <p:par>
                                <p:cTn id="58" nodeType="afterEffect" fill="hold" presetClass="entr" presetID="1">
                                  <p:stCondLst>
                                    <p:cond delay="500"/>
                                  </p:stCondLst>
                                  <p:childTnLst>
                                    <p:set>
                                      <p:cBhvr>
                                        <p:cTn id="59" dur="1" fill="hold">
                                          <p:stCondLst>
                                            <p:cond delay="499"/>
                                          </p:stCondLst>
                                        </p:cTn>
                                        <p:tgtEl>
                                          <p:spTgt spid="296">
                                            <p:txEl>
                                              <p:pRg st="9" end="9"/>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39280" y="189000"/>
            <a:ext cx="860436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ortance of MIS</a:t>
            </a:r>
            <a:br>
              <a:rPr sz="3200"/>
            </a:br>
            <a:endParaRPr b="1" lang="en-US" sz="3200" spc="-1" strike="noStrike">
              <a:solidFill>
                <a:srgbClr val="ffffff"/>
              </a:solidFill>
              <a:latin typeface="Arial"/>
            </a:endParaRPr>
          </a:p>
        </p:txBody>
      </p:sp>
      <p:sp>
        <p:nvSpPr>
          <p:cNvPr id="299" name="PlaceHolder 2"/>
          <p:cNvSpPr>
            <a:spLocks noGrp="1"/>
          </p:cNvSpPr>
          <p:nvPr>
            <p:ph/>
          </p:nvPr>
        </p:nvSpPr>
        <p:spPr>
          <a:xfrm>
            <a:off x="611280" y="1341000"/>
            <a:ext cx="7634160" cy="4426200"/>
          </a:xfrm>
          <a:prstGeom prst="rect">
            <a:avLst/>
          </a:prstGeom>
          <a:noFill/>
          <a:ln w="0">
            <a:noFill/>
          </a:ln>
        </p:spPr>
        <p:txBody>
          <a:bodyPr lIns="0" rIns="0" tIns="0" bIns="0" anchor="t">
            <a:normAutofit/>
          </a:bodyPr>
          <a:p>
            <a:pPr marL="380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ly process and transforms data into information, which will be used in the decision making process directed towards optimizing results:</a:t>
            </a:r>
            <a:endParaRPr b="1" lang="en-US" sz="2400" spc="-1" strike="noStrike">
              <a:solidFill>
                <a:srgbClr val="ffffff"/>
              </a:solidFill>
              <a:latin typeface="Arial"/>
            </a:endParaRPr>
          </a:p>
          <a:p>
            <a:pPr marL="380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80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3c000"/>
                </a:solidFill>
                <a:latin typeface="Arial"/>
              </a:rPr>
              <a:t>Risk-Return Trade-Off</a:t>
            </a:r>
            <a:endParaRPr b="1" lang="en-US" sz="2400" spc="-1" strike="noStrike">
              <a:solidFill>
                <a:srgbClr val="ffffff"/>
              </a:solidFill>
              <a:latin typeface="Arial"/>
            </a:endParaRPr>
          </a:p>
          <a:p>
            <a:pPr marL="380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80880" indent="-3808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base for effective credit cycle and portfolio management: controlling risks and assessing opportunitie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A17B12A-6EBF-46B2-84AD-5CF9FDC8B91F}" type="slidenum">
              <a:t>19</a:t>
            </a:fld>
          </a:p>
        </p:txBody>
      </p:sp>
    </p:spTree>
  </p:cSld>
  <p:transition spd="med">
    <p:pull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5" name=""/>
          <p:cNvSpPr/>
          <p:nvPr/>
        </p:nvSpPr>
        <p:spPr>
          <a:xfrm>
            <a:off x="380880" y="3630600"/>
            <a:ext cx="8153640" cy="365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genda</a:t>
            </a:r>
            <a:br>
              <a:rPr sz="3600"/>
            </a:br>
            <a:endParaRPr b="1" lang="en-US" sz="3600" spc="-1" strike="noStrike">
              <a:solidFill>
                <a:srgbClr val="ffffff"/>
              </a:solidFill>
              <a:latin typeface="Arial"/>
            </a:endParaRPr>
          </a:p>
        </p:txBody>
      </p:sp>
      <p:sp>
        <p:nvSpPr>
          <p:cNvPr id="97" name="PlaceHolder 2"/>
          <p:cNvSpPr>
            <a:spLocks noGrp="1"/>
          </p:cNvSpPr>
          <p:nvPr>
            <p:ph/>
          </p:nvPr>
        </p:nvSpPr>
        <p:spPr>
          <a:xfrm>
            <a:off x="323640" y="1483920"/>
            <a:ext cx="8313480" cy="4165560"/>
          </a:xfrm>
          <a:prstGeom prst="rect">
            <a:avLst/>
          </a:prstGeom>
          <a:noFill/>
          <a:ln w="0">
            <a:noFill/>
          </a:ln>
        </p:spPr>
        <p:txBody>
          <a:bodyPr lIns="0" rIns="0" tIns="0" bIns="0" anchor="t">
            <a:normAutofit/>
          </a:bodyPr>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roduction</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ope</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verview major ABN AMRO SME business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siness Model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Process &amp; Product Programm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MI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scoring</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hallenge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219A769-D1B2-4D8E-B721-70181D7AA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I - </a:t>
            </a:r>
            <a:br>
              <a:rPr sz="3600"/>
            </a:br>
            <a:r>
              <a:rPr b="1" lang="en-US" sz="2800" spc="-1" strike="noStrike">
                <a:solidFill>
                  <a:srgbClr val="ffffff"/>
                </a:solidFill>
                <a:latin typeface="Arial"/>
              </a:rPr>
              <a:t>Portfolio Performance</a:t>
            </a:r>
            <a:endParaRPr b="1" lang="en-US" sz="2800" spc="-1" strike="noStrike">
              <a:solidFill>
                <a:srgbClr val="ffffff"/>
              </a:solidFill>
              <a:latin typeface="Arial"/>
            </a:endParaRPr>
          </a:p>
        </p:txBody>
      </p:sp>
      <p:graphicFrame>
        <p:nvGraphicFramePr>
          <p:cNvPr id="301" name=""/>
          <p:cNvGraphicFramePr/>
          <p:nvPr/>
        </p:nvGraphicFramePr>
        <p:xfrm>
          <a:off x="324000" y="2060640"/>
          <a:ext cx="8424720" cy="3276360"/>
        </p:xfrm>
        <a:graphic>
          <a:graphicData uri="http://schemas.openxmlformats.org/presentationml/2006/ole">
            <p:oleObj progId="Excel.Sheet.12" r:id="rId1" spid="">
              <p:embed/>
              <p:pic>
                <p:nvPicPr>
                  <p:cNvPr id="302" name="" descr=""/>
                  <p:cNvPicPr/>
                  <p:nvPr/>
                </p:nvPicPr>
                <p:blipFill>
                  <a:blip r:embed="rId2"/>
                  <a:stretch/>
                </p:blipFill>
                <p:spPr>
                  <a:xfrm>
                    <a:off x="324000" y="2060640"/>
                    <a:ext cx="8424720" cy="3276360"/>
                  </a:xfrm>
                  <a:prstGeom prst="rect">
                    <a:avLst/>
                  </a:prstGeom>
                  <a:ln w="0">
                    <a:noFill/>
                  </a:ln>
                </p:spPr>
              </p:pic>
            </p:oleObj>
          </a:graphicData>
        </a:graphic>
      </p:graphicFrame>
      <p:sp>
        <p:nvSpPr>
          <p:cNvPr id="3" name="PlaceHolder 2"/>
          <p:cNvSpPr>
            <a:spLocks noGrp="1"/>
          </p:cNvSpPr>
          <p:nvPr>
            <p:ph type="sldNum" idx="1"/>
          </p:nvPr>
        </p:nvSpPr>
        <p:spPr/>
        <p:txBody>
          <a:bodyPr/>
          <a:p>
            <a:fld id="{6CAE9FF4-E1F8-49C0-86AB-E321F9C02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3" name=""/>
          <p:cNvSpPr/>
          <p:nvPr/>
        </p:nvSpPr>
        <p:spPr>
          <a:xfrm>
            <a:off x="468360" y="96840"/>
            <a:ext cx="7434360" cy="1066680"/>
          </a:xfrm>
          <a:prstGeom prst="rect">
            <a:avLst/>
          </a:prstGeom>
          <a:noFill/>
          <a:ln w="0">
            <a:noFill/>
          </a:ln>
        </p:spPr>
        <p:style>
          <a:lnRef idx="0"/>
          <a:fillRef idx="0"/>
          <a:effectRef idx="0"/>
          <a:fontRef idx="minor"/>
        </p:style>
        <p:txBody>
          <a:bodyPr lIns="0" rIns="0" tIns="0" bIns="0" anchor="b">
            <a:spAutoFit/>
          </a:bodyPr>
          <a:p>
            <a:pPr>
              <a:lnSpc>
                <a:spcPts val="3197"/>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Programme Lending benefits:</a:t>
            </a:r>
            <a:endParaRPr b="0" lang="en-US" sz="3600" spc="-1" strike="noStrike">
              <a:solidFill>
                <a:srgbClr val="ffffff"/>
              </a:solidFill>
              <a:latin typeface="Times New Roman"/>
            </a:endParaRPr>
          </a:p>
          <a:p>
            <a:pPr>
              <a:lnSpc>
                <a:spcPts val="31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Basel 2 Retail</a:t>
            </a:r>
            <a:endParaRPr b="0" lang="en-US" sz="3200" spc="-1" strike="noStrike">
              <a:solidFill>
                <a:srgbClr val="ffffff"/>
              </a:solidFill>
              <a:latin typeface="Times New Roman"/>
            </a:endParaRPr>
          </a:p>
        </p:txBody>
      </p:sp>
      <p:sp>
        <p:nvSpPr>
          <p:cNvPr id="304" name=""/>
          <p:cNvSpPr/>
          <p:nvPr/>
        </p:nvSpPr>
        <p:spPr>
          <a:xfrm>
            <a:off x="179280" y="1366920"/>
            <a:ext cx="8518680" cy="4654440"/>
          </a:xfrm>
          <a:prstGeom prst="rect">
            <a:avLst/>
          </a:prstGeom>
          <a:noFill/>
          <a:ln w="0">
            <a:noFill/>
          </a:ln>
        </p:spPr>
        <p:style>
          <a:lnRef idx="0"/>
          <a:fillRef idx="0"/>
          <a:effectRef idx="0"/>
          <a:fontRef idx="minor"/>
        </p:style>
        <p:txBody>
          <a:bodyPr lIns="0" rIns="0" tIns="0" bIns="0" anchor="b">
            <a:spAutoFit/>
          </a:bodyPr>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centive to place as much of the SME portfolio into a standardised Program-Lending format, as is practical &amp; prudent. (GRM limit EUR 5MM)</a:t>
            </a:r>
            <a:endParaRPr b="0" lang="en-US" sz="2400" spc="-1" strike="noStrike">
              <a:solidFill>
                <a:srgbClr val="ffffff"/>
              </a:solidFill>
              <a:latin typeface="Times New Roman"/>
            </a:endParaRPr>
          </a:p>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st the advanced approach has distinct advantages, the standardised approach is also beneficial with risk weights at 75%.</a:t>
            </a:r>
            <a:endParaRPr b="0" lang="en-US" sz="2400" spc="-1" strike="noStrike">
              <a:solidFill>
                <a:srgbClr val="ffffff"/>
              </a:solidFill>
              <a:latin typeface="Times New Roman"/>
            </a:endParaRPr>
          </a:p>
          <a:p>
            <a:pPr lvl="1" marL="457200" indent="-166680">
              <a:lnSpc>
                <a:spcPts val="22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apital relief and cost efficiencies can be expected from standardisation. </a:t>
            </a:r>
            <a:endParaRPr b="0" lang="en-US" sz="2400" spc="-1" strike="noStrike">
              <a:solidFill>
                <a:srgbClr val="ffffff"/>
              </a:solidFill>
              <a:latin typeface="Times New Roman"/>
            </a:endParaRPr>
          </a:p>
          <a:p>
            <a:pPr lvl="1" marL="457200" indent="-166680">
              <a:lnSpc>
                <a:spcPct val="10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ore </a:t>
            </a:r>
            <a:r>
              <a:rPr b="0" i="1" lang="en-US" sz="2400" spc="-1" strike="noStrike">
                <a:solidFill>
                  <a:srgbClr val="ffffff"/>
                </a:solidFill>
                <a:latin typeface="Arial"/>
              </a:rPr>
              <a:t>SME</a:t>
            </a:r>
            <a:r>
              <a:rPr b="0" lang="en-US" sz="2400" spc="-1" strike="noStrike">
                <a:solidFill>
                  <a:srgbClr val="ffffff"/>
                </a:solidFill>
                <a:latin typeface="Arial"/>
              </a:rPr>
              <a:t> portfolios become standardised to take advantage of Basel II, the product will in turn become easier to securitize, so the product will become more attractive to banks, who may choose to keep it on or off balance sheet based on capital need.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926B294-F092-425D-B6B3-C6BC234D7F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89000"/>
            <a:ext cx="882000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lementing Program Lending faces challenges</a:t>
            </a:r>
            <a:r>
              <a:rPr b="1" i="1" lang="en-US" sz="2800" spc="-1" strike="noStrike">
                <a:solidFill>
                  <a:srgbClr val="ffffff"/>
                </a:solidFill>
                <a:latin typeface="Arial"/>
              </a:rPr>
              <a:t> </a:t>
            </a:r>
            <a:endParaRPr b="1" lang="en-US" sz="2800" spc="-1" strike="noStrike">
              <a:solidFill>
                <a:srgbClr val="ffffff"/>
              </a:solidFill>
              <a:latin typeface="Arial"/>
            </a:endParaRPr>
          </a:p>
        </p:txBody>
      </p:sp>
      <p:sp>
        <p:nvSpPr>
          <p:cNvPr id="306" name="PlaceHolder 2"/>
          <p:cNvSpPr>
            <a:spLocks noGrp="1"/>
          </p:cNvSpPr>
          <p:nvPr>
            <p:ph/>
          </p:nvPr>
        </p:nvSpPr>
        <p:spPr>
          <a:xfrm>
            <a:off x="228600" y="1413000"/>
            <a:ext cx="8313840" cy="4914720"/>
          </a:xfrm>
          <a:prstGeom prst="rect">
            <a:avLst/>
          </a:prstGeom>
          <a:noFill/>
          <a:ln w="0">
            <a:noFill/>
          </a:ln>
        </p:spPr>
        <p:txBody>
          <a:bodyPr lIns="0" rIns="0" tIns="0" bIns="0" anchor="t">
            <a:normAutofit/>
          </a:bodyPr>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nsorship of Senior Management and Line support </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le credit data to assess clients and  prospects</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 resource and Organization issues</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adequate and on-going training in credit cycle management and program lending</a:t>
            </a:r>
            <a:endParaRPr b="1" lang="en-US" sz="1800" spc="-1" strike="noStrike">
              <a:solidFill>
                <a:srgbClr val="ffffff"/>
              </a:solidFill>
              <a:latin typeface="Arial"/>
            </a:endParaRPr>
          </a:p>
          <a:p>
            <a:pPr lvl="1" marL="743040" indent="-36036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an organization capable of meeting the need for greater coordination and teamwork</a:t>
            </a:r>
            <a:r>
              <a:rPr b="1" lang="en-US" sz="2000" spc="-1" strike="noStrike">
                <a:solidFill>
                  <a:srgbClr val="ffffff"/>
                </a:solidFill>
                <a:latin typeface="Arial"/>
              </a:rPr>
              <a:t> </a:t>
            </a:r>
            <a:endParaRPr b="1" lang="en-US" sz="20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esign of business process</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ntify a project team of individuals who represent functional areas of the credit cycle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 ready to supplement internal resources with external consultants</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C058D967-803A-46DB-8887-6265D0B881D7}" type="slidenum">
              <a:t>22</a:t>
            </a:fld>
          </a:p>
        </p:txBody>
      </p:sp>
    </p:spTree>
  </p:cSld>
  <p:transition spd="med">
    <p:pull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06">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306">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06">
                                            <p:txEl>
                                              <p:pRg st="5" end="5"/>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260280"/>
            <a:ext cx="883908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Implementing Programme Lending faces challenges (continued)</a:t>
            </a:r>
            <a:endParaRPr b="1" lang="en-US" sz="3200" spc="-1" strike="noStrike">
              <a:solidFill>
                <a:srgbClr val="ffffff"/>
              </a:solidFill>
              <a:latin typeface="Arial"/>
            </a:endParaRPr>
          </a:p>
        </p:txBody>
      </p:sp>
      <p:sp>
        <p:nvSpPr>
          <p:cNvPr id="308" name="PlaceHolder 2"/>
          <p:cNvSpPr>
            <a:spLocks noGrp="1"/>
          </p:cNvSpPr>
          <p:nvPr>
            <p:ph/>
          </p:nvPr>
        </p:nvSpPr>
        <p:spPr>
          <a:xfrm>
            <a:off x="228600" y="1828440"/>
            <a:ext cx="8313840" cy="4498920"/>
          </a:xfrm>
          <a:prstGeom prst="rect">
            <a:avLst/>
          </a:prstGeom>
          <a:noFill/>
          <a:ln w="0">
            <a:noFill/>
          </a:ln>
        </p:spPr>
        <p:txBody>
          <a:bodyPr lIns="0" rIns="0" tIns="0" bIns="0" anchor="t">
            <a:normAutofit/>
          </a:bodyPr>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fficient IT systems and data base resource</a:t>
            </a:r>
            <a:endParaRPr b="1" lang="en-US" sz="2000" spc="-1" strike="noStrike">
              <a:solidFill>
                <a:srgbClr val="ffffff"/>
              </a:solidFill>
              <a:latin typeface="Arial"/>
            </a:endParaRPr>
          </a:p>
          <a:p>
            <a:pPr lvl="1" marL="743040" indent="-36036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ve  gaps on data source, data quality, data integration and data usage </a:t>
            </a:r>
            <a:endParaRPr b="1" lang="en-US" sz="1800" spc="-1" strike="noStrike">
              <a:solidFill>
                <a:srgbClr val="ffffff"/>
              </a:solidFill>
              <a:latin typeface="Arial"/>
            </a:endParaRPr>
          </a:p>
          <a:p>
            <a:pPr lvl="1" marL="743040" indent="-36036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an automated front-end Loan Origination</a:t>
            </a:r>
            <a:r>
              <a:rPr b="1" lang="en-US" sz="2000" spc="-1" strike="noStrike">
                <a:solidFill>
                  <a:srgbClr val="ffffff"/>
                </a:solidFill>
                <a:latin typeface="Arial"/>
              </a:rPr>
              <a:t> </a:t>
            </a:r>
            <a:r>
              <a:rPr b="1" lang="en-US" sz="1800" spc="-1" strike="noStrike">
                <a:solidFill>
                  <a:srgbClr val="ffffff"/>
                </a:solidFill>
                <a:latin typeface="Arial"/>
              </a:rPr>
              <a:t>System (LOS) and Collection System in place</a:t>
            </a:r>
            <a:endParaRPr b="1" lang="en-US" sz="1800" spc="-1" strike="noStrike">
              <a:solidFill>
                <a:srgbClr val="ffffff"/>
              </a:solidFill>
              <a:latin typeface="Arial"/>
            </a:endParaRPr>
          </a:p>
          <a:p>
            <a:pPr marL="380880" indent="-3808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000" spc="-1" strike="noStrike">
                <a:solidFill>
                  <a:srgbClr val="ffffff"/>
                </a:solidFill>
                <a:latin typeface="Arial"/>
              </a:rPr>
              <a:t>Effective and consistent MIS reporting</a:t>
            </a:r>
            <a:endParaRPr b="1" lang="en-US" sz="20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 one single standard or common language reporting system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end-to-end MIS consistent with Product Program definition </a:t>
            </a:r>
            <a:endParaRPr b="1" lang="en-US" sz="18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that the MIS has the ability to “peel the onion” or disaggregate performance data at various level of detail</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01E0000-62F6-4999-AD43-BC90DEB298A7}" type="slidenum">
              <a:t>23</a:t>
            </a:fld>
          </a:p>
        </p:txBody>
      </p:sp>
    </p:spTree>
  </p:cSld>
  <p:transition spd="med">
    <p:pull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08">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499"/>
                                          </p:stCondLst>
                                        </p:cTn>
                                        <p:tgtEl>
                                          <p:spTgt spid="308">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308">
                                            <p:txEl>
                                              <p:pRg st="3" end="3"/>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499"/>
                                          </p:stCondLst>
                                        </p:cTn>
                                        <p:tgtEl>
                                          <p:spTgt spid="308">
                                            <p:txEl>
                                              <p:pRg st="4" end="4"/>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308">
                                            <p:txEl>
                                              <p:pRg st="5" end="5"/>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3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189000"/>
            <a:ext cx="891540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3c000"/>
                </a:solidFill>
                <a:latin typeface="Arial"/>
              </a:rPr>
              <a:t>Implementing Program Lending faces challenges (continued)</a:t>
            </a:r>
            <a:endParaRPr b="1" lang="en-US" sz="3200" spc="-1" strike="noStrike">
              <a:solidFill>
                <a:srgbClr val="ffffff"/>
              </a:solidFill>
              <a:latin typeface="Arial"/>
            </a:endParaRPr>
          </a:p>
        </p:txBody>
      </p:sp>
      <p:sp>
        <p:nvSpPr>
          <p:cNvPr id="310" name="PlaceHolder 2"/>
          <p:cNvSpPr>
            <a:spLocks noGrp="1"/>
          </p:cNvSpPr>
          <p:nvPr>
            <p:ph/>
          </p:nvPr>
        </p:nvSpPr>
        <p:spPr>
          <a:xfrm>
            <a:off x="322200" y="1523880"/>
            <a:ext cx="8313840" cy="3733920"/>
          </a:xfrm>
          <a:prstGeom prst="rect">
            <a:avLst/>
          </a:prstGeom>
          <a:noFill/>
          <a:ln w="0">
            <a:noFill/>
          </a:ln>
        </p:spPr>
        <p:txBody>
          <a:bodyPr lIns="0" rIns="0" tIns="0" bIns="0" anchor="t">
            <a:normAutofit/>
          </a:bodyPr>
          <a:p>
            <a:pPr marL="380880" indent="-380880">
              <a:lnSpc>
                <a:spcPct val="10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lementation  of scoring methods</a:t>
            </a:r>
            <a:endParaRPr b="1" lang="en-US" sz="2400" spc="-1" strike="noStrike">
              <a:solidFill>
                <a:srgbClr val="ffffff"/>
              </a:solidFill>
              <a:latin typeface="Arial"/>
            </a:endParaRPr>
          </a:p>
          <a:p>
            <a:pPr lvl="1" marL="743040" indent="-360360">
              <a:lnSpc>
                <a:spcPct val="100000"/>
              </a:lnSpc>
              <a:spcBef>
                <a:spcPts val="123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ring systems  make sense only for high volume business</a:t>
            </a:r>
            <a:endParaRPr b="1" lang="en-US" sz="1800" spc="-1" strike="noStrike">
              <a:solidFill>
                <a:srgbClr val="ffffff"/>
              </a:solidFill>
              <a:latin typeface="Arial"/>
            </a:endParaRPr>
          </a:p>
          <a:p>
            <a:pPr lvl="1" marL="743040" indent="-360360">
              <a:lnSpc>
                <a:spcPct val="13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lication Scoring </a:t>
            </a:r>
            <a:endParaRPr b="1" lang="en-US" sz="1800" spc="-1" strike="noStrike">
              <a:solidFill>
                <a:srgbClr val="ffffff"/>
              </a:solidFill>
              <a:latin typeface="Arial"/>
            </a:endParaRPr>
          </a:p>
          <a:p>
            <a:pPr lvl="2" marL="1027080" indent="-282600">
              <a:lnSpc>
                <a:spcPct val="13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underwriting process efficiency </a:t>
            </a:r>
            <a:endParaRPr b="0" lang="en-US" sz="1800" spc="-1" strike="noStrike">
              <a:solidFill>
                <a:srgbClr val="ffffff"/>
              </a:solidFill>
              <a:latin typeface="Arial"/>
            </a:endParaRPr>
          </a:p>
          <a:p>
            <a:pPr lvl="2" marL="1027080" indent="-282600">
              <a:lnSpc>
                <a:spcPct val="13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rove  portfolio quality thru statistical control</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360360">
              <a:lnSpc>
                <a:spcPct val="13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haviour  Scoring</a:t>
            </a:r>
            <a:r>
              <a:rPr b="1" lang="en-GB" sz="2400" spc="-1" strike="noStrike">
                <a:solidFill>
                  <a:srgbClr val="ffffff"/>
                </a:solidFill>
                <a:latin typeface="Arial"/>
              </a:rPr>
              <a:t> </a:t>
            </a:r>
            <a:endParaRPr b="1" lang="en-US" sz="2400" spc="-1" strike="noStrike">
              <a:solidFill>
                <a:srgbClr val="ffffff"/>
              </a:solidFill>
              <a:latin typeface="Arial"/>
            </a:endParaRPr>
          </a:p>
          <a:p>
            <a:pPr lvl="2" marL="1027080" indent="-282600">
              <a:lnSpc>
                <a:spcPct val="13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profitable customer relationship</a:t>
            </a:r>
            <a:r>
              <a:rPr b="1" lang="en-GB"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8E9B08-4D8D-4C07-A6B4-F5CBF46C744A}" type="slidenum">
              <a:t>24</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310">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310">
                                            <p:txEl>
                                              <p:pRg st="1" end="1"/>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10">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310">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310">
                                            <p:txEl>
                                              <p:pRg st="4" end="4"/>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310">
                                            <p:txEl>
                                              <p:pRg st="5" end="5"/>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311" name=""/>
          <p:cNvSpPr/>
          <p:nvPr/>
        </p:nvSpPr>
        <p:spPr>
          <a:xfrm>
            <a:off x="304920" y="2867040"/>
            <a:ext cx="5975280" cy="398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609480" y="152280"/>
            <a:ext cx="7917120" cy="9907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ZA" sz="2800" spc="-1" strike="noStrike">
                <a:solidFill>
                  <a:srgbClr val="f3c000"/>
                </a:solidFill>
                <a:latin typeface="Arial"/>
              </a:rPr>
              <a:t>Scoring tries to evaluate who is the best risk?</a:t>
            </a:r>
            <a:endParaRPr b="1" lang="en-US" sz="2800" spc="-1" strike="noStrike">
              <a:solidFill>
                <a:srgbClr val="ffffff"/>
              </a:solidFill>
              <a:latin typeface="Arial"/>
            </a:endParaRPr>
          </a:p>
        </p:txBody>
      </p:sp>
      <p:grpSp>
        <p:nvGrpSpPr>
          <p:cNvPr id="313" name=""/>
          <p:cNvGrpSpPr/>
          <p:nvPr/>
        </p:nvGrpSpPr>
        <p:grpSpPr>
          <a:xfrm>
            <a:off x="681120" y="1539720"/>
            <a:ext cx="7777080" cy="4403520"/>
            <a:chOff x="681120" y="1539720"/>
            <a:chExt cx="7777080" cy="4403520"/>
          </a:xfrm>
        </p:grpSpPr>
        <p:grpSp>
          <p:nvGrpSpPr>
            <p:cNvPr id="314" name=""/>
            <p:cNvGrpSpPr/>
            <p:nvPr/>
          </p:nvGrpSpPr>
          <p:grpSpPr>
            <a:xfrm>
              <a:off x="681120" y="1615680"/>
              <a:ext cx="1078920" cy="3304800"/>
              <a:chOff x="681120" y="1615680"/>
              <a:chExt cx="1078920" cy="3304800"/>
            </a:xfrm>
          </p:grpSpPr>
          <p:sp>
            <p:nvSpPr>
              <p:cNvPr id="315" name=""/>
              <p:cNvSpPr/>
              <p:nvPr/>
            </p:nvSpPr>
            <p:spPr>
              <a:xfrm>
                <a:off x="681120" y="4794840"/>
                <a:ext cx="523440" cy="125640"/>
              </a:xfrm>
              <a:custGeom>
                <a:avLst/>
                <a:gdLst/>
                <a:ahLst/>
                <a:rect l="l" t="t" r="r" b="b"/>
                <a:pathLst>
                  <a:path w="2602" h="686">
                    <a:moveTo>
                      <a:pt x="1771" y="0"/>
                    </a:moveTo>
                    <a:lnTo>
                      <a:pt x="1732" y="1"/>
                    </a:lnTo>
                    <a:lnTo>
                      <a:pt x="1662" y="2"/>
                    </a:lnTo>
                    <a:lnTo>
                      <a:pt x="1566" y="7"/>
                    </a:lnTo>
                    <a:lnTo>
                      <a:pt x="1448" y="15"/>
                    </a:lnTo>
                    <a:lnTo>
                      <a:pt x="1382" y="19"/>
                    </a:lnTo>
                    <a:lnTo>
                      <a:pt x="1313" y="26"/>
                    </a:lnTo>
                    <a:lnTo>
                      <a:pt x="1241" y="33"/>
                    </a:lnTo>
                    <a:lnTo>
                      <a:pt x="1165" y="42"/>
                    </a:lnTo>
                    <a:lnTo>
                      <a:pt x="1089" y="51"/>
                    </a:lnTo>
                    <a:lnTo>
                      <a:pt x="1010" y="62"/>
                    </a:lnTo>
                    <a:lnTo>
                      <a:pt x="932" y="75"/>
                    </a:lnTo>
                    <a:lnTo>
                      <a:pt x="852" y="90"/>
                    </a:lnTo>
                    <a:lnTo>
                      <a:pt x="772" y="106"/>
                    </a:lnTo>
                    <a:lnTo>
                      <a:pt x="693" y="124"/>
                    </a:lnTo>
                    <a:lnTo>
                      <a:pt x="617" y="144"/>
                    </a:lnTo>
                    <a:lnTo>
                      <a:pt x="542" y="167"/>
                    </a:lnTo>
                    <a:lnTo>
                      <a:pt x="470" y="190"/>
                    </a:lnTo>
                    <a:lnTo>
                      <a:pt x="400" y="217"/>
                    </a:lnTo>
                    <a:lnTo>
                      <a:pt x="334" y="245"/>
                    </a:lnTo>
                    <a:lnTo>
                      <a:pt x="272" y="277"/>
                    </a:lnTo>
                    <a:lnTo>
                      <a:pt x="216" y="311"/>
                    </a:lnTo>
                    <a:lnTo>
                      <a:pt x="164" y="347"/>
                    </a:lnTo>
                    <a:lnTo>
                      <a:pt x="119" y="386"/>
                    </a:lnTo>
                    <a:lnTo>
                      <a:pt x="80" y="428"/>
                    </a:lnTo>
                    <a:lnTo>
                      <a:pt x="47" y="473"/>
                    </a:lnTo>
                    <a:lnTo>
                      <a:pt x="23" y="521"/>
                    </a:lnTo>
                    <a:lnTo>
                      <a:pt x="6" y="572"/>
                    </a:lnTo>
                    <a:lnTo>
                      <a:pt x="0" y="626"/>
                    </a:lnTo>
                    <a:lnTo>
                      <a:pt x="2602" y="686"/>
                    </a:lnTo>
                    <a:lnTo>
                      <a:pt x="2396" y="0"/>
                    </a:lnTo>
                    <a:lnTo>
                      <a:pt x="1771" y="0"/>
                    </a:lnTo>
                    <a:close/>
                  </a:path>
                </a:pathLst>
              </a:custGeom>
              <a:solidFill>
                <a:srgbClr val="612e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6" name=""/>
              <p:cNvSpPr/>
              <p:nvPr/>
            </p:nvSpPr>
            <p:spPr>
              <a:xfrm>
                <a:off x="681120" y="4794840"/>
                <a:ext cx="523440" cy="125640"/>
              </a:xfrm>
              <a:custGeom>
                <a:avLst/>
                <a:gdLst/>
                <a:ahLst/>
                <a:rect l="l" t="t" r="r" b="b"/>
                <a:pathLst>
                  <a:path w="2602" h="686">
                    <a:moveTo>
                      <a:pt x="1771" y="0"/>
                    </a:moveTo>
                    <a:lnTo>
                      <a:pt x="1732" y="1"/>
                    </a:lnTo>
                    <a:lnTo>
                      <a:pt x="1662" y="2"/>
                    </a:lnTo>
                    <a:lnTo>
                      <a:pt x="1566" y="7"/>
                    </a:lnTo>
                    <a:lnTo>
                      <a:pt x="1448" y="15"/>
                    </a:lnTo>
                    <a:lnTo>
                      <a:pt x="1382" y="19"/>
                    </a:lnTo>
                    <a:lnTo>
                      <a:pt x="1313" y="26"/>
                    </a:lnTo>
                    <a:lnTo>
                      <a:pt x="1241" y="33"/>
                    </a:lnTo>
                    <a:lnTo>
                      <a:pt x="1165" y="42"/>
                    </a:lnTo>
                    <a:lnTo>
                      <a:pt x="1089" y="51"/>
                    </a:lnTo>
                    <a:lnTo>
                      <a:pt x="1010" y="62"/>
                    </a:lnTo>
                    <a:lnTo>
                      <a:pt x="932" y="75"/>
                    </a:lnTo>
                    <a:lnTo>
                      <a:pt x="852" y="90"/>
                    </a:lnTo>
                    <a:lnTo>
                      <a:pt x="772" y="106"/>
                    </a:lnTo>
                    <a:lnTo>
                      <a:pt x="693" y="124"/>
                    </a:lnTo>
                    <a:lnTo>
                      <a:pt x="617" y="144"/>
                    </a:lnTo>
                    <a:lnTo>
                      <a:pt x="542" y="167"/>
                    </a:lnTo>
                    <a:lnTo>
                      <a:pt x="470" y="190"/>
                    </a:lnTo>
                    <a:lnTo>
                      <a:pt x="400" y="217"/>
                    </a:lnTo>
                    <a:lnTo>
                      <a:pt x="334" y="245"/>
                    </a:lnTo>
                    <a:lnTo>
                      <a:pt x="272" y="277"/>
                    </a:lnTo>
                    <a:lnTo>
                      <a:pt x="216" y="311"/>
                    </a:lnTo>
                    <a:lnTo>
                      <a:pt x="164" y="347"/>
                    </a:lnTo>
                    <a:lnTo>
                      <a:pt x="119" y="386"/>
                    </a:lnTo>
                    <a:lnTo>
                      <a:pt x="80" y="428"/>
                    </a:lnTo>
                    <a:lnTo>
                      <a:pt x="47" y="473"/>
                    </a:lnTo>
                    <a:lnTo>
                      <a:pt x="23" y="521"/>
                    </a:lnTo>
                    <a:lnTo>
                      <a:pt x="6" y="572"/>
                    </a:lnTo>
                    <a:lnTo>
                      <a:pt x="0" y="626"/>
                    </a:lnTo>
                    <a:lnTo>
                      <a:pt x="2602" y="686"/>
                    </a:lnTo>
                    <a:lnTo>
                      <a:pt x="2396" y="0"/>
                    </a:lnTo>
                    <a:lnTo>
                      <a:pt x="1771"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7" name=""/>
              <p:cNvSpPr/>
              <p:nvPr/>
            </p:nvSpPr>
            <p:spPr>
              <a:xfrm>
                <a:off x="1204560" y="4794840"/>
                <a:ext cx="543960" cy="125640"/>
              </a:xfrm>
              <a:custGeom>
                <a:avLst/>
                <a:gdLst/>
                <a:ahLst/>
                <a:rect l="l" t="t" r="r" b="b"/>
                <a:pathLst>
                  <a:path w="2702" h="686">
                    <a:moveTo>
                      <a:pt x="835" y="0"/>
                    </a:moveTo>
                    <a:lnTo>
                      <a:pt x="875" y="1"/>
                    </a:lnTo>
                    <a:lnTo>
                      <a:pt x="946" y="2"/>
                    </a:lnTo>
                    <a:lnTo>
                      <a:pt x="1048" y="7"/>
                    </a:lnTo>
                    <a:lnTo>
                      <a:pt x="1171" y="15"/>
                    </a:lnTo>
                    <a:lnTo>
                      <a:pt x="1240" y="19"/>
                    </a:lnTo>
                    <a:lnTo>
                      <a:pt x="1313" y="26"/>
                    </a:lnTo>
                    <a:lnTo>
                      <a:pt x="1389" y="33"/>
                    </a:lnTo>
                    <a:lnTo>
                      <a:pt x="1468" y="42"/>
                    </a:lnTo>
                    <a:lnTo>
                      <a:pt x="1550" y="51"/>
                    </a:lnTo>
                    <a:lnTo>
                      <a:pt x="1632" y="62"/>
                    </a:lnTo>
                    <a:lnTo>
                      <a:pt x="1716" y="75"/>
                    </a:lnTo>
                    <a:lnTo>
                      <a:pt x="1801" y="90"/>
                    </a:lnTo>
                    <a:lnTo>
                      <a:pt x="1884" y="106"/>
                    </a:lnTo>
                    <a:lnTo>
                      <a:pt x="1967" y="124"/>
                    </a:lnTo>
                    <a:lnTo>
                      <a:pt x="2049" y="144"/>
                    </a:lnTo>
                    <a:lnTo>
                      <a:pt x="2129" y="167"/>
                    </a:lnTo>
                    <a:lnTo>
                      <a:pt x="2205" y="190"/>
                    </a:lnTo>
                    <a:lnTo>
                      <a:pt x="2279" y="217"/>
                    </a:lnTo>
                    <a:lnTo>
                      <a:pt x="2348" y="245"/>
                    </a:lnTo>
                    <a:lnTo>
                      <a:pt x="2415" y="277"/>
                    </a:lnTo>
                    <a:lnTo>
                      <a:pt x="2474" y="311"/>
                    </a:lnTo>
                    <a:lnTo>
                      <a:pt x="2528" y="347"/>
                    </a:lnTo>
                    <a:lnTo>
                      <a:pt x="2576" y="386"/>
                    </a:lnTo>
                    <a:lnTo>
                      <a:pt x="2618" y="428"/>
                    </a:lnTo>
                    <a:lnTo>
                      <a:pt x="2652" y="473"/>
                    </a:lnTo>
                    <a:lnTo>
                      <a:pt x="2678" y="521"/>
                    </a:lnTo>
                    <a:lnTo>
                      <a:pt x="2694" y="572"/>
                    </a:lnTo>
                    <a:lnTo>
                      <a:pt x="2702" y="626"/>
                    </a:lnTo>
                    <a:lnTo>
                      <a:pt x="0" y="686"/>
                    </a:lnTo>
                    <a:lnTo>
                      <a:pt x="209" y="0"/>
                    </a:lnTo>
                    <a:lnTo>
                      <a:pt x="835" y="0"/>
                    </a:lnTo>
                    <a:close/>
                  </a:path>
                </a:pathLst>
              </a:custGeom>
              <a:solidFill>
                <a:srgbClr val="612e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8" name=""/>
              <p:cNvSpPr/>
              <p:nvPr/>
            </p:nvSpPr>
            <p:spPr>
              <a:xfrm>
                <a:off x="1204560" y="4794840"/>
                <a:ext cx="543960" cy="125640"/>
              </a:xfrm>
              <a:custGeom>
                <a:avLst/>
                <a:gdLst/>
                <a:ahLst/>
                <a:rect l="l" t="t" r="r" b="b"/>
                <a:pathLst>
                  <a:path w="2702" h="686">
                    <a:moveTo>
                      <a:pt x="835" y="0"/>
                    </a:moveTo>
                    <a:lnTo>
                      <a:pt x="875" y="1"/>
                    </a:lnTo>
                    <a:lnTo>
                      <a:pt x="946" y="2"/>
                    </a:lnTo>
                    <a:lnTo>
                      <a:pt x="1048" y="7"/>
                    </a:lnTo>
                    <a:lnTo>
                      <a:pt x="1171" y="15"/>
                    </a:lnTo>
                    <a:lnTo>
                      <a:pt x="1240" y="19"/>
                    </a:lnTo>
                    <a:lnTo>
                      <a:pt x="1313" y="26"/>
                    </a:lnTo>
                    <a:lnTo>
                      <a:pt x="1389" y="33"/>
                    </a:lnTo>
                    <a:lnTo>
                      <a:pt x="1468" y="42"/>
                    </a:lnTo>
                    <a:lnTo>
                      <a:pt x="1550" y="51"/>
                    </a:lnTo>
                    <a:lnTo>
                      <a:pt x="1632" y="62"/>
                    </a:lnTo>
                    <a:lnTo>
                      <a:pt x="1716" y="75"/>
                    </a:lnTo>
                    <a:lnTo>
                      <a:pt x="1801" y="90"/>
                    </a:lnTo>
                    <a:lnTo>
                      <a:pt x="1884" y="106"/>
                    </a:lnTo>
                    <a:lnTo>
                      <a:pt x="1967" y="124"/>
                    </a:lnTo>
                    <a:lnTo>
                      <a:pt x="2049" y="144"/>
                    </a:lnTo>
                    <a:lnTo>
                      <a:pt x="2129" y="167"/>
                    </a:lnTo>
                    <a:lnTo>
                      <a:pt x="2205" y="190"/>
                    </a:lnTo>
                    <a:lnTo>
                      <a:pt x="2279" y="217"/>
                    </a:lnTo>
                    <a:lnTo>
                      <a:pt x="2348" y="245"/>
                    </a:lnTo>
                    <a:lnTo>
                      <a:pt x="2415" y="277"/>
                    </a:lnTo>
                    <a:lnTo>
                      <a:pt x="2474" y="311"/>
                    </a:lnTo>
                    <a:lnTo>
                      <a:pt x="2528" y="347"/>
                    </a:lnTo>
                    <a:lnTo>
                      <a:pt x="2576" y="386"/>
                    </a:lnTo>
                    <a:lnTo>
                      <a:pt x="2618" y="428"/>
                    </a:lnTo>
                    <a:lnTo>
                      <a:pt x="2652" y="473"/>
                    </a:lnTo>
                    <a:lnTo>
                      <a:pt x="2678" y="521"/>
                    </a:lnTo>
                    <a:lnTo>
                      <a:pt x="2694" y="572"/>
                    </a:lnTo>
                    <a:lnTo>
                      <a:pt x="2702" y="626"/>
                    </a:lnTo>
                    <a:lnTo>
                      <a:pt x="0" y="686"/>
                    </a:lnTo>
                    <a:lnTo>
                      <a:pt x="209" y="0"/>
                    </a:lnTo>
                    <a:lnTo>
                      <a:pt x="835"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19" name=""/>
              <p:cNvSpPr/>
              <p:nvPr/>
            </p:nvSpPr>
            <p:spPr>
              <a:xfrm>
                <a:off x="850320" y="3092400"/>
                <a:ext cx="258480" cy="587520"/>
              </a:xfrm>
              <a:custGeom>
                <a:avLst/>
                <a:gdLst/>
                <a:ahLst/>
                <a:rect l="l" t="t" r="r" b="b"/>
                <a:pathLst>
                  <a:path w="1286" h="3195">
                    <a:moveTo>
                      <a:pt x="155" y="60"/>
                    </a:moveTo>
                    <a:lnTo>
                      <a:pt x="147" y="76"/>
                    </a:lnTo>
                    <a:lnTo>
                      <a:pt x="124" y="120"/>
                    </a:lnTo>
                    <a:lnTo>
                      <a:pt x="110" y="151"/>
                    </a:lnTo>
                    <a:lnTo>
                      <a:pt x="94" y="187"/>
                    </a:lnTo>
                    <a:lnTo>
                      <a:pt x="77" y="228"/>
                    </a:lnTo>
                    <a:lnTo>
                      <a:pt x="60" y="272"/>
                    </a:lnTo>
                    <a:lnTo>
                      <a:pt x="45" y="320"/>
                    </a:lnTo>
                    <a:lnTo>
                      <a:pt x="30" y="369"/>
                    </a:lnTo>
                    <a:lnTo>
                      <a:pt x="23" y="395"/>
                    </a:lnTo>
                    <a:lnTo>
                      <a:pt x="18" y="421"/>
                    </a:lnTo>
                    <a:lnTo>
                      <a:pt x="13" y="448"/>
                    </a:lnTo>
                    <a:lnTo>
                      <a:pt x="9" y="474"/>
                    </a:lnTo>
                    <a:lnTo>
                      <a:pt x="5" y="501"/>
                    </a:lnTo>
                    <a:lnTo>
                      <a:pt x="2" y="528"/>
                    </a:lnTo>
                    <a:lnTo>
                      <a:pt x="1" y="555"/>
                    </a:lnTo>
                    <a:lnTo>
                      <a:pt x="0" y="582"/>
                    </a:lnTo>
                    <a:lnTo>
                      <a:pt x="1" y="608"/>
                    </a:lnTo>
                    <a:lnTo>
                      <a:pt x="3" y="635"/>
                    </a:lnTo>
                    <a:lnTo>
                      <a:pt x="6" y="661"/>
                    </a:lnTo>
                    <a:lnTo>
                      <a:pt x="11" y="686"/>
                    </a:lnTo>
                    <a:lnTo>
                      <a:pt x="21" y="737"/>
                    </a:lnTo>
                    <a:lnTo>
                      <a:pt x="30" y="789"/>
                    </a:lnTo>
                    <a:lnTo>
                      <a:pt x="37" y="843"/>
                    </a:lnTo>
                    <a:lnTo>
                      <a:pt x="41" y="897"/>
                    </a:lnTo>
                    <a:lnTo>
                      <a:pt x="45" y="951"/>
                    </a:lnTo>
                    <a:lnTo>
                      <a:pt x="47" y="1005"/>
                    </a:lnTo>
                    <a:lnTo>
                      <a:pt x="48" y="1058"/>
                    </a:lnTo>
                    <a:lnTo>
                      <a:pt x="49" y="1110"/>
                    </a:lnTo>
                    <a:lnTo>
                      <a:pt x="48" y="1208"/>
                    </a:lnTo>
                    <a:lnTo>
                      <a:pt x="45" y="1296"/>
                    </a:lnTo>
                    <a:lnTo>
                      <a:pt x="42" y="1368"/>
                    </a:lnTo>
                    <a:lnTo>
                      <a:pt x="41" y="1422"/>
                    </a:lnTo>
                    <a:lnTo>
                      <a:pt x="43" y="1456"/>
                    </a:lnTo>
                    <a:lnTo>
                      <a:pt x="49" y="1513"/>
                    </a:lnTo>
                    <a:lnTo>
                      <a:pt x="58" y="1587"/>
                    </a:lnTo>
                    <a:lnTo>
                      <a:pt x="70" y="1678"/>
                    </a:lnTo>
                    <a:lnTo>
                      <a:pt x="86" y="1783"/>
                    </a:lnTo>
                    <a:lnTo>
                      <a:pt x="104" y="1898"/>
                    </a:lnTo>
                    <a:lnTo>
                      <a:pt x="124" y="2020"/>
                    </a:lnTo>
                    <a:lnTo>
                      <a:pt x="147" y="2149"/>
                    </a:lnTo>
                    <a:lnTo>
                      <a:pt x="170" y="2278"/>
                    </a:lnTo>
                    <a:lnTo>
                      <a:pt x="196" y="2407"/>
                    </a:lnTo>
                    <a:lnTo>
                      <a:pt x="223" y="2532"/>
                    </a:lnTo>
                    <a:lnTo>
                      <a:pt x="250" y="2652"/>
                    </a:lnTo>
                    <a:lnTo>
                      <a:pt x="265" y="2708"/>
                    </a:lnTo>
                    <a:lnTo>
                      <a:pt x="279" y="2762"/>
                    </a:lnTo>
                    <a:lnTo>
                      <a:pt x="293" y="2812"/>
                    </a:lnTo>
                    <a:lnTo>
                      <a:pt x="308" y="2860"/>
                    </a:lnTo>
                    <a:lnTo>
                      <a:pt x="322" y="2904"/>
                    </a:lnTo>
                    <a:lnTo>
                      <a:pt x="337" y="2944"/>
                    </a:lnTo>
                    <a:lnTo>
                      <a:pt x="350" y="2979"/>
                    </a:lnTo>
                    <a:lnTo>
                      <a:pt x="365" y="3009"/>
                    </a:lnTo>
                    <a:lnTo>
                      <a:pt x="378" y="3036"/>
                    </a:lnTo>
                    <a:lnTo>
                      <a:pt x="392" y="3060"/>
                    </a:lnTo>
                    <a:lnTo>
                      <a:pt x="404" y="3082"/>
                    </a:lnTo>
                    <a:lnTo>
                      <a:pt x="417" y="3102"/>
                    </a:lnTo>
                    <a:lnTo>
                      <a:pt x="429" y="3120"/>
                    </a:lnTo>
                    <a:lnTo>
                      <a:pt x="440" y="3135"/>
                    </a:lnTo>
                    <a:lnTo>
                      <a:pt x="450" y="3149"/>
                    </a:lnTo>
                    <a:lnTo>
                      <a:pt x="462" y="3160"/>
                    </a:lnTo>
                    <a:lnTo>
                      <a:pt x="472" y="3170"/>
                    </a:lnTo>
                    <a:lnTo>
                      <a:pt x="482" y="3178"/>
                    </a:lnTo>
                    <a:lnTo>
                      <a:pt x="491" y="3185"/>
                    </a:lnTo>
                    <a:lnTo>
                      <a:pt x="500" y="3189"/>
                    </a:lnTo>
                    <a:lnTo>
                      <a:pt x="509" y="3193"/>
                    </a:lnTo>
                    <a:lnTo>
                      <a:pt x="518" y="3194"/>
                    </a:lnTo>
                    <a:lnTo>
                      <a:pt x="527" y="3195"/>
                    </a:lnTo>
                    <a:lnTo>
                      <a:pt x="535" y="3194"/>
                    </a:lnTo>
                    <a:lnTo>
                      <a:pt x="542" y="3192"/>
                    </a:lnTo>
                    <a:lnTo>
                      <a:pt x="551" y="3188"/>
                    </a:lnTo>
                    <a:lnTo>
                      <a:pt x="559" y="3185"/>
                    </a:lnTo>
                    <a:lnTo>
                      <a:pt x="566" y="3179"/>
                    </a:lnTo>
                    <a:lnTo>
                      <a:pt x="582" y="3167"/>
                    </a:lnTo>
                    <a:lnTo>
                      <a:pt x="598" y="3151"/>
                    </a:lnTo>
                    <a:lnTo>
                      <a:pt x="628" y="3112"/>
                    </a:lnTo>
                    <a:lnTo>
                      <a:pt x="661" y="3069"/>
                    </a:lnTo>
                    <a:lnTo>
                      <a:pt x="680" y="3041"/>
                    </a:lnTo>
                    <a:lnTo>
                      <a:pt x="704" y="2999"/>
                    </a:lnTo>
                    <a:lnTo>
                      <a:pt x="732" y="2947"/>
                    </a:lnTo>
                    <a:lnTo>
                      <a:pt x="764" y="2888"/>
                    </a:lnTo>
                    <a:lnTo>
                      <a:pt x="833" y="2753"/>
                    </a:lnTo>
                    <a:lnTo>
                      <a:pt x="903" y="2606"/>
                    </a:lnTo>
                    <a:lnTo>
                      <a:pt x="971" y="2467"/>
                    </a:lnTo>
                    <a:lnTo>
                      <a:pt x="1027" y="2348"/>
                    </a:lnTo>
                    <a:lnTo>
                      <a:pt x="1065" y="2264"/>
                    </a:lnTo>
                    <a:lnTo>
                      <a:pt x="1080" y="2234"/>
                    </a:lnTo>
                    <a:lnTo>
                      <a:pt x="1286" y="0"/>
                    </a:lnTo>
                    <a:lnTo>
                      <a:pt x="155" y="60"/>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0" name=""/>
              <p:cNvSpPr/>
              <p:nvPr/>
            </p:nvSpPr>
            <p:spPr>
              <a:xfrm>
                <a:off x="850320" y="3092400"/>
                <a:ext cx="258480" cy="587520"/>
              </a:xfrm>
              <a:custGeom>
                <a:avLst/>
                <a:gdLst/>
                <a:ahLst/>
                <a:rect l="l" t="t" r="r" b="b"/>
                <a:pathLst>
                  <a:path w="1286" h="3195">
                    <a:moveTo>
                      <a:pt x="155" y="60"/>
                    </a:moveTo>
                    <a:lnTo>
                      <a:pt x="147" y="76"/>
                    </a:lnTo>
                    <a:lnTo>
                      <a:pt x="124" y="120"/>
                    </a:lnTo>
                    <a:lnTo>
                      <a:pt x="110" y="151"/>
                    </a:lnTo>
                    <a:lnTo>
                      <a:pt x="94" y="187"/>
                    </a:lnTo>
                    <a:lnTo>
                      <a:pt x="77" y="228"/>
                    </a:lnTo>
                    <a:lnTo>
                      <a:pt x="60" y="272"/>
                    </a:lnTo>
                    <a:lnTo>
                      <a:pt x="45" y="320"/>
                    </a:lnTo>
                    <a:lnTo>
                      <a:pt x="30" y="369"/>
                    </a:lnTo>
                    <a:lnTo>
                      <a:pt x="23" y="395"/>
                    </a:lnTo>
                    <a:lnTo>
                      <a:pt x="18" y="421"/>
                    </a:lnTo>
                    <a:lnTo>
                      <a:pt x="13" y="448"/>
                    </a:lnTo>
                    <a:lnTo>
                      <a:pt x="9" y="474"/>
                    </a:lnTo>
                    <a:lnTo>
                      <a:pt x="5" y="501"/>
                    </a:lnTo>
                    <a:lnTo>
                      <a:pt x="2" y="528"/>
                    </a:lnTo>
                    <a:lnTo>
                      <a:pt x="1" y="555"/>
                    </a:lnTo>
                    <a:lnTo>
                      <a:pt x="0" y="582"/>
                    </a:lnTo>
                    <a:lnTo>
                      <a:pt x="1" y="608"/>
                    </a:lnTo>
                    <a:lnTo>
                      <a:pt x="3" y="635"/>
                    </a:lnTo>
                    <a:lnTo>
                      <a:pt x="6" y="661"/>
                    </a:lnTo>
                    <a:lnTo>
                      <a:pt x="11" y="686"/>
                    </a:lnTo>
                    <a:lnTo>
                      <a:pt x="21" y="737"/>
                    </a:lnTo>
                    <a:lnTo>
                      <a:pt x="30" y="789"/>
                    </a:lnTo>
                    <a:lnTo>
                      <a:pt x="37" y="843"/>
                    </a:lnTo>
                    <a:lnTo>
                      <a:pt x="41" y="897"/>
                    </a:lnTo>
                    <a:lnTo>
                      <a:pt x="45" y="951"/>
                    </a:lnTo>
                    <a:lnTo>
                      <a:pt x="47" y="1005"/>
                    </a:lnTo>
                    <a:lnTo>
                      <a:pt x="48" y="1058"/>
                    </a:lnTo>
                    <a:lnTo>
                      <a:pt x="49" y="1110"/>
                    </a:lnTo>
                    <a:lnTo>
                      <a:pt x="48" y="1208"/>
                    </a:lnTo>
                    <a:lnTo>
                      <a:pt x="45" y="1296"/>
                    </a:lnTo>
                    <a:lnTo>
                      <a:pt x="42" y="1368"/>
                    </a:lnTo>
                    <a:lnTo>
                      <a:pt x="41" y="1422"/>
                    </a:lnTo>
                    <a:lnTo>
                      <a:pt x="43" y="1456"/>
                    </a:lnTo>
                    <a:lnTo>
                      <a:pt x="49" y="1513"/>
                    </a:lnTo>
                    <a:lnTo>
                      <a:pt x="58" y="1587"/>
                    </a:lnTo>
                    <a:lnTo>
                      <a:pt x="70" y="1678"/>
                    </a:lnTo>
                    <a:lnTo>
                      <a:pt x="86" y="1783"/>
                    </a:lnTo>
                    <a:lnTo>
                      <a:pt x="104" y="1898"/>
                    </a:lnTo>
                    <a:lnTo>
                      <a:pt x="124" y="2020"/>
                    </a:lnTo>
                    <a:lnTo>
                      <a:pt x="147" y="2149"/>
                    </a:lnTo>
                    <a:lnTo>
                      <a:pt x="170" y="2278"/>
                    </a:lnTo>
                    <a:lnTo>
                      <a:pt x="196" y="2407"/>
                    </a:lnTo>
                    <a:lnTo>
                      <a:pt x="223" y="2532"/>
                    </a:lnTo>
                    <a:lnTo>
                      <a:pt x="250" y="2652"/>
                    </a:lnTo>
                    <a:lnTo>
                      <a:pt x="265" y="2708"/>
                    </a:lnTo>
                    <a:lnTo>
                      <a:pt x="279" y="2762"/>
                    </a:lnTo>
                    <a:lnTo>
                      <a:pt x="293" y="2812"/>
                    </a:lnTo>
                    <a:lnTo>
                      <a:pt x="308" y="2860"/>
                    </a:lnTo>
                    <a:lnTo>
                      <a:pt x="322" y="2904"/>
                    </a:lnTo>
                    <a:lnTo>
                      <a:pt x="337" y="2944"/>
                    </a:lnTo>
                    <a:lnTo>
                      <a:pt x="350" y="2979"/>
                    </a:lnTo>
                    <a:lnTo>
                      <a:pt x="365" y="3009"/>
                    </a:lnTo>
                    <a:lnTo>
                      <a:pt x="378" y="3036"/>
                    </a:lnTo>
                    <a:lnTo>
                      <a:pt x="392" y="3060"/>
                    </a:lnTo>
                    <a:lnTo>
                      <a:pt x="404" y="3082"/>
                    </a:lnTo>
                    <a:lnTo>
                      <a:pt x="417" y="3102"/>
                    </a:lnTo>
                    <a:lnTo>
                      <a:pt x="429" y="3120"/>
                    </a:lnTo>
                    <a:lnTo>
                      <a:pt x="440" y="3135"/>
                    </a:lnTo>
                    <a:lnTo>
                      <a:pt x="450" y="3149"/>
                    </a:lnTo>
                    <a:lnTo>
                      <a:pt x="462" y="3160"/>
                    </a:lnTo>
                    <a:lnTo>
                      <a:pt x="472" y="3170"/>
                    </a:lnTo>
                    <a:lnTo>
                      <a:pt x="482" y="3178"/>
                    </a:lnTo>
                    <a:lnTo>
                      <a:pt x="491" y="3185"/>
                    </a:lnTo>
                    <a:lnTo>
                      <a:pt x="500" y="3189"/>
                    </a:lnTo>
                    <a:lnTo>
                      <a:pt x="509" y="3193"/>
                    </a:lnTo>
                    <a:lnTo>
                      <a:pt x="518" y="3194"/>
                    </a:lnTo>
                    <a:lnTo>
                      <a:pt x="527" y="3195"/>
                    </a:lnTo>
                    <a:lnTo>
                      <a:pt x="535" y="3194"/>
                    </a:lnTo>
                    <a:lnTo>
                      <a:pt x="542" y="3192"/>
                    </a:lnTo>
                    <a:lnTo>
                      <a:pt x="551" y="3188"/>
                    </a:lnTo>
                    <a:lnTo>
                      <a:pt x="559" y="3185"/>
                    </a:lnTo>
                    <a:lnTo>
                      <a:pt x="566" y="3179"/>
                    </a:lnTo>
                    <a:lnTo>
                      <a:pt x="582" y="3167"/>
                    </a:lnTo>
                    <a:lnTo>
                      <a:pt x="598" y="3151"/>
                    </a:lnTo>
                    <a:lnTo>
                      <a:pt x="628" y="3112"/>
                    </a:lnTo>
                    <a:lnTo>
                      <a:pt x="661" y="3069"/>
                    </a:lnTo>
                    <a:lnTo>
                      <a:pt x="680" y="3041"/>
                    </a:lnTo>
                    <a:lnTo>
                      <a:pt x="704" y="2999"/>
                    </a:lnTo>
                    <a:lnTo>
                      <a:pt x="732" y="2947"/>
                    </a:lnTo>
                    <a:lnTo>
                      <a:pt x="764" y="2888"/>
                    </a:lnTo>
                    <a:lnTo>
                      <a:pt x="833" y="2753"/>
                    </a:lnTo>
                    <a:lnTo>
                      <a:pt x="903" y="2606"/>
                    </a:lnTo>
                    <a:lnTo>
                      <a:pt x="971" y="2467"/>
                    </a:lnTo>
                    <a:lnTo>
                      <a:pt x="1027" y="2348"/>
                    </a:lnTo>
                    <a:lnTo>
                      <a:pt x="1065" y="2264"/>
                    </a:lnTo>
                    <a:lnTo>
                      <a:pt x="1080" y="2234"/>
                    </a:lnTo>
                    <a:lnTo>
                      <a:pt x="1286" y="0"/>
                    </a:lnTo>
                    <a:lnTo>
                      <a:pt x="155" y="6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1" name=""/>
              <p:cNvSpPr/>
              <p:nvPr/>
            </p:nvSpPr>
            <p:spPr>
              <a:xfrm>
                <a:off x="1433520" y="3007080"/>
                <a:ext cx="228960" cy="653760"/>
              </a:xfrm>
              <a:custGeom>
                <a:avLst/>
                <a:gdLst/>
                <a:ahLst/>
                <a:rect l="l" t="t" r="r" b="b"/>
                <a:pathLst>
                  <a:path w="1142" h="3555">
                    <a:moveTo>
                      <a:pt x="90" y="164"/>
                    </a:moveTo>
                    <a:lnTo>
                      <a:pt x="0" y="3529"/>
                    </a:lnTo>
                    <a:lnTo>
                      <a:pt x="535" y="3555"/>
                    </a:lnTo>
                    <a:lnTo>
                      <a:pt x="550" y="3547"/>
                    </a:lnTo>
                    <a:lnTo>
                      <a:pt x="590" y="3522"/>
                    </a:lnTo>
                    <a:lnTo>
                      <a:pt x="617" y="3503"/>
                    </a:lnTo>
                    <a:lnTo>
                      <a:pt x="647" y="3481"/>
                    </a:lnTo>
                    <a:lnTo>
                      <a:pt x="679" y="3454"/>
                    </a:lnTo>
                    <a:lnTo>
                      <a:pt x="713" y="3422"/>
                    </a:lnTo>
                    <a:lnTo>
                      <a:pt x="729" y="3405"/>
                    </a:lnTo>
                    <a:lnTo>
                      <a:pt x="745" y="3387"/>
                    </a:lnTo>
                    <a:lnTo>
                      <a:pt x="762" y="3368"/>
                    </a:lnTo>
                    <a:lnTo>
                      <a:pt x="778" y="3347"/>
                    </a:lnTo>
                    <a:lnTo>
                      <a:pt x="792" y="3325"/>
                    </a:lnTo>
                    <a:lnTo>
                      <a:pt x="807" y="3303"/>
                    </a:lnTo>
                    <a:lnTo>
                      <a:pt x="822" y="3279"/>
                    </a:lnTo>
                    <a:lnTo>
                      <a:pt x="834" y="3256"/>
                    </a:lnTo>
                    <a:lnTo>
                      <a:pt x="846" y="3230"/>
                    </a:lnTo>
                    <a:lnTo>
                      <a:pt x="858" y="3203"/>
                    </a:lnTo>
                    <a:lnTo>
                      <a:pt x="867" y="3175"/>
                    </a:lnTo>
                    <a:lnTo>
                      <a:pt x="874" y="3145"/>
                    </a:lnTo>
                    <a:lnTo>
                      <a:pt x="881" y="3116"/>
                    </a:lnTo>
                    <a:lnTo>
                      <a:pt x="886" y="3084"/>
                    </a:lnTo>
                    <a:lnTo>
                      <a:pt x="889" y="3053"/>
                    </a:lnTo>
                    <a:lnTo>
                      <a:pt x="890" y="3019"/>
                    </a:lnTo>
                    <a:lnTo>
                      <a:pt x="890" y="2983"/>
                    </a:lnTo>
                    <a:lnTo>
                      <a:pt x="892" y="2943"/>
                    </a:lnTo>
                    <a:lnTo>
                      <a:pt x="896" y="2899"/>
                    </a:lnTo>
                    <a:lnTo>
                      <a:pt x="900" y="2850"/>
                    </a:lnTo>
                    <a:lnTo>
                      <a:pt x="913" y="2742"/>
                    </a:lnTo>
                    <a:lnTo>
                      <a:pt x="929" y="2624"/>
                    </a:lnTo>
                    <a:lnTo>
                      <a:pt x="949" y="2498"/>
                    </a:lnTo>
                    <a:lnTo>
                      <a:pt x="970" y="2368"/>
                    </a:lnTo>
                    <a:lnTo>
                      <a:pt x="992" y="2234"/>
                    </a:lnTo>
                    <a:lnTo>
                      <a:pt x="1016" y="2102"/>
                    </a:lnTo>
                    <a:lnTo>
                      <a:pt x="1062" y="1855"/>
                    </a:lnTo>
                    <a:lnTo>
                      <a:pt x="1103" y="1648"/>
                    </a:lnTo>
                    <a:lnTo>
                      <a:pt x="1131" y="1505"/>
                    </a:lnTo>
                    <a:lnTo>
                      <a:pt x="1142" y="1452"/>
                    </a:lnTo>
                    <a:lnTo>
                      <a:pt x="1141" y="1401"/>
                    </a:lnTo>
                    <a:lnTo>
                      <a:pt x="1137" y="1266"/>
                    </a:lnTo>
                    <a:lnTo>
                      <a:pt x="1134" y="1175"/>
                    </a:lnTo>
                    <a:lnTo>
                      <a:pt x="1130" y="1071"/>
                    </a:lnTo>
                    <a:lnTo>
                      <a:pt x="1124" y="960"/>
                    </a:lnTo>
                    <a:lnTo>
                      <a:pt x="1116" y="843"/>
                    </a:lnTo>
                    <a:lnTo>
                      <a:pt x="1107" y="723"/>
                    </a:lnTo>
                    <a:lnTo>
                      <a:pt x="1096" y="603"/>
                    </a:lnTo>
                    <a:lnTo>
                      <a:pt x="1090" y="545"/>
                    </a:lnTo>
                    <a:lnTo>
                      <a:pt x="1083" y="487"/>
                    </a:lnTo>
                    <a:lnTo>
                      <a:pt x="1076" y="432"/>
                    </a:lnTo>
                    <a:lnTo>
                      <a:pt x="1068" y="379"/>
                    </a:lnTo>
                    <a:lnTo>
                      <a:pt x="1059" y="328"/>
                    </a:lnTo>
                    <a:lnTo>
                      <a:pt x="1050" y="280"/>
                    </a:lnTo>
                    <a:lnTo>
                      <a:pt x="1040" y="235"/>
                    </a:lnTo>
                    <a:lnTo>
                      <a:pt x="1029" y="195"/>
                    </a:lnTo>
                    <a:lnTo>
                      <a:pt x="1018" y="158"/>
                    </a:lnTo>
                    <a:lnTo>
                      <a:pt x="1006" y="125"/>
                    </a:lnTo>
                    <a:lnTo>
                      <a:pt x="994" y="97"/>
                    </a:lnTo>
                    <a:lnTo>
                      <a:pt x="980" y="74"/>
                    </a:lnTo>
                    <a:lnTo>
                      <a:pt x="964" y="56"/>
                    </a:lnTo>
                    <a:lnTo>
                      <a:pt x="945" y="41"/>
                    </a:lnTo>
                    <a:lnTo>
                      <a:pt x="924" y="28"/>
                    </a:lnTo>
                    <a:lnTo>
                      <a:pt x="899" y="18"/>
                    </a:lnTo>
                    <a:lnTo>
                      <a:pt x="872" y="10"/>
                    </a:lnTo>
                    <a:lnTo>
                      <a:pt x="843" y="5"/>
                    </a:lnTo>
                    <a:lnTo>
                      <a:pt x="811" y="1"/>
                    </a:lnTo>
                    <a:lnTo>
                      <a:pt x="779" y="0"/>
                    </a:lnTo>
                    <a:lnTo>
                      <a:pt x="744" y="1"/>
                    </a:lnTo>
                    <a:lnTo>
                      <a:pt x="708" y="2"/>
                    </a:lnTo>
                    <a:lnTo>
                      <a:pt x="671" y="6"/>
                    </a:lnTo>
                    <a:lnTo>
                      <a:pt x="634" y="11"/>
                    </a:lnTo>
                    <a:lnTo>
                      <a:pt x="596" y="17"/>
                    </a:lnTo>
                    <a:lnTo>
                      <a:pt x="556" y="24"/>
                    </a:lnTo>
                    <a:lnTo>
                      <a:pt x="518" y="33"/>
                    </a:lnTo>
                    <a:lnTo>
                      <a:pt x="480" y="41"/>
                    </a:lnTo>
                    <a:lnTo>
                      <a:pt x="405" y="61"/>
                    </a:lnTo>
                    <a:lnTo>
                      <a:pt x="333" y="81"/>
                    </a:lnTo>
                    <a:lnTo>
                      <a:pt x="266" y="101"/>
                    </a:lnTo>
                    <a:lnTo>
                      <a:pt x="208" y="121"/>
                    </a:lnTo>
                    <a:lnTo>
                      <a:pt x="121" y="152"/>
                    </a:lnTo>
                    <a:lnTo>
                      <a:pt x="90" y="164"/>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2" name=""/>
              <p:cNvSpPr/>
              <p:nvPr/>
            </p:nvSpPr>
            <p:spPr>
              <a:xfrm>
                <a:off x="1433520" y="3007080"/>
                <a:ext cx="228960" cy="653760"/>
              </a:xfrm>
              <a:custGeom>
                <a:avLst/>
                <a:gdLst/>
                <a:ahLst/>
                <a:rect l="l" t="t" r="r" b="b"/>
                <a:pathLst>
                  <a:path w="1142" h="3555">
                    <a:moveTo>
                      <a:pt x="90" y="164"/>
                    </a:moveTo>
                    <a:lnTo>
                      <a:pt x="0" y="3529"/>
                    </a:lnTo>
                    <a:lnTo>
                      <a:pt x="535" y="3555"/>
                    </a:lnTo>
                    <a:lnTo>
                      <a:pt x="550" y="3547"/>
                    </a:lnTo>
                    <a:lnTo>
                      <a:pt x="590" y="3522"/>
                    </a:lnTo>
                    <a:lnTo>
                      <a:pt x="617" y="3503"/>
                    </a:lnTo>
                    <a:lnTo>
                      <a:pt x="647" y="3481"/>
                    </a:lnTo>
                    <a:lnTo>
                      <a:pt x="679" y="3454"/>
                    </a:lnTo>
                    <a:lnTo>
                      <a:pt x="713" y="3422"/>
                    </a:lnTo>
                    <a:lnTo>
                      <a:pt x="729" y="3405"/>
                    </a:lnTo>
                    <a:lnTo>
                      <a:pt x="745" y="3387"/>
                    </a:lnTo>
                    <a:lnTo>
                      <a:pt x="762" y="3368"/>
                    </a:lnTo>
                    <a:lnTo>
                      <a:pt x="778" y="3347"/>
                    </a:lnTo>
                    <a:lnTo>
                      <a:pt x="792" y="3325"/>
                    </a:lnTo>
                    <a:lnTo>
                      <a:pt x="807" y="3303"/>
                    </a:lnTo>
                    <a:lnTo>
                      <a:pt x="822" y="3279"/>
                    </a:lnTo>
                    <a:lnTo>
                      <a:pt x="834" y="3256"/>
                    </a:lnTo>
                    <a:lnTo>
                      <a:pt x="846" y="3230"/>
                    </a:lnTo>
                    <a:lnTo>
                      <a:pt x="858" y="3203"/>
                    </a:lnTo>
                    <a:lnTo>
                      <a:pt x="867" y="3175"/>
                    </a:lnTo>
                    <a:lnTo>
                      <a:pt x="874" y="3145"/>
                    </a:lnTo>
                    <a:lnTo>
                      <a:pt x="881" y="3116"/>
                    </a:lnTo>
                    <a:lnTo>
                      <a:pt x="886" y="3084"/>
                    </a:lnTo>
                    <a:lnTo>
                      <a:pt x="889" y="3053"/>
                    </a:lnTo>
                    <a:lnTo>
                      <a:pt x="890" y="3019"/>
                    </a:lnTo>
                    <a:lnTo>
                      <a:pt x="890" y="2983"/>
                    </a:lnTo>
                    <a:lnTo>
                      <a:pt x="892" y="2943"/>
                    </a:lnTo>
                    <a:lnTo>
                      <a:pt x="896" y="2899"/>
                    </a:lnTo>
                    <a:lnTo>
                      <a:pt x="900" y="2850"/>
                    </a:lnTo>
                    <a:lnTo>
                      <a:pt x="913" y="2742"/>
                    </a:lnTo>
                    <a:lnTo>
                      <a:pt x="929" y="2624"/>
                    </a:lnTo>
                    <a:lnTo>
                      <a:pt x="949" y="2498"/>
                    </a:lnTo>
                    <a:lnTo>
                      <a:pt x="970" y="2368"/>
                    </a:lnTo>
                    <a:lnTo>
                      <a:pt x="992" y="2234"/>
                    </a:lnTo>
                    <a:lnTo>
                      <a:pt x="1016" y="2102"/>
                    </a:lnTo>
                    <a:lnTo>
                      <a:pt x="1062" y="1855"/>
                    </a:lnTo>
                    <a:lnTo>
                      <a:pt x="1103" y="1648"/>
                    </a:lnTo>
                    <a:lnTo>
                      <a:pt x="1131" y="1505"/>
                    </a:lnTo>
                    <a:lnTo>
                      <a:pt x="1142" y="1452"/>
                    </a:lnTo>
                    <a:lnTo>
                      <a:pt x="1141" y="1401"/>
                    </a:lnTo>
                    <a:lnTo>
                      <a:pt x="1137" y="1266"/>
                    </a:lnTo>
                    <a:lnTo>
                      <a:pt x="1134" y="1175"/>
                    </a:lnTo>
                    <a:lnTo>
                      <a:pt x="1130" y="1071"/>
                    </a:lnTo>
                    <a:lnTo>
                      <a:pt x="1124" y="960"/>
                    </a:lnTo>
                    <a:lnTo>
                      <a:pt x="1116" y="843"/>
                    </a:lnTo>
                    <a:lnTo>
                      <a:pt x="1107" y="723"/>
                    </a:lnTo>
                    <a:lnTo>
                      <a:pt x="1096" y="603"/>
                    </a:lnTo>
                    <a:lnTo>
                      <a:pt x="1090" y="545"/>
                    </a:lnTo>
                    <a:lnTo>
                      <a:pt x="1083" y="487"/>
                    </a:lnTo>
                    <a:lnTo>
                      <a:pt x="1076" y="432"/>
                    </a:lnTo>
                    <a:lnTo>
                      <a:pt x="1068" y="379"/>
                    </a:lnTo>
                    <a:lnTo>
                      <a:pt x="1059" y="328"/>
                    </a:lnTo>
                    <a:lnTo>
                      <a:pt x="1050" y="280"/>
                    </a:lnTo>
                    <a:lnTo>
                      <a:pt x="1040" y="235"/>
                    </a:lnTo>
                    <a:lnTo>
                      <a:pt x="1029" y="195"/>
                    </a:lnTo>
                    <a:lnTo>
                      <a:pt x="1018" y="158"/>
                    </a:lnTo>
                    <a:lnTo>
                      <a:pt x="1006" y="125"/>
                    </a:lnTo>
                    <a:lnTo>
                      <a:pt x="994" y="97"/>
                    </a:lnTo>
                    <a:lnTo>
                      <a:pt x="980" y="74"/>
                    </a:lnTo>
                    <a:lnTo>
                      <a:pt x="964" y="56"/>
                    </a:lnTo>
                    <a:lnTo>
                      <a:pt x="945" y="41"/>
                    </a:lnTo>
                    <a:lnTo>
                      <a:pt x="924" y="28"/>
                    </a:lnTo>
                    <a:lnTo>
                      <a:pt x="899" y="18"/>
                    </a:lnTo>
                    <a:lnTo>
                      <a:pt x="872" y="10"/>
                    </a:lnTo>
                    <a:lnTo>
                      <a:pt x="843" y="5"/>
                    </a:lnTo>
                    <a:lnTo>
                      <a:pt x="811" y="1"/>
                    </a:lnTo>
                    <a:lnTo>
                      <a:pt x="779" y="0"/>
                    </a:lnTo>
                    <a:lnTo>
                      <a:pt x="744" y="1"/>
                    </a:lnTo>
                    <a:lnTo>
                      <a:pt x="708" y="2"/>
                    </a:lnTo>
                    <a:lnTo>
                      <a:pt x="671" y="6"/>
                    </a:lnTo>
                    <a:lnTo>
                      <a:pt x="634" y="11"/>
                    </a:lnTo>
                    <a:lnTo>
                      <a:pt x="596" y="17"/>
                    </a:lnTo>
                    <a:lnTo>
                      <a:pt x="556" y="24"/>
                    </a:lnTo>
                    <a:lnTo>
                      <a:pt x="518" y="33"/>
                    </a:lnTo>
                    <a:lnTo>
                      <a:pt x="480" y="41"/>
                    </a:lnTo>
                    <a:lnTo>
                      <a:pt x="405" y="61"/>
                    </a:lnTo>
                    <a:lnTo>
                      <a:pt x="333" y="81"/>
                    </a:lnTo>
                    <a:lnTo>
                      <a:pt x="266" y="101"/>
                    </a:lnTo>
                    <a:lnTo>
                      <a:pt x="208" y="121"/>
                    </a:lnTo>
                    <a:lnTo>
                      <a:pt x="121" y="152"/>
                    </a:lnTo>
                    <a:lnTo>
                      <a:pt x="90" y="16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3" name=""/>
              <p:cNvSpPr/>
              <p:nvPr/>
            </p:nvSpPr>
            <p:spPr>
              <a:xfrm>
                <a:off x="892440" y="3543120"/>
                <a:ext cx="684360" cy="1293480"/>
              </a:xfrm>
              <a:custGeom>
                <a:avLst/>
                <a:gdLst/>
                <a:ahLst/>
                <a:rect l="l" t="t" r="r" b="b"/>
                <a:pathLst>
                  <a:path w="3399" h="7035">
                    <a:moveTo>
                      <a:pt x="572" y="161"/>
                    </a:moveTo>
                    <a:lnTo>
                      <a:pt x="561" y="174"/>
                    </a:lnTo>
                    <a:lnTo>
                      <a:pt x="531" y="209"/>
                    </a:lnTo>
                    <a:lnTo>
                      <a:pt x="487" y="261"/>
                    </a:lnTo>
                    <a:lnTo>
                      <a:pt x="431" y="323"/>
                    </a:lnTo>
                    <a:lnTo>
                      <a:pt x="400" y="356"/>
                    </a:lnTo>
                    <a:lnTo>
                      <a:pt x="366" y="388"/>
                    </a:lnTo>
                    <a:lnTo>
                      <a:pt x="332" y="421"/>
                    </a:lnTo>
                    <a:lnTo>
                      <a:pt x="296" y="452"/>
                    </a:lnTo>
                    <a:lnTo>
                      <a:pt x="260" y="482"/>
                    </a:lnTo>
                    <a:lnTo>
                      <a:pt x="226" y="509"/>
                    </a:lnTo>
                    <a:lnTo>
                      <a:pt x="208" y="521"/>
                    </a:lnTo>
                    <a:lnTo>
                      <a:pt x="190" y="532"/>
                    </a:lnTo>
                    <a:lnTo>
                      <a:pt x="173" y="542"/>
                    </a:lnTo>
                    <a:lnTo>
                      <a:pt x="156" y="551"/>
                    </a:lnTo>
                    <a:lnTo>
                      <a:pt x="139" y="558"/>
                    </a:lnTo>
                    <a:lnTo>
                      <a:pt x="124" y="563"/>
                    </a:lnTo>
                    <a:lnTo>
                      <a:pt x="110" y="565"/>
                    </a:lnTo>
                    <a:lnTo>
                      <a:pt x="96" y="565"/>
                    </a:lnTo>
                    <a:lnTo>
                      <a:pt x="84" y="564"/>
                    </a:lnTo>
                    <a:lnTo>
                      <a:pt x="73" y="561"/>
                    </a:lnTo>
                    <a:lnTo>
                      <a:pt x="63" y="557"/>
                    </a:lnTo>
                    <a:lnTo>
                      <a:pt x="52" y="552"/>
                    </a:lnTo>
                    <a:lnTo>
                      <a:pt x="45" y="547"/>
                    </a:lnTo>
                    <a:lnTo>
                      <a:pt x="37" y="540"/>
                    </a:lnTo>
                    <a:lnTo>
                      <a:pt x="29" y="534"/>
                    </a:lnTo>
                    <a:lnTo>
                      <a:pt x="23" y="528"/>
                    </a:lnTo>
                    <a:lnTo>
                      <a:pt x="13" y="514"/>
                    </a:lnTo>
                    <a:lnTo>
                      <a:pt x="6" y="504"/>
                    </a:lnTo>
                    <a:lnTo>
                      <a:pt x="2" y="498"/>
                    </a:lnTo>
                    <a:lnTo>
                      <a:pt x="0" y="498"/>
                    </a:lnTo>
                    <a:lnTo>
                      <a:pt x="1" y="506"/>
                    </a:lnTo>
                    <a:lnTo>
                      <a:pt x="4" y="523"/>
                    </a:lnTo>
                    <a:lnTo>
                      <a:pt x="16" y="595"/>
                    </a:lnTo>
                    <a:lnTo>
                      <a:pt x="36" y="727"/>
                    </a:lnTo>
                    <a:lnTo>
                      <a:pt x="41" y="762"/>
                    </a:lnTo>
                    <a:lnTo>
                      <a:pt x="47" y="794"/>
                    </a:lnTo>
                    <a:lnTo>
                      <a:pt x="52" y="826"/>
                    </a:lnTo>
                    <a:lnTo>
                      <a:pt x="58" y="856"/>
                    </a:lnTo>
                    <a:lnTo>
                      <a:pt x="72" y="913"/>
                    </a:lnTo>
                    <a:lnTo>
                      <a:pt x="86" y="964"/>
                    </a:lnTo>
                    <a:lnTo>
                      <a:pt x="101" y="1012"/>
                    </a:lnTo>
                    <a:lnTo>
                      <a:pt x="115" y="1057"/>
                    </a:lnTo>
                    <a:lnTo>
                      <a:pt x="130" y="1097"/>
                    </a:lnTo>
                    <a:lnTo>
                      <a:pt x="145" y="1136"/>
                    </a:lnTo>
                    <a:lnTo>
                      <a:pt x="159" y="1174"/>
                    </a:lnTo>
                    <a:lnTo>
                      <a:pt x="173" y="1211"/>
                    </a:lnTo>
                    <a:lnTo>
                      <a:pt x="184" y="1247"/>
                    </a:lnTo>
                    <a:lnTo>
                      <a:pt x="195" y="1283"/>
                    </a:lnTo>
                    <a:lnTo>
                      <a:pt x="203" y="1320"/>
                    </a:lnTo>
                    <a:lnTo>
                      <a:pt x="210" y="1359"/>
                    </a:lnTo>
                    <a:lnTo>
                      <a:pt x="212" y="1378"/>
                    </a:lnTo>
                    <a:lnTo>
                      <a:pt x="214" y="1400"/>
                    </a:lnTo>
                    <a:lnTo>
                      <a:pt x="215" y="1421"/>
                    </a:lnTo>
                    <a:lnTo>
                      <a:pt x="215" y="1443"/>
                    </a:lnTo>
                    <a:lnTo>
                      <a:pt x="217" y="1521"/>
                    </a:lnTo>
                    <a:lnTo>
                      <a:pt x="218" y="1580"/>
                    </a:lnTo>
                    <a:lnTo>
                      <a:pt x="220" y="1605"/>
                    </a:lnTo>
                    <a:lnTo>
                      <a:pt x="223" y="1626"/>
                    </a:lnTo>
                    <a:lnTo>
                      <a:pt x="228" y="1645"/>
                    </a:lnTo>
                    <a:lnTo>
                      <a:pt x="235" y="1664"/>
                    </a:lnTo>
                    <a:lnTo>
                      <a:pt x="241" y="1682"/>
                    </a:lnTo>
                    <a:lnTo>
                      <a:pt x="251" y="1700"/>
                    </a:lnTo>
                    <a:lnTo>
                      <a:pt x="263" y="1719"/>
                    </a:lnTo>
                    <a:lnTo>
                      <a:pt x="277" y="1741"/>
                    </a:lnTo>
                    <a:lnTo>
                      <a:pt x="313" y="1791"/>
                    </a:lnTo>
                    <a:lnTo>
                      <a:pt x="362" y="1859"/>
                    </a:lnTo>
                    <a:lnTo>
                      <a:pt x="375" y="1883"/>
                    </a:lnTo>
                    <a:lnTo>
                      <a:pt x="389" y="1912"/>
                    </a:lnTo>
                    <a:lnTo>
                      <a:pt x="403" y="1948"/>
                    </a:lnTo>
                    <a:lnTo>
                      <a:pt x="416" y="1989"/>
                    </a:lnTo>
                    <a:lnTo>
                      <a:pt x="429" y="2037"/>
                    </a:lnTo>
                    <a:lnTo>
                      <a:pt x="441" y="2088"/>
                    </a:lnTo>
                    <a:lnTo>
                      <a:pt x="455" y="2144"/>
                    </a:lnTo>
                    <a:lnTo>
                      <a:pt x="467" y="2203"/>
                    </a:lnTo>
                    <a:lnTo>
                      <a:pt x="478" y="2266"/>
                    </a:lnTo>
                    <a:lnTo>
                      <a:pt x="491" y="2331"/>
                    </a:lnTo>
                    <a:lnTo>
                      <a:pt x="502" y="2400"/>
                    </a:lnTo>
                    <a:lnTo>
                      <a:pt x="512" y="2469"/>
                    </a:lnTo>
                    <a:lnTo>
                      <a:pt x="534" y="2612"/>
                    </a:lnTo>
                    <a:lnTo>
                      <a:pt x="553" y="2757"/>
                    </a:lnTo>
                    <a:lnTo>
                      <a:pt x="570" y="2899"/>
                    </a:lnTo>
                    <a:lnTo>
                      <a:pt x="585" y="3034"/>
                    </a:lnTo>
                    <a:lnTo>
                      <a:pt x="599" y="3159"/>
                    </a:lnTo>
                    <a:lnTo>
                      <a:pt x="610" y="3270"/>
                    </a:lnTo>
                    <a:lnTo>
                      <a:pt x="626" y="3434"/>
                    </a:lnTo>
                    <a:lnTo>
                      <a:pt x="631" y="3496"/>
                    </a:lnTo>
                    <a:lnTo>
                      <a:pt x="661" y="3736"/>
                    </a:lnTo>
                    <a:lnTo>
                      <a:pt x="572" y="3826"/>
                    </a:lnTo>
                    <a:lnTo>
                      <a:pt x="631" y="4032"/>
                    </a:lnTo>
                    <a:lnTo>
                      <a:pt x="631" y="4112"/>
                    </a:lnTo>
                    <a:lnTo>
                      <a:pt x="631" y="4324"/>
                    </a:lnTo>
                    <a:lnTo>
                      <a:pt x="632" y="4627"/>
                    </a:lnTo>
                    <a:lnTo>
                      <a:pt x="635" y="4981"/>
                    </a:lnTo>
                    <a:lnTo>
                      <a:pt x="638" y="5345"/>
                    </a:lnTo>
                    <a:lnTo>
                      <a:pt x="644" y="5678"/>
                    </a:lnTo>
                    <a:lnTo>
                      <a:pt x="647" y="5820"/>
                    </a:lnTo>
                    <a:lnTo>
                      <a:pt x="652" y="5938"/>
                    </a:lnTo>
                    <a:lnTo>
                      <a:pt x="654" y="5987"/>
                    </a:lnTo>
                    <a:lnTo>
                      <a:pt x="656" y="6028"/>
                    </a:lnTo>
                    <a:lnTo>
                      <a:pt x="658" y="6062"/>
                    </a:lnTo>
                    <a:lnTo>
                      <a:pt x="661" y="6085"/>
                    </a:lnTo>
                    <a:lnTo>
                      <a:pt x="672" y="6164"/>
                    </a:lnTo>
                    <a:lnTo>
                      <a:pt x="683" y="6243"/>
                    </a:lnTo>
                    <a:lnTo>
                      <a:pt x="692" y="6319"/>
                    </a:lnTo>
                    <a:lnTo>
                      <a:pt x="699" y="6396"/>
                    </a:lnTo>
                    <a:lnTo>
                      <a:pt x="701" y="6434"/>
                    </a:lnTo>
                    <a:lnTo>
                      <a:pt x="702" y="6471"/>
                    </a:lnTo>
                    <a:lnTo>
                      <a:pt x="703" y="6507"/>
                    </a:lnTo>
                    <a:lnTo>
                      <a:pt x="703" y="6543"/>
                    </a:lnTo>
                    <a:lnTo>
                      <a:pt x="702" y="6579"/>
                    </a:lnTo>
                    <a:lnTo>
                      <a:pt x="700" y="6614"/>
                    </a:lnTo>
                    <a:lnTo>
                      <a:pt x="697" y="6648"/>
                    </a:lnTo>
                    <a:lnTo>
                      <a:pt x="691" y="6682"/>
                    </a:lnTo>
                    <a:lnTo>
                      <a:pt x="690" y="6699"/>
                    </a:lnTo>
                    <a:lnTo>
                      <a:pt x="691" y="6717"/>
                    </a:lnTo>
                    <a:lnTo>
                      <a:pt x="695" y="6736"/>
                    </a:lnTo>
                    <a:lnTo>
                      <a:pt x="702" y="6755"/>
                    </a:lnTo>
                    <a:lnTo>
                      <a:pt x="711" y="6775"/>
                    </a:lnTo>
                    <a:lnTo>
                      <a:pt x="724" y="6795"/>
                    </a:lnTo>
                    <a:lnTo>
                      <a:pt x="737" y="6816"/>
                    </a:lnTo>
                    <a:lnTo>
                      <a:pt x="753" y="6836"/>
                    </a:lnTo>
                    <a:lnTo>
                      <a:pt x="771" y="6856"/>
                    </a:lnTo>
                    <a:lnTo>
                      <a:pt x="790" y="6876"/>
                    </a:lnTo>
                    <a:lnTo>
                      <a:pt x="811" y="6895"/>
                    </a:lnTo>
                    <a:lnTo>
                      <a:pt x="835" y="6915"/>
                    </a:lnTo>
                    <a:lnTo>
                      <a:pt x="858" y="6933"/>
                    </a:lnTo>
                    <a:lnTo>
                      <a:pt x="884" y="6950"/>
                    </a:lnTo>
                    <a:lnTo>
                      <a:pt x="911" y="6965"/>
                    </a:lnTo>
                    <a:lnTo>
                      <a:pt x="939" y="6980"/>
                    </a:lnTo>
                    <a:lnTo>
                      <a:pt x="969" y="6993"/>
                    </a:lnTo>
                    <a:lnTo>
                      <a:pt x="998" y="7005"/>
                    </a:lnTo>
                    <a:lnTo>
                      <a:pt x="1028" y="7015"/>
                    </a:lnTo>
                    <a:lnTo>
                      <a:pt x="1060" y="7023"/>
                    </a:lnTo>
                    <a:lnTo>
                      <a:pt x="1091" y="7029"/>
                    </a:lnTo>
                    <a:lnTo>
                      <a:pt x="1123" y="7033"/>
                    </a:lnTo>
                    <a:lnTo>
                      <a:pt x="1155" y="7035"/>
                    </a:lnTo>
                    <a:lnTo>
                      <a:pt x="1188" y="7034"/>
                    </a:lnTo>
                    <a:lnTo>
                      <a:pt x="1219" y="7031"/>
                    </a:lnTo>
                    <a:lnTo>
                      <a:pt x="1251" y="7024"/>
                    </a:lnTo>
                    <a:lnTo>
                      <a:pt x="1283" y="7015"/>
                    </a:lnTo>
                    <a:lnTo>
                      <a:pt x="1314" y="7004"/>
                    </a:lnTo>
                    <a:lnTo>
                      <a:pt x="1345" y="6988"/>
                    </a:lnTo>
                    <a:lnTo>
                      <a:pt x="1374" y="6970"/>
                    </a:lnTo>
                    <a:lnTo>
                      <a:pt x="1404" y="6947"/>
                    </a:lnTo>
                    <a:lnTo>
                      <a:pt x="1432" y="6921"/>
                    </a:lnTo>
                    <a:lnTo>
                      <a:pt x="1459" y="6894"/>
                    </a:lnTo>
                    <a:lnTo>
                      <a:pt x="1481" y="6871"/>
                    </a:lnTo>
                    <a:lnTo>
                      <a:pt x="1500" y="6849"/>
                    </a:lnTo>
                    <a:lnTo>
                      <a:pt x="1517" y="6830"/>
                    </a:lnTo>
                    <a:lnTo>
                      <a:pt x="1531" y="6813"/>
                    </a:lnTo>
                    <a:lnTo>
                      <a:pt x="1542" y="6799"/>
                    </a:lnTo>
                    <a:lnTo>
                      <a:pt x="1550" y="6786"/>
                    </a:lnTo>
                    <a:lnTo>
                      <a:pt x="1555" y="6776"/>
                    </a:lnTo>
                    <a:lnTo>
                      <a:pt x="1560" y="6767"/>
                    </a:lnTo>
                    <a:lnTo>
                      <a:pt x="1561" y="6760"/>
                    </a:lnTo>
                    <a:lnTo>
                      <a:pt x="1561" y="6755"/>
                    </a:lnTo>
                    <a:lnTo>
                      <a:pt x="1560" y="6751"/>
                    </a:lnTo>
                    <a:lnTo>
                      <a:pt x="1558" y="6749"/>
                    </a:lnTo>
                    <a:lnTo>
                      <a:pt x="1553" y="6748"/>
                    </a:lnTo>
                    <a:lnTo>
                      <a:pt x="1548" y="6748"/>
                    </a:lnTo>
                    <a:lnTo>
                      <a:pt x="1542" y="6749"/>
                    </a:lnTo>
                    <a:lnTo>
                      <a:pt x="1528" y="6753"/>
                    </a:lnTo>
                    <a:lnTo>
                      <a:pt x="1514" y="6760"/>
                    </a:lnTo>
                    <a:lnTo>
                      <a:pt x="1500" y="6768"/>
                    </a:lnTo>
                    <a:lnTo>
                      <a:pt x="1489" y="6777"/>
                    </a:lnTo>
                    <a:lnTo>
                      <a:pt x="1483" y="6782"/>
                    </a:lnTo>
                    <a:lnTo>
                      <a:pt x="1480" y="6786"/>
                    </a:lnTo>
                    <a:lnTo>
                      <a:pt x="1478" y="6791"/>
                    </a:lnTo>
                    <a:lnTo>
                      <a:pt x="1477" y="6794"/>
                    </a:lnTo>
                    <a:lnTo>
                      <a:pt x="1478" y="6796"/>
                    </a:lnTo>
                    <a:lnTo>
                      <a:pt x="1480" y="6799"/>
                    </a:lnTo>
                    <a:lnTo>
                      <a:pt x="1485" y="6801"/>
                    </a:lnTo>
                    <a:lnTo>
                      <a:pt x="1492" y="6801"/>
                    </a:lnTo>
                    <a:lnTo>
                      <a:pt x="1501" y="6802"/>
                    </a:lnTo>
                    <a:lnTo>
                      <a:pt x="1512" y="6807"/>
                    </a:lnTo>
                    <a:lnTo>
                      <a:pt x="1524" y="6813"/>
                    </a:lnTo>
                    <a:lnTo>
                      <a:pt x="1537" y="6822"/>
                    </a:lnTo>
                    <a:lnTo>
                      <a:pt x="1568" y="6845"/>
                    </a:lnTo>
                    <a:lnTo>
                      <a:pt x="1604" y="6873"/>
                    </a:lnTo>
                    <a:lnTo>
                      <a:pt x="1644" y="6903"/>
                    </a:lnTo>
                    <a:lnTo>
                      <a:pt x="1690" y="6935"/>
                    </a:lnTo>
                    <a:lnTo>
                      <a:pt x="1714" y="6951"/>
                    </a:lnTo>
                    <a:lnTo>
                      <a:pt x="1740" y="6965"/>
                    </a:lnTo>
                    <a:lnTo>
                      <a:pt x="1767" y="6979"/>
                    </a:lnTo>
                    <a:lnTo>
                      <a:pt x="1795" y="6990"/>
                    </a:lnTo>
                    <a:lnTo>
                      <a:pt x="1823" y="7001"/>
                    </a:lnTo>
                    <a:lnTo>
                      <a:pt x="1852" y="7009"/>
                    </a:lnTo>
                    <a:lnTo>
                      <a:pt x="1884" y="7016"/>
                    </a:lnTo>
                    <a:lnTo>
                      <a:pt x="1915" y="7020"/>
                    </a:lnTo>
                    <a:lnTo>
                      <a:pt x="1948" y="7022"/>
                    </a:lnTo>
                    <a:lnTo>
                      <a:pt x="1980" y="7019"/>
                    </a:lnTo>
                    <a:lnTo>
                      <a:pt x="2015" y="7015"/>
                    </a:lnTo>
                    <a:lnTo>
                      <a:pt x="2050" y="7006"/>
                    </a:lnTo>
                    <a:lnTo>
                      <a:pt x="2086" y="6993"/>
                    </a:lnTo>
                    <a:lnTo>
                      <a:pt x="2123" y="6977"/>
                    </a:lnTo>
                    <a:lnTo>
                      <a:pt x="2160" y="6955"/>
                    </a:lnTo>
                    <a:lnTo>
                      <a:pt x="2198" y="6929"/>
                    </a:lnTo>
                    <a:lnTo>
                      <a:pt x="2237" y="6898"/>
                    </a:lnTo>
                    <a:lnTo>
                      <a:pt x="2276" y="6862"/>
                    </a:lnTo>
                    <a:lnTo>
                      <a:pt x="2316" y="6819"/>
                    </a:lnTo>
                    <a:lnTo>
                      <a:pt x="2357" y="6772"/>
                    </a:lnTo>
                    <a:lnTo>
                      <a:pt x="2367" y="6755"/>
                    </a:lnTo>
                    <a:lnTo>
                      <a:pt x="2377" y="6735"/>
                    </a:lnTo>
                    <a:lnTo>
                      <a:pt x="2385" y="6710"/>
                    </a:lnTo>
                    <a:lnTo>
                      <a:pt x="2393" y="6682"/>
                    </a:lnTo>
                    <a:lnTo>
                      <a:pt x="2398" y="6651"/>
                    </a:lnTo>
                    <a:lnTo>
                      <a:pt x="2404" y="6616"/>
                    </a:lnTo>
                    <a:lnTo>
                      <a:pt x="2409" y="6579"/>
                    </a:lnTo>
                    <a:lnTo>
                      <a:pt x="2412" y="6540"/>
                    </a:lnTo>
                    <a:lnTo>
                      <a:pt x="2415" y="6499"/>
                    </a:lnTo>
                    <a:lnTo>
                      <a:pt x="2416" y="6457"/>
                    </a:lnTo>
                    <a:lnTo>
                      <a:pt x="2419" y="6412"/>
                    </a:lnTo>
                    <a:lnTo>
                      <a:pt x="2419" y="6367"/>
                    </a:lnTo>
                    <a:lnTo>
                      <a:pt x="2419" y="6273"/>
                    </a:lnTo>
                    <a:lnTo>
                      <a:pt x="2416" y="6179"/>
                    </a:lnTo>
                    <a:lnTo>
                      <a:pt x="2413" y="6086"/>
                    </a:lnTo>
                    <a:lnTo>
                      <a:pt x="2409" y="5999"/>
                    </a:lnTo>
                    <a:lnTo>
                      <a:pt x="2404" y="5918"/>
                    </a:lnTo>
                    <a:lnTo>
                      <a:pt x="2398" y="5846"/>
                    </a:lnTo>
                    <a:lnTo>
                      <a:pt x="2391" y="5740"/>
                    </a:lnTo>
                    <a:lnTo>
                      <a:pt x="2387" y="5699"/>
                    </a:lnTo>
                    <a:lnTo>
                      <a:pt x="2532" y="5194"/>
                    </a:lnTo>
                    <a:lnTo>
                      <a:pt x="2534" y="5182"/>
                    </a:lnTo>
                    <a:lnTo>
                      <a:pt x="2542" y="5150"/>
                    </a:lnTo>
                    <a:lnTo>
                      <a:pt x="2551" y="5104"/>
                    </a:lnTo>
                    <a:lnTo>
                      <a:pt x="2563" y="5048"/>
                    </a:lnTo>
                    <a:lnTo>
                      <a:pt x="2574" y="4988"/>
                    </a:lnTo>
                    <a:lnTo>
                      <a:pt x="2583" y="4930"/>
                    </a:lnTo>
                    <a:lnTo>
                      <a:pt x="2587" y="4903"/>
                    </a:lnTo>
                    <a:lnTo>
                      <a:pt x="2590" y="4878"/>
                    </a:lnTo>
                    <a:lnTo>
                      <a:pt x="2592" y="4857"/>
                    </a:lnTo>
                    <a:lnTo>
                      <a:pt x="2593" y="4837"/>
                    </a:lnTo>
                    <a:lnTo>
                      <a:pt x="2593" y="4796"/>
                    </a:lnTo>
                    <a:lnTo>
                      <a:pt x="2593" y="4740"/>
                    </a:lnTo>
                    <a:lnTo>
                      <a:pt x="2593" y="4675"/>
                    </a:lnTo>
                    <a:lnTo>
                      <a:pt x="2593" y="4609"/>
                    </a:lnTo>
                    <a:lnTo>
                      <a:pt x="2593" y="4547"/>
                    </a:lnTo>
                    <a:lnTo>
                      <a:pt x="2593" y="4496"/>
                    </a:lnTo>
                    <a:lnTo>
                      <a:pt x="2593" y="4460"/>
                    </a:lnTo>
                    <a:lnTo>
                      <a:pt x="2593" y="4448"/>
                    </a:lnTo>
                    <a:lnTo>
                      <a:pt x="2712" y="3261"/>
                    </a:lnTo>
                    <a:lnTo>
                      <a:pt x="2742" y="3171"/>
                    </a:lnTo>
                    <a:lnTo>
                      <a:pt x="2712" y="3081"/>
                    </a:lnTo>
                    <a:lnTo>
                      <a:pt x="3038" y="1799"/>
                    </a:lnTo>
                    <a:lnTo>
                      <a:pt x="3045" y="1798"/>
                    </a:lnTo>
                    <a:lnTo>
                      <a:pt x="3062" y="1797"/>
                    </a:lnTo>
                    <a:lnTo>
                      <a:pt x="3074" y="1796"/>
                    </a:lnTo>
                    <a:lnTo>
                      <a:pt x="3089" y="1792"/>
                    </a:lnTo>
                    <a:lnTo>
                      <a:pt x="3103" y="1789"/>
                    </a:lnTo>
                    <a:lnTo>
                      <a:pt x="3120" y="1785"/>
                    </a:lnTo>
                    <a:lnTo>
                      <a:pt x="3137" y="1778"/>
                    </a:lnTo>
                    <a:lnTo>
                      <a:pt x="3155" y="1771"/>
                    </a:lnTo>
                    <a:lnTo>
                      <a:pt x="3172" y="1761"/>
                    </a:lnTo>
                    <a:lnTo>
                      <a:pt x="3190" y="1750"/>
                    </a:lnTo>
                    <a:lnTo>
                      <a:pt x="3206" y="1736"/>
                    </a:lnTo>
                    <a:lnTo>
                      <a:pt x="3221" y="1722"/>
                    </a:lnTo>
                    <a:lnTo>
                      <a:pt x="3228" y="1713"/>
                    </a:lnTo>
                    <a:lnTo>
                      <a:pt x="3235" y="1704"/>
                    </a:lnTo>
                    <a:lnTo>
                      <a:pt x="3242" y="1693"/>
                    </a:lnTo>
                    <a:lnTo>
                      <a:pt x="3247" y="1683"/>
                    </a:lnTo>
                    <a:lnTo>
                      <a:pt x="3253" y="1671"/>
                    </a:lnTo>
                    <a:lnTo>
                      <a:pt x="3257" y="1655"/>
                    </a:lnTo>
                    <a:lnTo>
                      <a:pt x="3262" y="1638"/>
                    </a:lnTo>
                    <a:lnTo>
                      <a:pt x="3266" y="1619"/>
                    </a:lnTo>
                    <a:lnTo>
                      <a:pt x="3273" y="1574"/>
                    </a:lnTo>
                    <a:lnTo>
                      <a:pt x="3277" y="1524"/>
                    </a:lnTo>
                    <a:lnTo>
                      <a:pt x="3281" y="1467"/>
                    </a:lnTo>
                    <a:lnTo>
                      <a:pt x="3283" y="1407"/>
                    </a:lnTo>
                    <a:lnTo>
                      <a:pt x="3284" y="1345"/>
                    </a:lnTo>
                    <a:lnTo>
                      <a:pt x="3285" y="1280"/>
                    </a:lnTo>
                    <a:lnTo>
                      <a:pt x="3284" y="1153"/>
                    </a:lnTo>
                    <a:lnTo>
                      <a:pt x="3281" y="1037"/>
                    </a:lnTo>
                    <a:lnTo>
                      <a:pt x="3279" y="942"/>
                    </a:lnTo>
                    <a:lnTo>
                      <a:pt x="3277" y="878"/>
                    </a:lnTo>
                    <a:lnTo>
                      <a:pt x="3279" y="855"/>
                    </a:lnTo>
                    <a:lnTo>
                      <a:pt x="3281" y="835"/>
                    </a:lnTo>
                    <a:lnTo>
                      <a:pt x="3286" y="816"/>
                    </a:lnTo>
                    <a:lnTo>
                      <a:pt x="3292" y="797"/>
                    </a:lnTo>
                    <a:lnTo>
                      <a:pt x="3299" y="780"/>
                    </a:lnTo>
                    <a:lnTo>
                      <a:pt x="3308" y="763"/>
                    </a:lnTo>
                    <a:lnTo>
                      <a:pt x="3317" y="747"/>
                    </a:lnTo>
                    <a:lnTo>
                      <a:pt x="3326" y="731"/>
                    </a:lnTo>
                    <a:lnTo>
                      <a:pt x="3346" y="702"/>
                    </a:lnTo>
                    <a:lnTo>
                      <a:pt x="3366" y="672"/>
                    </a:lnTo>
                    <a:lnTo>
                      <a:pt x="3375" y="657"/>
                    </a:lnTo>
                    <a:lnTo>
                      <a:pt x="3383" y="642"/>
                    </a:lnTo>
                    <a:lnTo>
                      <a:pt x="3391" y="627"/>
                    </a:lnTo>
                    <a:lnTo>
                      <a:pt x="3398" y="611"/>
                    </a:lnTo>
                    <a:lnTo>
                      <a:pt x="3399" y="603"/>
                    </a:lnTo>
                    <a:lnTo>
                      <a:pt x="3399" y="596"/>
                    </a:lnTo>
                    <a:lnTo>
                      <a:pt x="3396" y="590"/>
                    </a:lnTo>
                    <a:lnTo>
                      <a:pt x="3391" y="584"/>
                    </a:lnTo>
                    <a:lnTo>
                      <a:pt x="3385" y="578"/>
                    </a:lnTo>
                    <a:lnTo>
                      <a:pt x="3378" y="573"/>
                    </a:lnTo>
                    <a:lnTo>
                      <a:pt x="3367" y="568"/>
                    </a:lnTo>
                    <a:lnTo>
                      <a:pt x="3356" y="564"/>
                    </a:lnTo>
                    <a:lnTo>
                      <a:pt x="3299" y="543"/>
                    </a:lnTo>
                    <a:lnTo>
                      <a:pt x="3226" y="518"/>
                    </a:lnTo>
                    <a:lnTo>
                      <a:pt x="3206" y="510"/>
                    </a:lnTo>
                    <a:lnTo>
                      <a:pt x="3185" y="501"/>
                    </a:lnTo>
                    <a:lnTo>
                      <a:pt x="3165" y="491"/>
                    </a:lnTo>
                    <a:lnTo>
                      <a:pt x="3145" y="479"/>
                    </a:lnTo>
                    <a:lnTo>
                      <a:pt x="3123" y="467"/>
                    </a:lnTo>
                    <a:lnTo>
                      <a:pt x="3103" y="453"/>
                    </a:lnTo>
                    <a:lnTo>
                      <a:pt x="3082" y="438"/>
                    </a:lnTo>
                    <a:lnTo>
                      <a:pt x="3062" y="422"/>
                    </a:lnTo>
                    <a:lnTo>
                      <a:pt x="3043" y="404"/>
                    </a:lnTo>
                    <a:lnTo>
                      <a:pt x="3022" y="384"/>
                    </a:lnTo>
                    <a:lnTo>
                      <a:pt x="3003" y="361"/>
                    </a:lnTo>
                    <a:lnTo>
                      <a:pt x="2985" y="338"/>
                    </a:lnTo>
                    <a:lnTo>
                      <a:pt x="2968" y="312"/>
                    </a:lnTo>
                    <a:lnTo>
                      <a:pt x="2951" y="285"/>
                    </a:lnTo>
                    <a:lnTo>
                      <a:pt x="2936" y="254"/>
                    </a:lnTo>
                    <a:lnTo>
                      <a:pt x="2922" y="222"/>
                    </a:lnTo>
                    <a:lnTo>
                      <a:pt x="2902" y="190"/>
                    </a:lnTo>
                    <a:lnTo>
                      <a:pt x="2871" y="161"/>
                    </a:lnTo>
                    <a:lnTo>
                      <a:pt x="2829" y="135"/>
                    </a:lnTo>
                    <a:lnTo>
                      <a:pt x="2778" y="111"/>
                    </a:lnTo>
                    <a:lnTo>
                      <a:pt x="2718" y="91"/>
                    </a:lnTo>
                    <a:lnTo>
                      <a:pt x="2650" y="73"/>
                    </a:lnTo>
                    <a:lnTo>
                      <a:pt x="2575" y="57"/>
                    </a:lnTo>
                    <a:lnTo>
                      <a:pt x="2493" y="44"/>
                    </a:lnTo>
                    <a:lnTo>
                      <a:pt x="2406" y="33"/>
                    </a:lnTo>
                    <a:lnTo>
                      <a:pt x="2314" y="22"/>
                    </a:lnTo>
                    <a:lnTo>
                      <a:pt x="2217" y="16"/>
                    </a:lnTo>
                    <a:lnTo>
                      <a:pt x="2119" y="9"/>
                    </a:lnTo>
                    <a:lnTo>
                      <a:pt x="2017" y="6"/>
                    </a:lnTo>
                    <a:lnTo>
                      <a:pt x="1914" y="2"/>
                    </a:lnTo>
                    <a:lnTo>
                      <a:pt x="1809" y="1"/>
                    </a:lnTo>
                    <a:lnTo>
                      <a:pt x="1705" y="0"/>
                    </a:lnTo>
                    <a:lnTo>
                      <a:pt x="1603" y="1"/>
                    </a:lnTo>
                    <a:lnTo>
                      <a:pt x="1500" y="2"/>
                    </a:lnTo>
                    <a:lnTo>
                      <a:pt x="1401" y="4"/>
                    </a:lnTo>
                    <a:lnTo>
                      <a:pt x="1305" y="8"/>
                    </a:lnTo>
                    <a:lnTo>
                      <a:pt x="1125" y="15"/>
                    </a:lnTo>
                    <a:lnTo>
                      <a:pt x="969" y="24"/>
                    </a:lnTo>
                    <a:lnTo>
                      <a:pt x="839" y="31"/>
                    </a:lnTo>
                    <a:lnTo>
                      <a:pt x="746" y="38"/>
                    </a:lnTo>
                    <a:lnTo>
                      <a:pt x="715" y="42"/>
                    </a:lnTo>
                    <a:lnTo>
                      <a:pt x="694" y="44"/>
                    </a:lnTo>
                    <a:lnTo>
                      <a:pt x="686" y="45"/>
                    </a:lnTo>
                    <a:lnTo>
                      <a:pt x="691" y="46"/>
                    </a:lnTo>
                    <a:lnTo>
                      <a:pt x="701" y="46"/>
                    </a:lnTo>
                    <a:lnTo>
                      <a:pt x="710" y="47"/>
                    </a:lnTo>
                    <a:lnTo>
                      <a:pt x="716" y="48"/>
                    </a:lnTo>
                    <a:lnTo>
                      <a:pt x="720" y="51"/>
                    </a:lnTo>
                    <a:lnTo>
                      <a:pt x="724" y="53"/>
                    </a:lnTo>
                    <a:lnTo>
                      <a:pt x="725" y="56"/>
                    </a:lnTo>
                    <a:lnTo>
                      <a:pt x="725" y="60"/>
                    </a:lnTo>
                    <a:lnTo>
                      <a:pt x="722" y="64"/>
                    </a:lnTo>
                    <a:lnTo>
                      <a:pt x="717" y="72"/>
                    </a:lnTo>
                    <a:lnTo>
                      <a:pt x="706" y="82"/>
                    </a:lnTo>
                    <a:lnTo>
                      <a:pt x="692" y="92"/>
                    </a:lnTo>
                    <a:lnTo>
                      <a:pt x="676" y="103"/>
                    </a:lnTo>
                    <a:lnTo>
                      <a:pt x="640" y="125"/>
                    </a:lnTo>
                    <a:lnTo>
                      <a:pt x="607" y="143"/>
                    </a:lnTo>
                    <a:lnTo>
                      <a:pt x="581" y="156"/>
                    </a:lnTo>
                    <a:lnTo>
                      <a:pt x="572" y="161"/>
                    </a:lnTo>
                    <a:close/>
                  </a:path>
                </a:pathLst>
              </a:custGeom>
              <a:solidFill>
                <a:srgbClr val="cf030a"/>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4" name=""/>
              <p:cNvSpPr/>
              <p:nvPr/>
            </p:nvSpPr>
            <p:spPr>
              <a:xfrm>
                <a:off x="892440" y="3543120"/>
                <a:ext cx="684360" cy="1293480"/>
              </a:xfrm>
              <a:custGeom>
                <a:avLst/>
                <a:gdLst/>
                <a:ahLst/>
                <a:rect l="l" t="t" r="r" b="b"/>
                <a:pathLst>
                  <a:path w="3399" h="7035">
                    <a:moveTo>
                      <a:pt x="572" y="161"/>
                    </a:moveTo>
                    <a:lnTo>
                      <a:pt x="561" y="174"/>
                    </a:lnTo>
                    <a:lnTo>
                      <a:pt x="531" y="209"/>
                    </a:lnTo>
                    <a:lnTo>
                      <a:pt x="487" y="261"/>
                    </a:lnTo>
                    <a:lnTo>
                      <a:pt x="431" y="323"/>
                    </a:lnTo>
                    <a:lnTo>
                      <a:pt x="400" y="356"/>
                    </a:lnTo>
                    <a:lnTo>
                      <a:pt x="366" y="388"/>
                    </a:lnTo>
                    <a:lnTo>
                      <a:pt x="332" y="421"/>
                    </a:lnTo>
                    <a:lnTo>
                      <a:pt x="296" y="452"/>
                    </a:lnTo>
                    <a:lnTo>
                      <a:pt x="260" y="482"/>
                    </a:lnTo>
                    <a:lnTo>
                      <a:pt x="226" y="509"/>
                    </a:lnTo>
                    <a:lnTo>
                      <a:pt x="208" y="521"/>
                    </a:lnTo>
                    <a:lnTo>
                      <a:pt x="190" y="532"/>
                    </a:lnTo>
                    <a:lnTo>
                      <a:pt x="173" y="542"/>
                    </a:lnTo>
                    <a:lnTo>
                      <a:pt x="156" y="551"/>
                    </a:lnTo>
                    <a:lnTo>
                      <a:pt x="139" y="558"/>
                    </a:lnTo>
                    <a:lnTo>
                      <a:pt x="124" y="563"/>
                    </a:lnTo>
                    <a:lnTo>
                      <a:pt x="110" y="565"/>
                    </a:lnTo>
                    <a:lnTo>
                      <a:pt x="96" y="565"/>
                    </a:lnTo>
                    <a:lnTo>
                      <a:pt x="84" y="564"/>
                    </a:lnTo>
                    <a:lnTo>
                      <a:pt x="73" y="561"/>
                    </a:lnTo>
                    <a:lnTo>
                      <a:pt x="63" y="557"/>
                    </a:lnTo>
                    <a:lnTo>
                      <a:pt x="52" y="552"/>
                    </a:lnTo>
                    <a:lnTo>
                      <a:pt x="45" y="547"/>
                    </a:lnTo>
                    <a:lnTo>
                      <a:pt x="37" y="540"/>
                    </a:lnTo>
                    <a:lnTo>
                      <a:pt x="29" y="534"/>
                    </a:lnTo>
                    <a:lnTo>
                      <a:pt x="23" y="528"/>
                    </a:lnTo>
                    <a:lnTo>
                      <a:pt x="13" y="514"/>
                    </a:lnTo>
                    <a:lnTo>
                      <a:pt x="6" y="504"/>
                    </a:lnTo>
                    <a:lnTo>
                      <a:pt x="2" y="498"/>
                    </a:lnTo>
                    <a:lnTo>
                      <a:pt x="0" y="498"/>
                    </a:lnTo>
                    <a:lnTo>
                      <a:pt x="1" y="506"/>
                    </a:lnTo>
                    <a:lnTo>
                      <a:pt x="4" y="523"/>
                    </a:lnTo>
                    <a:lnTo>
                      <a:pt x="16" y="595"/>
                    </a:lnTo>
                    <a:lnTo>
                      <a:pt x="36" y="727"/>
                    </a:lnTo>
                    <a:lnTo>
                      <a:pt x="41" y="762"/>
                    </a:lnTo>
                    <a:lnTo>
                      <a:pt x="47" y="794"/>
                    </a:lnTo>
                    <a:lnTo>
                      <a:pt x="52" y="826"/>
                    </a:lnTo>
                    <a:lnTo>
                      <a:pt x="58" y="856"/>
                    </a:lnTo>
                    <a:lnTo>
                      <a:pt x="72" y="913"/>
                    </a:lnTo>
                    <a:lnTo>
                      <a:pt x="86" y="964"/>
                    </a:lnTo>
                    <a:lnTo>
                      <a:pt x="101" y="1012"/>
                    </a:lnTo>
                    <a:lnTo>
                      <a:pt x="115" y="1057"/>
                    </a:lnTo>
                    <a:lnTo>
                      <a:pt x="130" y="1097"/>
                    </a:lnTo>
                    <a:lnTo>
                      <a:pt x="145" y="1136"/>
                    </a:lnTo>
                    <a:lnTo>
                      <a:pt x="159" y="1174"/>
                    </a:lnTo>
                    <a:lnTo>
                      <a:pt x="173" y="1211"/>
                    </a:lnTo>
                    <a:lnTo>
                      <a:pt x="184" y="1247"/>
                    </a:lnTo>
                    <a:lnTo>
                      <a:pt x="195" y="1283"/>
                    </a:lnTo>
                    <a:lnTo>
                      <a:pt x="203" y="1320"/>
                    </a:lnTo>
                    <a:lnTo>
                      <a:pt x="210" y="1359"/>
                    </a:lnTo>
                    <a:lnTo>
                      <a:pt x="212" y="1378"/>
                    </a:lnTo>
                    <a:lnTo>
                      <a:pt x="214" y="1400"/>
                    </a:lnTo>
                    <a:lnTo>
                      <a:pt x="215" y="1421"/>
                    </a:lnTo>
                    <a:lnTo>
                      <a:pt x="215" y="1443"/>
                    </a:lnTo>
                    <a:lnTo>
                      <a:pt x="217" y="1521"/>
                    </a:lnTo>
                    <a:lnTo>
                      <a:pt x="218" y="1580"/>
                    </a:lnTo>
                    <a:lnTo>
                      <a:pt x="220" y="1605"/>
                    </a:lnTo>
                    <a:lnTo>
                      <a:pt x="223" y="1626"/>
                    </a:lnTo>
                    <a:lnTo>
                      <a:pt x="228" y="1645"/>
                    </a:lnTo>
                    <a:lnTo>
                      <a:pt x="235" y="1664"/>
                    </a:lnTo>
                    <a:lnTo>
                      <a:pt x="241" y="1682"/>
                    </a:lnTo>
                    <a:lnTo>
                      <a:pt x="251" y="1700"/>
                    </a:lnTo>
                    <a:lnTo>
                      <a:pt x="263" y="1719"/>
                    </a:lnTo>
                    <a:lnTo>
                      <a:pt x="277" y="1741"/>
                    </a:lnTo>
                    <a:lnTo>
                      <a:pt x="313" y="1791"/>
                    </a:lnTo>
                    <a:lnTo>
                      <a:pt x="362" y="1859"/>
                    </a:lnTo>
                    <a:lnTo>
                      <a:pt x="375" y="1883"/>
                    </a:lnTo>
                    <a:lnTo>
                      <a:pt x="389" y="1912"/>
                    </a:lnTo>
                    <a:lnTo>
                      <a:pt x="403" y="1948"/>
                    </a:lnTo>
                    <a:lnTo>
                      <a:pt x="416" y="1989"/>
                    </a:lnTo>
                    <a:lnTo>
                      <a:pt x="429" y="2037"/>
                    </a:lnTo>
                    <a:lnTo>
                      <a:pt x="441" y="2088"/>
                    </a:lnTo>
                    <a:lnTo>
                      <a:pt x="455" y="2144"/>
                    </a:lnTo>
                    <a:lnTo>
                      <a:pt x="467" y="2203"/>
                    </a:lnTo>
                    <a:lnTo>
                      <a:pt x="478" y="2266"/>
                    </a:lnTo>
                    <a:lnTo>
                      <a:pt x="491" y="2331"/>
                    </a:lnTo>
                    <a:lnTo>
                      <a:pt x="502" y="2400"/>
                    </a:lnTo>
                    <a:lnTo>
                      <a:pt x="512" y="2469"/>
                    </a:lnTo>
                    <a:lnTo>
                      <a:pt x="534" y="2612"/>
                    </a:lnTo>
                    <a:lnTo>
                      <a:pt x="553" y="2757"/>
                    </a:lnTo>
                    <a:lnTo>
                      <a:pt x="570" y="2899"/>
                    </a:lnTo>
                    <a:lnTo>
                      <a:pt x="585" y="3034"/>
                    </a:lnTo>
                    <a:lnTo>
                      <a:pt x="599" y="3159"/>
                    </a:lnTo>
                    <a:lnTo>
                      <a:pt x="610" y="3270"/>
                    </a:lnTo>
                    <a:lnTo>
                      <a:pt x="626" y="3434"/>
                    </a:lnTo>
                    <a:lnTo>
                      <a:pt x="631" y="3496"/>
                    </a:lnTo>
                    <a:lnTo>
                      <a:pt x="661" y="3736"/>
                    </a:lnTo>
                    <a:lnTo>
                      <a:pt x="572" y="3826"/>
                    </a:lnTo>
                    <a:lnTo>
                      <a:pt x="631" y="4032"/>
                    </a:lnTo>
                    <a:lnTo>
                      <a:pt x="631" y="4112"/>
                    </a:lnTo>
                    <a:lnTo>
                      <a:pt x="631" y="4324"/>
                    </a:lnTo>
                    <a:lnTo>
                      <a:pt x="632" y="4627"/>
                    </a:lnTo>
                    <a:lnTo>
                      <a:pt x="635" y="4981"/>
                    </a:lnTo>
                    <a:lnTo>
                      <a:pt x="638" y="5345"/>
                    </a:lnTo>
                    <a:lnTo>
                      <a:pt x="644" y="5678"/>
                    </a:lnTo>
                    <a:lnTo>
                      <a:pt x="647" y="5820"/>
                    </a:lnTo>
                    <a:lnTo>
                      <a:pt x="652" y="5938"/>
                    </a:lnTo>
                    <a:lnTo>
                      <a:pt x="654" y="5987"/>
                    </a:lnTo>
                    <a:lnTo>
                      <a:pt x="656" y="6028"/>
                    </a:lnTo>
                    <a:lnTo>
                      <a:pt x="658" y="6062"/>
                    </a:lnTo>
                    <a:lnTo>
                      <a:pt x="661" y="6085"/>
                    </a:lnTo>
                    <a:lnTo>
                      <a:pt x="672" y="6164"/>
                    </a:lnTo>
                    <a:lnTo>
                      <a:pt x="683" y="6243"/>
                    </a:lnTo>
                    <a:lnTo>
                      <a:pt x="692" y="6319"/>
                    </a:lnTo>
                    <a:lnTo>
                      <a:pt x="699" y="6396"/>
                    </a:lnTo>
                    <a:lnTo>
                      <a:pt x="701" y="6434"/>
                    </a:lnTo>
                    <a:lnTo>
                      <a:pt x="702" y="6471"/>
                    </a:lnTo>
                    <a:lnTo>
                      <a:pt x="703" y="6507"/>
                    </a:lnTo>
                    <a:lnTo>
                      <a:pt x="703" y="6543"/>
                    </a:lnTo>
                    <a:lnTo>
                      <a:pt x="702" y="6579"/>
                    </a:lnTo>
                    <a:lnTo>
                      <a:pt x="700" y="6614"/>
                    </a:lnTo>
                    <a:lnTo>
                      <a:pt x="697" y="6648"/>
                    </a:lnTo>
                    <a:lnTo>
                      <a:pt x="691" y="6682"/>
                    </a:lnTo>
                    <a:lnTo>
                      <a:pt x="690" y="6699"/>
                    </a:lnTo>
                    <a:lnTo>
                      <a:pt x="691" y="6717"/>
                    </a:lnTo>
                    <a:lnTo>
                      <a:pt x="695" y="6736"/>
                    </a:lnTo>
                    <a:lnTo>
                      <a:pt x="702" y="6755"/>
                    </a:lnTo>
                    <a:lnTo>
                      <a:pt x="711" y="6775"/>
                    </a:lnTo>
                    <a:lnTo>
                      <a:pt x="724" y="6795"/>
                    </a:lnTo>
                    <a:lnTo>
                      <a:pt x="737" y="6816"/>
                    </a:lnTo>
                    <a:lnTo>
                      <a:pt x="753" y="6836"/>
                    </a:lnTo>
                    <a:lnTo>
                      <a:pt x="771" y="6856"/>
                    </a:lnTo>
                    <a:lnTo>
                      <a:pt x="790" y="6876"/>
                    </a:lnTo>
                    <a:lnTo>
                      <a:pt x="811" y="6895"/>
                    </a:lnTo>
                    <a:lnTo>
                      <a:pt x="835" y="6915"/>
                    </a:lnTo>
                    <a:lnTo>
                      <a:pt x="858" y="6933"/>
                    </a:lnTo>
                    <a:lnTo>
                      <a:pt x="884" y="6950"/>
                    </a:lnTo>
                    <a:lnTo>
                      <a:pt x="911" y="6965"/>
                    </a:lnTo>
                    <a:lnTo>
                      <a:pt x="939" y="6980"/>
                    </a:lnTo>
                    <a:lnTo>
                      <a:pt x="969" y="6993"/>
                    </a:lnTo>
                    <a:lnTo>
                      <a:pt x="998" y="7005"/>
                    </a:lnTo>
                    <a:lnTo>
                      <a:pt x="1028" y="7015"/>
                    </a:lnTo>
                    <a:lnTo>
                      <a:pt x="1060" y="7023"/>
                    </a:lnTo>
                    <a:lnTo>
                      <a:pt x="1091" y="7029"/>
                    </a:lnTo>
                    <a:lnTo>
                      <a:pt x="1123" y="7033"/>
                    </a:lnTo>
                    <a:lnTo>
                      <a:pt x="1155" y="7035"/>
                    </a:lnTo>
                    <a:lnTo>
                      <a:pt x="1188" y="7034"/>
                    </a:lnTo>
                    <a:lnTo>
                      <a:pt x="1219" y="7031"/>
                    </a:lnTo>
                    <a:lnTo>
                      <a:pt x="1251" y="7024"/>
                    </a:lnTo>
                    <a:lnTo>
                      <a:pt x="1283" y="7015"/>
                    </a:lnTo>
                    <a:lnTo>
                      <a:pt x="1314" y="7004"/>
                    </a:lnTo>
                    <a:lnTo>
                      <a:pt x="1345" y="6988"/>
                    </a:lnTo>
                    <a:lnTo>
                      <a:pt x="1374" y="6970"/>
                    </a:lnTo>
                    <a:lnTo>
                      <a:pt x="1404" y="6947"/>
                    </a:lnTo>
                    <a:lnTo>
                      <a:pt x="1432" y="6921"/>
                    </a:lnTo>
                    <a:lnTo>
                      <a:pt x="1459" y="6894"/>
                    </a:lnTo>
                    <a:lnTo>
                      <a:pt x="1481" y="6871"/>
                    </a:lnTo>
                    <a:lnTo>
                      <a:pt x="1500" y="6849"/>
                    </a:lnTo>
                    <a:lnTo>
                      <a:pt x="1517" y="6830"/>
                    </a:lnTo>
                    <a:lnTo>
                      <a:pt x="1531" y="6813"/>
                    </a:lnTo>
                    <a:lnTo>
                      <a:pt x="1542" y="6799"/>
                    </a:lnTo>
                    <a:lnTo>
                      <a:pt x="1550" y="6786"/>
                    </a:lnTo>
                    <a:lnTo>
                      <a:pt x="1555" y="6776"/>
                    </a:lnTo>
                    <a:lnTo>
                      <a:pt x="1560" y="6767"/>
                    </a:lnTo>
                    <a:lnTo>
                      <a:pt x="1561" y="6760"/>
                    </a:lnTo>
                    <a:lnTo>
                      <a:pt x="1561" y="6755"/>
                    </a:lnTo>
                    <a:lnTo>
                      <a:pt x="1560" y="6751"/>
                    </a:lnTo>
                    <a:lnTo>
                      <a:pt x="1558" y="6749"/>
                    </a:lnTo>
                    <a:lnTo>
                      <a:pt x="1553" y="6748"/>
                    </a:lnTo>
                    <a:lnTo>
                      <a:pt x="1548" y="6748"/>
                    </a:lnTo>
                    <a:lnTo>
                      <a:pt x="1542" y="6749"/>
                    </a:lnTo>
                    <a:lnTo>
                      <a:pt x="1528" y="6753"/>
                    </a:lnTo>
                    <a:lnTo>
                      <a:pt x="1514" y="6760"/>
                    </a:lnTo>
                    <a:lnTo>
                      <a:pt x="1500" y="6768"/>
                    </a:lnTo>
                    <a:lnTo>
                      <a:pt x="1489" y="6777"/>
                    </a:lnTo>
                    <a:lnTo>
                      <a:pt x="1483" y="6782"/>
                    </a:lnTo>
                    <a:lnTo>
                      <a:pt x="1480" y="6786"/>
                    </a:lnTo>
                    <a:lnTo>
                      <a:pt x="1478" y="6791"/>
                    </a:lnTo>
                    <a:lnTo>
                      <a:pt x="1477" y="6794"/>
                    </a:lnTo>
                    <a:lnTo>
                      <a:pt x="1478" y="6796"/>
                    </a:lnTo>
                    <a:lnTo>
                      <a:pt x="1480" y="6799"/>
                    </a:lnTo>
                    <a:lnTo>
                      <a:pt x="1485" y="6801"/>
                    </a:lnTo>
                    <a:lnTo>
                      <a:pt x="1492" y="6801"/>
                    </a:lnTo>
                    <a:lnTo>
                      <a:pt x="1501" y="6802"/>
                    </a:lnTo>
                    <a:lnTo>
                      <a:pt x="1512" y="6807"/>
                    </a:lnTo>
                    <a:lnTo>
                      <a:pt x="1524" y="6813"/>
                    </a:lnTo>
                    <a:lnTo>
                      <a:pt x="1537" y="6822"/>
                    </a:lnTo>
                    <a:lnTo>
                      <a:pt x="1568" y="6845"/>
                    </a:lnTo>
                    <a:lnTo>
                      <a:pt x="1604" y="6873"/>
                    </a:lnTo>
                    <a:lnTo>
                      <a:pt x="1644" y="6903"/>
                    </a:lnTo>
                    <a:lnTo>
                      <a:pt x="1690" y="6935"/>
                    </a:lnTo>
                    <a:lnTo>
                      <a:pt x="1714" y="6951"/>
                    </a:lnTo>
                    <a:lnTo>
                      <a:pt x="1740" y="6965"/>
                    </a:lnTo>
                    <a:lnTo>
                      <a:pt x="1767" y="6979"/>
                    </a:lnTo>
                    <a:lnTo>
                      <a:pt x="1795" y="6990"/>
                    </a:lnTo>
                    <a:lnTo>
                      <a:pt x="1823" y="7001"/>
                    </a:lnTo>
                    <a:lnTo>
                      <a:pt x="1852" y="7009"/>
                    </a:lnTo>
                    <a:lnTo>
                      <a:pt x="1884" y="7016"/>
                    </a:lnTo>
                    <a:lnTo>
                      <a:pt x="1915" y="7020"/>
                    </a:lnTo>
                    <a:lnTo>
                      <a:pt x="1948" y="7022"/>
                    </a:lnTo>
                    <a:lnTo>
                      <a:pt x="1980" y="7019"/>
                    </a:lnTo>
                    <a:lnTo>
                      <a:pt x="2015" y="7015"/>
                    </a:lnTo>
                    <a:lnTo>
                      <a:pt x="2050" y="7006"/>
                    </a:lnTo>
                    <a:lnTo>
                      <a:pt x="2086" y="6993"/>
                    </a:lnTo>
                    <a:lnTo>
                      <a:pt x="2123" y="6977"/>
                    </a:lnTo>
                    <a:lnTo>
                      <a:pt x="2160" y="6955"/>
                    </a:lnTo>
                    <a:lnTo>
                      <a:pt x="2198" y="6929"/>
                    </a:lnTo>
                    <a:lnTo>
                      <a:pt x="2237" y="6898"/>
                    </a:lnTo>
                    <a:lnTo>
                      <a:pt x="2276" y="6862"/>
                    </a:lnTo>
                    <a:lnTo>
                      <a:pt x="2316" y="6819"/>
                    </a:lnTo>
                    <a:lnTo>
                      <a:pt x="2357" y="6772"/>
                    </a:lnTo>
                    <a:lnTo>
                      <a:pt x="2367" y="6755"/>
                    </a:lnTo>
                    <a:lnTo>
                      <a:pt x="2377" y="6735"/>
                    </a:lnTo>
                    <a:lnTo>
                      <a:pt x="2385" y="6710"/>
                    </a:lnTo>
                    <a:lnTo>
                      <a:pt x="2393" y="6682"/>
                    </a:lnTo>
                    <a:lnTo>
                      <a:pt x="2398" y="6651"/>
                    </a:lnTo>
                    <a:lnTo>
                      <a:pt x="2404" y="6616"/>
                    </a:lnTo>
                    <a:lnTo>
                      <a:pt x="2409" y="6579"/>
                    </a:lnTo>
                    <a:lnTo>
                      <a:pt x="2412" y="6540"/>
                    </a:lnTo>
                    <a:lnTo>
                      <a:pt x="2415" y="6499"/>
                    </a:lnTo>
                    <a:lnTo>
                      <a:pt x="2416" y="6457"/>
                    </a:lnTo>
                    <a:lnTo>
                      <a:pt x="2419" y="6412"/>
                    </a:lnTo>
                    <a:lnTo>
                      <a:pt x="2419" y="6367"/>
                    </a:lnTo>
                    <a:lnTo>
                      <a:pt x="2419" y="6273"/>
                    </a:lnTo>
                    <a:lnTo>
                      <a:pt x="2416" y="6179"/>
                    </a:lnTo>
                    <a:lnTo>
                      <a:pt x="2413" y="6086"/>
                    </a:lnTo>
                    <a:lnTo>
                      <a:pt x="2409" y="5999"/>
                    </a:lnTo>
                    <a:lnTo>
                      <a:pt x="2404" y="5918"/>
                    </a:lnTo>
                    <a:lnTo>
                      <a:pt x="2398" y="5846"/>
                    </a:lnTo>
                    <a:lnTo>
                      <a:pt x="2391" y="5740"/>
                    </a:lnTo>
                    <a:lnTo>
                      <a:pt x="2387" y="5699"/>
                    </a:lnTo>
                    <a:lnTo>
                      <a:pt x="2532" y="5194"/>
                    </a:lnTo>
                    <a:lnTo>
                      <a:pt x="2534" y="5182"/>
                    </a:lnTo>
                    <a:lnTo>
                      <a:pt x="2542" y="5150"/>
                    </a:lnTo>
                    <a:lnTo>
                      <a:pt x="2551" y="5104"/>
                    </a:lnTo>
                    <a:lnTo>
                      <a:pt x="2563" y="5048"/>
                    </a:lnTo>
                    <a:lnTo>
                      <a:pt x="2574" y="4988"/>
                    </a:lnTo>
                    <a:lnTo>
                      <a:pt x="2583" y="4930"/>
                    </a:lnTo>
                    <a:lnTo>
                      <a:pt x="2587" y="4903"/>
                    </a:lnTo>
                    <a:lnTo>
                      <a:pt x="2590" y="4878"/>
                    </a:lnTo>
                    <a:lnTo>
                      <a:pt x="2592" y="4857"/>
                    </a:lnTo>
                    <a:lnTo>
                      <a:pt x="2593" y="4837"/>
                    </a:lnTo>
                    <a:lnTo>
                      <a:pt x="2593" y="4796"/>
                    </a:lnTo>
                    <a:lnTo>
                      <a:pt x="2593" y="4740"/>
                    </a:lnTo>
                    <a:lnTo>
                      <a:pt x="2593" y="4675"/>
                    </a:lnTo>
                    <a:lnTo>
                      <a:pt x="2593" y="4609"/>
                    </a:lnTo>
                    <a:lnTo>
                      <a:pt x="2593" y="4547"/>
                    </a:lnTo>
                    <a:lnTo>
                      <a:pt x="2593" y="4496"/>
                    </a:lnTo>
                    <a:lnTo>
                      <a:pt x="2593" y="4460"/>
                    </a:lnTo>
                    <a:lnTo>
                      <a:pt x="2593" y="4448"/>
                    </a:lnTo>
                    <a:lnTo>
                      <a:pt x="2712" y="3261"/>
                    </a:lnTo>
                    <a:lnTo>
                      <a:pt x="2742" y="3171"/>
                    </a:lnTo>
                    <a:lnTo>
                      <a:pt x="2712" y="3081"/>
                    </a:lnTo>
                    <a:lnTo>
                      <a:pt x="3038" y="1799"/>
                    </a:lnTo>
                    <a:lnTo>
                      <a:pt x="3045" y="1798"/>
                    </a:lnTo>
                    <a:lnTo>
                      <a:pt x="3062" y="1797"/>
                    </a:lnTo>
                    <a:lnTo>
                      <a:pt x="3074" y="1796"/>
                    </a:lnTo>
                    <a:lnTo>
                      <a:pt x="3089" y="1792"/>
                    </a:lnTo>
                    <a:lnTo>
                      <a:pt x="3103" y="1789"/>
                    </a:lnTo>
                    <a:lnTo>
                      <a:pt x="3120" y="1785"/>
                    </a:lnTo>
                    <a:lnTo>
                      <a:pt x="3137" y="1778"/>
                    </a:lnTo>
                    <a:lnTo>
                      <a:pt x="3155" y="1771"/>
                    </a:lnTo>
                    <a:lnTo>
                      <a:pt x="3172" y="1761"/>
                    </a:lnTo>
                    <a:lnTo>
                      <a:pt x="3190" y="1750"/>
                    </a:lnTo>
                    <a:lnTo>
                      <a:pt x="3206" y="1736"/>
                    </a:lnTo>
                    <a:lnTo>
                      <a:pt x="3221" y="1722"/>
                    </a:lnTo>
                    <a:lnTo>
                      <a:pt x="3228" y="1713"/>
                    </a:lnTo>
                    <a:lnTo>
                      <a:pt x="3235" y="1704"/>
                    </a:lnTo>
                    <a:lnTo>
                      <a:pt x="3242" y="1693"/>
                    </a:lnTo>
                    <a:lnTo>
                      <a:pt x="3247" y="1683"/>
                    </a:lnTo>
                    <a:lnTo>
                      <a:pt x="3253" y="1671"/>
                    </a:lnTo>
                    <a:lnTo>
                      <a:pt x="3257" y="1655"/>
                    </a:lnTo>
                    <a:lnTo>
                      <a:pt x="3262" y="1638"/>
                    </a:lnTo>
                    <a:lnTo>
                      <a:pt x="3266" y="1619"/>
                    </a:lnTo>
                    <a:lnTo>
                      <a:pt x="3273" y="1574"/>
                    </a:lnTo>
                    <a:lnTo>
                      <a:pt x="3277" y="1524"/>
                    </a:lnTo>
                    <a:lnTo>
                      <a:pt x="3281" y="1467"/>
                    </a:lnTo>
                    <a:lnTo>
                      <a:pt x="3283" y="1407"/>
                    </a:lnTo>
                    <a:lnTo>
                      <a:pt x="3284" y="1345"/>
                    </a:lnTo>
                    <a:lnTo>
                      <a:pt x="3285" y="1280"/>
                    </a:lnTo>
                    <a:lnTo>
                      <a:pt x="3284" y="1153"/>
                    </a:lnTo>
                    <a:lnTo>
                      <a:pt x="3281" y="1037"/>
                    </a:lnTo>
                    <a:lnTo>
                      <a:pt x="3279" y="942"/>
                    </a:lnTo>
                    <a:lnTo>
                      <a:pt x="3277" y="878"/>
                    </a:lnTo>
                    <a:lnTo>
                      <a:pt x="3279" y="855"/>
                    </a:lnTo>
                    <a:lnTo>
                      <a:pt x="3281" y="835"/>
                    </a:lnTo>
                    <a:lnTo>
                      <a:pt x="3286" y="816"/>
                    </a:lnTo>
                    <a:lnTo>
                      <a:pt x="3292" y="797"/>
                    </a:lnTo>
                    <a:lnTo>
                      <a:pt x="3299" y="780"/>
                    </a:lnTo>
                    <a:lnTo>
                      <a:pt x="3308" y="763"/>
                    </a:lnTo>
                    <a:lnTo>
                      <a:pt x="3317" y="747"/>
                    </a:lnTo>
                    <a:lnTo>
                      <a:pt x="3326" y="731"/>
                    </a:lnTo>
                    <a:lnTo>
                      <a:pt x="3346" y="702"/>
                    </a:lnTo>
                    <a:lnTo>
                      <a:pt x="3366" y="672"/>
                    </a:lnTo>
                    <a:lnTo>
                      <a:pt x="3375" y="657"/>
                    </a:lnTo>
                    <a:lnTo>
                      <a:pt x="3383" y="642"/>
                    </a:lnTo>
                    <a:lnTo>
                      <a:pt x="3391" y="627"/>
                    </a:lnTo>
                    <a:lnTo>
                      <a:pt x="3398" y="611"/>
                    </a:lnTo>
                    <a:lnTo>
                      <a:pt x="3399" y="603"/>
                    </a:lnTo>
                    <a:lnTo>
                      <a:pt x="3399" y="596"/>
                    </a:lnTo>
                    <a:lnTo>
                      <a:pt x="3396" y="590"/>
                    </a:lnTo>
                    <a:lnTo>
                      <a:pt x="3391" y="584"/>
                    </a:lnTo>
                    <a:lnTo>
                      <a:pt x="3385" y="578"/>
                    </a:lnTo>
                    <a:lnTo>
                      <a:pt x="3378" y="573"/>
                    </a:lnTo>
                    <a:lnTo>
                      <a:pt x="3367" y="568"/>
                    </a:lnTo>
                    <a:lnTo>
                      <a:pt x="3356" y="564"/>
                    </a:lnTo>
                    <a:lnTo>
                      <a:pt x="3299" y="543"/>
                    </a:lnTo>
                    <a:lnTo>
                      <a:pt x="3226" y="518"/>
                    </a:lnTo>
                    <a:lnTo>
                      <a:pt x="3206" y="510"/>
                    </a:lnTo>
                    <a:lnTo>
                      <a:pt x="3185" y="501"/>
                    </a:lnTo>
                    <a:lnTo>
                      <a:pt x="3165" y="491"/>
                    </a:lnTo>
                    <a:lnTo>
                      <a:pt x="3145" y="479"/>
                    </a:lnTo>
                    <a:lnTo>
                      <a:pt x="3123" y="467"/>
                    </a:lnTo>
                    <a:lnTo>
                      <a:pt x="3103" y="453"/>
                    </a:lnTo>
                    <a:lnTo>
                      <a:pt x="3082" y="438"/>
                    </a:lnTo>
                    <a:lnTo>
                      <a:pt x="3062" y="422"/>
                    </a:lnTo>
                    <a:lnTo>
                      <a:pt x="3043" y="404"/>
                    </a:lnTo>
                    <a:lnTo>
                      <a:pt x="3022" y="384"/>
                    </a:lnTo>
                    <a:lnTo>
                      <a:pt x="3003" y="361"/>
                    </a:lnTo>
                    <a:lnTo>
                      <a:pt x="2985" y="338"/>
                    </a:lnTo>
                    <a:lnTo>
                      <a:pt x="2968" y="312"/>
                    </a:lnTo>
                    <a:lnTo>
                      <a:pt x="2951" y="285"/>
                    </a:lnTo>
                    <a:lnTo>
                      <a:pt x="2936" y="254"/>
                    </a:lnTo>
                    <a:lnTo>
                      <a:pt x="2922" y="222"/>
                    </a:lnTo>
                    <a:lnTo>
                      <a:pt x="2902" y="190"/>
                    </a:lnTo>
                    <a:lnTo>
                      <a:pt x="2871" y="161"/>
                    </a:lnTo>
                    <a:lnTo>
                      <a:pt x="2829" y="135"/>
                    </a:lnTo>
                    <a:lnTo>
                      <a:pt x="2778" y="111"/>
                    </a:lnTo>
                    <a:lnTo>
                      <a:pt x="2718" y="91"/>
                    </a:lnTo>
                    <a:lnTo>
                      <a:pt x="2650" y="73"/>
                    </a:lnTo>
                    <a:lnTo>
                      <a:pt x="2575" y="57"/>
                    </a:lnTo>
                    <a:lnTo>
                      <a:pt x="2493" y="44"/>
                    </a:lnTo>
                    <a:lnTo>
                      <a:pt x="2406" y="33"/>
                    </a:lnTo>
                    <a:lnTo>
                      <a:pt x="2314" y="22"/>
                    </a:lnTo>
                    <a:lnTo>
                      <a:pt x="2217" y="16"/>
                    </a:lnTo>
                    <a:lnTo>
                      <a:pt x="2119" y="9"/>
                    </a:lnTo>
                    <a:lnTo>
                      <a:pt x="2017" y="6"/>
                    </a:lnTo>
                    <a:lnTo>
                      <a:pt x="1914" y="2"/>
                    </a:lnTo>
                    <a:lnTo>
                      <a:pt x="1809" y="1"/>
                    </a:lnTo>
                    <a:lnTo>
                      <a:pt x="1705" y="0"/>
                    </a:lnTo>
                    <a:lnTo>
                      <a:pt x="1603" y="1"/>
                    </a:lnTo>
                    <a:lnTo>
                      <a:pt x="1500" y="2"/>
                    </a:lnTo>
                    <a:lnTo>
                      <a:pt x="1401" y="4"/>
                    </a:lnTo>
                    <a:lnTo>
                      <a:pt x="1305" y="8"/>
                    </a:lnTo>
                    <a:lnTo>
                      <a:pt x="1125" y="15"/>
                    </a:lnTo>
                    <a:lnTo>
                      <a:pt x="969" y="24"/>
                    </a:lnTo>
                    <a:lnTo>
                      <a:pt x="839" y="31"/>
                    </a:lnTo>
                    <a:lnTo>
                      <a:pt x="746" y="38"/>
                    </a:lnTo>
                    <a:lnTo>
                      <a:pt x="715" y="42"/>
                    </a:lnTo>
                    <a:lnTo>
                      <a:pt x="694" y="44"/>
                    </a:lnTo>
                    <a:lnTo>
                      <a:pt x="686" y="45"/>
                    </a:lnTo>
                    <a:lnTo>
                      <a:pt x="691" y="46"/>
                    </a:lnTo>
                    <a:lnTo>
                      <a:pt x="701" y="46"/>
                    </a:lnTo>
                    <a:lnTo>
                      <a:pt x="710" y="47"/>
                    </a:lnTo>
                    <a:lnTo>
                      <a:pt x="716" y="48"/>
                    </a:lnTo>
                    <a:lnTo>
                      <a:pt x="720" y="51"/>
                    </a:lnTo>
                    <a:lnTo>
                      <a:pt x="724" y="53"/>
                    </a:lnTo>
                    <a:lnTo>
                      <a:pt x="725" y="56"/>
                    </a:lnTo>
                    <a:lnTo>
                      <a:pt x="725" y="60"/>
                    </a:lnTo>
                    <a:lnTo>
                      <a:pt x="722" y="64"/>
                    </a:lnTo>
                    <a:lnTo>
                      <a:pt x="717" y="72"/>
                    </a:lnTo>
                    <a:lnTo>
                      <a:pt x="706" y="82"/>
                    </a:lnTo>
                    <a:lnTo>
                      <a:pt x="692" y="92"/>
                    </a:lnTo>
                    <a:lnTo>
                      <a:pt x="676" y="103"/>
                    </a:lnTo>
                    <a:lnTo>
                      <a:pt x="640" y="125"/>
                    </a:lnTo>
                    <a:lnTo>
                      <a:pt x="607" y="143"/>
                    </a:lnTo>
                    <a:lnTo>
                      <a:pt x="581" y="156"/>
                    </a:lnTo>
                    <a:lnTo>
                      <a:pt x="572" y="16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5" name=""/>
              <p:cNvSpPr/>
              <p:nvPr/>
            </p:nvSpPr>
            <p:spPr>
              <a:xfrm>
                <a:off x="917280" y="2043360"/>
                <a:ext cx="127800" cy="139320"/>
              </a:xfrm>
              <a:custGeom>
                <a:avLst/>
                <a:gdLst/>
                <a:ahLst/>
                <a:rect l="l" t="t" r="r" b="b"/>
                <a:pathLst>
                  <a:path w="629" h="759">
                    <a:moveTo>
                      <a:pt x="316" y="759"/>
                    </a:moveTo>
                    <a:lnTo>
                      <a:pt x="333" y="758"/>
                    </a:lnTo>
                    <a:lnTo>
                      <a:pt x="349" y="757"/>
                    </a:lnTo>
                    <a:lnTo>
                      <a:pt x="363" y="754"/>
                    </a:lnTo>
                    <a:lnTo>
                      <a:pt x="379" y="751"/>
                    </a:lnTo>
                    <a:lnTo>
                      <a:pt x="394" y="746"/>
                    </a:lnTo>
                    <a:lnTo>
                      <a:pt x="409" y="742"/>
                    </a:lnTo>
                    <a:lnTo>
                      <a:pt x="423" y="735"/>
                    </a:lnTo>
                    <a:lnTo>
                      <a:pt x="437" y="728"/>
                    </a:lnTo>
                    <a:lnTo>
                      <a:pt x="451" y="721"/>
                    </a:lnTo>
                    <a:lnTo>
                      <a:pt x="464" y="713"/>
                    </a:lnTo>
                    <a:lnTo>
                      <a:pt x="478" y="704"/>
                    </a:lnTo>
                    <a:lnTo>
                      <a:pt x="490" y="694"/>
                    </a:lnTo>
                    <a:lnTo>
                      <a:pt x="503" y="682"/>
                    </a:lnTo>
                    <a:lnTo>
                      <a:pt x="515" y="671"/>
                    </a:lnTo>
                    <a:lnTo>
                      <a:pt x="526" y="660"/>
                    </a:lnTo>
                    <a:lnTo>
                      <a:pt x="537" y="646"/>
                    </a:lnTo>
                    <a:lnTo>
                      <a:pt x="548" y="634"/>
                    </a:lnTo>
                    <a:lnTo>
                      <a:pt x="558" y="619"/>
                    </a:lnTo>
                    <a:lnTo>
                      <a:pt x="567" y="605"/>
                    </a:lnTo>
                    <a:lnTo>
                      <a:pt x="576" y="590"/>
                    </a:lnTo>
                    <a:lnTo>
                      <a:pt x="584" y="574"/>
                    </a:lnTo>
                    <a:lnTo>
                      <a:pt x="591" y="559"/>
                    </a:lnTo>
                    <a:lnTo>
                      <a:pt x="598" y="543"/>
                    </a:lnTo>
                    <a:lnTo>
                      <a:pt x="604" y="526"/>
                    </a:lnTo>
                    <a:lnTo>
                      <a:pt x="609" y="508"/>
                    </a:lnTo>
                    <a:lnTo>
                      <a:pt x="615" y="491"/>
                    </a:lnTo>
                    <a:lnTo>
                      <a:pt x="620" y="472"/>
                    </a:lnTo>
                    <a:lnTo>
                      <a:pt x="623" y="454"/>
                    </a:lnTo>
                    <a:lnTo>
                      <a:pt x="625" y="435"/>
                    </a:lnTo>
                    <a:lnTo>
                      <a:pt x="627" y="416"/>
                    </a:lnTo>
                    <a:lnTo>
                      <a:pt x="629" y="396"/>
                    </a:lnTo>
                    <a:lnTo>
                      <a:pt x="629" y="377"/>
                    </a:lnTo>
                    <a:lnTo>
                      <a:pt x="629" y="358"/>
                    </a:lnTo>
                    <a:lnTo>
                      <a:pt x="627" y="338"/>
                    </a:lnTo>
                    <a:lnTo>
                      <a:pt x="625" y="319"/>
                    </a:lnTo>
                    <a:lnTo>
                      <a:pt x="623" y="301"/>
                    </a:lnTo>
                    <a:lnTo>
                      <a:pt x="620" y="283"/>
                    </a:lnTo>
                    <a:lnTo>
                      <a:pt x="615" y="265"/>
                    </a:lnTo>
                    <a:lnTo>
                      <a:pt x="609" y="247"/>
                    </a:lnTo>
                    <a:lnTo>
                      <a:pt x="604" y="230"/>
                    </a:lnTo>
                    <a:lnTo>
                      <a:pt x="598" y="213"/>
                    </a:lnTo>
                    <a:lnTo>
                      <a:pt x="591" y="196"/>
                    </a:lnTo>
                    <a:lnTo>
                      <a:pt x="584" y="180"/>
                    </a:lnTo>
                    <a:lnTo>
                      <a:pt x="576" y="166"/>
                    </a:lnTo>
                    <a:lnTo>
                      <a:pt x="567" y="151"/>
                    </a:lnTo>
                    <a:lnTo>
                      <a:pt x="558" y="137"/>
                    </a:lnTo>
                    <a:lnTo>
                      <a:pt x="548" y="123"/>
                    </a:lnTo>
                    <a:lnTo>
                      <a:pt x="537" y="110"/>
                    </a:lnTo>
                    <a:lnTo>
                      <a:pt x="526" y="97"/>
                    </a:lnTo>
                    <a:lnTo>
                      <a:pt x="515" y="86"/>
                    </a:lnTo>
                    <a:lnTo>
                      <a:pt x="503" y="75"/>
                    </a:lnTo>
                    <a:lnTo>
                      <a:pt x="490" y="65"/>
                    </a:lnTo>
                    <a:lnTo>
                      <a:pt x="478" y="54"/>
                    </a:lnTo>
                    <a:lnTo>
                      <a:pt x="464" y="45"/>
                    </a:lnTo>
                    <a:lnTo>
                      <a:pt x="451" y="36"/>
                    </a:lnTo>
                    <a:lnTo>
                      <a:pt x="437" y="30"/>
                    </a:lnTo>
                    <a:lnTo>
                      <a:pt x="423" y="23"/>
                    </a:lnTo>
                    <a:lnTo>
                      <a:pt x="409" y="17"/>
                    </a:lnTo>
                    <a:lnTo>
                      <a:pt x="394" y="12"/>
                    </a:lnTo>
                    <a:lnTo>
                      <a:pt x="379" y="7"/>
                    </a:lnTo>
                    <a:lnTo>
                      <a:pt x="363" y="4"/>
                    </a:lnTo>
                    <a:lnTo>
                      <a:pt x="349" y="2"/>
                    </a:lnTo>
                    <a:lnTo>
                      <a:pt x="333" y="0"/>
                    </a:lnTo>
                    <a:lnTo>
                      <a:pt x="316" y="0"/>
                    </a:lnTo>
                    <a:lnTo>
                      <a:pt x="300" y="0"/>
                    </a:lnTo>
                    <a:lnTo>
                      <a:pt x="283" y="2"/>
                    </a:lnTo>
                    <a:lnTo>
                      <a:pt x="268" y="4"/>
                    </a:lnTo>
                    <a:lnTo>
                      <a:pt x="252" y="7"/>
                    </a:lnTo>
                    <a:lnTo>
                      <a:pt x="237" y="12"/>
                    </a:lnTo>
                    <a:lnTo>
                      <a:pt x="222" y="17"/>
                    </a:lnTo>
                    <a:lnTo>
                      <a:pt x="207" y="23"/>
                    </a:lnTo>
                    <a:lnTo>
                      <a:pt x="192" y="30"/>
                    </a:lnTo>
                    <a:lnTo>
                      <a:pt x="179" y="36"/>
                    </a:lnTo>
                    <a:lnTo>
                      <a:pt x="165" y="45"/>
                    </a:lnTo>
                    <a:lnTo>
                      <a:pt x="152" y="54"/>
                    </a:lnTo>
                    <a:lnTo>
                      <a:pt x="140" y="65"/>
                    </a:lnTo>
                    <a:lnTo>
                      <a:pt x="126" y="75"/>
                    </a:lnTo>
                    <a:lnTo>
                      <a:pt x="115" y="86"/>
                    </a:lnTo>
                    <a:lnTo>
                      <a:pt x="104" y="97"/>
                    </a:lnTo>
                    <a:lnTo>
                      <a:pt x="92" y="110"/>
                    </a:lnTo>
                    <a:lnTo>
                      <a:pt x="82" y="123"/>
                    </a:lnTo>
                    <a:lnTo>
                      <a:pt x="72" y="137"/>
                    </a:lnTo>
                    <a:lnTo>
                      <a:pt x="62" y="151"/>
                    </a:lnTo>
                    <a:lnTo>
                      <a:pt x="53" y="166"/>
                    </a:lnTo>
                    <a:lnTo>
                      <a:pt x="45" y="180"/>
                    </a:lnTo>
                    <a:lnTo>
                      <a:pt x="37" y="196"/>
                    </a:lnTo>
                    <a:lnTo>
                      <a:pt x="31" y="213"/>
                    </a:lnTo>
                    <a:lnTo>
                      <a:pt x="25" y="230"/>
                    </a:lnTo>
                    <a:lnTo>
                      <a:pt x="19" y="247"/>
                    </a:lnTo>
                    <a:lnTo>
                      <a:pt x="14" y="265"/>
                    </a:lnTo>
                    <a:lnTo>
                      <a:pt x="9" y="283"/>
                    </a:lnTo>
                    <a:lnTo>
                      <a:pt x="6" y="301"/>
                    </a:lnTo>
                    <a:lnTo>
                      <a:pt x="4" y="319"/>
                    </a:lnTo>
                    <a:lnTo>
                      <a:pt x="1" y="338"/>
                    </a:lnTo>
                    <a:lnTo>
                      <a:pt x="0" y="358"/>
                    </a:lnTo>
                    <a:lnTo>
                      <a:pt x="0" y="377"/>
                    </a:lnTo>
                    <a:lnTo>
                      <a:pt x="0" y="396"/>
                    </a:lnTo>
                    <a:lnTo>
                      <a:pt x="1" y="416"/>
                    </a:lnTo>
                    <a:lnTo>
                      <a:pt x="4" y="435"/>
                    </a:lnTo>
                    <a:lnTo>
                      <a:pt x="6" y="454"/>
                    </a:lnTo>
                    <a:lnTo>
                      <a:pt x="9" y="472"/>
                    </a:lnTo>
                    <a:lnTo>
                      <a:pt x="14" y="491"/>
                    </a:lnTo>
                    <a:lnTo>
                      <a:pt x="19" y="508"/>
                    </a:lnTo>
                    <a:lnTo>
                      <a:pt x="25" y="526"/>
                    </a:lnTo>
                    <a:lnTo>
                      <a:pt x="31" y="543"/>
                    </a:lnTo>
                    <a:lnTo>
                      <a:pt x="37" y="559"/>
                    </a:lnTo>
                    <a:lnTo>
                      <a:pt x="45" y="574"/>
                    </a:lnTo>
                    <a:lnTo>
                      <a:pt x="53" y="590"/>
                    </a:lnTo>
                    <a:lnTo>
                      <a:pt x="62" y="605"/>
                    </a:lnTo>
                    <a:lnTo>
                      <a:pt x="72" y="619"/>
                    </a:lnTo>
                    <a:lnTo>
                      <a:pt x="82" y="634"/>
                    </a:lnTo>
                    <a:lnTo>
                      <a:pt x="92" y="646"/>
                    </a:lnTo>
                    <a:lnTo>
                      <a:pt x="104" y="660"/>
                    </a:lnTo>
                    <a:lnTo>
                      <a:pt x="115" y="671"/>
                    </a:lnTo>
                    <a:lnTo>
                      <a:pt x="126" y="682"/>
                    </a:lnTo>
                    <a:lnTo>
                      <a:pt x="140" y="694"/>
                    </a:lnTo>
                    <a:lnTo>
                      <a:pt x="152" y="704"/>
                    </a:lnTo>
                    <a:lnTo>
                      <a:pt x="165" y="713"/>
                    </a:lnTo>
                    <a:lnTo>
                      <a:pt x="179" y="721"/>
                    </a:lnTo>
                    <a:lnTo>
                      <a:pt x="192" y="728"/>
                    </a:lnTo>
                    <a:lnTo>
                      <a:pt x="207" y="735"/>
                    </a:lnTo>
                    <a:lnTo>
                      <a:pt x="222" y="742"/>
                    </a:lnTo>
                    <a:lnTo>
                      <a:pt x="237" y="746"/>
                    </a:lnTo>
                    <a:lnTo>
                      <a:pt x="252" y="751"/>
                    </a:lnTo>
                    <a:lnTo>
                      <a:pt x="268" y="754"/>
                    </a:lnTo>
                    <a:lnTo>
                      <a:pt x="283" y="757"/>
                    </a:lnTo>
                    <a:lnTo>
                      <a:pt x="300" y="758"/>
                    </a:lnTo>
                    <a:lnTo>
                      <a:pt x="316" y="759"/>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6" name=""/>
              <p:cNvSpPr/>
              <p:nvPr/>
            </p:nvSpPr>
            <p:spPr>
              <a:xfrm>
                <a:off x="917280" y="2043360"/>
                <a:ext cx="127800" cy="139320"/>
              </a:xfrm>
              <a:custGeom>
                <a:avLst/>
                <a:gdLst/>
                <a:ahLst/>
                <a:rect l="l" t="t" r="r" b="b"/>
                <a:pathLst>
                  <a:path w="629" h="759">
                    <a:moveTo>
                      <a:pt x="316" y="759"/>
                    </a:moveTo>
                    <a:lnTo>
                      <a:pt x="333" y="758"/>
                    </a:lnTo>
                    <a:lnTo>
                      <a:pt x="349" y="757"/>
                    </a:lnTo>
                    <a:lnTo>
                      <a:pt x="363" y="754"/>
                    </a:lnTo>
                    <a:lnTo>
                      <a:pt x="379" y="751"/>
                    </a:lnTo>
                    <a:lnTo>
                      <a:pt x="394" y="746"/>
                    </a:lnTo>
                    <a:lnTo>
                      <a:pt x="409" y="742"/>
                    </a:lnTo>
                    <a:lnTo>
                      <a:pt x="423" y="735"/>
                    </a:lnTo>
                    <a:lnTo>
                      <a:pt x="437" y="728"/>
                    </a:lnTo>
                    <a:lnTo>
                      <a:pt x="451" y="721"/>
                    </a:lnTo>
                    <a:lnTo>
                      <a:pt x="464" y="713"/>
                    </a:lnTo>
                    <a:lnTo>
                      <a:pt x="478" y="704"/>
                    </a:lnTo>
                    <a:lnTo>
                      <a:pt x="490" y="694"/>
                    </a:lnTo>
                    <a:lnTo>
                      <a:pt x="503" y="682"/>
                    </a:lnTo>
                    <a:lnTo>
                      <a:pt x="515" y="671"/>
                    </a:lnTo>
                    <a:lnTo>
                      <a:pt x="526" y="660"/>
                    </a:lnTo>
                    <a:lnTo>
                      <a:pt x="537" y="646"/>
                    </a:lnTo>
                    <a:lnTo>
                      <a:pt x="548" y="634"/>
                    </a:lnTo>
                    <a:lnTo>
                      <a:pt x="558" y="619"/>
                    </a:lnTo>
                    <a:lnTo>
                      <a:pt x="567" y="605"/>
                    </a:lnTo>
                    <a:lnTo>
                      <a:pt x="576" y="590"/>
                    </a:lnTo>
                    <a:lnTo>
                      <a:pt x="584" y="574"/>
                    </a:lnTo>
                    <a:lnTo>
                      <a:pt x="591" y="559"/>
                    </a:lnTo>
                    <a:lnTo>
                      <a:pt x="598" y="543"/>
                    </a:lnTo>
                    <a:lnTo>
                      <a:pt x="604" y="526"/>
                    </a:lnTo>
                    <a:lnTo>
                      <a:pt x="609" y="508"/>
                    </a:lnTo>
                    <a:lnTo>
                      <a:pt x="615" y="491"/>
                    </a:lnTo>
                    <a:lnTo>
                      <a:pt x="620" y="472"/>
                    </a:lnTo>
                    <a:lnTo>
                      <a:pt x="623" y="454"/>
                    </a:lnTo>
                    <a:lnTo>
                      <a:pt x="625" y="435"/>
                    </a:lnTo>
                    <a:lnTo>
                      <a:pt x="627" y="416"/>
                    </a:lnTo>
                    <a:lnTo>
                      <a:pt x="629" y="396"/>
                    </a:lnTo>
                    <a:lnTo>
                      <a:pt x="629" y="377"/>
                    </a:lnTo>
                    <a:lnTo>
                      <a:pt x="629" y="358"/>
                    </a:lnTo>
                    <a:lnTo>
                      <a:pt x="627" y="338"/>
                    </a:lnTo>
                    <a:lnTo>
                      <a:pt x="625" y="319"/>
                    </a:lnTo>
                    <a:lnTo>
                      <a:pt x="623" y="301"/>
                    </a:lnTo>
                    <a:lnTo>
                      <a:pt x="620" y="283"/>
                    </a:lnTo>
                    <a:lnTo>
                      <a:pt x="615" y="265"/>
                    </a:lnTo>
                    <a:lnTo>
                      <a:pt x="609" y="247"/>
                    </a:lnTo>
                    <a:lnTo>
                      <a:pt x="604" y="230"/>
                    </a:lnTo>
                    <a:lnTo>
                      <a:pt x="598" y="213"/>
                    </a:lnTo>
                    <a:lnTo>
                      <a:pt x="591" y="196"/>
                    </a:lnTo>
                    <a:lnTo>
                      <a:pt x="584" y="180"/>
                    </a:lnTo>
                    <a:lnTo>
                      <a:pt x="576" y="166"/>
                    </a:lnTo>
                    <a:lnTo>
                      <a:pt x="567" y="151"/>
                    </a:lnTo>
                    <a:lnTo>
                      <a:pt x="558" y="137"/>
                    </a:lnTo>
                    <a:lnTo>
                      <a:pt x="548" y="123"/>
                    </a:lnTo>
                    <a:lnTo>
                      <a:pt x="537" y="110"/>
                    </a:lnTo>
                    <a:lnTo>
                      <a:pt x="526" y="97"/>
                    </a:lnTo>
                    <a:lnTo>
                      <a:pt x="515" y="86"/>
                    </a:lnTo>
                    <a:lnTo>
                      <a:pt x="503" y="75"/>
                    </a:lnTo>
                    <a:lnTo>
                      <a:pt x="490" y="65"/>
                    </a:lnTo>
                    <a:lnTo>
                      <a:pt x="478" y="54"/>
                    </a:lnTo>
                    <a:lnTo>
                      <a:pt x="464" y="45"/>
                    </a:lnTo>
                    <a:lnTo>
                      <a:pt x="451" y="36"/>
                    </a:lnTo>
                    <a:lnTo>
                      <a:pt x="437" y="30"/>
                    </a:lnTo>
                    <a:lnTo>
                      <a:pt x="423" y="23"/>
                    </a:lnTo>
                    <a:lnTo>
                      <a:pt x="409" y="17"/>
                    </a:lnTo>
                    <a:lnTo>
                      <a:pt x="394" y="12"/>
                    </a:lnTo>
                    <a:lnTo>
                      <a:pt x="379" y="7"/>
                    </a:lnTo>
                    <a:lnTo>
                      <a:pt x="363" y="4"/>
                    </a:lnTo>
                    <a:lnTo>
                      <a:pt x="349" y="2"/>
                    </a:lnTo>
                    <a:lnTo>
                      <a:pt x="333" y="0"/>
                    </a:lnTo>
                    <a:lnTo>
                      <a:pt x="316" y="0"/>
                    </a:lnTo>
                    <a:lnTo>
                      <a:pt x="300" y="0"/>
                    </a:lnTo>
                    <a:lnTo>
                      <a:pt x="283" y="2"/>
                    </a:lnTo>
                    <a:lnTo>
                      <a:pt x="268" y="4"/>
                    </a:lnTo>
                    <a:lnTo>
                      <a:pt x="252" y="7"/>
                    </a:lnTo>
                    <a:lnTo>
                      <a:pt x="237" y="12"/>
                    </a:lnTo>
                    <a:lnTo>
                      <a:pt x="222" y="17"/>
                    </a:lnTo>
                    <a:lnTo>
                      <a:pt x="207" y="23"/>
                    </a:lnTo>
                    <a:lnTo>
                      <a:pt x="192" y="30"/>
                    </a:lnTo>
                    <a:lnTo>
                      <a:pt x="179" y="36"/>
                    </a:lnTo>
                    <a:lnTo>
                      <a:pt x="165" y="45"/>
                    </a:lnTo>
                    <a:lnTo>
                      <a:pt x="152" y="54"/>
                    </a:lnTo>
                    <a:lnTo>
                      <a:pt x="140" y="65"/>
                    </a:lnTo>
                    <a:lnTo>
                      <a:pt x="126" y="75"/>
                    </a:lnTo>
                    <a:lnTo>
                      <a:pt x="115" y="86"/>
                    </a:lnTo>
                    <a:lnTo>
                      <a:pt x="104" y="97"/>
                    </a:lnTo>
                    <a:lnTo>
                      <a:pt x="92" y="110"/>
                    </a:lnTo>
                    <a:lnTo>
                      <a:pt x="82" y="123"/>
                    </a:lnTo>
                    <a:lnTo>
                      <a:pt x="72" y="137"/>
                    </a:lnTo>
                    <a:lnTo>
                      <a:pt x="62" y="151"/>
                    </a:lnTo>
                    <a:lnTo>
                      <a:pt x="53" y="166"/>
                    </a:lnTo>
                    <a:lnTo>
                      <a:pt x="45" y="180"/>
                    </a:lnTo>
                    <a:lnTo>
                      <a:pt x="37" y="196"/>
                    </a:lnTo>
                    <a:lnTo>
                      <a:pt x="31" y="213"/>
                    </a:lnTo>
                    <a:lnTo>
                      <a:pt x="25" y="230"/>
                    </a:lnTo>
                    <a:lnTo>
                      <a:pt x="19" y="247"/>
                    </a:lnTo>
                    <a:lnTo>
                      <a:pt x="14" y="265"/>
                    </a:lnTo>
                    <a:lnTo>
                      <a:pt x="9" y="283"/>
                    </a:lnTo>
                    <a:lnTo>
                      <a:pt x="6" y="301"/>
                    </a:lnTo>
                    <a:lnTo>
                      <a:pt x="4" y="319"/>
                    </a:lnTo>
                    <a:lnTo>
                      <a:pt x="1" y="338"/>
                    </a:lnTo>
                    <a:lnTo>
                      <a:pt x="0" y="358"/>
                    </a:lnTo>
                    <a:lnTo>
                      <a:pt x="0" y="377"/>
                    </a:lnTo>
                    <a:lnTo>
                      <a:pt x="0" y="396"/>
                    </a:lnTo>
                    <a:lnTo>
                      <a:pt x="1" y="416"/>
                    </a:lnTo>
                    <a:lnTo>
                      <a:pt x="4" y="435"/>
                    </a:lnTo>
                    <a:lnTo>
                      <a:pt x="6" y="454"/>
                    </a:lnTo>
                    <a:lnTo>
                      <a:pt x="9" y="472"/>
                    </a:lnTo>
                    <a:lnTo>
                      <a:pt x="14" y="491"/>
                    </a:lnTo>
                    <a:lnTo>
                      <a:pt x="19" y="508"/>
                    </a:lnTo>
                    <a:lnTo>
                      <a:pt x="25" y="526"/>
                    </a:lnTo>
                    <a:lnTo>
                      <a:pt x="31" y="543"/>
                    </a:lnTo>
                    <a:lnTo>
                      <a:pt x="37" y="559"/>
                    </a:lnTo>
                    <a:lnTo>
                      <a:pt x="45" y="574"/>
                    </a:lnTo>
                    <a:lnTo>
                      <a:pt x="53" y="590"/>
                    </a:lnTo>
                    <a:lnTo>
                      <a:pt x="62" y="605"/>
                    </a:lnTo>
                    <a:lnTo>
                      <a:pt x="72" y="619"/>
                    </a:lnTo>
                    <a:lnTo>
                      <a:pt x="82" y="634"/>
                    </a:lnTo>
                    <a:lnTo>
                      <a:pt x="92" y="646"/>
                    </a:lnTo>
                    <a:lnTo>
                      <a:pt x="104" y="660"/>
                    </a:lnTo>
                    <a:lnTo>
                      <a:pt x="115" y="671"/>
                    </a:lnTo>
                    <a:lnTo>
                      <a:pt x="126" y="682"/>
                    </a:lnTo>
                    <a:lnTo>
                      <a:pt x="140" y="694"/>
                    </a:lnTo>
                    <a:lnTo>
                      <a:pt x="152" y="704"/>
                    </a:lnTo>
                    <a:lnTo>
                      <a:pt x="165" y="713"/>
                    </a:lnTo>
                    <a:lnTo>
                      <a:pt x="179" y="721"/>
                    </a:lnTo>
                    <a:lnTo>
                      <a:pt x="192" y="728"/>
                    </a:lnTo>
                    <a:lnTo>
                      <a:pt x="207" y="735"/>
                    </a:lnTo>
                    <a:lnTo>
                      <a:pt x="222" y="742"/>
                    </a:lnTo>
                    <a:lnTo>
                      <a:pt x="237" y="746"/>
                    </a:lnTo>
                    <a:lnTo>
                      <a:pt x="252" y="751"/>
                    </a:lnTo>
                    <a:lnTo>
                      <a:pt x="268" y="754"/>
                    </a:lnTo>
                    <a:lnTo>
                      <a:pt x="283" y="757"/>
                    </a:lnTo>
                    <a:lnTo>
                      <a:pt x="300" y="758"/>
                    </a:lnTo>
                    <a:lnTo>
                      <a:pt x="316" y="75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7" name=""/>
              <p:cNvSpPr/>
              <p:nvPr/>
            </p:nvSpPr>
            <p:spPr>
              <a:xfrm>
                <a:off x="1476720" y="2014200"/>
                <a:ext cx="126000" cy="139320"/>
              </a:xfrm>
              <a:custGeom>
                <a:avLst/>
                <a:gdLst/>
                <a:ahLst/>
                <a:rect l="l" t="t" r="r" b="b"/>
                <a:pathLst>
                  <a:path w="634" h="758">
                    <a:moveTo>
                      <a:pt x="317" y="758"/>
                    </a:moveTo>
                    <a:lnTo>
                      <a:pt x="333" y="758"/>
                    </a:lnTo>
                    <a:lnTo>
                      <a:pt x="349" y="756"/>
                    </a:lnTo>
                    <a:lnTo>
                      <a:pt x="365" y="754"/>
                    </a:lnTo>
                    <a:lnTo>
                      <a:pt x="381" y="750"/>
                    </a:lnTo>
                    <a:lnTo>
                      <a:pt x="396" y="746"/>
                    </a:lnTo>
                    <a:lnTo>
                      <a:pt x="411" y="741"/>
                    </a:lnTo>
                    <a:lnTo>
                      <a:pt x="426" y="735"/>
                    </a:lnTo>
                    <a:lnTo>
                      <a:pt x="441" y="728"/>
                    </a:lnTo>
                    <a:lnTo>
                      <a:pt x="454" y="721"/>
                    </a:lnTo>
                    <a:lnTo>
                      <a:pt x="468" y="712"/>
                    </a:lnTo>
                    <a:lnTo>
                      <a:pt x="481" y="703"/>
                    </a:lnTo>
                    <a:lnTo>
                      <a:pt x="493" y="693"/>
                    </a:lnTo>
                    <a:lnTo>
                      <a:pt x="507" y="683"/>
                    </a:lnTo>
                    <a:lnTo>
                      <a:pt x="518" y="672"/>
                    </a:lnTo>
                    <a:lnTo>
                      <a:pt x="529" y="659"/>
                    </a:lnTo>
                    <a:lnTo>
                      <a:pt x="541" y="647"/>
                    </a:lnTo>
                    <a:lnTo>
                      <a:pt x="551" y="633"/>
                    </a:lnTo>
                    <a:lnTo>
                      <a:pt x="561" y="620"/>
                    </a:lnTo>
                    <a:lnTo>
                      <a:pt x="571" y="605"/>
                    </a:lnTo>
                    <a:lnTo>
                      <a:pt x="580" y="590"/>
                    </a:lnTo>
                    <a:lnTo>
                      <a:pt x="588" y="576"/>
                    </a:lnTo>
                    <a:lnTo>
                      <a:pt x="596" y="560"/>
                    </a:lnTo>
                    <a:lnTo>
                      <a:pt x="602" y="543"/>
                    </a:lnTo>
                    <a:lnTo>
                      <a:pt x="608" y="526"/>
                    </a:lnTo>
                    <a:lnTo>
                      <a:pt x="614" y="509"/>
                    </a:lnTo>
                    <a:lnTo>
                      <a:pt x="619" y="493"/>
                    </a:lnTo>
                    <a:lnTo>
                      <a:pt x="624" y="475"/>
                    </a:lnTo>
                    <a:lnTo>
                      <a:pt x="627" y="457"/>
                    </a:lnTo>
                    <a:lnTo>
                      <a:pt x="629" y="437"/>
                    </a:lnTo>
                    <a:lnTo>
                      <a:pt x="632" y="419"/>
                    </a:lnTo>
                    <a:lnTo>
                      <a:pt x="633" y="400"/>
                    </a:lnTo>
                    <a:lnTo>
                      <a:pt x="634" y="381"/>
                    </a:lnTo>
                    <a:lnTo>
                      <a:pt x="633" y="361"/>
                    </a:lnTo>
                    <a:lnTo>
                      <a:pt x="632" y="342"/>
                    </a:lnTo>
                    <a:lnTo>
                      <a:pt x="629" y="323"/>
                    </a:lnTo>
                    <a:lnTo>
                      <a:pt x="627" y="305"/>
                    </a:lnTo>
                    <a:lnTo>
                      <a:pt x="624" y="286"/>
                    </a:lnTo>
                    <a:lnTo>
                      <a:pt x="619" y="268"/>
                    </a:lnTo>
                    <a:lnTo>
                      <a:pt x="614" y="250"/>
                    </a:lnTo>
                    <a:lnTo>
                      <a:pt x="608" y="233"/>
                    </a:lnTo>
                    <a:lnTo>
                      <a:pt x="602" y="216"/>
                    </a:lnTo>
                    <a:lnTo>
                      <a:pt x="596" y="199"/>
                    </a:lnTo>
                    <a:lnTo>
                      <a:pt x="588" y="183"/>
                    </a:lnTo>
                    <a:lnTo>
                      <a:pt x="580" y="167"/>
                    </a:lnTo>
                    <a:lnTo>
                      <a:pt x="571" y="153"/>
                    </a:lnTo>
                    <a:lnTo>
                      <a:pt x="561" y="138"/>
                    </a:lnTo>
                    <a:lnTo>
                      <a:pt x="551" y="125"/>
                    </a:lnTo>
                    <a:lnTo>
                      <a:pt x="541" y="111"/>
                    </a:lnTo>
                    <a:lnTo>
                      <a:pt x="529" y="99"/>
                    </a:lnTo>
                    <a:lnTo>
                      <a:pt x="518" y="86"/>
                    </a:lnTo>
                    <a:lnTo>
                      <a:pt x="507" y="75"/>
                    </a:lnTo>
                    <a:lnTo>
                      <a:pt x="493" y="65"/>
                    </a:lnTo>
                    <a:lnTo>
                      <a:pt x="481" y="55"/>
                    </a:lnTo>
                    <a:lnTo>
                      <a:pt x="468" y="46"/>
                    </a:lnTo>
                    <a:lnTo>
                      <a:pt x="454" y="37"/>
                    </a:lnTo>
                    <a:lnTo>
                      <a:pt x="441" y="29"/>
                    </a:lnTo>
                    <a:lnTo>
                      <a:pt x="426" y="22"/>
                    </a:lnTo>
                    <a:lnTo>
                      <a:pt x="411" y="17"/>
                    </a:lnTo>
                    <a:lnTo>
                      <a:pt x="396" y="11"/>
                    </a:lnTo>
                    <a:lnTo>
                      <a:pt x="381" y="8"/>
                    </a:lnTo>
                    <a:lnTo>
                      <a:pt x="365" y="4"/>
                    </a:lnTo>
                    <a:lnTo>
                      <a:pt x="349" y="1"/>
                    </a:lnTo>
                    <a:lnTo>
                      <a:pt x="333" y="0"/>
                    </a:lnTo>
                    <a:lnTo>
                      <a:pt x="317" y="0"/>
                    </a:lnTo>
                    <a:lnTo>
                      <a:pt x="300" y="0"/>
                    </a:lnTo>
                    <a:lnTo>
                      <a:pt x="284" y="1"/>
                    </a:lnTo>
                    <a:lnTo>
                      <a:pt x="269" y="4"/>
                    </a:lnTo>
                    <a:lnTo>
                      <a:pt x="253" y="8"/>
                    </a:lnTo>
                    <a:lnTo>
                      <a:pt x="237" y="11"/>
                    </a:lnTo>
                    <a:lnTo>
                      <a:pt x="222" y="17"/>
                    </a:lnTo>
                    <a:lnTo>
                      <a:pt x="208" y="22"/>
                    </a:lnTo>
                    <a:lnTo>
                      <a:pt x="193" y="29"/>
                    </a:lnTo>
                    <a:lnTo>
                      <a:pt x="179" y="37"/>
                    </a:lnTo>
                    <a:lnTo>
                      <a:pt x="165" y="46"/>
                    </a:lnTo>
                    <a:lnTo>
                      <a:pt x="152" y="55"/>
                    </a:lnTo>
                    <a:lnTo>
                      <a:pt x="139" y="65"/>
                    </a:lnTo>
                    <a:lnTo>
                      <a:pt x="127" y="75"/>
                    </a:lnTo>
                    <a:lnTo>
                      <a:pt x="115" y="86"/>
                    </a:lnTo>
                    <a:lnTo>
                      <a:pt x="103" y="99"/>
                    </a:lnTo>
                    <a:lnTo>
                      <a:pt x="92" y="111"/>
                    </a:lnTo>
                    <a:lnTo>
                      <a:pt x="82" y="125"/>
                    </a:lnTo>
                    <a:lnTo>
                      <a:pt x="72" y="138"/>
                    </a:lnTo>
                    <a:lnTo>
                      <a:pt x="63" y="153"/>
                    </a:lnTo>
                    <a:lnTo>
                      <a:pt x="54" y="167"/>
                    </a:lnTo>
                    <a:lnTo>
                      <a:pt x="45" y="183"/>
                    </a:lnTo>
                    <a:lnTo>
                      <a:pt x="38" y="199"/>
                    </a:lnTo>
                    <a:lnTo>
                      <a:pt x="30" y="216"/>
                    </a:lnTo>
                    <a:lnTo>
                      <a:pt x="25" y="233"/>
                    </a:lnTo>
                    <a:lnTo>
                      <a:pt x="19" y="250"/>
                    </a:lnTo>
                    <a:lnTo>
                      <a:pt x="13" y="268"/>
                    </a:lnTo>
                    <a:lnTo>
                      <a:pt x="10" y="286"/>
                    </a:lnTo>
                    <a:lnTo>
                      <a:pt x="6" y="305"/>
                    </a:lnTo>
                    <a:lnTo>
                      <a:pt x="3" y="323"/>
                    </a:lnTo>
                    <a:lnTo>
                      <a:pt x="1" y="342"/>
                    </a:lnTo>
                    <a:lnTo>
                      <a:pt x="0" y="361"/>
                    </a:lnTo>
                    <a:lnTo>
                      <a:pt x="0" y="381"/>
                    </a:lnTo>
                    <a:lnTo>
                      <a:pt x="0" y="400"/>
                    </a:lnTo>
                    <a:lnTo>
                      <a:pt x="1" y="419"/>
                    </a:lnTo>
                    <a:lnTo>
                      <a:pt x="3" y="437"/>
                    </a:lnTo>
                    <a:lnTo>
                      <a:pt x="6" y="457"/>
                    </a:lnTo>
                    <a:lnTo>
                      <a:pt x="10" y="475"/>
                    </a:lnTo>
                    <a:lnTo>
                      <a:pt x="13" y="493"/>
                    </a:lnTo>
                    <a:lnTo>
                      <a:pt x="19" y="509"/>
                    </a:lnTo>
                    <a:lnTo>
                      <a:pt x="25" y="526"/>
                    </a:lnTo>
                    <a:lnTo>
                      <a:pt x="30" y="543"/>
                    </a:lnTo>
                    <a:lnTo>
                      <a:pt x="38" y="560"/>
                    </a:lnTo>
                    <a:lnTo>
                      <a:pt x="45" y="576"/>
                    </a:lnTo>
                    <a:lnTo>
                      <a:pt x="54" y="590"/>
                    </a:lnTo>
                    <a:lnTo>
                      <a:pt x="63" y="605"/>
                    </a:lnTo>
                    <a:lnTo>
                      <a:pt x="72" y="620"/>
                    </a:lnTo>
                    <a:lnTo>
                      <a:pt x="82" y="633"/>
                    </a:lnTo>
                    <a:lnTo>
                      <a:pt x="92" y="647"/>
                    </a:lnTo>
                    <a:lnTo>
                      <a:pt x="103" y="659"/>
                    </a:lnTo>
                    <a:lnTo>
                      <a:pt x="115" y="672"/>
                    </a:lnTo>
                    <a:lnTo>
                      <a:pt x="127" y="683"/>
                    </a:lnTo>
                    <a:lnTo>
                      <a:pt x="139" y="693"/>
                    </a:lnTo>
                    <a:lnTo>
                      <a:pt x="152" y="703"/>
                    </a:lnTo>
                    <a:lnTo>
                      <a:pt x="165" y="712"/>
                    </a:lnTo>
                    <a:lnTo>
                      <a:pt x="179" y="721"/>
                    </a:lnTo>
                    <a:lnTo>
                      <a:pt x="193" y="728"/>
                    </a:lnTo>
                    <a:lnTo>
                      <a:pt x="208" y="735"/>
                    </a:lnTo>
                    <a:lnTo>
                      <a:pt x="222" y="741"/>
                    </a:lnTo>
                    <a:lnTo>
                      <a:pt x="237" y="746"/>
                    </a:lnTo>
                    <a:lnTo>
                      <a:pt x="253" y="750"/>
                    </a:lnTo>
                    <a:lnTo>
                      <a:pt x="269" y="754"/>
                    </a:lnTo>
                    <a:lnTo>
                      <a:pt x="284" y="756"/>
                    </a:lnTo>
                    <a:lnTo>
                      <a:pt x="300" y="758"/>
                    </a:lnTo>
                    <a:lnTo>
                      <a:pt x="317" y="758"/>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8" name=""/>
              <p:cNvSpPr/>
              <p:nvPr/>
            </p:nvSpPr>
            <p:spPr>
              <a:xfrm>
                <a:off x="1476720" y="2014200"/>
                <a:ext cx="126000" cy="139320"/>
              </a:xfrm>
              <a:custGeom>
                <a:avLst/>
                <a:gdLst/>
                <a:ahLst/>
                <a:rect l="l" t="t" r="r" b="b"/>
                <a:pathLst>
                  <a:path w="634" h="758">
                    <a:moveTo>
                      <a:pt x="317" y="758"/>
                    </a:moveTo>
                    <a:lnTo>
                      <a:pt x="333" y="758"/>
                    </a:lnTo>
                    <a:lnTo>
                      <a:pt x="349" y="756"/>
                    </a:lnTo>
                    <a:lnTo>
                      <a:pt x="365" y="754"/>
                    </a:lnTo>
                    <a:lnTo>
                      <a:pt x="381" y="750"/>
                    </a:lnTo>
                    <a:lnTo>
                      <a:pt x="396" y="746"/>
                    </a:lnTo>
                    <a:lnTo>
                      <a:pt x="411" y="741"/>
                    </a:lnTo>
                    <a:lnTo>
                      <a:pt x="426" y="735"/>
                    </a:lnTo>
                    <a:lnTo>
                      <a:pt x="441" y="728"/>
                    </a:lnTo>
                    <a:lnTo>
                      <a:pt x="454" y="721"/>
                    </a:lnTo>
                    <a:lnTo>
                      <a:pt x="468" y="712"/>
                    </a:lnTo>
                    <a:lnTo>
                      <a:pt x="481" y="703"/>
                    </a:lnTo>
                    <a:lnTo>
                      <a:pt x="493" y="693"/>
                    </a:lnTo>
                    <a:lnTo>
                      <a:pt x="507" y="683"/>
                    </a:lnTo>
                    <a:lnTo>
                      <a:pt x="518" y="672"/>
                    </a:lnTo>
                    <a:lnTo>
                      <a:pt x="529" y="659"/>
                    </a:lnTo>
                    <a:lnTo>
                      <a:pt x="541" y="647"/>
                    </a:lnTo>
                    <a:lnTo>
                      <a:pt x="551" y="633"/>
                    </a:lnTo>
                    <a:lnTo>
                      <a:pt x="561" y="620"/>
                    </a:lnTo>
                    <a:lnTo>
                      <a:pt x="571" y="605"/>
                    </a:lnTo>
                    <a:lnTo>
                      <a:pt x="580" y="590"/>
                    </a:lnTo>
                    <a:lnTo>
                      <a:pt x="588" y="576"/>
                    </a:lnTo>
                    <a:lnTo>
                      <a:pt x="596" y="560"/>
                    </a:lnTo>
                    <a:lnTo>
                      <a:pt x="602" y="543"/>
                    </a:lnTo>
                    <a:lnTo>
                      <a:pt x="608" y="526"/>
                    </a:lnTo>
                    <a:lnTo>
                      <a:pt x="614" y="509"/>
                    </a:lnTo>
                    <a:lnTo>
                      <a:pt x="619" y="493"/>
                    </a:lnTo>
                    <a:lnTo>
                      <a:pt x="624" y="475"/>
                    </a:lnTo>
                    <a:lnTo>
                      <a:pt x="627" y="457"/>
                    </a:lnTo>
                    <a:lnTo>
                      <a:pt x="629" y="437"/>
                    </a:lnTo>
                    <a:lnTo>
                      <a:pt x="632" y="419"/>
                    </a:lnTo>
                    <a:lnTo>
                      <a:pt x="633" y="400"/>
                    </a:lnTo>
                    <a:lnTo>
                      <a:pt x="634" y="381"/>
                    </a:lnTo>
                    <a:lnTo>
                      <a:pt x="633" y="361"/>
                    </a:lnTo>
                    <a:lnTo>
                      <a:pt x="632" y="342"/>
                    </a:lnTo>
                    <a:lnTo>
                      <a:pt x="629" y="323"/>
                    </a:lnTo>
                    <a:lnTo>
                      <a:pt x="627" y="305"/>
                    </a:lnTo>
                    <a:lnTo>
                      <a:pt x="624" y="286"/>
                    </a:lnTo>
                    <a:lnTo>
                      <a:pt x="619" y="268"/>
                    </a:lnTo>
                    <a:lnTo>
                      <a:pt x="614" y="250"/>
                    </a:lnTo>
                    <a:lnTo>
                      <a:pt x="608" y="233"/>
                    </a:lnTo>
                    <a:lnTo>
                      <a:pt x="602" y="216"/>
                    </a:lnTo>
                    <a:lnTo>
                      <a:pt x="596" y="199"/>
                    </a:lnTo>
                    <a:lnTo>
                      <a:pt x="588" y="183"/>
                    </a:lnTo>
                    <a:lnTo>
                      <a:pt x="580" y="167"/>
                    </a:lnTo>
                    <a:lnTo>
                      <a:pt x="571" y="153"/>
                    </a:lnTo>
                    <a:lnTo>
                      <a:pt x="561" y="138"/>
                    </a:lnTo>
                    <a:lnTo>
                      <a:pt x="551" y="125"/>
                    </a:lnTo>
                    <a:lnTo>
                      <a:pt x="541" y="111"/>
                    </a:lnTo>
                    <a:lnTo>
                      <a:pt x="529" y="99"/>
                    </a:lnTo>
                    <a:lnTo>
                      <a:pt x="518" y="86"/>
                    </a:lnTo>
                    <a:lnTo>
                      <a:pt x="507" y="75"/>
                    </a:lnTo>
                    <a:lnTo>
                      <a:pt x="493" y="65"/>
                    </a:lnTo>
                    <a:lnTo>
                      <a:pt x="481" y="55"/>
                    </a:lnTo>
                    <a:lnTo>
                      <a:pt x="468" y="46"/>
                    </a:lnTo>
                    <a:lnTo>
                      <a:pt x="454" y="37"/>
                    </a:lnTo>
                    <a:lnTo>
                      <a:pt x="441" y="29"/>
                    </a:lnTo>
                    <a:lnTo>
                      <a:pt x="426" y="22"/>
                    </a:lnTo>
                    <a:lnTo>
                      <a:pt x="411" y="17"/>
                    </a:lnTo>
                    <a:lnTo>
                      <a:pt x="396" y="11"/>
                    </a:lnTo>
                    <a:lnTo>
                      <a:pt x="381" y="8"/>
                    </a:lnTo>
                    <a:lnTo>
                      <a:pt x="365" y="4"/>
                    </a:lnTo>
                    <a:lnTo>
                      <a:pt x="349" y="1"/>
                    </a:lnTo>
                    <a:lnTo>
                      <a:pt x="333" y="0"/>
                    </a:lnTo>
                    <a:lnTo>
                      <a:pt x="317" y="0"/>
                    </a:lnTo>
                    <a:lnTo>
                      <a:pt x="300" y="0"/>
                    </a:lnTo>
                    <a:lnTo>
                      <a:pt x="284" y="1"/>
                    </a:lnTo>
                    <a:lnTo>
                      <a:pt x="269" y="4"/>
                    </a:lnTo>
                    <a:lnTo>
                      <a:pt x="253" y="8"/>
                    </a:lnTo>
                    <a:lnTo>
                      <a:pt x="237" y="11"/>
                    </a:lnTo>
                    <a:lnTo>
                      <a:pt x="222" y="17"/>
                    </a:lnTo>
                    <a:lnTo>
                      <a:pt x="208" y="22"/>
                    </a:lnTo>
                    <a:lnTo>
                      <a:pt x="193" y="29"/>
                    </a:lnTo>
                    <a:lnTo>
                      <a:pt x="179" y="37"/>
                    </a:lnTo>
                    <a:lnTo>
                      <a:pt x="165" y="46"/>
                    </a:lnTo>
                    <a:lnTo>
                      <a:pt x="152" y="55"/>
                    </a:lnTo>
                    <a:lnTo>
                      <a:pt x="139" y="65"/>
                    </a:lnTo>
                    <a:lnTo>
                      <a:pt x="127" y="75"/>
                    </a:lnTo>
                    <a:lnTo>
                      <a:pt x="115" y="86"/>
                    </a:lnTo>
                    <a:lnTo>
                      <a:pt x="103" y="99"/>
                    </a:lnTo>
                    <a:lnTo>
                      <a:pt x="92" y="111"/>
                    </a:lnTo>
                    <a:lnTo>
                      <a:pt x="82" y="125"/>
                    </a:lnTo>
                    <a:lnTo>
                      <a:pt x="72" y="138"/>
                    </a:lnTo>
                    <a:lnTo>
                      <a:pt x="63" y="153"/>
                    </a:lnTo>
                    <a:lnTo>
                      <a:pt x="54" y="167"/>
                    </a:lnTo>
                    <a:lnTo>
                      <a:pt x="45" y="183"/>
                    </a:lnTo>
                    <a:lnTo>
                      <a:pt x="38" y="199"/>
                    </a:lnTo>
                    <a:lnTo>
                      <a:pt x="30" y="216"/>
                    </a:lnTo>
                    <a:lnTo>
                      <a:pt x="25" y="233"/>
                    </a:lnTo>
                    <a:lnTo>
                      <a:pt x="19" y="250"/>
                    </a:lnTo>
                    <a:lnTo>
                      <a:pt x="13" y="268"/>
                    </a:lnTo>
                    <a:lnTo>
                      <a:pt x="10" y="286"/>
                    </a:lnTo>
                    <a:lnTo>
                      <a:pt x="6" y="305"/>
                    </a:lnTo>
                    <a:lnTo>
                      <a:pt x="3" y="323"/>
                    </a:lnTo>
                    <a:lnTo>
                      <a:pt x="1" y="342"/>
                    </a:lnTo>
                    <a:lnTo>
                      <a:pt x="0" y="361"/>
                    </a:lnTo>
                    <a:lnTo>
                      <a:pt x="0" y="381"/>
                    </a:lnTo>
                    <a:lnTo>
                      <a:pt x="0" y="400"/>
                    </a:lnTo>
                    <a:lnTo>
                      <a:pt x="1" y="419"/>
                    </a:lnTo>
                    <a:lnTo>
                      <a:pt x="3" y="437"/>
                    </a:lnTo>
                    <a:lnTo>
                      <a:pt x="6" y="457"/>
                    </a:lnTo>
                    <a:lnTo>
                      <a:pt x="10" y="475"/>
                    </a:lnTo>
                    <a:lnTo>
                      <a:pt x="13" y="493"/>
                    </a:lnTo>
                    <a:lnTo>
                      <a:pt x="19" y="509"/>
                    </a:lnTo>
                    <a:lnTo>
                      <a:pt x="25" y="526"/>
                    </a:lnTo>
                    <a:lnTo>
                      <a:pt x="30" y="543"/>
                    </a:lnTo>
                    <a:lnTo>
                      <a:pt x="38" y="560"/>
                    </a:lnTo>
                    <a:lnTo>
                      <a:pt x="45" y="576"/>
                    </a:lnTo>
                    <a:lnTo>
                      <a:pt x="54" y="590"/>
                    </a:lnTo>
                    <a:lnTo>
                      <a:pt x="63" y="605"/>
                    </a:lnTo>
                    <a:lnTo>
                      <a:pt x="72" y="620"/>
                    </a:lnTo>
                    <a:lnTo>
                      <a:pt x="82" y="633"/>
                    </a:lnTo>
                    <a:lnTo>
                      <a:pt x="92" y="647"/>
                    </a:lnTo>
                    <a:lnTo>
                      <a:pt x="103" y="659"/>
                    </a:lnTo>
                    <a:lnTo>
                      <a:pt x="115" y="672"/>
                    </a:lnTo>
                    <a:lnTo>
                      <a:pt x="127" y="683"/>
                    </a:lnTo>
                    <a:lnTo>
                      <a:pt x="139" y="693"/>
                    </a:lnTo>
                    <a:lnTo>
                      <a:pt x="152" y="703"/>
                    </a:lnTo>
                    <a:lnTo>
                      <a:pt x="165" y="712"/>
                    </a:lnTo>
                    <a:lnTo>
                      <a:pt x="179" y="721"/>
                    </a:lnTo>
                    <a:lnTo>
                      <a:pt x="193" y="728"/>
                    </a:lnTo>
                    <a:lnTo>
                      <a:pt x="208" y="735"/>
                    </a:lnTo>
                    <a:lnTo>
                      <a:pt x="222" y="741"/>
                    </a:lnTo>
                    <a:lnTo>
                      <a:pt x="237" y="746"/>
                    </a:lnTo>
                    <a:lnTo>
                      <a:pt x="253" y="750"/>
                    </a:lnTo>
                    <a:lnTo>
                      <a:pt x="269" y="754"/>
                    </a:lnTo>
                    <a:lnTo>
                      <a:pt x="284" y="756"/>
                    </a:lnTo>
                    <a:lnTo>
                      <a:pt x="300" y="758"/>
                    </a:lnTo>
                    <a:lnTo>
                      <a:pt x="317" y="758"/>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29" name=""/>
              <p:cNvSpPr/>
              <p:nvPr/>
            </p:nvSpPr>
            <p:spPr>
              <a:xfrm>
                <a:off x="882360" y="1794600"/>
                <a:ext cx="773280" cy="1101600"/>
              </a:xfrm>
              <a:custGeom>
                <a:avLst/>
                <a:gdLst/>
                <a:ahLst/>
                <a:rect l="l" t="t" r="r" b="b"/>
                <a:pathLst>
                  <a:path w="3846" h="5993">
                    <a:moveTo>
                      <a:pt x="745" y="1907"/>
                    </a:moveTo>
                    <a:lnTo>
                      <a:pt x="735" y="1904"/>
                    </a:lnTo>
                    <a:lnTo>
                      <a:pt x="706" y="1895"/>
                    </a:lnTo>
                    <a:lnTo>
                      <a:pt x="662" y="1883"/>
                    </a:lnTo>
                    <a:lnTo>
                      <a:pt x="604" y="1869"/>
                    </a:lnTo>
                    <a:lnTo>
                      <a:pt x="572" y="1862"/>
                    </a:lnTo>
                    <a:lnTo>
                      <a:pt x="538" y="1857"/>
                    </a:lnTo>
                    <a:lnTo>
                      <a:pt x="502" y="1851"/>
                    </a:lnTo>
                    <a:lnTo>
                      <a:pt x="465" y="1847"/>
                    </a:lnTo>
                    <a:lnTo>
                      <a:pt x="427" y="1844"/>
                    </a:lnTo>
                    <a:lnTo>
                      <a:pt x="387" y="1843"/>
                    </a:lnTo>
                    <a:lnTo>
                      <a:pt x="349" y="1843"/>
                    </a:lnTo>
                    <a:lnTo>
                      <a:pt x="311" y="1847"/>
                    </a:lnTo>
                    <a:lnTo>
                      <a:pt x="273" y="1852"/>
                    </a:lnTo>
                    <a:lnTo>
                      <a:pt x="236" y="1860"/>
                    </a:lnTo>
                    <a:lnTo>
                      <a:pt x="200" y="1871"/>
                    </a:lnTo>
                    <a:lnTo>
                      <a:pt x="166" y="1886"/>
                    </a:lnTo>
                    <a:lnTo>
                      <a:pt x="135" y="1904"/>
                    </a:lnTo>
                    <a:lnTo>
                      <a:pt x="105" y="1925"/>
                    </a:lnTo>
                    <a:lnTo>
                      <a:pt x="78" y="1951"/>
                    </a:lnTo>
                    <a:lnTo>
                      <a:pt x="55" y="1982"/>
                    </a:lnTo>
                    <a:lnTo>
                      <a:pt x="36" y="2017"/>
                    </a:lnTo>
                    <a:lnTo>
                      <a:pt x="20" y="2056"/>
                    </a:lnTo>
                    <a:lnTo>
                      <a:pt x="9" y="2101"/>
                    </a:lnTo>
                    <a:lnTo>
                      <a:pt x="2" y="2152"/>
                    </a:lnTo>
                    <a:lnTo>
                      <a:pt x="0" y="2208"/>
                    </a:lnTo>
                    <a:lnTo>
                      <a:pt x="4" y="2270"/>
                    </a:lnTo>
                    <a:lnTo>
                      <a:pt x="14" y="2338"/>
                    </a:lnTo>
                    <a:lnTo>
                      <a:pt x="30" y="2413"/>
                    </a:lnTo>
                    <a:lnTo>
                      <a:pt x="50" y="2489"/>
                    </a:lnTo>
                    <a:lnTo>
                      <a:pt x="72" y="2562"/>
                    </a:lnTo>
                    <a:lnTo>
                      <a:pt x="95" y="2633"/>
                    </a:lnTo>
                    <a:lnTo>
                      <a:pt x="119" y="2701"/>
                    </a:lnTo>
                    <a:lnTo>
                      <a:pt x="145" y="2765"/>
                    </a:lnTo>
                    <a:lnTo>
                      <a:pt x="171" y="2827"/>
                    </a:lnTo>
                    <a:lnTo>
                      <a:pt x="199" y="2886"/>
                    </a:lnTo>
                    <a:lnTo>
                      <a:pt x="227" y="2945"/>
                    </a:lnTo>
                    <a:lnTo>
                      <a:pt x="256" y="3000"/>
                    </a:lnTo>
                    <a:lnTo>
                      <a:pt x="286" y="3053"/>
                    </a:lnTo>
                    <a:lnTo>
                      <a:pt x="318" y="3105"/>
                    </a:lnTo>
                    <a:lnTo>
                      <a:pt x="349" y="3155"/>
                    </a:lnTo>
                    <a:lnTo>
                      <a:pt x="383" y="3204"/>
                    </a:lnTo>
                    <a:lnTo>
                      <a:pt x="416" y="3251"/>
                    </a:lnTo>
                    <a:lnTo>
                      <a:pt x="449" y="3297"/>
                    </a:lnTo>
                    <a:lnTo>
                      <a:pt x="484" y="3343"/>
                    </a:lnTo>
                    <a:lnTo>
                      <a:pt x="519" y="3387"/>
                    </a:lnTo>
                    <a:lnTo>
                      <a:pt x="555" y="3431"/>
                    </a:lnTo>
                    <a:lnTo>
                      <a:pt x="591" y="3474"/>
                    </a:lnTo>
                    <a:lnTo>
                      <a:pt x="627" y="3517"/>
                    </a:lnTo>
                    <a:lnTo>
                      <a:pt x="701" y="3601"/>
                    </a:lnTo>
                    <a:lnTo>
                      <a:pt x="775" y="3685"/>
                    </a:lnTo>
                    <a:lnTo>
                      <a:pt x="849" y="3772"/>
                    </a:lnTo>
                    <a:lnTo>
                      <a:pt x="924" y="3861"/>
                    </a:lnTo>
                    <a:lnTo>
                      <a:pt x="961" y="3906"/>
                    </a:lnTo>
                    <a:lnTo>
                      <a:pt x="998" y="3953"/>
                    </a:lnTo>
                    <a:lnTo>
                      <a:pt x="1034" y="4001"/>
                    </a:lnTo>
                    <a:lnTo>
                      <a:pt x="1071" y="4051"/>
                    </a:lnTo>
                    <a:lnTo>
                      <a:pt x="1107" y="4103"/>
                    </a:lnTo>
                    <a:lnTo>
                      <a:pt x="1143" y="4158"/>
                    </a:lnTo>
                    <a:lnTo>
                      <a:pt x="1178" y="4218"/>
                    </a:lnTo>
                    <a:lnTo>
                      <a:pt x="1211" y="4278"/>
                    </a:lnTo>
                    <a:lnTo>
                      <a:pt x="1245" y="4342"/>
                    </a:lnTo>
                    <a:lnTo>
                      <a:pt x="1279" y="4409"/>
                    </a:lnTo>
                    <a:lnTo>
                      <a:pt x="1310" y="4477"/>
                    </a:lnTo>
                    <a:lnTo>
                      <a:pt x="1342" y="4546"/>
                    </a:lnTo>
                    <a:lnTo>
                      <a:pt x="1372" y="4617"/>
                    </a:lnTo>
                    <a:lnTo>
                      <a:pt x="1403" y="4689"/>
                    </a:lnTo>
                    <a:lnTo>
                      <a:pt x="1431" y="4761"/>
                    </a:lnTo>
                    <a:lnTo>
                      <a:pt x="1459" y="4833"/>
                    </a:lnTo>
                    <a:lnTo>
                      <a:pt x="1486" y="4904"/>
                    </a:lnTo>
                    <a:lnTo>
                      <a:pt x="1512" y="4976"/>
                    </a:lnTo>
                    <a:lnTo>
                      <a:pt x="1535" y="5046"/>
                    </a:lnTo>
                    <a:lnTo>
                      <a:pt x="1559" y="5115"/>
                    </a:lnTo>
                    <a:lnTo>
                      <a:pt x="1603" y="5248"/>
                    </a:lnTo>
                    <a:lnTo>
                      <a:pt x="1642" y="5373"/>
                    </a:lnTo>
                    <a:lnTo>
                      <a:pt x="1676" y="5486"/>
                    </a:lnTo>
                    <a:lnTo>
                      <a:pt x="1704" y="5584"/>
                    </a:lnTo>
                    <a:lnTo>
                      <a:pt x="1742" y="5725"/>
                    </a:lnTo>
                    <a:lnTo>
                      <a:pt x="1756" y="5778"/>
                    </a:lnTo>
                    <a:lnTo>
                      <a:pt x="1777" y="5792"/>
                    </a:lnTo>
                    <a:lnTo>
                      <a:pt x="1834" y="5827"/>
                    </a:lnTo>
                    <a:lnTo>
                      <a:pt x="1872" y="5849"/>
                    </a:lnTo>
                    <a:lnTo>
                      <a:pt x="1915" y="5873"/>
                    </a:lnTo>
                    <a:lnTo>
                      <a:pt x="1961" y="5898"/>
                    </a:lnTo>
                    <a:lnTo>
                      <a:pt x="2008" y="5922"/>
                    </a:lnTo>
                    <a:lnTo>
                      <a:pt x="2056" y="5945"/>
                    </a:lnTo>
                    <a:lnTo>
                      <a:pt x="2101" y="5964"/>
                    </a:lnTo>
                    <a:lnTo>
                      <a:pt x="2123" y="5972"/>
                    </a:lnTo>
                    <a:lnTo>
                      <a:pt x="2143" y="5980"/>
                    </a:lnTo>
                    <a:lnTo>
                      <a:pt x="2164" y="5985"/>
                    </a:lnTo>
                    <a:lnTo>
                      <a:pt x="2182" y="5990"/>
                    </a:lnTo>
                    <a:lnTo>
                      <a:pt x="2200" y="5992"/>
                    </a:lnTo>
                    <a:lnTo>
                      <a:pt x="2214" y="5993"/>
                    </a:lnTo>
                    <a:lnTo>
                      <a:pt x="2228" y="5992"/>
                    </a:lnTo>
                    <a:lnTo>
                      <a:pt x="2239" y="5990"/>
                    </a:lnTo>
                    <a:lnTo>
                      <a:pt x="2249" y="5984"/>
                    </a:lnTo>
                    <a:lnTo>
                      <a:pt x="2256" y="5976"/>
                    </a:lnTo>
                    <a:lnTo>
                      <a:pt x="2259" y="5966"/>
                    </a:lnTo>
                    <a:lnTo>
                      <a:pt x="2261" y="5954"/>
                    </a:lnTo>
                    <a:lnTo>
                      <a:pt x="2262" y="5912"/>
                    </a:lnTo>
                    <a:lnTo>
                      <a:pt x="2268" y="5846"/>
                    </a:lnTo>
                    <a:lnTo>
                      <a:pt x="2278" y="5756"/>
                    </a:lnTo>
                    <a:lnTo>
                      <a:pt x="2293" y="5648"/>
                    </a:lnTo>
                    <a:lnTo>
                      <a:pt x="2301" y="5586"/>
                    </a:lnTo>
                    <a:lnTo>
                      <a:pt x="2311" y="5522"/>
                    </a:lnTo>
                    <a:lnTo>
                      <a:pt x="2322" y="5454"/>
                    </a:lnTo>
                    <a:lnTo>
                      <a:pt x="2336" y="5383"/>
                    </a:lnTo>
                    <a:lnTo>
                      <a:pt x="2349" y="5309"/>
                    </a:lnTo>
                    <a:lnTo>
                      <a:pt x="2365" y="5234"/>
                    </a:lnTo>
                    <a:lnTo>
                      <a:pt x="2380" y="5156"/>
                    </a:lnTo>
                    <a:lnTo>
                      <a:pt x="2400" y="5077"/>
                    </a:lnTo>
                    <a:lnTo>
                      <a:pt x="2419" y="4997"/>
                    </a:lnTo>
                    <a:lnTo>
                      <a:pt x="2440" y="4916"/>
                    </a:lnTo>
                    <a:lnTo>
                      <a:pt x="2463" y="4835"/>
                    </a:lnTo>
                    <a:lnTo>
                      <a:pt x="2487" y="4754"/>
                    </a:lnTo>
                    <a:lnTo>
                      <a:pt x="2513" y="4674"/>
                    </a:lnTo>
                    <a:lnTo>
                      <a:pt x="2540" y="4594"/>
                    </a:lnTo>
                    <a:lnTo>
                      <a:pt x="2569" y="4516"/>
                    </a:lnTo>
                    <a:lnTo>
                      <a:pt x="2601" y="4439"/>
                    </a:lnTo>
                    <a:lnTo>
                      <a:pt x="2633" y="4365"/>
                    </a:lnTo>
                    <a:lnTo>
                      <a:pt x="2668" y="4293"/>
                    </a:lnTo>
                    <a:lnTo>
                      <a:pt x="2704" y="4223"/>
                    </a:lnTo>
                    <a:lnTo>
                      <a:pt x="2742" y="4157"/>
                    </a:lnTo>
                    <a:lnTo>
                      <a:pt x="2783" y="4094"/>
                    </a:lnTo>
                    <a:lnTo>
                      <a:pt x="2826" y="4035"/>
                    </a:lnTo>
                    <a:lnTo>
                      <a:pt x="2869" y="3980"/>
                    </a:lnTo>
                    <a:lnTo>
                      <a:pt x="2917" y="3931"/>
                    </a:lnTo>
                    <a:lnTo>
                      <a:pt x="2964" y="3882"/>
                    </a:lnTo>
                    <a:lnTo>
                      <a:pt x="3011" y="3830"/>
                    </a:lnTo>
                    <a:lnTo>
                      <a:pt x="3057" y="3776"/>
                    </a:lnTo>
                    <a:lnTo>
                      <a:pt x="3104" y="3721"/>
                    </a:lnTo>
                    <a:lnTo>
                      <a:pt x="3150" y="3663"/>
                    </a:lnTo>
                    <a:lnTo>
                      <a:pt x="3197" y="3603"/>
                    </a:lnTo>
                    <a:lnTo>
                      <a:pt x="3242" y="3542"/>
                    </a:lnTo>
                    <a:lnTo>
                      <a:pt x="3285" y="3480"/>
                    </a:lnTo>
                    <a:lnTo>
                      <a:pt x="3329" y="3416"/>
                    </a:lnTo>
                    <a:lnTo>
                      <a:pt x="3372" y="3352"/>
                    </a:lnTo>
                    <a:lnTo>
                      <a:pt x="3414" y="3287"/>
                    </a:lnTo>
                    <a:lnTo>
                      <a:pt x="3453" y="3222"/>
                    </a:lnTo>
                    <a:lnTo>
                      <a:pt x="3492" y="3156"/>
                    </a:lnTo>
                    <a:lnTo>
                      <a:pt x="3529" y="3090"/>
                    </a:lnTo>
                    <a:lnTo>
                      <a:pt x="3565" y="3025"/>
                    </a:lnTo>
                    <a:lnTo>
                      <a:pt x="3600" y="2960"/>
                    </a:lnTo>
                    <a:lnTo>
                      <a:pt x="3632" y="2895"/>
                    </a:lnTo>
                    <a:lnTo>
                      <a:pt x="3663" y="2831"/>
                    </a:lnTo>
                    <a:lnTo>
                      <a:pt x="3691" y="2768"/>
                    </a:lnTo>
                    <a:lnTo>
                      <a:pt x="3718" y="2707"/>
                    </a:lnTo>
                    <a:lnTo>
                      <a:pt x="3743" y="2647"/>
                    </a:lnTo>
                    <a:lnTo>
                      <a:pt x="3764" y="2588"/>
                    </a:lnTo>
                    <a:lnTo>
                      <a:pt x="3784" y="2532"/>
                    </a:lnTo>
                    <a:lnTo>
                      <a:pt x="3801" y="2478"/>
                    </a:lnTo>
                    <a:lnTo>
                      <a:pt x="3817" y="2426"/>
                    </a:lnTo>
                    <a:lnTo>
                      <a:pt x="3828" y="2375"/>
                    </a:lnTo>
                    <a:lnTo>
                      <a:pt x="3837" y="2329"/>
                    </a:lnTo>
                    <a:lnTo>
                      <a:pt x="3844" y="2285"/>
                    </a:lnTo>
                    <a:lnTo>
                      <a:pt x="3846" y="2245"/>
                    </a:lnTo>
                    <a:lnTo>
                      <a:pt x="3846" y="2207"/>
                    </a:lnTo>
                    <a:lnTo>
                      <a:pt x="3843" y="2173"/>
                    </a:lnTo>
                    <a:lnTo>
                      <a:pt x="3837" y="2143"/>
                    </a:lnTo>
                    <a:lnTo>
                      <a:pt x="3827" y="2116"/>
                    </a:lnTo>
                    <a:lnTo>
                      <a:pt x="3817" y="2086"/>
                    </a:lnTo>
                    <a:lnTo>
                      <a:pt x="3806" y="2058"/>
                    </a:lnTo>
                    <a:lnTo>
                      <a:pt x="3792" y="2029"/>
                    </a:lnTo>
                    <a:lnTo>
                      <a:pt x="3779" y="2000"/>
                    </a:lnTo>
                    <a:lnTo>
                      <a:pt x="3763" y="1972"/>
                    </a:lnTo>
                    <a:lnTo>
                      <a:pt x="3747" y="1942"/>
                    </a:lnTo>
                    <a:lnTo>
                      <a:pt x="3731" y="1914"/>
                    </a:lnTo>
                    <a:lnTo>
                      <a:pt x="3713" y="1886"/>
                    </a:lnTo>
                    <a:lnTo>
                      <a:pt x="3693" y="1858"/>
                    </a:lnTo>
                    <a:lnTo>
                      <a:pt x="3673" y="1831"/>
                    </a:lnTo>
                    <a:lnTo>
                      <a:pt x="3653" y="1805"/>
                    </a:lnTo>
                    <a:lnTo>
                      <a:pt x="3632" y="1779"/>
                    </a:lnTo>
                    <a:lnTo>
                      <a:pt x="3610" y="1755"/>
                    </a:lnTo>
                    <a:lnTo>
                      <a:pt x="3588" y="1732"/>
                    </a:lnTo>
                    <a:lnTo>
                      <a:pt x="3565" y="1709"/>
                    </a:lnTo>
                    <a:lnTo>
                      <a:pt x="3542" y="1689"/>
                    </a:lnTo>
                    <a:lnTo>
                      <a:pt x="3518" y="1669"/>
                    </a:lnTo>
                    <a:lnTo>
                      <a:pt x="3494" y="1651"/>
                    </a:lnTo>
                    <a:lnTo>
                      <a:pt x="3471" y="1635"/>
                    </a:lnTo>
                    <a:lnTo>
                      <a:pt x="3446" y="1620"/>
                    </a:lnTo>
                    <a:lnTo>
                      <a:pt x="3421" y="1607"/>
                    </a:lnTo>
                    <a:lnTo>
                      <a:pt x="3397" y="1597"/>
                    </a:lnTo>
                    <a:lnTo>
                      <a:pt x="3372" y="1588"/>
                    </a:lnTo>
                    <a:lnTo>
                      <a:pt x="3348" y="1581"/>
                    </a:lnTo>
                    <a:lnTo>
                      <a:pt x="3324" y="1578"/>
                    </a:lnTo>
                    <a:lnTo>
                      <a:pt x="3299" y="1575"/>
                    </a:lnTo>
                    <a:lnTo>
                      <a:pt x="3275" y="1577"/>
                    </a:lnTo>
                    <a:lnTo>
                      <a:pt x="3251" y="1580"/>
                    </a:lnTo>
                    <a:lnTo>
                      <a:pt x="3227" y="1586"/>
                    </a:lnTo>
                    <a:lnTo>
                      <a:pt x="3204" y="1595"/>
                    </a:lnTo>
                    <a:lnTo>
                      <a:pt x="3182" y="1607"/>
                    </a:lnTo>
                    <a:lnTo>
                      <a:pt x="3162" y="1616"/>
                    </a:lnTo>
                    <a:lnTo>
                      <a:pt x="3146" y="1614"/>
                    </a:lnTo>
                    <a:lnTo>
                      <a:pt x="3135" y="1601"/>
                    </a:lnTo>
                    <a:lnTo>
                      <a:pt x="3127" y="1580"/>
                    </a:lnTo>
                    <a:lnTo>
                      <a:pt x="3121" y="1550"/>
                    </a:lnTo>
                    <a:lnTo>
                      <a:pt x="3117" y="1512"/>
                    </a:lnTo>
                    <a:lnTo>
                      <a:pt x="3116" y="1466"/>
                    </a:lnTo>
                    <a:lnTo>
                      <a:pt x="3115" y="1416"/>
                    </a:lnTo>
                    <a:lnTo>
                      <a:pt x="3115" y="1295"/>
                    </a:lnTo>
                    <a:lnTo>
                      <a:pt x="3112" y="1157"/>
                    </a:lnTo>
                    <a:lnTo>
                      <a:pt x="3108" y="1083"/>
                    </a:lnTo>
                    <a:lnTo>
                      <a:pt x="3103" y="1006"/>
                    </a:lnTo>
                    <a:lnTo>
                      <a:pt x="3094" y="927"/>
                    </a:lnTo>
                    <a:lnTo>
                      <a:pt x="3083" y="849"/>
                    </a:lnTo>
                    <a:lnTo>
                      <a:pt x="3068" y="769"/>
                    </a:lnTo>
                    <a:lnTo>
                      <a:pt x="3048" y="690"/>
                    </a:lnTo>
                    <a:lnTo>
                      <a:pt x="3023" y="611"/>
                    </a:lnTo>
                    <a:lnTo>
                      <a:pt x="2994" y="535"/>
                    </a:lnTo>
                    <a:lnTo>
                      <a:pt x="2958" y="460"/>
                    </a:lnTo>
                    <a:lnTo>
                      <a:pt x="2917" y="389"/>
                    </a:lnTo>
                    <a:lnTo>
                      <a:pt x="2867" y="322"/>
                    </a:lnTo>
                    <a:lnTo>
                      <a:pt x="2811" y="259"/>
                    </a:lnTo>
                    <a:lnTo>
                      <a:pt x="2746" y="202"/>
                    </a:lnTo>
                    <a:lnTo>
                      <a:pt x="2673" y="150"/>
                    </a:lnTo>
                    <a:lnTo>
                      <a:pt x="2590" y="105"/>
                    </a:lnTo>
                    <a:lnTo>
                      <a:pt x="2497" y="66"/>
                    </a:lnTo>
                    <a:lnTo>
                      <a:pt x="2395" y="36"/>
                    </a:lnTo>
                    <a:lnTo>
                      <a:pt x="2282" y="15"/>
                    </a:lnTo>
                    <a:lnTo>
                      <a:pt x="2158" y="2"/>
                    </a:lnTo>
                    <a:lnTo>
                      <a:pt x="2021" y="0"/>
                    </a:lnTo>
                    <a:lnTo>
                      <a:pt x="1884" y="5"/>
                    </a:lnTo>
                    <a:lnTo>
                      <a:pt x="1754" y="11"/>
                    </a:lnTo>
                    <a:lnTo>
                      <a:pt x="1634" y="23"/>
                    </a:lnTo>
                    <a:lnTo>
                      <a:pt x="1523" y="36"/>
                    </a:lnTo>
                    <a:lnTo>
                      <a:pt x="1418" y="54"/>
                    </a:lnTo>
                    <a:lnTo>
                      <a:pt x="1323" y="74"/>
                    </a:lnTo>
                    <a:lnTo>
                      <a:pt x="1234" y="99"/>
                    </a:lnTo>
                    <a:lnTo>
                      <a:pt x="1153" y="126"/>
                    </a:lnTo>
                    <a:lnTo>
                      <a:pt x="1079" y="157"/>
                    </a:lnTo>
                    <a:lnTo>
                      <a:pt x="1011" y="191"/>
                    </a:lnTo>
                    <a:lnTo>
                      <a:pt x="951" y="230"/>
                    </a:lnTo>
                    <a:lnTo>
                      <a:pt x="896" y="270"/>
                    </a:lnTo>
                    <a:lnTo>
                      <a:pt x="847" y="316"/>
                    </a:lnTo>
                    <a:lnTo>
                      <a:pt x="805" y="365"/>
                    </a:lnTo>
                    <a:lnTo>
                      <a:pt x="767" y="416"/>
                    </a:lnTo>
                    <a:lnTo>
                      <a:pt x="736" y="473"/>
                    </a:lnTo>
                    <a:lnTo>
                      <a:pt x="709" y="532"/>
                    </a:lnTo>
                    <a:lnTo>
                      <a:pt x="688" y="596"/>
                    </a:lnTo>
                    <a:lnTo>
                      <a:pt x="670" y="664"/>
                    </a:lnTo>
                    <a:lnTo>
                      <a:pt x="657" y="735"/>
                    </a:lnTo>
                    <a:lnTo>
                      <a:pt x="648" y="810"/>
                    </a:lnTo>
                    <a:lnTo>
                      <a:pt x="643" y="890"/>
                    </a:lnTo>
                    <a:lnTo>
                      <a:pt x="642" y="973"/>
                    </a:lnTo>
                    <a:lnTo>
                      <a:pt x="643" y="1060"/>
                    </a:lnTo>
                    <a:lnTo>
                      <a:pt x="647" y="1151"/>
                    </a:lnTo>
                    <a:lnTo>
                      <a:pt x="655" y="1247"/>
                    </a:lnTo>
                    <a:lnTo>
                      <a:pt x="665" y="1346"/>
                    </a:lnTo>
                    <a:lnTo>
                      <a:pt x="678" y="1449"/>
                    </a:lnTo>
                    <a:lnTo>
                      <a:pt x="692" y="1557"/>
                    </a:lnTo>
                    <a:lnTo>
                      <a:pt x="708" y="1670"/>
                    </a:lnTo>
                    <a:lnTo>
                      <a:pt x="726" y="1787"/>
                    </a:lnTo>
                    <a:lnTo>
                      <a:pt x="745" y="1907"/>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0" name=""/>
              <p:cNvSpPr/>
              <p:nvPr/>
            </p:nvSpPr>
            <p:spPr>
              <a:xfrm>
                <a:off x="882360" y="1794600"/>
                <a:ext cx="773280" cy="1101600"/>
              </a:xfrm>
              <a:custGeom>
                <a:avLst/>
                <a:gdLst/>
                <a:ahLst/>
                <a:rect l="l" t="t" r="r" b="b"/>
                <a:pathLst>
                  <a:path w="3846" h="5993">
                    <a:moveTo>
                      <a:pt x="745" y="1907"/>
                    </a:moveTo>
                    <a:lnTo>
                      <a:pt x="735" y="1904"/>
                    </a:lnTo>
                    <a:lnTo>
                      <a:pt x="706" y="1895"/>
                    </a:lnTo>
                    <a:lnTo>
                      <a:pt x="662" y="1883"/>
                    </a:lnTo>
                    <a:lnTo>
                      <a:pt x="604" y="1869"/>
                    </a:lnTo>
                    <a:lnTo>
                      <a:pt x="572" y="1862"/>
                    </a:lnTo>
                    <a:lnTo>
                      <a:pt x="538" y="1857"/>
                    </a:lnTo>
                    <a:lnTo>
                      <a:pt x="502" y="1851"/>
                    </a:lnTo>
                    <a:lnTo>
                      <a:pt x="465" y="1847"/>
                    </a:lnTo>
                    <a:lnTo>
                      <a:pt x="427" y="1844"/>
                    </a:lnTo>
                    <a:lnTo>
                      <a:pt x="387" y="1843"/>
                    </a:lnTo>
                    <a:lnTo>
                      <a:pt x="349" y="1843"/>
                    </a:lnTo>
                    <a:lnTo>
                      <a:pt x="311" y="1847"/>
                    </a:lnTo>
                    <a:lnTo>
                      <a:pt x="273" y="1852"/>
                    </a:lnTo>
                    <a:lnTo>
                      <a:pt x="236" y="1860"/>
                    </a:lnTo>
                    <a:lnTo>
                      <a:pt x="200" y="1871"/>
                    </a:lnTo>
                    <a:lnTo>
                      <a:pt x="166" y="1886"/>
                    </a:lnTo>
                    <a:lnTo>
                      <a:pt x="135" y="1904"/>
                    </a:lnTo>
                    <a:lnTo>
                      <a:pt x="105" y="1925"/>
                    </a:lnTo>
                    <a:lnTo>
                      <a:pt x="78" y="1951"/>
                    </a:lnTo>
                    <a:lnTo>
                      <a:pt x="55" y="1982"/>
                    </a:lnTo>
                    <a:lnTo>
                      <a:pt x="36" y="2017"/>
                    </a:lnTo>
                    <a:lnTo>
                      <a:pt x="20" y="2056"/>
                    </a:lnTo>
                    <a:lnTo>
                      <a:pt x="9" y="2101"/>
                    </a:lnTo>
                    <a:lnTo>
                      <a:pt x="2" y="2152"/>
                    </a:lnTo>
                    <a:lnTo>
                      <a:pt x="0" y="2208"/>
                    </a:lnTo>
                    <a:lnTo>
                      <a:pt x="4" y="2270"/>
                    </a:lnTo>
                    <a:lnTo>
                      <a:pt x="14" y="2338"/>
                    </a:lnTo>
                    <a:lnTo>
                      <a:pt x="30" y="2413"/>
                    </a:lnTo>
                    <a:lnTo>
                      <a:pt x="50" y="2489"/>
                    </a:lnTo>
                    <a:lnTo>
                      <a:pt x="72" y="2562"/>
                    </a:lnTo>
                    <a:lnTo>
                      <a:pt x="95" y="2633"/>
                    </a:lnTo>
                    <a:lnTo>
                      <a:pt x="119" y="2701"/>
                    </a:lnTo>
                    <a:lnTo>
                      <a:pt x="145" y="2765"/>
                    </a:lnTo>
                    <a:lnTo>
                      <a:pt x="171" y="2827"/>
                    </a:lnTo>
                    <a:lnTo>
                      <a:pt x="199" y="2886"/>
                    </a:lnTo>
                    <a:lnTo>
                      <a:pt x="227" y="2945"/>
                    </a:lnTo>
                    <a:lnTo>
                      <a:pt x="256" y="3000"/>
                    </a:lnTo>
                    <a:lnTo>
                      <a:pt x="286" y="3053"/>
                    </a:lnTo>
                    <a:lnTo>
                      <a:pt x="318" y="3105"/>
                    </a:lnTo>
                    <a:lnTo>
                      <a:pt x="349" y="3155"/>
                    </a:lnTo>
                    <a:lnTo>
                      <a:pt x="383" y="3204"/>
                    </a:lnTo>
                    <a:lnTo>
                      <a:pt x="416" y="3251"/>
                    </a:lnTo>
                    <a:lnTo>
                      <a:pt x="449" y="3297"/>
                    </a:lnTo>
                    <a:lnTo>
                      <a:pt x="484" y="3343"/>
                    </a:lnTo>
                    <a:lnTo>
                      <a:pt x="519" y="3387"/>
                    </a:lnTo>
                    <a:lnTo>
                      <a:pt x="555" y="3431"/>
                    </a:lnTo>
                    <a:lnTo>
                      <a:pt x="591" y="3474"/>
                    </a:lnTo>
                    <a:lnTo>
                      <a:pt x="627" y="3517"/>
                    </a:lnTo>
                    <a:lnTo>
                      <a:pt x="701" y="3601"/>
                    </a:lnTo>
                    <a:lnTo>
                      <a:pt x="775" y="3685"/>
                    </a:lnTo>
                    <a:lnTo>
                      <a:pt x="849" y="3772"/>
                    </a:lnTo>
                    <a:lnTo>
                      <a:pt x="924" y="3861"/>
                    </a:lnTo>
                    <a:lnTo>
                      <a:pt x="961" y="3906"/>
                    </a:lnTo>
                    <a:lnTo>
                      <a:pt x="998" y="3953"/>
                    </a:lnTo>
                    <a:lnTo>
                      <a:pt x="1034" y="4001"/>
                    </a:lnTo>
                    <a:lnTo>
                      <a:pt x="1071" y="4051"/>
                    </a:lnTo>
                    <a:lnTo>
                      <a:pt x="1107" y="4103"/>
                    </a:lnTo>
                    <a:lnTo>
                      <a:pt x="1143" y="4158"/>
                    </a:lnTo>
                    <a:lnTo>
                      <a:pt x="1178" y="4218"/>
                    </a:lnTo>
                    <a:lnTo>
                      <a:pt x="1211" y="4278"/>
                    </a:lnTo>
                    <a:lnTo>
                      <a:pt x="1245" y="4342"/>
                    </a:lnTo>
                    <a:lnTo>
                      <a:pt x="1279" y="4409"/>
                    </a:lnTo>
                    <a:lnTo>
                      <a:pt x="1310" y="4477"/>
                    </a:lnTo>
                    <a:lnTo>
                      <a:pt x="1342" y="4546"/>
                    </a:lnTo>
                    <a:lnTo>
                      <a:pt x="1372" y="4617"/>
                    </a:lnTo>
                    <a:lnTo>
                      <a:pt x="1403" y="4689"/>
                    </a:lnTo>
                    <a:lnTo>
                      <a:pt x="1431" y="4761"/>
                    </a:lnTo>
                    <a:lnTo>
                      <a:pt x="1459" y="4833"/>
                    </a:lnTo>
                    <a:lnTo>
                      <a:pt x="1486" y="4904"/>
                    </a:lnTo>
                    <a:lnTo>
                      <a:pt x="1512" y="4976"/>
                    </a:lnTo>
                    <a:lnTo>
                      <a:pt x="1535" y="5046"/>
                    </a:lnTo>
                    <a:lnTo>
                      <a:pt x="1559" y="5115"/>
                    </a:lnTo>
                    <a:lnTo>
                      <a:pt x="1603" y="5248"/>
                    </a:lnTo>
                    <a:lnTo>
                      <a:pt x="1642" y="5373"/>
                    </a:lnTo>
                    <a:lnTo>
                      <a:pt x="1676" y="5486"/>
                    </a:lnTo>
                    <a:lnTo>
                      <a:pt x="1704" y="5584"/>
                    </a:lnTo>
                    <a:lnTo>
                      <a:pt x="1742" y="5725"/>
                    </a:lnTo>
                    <a:lnTo>
                      <a:pt x="1756" y="5778"/>
                    </a:lnTo>
                    <a:lnTo>
                      <a:pt x="1777" y="5792"/>
                    </a:lnTo>
                    <a:lnTo>
                      <a:pt x="1834" y="5827"/>
                    </a:lnTo>
                    <a:lnTo>
                      <a:pt x="1872" y="5849"/>
                    </a:lnTo>
                    <a:lnTo>
                      <a:pt x="1915" y="5873"/>
                    </a:lnTo>
                    <a:lnTo>
                      <a:pt x="1961" y="5898"/>
                    </a:lnTo>
                    <a:lnTo>
                      <a:pt x="2008" y="5922"/>
                    </a:lnTo>
                    <a:lnTo>
                      <a:pt x="2056" y="5945"/>
                    </a:lnTo>
                    <a:lnTo>
                      <a:pt x="2101" y="5964"/>
                    </a:lnTo>
                    <a:lnTo>
                      <a:pt x="2123" y="5972"/>
                    </a:lnTo>
                    <a:lnTo>
                      <a:pt x="2143" y="5980"/>
                    </a:lnTo>
                    <a:lnTo>
                      <a:pt x="2164" y="5985"/>
                    </a:lnTo>
                    <a:lnTo>
                      <a:pt x="2182" y="5990"/>
                    </a:lnTo>
                    <a:lnTo>
                      <a:pt x="2200" y="5992"/>
                    </a:lnTo>
                    <a:lnTo>
                      <a:pt x="2214" y="5993"/>
                    </a:lnTo>
                    <a:lnTo>
                      <a:pt x="2228" y="5992"/>
                    </a:lnTo>
                    <a:lnTo>
                      <a:pt x="2239" y="5990"/>
                    </a:lnTo>
                    <a:lnTo>
                      <a:pt x="2249" y="5984"/>
                    </a:lnTo>
                    <a:lnTo>
                      <a:pt x="2256" y="5976"/>
                    </a:lnTo>
                    <a:lnTo>
                      <a:pt x="2259" y="5966"/>
                    </a:lnTo>
                    <a:lnTo>
                      <a:pt x="2261" y="5954"/>
                    </a:lnTo>
                    <a:lnTo>
                      <a:pt x="2262" y="5912"/>
                    </a:lnTo>
                    <a:lnTo>
                      <a:pt x="2268" y="5846"/>
                    </a:lnTo>
                    <a:lnTo>
                      <a:pt x="2278" y="5756"/>
                    </a:lnTo>
                    <a:lnTo>
                      <a:pt x="2293" y="5648"/>
                    </a:lnTo>
                    <a:lnTo>
                      <a:pt x="2301" y="5586"/>
                    </a:lnTo>
                    <a:lnTo>
                      <a:pt x="2311" y="5522"/>
                    </a:lnTo>
                    <a:lnTo>
                      <a:pt x="2322" y="5454"/>
                    </a:lnTo>
                    <a:lnTo>
                      <a:pt x="2336" y="5383"/>
                    </a:lnTo>
                    <a:lnTo>
                      <a:pt x="2349" y="5309"/>
                    </a:lnTo>
                    <a:lnTo>
                      <a:pt x="2365" y="5234"/>
                    </a:lnTo>
                    <a:lnTo>
                      <a:pt x="2380" y="5156"/>
                    </a:lnTo>
                    <a:lnTo>
                      <a:pt x="2400" y="5077"/>
                    </a:lnTo>
                    <a:lnTo>
                      <a:pt x="2419" y="4997"/>
                    </a:lnTo>
                    <a:lnTo>
                      <a:pt x="2440" y="4916"/>
                    </a:lnTo>
                    <a:lnTo>
                      <a:pt x="2463" y="4835"/>
                    </a:lnTo>
                    <a:lnTo>
                      <a:pt x="2487" y="4754"/>
                    </a:lnTo>
                    <a:lnTo>
                      <a:pt x="2513" y="4674"/>
                    </a:lnTo>
                    <a:lnTo>
                      <a:pt x="2540" y="4594"/>
                    </a:lnTo>
                    <a:lnTo>
                      <a:pt x="2569" y="4516"/>
                    </a:lnTo>
                    <a:lnTo>
                      <a:pt x="2601" y="4439"/>
                    </a:lnTo>
                    <a:lnTo>
                      <a:pt x="2633" y="4365"/>
                    </a:lnTo>
                    <a:lnTo>
                      <a:pt x="2668" y="4293"/>
                    </a:lnTo>
                    <a:lnTo>
                      <a:pt x="2704" y="4223"/>
                    </a:lnTo>
                    <a:lnTo>
                      <a:pt x="2742" y="4157"/>
                    </a:lnTo>
                    <a:lnTo>
                      <a:pt x="2783" y="4094"/>
                    </a:lnTo>
                    <a:lnTo>
                      <a:pt x="2826" y="4035"/>
                    </a:lnTo>
                    <a:lnTo>
                      <a:pt x="2869" y="3980"/>
                    </a:lnTo>
                    <a:lnTo>
                      <a:pt x="2917" y="3931"/>
                    </a:lnTo>
                    <a:lnTo>
                      <a:pt x="2964" y="3882"/>
                    </a:lnTo>
                    <a:lnTo>
                      <a:pt x="3011" y="3830"/>
                    </a:lnTo>
                    <a:lnTo>
                      <a:pt x="3057" y="3776"/>
                    </a:lnTo>
                    <a:lnTo>
                      <a:pt x="3104" y="3721"/>
                    </a:lnTo>
                    <a:lnTo>
                      <a:pt x="3150" y="3663"/>
                    </a:lnTo>
                    <a:lnTo>
                      <a:pt x="3197" y="3603"/>
                    </a:lnTo>
                    <a:lnTo>
                      <a:pt x="3242" y="3542"/>
                    </a:lnTo>
                    <a:lnTo>
                      <a:pt x="3285" y="3480"/>
                    </a:lnTo>
                    <a:lnTo>
                      <a:pt x="3329" y="3416"/>
                    </a:lnTo>
                    <a:lnTo>
                      <a:pt x="3372" y="3352"/>
                    </a:lnTo>
                    <a:lnTo>
                      <a:pt x="3414" y="3287"/>
                    </a:lnTo>
                    <a:lnTo>
                      <a:pt x="3453" y="3222"/>
                    </a:lnTo>
                    <a:lnTo>
                      <a:pt x="3492" y="3156"/>
                    </a:lnTo>
                    <a:lnTo>
                      <a:pt x="3529" y="3090"/>
                    </a:lnTo>
                    <a:lnTo>
                      <a:pt x="3565" y="3025"/>
                    </a:lnTo>
                    <a:lnTo>
                      <a:pt x="3600" y="2960"/>
                    </a:lnTo>
                    <a:lnTo>
                      <a:pt x="3632" y="2895"/>
                    </a:lnTo>
                    <a:lnTo>
                      <a:pt x="3663" y="2831"/>
                    </a:lnTo>
                    <a:lnTo>
                      <a:pt x="3691" y="2768"/>
                    </a:lnTo>
                    <a:lnTo>
                      <a:pt x="3718" y="2707"/>
                    </a:lnTo>
                    <a:lnTo>
                      <a:pt x="3743" y="2647"/>
                    </a:lnTo>
                    <a:lnTo>
                      <a:pt x="3764" y="2588"/>
                    </a:lnTo>
                    <a:lnTo>
                      <a:pt x="3784" y="2532"/>
                    </a:lnTo>
                    <a:lnTo>
                      <a:pt x="3801" y="2478"/>
                    </a:lnTo>
                    <a:lnTo>
                      <a:pt x="3817" y="2426"/>
                    </a:lnTo>
                    <a:lnTo>
                      <a:pt x="3828" y="2375"/>
                    </a:lnTo>
                    <a:lnTo>
                      <a:pt x="3837" y="2329"/>
                    </a:lnTo>
                    <a:lnTo>
                      <a:pt x="3844" y="2285"/>
                    </a:lnTo>
                    <a:lnTo>
                      <a:pt x="3846" y="2245"/>
                    </a:lnTo>
                    <a:lnTo>
                      <a:pt x="3846" y="2207"/>
                    </a:lnTo>
                    <a:lnTo>
                      <a:pt x="3843" y="2173"/>
                    </a:lnTo>
                    <a:lnTo>
                      <a:pt x="3837" y="2143"/>
                    </a:lnTo>
                    <a:lnTo>
                      <a:pt x="3827" y="2116"/>
                    </a:lnTo>
                    <a:lnTo>
                      <a:pt x="3817" y="2086"/>
                    </a:lnTo>
                    <a:lnTo>
                      <a:pt x="3806" y="2058"/>
                    </a:lnTo>
                    <a:lnTo>
                      <a:pt x="3792" y="2029"/>
                    </a:lnTo>
                    <a:lnTo>
                      <a:pt x="3779" y="2000"/>
                    </a:lnTo>
                    <a:lnTo>
                      <a:pt x="3763" y="1972"/>
                    </a:lnTo>
                    <a:lnTo>
                      <a:pt x="3747" y="1942"/>
                    </a:lnTo>
                    <a:lnTo>
                      <a:pt x="3731" y="1914"/>
                    </a:lnTo>
                    <a:lnTo>
                      <a:pt x="3713" y="1886"/>
                    </a:lnTo>
                    <a:lnTo>
                      <a:pt x="3693" y="1858"/>
                    </a:lnTo>
                    <a:lnTo>
                      <a:pt x="3673" y="1831"/>
                    </a:lnTo>
                    <a:lnTo>
                      <a:pt x="3653" y="1805"/>
                    </a:lnTo>
                    <a:lnTo>
                      <a:pt x="3632" y="1779"/>
                    </a:lnTo>
                    <a:lnTo>
                      <a:pt x="3610" y="1755"/>
                    </a:lnTo>
                    <a:lnTo>
                      <a:pt x="3588" y="1732"/>
                    </a:lnTo>
                    <a:lnTo>
                      <a:pt x="3565" y="1709"/>
                    </a:lnTo>
                    <a:lnTo>
                      <a:pt x="3542" y="1689"/>
                    </a:lnTo>
                    <a:lnTo>
                      <a:pt x="3518" y="1669"/>
                    </a:lnTo>
                    <a:lnTo>
                      <a:pt x="3494" y="1651"/>
                    </a:lnTo>
                    <a:lnTo>
                      <a:pt x="3471" y="1635"/>
                    </a:lnTo>
                    <a:lnTo>
                      <a:pt x="3446" y="1620"/>
                    </a:lnTo>
                    <a:lnTo>
                      <a:pt x="3421" y="1607"/>
                    </a:lnTo>
                    <a:lnTo>
                      <a:pt x="3397" y="1597"/>
                    </a:lnTo>
                    <a:lnTo>
                      <a:pt x="3372" y="1588"/>
                    </a:lnTo>
                    <a:lnTo>
                      <a:pt x="3348" y="1581"/>
                    </a:lnTo>
                    <a:lnTo>
                      <a:pt x="3324" y="1578"/>
                    </a:lnTo>
                    <a:lnTo>
                      <a:pt x="3299" y="1575"/>
                    </a:lnTo>
                    <a:lnTo>
                      <a:pt x="3275" y="1577"/>
                    </a:lnTo>
                    <a:lnTo>
                      <a:pt x="3251" y="1580"/>
                    </a:lnTo>
                    <a:lnTo>
                      <a:pt x="3227" y="1586"/>
                    </a:lnTo>
                    <a:lnTo>
                      <a:pt x="3204" y="1595"/>
                    </a:lnTo>
                    <a:lnTo>
                      <a:pt x="3182" y="1607"/>
                    </a:lnTo>
                    <a:lnTo>
                      <a:pt x="3162" y="1616"/>
                    </a:lnTo>
                    <a:lnTo>
                      <a:pt x="3146" y="1614"/>
                    </a:lnTo>
                    <a:lnTo>
                      <a:pt x="3135" y="1601"/>
                    </a:lnTo>
                    <a:lnTo>
                      <a:pt x="3127" y="1580"/>
                    </a:lnTo>
                    <a:lnTo>
                      <a:pt x="3121" y="1550"/>
                    </a:lnTo>
                    <a:lnTo>
                      <a:pt x="3117" y="1512"/>
                    </a:lnTo>
                    <a:lnTo>
                      <a:pt x="3116" y="1466"/>
                    </a:lnTo>
                    <a:lnTo>
                      <a:pt x="3115" y="1416"/>
                    </a:lnTo>
                    <a:lnTo>
                      <a:pt x="3115" y="1295"/>
                    </a:lnTo>
                    <a:lnTo>
                      <a:pt x="3112" y="1157"/>
                    </a:lnTo>
                    <a:lnTo>
                      <a:pt x="3108" y="1083"/>
                    </a:lnTo>
                    <a:lnTo>
                      <a:pt x="3103" y="1006"/>
                    </a:lnTo>
                    <a:lnTo>
                      <a:pt x="3094" y="927"/>
                    </a:lnTo>
                    <a:lnTo>
                      <a:pt x="3083" y="849"/>
                    </a:lnTo>
                    <a:lnTo>
                      <a:pt x="3068" y="769"/>
                    </a:lnTo>
                    <a:lnTo>
                      <a:pt x="3048" y="690"/>
                    </a:lnTo>
                    <a:lnTo>
                      <a:pt x="3023" y="611"/>
                    </a:lnTo>
                    <a:lnTo>
                      <a:pt x="2994" y="535"/>
                    </a:lnTo>
                    <a:lnTo>
                      <a:pt x="2958" y="460"/>
                    </a:lnTo>
                    <a:lnTo>
                      <a:pt x="2917" y="389"/>
                    </a:lnTo>
                    <a:lnTo>
                      <a:pt x="2867" y="322"/>
                    </a:lnTo>
                    <a:lnTo>
                      <a:pt x="2811" y="259"/>
                    </a:lnTo>
                    <a:lnTo>
                      <a:pt x="2746" y="202"/>
                    </a:lnTo>
                    <a:lnTo>
                      <a:pt x="2673" y="150"/>
                    </a:lnTo>
                    <a:lnTo>
                      <a:pt x="2590" y="105"/>
                    </a:lnTo>
                    <a:lnTo>
                      <a:pt x="2497" y="66"/>
                    </a:lnTo>
                    <a:lnTo>
                      <a:pt x="2395" y="36"/>
                    </a:lnTo>
                    <a:lnTo>
                      <a:pt x="2282" y="15"/>
                    </a:lnTo>
                    <a:lnTo>
                      <a:pt x="2158" y="2"/>
                    </a:lnTo>
                    <a:lnTo>
                      <a:pt x="2021" y="0"/>
                    </a:lnTo>
                    <a:lnTo>
                      <a:pt x="1884" y="5"/>
                    </a:lnTo>
                    <a:lnTo>
                      <a:pt x="1754" y="11"/>
                    </a:lnTo>
                    <a:lnTo>
                      <a:pt x="1634" y="23"/>
                    </a:lnTo>
                    <a:lnTo>
                      <a:pt x="1523" y="36"/>
                    </a:lnTo>
                    <a:lnTo>
                      <a:pt x="1418" y="54"/>
                    </a:lnTo>
                    <a:lnTo>
                      <a:pt x="1323" y="74"/>
                    </a:lnTo>
                    <a:lnTo>
                      <a:pt x="1234" y="99"/>
                    </a:lnTo>
                    <a:lnTo>
                      <a:pt x="1153" y="126"/>
                    </a:lnTo>
                    <a:lnTo>
                      <a:pt x="1079" y="157"/>
                    </a:lnTo>
                    <a:lnTo>
                      <a:pt x="1011" y="191"/>
                    </a:lnTo>
                    <a:lnTo>
                      <a:pt x="951" y="230"/>
                    </a:lnTo>
                    <a:lnTo>
                      <a:pt x="896" y="270"/>
                    </a:lnTo>
                    <a:lnTo>
                      <a:pt x="847" y="316"/>
                    </a:lnTo>
                    <a:lnTo>
                      <a:pt x="805" y="365"/>
                    </a:lnTo>
                    <a:lnTo>
                      <a:pt x="767" y="416"/>
                    </a:lnTo>
                    <a:lnTo>
                      <a:pt x="736" y="473"/>
                    </a:lnTo>
                    <a:lnTo>
                      <a:pt x="709" y="532"/>
                    </a:lnTo>
                    <a:lnTo>
                      <a:pt x="688" y="596"/>
                    </a:lnTo>
                    <a:lnTo>
                      <a:pt x="670" y="664"/>
                    </a:lnTo>
                    <a:lnTo>
                      <a:pt x="657" y="735"/>
                    </a:lnTo>
                    <a:lnTo>
                      <a:pt x="648" y="810"/>
                    </a:lnTo>
                    <a:lnTo>
                      <a:pt x="643" y="890"/>
                    </a:lnTo>
                    <a:lnTo>
                      <a:pt x="642" y="973"/>
                    </a:lnTo>
                    <a:lnTo>
                      <a:pt x="643" y="1060"/>
                    </a:lnTo>
                    <a:lnTo>
                      <a:pt x="647" y="1151"/>
                    </a:lnTo>
                    <a:lnTo>
                      <a:pt x="655" y="1247"/>
                    </a:lnTo>
                    <a:lnTo>
                      <a:pt x="665" y="1346"/>
                    </a:lnTo>
                    <a:lnTo>
                      <a:pt x="678" y="1449"/>
                    </a:lnTo>
                    <a:lnTo>
                      <a:pt x="692" y="1557"/>
                    </a:lnTo>
                    <a:lnTo>
                      <a:pt x="708" y="1670"/>
                    </a:lnTo>
                    <a:lnTo>
                      <a:pt x="726" y="1787"/>
                    </a:lnTo>
                    <a:lnTo>
                      <a:pt x="745" y="1907"/>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1" name=""/>
              <p:cNvSpPr/>
              <p:nvPr/>
            </p:nvSpPr>
            <p:spPr>
              <a:xfrm>
                <a:off x="1247760" y="2379960"/>
                <a:ext cx="1080" cy="77400"/>
              </a:xfrm>
              <a:prstGeom prst="line">
                <a:avLst/>
              </a:prstGeom>
              <a:ln w="6480">
                <a:solidFill>
                  <a:srgbClr val="000000"/>
                </a:solidFill>
                <a:miter/>
              </a:ln>
            </p:spPr>
            <p:style>
              <a:lnRef idx="0"/>
              <a:fillRef idx="0"/>
              <a:effectRef idx="0"/>
              <a:fontRef idx="minor"/>
            </p:style>
            <p:txBody>
              <a:bodyPr lIns="93240" rIns="93240" tIns="30960" bIns="30960" anchor="t">
                <a:noAutofit/>
              </a:bodyPr>
              <a:p>
                <a:endParaRPr b="0" lang="en-US" sz="2400" spc="-1" strike="noStrike">
                  <a:solidFill>
                    <a:srgbClr val="ffffff"/>
                  </a:solidFill>
                  <a:latin typeface="Times New Roman"/>
                </a:endParaRPr>
              </a:p>
            </p:txBody>
          </p:sp>
          <p:sp>
            <p:nvSpPr>
              <p:cNvPr id="332" name=""/>
              <p:cNvSpPr/>
              <p:nvPr/>
            </p:nvSpPr>
            <p:spPr>
              <a:xfrm flipH="1">
                <a:off x="1271520" y="2386440"/>
                <a:ext cx="5040" cy="82080"/>
              </a:xfrm>
              <a:prstGeom prst="line">
                <a:avLst/>
              </a:prstGeom>
              <a:ln w="6480">
                <a:solidFill>
                  <a:srgbClr val="000000"/>
                </a:solidFill>
                <a:miter/>
              </a:ln>
            </p:spPr>
            <p:style>
              <a:lnRef idx="0"/>
              <a:fillRef idx="0"/>
              <a:effectRef idx="0"/>
              <a:fontRef idx="minor"/>
            </p:style>
            <p:txBody>
              <a:bodyPr lIns="93240" rIns="93240" tIns="35640" bIns="35640" anchor="t">
                <a:noAutofit/>
              </a:bodyPr>
              <a:p>
                <a:endParaRPr b="0" lang="en-US" sz="2400" spc="-1" strike="noStrike">
                  <a:solidFill>
                    <a:srgbClr val="ffffff"/>
                  </a:solidFill>
                  <a:latin typeface="Times New Roman"/>
                </a:endParaRPr>
              </a:p>
            </p:txBody>
          </p:sp>
          <p:sp>
            <p:nvSpPr>
              <p:cNvPr id="333" name=""/>
              <p:cNvSpPr/>
              <p:nvPr/>
            </p:nvSpPr>
            <p:spPr>
              <a:xfrm>
                <a:off x="965520" y="2188080"/>
                <a:ext cx="598680" cy="313560"/>
              </a:xfrm>
              <a:custGeom>
                <a:avLst/>
                <a:gdLst/>
                <a:ahLst/>
                <a:rect l="l" t="t" r="r" b="b"/>
                <a:pathLst>
                  <a:path w="2975" h="1702">
                    <a:moveTo>
                      <a:pt x="0" y="210"/>
                    </a:moveTo>
                    <a:lnTo>
                      <a:pt x="10" y="234"/>
                    </a:lnTo>
                    <a:lnTo>
                      <a:pt x="36" y="299"/>
                    </a:lnTo>
                    <a:lnTo>
                      <a:pt x="54" y="344"/>
                    </a:lnTo>
                    <a:lnTo>
                      <a:pt x="73" y="396"/>
                    </a:lnTo>
                    <a:lnTo>
                      <a:pt x="92" y="453"/>
                    </a:lnTo>
                    <a:lnTo>
                      <a:pt x="112" y="515"/>
                    </a:lnTo>
                    <a:lnTo>
                      <a:pt x="131" y="580"/>
                    </a:lnTo>
                    <a:lnTo>
                      <a:pt x="149" y="649"/>
                    </a:lnTo>
                    <a:lnTo>
                      <a:pt x="157" y="683"/>
                    </a:lnTo>
                    <a:lnTo>
                      <a:pt x="164" y="717"/>
                    </a:lnTo>
                    <a:lnTo>
                      <a:pt x="170" y="752"/>
                    </a:lnTo>
                    <a:lnTo>
                      <a:pt x="176" y="787"/>
                    </a:lnTo>
                    <a:lnTo>
                      <a:pt x="182" y="821"/>
                    </a:lnTo>
                    <a:lnTo>
                      <a:pt x="185" y="855"/>
                    </a:lnTo>
                    <a:lnTo>
                      <a:pt x="187" y="889"/>
                    </a:lnTo>
                    <a:lnTo>
                      <a:pt x="188" y="921"/>
                    </a:lnTo>
                    <a:lnTo>
                      <a:pt x="188" y="953"/>
                    </a:lnTo>
                    <a:lnTo>
                      <a:pt x="187" y="983"/>
                    </a:lnTo>
                    <a:lnTo>
                      <a:pt x="184" y="1013"/>
                    </a:lnTo>
                    <a:lnTo>
                      <a:pt x="179" y="1042"/>
                    </a:lnTo>
                    <a:lnTo>
                      <a:pt x="175" y="1070"/>
                    </a:lnTo>
                    <a:lnTo>
                      <a:pt x="173" y="1098"/>
                    </a:lnTo>
                    <a:lnTo>
                      <a:pt x="172" y="1126"/>
                    </a:lnTo>
                    <a:lnTo>
                      <a:pt x="173" y="1155"/>
                    </a:lnTo>
                    <a:lnTo>
                      <a:pt x="176" y="1183"/>
                    </a:lnTo>
                    <a:lnTo>
                      <a:pt x="182" y="1211"/>
                    </a:lnTo>
                    <a:lnTo>
                      <a:pt x="188" y="1238"/>
                    </a:lnTo>
                    <a:lnTo>
                      <a:pt x="197" y="1267"/>
                    </a:lnTo>
                    <a:lnTo>
                      <a:pt x="209" y="1294"/>
                    </a:lnTo>
                    <a:lnTo>
                      <a:pt x="221" y="1321"/>
                    </a:lnTo>
                    <a:lnTo>
                      <a:pt x="235" y="1348"/>
                    </a:lnTo>
                    <a:lnTo>
                      <a:pt x="250" y="1374"/>
                    </a:lnTo>
                    <a:lnTo>
                      <a:pt x="268" y="1398"/>
                    </a:lnTo>
                    <a:lnTo>
                      <a:pt x="286" y="1423"/>
                    </a:lnTo>
                    <a:lnTo>
                      <a:pt x="306" y="1448"/>
                    </a:lnTo>
                    <a:lnTo>
                      <a:pt x="329" y="1470"/>
                    </a:lnTo>
                    <a:lnTo>
                      <a:pt x="351" y="1494"/>
                    </a:lnTo>
                    <a:lnTo>
                      <a:pt x="376" y="1515"/>
                    </a:lnTo>
                    <a:lnTo>
                      <a:pt x="402" y="1536"/>
                    </a:lnTo>
                    <a:lnTo>
                      <a:pt x="429" y="1556"/>
                    </a:lnTo>
                    <a:lnTo>
                      <a:pt x="457" y="1575"/>
                    </a:lnTo>
                    <a:lnTo>
                      <a:pt x="486" y="1593"/>
                    </a:lnTo>
                    <a:lnTo>
                      <a:pt x="517" y="1609"/>
                    </a:lnTo>
                    <a:lnTo>
                      <a:pt x="548" y="1624"/>
                    </a:lnTo>
                    <a:lnTo>
                      <a:pt x="581" y="1639"/>
                    </a:lnTo>
                    <a:lnTo>
                      <a:pt x="614" y="1651"/>
                    </a:lnTo>
                    <a:lnTo>
                      <a:pt x="649" y="1663"/>
                    </a:lnTo>
                    <a:lnTo>
                      <a:pt x="684" y="1673"/>
                    </a:lnTo>
                    <a:lnTo>
                      <a:pt x="721" y="1682"/>
                    </a:lnTo>
                    <a:lnTo>
                      <a:pt x="758" y="1689"/>
                    </a:lnTo>
                    <a:lnTo>
                      <a:pt x="795" y="1694"/>
                    </a:lnTo>
                    <a:lnTo>
                      <a:pt x="835" y="1698"/>
                    </a:lnTo>
                    <a:lnTo>
                      <a:pt x="874" y="1700"/>
                    </a:lnTo>
                    <a:lnTo>
                      <a:pt x="916" y="1701"/>
                    </a:lnTo>
                    <a:lnTo>
                      <a:pt x="960" y="1702"/>
                    </a:lnTo>
                    <a:lnTo>
                      <a:pt x="1003" y="1702"/>
                    </a:lnTo>
                    <a:lnTo>
                      <a:pt x="1097" y="1700"/>
                    </a:lnTo>
                    <a:lnTo>
                      <a:pt x="1193" y="1696"/>
                    </a:lnTo>
                    <a:lnTo>
                      <a:pt x="1293" y="1690"/>
                    </a:lnTo>
                    <a:lnTo>
                      <a:pt x="1393" y="1682"/>
                    </a:lnTo>
                    <a:lnTo>
                      <a:pt x="1494" y="1673"/>
                    </a:lnTo>
                    <a:lnTo>
                      <a:pt x="1592" y="1664"/>
                    </a:lnTo>
                    <a:lnTo>
                      <a:pt x="1780" y="1644"/>
                    </a:lnTo>
                    <a:lnTo>
                      <a:pt x="1947" y="1626"/>
                    </a:lnTo>
                    <a:lnTo>
                      <a:pt x="2017" y="1619"/>
                    </a:lnTo>
                    <a:lnTo>
                      <a:pt x="2079" y="1612"/>
                    </a:lnTo>
                    <a:lnTo>
                      <a:pt x="2131" y="1609"/>
                    </a:lnTo>
                    <a:lnTo>
                      <a:pt x="2170" y="1608"/>
                    </a:lnTo>
                    <a:lnTo>
                      <a:pt x="2188" y="1606"/>
                    </a:lnTo>
                    <a:lnTo>
                      <a:pt x="2207" y="1603"/>
                    </a:lnTo>
                    <a:lnTo>
                      <a:pt x="2228" y="1597"/>
                    </a:lnTo>
                    <a:lnTo>
                      <a:pt x="2250" y="1590"/>
                    </a:lnTo>
                    <a:lnTo>
                      <a:pt x="2274" y="1581"/>
                    </a:lnTo>
                    <a:lnTo>
                      <a:pt x="2297" y="1569"/>
                    </a:lnTo>
                    <a:lnTo>
                      <a:pt x="2322" y="1556"/>
                    </a:lnTo>
                    <a:lnTo>
                      <a:pt x="2348" y="1541"/>
                    </a:lnTo>
                    <a:lnTo>
                      <a:pt x="2374" y="1524"/>
                    </a:lnTo>
                    <a:lnTo>
                      <a:pt x="2401" y="1505"/>
                    </a:lnTo>
                    <a:lnTo>
                      <a:pt x="2426" y="1485"/>
                    </a:lnTo>
                    <a:lnTo>
                      <a:pt x="2453" y="1464"/>
                    </a:lnTo>
                    <a:lnTo>
                      <a:pt x="2480" y="1440"/>
                    </a:lnTo>
                    <a:lnTo>
                      <a:pt x="2506" y="1416"/>
                    </a:lnTo>
                    <a:lnTo>
                      <a:pt x="2532" y="1389"/>
                    </a:lnTo>
                    <a:lnTo>
                      <a:pt x="2558" y="1362"/>
                    </a:lnTo>
                    <a:lnTo>
                      <a:pt x="2583" y="1334"/>
                    </a:lnTo>
                    <a:lnTo>
                      <a:pt x="2606" y="1305"/>
                    </a:lnTo>
                    <a:lnTo>
                      <a:pt x="2629" y="1274"/>
                    </a:lnTo>
                    <a:lnTo>
                      <a:pt x="2651" y="1242"/>
                    </a:lnTo>
                    <a:lnTo>
                      <a:pt x="2672" y="1209"/>
                    </a:lnTo>
                    <a:lnTo>
                      <a:pt x="2691" y="1177"/>
                    </a:lnTo>
                    <a:lnTo>
                      <a:pt x="2708" y="1142"/>
                    </a:lnTo>
                    <a:lnTo>
                      <a:pt x="2723" y="1107"/>
                    </a:lnTo>
                    <a:lnTo>
                      <a:pt x="2737" y="1071"/>
                    </a:lnTo>
                    <a:lnTo>
                      <a:pt x="2748" y="1035"/>
                    </a:lnTo>
                    <a:lnTo>
                      <a:pt x="2758" y="998"/>
                    </a:lnTo>
                    <a:lnTo>
                      <a:pt x="2765" y="959"/>
                    </a:lnTo>
                    <a:lnTo>
                      <a:pt x="2769" y="922"/>
                    </a:lnTo>
                    <a:lnTo>
                      <a:pt x="2770" y="883"/>
                    </a:lnTo>
                    <a:lnTo>
                      <a:pt x="2769" y="845"/>
                    </a:lnTo>
                    <a:lnTo>
                      <a:pt x="2766" y="806"/>
                    </a:lnTo>
                    <a:lnTo>
                      <a:pt x="2760" y="767"/>
                    </a:lnTo>
                    <a:lnTo>
                      <a:pt x="2757" y="730"/>
                    </a:lnTo>
                    <a:lnTo>
                      <a:pt x="2755" y="692"/>
                    </a:lnTo>
                    <a:lnTo>
                      <a:pt x="2754" y="656"/>
                    </a:lnTo>
                    <a:lnTo>
                      <a:pt x="2754" y="620"/>
                    </a:lnTo>
                    <a:lnTo>
                      <a:pt x="2755" y="585"/>
                    </a:lnTo>
                    <a:lnTo>
                      <a:pt x="2757" y="551"/>
                    </a:lnTo>
                    <a:lnTo>
                      <a:pt x="2760" y="517"/>
                    </a:lnTo>
                    <a:lnTo>
                      <a:pt x="2765" y="485"/>
                    </a:lnTo>
                    <a:lnTo>
                      <a:pt x="2769" y="453"/>
                    </a:lnTo>
                    <a:lnTo>
                      <a:pt x="2775" y="422"/>
                    </a:lnTo>
                    <a:lnTo>
                      <a:pt x="2782" y="392"/>
                    </a:lnTo>
                    <a:lnTo>
                      <a:pt x="2790" y="363"/>
                    </a:lnTo>
                    <a:lnTo>
                      <a:pt x="2797" y="335"/>
                    </a:lnTo>
                    <a:lnTo>
                      <a:pt x="2805" y="307"/>
                    </a:lnTo>
                    <a:lnTo>
                      <a:pt x="2814" y="281"/>
                    </a:lnTo>
                    <a:lnTo>
                      <a:pt x="2823" y="255"/>
                    </a:lnTo>
                    <a:lnTo>
                      <a:pt x="2833" y="231"/>
                    </a:lnTo>
                    <a:lnTo>
                      <a:pt x="2844" y="208"/>
                    </a:lnTo>
                    <a:lnTo>
                      <a:pt x="2854" y="185"/>
                    </a:lnTo>
                    <a:lnTo>
                      <a:pt x="2875" y="144"/>
                    </a:lnTo>
                    <a:lnTo>
                      <a:pt x="2896" y="105"/>
                    </a:lnTo>
                    <a:lnTo>
                      <a:pt x="2918" y="73"/>
                    </a:lnTo>
                    <a:lnTo>
                      <a:pt x="2938" y="43"/>
                    </a:lnTo>
                    <a:lnTo>
                      <a:pt x="2957" y="20"/>
                    </a:lnTo>
                    <a:lnTo>
                      <a:pt x="2975"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4" name=""/>
              <p:cNvSpPr/>
              <p:nvPr/>
            </p:nvSpPr>
            <p:spPr>
              <a:xfrm>
                <a:off x="920160" y="2188080"/>
                <a:ext cx="69120" cy="50400"/>
              </a:xfrm>
              <a:custGeom>
                <a:avLst/>
                <a:gdLst/>
                <a:ahLst/>
                <a:rect l="l" t="t" r="r" b="b"/>
                <a:pathLst>
                  <a:path w="346" h="270">
                    <a:moveTo>
                      <a:pt x="346" y="0"/>
                    </a:moveTo>
                    <a:lnTo>
                      <a:pt x="327" y="1"/>
                    </a:lnTo>
                    <a:lnTo>
                      <a:pt x="277" y="4"/>
                    </a:lnTo>
                    <a:lnTo>
                      <a:pt x="246" y="9"/>
                    </a:lnTo>
                    <a:lnTo>
                      <a:pt x="211" y="14"/>
                    </a:lnTo>
                    <a:lnTo>
                      <a:pt x="193" y="18"/>
                    </a:lnTo>
                    <a:lnTo>
                      <a:pt x="174" y="23"/>
                    </a:lnTo>
                    <a:lnTo>
                      <a:pt x="156" y="28"/>
                    </a:lnTo>
                    <a:lnTo>
                      <a:pt x="138" y="33"/>
                    </a:lnTo>
                    <a:lnTo>
                      <a:pt x="120" y="40"/>
                    </a:lnTo>
                    <a:lnTo>
                      <a:pt x="102" y="48"/>
                    </a:lnTo>
                    <a:lnTo>
                      <a:pt x="86" y="57"/>
                    </a:lnTo>
                    <a:lnTo>
                      <a:pt x="70" y="66"/>
                    </a:lnTo>
                    <a:lnTo>
                      <a:pt x="56" y="76"/>
                    </a:lnTo>
                    <a:lnTo>
                      <a:pt x="42" y="87"/>
                    </a:lnTo>
                    <a:lnTo>
                      <a:pt x="30" y="101"/>
                    </a:lnTo>
                    <a:lnTo>
                      <a:pt x="20" y="114"/>
                    </a:lnTo>
                    <a:lnTo>
                      <a:pt x="12" y="129"/>
                    </a:lnTo>
                    <a:lnTo>
                      <a:pt x="5" y="145"/>
                    </a:lnTo>
                    <a:lnTo>
                      <a:pt x="1" y="163"/>
                    </a:lnTo>
                    <a:lnTo>
                      <a:pt x="0" y="181"/>
                    </a:lnTo>
                    <a:lnTo>
                      <a:pt x="0" y="201"/>
                    </a:lnTo>
                    <a:lnTo>
                      <a:pt x="4" y="222"/>
                    </a:lnTo>
                    <a:lnTo>
                      <a:pt x="10" y="246"/>
                    </a:lnTo>
                    <a:lnTo>
                      <a:pt x="20" y="270"/>
                    </a:lnTo>
                  </a:path>
                </a:pathLst>
              </a:custGeom>
              <a:noFill/>
              <a:ln w="6480">
                <a:solidFill>
                  <a:srgbClr val="000000"/>
                </a:solidFill>
                <a:round/>
              </a:ln>
            </p:spPr>
            <p:style>
              <a:lnRef idx="0"/>
              <a:fillRef idx="0"/>
              <a:effectRef idx="0"/>
              <a:fontRef idx="minor"/>
            </p:style>
            <p:txBody>
              <a:bodyPr wrap="none" lIns="93240" rIns="93240" tIns="3960" bIns="3960" anchor="t">
                <a:spAutoFit/>
              </a:bodyPr>
              <a:p>
                <a:endParaRPr b="0" lang="en-US" sz="2400" spc="-1" strike="noStrike">
                  <a:solidFill>
                    <a:srgbClr val="ffffff"/>
                  </a:solidFill>
                  <a:latin typeface="Times New Roman"/>
                </a:endParaRPr>
              </a:p>
            </p:txBody>
          </p:sp>
          <p:sp>
            <p:nvSpPr>
              <p:cNvPr id="335" name=""/>
              <p:cNvSpPr/>
              <p:nvPr/>
            </p:nvSpPr>
            <p:spPr>
              <a:xfrm>
                <a:off x="1535040" y="2144880"/>
                <a:ext cx="66600" cy="54360"/>
              </a:xfrm>
              <a:custGeom>
                <a:avLst/>
                <a:gdLst/>
                <a:ahLst/>
                <a:rect l="l" t="t" r="r" b="b"/>
                <a:pathLst>
                  <a:path w="341" h="300">
                    <a:moveTo>
                      <a:pt x="0" y="4"/>
                    </a:moveTo>
                    <a:lnTo>
                      <a:pt x="18" y="2"/>
                    </a:lnTo>
                    <a:lnTo>
                      <a:pt x="64" y="0"/>
                    </a:lnTo>
                    <a:lnTo>
                      <a:pt x="93" y="1"/>
                    </a:lnTo>
                    <a:lnTo>
                      <a:pt x="127" y="4"/>
                    </a:lnTo>
                    <a:lnTo>
                      <a:pt x="143" y="7"/>
                    </a:lnTo>
                    <a:lnTo>
                      <a:pt x="161" y="10"/>
                    </a:lnTo>
                    <a:lnTo>
                      <a:pt x="179" y="13"/>
                    </a:lnTo>
                    <a:lnTo>
                      <a:pt x="196" y="19"/>
                    </a:lnTo>
                    <a:lnTo>
                      <a:pt x="214" y="25"/>
                    </a:lnTo>
                    <a:lnTo>
                      <a:pt x="231" y="33"/>
                    </a:lnTo>
                    <a:lnTo>
                      <a:pt x="247" y="40"/>
                    </a:lnTo>
                    <a:lnTo>
                      <a:pt x="263" y="51"/>
                    </a:lnTo>
                    <a:lnTo>
                      <a:pt x="277" y="61"/>
                    </a:lnTo>
                    <a:lnTo>
                      <a:pt x="291" y="74"/>
                    </a:lnTo>
                    <a:lnTo>
                      <a:pt x="303" y="88"/>
                    </a:lnTo>
                    <a:lnTo>
                      <a:pt x="314" y="103"/>
                    </a:lnTo>
                    <a:lnTo>
                      <a:pt x="323" y="121"/>
                    </a:lnTo>
                    <a:lnTo>
                      <a:pt x="331" y="141"/>
                    </a:lnTo>
                    <a:lnTo>
                      <a:pt x="336" y="162"/>
                    </a:lnTo>
                    <a:lnTo>
                      <a:pt x="340" y="186"/>
                    </a:lnTo>
                    <a:lnTo>
                      <a:pt x="341" y="210"/>
                    </a:lnTo>
                    <a:lnTo>
                      <a:pt x="340" y="238"/>
                    </a:lnTo>
                    <a:lnTo>
                      <a:pt x="336" y="268"/>
                    </a:lnTo>
                    <a:lnTo>
                      <a:pt x="329" y="300"/>
                    </a:lnTo>
                  </a:path>
                </a:pathLst>
              </a:custGeom>
              <a:noFill/>
              <a:ln w="6480">
                <a:solidFill>
                  <a:srgbClr val="000000"/>
                </a:solidFill>
                <a:round/>
              </a:ln>
            </p:spPr>
            <p:style>
              <a:lnRef idx="0"/>
              <a:fillRef idx="0"/>
              <a:effectRef idx="0"/>
              <a:fontRef idx="minor"/>
            </p:style>
            <p:txBody>
              <a:bodyPr wrap="none" lIns="93240" rIns="93240" tIns="7920" bIns="7920" anchor="t">
                <a:spAutoFit/>
              </a:bodyPr>
              <a:p>
                <a:endParaRPr b="0" lang="en-US" sz="2400" spc="-1" strike="noStrike">
                  <a:solidFill>
                    <a:srgbClr val="ffffff"/>
                  </a:solidFill>
                  <a:latin typeface="Times New Roman"/>
                </a:endParaRPr>
              </a:p>
            </p:txBody>
          </p:sp>
          <p:sp>
            <p:nvSpPr>
              <p:cNvPr id="336" name=""/>
              <p:cNvSpPr/>
              <p:nvPr/>
            </p:nvSpPr>
            <p:spPr>
              <a:xfrm>
                <a:off x="865800" y="2843280"/>
                <a:ext cx="798120" cy="766800"/>
              </a:xfrm>
              <a:custGeom>
                <a:avLst/>
                <a:gdLst/>
                <a:ahLst/>
                <a:rect l="l" t="t" r="r" b="b"/>
                <a:pathLst>
                  <a:path w="3969" h="4168">
                    <a:moveTo>
                      <a:pt x="1836" y="72"/>
                    </a:moveTo>
                    <a:lnTo>
                      <a:pt x="1820" y="71"/>
                    </a:lnTo>
                    <a:lnTo>
                      <a:pt x="1777" y="69"/>
                    </a:lnTo>
                    <a:lnTo>
                      <a:pt x="1708" y="68"/>
                    </a:lnTo>
                    <a:lnTo>
                      <a:pt x="1620" y="68"/>
                    </a:lnTo>
                    <a:lnTo>
                      <a:pt x="1569" y="69"/>
                    </a:lnTo>
                    <a:lnTo>
                      <a:pt x="1514" y="70"/>
                    </a:lnTo>
                    <a:lnTo>
                      <a:pt x="1457" y="73"/>
                    </a:lnTo>
                    <a:lnTo>
                      <a:pt x="1396" y="77"/>
                    </a:lnTo>
                    <a:lnTo>
                      <a:pt x="1332" y="81"/>
                    </a:lnTo>
                    <a:lnTo>
                      <a:pt x="1268" y="88"/>
                    </a:lnTo>
                    <a:lnTo>
                      <a:pt x="1202" y="96"/>
                    </a:lnTo>
                    <a:lnTo>
                      <a:pt x="1134" y="105"/>
                    </a:lnTo>
                    <a:lnTo>
                      <a:pt x="1067" y="116"/>
                    </a:lnTo>
                    <a:lnTo>
                      <a:pt x="998" y="130"/>
                    </a:lnTo>
                    <a:lnTo>
                      <a:pt x="932" y="145"/>
                    </a:lnTo>
                    <a:lnTo>
                      <a:pt x="865" y="163"/>
                    </a:lnTo>
                    <a:lnTo>
                      <a:pt x="800" y="184"/>
                    </a:lnTo>
                    <a:lnTo>
                      <a:pt x="737" y="206"/>
                    </a:lnTo>
                    <a:lnTo>
                      <a:pt x="678" y="232"/>
                    </a:lnTo>
                    <a:lnTo>
                      <a:pt x="620" y="260"/>
                    </a:lnTo>
                    <a:lnTo>
                      <a:pt x="565" y="292"/>
                    </a:lnTo>
                    <a:lnTo>
                      <a:pt x="516" y="325"/>
                    </a:lnTo>
                    <a:lnTo>
                      <a:pt x="470" y="364"/>
                    </a:lnTo>
                    <a:lnTo>
                      <a:pt x="428" y="405"/>
                    </a:lnTo>
                    <a:lnTo>
                      <a:pt x="392" y="450"/>
                    </a:lnTo>
                    <a:lnTo>
                      <a:pt x="362" y="499"/>
                    </a:lnTo>
                    <a:lnTo>
                      <a:pt x="337" y="552"/>
                    </a:lnTo>
                    <a:lnTo>
                      <a:pt x="320" y="608"/>
                    </a:lnTo>
                    <a:lnTo>
                      <a:pt x="304" y="665"/>
                    </a:lnTo>
                    <a:lnTo>
                      <a:pt x="289" y="719"/>
                    </a:lnTo>
                    <a:lnTo>
                      <a:pt x="272" y="771"/>
                    </a:lnTo>
                    <a:lnTo>
                      <a:pt x="254" y="821"/>
                    </a:lnTo>
                    <a:lnTo>
                      <a:pt x="235" y="868"/>
                    </a:lnTo>
                    <a:lnTo>
                      <a:pt x="215" y="913"/>
                    </a:lnTo>
                    <a:lnTo>
                      <a:pt x="195" y="956"/>
                    </a:lnTo>
                    <a:lnTo>
                      <a:pt x="175" y="996"/>
                    </a:lnTo>
                    <a:lnTo>
                      <a:pt x="99" y="1138"/>
                    </a:lnTo>
                    <a:lnTo>
                      <a:pt x="37" y="1249"/>
                    </a:lnTo>
                    <a:lnTo>
                      <a:pt x="25" y="1273"/>
                    </a:lnTo>
                    <a:lnTo>
                      <a:pt x="16" y="1294"/>
                    </a:lnTo>
                    <a:lnTo>
                      <a:pt x="8" y="1316"/>
                    </a:lnTo>
                    <a:lnTo>
                      <a:pt x="2" y="1335"/>
                    </a:lnTo>
                    <a:lnTo>
                      <a:pt x="0" y="1352"/>
                    </a:lnTo>
                    <a:lnTo>
                      <a:pt x="0" y="1369"/>
                    </a:lnTo>
                    <a:lnTo>
                      <a:pt x="3" y="1383"/>
                    </a:lnTo>
                    <a:lnTo>
                      <a:pt x="10" y="1397"/>
                    </a:lnTo>
                    <a:lnTo>
                      <a:pt x="19" y="1409"/>
                    </a:lnTo>
                    <a:lnTo>
                      <a:pt x="32" y="1420"/>
                    </a:lnTo>
                    <a:lnTo>
                      <a:pt x="50" y="1432"/>
                    </a:lnTo>
                    <a:lnTo>
                      <a:pt x="71" y="1441"/>
                    </a:lnTo>
                    <a:lnTo>
                      <a:pt x="97" y="1450"/>
                    </a:lnTo>
                    <a:lnTo>
                      <a:pt x="126" y="1456"/>
                    </a:lnTo>
                    <a:lnTo>
                      <a:pt x="161" y="1463"/>
                    </a:lnTo>
                    <a:lnTo>
                      <a:pt x="200" y="1470"/>
                    </a:lnTo>
                    <a:lnTo>
                      <a:pt x="281" y="1481"/>
                    </a:lnTo>
                    <a:lnTo>
                      <a:pt x="358" y="1493"/>
                    </a:lnTo>
                    <a:lnTo>
                      <a:pt x="432" y="1506"/>
                    </a:lnTo>
                    <a:lnTo>
                      <a:pt x="500" y="1518"/>
                    </a:lnTo>
                    <a:lnTo>
                      <a:pt x="564" y="1528"/>
                    </a:lnTo>
                    <a:lnTo>
                      <a:pt x="624" y="1537"/>
                    </a:lnTo>
                    <a:lnTo>
                      <a:pt x="652" y="1540"/>
                    </a:lnTo>
                    <a:lnTo>
                      <a:pt x="678" y="1542"/>
                    </a:lnTo>
                    <a:lnTo>
                      <a:pt x="704" y="1544"/>
                    </a:lnTo>
                    <a:lnTo>
                      <a:pt x="728" y="1544"/>
                    </a:lnTo>
                    <a:lnTo>
                      <a:pt x="752" y="1544"/>
                    </a:lnTo>
                    <a:lnTo>
                      <a:pt x="773" y="1542"/>
                    </a:lnTo>
                    <a:lnTo>
                      <a:pt x="795" y="1540"/>
                    </a:lnTo>
                    <a:lnTo>
                      <a:pt x="814" y="1535"/>
                    </a:lnTo>
                    <a:lnTo>
                      <a:pt x="832" y="1529"/>
                    </a:lnTo>
                    <a:lnTo>
                      <a:pt x="849" y="1523"/>
                    </a:lnTo>
                    <a:lnTo>
                      <a:pt x="864" y="1514"/>
                    </a:lnTo>
                    <a:lnTo>
                      <a:pt x="879" y="1504"/>
                    </a:lnTo>
                    <a:lnTo>
                      <a:pt x="891" y="1491"/>
                    </a:lnTo>
                    <a:lnTo>
                      <a:pt x="904" y="1477"/>
                    </a:lnTo>
                    <a:lnTo>
                      <a:pt x="914" y="1461"/>
                    </a:lnTo>
                    <a:lnTo>
                      <a:pt x="923" y="1443"/>
                    </a:lnTo>
                    <a:lnTo>
                      <a:pt x="931" y="1423"/>
                    </a:lnTo>
                    <a:lnTo>
                      <a:pt x="936" y="1401"/>
                    </a:lnTo>
                    <a:lnTo>
                      <a:pt x="942" y="1376"/>
                    </a:lnTo>
                    <a:lnTo>
                      <a:pt x="945" y="1349"/>
                    </a:lnTo>
                    <a:lnTo>
                      <a:pt x="933" y="1352"/>
                    </a:lnTo>
                    <a:lnTo>
                      <a:pt x="903" y="1360"/>
                    </a:lnTo>
                    <a:lnTo>
                      <a:pt x="882" y="1366"/>
                    </a:lnTo>
                    <a:lnTo>
                      <a:pt x="860" y="1376"/>
                    </a:lnTo>
                    <a:lnTo>
                      <a:pt x="847" y="1382"/>
                    </a:lnTo>
                    <a:lnTo>
                      <a:pt x="835" y="1389"/>
                    </a:lnTo>
                    <a:lnTo>
                      <a:pt x="823" y="1397"/>
                    </a:lnTo>
                    <a:lnTo>
                      <a:pt x="810" y="1406"/>
                    </a:lnTo>
                    <a:lnTo>
                      <a:pt x="799" y="1416"/>
                    </a:lnTo>
                    <a:lnTo>
                      <a:pt x="787" y="1426"/>
                    </a:lnTo>
                    <a:lnTo>
                      <a:pt x="775" y="1437"/>
                    </a:lnTo>
                    <a:lnTo>
                      <a:pt x="764" y="1451"/>
                    </a:lnTo>
                    <a:lnTo>
                      <a:pt x="753" y="1464"/>
                    </a:lnTo>
                    <a:lnTo>
                      <a:pt x="743" y="1480"/>
                    </a:lnTo>
                    <a:lnTo>
                      <a:pt x="734" y="1496"/>
                    </a:lnTo>
                    <a:lnTo>
                      <a:pt x="725" y="1514"/>
                    </a:lnTo>
                    <a:lnTo>
                      <a:pt x="717" y="1533"/>
                    </a:lnTo>
                    <a:lnTo>
                      <a:pt x="710" y="1553"/>
                    </a:lnTo>
                    <a:lnTo>
                      <a:pt x="706" y="1576"/>
                    </a:lnTo>
                    <a:lnTo>
                      <a:pt x="701" y="1599"/>
                    </a:lnTo>
                    <a:lnTo>
                      <a:pt x="698" y="1624"/>
                    </a:lnTo>
                    <a:lnTo>
                      <a:pt x="697" y="1651"/>
                    </a:lnTo>
                    <a:lnTo>
                      <a:pt x="697" y="1679"/>
                    </a:lnTo>
                    <a:lnTo>
                      <a:pt x="699" y="1709"/>
                    </a:lnTo>
                    <a:lnTo>
                      <a:pt x="705" y="1778"/>
                    </a:lnTo>
                    <a:lnTo>
                      <a:pt x="708" y="1861"/>
                    </a:lnTo>
                    <a:lnTo>
                      <a:pt x="709" y="1956"/>
                    </a:lnTo>
                    <a:lnTo>
                      <a:pt x="710" y="2062"/>
                    </a:lnTo>
                    <a:lnTo>
                      <a:pt x="709" y="2175"/>
                    </a:lnTo>
                    <a:lnTo>
                      <a:pt x="707" y="2296"/>
                    </a:lnTo>
                    <a:lnTo>
                      <a:pt x="704" y="2421"/>
                    </a:lnTo>
                    <a:lnTo>
                      <a:pt x="699" y="2549"/>
                    </a:lnTo>
                    <a:lnTo>
                      <a:pt x="692" y="2677"/>
                    </a:lnTo>
                    <a:lnTo>
                      <a:pt x="684" y="2803"/>
                    </a:lnTo>
                    <a:lnTo>
                      <a:pt x="675" y="2927"/>
                    </a:lnTo>
                    <a:lnTo>
                      <a:pt x="665" y="3046"/>
                    </a:lnTo>
                    <a:lnTo>
                      <a:pt x="660" y="3104"/>
                    </a:lnTo>
                    <a:lnTo>
                      <a:pt x="653" y="3158"/>
                    </a:lnTo>
                    <a:lnTo>
                      <a:pt x="647" y="3211"/>
                    </a:lnTo>
                    <a:lnTo>
                      <a:pt x="641" y="3261"/>
                    </a:lnTo>
                    <a:lnTo>
                      <a:pt x="633" y="3308"/>
                    </a:lnTo>
                    <a:lnTo>
                      <a:pt x="626" y="3353"/>
                    </a:lnTo>
                    <a:lnTo>
                      <a:pt x="618" y="3395"/>
                    </a:lnTo>
                    <a:lnTo>
                      <a:pt x="609" y="3432"/>
                    </a:lnTo>
                    <a:lnTo>
                      <a:pt x="592" y="3504"/>
                    </a:lnTo>
                    <a:lnTo>
                      <a:pt x="577" y="3572"/>
                    </a:lnTo>
                    <a:lnTo>
                      <a:pt x="562" y="3635"/>
                    </a:lnTo>
                    <a:lnTo>
                      <a:pt x="551" y="3694"/>
                    </a:lnTo>
                    <a:lnTo>
                      <a:pt x="546" y="3723"/>
                    </a:lnTo>
                    <a:lnTo>
                      <a:pt x="543" y="3750"/>
                    </a:lnTo>
                    <a:lnTo>
                      <a:pt x="541" y="3775"/>
                    </a:lnTo>
                    <a:lnTo>
                      <a:pt x="541" y="3800"/>
                    </a:lnTo>
                    <a:lnTo>
                      <a:pt x="542" y="3824"/>
                    </a:lnTo>
                    <a:lnTo>
                      <a:pt x="545" y="3846"/>
                    </a:lnTo>
                    <a:lnTo>
                      <a:pt x="550" y="3868"/>
                    </a:lnTo>
                    <a:lnTo>
                      <a:pt x="557" y="3888"/>
                    </a:lnTo>
                    <a:lnTo>
                      <a:pt x="566" y="3907"/>
                    </a:lnTo>
                    <a:lnTo>
                      <a:pt x="578" y="3924"/>
                    </a:lnTo>
                    <a:lnTo>
                      <a:pt x="591" y="3941"/>
                    </a:lnTo>
                    <a:lnTo>
                      <a:pt x="608" y="3955"/>
                    </a:lnTo>
                    <a:lnTo>
                      <a:pt x="627" y="3970"/>
                    </a:lnTo>
                    <a:lnTo>
                      <a:pt x="650" y="3982"/>
                    </a:lnTo>
                    <a:lnTo>
                      <a:pt x="674" y="3993"/>
                    </a:lnTo>
                    <a:lnTo>
                      <a:pt x="702" y="4003"/>
                    </a:lnTo>
                    <a:lnTo>
                      <a:pt x="734" y="4011"/>
                    </a:lnTo>
                    <a:lnTo>
                      <a:pt x="770" y="4019"/>
                    </a:lnTo>
                    <a:lnTo>
                      <a:pt x="808" y="4023"/>
                    </a:lnTo>
                    <a:lnTo>
                      <a:pt x="851" y="4028"/>
                    </a:lnTo>
                    <a:lnTo>
                      <a:pt x="897" y="4030"/>
                    </a:lnTo>
                    <a:lnTo>
                      <a:pt x="947" y="4031"/>
                    </a:lnTo>
                    <a:lnTo>
                      <a:pt x="1001" y="4031"/>
                    </a:lnTo>
                    <a:lnTo>
                      <a:pt x="1061" y="4029"/>
                    </a:lnTo>
                    <a:lnTo>
                      <a:pt x="1122" y="4026"/>
                    </a:lnTo>
                    <a:lnTo>
                      <a:pt x="1184" y="4024"/>
                    </a:lnTo>
                    <a:lnTo>
                      <a:pt x="1244" y="4024"/>
                    </a:lnTo>
                    <a:lnTo>
                      <a:pt x="1304" y="4024"/>
                    </a:lnTo>
                    <a:lnTo>
                      <a:pt x="1365" y="4024"/>
                    </a:lnTo>
                    <a:lnTo>
                      <a:pt x="1424" y="4025"/>
                    </a:lnTo>
                    <a:lnTo>
                      <a:pt x="1484" y="4028"/>
                    </a:lnTo>
                    <a:lnTo>
                      <a:pt x="1542" y="4030"/>
                    </a:lnTo>
                    <a:lnTo>
                      <a:pt x="1658" y="4037"/>
                    </a:lnTo>
                    <a:lnTo>
                      <a:pt x="1770" y="4046"/>
                    </a:lnTo>
                    <a:lnTo>
                      <a:pt x="1880" y="4056"/>
                    </a:lnTo>
                    <a:lnTo>
                      <a:pt x="1987" y="4066"/>
                    </a:lnTo>
                    <a:lnTo>
                      <a:pt x="2188" y="4089"/>
                    </a:lnTo>
                    <a:lnTo>
                      <a:pt x="2371" y="4113"/>
                    </a:lnTo>
                    <a:lnTo>
                      <a:pt x="2454" y="4123"/>
                    </a:lnTo>
                    <a:lnTo>
                      <a:pt x="2531" y="4133"/>
                    </a:lnTo>
                    <a:lnTo>
                      <a:pt x="2602" y="4142"/>
                    </a:lnTo>
                    <a:lnTo>
                      <a:pt x="2666" y="4148"/>
                    </a:lnTo>
                    <a:lnTo>
                      <a:pt x="2729" y="4155"/>
                    </a:lnTo>
                    <a:lnTo>
                      <a:pt x="2795" y="4160"/>
                    </a:lnTo>
                    <a:lnTo>
                      <a:pt x="2828" y="4164"/>
                    </a:lnTo>
                    <a:lnTo>
                      <a:pt x="2862" y="4166"/>
                    </a:lnTo>
                    <a:lnTo>
                      <a:pt x="2896" y="4167"/>
                    </a:lnTo>
                    <a:lnTo>
                      <a:pt x="2929" y="4168"/>
                    </a:lnTo>
                    <a:lnTo>
                      <a:pt x="2963" y="4168"/>
                    </a:lnTo>
                    <a:lnTo>
                      <a:pt x="2996" y="4166"/>
                    </a:lnTo>
                    <a:lnTo>
                      <a:pt x="3028" y="4164"/>
                    </a:lnTo>
                    <a:lnTo>
                      <a:pt x="3061" y="4160"/>
                    </a:lnTo>
                    <a:lnTo>
                      <a:pt x="3092" y="4155"/>
                    </a:lnTo>
                    <a:lnTo>
                      <a:pt x="3124" y="4148"/>
                    </a:lnTo>
                    <a:lnTo>
                      <a:pt x="3153" y="4138"/>
                    </a:lnTo>
                    <a:lnTo>
                      <a:pt x="3182" y="4128"/>
                    </a:lnTo>
                    <a:lnTo>
                      <a:pt x="3210" y="4114"/>
                    </a:lnTo>
                    <a:lnTo>
                      <a:pt x="3236" y="4098"/>
                    </a:lnTo>
                    <a:lnTo>
                      <a:pt x="3261" y="4080"/>
                    </a:lnTo>
                    <a:lnTo>
                      <a:pt x="3284" y="4059"/>
                    </a:lnTo>
                    <a:lnTo>
                      <a:pt x="3307" y="4035"/>
                    </a:lnTo>
                    <a:lnTo>
                      <a:pt x="3327" y="4010"/>
                    </a:lnTo>
                    <a:lnTo>
                      <a:pt x="3345" y="3980"/>
                    </a:lnTo>
                    <a:lnTo>
                      <a:pt x="3362" y="3946"/>
                    </a:lnTo>
                    <a:lnTo>
                      <a:pt x="3376" y="3910"/>
                    </a:lnTo>
                    <a:lnTo>
                      <a:pt x="3388" y="3870"/>
                    </a:lnTo>
                    <a:lnTo>
                      <a:pt x="3397" y="3827"/>
                    </a:lnTo>
                    <a:lnTo>
                      <a:pt x="3405" y="3779"/>
                    </a:lnTo>
                    <a:lnTo>
                      <a:pt x="3409" y="3727"/>
                    </a:lnTo>
                    <a:lnTo>
                      <a:pt x="3410" y="3672"/>
                    </a:lnTo>
                    <a:lnTo>
                      <a:pt x="3409" y="3611"/>
                    </a:lnTo>
                    <a:lnTo>
                      <a:pt x="3406" y="3547"/>
                    </a:lnTo>
                    <a:lnTo>
                      <a:pt x="3393" y="3404"/>
                    </a:lnTo>
                    <a:lnTo>
                      <a:pt x="3382" y="3244"/>
                    </a:lnTo>
                    <a:lnTo>
                      <a:pt x="3370" y="3071"/>
                    </a:lnTo>
                    <a:lnTo>
                      <a:pt x="3358" y="2889"/>
                    </a:lnTo>
                    <a:lnTo>
                      <a:pt x="3334" y="2511"/>
                    </a:lnTo>
                    <a:lnTo>
                      <a:pt x="3311" y="2136"/>
                    </a:lnTo>
                    <a:lnTo>
                      <a:pt x="3291" y="1795"/>
                    </a:lnTo>
                    <a:lnTo>
                      <a:pt x="3275" y="1517"/>
                    </a:lnTo>
                    <a:lnTo>
                      <a:pt x="3265" y="1328"/>
                    </a:lnTo>
                    <a:lnTo>
                      <a:pt x="3262" y="1259"/>
                    </a:lnTo>
                    <a:lnTo>
                      <a:pt x="3146" y="1113"/>
                    </a:lnTo>
                    <a:lnTo>
                      <a:pt x="3164" y="1120"/>
                    </a:lnTo>
                    <a:lnTo>
                      <a:pt x="3215" y="1134"/>
                    </a:lnTo>
                    <a:lnTo>
                      <a:pt x="3251" y="1143"/>
                    </a:lnTo>
                    <a:lnTo>
                      <a:pt x="3291" y="1152"/>
                    </a:lnTo>
                    <a:lnTo>
                      <a:pt x="3337" y="1160"/>
                    </a:lnTo>
                    <a:lnTo>
                      <a:pt x="3387" y="1168"/>
                    </a:lnTo>
                    <a:lnTo>
                      <a:pt x="3413" y="1172"/>
                    </a:lnTo>
                    <a:lnTo>
                      <a:pt x="3440" y="1174"/>
                    </a:lnTo>
                    <a:lnTo>
                      <a:pt x="3467" y="1176"/>
                    </a:lnTo>
                    <a:lnTo>
                      <a:pt x="3495" y="1177"/>
                    </a:lnTo>
                    <a:lnTo>
                      <a:pt x="3523" y="1178"/>
                    </a:lnTo>
                    <a:lnTo>
                      <a:pt x="3551" y="1178"/>
                    </a:lnTo>
                    <a:lnTo>
                      <a:pt x="3580" y="1177"/>
                    </a:lnTo>
                    <a:lnTo>
                      <a:pt x="3608" y="1175"/>
                    </a:lnTo>
                    <a:lnTo>
                      <a:pt x="3637" y="1172"/>
                    </a:lnTo>
                    <a:lnTo>
                      <a:pt x="3666" y="1168"/>
                    </a:lnTo>
                    <a:lnTo>
                      <a:pt x="3694" y="1163"/>
                    </a:lnTo>
                    <a:lnTo>
                      <a:pt x="3722" y="1156"/>
                    </a:lnTo>
                    <a:lnTo>
                      <a:pt x="3749" y="1147"/>
                    </a:lnTo>
                    <a:lnTo>
                      <a:pt x="3776" y="1138"/>
                    </a:lnTo>
                    <a:lnTo>
                      <a:pt x="3802" y="1127"/>
                    </a:lnTo>
                    <a:lnTo>
                      <a:pt x="3827" y="1113"/>
                    </a:lnTo>
                    <a:lnTo>
                      <a:pt x="3851" y="1100"/>
                    </a:lnTo>
                    <a:lnTo>
                      <a:pt x="3872" y="1087"/>
                    </a:lnTo>
                    <a:lnTo>
                      <a:pt x="3891" y="1075"/>
                    </a:lnTo>
                    <a:lnTo>
                      <a:pt x="3908" y="1062"/>
                    </a:lnTo>
                    <a:lnTo>
                      <a:pt x="3923" y="1051"/>
                    </a:lnTo>
                    <a:lnTo>
                      <a:pt x="3934" y="1040"/>
                    </a:lnTo>
                    <a:lnTo>
                      <a:pt x="3945" y="1030"/>
                    </a:lnTo>
                    <a:lnTo>
                      <a:pt x="3953" y="1020"/>
                    </a:lnTo>
                    <a:lnTo>
                      <a:pt x="3960" y="1011"/>
                    </a:lnTo>
                    <a:lnTo>
                      <a:pt x="3965" y="1002"/>
                    </a:lnTo>
                    <a:lnTo>
                      <a:pt x="3968" y="993"/>
                    </a:lnTo>
                    <a:lnTo>
                      <a:pt x="3969" y="985"/>
                    </a:lnTo>
                    <a:lnTo>
                      <a:pt x="3969" y="976"/>
                    </a:lnTo>
                    <a:lnTo>
                      <a:pt x="3968" y="968"/>
                    </a:lnTo>
                    <a:lnTo>
                      <a:pt x="3966" y="960"/>
                    </a:lnTo>
                    <a:lnTo>
                      <a:pt x="3961" y="952"/>
                    </a:lnTo>
                    <a:lnTo>
                      <a:pt x="3957" y="944"/>
                    </a:lnTo>
                    <a:lnTo>
                      <a:pt x="3951" y="936"/>
                    </a:lnTo>
                    <a:lnTo>
                      <a:pt x="3944" y="930"/>
                    </a:lnTo>
                    <a:lnTo>
                      <a:pt x="3938" y="922"/>
                    </a:lnTo>
                    <a:lnTo>
                      <a:pt x="3921" y="906"/>
                    </a:lnTo>
                    <a:lnTo>
                      <a:pt x="3903" y="890"/>
                    </a:lnTo>
                    <a:lnTo>
                      <a:pt x="3884" y="873"/>
                    </a:lnTo>
                    <a:lnTo>
                      <a:pt x="3863" y="854"/>
                    </a:lnTo>
                    <a:lnTo>
                      <a:pt x="3844" y="835"/>
                    </a:lnTo>
                    <a:lnTo>
                      <a:pt x="3827" y="814"/>
                    </a:lnTo>
                    <a:lnTo>
                      <a:pt x="3818" y="801"/>
                    </a:lnTo>
                    <a:lnTo>
                      <a:pt x="3811" y="788"/>
                    </a:lnTo>
                    <a:lnTo>
                      <a:pt x="3804" y="772"/>
                    </a:lnTo>
                    <a:lnTo>
                      <a:pt x="3797" y="754"/>
                    </a:lnTo>
                    <a:lnTo>
                      <a:pt x="3784" y="716"/>
                    </a:lnTo>
                    <a:lnTo>
                      <a:pt x="3771" y="672"/>
                    </a:lnTo>
                    <a:lnTo>
                      <a:pt x="3748" y="574"/>
                    </a:lnTo>
                    <a:lnTo>
                      <a:pt x="3723" y="467"/>
                    </a:lnTo>
                    <a:lnTo>
                      <a:pt x="3708" y="413"/>
                    </a:lnTo>
                    <a:lnTo>
                      <a:pt x="3691" y="359"/>
                    </a:lnTo>
                    <a:lnTo>
                      <a:pt x="3682" y="333"/>
                    </a:lnTo>
                    <a:lnTo>
                      <a:pt x="3673" y="307"/>
                    </a:lnTo>
                    <a:lnTo>
                      <a:pt x="3662" y="283"/>
                    </a:lnTo>
                    <a:lnTo>
                      <a:pt x="3652" y="258"/>
                    </a:lnTo>
                    <a:lnTo>
                      <a:pt x="3640" y="234"/>
                    </a:lnTo>
                    <a:lnTo>
                      <a:pt x="3627" y="212"/>
                    </a:lnTo>
                    <a:lnTo>
                      <a:pt x="3614" y="190"/>
                    </a:lnTo>
                    <a:lnTo>
                      <a:pt x="3599" y="169"/>
                    </a:lnTo>
                    <a:lnTo>
                      <a:pt x="3583" y="150"/>
                    </a:lnTo>
                    <a:lnTo>
                      <a:pt x="3568" y="133"/>
                    </a:lnTo>
                    <a:lnTo>
                      <a:pt x="3550" y="116"/>
                    </a:lnTo>
                    <a:lnTo>
                      <a:pt x="3532" y="102"/>
                    </a:lnTo>
                    <a:lnTo>
                      <a:pt x="3510" y="88"/>
                    </a:lnTo>
                    <a:lnTo>
                      <a:pt x="3487" y="77"/>
                    </a:lnTo>
                    <a:lnTo>
                      <a:pt x="3461" y="66"/>
                    </a:lnTo>
                    <a:lnTo>
                      <a:pt x="3434" y="55"/>
                    </a:lnTo>
                    <a:lnTo>
                      <a:pt x="3404" y="46"/>
                    </a:lnTo>
                    <a:lnTo>
                      <a:pt x="3372" y="38"/>
                    </a:lnTo>
                    <a:lnTo>
                      <a:pt x="3340" y="31"/>
                    </a:lnTo>
                    <a:lnTo>
                      <a:pt x="3305" y="25"/>
                    </a:lnTo>
                    <a:lnTo>
                      <a:pt x="3269" y="19"/>
                    </a:lnTo>
                    <a:lnTo>
                      <a:pt x="3233" y="15"/>
                    </a:lnTo>
                    <a:lnTo>
                      <a:pt x="3195" y="10"/>
                    </a:lnTo>
                    <a:lnTo>
                      <a:pt x="3156" y="8"/>
                    </a:lnTo>
                    <a:lnTo>
                      <a:pt x="3078" y="4"/>
                    </a:lnTo>
                    <a:lnTo>
                      <a:pt x="2998" y="0"/>
                    </a:lnTo>
                    <a:lnTo>
                      <a:pt x="2919" y="0"/>
                    </a:lnTo>
                    <a:lnTo>
                      <a:pt x="2842" y="1"/>
                    </a:lnTo>
                    <a:lnTo>
                      <a:pt x="2767" y="2"/>
                    </a:lnTo>
                    <a:lnTo>
                      <a:pt x="2698" y="5"/>
                    </a:lnTo>
                    <a:lnTo>
                      <a:pt x="2577" y="9"/>
                    </a:lnTo>
                    <a:lnTo>
                      <a:pt x="2491" y="11"/>
                    </a:lnTo>
                    <a:lnTo>
                      <a:pt x="2454" y="13"/>
                    </a:lnTo>
                    <a:lnTo>
                      <a:pt x="2411" y="15"/>
                    </a:lnTo>
                    <a:lnTo>
                      <a:pt x="2364" y="17"/>
                    </a:lnTo>
                    <a:lnTo>
                      <a:pt x="2312" y="22"/>
                    </a:lnTo>
                    <a:lnTo>
                      <a:pt x="2204" y="31"/>
                    </a:lnTo>
                    <a:lnTo>
                      <a:pt x="2096" y="42"/>
                    </a:lnTo>
                    <a:lnTo>
                      <a:pt x="1995" y="53"/>
                    </a:lnTo>
                    <a:lnTo>
                      <a:pt x="1913" y="62"/>
                    </a:lnTo>
                    <a:lnTo>
                      <a:pt x="1857" y="69"/>
                    </a:lnTo>
                    <a:lnTo>
                      <a:pt x="1836" y="72"/>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7" name=""/>
              <p:cNvSpPr/>
              <p:nvPr/>
            </p:nvSpPr>
            <p:spPr>
              <a:xfrm>
                <a:off x="865800" y="2843280"/>
                <a:ext cx="798120" cy="766800"/>
              </a:xfrm>
              <a:custGeom>
                <a:avLst/>
                <a:gdLst/>
                <a:ahLst/>
                <a:rect l="l" t="t" r="r" b="b"/>
                <a:pathLst>
                  <a:path w="3969" h="4168">
                    <a:moveTo>
                      <a:pt x="1836" y="72"/>
                    </a:moveTo>
                    <a:lnTo>
                      <a:pt x="1820" y="71"/>
                    </a:lnTo>
                    <a:lnTo>
                      <a:pt x="1777" y="69"/>
                    </a:lnTo>
                    <a:lnTo>
                      <a:pt x="1708" y="68"/>
                    </a:lnTo>
                    <a:lnTo>
                      <a:pt x="1620" y="68"/>
                    </a:lnTo>
                    <a:lnTo>
                      <a:pt x="1569" y="69"/>
                    </a:lnTo>
                    <a:lnTo>
                      <a:pt x="1514" y="70"/>
                    </a:lnTo>
                    <a:lnTo>
                      <a:pt x="1457" y="73"/>
                    </a:lnTo>
                    <a:lnTo>
                      <a:pt x="1396" y="77"/>
                    </a:lnTo>
                    <a:lnTo>
                      <a:pt x="1332" y="81"/>
                    </a:lnTo>
                    <a:lnTo>
                      <a:pt x="1268" y="88"/>
                    </a:lnTo>
                    <a:lnTo>
                      <a:pt x="1202" y="96"/>
                    </a:lnTo>
                    <a:lnTo>
                      <a:pt x="1134" y="105"/>
                    </a:lnTo>
                    <a:lnTo>
                      <a:pt x="1067" y="116"/>
                    </a:lnTo>
                    <a:lnTo>
                      <a:pt x="998" y="130"/>
                    </a:lnTo>
                    <a:lnTo>
                      <a:pt x="932" y="145"/>
                    </a:lnTo>
                    <a:lnTo>
                      <a:pt x="865" y="163"/>
                    </a:lnTo>
                    <a:lnTo>
                      <a:pt x="800" y="184"/>
                    </a:lnTo>
                    <a:lnTo>
                      <a:pt x="737" y="206"/>
                    </a:lnTo>
                    <a:lnTo>
                      <a:pt x="678" y="232"/>
                    </a:lnTo>
                    <a:lnTo>
                      <a:pt x="620" y="260"/>
                    </a:lnTo>
                    <a:lnTo>
                      <a:pt x="565" y="292"/>
                    </a:lnTo>
                    <a:lnTo>
                      <a:pt x="516" y="325"/>
                    </a:lnTo>
                    <a:lnTo>
                      <a:pt x="470" y="364"/>
                    </a:lnTo>
                    <a:lnTo>
                      <a:pt x="428" y="405"/>
                    </a:lnTo>
                    <a:lnTo>
                      <a:pt x="392" y="450"/>
                    </a:lnTo>
                    <a:lnTo>
                      <a:pt x="362" y="499"/>
                    </a:lnTo>
                    <a:lnTo>
                      <a:pt x="337" y="552"/>
                    </a:lnTo>
                    <a:lnTo>
                      <a:pt x="320" y="608"/>
                    </a:lnTo>
                    <a:lnTo>
                      <a:pt x="304" y="665"/>
                    </a:lnTo>
                    <a:lnTo>
                      <a:pt x="289" y="719"/>
                    </a:lnTo>
                    <a:lnTo>
                      <a:pt x="272" y="771"/>
                    </a:lnTo>
                    <a:lnTo>
                      <a:pt x="254" y="821"/>
                    </a:lnTo>
                    <a:lnTo>
                      <a:pt x="235" y="868"/>
                    </a:lnTo>
                    <a:lnTo>
                      <a:pt x="215" y="913"/>
                    </a:lnTo>
                    <a:lnTo>
                      <a:pt x="195" y="956"/>
                    </a:lnTo>
                    <a:lnTo>
                      <a:pt x="175" y="996"/>
                    </a:lnTo>
                    <a:lnTo>
                      <a:pt x="99" y="1138"/>
                    </a:lnTo>
                    <a:lnTo>
                      <a:pt x="37" y="1249"/>
                    </a:lnTo>
                    <a:lnTo>
                      <a:pt x="25" y="1273"/>
                    </a:lnTo>
                    <a:lnTo>
                      <a:pt x="16" y="1294"/>
                    </a:lnTo>
                    <a:lnTo>
                      <a:pt x="8" y="1316"/>
                    </a:lnTo>
                    <a:lnTo>
                      <a:pt x="2" y="1335"/>
                    </a:lnTo>
                    <a:lnTo>
                      <a:pt x="0" y="1352"/>
                    </a:lnTo>
                    <a:lnTo>
                      <a:pt x="0" y="1369"/>
                    </a:lnTo>
                    <a:lnTo>
                      <a:pt x="3" y="1383"/>
                    </a:lnTo>
                    <a:lnTo>
                      <a:pt x="10" y="1397"/>
                    </a:lnTo>
                    <a:lnTo>
                      <a:pt x="19" y="1409"/>
                    </a:lnTo>
                    <a:lnTo>
                      <a:pt x="32" y="1420"/>
                    </a:lnTo>
                    <a:lnTo>
                      <a:pt x="50" y="1432"/>
                    </a:lnTo>
                    <a:lnTo>
                      <a:pt x="71" y="1441"/>
                    </a:lnTo>
                    <a:lnTo>
                      <a:pt x="97" y="1450"/>
                    </a:lnTo>
                    <a:lnTo>
                      <a:pt x="126" y="1456"/>
                    </a:lnTo>
                    <a:lnTo>
                      <a:pt x="161" y="1463"/>
                    </a:lnTo>
                    <a:lnTo>
                      <a:pt x="200" y="1470"/>
                    </a:lnTo>
                    <a:lnTo>
                      <a:pt x="281" y="1481"/>
                    </a:lnTo>
                    <a:lnTo>
                      <a:pt x="358" y="1493"/>
                    </a:lnTo>
                    <a:lnTo>
                      <a:pt x="432" y="1506"/>
                    </a:lnTo>
                    <a:lnTo>
                      <a:pt x="500" y="1518"/>
                    </a:lnTo>
                    <a:lnTo>
                      <a:pt x="564" y="1528"/>
                    </a:lnTo>
                    <a:lnTo>
                      <a:pt x="624" y="1537"/>
                    </a:lnTo>
                    <a:lnTo>
                      <a:pt x="652" y="1540"/>
                    </a:lnTo>
                    <a:lnTo>
                      <a:pt x="678" y="1542"/>
                    </a:lnTo>
                    <a:lnTo>
                      <a:pt x="704" y="1544"/>
                    </a:lnTo>
                    <a:lnTo>
                      <a:pt x="728" y="1544"/>
                    </a:lnTo>
                    <a:lnTo>
                      <a:pt x="752" y="1544"/>
                    </a:lnTo>
                    <a:lnTo>
                      <a:pt x="773" y="1542"/>
                    </a:lnTo>
                    <a:lnTo>
                      <a:pt x="795" y="1540"/>
                    </a:lnTo>
                    <a:lnTo>
                      <a:pt x="814" y="1535"/>
                    </a:lnTo>
                    <a:lnTo>
                      <a:pt x="832" y="1529"/>
                    </a:lnTo>
                    <a:lnTo>
                      <a:pt x="849" y="1523"/>
                    </a:lnTo>
                    <a:lnTo>
                      <a:pt x="864" y="1514"/>
                    </a:lnTo>
                    <a:lnTo>
                      <a:pt x="879" y="1504"/>
                    </a:lnTo>
                    <a:lnTo>
                      <a:pt x="891" y="1491"/>
                    </a:lnTo>
                    <a:lnTo>
                      <a:pt x="904" y="1477"/>
                    </a:lnTo>
                    <a:lnTo>
                      <a:pt x="914" y="1461"/>
                    </a:lnTo>
                    <a:lnTo>
                      <a:pt x="923" y="1443"/>
                    </a:lnTo>
                    <a:lnTo>
                      <a:pt x="931" y="1423"/>
                    </a:lnTo>
                    <a:lnTo>
                      <a:pt x="936" y="1401"/>
                    </a:lnTo>
                    <a:lnTo>
                      <a:pt x="942" y="1376"/>
                    </a:lnTo>
                    <a:lnTo>
                      <a:pt x="945" y="1349"/>
                    </a:lnTo>
                    <a:lnTo>
                      <a:pt x="933" y="1352"/>
                    </a:lnTo>
                    <a:lnTo>
                      <a:pt x="903" y="1360"/>
                    </a:lnTo>
                    <a:lnTo>
                      <a:pt x="882" y="1366"/>
                    </a:lnTo>
                    <a:lnTo>
                      <a:pt x="860" y="1376"/>
                    </a:lnTo>
                    <a:lnTo>
                      <a:pt x="847" y="1382"/>
                    </a:lnTo>
                    <a:lnTo>
                      <a:pt x="835" y="1389"/>
                    </a:lnTo>
                    <a:lnTo>
                      <a:pt x="823" y="1397"/>
                    </a:lnTo>
                    <a:lnTo>
                      <a:pt x="810" y="1406"/>
                    </a:lnTo>
                    <a:lnTo>
                      <a:pt x="799" y="1416"/>
                    </a:lnTo>
                    <a:lnTo>
                      <a:pt x="787" y="1426"/>
                    </a:lnTo>
                    <a:lnTo>
                      <a:pt x="775" y="1437"/>
                    </a:lnTo>
                    <a:lnTo>
                      <a:pt x="764" y="1451"/>
                    </a:lnTo>
                    <a:lnTo>
                      <a:pt x="753" y="1464"/>
                    </a:lnTo>
                    <a:lnTo>
                      <a:pt x="743" y="1480"/>
                    </a:lnTo>
                    <a:lnTo>
                      <a:pt x="734" y="1496"/>
                    </a:lnTo>
                    <a:lnTo>
                      <a:pt x="725" y="1514"/>
                    </a:lnTo>
                    <a:lnTo>
                      <a:pt x="717" y="1533"/>
                    </a:lnTo>
                    <a:lnTo>
                      <a:pt x="710" y="1553"/>
                    </a:lnTo>
                    <a:lnTo>
                      <a:pt x="706" y="1576"/>
                    </a:lnTo>
                    <a:lnTo>
                      <a:pt x="701" y="1599"/>
                    </a:lnTo>
                    <a:lnTo>
                      <a:pt x="698" y="1624"/>
                    </a:lnTo>
                    <a:lnTo>
                      <a:pt x="697" y="1651"/>
                    </a:lnTo>
                    <a:lnTo>
                      <a:pt x="697" y="1679"/>
                    </a:lnTo>
                    <a:lnTo>
                      <a:pt x="699" y="1709"/>
                    </a:lnTo>
                    <a:lnTo>
                      <a:pt x="705" y="1778"/>
                    </a:lnTo>
                    <a:lnTo>
                      <a:pt x="708" y="1861"/>
                    </a:lnTo>
                    <a:lnTo>
                      <a:pt x="709" y="1956"/>
                    </a:lnTo>
                    <a:lnTo>
                      <a:pt x="710" y="2062"/>
                    </a:lnTo>
                    <a:lnTo>
                      <a:pt x="709" y="2175"/>
                    </a:lnTo>
                    <a:lnTo>
                      <a:pt x="707" y="2296"/>
                    </a:lnTo>
                    <a:lnTo>
                      <a:pt x="704" y="2421"/>
                    </a:lnTo>
                    <a:lnTo>
                      <a:pt x="699" y="2549"/>
                    </a:lnTo>
                    <a:lnTo>
                      <a:pt x="692" y="2677"/>
                    </a:lnTo>
                    <a:lnTo>
                      <a:pt x="684" y="2803"/>
                    </a:lnTo>
                    <a:lnTo>
                      <a:pt x="675" y="2927"/>
                    </a:lnTo>
                    <a:lnTo>
                      <a:pt x="665" y="3046"/>
                    </a:lnTo>
                    <a:lnTo>
                      <a:pt x="660" y="3104"/>
                    </a:lnTo>
                    <a:lnTo>
                      <a:pt x="653" y="3158"/>
                    </a:lnTo>
                    <a:lnTo>
                      <a:pt x="647" y="3211"/>
                    </a:lnTo>
                    <a:lnTo>
                      <a:pt x="641" y="3261"/>
                    </a:lnTo>
                    <a:lnTo>
                      <a:pt x="633" y="3308"/>
                    </a:lnTo>
                    <a:lnTo>
                      <a:pt x="626" y="3353"/>
                    </a:lnTo>
                    <a:lnTo>
                      <a:pt x="618" y="3395"/>
                    </a:lnTo>
                    <a:lnTo>
                      <a:pt x="609" y="3432"/>
                    </a:lnTo>
                    <a:lnTo>
                      <a:pt x="592" y="3504"/>
                    </a:lnTo>
                    <a:lnTo>
                      <a:pt x="577" y="3572"/>
                    </a:lnTo>
                    <a:lnTo>
                      <a:pt x="562" y="3635"/>
                    </a:lnTo>
                    <a:lnTo>
                      <a:pt x="551" y="3694"/>
                    </a:lnTo>
                    <a:lnTo>
                      <a:pt x="546" y="3723"/>
                    </a:lnTo>
                    <a:lnTo>
                      <a:pt x="543" y="3750"/>
                    </a:lnTo>
                    <a:lnTo>
                      <a:pt x="541" y="3775"/>
                    </a:lnTo>
                    <a:lnTo>
                      <a:pt x="541" y="3800"/>
                    </a:lnTo>
                    <a:lnTo>
                      <a:pt x="542" y="3824"/>
                    </a:lnTo>
                    <a:lnTo>
                      <a:pt x="545" y="3846"/>
                    </a:lnTo>
                    <a:lnTo>
                      <a:pt x="550" y="3868"/>
                    </a:lnTo>
                    <a:lnTo>
                      <a:pt x="557" y="3888"/>
                    </a:lnTo>
                    <a:lnTo>
                      <a:pt x="566" y="3907"/>
                    </a:lnTo>
                    <a:lnTo>
                      <a:pt x="578" y="3924"/>
                    </a:lnTo>
                    <a:lnTo>
                      <a:pt x="591" y="3941"/>
                    </a:lnTo>
                    <a:lnTo>
                      <a:pt x="608" y="3955"/>
                    </a:lnTo>
                    <a:lnTo>
                      <a:pt x="627" y="3970"/>
                    </a:lnTo>
                    <a:lnTo>
                      <a:pt x="650" y="3982"/>
                    </a:lnTo>
                    <a:lnTo>
                      <a:pt x="674" y="3993"/>
                    </a:lnTo>
                    <a:lnTo>
                      <a:pt x="702" y="4003"/>
                    </a:lnTo>
                    <a:lnTo>
                      <a:pt x="734" y="4011"/>
                    </a:lnTo>
                    <a:lnTo>
                      <a:pt x="770" y="4019"/>
                    </a:lnTo>
                    <a:lnTo>
                      <a:pt x="808" y="4023"/>
                    </a:lnTo>
                    <a:lnTo>
                      <a:pt x="851" y="4028"/>
                    </a:lnTo>
                    <a:lnTo>
                      <a:pt x="897" y="4030"/>
                    </a:lnTo>
                    <a:lnTo>
                      <a:pt x="947" y="4031"/>
                    </a:lnTo>
                    <a:lnTo>
                      <a:pt x="1001" y="4031"/>
                    </a:lnTo>
                    <a:lnTo>
                      <a:pt x="1061" y="4029"/>
                    </a:lnTo>
                    <a:lnTo>
                      <a:pt x="1122" y="4026"/>
                    </a:lnTo>
                    <a:lnTo>
                      <a:pt x="1184" y="4024"/>
                    </a:lnTo>
                    <a:lnTo>
                      <a:pt x="1244" y="4024"/>
                    </a:lnTo>
                    <a:lnTo>
                      <a:pt x="1304" y="4024"/>
                    </a:lnTo>
                    <a:lnTo>
                      <a:pt x="1365" y="4024"/>
                    </a:lnTo>
                    <a:lnTo>
                      <a:pt x="1424" y="4025"/>
                    </a:lnTo>
                    <a:lnTo>
                      <a:pt x="1484" y="4028"/>
                    </a:lnTo>
                    <a:lnTo>
                      <a:pt x="1542" y="4030"/>
                    </a:lnTo>
                    <a:lnTo>
                      <a:pt x="1658" y="4037"/>
                    </a:lnTo>
                    <a:lnTo>
                      <a:pt x="1770" y="4046"/>
                    </a:lnTo>
                    <a:lnTo>
                      <a:pt x="1880" y="4056"/>
                    </a:lnTo>
                    <a:lnTo>
                      <a:pt x="1987" y="4066"/>
                    </a:lnTo>
                    <a:lnTo>
                      <a:pt x="2188" y="4089"/>
                    </a:lnTo>
                    <a:lnTo>
                      <a:pt x="2371" y="4113"/>
                    </a:lnTo>
                    <a:lnTo>
                      <a:pt x="2454" y="4123"/>
                    </a:lnTo>
                    <a:lnTo>
                      <a:pt x="2531" y="4133"/>
                    </a:lnTo>
                    <a:lnTo>
                      <a:pt x="2602" y="4142"/>
                    </a:lnTo>
                    <a:lnTo>
                      <a:pt x="2666" y="4148"/>
                    </a:lnTo>
                    <a:lnTo>
                      <a:pt x="2729" y="4155"/>
                    </a:lnTo>
                    <a:lnTo>
                      <a:pt x="2795" y="4160"/>
                    </a:lnTo>
                    <a:lnTo>
                      <a:pt x="2828" y="4164"/>
                    </a:lnTo>
                    <a:lnTo>
                      <a:pt x="2862" y="4166"/>
                    </a:lnTo>
                    <a:lnTo>
                      <a:pt x="2896" y="4167"/>
                    </a:lnTo>
                    <a:lnTo>
                      <a:pt x="2929" y="4168"/>
                    </a:lnTo>
                    <a:lnTo>
                      <a:pt x="2963" y="4168"/>
                    </a:lnTo>
                    <a:lnTo>
                      <a:pt x="2996" y="4166"/>
                    </a:lnTo>
                    <a:lnTo>
                      <a:pt x="3028" y="4164"/>
                    </a:lnTo>
                    <a:lnTo>
                      <a:pt x="3061" y="4160"/>
                    </a:lnTo>
                    <a:lnTo>
                      <a:pt x="3092" y="4155"/>
                    </a:lnTo>
                    <a:lnTo>
                      <a:pt x="3124" y="4148"/>
                    </a:lnTo>
                    <a:lnTo>
                      <a:pt x="3153" y="4138"/>
                    </a:lnTo>
                    <a:lnTo>
                      <a:pt x="3182" y="4128"/>
                    </a:lnTo>
                    <a:lnTo>
                      <a:pt x="3210" y="4114"/>
                    </a:lnTo>
                    <a:lnTo>
                      <a:pt x="3236" y="4098"/>
                    </a:lnTo>
                    <a:lnTo>
                      <a:pt x="3261" y="4080"/>
                    </a:lnTo>
                    <a:lnTo>
                      <a:pt x="3284" y="4059"/>
                    </a:lnTo>
                    <a:lnTo>
                      <a:pt x="3307" y="4035"/>
                    </a:lnTo>
                    <a:lnTo>
                      <a:pt x="3327" y="4010"/>
                    </a:lnTo>
                    <a:lnTo>
                      <a:pt x="3345" y="3980"/>
                    </a:lnTo>
                    <a:lnTo>
                      <a:pt x="3362" y="3946"/>
                    </a:lnTo>
                    <a:lnTo>
                      <a:pt x="3376" y="3910"/>
                    </a:lnTo>
                    <a:lnTo>
                      <a:pt x="3388" y="3870"/>
                    </a:lnTo>
                    <a:lnTo>
                      <a:pt x="3397" y="3827"/>
                    </a:lnTo>
                    <a:lnTo>
                      <a:pt x="3405" y="3779"/>
                    </a:lnTo>
                    <a:lnTo>
                      <a:pt x="3409" y="3727"/>
                    </a:lnTo>
                    <a:lnTo>
                      <a:pt x="3410" y="3672"/>
                    </a:lnTo>
                    <a:lnTo>
                      <a:pt x="3409" y="3611"/>
                    </a:lnTo>
                    <a:lnTo>
                      <a:pt x="3406" y="3547"/>
                    </a:lnTo>
                    <a:lnTo>
                      <a:pt x="3393" y="3404"/>
                    </a:lnTo>
                    <a:lnTo>
                      <a:pt x="3382" y="3244"/>
                    </a:lnTo>
                    <a:lnTo>
                      <a:pt x="3370" y="3071"/>
                    </a:lnTo>
                    <a:lnTo>
                      <a:pt x="3358" y="2889"/>
                    </a:lnTo>
                    <a:lnTo>
                      <a:pt x="3334" y="2511"/>
                    </a:lnTo>
                    <a:lnTo>
                      <a:pt x="3311" y="2136"/>
                    </a:lnTo>
                    <a:lnTo>
                      <a:pt x="3291" y="1795"/>
                    </a:lnTo>
                    <a:lnTo>
                      <a:pt x="3275" y="1517"/>
                    </a:lnTo>
                    <a:lnTo>
                      <a:pt x="3265" y="1328"/>
                    </a:lnTo>
                    <a:lnTo>
                      <a:pt x="3262" y="1259"/>
                    </a:lnTo>
                    <a:lnTo>
                      <a:pt x="3146" y="1113"/>
                    </a:lnTo>
                    <a:lnTo>
                      <a:pt x="3164" y="1120"/>
                    </a:lnTo>
                    <a:lnTo>
                      <a:pt x="3215" y="1134"/>
                    </a:lnTo>
                    <a:lnTo>
                      <a:pt x="3251" y="1143"/>
                    </a:lnTo>
                    <a:lnTo>
                      <a:pt x="3291" y="1152"/>
                    </a:lnTo>
                    <a:lnTo>
                      <a:pt x="3337" y="1160"/>
                    </a:lnTo>
                    <a:lnTo>
                      <a:pt x="3387" y="1168"/>
                    </a:lnTo>
                    <a:lnTo>
                      <a:pt x="3413" y="1172"/>
                    </a:lnTo>
                    <a:lnTo>
                      <a:pt x="3440" y="1174"/>
                    </a:lnTo>
                    <a:lnTo>
                      <a:pt x="3467" y="1176"/>
                    </a:lnTo>
                    <a:lnTo>
                      <a:pt x="3495" y="1177"/>
                    </a:lnTo>
                    <a:lnTo>
                      <a:pt x="3523" y="1178"/>
                    </a:lnTo>
                    <a:lnTo>
                      <a:pt x="3551" y="1178"/>
                    </a:lnTo>
                    <a:lnTo>
                      <a:pt x="3580" y="1177"/>
                    </a:lnTo>
                    <a:lnTo>
                      <a:pt x="3608" y="1175"/>
                    </a:lnTo>
                    <a:lnTo>
                      <a:pt x="3637" y="1172"/>
                    </a:lnTo>
                    <a:lnTo>
                      <a:pt x="3666" y="1168"/>
                    </a:lnTo>
                    <a:lnTo>
                      <a:pt x="3694" y="1163"/>
                    </a:lnTo>
                    <a:lnTo>
                      <a:pt x="3722" y="1156"/>
                    </a:lnTo>
                    <a:lnTo>
                      <a:pt x="3749" y="1147"/>
                    </a:lnTo>
                    <a:lnTo>
                      <a:pt x="3776" y="1138"/>
                    </a:lnTo>
                    <a:lnTo>
                      <a:pt x="3802" y="1127"/>
                    </a:lnTo>
                    <a:lnTo>
                      <a:pt x="3827" y="1113"/>
                    </a:lnTo>
                    <a:lnTo>
                      <a:pt x="3851" y="1100"/>
                    </a:lnTo>
                    <a:lnTo>
                      <a:pt x="3872" y="1087"/>
                    </a:lnTo>
                    <a:lnTo>
                      <a:pt x="3891" y="1075"/>
                    </a:lnTo>
                    <a:lnTo>
                      <a:pt x="3908" y="1062"/>
                    </a:lnTo>
                    <a:lnTo>
                      <a:pt x="3923" y="1051"/>
                    </a:lnTo>
                    <a:lnTo>
                      <a:pt x="3934" y="1040"/>
                    </a:lnTo>
                    <a:lnTo>
                      <a:pt x="3945" y="1030"/>
                    </a:lnTo>
                    <a:lnTo>
                      <a:pt x="3953" y="1020"/>
                    </a:lnTo>
                    <a:lnTo>
                      <a:pt x="3960" y="1011"/>
                    </a:lnTo>
                    <a:lnTo>
                      <a:pt x="3965" y="1002"/>
                    </a:lnTo>
                    <a:lnTo>
                      <a:pt x="3968" y="993"/>
                    </a:lnTo>
                    <a:lnTo>
                      <a:pt x="3969" y="985"/>
                    </a:lnTo>
                    <a:lnTo>
                      <a:pt x="3969" y="976"/>
                    </a:lnTo>
                    <a:lnTo>
                      <a:pt x="3968" y="968"/>
                    </a:lnTo>
                    <a:lnTo>
                      <a:pt x="3966" y="960"/>
                    </a:lnTo>
                    <a:lnTo>
                      <a:pt x="3961" y="952"/>
                    </a:lnTo>
                    <a:lnTo>
                      <a:pt x="3957" y="944"/>
                    </a:lnTo>
                    <a:lnTo>
                      <a:pt x="3951" y="936"/>
                    </a:lnTo>
                    <a:lnTo>
                      <a:pt x="3944" y="930"/>
                    </a:lnTo>
                    <a:lnTo>
                      <a:pt x="3938" y="922"/>
                    </a:lnTo>
                    <a:lnTo>
                      <a:pt x="3921" y="906"/>
                    </a:lnTo>
                    <a:lnTo>
                      <a:pt x="3903" y="890"/>
                    </a:lnTo>
                    <a:lnTo>
                      <a:pt x="3884" y="873"/>
                    </a:lnTo>
                    <a:lnTo>
                      <a:pt x="3863" y="854"/>
                    </a:lnTo>
                    <a:lnTo>
                      <a:pt x="3844" y="835"/>
                    </a:lnTo>
                    <a:lnTo>
                      <a:pt x="3827" y="814"/>
                    </a:lnTo>
                    <a:lnTo>
                      <a:pt x="3818" y="801"/>
                    </a:lnTo>
                    <a:lnTo>
                      <a:pt x="3811" y="788"/>
                    </a:lnTo>
                    <a:lnTo>
                      <a:pt x="3804" y="772"/>
                    </a:lnTo>
                    <a:lnTo>
                      <a:pt x="3797" y="754"/>
                    </a:lnTo>
                    <a:lnTo>
                      <a:pt x="3784" y="716"/>
                    </a:lnTo>
                    <a:lnTo>
                      <a:pt x="3771" y="672"/>
                    </a:lnTo>
                    <a:lnTo>
                      <a:pt x="3748" y="574"/>
                    </a:lnTo>
                    <a:lnTo>
                      <a:pt x="3723" y="467"/>
                    </a:lnTo>
                    <a:lnTo>
                      <a:pt x="3708" y="413"/>
                    </a:lnTo>
                    <a:lnTo>
                      <a:pt x="3691" y="359"/>
                    </a:lnTo>
                    <a:lnTo>
                      <a:pt x="3682" y="333"/>
                    </a:lnTo>
                    <a:lnTo>
                      <a:pt x="3673" y="307"/>
                    </a:lnTo>
                    <a:lnTo>
                      <a:pt x="3662" y="283"/>
                    </a:lnTo>
                    <a:lnTo>
                      <a:pt x="3652" y="258"/>
                    </a:lnTo>
                    <a:lnTo>
                      <a:pt x="3640" y="234"/>
                    </a:lnTo>
                    <a:lnTo>
                      <a:pt x="3627" y="212"/>
                    </a:lnTo>
                    <a:lnTo>
                      <a:pt x="3614" y="190"/>
                    </a:lnTo>
                    <a:lnTo>
                      <a:pt x="3599" y="169"/>
                    </a:lnTo>
                    <a:lnTo>
                      <a:pt x="3583" y="150"/>
                    </a:lnTo>
                    <a:lnTo>
                      <a:pt x="3568" y="133"/>
                    </a:lnTo>
                    <a:lnTo>
                      <a:pt x="3550" y="116"/>
                    </a:lnTo>
                    <a:lnTo>
                      <a:pt x="3532" y="102"/>
                    </a:lnTo>
                    <a:lnTo>
                      <a:pt x="3510" y="88"/>
                    </a:lnTo>
                    <a:lnTo>
                      <a:pt x="3487" y="77"/>
                    </a:lnTo>
                    <a:lnTo>
                      <a:pt x="3461" y="66"/>
                    </a:lnTo>
                    <a:lnTo>
                      <a:pt x="3434" y="55"/>
                    </a:lnTo>
                    <a:lnTo>
                      <a:pt x="3404" y="46"/>
                    </a:lnTo>
                    <a:lnTo>
                      <a:pt x="3372" y="38"/>
                    </a:lnTo>
                    <a:lnTo>
                      <a:pt x="3340" y="31"/>
                    </a:lnTo>
                    <a:lnTo>
                      <a:pt x="3305" y="25"/>
                    </a:lnTo>
                    <a:lnTo>
                      <a:pt x="3269" y="19"/>
                    </a:lnTo>
                    <a:lnTo>
                      <a:pt x="3233" y="15"/>
                    </a:lnTo>
                    <a:lnTo>
                      <a:pt x="3195" y="10"/>
                    </a:lnTo>
                    <a:lnTo>
                      <a:pt x="3156" y="8"/>
                    </a:lnTo>
                    <a:lnTo>
                      <a:pt x="3078" y="4"/>
                    </a:lnTo>
                    <a:lnTo>
                      <a:pt x="2998" y="0"/>
                    </a:lnTo>
                    <a:lnTo>
                      <a:pt x="2919" y="0"/>
                    </a:lnTo>
                    <a:lnTo>
                      <a:pt x="2842" y="1"/>
                    </a:lnTo>
                    <a:lnTo>
                      <a:pt x="2767" y="2"/>
                    </a:lnTo>
                    <a:lnTo>
                      <a:pt x="2698" y="5"/>
                    </a:lnTo>
                    <a:lnTo>
                      <a:pt x="2577" y="9"/>
                    </a:lnTo>
                    <a:lnTo>
                      <a:pt x="2491" y="11"/>
                    </a:lnTo>
                    <a:lnTo>
                      <a:pt x="2454" y="13"/>
                    </a:lnTo>
                    <a:lnTo>
                      <a:pt x="2411" y="15"/>
                    </a:lnTo>
                    <a:lnTo>
                      <a:pt x="2364" y="17"/>
                    </a:lnTo>
                    <a:lnTo>
                      <a:pt x="2312" y="22"/>
                    </a:lnTo>
                    <a:lnTo>
                      <a:pt x="2204" y="31"/>
                    </a:lnTo>
                    <a:lnTo>
                      <a:pt x="2096" y="42"/>
                    </a:lnTo>
                    <a:lnTo>
                      <a:pt x="1995" y="53"/>
                    </a:lnTo>
                    <a:lnTo>
                      <a:pt x="1913" y="62"/>
                    </a:lnTo>
                    <a:lnTo>
                      <a:pt x="1857" y="69"/>
                    </a:lnTo>
                    <a:lnTo>
                      <a:pt x="1836" y="72"/>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8" name=""/>
              <p:cNvSpPr/>
              <p:nvPr/>
            </p:nvSpPr>
            <p:spPr>
              <a:xfrm>
                <a:off x="1155960" y="2829600"/>
                <a:ext cx="127800" cy="93600"/>
              </a:xfrm>
              <a:custGeom>
                <a:avLst/>
                <a:gdLst/>
                <a:ahLst/>
                <a:rect l="l" t="t" r="r" b="b"/>
                <a:pathLst>
                  <a:path w="636" h="507">
                    <a:moveTo>
                      <a:pt x="397" y="0"/>
                    </a:moveTo>
                    <a:lnTo>
                      <a:pt x="376" y="6"/>
                    </a:lnTo>
                    <a:lnTo>
                      <a:pt x="323" y="21"/>
                    </a:lnTo>
                    <a:lnTo>
                      <a:pt x="251" y="42"/>
                    </a:lnTo>
                    <a:lnTo>
                      <a:pt x="171" y="68"/>
                    </a:lnTo>
                    <a:lnTo>
                      <a:pt x="131" y="83"/>
                    </a:lnTo>
                    <a:lnTo>
                      <a:pt x="94" y="97"/>
                    </a:lnTo>
                    <a:lnTo>
                      <a:pt x="60" y="113"/>
                    </a:lnTo>
                    <a:lnTo>
                      <a:pt x="33" y="128"/>
                    </a:lnTo>
                    <a:lnTo>
                      <a:pt x="22" y="134"/>
                    </a:lnTo>
                    <a:lnTo>
                      <a:pt x="13" y="142"/>
                    </a:lnTo>
                    <a:lnTo>
                      <a:pt x="6" y="149"/>
                    </a:lnTo>
                    <a:lnTo>
                      <a:pt x="2" y="156"/>
                    </a:lnTo>
                    <a:lnTo>
                      <a:pt x="0" y="163"/>
                    </a:lnTo>
                    <a:lnTo>
                      <a:pt x="1" y="169"/>
                    </a:lnTo>
                    <a:lnTo>
                      <a:pt x="4" y="175"/>
                    </a:lnTo>
                    <a:lnTo>
                      <a:pt x="11" y="181"/>
                    </a:lnTo>
                    <a:lnTo>
                      <a:pt x="30" y="194"/>
                    </a:lnTo>
                    <a:lnTo>
                      <a:pt x="54" y="211"/>
                    </a:lnTo>
                    <a:lnTo>
                      <a:pt x="81" y="232"/>
                    </a:lnTo>
                    <a:lnTo>
                      <a:pt x="110" y="256"/>
                    </a:lnTo>
                    <a:lnTo>
                      <a:pt x="173" y="309"/>
                    </a:lnTo>
                    <a:lnTo>
                      <a:pt x="238" y="365"/>
                    </a:lnTo>
                    <a:lnTo>
                      <a:pt x="299" y="418"/>
                    </a:lnTo>
                    <a:lnTo>
                      <a:pt x="349" y="464"/>
                    </a:lnTo>
                    <a:lnTo>
                      <a:pt x="384" y="496"/>
                    </a:lnTo>
                    <a:lnTo>
                      <a:pt x="397" y="507"/>
                    </a:lnTo>
                    <a:lnTo>
                      <a:pt x="636" y="181"/>
                    </a:lnTo>
                    <a:lnTo>
                      <a:pt x="397" y="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39" name=""/>
              <p:cNvSpPr/>
              <p:nvPr/>
            </p:nvSpPr>
            <p:spPr>
              <a:xfrm>
                <a:off x="1155960" y="2829600"/>
                <a:ext cx="127800" cy="93600"/>
              </a:xfrm>
              <a:custGeom>
                <a:avLst/>
                <a:gdLst/>
                <a:ahLst/>
                <a:rect l="l" t="t" r="r" b="b"/>
                <a:pathLst>
                  <a:path w="636" h="507">
                    <a:moveTo>
                      <a:pt x="397" y="0"/>
                    </a:moveTo>
                    <a:lnTo>
                      <a:pt x="376" y="6"/>
                    </a:lnTo>
                    <a:lnTo>
                      <a:pt x="323" y="21"/>
                    </a:lnTo>
                    <a:lnTo>
                      <a:pt x="251" y="42"/>
                    </a:lnTo>
                    <a:lnTo>
                      <a:pt x="171" y="68"/>
                    </a:lnTo>
                    <a:lnTo>
                      <a:pt x="131" y="83"/>
                    </a:lnTo>
                    <a:lnTo>
                      <a:pt x="94" y="97"/>
                    </a:lnTo>
                    <a:lnTo>
                      <a:pt x="60" y="113"/>
                    </a:lnTo>
                    <a:lnTo>
                      <a:pt x="33" y="128"/>
                    </a:lnTo>
                    <a:lnTo>
                      <a:pt x="22" y="134"/>
                    </a:lnTo>
                    <a:lnTo>
                      <a:pt x="13" y="142"/>
                    </a:lnTo>
                    <a:lnTo>
                      <a:pt x="6" y="149"/>
                    </a:lnTo>
                    <a:lnTo>
                      <a:pt x="2" y="156"/>
                    </a:lnTo>
                    <a:lnTo>
                      <a:pt x="0" y="163"/>
                    </a:lnTo>
                    <a:lnTo>
                      <a:pt x="1" y="169"/>
                    </a:lnTo>
                    <a:lnTo>
                      <a:pt x="4" y="175"/>
                    </a:lnTo>
                    <a:lnTo>
                      <a:pt x="11" y="181"/>
                    </a:lnTo>
                    <a:lnTo>
                      <a:pt x="30" y="194"/>
                    </a:lnTo>
                    <a:lnTo>
                      <a:pt x="54" y="211"/>
                    </a:lnTo>
                    <a:lnTo>
                      <a:pt x="81" y="232"/>
                    </a:lnTo>
                    <a:lnTo>
                      <a:pt x="110" y="256"/>
                    </a:lnTo>
                    <a:lnTo>
                      <a:pt x="173" y="309"/>
                    </a:lnTo>
                    <a:lnTo>
                      <a:pt x="238" y="365"/>
                    </a:lnTo>
                    <a:lnTo>
                      <a:pt x="299" y="418"/>
                    </a:lnTo>
                    <a:lnTo>
                      <a:pt x="349" y="464"/>
                    </a:lnTo>
                    <a:lnTo>
                      <a:pt x="384" y="496"/>
                    </a:lnTo>
                    <a:lnTo>
                      <a:pt x="397" y="507"/>
                    </a:lnTo>
                    <a:lnTo>
                      <a:pt x="636" y="181"/>
                    </a:lnTo>
                    <a:lnTo>
                      <a:pt x="397"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0" name=""/>
              <p:cNvSpPr/>
              <p:nvPr/>
            </p:nvSpPr>
            <p:spPr>
              <a:xfrm>
                <a:off x="1283760" y="2824200"/>
                <a:ext cx="123480" cy="99000"/>
              </a:xfrm>
              <a:custGeom>
                <a:avLst/>
                <a:gdLst/>
                <a:ahLst/>
                <a:rect l="l" t="t" r="r" b="b"/>
                <a:pathLst>
                  <a:path w="622" h="536">
                    <a:moveTo>
                      <a:pt x="326" y="0"/>
                    </a:moveTo>
                    <a:lnTo>
                      <a:pt x="0" y="210"/>
                    </a:lnTo>
                    <a:lnTo>
                      <a:pt x="356" y="536"/>
                    </a:lnTo>
                    <a:lnTo>
                      <a:pt x="622" y="210"/>
                    </a:lnTo>
                    <a:lnTo>
                      <a:pt x="326" y="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1" name=""/>
              <p:cNvSpPr/>
              <p:nvPr/>
            </p:nvSpPr>
            <p:spPr>
              <a:xfrm>
                <a:off x="1283760" y="2824200"/>
                <a:ext cx="123480" cy="99000"/>
              </a:xfrm>
              <a:custGeom>
                <a:avLst/>
                <a:gdLst/>
                <a:ahLst/>
                <a:rect l="l" t="t" r="r" b="b"/>
                <a:pathLst>
                  <a:path w="622" h="536">
                    <a:moveTo>
                      <a:pt x="326" y="0"/>
                    </a:moveTo>
                    <a:lnTo>
                      <a:pt x="0" y="210"/>
                    </a:lnTo>
                    <a:lnTo>
                      <a:pt x="356" y="536"/>
                    </a:lnTo>
                    <a:lnTo>
                      <a:pt x="622" y="210"/>
                    </a:lnTo>
                    <a:lnTo>
                      <a:pt x="326"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2" name=""/>
              <p:cNvSpPr/>
              <p:nvPr/>
            </p:nvSpPr>
            <p:spPr>
              <a:xfrm>
                <a:off x="1151640" y="3793320"/>
                <a:ext cx="124920" cy="18720"/>
              </a:xfrm>
              <a:custGeom>
                <a:avLst/>
                <a:gdLst/>
                <a:ahLst/>
                <a:rect l="l" t="t" r="r" b="b"/>
                <a:pathLst>
                  <a:path w="625" h="106">
                    <a:moveTo>
                      <a:pt x="0" y="0"/>
                    </a:moveTo>
                    <a:lnTo>
                      <a:pt x="10" y="10"/>
                    </a:lnTo>
                    <a:lnTo>
                      <a:pt x="42" y="33"/>
                    </a:lnTo>
                    <a:lnTo>
                      <a:pt x="66" y="48"/>
                    </a:lnTo>
                    <a:lnTo>
                      <a:pt x="94" y="64"/>
                    </a:lnTo>
                    <a:lnTo>
                      <a:pt x="111" y="70"/>
                    </a:lnTo>
                    <a:lnTo>
                      <a:pt x="128" y="77"/>
                    </a:lnTo>
                    <a:lnTo>
                      <a:pt x="146" y="84"/>
                    </a:lnTo>
                    <a:lnTo>
                      <a:pt x="166" y="90"/>
                    </a:lnTo>
                    <a:lnTo>
                      <a:pt x="186" y="95"/>
                    </a:lnTo>
                    <a:lnTo>
                      <a:pt x="209" y="100"/>
                    </a:lnTo>
                    <a:lnTo>
                      <a:pt x="231" y="103"/>
                    </a:lnTo>
                    <a:lnTo>
                      <a:pt x="256" y="105"/>
                    </a:lnTo>
                    <a:lnTo>
                      <a:pt x="281" y="106"/>
                    </a:lnTo>
                    <a:lnTo>
                      <a:pt x="307" y="106"/>
                    </a:lnTo>
                    <a:lnTo>
                      <a:pt x="334" y="104"/>
                    </a:lnTo>
                    <a:lnTo>
                      <a:pt x="363" y="101"/>
                    </a:lnTo>
                    <a:lnTo>
                      <a:pt x="392" y="96"/>
                    </a:lnTo>
                    <a:lnTo>
                      <a:pt x="422" y="90"/>
                    </a:lnTo>
                    <a:lnTo>
                      <a:pt x="454" y="81"/>
                    </a:lnTo>
                    <a:lnTo>
                      <a:pt x="485" y="69"/>
                    </a:lnTo>
                    <a:lnTo>
                      <a:pt x="519" y="56"/>
                    </a:lnTo>
                    <a:lnTo>
                      <a:pt x="553" y="40"/>
                    </a:lnTo>
                    <a:lnTo>
                      <a:pt x="589" y="21"/>
                    </a:lnTo>
                    <a:lnTo>
                      <a:pt x="625" y="0"/>
                    </a:lnTo>
                  </a:path>
                </a:pathLst>
              </a:custGeom>
              <a:noFill/>
              <a:ln w="6480">
                <a:solidFill>
                  <a:srgbClr val="000000"/>
                </a:solidFill>
                <a:round/>
              </a:ln>
            </p:spPr>
            <p:style>
              <a:lnRef idx="0"/>
              <a:fillRef idx="0"/>
              <a:effectRef idx="0"/>
              <a:fontRef idx="minor"/>
            </p:style>
            <p:txBody>
              <a:bodyPr wrap="none" lIns="93240" rIns="93240" tIns="-27720" bIns="-27720" anchor="t">
                <a:spAutoFit/>
              </a:bodyPr>
              <a:p>
                <a:endParaRPr b="0" lang="en-US" sz="2400" spc="-1" strike="noStrike">
                  <a:solidFill>
                    <a:srgbClr val="ffffff"/>
                  </a:solidFill>
                  <a:latin typeface="Times New Roman"/>
                </a:endParaRPr>
              </a:p>
            </p:txBody>
          </p:sp>
          <p:sp>
            <p:nvSpPr>
              <p:cNvPr id="343" name=""/>
              <p:cNvSpPr/>
              <p:nvPr/>
            </p:nvSpPr>
            <p:spPr>
              <a:xfrm>
                <a:off x="1185120" y="3808440"/>
                <a:ext cx="50040" cy="986400"/>
              </a:xfrm>
              <a:custGeom>
                <a:avLst/>
                <a:gdLst/>
                <a:ahLst/>
                <a:rect l="l" t="t" r="r" b="b"/>
                <a:pathLst>
                  <a:path w="246" h="5358">
                    <a:moveTo>
                      <a:pt x="36" y="5358"/>
                    </a:moveTo>
                    <a:lnTo>
                      <a:pt x="39" y="5305"/>
                    </a:lnTo>
                    <a:lnTo>
                      <a:pt x="44" y="5164"/>
                    </a:lnTo>
                    <a:lnTo>
                      <a:pt x="52" y="4962"/>
                    </a:lnTo>
                    <a:lnTo>
                      <a:pt x="59" y="4726"/>
                    </a:lnTo>
                    <a:lnTo>
                      <a:pt x="61" y="4602"/>
                    </a:lnTo>
                    <a:lnTo>
                      <a:pt x="62" y="4480"/>
                    </a:lnTo>
                    <a:lnTo>
                      <a:pt x="62" y="4363"/>
                    </a:lnTo>
                    <a:lnTo>
                      <a:pt x="61" y="4253"/>
                    </a:lnTo>
                    <a:lnTo>
                      <a:pt x="60" y="4202"/>
                    </a:lnTo>
                    <a:lnTo>
                      <a:pt x="58" y="4155"/>
                    </a:lnTo>
                    <a:lnTo>
                      <a:pt x="56" y="4111"/>
                    </a:lnTo>
                    <a:lnTo>
                      <a:pt x="53" y="4072"/>
                    </a:lnTo>
                    <a:lnTo>
                      <a:pt x="50" y="4036"/>
                    </a:lnTo>
                    <a:lnTo>
                      <a:pt x="45" y="4005"/>
                    </a:lnTo>
                    <a:lnTo>
                      <a:pt x="41" y="3981"/>
                    </a:lnTo>
                    <a:lnTo>
                      <a:pt x="36" y="3960"/>
                    </a:lnTo>
                    <a:lnTo>
                      <a:pt x="25" y="3927"/>
                    </a:lnTo>
                    <a:lnTo>
                      <a:pt x="17" y="3893"/>
                    </a:lnTo>
                    <a:lnTo>
                      <a:pt x="12" y="3859"/>
                    </a:lnTo>
                    <a:lnTo>
                      <a:pt x="8" y="3824"/>
                    </a:lnTo>
                    <a:lnTo>
                      <a:pt x="7" y="3807"/>
                    </a:lnTo>
                    <a:lnTo>
                      <a:pt x="7" y="3789"/>
                    </a:lnTo>
                    <a:lnTo>
                      <a:pt x="7" y="3771"/>
                    </a:lnTo>
                    <a:lnTo>
                      <a:pt x="8" y="3753"/>
                    </a:lnTo>
                    <a:lnTo>
                      <a:pt x="12" y="3717"/>
                    </a:lnTo>
                    <a:lnTo>
                      <a:pt x="17" y="3680"/>
                    </a:lnTo>
                    <a:lnTo>
                      <a:pt x="25" y="3642"/>
                    </a:lnTo>
                    <a:lnTo>
                      <a:pt x="36" y="3603"/>
                    </a:lnTo>
                    <a:lnTo>
                      <a:pt x="50" y="3562"/>
                    </a:lnTo>
                    <a:lnTo>
                      <a:pt x="66" y="3519"/>
                    </a:lnTo>
                    <a:lnTo>
                      <a:pt x="84" y="3475"/>
                    </a:lnTo>
                    <a:lnTo>
                      <a:pt x="105" y="3430"/>
                    </a:lnTo>
                    <a:lnTo>
                      <a:pt x="129" y="3384"/>
                    </a:lnTo>
                    <a:lnTo>
                      <a:pt x="156" y="3335"/>
                    </a:lnTo>
                    <a:lnTo>
                      <a:pt x="180" y="3289"/>
                    </a:lnTo>
                    <a:lnTo>
                      <a:pt x="198" y="3252"/>
                    </a:lnTo>
                    <a:lnTo>
                      <a:pt x="205" y="3236"/>
                    </a:lnTo>
                    <a:lnTo>
                      <a:pt x="211" y="3221"/>
                    </a:lnTo>
                    <a:lnTo>
                      <a:pt x="214" y="3209"/>
                    </a:lnTo>
                    <a:lnTo>
                      <a:pt x="217" y="3197"/>
                    </a:lnTo>
                    <a:lnTo>
                      <a:pt x="219" y="3187"/>
                    </a:lnTo>
                    <a:lnTo>
                      <a:pt x="219" y="3177"/>
                    </a:lnTo>
                    <a:lnTo>
                      <a:pt x="217" y="3169"/>
                    </a:lnTo>
                    <a:lnTo>
                      <a:pt x="215" y="3161"/>
                    </a:lnTo>
                    <a:lnTo>
                      <a:pt x="212" y="3154"/>
                    </a:lnTo>
                    <a:lnTo>
                      <a:pt x="208" y="3147"/>
                    </a:lnTo>
                    <a:lnTo>
                      <a:pt x="203" y="3140"/>
                    </a:lnTo>
                    <a:lnTo>
                      <a:pt x="197" y="3133"/>
                    </a:lnTo>
                    <a:lnTo>
                      <a:pt x="183" y="3119"/>
                    </a:lnTo>
                    <a:lnTo>
                      <a:pt x="166" y="3102"/>
                    </a:lnTo>
                    <a:lnTo>
                      <a:pt x="147" y="3083"/>
                    </a:lnTo>
                    <a:lnTo>
                      <a:pt x="126" y="3058"/>
                    </a:lnTo>
                    <a:lnTo>
                      <a:pt x="115" y="3044"/>
                    </a:lnTo>
                    <a:lnTo>
                      <a:pt x="104" y="3028"/>
                    </a:lnTo>
                    <a:lnTo>
                      <a:pt x="93" y="3011"/>
                    </a:lnTo>
                    <a:lnTo>
                      <a:pt x="81" y="2990"/>
                    </a:lnTo>
                    <a:lnTo>
                      <a:pt x="70" y="2969"/>
                    </a:lnTo>
                    <a:lnTo>
                      <a:pt x="59" y="2945"/>
                    </a:lnTo>
                    <a:lnTo>
                      <a:pt x="48" y="2918"/>
                    </a:lnTo>
                    <a:lnTo>
                      <a:pt x="36" y="2889"/>
                    </a:lnTo>
                    <a:lnTo>
                      <a:pt x="26" y="2860"/>
                    </a:lnTo>
                    <a:lnTo>
                      <a:pt x="17" y="2833"/>
                    </a:lnTo>
                    <a:lnTo>
                      <a:pt x="12" y="2809"/>
                    </a:lnTo>
                    <a:lnTo>
                      <a:pt x="6" y="2789"/>
                    </a:lnTo>
                    <a:lnTo>
                      <a:pt x="4" y="2770"/>
                    </a:lnTo>
                    <a:lnTo>
                      <a:pt x="2" y="2754"/>
                    </a:lnTo>
                    <a:lnTo>
                      <a:pt x="0" y="2740"/>
                    </a:lnTo>
                    <a:lnTo>
                      <a:pt x="2" y="2727"/>
                    </a:lnTo>
                    <a:lnTo>
                      <a:pt x="4" y="2716"/>
                    </a:lnTo>
                    <a:lnTo>
                      <a:pt x="6" y="2707"/>
                    </a:lnTo>
                    <a:lnTo>
                      <a:pt x="11" y="2699"/>
                    </a:lnTo>
                    <a:lnTo>
                      <a:pt x="15" y="2692"/>
                    </a:lnTo>
                    <a:lnTo>
                      <a:pt x="21" y="2686"/>
                    </a:lnTo>
                    <a:lnTo>
                      <a:pt x="27" y="2681"/>
                    </a:lnTo>
                    <a:lnTo>
                      <a:pt x="34" y="2676"/>
                    </a:lnTo>
                    <a:lnTo>
                      <a:pt x="41" y="2672"/>
                    </a:lnTo>
                    <a:lnTo>
                      <a:pt x="57" y="2663"/>
                    </a:lnTo>
                    <a:lnTo>
                      <a:pt x="75" y="2654"/>
                    </a:lnTo>
                    <a:lnTo>
                      <a:pt x="83" y="2648"/>
                    </a:lnTo>
                    <a:lnTo>
                      <a:pt x="92" y="2643"/>
                    </a:lnTo>
                    <a:lnTo>
                      <a:pt x="99" y="2636"/>
                    </a:lnTo>
                    <a:lnTo>
                      <a:pt x="108" y="2627"/>
                    </a:lnTo>
                    <a:lnTo>
                      <a:pt x="116" y="2618"/>
                    </a:lnTo>
                    <a:lnTo>
                      <a:pt x="124" y="2607"/>
                    </a:lnTo>
                    <a:lnTo>
                      <a:pt x="131" y="2594"/>
                    </a:lnTo>
                    <a:lnTo>
                      <a:pt x="138" y="2580"/>
                    </a:lnTo>
                    <a:lnTo>
                      <a:pt x="143" y="2563"/>
                    </a:lnTo>
                    <a:lnTo>
                      <a:pt x="148" y="2545"/>
                    </a:lnTo>
                    <a:lnTo>
                      <a:pt x="152" y="2523"/>
                    </a:lnTo>
                    <a:lnTo>
                      <a:pt x="156" y="2499"/>
                    </a:lnTo>
                    <a:lnTo>
                      <a:pt x="166" y="2402"/>
                    </a:lnTo>
                    <a:lnTo>
                      <a:pt x="174" y="2311"/>
                    </a:lnTo>
                    <a:lnTo>
                      <a:pt x="178" y="2228"/>
                    </a:lnTo>
                    <a:lnTo>
                      <a:pt x="181" y="2150"/>
                    </a:lnTo>
                    <a:lnTo>
                      <a:pt x="184" y="2081"/>
                    </a:lnTo>
                    <a:lnTo>
                      <a:pt x="185" y="2023"/>
                    </a:lnTo>
                    <a:lnTo>
                      <a:pt x="186" y="1972"/>
                    </a:lnTo>
                    <a:lnTo>
                      <a:pt x="186" y="1933"/>
                    </a:lnTo>
                    <a:lnTo>
                      <a:pt x="246" y="1847"/>
                    </a:lnTo>
                    <a:lnTo>
                      <a:pt x="126" y="0"/>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4" name=""/>
              <p:cNvSpPr/>
              <p:nvPr/>
            </p:nvSpPr>
            <p:spPr>
              <a:xfrm>
                <a:off x="1111320" y="1987560"/>
                <a:ext cx="289080" cy="207000"/>
              </a:xfrm>
              <a:custGeom>
                <a:avLst/>
                <a:gdLst/>
                <a:ahLst/>
                <a:rect l="l" t="t" r="r" b="b"/>
                <a:pathLst>
                  <a:path w="1438" h="1123">
                    <a:moveTo>
                      <a:pt x="822" y="171"/>
                    </a:moveTo>
                    <a:lnTo>
                      <a:pt x="821" y="169"/>
                    </a:lnTo>
                    <a:lnTo>
                      <a:pt x="816" y="161"/>
                    </a:lnTo>
                    <a:lnTo>
                      <a:pt x="808" y="150"/>
                    </a:lnTo>
                    <a:lnTo>
                      <a:pt x="797" y="137"/>
                    </a:lnTo>
                    <a:lnTo>
                      <a:pt x="790" y="130"/>
                    </a:lnTo>
                    <a:lnTo>
                      <a:pt x="782" y="125"/>
                    </a:lnTo>
                    <a:lnTo>
                      <a:pt x="773" y="118"/>
                    </a:lnTo>
                    <a:lnTo>
                      <a:pt x="763" y="112"/>
                    </a:lnTo>
                    <a:lnTo>
                      <a:pt x="752" y="107"/>
                    </a:lnTo>
                    <a:lnTo>
                      <a:pt x="741" y="103"/>
                    </a:lnTo>
                    <a:lnTo>
                      <a:pt x="727" y="100"/>
                    </a:lnTo>
                    <a:lnTo>
                      <a:pt x="714" y="98"/>
                    </a:lnTo>
                    <a:lnTo>
                      <a:pt x="698" y="98"/>
                    </a:lnTo>
                    <a:lnTo>
                      <a:pt x="682" y="99"/>
                    </a:lnTo>
                    <a:lnTo>
                      <a:pt x="664" y="101"/>
                    </a:lnTo>
                    <a:lnTo>
                      <a:pt x="645" y="106"/>
                    </a:lnTo>
                    <a:lnTo>
                      <a:pt x="625" y="112"/>
                    </a:lnTo>
                    <a:lnTo>
                      <a:pt x="604" y="121"/>
                    </a:lnTo>
                    <a:lnTo>
                      <a:pt x="581" y="134"/>
                    </a:lnTo>
                    <a:lnTo>
                      <a:pt x="558" y="147"/>
                    </a:lnTo>
                    <a:lnTo>
                      <a:pt x="533" y="165"/>
                    </a:lnTo>
                    <a:lnTo>
                      <a:pt x="506" y="186"/>
                    </a:lnTo>
                    <a:lnTo>
                      <a:pt x="478" y="209"/>
                    </a:lnTo>
                    <a:lnTo>
                      <a:pt x="449" y="236"/>
                    </a:lnTo>
                    <a:lnTo>
                      <a:pt x="418" y="267"/>
                    </a:lnTo>
                    <a:lnTo>
                      <a:pt x="386" y="300"/>
                    </a:lnTo>
                    <a:lnTo>
                      <a:pt x="352" y="339"/>
                    </a:lnTo>
                    <a:lnTo>
                      <a:pt x="316" y="381"/>
                    </a:lnTo>
                    <a:lnTo>
                      <a:pt x="281" y="425"/>
                    </a:lnTo>
                    <a:lnTo>
                      <a:pt x="247" y="468"/>
                    </a:lnTo>
                    <a:lnTo>
                      <a:pt x="216" y="510"/>
                    </a:lnTo>
                    <a:lnTo>
                      <a:pt x="187" y="550"/>
                    </a:lnTo>
                    <a:lnTo>
                      <a:pt x="160" y="588"/>
                    </a:lnTo>
                    <a:lnTo>
                      <a:pt x="135" y="627"/>
                    </a:lnTo>
                    <a:lnTo>
                      <a:pt x="112" y="663"/>
                    </a:lnTo>
                    <a:lnTo>
                      <a:pt x="91" y="698"/>
                    </a:lnTo>
                    <a:lnTo>
                      <a:pt x="73" y="731"/>
                    </a:lnTo>
                    <a:lnTo>
                      <a:pt x="56" y="764"/>
                    </a:lnTo>
                    <a:lnTo>
                      <a:pt x="42" y="796"/>
                    </a:lnTo>
                    <a:lnTo>
                      <a:pt x="29" y="825"/>
                    </a:lnTo>
                    <a:lnTo>
                      <a:pt x="19" y="854"/>
                    </a:lnTo>
                    <a:lnTo>
                      <a:pt x="11" y="881"/>
                    </a:lnTo>
                    <a:lnTo>
                      <a:pt x="6" y="907"/>
                    </a:lnTo>
                    <a:lnTo>
                      <a:pt x="1" y="931"/>
                    </a:lnTo>
                    <a:lnTo>
                      <a:pt x="0" y="953"/>
                    </a:lnTo>
                    <a:lnTo>
                      <a:pt x="0" y="976"/>
                    </a:lnTo>
                    <a:lnTo>
                      <a:pt x="2" y="995"/>
                    </a:lnTo>
                    <a:lnTo>
                      <a:pt x="7" y="1014"/>
                    </a:lnTo>
                    <a:lnTo>
                      <a:pt x="13" y="1031"/>
                    </a:lnTo>
                    <a:lnTo>
                      <a:pt x="22" y="1046"/>
                    </a:lnTo>
                    <a:lnTo>
                      <a:pt x="34" y="1061"/>
                    </a:lnTo>
                    <a:lnTo>
                      <a:pt x="46" y="1075"/>
                    </a:lnTo>
                    <a:lnTo>
                      <a:pt x="62" y="1086"/>
                    </a:lnTo>
                    <a:lnTo>
                      <a:pt x="79" y="1095"/>
                    </a:lnTo>
                    <a:lnTo>
                      <a:pt x="98" y="1104"/>
                    </a:lnTo>
                    <a:lnTo>
                      <a:pt x="119" y="1111"/>
                    </a:lnTo>
                    <a:lnTo>
                      <a:pt x="143" y="1116"/>
                    </a:lnTo>
                    <a:lnTo>
                      <a:pt x="169" y="1120"/>
                    </a:lnTo>
                    <a:lnTo>
                      <a:pt x="197" y="1122"/>
                    </a:lnTo>
                    <a:lnTo>
                      <a:pt x="226" y="1123"/>
                    </a:lnTo>
                    <a:lnTo>
                      <a:pt x="256" y="1122"/>
                    </a:lnTo>
                    <a:lnTo>
                      <a:pt x="287" y="1120"/>
                    </a:lnTo>
                    <a:lnTo>
                      <a:pt x="316" y="1116"/>
                    </a:lnTo>
                    <a:lnTo>
                      <a:pt x="344" y="1112"/>
                    </a:lnTo>
                    <a:lnTo>
                      <a:pt x="372" y="1106"/>
                    </a:lnTo>
                    <a:lnTo>
                      <a:pt x="399" y="1098"/>
                    </a:lnTo>
                    <a:lnTo>
                      <a:pt x="426" y="1090"/>
                    </a:lnTo>
                    <a:lnTo>
                      <a:pt x="452" y="1081"/>
                    </a:lnTo>
                    <a:lnTo>
                      <a:pt x="477" y="1072"/>
                    </a:lnTo>
                    <a:lnTo>
                      <a:pt x="501" y="1061"/>
                    </a:lnTo>
                    <a:lnTo>
                      <a:pt x="525" y="1051"/>
                    </a:lnTo>
                    <a:lnTo>
                      <a:pt x="549" y="1039"/>
                    </a:lnTo>
                    <a:lnTo>
                      <a:pt x="591" y="1015"/>
                    </a:lnTo>
                    <a:lnTo>
                      <a:pt x="631" y="990"/>
                    </a:lnTo>
                    <a:lnTo>
                      <a:pt x="667" y="965"/>
                    </a:lnTo>
                    <a:lnTo>
                      <a:pt x="698" y="942"/>
                    </a:lnTo>
                    <a:lnTo>
                      <a:pt x="726" y="919"/>
                    </a:lnTo>
                    <a:lnTo>
                      <a:pt x="749" y="899"/>
                    </a:lnTo>
                    <a:lnTo>
                      <a:pt x="780" y="869"/>
                    </a:lnTo>
                    <a:lnTo>
                      <a:pt x="791" y="857"/>
                    </a:lnTo>
                    <a:lnTo>
                      <a:pt x="806" y="869"/>
                    </a:lnTo>
                    <a:lnTo>
                      <a:pt x="845" y="898"/>
                    </a:lnTo>
                    <a:lnTo>
                      <a:pt x="873" y="918"/>
                    </a:lnTo>
                    <a:lnTo>
                      <a:pt x="906" y="940"/>
                    </a:lnTo>
                    <a:lnTo>
                      <a:pt x="942" y="963"/>
                    </a:lnTo>
                    <a:lnTo>
                      <a:pt x="980" y="987"/>
                    </a:lnTo>
                    <a:lnTo>
                      <a:pt x="1022" y="1009"/>
                    </a:lnTo>
                    <a:lnTo>
                      <a:pt x="1066" y="1032"/>
                    </a:lnTo>
                    <a:lnTo>
                      <a:pt x="1087" y="1042"/>
                    </a:lnTo>
                    <a:lnTo>
                      <a:pt x="1109" y="1052"/>
                    </a:lnTo>
                    <a:lnTo>
                      <a:pt x="1132" y="1061"/>
                    </a:lnTo>
                    <a:lnTo>
                      <a:pt x="1154" y="1069"/>
                    </a:lnTo>
                    <a:lnTo>
                      <a:pt x="1177" y="1076"/>
                    </a:lnTo>
                    <a:lnTo>
                      <a:pt x="1199" y="1082"/>
                    </a:lnTo>
                    <a:lnTo>
                      <a:pt x="1222" y="1088"/>
                    </a:lnTo>
                    <a:lnTo>
                      <a:pt x="1243" y="1091"/>
                    </a:lnTo>
                    <a:lnTo>
                      <a:pt x="1265" y="1094"/>
                    </a:lnTo>
                    <a:lnTo>
                      <a:pt x="1286" y="1095"/>
                    </a:lnTo>
                    <a:lnTo>
                      <a:pt x="1307" y="1095"/>
                    </a:lnTo>
                    <a:lnTo>
                      <a:pt x="1326" y="1093"/>
                    </a:lnTo>
                    <a:lnTo>
                      <a:pt x="1346" y="1089"/>
                    </a:lnTo>
                    <a:lnTo>
                      <a:pt x="1361" y="1082"/>
                    </a:lnTo>
                    <a:lnTo>
                      <a:pt x="1376" y="1072"/>
                    </a:lnTo>
                    <a:lnTo>
                      <a:pt x="1389" y="1061"/>
                    </a:lnTo>
                    <a:lnTo>
                      <a:pt x="1401" y="1048"/>
                    </a:lnTo>
                    <a:lnTo>
                      <a:pt x="1411" y="1031"/>
                    </a:lnTo>
                    <a:lnTo>
                      <a:pt x="1419" y="1013"/>
                    </a:lnTo>
                    <a:lnTo>
                      <a:pt x="1425" y="994"/>
                    </a:lnTo>
                    <a:lnTo>
                      <a:pt x="1430" y="972"/>
                    </a:lnTo>
                    <a:lnTo>
                      <a:pt x="1434" y="950"/>
                    </a:lnTo>
                    <a:lnTo>
                      <a:pt x="1437" y="925"/>
                    </a:lnTo>
                    <a:lnTo>
                      <a:pt x="1438" y="899"/>
                    </a:lnTo>
                    <a:lnTo>
                      <a:pt x="1438" y="873"/>
                    </a:lnTo>
                    <a:lnTo>
                      <a:pt x="1438" y="845"/>
                    </a:lnTo>
                    <a:lnTo>
                      <a:pt x="1435" y="817"/>
                    </a:lnTo>
                    <a:lnTo>
                      <a:pt x="1432" y="788"/>
                    </a:lnTo>
                    <a:lnTo>
                      <a:pt x="1429" y="758"/>
                    </a:lnTo>
                    <a:lnTo>
                      <a:pt x="1423" y="729"/>
                    </a:lnTo>
                    <a:lnTo>
                      <a:pt x="1417" y="699"/>
                    </a:lnTo>
                    <a:lnTo>
                      <a:pt x="1411" y="668"/>
                    </a:lnTo>
                    <a:lnTo>
                      <a:pt x="1404" y="638"/>
                    </a:lnTo>
                    <a:lnTo>
                      <a:pt x="1396" y="609"/>
                    </a:lnTo>
                    <a:lnTo>
                      <a:pt x="1388" y="579"/>
                    </a:lnTo>
                    <a:lnTo>
                      <a:pt x="1379" y="550"/>
                    </a:lnTo>
                    <a:lnTo>
                      <a:pt x="1360" y="494"/>
                    </a:lnTo>
                    <a:lnTo>
                      <a:pt x="1340" y="441"/>
                    </a:lnTo>
                    <a:lnTo>
                      <a:pt x="1329" y="416"/>
                    </a:lnTo>
                    <a:lnTo>
                      <a:pt x="1319" y="394"/>
                    </a:lnTo>
                    <a:lnTo>
                      <a:pt x="1307" y="371"/>
                    </a:lnTo>
                    <a:lnTo>
                      <a:pt x="1297" y="351"/>
                    </a:lnTo>
                    <a:lnTo>
                      <a:pt x="1249" y="268"/>
                    </a:lnTo>
                    <a:lnTo>
                      <a:pt x="1197" y="180"/>
                    </a:lnTo>
                    <a:lnTo>
                      <a:pt x="1169" y="139"/>
                    </a:lnTo>
                    <a:lnTo>
                      <a:pt x="1140" y="100"/>
                    </a:lnTo>
                    <a:lnTo>
                      <a:pt x="1125" y="83"/>
                    </a:lnTo>
                    <a:lnTo>
                      <a:pt x="1111" y="66"/>
                    </a:lnTo>
                    <a:lnTo>
                      <a:pt x="1095" y="52"/>
                    </a:lnTo>
                    <a:lnTo>
                      <a:pt x="1080" y="38"/>
                    </a:lnTo>
                    <a:lnTo>
                      <a:pt x="1065" y="26"/>
                    </a:lnTo>
                    <a:lnTo>
                      <a:pt x="1049" y="17"/>
                    </a:lnTo>
                    <a:lnTo>
                      <a:pt x="1033" y="9"/>
                    </a:lnTo>
                    <a:lnTo>
                      <a:pt x="1017" y="3"/>
                    </a:lnTo>
                    <a:lnTo>
                      <a:pt x="1002" y="0"/>
                    </a:lnTo>
                    <a:lnTo>
                      <a:pt x="986" y="0"/>
                    </a:lnTo>
                    <a:lnTo>
                      <a:pt x="969" y="2"/>
                    </a:lnTo>
                    <a:lnTo>
                      <a:pt x="953" y="7"/>
                    </a:lnTo>
                    <a:lnTo>
                      <a:pt x="936" y="16"/>
                    </a:lnTo>
                    <a:lnTo>
                      <a:pt x="921" y="27"/>
                    </a:lnTo>
                    <a:lnTo>
                      <a:pt x="904" y="42"/>
                    </a:lnTo>
                    <a:lnTo>
                      <a:pt x="887" y="60"/>
                    </a:lnTo>
                    <a:lnTo>
                      <a:pt x="871" y="82"/>
                    </a:lnTo>
                    <a:lnTo>
                      <a:pt x="854" y="108"/>
                    </a:lnTo>
                    <a:lnTo>
                      <a:pt x="837" y="137"/>
                    </a:lnTo>
                    <a:lnTo>
                      <a:pt x="822" y="171"/>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5" name=""/>
              <p:cNvSpPr/>
              <p:nvPr/>
            </p:nvSpPr>
            <p:spPr>
              <a:xfrm>
                <a:off x="1111320" y="1987560"/>
                <a:ext cx="289080" cy="207000"/>
              </a:xfrm>
              <a:custGeom>
                <a:avLst/>
                <a:gdLst/>
                <a:ahLst/>
                <a:rect l="l" t="t" r="r" b="b"/>
                <a:pathLst>
                  <a:path w="1438" h="1123">
                    <a:moveTo>
                      <a:pt x="822" y="171"/>
                    </a:moveTo>
                    <a:lnTo>
                      <a:pt x="821" y="169"/>
                    </a:lnTo>
                    <a:lnTo>
                      <a:pt x="816" y="161"/>
                    </a:lnTo>
                    <a:lnTo>
                      <a:pt x="808" y="150"/>
                    </a:lnTo>
                    <a:lnTo>
                      <a:pt x="797" y="137"/>
                    </a:lnTo>
                    <a:lnTo>
                      <a:pt x="790" y="130"/>
                    </a:lnTo>
                    <a:lnTo>
                      <a:pt x="782" y="125"/>
                    </a:lnTo>
                    <a:lnTo>
                      <a:pt x="773" y="118"/>
                    </a:lnTo>
                    <a:lnTo>
                      <a:pt x="763" y="112"/>
                    </a:lnTo>
                    <a:lnTo>
                      <a:pt x="752" y="107"/>
                    </a:lnTo>
                    <a:lnTo>
                      <a:pt x="741" y="103"/>
                    </a:lnTo>
                    <a:lnTo>
                      <a:pt x="727" y="100"/>
                    </a:lnTo>
                    <a:lnTo>
                      <a:pt x="714" y="98"/>
                    </a:lnTo>
                    <a:lnTo>
                      <a:pt x="698" y="98"/>
                    </a:lnTo>
                    <a:lnTo>
                      <a:pt x="682" y="99"/>
                    </a:lnTo>
                    <a:lnTo>
                      <a:pt x="664" y="101"/>
                    </a:lnTo>
                    <a:lnTo>
                      <a:pt x="645" y="106"/>
                    </a:lnTo>
                    <a:lnTo>
                      <a:pt x="625" y="112"/>
                    </a:lnTo>
                    <a:lnTo>
                      <a:pt x="604" y="121"/>
                    </a:lnTo>
                    <a:lnTo>
                      <a:pt x="581" y="134"/>
                    </a:lnTo>
                    <a:lnTo>
                      <a:pt x="558" y="147"/>
                    </a:lnTo>
                    <a:lnTo>
                      <a:pt x="533" y="165"/>
                    </a:lnTo>
                    <a:lnTo>
                      <a:pt x="506" y="186"/>
                    </a:lnTo>
                    <a:lnTo>
                      <a:pt x="478" y="209"/>
                    </a:lnTo>
                    <a:lnTo>
                      <a:pt x="449" y="236"/>
                    </a:lnTo>
                    <a:lnTo>
                      <a:pt x="418" y="267"/>
                    </a:lnTo>
                    <a:lnTo>
                      <a:pt x="386" y="300"/>
                    </a:lnTo>
                    <a:lnTo>
                      <a:pt x="352" y="339"/>
                    </a:lnTo>
                    <a:lnTo>
                      <a:pt x="316" y="381"/>
                    </a:lnTo>
                    <a:lnTo>
                      <a:pt x="281" y="425"/>
                    </a:lnTo>
                    <a:lnTo>
                      <a:pt x="247" y="468"/>
                    </a:lnTo>
                    <a:lnTo>
                      <a:pt x="216" y="510"/>
                    </a:lnTo>
                    <a:lnTo>
                      <a:pt x="187" y="550"/>
                    </a:lnTo>
                    <a:lnTo>
                      <a:pt x="160" y="588"/>
                    </a:lnTo>
                    <a:lnTo>
                      <a:pt x="135" y="627"/>
                    </a:lnTo>
                    <a:lnTo>
                      <a:pt x="112" y="663"/>
                    </a:lnTo>
                    <a:lnTo>
                      <a:pt x="91" y="698"/>
                    </a:lnTo>
                    <a:lnTo>
                      <a:pt x="73" y="731"/>
                    </a:lnTo>
                    <a:lnTo>
                      <a:pt x="56" y="764"/>
                    </a:lnTo>
                    <a:lnTo>
                      <a:pt x="42" y="796"/>
                    </a:lnTo>
                    <a:lnTo>
                      <a:pt x="29" y="825"/>
                    </a:lnTo>
                    <a:lnTo>
                      <a:pt x="19" y="854"/>
                    </a:lnTo>
                    <a:lnTo>
                      <a:pt x="11" y="881"/>
                    </a:lnTo>
                    <a:lnTo>
                      <a:pt x="6" y="907"/>
                    </a:lnTo>
                    <a:lnTo>
                      <a:pt x="1" y="931"/>
                    </a:lnTo>
                    <a:lnTo>
                      <a:pt x="0" y="953"/>
                    </a:lnTo>
                    <a:lnTo>
                      <a:pt x="0" y="976"/>
                    </a:lnTo>
                    <a:lnTo>
                      <a:pt x="2" y="995"/>
                    </a:lnTo>
                    <a:lnTo>
                      <a:pt x="7" y="1014"/>
                    </a:lnTo>
                    <a:lnTo>
                      <a:pt x="13" y="1031"/>
                    </a:lnTo>
                    <a:lnTo>
                      <a:pt x="22" y="1046"/>
                    </a:lnTo>
                    <a:lnTo>
                      <a:pt x="34" y="1061"/>
                    </a:lnTo>
                    <a:lnTo>
                      <a:pt x="46" y="1075"/>
                    </a:lnTo>
                    <a:lnTo>
                      <a:pt x="62" y="1086"/>
                    </a:lnTo>
                    <a:lnTo>
                      <a:pt x="79" y="1095"/>
                    </a:lnTo>
                    <a:lnTo>
                      <a:pt x="98" y="1104"/>
                    </a:lnTo>
                    <a:lnTo>
                      <a:pt x="119" y="1111"/>
                    </a:lnTo>
                    <a:lnTo>
                      <a:pt x="143" y="1116"/>
                    </a:lnTo>
                    <a:lnTo>
                      <a:pt x="169" y="1120"/>
                    </a:lnTo>
                    <a:lnTo>
                      <a:pt x="197" y="1122"/>
                    </a:lnTo>
                    <a:lnTo>
                      <a:pt x="226" y="1123"/>
                    </a:lnTo>
                    <a:lnTo>
                      <a:pt x="256" y="1122"/>
                    </a:lnTo>
                    <a:lnTo>
                      <a:pt x="287" y="1120"/>
                    </a:lnTo>
                    <a:lnTo>
                      <a:pt x="316" y="1116"/>
                    </a:lnTo>
                    <a:lnTo>
                      <a:pt x="344" y="1112"/>
                    </a:lnTo>
                    <a:lnTo>
                      <a:pt x="372" y="1106"/>
                    </a:lnTo>
                    <a:lnTo>
                      <a:pt x="399" y="1098"/>
                    </a:lnTo>
                    <a:lnTo>
                      <a:pt x="426" y="1090"/>
                    </a:lnTo>
                    <a:lnTo>
                      <a:pt x="452" y="1081"/>
                    </a:lnTo>
                    <a:lnTo>
                      <a:pt x="477" y="1072"/>
                    </a:lnTo>
                    <a:lnTo>
                      <a:pt x="501" y="1061"/>
                    </a:lnTo>
                    <a:lnTo>
                      <a:pt x="525" y="1051"/>
                    </a:lnTo>
                    <a:lnTo>
                      <a:pt x="549" y="1039"/>
                    </a:lnTo>
                    <a:lnTo>
                      <a:pt x="591" y="1015"/>
                    </a:lnTo>
                    <a:lnTo>
                      <a:pt x="631" y="990"/>
                    </a:lnTo>
                    <a:lnTo>
                      <a:pt x="667" y="965"/>
                    </a:lnTo>
                    <a:lnTo>
                      <a:pt x="698" y="942"/>
                    </a:lnTo>
                    <a:lnTo>
                      <a:pt x="726" y="919"/>
                    </a:lnTo>
                    <a:lnTo>
                      <a:pt x="749" y="899"/>
                    </a:lnTo>
                    <a:lnTo>
                      <a:pt x="780" y="869"/>
                    </a:lnTo>
                    <a:lnTo>
                      <a:pt x="791" y="857"/>
                    </a:lnTo>
                    <a:lnTo>
                      <a:pt x="806" y="869"/>
                    </a:lnTo>
                    <a:lnTo>
                      <a:pt x="845" y="898"/>
                    </a:lnTo>
                    <a:lnTo>
                      <a:pt x="873" y="918"/>
                    </a:lnTo>
                    <a:lnTo>
                      <a:pt x="906" y="940"/>
                    </a:lnTo>
                    <a:lnTo>
                      <a:pt x="942" y="963"/>
                    </a:lnTo>
                    <a:lnTo>
                      <a:pt x="980" y="987"/>
                    </a:lnTo>
                    <a:lnTo>
                      <a:pt x="1022" y="1009"/>
                    </a:lnTo>
                    <a:lnTo>
                      <a:pt x="1066" y="1032"/>
                    </a:lnTo>
                    <a:lnTo>
                      <a:pt x="1087" y="1042"/>
                    </a:lnTo>
                    <a:lnTo>
                      <a:pt x="1109" y="1052"/>
                    </a:lnTo>
                    <a:lnTo>
                      <a:pt x="1132" y="1061"/>
                    </a:lnTo>
                    <a:lnTo>
                      <a:pt x="1154" y="1069"/>
                    </a:lnTo>
                    <a:lnTo>
                      <a:pt x="1177" y="1076"/>
                    </a:lnTo>
                    <a:lnTo>
                      <a:pt x="1199" y="1082"/>
                    </a:lnTo>
                    <a:lnTo>
                      <a:pt x="1222" y="1088"/>
                    </a:lnTo>
                    <a:lnTo>
                      <a:pt x="1243" y="1091"/>
                    </a:lnTo>
                    <a:lnTo>
                      <a:pt x="1265" y="1094"/>
                    </a:lnTo>
                    <a:lnTo>
                      <a:pt x="1286" y="1095"/>
                    </a:lnTo>
                    <a:lnTo>
                      <a:pt x="1307" y="1095"/>
                    </a:lnTo>
                    <a:lnTo>
                      <a:pt x="1326" y="1093"/>
                    </a:lnTo>
                    <a:lnTo>
                      <a:pt x="1346" y="1089"/>
                    </a:lnTo>
                    <a:lnTo>
                      <a:pt x="1361" y="1082"/>
                    </a:lnTo>
                    <a:lnTo>
                      <a:pt x="1376" y="1072"/>
                    </a:lnTo>
                    <a:lnTo>
                      <a:pt x="1389" y="1061"/>
                    </a:lnTo>
                    <a:lnTo>
                      <a:pt x="1401" y="1048"/>
                    </a:lnTo>
                    <a:lnTo>
                      <a:pt x="1411" y="1031"/>
                    </a:lnTo>
                    <a:lnTo>
                      <a:pt x="1419" y="1013"/>
                    </a:lnTo>
                    <a:lnTo>
                      <a:pt x="1425" y="994"/>
                    </a:lnTo>
                    <a:lnTo>
                      <a:pt x="1430" y="972"/>
                    </a:lnTo>
                    <a:lnTo>
                      <a:pt x="1434" y="950"/>
                    </a:lnTo>
                    <a:lnTo>
                      <a:pt x="1437" y="925"/>
                    </a:lnTo>
                    <a:lnTo>
                      <a:pt x="1438" y="899"/>
                    </a:lnTo>
                    <a:lnTo>
                      <a:pt x="1438" y="873"/>
                    </a:lnTo>
                    <a:lnTo>
                      <a:pt x="1438" y="845"/>
                    </a:lnTo>
                    <a:lnTo>
                      <a:pt x="1435" y="817"/>
                    </a:lnTo>
                    <a:lnTo>
                      <a:pt x="1432" y="788"/>
                    </a:lnTo>
                    <a:lnTo>
                      <a:pt x="1429" y="758"/>
                    </a:lnTo>
                    <a:lnTo>
                      <a:pt x="1423" y="729"/>
                    </a:lnTo>
                    <a:lnTo>
                      <a:pt x="1417" y="699"/>
                    </a:lnTo>
                    <a:lnTo>
                      <a:pt x="1411" y="668"/>
                    </a:lnTo>
                    <a:lnTo>
                      <a:pt x="1404" y="638"/>
                    </a:lnTo>
                    <a:lnTo>
                      <a:pt x="1396" y="609"/>
                    </a:lnTo>
                    <a:lnTo>
                      <a:pt x="1388" y="579"/>
                    </a:lnTo>
                    <a:lnTo>
                      <a:pt x="1379" y="550"/>
                    </a:lnTo>
                    <a:lnTo>
                      <a:pt x="1360" y="494"/>
                    </a:lnTo>
                    <a:lnTo>
                      <a:pt x="1340" y="441"/>
                    </a:lnTo>
                    <a:lnTo>
                      <a:pt x="1329" y="416"/>
                    </a:lnTo>
                    <a:lnTo>
                      <a:pt x="1319" y="394"/>
                    </a:lnTo>
                    <a:lnTo>
                      <a:pt x="1307" y="371"/>
                    </a:lnTo>
                    <a:lnTo>
                      <a:pt x="1297" y="351"/>
                    </a:lnTo>
                    <a:lnTo>
                      <a:pt x="1249" y="268"/>
                    </a:lnTo>
                    <a:lnTo>
                      <a:pt x="1197" y="180"/>
                    </a:lnTo>
                    <a:lnTo>
                      <a:pt x="1169" y="139"/>
                    </a:lnTo>
                    <a:lnTo>
                      <a:pt x="1140" y="100"/>
                    </a:lnTo>
                    <a:lnTo>
                      <a:pt x="1125" y="83"/>
                    </a:lnTo>
                    <a:lnTo>
                      <a:pt x="1111" y="66"/>
                    </a:lnTo>
                    <a:lnTo>
                      <a:pt x="1095" y="52"/>
                    </a:lnTo>
                    <a:lnTo>
                      <a:pt x="1080" y="38"/>
                    </a:lnTo>
                    <a:lnTo>
                      <a:pt x="1065" y="26"/>
                    </a:lnTo>
                    <a:lnTo>
                      <a:pt x="1049" y="17"/>
                    </a:lnTo>
                    <a:lnTo>
                      <a:pt x="1033" y="9"/>
                    </a:lnTo>
                    <a:lnTo>
                      <a:pt x="1017" y="3"/>
                    </a:lnTo>
                    <a:lnTo>
                      <a:pt x="1002" y="0"/>
                    </a:lnTo>
                    <a:lnTo>
                      <a:pt x="986" y="0"/>
                    </a:lnTo>
                    <a:lnTo>
                      <a:pt x="969" y="2"/>
                    </a:lnTo>
                    <a:lnTo>
                      <a:pt x="953" y="7"/>
                    </a:lnTo>
                    <a:lnTo>
                      <a:pt x="936" y="16"/>
                    </a:lnTo>
                    <a:lnTo>
                      <a:pt x="921" y="27"/>
                    </a:lnTo>
                    <a:lnTo>
                      <a:pt x="904" y="42"/>
                    </a:lnTo>
                    <a:lnTo>
                      <a:pt x="887" y="60"/>
                    </a:lnTo>
                    <a:lnTo>
                      <a:pt x="871" y="82"/>
                    </a:lnTo>
                    <a:lnTo>
                      <a:pt x="854" y="108"/>
                    </a:lnTo>
                    <a:lnTo>
                      <a:pt x="837" y="137"/>
                    </a:lnTo>
                    <a:lnTo>
                      <a:pt x="822" y="17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46" name=""/>
              <p:cNvSpPr/>
              <p:nvPr/>
            </p:nvSpPr>
            <p:spPr>
              <a:xfrm>
                <a:off x="1190880" y="2070000"/>
                <a:ext cx="27360" cy="45360"/>
              </a:xfrm>
              <a:custGeom>
                <a:avLst/>
                <a:gdLst/>
                <a:ahLst/>
                <a:rect l="l" t="t" r="r" b="b"/>
                <a:pathLst>
                  <a:path w="134" h="251">
                    <a:moveTo>
                      <a:pt x="40" y="250"/>
                    </a:moveTo>
                    <a:lnTo>
                      <a:pt x="47" y="251"/>
                    </a:lnTo>
                    <a:lnTo>
                      <a:pt x="54" y="250"/>
                    </a:lnTo>
                    <a:lnTo>
                      <a:pt x="59" y="249"/>
                    </a:lnTo>
                    <a:lnTo>
                      <a:pt x="66" y="245"/>
                    </a:lnTo>
                    <a:lnTo>
                      <a:pt x="73" y="242"/>
                    </a:lnTo>
                    <a:lnTo>
                      <a:pt x="79" y="236"/>
                    </a:lnTo>
                    <a:lnTo>
                      <a:pt x="85" y="231"/>
                    </a:lnTo>
                    <a:lnTo>
                      <a:pt x="92" y="223"/>
                    </a:lnTo>
                    <a:lnTo>
                      <a:pt x="103" y="206"/>
                    </a:lnTo>
                    <a:lnTo>
                      <a:pt x="113" y="186"/>
                    </a:lnTo>
                    <a:lnTo>
                      <a:pt x="123" y="163"/>
                    </a:lnTo>
                    <a:lnTo>
                      <a:pt x="130" y="138"/>
                    </a:lnTo>
                    <a:lnTo>
                      <a:pt x="133" y="112"/>
                    </a:lnTo>
                    <a:lnTo>
                      <a:pt x="134" y="89"/>
                    </a:lnTo>
                    <a:lnTo>
                      <a:pt x="134" y="78"/>
                    </a:lnTo>
                    <a:lnTo>
                      <a:pt x="134" y="67"/>
                    </a:lnTo>
                    <a:lnTo>
                      <a:pt x="132" y="56"/>
                    </a:lnTo>
                    <a:lnTo>
                      <a:pt x="131" y="47"/>
                    </a:lnTo>
                    <a:lnTo>
                      <a:pt x="128" y="38"/>
                    </a:lnTo>
                    <a:lnTo>
                      <a:pt x="125" y="30"/>
                    </a:lnTo>
                    <a:lnTo>
                      <a:pt x="121" y="22"/>
                    </a:lnTo>
                    <a:lnTo>
                      <a:pt x="118" y="17"/>
                    </a:lnTo>
                    <a:lnTo>
                      <a:pt x="113" y="11"/>
                    </a:lnTo>
                    <a:lnTo>
                      <a:pt x="107" y="7"/>
                    </a:lnTo>
                    <a:lnTo>
                      <a:pt x="102" y="3"/>
                    </a:lnTo>
                    <a:lnTo>
                      <a:pt x="96" y="1"/>
                    </a:lnTo>
                    <a:lnTo>
                      <a:pt x="89" y="0"/>
                    </a:lnTo>
                    <a:lnTo>
                      <a:pt x="83" y="1"/>
                    </a:lnTo>
                    <a:lnTo>
                      <a:pt x="76" y="2"/>
                    </a:lnTo>
                    <a:lnTo>
                      <a:pt x="69" y="6"/>
                    </a:lnTo>
                    <a:lnTo>
                      <a:pt x="64" y="9"/>
                    </a:lnTo>
                    <a:lnTo>
                      <a:pt x="57" y="15"/>
                    </a:lnTo>
                    <a:lnTo>
                      <a:pt x="50" y="20"/>
                    </a:lnTo>
                    <a:lnTo>
                      <a:pt x="45" y="28"/>
                    </a:lnTo>
                    <a:lnTo>
                      <a:pt x="39" y="36"/>
                    </a:lnTo>
                    <a:lnTo>
                      <a:pt x="33" y="45"/>
                    </a:lnTo>
                    <a:lnTo>
                      <a:pt x="28" y="55"/>
                    </a:lnTo>
                    <a:lnTo>
                      <a:pt x="22" y="65"/>
                    </a:lnTo>
                    <a:lnTo>
                      <a:pt x="13" y="88"/>
                    </a:lnTo>
                    <a:lnTo>
                      <a:pt x="6" y="112"/>
                    </a:lnTo>
                    <a:lnTo>
                      <a:pt x="3" y="125"/>
                    </a:lnTo>
                    <a:lnTo>
                      <a:pt x="1" y="137"/>
                    </a:lnTo>
                    <a:lnTo>
                      <a:pt x="0" y="150"/>
                    </a:lnTo>
                    <a:lnTo>
                      <a:pt x="0" y="162"/>
                    </a:lnTo>
                    <a:lnTo>
                      <a:pt x="0" y="173"/>
                    </a:lnTo>
                    <a:lnTo>
                      <a:pt x="1" y="183"/>
                    </a:lnTo>
                    <a:lnTo>
                      <a:pt x="2" y="193"/>
                    </a:lnTo>
                    <a:lnTo>
                      <a:pt x="4" y="204"/>
                    </a:lnTo>
                    <a:lnTo>
                      <a:pt x="6" y="213"/>
                    </a:lnTo>
                    <a:lnTo>
                      <a:pt x="10" y="220"/>
                    </a:lnTo>
                    <a:lnTo>
                      <a:pt x="13" y="228"/>
                    </a:lnTo>
                    <a:lnTo>
                      <a:pt x="18" y="234"/>
                    </a:lnTo>
                    <a:lnTo>
                      <a:pt x="23" y="240"/>
                    </a:lnTo>
                    <a:lnTo>
                      <a:pt x="28" y="244"/>
                    </a:lnTo>
                    <a:lnTo>
                      <a:pt x="34" y="247"/>
                    </a:lnTo>
                    <a:lnTo>
                      <a:pt x="40" y="250"/>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347" name=""/>
              <p:cNvSpPr/>
              <p:nvPr/>
            </p:nvSpPr>
            <p:spPr>
              <a:xfrm>
                <a:off x="1190880" y="2070000"/>
                <a:ext cx="27360" cy="45360"/>
              </a:xfrm>
              <a:custGeom>
                <a:avLst/>
                <a:gdLst/>
                <a:ahLst/>
                <a:rect l="l" t="t" r="r" b="b"/>
                <a:pathLst>
                  <a:path w="134" h="251">
                    <a:moveTo>
                      <a:pt x="40" y="250"/>
                    </a:moveTo>
                    <a:lnTo>
                      <a:pt x="47" y="251"/>
                    </a:lnTo>
                    <a:lnTo>
                      <a:pt x="54" y="250"/>
                    </a:lnTo>
                    <a:lnTo>
                      <a:pt x="59" y="249"/>
                    </a:lnTo>
                    <a:lnTo>
                      <a:pt x="66" y="245"/>
                    </a:lnTo>
                    <a:lnTo>
                      <a:pt x="73" y="242"/>
                    </a:lnTo>
                    <a:lnTo>
                      <a:pt x="79" y="236"/>
                    </a:lnTo>
                    <a:lnTo>
                      <a:pt x="85" y="231"/>
                    </a:lnTo>
                    <a:lnTo>
                      <a:pt x="92" y="223"/>
                    </a:lnTo>
                    <a:lnTo>
                      <a:pt x="103" y="206"/>
                    </a:lnTo>
                    <a:lnTo>
                      <a:pt x="113" y="186"/>
                    </a:lnTo>
                    <a:lnTo>
                      <a:pt x="123" y="163"/>
                    </a:lnTo>
                    <a:lnTo>
                      <a:pt x="130" y="138"/>
                    </a:lnTo>
                    <a:lnTo>
                      <a:pt x="133" y="112"/>
                    </a:lnTo>
                    <a:lnTo>
                      <a:pt x="134" y="89"/>
                    </a:lnTo>
                    <a:lnTo>
                      <a:pt x="134" y="78"/>
                    </a:lnTo>
                    <a:lnTo>
                      <a:pt x="134" y="67"/>
                    </a:lnTo>
                    <a:lnTo>
                      <a:pt x="132" y="56"/>
                    </a:lnTo>
                    <a:lnTo>
                      <a:pt x="131" y="47"/>
                    </a:lnTo>
                    <a:lnTo>
                      <a:pt x="128" y="38"/>
                    </a:lnTo>
                    <a:lnTo>
                      <a:pt x="125" y="30"/>
                    </a:lnTo>
                    <a:lnTo>
                      <a:pt x="121" y="22"/>
                    </a:lnTo>
                    <a:lnTo>
                      <a:pt x="118" y="17"/>
                    </a:lnTo>
                    <a:lnTo>
                      <a:pt x="113" y="11"/>
                    </a:lnTo>
                    <a:lnTo>
                      <a:pt x="107" y="7"/>
                    </a:lnTo>
                    <a:lnTo>
                      <a:pt x="102" y="3"/>
                    </a:lnTo>
                    <a:lnTo>
                      <a:pt x="96" y="1"/>
                    </a:lnTo>
                    <a:lnTo>
                      <a:pt x="89" y="0"/>
                    </a:lnTo>
                    <a:lnTo>
                      <a:pt x="83" y="1"/>
                    </a:lnTo>
                    <a:lnTo>
                      <a:pt x="76" y="2"/>
                    </a:lnTo>
                    <a:lnTo>
                      <a:pt x="69" y="6"/>
                    </a:lnTo>
                    <a:lnTo>
                      <a:pt x="64" y="9"/>
                    </a:lnTo>
                    <a:lnTo>
                      <a:pt x="57" y="15"/>
                    </a:lnTo>
                    <a:lnTo>
                      <a:pt x="50" y="20"/>
                    </a:lnTo>
                    <a:lnTo>
                      <a:pt x="45" y="28"/>
                    </a:lnTo>
                    <a:lnTo>
                      <a:pt x="39" y="36"/>
                    </a:lnTo>
                    <a:lnTo>
                      <a:pt x="33" y="45"/>
                    </a:lnTo>
                    <a:lnTo>
                      <a:pt x="28" y="55"/>
                    </a:lnTo>
                    <a:lnTo>
                      <a:pt x="22" y="65"/>
                    </a:lnTo>
                    <a:lnTo>
                      <a:pt x="13" y="88"/>
                    </a:lnTo>
                    <a:lnTo>
                      <a:pt x="6" y="112"/>
                    </a:lnTo>
                    <a:lnTo>
                      <a:pt x="3" y="125"/>
                    </a:lnTo>
                    <a:lnTo>
                      <a:pt x="1" y="137"/>
                    </a:lnTo>
                    <a:lnTo>
                      <a:pt x="0" y="150"/>
                    </a:lnTo>
                    <a:lnTo>
                      <a:pt x="0" y="162"/>
                    </a:lnTo>
                    <a:lnTo>
                      <a:pt x="0" y="173"/>
                    </a:lnTo>
                    <a:lnTo>
                      <a:pt x="1" y="183"/>
                    </a:lnTo>
                    <a:lnTo>
                      <a:pt x="2" y="193"/>
                    </a:lnTo>
                    <a:lnTo>
                      <a:pt x="4" y="204"/>
                    </a:lnTo>
                    <a:lnTo>
                      <a:pt x="6" y="213"/>
                    </a:lnTo>
                    <a:lnTo>
                      <a:pt x="10" y="220"/>
                    </a:lnTo>
                    <a:lnTo>
                      <a:pt x="13" y="228"/>
                    </a:lnTo>
                    <a:lnTo>
                      <a:pt x="18" y="234"/>
                    </a:lnTo>
                    <a:lnTo>
                      <a:pt x="23" y="240"/>
                    </a:lnTo>
                    <a:lnTo>
                      <a:pt x="28" y="244"/>
                    </a:lnTo>
                    <a:lnTo>
                      <a:pt x="34" y="247"/>
                    </a:lnTo>
                    <a:lnTo>
                      <a:pt x="40" y="250"/>
                    </a:lnTo>
                  </a:path>
                </a:pathLst>
              </a:custGeom>
              <a:noFill/>
              <a:ln w="6480">
                <a:solidFill>
                  <a:srgbClr val="000000"/>
                </a:solidFill>
                <a:round/>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348" name=""/>
              <p:cNvSpPr/>
              <p:nvPr/>
            </p:nvSpPr>
            <p:spPr>
              <a:xfrm>
                <a:off x="1320120" y="2071440"/>
                <a:ext cx="27360" cy="44280"/>
              </a:xfrm>
              <a:custGeom>
                <a:avLst/>
                <a:gdLst/>
                <a:ahLst/>
                <a:rect l="l" t="t" r="r" b="b"/>
                <a:pathLst>
                  <a:path w="137" h="247">
                    <a:moveTo>
                      <a:pt x="98" y="246"/>
                    </a:moveTo>
                    <a:lnTo>
                      <a:pt x="104" y="243"/>
                    </a:lnTo>
                    <a:lnTo>
                      <a:pt x="110" y="240"/>
                    </a:lnTo>
                    <a:lnTo>
                      <a:pt x="114" y="235"/>
                    </a:lnTo>
                    <a:lnTo>
                      <a:pt x="119" y="231"/>
                    </a:lnTo>
                    <a:lnTo>
                      <a:pt x="123" y="224"/>
                    </a:lnTo>
                    <a:lnTo>
                      <a:pt x="127" y="216"/>
                    </a:lnTo>
                    <a:lnTo>
                      <a:pt x="130" y="208"/>
                    </a:lnTo>
                    <a:lnTo>
                      <a:pt x="132" y="199"/>
                    </a:lnTo>
                    <a:lnTo>
                      <a:pt x="135" y="190"/>
                    </a:lnTo>
                    <a:lnTo>
                      <a:pt x="136" y="180"/>
                    </a:lnTo>
                    <a:lnTo>
                      <a:pt x="137" y="169"/>
                    </a:lnTo>
                    <a:lnTo>
                      <a:pt x="137" y="158"/>
                    </a:lnTo>
                    <a:lnTo>
                      <a:pt x="136" y="134"/>
                    </a:lnTo>
                    <a:lnTo>
                      <a:pt x="132" y="108"/>
                    </a:lnTo>
                    <a:lnTo>
                      <a:pt x="129" y="96"/>
                    </a:lnTo>
                    <a:lnTo>
                      <a:pt x="125" y="84"/>
                    </a:lnTo>
                    <a:lnTo>
                      <a:pt x="120" y="72"/>
                    </a:lnTo>
                    <a:lnTo>
                      <a:pt x="114" y="62"/>
                    </a:lnTo>
                    <a:lnTo>
                      <a:pt x="110" y="52"/>
                    </a:lnTo>
                    <a:lnTo>
                      <a:pt x="104" y="42"/>
                    </a:lnTo>
                    <a:lnTo>
                      <a:pt x="98" y="34"/>
                    </a:lnTo>
                    <a:lnTo>
                      <a:pt x="92" y="26"/>
                    </a:lnTo>
                    <a:lnTo>
                      <a:pt x="85" y="19"/>
                    </a:lnTo>
                    <a:lnTo>
                      <a:pt x="78" y="14"/>
                    </a:lnTo>
                    <a:lnTo>
                      <a:pt x="72" y="9"/>
                    </a:lnTo>
                    <a:lnTo>
                      <a:pt x="65" y="5"/>
                    </a:lnTo>
                    <a:lnTo>
                      <a:pt x="58" y="3"/>
                    </a:lnTo>
                    <a:lnTo>
                      <a:pt x="51" y="0"/>
                    </a:lnTo>
                    <a:lnTo>
                      <a:pt x="45" y="0"/>
                    </a:lnTo>
                    <a:lnTo>
                      <a:pt x="38" y="1"/>
                    </a:lnTo>
                    <a:lnTo>
                      <a:pt x="31" y="4"/>
                    </a:lnTo>
                    <a:lnTo>
                      <a:pt x="26" y="7"/>
                    </a:lnTo>
                    <a:lnTo>
                      <a:pt x="21" y="12"/>
                    </a:lnTo>
                    <a:lnTo>
                      <a:pt x="17" y="17"/>
                    </a:lnTo>
                    <a:lnTo>
                      <a:pt x="12" y="23"/>
                    </a:lnTo>
                    <a:lnTo>
                      <a:pt x="9" y="31"/>
                    </a:lnTo>
                    <a:lnTo>
                      <a:pt x="5" y="39"/>
                    </a:lnTo>
                    <a:lnTo>
                      <a:pt x="3" y="48"/>
                    </a:lnTo>
                    <a:lnTo>
                      <a:pt x="2" y="58"/>
                    </a:lnTo>
                    <a:lnTo>
                      <a:pt x="1" y="68"/>
                    </a:lnTo>
                    <a:lnTo>
                      <a:pt x="0" y="78"/>
                    </a:lnTo>
                    <a:lnTo>
                      <a:pt x="1" y="89"/>
                    </a:lnTo>
                    <a:lnTo>
                      <a:pt x="1" y="102"/>
                    </a:lnTo>
                    <a:lnTo>
                      <a:pt x="3" y="114"/>
                    </a:lnTo>
                    <a:lnTo>
                      <a:pt x="5" y="126"/>
                    </a:lnTo>
                    <a:lnTo>
                      <a:pt x="8" y="139"/>
                    </a:lnTo>
                    <a:lnTo>
                      <a:pt x="11" y="151"/>
                    </a:lnTo>
                    <a:lnTo>
                      <a:pt x="16" y="163"/>
                    </a:lnTo>
                    <a:lnTo>
                      <a:pt x="20" y="175"/>
                    </a:lnTo>
                    <a:lnTo>
                      <a:pt x="25" y="186"/>
                    </a:lnTo>
                    <a:lnTo>
                      <a:pt x="30" y="196"/>
                    </a:lnTo>
                    <a:lnTo>
                      <a:pt x="36" y="205"/>
                    </a:lnTo>
                    <a:lnTo>
                      <a:pt x="41" y="213"/>
                    </a:lnTo>
                    <a:lnTo>
                      <a:pt x="48" y="221"/>
                    </a:lnTo>
                    <a:lnTo>
                      <a:pt x="55" y="228"/>
                    </a:lnTo>
                    <a:lnTo>
                      <a:pt x="60" y="234"/>
                    </a:lnTo>
                    <a:lnTo>
                      <a:pt x="67" y="239"/>
                    </a:lnTo>
                    <a:lnTo>
                      <a:pt x="74" y="242"/>
                    </a:lnTo>
                    <a:lnTo>
                      <a:pt x="80" y="244"/>
                    </a:lnTo>
                    <a:lnTo>
                      <a:pt x="86" y="247"/>
                    </a:lnTo>
                    <a:lnTo>
                      <a:pt x="92" y="247"/>
                    </a:lnTo>
                    <a:lnTo>
                      <a:pt x="98" y="246"/>
                    </a:lnTo>
                    <a:close/>
                  </a:path>
                </a:pathLst>
              </a:custGeom>
              <a:solidFill>
                <a:srgbClr val="000000"/>
              </a:solidFill>
              <a:ln w="0">
                <a:noFill/>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349" name=""/>
              <p:cNvSpPr/>
              <p:nvPr/>
            </p:nvSpPr>
            <p:spPr>
              <a:xfrm>
                <a:off x="1320120" y="2071440"/>
                <a:ext cx="27360" cy="44280"/>
              </a:xfrm>
              <a:custGeom>
                <a:avLst/>
                <a:gdLst/>
                <a:ahLst/>
                <a:rect l="l" t="t" r="r" b="b"/>
                <a:pathLst>
                  <a:path w="137" h="247">
                    <a:moveTo>
                      <a:pt x="98" y="246"/>
                    </a:moveTo>
                    <a:lnTo>
                      <a:pt x="104" y="243"/>
                    </a:lnTo>
                    <a:lnTo>
                      <a:pt x="110" y="240"/>
                    </a:lnTo>
                    <a:lnTo>
                      <a:pt x="114" y="235"/>
                    </a:lnTo>
                    <a:lnTo>
                      <a:pt x="119" y="231"/>
                    </a:lnTo>
                    <a:lnTo>
                      <a:pt x="123" y="224"/>
                    </a:lnTo>
                    <a:lnTo>
                      <a:pt x="127" y="216"/>
                    </a:lnTo>
                    <a:lnTo>
                      <a:pt x="130" y="208"/>
                    </a:lnTo>
                    <a:lnTo>
                      <a:pt x="132" y="199"/>
                    </a:lnTo>
                    <a:lnTo>
                      <a:pt x="135" y="190"/>
                    </a:lnTo>
                    <a:lnTo>
                      <a:pt x="136" y="180"/>
                    </a:lnTo>
                    <a:lnTo>
                      <a:pt x="137" y="169"/>
                    </a:lnTo>
                    <a:lnTo>
                      <a:pt x="137" y="158"/>
                    </a:lnTo>
                    <a:lnTo>
                      <a:pt x="136" y="134"/>
                    </a:lnTo>
                    <a:lnTo>
                      <a:pt x="132" y="108"/>
                    </a:lnTo>
                    <a:lnTo>
                      <a:pt x="129" y="96"/>
                    </a:lnTo>
                    <a:lnTo>
                      <a:pt x="125" y="84"/>
                    </a:lnTo>
                    <a:lnTo>
                      <a:pt x="120" y="72"/>
                    </a:lnTo>
                    <a:lnTo>
                      <a:pt x="114" y="62"/>
                    </a:lnTo>
                    <a:lnTo>
                      <a:pt x="110" y="52"/>
                    </a:lnTo>
                    <a:lnTo>
                      <a:pt x="104" y="42"/>
                    </a:lnTo>
                    <a:lnTo>
                      <a:pt x="98" y="34"/>
                    </a:lnTo>
                    <a:lnTo>
                      <a:pt x="92" y="26"/>
                    </a:lnTo>
                    <a:lnTo>
                      <a:pt x="85" y="19"/>
                    </a:lnTo>
                    <a:lnTo>
                      <a:pt x="78" y="14"/>
                    </a:lnTo>
                    <a:lnTo>
                      <a:pt x="72" y="9"/>
                    </a:lnTo>
                    <a:lnTo>
                      <a:pt x="65" y="5"/>
                    </a:lnTo>
                    <a:lnTo>
                      <a:pt x="58" y="3"/>
                    </a:lnTo>
                    <a:lnTo>
                      <a:pt x="51" y="0"/>
                    </a:lnTo>
                    <a:lnTo>
                      <a:pt x="45" y="0"/>
                    </a:lnTo>
                    <a:lnTo>
                      <a:pt x="38" y="1"/>
                    </a:lnTo>
                    <a:lnTo>
                      <a:pt x="31" y="4"/>
                    </a:lnTo>
                    <a:lnTo>
                      <a:pt x="26" y="7"/>
                    </a:lnTo>
                    <a:lnTo>
                      <a:pt x="21" y="12"/>
                    </a:lnTo>
                    <a:lnTo>
                      <a:pt x="17" y="17"/>
                    </a:lnTo>
                    <a:lnTo>
                      <a:pt x="12" y="23"/>
                    </a:lnTo>
                    <a:lnTo>
                      <a:pt x="9" y="31"/>
                    </a:lnTo>
                    <a:lnTo>
                      <a:pt x="5" y="39"/>
                    </a:lnTo>
                    <a:lnTo>
                      <a:pt x="3" y="48"/>
                    </a:lnTo>
                    <a:lnTo>
                      <a:pt x="2" y="58"/>
                    </a:lnTo>
                    <a:lnTo>
                      <a:pt x="1" y="68"/>
                    </a:lnTo>
                    <a:lnTo>
                      <a:pt x="0" y="78"/>
                    </a:lnTo>
                    <a:lnTo>
                      <a:pt x="1" y="89"/>
                    </a:lnTo>
                    <a:lnTo>
                      <a:pt x="1" y="102"/>
                    </a:lnTo>
                    <a:lnTo>
                      <a:pt x="3" y="114"/>
                    </a:lnTo>
                    <a:lnTo>
                      <a:pt x="5" y="126"/>
                    </a:lnTo>
                    <a:lnTo>
                      <a:pt x="8" y="139"/>
                    </a:lnTo>
                    <a:lnTo>
                      <a:pt x="11" y="151"/>
                    </a:lnTo>
                    <a:lnTo>
                      <a:pt x="16" y="163"/>
                    </a:lnTo>
                    <a:lnTo>
                      <a:pt x="20" y="175"/>
                    </a:lnTo>
                    <a:lnTo>
                      <a:pt x="25" y="186"/>
                    </a:lnTo>
                    <a:lnTo>
                      <a:pt x="30" y="196"/>
                    </a:lnTo>
                    <a:lnTo>
                      <a:pt x="36" y="205"/>
                    </a:lnTo>
                    <a:lnTo>
                      <a:pt x="41" y="213"/>
                    </a:lnTo>
                    <a:lnTo>
                      <a:pt x="48" y="221"/>
                    </a:lnTo>
                    <a:lnTo>
                      <a:pt x="55" y="228"/>
                    </a:lnTo>
                    <a:lnTo>
                      <a:pt x="60" y="234"/>
                    </a:lnTo>
                    <a:lnTo>
                      <a:pt x="67" y="239"/>
                    </a:lnTo>
                    <a:lnTo>
                      <a:pt x="74" y="242"/>
                    </a:lnTo>
                    <a:lnTo>
                      <a:pt x="80" y="244"/>
                    </a:lnTo>
                    <a:lnTo>
                      <a:pt x="86" y="247"/>
                    </a:lnTo>
                    <a:lnTo>
                      <a:pt x="92" y="247"/>
                    </a:lnTo>
                    <a:lnTo>
                      <a:pt x="98" y="246"/>
                    </a:lnTo>
                  </a:path>
                </a:pathLst>
              </a:custGeom>
              <a:noFill/>
              <a:ln w="6480">
                <a:solidFill>
                  <a:srgbClr val="000000"/>
                </a:solidFill>
                <a:round/>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350" name=""/>
              <p:cNvSpPr/>
              <p:nvPr/>
            </p:nvSpPr>
            <p:spPr>
              <a:xfrm>
                <a:off x="1050480" y="2133360"/>
                <a:ext cx="406800" cy="171000"/>
              </a:xfrm>
              <a:custGeom>
                <a:avLst/>
                <a:gdLst/>
                <a:ahLst/>
                <a:rect l="l" t="t" r="r" b="b"/>
                <a:pathLst>
                  <a:path w="2021" h="926">
                    <a:moveTo>
                      <a:pt x="1160" y="0"/>
                    </a:moveTo>
                    <a:lnTo>
                      <a:pt x="1197" y="10"/>
                    </a:lnTo>
                    <a:lnTo>
                      <a:pt x="1295" y="41"/>
                    </a:lnTo>
                    <a:lnTo>
                      <a:pt x="1360" y="64"/>
                    </a:lnTo>
                    <a:lnTo>
                      <a:pt x="1433" y="91"/>
                    </a:lnTo>
                    <a:lnTo>
                      <a:pt x="1511" y="121"/>
                    </a:lnTo>
                    <a:lnTo>
                      <a:pt x="1590" y="156"/>
                    </a:lnTo>
                    <a:lnTo>
                      <a:pt x="1631" y="175"/>
                    </a:lnTo>
                    <a:lnTo>
                      <a:pt x="1671" y="194"/>
                    </a:lnTo>
                    <a:lnTo>
                      <a:pt x="1711" y="215"/>
                    </a:lnTo>
                    <a:lnTo>
                      <a:pt x="1749" y="236"/>
                    </a:lnTo>
                    <a:lnTo>
                      <a:pt x="1786" y="257"/>
                    </a:lnTo>
                    <a:lnTo>
                      <a:pt x="1822" y="280"/>
                    </a:lnTo>
                    <a:lnTo>
                      <a:pt x="1856" y="302"/>
                    </a:lnTo>
                    <a:lnTo>
                      <a:pt x="1887" y="326"/>
                    </a:lnTo>
                    <a:lnTo>
                      <a:pt x="1915" y="351"/>
                    </a:lnTo>
                    <a:lnTo>
                      <a:pt x="1941" y="376"/>
                    </a:lnTo>
                    <a:lnTo>
                      <a:pt x="1965" y="401"/>
                    </a:lnTo>
                    <a:lnTo>
                      <a:pt x="1984" y="427"/>
                    </a:lnTo>
                    <a:lnTo>
                      <a:pt x="2000" y="453"/>
                    </a:lnTo>
                    <a:lnTo>
                      <a:pt x="2012" y="480"/>
                    </a:lnTo>
                    <a:lnTo>
                      <a:pt x="2019" y="507"/>
                    </a:lnTo>
                    <a:lnTo>
                      <a:pt x="2021" y="535"/>
                    </a:lnTo>
                    <a:lnTo>
                      <a:pt x="2021" y="562"/>
                    </a:lnTo>
                    <a:lnTo>
                      <a:pt x="2020" y="588"/>
                    </a:lnTo>
                    <a:lnTo>
                      <a:pt x="2018" y="613"/>
                    </a:lnTo>
                    <a:lnTo>
                      <a:pt x="2015" y="637"/>
                    </a:lnTo>
                    <a:lnTo>
                      <a:pt x="2012" y="659"/>
                    </a:lnTo>
                    <a:lnTo>
                      <a:pt x="2009" y="681"/>
                    </a:lnTo>
                    <a:lnTo>
                      <a:pt x="2003" y="701"/>
                    </a:lnTo>
                    <a:lnTo>
                      <a:pt x="1997" y="720"/>
                    </a:lnTo>
                    <a:lnTo>
                      <a:pt x="1992" y="738"/>
                    </a:lnTo>
                    <a:lnTo>
                      <a:pt x="1984" y="755"/>
                    </a:lnTo>
                    <a:lnTo>
                      <a:pt x="1976" y="771"/>
                    </a:lnTo>
                    <a:lnTo>
                      <a:pt x="1968" y="785"/>
                    </a:lnTo>
                    <a:lnTo>
                      <a:pt x="1958" y="800"/>
                    </a:lnTo>
                    <a:lnTo>
                      <a:pt x="1948" y="812"/>
                    </a:lnTo>
                    <a:lnTo>
                      <a:pt x="1937" y="825"/>
                    </a:lnTo>
                    <a:lnTo>
                      <a:pt x="1924" y="835"/>
                    </a:lnTo>
                    <a:lnTo>
                      <a:pt x="1911" y="845"/>
                    </a:lnTo>
                    <a:lnTo>
                      <a:pt x="1897" y="854"/>
                    </a:lnTo>
                    <a:lnTo>
                      <a:pt x="1883" y="862"/>
                    </a:lnTo>
                    <a:lnTo>
                      <a:pt x="1867" y="870"/>
                    </a:lnTo>
                    <a:lnTo>
                      <a:pt x="1850" y="876"/>
                    </a:lnTo>
                    <a:lnTo>
                      <a:pt x="1833" y="881"/>
                    </a:lnTo>
                    <a:lnTo>
                      <a:pt x="1814" y="885"/>
                    </a:lnTo>
                    <a:lnTo>
                      <a:pt x="1795" y="890"/>
                    </a:lnTo>
                    <a:lnTo>
                      <a:pt x="1775" y="892"/>
                    </a:lnTo>
                    <a:lnTo>
                      <a:pt x="1753" y="894"/>
                    </a:lnTo>
                    <a:lnTo>
                      <a:pt x="1732" y="895"/>
                    </a:lnTo>
                    <a:lnTo>
                      <a:pt x="1708" y="897"/>
                    </a:lnTo>
                    <a:lnTo>
                      <a:pt x="1684" y="897"/>
                    </a:lnTo>
                    <a:lnTo>
                      <a:pt x="1659" y="895"/>
                    </a:lnTo>
                    <a:lnTo>
                      <a:pt x="1633" y="893"/>
                    </a:lnTo>
                    <a:lnTo>
                      <a:pt x="1606" y="891"/>
                    </a:lnTo>
                    <a:lnTo>
                      <a:pt x="416" y="921"/>
                    </a:lnTo>
                    <a:lnTo>
                      <a:pt x="388" y="924"/>
                    </a:lnTo>
                    <a:lnTo>
                      <a:pt x="362" y="925"/>
                    </a:lnTo>
                    <a:lnTo>
                      <a:pt x="336" y="926"/>
                    </a:lnTo>
                    <a:lnTo>
                      <a:pt x="311" y="926"/>
                    </a:lnTo>
                    <a:lnTo>
                      <a:pt x="288" y="926"/>
                    </a:lnTo>
                    <a:lnTo>
                      <a:pt x="266" y="925"/>
                    </a:lnTo>
                    <a:lnTo>
                      <a:pt x="245" y="922"/>
                    </a:lnTo>
                    <a:lnTo>
                      <a:pt x="224" y="919"/>
                    </a:lnTo>
                    <a:lnTo>
                      <a:pt x="204" y="916"/>
                    </a:lnTo>
                    <a:lnTo>
                      <a:pt x="186" y="911"/>
                    </a:lnTo>
                    <a:lnTo>
                      <a:pt x="168" y="906"/>
                    </a:lnTo>
                    <a:lnTo>
                      <a:pt x="153" y="900"/>
                    </a:lnTo>
                    <a:lnTo>
                      <a:pt x="137" y="892"/>
                    </a:lnTo>
                    <a:lnTo>
                      <a:pt x="122" y="884"/>
                    </a:lnTo>
                    <a:lnTo>
                      <a:pt x="108" y="875"/>
                    </a:lnTo>
                    <a:lnTo>
                      <a:pt x="95" y="865"/>
                    </a:lnTo>
                    <a:lnTo>
                      <a:pt x="83" y="854"/>
                    </a:lnTo>
                    <a:lnTo>
                      <a:pt x="72" y="843"/>
                    </a:lnTo>
                    <a:lnTo>
                      <a:pt x="62" y="829"/>
                    </a:lnTo>
                    <a:lnTo>
                      <a:pt x="53" y="816"/>
                    </a:lnTo>
                    <a:lnTo>
                      <a:pt x="44" y="801"/>
                    </a:lnTo>
                    <a:lnTo>
                      <a:pt x="36" y="785"/>
                    </a:lnTo>
                    <a:lnTo>
                      <a:pt x="29" y="767"/>
                    </a:lnTo>
                    <a:lnTo>
                      <a:pt x="22" y="749"/>
                    </a:lnTo>
                    <a:lnTo>
                      <a:pt x="18" y="730"/>
                    </a:lnTo>
                    <a:lnTo>
                      <a:pt x="12" y="710"/>
                    </a:lnTo>
                    <a:lnTo>
                      <a:pt x="9" y="690"/>
                    </a:lnTo>
                    <a:lnTo>
                      <a:pt x="5" y="667"/>
                    </a:lnTo>
                    <a:lnTo>
                      <a:pt x="3" y="643"/>
                    </a:lnTo>
                    <a:lnTo>
                      <a:pt x="1" y="619"/>
                    </a:lnTo>
                    <a:lnTo>
                      <a:pt x="0" y="592"/>
                    </a:lnTo>
                    <a:lnTo>
                      <a:pt x="0" y="565"/>
                    </a:lnTo>
                    <a:lnTo>
                      <a:pt x="2" y="538"/>
                    </a:lnTo>
                    <a:lnTo>
                      <a:pt x="10" y="509"/>
                    </a:lnTo>
                    <a:lnTo>
                      <a:pt x="21" y="482"/>
                    </a:lnTo>
                    <a:lnTo>
                      <a:pt x="37" y="455"/>
                    </a:lnTo>
                    <a:lnTo>
                      <a:pt x="56" y="430"/>
                    </a:lnTo>
                    <a:lnTo>
                      <a:pt x="80" y="404"/>
                    </a:lnTo>
                    <a:lnTo>
                      <a:pt x="106" y="379"/>
                    </a:lnTo>
                    <a:lnTo>
                      <a:pt x="135" y="354"/>
                    </a:lnTo>
                    <a:lnTo>
                      <a:pt x="166" y="331"/>
                    </a:lnTo>
                    <a:lnTo>
                      <a:pt x="200" y="308"/>
                    </a:lnTo>
                    <a:lnTo>
                      <a:pt x="235" y="286"/>
                    </a:lnTo>
                    <a:lnTo>
                      <a:pt x="272" y="264"/>
                    </a:lnTo>
                    <a:lnTo>
                      <a:pt x="311" y="243"/>
                    </a:lnTo>
                    <a:lnTo>
                      <a:pt x="351" y="223"/>
                    </a:lnTo>
                    <a:lnTo>
                      <a:pt x="390" y="203"/>
                    </a:lnTo>
                    <a:lnTo>
                      <a:pt x="430" y="184"/>
                    </a:lnTo>
                    <a:lnTo>
                      <a:pt x="510" y="151"/>
                    </a:lnTo>
                    <a:lnTo>
                      <a:pt x="589" y="120"/>
                    </a:lnTo>
                    <a:lnTo>
                      <a:pt x="661" y="93"/>
                    </a:lnTo>
                    <a:lnTo>
                      <a:pt x="726" y="71"/>
                    </a:lnTo>
                    <a:lnTo>
                      <a:pt x="824" y="40"/>
                    </a:lnTo>
                    <a:lnTo>
                      <a:pt x="861" y="29"/>
                    </a:lnTo>
                    <a:lnTo>
                      <a:pt x="1160" y="0"/>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1" name=""/>
              <p:cNvSpPr/>
              <p:nvPr/>
            </p:nvSpPr>
            <p:spPr>
              <a:xfrm>
                <a:off x="1050480" y="2133360"/>
                <a:ext cx="406800" cy="171000"/>
              </a:xfrm>
              <a:custGeom>
                <a:avLst/>
                <a:gdLst/>
                <a:ahLst/>
                <a:rect l="l" t="t" r="r" b="b"/>
                <a:pathLst>
                  <a:path w="2021" h="926">
                    <a:moveTo>
                      <a:pt x="1160" y="0"/>
                    </a:moveTo>
                    <a:lnTo>
                      <a:pt x="1197" y="10"/>
                    </a:lnTo>
                    <a:lnTo>
                      <a:pt x="1295" y="41"/>
                    </a:lnTo>
                    <a:lnTo>
                      <a:pt x="1360" y="64"/>
                    </a:lnTo>
                    <a:lnTo>
                      <a:pt x="1433" y="91"/>
                    </a:lnTo>
                    <a:lnTo>
                      <a:pt x="1511" y="121"/>
                    </a:lnTo>
                    <a:lnTo>
                      <a:pt x="1590" y="156"/>
                    </a:lnTo>
                    <a:lnTo>
                      <a:pt x="1631" y="175"/>
                    </a:lnTo>
                    <a:lnTo>
                      <a:pt x="1671" y="194"/>
                    </a:lnTo>
                    <a:lnTo>
                      <a:pt x="1711" y="215"/>
                    </a:lnTo>
                    <a:lnTo>
                      <a:pt x="1749" y="236"/>
                    </a:lnTo>
                    <a:lnTo>
                      <a:pt x="1786" y="257"/>
                    </a:lnTo>
                    <a:lnTo>
                      <a:pt x="1822" y="280"/>
                    </a:lnTo>
                    <a:lnTo>
                      <a:pt x="1856" y="302"/>
                    </a:lnTo>
                    <a:lnTo>
                      <a:pt x="1887" y="326"/>
                    </a:lnTo>
                    <a:lnTo>
                      <a:pt x="1915" y="351"/>
                    </a:lnTo>
                    <a:lnTo>
                      <a:pt x="1941" y="376"/>
                    </a:lnTo>
                    <a:lnTo>
                      <a:pt x="1965" y="401"/>
                    </a:lnTo>
                    <a:lnTo>
                      <a:pt x="1984" y="427"/>
                    </a:lnTo>
                    <a:lnTo>
                      <a:pt x="2000" y="453"/>
                    </a:lnTo>
                    <a:lnTo>
                      <a:pt x="2012" y="480"/>
                    </a:lnTo>
                    <a:lnTo>
                      <a:pt x="2019" y="507"/>
                    </a:lnTo>
                    <a:lnTo>
                      <a:pt x="2021" y="535"/>
                    </a:lnTo>
                    <a:lnTo>
                      <a:pt x="2021" y="562"/>
                    </a:lnTo>
                    <a:lnTo>
                      <a:pt x="2020" y="588"/>
                    </a:lnTo>
                    <a:lnTo>
                      <a:pt x="2018" y="613"/>
                    </a:lnTo>
                    <a:lnTo>
                      <a:pt x="2015" y="637"/>
                    </a:lnTo>
                    <a:lnTo>
                      <a:pt x="2012" y="659"/>
                    </a:lnTo>
                    <a:lnTo>
                      <a:pt x="2009" y="681"/>
                    </a:lnTo>
                    <a:lnTo>
                      <a:pt x="2003" y="701"/>
                    </a:lnTo>
                    <a:lnTo>
                      <a:pt x="1997" y="720"/>
                    </a:lnTo>
                    <a:lnTo>
                      <a:pt x="1992" y="738"/>
                    </a:lnTo>
                    <a:lnTo>
                      <a:pt x="1984" y="755"/>
                    </a:lnTo>
                    <a:lnTo>
                      <a:pt x="1976" y="771"/>
                    </a:lnTo>
                    <a:lnTo>
                      <a:pt x="1968" y="785"/>
                    </a:lnTo>
                    <a:lnTo>
                      <a:pt x="1958" y="800"/>
                    </a:lnTo>
                    <a:lnTo>
                      <a:pt x="1948" y="812"/>
                    </a:lnTo>
                    <a:lnTo>
                      <a:pt x="1937" y="825"/>
                    </a:lnTo>
                    <a:lnTo>
                      <a:pt x="1924" y="835"/>
                    </a:lnTo>
                    <a:lnTo>
                      <a:pt x="1911" y="845"/>
                    </a:lnTo>
                    <a:lnTo>
                      <a:pt x="1897" y="854"/>
                    </a:lnTo>
                    <a:lnTo>
                      <a:pt x="1883" y="862"/>
                    </a:lnTo>
                    <a:lnTo>
                      <a:pt x="1867" y="870"/>
                    </a:lnTo>
                    <a:lnTo>
                      <a:pt x="1850" y="876"/>
                    </a:lnTo>
                    <a:lnTo>
                      <a:pt x="1833" y="881"/>
                    </a:lnTo>
                    <a:lnTo>
                      <a:pt x="1814" y="885"/>
                    </a:lnTo>
                    <a:lnTo>
                      <a:pt x="1795" y="890"/>
                    </a:lnTo>
                    <a:lnTo>
                      <a:pt x="1775" y="892"/>
                    </a:lnTo>
                    <a:lnTo>
                      <a:pt x="1753" y="894"/>
                    </a:lnTo>
                    <a:lnTo>
                      <a:pt x="1732" y="895"/>
                    </a:lnTo>
                    <a:lnTo>
                      <a:pt x="1708" y="897"/>
                    </a:lnTo>
                    <a:lnTo>
                      <a:pt x="1684" y="897"/>
                    </a:lnTo>
                    <a:lnTo>
                      <a:pt x="1659" y="895"/>
                    </a:lnTo>
                    <a:lnTo>
                      <a:pt x="1633" y="893"/>
                    </a:lnTo>
                    <a:lnTo>
                      <a:pt x="1606" y="891"/>
                    </a:lnTo>
                    <a:lnTo>
                      <a:pt x="416" y="921"/>
                    </a:lnTo>
                    <a:lnTo>
                      <a:pt x="388" y="924"/>
                    </a:lnTo>
                    <a:lnTo>
                      <a:pt x="362" y="925"/>
                    </a:lnTo>
                    <a:lnTo>
                      <a:pt x="336" y="926"/>
                    </a:lnTo>
                    <a:lnTo>
                      <a:pt x="311" y="926"/>
                    </a:lnTo>
                    <a:lnTo>
                      <a:pt x="288" y="926"/>
                    </a:lnTo>
                    <a:lnTo>
                      <a:pt x="266" y="925"/>
                    </a:lnTo>
                    <a:lnTo>
                      <a:pt x="245" y="922"/>
                    </a:lnTo>
                    <a:lnTo>
                      <a:pt x="224" y="919"/>
                    </a:lnTo>
                    <a:lnTo>
                      <a:pt x="204" y="916"/>
                    </a:lnTo>
                    <a:lnTo>
                      <a:pt x="186" y="911"/>
                    </a:lnTo>
                    <a:lnTo>
                      <a:pt x="168" y="906"/>
                    </a:lnTo>
                    <a:lnTo>
                      <a:pt x="153" y="900"/>
                    </a:lnTo>
                    <a:lnTo>
                      <a:pt x="137" y="892"/>
                    </a:lnTo>
                    <a:lnTo>
                      <a:pt x="122" y="884"/>
                    </a:lnTo>
                    <a:lnTo>
                      <a:pt x="108" y="875"/>
                    </a:lnTo>
                    <a:lnTo>
                      <a:pt x="95" y="865"/>
                    </a:lnTo>
                    <a:lnTo>
                      <a:pt x="83" y="854"/>
                    </a:lnTo>
                    <a:lnTo>
                      <a:pt x="72" y="843"/>
                    </a:lnTo>
                    <a:lnTo>
                      <a:pt x="62" y="829"/>
                    </a:lnTo>
                    <a:lnTo>
                      <a:pt x="53" y="816"/>
                    </a:lnTo>
                    <a:lnTo>
                      <a:pt x="44" y="801"/>
                    </a:lnTo>
                    <a:lnTo>
                      <a:pt x="36" y="785"/>
                    </a:lnTo>
                    <a:lnTo>
                      <a:pt x="29" y="767"/>
                    </a:lnTo>
                    <a:lnTo>
                      <a:pt x="22" y="749"/>
                    </a:lnTo>
                    <a:lnTo>
                      <a:pt x="18" y="730"/>
                    </a:lnTo>
                    <a:lnTo>
                      <a:pt x="12" y="710"/>
                    </a:lnTo>
                    <a:lnTo>
                      <a:pt x="9" y="690"/>
                    </a:lnTo>
                    <a:lnTo>
                      <a:pt x="5" y="667"/>
                    </a:lnTo>
                    <a:lnTo>
                      <a:pt x="3" y="643"/>
                    </a:lnTo>
                    <a:lnTo>
                      <a:pt x="1" y="619"/>
                    </a:lnTo>
                    <a:lnTo>
                      <a:pt x="0" y="592"/>
                    </a:lnTo>
                    <a:lnTo>
                      <a:pt x="0" y="565"/>
                    </a:lnTo>
                    <a:lnTo>
                      <a:pt x="2" y="538"/>
                    </a:lnTo>
                    <a:lnTo>
                      <a:pt x="10" y="509"/>
                    </a:lnTo>
                    <a:lnTo>
                      <a:pt x="21" y="482"/>
                    </a:lnTo>
                    <a:lnTo>
                      <a:pt x="37" y="455"/>
                    </a:lnTo>
                    <a:lnTo>
                      <a:pt x="56" y="430"/>
                    </a:lnTo>
                    <a:lnTo>
                      <a:pt x="80" y="404"/>
                    </a:lnTo>
                    <a:lnTo>
                      <a:pt x="106" y="379"/>
                    </a:lnTo>
                    <a:lnTo>
                      <a:pt x="135" y="354"/>
                    </a:lnTo>
                    <a:lnTo>
                      <a:pt x="166" y="331"/>
                    </a:lnTo>
                    <a:lnTo>
                      <a:pt x="200" y="308"/>
                    </a:lnTo>
                    <a:lnTo>
                      <a:pt x="235" y="286"/>
                    </a:lnTo>
                    <a:lnTo>
                      <a:pt x="272" y="264"/>
                    </a:lnTo>
                    <a:lnTo>
                      <a:pt x="311" y="243"/>
                    </a:lnTo>
                    <a:lnTo>
                      <a:pt x="351" y="223"/>
                    </a:lnTo>
                    <a:lnTo>
                      <a:pt x="390" y="203"/>
                    </a:lnTo>
                    <a:lnTo>
                      <a:pt x="430" y="184"/>
                    </a:lnTo>
                    <a:lnTo>
                      <a:pt x="510" y="151"/>
                    </a:lnTo>
                    <a:lnTo>
                      <a:pt x="589" y="120"/>
                    </a:lnTo>
                    <a:lnTo>
                      <a:pt x="661" y="93"/>
                    </a:lnTo>
                    <a:lnTo>
                      <a:pt x="726" y="71"/>
                    </a:lnTo>
                    <a:lnTo>
                      <a:pt x="824" y="40"/>
                    </a:lnTo>
                    <a:lnTo>
                      <a:pt x="861" y="2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2" name=""/>
              <p:cNvSpPr/>
              <p:nvPr/>
            </p:nvSpPr>
            <p:spPr>
              <a:xfrm>
                <a:off x="1068480" y="2264400"/>
                <a:ext cx="370440" cy="100440"/>
              </a:xfrm>
              <a:custGeom>
                <a:avLst/>
                <a:gdLst/>
                <a:ahLst/>
                <a:rect l="l" t="t" r="r" b="b"/>
                <a:pathLst>
                  <a:path w="1841" h="547">
                    <a:moveTo>
                      <a:pt x="1841" y="11"/>
                    </a:moveTo>
                    <a:lnTo>
                      <a:pt x="1825" y="8"/>
                    </a:lnTo>
                    <a:lnTo>
                      <a:pt x="1784" y="2"/>
                    </a:lnTo>
                    <a:lnTo>
                      <a:pt x="1755" y="0"/>
                    </a:lnTo>
                    <a:lnTo>
                      <a:pt x="1721" y="0"/>
                    </a:lnTo>
                    <a:lnTo>
                      <a:pt x="1703" y="0"/>
                    </a:lnTo>
                    <a:lnTo>
                      <a:pt x="1684" y="1"/>
                    </a:lnTo>
                    <a:lnTo>
                      <a:pt x="1665" y="4"/>
                    </a:lnTo>
                    <a:lnTo>
                      <a:pt x="1644" y="7"/>
                    </a:lnTo>
                    <a:lnTo>
                      <a:pt x="1624" y="10"/>
                    </a:lnTo>
                    <a:lnTo>
                      <a:pt x="1604" y="16"/>
                    </a:lnTo>
                    <a:lnTo>
                      <a:pt x="1583" y="22"/>
                    </a:lnTo>
                    <a:lnTo>
                      <a:pt x="1561" y="29"/>
                    </a:lnTo>
                    <a:lnTo>
                      <a:pt x="1541" y="37"/>
                    </a:lnTo>
                    <a:lnTo>
                      <a:pt x="1520" y="47"/>
                    </a:lnTo>
                    <a:lnTo>
                      <a:pt x="1498" y="60"/>
                    </a:lnTo>
                    <a:lnTo>
                      <a:pt x="1478" y="72"/>
                    </a:lnTo>
                    <a:lnTo>
                      <a:pt x="1458" y="88"/>
                    </a:lnTo>
                    <a:lnTo>
                      <a:pt x="1439" y="104"/>
                    </a:lnTo>
                    <a:lnTo>
                      <a:pt x="1420" y="123"/>
                    </a:lnTo>
                    <a:lnTo>
                      <a:pt x="1400" y="143"/>
                    </a:lnTo>
                    <a:lnTo>
                      <a:pt x="1384" y="166"/>
                    </a:lnTo>
                    <a:lnTo>
                      <a:pt x="1367" y="190"/>
                    </a:lnTo>
                    <a:lnTo>
                      <a:pt x="1351" y="217"/>
                    </a:lnTo>
                    <a:lnTo>
                      <a:pt x="1336" y="247"/>
                    </a:lnTo>
                    <a:lnTo>
                      <a:pt x="1322" y="277"/>
                    </a:lnTo>
                    <a:lnTo>
                      <a:pt x="1308" y="305"/>
                    </a:lnTo>
                    <a:lnTo>
                      <a:pt x="1295" y="331"/>
                    </a:lnTo>
                    <a:lnTo>
                      <a:pt x="1281" y="355"/>
                    </a:lnTo>
                    <a:lnTo>
                      <a:pt x="1268" y="377"/>
                    </a:lnTo>
                    <a:lnTo>
                      <a:pt x="1254" y="397"/>
                    </a:lnTo>
                    <a:lnTo>
                      <a:pt x="1242" y="415"/>
                    </a:lnTo>
                    <a:lnTo>
                      <a:pt x="1228" y="433"/>
                    </a:lnTo>
                    <a:lnTo>
                      <a:pt x="1216" y="449"/>
                    </a:lnTo>
                    <a:lnTo>
                      <a:pt x="1204" y="463"/>
                    </a:lnTo>
                    <a:lnTo>
                      <a:pt x="1190" y="475"/>
                    </a:lnTo>
                    <a:lnTo>
                      <a:pt x="1178" y="487"/>
                    </a:lnTo>
                    <a:lnTo>
                      <a:pt x="1165" y="498"/>
                    </a:lnTo>
                    <a:lnTo>
                      <a:pt x="1153" y="507"/>
                    </a:lnTo>
                    <a:lnTo>
                      <a:pt x="1141" y="514"/>
                    </a:lnTo>
                    <a:lnTo>
                      <a:pt x="1128" y="521"/>
                    </a:lnTo>
                    <a:lnTo>
                      <a:pt x="1116" y="527"/>
                    </a:lnTo>
                    <a:lnTo>
                      <a:pt x="1104" y="531"/>
                    </a:lnTo>
                    <a:lnTo>
                      <a:pt x="1091" y="536"/>
                    </a:lnTo>
                    <a:lnTo>
                      <a:pt x="1078" y="539"/>
                    </a:lnTo>
                    <a:lnTo>
                      <a:pt x="1053" y="544"/>
                    </a:lnTo>
                    <a:lnTo>
                      <a:pt x="1027" y="546"/>
                    </a:lnTo>
                    <a:lnTo>
                      <a:pt x="976" y="547"/>
                    </a:lnTo>
                    <a:lnTo>
                      <a:pt x="920" y="547"/>
                    </a:lnTo>
                    <a:lnTo>
                      <a:pt x="865" y="547"/>
                    </a:lnTo>
                    <a:lnTo>
                      <a:pt x="813" y="546"/>
                    </a:lnTo>
                    <a:lnTo>
                      <a:pt x="787" y="544"/>
                    </a:lnTo>
                    <a:lnTo>
                      <a:pt x="762" y="539"/>
                    </a:lnTo>
                    <a:lnTo>
                      <a:pt x="750" y="536"/>
                    </a:lnTo>
                    <a:lnTo>
                      <a:pt x="736" y="531"/>
                    </a:lnTo>
                    <a:lnTo>
                      <a:pt x="724" y="527"/>
                    </a:lnTo>
                    <a:lnTo>
                      <a:pt x="711" y="521"/>
                    </a:lnTo>
                    <a:lnTo>
                      <a:pt x="699" y="514"/>
                    </a:lnTo>
                    <a:lnTo>
                      <a:pt x="687" y="507"/>
                    </a:lnTo>
                    <a:lnTo>
                      <a:pt x="673" y="498"/>
                    </a:lnTo>
                    <a:lnTo>
                      <a:pt x="661" y="487"/>
                    </a:lnTo>
                    <a:lnTo>
                      <a:pt x="648" y="475"/>
                    </a:lnTo>
                    <a:lnTo>
                      <a:pt x="636" y="463"/>
                    </a:lnTo>
                    <a:lnTo>
                      <a:pt x="624" y="449"/>
                    </a:lnTo>
                    <a:lnTo>
                      <a:pt x="610" y="433"/>
                    </a:lnTo>
                    <a:lnTo>
                      <a:pt x="598" y="415"/>
                    </a:lnTo>
                    <a:lnTo>
                      <a:pt x="584" y="397"/>
                    </a:lnTo>
                    <a:lnTo>
                      <a:pt x="572" y="377"/>
                    </a:lnTo>
                    <a:lnTo>
                      <a:pt x="558" y="355"/>
                    </a:lnTo>
                    <a:lnTo>
                      <a:pt x="545" y="331"/>
                    </a:lnTo>
                    <a:lnTo>
                      <a:pt x="533" y="305"/>
                    </a:lnTo>
                    <a:lnTo>
                      <a:pt x="519" y="277"/>
                    </a:lnTo>
                    <a:lnTo>
                      <a:pt x="506" y="247"/>
                    </a:lnTo>
                    <a:lnTo>
                      <a:pt x="491" y="217"/>
                    </a:lnTo>
                    <a:lnTo>
                      <a:pt x="475" y="190"/>
                    </a:lnTo>
                    <a:lnTo>
                      <a:pt x="458" y="166"/>
                    </a:lnTo>
                    <a:lnTo>
                      <a:pt x="440" y="143"/>
                    </a:lnTo>
                    <a:lnTo>
                      <a:pt x="422" y="123"/>
                    </a:lnTo>
                    <a:lnTo>
                      <a:pt x="403" y="104"/>
                    </a:lnTo>
                    <a:lnTo>
                      <a:pt x="383" y="88"/>
                    </a:lnTo>
                    <a:lnTo>
                      <a:pt x="363" y="72"/>
                    </a:lnTo>
                    <a:lnTo>
                      <a:pt x="343" y="60"/>
                    </a:lnTo>
                    <a:lnTo>
                      <a:pt x="321" y="47"/>
                    </a:lnTo>
                    <a:lnTo>
                      <a:pt x="301" y="37"/>
                    </a:lnTo>
                    <a:lnTo>
                      <a:pt x="280" y="29"/>
                    </a:lnTo>
                    <a:lnTo>
                      <a:pt x="258" y="22"/>
                    </a:lnTo>
                    <a:lnTo>
                      <a:pt x="237" y="16"/>
                    </a:lnTo>
                    <a:lnTo>
                      <a:pt x="217" y="10"/>
                    </a:lnTo>
                    <a:lnTo>
                      <a:pt x="197" y="7"/>
                    </a:lnTo>
                    <a:lnTo>
                      <a:pt x="176" y="4"/>
                    </a:lnTo>
                    <a:lnTo>
                      <a:pt x="157" y="1"/>
                    </a:lnTo>
                    <a:lnTo>
                      <a:pt x="138" y="0"/>
                    </a:lnTo>
                    <a:lnTo>
                      <a:pt x="120" y="0"/>
                    </a:lnTo>
                    <a:lnTo>
                      <a:pt x="87" y="0"/>
                    </a:lnTo>
                    <a:lnTo>
                      <a:pt x="58" y="2"/>
                    </a:lnTo>
                    <a:lnTo>
                      <a:pt x="16" y="8"/>
                    </a:lnTo>
                    <a:lnTo>
                      <a:pt x="0" y="11"/>
                    </a:lnTo>
                    <a:lnTo>
                      <a:pt x="1841" y="11"/>
                    </a:lnTo>
                    <a:close/>
                  </a:path>
                </a:pathLst>
              </a:custGeom>
              <a:solidFill>
                <a:srgbClr val="ffcc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3" name=""/>
              <p:cNvSpPr/>
              <p:nvPr/>
            </p:nvSpPr>
            <p:spPr>
              <a:xfrm>
                <a:off x="1068480" y="2264400"/>
                <a:ext cx="370440" cy="100440"/>
              </a:xfrm>
              <a:custGeom>
                <a:avLst/>
                <a:gdLst/>
                <a:ahLst/>
                <a:rect l="l" t="t" r="r" b="b"/>
                <a:pathLst>
                  <a:path w="1841" h="547">
                    <a:moveTo>
                      <a:pt x="1841" y="11"/>
                    </a:moveTo>
                    <a:lnTo>
                      <a:pt x="1825" y="8"/>
                    </a:lnTo>
                    <a:lnTo>
                      <a:pt x="1784" y="2"/>
                    </a:lnTo>
                    <a:lnTo>
                      <a:pt x="1755" y="0"/>
                    </a:lnTo>
                    <a:lnTo>
                      <a:pt x="1721" y="0"/>
                    </a:lnTo>
                    <a:lnTo>
                      <a:pt x="1703" y="0"/>
                    </a:lnTo>
                    <a:lnTo>
                      <a:pt x="1684" y="1"/>
                    </a:lnTo>
                    <a:lnTo>
                      <a:pt x="1665" y="4"/>
                    </a:lnTo>
                    <a:lnTo>
                      <a:pt x="1644" y="7"/>
                    </a:lnTo>
                    <a:lnTo>
                      <a:pt x="1624" y="10"/>
                    </a:lnTo>
                    <a:lnTo>
                      <a:pt x="1604" y="16"/>
                    </a:lnTo>
                    <a:lnTo>
                      <a:pt x="1583" y="22"/>
                    </a:lnTo>
                    <a:lnTo>
                      <a:pt x="1561" y="29"/>
                    </a:lnTo>
                    <a:lnTo>
                      <a:pt x="1541" y="37"/>
                    </a:lnTo>
                    <a:lnTo>
                      <a:pt x="1520" y="47"/>
                    </a:lnTo>
                    <a:lnTo>
                      <a:pt x="1498" y="60"/>
                    </a:lnTo>
                    <a:lnTo>
                      <a:pt x="1478" y="72"/>
                    </a:lnTo>
                    <a:lnTo>
                      <a:pt x="1458" y="88"/>
                    </a:lnTo>
                    <a:lnTo>
                      <a:pt x="1439" y="104"/>
                    </a:lnTo>
                    <a:lnTo>
                      <a:pt x="1420" y="123"/>
                    </a:lnTo>
                    <a:lnTo>
                      <a:pt x="1400" y="143"/>
                    </a:lnTo>
                    <a:lnTo>
                      <a:pt x="1384" y="166"/>
                    </a:lnTo>
                    <a:lnTo>
                      <a:pt x="1367" y="190"/>
                    </a:lnTo>
                    <a:lnTo>
                      <a:pt x="1351" y="217"/>
                    </a:lnTo>
                    <a:lnTo>
                      <a:pt x="1336" y="247"/>
                    </a:lnTo>
                    <a:lnTo>
                      <a:pt x="1322" y="277"/>
                    </a:lnTo>
                    <a:lnTo>
                      <a:pt x="1308" y="305"/>
                    </a:lnTo>
                    <a:lnTo>
                      <a:pt x="1295" y="331"/>
                    </a:lnTo>
                    <a:lnTo>
                      <a:pt x="1281" y="355"/>
                    </a:lnTo>
                    <a:lnTo>
                      <a:pt x="1268" y="377"/>
                    </a:lnTo>
                    <a:lnTo>
                      <a:pt x="1254" y="397"/>
                    </a:lnTo>
                    <a:lnTo>
                      <a:pt x="1242" y="415"/>
                    </a:lnTo>
                    <a:lnTo>
                      <a:pt x="1228" y="433"/>
                    </a:lnTo>
                    <a:lnTo>
                      <a:pt x="1216" y="449"/>
                    </a:lnTo>
                    <a:lnTo>
                      <a:pt x="1204" y="463"/>
                    </a:lnTo>
                    <a:lnTo>
                      <a:pt x="1190" y="475"/>
                    </a:lnTo>
                    <a:lnTo>
                      <a:pt x="1178" y="487"/>
                    </a:lnTo>
                    <a:lnTo>
                      <a:pt x="1165" y="498"/>
                    </a:lnTo>
                    <a:lnTo>
                      <a:pt x="1153" y="507"/>
                    </a:lnTo>
                    <a:lnTo>
                      <a:pt x="1141" y="514"/>
                    </a:lnTo>
                    <a:lnTo>
                      <a:pt x="1128" y="521"/>
                    </a:lnTo>
                    <a:lnTo>
                      <a:pt x="1116" y="527"/>
                    </a:lnTo>
                    <a:lnTo>
                      <a:pt x="1104" y="531"/>
                    </a:lnTo>
                    <a:lnTo>
                      <a:pt x="1091" y="536"/>
                    </a:lnTo>
                    <a:lnTo>
                      <a:pt x="1078" y="539"/>
                    </a:lnTo>
                    <a:lnTo>
                      <a:pt x="1053" y="544"/>
                    </a:lnTo>
                    <a:lnTo>
                      <a:pt x="1027" y="546"/>
                    </a:lnTo>
                    <a:lnTo>
                      <a:pt x="976" y="547"/>
                    </a:lnTo>
                    <a:lnTo>
                      <a:pt x="920" y="547"/>
                    </a:lnTo>
                    <a:lnTo>
                      <a:pt x="865" y="547"/>
                    </a:lnTo>
                    <a:lnTo>
                      <a:pt x="813" y="546"/>
                    </a:lnTo>
                    <a:lnTo>
                      <a:pt x="787" y="544"/>
                    </a:lnTo>
                    <a:lnTo>
                      <a:pt x="762" y="539"/>
                    </a:lnTo>
                    <a:lnTo>
                      <a:pt x="750" y="536"/>
                    </a:lnTo>
                    <a:lnTo>
                      <a:pt x="736" y="531"/>
                    </a:lnTo>
                    <a:lnTo>
                      <a:pt x="724" y="527"/>
                    </a:lnTo>
                    <a:lnTo>
                      <a:pt x="711" y="521"/>
                    </a:lnTo>
                    <a:lnTo>
                      <a:pt x="699" y="514"/>
                    </a:lnTo>
                    <a:lnTo>
                      <a:pt x="687" y="507"/>
                    </a:lnTo>
                    <a:lnTo>
                      <a:pt x="673" y="498"/>
                    </a:lnTo>
                    <a:lnTo>
                      <a:pt x="661" y="487"/>
                    </a:lnTo>
                    <a:lnTo>
                      <a:pt x="648" y="475"/>
                    </a:lnTo>
                    <a:lnTo>
                      <a:pt x="636" y="463"/>
                    </a:lnTo>
                    <a:lnTo>
                      <a:pt x="624" y="449"/>
                    </a:lnTo>
                    <a:lnTo>
                      <a:pt x="610" y="433"/>
                    </a:lnTo>
                    <a:lnTo>
                      <a:pt x="598" y="415"/>
                    </a:lnTo>
                    <a:lnTo>
                      <a:pt x="584" y="397"/>
                    </a:lnTo>
                    <a:lnTo>
                      <a:pt x="572" y="377"/>
                    </a:lnTo>
                    <a:lnTo>
                      <a:pt x="558" y="355"/>
                    </a:lnTo>
                    <a:lnTo>
                      <a:pt x="545" y="331"/>
                    </a:lnTo>
                    <a:lnTo>
                      <a:pt x="533" y="305"/>
                    </a:lnTo>
                    <a:lnTo>
                      <a:pt x="519" y="277"/>
                    </a:lnTo>
                    <a:lnTo>
                      <a:pt x="506" y="247"/>
                    </a:lnTo>
                    <a:lnTo>
                      <a:pt x="491" y="217"/>
                    </a:lnTo>
                    <a:lnTo>
                      <a:pt x="475" y="190"/>
                    </a:lnTo>
                    <a:lnTo>
                      <a:pt x="458" y="166"/>
                    </a:lnTo>
                    <a:lnTo>
                      <a:pt x="440" y="143"/>
                    </a:lnTo>
                    <a:lnTo>
                      <a:pt x="422" y="123"/>
                    </a:lnTo>
                    <a:lnTo>
                      <a:pt x="403" y="104"/>
                    </a:lnTo>
                    <a:lnTo>
                      <a:pt x="383" y="88"/>
                    </a:lnTo>
                    <a:lnTo>
                      <a:pt x="363" y="72"/>
                    </a:lnTo>
                    <a:lnTo>
                      <a:pt x="343" y="60"/>
                    </a:lnTo>
                    <a:lnTo>
                      <a:pt x="321" y="47"/>
                    </a:lnTo>
                    <a:lnTo>
                      <a:pt x="301" y="37"/>
                    </a:lnTo>
                    <a:lnTo>
                      <a:pt x="280" y="29"/>
                    </a:lnTo>
                    <a:lnTo>
                      <a:pt x="258" y="22"/>
                    </a:lnTo>
                    <a:lnTo>
                      <a:pt x="237" y="16"/>
                    </a:lnTo>
                    <a:lnTo>
                      <a:pt x="217" y="10"/>
                    </a:lnTo>
                    <a:lnTo>
                      <a:pt x="197" y="7"/>
                    </a:lnTo>
                    <a:lnTo>
                      <a:pt x="176" y="4"/>
                    </a:lnTo>
                    <a:lnTo>
                      <a:pt x="157" y="1"/>
                    </a:lnTo>
                    <a:lnTo>
                      <a:pt x="138" y="0"/>
                    </a:lnTo>
                    <a:lnTo>
                      <a:pt x="120" y="0"/>
                    </a:lnTo>
                    <a:lnTo>
                      <a:pt x="87" y="0"/>
                    </a:lnTo>
                    <a:lnTo>
                      <a:pt x="58" y="2"/>
                    </a:lnTo>
                    <a:lnTo>
                      <a:pt x="16" y="8"/>
                    </a:lnTo>
                    <a:lnTo>
                      <a:pt x="0" y="11"/>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4" name=""/>
              <p:cNvSpPr/>
              <p:nvPr/>
            </p:nvSpPr>
            <p:spPr>
              <a:xfrm>
                <a:off x="1072800" y="2085480"/>
                <a:ext cx="41400" cy="113760"/>
              </a:xfrm>
              <a:custGeom>
                <a:avLst/>
                <a:gdLst/>
                <a:ahLst/>
                <a:rect l="l" t="t" r="r" b="b"/>
                <a:pathLst>
                  <a:path w="215" h="625">
                    <a:moveTo>
                      <a:pt x="215" y="0"/>
                    </a:moveTo>
                    <a:lnTo>
                      <a:pt x="199" y="18"/>
                    </a:lnTo>
                    <a:lnTo>
                      <a:pt x="162" y="68"/>
                    </a:lnTo>
                    <a:lnTo>
                      <a:pt x="138" y="103"/>
                    </a:lnTo>
                    <a:lnTo>
                      <a:pt x="113" y="143"/>
                    </a:lnTo>
                    <a:lnTo>
                      <a:pt x="87" y="188"/>
                    </a:lnTo>
                    <a:lnTo>
                      <a:pt x="62" y="235"/>
                    </a:lnTo>
                    <a:lnTo>
                      <a:pt x="51" y="260"/>
                    </a:lnTo>
                    <a:lnTo>
                      <a:pt x="41" y="286"/>
                    </a:lnTo>
                    <a:lnTo>
                      <a:pt x="31" y="310"/>
                    </a:lnTo>
                    <a:lnTo>
                      <a:pt x="22" y="336"/>
                    </a:lnTo>
                    <a:lnTo>
                      <a:pt x="15" y="363"/>
                    </a:lnTo>
                    <a:lnTo>
                      <a:pt x="8" y="389"/>
                    </a:lnTo>
                    <a:lnTo>
                      <a:pt x="4" y="415"/>
                    </a:lnTo>
                    <a:lnTo>
                      <a:pt x="1" y="441"/>
                    </a:lnTo>
                    <a:lnTo>
                      <a:pt x="0" y="466"/>
                    </a:lnTo>
                    <a:lnTo>
                      <a:pt x="2" y="491"/>
                    </a:lnTo>
                    <a:lnTo>
                      <a:pt x="6" y="515"/>
                    </a:lnTo>
                    <a:lnTo>
                      <a:pt x="13" y="539"/>
                    </a:lnTo>
                    <a:lnTo>
                      <a:pt x="20" y="562"/>
                    </a:lnTo>
                    <a:lnTo>
                      <a:pt x="33" y="584"/>
                    </a:lnTo>
                    <a:lnTo>
                      <a:pt x="47" y="605"/>
                    </a:lnTo>
                    <a:lnTo>
                      <a:pt x="64" y="625"/>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5" name=""/>
              <p:cNvSpPr/>
              <p:nvPr/>
            </p:nvSpPr>
            <p:spPr>
              <a:xfrm>
                <a:off x="1421280" y="2068560"/>
                <a:ext cx="30240" cy="125640"/>
              </a:xfrm>
              <a:custGeom>
                <a:avLst/>
                <a:gdLst/>
                <a:ahLst/>
                <a:rect l="l" t="t" r="r" b="b"/>
                <a:pathLst>
                  <a:path w="153" h="682">
                    <a:moveTo>
                      <a:pt x="0" y="0"/>
                    </a:moveTo>
                    <a:lnTo>
                      <a:pt x="12" y="17"/>
                    </a:lnTo>
                    <a:lnTo>
                      <a:pt x="43" y="61"/>
                    </a:lnTo>
                    <a:lnTo>
                      <a:pt x="62" y="93"/>
                    </a:lnTo>
                    <a:lnTo>
                      <a:pt x="82" y="131"/>
                    </a:lnTo>
                    <a:lnTo>
                      <a:pt x="92" y="151"/>
                    </a:lnTo>
                    <a:lnTo>
                      <a:pt x="102" y="172"/>
                    </a:lnTo>
                    <a:lnTo>
                      <a:pt x="111" y="195"/>
                    </a:lnTo>
                    <a:lnTo>
                      <a:pt x="120" y="219"/>
                    </a:lnTo>
                    <a:lnTo>
                      <a:pt x="128" y="244"/>
                    </a:lnTo>
                    <a:lnTo>
                      <a:pt x="135" y="269"/>
                    </a:lnTo>
                    <a:lnTo>
                      <a:pt x="142" y="296"/>
                    </a:lnTo>
                    <a:lnTo>
                      <a:pt x="146" y="323"/>
                    </a:lnTo>
                    <a:lnTo>
                      <a:pt x="151" y="351"/>
                    </a:lnTo>
                    <a:lnTo>
                      <a:pt x="153" y="379"/>
                    </a:lnTo>
                    <a:lnTo>
                      <a:pt x="153" y="409"/>
                    </a:lnTo>
                    <a:lnTo>
                      <a:pt x="152" y="438"/>
                    </a:lnTo>
                    <a:lnTo>
                      <a:pt x="149" y="468"/>
                    </a:lnTo>
                    <a:lnTo>
                      <a:pt x="144" y="499"/>
                    </a:lnTo>
                    <a:lnTo>
                      <a:pt x="136" y="529"/>
                    </a:lnTo>
                    <a:lnTo>
                      <a:pt x="126" y="559"/>
                    </a:lnTo>
                    <a:lnTo>
                      <a:pt x="114" y="590"/>
                    </a:lnTo>
                    <a:lnTo>
                      <a:pt x="99" y="621"/>
                    </a:lnTo>
                    <a:lnTo>
                      <a:pt x="81" y="652"/>
                    </a:lnTo>
                    <a:lnTo>
                      <a:pt x="61" y="682"/>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6" name=""/>
              <p:cNvSpPr/>
              <p:nvPr/>
            </p:nvSpPr>
            <p:spPr>
              <a:xfrm>
                <a:off x="776880" y="1615680"/>
                <a:ext cx="183240" cy="302040"/>
              </a:xfrm>
              <a:custGeom>
                <a:avLst/>
                <a:gdLst/>
                <a:ahLst/>
                <a:rect l="l" t="t" r="r" b="b"/>
                <a:pathLst>
                  <a:path w="914" h="1644">
                    <a:moveTo>
                      <a:pt x="914" y="944"/>
                    </a:moveTo>
                    <a:lnTo>
                      <a:pt x="892" y="930"/>
                    </a:lnTo>
                    <a:lnTo>
                      <a:pt x="838" y="890"/>
                    </a:lnTo>
                    <a:lnTo>
                      <a:pt x="801" y="860"/>
                    </a:lnTo>
                    <a:lnTo>
                      <a:pt x="762" y="826"/>
                    </a:lnTo>
                    <a:lnTo>
                      <a:pt x="741" y="806"/>
                    </a:lnTo>
                    <a:lnTo>
                      <a:pt x="719" y="785"/>
                    </a:lnTo>
                    <a:lnTo>
                      <a:pt x="698" y="764"/>
                    </a:lnTo>
                    <a:lnTo>
                      <a:pt x="677" y="741"/>
                    </a:lnTo>
                    <a:lnTo>
                      <a:pt x="655" y="716"/>
                    </a:lnTo>
                    <a:lnTo>
                      <a:pt x="635" y="692"/>
                    </a:lnTo>
                    <a:lnTo>
                      <a:pt x="615" y="665"/>
                    </a:lnTo>
                    <a:lnTo>
                      <a:pt x="594" y="638"/>
                    </a:lnTo>
                    <a:lnTo>
                      <a:pt x="577" y="610"/>
                    </a:lnTo>
                    <a:lnTo>
                      <a:pt x="560" y="580"/>
                    </a:lnTo>
                    <a:lnTo>
                      <a:pt x="543" y="550"/>
                    </a:lnTo>
                    <a:lnTo>
                      <a:pt x="529" y="518"/>
                    </a:lnTo>
                    <a:lnTo>
                      <a:pt x="516" y="487"/>
                    </a:lnTo>
                    <a:lnTo>
                      <a:pt x="506" y="454"/>
                    </a:lnTo>
                    <a:lnTo>
                      <a:pt x="498" y="422"/>
                    </a:lnTo>
                    <a:lnTo>
                      <a:pt x="491" y="387"/>
                    </a:lnTo>
                    <a:lnTo>
                      <a:pt x="488" y="353"/>
                    </a:lnTo>
                    <a:lnTo>
                      <a:pt x="487" y="317"/>
                    </a:lnTo>
                    <a:lnTo>
                      <a:pt x="489" y="281"/>
                    </a:lnTo>
                    <a:lnTo>
                      <a:pt x="494" y="245"/>
                    </a:lnTo>
                    <a:lnTo>
                      <a:pt x="500" y="210"/>
                    </a:lnTo>
                    <a:lnTo>
                      <a:pt x="506" y="179"/>
                    </a:lnTo>
                    <a:lnTo>
                      <a:pt x="508" y="150"/>
                    </a:lnTo>
                    <a:lnTo>
                      <a:pt x="510" y="125"/>
                    </a:lnTo>
                    <a:lnTo>
                      <a:pt x="510" y="102"/>
                    </a:lnTo>
                    <a:lnTo>
                      <a:pt x="510" y="82"/>
                    </a:lnTo>
                    <a:lnTo>
                      <a:pt x="508" y="64"/>
                    </a:lnTo>
                    <a:lnTo>
                      <a:pt x="505" y="49"/>
                    </a:lnTo>
                    <a:lnTo>
                      <a:pt x="500" y="36"/>
                    </a:lnTo>
                    <a:lnTo>
                      <a:pt x="494" y="26"/>
                    </a:lnTo>
                    <a:lnTo>
                      <a:pt x="488" y="17"/>
                    </a:lnTo>
                    <a:lnTo>
                      <a:pt x="481" y="10"/>
                    </a:lnTo>
                    <a:lnTo>
                      <a:pt x="472" y="5"/>
                    </a:lnTo>
                    <a:lnTo>
                      <a:pt x="463" y="2"/>
                    </a:lnTo>
                    <a:lnTo>
                      <a:pt x="454" y="1"/>
                    </a:lnTo>
                    <a:lnTo>
                      <a:pt x="444" y="0"/>
                    </a:lnTo>
                    <a:lnTo>
                      <a:pt x="433" y="2"/>
                    </a:lnTo>
                    <a:lnTo>
                      <a:pt x="421" y="4"/>
                    </a:lnTo>
                    <a:lnTo>
                      <a:pt x="410" y="9"/>
                    </a:lnTo>
                    <a:lnTo>
                      <a:pt x="399" y="13"/>
                    </a:lnTo>
                    <a:lnTo>
                      <a:pt x="374" y="26"/>
                    </a:lnTo>
                    <a:lnTo>
                      <a:pt x="349" y="41"/>
                    </a:lnTo>
                    <a:lnTo>
                      <a:pt x="325" y="58"/>
                    </a:lnTo>
                    <a:lnTo>
                      <a:pt x="301" y="76"/>
                    </a:lnTo>
                    <a:lnTo>
                      <a:pt x="279" y="94"/>
                    </a:lnTo>
                    <a:lnTo>
                      <a:pt x="258" y="112"/>
                    </a:lnTo>
                    <a:lnTo>
                      <a:pt x="247" y="122"/>
                    </a:lnTo>
                    <a:lnTo>
                      <a:pt x="235" y="137"/>
                    </a:lnTo>
                    <a:lnTo>
                      <a:pt x="220" y="156"/>
                    </a:lnTo>
                    <a:lnTo>
                      <a:pt x="203" y="179"/>
                    </a:lnTo>
                    <a:lnTo>
                      <a:pt x="186" y="204"/>
                    </a:lnTo>
                    <a:lnTo>
                      <a:pt x="168" y="234"/>
                    </a:lnTo>
                    <a:lnTo>
                      <a:pt x="150" y="266"/>
                    </a:lnTo>
                    <a:lnTo>
                      <a:pt x="131" y="302"/>
                    </a:lnTo>
                    <a:lnTo>
                      <a:pt x="113" y="341"/>
                    </a:lnTo>
                    <a:lnTo>
                      <a:pt x="94" y="382"/>
                    </a:lnTo>
                    <a:lnTo>
                      <a:pt x="77" y="426"/>
                    </a:lnTo>
                    <a:lnTo>
                      <a:pt x="61" y="472"/>
                    </a:lnTo>
                    <a:lnTo>
                      <a:pt x="46" y="521"/>
                    </a:lnTo>
                    <a:lnTo>
                      <a:pt x="32" y="570"/>
                    </a:lnTo>
                    <a:lnTo>
                      <a:pt x="21" y="622"/>
                    </a:lnTo>
                    <a:lnTo>
                      <a:pt x="12" y="676"/>
                    </a:lnTo>
                    <a:lnTo>
                      <a:pt x="5" y="731"/>
                    </a:lnTo>
                    <a:lnTo>
                      <a:pt x="1" y="787"/>
                    </a:lnTo>
                    <a:lnTo>
                      <a:pt x="0" y="845"/>
                    </a:lnTo>
                    <a:lnTo>
                      <a:pt x="2" y="902"/>
                    </a:lnTo>
                    <a:lnTo>
                      <a:pt x="9" y="961"/>
                    </a:lnTo>
                    <a:lnTo>
                      <a:pt x="19" y="1020"/>
                    </a:lnTo>
                    <a:lnTo>
                      <a:pt x="34" y="1080"/>
                    </a:lnTo>
                    <a:lnTo>
                      <a:pt x="52" y="1140"/>
                    </a:lnTo>
                    <a:lnTo>
                      <a:pt x="76" y="1199"/>
                    </a:lnTo>
                    <a:lnTo>
                      <a:pt x="104" y="1259"/>
                    </a:lnTo>
                    <a:lnTo>
                      <a:pt x="139" y="1317"/>
                    </a:lnTo>
                    <a:lnTo>
                      <a:pt x="180" y="1376"/>
                    </a:lnTo>
                    <a:lnTo>
                      <a:pt x="226" y="1433"/>
                    </a:lnTo>
                    <a:lnTo>
                      <a:pt x="279" y="1489"/>
                    </a:lnTo>
                    <a:lnTo>
                      <a:pt x="338" y="1546"/>
                    </a:lnTo>
                    <a:lnTo>
                      <a:pt x="405" y="1600"/>
                    </a:lnTo>
                    <a:lnTo>
                      <a:pt x="433" y="1619"/>
                    </a:lnTo>
                    <a:lnTo>
                      <a:pt x="462" y="1632"/>
                    </a:lnTo>
                    <a:lnTo>
                      <a:pt x="489" y="1640"/>
                    </a:lnTo>
                    <a:lnTo>
                      <a:pt x="516" y="1644"/>
                    </a:lnTo>
                    <a:lnTo>
                      <a:pt x="542" y="1641"/>
                    </a:lnTo>
                    <a:lnTo>
                      <a:pt x="568" y="1635"/>
                    </a:lnTo>
                    <a:lnTo>
                      <a:pt x="592" y="1624"/>
                    </a:lnTo>
                    <a:lnTo>
                      <a:pt x="616" y="1609"/>
                    </a:lnTo>
                    <a:lnTo>
                      <a:pt x="638" y="1591"/>
                    </a:lnTo>
                    <a:lnTo>
                      <a:pt x="661" y="1569"/>
                    </a:lnTo>
                    <a:lnTo>
                      <a:pt x="682" y="1545"/>
                    </a:lnTo>
                    <a:lnTo>
                      <a:pt x="702" y="1518"/>
                    </a:lnTo>
                    <a:lnTo>
                      <a:pt x="723" y="1488"/>
                    </a:lnTo>
                    <a:lnTo>
                      <a:pt x="742" y="1458"/>
                    </a:lnTo>
                    <a:lnTo>
                      <a:pt x="759" y="1424"/>
                    </a:lnTo>
                    <a:lnTo>
                      <a:pt x="777" y="1390"/>
                    </a:lnTo>
                    <a:lnTo>
                      <a:pt x="792" y="1356"/>
                    </a:lnTo>
                    <a:lnTo>
                      <a:pt x="807" y="1320"/>
                    </a:lnTo>
                    <a:lnTo>
                      <a:pt x="822" y="1285"/>
                    </a:lnTo>
                    <a:lnTo>
                      <a:pt x="835" y="1249"/>
                    </a:lnTo>
                    <a:lnTo>
                      <a:pt x="847" y="1213"/>
                    </a:lnTo>
                    <a:lnTo>
                      <a:pt x="859" y="1179"/>
                    </a:lnTo>
                    <a:lnTo>
                      <a:pt x="869" y="1145"/>
                    </a:lnTo>
                    <a:lnTo>
                      <a:pt x="878" y="1113"/>
                    </a:lnTo>
                    <a:lnTo>
                      <a:pt x="894" y="1054"/>
                    </a:lnTo>
                    <a:lnTo>
                      <a:pt x="905" y="1004"/>
                    </a:lnTo>
                    <a:lnTo>
                      <a:pt x="911" y="966"/>
                    </a:lnTo>
                    <a:lnTo>
                      <a:pt x="914" y="944"/>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7" name=""/>
              <p:cNvSpPr/>
              <p:nvPr/>
            </p:nvSpPr>
            <p:spPr>
              <a:xfrm>
                <a:off x="776880" y="1615680"/>
                <a:ext cx="183240" cy="302040"/>
              </a:xfrm>
              <a:custGeom>
                <a:avLst/>
                <a:gdLst/>
                <a:ahLst/>
                <a:rect l="l" t="t" r="r" b="b"/>
                <a:pathLst>
                  <a:path w="914" h="1644">
                    <a:moveTo>
                      <a:pt x="914" y="944"/>
                    </a:moveTo>
                    <a:lnTo>
                      <a:pt x="892" y="930"/>
                    </a:lnTo>
                    <a:lnTo>
                      <a:pt x="838" y="890"/>
                    </a:lnTo>
                    <a:lnTo>
                      <a:pt x="801" y="860"/>
                    </a:lnTo>
                    <a:lnTo>
                      <a:pt x="762" y="826"/>
                    </a:lnTo>
                    <a:lnTo>
                      <a:pt x="741" y="806"/>
                    </a:lnTo>
                    <a:lnTo>
                      <a:pt x="719" y="785"/>
                    </a:lnTo>
                    <a:lnTo>
                      <a:pt x="698" y="764"/>
                    </a:lnTo>
                    <a:lnTo>
                      <a:pt x="677" y="741"/>
                    </a:lnTo>
                    <a:lnTo>
                      <a:pt x="655" y="716"/>
                    </a:lnTo>
                    <a:lnTo>
                      <a:pt x="635" y="692"/>
                    </a:lnTo>
                    <a:lnTo>
                      <a:pt x="615" y="665"/>
                    </a:lnTo>
                    <a:lnTo>
                      <a:pt x="594" y="638"/>
                    </a:lnTo>
                    <a:lnTo>
                      <a:pt x="577" y="610"/>
                    </a:lnTo>
                    <a:lnTo>
                      <a:pt x="560" y="580"/>
                    </a:lnTo>
                    <a:lnTo>
                      <a:pt x="543" y="550"/>
                    </a:lnTo>
                    <a:lnTo>
                      <a:pt x="529" y="518"/>
                    </a:lnTo>
                    <a:lnTo>
                      <a:pt x="516" y="487"/>
                    </a:lnTo>
                    <a:lnTo>
                      <a:pt x="506" y="454"/>
                    </a:lnTo>
                    <a:lnTo>
                      <a:pt x="498" y="422"/>
                    </a:lnTo>
                    <a:lnTo>
                      <a:pt x="491" y="387"/>
                    </a:lnTo>
                    <a:lnTo>
                      <a:pt x="488" y="353"/>
                    </a:lnTo>
                    <a:lnTo>
                      <a:pt x="487" y="317"/>
                    </a:lnTo>
                    <a:lnTo>
                      <a:pt x="489" y="281"/>
                    </a:lnTo>
                    <a:lnTo>
                      <a:pt x="494" y="245"/>
                    </a:lnTo>
                    <a:lnTo>
                      <a:pt x="500" y="210"/>
                    </a:lnTo>
                    <a:lnTo>
                      <a:pt x="506" y="179"/>
                    </a:lnTo>
                    <a:lnTo>
                      <a:pt x="508" y="150"/>
                    </a:lnTo>
                    <a:lnTo>
                      <a:pt x="510" y="125"/>
                    </a:lnTo>
                    <a:lnTo>
                      <a:pt x="510" y="102"/>
                    </a:lnTo>
                    <a:lnTo>
                      <a:pt x="510" y="82"/>
                    </a:lnTo>
                    <a:lnTo>
                      <a:pt x="508" y="64"/>
                    </a:lnTo>
                    <a:lnTo>
                      <a:pt x="505" y="49"/>
                    </a:lnTo>
                    <a:lnTo>
                      <a:pt x="500" y="36"/>
                    </a:lnTo>
                    <a:lnTo>
                      <a:pt x="494" y="26"/>
                    </a:lnTo>
                    <a:lnTo>
                      <a:pt x="488" y="17"/>
                    </a:lnTo>
                    <a:lnTo>
                      <a:pt x="481" y="10"/>
                    </a:lnTo>
                    <a:lnTo>
                      <a:pt x="472" y="5"/>
                    </a:lnTo>
                    <a:lnTo>
                      <a:pt x="463" y="2"/>
                    </a:lnTo>
                    <a:lnTo>
                      <a:pt x="454" y="1"/>
                    </a:lnTo>
                    <a:lnTo>
                      <a:pt x="444" y="0"/>
                    </a:lnTo>
                    <a:lnTo>
                      <a:pt x="433" y="2"/>
                    </a:lnTo>
                    <a:lnTo>
                      <a:pt x="421" y="4"/>
                    </a:lnTo>
                    <a:lnTo>
                      <a:pt x="410" y="9"/>
                    </a:lnTo>
                    <a:lnTo>
                      <a:pt x="399" y="13"/>
                    </a:lnTo>
                    <a:lnTo>
                      <a:pt x="374" y="26"/>
                    </a:lnTo>
                    <a:lnTo>
                      <a:pt x="349" y="41"/>
                    </a:lnTo>
                    <a:lnTo>
                      <a:pt x="325" y="58"/>
                    </a:lnTo>
                    <a:lnTo>
                      <a:pt x="301" y="76"/>
                    </a:lnTo>
                    <a:lnTo>
                      <a:pt x="279" y="94"/>
                    </a:lnTo>
                    <a:lnTo>
                      <a:pt x="258" y="112"/>
                    </a:lnTo>
                    <a:lnTo>
                      <a:pt x="247" y="122"/>
                    </a:lnTo>
                    <a:lnTo>
                      <a:pt x="235" y="137"/>
                    </a:lnTo>
                    <a:lnTo>
                      <a:pt x="220" y="156"/>
                    </a:lnTo>
                    <a:lnTo>
                      <a:pt x="203" y="179"/>
                    </a:lnTo>
                    <a:lnTo>
                      <a:pt x="186" y="204"/>
                    </a:lnTo>
                    <a:lnTo>
                      <a:pt x="168" y="234"/>
                    </a:lnTo>
                    <a:lnTo>
                      <a:pt x="150" y="266"/>
                    </a:lnTo>
                    <a:lnTo>
                      <a:pt x="131" y="302"/>
                    </a:lnTo>
                    <a:lnTo>
                      <a:pt x="113" y="341"/>
                    </a:lnTo>
                    <a:lnTo>
                      <a:pt x="94" y="382"/>
                    </a:lnTo>
                    <a:lnTo>
                      <a:pt x="77" y="426"/>
                    </a:lnTo>
                    <a:lnTo>
                      <a:pt x="61" y="472"/>
                    </a:lnTo>
                    <a:lnTo>
                      <a:pt x="46" y="521"/>
                    </a:lnTo>
                    <a:lnTo>
                      <a:pt x="32" y="570"/>
                    </a:lnTo>
                    <a:lnTo>
                      <a:pt x="21" y="622"/>
                    </a:lnTo>
                    <a:lnTo>
                      <a:pt x="12" y="676"/>
                    </a:lnTo>
                    <a:lnTo>
                      <a:pt x="5" y="731"/>
                    </a:lnTo>
                    <a:lnTo>
                      <a:pt x="1" y="787"/>
                    </a:lnTo>
                    <a:lnTo>
                      <a:pt x="0" y="845"/>
                    </a:lnTo>
                    <a:lnTo>
                      <a:pt x="2" y="902"/>
                    </a:lnTo>
                    <a:lnTo>
                      <a:pt x="9" y="961"/>
                    </a:lnTo>
                    <a:lnTo>
                      <a:pt x="19" y="1020"/>
                    </a:lnTo>
                    <a:lnTo>
                      <a:pt x="34" y="1080"/>
                    </a:lnTo>
                    <a:lnTo>
                      <a:pt x="52" y="1140"/>
                    </a:lnTo>
                    <a:lnTo>
                      <a:pt x="76" y="1199"/>
                    </a:lnTo>
                    <a:lnTo>
                      <a:pt x="104" y="1259"/>
                    </a:lnTo>
                    <a:lnTo>
                      <a:pt x="139" y="1317"/>
                    </a:lnTo>
                    <a:lnTo>
                      <a:pt x="180" y="1376"/>
                    </a:lnTo>
                    <a:lnTo>
                      <a:pt x="226" y="1433"/>
                    </a:lnTo>
                    <a:lnTo>
                      <a:pt x="279" y="1489"/>
                    </a:lnTo>
                    <a:lnTo>
                      <a:pt x="338" y="1546"/>
                    </a:lnTo>
                    <a:lnTo>
                      <a:pt x="405" y="1600"/>
                    </a:lnTo>
                    <a:lnTo>
                      <a:pt x="433" y="1619"/>
                    </a:lnTo>
                    <a:lnTo>
                      <a:pt x="462" y="1632"/>
                    </a:lnTo>
                    <a:lnTo>
                      <a:pt x="489" y="1640"/>
                    </a:lnTo>
                    <a:lnTo>
                      <a:pt x="516" y="1644"/>
                    </a:lnTo>
                    <a:lnTo>
                      <a:pt x="542" y="1641"/>
                    </a:lnTo>
                    <a:lnTo>
                      <a:pt x="568" y="1635"/>
                    </a:lnTo>
                    <a:lnTo>
                      <a:pt x="592" y="1624"/>
                    </a:lnTo>
                    <a:lnTo>
                      <a:pt x="616" y="1609"/>
                    </a:lnTo>
                    <a:lnTo>
                      <a:pt x="638" y="1591"/>
                    </a:lnTo>
                    <a:lnTo>
                      <a:pt x="661" y="1569"/>
                    </a:lnTo>
                    <a:lnTo>
                      <a:pt x="682" y="1545"/>
                    </a:lnTo>
                    <a:lnTo>
                      <a:pt x="702" y="1518"/>
                    </a:lnTo>
                    <a:lnTo>
                      <a:pt x="723" y="1488"/>
                    </a:lnTo>
                    <a:lnTo>
                      <a:pt x="742" y="1458"/>
                    </a:lnTo>
                    <a:lnTo>
                      <a:pt x="759" y="1424"/>
                    </a:lnTo>
                    <a:lnTo>
                      <a:pt x="777" y="1390"/>
                    </a:lnTo>
                    <a:lnTo>
                      <a:pt x="792" y="1356"/>
                    </a:lnTo>
                    <a:lnTo>
                      <a:pt x="807" y="1320"/>
                    </a:lnTo>
                    <a:lnTo>
                      <a:pt x="822" y="1285"/>
                    </a:lnTo>
                    <a:lnTo>
                      <a:pt x="835" y="1249"/>
                    </a:lnTo>
                    <a:lnTo>
                      <a:pt x="847" y="1213"/>
                    </a:lnTo>
                    <a:lnTo>
                      <a:pt x="859" y="1179"/>
                    </a:lnTo>
                    <a:lnTo>
                      <a:pt x="869" y="1145"/>
                    </a:lnTo>
                    <a:lnTo>
                      <a:pt x="878" y="1113"/>
                    </a:lnTo>
                    <a:lnTo>
                      <a:pt x="894" y="1054"/>
                    </a:lnTo>
                    <a:lnTo>
                      <a:pt x="905" y="1004"/>
                    </a:lnTo>
                    <a:lnTo>
                      <a:pt x="911" y="966"/>
                    </a:lnTo>
                    <a:lnTo>
                      <a:pt x="914" y="94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8" name=""/>
              <p:cNvSpPr/>
              <p:nvPr/>
            </p:nvSpPr>
            <p:spPr>
              <a:xfrm>
                <a:off x="1576800" y="1615680"/>
                <a:ext cx="183240" cy="302040"/>
              </a:xfrm>
              <a:custGeom>
                <a:avLst/>
                <a:gdLst/>
                <a:ahLst/>
                <a:rect l="l" t="t" r="r" b="b"/>
                <a:pathLst>
                  <a:path w="911" h="1644">
                    <a:moveTo>
                      <a:pt x="0" y="944"/>
                    </a:moveTo>
                    <a:lnTo>
                      <a:pt x="20" y="930"/>
                    </a:lnTo>
                    <a:lnTo>
                      <a:pt x="74" y="890"/>
                    </a:lnTo>
                    <a:lnTo>
                      <a:pt x="110" y="860"/>
                    </a:lnTo>
                    <a:lnTo>
                      <a:pt x="150" y="826"/>
                    </a:lnTo>
                    <a:lnTo>
                      <a:pt x="171" y="806"/>
                    </a:lnTo>
                    <a:lnTo>
                      <a:pt x="192" y="785"/>
                    </a:lnTo>
                    <a:lnTo>
                      <a:pt x="213" y="764"/>
                    </a:lnTo>
                    <a:lnTo>
                      <a:pt x="235" y="741"/>
                    </a:lnTo>
                    <a:lnTo>
                      <a:pt x="255" y="716"/>
                    </a:lnTo>
                    <a:lnTo>
                      <a:pt x="276" y="692"/>
                    </a:lnTo>
                    <a:lnTo>
                      <a:pt x="297" y="665"/>
                    </a:lnTo>
                    <a:lnTo>
                      <a:pt x="316" y="638"/>
                    </a:lnTo>
                    <a:lnTo>
                      <a:pt x="334" y="610"/>
                    </a:lnTo>
                    <a:lnTo>
                      <a:pt x="350" y="580"/>
                    </a:lnTo>
                    <a:lnTo>
                      <a:pt x="366" y="550"/>
                    </a:lnTo>
                    <a:lnTo>
                      <a:pt x="381" y="518"/>
                    </a:lnTo>
                    <a:lnTo>
                      <a:pt x="393" y="487"/>
                    </a:lnTo>
                    <a:lnTo>
                      <a:pt x="403" y="454"/>
                    </a:lnTo>
                    <a:lnTo>
                      <a:pt x="412" y="422"/>
                    </a:lnTo>
                    <a:lnTo>
                      <a:pt x="418" y="387"/>
                    </a:lnTo>
                    <a:lnTo>
                      <a:pt x="421" y="353"/>
                    </a:lnTo>
                    <a:lnTo>
                      <a:pt x="422" y="317"/>
                    </a:lnTo>
                    <a:lnTo>
                      <a:pt x="420" y="281"/>
                    </a:lnTo>
                    <a:lnTo>
                      <a:pt x="415" y="245"/>
                    </a:lnTo>
                    <a:lnTo>
                      <a:pt x="409" y="210"/>
                    </a:lnTo>
                    <a:lnTo>
                      <a:pt x="404" y="179"/>
                    </a:lnTo>
                    <a:lnTo>
                      <a:pt x="401" y="150"/>
                    </a:lnTo>
                    <a:lnTo>
                      <a:pt x="400" y="125"/>
                    </a:lnTo>
                    <a:lnTo>
                      <a:pt x="400" y="102"/>
                    </a:lnTo>
                    <a:lnTo>
                      <a:pt x="401" y="82"/>
                    </a:lnTo>
                    <a:lnTo>
                      <a:pt x="403" y="64"/>
                    </a:lnTo>
                    <a:lnTo>
                      <a:pt x="407" y="49"/>
                    </a:lnTo>
                    <a:lnTo>
                      <a:pt x="411" y="36"/>
                    </a:lnTo>
                    <a:lnTo>
                      <a:pt x="417" y="26"/>
                    </a:lnTo>
                    <a:lnTo>
                      <a:pt x="424" y="17"/>
                    </a:lnTo>
                    <a:lnTo>
                      <a:pt x="430" y="10"/>
                    </a:lnTo>
                    <a:lnTo>
                      <a:pt x="438" y="5"/>
                    </a:lnTo>
                    <a:lnTo>
                      <a:pt x="447" y="2"/>
                    </a:lnTo>
                    <a:lnTo>
                      <a:pt x="457" y="1"/>
                    </a:lnTo>
                    <a:lnTo>
                      <a:pt x="467" y="0"/>
                    </a:lnTo>
                    <a:lnTo>
                      <a:pt x="477" y="2"/>
                    </a:lnTo>
                    <a:lnTo>
                      <a:pt x="489" y="4"/>
                    </a:lnTo>
                    <a:lnTo>
                      <a:pt x="500" y="9"/>
                    </a:lnTo>
                    <a:lnTo>
                      <a:pt x="512" y="13"/>
                    </a:lnTo>
                    <a:lnTo>
                      <a:pt x="537" y="26"/>
                    </a:lnTo>
                    <a:lnTo>
                      <a:pt x="562" y="41"/>
                    </a:lnTo>
                    <a:lnTo>
                      <a:pt x="587" y="58"/>
                    </a:lnTo>
                    <a:lnTo>
                      <a:pt x="610" y="76"/>
                    </a:lnTo>
                    <a:lnTo>
                      <a:pt x="634" y="94"/>
                    </a:lnTo>
                    <a:lnTo>
                      <a:pt x="654" y="112"/>
                    </a:lnTo>
                    <a:lnTo>
                      <a:pt x="665" y="122"/>
                    </a:lnTo>
                    <a:lnTo>
                      <a:pt x="678" y="137"/>
                    </a:lnTo>
                    <a:lnTo>
                      <a:pt x="692" y="156"/>
                    </a:lnTo>
                    <a:lnTo>
                      <a:pt x="708" y="179"/>
                    </a:lnTo>
                    <a:lnTo>
                      <a:pt x="725" y="204"/>
                    </a:lnTo>
                    <a:lnTo>
                      <a:pt x="743" y="234"/>
                    </a:lnTo>
                    <a:lnTo>
                      <a:pt x="762" y="266"/>
                    </a:lnTo>
                    <a:lnTo>
                      <a:pt x="780" y="302"/>
                    </a:lnTo>
                    <a:lnTo>
                      <a:pt x="798" y="341"/>
                    </a:lnTo>
                    <a:lnTo>
                      <a:pt x="816" y="382"/>
                    </a:lnTo>
                    <a:lnTo>
                      <a:pt x="834" y="426"/>
                    </a:lnTo>
                    <a:lnTo>
                      <a:pt x="850" y="472"/>
                    </a:lnTo>
                    <a:lnTo>
                      <a:pt x="865" y="521"/>
                    </a:lnTo>
                    <a:lnTo>
                      <a:pt x="879" y="570"/>
                    </a:lnTo>
                    <a:lnTo>
                      <a:pt x="890" y="622"/>
                    </a:lnTo>
                    <a:lnTo>
                      <a:pt x="899" y="676"/>
                    </a:lnTo>
                    <a:lnTo>
                      <a:pt x="906" y="731"/>
                    </a:lnTo>
                    <a:lnTo>
                      <a:pt x="910" y="787"/>
                    </a:lnTo>
                    <a:lnTo>
                      <a:pt x="911" y="845"/>
                    </a:lnTo>
                    <a:lnTo>
                      <a:pt x="908" y="902"/>
                    </a:lnTo>
                    <a:lnTo>
                      <a:pt x="902" y="961"/>
                    </a:lnTo>
                    <a:lnTo>
                      <a:pt x="892" y="1020"/>
                    </a:lnTo>
                    <a:lnTo>
                      <a:pt x="878" y="1080"/>
                    </a:lnTo>
                    <a:lnTo>
                      <a:pt x="859" y="1140"/>
                    </a:lnTo>
                    <a:lnTo>
                      <a:pt x="835" y="1199"/>
                    </a:lnTo>
                    <a:lnTo>
                      <a:pt x="806" y="1259"/>
                    </a:lnTo>
                    <a:lnTo>
                      <a:pt x="771" y="1317"/>
                    </a:lnTo>
                    <a:lnTo>
                      <a:pt x="730" y="1376"/>
                    </a:lnTo>
                    <a:lnTo>
                      <a:pt x="684" y="1433"/>
                    </a:lnTo>
                    <a:lnTo>
                      <a:pt x="631" y="1489"/>
                    </a:lnTo>
                    <a:lnTo>
                      <a:pt x="571" y="1546"/>
                    </a:lnTo>
                    <a:lnTo>
                      <a:pt x="504" y="1600"/>
                    </a:lnTo>
                    <a:lnTo>
                      <a:pt x="475" y="1619"/>
                    </a:lnTo>
                    <a:lnTo>
                      <a:pt x="447" y="1632"/>
                    </a:lnTo>
                    <a:lnTo>
                      <a:pt x="420" y="1640"/>
                    </a:lnTo>
                    <a:lnTo>
                      <a:pt x="393" y="1644"/>
                    </a:lnTo>
                    <a:lnTo>
                      <a:pt x="367" y="1641"/>
                    </a:lnTo>
                    <a:lnTo>
                      <a:pt x="341" y="1635"/>
                    </a:lnTo>
                    <a:lnTo>
                      <a:pt x="318" y="1624"/>
                    </a:lnTo>
                    <a:lnTo>
                      <a:pt x="294" y="1609"/>
                    </a:lnTo>
                    <a:lnTo>
                      <a:pt x="271" y="1591"/>
                    </a:lnTo>
                    <a:lnTo>
                      <a:pt x="249" y="1569"/>
                    </a:lnTo>
                    <a:lnTo>
                      <a:pt x="228" y="1545"/>
                    </a:lnTo>
                    <a:lnTo>
                      <a:pt x="208" y="1518"/>
                    </a:lnTo>
                    <a:lnTo>
                      <a:pt x="187" y="1488"/>
                    </a:lnTo>
                    <a:lnTo>
                      <a:pt x="169" y="1458"/>
                    </a:lnTo>
                    <a:lnTo>
                      <a:pt x="152" y="1424"/>
                    </a:lnTo>
                    <a:lnTo>
                      <a:pt x="135" y="1390"/>
                    </a:lnTo>
                    <a:lnTo>
                      <a:pt x="119" y="1356"/>
                    </a:lnTo>
                    <a:lnTo>
                      <a:pt x="104" y="1320"/>
                    </a:lnTo>
                    <a:lnTo>
                      <a:pt x="90" y="1285"/>
                    </a:lnTo>
                    <a:lnTo>
                      <a:pt x="77" y="1249"/>
                    </a:lnTo>
                    <a:lnTo>
                      <a:pt x="65" y="1213"/>
                    </a:lnTo>
                    <a:lnTo>
                      <a:pt x="54" y="1179"/>
                    </a:lnTo>
                    <a:lnTo>
                      <a:pt x="44" y="1145"/>
                    </a:lnTo>
                    <a:lnTo>
                      <a:pt x="35" y="1113"/>
                    </a:lnTo>
                    <a:lnTo>
                      <a:pt x="19" y="1054"/>
                    </a:lnTo>
                    <a:lnTo>
                      <a:pt x="9" y="1004"/>
                    </a:lnTo>
                    <a:lnTo>
                      <a:pt x="2" y="966"/>
                    </a:lnTo>
                    <a:lnTo>
                      <a:pt x="0" y="944"/>
                    </a:lnTo>
                    <a:close/>
                  </a:path>
                </a:pathLst>
              </a:custGeom>
              <a:solidFill>
                <a:srgbClr val="ff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59" name=""/>
              <p:cNvSpPr/>
              <p:nvPr/>
            </p:nvSpPr>
            <p:spPr>
              <a:xfrm>
                <a:off x="1576800" y="1615680"/>
                <a:ext cx="183240" cy="302040"/>
              </a:xfrm>
              <a:custGeom>
                <a:avLst/>
                <a:gdLst/>
                <a:ahLst/>
                <a:rect l="l" t="t" r="r" b="b"/>
                <a:pathLst>
                  <a:path w="911" h="1644">
                    <a:moveTo>
                      <a:pt x="0" y="944"/>
                    </a:moveTo>
                    <a:lnTo>
                      <a:pt x="20" y="930"/>
                    </a:lnTo>
                    <a:lnTo>
                      <a:pt x="74" y="890"/>
                    </a:lnTo>
                    <a:lnTo>
                      <a:pt x="110" y="860"/>
                    </a:lnTo>
                    <a:lnTo>
                      <a:pt x="150" y="826"/>
                    </a:lnTo>
                    <a:lnTo>
                      <a:pt x="171" y="806"/>
                    </a:lnTo>
                    <a:lnTo>
                      <a:pt x="192" y="785"/>
                    </a:lnTo>
                    <a:lnTo>
                      <a:pt x="213" y="764"/>
                    </a:lnTo>
                    <a:lnTo>
                      <a:pt x="235" y="741"/>
                    </a:lnTo>
                    <a:lnTo>
                      <a:pt x="255" y="716"/>
                    </a:lnTo>
                    <a:lnTo>
                      <a:pt x="276" y="692"/>
                    </a:lnTo>
                    <a:lnTo>
                      <a:pt x="297" y="665"/>
                    </a:lnTo>
                    <a:lnTo>
                      <a:pt x="316" y="638"/>
                    </a:lnTo>
                    <a:lnTo>
                      <a:pt x="334" y="610"/>
                    </a:lnTo>
                    <a:lnTo>
                      <a:pt x="350" y="580"/>
                    </a:lnTo>
                    <a:lnTo>
                      <a:pt x="366" y="550"/>
                    </a:lnTo>
                    <a:lnTo>
                      <a:pt x="381" y="518"/>
                    </a:lnTo>
                    <a:lnTo>
                      <a:pt x="393" y="487"/>
                    </a:lnTo>
                    <a:lnTo>
                      <a:pt x="403" y="454"/>
                    </a:lnTo>
                    <a:lnTo>
                      <a:pt x="412" y="422"/>
                    </a:lnTo>
                    <a:lnTo>
                      <a:pt x="418" y="387"/>
                    </a:lnTo>
                    <a:lnTo>
                      <a:pt x="421" y="353"/>
                    </a:lnTo>
                    <a:lnTo>
                      <a:pt x="422" y="317"/>
                    </a:lnTo>
                    <a:lnTo>
                      <a:pt x="420" y="281"/>
                    </a:lnTo>
                    <a:lnTo>
                      <a:pt x="415" y="245"/>
                    </a:lnTo>
                    <a:lnTo>
                      <a:pt x="409" y="210"/>
                    </a:lnTo>
                    <a:lnTo>
                      <a:pt x="404" y="179"/>
                    </a:lnTo>
                    <a:lnTo>
                      <a:pt x="401" y="150"/>
                    </a:lnTo>
                    <a:lnTo>
                      <a:pt x="400" y="125"/>
                    </a:lnTo>
                    <a:lnTo>
                      <a:pt x="400" y="102"/>
                    </a:lnTo>
                    <a:lnTo>
                      <a:pt x="401" y="82"/>
                    </a:lnTo>
                    <a:lnTo>
                      <a:pt x="403" y="64"/>
                    </a:lnTo>
                    <a:lnTo>
                      <a:pt x="407" y="49"/>
                    </a:lnTo>
                    <a:lnTo>
                      <a:pt x="411" y="36"/>
                    </a:lnTo>
                    <a:lnTo>
                      <a:pt x="417" y="26"/>
                    </a:lnTo>
                    <a:lnTo>
                      <a:pt x="424" y="17"/>
                    </a:lnTo>
                    <a:lnTo>
                      <a:pt x="430" y="10"/>
                    </a:lnTo>
                    <a:lnTo>
                      <a:pt x="438" y="5"/>
                    </a:lnTo>
                    <a:lnTo>
                      <a:pt x="447" y="2"/>
                    </a:lnTo>
                    <a:lnTo>
                      <a:pt x="457" y="1"/>
                    </a:lnTo>
                    <a:lnTo>
                      <a:pt x="467" y="0"/>
                    </a:lnTo>
                    <a:lnTo>
                      <a:pt x="477" y="2"/>
                    </a:lnTo>
                    <a:lnTo>
                      <a:pt x="489" y="4"/>
                    </a:lnTo>
                    <a:lnTo>
                      <a:pt x="500" y="9"/>
                    </a:lnTo>
                    <a:lnTo>
                      <a:pt x="512" y="13"/>
                    </a:lnTo>
                    <a:lnTo>
                      <a:pt x="537" y="26"/>
                    </a:lnTo>
                    <a:lnTo>
                      <a:pt x="562" y="41"/>
                    </a:lnTo>
                    <a:lnTo>
                      <a:pt x="587" y="58"/>
                    </a:lnTo>
                    <a:lnTo>
                      <a:pt x="610" y="76"/>
                    </a:lnTo>
                    <a:lnTo>
                      <a:pt x="634" y="94"/>
                    </a:lnTo>
                    <a:lnTo>
                      <a:pt x="654" y="112"/>
                    </a:lnTo>
                    <a:lnTo>
                      <a:pt x="665" y="122"/>
                    </a:lnTo>
                    <a:lnTo>
                      <a:pt x="678" y="137"/>
                    </a:lnTo>
                    <a:lnTo>
                      <a:pt x="692" y="156"/>
                    </a:lnTo>
                    <a:lnTo>
                      <a:pt x="708" y="179"/>
                    </a:lnTo>
                    <a:lnTo>
                      <a:pt x="725" y="204"/>
                    </a:lnTo>
                    <a:lnTo>
                      <a:pt x="743" y="234"/>
                    </a:lnTo>
                    <a:lnTo>
                      <a:pt x="762" y="266"/>
                    </a:lnTo>
                    <a:lnTo>
                      <a:pt x="780" y="302"/>
                    </a:lnTo>
                    <a:lnTo>
                      <a:pt x="798" y="341"/>
                    </a:lnTo>
                    <a:lnTo>
                      <a:pt x="816" y="382"/>
                    </a:lnTo>
                    <a:lnTo>
                      <a:pt x="834" y="426"/>
                    </a:lnTo>
                    <a:lnTo>
                      <a:pt x="850" y="472"/>
                    </a:lnTo>
                    <a:lnTo>
                      <a:pt x="865" y="521"/>
                    </a:lnTo>
                    <a:lnTo>
                      <a:pt x="879" y="570"/>
                    </a:lnTo>
                    <a:lnTo>
                      <a:pt x="890" y="622"/>
                    </a:lnTo>
                    <a:lnTo>
                      <a:pt x="899" y="676"/>
                    </a:lnTo>
                    <a:lnTo>
                      <a:pt x="906" y="731"/>
                    </a:lnTo>
                    <a:lnTo>
                      <a:pt x="910" y="787"/>
                    </a:lnTo>
                    <a:lnTo>
                      <a:pt x="911" y="845"/>
                    </a:lnTo>
                    <a:lnTo>
                      <a:pt x="908" y="902"/>
                    </a:lnTo>
                    <a:lnTo>
                      <a:pt x="902" y="961"/>
                    </a:lnTo>
                    <a:lnTo>
                      <a:pt x="892" y="1020"/>
                    </a:lnTo>
                    <a:lnTo>
                      <a:pt x="878" y="1080"/>
                    </a:lnTo>
                    <a:lnTo>
                      <a:pt x="859" y="1140"/>
                    </a:lnTo>
                    <a:lnTo>
                      <a:pt x="835" y="1199"/>
                    </a:lnTo>
                    <a:lnTo>
                      <a:pt x="806" y="1259"/>
                    </a:lnTo>
                    <a:lnTo>
                      <a:pt x="771" y="1317"/>
                    </a:lnTo>
                    <a:lnTo>
                      <a:pt x="730" y="1376"/>
                    </a:lnTo>
                    <a:lnTo>
                      <a:pt x="684" y="1433"/>
                    </a:lnTo>
                    <a:lnTo>
                      <a:pt x="631" y="1489"/>
                    </a:lnTo>
                    <a:lnTo>
                      <a:pt x="571" y="1546"/>
                    </a:lnTo>
                    <a:lnTo>
                      <a:pt x="504" y="1600"/>
                    </a:lnTo>
                    <a:lnTo>
                      <a:pt x="475" y="1619"/>
                    </a:lnTo>
                    <a:lnTo>
                      <a:pt x="447" y="1632"/>
                    </a:lnTo>
                    <a:lnTo>
                      <a:pt x="420" y="1640"/>
                    </a:lnTo>
                    <a:lnTo>
                      <a:pt x="393" y="1644"/>
                    </a:lnTo>
                    <a:lnTo>
                      <a:pt x="367" y="1641"/>
                    </a:lnTo>
                    <a:lnTo>
                      <a:pt x="341" y="1635"/>
                    </a:lnTo>
                    <a:lnTo>
                      <a:pt x="318" y="1624"/>
                    </a:lnTo>
                    <a:lnTo>
                      <a:pt x="294" y="1609"/>
                    </a:lnTo>
                    <a:lnTo>
                      <a:pt x="271" y="1591"/>
                    </a:lnTo>
                    <a:lnTo>
                      <a:pt x="249" y="1569"/>
                    </a:lnTo>
                    <a:lnTo>
                      <a:pt x="228" y="1545"/>
                    </a:lnTo>
                    <a:lnTo>
                      <a:pt x="208" y="1518"/>
                    </a:lnTo>
                    <a:lnTo>
                      <a:pt x="187" y="1488"/>
                    </a:lnTo>
                    <a:lnTo>
                      <a:pt x="169" y="1458"/>
                    </a:lnTo>
                    <a:lnTo>
                      <a:pt x="152" y="1424"/>
                    </a:lnTo>
                    <a:lnTo>
                      <a:pt x="135" y="1390"/>
                    </a:lnTo>
                    <a:lnTo>
                      <a:pt x="119" y="1356"/>
                    </a:lnTo>
                    <a:lnTo>
                      <a:pt x="104" y="1320"/>
                    </a:lnTo>
                    <a:lnTo>
                      <a:pt x="90" y="1285"/>
                    </a:lnTo>
                    <a:lnTo>
                      <a:pt x="77" y="1249"/>
                    </a:lnTo>
                    <a:lnTo>
                      <a:pt x="65" y="1213"/>
                    </a:lnTo>
                    <a:lnTo>
                      <a:pt x="54" y="1179"/>
                    </a:lnTo>
                    <a:lnTo>
                      <a:pt x="44" y="1145"/>
                    </a:lnTo>
                    <a:lnTo>
                      <a:pt x="35" y="1113"/>
                    </a:lnTo>
                    <a:lnTo>
                      <a:pt x="19" y="1054"/>
                    </a:lnTo>
                    <a:lnTo>
                      <a:pt x="9" y="1004"/>
                    </a:lnTo>
                    <a:lnTo>
                      <a:pt x="2" y="966"/>
                    </a:lnTo>
                    <a:lnTo>
                      <a:pt x="0" y="944"/>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0" name=""/>
              <p:cNvSpPr/>
              <p:nvPr/>
            </p:nvSpPr>
            <p:spPr>
              <a:xfrm>
                <a:off x="840600" y="1667520"/>
                <a:ext cx="880560" cy="478440"/>
              </a:xfrm>
              <a:custGeom>
                <a:avLst/>
                <a:gdLst/>
                <a:ahLst/>
                <a:rect l="l" t="t" r="r" b="b"/>
                <a:pathLst>
                  <a:path w="4374" h="2601">
                    <a:moveTo>
                      <a:pt x="4115" y="1469"/>
                    </a:moveTo>
                    <a:lnTo>
                      <a:pt x="4115" y="1482"/>
                    </a:lnTo>
                    <a:lnTo>
                      <a:pt x="4113" y="1513"/>
                    </a:lnTo>
                    <a:lnTo>
                      <a:pt x="4112" y="1561"/>
                    </a:lnTo>
                    <a:lnTo>
                      <a:pt x="4110" y="1618"/>
                    </a:lnTo>
                    <a:lnTo>
                      <a:pt x="4106" y="1681"/>
                    </a:lnTo>
                    <a:lnTo>
                      <a:pt x="4105" y="1744"/>
                    </a:lnTo>
                    <a:lnTo>
                      <a:pt x="4103" y="1805"/>
                    </a:lnTo>
                    <a:lnTo>
                      <a:pt x="4103" y="1855"/>
                    </a:lnTo>
                    <a:lnTo>
                      <a:pt x="4102" y="1865"/>
                    </a:lnTo>
                    <a:lnTo>
                      <a:pt x="4101" y="1873"/>
                    </a:lnTo>
                    <a:lnTo>
                      <a:pt x="4098" y="1879"/>
                    </a:lnTo>
                    <a:lnTo>
                      <a:pt x="4096" y="1882"/>
                    </a:lnTo>
                    <a:lnTo>
                      <a:pt x="4093" y="1885"/>
                    </a:lnTo>
                    <a:lnTo>
                      <a:pt x="4088" y="1885"/>
                    </a:lnTo>
                    <a:lnTo>
                      <a:pt x="4084" y="1882"/>
                    </a:lnTo>
                    <a:lnTo>
                      <a:pt x="4078" y="1880"/>
                    </a:lnTo>
                    <a:lnTo>
                      <a:pt x="4066" y="1870"/>
                    </a:lnTo>
                    <a:lnTo>
                      <a:pt x="4052" y="1858"/>
                    </a:lnTo>
                    <a:lnTo>
                      <a:pt x="4037" y="1841"/>
                    </a:lnTo>
                    <a:lnTo>
                      <a:pt x="4021" y="1823"/>
                    </a:lnTo>
                    <a:lnTo>
                      <a:pt x="4003" y="1805"/>
                    </a:lnTo>
                    <a:lnTo>
                      <a:pt x="3986" y="1788"/>
                    </a:lnTo>
                    <a:lnTo>
                      <a:pt x="3968" y="1772"/>
                    </a:lnTo>
                    <a:lnTo>
                      <a:pt x="3951" y="1760"/>
                    </a:lnTo>
                    <a:lnTo>
                      <a:pt x="3942" y="1755"/>
                    </a:lnTo>
                    <a:lnTo>
                      <a:pt x="3934" y="1752"/>
                    </a:lnTo>
                    <a:lnTo>
                      <a:pt x="3926" y="1750"/>
                    </a:lnTo>
                    <a:lnTo>
                      <a:pt x="3920" y="1750"/>
                    </a:lnTo>
                    <a:lnTo>
                      <a:pt x="3912" y="1751"/>
                    </a:lnTo>
                    <a:lnTo>
                      <a:pt x="3905" y="1754"/>
                    </a:lnTo>
                    <a:lnTo>
                      <a:pt x="3898" y="1759"/>
                    </a:lnTo>
                    <a:lnTo>
                      <a:pt x="3893" y="1765"/>
                    </a:lnTo>
                    <a:lnTo>
                      <a:pt x="3888" y="1774"/>
                    </a:lnTo>
                    <a:lnTo>
                      <a:pt x="3884" y="1783"/>
                    </a:lnTo>
                    <a:lnTo>
                      <a:pt x="3879" y="1793"/>
                    </a:lnTo>
                    <a:lnTo>
                      <a:pt x="3877" y="1804"/>
                    </a:lnTo>
                    <a:lnTo>
                      <a:pt x="3875" y="1815"/>
                    </a:lnTo>
                    <a:lnTo>
                      <a:pt x="3874" y="1826"/>
                    </a:lnTo>
                    <a:lnTo>
                      <a:pt x="3872" y="1838"/>
                    </a:lnTo>
                    <a:lnTo>
                      <a:pt x="3872" y="1850"/>
                    </a:lnTo>
                    <a:lnTo>
                      <a:pt x="3874" y="1874"/>
                    </a:lnTo>
                    <a:lnTo>
                      <a:pt x="3876" y="1900"/>
                    </a:lnTo>
                    <a:lnTo>
                      <a:pt x="3880" y="1925"/>
                    </a:lnTo>
                    <a:lnTo>
                      <a:pt x="3886" y="1949"/>
                    </a:lnTo>
                    <a:lnTo>
                      <a:pt x="3897" y="1994"/>
                    </a:lnTo>
                    <a:lnTo>
                      <a:pt x="3910" y="2031"/>
                    </a:lnTo>
                    <a:lnTo>
                      <a:pt x="3920" y="2057"/>
                    </a:lnTo>
                    <a:lnTo>
                      <a:pt x="3923" y="2066"/>
                    </a:lnTo>
                    <a:lnTo>
                      <a:pt x="3863" y="2481"/>
                    </a:lnTo>
                    <a:lnTo>
                      <a:pt x="3854" y="2453"/>
                    </a:lnTo>
                    <a:lnTo>
                      <a:pt x="3832" y="2380"/>
                    </a:lnTo>
                    <a:lnTo>
                      <a:pt x="3816" y="2331"/>
                    </a:lnTo>
                    <a:lnTo>
                      <a:pt x="3796" y="2277"/>
                    </a:lnTo>
                    <a:lnTo>
                      <a:pt x="3774" y="2220"/>
                    </a:lnTo>
                    <a:lnTo>
                      <a:pt x="3749" y="2160"/>
                    </a:lnTo>
                    <a:lnTo>
                      <a:pt x="3735" y="2132"/>
                    </a:lnTo>
                    <a:lnTo>
                      <a:pt x="3722" y="2103"/>
                    </a:lnTo>
                    <a:lnTo>
                      <a:pt x="3707" y="2075"/>
                    </a:lnTo>
                    <a:lnTo>
                      <a:pt x="3691" y="2048"/>
                    </a:lnTo>
                    <a:lnTo>
                      <a:pt x="3676" y="2022"/>
                    </a:lnTo>
                    <a:lnTo>
                      <a:pt x="3660" y="1997"/>
                    </a:lnTo>
                    <a:lnTo>
                      <a:pt x="3643" y="1975"/>
                    </a:lnTo>
                    <a:lnTo>
                      <a:pt x="3626" y="1953"/>
                    </a:lnTo>
                    <a:lnTo>
                      <a:pt x="3608" y="1934"/>
                    </a:lnTo>
                    <a:lnTo>
                      <a:pt x="3591" y="1918"/>
                    </a:lnTo>
                    <a:lnTo>
                      <a:pt x="3572" y="1905"/>
                    </a:lnTo>
                    <a:lnTo>
                      <a:pt x="3554" y="1894"/>
                    </a:lnTo>
                    <a:lnTo>
                      <a:pt x="3535" y="1887"/>
                    </a:lnTo>
                    <a:lnTo>
                      <a:pt x="3516" y="1882"/>
                    </a:lnTo>
                    <a:lnTo>
                      <a:pt x="3497" y="1882"/>
                    </a:lnTo>
                    <a:lnTo>
                      <a:pt x="3478" y="1886"/>
                    </a:lnTo>
                    <a:lnTo>
                      <a:pt x="3459" y="1892"/>
                    </a:lnTo>
                    <a:lnTo>
                      <a:pt x="3441" y="1900"/>
                    </a:lnTo>
                    <a:lnTo>
                      <a:pt x="3423" y="1910"/>
                    </a:lnTo>
                    <a:lnTo>
                      <a:pt x="3406" y="1923"/>
                    </a:lnTo>
                    <a:lnTo>
                      <a:pt x="3389" y="1936"/>
                    </a:lnTo>
                    <a:lnTo>
                      <a:pt x="3373" y="1952"/>
                    </a:lnTo>
                    <a:lnTo>
                      <a:pt x="3359" y="1968"/>
                    </a:lnTo>
                    <a:lnTo>
                      <a:pt x="3344" y="1985"/>
                    </a:lnTo>
                    <a:lnTo>
                      <a:pt x="3331" y="2003"/>
                    </a:lnTo>
                    <a:lnTo>
                      <a:pt x="3318" y="2022"/>
                    </a:lnTo>
                    <a:lnTo>
                      <a:pt x="3306" y="2042"/>
                    </a:lnTo>
                    <a:lnTo>
                      <a:pt x="3294" y="2062"/>
                    </a:lnTo>
                    <a:lnTo>
                      <a:pt x="3272" y="2104"/>
                    </a:lnTo>
                    <a:lnTo>
                      <a:pt x="3253" y="2146"/>
                    </a:lnTo>
                    <a:lnTo>
                      <a:pt x="3236" y="2187"/>
                    </a:lnTo>
                    <a:lnTo>
                      <a:pt x="3222" y="2227"/>
                    </a:lnTo>
                    <a:lnTo>
                      <a:pt x="3209" y="2263"/>
                    </a:lnTo>
                    <a:lnTo>
                      <a:pt x="3199" y="2295"/>
                    </a:lnTo>
                    <a:lnTo>
                      <a:pt x="3187" y="2344"/>
                    </a:lnTo>
                    <a:lnTo>
                      <a:pt x="3182" y="2362"/>
                    </a:lnTo>
                    <a:lnTo>
                      <a:pt x="2943" y="2301"/>
                    </a:lnTo>
                    <a:lnTo>
                      <a:pt x="3211" y="1410"/>
                    </a:lnTo>
                    <a:lnTo>
                      <a:pt x="3209" y="1393"/>
                    </a:lnTo>
                    <a:lnTo>
                      <a:pt x="3199" y="1347"/>
                    </a:lnTo>
                    <a:lnTo>
                      <a:pt x="3191" y="1314"/>
                    </a:lnTo>
                    <a:lnTo>
                      <a:pt x="3182" y="1278"/>
                    </a:lnTo>
                    <a:lnTo>
                      <a:pt x="3170" y="1238"/>
                    </a:lnTo>
                    <a:lnTo>
                      <a:pt x="3155" y="1194"/>
                    </a:lnTo>
                    <a:lnTo>
                      <a:pt x="3140" y="1149"/>
                    </a:lnTo>
                    <a:lnTo>
                      <a:pt x="3119" y="1101"/>
                    </a:lnTo>
                    <a:lnTo>
                      <a:pt x="3109" y="1079"/>
                    </a:lnTo>
                    <a:lnTo>
                      <a:pt x="3098" y="1055"/>
                    </a:lnTo>
                    <a:lnTo>
                      <a:pt x="3086" y="1032"/>
                    </a:lnTo>
                    <a:lnTo>
                      <a:pt x="3073" y="1008"/>
                    </a:lnTo>
                    <a:lnTo>
                      <a:pt x="3060" y="986"/>
                    </a:lnTo>
                    <a:lnTo>
                      <a:pt x="3045" y="963"/>
                    </a:lnTo>
                    <a:lnTo>
                      <a:pt x="3031" y="941"/>
                    </a:lnTo>
                    <a:lnTo>
                      <a:pt x="3014" y="920"/>
                    </a:lnTo>
                    <a:lnTo>
                      <a:pt x="2998" y="899"/>
                    </a:lnTo>
                    <a:lnTo>
                      <a:pt x="2980" y="880"/>
                    </a:lnTo>
                    <a:lnTo>
                      <a:pt x="2962" y="862"/>
                    </a:lnTo>
                    <a:lnTo>
                      <a:pt x="2943" y="844"/>
                    </a:lnTo>
                    <a:lnTo>
                      <a:pt x="2907" y="871"/>
                    </a:lnTo>
                    <a:lnTo>
                      <a:pt x="2808" y="943"/>
                    </a:lnTo>
                    <a:lnTo>
                      <a:pt x="2738" y="991"/>
                    </a:lnTo>
                    <a:lnTo>
                      <a:pt x="2657" y="1045"/>
                    </a:lnTo>
                    <a:lnTo>
                      <a:pt x="2566" y="1104"/>
                    </a:lnTo>
                    <a:lnTo>
                      <a:pt x="2467" y="1164"/>
                    </a:lnTo>
                    <a:lnTo>
                      <a:pt x="2416" y="1195"/>
                    </a:lnTo>
                    <a:lnTo>
                      <a:pt x="2362" y="1225"/>
                    </a:lnTo>
                    <a:lnTo>
                      <a:pt x="2305" y="1257"/>
                    </a:lnTo>
                    <a:lnTo>
                      <a:pt x="2249" y="1286"/>
                    </a:lnTo>
                    <a:lnTo>
                      <a:pt x="2192" y="1315"/>
                    </a:lnTo>
                    <a:lnTo>
                      <a:pt x="2133" y="1344"/>
                    </a:lnTo>
                    <a:lnTo>
                      <a:pt x="2075" y="1371"/>
                    </a:lnTo>
                    <a:lnTo>
                      <a:pt x="2015" y="1397"/>
                    </a:lnTo>
                    <a:lnTo>
                      <a:pt x="1956" y="1421"/>
                    </a:lnTo>
                    <a:lnTo>
                      <a:pt x="1896" y="1444"/>
                    </a:lnTo>
                    <a:lnTo>
                      <a:pt x="1837" y="1465"/>
                    </a:lnTo>
                    <a:lnTo>
                      <a:pt x="1777" y="1483"/>
                    </a:lnTo>
                    <a:lnTo>
                      <a:pt x="1719" y="1499"/>
                    </a:lnTo>
                    <a:lnTo>
                      <a:pt x="1660" y="1512"/>
                    </a:lnTo>
                    <a:lnTo>
                      <a:pt x="1603" y="1522"/>
                    </a:lnTo>
                    <a:lnTo>
                      <a:pt x="1547" y="1530"/>
                    </a:lnTo>
                    <a:lnTo>
                      <a:pt x="1568" y="1520"/>
                    </a:lnTo>
                    <a:lnTo>
                      <a:pt x="1625" y="1494"/>
                    </a:lnTo>
                    <a:lnTo>
                      <a:pt x="1665" y="1475"/>
                    </a:lnTo>
                    <a:lnTo>
                      <a:pt x="1707" y="1454"/>
                    </a:lnTo>
                    <a:lnTo>
                      <a:pt x="1755" y="1430"/>
                    </a:lnTo>
                    <a:lnTo>
                      <a:pt x="1803" y="1403"/>
                    </a:lnTo>
                    <a:lnTo>
                      <a:pt x="1851" y="1374"/>
                    </a:lnTo>
                    <a:lnTo>
                      <a:pt x="1899" y="1343"/>
                    </a:lnTo>
                    <a:lnTo>
                      <a:pt x="1922" y="1328"/>
                    </a:lnTo>
                    <a:lnTo>
                      <a:pt x="1945" y="1311"/>
                    </a:lnTo>
                    <a:lnTo>
                      <a:pt x="1965" y="1295"/>
                    </a:lnTo>
                    <a:lnTo>
                      <a:pt x="1985" y="1278"/>
                    </a:lnTo>
                    <a:lnTo>
                      <a:pt x="2004" y="1261"/>
                    </a:lnTo>
                    <a:lnTo>
                      <a:pt x="2021" y="1244"/>
                    </a:lnTo>
                    <a:lnTo>
                      <a:pt x="2037" y="1227"/>
                    </a:lnTo>
                    <a:lnTo>
                      <a:pt x="2050" y="1211"/>
                    </a:lnTo>
                    <a:lnTo>
                      <a:pt x="2062" y="1194"/>
                    </a:lnTo>
                    <a:lnTo>
                      <a:pt x="2071" y="1177"/>
                    </a:lnTo>
                    <a:lnTo>
                      <a:pt x="2077" y="1160"/>
                    </a:lnTo>
                    <a:lnTo>
                      <a:pt x="2082" y="1144"/>
                    </a:lnTo>
                    <a:lnTo>
                      <a:pt x="2084" y="1128"/>
                    </a:lnTo>
                    <a:lnTo>
                      <a:pt x="2084" y="1116"/>
                    </a:lnTo>
                    <a:lnTo>
                      <a:pt x="2084" y="1107"/>
                    </a:lnTo>
                    <a:lnTo>
                      <a:pt x="2082" y="1101"/>
                    </a:lnTo>
                    <a:lnTo>
                      <a:pt x="2078" y="1097"/>
                    </a:lnTo>
                    <a:lnTo>
                      <a:pt x="2074" y="1096"/>
                    </a:lnTo>
                    <a:lnTo>
                      <a:pt x="2068" y="1097"/>
                    </a:lnTo>
                    <a:lnTo>
                      <a:pt x="2062" y="1100"/>
                    </a:lnTo>
                    <a:lnTo>
                      <a:pt x="2044" y="1113"/>
                    </a:lnTo>
                    <a:lnTo>
                      <a:pt x="2021" y="1132"/>
                    </a:lnTo>
                    <a:lnTo>
                      <a:pt x="1994" y="1155"/>
                    </a:lnTo>
                    <a:lnTo>
                      <a:pt x="1963" y="1182"/>
                    </a:lnTo>
                    <a:lnTo>
                      <a:pt x="1927" y="1213"/>
                    </a:lnTo>
                    <a:lnTo>
                      <a:pt x="1887" y="1244"/>
                    </a:lnTo>
                    <a:lnTo>
                      <a:pt x="1866" y="1260"/>
                    </a:lnTo>
                    <a:lnTo>
                      <a:pt x="1843" y="1276"/>
                    </a:lnTo>
                    <a:lnTo>
                      <a:pt x="1821" y="1290"/>
                    </a:lnTo>
                    <a:lnTo>
                      <a:pt x="1796" y="1305"/>
                    </a:lnTo>
                    <a:lnTo>
                      <a:pt x="1772" y="1319"/>
                    </a:lnTo>
                    <a:lnTo>
                      <a:pt x="1747" y="1331"/>
                    </a:lnTo>
                    <a:lnTo>
                      <a:pt x="1720" y="1343"/>
                    </a:lnTo>
                    <a:lnTo>
                      <a:pt x="1693" y="1353"/>
                    </a:lnTo>
                    <a:lnTo>
                      <a:pt x="1665" y="1362"/>
                    </a:lnTo>
                    <a:lnTo>
                      <a:pt x="1636" y="1370"/>
                    </a:lnTo>
                    <a:lnTo>
                      <a:pt x="1606" y="1376"/>
                    </a:lnTo>
                    <a:lnTo>
                      <a:pt x="1576" y="1379"/>
                    </a:lnTo>
                    <a:lnTo>
                      <a:pt x="1523" y="1385"/>
                    </a:lnTo>
                    <a:lnTo>
                      <a:pt x="1488" y="1387"/>
                    </a:lnTo>
                    <a:lnTo>
                      <a:pt x="1468" y="1389"/>
                    </a:lnTo>
                    <a:lnTo>
                      <a:pt x="1461" y="1388"/>
                    </a:lnTo>
                    <a:lnTo>
                      <a:pt x="1480" y="1378"/>
                    </a:lnTo>
                    <a:lnTo>
                      <a:pt x="1533" y="1358"/>
                    </a:lnTo>
                    <a:lnTo>
                      <a:pt x="1567" y="1342"/>
                    </a:lnTo>
                    <a:lnTo>
                      <a:pt x="1604" y="1323"/>
                    </a:lnTo>
                    <a:lnTo>
                      <a:pt x="1622" y="1312"/>
                    </a:lnTo>
                    <a:lnTo>
                      <a:pt x="1641" y="1299"/>
                    </a:lnTo>
                    <a:lnTo>
                      <a:pt x="1660" y="1286"/>
                    </a:lnTo>
                    <a:lnTo>
                      <a:pt x="1678" y="1271"/>
                    </a:lnTo>
                    <a:lnTo>
                      <a:pt x="1695" y="1257"/>
                    </a:lnTo>
                    <a:lnTo>
                      <a:pt x="1712" y="1240"/>
                    </a:lnTo>
                    <a:lnTo>
                      <a:pt x="1728" y="1222"/>
                    </a:lnTo>
                    <a:lnTo>
                      <a:pt x="1742" y="1203"/>
                    </a:lnTo>
                    <a:lnTo>
                      <a:pt x="1755" y="1182"/>
                    </a:lnTo>
                    <a:lnTo>
                      <a:pt x="1766" y="1161"/>
                    </a:lnTo>
                    <a:lnTo>
                      <a:pt x="1775" y="1139"/>
                    </a:lnTo>
                    <a:lnTo>
                      <a:pt x="1782" y="1114"/>
                    </a:lnTo>
                    <a:lnTo>
                      <a:pt x="1786" y="1090"/>
                    </a:lnTo>
                    <a:lnTo>
                      <a:pt x="1790" y="1069"/>
                    </a:lnTo>
                    <a:lnTo>
                      <a:pt x="1792" y="1051"/>
                    </a:lnTo>
                    <a:lnTo>
                      <a:pt x="1792" y="1035"/>
                    </a:lnTo>
                    <a:lnTo>
                      <a:pt x="1792" y="1023"/>
                    </a:lnTo>
                    <a:lnTo>
                      <a:pt x="1788" y="1011"/>
                    </a:lnTo>
                    <a:lnTo>
                      <a:pt x="1785" y="1004"/>
                    </a:lnTo>
                    <a:lnTo>
                      <a:pt x="1781" y="998"/>
                    </a:lnTo>
                    <a:lnTo>
                      <a:pt x="1774" y="995"/>
                    </a:lnTo>
                    <a:lnTo>
                      <a:pt x="1766" y="992"/>
                    </a:lnTo>
                    <a:lnTo>
                      <a:pt x="1758" y="993"/>
                    </a:lnTo>
                    <a:lnTo>
                      <a:pt x="1748" y="995"/>
                    </a:lnTo>
                    <a:lnTo>
                      <a:pt x="1737" y="999"/>
                    </a:lnTo>
                    <a:lnTo>
                      <a:pt x="1725" y="1005"/>
                    </a:lnTo>
                    <a:lnTo>
                      <a:pt x="1712" y="1011"/>
                    </a:lnTo>
                    <a:lnTo>
                      <a:pt x="1697" y="1019"/>
                    </a:lnTo>
                    <a:lnTo>
                      <a:pt x="1667" y="1041"/>
                    </a:lnTo>
                    <a:lnTo>
                      <a:pt x="1632" y="1065"/>
                    </a:lnTo>
                    <a:lnTo>
                      <a:pt x="1594" y="1094"/>
                    </a:lnTo>
                    <a:lnTo>
                      <a:pt x="1553" y="1125"/>
                    </a:lnTo>
                    <a:lnTo>
                      <a:pt x="1510" y="1158"/>
                    </a:lnTo>
                    <a:lnTo>
                      <a:pt x="1465" y="1191"/>
                    </a:lnTo>
                    <a:lnTo>
                      <a:pt x="1416" y="1226"/>
                    </a:lnTo>
                    <a:lnTo>
                      <a:pt x="1367" y="1260"/>
                    </a:lnTo>
                    <a:lnTo>
                      <a:pt x="1323" y="1289"/>
                    </a:lnTo>
                    <a:lnTo>
                      <a:pt x="1293" y="1313"/>
                    </a:lnTo>
                    <a:lnTo>
                      <a:pt x="1271" y="1329"/>
                    </a:lnTo>
                    <a:lnTo>
                      <a:pt x="1260" y="1340"/>
                    </a:lnTo>
                    <a:lnTo>
                      <a:pt x="1257" y="1343"/>
                    </a:lnTo>
                    <a:lnTo>
                      <a:pt x="1256" y="1347"/>
                    </a:lnTo>
                    <a:lnTo>
                      <a:pt x="1256" y="1348"/>
                    </a:lnTo>
                    <a:lnTo>
                      <a:pt x="1256" y="1348"/>
                    </a:lnTo>
                    <a:lnTo>
                      <a:pt x="1260" y="1347"/>
                    </a:lnTo>
                    <a:lnTo>
                      <a:pt x="1267" y="1342"/>
                    </a:lnTo>
                    <a:lnTo>
                      <a:pt x="1274" y="1335"/>
                    </a:lnTo>
                    <a:lnTo>
                      <a:pt x="1279" y="1328"/>
                    </a:lnTo>
                    <a:lnTo>
                      <a:pt x="1280" y="1323"/>
                    </a:lnTo>
                    <a:lnTo>
                      <a:pt x="1281" y="1319"/>
                    </a:lnTo>
                    <a:lnTo>
                      <a:pt x="1280" y="1314"/>
                    </a:lnTo>
                    <a:lnTo>
                      <a:pt x="1278" y="1311"/>
                    </a:lnTo>
                    <a:lnTo>
                      <a:pt x="1275" y="1306"/>
                    </a:lnTo>
                    <a:lnTo>
                      <a:pt x="1269" y="1302"/>
                    </a:lnTo>
                    <a:lnTo>
                      <a:pt x="1262" y="1298"/>
                    </a:lnTo>
                    <a:lnTo>
                      <a:pt x="1252" y="1296"/>
                    </a:lnTo>
                    <a:lnTo>
                      <a:pt x="1240" y="1293"/>
                    </a:lnTo>
                    <a:lnTo>
                      <a:pt x="1225" y="1292"/>
                    </a:lnTo>
                    <a:lnTo>
                      <a:pt x="1207" y="1290"/>
                    </a:lnTo>
                    <a:lnTo>
                      <a:pt x="1187" y="1289"/>
                    </a:lnTo>
                    <a:lnTo>
                      <a:pt x="1143" y="1290"/>
                    </a:lnTo>
                    <a:lnTo>
                      <a:pt x="1103" y="1294"/>
                    </a:lnTo>
                    <a:lnTo>
                      <a:pt x="1084" y="1296"/>
                    </a:lnTo>
                    <a:lnTo>
                      <a:pt x="1064" y="1299"/>
                    </a:lnTo>
                    <a:lnTo>
                      <a:pt x="1046" y="1303"/>
                    </a:lnTo>
                    <a:lnTo>
                      <a:pt x="1030" y="1306"/>
                    </a:lnTo>
                    <a:lnTo>
                      <a:pt x="1013" y="1311"/>
                    </a:lnTo>
                    <a:lnTo>
                      <a:pt x="997" y="1316"/>
                    </a:lnTo>
                    <a:lnTo>
                      <a:pt x="982" y="1322"/>
                    </a:lnTo>
                    <a:lnTo>
                      <a:pt x="969" y="1328"/>
                    </a:lnTo>
                    <a:lnTo>
                      <a:pt x="957" y="1334"/>
                    </a:lnTo>
                    <a:lnTo>
                      <a:pt x="944" y="1341"/>
                    </a:lnTo>
                    <a:lnTo>
                      <a:pt x="934" y="1349"/>
                    </a:lnTo>
                    <a:lnTo>
                      <a:pt x="924" y="1357"/>
                    </a:lnTo>
                    <a:lnTo>
                      <a:pt x="916" y="1366"/>
                    </a:lnTo>
                    <a:lnTo>
                      <a:pt x="908" y="1375"/>
                    </a:lnTo>
                    <a:lnTo>
                      <a:pt x="903" y="1385"/>
                    </a:lnTo>
                    <a:lnTo>
                      <a:pt x="898" y="1395"/>
                    </a:lnTo>
                    <a:lnTo>
                      <a:pt x="894" y="1406"/>
                    </a:lnTo>
                    <a:lnTo>
                      <a:pt x="891" y="1418"/>
                    </a:lnTo>
                    <a:lnTo>
                      <a:pt x="891" y="1429"/>
                    </a:lnTo>
                    <a:lnTo>
                      <a:pt x="891" y="1441"/>
                    </a:lnTo>
                    <a:lnTo>
                      <a:pt x="894" y="1455"/>
                    </a:lnTo>
                    <a:lnTo>
                      <a:pt x="897" y="1468"/>
                    </a:lnTo>
                    <a:lnTo>
                      <a:pt x="901" y="1482"/>
                    </a:lnTo>
                    <a:lnTo>
                      <a:pt x="908" y="1496"/>
                    </a:lnTo>
                    <a:lnTo>
                      <a:pt x="917" y="1511"/>
                    </a:lnTo>
                    <a:lnTo>
                      <a:pt x="926" y="1527"/>
                    </a:lnTo>
                    <a:lnTo>
                      <a:pt x="937" y="1543"/>
                    </a:lnTo>
                    <a:lnTo>
                      <a:pt x="951" y="1559"/>
                    </a:lnTo>
                    <a:lnTo>
                      <a:pt x="964" y="1576"/>
                    </a:lnTo>
                    <a:lnTo>
                      <a:pt x="978" y="1593"/>
                    </a:lnTo>
                    <a:lnTo>
                      <a:pt x="990" y="1611"/>
                    </a:lnTo>
                    <a:lnTo>
                      <a:pt x="1002" y="1629"/>
                    </a:lnTo>
                    <a:lnTo>
                      <a:pt x="1023" y="1666"/>
                    </a:lnTo>
                    <a:lnTo>
                      <a:pt x="1042" y="1703"/>
                    </a:lnTo>
                    <a:lnTo>
                      <a:pt x="1059" y="1741"/>
                    </a:lnTo>
                    <a:lnTo>
                      <a:pt x="1073" y="1778"/>
                    </a:lnTo>
                    <a:lnTo>
                      <a:pt x="1087" y="1814"/>
                    </a:lnTo>
                    <a:lnTo>
                      <a:pt x="1097" y="1849"/>
                    </a:lnTo>
                    <a:lnTo>
                      <a:pt x="1106" y="1881"/>
                    </a:lnTo>
                    <a:lnTo>
                      <a:pt x="1114" y="1910"/>
                    </a:lnTo>
                    <a:lnTo>
                      <a:pt x="1120" y="1937"/>
                    </a:lnTo>
                    <a:lnTo>
                      <a:pt x="1124" y="1960"/>
                    </a:lnTo>
                    <a:lnTo>
                      <a:pt x="1130" y="1994"/>
                    </a:lnTo>
                    <a:lnTo>
                      <a:pt x="1131" y="2005"/>
                    </a:lnTo>
                    <a:lnTo>
                      <a:pt x="1120" y="1994"/>
                    </a:lnTo>
                    <a:lnTo>
                      <a:pt x="1089" y="1966"/>
                    </a:lnTo>
                    <a:lnTo>
                      <a:pt x="1069" y="1949"/>
                    </a:lnTo>
                    <a:lnTo>
                      <a:pt x="1048" y="1930"/>
                    </a:lnTo>
                    <a:lnTo>
                      <a:pt x="1024" y="1910"/>
                    </a:lnTo>
                    <a:lnTo>
                      <a:pt x="999" y="1892"/>
                    </a:lnTo>
                    <a:lnTo>
                      <a:pt x="976" y="1877"/>
                    </a:lnTo>
                    <a:lnTo>
                      <a:pt x="954" y="1864"/>
                    </a:lnTo>
                    <a:lnTo>
                      <a:pt x="943" y="1860"/>
                    </a:lnTo>
                    <a:lnTo>
                      <a:pt x="933" y="1856"/>
                    </a:lnTo>
                    <a:lnTo>
                      <a:pt x="924" y="1854"/>
                    </a:lnTo>
                    <a:lnTo>
                      <a:pt x="916" y="1853"/>
                    </a:lnTo>
                    <a:lnTo>
                      <a:pt x="908" y="1854"/>
                    </a:lnTo>
                    <a:lnTo>
                      <a:pt x="903" y="1856"/>
                    </a:lnTo>
                    <a:lnTo>
                      <a:pt x="897" y="1861"/>
                    </a:lnTo>
                    <a:lnTo>
                      <a:pt x="892" y="1868"/>
                    </a:lnTo>
                    <a:lnTo>
                      <a:pt x="890" y="1876"/>
                    </a:lnTo>
                    <a:lnTo>
                      <a:pt x="889" y="1887"/>
                    </a:lnTo>
                    <a:lnTo>
                      <a:pt x="889" y="1900"/>
                    </a:lnTo>
                    <a:lnTo>
                      <a:pt x="891" y="1915"/>
                    </a:lnTo>
                    <a:lnTo>
                      <a:pt x="895" y="1933"/>
                    </a:lnTo>
                    <a:lnTo>
                      <a:pt x="899" y="1951"/>
                    </a:lnTo>
                    <a:lnTo>
                      <a:pt x="906" y="1971"/>
                    </a:lnTo>
                    <a:lnTo>
                      <a:pt x="914" y="1992"/>
                    </a:lnTo>
                    <a:lnTo>
                      <a:pt x="932" y="2034"/>
                    </a:lnTo>
                    <a:lnTo>
                      <a:pt x="954" y="2079"/>
                    </a:lnTo>
                    <a:lnTo>
                      <a:pt x="980" y="2127"/>
                    </a:lnTo>
                    <a:lnTo>
                      <a:pt x="1007" y="2174"/>
                    </a:lnTo>
                    <a:lnTo>
                      <a:pt x="1036" y="2220"/>
                    </a:lnTo>
                    <a:lnTo>
                      <a:pt x="1066" y="2266"/>
                    </a:lnTo>
                    <a:lnTo>
                      <a:pt x="1122" y="2349"/>
                    </a:lnTo>
                    <a:lnTo>
                      <a:pt x="1170" y="2418"/>
                    </a:lnTo>
                    <a:lnTo>
                      <a:pt x="1204" y="2464"/>
                    </a:lnTo>
                    <a:lnTo>
                      <a:pt x="1216" y="2481"/>
                    </a:lnTo>
                    <a:lnTo>
                      <a:pt x="951" y="2601"/>
                    </a:lnTo>
                    <a:lnTo>
                      <a:pt x="946" y="2574"/>
                    </a:lnTo>
                    <a:lnTo>
                      <a:pt x="934" y="2502"/>
                    </a:lnTo>
                    <a:lnTo>
                      <a:pt x="925" y="2455"/>
                    </a:lnTo>
                    <a:lnTo>
                      <a:pt x="914" y="2403"/>
                    </a:lnTo>
                    <a:lnTo>
                      <a:pt x="900" y="2348"/>
                    </a:lnTo>
                    <a:lnTo>
                      <a:pt x="886" y="2292"/>
                    </a:lnTo>
                    <a:lnTo>
                      <a:pt x="878" y="2264"/>
                    </a:lnTo>
                    <a:lnTo>
                      <a:pt x="869" y="2237"/>
                    </a:lnTo>
                    <a:lnTo>
                      <a:pt x="860" y="2210"/>
                    </a:lnTo>
                    <a:lnTo>
                      <a:pt x="850" y="2185"/>
                    </a:lnTo>
                    <a:lnTo>
                      <a:pt x="840" y="2160"/>
                    </a:lnTo>
                    <a:lnTo>
                      <a:pt x="830" y="2137"/>
                    </a:lnTo>
                    <a:lnTo>
                      <a:pt x="818" y="2116"/>
                    </a:lnTo>
                    <a:lnTo>
                      <a:pt x="807" y="2097"/>
                    </a:lnTo>
                    <a:lnTo>
                      <a:pt x="795" y="2079"/>
                    </a:lnTo>
                    <a:lnTo>
                      <a:pt x="782" y="2066"/>
                    </a:lnTo>
                    <a:lnTo>
                      <a:pt x="769" y="2053"/>
                    </a:lnTo>
                    <a:lnTo>
                      <a:pt x="756" y="2044"/>
                    </a:lnTo>
                    <a:lnTo>
                      <a:pt x="742" y="2039"/>
                    </a:lnTo>
                    <a:lnTo>
                      <a:pt x="728" y="2037"/>
                    </a:lnTo>
                    <a:lnTo>
                      <a:pt x="714" y="2039"/>
                    </a:lnTo>
                    <a:lnTo>
                      <a:pt x="698" y="2044"/>
                    </a:lnTo>
                    <a:lnTo>
                      <a:pt x="683" y="2052"/>
                    </a:lnTo>
                    <a:lnTo>
                      <a:pt x="668" y="2061"/>
                    </a:lnTo>
                    <a:lnTo>
                      <a:pt x="653" y="2073"/>
                    </a:lnTo>
                    <a:lnTo>
                      <a:pt x="638" y="2084"/>
                    </a:lnTo>
                    <a:lnTo>
                      <a:pt x="624" y="2096"/>
                    </a:lnTo>
                    <a:lnTo>
                      <a:pt x="609" y="2109"/>
                    </a:lnTo>
                    <a:lnTo>
                      <a:pt x="595" y="2123"/>
                    </a:lnTo>
                    <a:lnTo>
                      <a:pt x="580" y="2138"/>
                    </a:lnTo>
                    <a:lnTo>
                      <a:pt x="553" y="2168"/>
                    </a:lnTo>
                    <a:lnTo>
                      <a:pt x="527" y="2200"/>
                    </a:lnTo>
                    <a:lnTo>
                      <a:pt x="502" y="2231"/>
                    </a:lnTo>
                    <a:lnTo>
                      <a:pt x="479" y="2263"/>
                    </a:lnTo>
                    <a:lnTo>
                      <a:pt x="457" y="2294"/>
                    </a:lnTo>
                    <a:lnTo>
                      <a:pt x="439" y="2323"/>
                    </a:lnTo>
                    <a:lnTo>
                      <a:pt x="423" y="2350"/>
                    </a:lnTo>
                    <a:lnTo>
                      <a:pt x="408" y="2374"/>
                    </a:lnTo>
                    <a:lnTo>
                      <a:pt x="389" y="2408"/>
                    </a:lnTo>
                    <a:lnTo>
                      <a:pt x="382" y="2421"/>
                    </a:lnTo>
                    <a:lnTo>
                      <a:pt x="236" y="2156"/>
                    </a:lnTo>
                    <a:lnTo>
                      <a:pt x="87" y="2035"/>
                    </a:lnTo>
                    <a:lnTo>
                      <a:pt x="266" y="1765"/>
                    </a:lnTo>
                    <a:lnTo>
                      <a:pt x="146" y="1680"/>
                    </a:lnTo>
                    <a:lnTo>
                      <a:pt x="314" y="1543"/>
                    </a:lnTo>
                    <a:lnTo>
                      <a:pt x="0" y="1396"/>
                    </a:lnTo>
                    <a:lnTo>
                      <a:pt x="266" y="1306"/>
                    </a:lnTo>
                    <a:lnTo>
                      <a:pt x="236" y="1230"/>
                    </a:lnTo>
                    <a:lnTo>
                      <a:pt x="326" y="1260"/>
                    </a:lnTo>
                    <a:lnTo>
                      <a:pt x="296" y="1157"/>
                    </a:lnTo>
                    <a:lnTo>
                      <a:pt x="386" y="1187"/>
                    </a:lnTo>
                    <a:lnTo>
                      <a:pt x="369" y="1036"/>
                    </a:lnTo>
                    <a:lnTo>
                      <a:pt x="475" y="1024"/>
                    </a:lnTo>
                    <a:lnTo>
                      <a:pt x="475" y="1020"/>
                    </a:lnTo>
                    <a:lnTo>
                      <a:pt x="473" y="1011"/>
                    </a:lnTo>
                    <a:lnTo>
                      <a:pt x="469" y="997"/>
                    </a:lnTo>
                    <a:lnTo>
                      <a:pt x="463" y="979"/>
                    </a:lnTo>
                    <a:lnTo>
                      <a:pt x="456" y="957"/>
                    </a:lnTo>
                    <a:lnTo>
                      <a:pt x="448" y="935"/>
                    </a:lnTo>
                    <a:lnTo>
                      <a:pt x="439" y="912"/>
                    </a:lnTo>
                    <a:lnTo>
                      <a:pt x="428" y="891"/>
                    </a:lnTo>
                    <a:lnTo>
                      <a:pt x="425" y="881"/>
                    </a:lnTo>
                    <a:lnTo>
                      <a:pt x="424" y="873"/>
                    </a:lnTo>
                    <a:lnTo>
                      <a:pt x="424" y="870"/>
                    </a:lnTo>
                    <a:lnTo>
                      <a:pt x="425" y="867"/>
                    </a:lnTo>
                    <a:lnTo>
                      <a:pt x="426" y="865"/>
                    </a:lnTo>
                    <a:lnTo>
                      <a:pt x="428" y="863"/>
                    </a:lnTo>
                    <a:lnTo>
                      <a:pt x="433" y="861"/>
                    </a:lnTo>
                    <a:lnTo>
                      <a:pt x="439" y="860"/>
                    </a:lnTo>
                    <a:lnTo>
                      <a:pt x="447" y="860"/>
                    </a:lnTo>
                    <a:lnTo>
                      <a:pt x="456" y="860"/>
                    </a:lnTo>
                    <a:lnTo>
                      <a:pt x="473" y="863"/>
                    </a:lnTo>
                    <a:lnTo>
                      <a:pt x="490" y="869"/>
                    </a:lnTo>
                    <a:lnTo>
                      <a:pt x="501" y="872"/>
                    </a:lnTo>
                    <a:lnTo>
                      <a:pt x="506" y="874"/>
                    </a:lnTo>
                    <a:lnTo>
                      <a:pt x="536" y="741"/>
                    </a:lnTo>
                    <a:lnTo>
                      <a:pt x="596" y="711"/>
                    </a:lnTo>
                    <a:lnTo>
                      <a:pt x="588" y="706"/>
                    </a:lnTo>
                    <a:lnTo>
                      <a:pt x="569" y="693"/>
                    </a:lnTo>
                    <a:lnTo>
                      <a:pt x="555" y="684"/>
                    </a:lnTo>
                    <a:lnTo>
                      <a:pt x="542" y="674"/>
                    </a:lnTo>
                    <a:lnTo>
                      <a:pt x="527" y="661"/>
                    </a:lnTo>
                    <a:lnTo>
                      <a:pt x="514" y="648"/>
                    </a:lnTo>
                    <a:lnTo>
                      <a:pt x="500" y="633"/>
                    </a:lnTo>
                    <a:lnTo>
                      <a:pt x="488" y="619"/>
                    </a:lnTo>
                    <a:lnTo>
                      <a:pt x="477" y="603"/>
                    </a:lnTo>
                    <a:lnTo>
                      <a:pt x="469" y="586"/>
                    </a:lnTo>
                    <a:lnTo>
                      <a:pt x="466" y="578"/>
                    </a:lnTo>
                    <a:lnTo>
                      <a:pt x="464" y="569"/>
                    </a:lnTo>
                    <a:lnTo>
                      <a:pt x="464" y="560"/>
                    </a:lnTo>
                    <a:lnTo>
                      <a:pt x="464" y="552"/>
                    </a:lnTo>
                    <a:lnTo>
                      <a:pt x="465" y="543"/>
                    </a:lnTo>
                    <a:lnTo>
                      <a:pt x="468" y="535"/>
                    </a:lnTo>
                    <a:lnTo>
                      <a:pt x="471" y="526"/>
                    </a:lnTo>
                    <a:lnTo>
                      <a:pt x="475" y="519"/>
                    </a:lnTo>
                    <a:lnTo>
                      <a:pt x="487" y="502"/>
                    </a:lnTo>
                    <a:lnTo>
                      <a:pt x="498" y="487"/>
                    </a:lnTo>
                    <a:lnTo>
                      <a:pt x="509" y="475"/>
                    </a:lnTo>
                    <a:lnTo>
                      <a:pt x="519" y="463"/>
                    </a:lnTo>
                    <a:lnTo>
                      <a:pt x="540" y="444"/>
                    </a:lnTo>
                    <a:lnTo>
                      <a:pt x="559" y="431"/>
                    </a:lnTo>
                    <a:lnTo>
                      <a:pt x="573" y="421"/>
                    </a:lnTo>
                    <a:lnTo>
                      <a:pt x="586" y="415"/>
                    </a:lnTo>
                    <a:lnTo>
                      <a:pt x="593" y="412"/>
                    </a:lnTo>
                    <a:lnTo>
                      <a:pt x="596" y="411"/>
                    </a:lnTo>
                    <a:lnTo>
                      <a:pt x="595" y="414"/>
                    </a:lnTo>
                    <a:lnTo>
                      <a:pt x="592" y="422"/>
                    </a:lnTo>
                    <a:lnTo>
                      <a:pt x="589" y="434"/>
                    </a:lnTo>
                    <a:lnTo>
                      <a:pt x="588" y="451"/>
                    </a:lnTo>
                    <a:lnTo>
                      <a:pt x="588" y="460"/>
                    </a:lnTo>
                    <a:lnTo>
                      <a:pt x="589" y="470"/>
                    </a:lnTo>
                    <a:lnTo>
                      <a:pt x="591" y="483"/>
                    </a:lnTo>
                    <a:lnTo>
                      <a:pt x="593" y="494"/>
                    </a:lnTo>
                    <a:lnTo>
                      <a:pt x="598" y="506"/>
                    </a:lnTo>
                    <a:lnTo>
                      <a:pt x="605" y="520"/>
                    </a:lnTo>
                    <a:lnTo>
                      <a:pt x="611" y="534"/>
                    </a:lnTo>
                    <a:lnTo>
                      <a:pt x="622" y="548"/>
                    </a:lnTo>
                    <a:lnTo>
                      <a:pt x="632" y="560"/>
                    </a:lnTo>
                    <a:lnTo>
                      <a:pt x="641" y="569"/>
                    </a:lnTo>
                    <a:lnTo>
                      <a:pt x="650" y="575"/>
                    </a:lnTo>
                    <a:lnTo>
                      <a:pt x="656" y="578"/>
                    </a:lnTo>
                    <a:lnTo>
                      <a:pt x="662" y="578"/>
                    </a:lnTo>
                    <a:lnTo>
                      <a:pt x="668" y="577"/>
                    </a:lnTo>
                    <a:lnTo>
                      <a:pt x="672" y="574"/>
                    </a:lnTo>
                    <a:lnTo>
                      <a:pt x="676" y="568"/>
                    </a:lnTo>
                    <a:lnTo>
                      <a:pt x="682" y="552"/>
                    </a:lnTo>
                    <a:lnTo>
                      <a:pt x="688" y="533"/>
                    </a:lnTo>
                    <a:lnTo>
                      <a:pt x="692" y="511"/>
                    </a:lnTo>
                    <a:lnTo>
                      <a:pt x="698" y="488"/>
                    </a:lnTo>
                    <a:lnTo>
                      <a:pt x="701" y="479"/>
                    </a:lnTo>
                    <a:lnTo>
                      <a:pt x="705" y="472"/>
                    </a:lnTo>
                    <a:lnTo>
                      <a:pt x="707" y="471"/>
                    </a:lnTo>
                    <a:lnTo>
                      <a:pt x="710" y="470"/>
                    </a:lnTo>
                    <a:lnTo>
                      <a:pt x="713" y="469"/>
                    </a:lnTo>
                    <a:lnTo>
                      <a:pt x="715" y="469"/>
                    </a:lnTo>
                    <a:lnTo>
                      <a:pt x="721" y="471"/>
                    </a:lnTo>
                    <a:lnTo>
                      <a:pt x="727" y="475"/>
                    </a:lnTo>
                    <a:lnTo>
                      <a:pt x="733" y="480"/>
                    </a:lnTo>
                    <a:lnTo>
                      <a:pt x="740" y="487"/>
                    </a:lnTo>
                    <a:lnTo>
                      <a:pt x="752" y="502"/>
                    </a:lnTo>
                    <a:lnTo>
                      <a:pt x="762" y="515"/>
                    </a:lnTo>
                    <a:lnTo>
                      <a:pt x="769" y="526"/>
                    </a:lnTo>
                    <a:lnTo>
                      <a:pt x="771" y="531"/>
                    </a:lnTo>
                    <a:lnTo>
                      <a:pt x="777" y="525"/>
                    </a:lnTo>
                    <a:lnTo>
                      <a:pt x="795" y="510"/>
                    </a:lnTo>
                    <a:lnTo>
                      <a:pt x="808" y="502"/>
                    </a:lnTo>
                    <a:lnTo>
                      <a:pt x="825" y="493"/>
                    </a:lnTo>
                    <a:lnTo>
                      <a:pt x="845" y="484"/>
                    </a:lnTo>
                    <a:lnTo>
                      <a:pt x="868" y="477"/>
                    </a:lnTo>
                    <a:lnTo>
                      <a:pt x="881" y="474"/>
                    </a:lnTo>
                    <a:lnTo>
                      <a:pt x="895" y="471"/>
                    </a:lnTo>
                    <a:lnTo>
                      <a:pt x="909" y="470"/>
                    </a:lnTo>
                    <a:lnTo>
                      <a:pt x="925" y="469"/>
                    </a:lnTo>
                    <a:lnTo>
                      <a:pt x="942" y="469"/>
                    </a:lnTo>
                    <a:lnTo>
                      <a:pt x="959" y="470"/>
                    </a:lnTo>
                    <a:lnTo>
                      <a:pt x="978" y="472"/>
                    </a:lnTo>
                    <a:lnTo>
                      <a:pt x="997" y="475"/>
                    </a:lnTo>
                    <a:lnTo>
                      <a:pt x="1017" y="479"/>
                    </a:lnTo>
                    <a:lnTo>
                      <a:pt x="1039" y="485"/>
                    </a:lnTo>
                    <a:lnTo>
                      <a:pt x="1061" y="492"/>
                    </a:lnTo>
                    <a:lnTo>
                      <a:pt x="1084" y="499"/>
                    </a:lnTo>
                    <a:lnTo>
                      <a:pt x="1108" y="508"/>
                    </a:lnTo>
                    <a:lnTo>
                      <a:pt x="1133" y="521"/>
                    </a:lnTo>
                    <a:lnTo>
                      <a:pt x="1159" y="533"/>
                    </a:lnTo>
                    <a:lnTo>
                      <a:pt x="1187" y="548"/>
                    </a:lnTo>
                    <a:lnTo>
                      <a:pt x="951" y="368"/>
                    </a:lnTo>
                    <a:lnTo>
                      <a:pt x="986" y="348"/>
                    </a:lnTo>
                    <a:lnTo>
                      <a:pt x="1080" y="297"/>
                    </a:lnTo>
                    <a:lnTo>
                      <a:pt x="1144" y="265"/>
                    </a:lnTo>
                    <a:lnTo>
                      <a:pt x="1220" y="229"/>
                    </a:lnTo>
                    <a:lnTo>
                      <a:pt x="1259" y="212"/>
                    </a:lnTo>
                    <a:lnTo>
                      <a:pt x="1302" y="194"/>
                    </a:lnTo>
                    <a:lnTo>
                      <a:pt x="1344" y="176"/>
                    </a:lnTo>
                    <a:lnTo>
                      <a:pt x="1389" y="160"/>
                    </a:lnTo>
                    <a:lnTo>
                      <a:pt x="1435" y="143"/>
                    </a:lnTo>
                    <a:lnTo>
                      <a:pt x="1482" y="128"/>
                    </a:lnTo>
                    <a:lnTo>
                      <a:pt x="1529" y="113"/>
                    </a:lnTo>
                    <a:lnTo>
                      <a:pt x="1576" y="100"/>
                    </a:lnTo>
                    <a:lnTo>
                      <a:pt x="1624" y="89"/>
                    </a:lnTo>
                    <a:lnTo>
                      <a:pt x="1671" y="80"/>
                    </a:lnTo>
                    <a:lnTo>
                      <a:pt x="1719" y="72"/>
                    </a:lnTo>
                    <a:lnTo>
                      <a:pt x="1766" y="66"/>
                    </a:lnTo>
                    <a:lnTo>
                      <a:pt x="1812" y="63"/>
                    </a:lnTo>
                    <a:lnTo>
                      <a:pt x="1857" y="63"/>
                    </a:lnTo>
                    <a:lnTo>
                      <a:pt x="1901" y="65"/>
                    </a:lnTo>
                    <a:lnTo>
                      <a:pt x="1944" y="71"/>
                    </a:lnTo>
                    <a:lnTo>
                      <a:pt x="1984" y="80"/>
                    </a:lnTo>
                    <a:lnTo>
                      <a:pt x="2023" y="92"/>
                    </a:lnTo>
                    <a:lnTo>
                      <a:pt x="2060" y="108"/>
                    </a:lnTo>
                    <a:lnTo>
                      <a:pt x="2094" y="128"/>
                    </a:lnTo>
                    <a:lnTo>
                      <a:pt x="2082" y="120"/>
                    </a:lnTo>
                    <a:lnTo>
                      <a:pt x="2068" y="113"/>
                    </a:lnTo>
                    <a:lnTo>
                      <a:pt x="2055" y="107"/>
                    </a:lnTo>
                    <a:lnTo>
                      <a:pt x="2041" y="101"/>
                    </a:lnTo>
                    <a:lnTo>
                      <a:pt x="2013" y="92"/>
                    </a:lnTo>
                    <a:lnTo>
                      <a:pt x="1985" y="85"/>
                    </a:lnTo>
                    <a:lnTo>
                      <a:pt x="1956" y="80"/>
                    </a:lnTo>
                    <a:lnTo>
                      <a:pt x="1928" y="76"/>
                    </a:lnTo>
                    <a:lnTo>
                      <a:pt x="1900" y="75"/>
                    </a:lnTo>
                    <a:lnTo>
                      <a:pt x="1874" y="74"/>
                    </a:lnTo>
                    <a:lnTo>
                      <a:pt x="1848" y="75"/>
                    </a:lnTo>
                    <a:lnTo>
                      <a:pt x="1825" y="76"/>
                    </a:lnTo>
                    <a:lnTo>
                      <a:pt x="1804" y="77"/>
                    </a:lnTo>
                    <a:lnTo>
                      <a:pt x="1787" y="80"/>
                    </a:lnTo>
                    <a:lnTo>
                      <a:pt x="1761" y="83"/>
                    </a:lnTo>
                    <a:lnTo>
                      <a:pt x="1752" y="85"/>
                    </a:lnTo>
                    <a:lnTo>
                      <a:pt x="1812" y="43"/>
                    </a:lnTo>
                    <a:lnTo>
                      <a:pt x="1842" y="36"/>
                    </a:lnTo>
                    <a:lnTo>
                      <a:pt x="1924" y="23"/>
                    </a:lnTo>
                    <a:lnTo>
                      <a:pt x="1981" y="16"/>
                    </a:lnTo>
                    <a:lnTo>
                      <a:pt x="2046" y="9"/>
                    </a:lnTo>
                    <a:lnTo>
                      <a:pt x="2081" y="5"/>
                    </a:lnTo>
                    <a:lnTo>
                      <a:pt x="2118" y="3"/>
                    </a:lnTo>
                    <a:lnTo>
                      <a:pt x="2156" y="2"/>
                    </a:lnTo>
                    <a:lnTo>
                      <a:pt x="2195" y="1"/>
                    </a:lnTo>
                    <a:lnTo>
                      <a:pt x="2236" y="0"/>
                    </a:lnTo>
                    <a:lnTo>
                      <a:pt x="2276" y="1"/>
                    </a:lnTo>
                    <a:lnTo>
                      <a:pt x="2318" y="2"/>
                    </a:lnTo>
                    <a:lnTo>
                      <a:pt x="2359" y="4"/>
                    </a:lnTo>
                    <a:lnTo>
                      <a:pt x="2402" y="9"/>
                    </a:lnTo>
                    <a:lnTo>
                      <a:pt x="2444" y="13"/>
                    </a:lnTo>
                    <a:lnTo>
                      <a:pt x="2485" y="20"/>
                    </a:lnTo>
                    <a:lnTo>
                      <a:pt x="2527" y="28"/>
                    </a:lnTo>
                    <a:lnTo>
                      <a:pt x="2569" y="37"/>
                    </a:lnTo>
                    <a:lnTo>
                      <a:pt x="2608" y="48"/>
                    </a:lnTo>
                    <a:lnTo>
                      <a:pt x="2647" y="62"/>
                    </a:lnTo>
                    <a:lnTo>
                      <a:pt x="2685" y="76"/>
                    </a:lnTo>
                    <a:lnTo>
                      <a:pt x="2723" y="93"/>
                    </a:lnTo>
                    <a:lnTo>
                      <a:pt x="2757" y="112"/>
                    </a:lnTo>
                    <a:lnTo>
                      <a:pt x="2791" y="134"/>
                    </a:lnTo>
                    <a:lnTo>
                      <a:pt x="2823" y="158"/>
                    </a:lnTo>
                    <a:lnTo>
                      <a:pt x="2853" y="183"/>
                    </a:lnTo>
                    <a:lnTo>
                      <a:pt x="2882" y="209"/>
                    </a:lnTo>
                    <a:lnTo>
                      <a:pt x="2910" y="234"/>
                    </a:lnTo>
                    <a:lnTo>
                      <a:pt x="2936" y="259"/>
                    </a:lnTo>
                    <a:lnTo>
                      <a:pt x="2986" y="307"/>
                    </a:lnTo>
                    <a:lnTo>
                      <a:pt x="3029" y="353"/>
                    </a:lnTo>
                    <a:lnTo>
                      <a:pt x="3068" y="397"/>
                    </a:lnTo>
                    <a:lnTo>
                      <a:pt x="3102" y="439"/>
                    </a:lnTo>
                    <a:lnTo>
                      <a:pt x="3132" y="478"/>
                    </a:lnTo>
                    <a:lnTo>
                      <a:pt x="3158" y="514"/>
                    </a:lnTo>
                    <a:lnTo>
                      <a:pt x="3179" y="547"/>
                    </a:lnTo>
                    <a:lnTo>
                      <a:pt x="3197" y="576"/>
                    </a:lnTo>
                    <a:lnTo>
                      <a:pt x="3211" y="602"/>
                    </a:lnTo>
                    <a:lnTo>
                      <a:pt x="3224" y="623"/>
                    </a:lnTo>
                    <a:lnTo>
                      <a:pt x="3237" y="654"/>
                    </a:lnTo>
                    <a:lnTo>
                      <a:pt x="3242" y="664"/>
                    </a:lnTo>
                    <a:lnTo>
                      <a:pt x="3245" y="652"/>
                    </a:lnTo>
                    <a:lnTo>
                      <a:pt x="3254" y="624"/>
                    </a:lnTo>
                    <a:lnTo>
                      <a:pt x="3261" y="604"/>
                    </a:lnTo>
                    <a:lnTo>
                      <a:pt x="3271" y="583"/>
                    </a:lnTo>
                    <a:lnTo>
                      <a:pt x="3282" y="558"/>
                    </a:lnTo>
                    <a:lnTo>
                      <a:pt x="3296" y="533"/>
                    </a:lnTo>
                    <a:lnTo>
                      <a:pt x="3313" y="508"/>
                    </a:lnTo>
                    <a:lnTo>
                      <a:pt x="3332" y="484"/>
                    </a:lnTo>
                    <a:lnTo>
                      <a:pt x="3342" y="471"/>
                    </a:lnTo>
                    <a:lnTo>
                      <a:pt x="3353" y="460"/>
                    </a:lnTo>
                    <a:lnTo>
                      <a:pt x="3364" y="449"/>
                    </a:lnTo>
                    <a:lnTo>
                      <a:pt x="3378" y="438"/>
                    </a:lnTo>
                    <a:lnTo>
                      <a:pt x="3391" y="427"/>
                    </a:lnTo>
                    <a:lnTo>
                      <a:pt x="3405" y="418"/>
                    </a:lnTo>
                    <a:lnTo>
                      <a:pt x="3421" y="409"/>
                    </a:lnTo>
                    <a:lnTo>
                      <a:pt x="3436" y="402"/>
                    </a:lnTo>
                    <a:lnTo>
                      <a:pt x="3452" y="395"/>
                    </a:lnTo>
                    <a:lnTo>
                      <a:pt x="3470" y="389"/>
                    </a:lnTo>
                    <a:lnTo>
                      <a:pt x="3488" y="385"/>
                    </a:lnTo>
                    <a:lnTo>
                      <a:pt x="3507" y="381"/>
                    </a:lnTo>
                    <a:lnTo>
                      <a:pt x="3575" y="373"/>
                    </a:lnTo>
                    <a:lnTo>
                      <a:pt x="3620" y="370"/>
                    </a:lnTo>
                    <a:lnTo>
                      <a:pt x="3635" y="369"/>
                    </a:lnTo>
                    <a:lnTo>
                      <a:pt x="3648" y="370"/>
                    </a:lnTo>
                    <a:lnTo>
                      <a:pt x="3656" y="370"/>
                    </a:lnTo>
                    <a:lnTo>
                      <a:pt x="3661" y="371"/>
                    </a:lnTo>
                    <a:lnTo>
                      <a:pt x="3664" y="372"/>
                    </a:lnTo>
                    <a:lnTo>
                      <a:pt x="3666" y="375"/>
                    </a:lnTo>
                    <a:lnTo>
                      <a:pt x="3664" y="376"/>
                    </a:lnTo>
                    <a:lnTo>
                      <a:pt x="3663" y="377"/>
                    </a:lnTo>
                    <a:lnTo>
                      <a:pt x="3660" y="380"/>
                    </a:lnTo>
                    <a:lnTo>
                      <a:pt x="3658" y="381"/>
                    </a:lnTo>
                    <a:lnTo>
                      <a:pt x="3653" y="380"/>
                    </a:lnTo>
                    <a:lnTo>
                      <a:pt x="3641" y="382"/>
                    </a:lnTo>
                    <a:lnTo>
                      <a:pt x="3633" y="384"/>
                    </a:lnTo>
                    <a:lnTo>
                      <a:pt x="3624" y="387"/>
                    </a:lnTo>
                    <a:lnTo>
                      <a:pt x="3614" y="391"/>
                    </a:lnTo>
                    <a:lnTo>
                      <a:pt x="3604" y="398"/>
                    </a:lnTo>
                    <a:lnTo>
                      <a:pt x="3594" y="407"/>
                    </a:lnTo>
                    <a:lnTo>
                      <a:pt x="3585" y="420"/>
                    </a:lnTo>
                    <a:lnTo>
                      <a:pt x="3575" y="434"/>
                    </a:lnTo>
                    <a:lnTo>
                      <a:pt x="3567" y="451"/>
                    </a:lnTo>
                    <a:lnTo>
                      <a:pt x="3563" y="461"/>
                    </a:lnTo>
                    <a:lnTo>
                      <a:pt x="3560" y="472"/>
                    </a:lnTo>
                    <a:lnTo>
                      <a:pt x="3558" y="485"/>
                    </a:lnTo>
                    <a:lnTo>
                      <a:pt x="3555" y="498"/>
                    </a:lnTo>
                    <a:lnTo>
                      <a:pt x="3553" y="512"/>
                    </a:lnTo>
                    <a:lnTo>
                      <a:pt x="3551" y="528"/>
                    </a:lnTo>
                    <a:lnTo>
                      <a:pt x="3551" y="543"/>
                    </a:lnTo>
                    <a:lnTo>
                      <a:pt x="3550" y="561"/>
                    </a:lnTo>
                    <a:lnTo>
                      <a:pt x="3551" y="569"/>
                    </a:lnTo>
                    <a:lnTo>
                      <a:pt x="3552" y="576"/>
                    </a:lnTo>
                    <a:lnTo>
                      <a:pt x="3554" y="582"/>
                    </a:lnTo>
                    <a:lnTo>
                      <a:pt x="3558" y="586"/>
                    </a:lnTo>
                    <a:lnTo>
                      <a:pt x="3561" y="589"/>
                    </a:lnTo>
                    <a:lnTo>
                      <a:pt x="3566" y="593"/>
                    </a:lnTo>
                    <a:lnTo>
                      <a:pt x="3571" y="595"/>
                    </a:lnTo>
                    <a:lnTo>
                      <a:pt x="3577" y="596"/>
                    </a:lnTo>
                    <a:lnTo>
                      <a:pt x="3582" y="596"/>
                    </a:lnTo>
                    <a:lnTo>
                      <a:pt x="3589" y="596"/>
                    </a:lnTo>
                    <a:lnTo>
                      <a:pt x="3596" y="595"/>
                    </a:lnTo>
                    <a:lnTo>
                      <a:pt x="3604" y="593"/>
                    </a:lnTo>
                    <a:lnTo>
                      <a:pt x="3620" y="588"/>
                    </a:lnTo>
                    <a:lnTo>
                      <a:pt x="3635" y="580"/>
                    </a:lnTo>
                    <a:lnTo>
                      <a:pt x="3652" y="571"/>
                    </a:lnTo>
                    <a:lnTo>
                      <a:pt x="3668" y="561"/>
                    </a:lnTo>
                    <a:lnTo>
                      <a:pt x="3682" y="550"/>
                    </a:lnTo>
                    <a:lnTo>
                      <a:pt x="3697" y="538"/>
                    </a:lnTo>
                    <a:lnTo>
                      <a:pt x="3708" y="525"/>
                    </a:lnTo>
                    <a:lnTo>
                      <a:pt x="3718" y="512"/>
                    </a:lnTo>
                    <a:lnTo>
                      <a:pt x="3726" y="499"/>
                    </a:lnTo>
                    <a:lnTo>
                      <a:pt x="3730" y="488"/>
                    </a:lnTo>
                    <a:lnTo>
                      <a:pt x="3733" y="477"/>
                    </a:lnTo>
                    <a:lnTo>
                      <a:pt x="3735" y="465"/>
                    </a:lnTo>
                    <a:lnTo>
                      <a:pt x="3736" y="452"/>
                    </a:lnTo>
                    <a:lnTo>
                      <a:pt x="3738" y="440"/>
                    </a:lnTo>
                    <a:lnTo>
                      <a:pt x="3738" y="414"/>
                    </a:lnTo>
                    <a:lnTo>
                      <a:pt x="3736" y="390"/>
                    </a:lnTo>
                    <a:lnTo>
                      <a:pt x="3734" y="370"/>
                    </a:lnTo>
                    <a:lnTo>
                      <a:pt x="3733" y="353"/>
                    </a:lnTo>
                    <a:lnTo>
                      <a:pt x="3731" y="342"/>
                    </a:lnTo>
                    <a:lnTo>
                      <a:pt x="3730" y="339"/>
                    </a:lnTo>
                    <a:lnTo>
                      <a:pt x="3736" y="342"/>
                    </a:lnTo>
                    <a:lnTo>
                      <a:pt x="3754" y="354"/>
                    </a:lnTo>
                    <a:lnTo>
                      <a:pt x="3766" y="362"/>
                    </a:lnTo>
                    <a:lnTo>
                      <a:pt x="3777" y="372"/>
                    </a:lnTo>
                    <a:lnTo>
                      <a:pt x="3789" y="385"/>
                    </a:lnTo>
                    <a:lnTo>
                      <a:pt x="3801" y="398"/>
                    </a:lnTo>
                    <a:lnTo>
                      <a:pt x="3812" y="413"/>
                    </a:lnTo>
                    <a:lnTo>
                      <a:pt x="3821" y="429"/>
                    </a:lnTo>
                    <a:lnTo>
                      <a:pt x="3824" y="438"/>
                    </a:lnTo>
                    <a:lnTo>
                      <a:pt x="3827" y="447"/>
                    </a:lnTo>
                    <a:lnTo>
                      <a:pt x="3830" y="456"/>
                    </a:lnTo>
                    <a:lnTo>
                      <a:pt x="3831" y="465"/>
                    </a:lnTo>
                    <a:lnTo>
                      <a:pt x="3832" y="475"/>
                    </a:lnTo>
                    <a:lnTo>
                      <a:pt x="3832" y="484"/>
                    </a:lnTo>
                    <a:lnTo>
                      <a:pt x="3831" y="494"/>
                    </a:lnTo>
                    <a:lnTo>
                      <a:pt x="3829" y="505"/>
                    </a:lnTo>
                    <a:lnTo>
                      <a:pt x="3825" y="515"/>
                    </a:lnTo>
                    <a:lnTo>
                      <a:pt x="3821" y="526"/>
                    </a:lnTo>
                    <a:lnTo>
                      <a:pt x="3814" y="537"/>
                    </a:lnTo>
                    <a:lnTo>
                      <a:pt x="3807" y="548"/>
                    </a:lnTo>
                    <a:lnTo>
                      <a:pt x="3776" y="588"/>
                    </a:lnTo>
                    <a:lnTo>
                      <a:pt x="3751" y="622"/>
                    </a:lnTo>
                    <a:lnTo>
                      <a:pt x="3730" y="650"/>
                    </a:lnTo>
                    <a:lnTo>
                      <a:pt x="3714" y="673"/>
                    </a:lnTo>
                    <a:lnTo>
                      <a:pt x="3702" y="690"/>
                    </a:lnTo>
                    <a:lnTo>
                      <a:pt x="3694" y="702"/>
                    </a:lnTo>
                    <a:lnTo>
                      <a:pt x="3689" y="709"/>
                    </a:lnTo>
                    <a:lnTo>
                      <a:pt x="3687" y="711"/>
                    </a:lnTo>
                    <a:lnTo>
                      <a:pt x="3807" y="694"/>
                    </a:lnTo>
                    <a:lnTo>
                      <a:pt x="3806" y="695"/>
                    </a:lnTo>
                    <a:lnTo>
                      <a:pt x="3803" y="700"/>
                    </a:lnTo>
                    <a:lnTo>
                      <a:pt x="3798" y="705"/>
                    </a:lnTo>
                    <a:lnTo>
                      <a:pt x="3793" y="714"/>
                    </a:lnTo>
                    <a:lnTo>
                      <a:pt x="3787" y="726"/>
                    </a:lnTo>
                    <a:lnTo>
                      <a:pt x="3781" y="739"/>
                    </a:lnTo>
                    <a:lnTo>
                      <a:pt x="3778" y="754"/>
                    </a:lnTo>
                    <a:lnTo>
                      <a:pt x="3777" y="771"/>
                    </a:lnTo>
                    <a:lnTo>
                      <a:pt x="3778" y="785"/>
                    </a:lnTo>
                    <a:lnTo>
                      <a:pt x="3780" y="795"/>
                    </a:lnTo>
                    <a:lnTo>
                      <a:pt x="3783" y="800"/>
                    </a:lnTo>
                    <a:lnTo>
                      <a:pt x="3785" y="803"/>
                    </a:lnTo>
                    <a:lnTo>
                      <a:pt x="3787" y="807"/>
                    </a:lnTo>
                    <a:lnTo>
                      <a:pt x="3792" y="809"/>
                    </a:lnTo>
                    <a:lnTo>
                      <a:pt x="3801" y="811"/>
                    </a:lnTo>
                    <a:lnTo>
                      <a:pt x="3813" y="813"/>
                    </a:lnTo>
                    <a:lnTo>
                      <a:pt x="3830" y="813"/>
                    </a:lnTo>
                    <a:lnTo>
                      <a:pt x="3850" y="813"/>
                    </a:lnTo>
                    <a:lnTo>
                      <a:pt x="3860" y="814"/>
                    </a:lnTo>
                    <a:lnTo>
                      <a:pt x="3866" y="817"/>
                    </a:lnTo>
                    <a:lnTo>
                      <a:pt x="3869" y="819"/>
                    </a:lnTo>
                    <a:lnTo>
                      <a:pt x="3870" y="823"/>
                    </a:lnTo>
                    <a:lnTo>
                      <a:pt x="3870" y="828"/>
                    </a:lnTo>
                    <a:lnTo>
                      <a:pt x="3867" y="833"/>
                    </a:lnTo>
                    <a:lnTo>
                      <a:pt x="3862" y="838"/>
                    </a:lnTo>
                    <a:lnTo>
                      <a:pt x="3858" y="844"/>
                    </a:lnTo>
                    <a:lnTo>
                      <a:pt x="3845" y="855"/>
                    </a:lnTo>
                    <a:lnTo>
                      <a:pt x="3833" y="864"/>
                    </a:lnTo>
                    <a:lnTo>
                      <a:pt x="3824" y="871"/>
                    </a:lnTo>
                    <a:lnTo>
                      <a:pt x="3820" y="874"/>
                    </a:lnTo>
                    <a:lnTo>
                      <a:pt x="3821" y="876"/>
                    </a:lnTo>
                    <a:lnTo>
                      <a:pt x="3823" y="885"/>
                    </a:lnTo>
                    <a:lnTo>
                      <a:pt x="3826" y="897"/>
                    </a:lnTo>
                    <a:lnTo>
                      <a:pt x="3832" y="909"/>
                    </a:lnTo>
                    <a:lnTo>
                      <a:pt x="3836" y="915"/>
                    </a:lnTo>
                    <a:lnTo>
                      <a:pt x="3840" y="920"/>
                    </a:lnTo>
                    <a:lnTo>
                      <a:pt x="3845" y="926"/>
                    </a:lnTo>
                    <a:lnTo>
                      <a:pt x="3851" y="930"/>
                    </a:lnTo>
                    <a:lnTo>
                      <a:pt x="3857" y="933"/>
                    </a:lnTo>
                    <a:lnTo>
                      <a:pt x="3863" y="935"/>
                    </a:lnTo>
                    <a:lnTo>
                      <a:pt x="3871" y="935"/>
                    </a:lnTo>
                    <a:lnTo>
                      <a:pt x="3880" y="934"/>
                    </a:lnTo>
                    <a:lnTo>
                      <a:pt x="3887" y="932"/>
                    </a:lnTo>
                    <a:lnTo>
                      <a:pt x="3894" y="932"/>
                    </a:lnTo>
                    <a:lnTo>
                      <a:pt x="3899" y="933"/>
                    </a:lnTo>
                    <a:lnTo>
                      <a:pt x="3905" y="936"/>
                    </a:lnTo>
                    <a:lnTo>
                      <a:pt x="3908" y="941"/>
                    </a:lnTo>
                    <a:lnTo>
                      <a:pt x="3913" y="945"/>
                    </a:lnTo>
                    <a:lnTo>
                      <a:pt x="3915" y="951"/>
                    </a:lnTo>
                    <a:lnTo>
                      <a:pt x="3917" y="957"/>
                    </a:lnTo>
                    <a:lnTo>
                      <a:pt x="3921" y="970"/>
                    </a:lnTo>
                    <a:lnTo>
                      <a:pt x="3922" y="982"/>
                    </a:lnTo>
                    <a:lnTo>
                      <a:pt x="3923" y="990"/>
                    </a:lnTo>
                    <a:lnTo>
                      <a:pt x="3923" y="993"/>
                    </a:lnTo>
                    <a:lnTo>
                      <a:pt x="3910" y="1097"/>
                    </a:lnTo>
                    <a:lnTo>
                      <a:pt x="3999" y="1007"/>
                    </a:lnTo>
                    <a:lnTo>
                      <a:pt x="3983" y="1173"/>
                    </a:lnTo>
                    <a:lnTo>
                      <a:pt x="4086" y="1126"/>
                    </a:lnTo>
                    <a:lnTo>
                      <a:pt x="3983" y="1247"/>
                    </a:lnTo>
                    <a:lnTo>
                      <a:pt x="4133" y="1230"/>
                    </a:lnTo>
                    <a:lnTo>
                      <a:pt x="4073" y="1337"/>
                    </a:lnTo>
                    <a:lnTo>
                      <a:pt x="4080" y="1337"/>
                    </a:lnTo>
                    <a:lnTo>
                      <a:pt x="4102" y="1335"/>
                    </a:lnTo>
                    <a:lnTo>
                      <a:pt x="4116" y="1335"/>
                    </a:lnTo>
                    <a:lnTo>
                      <a:pt x="4133" y="1337"/>
                    </a:lnTo>
                    <a:lnTo>
                      <a:pt x="4152" y="1339"/>
                    </a:lnTo>
                    <a:lnTo>
                      <a:pt x="4171" y="1341"/>
                    </a:lnTo>
                    <a:lnTo>
                      <a:pt x="4193" y="1346"/>
                    </a:lnTo>
                    <a:lnTo>
                      <a:pt x="4213" y="1351"/>
                    </a:lnTo>
                    <a:lnTo>
                      <a:pt x="4234" y="1358"/>
                    </a:lnTo>
                    <a:lnTo>
                      <a:pt x="4255" y="1367"/>
                    </a:lnTo>
                    <a:lnTo>
                      <a:pt x="4265" y="1373"/>
                    </a:lnTo>
                    <a:lnTo>
                      <a:pt x="4275" y="1378"/>
                    </a:lnTo>
                    <a:lnTo>
                      <a:pt x="4285" y="1385"/>
                    </a:lnTo>
                    <a:lnTo>
                      <a:pt x="4294" y="1392"/>
                    </a:lnTo>
                    <a:lnTo>
                      <a:pt x="4302" y="1400"/>
                    </a:lnTo>
                    <a:lnTo>
                      <a:pt x="4311" y="1409"/>
                    </a:lnTo>
                    <a:lnTo>
                      <a:pt x="4319" y="1417"/>
                    </a:lnTo>
                    <a:lnTo>
                      <a:pt x="4325" y="1427"/>
                    </a:lnTo>
                    <a:lnTo>
                      <a:pt x="4348" y="1460"/>
                    </a:lnTo>
                    <a:lnTo>
                      <a:pt x="4363" y="1486"/>
                    </a:lnTo>
                    <a:lnTo>
                      <a:pt x="4370" y="1504"/>
                    </a:lnTo>
                    <a:lnTo>
                      <a:pt x="4374" y="1517"/>
                    </a:lnTo>
                    <a:lnTo>
                      <a:pt x="4374" y="1521"/>
                    </a:lnTo>
                    <a:lnTo>
                      <a:pt x="4374" y="1525"/>
                    </a:lnTo>
                    <a:lnTo>
                      <a:pt x="4373" y="1527"/>
                    </a:lnTo>
                    <a:lnTo>
                      <a:pt x="4372" y="1528"/>
                    </a:lnTo>
                    <a:lnTo>
                      <a:pt x="4369" y="1529"/>
                    </a:lnTo>
                    <a:lnTo>
                      <a:pt x="4368" y="1530"/>
                    </a:lnTo>
                    <a:lnTo>
                      <a:pt x="4360" y="1526"/>
                    </a:lnTo>
                    <a:lnTo>
                      <a:pt x="4340" y="1516"/>
                    </a:lnTo>
                    <a:lnTo>
                      <a:pt x="4309" y="1503"/>
                    </a:lnTo>
                    <a:lnTo>
                      <a:pt x="4270" y="1489"/>
                    </a:lnTo>
                    <a:lnTo>
                      <a:pt x="4250" y="1482"/>
                    </a:lnTo>
                    <a:lnTo>
                      <a:pt x="4229" y="1475"/>
                    </a:lnTo>
                    <a:lnTo>
                      <a:pt x="4209" y="1471"/>
                    </a:lnTo>
                    <a:lnTo>
                      <a:pt x="4187" y="1466"/>
                    </a:lnTo>
                    <a:lnTo>
                      <a:pt x="4167" y="1464"/>
                    </a:lnTo>
                    <a:lnTo>
                      <a:pt x="4149" y="1464"/>
                    </a:lnTo>
                    <a:lnTo>
                      <a:pt x="4140" y="1464"/>
                    </a:lnTo>
                    <a:lnTo>
                      <a:pt x="4131" y="1465"/>
                    </a:lnTo>
                    <a:lnTo>
                      <a:pt x="4123" y="1467"/>
                    </a:lnTo>
                    <a:lnTo>
                      <a:pt x="4115" y="1469"/>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1" name=""/>
              <p:cNvSpPr/>
              <p:nvPr/>
            </p:nvSpPr>
            <p:spPr>
              <a:xfrm>
                <a:off x="840600" y="1667520"/>
                <a:ext cx="880560" cy="478440"/>
              </a:xfrm>
              <a:custGeom>
                <a:avLst/>
                <a:gdLst/>
                <a:ahLst/>
                <a:rect l="l" t="t" r="r" b="b"/>
                <a:pathLst>
                  <a:path w="4374" h="2601">
                    <a:moveTo>
                      <a:pt x="4115" y="1469"/>
                    </a:moveTo>
                    <a:lnTo>
                      <a:pt x="4115" y="1482"/>
                    </a:lnTo>
                    <a:lnTo>
                      <a:pt x="4113" y="1513"/>
                    </a:lnTo>
                    <a:lnTo>
                      <a:pt x="4112" y="1561"/>
                    </a:lnTo>
                    <a:lnTo>
                      <a:pt x="4110" y="1618"/>
                    </a:lnTo>
                    <a:lnTo>
                      <a:pt x="4106" y="1681"/>
                    </a:lnTo>
                    <a:lnTo>
                      <a:pt x="4105" y="1744"/>
                    </a:lnTo>
                    <a:lnTo>
                      <a:pt x="4103" y="1805"/>
                    </a:lnTo>
                    <a:lnTo>
                      <a:pt x="4103" y="1855"/>
                    </a:lnTo>
                    <a:lnTo>
                      <a:pt x="4102" y="1865"/>
                    </a:lnTo>
                    <a:lnTo>
                      <a:pt x="4101" y="1873"/>
                    </a:lnTo>
                    <a:lnTo>
                      <a:pt x="4098" y="1879"/>
                    </a:lnTo>
                    <a:lnTo>
                      <a:pt x="4096" y="1882"/>
                    </a:lnTo>
                    <a:lnTo>
                      <a:pt x="4093" y="1885"/>
                    </a:lnTo>
                    <a:lnTo>
                      <a:pt x="4088" y="1885"/>
                    </a:lnTo>
                    <a:lnTo>
                      <a:pt x="4084" y="1882"/>
                    </a:lnTo>
                    <a:lnTo>
                      <a:pt x="4078" y="1880"/>
                    </a:lnTo>
                    <a:lnTo>
                      <a:pt x="4066" y="1870"/>
                    </a:lnTo>
                    <a:lnTo>
                      <a:pt x="4052" y="1858"/>
                    </a:lnTo>
                    <a:lnTo>
                      <a:pt x="4037" y="1841"/>
                    </a:lnTo>
                    <a:lnTo>
                      <a:pt x="4021" y="1823"/>
                    </a:lnTo>
                    <a:lnTo>
                      <a:pt x="4003" y="1805"/>
                    </a:lnTo>
                    <a:lnTo>
                      <a:pt x="3986" y="1788"/>
                    </a:lnTo>
                    <a:lnTo>
                      <a:pt x="3968" y="1772"/>
                    </a:lnTo>
                    <a:lnTo>
                      <a:pt x="3951" y="1760"/>
                    </a:lnTo>
                    <a:lnTo>
                      <a:pt x="3942" y="1755"/>
                    </a:lnTo>
                    <a:lnTo>
                      <a:pt x="3934" y="1752"/>
                    </a:lnTo>
                    <a:lnTo>
                      <a:pt x="3926" y="1750"/>
                    </a:lnTo>
                    <a:lnTo>
                      <a:pt x="3920" y="1750"/>
                    </a:lnTo>
                    <a:lnTo>
                      <a:pt x="3912" y="1751"/>
                    </a:lnTo>
                    <a:lnTo>
                      <a:pt x="3905" y="1754"/>
                    </a:lnTo>
                    <a:lnTo>
                      <a:pt x="3898" y="1759"/>
                    </a:lnTo>
                    <a:lnTo>
                      <a:pt x="3893" y="1765"/>
                    </a:lnTo>
                    <a:lnTo>
                      <a:pt x="3888" y="1774"/>
                    </a:lnTo>
                    <a:lnTo>
                      <a:pt x="3884" y="1783"/>
                    </a:lnTo>
                    <a:lnTo>
                      <a:pt x="3879" y="1793"/>
                    </a:lnTo>
                    <a:lnTo>
                      <a:pt x="3877" y="1804"/>
                    </a:lnTo>
                    <a:lnTo>
                      <a:pt x="3875" y="1815"/>
                    </a:lnTo>
                    <a:lnTo>
                      <a:pt x="3874" y="1826"/>
                    </a:lnTo>
                    <a:lnTo>
                      <a:pt x="3872" y="1838"/>
                    </a:lnTo>
                    <a:lnTo>
                      <a:pt x="3872" y="1850"/>
                    </a:lnTo>
                    <a:lnTo>
                      <a:pt x="3874" y="1874"/>
                    </a:lnTo>
                    <a:lnTo>
                      <a:pt x="3876" y="1900"/>
                    </a:lnTo>
                    <a:lnTo>
                      <a:pt x="3880" y="1925"/>
                    </a:lnTo>
                    <a:lnTo>
                      <a:pt x="3886" y="1949"/>
                    </a:lnTo>
                    <a:lnTo>
                      <a:pt x="3897" y="1994"/>
                    </a:lnTo>
                    <a:lnTo>
                      <a:pt x="3910" y="2031"/>
                    </a:lnTo>
                    <a:lnTo>
                      <a:pt x="3920" y="2057"/>
                    </a:lnTo>
                    <a:lnTo>
                      <a:pt x="3923" y="2066"/>
                    </a:lnTo>
                    <a:lnTo>
                      <a:pt x="3863" y="2481"/>
                    </a:lnTo>
                    <a:lnTo>
                      <a:pt x="3854" y="2453"/>
                    </a:lnTo>
                    <a:lnTo>
                      <a:pt x="3832" y="2380"/>
                    </a:lnTo>
                    <a:lnTo>
                      <a:pt x="3816" y="2331"/>
                    </a:lnTo>
                    <a:lnTo>
                      <a:pt x="3796" y="2277"/>
                    </a:lnTo>
                    <a:lnTo>
                      <a:pt x="3774" y="2220"/>
                    </a:lnTo>
                    <a:lnTo>
                      <a:pt x="3749" y="2160"/>
                    </a:lnTo>
                    <a:lnTo>
                      <a:pt x="3735" y="2132"/>
                    </a:lnTo>
                    <a:lnTo>
                      <a:pt x="3722" y="2103"/>
                    </a:lnTo>
                    <a:lnTo>
                      <a:pt x="3707" y="2075"/>
                    </a:lnTo>
                    <a:lnTo>
                      <a:pt x="3691" y="2048"/>
                    </a:lnTo>
                    <a:lnTo>
                      <a:pt x="3676" y="2022"/>
                    </a:lnTo>
                    <a:lnTo>
                      <a:pt x="3660" y="1997"/>
                    </a:lnTo>
                    <a:lnTo>
                      <a:pt x="3643" y="1975"/>
                    </a:lnTo>
                    <a:lnTo>
                      <a:pt x="3626" y="1953"/>
                    </a:lnTo>
                    <a:lnTo>
                      <a:pt x="3608" y="1934"/>
                    </a:lnTo>
                    <a:lnTo>
                      <a:pt x="3591" y="1918"/>
                    </a:lnTo>
                    <a:lnTo>
                      <a:pt x="3572" y="1905"/>
                    </a:lnTo>
                    <a:lnTo>
                      <a:pt x="3554" y="1894"/>
                    </a:lnTo>
                    <a:lnTo>
                      <a:pt x="3535" y="1887"/>
                    </a:lnTo>
                    <a:lnTo>
                      <a:pt x="3516" y="1882"/>
                    </a:lnTo>
                    <a:lnTo>
                      <a:pt x="3497" y="1882"/>
                    </a:lnTo>
                    <a:lnTo>
                      <a:pt x="3478" y="1886"/>
                    </a:lnTo>
                    <a:lnTo>
                      <a:pt x="3459" y="1892"/>
                    </a:lnTo>
                    <a:lnTo>
                      <a:pt x="3441" y="1900"/>
                    </a:lnTo>
                    <a:lnTo>
                      <a:pt x="3423" y="1910"/>
                    </a:lnTo>
                    <a:lnTo>
                      <a:pt x="3406" y="1923"/>
                    </a:lnTo>
                    <a:lnTo>
                      <a:pt x="3389" y="1936"/>
                    </a:lnTo>
                    <a:lnTo>
                      <a:pt x="3373" y="1952"/>
                    </a:lnTo>
                    <a:lnTo>
                      <a:pt x="3359" y="1968"/>
                    </a:lnTo>
                    <a:lnTo>
                      <a:pt x="3344" y="1985"/>
                    </a:lnTo>
                    <a:lnTo>
                      <a:pt x="3331" y="2003"/>
                    </a:lnTo>
                    <a:lnTo>
                      <a:pt x="3318" y="2022"/>
                    </a:lnTo>
                    <a:lnTo>
                      <a:pt x="3306" y="2042"/>
                    </a:lnTo>
                    <a:lnTo>
                      <a:pt x="3294" y="2062"/>
                    </a:lnTo>
                    <a:lnTo>
                      <a:pt x="3272" y="2104"/>
                    </a:lnTo>
                    <a:lnTo>
                      <a:pt x="3253" y="2146"/>
                    </a:lnTo>
                    <a:lnTo>
                      <a:pt x="3236" y="2187"/>
                    </a:lnTo>
                    <a:lnTo>
                      <a:pt x="3222" y="2227"/>
                    </a:lnTo>
                    <a:lnTo>
                      <a:pt x="3209" y="2263"/>
                    </a:lnTo>
                    <a:lnTo>
                      <a:pt x="3199" y="2295"/>
                    </a:lnTo>
                    <a:lnTo>
                      <a:pt x="3187" y="2344"/>
                    </a:lnTo>
                    <a:lnTo>
                      <a:pt x="3182" y="2362"/>
                    </a:lnTo>
                    <a:lnTo>
                      <a:pt x="2943" y="2301"/>
                    </a:lnTo>
                    <a:lnTo>
                      <a:pt x="3211" y="1410"/>
                    </a:lnTo>
                    <a:lnTo>
                      <a:pt x="3209" y="1393"/>
                    </a:lnTo>
                    <a:lnTo>
                      <a:pt x="3199" y="1347"/>
                    </a:lnTo>
                    <a:lnTo>
                      <a:pt x="3191" y="1314"/>
                    </a:lnTo>
                    <a:lnTo>
                      <a:pt x="3182" y="1278"/>
                    </a:lnTo>
                    <a:lnTo>
                      <a:pt x="3170" y="1238"/>
                    </a:lnTo>
                    <a:lnTo>
                      <a:pt x="3155" y="1194"/>
                    </a:lnTo>
                    <a:lnTo>
                      <a:pt x="3140" y="1149"/>
                    </a:lnTo>
                    <a:lnTo>
                      <a:pt x="3119" y="1101"/>
                    </a:lnTo>
                    <a:lnTo>
                      <a:pt x="3109" y="1079"/>
                    </a:lnTo>
                    <a:lnTo>
                      <a:pt x="3098" y="1055"/>
                    </a:lnTo>
                    <a:lnTo>
                      <a:pt x="3086" y="1032"/>
                    </a:lnTo>
                    <a:lnTo>
                      <a:pt x="3073" y="1008"/>
                    </a:lnTo>
                    <a:lnTo>
                      <a:pt x="3060" y="986"/>
                    </a:lnTo>
                    <a:lnTo>
                      <a:pt x="3045" y="963"/>
                    </a:lnTo>
                    <a:lnTo>
                      <a:pt x="3031" y="941"/>
                    </a:lnTo>
                    <a:lnTo>
                      <a:pt x="3014" y="920"/>
                    </a:lnTo>
                    <a:lnTo>
                      <a:pt x="2998" y="899"/>
                    </a:lnTo>
                    <a:lnTo>
                      <a:pt x="2980" y="880"/>
                    </a:lnTo>
                    <a:lnTo>
                      <a:pt x="2962" y="862"/>
                    </a:lnTo>
                    <a:lnTo>
                      <a:pt x="2943" y="844"/>
                    </a:lnTo>
                    <a:lnTo>
                      <a:pt x="2907" y="871"/>
                    </a:lnTo>
                    <a:lnTo>
                      <a:pt x="2808" y="943"/>
                    </a:lnTo>
                    <a:lnTo>
                      <a:pt x="2738" y="991"/>
                    </a:lnTo>
                    <a:lnTo>
                      <a:pt x="2657" y="1045"/>
                    </a:lnTo>
                    <a:lnTo>
                      <a:pt x="2566" y="1104"/>
                    </a:lnTo>
                    <a:lnTo>
                      <a:pt x="2467" y="1164"/>
                    </a:lnTo>
                    <a:lnTo>
                      <a:pt x="2416" y="1195"/>
                    </a:lnTo>
                    <a:lnTo>
                      <a:pt x="2362" y="1225"/>
                    </a:lnTo>
                    <a:lnTo>
                      <a:pt x="2305" y="1257"/>
                    </a:lnTo>
                    <a:lnTo>
                      <a:pt x="2249" y="1286"/>
                    </a:lnTo>
                    <a:lnTo>
                      <a:pt x="2192" y="1315"/>
                    </a:lnTo>
                    <a:lnTo>
                      <a:pt x="2133" y="1344"/>
                    </a:lnTo>
                    <a:lnTo>
                      <a:pt x="2075" y="1371"/>
                    </a:lnTo>
                    <a:lnTo>
                      <a:pt x="2015" y="1397"/>
                    </a:lnTo>
                    <a:lnTo>
                      <a:pt x="1956" y="1421"/>
                    </a:lnTo>
                    <a:lnTo>
                      <a:pt x="1896" y="1444"/>
                    </a:lnTo>
                    <a:lnTo>
                      <a:pt x="1837" y="1465"/>
                    </a:lnTo>
                    <a:lnTo>
                      <a:pt x="1777" y="1483"/>
                    </a:lnTo>
                    <a:lnTo>
                      <a:pt x="1719" y="1499"/>
                    </a:lnTo>
                    <a:lnTo>
                      <a:pt x="1660" y="1512"/>
                    </a:lnTo>
                    <a:lnTo>
                      <a:pt x="1603" y="1522"/>
                    </a:lnTo>
                    <a:lnTo>
                      <a:pt x="1547" y="1530"/>
                    </a:lnTo>
                    <a:lnTo>
                      <a:pt x="1568" y="1520"/>
                    </a:lnTo>
                    <a:lnTo>
                      <a:pt x="1625" y="1494"/>
                    </a:lnTo>
                    <a:lnTo>
                      <a:pt x="1665" y="1475"/>
                    </a:lnTo>
                    <a:lnTo>
                      <a:pt x="1707" y="1454"/>
                    </a:lnTo>
                    <a:lnTo>
                      <a:pt x="1755" y="1430"/>
                    </a:lnTo>
                    <a:lnTo>
                      <a:pt x="1803" y="1403"/>
                    </a:lnTo>
                    <a:lnTo>
                      <a:pt x="1851" y="1374"/>
                    </a:lnTo>
                    <a:lnTo>
                      <a:pt x="1899" y="1343"/>
                    </a:lnTo>
                    <a:lnTo>
                      <a:pt x="1922" y="1328"/>
                    </a:lnTo>
                    <a:lnTo>
                      <a:pt x="1945" y="1311"/>
                    </a:lnTo>
                    <a:lnTo>
                      <a:pt x="1965" y="1295"/>
                    </a:lnTo>
                    <a:lnTo>
                      <a:pt x="1985" y="1278"/>
                    </a:lnTo>
                    <a:lnTo>
                      <a:pt x="2004" y="1261"/>
                    </a:lnTo>
                    <a:lnTo>
                      <a:pt x="2021" y="1244"/>
                    </a:lnTo>
                    <a:lnTo>
                      <a:pt x="2037" y="1227"/>
                    </a:lnTo>
                    <a:lnTo>
                      <a:pt x="2050" y="1211"/>
                    </a:lnTo>
                    <a:lnTo>
                      <a:pt x="2062" y="1194"/>
                    </a:lnTo>
                    <a:lnTo>
                      <a:pt x="2071" y="1177"/>
                    </a:lnTo>
                    <a:lnTo>
                      <a:pt x="2077" y="1160"/>
                    </a:lnTo>
                    <a:lnTo>
                      <a:pt x="2082" y="1144"/>
                    </a:lnTo>
                    <a:lnTo>
                      <a:pt x="2084" y="1128"/>
                    </a:lnTo>
                    <a:lnTo>
                      <a:pt x="2084" y="1116"/>
                    </a:lnTo>
                    <a:lnTo>
                      <a:pt x="2084" y="1107"/>
                    </a:lnTo>
                    <a:lnTo>
                      <a:pt x="2082" y="1101"/>
                    </a:lnTo>
                    <a:lnTo>
                      <a:pt x="2078" y="1097"/>
                    </a:lnTo>
                    <a:lnTo>
                      <a:pt x="2074" y="1096"/>
                    </a:lnTo>
                    <a:lnTo>
                      <a:pt x="2068" y="1097"/>
                    </a:lnTo>
                    <a:lnTo>
                      <a:pt x="2062" y="1100"/>
                    </a:lnTo>
                    <a:lnTo>
                      <a:pt x="2044" y="1113"/>
                    </a:lnTo>
                    <a:lnTo>
                      <a:pt x="2021" y="1132"/>
                    </a:lnTo>
                    <a:lnTo>
                      <a:pt x="1994" y="1155"/>
                    </a:lnTo>
                    <a:lnTo>
                      <a:pt x="1963" y="1182"/>
                    </a:lnTo>
                    <a:lnTo>
                      <a:pt x="1927" y="1213"/>
                    </a:lnTo>
                    <a:lnTo>
                      <a:pt x="1887" y="1244"/>
                    </a:lnTo>
                    <a:lnTo>
                      <a:pt x="1866" y="1260"/>
                    </a:lnTo>
                    <a:lnTo>
                      <a:pt x="1843" y="1276"/>
                    </a:lnTo>
                    <a:lnTo>
                      <a:pt x="1821" y="1290"/>
                    </a:lnTo>
                    <a:lnTo>
                      <a:pt x="1796" y="1305"/>
                    </a:lnTo>
                    <a:lnTo>
                      <a:pt x="1772" y="1319"/>
                    </a:lnTo>
                    <a:lnTo>
                      <a:pt x="1747" y="1331"/>
                    </a:lnTo>
                    <a:lnTo>
                      <a:pt x="1720" y="1343"/>
                    </a:lnTo>
                    <a:lnTo>
                      <a:pt x="1693" y="1353"/>
                    </a:lnTo>
                    <a:lnTo>
                      <a:pt x="1665" y="1362"/>
                    </a:lnTo>
                    <a:lnTo>
                      <a:pt x="1636" y="1370"/>
                    </a:lnTo>
                    <a:lnTo>
                      <a:pt x="1606" y="1376"/>
                    </a:lnTo>
                    <a:lnTo>
                      <a:pt x="1576" y="1379"/>
                    </a:lnTo>
                    <a:lnTo>
                      <a:pt x="1523" y="1385"/>
                    </a:lnTo>
                    <a:lnTo>
                      <a:pt x="1488" y="1387"/>
                    </a:lnTo>
                    <a:lnTo>
                      <a:pt x="1468" y="1389"/>
                    </a:lnTo>
                    <a:lnTo>
                      <a:pt x="1461" y="1388"/>
                    </a:lnTo>
                    <a:lnTo>
                      <a:pt x="1480" y="1378"/>
                    </a:lnTo>
                    <a:lnTo>
                      <a:pt x="1533" y="1358"/>
                    </a:lnTo>
                    <a:lnTo>
                      <a:pt x="1567" y="1342"/>
                    </a:lnTo>
                    <a:lnTo>
                      <a:pt x="1604" y="1323"/>
                    </a:lnTo>
                    <a:lnTo>
                      <a:pt x="1622" y="1312"/>
                    </a:lnTo>
                    <a:lnTo>
                      <a:pt x="1641" y="1299"/>
                    </a:lnTo>
                    <a:lnTo>
                      <a:pt x="1660" y="1286"/>
                    </a:lnTo>
                    <a:lnTo>
                      <a:pt x="1678" y="1271"/>
                    </a:lnTo>
                    <a:lnTo>
                      <a:pt x="1695" y="1257"/>
                    </a:lnTo>
                    <a:lnTo>
                      <a:pt x="1712" y="1240"/>
                    </a:lnTo>
                    <a:lnTo>
                      <a:pt x="1728" y="1222"/>
                    </a:lnTo>
                    <a:lnTo>
                      <a:pt x="1742" y="1203"/>
                    </a:lnTo>
                    <a:lnTo>
                      <a:pt x="1755" y="1182"/>
                    </a:lnTo>
                    <a:lnTo>
                      <a:pt x="1766" y="1161"/>
                    </a:lnTo>
                    <a:lnTo>
                      <a:pt x="1775" y="1139"/>
                    </a:lnTo>
                    <a:lnTo>
                      <a:pt x="1782" y="1114"/>
                    </a:lnTo>
                    <a:lnTo>
                      <a:pt x="1786" y="1090"/>
                    </a:lnTo>
                    <a:lnTo>
                      <a:pt x="1790" y="1069"/>
                    </a:lnTo>
                    <a:lnTo>
                      <a:pt x="1792" y="1051"/>
                    </a:lnTo>
                    <a:lnTo>
                      <a:pt x="1792" y="1035"/>
                    </a:lnTo>
                    <a:lnTo>
                      <a:pt x="1792" y="1023"/>
                    </a:lnTo>
                    <a:lnTo>
                      <a:pt x="1788" y="1011"/>
                    </a:lnTo>
                    <a:lnTo>
                      <a:pt x="1785" y="1004"/>
                    </a:lnTo>
                    <a:lnTo>
                      <a:pt x="1781" y="998"/>
                    </a:lnTo>
                    <a:lnTo>
                      <a:pt x="1774" y="995"/>
                    </a:lnTo>
                    <a:lnTo>
                      <a:pt x="1766" y="992"/>
                    </a:lnTo>
                    <a:lnTo>
                      <a:pt x="1758" y="993"/>
                    </a:lnTo>
                    <a:lnTo>
                      <a:pt x="1748" y="995"/>
                    </a:lnTo>
                    <a:lnTo>
                      <a:pt x="1737" y="999"/>
                    </a:lnTo>
                    <a:lnTo>
                      <a:pt x="1725" y="1005"/>
                    </a:lnTo>
                    <a:lnTo>
                      <a:pt x="1712" y="1011"/>
                    </a:lnTo>
                    <a:lnTo>
                      <a:pt x="1697" y="1019"/>
                    </a:lnTo>
                    <a:lnTo>
                      <a:pt x="1667" y="1041"/>
                    </a:lnTo>
                    <a:lnTo>
                      <a:pt x="1632" y="1065"/>
                    </a:lnTo>
                    <a:lnTo>
                      <a:pt x="1594" y="1094"/>
                    </a:lnTo>
                    <a:lnTo>
                      <a:pt x="1553" y="1125"/>
                    </a:lnTo>
                    <a:lnTo>
                      <a:pt x="1510" y="1158"/>
                    </a:lnTo>
                    <a:lnTo>
                      <a:pt x="1465" y="1191"/>
                    </a:lnTo>
                    <a:lnTo>
                      <a:pt x="1416" y="1226"/>
                    </a:lnTo>
                    <a:lnTo>
                      <a:pt x="1367" y="1260"/>
                    </a:lnTo>
                    <a:lnTo>
                      <a:pt x="1323" y="1289"/>
                    </a:lnTo>
                    <a:lnTo>
                      <a:pt x="1293" y="1313"/>
                    </a:lnTo>
                    <a:lnTo>
                      <a:pt x="1271" y="1329"/>
                    </a:lnTo>
                    <a:lnTo>
                      <a:pt x="1260" y="1340"/>
                    </a:lnTo>
                    <a:lnTo>
                      <a:pt x="1257" y="1343"/>
                    </a:lnTo>
                    <a:lnTo>
                      <a:pt x="1256" y="1347"/>
                    </a:lnTo>
                    <a:lnTo>
                      <a:pt x="1256" y="1348"/>
                    </a:lnTo>
                    <a:lnTo>
                      <a:pt x="1256" y="1348"/>
                    </a:lnTo>
                    <a:lnTo>
                      <a:pt x="1260" y="1347"/>
                    </a:lnTo>
                    <a:lnTo>
                      <a:pt x="1267" y="1342"/>
                    </a:lnTo>
                    <a:lnTo>
                      <a:pt x="1274" y="1335"/>
                    </a:lnTo>
                    <a:lnTo>
                      <a:pt x="1279" y="1328"/>
                    </a:lnTo>
                    <a:lnTo>
                      <a:pt x="1280" y="1323"/>
                    </a:lnTo>
                    <a:lnTo>
                      <a:pt x="1281" y="1319"/>
                    </a:lnTo>
                    <a:lnTo>
                      <a:pt x="1280" y="1314"/>
                    </a:lnTo>
                    <a:lnTo>
                      <a:pt x="1278" y="1311"/>
                    </a:lnTo>
                    <a:lnTo>
                      <a:pt x="1275" y="1306"/>
                    </a:lnTo>
                    <a:lnTo>
                      <a:pt x="1269" y="1302"/>
                    </a:lnTo>
                    <a:lnTo>
                      <a:pt x="1262" y="1298"/>
                    </a:lnTo>
                    <a:lnTo>
                      <a:pt x="1252" y="1296"/>
                    </a:lnTo>
                    <a:lnTo>
                      <a:pt x="1240" y="1293"/>
                    </a:lnTo>
                    <a:lnTo>
                      <a:pt x="1225" y="1292"/>
                    </a:lnTo>
                    <a:lnTo>
                      <a:pt x="1207" y="1290"/>
                    </a:lnTo>
                    <a:lnTo>
                      <a:pt x="1187" y="1289"/>
                    </a:lnTo>
                    <a:lnTo>
                      <a:pt x="1143" y="1290"/>
                    </a:lnTo>
                    <a:lnTo>
                      <a:pt x="1103" y="1294"/>
                    </a:lnTo>
                    <a:lnTo>
                      <a:pt x="1084" y="1296"/>
                    </a:lnTo>
                    <a:lnTo>
                      <a:pt x="1064" y="1299"/>
                    </a:lnTo>
                    <a:lnTo>
                      <a:pt x="1046" y="1303"/>
                    </a:lnTo>
                    <a:lnTo>
                      <a:pt x="1030" y="1306"/>
                    </a:lnTo>
                    <a:lnTo>
                      <a:pt x="1013" y="1311"/>
                    </a:lnTo>
                    <a:lnTo>
                      <a:pt x="997" y="1316"/>
                    </a:lnTo>
                    <a:lnTo>
                      <a:pt x="982" y="1322"/>
                    </a:lnTo>
                    <a:lnTo>
                      <a:pt x="969" y="1328"/>
                    </a:lnTo>
                    <a:lnTo>
                      <a:pt x="957" y="1334"/>
                    </a:lnTo>
                    <a:lnTo>
                      <a:pt x="944" y="1341"/>
                    </a:lnTo>
                    <a:lnTo>
                      <a:pt x="934" y="1349"/>
                    </a:lnTo>
                    <a:lnTo>
                      <a:pt x="924" y="1357"/>
                    </a:lnTo>
                    <a:lnTo>
                      <a:pt x="916" y="1366"/>
                    </a:lnTo>
                    <a:lnTo>
                      <a:pt x="908" y="1375"/>
                    </a:lnTo>
                    <a:lnTo>
                      <a:pt x="903" y="1385"/>
                    </a:lnTo>
                    <a:lnTo>
                      <a:pt x="898" y="1395"/>
                    </a:lnTo>
                    <a:lnTo>
                      <a:pt x="894" y="1406"/>
                    </a:lnTo>
                    <a:lnTo>
                      <a:pt x="891" y="1418"/>
                    </a:lnTo>
                    <a:lnTo>
                      <a:pt x="891" y="1429"/>
                    </a:lnTo>
                    <a:lnTo>
                      <a:pt x="891" y="1441"/>
                    </a:lnTo>
                    <a:lnTo>
                      <a:pt x="894" y="1455"/>
                    </a:lnTo>
                    <a:lnTo>
                      <a:pt x="897" y="1468"/>
                    </a:lnTo>
                    <a:lnTo>
                      <a:pt x="901" y="1482"/>
                    </a:lnTo>
                    <a:lnTo>
                      <a:pt x="908" y="1496"/>
                    </a:lnTo>
                    <a:lnTo>
                      <a:pt x="917" y="1511"/>
                    </a:lnTo>
                    <a:lnTo>
                      <a:pt x="926" y="1527"/>
                    </a:lnTo>
                    <a:lnTo>
                      <a:pt x="937" y="1543"/>
                    </a:lnTo>
                    <a:lnTo>
                      <a:pt x="951" y="1559"/>
                    </a:lnTo>
                    <a:lnTo>
                      <a:pt x="964" y="1576"/>
                    </a:lnTo>
                    <a:lnTo>
                      <a:pt x="978" y="1593"/>
                    </a:lnTo>
                    <a:lnTo>
                      <a:pt x="990" y="1611"/>
                    </a:lnTo>
                    <a:lnTo>
                      <a:pt x="1002" y="1629"/>
                    </a:lnTo>
                    <a:lnTo>
                      <a:pt x="1023" y="1666"/>
                    </a:lnTo>
                    <a:lnTo>
                      <a:pt x="1042" y="1703"/>
                    </a:lnTo>
                    <a:lnTo>
                      <a:pt x="1059" y="1741"/>
                    </a:lnTo>
                    <a:lnTo>
                      <a:pt x="1073" y="1778"/>
                    </a:lnTo>
                    <a:lnTo>
                      <a:pt x="1087" y="1814"/>
                    </a:lnTo>
                    <a:lnTo>
                      <a:pt x="1097" y="1849"/>
                    </a:lnTo>
                    <a:lnTo>
                      <a:pt x="1106" y="1881"/>
                    </a:lnTo>
                    <a:lnTo>
                      <a:pt x="1114" y="1910"/>
                    </a:lnTo>
                    <a:lnTo>
                      <a:pt x="1120" y="1937"/>
                    </a:lnTo>
                    <a:lnTo>
                      <a:pt x="1124" y="1960"/>
                    </a:lnTo>
                    <a:lnTo>
                      <a:pt x="1130" y="1994"/>
                    </a:lnTo>
                    <a:lnTo>
                      <a:pt x="1131" y="2005"/>
                    </a:lnTo>
                    <a:lnTo>
                      <a:pt x="1120" y="1994"/>
                    </a:lnTo>
                    <a:lnTo>
                      <a:pt x="1089" y="1966"/>
                    </a:lnTo>
                    <a:lnTo>
                      <a:pt x="1069" y="1949"/>
                    </a:lnTo>
                    <a:lnTo>
                      <a:pt x="1048" y="1930"/>
                    </a:lnTo>
                    <a:lnTo>
                      <a:pt x="1024" y="1910"/>
                    </a:lnTo>
                    <a:lnTo>
                      <a:pt x="999" y="1892"/>
                    </a:lnTo>
                    <a:lnTo>
                      <a:pt x="976" y="1877"/>
                    </a:lnTo>
                    <a:lnTo>
                      <a:pt x="954" y="1864"/>
                    </a:lnTo>
                    <a:lnTo>
                      <a:pt x="943" y="1860"/>
                    </a:lnTo>
                    <a:lnTo>
                      <a:pt x="933" y="1856"/>
                    </a:lnTo>
                    <a:lnTo>
                      <a:pt x="924" y="1854"/>
                    </a:lnTo>
                    <a:lnTo>
                      <a:pt x="916" y="1853"/>
                    </a:lnTo>
                    <a:lnTo>
                      <a:pt x="908" y="1854"/>
                    </a:lnTo>
                    <a:lnTo>
                      <a:pt x="903" y="1856"/>
                    </a:lnTo>
                    <a:lnTo>
                      <a:pt x="897" y="1861"/>
                    </a:lnTo>
                    <a:lnTo>
                      <a:pt x="892" y="1868"/>
                    </a:lnTo>
                    <a:lnTo>
                      <a:pt x="890" y="1876"/>
                    </a:lnTo>
                    <a:lnTo>
                      <a:pt x="889" y="1887"/>
                    </a:lnTo>
                    <a:lnTo>
                      <a:pt x="889" y="1900"/>
                    </a:lnTo>
                    <a:lnTo>
                      <a:pt x="891" y="1915"/>
                    </a:lnTo>
                    <a:lnTo>
                      <a:pt x="895" y="1933"/>
                    </a:lnTo>
                    <a:lnTo>
                      <a:pt x="899" y="1951"/>
                    </a:lnTo>
                    <a:lnTo>
                      <a:pt x="906" y="1971"/>
                    </a:lnTo>
                    <a:lnTo>
                      <a:pt x="914" y="1992"/>
                    </a:lnTo>
                    <a:lnTo>
                      <a:pt x="932" y="2034"/>
                    </a:lnTo>
                    <a:lnTo>
                      <a:pt x="954" y="2079"/>
                    </a:lnTo>
                    <a:lnTo>
                      <a:pt x="980" y="2127"/>
                    </a:lnTo>
                    <a:lnTo>
                      <a:pt x="1007" y="2174"/>
                    </a:lnTo>
                    <a:lnTo>
                      <a:pt x="1036" y="2220"/>
                    </a:lnTo>
                    <a:lnTo>
                      <a:pt x="1066" y="2266"/>
                    </a:lnTo>
                    <a:lnTo>
                      <a:pt x="1122" y="2349"/>
                    </a:lnTo>
                    <a:lnTo>
                      <a:pt x="1170" y="2418"/>
                    </a:lnTo>
                    <a:lnTo>
                      <a:pt x="1204" y="2464"/>
                    </a:lnTo>
                    <a:lnTo>
                      <a:pt x="1216" y="2481"/>
                    </a:lnTo>
                    <a:lnTo>
                      <a:pt x="951" y="2601"/>
                    </a:lnTo>
                    <a:lnTo>
                      <a:pt x="946" y="2574"/>
                    </a:lnTo>
                    <a:lnTo>
                      <a:pt x="934" y="2502"/>
                    </a:lnTo>
                    <a:lnTo>
                      <a:pt x="925" y="2455"/>
                    </a:lnTo>
                    <a:lnTo>
                      <a:pt x="914" y="2403"/>
                    </a:lnTo>
                    <a:lnTo>
                      <a:pt x="900" y="2348"/>
                    </a:lnTo>
                    <a:lnTo>
                      <a:pt x="886" y="2292"/>
                    </a:lnTo>
                    <a:lnTo>
                      <a:pt x="878" y="2264"/>
                    </a:lnTo>
                    <a:lnTo>
                      <a:pt x="869" y="2237"/>
                    </a:lnTo>
                    <a:lnTo>
                      <a:pt x="860" y="2210"/>
                    </a:lnTo>
                    <a:lnTo>
                      <a:pt x="850" y="2185"/>
                    </a:lnTo>
                    <a:lnTo>
                      <a:pt x="840" y="2160"/>
                    </a:lnTo>
                    <a:lnTo>
                      <a:pt x="830" y="2137"/>
                    </a:lnTo>
                    <a:lnTo>
                      <a:pt x="818" y="2116"/>
                    </a:lnTo>
                    <a:lnTo>
                      <a:pt x="807" y="2097"/>
                    </a:lnTo>
                    <a:lnTo>
                      <a:pt x="795" y="2079"/>
                    </a:lnTo>
                    <a:lnTo>
                      <a:pt x="782" y="2066"/>
                    </a:lnTo>
                    <a:lnTo>
                      <a:pt x="769" y="2053"/>
                    </a:lnTo>
                    <a:lnTo>
                      <a:pt x="756" y="2044"/>
                    </a:lnTo>
                    <a:lnTo>
                      <a:pt x="742" y="2039"/>
                    </a:lnTo>
                    <a:lnTo>
                      <a:pt x="728" y="2037"/>
                    </a:lnTo>
                    <a:lnTo>
                      <a:pt x="714" y="2039"/>
                    </a:lnTo>
                    <a:lnTo>
                      <a:pt x="698" y="2044"/>
                    </a:lnTo>
                    <a:lnTo>
                      <a:pt x="683" y="2052"/>
                    </a:lnTo>
                    <a:lnTo>
                      <a:pt x="668" y="2061"/>
                    </a:lnTo>
                    <a:lnTo>
                      <a:pt x="653" y="2073"/>
                    </a:lnTo>
                    <a:lnTo>
                      <a:pt x="638" y="2084"/>
                    </a:lnTo>
                    <a:lnTo>
                      <a:pt x="624" y="2096"/>
                    </a:lnTo>
                    <a:lnTo>
                      <a:pt x="609" y="2109"/>
                    </a:lnTo>
                    <a:lnTo>
                      <a:pt x="595" y="2123"/>
                    </a:lnTo>
                    <a:lnTo>
                      <a:pt x="580" y="2138"/>
                    </a:lnTo>
                    <a:lnTo>
                      <a:pt x="553" y="2168"/>
                    </a:lnTo>
                    <a:lnTo>
                      <a:pt x="527" y="2200"/>
                    </a:lnTo>
                    <a:lnTo>
                      <a:pt x="502" y="2231"/>
                    </a:lnTo>
                    <a:lnTo>
                      <a:pt x="479" y="2263"/>
                    </a:lnTo>
                    <a:lnTo>
                      <a:pt x="457" y="2294"/>
                    </a:lnTo>
                    <a:lnTo>
                      <a:pt x="439" y="2323"/>
                    </a:lnTo>
                    <a:lnTo>
                      <a:pt x="423" y="2350"/>
                    </a:lnTo>
                    <a:lnTo>
                      <a:pt x="408" y="2374"/>
                    </a:lnTo>
                    <a:lnTo>
                      <a:pt x="389" y="2408"/>
                    </a:lnTo>
                    <a:lnTo>
                      <a:pt x="382" y="2421"/>
                    </a:lnTo>
                    <a:lnTo>
                      <a:pt x="236" y="2156"/>
                    </a:lnTo>
                    <a:lnTo>
                      <a:pt x="87" y="2035"/>
                    </a:lnTo>
                    <a:lnTo>
                      <a:pt x="266" y="1765"/>
                    </a:lnTo>
                    <a:lnTo>
                      <a:pt x="146" y="1680"/>
                    </a:lnTo>
                    <a:lnTo>
                      <a:pt x="314" y="1543"/>
                    </a:lnTo>
                    <a:lnTo>
                      <a:pt x="0" y="1396"/>
                    </a:lnTo>
                    <a:lnTo>
                      <a:pt x="266" y="1306"/>
                    </a:lnTo>
                    <a:lnTo>
                      <a:pt x="236" y="1230"/>
                    </a:lnTo>
                    <a:lnTo>
                      <a:pt x="326" y="1260"/>
                    </a:lnTo>
                    <a:lnTo>
                      <a:pt x="296" y="1157"/>
                    </a:lnTo>
                    <a:lnTo>
                      <a:pt x="386" y="1187"/>
                    </a:lnTo>
                    <a:lnTo>
                      <a:pt x="369" y="1036"/>
                    </a:lnTo>
                    <a:lnTo>
                      <a:pt x="475" y="1024"/>
                    </a:lnTo>
                    <a:lnTo>
                      <a:pt x="475" y="1020"/>
                    </a:lnTo>
                    <a:lnTo>
                      <a:pt x="473" y="1011"/>
                    </a:lnTo>
                    <a:lnTo>
                      <a:pt x="469" y="997"/>
                    </a:lnTo>
                    <a:lnTo>
                      <a:pt x="463" y="979"/>
                    </a:lnTo>
                    <a:lnTo>
                      <a:pt x="456" y="957"/>
                    </a:lnTo>
                    <a:lnTo>
                      <a:pt x="448" y="935"/>
                    </a:lnTo>
                    <a:lnTo>
                      <a:pt x="439" y="912"/>
                    </a:lnTo>
                    <a:lnTo>
                      <a:pt x="428" y="891"/>
                    </a:lnTo>
                    <a:lnTo>
                      <a:pt x="425" y="881"/>
                    </a:lnTo>
                    <a:lnTo>
                      <a:pt x="424" y="873"/>
                    </a:lnTo>
                    <a:lnTo>
                      <a:pt x="424" y="870"/>
                    </a:lnTo>
                    <a:lnTo>
                      <a:pt x="425" y="867"/>
                    </a:lnTo>
                    <a:lnTo>
                      <a:pt x="426" y="865"/>
                    </a:lnTo>
                    <a:lnTo>
                      <a:pt x="428" y="863"/>
                    </a:lnTo>
                    <a:lnTo>
                      <a:pt x="433" y="861"/>
                    </a:lnTo>
                    <a:lnTo>
                      <a:pt x="439" y="860"/>
                    </a:lnTo>
                    <a:lnTo>
                      <a:pt x="447" y="860"/>
                    </a:lnTo>
                    <a:lnTo>
                      <a:pt x="456" y="860"/>
                    </a:lnTo>
                    <a:lnTo>
                      <a:pt x="473" y="863"/>
                    </a:lnTo>
                    <a:lnTo>
                      <a:pt x="490" y="869"/>
                    </a:lnTo>
                    <a:lnTo>
                      <a:pt x="501" y="872"/>
                    </a:lnTo>
                    <a:lnTo>
                      <a:pt x="506" y="874"/>
                    </a:lnTo>
                    <a:lnTo>
                      <a:pt x="536" y="741"/>
                    </a:lnTo>
                    <a:lnTo>
                      <a:pt x="596" y="711"/>
                    </a:lnTo>
                    <a:lnTo>
                      <a:pt x="588" y="706"/>
                    </a:lnTo>
                    <a:lnTo>
                      <a:pt x="569" y="693"/>
                    </a:lnTo>
                    <a:lnTo>
                      <a:pt x="555" y="684"/>
                    </a:lnTo>
                    <a:lnTo>
                      <a:pt x="542" y="674"/>
                    </a:lnTo>
                    <a:lnTo>
                      <a:pt x="527" y="661"/>
                    </a:lnTo>
                    <a:lnTo>
                      <a:pt x="514" y="648"/>
                    </a:lnTo>
                    <a:lnTo>
                      <a:pt x="500" y="633"/>
                    </a:lnTo>
                    <a:lnTo>
                      <a:pt x="488" y="619"/>
                    </a:lnTo>
                    <a:lnTo>
                      <a:pt x="477" y="603"/>
                    </a:lnTo>
                    <a:lnTo>
                      <a:pt x="469" y="586"/>
                    </a:lnTo>
                    <a:lnTo>
                      <a:pt x="466" y="578"/>
                    </a:lnTo>
                    <a:lnTo>
                      <a:pt x="464" y="569"/>
                    </a:lnTo>
                    <a:lnTo>
                      <a:pt x="464" y="560"/>
                    </a:lnTo>
                    <a:lnTo>
                      <a:pt x="464" y="552"/>
                    </a:lnTo>
                    <a:lnTo>
                      <a:pt x="465" y="543"/>
                    </a:lnTo>
                    <a:lnTo>
                      <a:pt x="468" y="535"/>
                    </a:lnTo>
                    <a:lnTo>
                      <a:pt x="471" y="526"/>
                    </a:lnTo>
                    <a:lnTo>
                      <a:pt x="475" y="519"/>
                    </a:lnTo>
                    <a:lnTo>
                      <a:pt x="487" y="502"/>
                    </a:lnTo>
                    <a:lnTo>
                      <a:pt x="498" y="487"/>
                    </a:lnTo>
                    <a:lnTo>
                      <a:pt x="509" y="475"/>
                    </a:lnTo>
                    <a:lnTo>
                      <a:pt x="519" y="463"/>
                    </a:lnTo>
                    <a:lnTo>
                      <a:pt x="540" y="444"/>
                    </a:lnTo>
                    <a:lnTo>
                      <a:pt x="559" y="431"/>
                    </a:lnTo>
                    <a:lnTo>
                      <a:pt x="573" y="421"/>
                    </a:lnTo>
                    <a:lnTo>
                      <a:pt x="586" y="415"/>
                    </a:lnTo>
                    <a:lnTo>
                      <a:pt x="593" y="412"/>
                    </a:lnTo>
                    <a:lnTo>
                      <a:pt x="596" y="411"/>
                    </a:lnTo>
                    <a:lnTo>
                      <a:pt x="595" y="414"/>
                    </a:lnTo>
                    <a:lnTo>
                      <a:pt x="592" y="422"/>
                    </a:lnTo>
                    <a:lnTo>
                      <a:pt x="589" y="434"/>
                    </a:lnTo>
                    <a:lnTo>
                      <a:pt x="588" y="451"/>
                    </a:lnTo>
                    <a:lnTo>
                      <a:pt x="588" y="460"/>
                    </a:lnTo>
                    <a:lnTo>
                      <a:pt x="589" y="470"/>
                    </a:lnTo>
                    <a:lnTo>
                      <a:pt x="591" y="483"/>
                    </a:lnTo>
                    <a:lnTo>
                      <a:pt x="593" y="494"/>
                    </a:lnTo>
                    <a:lnTo>
                      <a:pt x="598" y="506"/>
                    </a:lnTo>
                    <a:lnTo>
                      <a:pt x="605" y="520"/>
                    </a:lnTo>
                    <a:lnTo>
                      <a:pt x="611" y="534"/>
                    </a:lnTo>
                    <a:lnTo>
                      <a:pt x="622" y="548"/>
                    </a:lnTo>
                    <a:lnTo>
                      <a:pt x="632" y="560"/>
                    </a:lnTo>
                    <a:lnTo>
                      <a:pt x="641" y="569"/>
                    </a:lnTo>
                    <a:lnTo>
                      <a:pt x="650" y="575"/>
                    </a:lnTo>
                    <a:lnTo>
                      <a:pt x="656" y="578"/>
                    </a:lnTo>
                    <a:lnTo>
                      <a:pt x="662" y="578"/>
                    </a:lnTo>
                    <a:lnTo>
                      <a:pt x="668" y="577"/>
                    </a:lnTo>
                    <a:lnTo>
                      <a:pt x="672" y="574"/>
                    </a:lnTo>
                    <a:lnTo>
                      <a:pt x="676" y="568"/>
                    </a:lnTo>
                    <a:lnTo>
                      <a:pt x="682" y="552"/>
                    </a:lnTo>
                    <a:lnTo>
                      <a:pt x="688" y="533"/>
                    </a:lnTo>
                    <a:lnTo>
                      <a:pt x="692" y="511"/>
                    </a:lnTo>
                    <a:lnTo>
                      <a:pt x="698" y="488"/>
                    </a:lnTo>
                    <a:lnTo>
                      <a:pt x="701" y="479"/>
                    </a:lnTo>
                    <a:lnTo>
                      <a:pt x="705" y="472"/>
                    </a:lnTo>
                    <a:lnTo>
                      <a:pt x="707" y="471"/>
                    </a:lnTo>
                    <a:lnTo>
                      <a:pt x="710" y="470"/>
                    </a:lnTo>
                    <a:lnTo>
                      <a:pt x="713" y="469"/>
                    </a:lnTo>
                    <a:lnTo>
                      <a:pt x="715" y="469"/>
                    </a:lnTo>
                    <a:lnTo>
                      <a:pt x="721" y="471"/>
                    </a:lnTo>
                    <a:lnTo>
                      <a:pt x="727" y="475"/>
                    </a:lnTo>
                    <a:lnTo>
                      <a:pt x="733" y="480"/>
                    </a:lnTo>
                    <a:lnTo>
                      <a:pt x="740" y="487"/>
                    </a:lnTo>
                    <a:lnTo>
                      <a:pt x="752" y="502"/>
                    </a:lnTo>
                    <a:lnTo>
                      <a:pt x="762" y="515"/>
                    </a:lnTo>
                    <a:lnTo>
                      <a:pt x="769" y="526"/>
                    </a:lnTo>
                    <a:lnTo>
                      <a:pt x="771" y="531"/>
                    </a:lnTo>
                    <a:lnTo>
                      <a:pt x="777" y="525"/>
                    </a:lnTo>
                    <a:lnTo>
                      <a:pt x="795" y="510"/>
                    </a:lnTo>
                    <a:lnTo>
                      <a:pt x="808" y="502"/>
                    </a:lnTo>
                    <a:lnTo>
                      <a:pt x="825" y="493"/>
                    </a:lnTo>
                    <a:lnTo>
                      <a:pt x="845" y="484"/>
                    </a:lnTo>
                    <a:lnTo>
                      <a:pt x="868" y="477"/>
                    </a:lnTo>
                    <a:lnTo>
                      <a:pt x="881" y="474"/>
                    </a:lnTo>
                    <a:lnTo>
                      <a:pt x="895" y="471"/>
                    </a:lnTo>
                    <a:lnTo>
                      <a:pt x="909" y="470"/>
                    </a:lnTo>
                    <a:lnTo>
                      <a:pt x="925" y="469"/>
                    </a:lnTo>
                    <a:lnTo>
                      <a:pt x="942" y="469"/>
                    </a:lnTo>
                    <a:lnTo>
                      <a:pt x="959" y="470"/>
                    </a:lnTo>
                    <a:lnTo>
                      <a:pt x="978" y="472"/>
                    </a:lnTo>
                    <a:lnTo>
                      <a:pt x="997" y="475"/>
                    </a:lnTo>
                    <a:lnTo>
                      <a:pt x="1017" y="479"/>
                    </a:lnTo>
                    <a:lnTo>
                      <a:pt x="1039" y="485"/>
                    </a:lnTo>
                    <a:lnTo>
                      <a:pt x="1061" y="492"/>
                    </a:lnTo>
                    <a:lnTo>
                      <a:pt x="1084" y="499"/>
                    </a:lnTo>
                    <a:lnTo>
                      <a:pt x="1108" y="508"/>
                    </a:lnTo>
                    <a:lnTo>
                      <a:pt x="1133" y="521"/>
                    </a:lnTo>
                    <a:lnTo>
                      <a:pt x="1159" y="533"/>
                    </a:lnTo>
                    <a:lnTo>
                      <a:pt x="1187" y="548"/>
                    </a:lnTo>
                    <a:lnTo>
                      <a:pt x="951" y="368"/>
                    </a:lnTo>
                    <a:lnTo>
                      <a:pt x="986" y="348"/>
                    </a:lnTo>
                    <a:lnTo>
                      <a:pt x="1080" y="297"/>
                    </a:lnTo>
                    <a:lnTo>
                      <a:pt x="1144" y="265"/>
                    </a:lnTo>
                    <a:lnTo>
                      <a:pt x="1220" y="229"/>
                    </a:lnTo>
                    <a:lnTo>
                      <a:pt x="1259" y="212"/>
                    </a:lnTo>
                    <a:lnTo>
                      <a:pt x="1302" y="194"/>
                    </a:lnTo>
                    <a:lnTo>
                      <a:pt x="1344" y="176"/>
                    </a:lnTo>
                    <a:lnTo>
                      <a:pt x="1389" y="160"/>
                    </a:lnTo>
                    <a:lnTo>
                      <a:pt x="1435" y="143"/>
                    </a:lnTo>
                    <a:lnTo>
                      <a:pt x="1482" y="128"/>
                    </a:lnTo>
                    <a:lnTo>
                      <a:pt x="1529" y="113"/>
                    </a:lnTo>
                    <a:lnTo>
                      <a:pt x="1576" y="100"/>
                    </a:lnTo>
                    <a:lnTo>
                      <a:pt x="1624" y="89"/>
                    </a:lnTo>
                    <a:lnTo>
                      <a:pt x="1671" y="80"/>
                    </a:lnTo>
                    <a:lnTo>
                      <a:pt x="1719" y="72"/>
                    </a:lnTo>
                    <a:lnTo>
                      <a:pt x="1766" y="66"/>
                    </a:lnTo>
                    <a:lnTo>
                      <a:pt x="1812" y="63"/>
                    </a:lnTo>
                    <a:lnTo>
                      <a:pt x="1857" y="63"/>
                    </a:lnTo>
                    <a:lnTo>
                      <a:pt x="1901" y="65"/>
                    </a:lnTo>
                    <a:lnTo>
                      <a:pt x="1944" y="71"/>
                    </a:lnTo>
                    <a:lnTo>
                      <a:pt x="1984" y="80"/>
                    </a:lnTo>
                    <a:lnTo>
                      <a:pt x="2023" y="92"/>
                    </a:lnTo>
                    <a:lnTo>
                      <a:pt x="2060" y="108"/>
                    </a:lnTo>
                    <a:lnTo>
                      <a:pt x="2094" y="128"/>
                    </a:lnTo>
                    <a:lnTo>
                      <a:pt x="2082" y="120"/>
                    </a:lnTo>
                    <a:lnTo>
                      <a:pt x="2068" y="113"/>
                    </a:lnTo>
                    <a:lnTo>
                      <a:pt x="2055" y="107"/>
                    </a:lnTo>
                    <a:lnTo>
                      <a:pt x="2041" y="101"/>
                    </a:lnTo>
                    <a:lnTo>
                      <a:pt x="2013" y="92"/>
                    </a:lnTo>
                    <a:lnTo>
                      <a:pt x="1985" y="85"/>
                    </a:lnTo>
                    <a:lnTo>
                      <a:pt x="1956" y="80"/>
                    </a:lnTo>
                    <a:lnTo>
                      <a:pt x="1928" y="76"/>
                    </a:lnTo>
                    <a:lnTo>
                      <a:pt x="1900" y="75"/>
                    </a:lnTo>
                    <a:lnTo>
                      <a:pt x="1874" y="74"/>
                    </a:lnTo>
                    <a:lnTo>
                      <a:pt x="1848" y="75"/>
                    </a:lnTo>
                    <a:lnTo>
                      <a:pt x="1825" y="76"/>
                    </a:lnTo>
                    <a:lnTo>
                      <a:pt x="1804" y="77"/>
                    </a:lnTo>
                    <a:lnTo>
                      <a:pt x="1787" y="80"/>
                    </a:lnTo>
                    <a:lnTo>
                      <a:pt x="1761" y="83"/>
                    </a:lnTo>
                    <a:lnTo>
                      <a:pt x="1752" y="85"/>
                    </a:lnTo>
                    <a:lnTo>
                      <a:pt x="1812" y="43"/>
                    </a:lnTo>
                    <a:lnTo>
                      <a:pt x="1842" y="36"/>
                    </a:lnTo>
                    <a:lnTo>
                      <a:pt x="1924" y="23"/>
                    </a:lnTo>
                    <a:lnTo>
                      <a:pt x="1981" y="16"/>
                    </a:lnTo>
                    <a:lnTo>
                      <a:pt x="2046" y="9"/>
                    </a:lnTo>
                    <a:lnTo>
                      <a:pt x="2081" y="5"/>
                    </a:lnTo>
                    <a:lnTo>
                      <a:pt x="2118" y="3"/>
                    </a:lnTo>
                    <a:lnTo>
                      <a:pt x="2156" y="2"/>
                    </a:lnTo>
                    <a:lnTo>
                      <a:pt x="2195" y="1"/>
                    </a:lnTo>
                    <a:lnTo>
                      <a:pt x="2236" y="0"/>
                    </a:lnTo>
                    <a:lnTo>
                      <a:pt x="2276" y="1"/>
                    </a:lnTo>
                    <a:lnTo>
                      <a:pt x="2318" y="2"/>
                    </a:lnTo>
                    <a:lnTo>
                      <a:pt x="2359" y="4"/>
                    </a:lnTo>
                    <a:lnTo>
                      <a:pt x="2402" y="9"/>
                    </a:lnTo>
                    <a:lnTo>
                      <a:pt x="2444" y="13"/>
                    </a:lnTo>
                    <a:lnTo>
                      <a:pt x="2485" y="20"/>
                    </a:lnTo>
                    <a:lnTo>
                      <a:pt x="2527" y="28"/>
                    </a:lnTo>
                    <a:lnTo>
                      <a:pt x="2569" y="37"/>
                    </a:lnTo>
                    <a:lnTo>
                      <a:pt x="2608" y="48"/>
                    </a:lnTo>
                    <a:lnTo>
                      <a:pt x="2647" y="62"/>
                    </a:lnTo>
                    <a:lnTo>
                      <a:pt x="2685" y="76"/>
                    </a:lnTo>
                    <a:lnTo>
                      <a:pt x="2723" y="93"/>
                    </a:lnTo>
                    <a:lnTo>
                      <a:pt x="2757" y="112"/>
                    </a:lnTo>
                    <a:lnTo>
                      <a:pt x="2791" y="134"/>
                    </a:lnTo>
                    <a:lnTo>
                      <a:pt x="2823" y="158"/>
                    </a:lnTo>
                    <a:lnTo>
                      <a:pt x="2853" y="183"/>
                    </a:lnTo>
                    <a:lnTo>
                      <a:pt x="2882" y="209"/>
                    </a:lnTo>
                    <a:lnTo>
                      <a:pt x="2910" y="234"/>
                    </a:lnTo>
                    <a:lnTo>
                      <a:pt x="2936" y="259"/>
                    </a:lnTo>
                    <a:lnTo>
                      <a:pt x="2986" y="307"/>
                    </a:lnTo>
                    <a:lnTo>
                      <a:pt x="3029" y="353"/>
                    </a:lnTo>
                    <a:lnTo>
                      <a:pt x="3068" y="397"/>
                    </a:lnTo>
                    <a:lnTo>
                      <a:pt x="3102" y="439"/>
                    </a:lnTo>
                    <a:lnTo>
                      <a:pt x="3132" y="478"/>
                    </a:lnTo>
                    <a:lnTo>
                      <a:pt x="3158" y="514"/>
                    </a:lnTo>
                    <a:lnTo>
                      <a:pt x="3179" y="547"/>
                    </a:lnTo>
                    <a:lnTo>
                      <a:pt x="3197" y="576"/>
                    </a:lnTo>
                    <a:lnTo>
                      <a:pt x="3211" y="602"/>
                    </a:lnTo>
                    <a:lnTo>
                      <a:pt x="3224" y="623"/>
                    </a:lnTo>
                    <a:lnTo>
                      <a:pt x="3237" y="654"/>
                    </a:lnTo>
                    <a:lnTo>
                      <a:pt x="3242" y="664"/>
                    </a:lnTo>
                    <a:lnTo>
                      <a:pt x="3245" y="652"/>
                    </a:lnTo>
                    <a:lnTo>
                      <a:pt x="3254" y="624"/>
                    </a:lnTo>
                    <a:lnTo>
                      <a:pt x="3261" y="604"/>
                    </a:lnTo>
                    <a:lnTo>
                      <a:pt x="3271" y="583"/>
                    </a:lnTo>
                    <a:lnTo>
                      <a:pt x="3282" y="558"/>
                    </a:lnTo>
                    <a:lnTo>
                      <a:pt x="3296" y="533"/>
                    </a:lnTo>
                    <a:lnTo>
                      <a:pt x="3313" y="508"/>
                    </a:lnTo>
                    <a:lnTo>
                      <a:pt x="3332" y="484"/>
                    </a:lnTo>
                    <a:lnTo>
                      <a:pt x="3342" y="471"/>
                    </a:lnTo>
                    <a:lnTo>
                      <a:pt x="3353" y="460"/>
                    </a:lnTo>
                    <a:lnTo>
                      <a:pt x="3364" y="449"/>
                    </a:lnTo>
                    <a:lnTo>
                      <a:pt x="3378" y="438"/>
                    </a:lnTo>
                    <a:lnTo>
                      <a:pt x="3391" y="427"/>
                    </a:lnTo>
                    <a:lnTo>
                      <a:pt x="3405" y="418"/>
                    </a:lnTo>
                    <a:lnTo>
                      <a:pt x="3421" y="409"/>
                    </a:lnTo>
                    <a:lnTo>
                      <a:pt x="3436" y="402"/>
                    </a:lnTo>
                    <a:lnTo>
                      <a:pt x="3452" y="395"/>
                    </a:lnTo>
                    <a:lnTo>
                      <a:pt x="3470" y="389"/>
                    </a:lnTo>
                    <a:lnTo>
                      <a:pt x="3488" y="385"/>
                    </a:lnTo>
                    <a:lnTo>
                      <a:pt x="3507" y="381"/>
                    </a:lnTo>
                    <a:lnTo>
                      <a:pt x="3575" y="373"/>
                    </a:lnTo>
                    <a:lnTo>
                      <a:pt x="3620" y="370"/>
                    </a:lnTo>
                    <a:lnTo>
                      <a:pt x="3635" y="369"/>
                    </a:lnTo>
                    <a:lnTo>
                      <a:pt x="3648" y="370"/>
                    </a:lnTo>
                    <a:lnTo>
                      <a:pt x="3656" y="370"/>
                    </a:lnTo>
                    <a:lnTo>
                      <a:pt x="3661" y="371"/>
                    </a:lnTo>
                    <a:lnTo>
                      <a:pt x="3664" y="372"/>
                    </a:lnTo>
                    <a:lnTo>
                      <a:pt x="3666" y="375"/>
                    </a:lnTo>
                    <a:lnTo>
                      <a:pt x="3664" y="376"/>
                    </a:lnTo>
                    <a:lnTo>
                      <a:pt x="3663" y="377"/>
                    </a:lnTo>
                    <a:lnTo>
                      <a:pt x="3660" y="380"/>
                    </a:lnTo>
                    <a:lnTo>
                      <a:pt x="3658" y="381"/>
                    </a:lnTo>
                    <a:lnTo>
                      <a:pt x="3653" y="380"/>
                    </a:lnTo>
                    <a:lnTo>
                      <a:pt x="3641" y="382"/>
                    </a:lnTo>
                    <a:lnTo>
                      <a:pt x="3633" y="384"/>
                    </a:lnTo>
                    <a:lnTo>
                      <a:pt x="3624" y="387"/>
                    </a:lnTo>
                    <a:lnTo>
                      <a:pt x="3614" y="391"/>
                    </a:lnTo>
                    <a:lnTo>
                      <a:pt x="3604" y="398"/>
                    </a:lnTo>
                    <a:lnTo>
                      <a:pt x="3594" y="407"/>
                    </a:lnTo>
                    <a:lnTo>
                      <a:pt x="3585" y="420"/>
                    </a:lnTo>
                    <a:lnTo>
                      <a:pt x="3575" y="434"/>
                    </a:lnTo>
                    <a:lnTo>
                      <a:pt x="3567" y="451"/>
                    </a:lnTo>
                    <a:lnTo>
                      <a:pt x="3563" y="461"/>
                    </a:lnTo>
                    <a:lnTo>
                      <a:pt x="3560" y="472"/>
                    </a:lnTo>
                    <a:lnTo>
                      <a:pt x="3558" y="485"/>
                    </a:lnTo>
                    <a:lnTo>
                      <a:pt x="3555" y="498"/>
                    </a:lnTo>
                    <a:lnTo>
                      <a:pt x="3553" y="512"/>
                    </a:lnTo>
                    <a:lnTo>
                      <a:pt x="3551" y="528"/>
                    </a:lnTo>
                    <a:lnTo>
                      <a:pt x="3551" y="543"/>
                    </a:lnTo>
                    <a:lnTo>
                      <a:pt x="3550" y="561"/>
                    </a:lnTo>
                    <a:lnTo>
                      <a:pt x="3551" y="569"/>
                    </a:lnTo>
                    <a:lnTo>
                      <a:pt x="3552" y="576"/>
                    </a:lnTo>
                    <a:lnTo>
                      <a:pt x="3554" y="582"/>
                    </a:lnTo>
                    <a:lnTo>
                      <a:pt x="3558" y="586"/>
                    </a:lnTo>
                    <a:lnTo>
                      <a:pt x="3561" y="589"/>
                    </a:lnTo>
                    <a:lnTo>
                      <a:pt x="3566" y="593"/>
                    </a:lnTo>
                    <a:lnTo>
                      <a:pt x="3571" y="595"/>
                    </a:lnTo>
                    <a:lnTo>
                      <a:pt x="3577" y="596"/>
                    </a:lnTo>
                    <a:lnTo>
                      <a:pt x="3582" y="596"/>
                    </a:lnTo>
                    <a:lnTo>
                      <a:pt x="3589" y="596"/>
                    </a:lnTo>
                    <a:lnTo>
                      <a:pt x="3596" y="595"/>
                    </a:lnTo>
                    <a:lnTo>
                      <a:pt x="3604" y="593"/>
                    </a:lnTo>
                    <a:lnTo>
                      <a:pt x="3620" y="588"/>
                    </a:lnTo>
                    <a:lnTo>
                      <a:pt x="3635" y="580"/>
                    </a:lnTo>
                    <a:lnTo>
                      <a:pt x="3652" y="571"/>
                    </a:lnTo>
                    <a:lnTo>
                      <a:pt x="3668" y="561"/>
                    </a:lnTo>
                    <a:lnTo>
                      <a:pt x="3682" y="550"/>
                    </a:lnTo>
                    <a:lnTo>
                      <a:pt x="3697" y="538"/>
                    </a:lnTo>
                    <a:lnTo>
                      <a:pt x="3708" y="525"/>
                    </a:lnTo>
                    <a:lnTo>
                      <a:pt x="3718" y="512"/>
                    </a:lnTo>
                    <a:lnTo>
                      <a:pt x="3726" y="499"/>
                    </a:lnTo>
                    <a:lnTo>
                      <a:pt x="3730" y="488"/>
                    </a:lnTo>
                    <a:lnTo>
                      <a:pt x="3733" y="477"/>
                    </a:lnTo>
                    <a:lnTo>
                      <a:pt x="3735" y="465"/>
                    </a:lnTo>
                    <a:lnTo>
                      <a:pt x="3736" y="452"/>
                    </a:lnTo>
                    <a:lnTo>
                      <a:pt x="3738" y="440"/>
                    </a:lnTo>
                    <a:lnTo>
                      <a:pt x="3738" y="414"/>
                    </a:lnTo>
                    <a:lnTo>
                      <a:pt x="3736" y="390"/>
                    </a:lnTo>
                    <a:lnTo>
                      <a:pt x="3734" y="370"/>
                    </a:lnTo>
                    <a:lnTo>
                      <a:pt x="3733" y="353"/>
                    </a:lnTo>
                    <a:lnTo>
                      <a:pt x="3731" y="342"/>
                    </a:lnTo>
                    <a:lnTo>
                      <a:pt x="3730" y="339"/>
                    </a:lnTo>
                    <a:lnTo>
                      <a:pt x="3736" y="342"/>
                    </a:lnTo>
                    <a:lnTo>
                      <a:pt x="3754" y="354"/>
                    </a:lnTo>
                    <a:lnTo>
                      <a:pt x="3766" y="362"/>
                    </a:lnTo>
                    <a:lnTo>
                      <a:pt x="3777" y="372"/>
                    </a:lnTo>
                    <a:lnTo>
                      <a:pt x="3789" y="385"/>
                    </a:lnTo>
                    <a:lnTo>
                      <a:pt x="3801" y="398"/>
                    </a:lnTo>
                    <a:lnTo>
                      <a:pt x="3812" y="413"/>
                    </a:lnTo>
                    <a:lnTo>
                      <a:pt x="3821" y="429"/>
                    </a:lnTo>
                    <a:lnTo>
                      <a:pt x="3824" y="438"/>
                    </a:lnTo>
                    <a:lnTo>
                      <a:pt x="3827" y="447"/>
                    </a:lnTo>
                    <a:lnTo>
                      <a:pt x="3830" y="456"/>
                    </a:lnTo>
                    <a:lnTo>
                      <a:pt x="3831" y="465"/>
                    </a:lnTo>
                    <a:lnTo>
                      <a:pt x="3832" y="475"/>
                    </a:lnTo>
                    <a:lnTo>
                      <a:pt x="3832" y="484"/>
                    </a:lnTo>
                    <a:lnTo>
                      <a:pt x="3831" y="494"/>
                    </a:lnTo>
                    <a:lnTo>
                      <a:pt x="3829" y="505"/>
                    </a:lnTo>
                    <a:lnTo>
                      <a:pt x="3825" y="515"/>
                    </a:lnTo>
                    <a:lnTo>
                      <a:pt x="3821" y="526"/>
                    </a:lnTo>
                    <a:lnTo>
                      <a:pt x="3814" y="537"/>
                    </a:lnTo>
                    <a:lnTo>
                      <a:pt x="3807" y="548"/>
                    </a:lnTo>
                    <a:lnTo>
                      <a:pt x="3776" y="588"/>
                    </a:lnTo>
                    <a:lnTo>
                      <a:pt x="3751" y="622"/>
                    </a:lnTo>
                    <a:lnTo>
                      <a:pt x="3730" y="650"/>
                    </a:lnTo>
                    <a:lnTo>
                      <a:pt x="3714" y="673"/>
                    </a:lnTo>
                    <a:lnTo>
                      <a:pt x="3702" y="690"/>
                    </a:lnTo>
                    <a:lnTo>
                      <a:pt x="3694" y="702"/>
                    </a:lnTo>
                    <a:lnTo>
                      <a:pt x="3689" y="709"/>
                    </a:lnTo>
                    <a:lnTo>
                      <a:pt x="3687" y="711"/>
                    </a:lnTo>
                    <a:lnTo>
                      <a:pt x="3807" y="694"/>
                    </a:lnTo>
                    <a:lnTo>
                      <a:pt x="3806" y="695"/>
                    </a:lnTo>
                    <a:lnTo>
                      <a:pt x="3803" y="700"/>
                    </a:lnTo>
                    <a:lnTo>
                      <a:pt x="3798" y="705"/>
                    </a:lnTo>
                    <a:lnTo>
                      <a:pt x="3793" y="714"/>
                    </a:lnTo>
                    <a:lnTo>
                      <a:pt x="3787" y="726"/>
                    </a:lnTo>
                    <a:lnTo>
                      <a:pt x="3781" y="739"/>
                    </a:lnTo>
                    <a:lnTo>
                      <a:pt x="3778" y="754"/>
                    </a:lnTo>
                    <a:lnTo>
                      <a:pt x="3777" y="771"/>
                    </a:lnTo>
                    <a:lnTo>
                      <a:pt x="3778" y="785"/>
                    </a:lnTo>
                    <a:lnTo>
                      <a:pt x="3780" y="795"/>
                    </a:lnTo>
                    <a:lnTo>
                      <a:pt x="3783" y="800"/>
                    </a:lnTo>
                    <a:lnTo>
                      <a:pt x="3785" y="803"/>
                    </a:lnTo>
                    <a:lnTo>
                      <a:pt x="3787" y="807"/>
                    </a:lnTo>
                    <a:lnTo>
                      <a:pt x="3792" y="809"/>
                    </a:lnTo>
                    <a:lnTo>
                      <a:pt x="3801" y="811"/>
                    </a:lnTo>
                    <a:lnTo>
                      <a:pt x="3813" y="813"/>
                    </a:lnTo>
                    <a:lnTo>
                      <a:pt x="3830" y="813"/>
                    </a:lnTo>
                    <a:lnTo>
                      <a:pt x="3850" y="813"/>
                    </a:lnTo>
                    <a:lnTo>
                      <a:pt x="3860" y="814"/>
                    </a:lnTo>
                    <a:lnTo>
                      <a:pt x="3866" y="817"/>
                    </a:lnTo>
                    <a:lnTo>
                      <a:pt x="3869" y="819"/>
                    </a:lnTo>
                    <a:lnTo>
                      <a:pt x="3870" y="823"/>
                    </a:lnTo>
                    <a:lnTo>
                      <a:pt x="3870" y="828"/>
                    </a:lnTo>
                    <a:lnTo>
                      <a:pt x="3867" y="833"/>
                    </a:lnTo>
                    <a:lnTo>
                      <a:pt x="3862" y="838"/>
                    </a:lnTo>
                    <a:lnTo>
                      <a:pt x="3858" y="844"/>
                    </a:lnTo>
                    <a:lnTo>
                      <a:pt x="3845" y="855"/>
                    </a:lnTo>
                    <a:lnTo>
                      <a:pt x="3833" y="864"/>
                    </a:lnTo>
                    <a:lnTo>
                      <a:pt x="3824" y="871"/>
                    </a:lnTo>
                    <a:lnTo>
                      <a:pt x="3820" y="874"/>
                    </a:lnTo>
                    <a:lnTo>
                      <a:pt x="3821" y="876"/>
                    </a:lnTo>
                    <a:lnTo>
                      <a:pt x="3823" y="885"/>
                    </a:lnTo>
                    <a:lnTo>
                      <a:pt x="3826" y="897"/>
                    </a:lnTo>
                    <a:lnTo>
                      <a:pt x="3832" y="909"/>
                    </a:lnTo>
                    <a:lnTo>
                      <a:pt x="3836" y="915"/>
                    </a:lnTo>
                    <a:lnTo>
                      <a:pt x="3840" y="920"/>
                    </a:lnTo>
                    <a:lnTo>
                      <a:pt x="3845" y="926"/>
                    </a:lnTo>
                    <a:lnTo>
                      <a:pt x="3851" y="930"/>
                    </a:lnTo>
                    <a:lnTo>
                      <a:pt x="3857" y="933"/>
                    </a:lnTo>
                    <a:lnTo>
                      <a:pt x="3863" y="935"/>
                    </a:lnTo>
                    <a:lnTo>
                      <a:pt x="3871" y="935"/>
                    </a:lnTo>
                    <a:lnTo>
                      <a:pt x="3880" y="934"/>
                    </a:lnTo>
                    <a:lnTo>
                      <a:pt x="3887" y="932"/>
                    </a:lnTo>
                    <a:lnTo>
                      <a:pt x="3894" y="932"/>
                    </a:lnTo>
                    <a:lnTo>
                      <a:pt x="3899" y="933"/>
                    </a:lnTo>
                    <a:lnTo>
                      <a:pt x="3905" y="936"/>
                    </a:lnTo>
                    <a:lnTo>
                      <a:pt x="3908" y="941"/>
                    </a:lnTo>
                    <a:lnTo>
                      <a:pt x="3913" y="945"/>
                    </a:lnTo>
                    <a:lnTo>
                      <a:pt x="3915" y="951"/>
                    </a:lnTo>
                    <a:lnTo>
                      <a:pt x="3917" y="957"/>
                    </a:lnTo>
                    <a:lnTo>
                      <a:pt x="3921" y="970"/>
                    </a:lnTo>
                    <a:lnTo>
                      <a:pt x="3922" y="982"/>
                    </a:lnTo>
                    <a:lnTo>
                      <a:pt x="3923" y="990"/>
                    </a:lnTo>
                    <a:lnTo>
                      <a:pt x="3923" y="993"/>
                    </a:lnTo>
                    <a:lnTo>
                      <a:pt x="3910" y="1097"/>
                    </a:lnTo>
                    <a:lnTo>
                      <a:pt x="3999" y="1007"/>
                    </a:lnTo>
                    <a:lnTo>
                      <a:pt x="3983" y="1173"/>
                    </a:lnTo>
                    <a:lnTo>
                      <a:pt x="4086" y="1126"/>
                    </a:lnTo>
                    <a:lnTo>
                      <a:pt x="3983" y="1247"/>
                    </a:lnTo>
                    <a:lnTo>
                      <a:pt x="4133" y="1230"/>
                    </a:lnTo>
                    <a:lnTo>
                      <a:pt x="4073" y="1337"/>
                    </a:lnTo>
                    <a:lnTo>
                      <a:pt x="4080" y="1337"/>
                    </a:lnTo>
                    <a:lnTo>
                      <a:pt x="4102" y="1335"/>
                    </a:lnTo>
                    <a:lnTo>
                      <a:pt x="4116" y="1335"/>
                    </a:lnTo>
                    <a:lnTo>
                      <a:pt x="4133" y="1337"/>
                    </a:lnTo>
                    <a:lnTo>
                      <a:pt x="4152" y="1339"/>
                    </a:lnTo>
                    <a:lnTo>
                      <a:pt x="4171" y="1341"/>
                    </a:lnTo>
                    <a:lnTo>
                      <a:pt x="4193" y="1346"/>
                    </a:lnTo>
                    <a:lnTo>
                      <a:pt x="4213" y="1351"/>
                    </a:lnTo>
                    <a:lnTo>
                      <a:pt x="4234" y="1358"/>
                    </a:lnTo>
                    <a:lnTo>
                      <a:pt x="4255" y="1367"/>
                    </a:lnTo>
                    <a:lnTo>
                      <a:pt x="4265" y="1373"/>
                    </a:lnTo>
                    <a:lnTo>
                      <a:pt x="4275" y="1378"/>
                    </a:lnTo>
                    <a:lnTo>
                      <a:pt x="4285" y="1385"/>
                    </a:lnTo>
                    <a:lnTo>
                      <a:pt x="4294" y="1392"/>
                    </a:lnTo>
                    <a:lnTo>
                      <a:pt x="4302" y="1400"/>
                    </a:lnTo>
                    <a:lnTo>
                      <a:pt x="4311" y="1409"/>
                    </a:lnTo>
                    <a:lnTo>
                      <a:pt x="4319" y="1417"/>
                    </a:lnTo>
                    <a:lnTo>
                      <a:pt x="4325" y="1427"/>
                    </a:lnTo>
                    <a:lnTo>
                      <a:pt x="4348" y="1460"/>
                    </a:lnTo>
                    <a:lnTo>
                      <a:pt x="4363" y="1486"/>
                    </a:lnTo>
                    <a:lnTo>
                      <a:pt x="4370" y="1504"/>
                    </a:lnTo>
                    <a:lnTo>
                      <a:pt x="4374" y="1517"/>
                    </a:lnTo>
                    <a:lnTo>
                      <a:pt x="4374" y="1521"/>
                    </a:lnTo>
                    <a:lnTo>
                      <a:pt x="4374" y="1525"/>
                    </a:lnTo>
                    <a:lnTo>
                      <a:pt x="4373" y="1527"/>
                    </a:lnTo>
                    <a:lnTo>
                      <a:pt x="4372" y="1528"/>
                    </a:lnTo>
                    <a:lnTo>
                      <a:pt x="4369" y="1529"/>
                    </a:lnTo>
                    <a:lnTo>
                      <a:pt x="4368" y="1530"/>
                    </a:lnTo>
                    <a:lnTo>
                      <a:pt x="4360" y="1526"/>
                    </a:lnTo>
                    <a:lnTo>
                      <a:pt x="4340" y="1516"/>
                    </a:lnTo>
                    <a:lnTo>
                      <a:pt x="4309" y="1503"/>
                    </a:lnTo>
                    <a:lnTo>
                      <a:pt x="4270" y="1489"/>
                    </a:lnTo>
                    <a:lnTo>
                      <a:pt x="4250" y="1482"/>
                    </a:lnTo>
                    <a:lnTo>
                      <a:pt x="4229" y="1475"/>
                    </a:lnTo>
                    <a:lnTo>
                      <a:pt x="4209" y="1471"/>
                    </a:lnTo>
                    <a:lnTo>
                      <a:pt x="4187" y="1466"/>
                    </a:lnTo>
                    <a:lnTo>
                      <a:pt x="4167" y="1464"/>
                    </a:lnTo>
                    <a:lnTo>
                      <a:pt x="4149" y="1464"/>
                    </a:lnTo>
                    <a:lnTo>
                      <a:pt x="4140" y="1464"/>
                    </a:lnTo>
                    <a:lnTo>
                      <a:pt x="4131" y="1465"/>
                    </a:lnTo>
                    <a:lnTo>
                      <a:pt x="4123" y="1467"/>
                    </a:lnTo>
                    <a:lnTo>
                      <a:pt x="4115" y="1469"/>
                    </a:lnTo>
                  </a:path>
                </a:pathLst>
              </a:custGeom>
              <a:noFill/>
              <a:ln w="64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2" name=""/>
              <p:cNvSpPr/>
              <p:nvPr/>
            </p:nvSpPr>
            <p:spPr>
              <a:xfrm>
                <a:off x="1108800" y="1974960"/>
                <a:ext cx="133200" cy="79920"/>
              </a:xfrm>
              <a:custGeom>
                <a:avLst/>
                <a:gdLst/>
                <a:ahLst/>
                <a:rect l="l" t="t" r="r" b="b"/>
                <a:pathLst>
                  <a:path w="655" h="434">
                    <a:moveTo>
                      <a:pt x="655" y="434"/>
                    </a:moveTo>
                    <a:lnTo>
                      <a:pt x="650" y="417"/>
                    </a:lnTo>
                    <a:lnTo>
                      <a:pt x="636" y="372"/>
                    </a:lnTo>
                    <a:lnTo>
                      <a:pt x="623" y="342"/>
                    </a:lnTo>
                    <a:lnTo>
                      <a:pt x="609" y="309"/>
                    </a:lnTo>
                    <a:lnTo>
                      <a:pt x="591" y="273"/>
                    </a:lnTo>
                    <a:lnTo>
                      <a:pt x="569" y="234"/>
                    </a:lnTo>
                    <a:lnTo>
                      <a:pt x="557" y="215"/>
                    </a:lnTo>
                    <a:lnTo>
                      <a:pt x="544" y="196"/>
                    </a:lnTo>
                    <a:lnTo>
                      <a:pt x="529" y="178"/>
                    </a:lnTo>
                    <a:lnTo>
                      <a:pt x="513" y="159"/>
                    </a:lnTo>
                    <a:lnTo>
                      <a:pt x="497" y="141"/>
                    </a:lnTo>
                    <a:lnTo>
                      <a:pt x="479" y="124"/>
                    </a:lnTo>
                    <a:lnTo>
                      <a:pt x="462" y="107"/>
                    </a:lnTo>
                    <a:lnTo>
                      <a:pt x="441" y="91"/>
                    </a:lnTo>
                    <a:lnTo>
                      <a:pt x="421" y="77"/>
                    </a:lnTo>
                    <a:lnTo>
                      <a:pt x="399" y="63"/>
                    </a:lnTo>
                    <a:lnTo>
                      <a:pt x="375" y="51"/>
                    </a:lnTo>
                    <a:lnTo>
                      <a:pt x="350" y="40"/>
                    </a:lnTo>
                    <a:lnTo>
                      <a:pt x="324" y="31"/>
                    </a:lnTo>
                    <a:lnTo>
                      <a:pt x="297" y="23"/>
                    </a:lnTo>
                    <a:lnTo>
                      <a:pt x="269" y="17"/>
                    </a:lnTo>
                    <a:lnTo>
                      <a:pt x="239" y="13"/>
                    </a:lnTo>
                    <a:lnTo>
                      <a:pt x="141" y="5"/>
                    </a:lnTo>
                    <a:lnTo>
                      <a:pt x="86" y="0"/>
                    </a:lnTo>
                    <a:lnTo>
                      <a:pt x="73" y="0"/>
                    </a:lnTo>
                    <a:lnTo>
                      <a:pt x="66" y="0"/>
                    </a:lnTo>
                    <a:lnTo>
                      <a:pt x="66" y="0"/>
                    </a:lnTo>
                    <a:lnTo>
                      <a:pt x="70" y="1"/>
                    </a:lnTo>
                    <a:lnTo>
                      <a:pt x="91" y="5"/>
                    </a:lnTo>
                    <a:lnTo>
                      <a:pt x="118" y="9"/>
                    </a:lnTo>
                    <a:lnTo>
                      <a:pt x="140" y="12"/>
                    </a:lnTo>
                    <a:lnTo>
                      <a:pt x="149" y="13"/>
                    </a:lnTo>
                    <a:lnTo>
                      <a:pt x="0" y="253"/>
                    </a:lnTo>
                    <a:lnTo>
                      <a:pt x="16" y="249"/>
                    </a:lnTo>
                    <a:lnTo>
                      <a:pt x="64" y="239"/>
                    </a:lnTo>
                    <a:lnTo>
                      <a:pt x="97" y="234"/>
                    </a:lnTo>
                    <a:lnTo>
                      <a:pt x="136" y="231"/>
                    </a:lnTo>
                    <a:lnTo>
                      <a:pt x="157" y="230"/>
                    </a:lnTo>
                    <a:lnTo>
                      <a:pt x="179" y="230"/>
                    </a:lnTo>
                    <a:lnTo>
                      <a:pt x="202" y="230"/>
                    </a:lnTo>
                    <a:lnTo>
                      <a:pt x="225" y="231"/>
                    </a:lnTo>
                    <a:lnTo>
                      <a:pt x="250" y="232"/>
                    </a:lnTo>
                    <a:lnTo>
                      <a:pt x="276" y="235"/>
                    </a:lnTo>
                    <a:lnTo>
                      <a:pt x="302" y="239"/>
                    </a:lnTo>
                    <a:lnTo>
                      <a:pt x="329" y="244"/>
                    </a:lnTo>
                    <a:lnTo>
                      <a:pt x="356" y="251"/>
                    </a:lnTo>
                    <a:lnTo>
                      <a:pt x="383" y="259"/>
                    </a:lnTo>
                    <a:lnTo>
                      <a:pt x="411" y="268"/>
                    </a:lnTo>
                    <a:lnTo>
                      <a:pt x="439" y="278"/>
                    </a:lnTo>
                    <a:lnTo>
                      <a:pt x="466" y="291"/>
                    </a:lnTo>
                    <a:lnTo>
                      <a:pt x="494" y="305"/>
                    </a:lnTo>
                    <a:lnTo>
                      <a:pt x="521" y="321"/>
                    </a:lnTo>
                    <a:lnTo>
                      <a:pt x="549" y="339"/>
                    </a:lnTo>
                    <a:lnTo>
                      <a:pt x="576" y="359"/>
                    </a:lnTo>
                    <a:lnTo>
                      <a:pt x="603" y="382"/>
                    </a:lnTo>
                    <a:lnTo>
                      <a:pt x="629" y="407"/>
                    </a:lnTo>
                    <a:lnTo>
                      <a:pt x="655" y="434"/>
                    </a:lnTo>
                    <a:close/>
                  </a:path>
                </a:pathLst>
              </a:custGeom>
              <a:solidFill>
                <a:srgbClr val="000000"/>
              </a:solidFill>
              <a:ln w="0">
                <a:noFill/>
              </a:ln>
            </p:spPr>
            <p:style>
              <a:lnRef idx="0"/>
              <a:fillRef idx="0"/>
              <a:effectRef idx="0"/>
              <a:fontRef idx="minor"/>
            </p:style>
            <p:txBody>
              <a:bodyPr wrap="none" lIns="93240" rIns="93240" tIns="33480" bIns="33480" anchor="t">
                <a:spAutoFit/>
              </a:bodyPr>
              <a:p>
                <a:endParaRPr b="0" lang="en-US" sz="2400" spc="-1" strike="noStrike">
                  <a:solidFill>
                    <a:srgbClr val="ffffff"/>
                  </a:solidFill>
                  <a:latin typeface="Times New Roman"/>
                </a:endParaRPr>
              </a:p>
            </p:txBody>
          </p:sp>
          <p:sp>
            <p:nvSpPr>
              <p:cNvPr id="363" name=""/>
              <p:cNvSpPr/>
              <p:nvPr/>
            </p:nvSpPr>
            <p:spPr>
              <a:xfrm>
                <a:off x="1108800" y="1974960"/>
                <a:ext cx="133200" cy="79920"/>
              </a:xfrm>
              <a:custGeom>
                <a:avLst/>
                <a:gdLst/>
                <a:ahLst/>
                <a:rect l="l" t="t" r="r" b="b"/>
                <a:pathLst>
                  <a:path w="655" h="434">
                    <a:moveTo>
                      <a:pt x="655" y="434"/>
                    </a:moveTo>
                    <a:lnTo>
                      <a:pt x="650" y="417"/>
                    </a:lnTo>
                    <a:lnTo>
                      <a:pt x="636" y="372"/>
                    </a:lnTo>
                    <a:lnTo>
                      <a:pt x="623" y="342"/>
                    </a:lnTo>
                    <a:lnTo>
                      <a:pt x="609" y="309"/>
                    </a:lnTo>
                    <a:lnTo>
                      <a:pt x="591" y="273"/>
                    </a:lnTo>
                    <a:lnTo>
                      <a:pt x="569" y="234"/>
                    </a:lnTo>
                    <a:lnTo>
                      <a:pt x="557" y="215"/>
                    </a:lnTo>
                    <a:lnTo>
                      <a:pt x="544" y="196"/>
                    </a:lnTo>
                    <a:lnTo>
                      <a:pt x="529" y="178"/>
                    </a:lnTo>
                    <a:lnTo>
                      <a:pt x="513" y="159"/>
                    </a:lnTo>
                    <a:lnTo>
                      <a:pt x="497" y="141"/>
                    </a:lnTo>
                    <a:lnTo>
                      <a:pt x="479" y="124"/>
                    </a:lnTo>
                    <a:lnTo>
                      <a:pt x="462" y="107"/>
                    </a:lnTo>
                    <a:lnTo>
                      <a:pt x="441" y="91"/>
                    </a:lnTo>
                    <a:lnTo>
                      <a:pt x="421" y="77"/>
                    </a:lnTo>
                    <a:lnTo>
                      <a:pt x="399" y="63"/>
                    </a:lnTo>
                    <a:lnTo>
                      <a:pt x="375" y="51"/>
                    </a:lnTo>
                    <a:lnTo>
                      <a:pt x="350" y="40"/>
                    </a:lnTo>
                    <a:lnTo>
                      <a:pt x="324" y="31"/>
                    </a:lnTo>
                    <a:lnTo>
                      <a:pt x="297" y="23"/>
                    </a:lnTo>
                    <a:lnTo>
                      <a:pt x="269" y="17"/>
                    </a:lnTo>
                    <a:lnTo>
                      <a:pt x="239" y="13"/>
                    </a:lnTo>
                    <a:lnTo>
                      <a:pt x="141" y="5"/>
                    </a:lnTo>
                    <a:lnTo>
                      <a:pt x="86" y="0"/>
                    </a:lnTo>
                    <a:lnTo>
                      <a:pt x="73" y="0"/>
                    </a:lnTo>
                    <a:lnTo>
                      <a:pt x="66" y="0"/>
                    </a:lnTo>
                    <a:lnTo>
                      <a:pt x="66" y="0"/>
                    </a:lnTo>
                    <a:lnTo>
                      <a:pt x="70" y="1"/>
                    </a:lnTo>
                    <a:lnTo>
                      <a:pt x="91" y="5"/>
                    </a:lnTo>
                    <a:lnTo>
                      <a:pt x="118" y="9"/>
                    </a:lnTo>
                    <a:lnTo>
                      <a:pt x="140" y="12"/>
                    </a:lnTo>
                    <a:lnTo>
                      <a:pt x="149" y="13"/>
                    </a:lnTo>
                    <a:lnTo>
                      <a:pt x="0" y="253"/>
                    </a:lnTo>
                    <a:lnTo>
                      <a:pt x="16" y="249"/>
                    </a:lnTo>
                    <a:lnTo>
                      <a:pt x="64" y="239"/>
                    </a:lnTo>
                    <a:lnTo>
                      <a:pt x="97" y="234"/>
                    </a:lnTo>
                    <a:lnTo>
                      <a:pt x="136" y="231"/>
                    </a:lnTo>
                    <a:lnTo>
                      <a:pt x="157" y="230"/>
                    </a:lnTo>
                    <a:lnTo>
                      <a:pt x="179" y="230"/>
                    </a:lnTo>
                    <a:lnTo>
                      <a:pt x="202" y="230"/>
                    </a:lnTo>
                    <a:lnTo>
                      <a:pt x="225" y="231"/>
                    </a:lnTo>
                    <a:lnTo>
                      <a:pt x="250" y="232"/>
                    </a:lnTo>
                    <a:lnTo>
                      <a:pt x="276" y="235"/>
                    </a:lnTo>
                    <a:lnTo>
                      <a:pt x="302" y="239"/>
                    </a:lnTo>
                    <a:lnTo>
                      <a:pt x="329" y="244"/>
                    </a:lnTo>
                    <a:lnTo>
                      <a:pt x="356" y="251"/>
                    </a:lnTo>
                    <a:lnTo>
                      <a:pt x="383" y="259"/>
                    </a:lnTo>
                    <a:lnTo>
                      <a:pt x="411" y="268"/>
                    </a:lnTo>
                    <a:lnTo>
                      <a:pt x="439" y="278"/>
                    </a:lnTo>
                    <a:lnTo>
                      <a:pt x="466" y="291"/>
                    </a:lnTo>
                    <a:lnTo>
                      <a:pt x="494" y="305"/>
                    </a:lnTo>
                    <a:lnTo>
                      <a:pt x="521" y="321"/>
                    </a:lnTo>
                    <a:lnTo>
                      <a:pt x="549" y="339"/>
                    </a:lnTo>
                    <a:lnTo>
                      <a:pt x="576" y="359"/>
                    </a:lnTo>
                    <a:lnTo>
                      <a:pt x="603" y="382"/>
                    </a:lnTo>
                    <a:lnTo>
                      <a:pt x="629" y="407"/>
                    </a:lnTo>
                    <a:lnTo>
                      <a:pt x="655" y="434"/>
                    </a:lnTo>
                  </a:path>
                </a:pathLst>
              </a:custGeom>
              <a:noFill/>
              <a:ln w="6480">
                <a:solidFill>
                  <a:srgbClr val="000000"/>
                </a:solidFill>
                <a:round/>
              </a:ln>
            </p:spPr>
            <p:style>
              <a:lnRef idx="0"/>
              <a:fillRef idx="0"/>
              <a:effectRef idx="0"/>
              <a:fontRef idx="minor"/>
            </p:style>
            <p:txBody>
              <a:bodyPr wrap="none" lIns="93240" rIns="93240" tIns="33480" bIns="33480" anchor="t">
                <a:spAutoFit/>
              </a:bodyPr>
              <a:p>
                <a:endParaRPr b="0" lang="en-US" sz="2400" spc="-1" strike="noStrike">
                  <a:solidFill>
                    <a:srgbClr val="ffffff"/>
                  </a:solidFill>
                  <a:latin typeface="Times New Roman"/>
                </a:endParaRPr>
              </a:p>
            </p:txBody>
          </p:sp>
          <p:sp>
            <p:nvSpPr>
              <p:cNvPr id="364" name=""/>
              <p:cNvSpPr/>
              <p:nvPr/>
            </p:nvSpPr>
            <p:spPr>
              <a:xfrm>
                <a:off x="1283760" y="1898640"/>
                <a:ext cx="112320" cy="82440"/>
              </a:xfrm>
              <a:custGeom>
                <a:avLst/>
                <a:gdLst/>
                <a:ahLst/>
                <a:rect l="l" t="t" r="r" b="b"/>
                <a:pathLst>
                  <a:path w="562" h="450">
                    <a:moveTo>
                      <a:pt x="0" y="420"/>
                    </a:moveTo>
                    <a:lnTo>
                      <a:pt x="296" y="0"/>
                    </a:lnTo>
                    <a:lnTo>
                      <a:pt x="562" y="180"/>
                    </a:lnTo>
                    <a:lnTo>
                      <a:pt x="146" y="450"/>
                    </a:lnTo>
                    <a:lnTo>
                      <a:pt x="0" y="420"/>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365" name=""/>
              <p:cNvSpPr/>
              <p:nvPr/>
            </p:nvSpPr>
            <p:spPr>
              <a:xfrm>
                <a:off x="1283760" y="1898640"/>
                <a:ext cx="112320" cy="82440"/>
              </a:xfrm>
              <a:custGeom>
                <a:avLst/>
                <a:gdLst/>
                <a:ahLst/>
                <a:rect l="l" t="t" r="r" b="b"/>
                <a:pathLst>
                  <a:path w="562" h="450">
                    <a:moveTo>
                      <a:pt x="0" y="420"/>
                    </a:moveTo>
                    <a:lnTo>
                      <a:pt x="296" y="0"/>
                    </a:lnTo>
                    <a:lnTo>
                      <a:pt x="562" y="180"/>
                    </a:lnTo>
                    <a:lnTo>
                      <a:pt x="146" y="450"/>
                    </a:lnTo>
                    <a:lnTo>
                      <a:pt x="0" y="420"/>
                    </a:lnTo>
                  </a:path>
                </a:pathLst>
              </a:custGeom>
              <a:noFill/>
              <a:ln w="6480">
                <a:solidFill>
                  <a:srgbClr val="000000"/>
                </a:solidFill>
                <a:round/>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grpSp>
        <p:grpSp>
          <p:nvGrpSpPr>
            <p:cNvPr id="366" name=""/>
            <p:cNvGrpSpPr/>
            <p:nvPr/>
          </p:nvGrpSpPr>
          <p:grpSpPr>
            <a:xfrm>
              <a:off x="1976400" y="1615680"/>
              <a:ext cx="1007640" cy="3401640"/>
              <a:chOff x="1976400" y="1615680"/>
              <a:chExt cx="1007640" cy="3401640"/>
            </a:xfrm>
          </p:grpSpPr>
          <p:sp>
            <p:nvSpPr>
              <p:cNvPr id="367" name=""/>
              <p:cNvSpPr/>
              <p:nvPr/>
            </p:nvSpPr>
            <p:spPr>
              <a:xfrm>
                <a:off x="2708280" y="3362400"/>
                <a:ext cx="217080" cy="361080"/>
              </a:xfrm>
              <a:custGeom>
                <a:avLst/>
                <a:gdLst/>
                <a:ahLst/>
                <a:rect l="l" t="t" r="r" b="b"/>
                <a:pathLst>
                  <a:path w="1513" h="1790">
                    <a:moveTo>
                      <a:pt x="1513" y="179"/>
                    </a:moveTo>
                    <a:lnTo>
                      <a:pt x="926" y="1073"/>
                    </a:lnTo>
                    <a:lnTo>
                      <a:pt x="185" y="1790"/>
                    </a:lnTo>
                    <a:lnTo>
                      <a:pt x="0" y="1134"/>
                    </a:lnTo>
                    <a:lnTo>
                      <a:pt x="710" y="0"/>
                    </a:lnTo>
                    <a:lnTo>
                      <a:pt x="742" y="8"/>
                    </a:lnTo>
                    <a:lnTo>
                      <a:pt x="828" y="32"/>
                    </a:lnTo>
                    <a:lnTo>
                      <a:pt x="948" y="64"/>
                    </a:lnTo>
                    <a:lnTo>
                      <a:pt x="1089" y="101"/>
                    </a:lnTo>
                    <a:lnTo>
                      <a:pt x="1161" y="119"/>
                    </a:lnTo>
                    <a:lnTo>
                      <a:pt x="1232" y="135"/>
                    </a:lnTo>
                    <a:lnTo>
                      <a:pt x="1299" y="150"/>
                    </a:lnTo>
                    <a:lnTo>
                      <a:pt x="1362" y="163"/>
                    </a:lnTo>
                    <a:lnTo>
                      <a:pt x="1416" y="174"/>
                    </a:lnTo>
                    <a:lnTo>
                      <a:pt x="1461" y="179"/>
                    </a:lnTo>
                    <a:lnTo>
                      <a:pt x="1479" y="181"/>
                    </a:lnTo>
                    <a:lnTo>
                      <a:pt x="1494" y="181"/>
                    </a:lnTo>
                    <a:lnTo>
                      <a:pt x="1505" y="181"/>
                    </a:lnTo>
                    <a:lnTo>
                      <a:pt x="1513" y="179"/>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8" name=""/>
              <p:cNvSpPr/>
              <p:nvPr/>
            </p:nvSpPr>
            <p:spPr>
              <a:xfrm>
                <a:off x="2708280" y="3362400"/>
                <a:ext cx="217080" cy="361080"/>
              </a:xfrm>
              <a:custGeom>
                <a:avLst/>
                <a:gdLst/>
                <a:ahLst/>
                <a:rect l="l" t="t" r="r" b="b"/>
                <a:pathLst>
                  <a:path w="1513" h="1790">
                    <a:moveTo>
                      <a:pt x="1513" y="179"/>
                    </a:moveTo>
                    <a:lnTo>
                      <a:pt x="926" y="1073"/>
                    </a:lnTo>
                    <a:lnTo>
                      <a:pt x="185" y="1790"/>
                    </a:lnTo>
                    <a:lnTo>
                      <a:pt x="0" y="1134"/>
                    </a:lnTo>
                    <a:lnTo>
                      <a:pt x="710" y="0"/>
                    </a:lnTo>
                    <a:lnTo>
                      <a:pt x="742" y="8"/>
                    </a:lnTo>
                    <a:lnTo>
                      <a:pt x="828" y="32"/>
                    </a:lnTo>
                    <a:lnTo>
                      <a:pt x="948" y="64"/>
                    </a:lnTo>
                    <a:lnTo>
                      <a:pt x="1089" y="101"/>
                    </a:lnTo>
                    <a:lnTo>
                      <a:pt x="1161" y="119"/>
                    </a:lnTo>
                    <a:lnTo>
                      <a:pt x="1232" y="135"/>
                    </a:lnTo>
                    <a:lnTo>
                      <a:pt x="1299" y="150"/>
                    </a:lnTo>
                    <a:lnTo>
                      <a:pt x="1362" y="163"/>
                    </a:lnTo>
                    <a:lnTo>
                      <a:pt x="1416" y="174"/>
                    </a:lnTo>
                    <a:lnTo>
                      <a:pt x="1461" y="179"/>
                    </a:lnTo>
                    <a:lnTo>
                      <a:pt x="1479" y="181"/>
                    </a:lnTo>
                    <a:lnTo>
                      <a:pt x="1494" y="181"/>
                    </a:lnTo>
                    <a:lnTo>
                      <a:pt x="1505" y="181"/>
                    </a:lnTo>
                    <a:lnTo>
                      <a:pt x="1513" y="179"/>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69" name=""/>
              <p:cNvSpPr/>
              <p:nvPr/>
            </p:nvSpPr>
            <p:spPr>
              <a:xfrm>
                <a:off x="1980360" y="4492080"/>
                <a:ext cx="767520" cy="521280"/>
              </a:xfrm>
              <a:custGeom>
                <a:avLst/>
                <a:gdLst/>
                <a:ahLst/>
                <a:rect l="l" t="t" r="r" b="b"/>
                <a:pathLst>
                  <a:path w="5334" h="2579">
                    <a:moveTo>
                      <a:pt x="5122" y="327"/>
                    </a:moveTo>
                    <a:lnTo>
                      <a:pt x="5135" y="328"/>
                    </a:lnTo>
                    <a:lnTo>
                      <a:pt x="5147" y="330"/>
                    </a:lnTo>
                    <a:lnTo>
                      <a:pt x="5159" y="332"/>
                    </a:lnTo>
                    <a:lnTo>
                      <a:pt x="5171" y="335"/>
                    </a:lnTo>
                    <a:lnTo>
                      <a:pt x="5183" y="339"/>
                    </a:lnTo>
                    <a:lnTo>
                      <a:pt x="5194" y="343"/>
                    </a:lnTo>
                    <a:lnTo>
                      <a:pt x="5205" y="347"/>
                    </a:lnTo>
                    <a:lnTo>
                      <a:pt x="5216" y="352"/>
                    </a:lnTo>
                    <a:lnTo>
                      <a:pt x="5226" y="359"/>
                    </a:lnTo>
                    <a:lnTo>
                      <a:pt x="5237" y="365"/>
                    </a:lnTo>
                    <a:lnTo>
                      <a:pt x="5245" y="373"/>
                    </a:lnTo>
                    <a:lnTo>
                      <a:pt x="5255" y="380"/>
                    </a:lnTo>
                    <a:lnTo>
                      <a:pt x="5264" y="388"/>
                    </a:lnTo>
                    <a:lnTo>
                      <a:pt x="5273" y="398"/>
                    </a:lnTo>
                    <a:lnTo>
                      <a:pt x="5281" y="408"/>
                    </a:lnTo>
                    <a:lnTo>
                      <a:pt x="5288" y="418"/>
                    </a:lnTo>
                    <a:lnTo>
                      <a:pt x="5295" y="429"/>
                    </a:lnTo>
                    <a:lnTo>
                      <a:pt x="5301" y="440"/>
                    </a:lnTo>
                    <a:lnTo>
                      <a:pt x="5308" y="452"/>
                    </a:lnTo>
                    <a:lnTo>
                      <a:pt x="5313" y="465"/>
                    </a:lnTo>
                    <a:lnTo>
                      <a:pt x="5318" y="479"/>
                    </a:lnTo>
                    <a:lnTo>
                      <a:pt x="5322" y="492"/>
                    </a:lnTo>
                    <a:lnTo>
                      <a:pt x="5325" y="507"/>
                    </a:lnTo>
                    <a:lnTo>
                      <a:pt x="5329" y="522"/>
                    </a:lnTo>
                    <a:lnTo>
                      <a:pt x="5331" y="538"/>
                    </a:lnTo>
                    <a:lnTo>
                      <a:pt x="5333" y="555"/>
                    </a:lnTo>
                    <a:lnTo>
                      <a:pt x="5333" y="572"/>
                    </a:lnTo>
                    <a:lnTo>
                      <a:pt x="5334" y="590"/>
                    </a:lnTo>
                    <a:lnTo>
                      <a:pt x="5333" y="609"/>
                    </a:lnTo>
                    <a:lnTo>
                      <a:pt x="5332" y="628"/>
                    </a:lnTo>
                    <a:lnTo>
                      <a:pt x="5330" y="647"/>
                    </a:lnTo>
                    <a:lnTo>
                      <a:pt x="5328" y="668"/>
                    </a:lnTo>
                    <a:lnTo>
                      <a:pt x="5311" y="742"/>
                    </a:lnTo>
                    <a:lnTo>
                      <a:pt x="5290" y="817"/>
                    </a:lnTo>
                    <a:lnTo>
                      <a:pt x="5265" y="892"/>
                    </a:lnTo>
                    <a:lnTo>
                      <a:pt x="5234" y="966"/>
                    </a:lnTo>
                    <a:lnTo>
                      <a:pt x="5200" y="1039"/>
                    </a:lnTo>
                    <a:lnTo>
                      <a:pt x="5162" y="1112"/>
                    </a:lnTo>
                    <a:lnTo>
                      <a:pt x="5120" y="1185"/>
                    </a:lnTo>
                    <a:lnTo>
                      <a:pt x="5075" y="1257"/>
                    </a:lnTo>
                    <a:lnTo>
                      <a:pt x="5027" y="1328"/>
                    </a:lnTo>
                    <a:lnTo>
                      <a:pt x="4976" y="1398"/>
                    </a:lnTo>
                    <a:lnTo>
                      <a:pt x="4922" y="1467"/>
                    </a:lnTo>
                    <a:lnTo>
                      <a:pt x="4866" y="1535"/>
                    </a:lnTo>
                    <a:lnTo>
                      <a:pt x="4808" y="1602"/>
                    </a:lnTo>
                    <a:lnTo>
                      <a:pt x="4748" y="1667"/>
                    </a:lnTo>
                    <a:lnTo>
                      <a:pt x="4686" y="1731"/>
                    </a:lnTo>
                    <a:lnTo>
                      <a:pt x="4624" y="1792"/>
                    </a:lnTo>
                    <a:lnTo>
                      <a:pt x="4560" y="1853"/>
                    </a:lnTo>
                    <a:lnTo>
                      <a:pt x="4496" y="1911"/>
                    </a:lnTo>
                    <a:lnTo>
                      <a:pt x="4432" y="1967"/>
                    </a:lnTo>
                    <a:lnTo>
                      <a:pt x="4366" y="2020"/>
                    </a:lnTo>
                    <a:lnTo>
                      <a:pt x="4301" y="2072"/>
                    </a:lnTo>
                    <a:lnTo>
                      <a:pt x="4238" y="2122"/>
                    </a:lnTo>
                    <a:lnTo>
                      <a:pt x="4173" y="2169"/>
                    </a:lnTo>
                    <a:lnTo>
                      <a:pt x="4110" y="2213"/>
                    </a:lnTo>
                    <a:lnTo>
                      <a:pt x="4049" y="2254"/>
                    </a:lnTo>
                    <a:lnTo>
                      <a:pt x="3989" y="2294"/>
                    </a:lnTo>
                    <a:lnTo>
                      <a:pt x="3930" y="2329"/>
                    </a:lnTo>
                    <a:lnTo>
                      <a:pt x="3874" y="2362"/>
                    </a:lnTo>
                    <a:lnTo>
                      <a:pt x="3819" y="2391"/>
                    </a:lnTo>
                    <a:lnTo>
                      <a:pt x="3767" y="2418"/>
                    </a:lnTo>
                    <a:lnTo>
                      <a:pt x="3718" y="2440"/>
                    </a:lnTo>
                    <a:lnTo>
                      <a:pt x="3672" y="2459"/>
                    </a:lnTo>
                    <a:lnTo>
                      <a:pt x="3631" y="2474"/>
                    </a:lnTo>
                    <a:lnTo>
                      <a:pt x="3587" y="2489"/>
                    </a:lnTo>
                    <a:lnTo>
                      <a:pt x="3540" y="2502"/>
                    </a:lnTo>
                    <a:lnTo>
                      <a:pt x="3490" y="2515"/>
                    </a:lnTo>
                    <a:lnTo>
                      <a:pt x="3436" y="2527"/>
                    </a:lnTo>
                    <a:lnTo>
                      <a:pt x="3380" y="2537"/>
                    </a:lnTo>
                    <a:lnTo>
                      <a:pt x="3321" y="2547"/>
                    </a:lnTo>
                    <a:lnTo>
                      <a:pt x="3261" y="2555"/>
                    </a:lnTo>
                    <a:lnTo>
                      <a:pt x="3198" y="2563"/>
                    </a:lnTo>
                    <a:lnTo>
                      <a:pt x="3133" y="2569"/>
                    </a:lnTo>
                    <a:lnTo>
                      <a:pt x="3068" y="2574"/>
                    </a:lnTo>
                    <a:lnTo>
                      <a:pt x="3000" y="2578"/>
                    </a:lnTo>
                    <a:lnTo>
                      <a:pt x="2932" y="2579"/>
                    </a:lnTo>
                    <a:lnTo>
                      <a:pt x="2863" y="2579"/>
                    </a:lnTo>
                    <a:lnTo>
                      <a:pt x="2792" y="2578"/>
                    </a:lnTo>
                    <a:lnTo>
                      <a:pt x="2722" y="2574"/>
                    </a:lnTo>
                    <a:lnTo>
                      <a:pt x="2652" y="2569"/>
                    </a:lnTo>
                    <a:lnTo>
                      <a:pt x="2582" y="2563"/>
                    </a:lnTo>
                    <a:lnTo>
                      <a:pt x="2513" y="2553"/>
                    </a:lnTo>
                    <a:lnTo>
                      <a:pt x="2444" y="2543"/>
                    </a:lnTo>
                    <a:lnTo>
                      <a:pt x="2376" y="2530"/>
                    </a:lnTo>
                    <a:lnTo>
                      <a:pt x="2308" y="2514"/>
                    </a:lnTo>
                    <a:lnTo>
                      <a:pt x="2242" y="2497"/>
                    </a:lnTo>
                    <a:lnTo>
                      <a:pt x="2178" y="2477"/>
                    </a:lnTo>
                    <a:lnTo>
                      <a:pt x="2116" y="2456"/>
                    </a:lnTo>
                    <a:lnTo>
                      <a:pt x="2055" y="2431"/>
                    </a:lnTo>
                    <a:lnTo>
                      <a:pt x="1997" y="2404"/>
                    </a:lnTo>
                    <a:lnTo>
                      <a:pt x="1941" y="2374"/>
                    </a:lnTo>
                    <a:lnTo>
                      <a:pt x="1889" y="2342"/>
                    </a:lnTo>
                    <a:lnTo>
                      <a:pt x="1838" y="2307"/>
                    </a:lnTo>
                    <a:lnTo>
                      <a:pt x="1791" y="2269"/>
                    </a:lnTo>
                    <a:lnTo>
                      <a:pt x="1748" y="2229"/>
                    </a:lnTo>
                    <a:lnTo>
                      <a:pt x="1727" y="2206"/>
                    </a:lnTo>
                    <a:lnTo>
                      <a:pt x="1705" y="2180"/>
                    </a:lnTo>
                    <a:lnTo>
                      <a:pt x="1685" y="2154"/>
                    </a:lnTo>
                    <a:lnTo>
                      <a:pt x="1665" y="2125"/>
                    </a:lnTo>
                    <a:lnTo>
                      <a:pt x="1648" y="2096"/>
                    </a:lnTo>
                    <a:lnTo>
                      <a:pt x="1631" y="2065"/>
                    </a:lnTo>
                    <a:lnTo>
                      <a:pt x="1617" y="2032"/>
                    </a:lnTo>
                    <a:lnTo>
                      <a:pt x="1604" y="1999"/>
                    </a:lnTo>
                    <a:lnTo>
                      <a:pt x="1594" y="1964"/>
                    </a:lnTo>
                    <a:lnTo>
                      <a:pt x="1586" y="1929"/>
                    </a:lnTo>
                    <a:lnTo>
                      <a:pt x="1582" y="1893"/>
                    </a:lnTo>
                    <a:lnTo>
                      <a:pt x="1580" y="1856"/>
                    </a:lnTo>
                    <a:lnTo>
                      <a:pt x="1581" y="1819"/>
                    </a:lnTo>
                    <a:lnTo>
                      <a:pt x="1586" y="1781"/>
                    </a:lnTo>
                    <a:lnTo>
                      <a:pt x="1595" y="1742"/>
                    </a:lnTo>
                    <a:lnTo>
                      <a:pt x="1607" y="1702"/>
                    </a:lnTo>
                    <a:lnTo>
                      <a:pt x="1625" y="1664"/>
                    </a:lnTo>
                    <a:lnTo>
                      <a:pt x="1645" y="1625"/>
                    </a:lnTo>
                    <a:lnTo>
                      <a:pt x="1671" y="1585"/>
                    </a:lnTo>
                    <a:lnTo>
                      <a:pt x="1701" y="1546"/>
                    </a:lnTo>
                    <a:lnTo>
                      <a:pt x="1737" y="1506"/>
                    </a:lnTo>
                    <a:lnTo>
                      <a:pt x="1779" y="1468"/>
                    </a:lnTo>
                    <a:lnTo>
                      <a:pt x="1825" y="1429"/>
                    </a:lnTo>
                    <a:lnTo>
                      <a:pt x="1878" y="1391"/>
                    </a:lnTo>
                    <a:lnTo>
                      <a:pt x="1937" y="1354"/>
                    </a:lnTo>
                    <a:lnTo>
                      <a:pt x="2002" y="1317"/>
                    </a:lnTo>
                    <a:lnTo>
                      <a:pt x="2074" y="1281"/>
                    </a:lnTo>
                    <a:lnTo>
                      <a:pt x="2152" y="1246"/>
                    </a:lnTo>
                    <a:lnTo>
                      <a:pt x="2238" y="1211"/>
                    </a:lnTo>
                    <a:lnTo>
                      <a:pt x="2330" y="1178"/>
                    </a:lnTo>
                    <a:lnTo>
                      <a:pt x="2431" y="1146"/>
                    </a:lnTo>
                    <a:lnTo>
                      <a:pt x="2538" y="1114"/>
                    </a:lnTo>
                    <a:lnTo>
                      <a:pt x="2563" y="1107"/>
                    </a:lnTo>
                    <a:lnTo>
                      <a:pt x="2588" y="1096"/>
                    </a:lnTo>
                    <a:lnTo>
                      <a:pt x="2614" y="1084"/>
                    </a:lnTo>
                    <a:lnTo>
                      <a:pt x="2638" y="1070"/>
                    </a:lnTo>
                    <a:lnTo>
                      <a:pt x="2663" y="1053"/>
                    </a:lnTo>
                    <a:lnTo>
                      <a:pt x="2687" y="1036"/>
                    </a:lnTo>
                    <a:lnTo>
                      <a:pt x="2711" y="1016"/>
                    </a:lnTo>
                    <a:lnTo>
                      <a:pt x="2735" y="996"/>
                    </a:lnTo>
                    <a:lnTo>
                      <a:pt x="2759" y="973"/>
                    </a:lnTo>
                    <a:lnTo>
                      <a:pt x="2784" y="950"/>
                    </a:lnTo>
                    <a:lnTo>
                      <a:pt x="2807" y="927"/>
                    </a:lnTo>
                    <a:lnTo>
                      <a:pt x="2831" y="901"/>
                    </a:lnTo>
                    <a:lnTo>
                      <a:pt x="2878" y="849"/>
                    </a:lnTo>
                    <a:lnTo>
                      <a:pt x="2924" y="796"/>
                    </a:lnTo>
                    <a:lnTo>
                      <a:pt x="2971" y="742"/>
                    </a:lnTo>
                    <a:lnTo>
                      <a:pt x="3017" y="688"/>
                    </a:lnTo>
                    <a:lnTo>
                      <a:pt x="3063" y="635"/>
                    </a:lnTo>
                    <a:lnTo>
                      <a:pt x="3109" y="587"/>
                    </a:lnTo>
                    <a:lnTo>
                      <a:pt x="3132" y="562"/>
                    </a:lnTo>
                    <a:lnTo>
                      <a:pt x="3155" y="540"/>
                    </a:lnTo>
                    <a:lnTo>
                      <a:pt x="3179" y="519"/>
                    </a:lnTo>
                    <a:lnTo>
                      <a:pt x="3203" y="499"/>
                    </a:lnTo>
                    <a:lnTo>
                      <a:pt x="3226" y="481"/>
                    </a:lnTo>
                    <a:lnTo>
                      <a:pt x="3249" y="464"/>
                    </a:lnTo>
                    <a:lnTo>
                      <a:pt x="3273" y="448"/>
                    </a:lnTo>
                    <a:lnTo>
                      <a:pt x="3296" y="435"/>
                    </a:lnTo>
                    <a:lnTo>
                      <a:pt x="3326" y="477"/>
                    </a:lnTo>
                    <a:lnTo>
                      <a:pt x="3362" y="515"/>
                    </a:lnTo>
                    <a:lnTo>
                      <a:pt x="3400" y="546"/>
                    </a:lnTo>
                    <a:lnTo>
                      <a:pt x="3443" y="574"/>
                    </a:lnTo>
                    <a:lnTo>
                      <a:pt x="3489" y="597"/>
                    </a:lnTo>
                    <a:lnTo>
                      <a:pt x="3537" y="616"/>
                    </a:lnTo>
                    <a:lnTo>
                      <a:pt x="3589" y="632"/>
                    </a:lnTo>
                    <a:lnTo>
                      <a:pt x="3643" y="643"/>
                    </a:lnTo>
                    <a:lnTo>
                      <a:pt x="3700" y="651"/>
                    </a:lnTo>
                    <a:lnTo>
                      <a:pt x="3758" y="656"/>
                    </a:lnTo>
                    <a:lnTo>
                      <a:pt x="3820" y="657"/>
                    </a:lnTo>
                    <a:lnTo>
                      <a:pt x="3882" y="656"/>
                    </a:lnTo>
                    <a:lnTo>
                      <a:pt x="3946" y="650"/>
                    </a:lnTo>
                    <a:lnTo>
                      <a:pt x="4012" y="644"/>
                    </a:lnTo>
                    <a:lnTo>
                      <a:pt x="4078" y="634"/>
                    </a:lnTo>
                    <a:lnTo>
                      <a:pt x="4144" y="624"/>
                    </a:lnTo>
                    <a:lnTo>
                      <a:pt x="4212" y="610"/>
                    </a:lnTo>
                    <a:lnTo>
                      <a:pt x="4280" y="595"/>
                    </a:lnTo>
                    <a:lnTo>
                      <a:pt x="4347" y="579"/>
                    </a:lnTo>
                    <a:lnTo>
                      <a:pt x="4415" y="561"/>
                    </a:lnTo>
                    <a:lnTo>
                      <a:pt x="4482" y="542"/>
                    </a:lnTo>
                    <a:lnTo>
                      <a:pt x="4549" y="523"/>
                    </a:lnTo>
                    <a:lnTo>
                      <a:pt x="4614" y="503"/>
                    </a:lnTo>
                    <a:lnTo>
                      <a:pt x="4679" y="482"/>
                    </a:lnTo>
                    <a:lnTo>
                      <a:pt x="4802" y="440"/>
                    </a:lnTo>
                    <a:lnTo>
                      <a:pt x="4919" y="399"/>
                    </a:lnTo>
                    <a:lnTo>
                      <a:pt x="5026" y="361"/>
                    </a:lnTo>
                    <a:lnTo>
                      <a:pt x="5122" y="327"/>
                    </a:lnTo>
                    <a:close/>
                    <a:moveTo>
                      <a:pt x="2127" y="0"/>
                    </a:moveTo>
                    <a:lnTo>
                      <a:pt x="2011" y="66"/>
                    </a:lnTo>
                    <a:lnTo>
                      <a:pt x="1905" y="125"/>
                    </a:lnTo>
                    <a:lnTo>
                      <a:pt x="1856" y="150"/>
                    </a:lnTo>
                    <a:lnTo>
                      <a:pt x="1810" y="173"/>
                    </a:lnTo>
                    <a:lnTo>
                      <a:pt x="1766" y="196"/>
                    </a:lnTo>
                    <a:lnTo>
                      <a:pt x="1724" y="216"/>
                    </a:lnTo>
                    <a:lnTo>
                      <a:pt x="1685" y="234"/>
                    </a:lnTo>
                    <a:lnTo>
                      <a:pt x="1648" y="251"/>
                    </a:lnTo>
                    <a:lnTo>
                      <a:pt x="1611" y="266"/>
                    </a:lnTo>
                    <a:lnTo>
                      <a:pt x="1576" y="279"/>
                    </a:lnTo>
                    <a:lnTo>
                      <a:pt x="1543" y="291"/>
                    </a:lnTo>
                    <a:lnTo>
                      <a:pt x="1512" y="303"/>
                    </a:lnTo>
                    <a:lnTo>
                      <a:pt x="1480" y="312"/>
                    </a:lnTo>
                    <a:lnTo>
                      <a:pt x="1450" y="321"/>
                    </a:lnTo>
                    <a:lnTo>
                      <a:pt x="1421" y="328"/>
                    </a:lnTo>
                    <a:lnTo>
                      <a:pt x="1391" y="334"/>
                    </a:lnTo>
                    <a:lnTo>
                      <a:pt x="1362" y="340"/>
                    </a:lnTo>
                    <a:lnTo>
                      <a:pt x="1334" y="344"/>
                    </a:lnTo>
                    <a:lnTo>
                      <a:pt x="1305" y="348"/>
                    </a:lnTo>
                    <a:lnTo>
                      <a:pt x="1277" y="351"/>
                    </a:lnTo>
                    <a:lnTo>
                      <a:pt x="1247" y="355"/>
                    </a:lnTo>
                    <a:lnTo>
                      <a:pt x="1218" y="357"/>
                    </a:lnTo>
                    <a:lnTo>
                      <a:pt x="1093" y="363"/>
                    </a:lnTo>
                    <a:lnTo>
                      <a:pt x="946" y="369"/>
                    </a:lnTo>
                    <a:lnTo>
                      <a:pt x="873" y="362"/>
                    </a:lnTo>
                    <a:lnTo>
                      <a:pt x="802" y="360"/>
                    </a:lnTo>
                    <a:lnTo>
                      <a:pt x="734" y="362"/>
                    </a:lnTo>
                    <a:lnTo>
                      <a:pt x="668" y="368"/>
                    </a:lnTo>
                    <a:lnTo>
                      <a:pt x="606" y="379"/>
                    </a:lnTo>
                    <a:lnTo>
                      <a:pt x="545" y="394"/>
                    </a:lnTo>
                    <a:lnTo>
                      <a:pt x="487" y="412"/>
                    </a:lnTo>
                    <a:lnTo>
                      <a:pt x="433" y="434"/>
                    </a:lnTo>
                    <a:lnTo>
                      <a:pt x="380" y="458"/>
                    </a:lnTo>
                    <a:lnTo>
                      <a:pt x="331" y="486"/>
                    </a:lnTo>
                    <a:lnTo>
                      <a:pt x="285" y="517"/>
                    </a:lnTo>
                    <a:lnTo>
                      <a:pt x="242" y="548"/>
                    </a:lnTo>
                    <a:lnTo>
                      <a:pt x="201" y="583"/>
                    </a:lnTo>
                    <a:lnTo>
                      <a:pt x="165" y="619"/>
                    </a:lnTo>
                    <a:lnTo>
                      <a:pt x="132" y="657"/>
                    </a:lnTo>
                    <a:lnTo>
                      <a:pt x="102" y="696"/>
                    </a:lnTo>
                    <a:lnTo>
                      <a:pt x="76" y="735"/>
                    </a:lnTo>
                    <a:lnTo>
                      <a:pt x="54" y="775"/>
                    </a:lnTo>
                    <a:lnTo>
                      <a:pt x="36" y="817"/>
                    </a:lnTo>
                    <a:lnTo>
                      <a:pt x="20" y="857"/>
                    </a:lnTo>
                    <a:lnTo>
                      <a:pt x="10" y="898"/>
                    </a:lnTo>
                    <a:lnTo>
                      <a:pt x="3" y="938"/>
                    </a:lnTo>
                    <a:lnTo>
                      <a:pt x="0" y="978"/>
                    </a:lnTo>
                    <a:lnTo>
                      <a:pt x="3" y="1017"/>
                    </a:lnTo>
                    <a:lnTo>
                      <a:pt x="8" y="1054"/>
                    </a:lnTo>
                    <a:lnTo>
                      <a:pt x="18" y="1090"/>
                    </a:lnTo>
                    <a:lnTo>
                      <a:pt x="33" y="1124"/>
                    </a:lnTo>
                    <a:lnTo>
                      <a:pt x="52" y="1156"/>
                    </a:lnTo>
                    <a:lnTo>
                      <a:pt x="76" y="1185"/>
                    </a:lnTo>
                    <a:lnTo>
                      <a:pt x="106" y="1213"/>
                    </a:lnTo>
                    <a:lnTo>
                      <a:pt x="139" y="1236"/>
                    </a:lnTo>
                    <a:lnTo>
                      <a:pt x="177" y="1257"/>
                    </a:lnTo>
                    <a:lnTo>
                      <a:pt x="231" y="1286"/>
                    </a:lnTo>
                    <a:lnTo>
                      <a:pt x="285" y="1314"/>
                    </a:lnTo>
                    <a:lnTo>
                      <a:pt x="337" y="1340"/>
                    </a:lnTo>
                    <a:lnTo>
                      <a:pt x="390" y="1364"/>
                    </a:lnTo>
                    <a:lnTo>
                      <a:pt x="441" y="1388"/>
                    </a:lnTo>
                    <a:lnTo>
                      <a:pt x="493" y="1409"/>
                    </a:lnTo>
                    <a:lnTo>
                      <a:pt x="543" y="1429"/>
                    </a:lnTo>
                    <a:lnTo>
                      <a:pt x="595" y="1448"/>
                    </a:lnTo>
                    <a:lnTo>
                      <a:pt x="645" y="1465"/>
                    </a:lnTo>
                    <a:lnTo>
                      <a:pt x="696" y="1481"/>
                    </a:lnTo>
                    <a:lnTo>
                      <a:pt x="746" y="1495"/>
                    </a:lnTo>
                    <a:lnTo>
                      <a:pt x="798" y="1507"/>
                    </a:lnTo>
                    <a:lnTo>
                      <a:pt x="848" y="1518"/>
                    </a:lnTo>
                    <a:lnTo>
                      <a:pt x="899" y="1528"/>
                    </a:lnTo>
                    <a:lnTo>
                      <a:pt x="949" y="1535"/>
                    </a:lnTo>
                    <a:lnTo>
                      <a:pt x="999" y="1541"/>
                    </a:lnTo>
                    <a:lnTo>
                      <a:pt x="1051" y="1546"/>
                    </a:lnTo>
                    <a:lnTo>
                      <a:pt x="1103" y="1549"/>
                    </a:lnTo>
                    <a:lnTo>
                      <a:pt x="1154" y="1550"/>
                    </a:lnTo>
                    <a:lnTo>
                      <a:pt x="1206" y="1549"/>
                    </a:lnTo>
                    <a:lnTo>
                      <a:pt x="1258" y="1547"/>
                    </a:lnTo>
                    <a:lnTo>
                      <a:pt x="1311" y="1542"/>
                    </a:lnTo>
                    <a:lnTo>
                      <a:pt x="1365" y="1537"/>
                    </a:lnTo>
                    <a:lnTo>
                      <a:pt x="1418" y="1529"/>
                    </a:lnTo>
                    <a:lnTo>
                      <a:pt x="1473" y="1519"/>
                    </a:lnTo>
                    <a:lnTo>
                      <a:pt x="1528" y="1509"/>
                    </a:lnTo>
                    <a:lnTo>
                      <a:pt x="1584" y="1495"/>
                    </a:lnTo>
                    <a:lnTo>
                      <a:pt x="1641" y="1480"/>
                    </a:lnTo>
                    <a:lnTo>
                      <a:pt x="1698" y="1464"/>
                    </a:lnTo>
                    <a:lnTo>
                      <a:pt x="1756" y="1445"/>
                    </a:lnTo>
                    <a:lnTo>
                      <a:pt x="1815" y="1425"/>
                    </a:lnTo>
                    <a:lnTo>
                      <a:pt x="1876" y="1401"/>
                    </a:lnTo>
                    <a:lnTo>
                      <a:pt x="1904" y="1379"/>
                    </a:lnTo>
                    <a:lnTo>
                      <a:pt x="1933" y="1359"/>
                    </a:lnTo>
                    <a:lnTo>
                      <a:pt x="1962" y="1339"/>
                    </a:lnTo>
                    <a:lnTo>
                      <a:pt x="1992" y="1321"/>
                    </a:lnTo>
                    <a:lnTo>
                      <a:pt x="2020" y="1304"/>
                    </a:lnTo>
                    <a:lnTo>
                      <a:pt x="2050" y="1288"/>
                    </a:lnTo>
                    <a:lnTo>
                      <a:pt x="2081" y="1273"/>
                    </a:lnTo>
                    <a:lnTo>
                      <a:pt x="2110" y="1259"/>
                    </a:lnTo>
                    <a:lnTo>
                      <a:pt x="2140" y="1247"/>
                    </a:lnTo>
                    <a:lnTo>
                      <a:pt x="2170" y="1234"/>
                    </a:lnTo>
                    <a:lnTo>
                      <a:pt x="2199" y="1222"/>
                    </a:lnTo>
                    <a:lnTo>
                      <a:pt x="2229" y="1212"/>
                    </a:lnTo>
                    <a:lnTo>
                      <a:pt x="2287" y="1192"/>
                    </a:lnTo>
                    <a:lnTo>
                      <a:pt x="2345" y="1173"/>
                    </a:lnTo>
                    <a:lnTo>
                      <a:pt x="2401" y="1156"/>
                    </a:lnTo>
                    <a:lnTo>
                      <a:pt x="2456" y="1139"/>
                    </a:lnTo>
                    <a:lnTo>
                      <a:pt x="2508" y="1121"/>
                    </a:lnTo>
                    <a:lnTo>
                      <a:pt x="2559" y="1103"/>
                    </a:lnTo>
                    <a:lnTo>
                      <a:pt x="2583" y="1093"/>
                    </a:lnTo>
                    <a:lnTo>
                      <a:pt x="2607" y="1083"/>
                    </a:lnTo>
                    <a:lnTo>
                      <a:pt x="2629" y="1072"/>
                    </a:lnTo>
                    <a:lnTo>
                      <a:pt x="2651" y="1061"/>
                    </a:lnTo>
                    <a:lnTo>
                      <a:pt x="2673" y="1049"/>
                    </a:lnTo>
                    <a:lnTo>
                      <a:pt x="2693" y="1036"/>
                    </a:lnTo>
                    <a:lnTo>
                      <a:pt x="2712" y="1022"/>
                    </a:lnTo>
                    <a:lnTo>
                      <a:pt x="2730" y="1008"/>
                    </a:lnTo>
                    <a:lnTo>
                      <a:pt x="2766" y="971"/>
                    </a:lnTo>
                    <a:lnTo>
                      <a:pt x="2801" y="933"/>
                    </a:lnTo>
                    <a:lnTo>
                      <a:pt x="2836" y="894"/>
                    </a:lnTo>
                    <a:lnTo>
                      <a:pt x="2870" y="855"/>
                    </a:lnTo>
                    <a:lnTo>
                      <a:pt x="2939" y="773"/>
                    </a:lnTo>
                    <a:lnTo>
                      <a:pt x="3010" y="694"/>
                    </a:lnTo>
                    <a:lnTo>
                      <a:pt x="3045" y="654"/>
                    </a:lnTo>
                    <a:lnTo>
                      <a:pt x="3080" y="616"/>
                    </a:lnTo>
                    <a:lnTo>
                      <a:pt x="3116" y="580"/>
                    </a:lnTo>
                    <a:lnTo>
                      <a:pt x="3152" y="545"/>
                    </a:lnTo>
                    <a:lnTo>
                      <a:pt x="3189" y="512"/>
                    </a:lnTo>
                    <a:lnTo>
                      <a:pt x="3228" y="482"/>
                    </a:lnTo>
                    <a:lnTo>
                      <a:pt x="3246" y="467"/>
                    </a:lnTo>
                    <a:lnTo>
                      <a:pt x="3266" y="453"/>
                    </a:lnTo>
                    <a:lnTo>
                      <a:pt x="3286" y="440"/>
                    </a:lnTo>
                    <a:lnTo>
                      <a:pt x="3306" y="428"/>
                    </a:lnTo>
                    <a:lnTo>
                      <a:pt x="3298" y="403"/>
                    </a:lnTo>
                    <a:lnTo>
                      <a:pt x="3289" y="379"/>
                    </a:lnTo>
                    <a:lnTo>
                      <a:pt x="3281" y="352"/>
                    </a:lnTo>
                    <a:lnTo>
                      <a:pt x="3275" y="325"/>
                    </a:lnTo>
                    <a:lnTo>
                      <a:pt x="3269" y="296"/>
                    </a:lnTo>
                    <a:lnTo>
                      <a:pt x="3266" y="267"/>
                    </a:lnTo>
                    <a:lnTo>
                      <a:pt x="3265" y="251"/>
                    </a:lnTo>
                    <a:lnTo>
                      <a:pt x="3264" y="234"/>
                    </a:lnTo>
                    <a:lnTo>
                      <a:pt x="3265" y="218"/>
                    </a:lnTo>
                    <a:lnTo>
                      <a:pt x="3266" y="201"/>
                    </a:lnTo>
                    <a:lnTo>
                      <a:pt x="3103" y="209"/>
                    </a:lnTo>
                    <a:lnTo>
                      <a:pt x="2931" y="218"/>
                    </a:lnTo>
                    <a:lnTo>
                      <a:pt x="2843" y="221"/>
                    </a:lnTo>
                    <a:lnTo>
                      <a:pt x="2755" y="222"/>
                    </a:lnTo>
                    <a:lnTo>
                      <a:pt x="2712" y="221"/>
                    </a:lnTo>
                    <a:lnTo>
                      <a:pt x="2670" y="220"/>
                    </a:lnTo>
                    <a:lnTo>
                      <a:pt x="2628" y="219"/>
                    </a:lnTo>
                    <a:lnTo>
                      <a:pt x="2586" y="216"/>
                    </a:lnTo>
                    <a:lnTo>
                      <a:pt x="2546" y="213"/>
                    </a:lnTo>
                    <a:lnTo>
                      <a:pt x="2506" y="208"/>
                    </a:lnTo>
                    <a:lnTo>
                      <a:pt x="2468" y="202"/>
                    </a:lnTo>
                    <a:lnTo>
                      <a:pt x="2431" y="196"/>
                    </a:lnTo>
                    <a:lnTo>
                      <a:pt x="2394" y="187"/>
                    </a:lnTo>
                    <a:lnTo>
                      <a:pt x="2360" y="179"/>
                    </a:lnTo>
                    <a:lnTo>
                      <a:pt x="2327" y="168"/>
                    </a:lnTo>
                    <a:lnTo>
                      <a:pt x="2297" y="155"/>
                    </a:lnTo>
                    <a:lnTo>
                      <a:pt x="2268" y="143"/>
                    </a:lnTo>
                    <a:lnTo>
                      <a:pt x="2241" y="127"/>
                    </a:lnTo>
                    <a:lnTo>
                      <a:pt x="2216" y="111"/>
                    </a:lnTo>
                    <a:lnTo>
                      <a:pt x="2193" y="92"/>
                    </a:lnTo>
                    <a:lnTo>
                      <a:pt x="2173" y="72"/>
                    </a:lnTo>
                    <a:lnTo>
                      <a:pt x="2155" y="49"/>
                    </a:lnTo>
                    <a:lnTo>
                      <a:pt x="2140" y="25"/>
                    </a:lnTo>
                    <a:lnTo>
                      <a:pt x="2127"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0" name=""/>
              <p:cNvSpPr/>
              <p:nvPr/>
            </p:nvSpPr>
            <p:spPr>
              <a:xfrm>
                <a:off x="2717280" y="4552200"/>
                <a:ext cx="34200" cy="80280"/>
              </a:xfrm>
              <a:custGeom>
                <a:avLst/>
                <a:gdLst/>
                <a:ahLst/>
                <a:rect l="l" t="t" r="r" b="b"/>
                <a:pathLst>
                  <a:path w="246" h="397">
                    <a:moveTo>
                      <a:pt x="238" y="373"/>
                    </a:moveTo>
                    <a:lnTo>
                      <a:pt x="238" y="372"/>
                    </a:lnTo>
                    <a:lnTo>
                      <a:pt x="242" y="351"/>
                    </a:lnTo>
                    <a:lnTo>
                      <a:pt x="244" y="331"/>
                    </a:lnTo>
                    <a:lnTo>
                      <a:pt x="245" y="311"/>
                    </a:lnTo>
                    <a:lnTo>
                      <a:pt x="246" y="291"/>
                    </a:lnTo>
                    <a:lnTo>
                      <a:pt x="245" y="273"/>
                    </a:lnTo>
                    <a:lnTo>
                      <a:pt x="245" y="254"/>
                    </a:lnTo>
                    <a:lnTo>
                      <a:pt x="243" y="237"/>
                    </a:lnTo>
                    <a:lnTo>
                      <a:pt x="240" y="219"/>
                    </a:lnTo>
                    <a:lnTo>
                      <a:pt x="237" y="203"/>
                    </a:lnTo>
                    <a:lnTo>
                      <a:pt x="233" y="187"/>
                    </a:lnTo>
                    <a:lnTo>
                      <a:pt x="228" y="172"/>
                    </a:lnTo>
                    <a:lnTo>
                      <a:pt x="223" y="157"/>
                    </a:lnTo>
                    <a:lnTo>
                      <a:pt x="217" y="142"/>
                    </a:lnTo>
                    <a:lnTo>
                      <a:pt x="211" y="130"/>
                    </a:lnTo>
                    <a:lnTo>
                      <a:pt x="203" y="117"/>
                    </a:lnTo>
                    <a:lnTo>
                      <a:pt x="196" y="104"/>
                    </a:lnTo>
                    <a:lnTo>
                      <a:pt x="187" y="93"/>
                    </a:lnTo>
                    <a:lnTo>
                      <a:pt x="178" y="82"/>
                    </a:lnTo>
                    <a:lnTo>
                      <a:pt x="168" y="71"/>
                    </a:lnTo>
                    <a:lnTo>
                      <a:pt x="158" y="62"/>
                    </a:lnTo>
                    <a:lnTo>
                      <a:pt x="147" y="52"/>
                    </a:lnTo>
                    <a:lnTo>
                      <a:pt x="136" y="45"/>
                    </a:lnTo>
                    <a:lnTo>
                      <a:pt x="124" y="38"/>
                    </a:lnTo>
                    <a:lnTo>
                      <a:pt x="112" y="30"/>
                    </a:lnTo>
                    <a:lnTo>
                      <a:pt x="100" y="24"/>
                    </a:lnTo>
                    <a:lnTo>
                      <a:pt x="87" y="18"/>
                    </a:lnTo>
                    <a:lnTo>
                      <a:pt x="74" y="14"/>
                    </a:lnTo>
                    <a:lnTo>
                      <a:pt x="61" y="10"/>
                    </a:lnTo>
                    <a:lnTo>
                      <a:pt x="47" y="6"/>
                    </a:lnTo>
                    <a:lnTo>
                      <a:pt x="33" y="4"/>
                    </a:lnTo>
                    <a:lnTo>
                      <a:pt x="20" y="2"/>
                    </a:lnTo>
                    <a:lnTo>
                      <a:pt x="6" y="0"/>
                    </a:lnTo>
                    <a:lnTo>
                      <a:pt x="0" y="56"/>
                    </a:lnTo>
                    <a:lnTo>
                      <a:pt x="11" y="57"/>
                    </a:lnTo>
                    <a:lnTo>
                      <a:pt x="22" y="58"/>
                    </a:lnTo>
                    <a:lnTo>
                      <a:pt x="32" y="60"/>
                    </a:lnTo>
                    <a:lnTo>
                      <a:pt x="43" y="63"/>
                    </a:lnTo>
                    <a:lnTo>
                      <a:pt x="53" y="65"/>
                    </a:lnTo>
                    <a:lnTo>
                      <a:pt x="63" y="69"/>
                    </a:lnTo>
                    <a:lnTo>
                      <a:pt x="72" y="74"/>
                    </a:lnTo>
                    <a:lnTo>
                      <a:pt x="81" y="78"/>
                    </a:lnTo>
                    <a:lnTo>
                      <a:pt x="90" y="83"/>
                    </a:lnTo>
                    <a:lnTo>
                      <a:pt x="98" y="88"/>
                    </a:lnTo>
                    <a:lnTo>
                      <a:pt x="107" y="95"/>
                    </a:lnTo>
                    <a:lnTo>
                      <a:pt x="114" y="101"/>
                    </a:lnTo>
                    <a:lnTo>
                      <a:pt x="122" y="109"/>
                    </a:lnTo>
                    <a:lnTo>
                      <a:pt x="130" y="116"/>
                    </a:lnTo>
                    <a:lnTo>
                      <a:pt x="136" y="124"/>
                    </a:lnTo>
                    <a:lnTo>
                      <a:pt x="143" y="133"/>
                    </a:lnTo>
                    <a:lnTo>
                      <a:pt x="149" y="142"/>
                    </a:lnTo>
                    <a:lnTo>
                      <a:pt x="155" y="153"/>
                    </a:lnTo>
                    <a:lnTo>
                      <a:pt x="160" y="164"/>
                    </a:lnTo>
                    <a:lnTo>
                      <a:pt x="165" y="175"/>
                    </a:lnTo>
                    <a:lnTo>
                      <a:pt x="169" y="187"/>
                    </a:lnTo>
                    <a:lnTo>
                      <a:pt x="174" y="200"/>
                    </a:lnTo>
                    <a:lnTo>
                      <a:pt x="177" y="213"/>
                    </a:lnTo>
                    <a:lnTo>
                      <a:pt x="179" y="227"/>
                    </a:lnTo>
                    <a:lnTo>
                      <a:pt x="181" y="242"/>
                    </a:lnTo>
                    <a:lnTo>
                      <a:pt x="182" y="258"/>
                    </a:lnTo>
                    <a:lnTo>
                      <a:pt x="183" y="274"/>
                    </a:lnTo>
                    <a:lnTo>
                      <a:pt x="183" y="291"/>
                    </a:lnTo>
                    <a:lnTo>
                      <a:pt x="183" y="309"/>
                    </a:lnTo>
                    <a:lnTo>
                      <a:pt x="182" y="327"/>
                    </a:lnTo>
                    <a:lnTo>
                      <a:pt x="180" y="346"/>
                    </a:lnTo>
                    <a:lnTo>
                      <a:pt x="178" y="365"/>
                    </a:lnTo>
                    <a:lnTo>
                      <a:pt x="177" y="371"/>
                    </a:lnTo>
                    <a:lnTo>
                      <a:pt x="178" y="378"/>
                    </a:lnTo>
                    <a:lnTo>
                      <a:pt x="181" y="383"/>
                    </a:lnTo>
                    <a:lnTo>
                      <a:pt x="185" y="387"/>
                    </a:lnTo>
                    <a:lnTo>
                      <a:pt x="188" y="390"/>
                    </a:lnTo>
                    <a:lnTo>
                      <a:pt x="193" y="394"/>
                    </a:lnTo>
                    <a:lnTo>
                      <a:pt x="199" y="396"/>
                    </a:lnTo>
                    <a:lnTo>
                      <a:pt x="204" y="397"/>
                    </a:lnTo>
                    <a:lnTo>
                      <a:pt x="210" y="397"/>
                    </a:lnTo>
                    <a:lnTo>
                      <a:pt x="215" y="396"/>
                    </a:lnTo>
                    <a:lnTo>
                      <a:pt x="221" y="395"/>
                    </a:lnTo>
                    <a:lnTo>
                      <a:pt x="226" y="393"/>
                    </a:lnTo>
                    <a:lnTo>
                      <a:pt x="231" y="388"/>
                    </a:lnTo>
                    <a:lnTo>
                      <a:pt x="234" y="384"/>
                    </a:lnTo>
                    <a:lnTo>
                      <a:pt x="237" y="379"/>
                    </a:lnTo>
                    <a:lnTo>
                      <a:pt x="238" y="372"/>
                    </a:lnTo>
                    <a:lnTo>
                      <a:pt x="238" y="373"/>
                    </a:lnTo>
                    <a:close/>
                  </a:path>
                </a:pathLst>
              </a:custGeom>
              <a:solidFill>
                <a:srgbClr val="000000"/>
              </a:solidFill>
              <a:ln w="0">
                <a:noFill/>
              </a:ln>
            </p:spPr>
            <p:style>
              <a:lnRef idx="0"/>
              <a:fillRef idx="0"/>
              <a:effectRef idx="0"/>
              <a:fontRef idx="minor"/>
            </p:style>
            <p:txBody>
              <a:bodyPr wrap="none" lIns="93240" rIns="93240" tIns="33840" bIns="33840" anchor="t">
                <a:spAutoFit/>
              </a:bodyPr>
              <a:p>
                <a:endParaRPr b="0" lang="en-US" sz="2400" spc="-1" strike="noStrike">
                  <a:solidFill>
                    <a:srgbClr val="ffffff"/>
                  </a:solidFill>
                  <a:latin typeface="Times New Roman"/>
                </a:endParaRPr>
              </a:p>
            </p:txBody>
          </p:sp>
          <p:sp>
            <p:nvSpPr>
              <p:cNvPr id="371" name=""/>
              <p:cNvSpPr/>
              <p:nvPr/>
            </p:nvSpPr>
            <p:spPr>
              <a:xfrm>
                <a:off x="2507760" y="4625640"/>
                <a:ext cx="242640" cy="367920"/>
              </a:xfrm>
              <a:custGeom>
                <a:avLst/>
                <a:gdLst/>
                <a:ahLst/>
                <a:rect l="l" t="t" r="r" b="b"/>
                <a:pathLst>
                  <a:path w="1697" h="1820">
                    <a:moveTo>
                      <a:pt x="25" y="1820"/>
                    </a:moveTo>
                    <a:lnTo>
                      <a:pt x="24" y="1820"/>
                    </a:lnTo>
                    <a:lnTo>
                      <a:pt x="71" y="1800"/>
                    </a:lnTo>
                    <a:lnTo>
                      <a:pt x="121" y="1778"/>
                    </a:lnTo>
                    <a:lnTo>
                      <a:pt x="174" y="1752"/>
                    </a:lnTo>
                    <a:lnTo>
                      <a:pt x="230" y="1721"/>
                    </a:lnTo>
                    <a:lnTo>
                      <a:pt x="287" y="1688"/>
                    </a:lnTo>
                    <a:lnTo>
                      <a:pt x="346" y="1652"/>
                    </a:lnTo>
                    <a:lnTo>
                      <a:pt x="407" y="1613"/>
                    </a:lnTo>
                    <a:lnTo>
                      <a:pt x="469" y="1571"/>
                    </a:lnTo>
                    <a:lnTo>
                      <a:pt x="533" y="1527"/>
                    </a:lnTo>
                    <a:lnTo>
                      <a:pt x="597" y="1479"/>
                    </a:lnTo>
                    <a:lnTo>
                      <a:pt x="662" y="1429"/>
                    </a:lnTo>
                    <a:lnTo>
                      <a:pt x="727" y="1377"/>
                    </a:lnTo>
                    <a:lnTo>
                      <a:pt x="793" y="1323"/>
                    </a:lnTo>
                    <a:lnTo>
                      <a:pt x="857" y="1266"/>
                    </a:lnTo>
                    <a:lnTo>
                      <a:pt x="922" y="1208"/>
                    </a:lnTo>
                    <a:lnTo>
                      <a:pt x="987" y="1148"/>
                    </a:lnTo>
                    <a:lnTo>
                      <a:pt x="1049" y="1085"/>
                    </a:lnTo>
                    <a:lnTo>
                      <a:pt x="1112" y="1020"/>
                    </a:lnTo>
                    <a:lnTo>
                      <a:pt x="1172" y="956"/>
                    </a:lnTo>
                    <a:lnTo>
                      <a:pt x="1230" y="888"/>
                    </a:lnTo>
                    <a:lnTo>
                      <a:pt x="1259" y="854"/>
                    </a:lnTo>
                    <a:lnTo>
                      <a:pt x="1287" y="820"/>
                    </a:lnTo>
                    <a:lnTo>
                      <a:pt x="1315" y="785"/>
                    </a:lnTo>
                    <a:lnTo>
                      <a:pt x="1341" y="750"/>
                    </a:lnTo>
                    <a:lnTo>
                      <a:pt x="1367" y="715"/>
                    </a:lnTo>
                    <a:lnTo>
                      <a:pt x="1392" y="679"/>
                    </a:lnTo>
                    <a:lnTo>
                      <a:pt x="1418" y="643"/>
                    </a:lnTo>
                    <a:lnTo>
                      <a:pt x="1442" y="607"/>
                    </a:lnTo>
                    <a:lnTo>
                      <a:pt x="1465" y="571"/>
                    </a:lnTo>
                    <a:lnTo>
                      <a:pt x="1488" y="534"/>
                    </a:lnTo>
                    <a:lnTo>
                      <a:pt x="1509" y="498"/>
                    </a:lnTo>
                    <a:lnTo>
                      <a:pt x="1530" y="461"/>
                    </a:lnTo>
                    <a:lnTo>
                      <a:pt x="1549" y="424"/>
                    </a:lnTo>
                    <a:lnTo>
                      <a:pt x="1569" y="387"/>
                    </a:lnTo>
                    <a:lnTo>
                      <a:pt x="1587" y="350"/>
                    </a:lnTo>
                    <a:lnTo>
                      <a:pt x="1603" y="312"/>
                    </a:lnTo>
                    <a:lnTo>
                      <a:pt x="1619" y="274"/>
                    </a:lnTo>
                    <a:lnTo>
                      <a:pt x="1634" y="236"/>
                    </a:lnTo>
                    <a:lnTo>
                      <a:pt x="1648" y="198"/>
                    </a:lnTo>
                    <a:lnTo>
                      <a:pt x="1660" y="161"/>
                    </a:lnTo>
                    <a:lnTo>
                      <a:pt x="1671" y="123"/>
                    </a:lnTo>
                    <a:lnTo>
                      <a:pt x="1681" y="85"/>
                    </a:lnTo>
                    <a:lnTo>
                      <a:pt x="1691" y="47"/>
                    </a:lnTo>
                    <a:lnTo>
                      <a:pt x="1697" y="8"/>
                    </a:lnTo>
                    <a:lnTo>
                      <a:pt x="1637" y="0"/>
                    </a:lnTo>
                    <a:lnTo>
                      <a:pt x="1629" y="36"/>
                    </a:lnTo>
                    <a:lnTo>
                      <a:pt x="1622" y="73"/>
                    </a:lnTo>
                    <a:lnTo>
                      <a:pt x="1612" y="109"/>
                    </a:lnTo>
                    <a:lnTo>
                      <a:pt x="1601" y="145"/>
                    </a:lnTo>
                    <a:lnTo>
                      <a:pt x="1589" y="182"/>
                    </a:lnTo>
                    <a:lnTo>
                      <a:pt x="1576" y="218"/>
                    </a:lnTo>
                    <a:lnTo>
                      <a:pt x="1561" y="255"/>
                    </a:lnTo>
                    <a:lnTo>
                      <a:pt x="1546" y="291"/>
                    </a:lnTo>
                    <a:lnTo>
                      <a:pt x="1530" y="328"/>
                    </a:lnTo>
                    <a:lnTo>
                      <a:pt x="1512" y="364"/>
                    </a:lnTo>
                    <a:lnTo>
                      <a:pt x="1494" y="401"/>
                    </a:lnTo>
                    <a:lnTo>
                      <a:pt x="1475" y="437"/>
                    </a:lnTo>
                    <a:lnTo>
                      <a:pt x="1455" y="473"/>
                    </a:lnTo>
                    <a:lnTo>
                      <a:pt x="1433" y="509"/>
                    </a:lnTo>
                    <a:lnTo>
                      <a:pt x="1411" y="544"/>
                    </a:lnTo>
                    <a:lnTo>
                      <a:pt x="1389" y="580"/>
                    </a:lnTo>
                    <a:lnTo>
                      <a:pt x="1365" y="615"/>
                    </a:lnTo>
                    <a:lnTo>
                      <a:pt x="1341" y="650"/>
                    </a:lnTo>
                    <a:lnTo>
                      <a:pt x="1316" y="685"/>
                    </a:lnTo>
                    <a:lnTo>
                      <a:pt x="1290" y="719"/>
                    </a:lnTo>
                    <a:lnTo>
                      <a:pt x="1264" y="753"/>
                    </a:lnTo>
                    <a:lnTo>
                      <a:pt x="1237" y="787"/>
                    </a:lnTo>
                    <a:lnTo>
                      <a:pt x="1209" y="821"/>
                    </a:lnTo>
                    <a:lnTo>
                      <a:pt x="1182" y="854"/>
                    </a:lnTo>
                    <a:lnTo>
                      <a:pt x="1124" y="921"/>
                    </a:lnTo>
                    <a:lnTo>
                      <a:pt x="1065" y="985"/>
                    </a:lnTo>
                    <a:lnTo>
                      <a:pt x="1003" y="1048"/>
                    </a:lnTo>
                    <a:lnTo>
                      <a:pt x="942" y="1109"/>
                    </a:lnTo>
                    <a:lnTo>
                      <a:pt x="878" y="1169"/>
                    </a:lnTo>
                    <a:lnTo>
                      <a:pt x="815" y="1227"/>
                    </a:lnTo>
                    <a:lnTo>
                      <a:pt x="750" y="1283"/>
                    </a:lnTo>
                    <a:lnTo>
                      <a:pt x="685" y="1336"/>
                    </a:lnTo>
                    <a:lnTo>
                      <a:pt x="622" y="1388"/>
                    </a:lnTo>
                    <a:lnTo>
                      <a:pt x="557" y="1437"/>
                    </a:lnTo>
                    <a:lnTo>
                      <a:pt x="494" y="1483"/>
                    </a:lnTo>
                    <a:lnTo>
                      <a:pt x="432" y="1527"/>
                    </a:lnTo>
                    <a:lnTo>
                      <a:pt x="370" y="1568"/>
                    </a:lnTo>
                    <a:lnTo>
                      <a:pt x="311" y="1606"/>
                    </a:lnTo>
                    <a:lnTo>
                      <a:pt x="253" y="1642"/>
                    </a:lnTo>
                    <a:lnTo>
                      <a:pt x="197" y="1674"/>
                    </a:lnTo>
                    <a:lnTo>
                      <a:pt x="143" y="1703"/>
                    </a:lnTo>
                    <a:lnTo>
                      <a:pt x="93" y="1729"/>
                    </a:lnTo>
                    <a:lnTo>
                      <a:pt x="45" y="1752"/>
                    </a:lnTo>
                    <a:lnTo>
                      <a:pt x="0" y="1770"/>
                    </a:lnTo>
                    <a:lnTo>
                      <a:pt x="25" y="182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2" name=""/>
              <p:cNvSpPr/>
              <p:nvPr/>
            </p:nvSpPr>
            <p:spPr>
              <a:xfrm>
                <a:off x="2229120" y="4938120"/>
                <a:ext cx="282240" cy="79200"/>
              </a:xfrm>
              <a:custGeom>
                <a:avLst/>
                <a:gdLst/>
                <a:ahLst/>
                <a:rect l="l" t="t" r="r" b="b"/>
                <a:pathLst>
                  <a:path w="1960" h="396">
                    <a:moveTo>
                      <a:pt x="0" y="37"/>
                    </a:moveTo>
                    <a:lnTo>
                      <a:pt x="22" y="58"/>
                    </a:lnTo>
                    <a:lnTo>
                      <a:pt x="45" y="79"/>
                    </a:lnTo>
                    <a:lnTo>
                      <a:pt x="68" y="100"/>
                    </a:lnTo>
                    <a:lnTo>
                      <a:pt x="94" y="119"/>
                    </a:lnTo>
                    <a:lnTo>
                      <a:pt x="119" y="137"/>
                    </a:lnTo>
                    <a:lnTo>
                      <a:pt x="145" y="155"/>
                    </a:lnTo>
                    <a:lnTo>
                      <a:pt x="173" y="172"/>
                    </a:lnTo>
                    <a:lnTo>
                      <a:pt x="200" y="188"/>
                    </a:lnTo>
                    <a:lnTo>
                      <a:pt x="229" y="203"/>
                    </a:lnTo>
                    <a:lnTo>
                      <a:pt x="257" y="218"/>
                    </a:lnTo>
                    <a:lnTo>
                      <a:pt x="287" y="232"/>
                    </a:lnTo>
                    <a:lnTo>
                      <a:pt x="317" y="246"/>
                    </a:lnTo>
                    <a:lnTo>
                      <a:pt x="348" y="259"/>
                    </a:lnTo>
                    <a:lnTo>
                      <a:pt x="379" y="271"/>
                    </a:lnTo>
                    <a:lnTo>
                      <a:pt x="411" y="283"/>
                    </a:lnTo>
                    <a:lnTo>
                      <a:pt x="442" y="293"/>
                    </a:lnTo>
                    <a:lnTo>
                      <a:pt x="475" y="304"/>
                    </a:lnTo>
                    <a:lnTo>
                      <a:pt x="508" y="314"/>
                    </a:lnTo>
                    <a:lnTo>
                      <a:pt x="541" y="323"/>
                    </a:lnTo>
                    <a:lnTo>
                      <a:pt x="575" y="332"/>
                    </a:lnTo>
                    <a:lnTo>
                      <a:pt x="609" y="339"/>
                    </a:lnTo>
                    <a:lnTo>
                      <a:pt x="643" y="346"/>
                    </a:lnTo>
                    <a:lnTo>
                      <a:pt x="678" y="354"/>
                    </a:lnTo>
                    <a:lnTo>
                      <a:pt x="713" y="360"/>
                    </a:lnTo>
                    <a:lnTo>
                      <a:pt x="782" y="371"/>
                    </a:lnTo>
                    <a:lnTo>
                      <a:pt x="854" y="380"/>
                    </a:lnTo>
                    <a:lnTo>
                      <a:pt x="925" y="387"/>
                    </a:lnTo>
                    <a:lnTo>
                      <a:pt x="995" y="392"/>
                    </a:lnTo>
                    <a:lnTo>
                      <a:pt x="1066" y="395"/>
                    </a:lnTo>
                    <a:lnTo>
                      <a:pt x="1136" y="396"/>
                    </a:lnTo>
                    <a:lnTo>
                      <a:pt x="1207" y="396"/>
                    </a:lnTo>
                    <a:lnTo>
                      <a:pt x="1276" y="395"/>
                    </a:lnTo>
                    <a:lnTo>
                      <a:pt x="1344" y="392"/>
                    </a:lnTo>
                    <a:lnTo>
                      <a:pt x="1411" y="387"/>
                    </a:lnTo>
                    <a:lnTo>
                      <a:pt x="1476" y="380"/>
                    </a:lnTo>
                    <a:lnTo>
                      <a:pt x="1540" y="373"/>
                    </a:lnTo>
                    <a:lnTo>
                      <a:pt x="1601" y="364"/>
                    </a:lnTo>
                    <a:lnTo>
                      <a:pt x="1661" y="355"/>
                    </a:lnTo>
                    <a:lnTo>
                      <a:pt x="1718" y="343"/>
                    </a:lnTo>
                    <a:lnTo>
                      <a:pt x="1772" y="332"/>
                    </a:lnTo>
                    <a:lnTo>
                      <a:pt x="1824" y="319"/>
                    </a:lnTo>
                    <a:lnTo>
                      <a:pt x="1872" y="305"/>
                    </a:lnTo>
                    <a:lnTo>
                      <a:pt x="1917" y="290"/>
                    </a:lnTo>
                    <a:lnTo>
                      <a:pt x="1960" y="274"/>
                    </a:lnTo>
                    <a:lnTo>
                      <a:pt x="1935" y="224"/>
                    </a:lnTo>
                    <a:lnTo>
                      <a:pt x="1895" y="238"/>
                    </a:lnTo>
                    <a:lnTo>
                      <a:pt x="1853" y="252"/>
                    </a:lnTo>
                    <a:lnTo>
                      <a:pt x="1806" y="266"/>
                    </a:lnTo>
                    <a:lnTo>
                      <a:pt x="1757" y="279"/>
                    </a:lnTo>
                    <a:lnTo>
                      <a:pt x="1704" y="289"/>
                    </a:lnTo>
                    <a:lnTo>
                      <a:pt x="1649" y="301"/>
                    </a:lnTo>
                    <a:lnTo>
                      <a:pt x="1592" y="310"/>
                    </a:lnTo>
                    <a:lnTo>
                      <a:pt x="1531" y="319"/>
                    </a:lnTo>
                    <a:lnTo>
                      <a:pt x="1469" y="325"/>
                    </a:lnTo>
                    <a:lnTo>
                      <a:pt x="1405" y="332"/>
                    </a:lnTo>
                    <a:lnTo>
                      <a:pt x="1340" y="336"/>
                    </a:lnTo>
                    <a:lnTo>
                      <a:pt x="1274" y="339"/>
                    </a:lnTo>
                    <a:lnTo>
                      <a:pt x="1206" y="341"/>
                    </a:lnTo>
                    <a:lnTo>
                      <a:pt x="1138" y="341"/>
                    </a:lnTo>
                    <a:lnTo>
                      <a:pt x="1068" y="340"/>
                    </a:lnTo>
                    <a:lnTo>
                      <a:pt x="999" y="337"/>
                    </a:lnTo>
                    <a:lnTo>
                      <a:pt x="930" y="332"/>
                    </a:lnTo>
                    <a:lnTo>
                      <a:pt x="861" y="325"/>
                    </a:lnTo>
                    <a:lnTo>
                      <a:pt x="792" y="316"/>
                    </a:lnTo>
                    <a:lnTo>
                      <a:pt x="724" y="305"/>
                    </a:lnTo>
                    <a:lnTo>
                      <a:pt x="690" y="300"/>
                    </a:lnTo>
                    <a:lnTo>
                      <a:pt x="657" y="292"/>
                    </a:lnTo>
                    <a:lnTo>
                      <a:pt x="624" y="285"/>
                    </a:lnTo>
                    <a:lnTo>
                      <a:pt x="591" y="278"/>
                    </a:lnTo>
                    <a:lnTo>
                      <a:pt x="559" y="269"/>
                    </a:lnTo>
                    <a:lnTo>
                      <a:pt x="527" y="261"/>
                    </a:lnTo>
                    <a:lnTo>
                      <a:pt x="495" y="251"/>
                    </a:lnTo>
                    <a:lnTo>
                      <a:pt x="463" y="242"/>
                    </a:lnTo>
                    <a:lnTo>
                      <a:pt x="432" y="231"/>
                    </a:lnTo>
                    <a:lnTo>
                      <a:pt x="403" y="220"/>
                    </a:lnTo>
                    <a:lnTo>
                      <a:pt x="373" y="209"/>
                    </a:lnTo>
                    <a:lnTo>
                      <a:pt x="344" y="196"/>
                    </a:lnTo>
                    <a:lnTo>
                      <a:pt x="315" y="183"/>
                    </a:lnTo>
                    <a:lnTo>
                      <a:pt x="287" y="170"/>
                    </a:lnTo>
                    <a:lnTo>
                      <a:pt x="259" y="156"/>
                    </a:lnTo>
                    <a:lnTo>
                      <a:pt x="233" y="141"/>
                    </a:lnTo>
                    <a:lnTo>
                      <a:pt x="207" y="126"/>
                    </a:lnTo>
                    <a:lnTo>
                      <a:pt x="181" y="110"/>
                    </a:lnTo>
                    <a:lnTo>
                      <a:pt x="157" y="93"/>
                    </a:lnTo>
                    <a:lnTo>
                      <a:pt x="133" y="76"/>
                    </a:lnTo>
                    <a:lnTo>
                      <a:pt x="110" y="58"/>
                    </a:lnTo>
                    <a:lnTo>
                      <a:pt x="88" y="39"/>
                    </a:lnTo>
                    <a:lnTo>
                      <a:pt x="66" y="20"/>
                    </a:lnTo>
                    <a:lnTo>
                      <a:pt x="46" y="0"/>
                    </a:lnTo>
                    <a:lnTo>
                      <a:pt x="0" y="37"/>
                    </a:lnTo>
                    <a:close/>
                  </a:path>
                </a:pathLst>
              </a:custGeom>
              <a:solidFill>
                <a:srgbClr val="000000"/>
              </a:solidFill>
              <a:ln w="0">
                <a:noFill/>
              </a:ln>
            </p:spPr>
            <p:style>
              <a:lnRef idx="0"/>
              <a:fillRef idx="0"/>
              <a:effectRef idx="0"/>
              <a:fontRef idx="minor"/>
            </p:style>
            <p:txBody>
              <a:bodyPr wrap="none" lIns="93240" rIns="93240" tIns="32760" bIns="32760" anchor="t">
                <a:spAutoFit/>
              </a:bodyPr>
              <a:p>
                <a:endParaRPr b="0" lang="en-US" sz="2400" spc="-1" strike="noStrike">
                  <a:solidFill>
                    <a:srgbClr val="ffffff"/>
                  </a:solidFill>
                  <a:latin typeface="Times New Roman"/>
                </a:endParaRPr>
              </a:p>
            </p:txBody>
          </p:sp>
          <p:sp>
            <p:nvSpPr>
              <p:cNvPr id="373" name=""/>
              <p:cNvSpPr/>
              <p:nvPr/>
            </p:nvSpPr>
            <p:spPr>
              <a:xfrm>
                <a:off x="2202480" y="4712400"/>
                <a:ext cx="144000" cy="232560"/>
              </a:xfrm>
              <a:custGeom>
                <a:avLst/>
                <a:gdLst/>
                <a:ahLst/>
                <a:rect l="l" t="t" r="r" b="b"/>
                <a:pathLst>
                  <a:path w="998" h="1159">
                    <a:moveTo>
                      <a:pt x="980" y="0"/>
                    </a:moveTo>
                    <a:lnTo>
                      <a:pt x="924" y="16"/>
                    </a:lnTo>
                    <a:lnTo>
                      <a:pt x="872" y="32"/>
                    </a:lnTo>
                    <a:lnTo>
                      <a:pt x="820" y="48"/>
                    </a:lnTo>
                    <a:lnTo>
                      <a:pt x="770" y="64"/>
                    </a:lnTo>
                    <a:lnTo>
                      <a:pt x="723" y="80"/>
                    </a:lnTo>
                    <a:lnTo>
                      <a:pt x="676" y="97"/>
                    </a:lnTo>
                    <a:lnTo>
                      <a:pt x="633" y="115"/>
                    </a:lnTo>
                    <a:lnTo>
                      <a:pt x="590" y="132"/>
                    </a:lnTo>
                    <a:lnTo>
                      <a:pt x="549" y="150"/>
                    </a:lnTo>
                    <a:lnTo>
                      <a:pt x="510" y="168"/>
                    </a:lnTo>
                    <a:lnTo>
                      <a:pt x="472" y="186"/>
                    </a:lnTo>
                    <a:lnTo>
                      <a:pt x="437" y="205"/>
                    </a:lnTo>
                    <a:lnTo>
                      <a:pt x="403" y="223"/>
                    </a:lnTo>
                    <a:lnTo>
                      <a:pt x="371" y="242"/>
                    </a:lnTo>
                    <a:lnTo>
                      <a:pt x="340" y="262"/>
                    </a:lnTo>
                    <a:lnTo>
                      <a:pt x="311" y="282"/>
                    </a:lnTo>
                    <a:lnTo>
                      <a:pt x="283" y="301"/>
                    </a:lnTo>
                    <a:lnTo>
                      <a:pt x="256" y="321"/>
                    </a:lnTo>
                    <a:lnTo>
                      <a:pt x="232" y="340"/>
                    </a:lnTo>
                    <a:lnTo>
                      <a:pt x="208" y="360"/>
                    </a:lnTo>
                    <a:lnTo>
                      <a:pt x="186" y="380"/>
                    </a:lnTo>
                    <a:lnTo>
                      <a:pt x="165" y="400"/>
                    </a:lnTo>
                    <a:lnTo>
                      <a:pt x="147" y="421"/>
                    </a:lnTo>
                    <a:lnTo>
                      <a:pt x="128" y="442"/>
                    </a:lnTo>
                    <a:lnTo>
                      <a:pt x="112" y="462"/>
                    </a:lnTo>
                    <a:lnTo>
                      <a:pt x="96" y="482"/>
                    </a:lnTo>
                    <a:lnTo>
                      <a:pt x="82" y="503"/>
                    </a:lnTo>
                    <a:lnTo>
                      <a:pt x="69" y="523"/>
                    </a:lnTo>
                    <a:lnTo>
                      <a:pt x="57" y="544"/>
                    </a:lnTo>
                    <a:lnTo>
                      <a:pt x="47" y="565"/>
                    </a:lnTo>
                    <a:lnTo>
                      <a:pt x="37" y="586"/>
                    </a:lnTo>
                    <a:lnTo>
                      <a:pt x="29" y="606"/>
                    </a:lnTo>
                    <a:lnTo>
                      <a:pt x="22" y="627"/>
                    </a:lnTo>
                    <a:lnTo>
                      <a:pt x="16" y="647"/>
                    </a:lnTo>
                    <a:lnTo>
                      <a:pt x="11" y="667"/>
                    </a:lnTo>
                    <a:lnTo>
                      <a:pt x="6" y="688"/>
                    </a:lnTo>
                    <a:lnTo>
                      <a:pt x="3" y="709"/>
                    </a:lnTo>
                    <a:lnTo>
                      <a:pt x="1" y="729"/>
                    </a:lnTo>
                    <a:lnTo>
                      <a:pt x="0" y="748"/>
                    </a:lnTo>
                    <a:lnTo>
                      <a:pt x="0" y="768"/>
                    </a:lnTo>
                    <a:lnTo>
                      <a:pt x="1" y="788"/>
                    </a:lnTo>
                    <a:lnTo>
                      <a:pt x="2" y="807"/>
                    </a:lnTo>
                    <a:lnTo>
                      <a:pt x="4" y="826"/>
                    </a:lnTo>
                    <a:lnTo>
                      <a:pt x="6" y="845"/>
                    </a:lnTo>
                    <a:lnTo>
                      <a:pt x="11" y="864"/>
                    </a:lnTo>
                    <a:lnTo>
                      <a:pt x="15" y="883"/>
                    </a:lnTo>
                    <a:lnTo>
                      <a:pt x="20" y="901"/>
                    </a:lnTo>
                    <a:lnTo>
                      <a:pt x="25" y="920"/>
                    </a:lnTo>
                    <a:lnTo>
                      <a:pt x="38" y="953"/>
                    </a:lnTo>
                    <a:lnTo>
                      <a:pt x="54" y="987"/>
                    </a:lnTo>
                    <a:lnTo>
                      <a:pt x="71" y="1020"/>
                    </a:lnTo>
                    <a:lnTo>
                      <a:pt x="90" y="1051"/>
                    </a:lnTo>
                    <a:lnTo>
                      <a:pt x="110" y="1081"/>
                    </a:lnTo>
                    <a:lnTo>
                      <a:pt x="131" y="1108"/>
                    </a:lnTo>
                    <a:lnTo>
                      <a:pt x="153" y="1135"/>
                    </a:lnTo>
                    <a:lnTo>
                      <a:pt x="176" y="1159"/>
                    </a:lnTo>
                    <a:lnTo>
                      <a:pt x="222" y="1122"/>
                    </a:lnTo>
                    <a:lnTo>
                      <a:pt x="202" y="1100"/>
                    </a:lnTo>
                    <a:lnTo>
                      <a:pt x="181" y="1076"/>
                    </a:lnTo>
                    <a:lnTo>
                      <a:pt x="161" y="1050"/>
                    </a:lnTo>
                    <a:lnTo>
                      <a:pt x="142" y="1023"/>
                    </a:lnTo>
                    <a:lnTo>
                      <a:pt x="126" y="995"/>
                    </a:lnTo>
                    <a:lnTo>
                      <a:pt x="111" y="965"/>
                    </a:lnTo>
                    <a:lnTo>
                      <a:pt x="96" y="934"/>
                    </a:lnTo>
                    <a:lnTo>
                      <a:pt x="84" y="903"/>
                    </a:lnTo>
                    <a:lnTo>
                      <a:pt x="80" y="887"/>
                    </a:lnTo>
                    <a:lnTo>
                      <a:pt x="74" y="870"/>
                    </a:lnTo>
                    <a:lnTo>
                      <a:pt x="71" y="854"/>
                    </a:lnTo>
                    <a:lnTo>
                      <a:pt x="68" y="837"/>
                    </a:lnTo>
                    <a:lnTo>
                      <a:pt x="66" y="820"/>
                    </a:lnTo>
                    <a:lnTo>
                      <a:pt x="63" y="803"/>
                    </a:lnTo>
                    <a:lnTo>
                      <a:pt x="62" y="785"/>
                    </a:lnTo>
                    <a:lnTo>
                      <a:pt x="61" y="768"/>
                    </a:lnTo>
                    <a:lnTo>
                      <a:pt x="61" y="750"/>
                    </a:lnTo>
                    <a:lnTo>
                      <a:pt x="62" y="732"/>
                    </a:lnTo>
                    <a:lnTo>
                      <a:pt x="65" y="715"/>
                    </a:lnTo>
                    <a:lnTo>
                      <a:pt x="68" y="697"/>
                    </a:lnTo>
                    <a:lnTo>
                      <a:pt x="71" y="679"/>
                    </a:lnTo>
                    <a:lnTo>
                      <a:pt x="76" y="660"/>
                    </a:lnTo>
                    <a:lnTo>
                      <a:pt x="81" y="642"/>
                    </a:lnTo>
                    <a:lnTo>
                      <a:pt x="88" y="624"/>
                    </a:lnTo>
                    <a:lnTo>
                      <a:pt x="95" y="605"/>
                    </a:lnTo>
                    <a:lnTo>
                      <a:pt x="103" y="587"/>
                    </a:lnTo>
                    <a:lnTo>
                      <a:pt x="113" y="568"/>
                    </a:lnTo>
                    <a:lnTo>
                      <a:pt x="124" y="550"/>
                    </a:lnTo>
                    <a:lnTo>
                      <a:pt x="135" y="531"/>
                    </a:lnTo>
                    <a:lnTo>
                      <a:pt x="148" y="513"/>
                    </a:lnTo>
                    <a:lnTo>
                      <a:pt x="162" y="494"/>
                    </a:lnTo>
                    <a:lnTo>
                      <a:pt x="178" y="475"/>
                    </a:lnTo>
                    <a:lnTo>
                      <a:pt x="194" y="455"/>
                    </a:lnTo>
                    <a:lnTo>
                      <a:pt x="212" y="437"/>
                    </a:lnTo>
                    <a:lnTo>
                      <a:pt x="231" y="418"/>
                    </a:lnTo>
                    <a:lnTo>
                      <a:pt x="251" y="399"/>
                    </a:lnTo>
                    <a:lnTo>
                      <a:pt x="273" y="381"/>
                    </a:lnTo>
                    <a:lnTo>
                      <a:pt x="297" y="362"/>
                    </a:lnTo>
                    <a:lnTo>
                      <a:pt x="321" y="344"/>
                    </a:lnTo>
                    <a:lnTo>
                      <a:pt x="347" y="325"/>
                    </a:lnTo>
                    <a:lnTo>
                      <a:pt x="376" y="307"/>
                    </a:lnTo>
                    <a:lnTo>
                      <a:pt x="406" y="289"/>
                    </a:lnTo>
                    <a:lnTo>
                      <a:pt x="436" y="271"/>
                    </a:lnTo>
                    <a:lnTo>
                      <a:pt x="469" y="253"/>
                    </a:lnTo>
                    <a:lnTo>
                      <a:pt x="503" y="235"/>
                    </a:lnTo>
                    <a:lnTo>
                      <a:pt x="539" y="217"/>
                    </a:lnTo>
                    <a:lnTo>
                      <a:pt x="577" y="200"/>
                    </a:lnTo>
                    <a:lnTo>
                      <a:pt x="616" y="182"/>
                    </a:lnTo>
                    <a:lnTo>
                      <a:pt x="658" y="165"/>
                    </a:lnTo>
                    <a:lnTo>
                      <a:pt x="701" y="148"/>
                    </a:lnTo>
                    <a:lnTo>
                      <a:pt x="746" y="132"/>
                    </a:lnTo>
                    <a:lnTo>
                      <a:pt x="792" y="115"/>
                    </a:lnTo>
                    <a:lnTo>
                      <a:pt x="840" y="99"/>
                    </a:lnTo>
                    <a:lnTo>
                      <a:pt x="891" y="84"/>
                    </a:lnTo>
                    <a:lnTo>
                      <a:pt x="943" y="69"/>
                    </a:lnTo>
                    <a:lnTo>
                      <a:pt x="998" y="53"/>
                    </a:lnTo>
                    <a:lnTo>
                      <a:pt x="98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4" name=""/>
              <p:cNvSpPr/>
              <p:nvPr/>
            </p:nvSpPr>
            <p:spPr>
              <a:xfrm>
                <a:off x="2343960" y="4574160"/>
                <a:ext cx="114840" cy="147960"/>
              </a:xfrm>
              <a:custGeom>
                <a:avLst/>
                <a:gdLst/>
                <a:ahLst/>
                <a:rect l="l" t="t" r="r" b="b"/>
                <a:pathLst>
                  <a:path w="799" h="735">
                    <a:moveTo>
                      <a:pt x="793" y="15"/>
                    </a:moveTo>
                    <a:lnTo>
                      <a:pt x="751" y="5"/>
                    </a:lnTo>
                    <a:lnTo>
                      <a:pt x="726" y="20"/>
                    </a:lnTo>
                    <a:lnTo>
                      <a:pt x="701" y="35"/>
                    </a:lnTo>
                    <a:lnTo>
                      <a:pt x="677" y="53"/>
                    </a:lnTo>
                    <a:lnTo>
                      <a:pt x="653" y="73"/>
                    </a:lnTo>
                    <a:lnTo>
                      <a:pt x="629" y="94"/>
                    </a:lnTo>
                    <a:lnTo>
                      <a:pt x="604" y="115"/>
                    </a:lnTo>
                    <a:lnTo>
                      <a:pt x="581" y="138"/>
                    </a:lnTo>
                    <a:lnTo>
                      <a:pt x="557" y="163"/>
                    </a:lnTo>
                    <a:lnTo>
                      <a:pt x="510" y="212"/>
                    </a:lnTo>
                    <a:lnTo>
                      <a:pt x="464" y="265"/>
                    </a:lnTo>
                    <a:lnTo>
                      <a:pt x="417" y="319"/>
                    </a:lnTo>
                    <a:lnTo>
                      <a:pt x="371" y="373"/>
                    </a:lnTo>
                    <a:lnTo>
                      <a:pt x="325" y="426"/>
                    </a:lnTo>
                    <a:lnTo>
                      <a:pt x="278" y="477"/>
                    </a:lnTo>
                    <a:lnTo>
                      <a:pt x="255" y="502"/>
                    </a:lnTo>
                    <a:lnTo>
                      <a:pt x="232" y="526"/>
                    </a:lnTo>
                    <a:lnTo>
                      <a:pt x="209" y="548"/>
                    </a:lnTo>
                    <a:lnTo>
                      <a:pt x="184" y="570"/>
                    </a:lnTo>
                    <a:lnTo>
                      <a:pt x="161" y="590"/>
                    </a:lnTo>
                    <a:lnTo>
                      <a:pt x="138" y="609"/>
                    </a:lnTo>
                    <a:lnTo>
                      <a:pt x="114" y="626"/>
                    </a:lnTo>
                    <a:lnTo>
                      <a:pt x="91" y="641"/>
                    </a:lnTo>
                    <a:lnTo>
                      <a:pt x="68" y="654"/>
                    </a:lnTo>
                    <a:lnTo>
                      <a:pt x="45" y="666"/>
                    </a:lnTo>
                    <a:lnTo>
                      <a:pt x="22" y="675"/>
                    </a:lnTo>
                    <a:lnTo>
                      <a:pt x="0" y="682"/>
                    </a:lnTo>
                    <a:lnTo>
                      <a:pt x="18" y="735"/>
                    </a:lnTo>
                    <a:lnTo>
                      <a:pt x="45" y="726"/>
                    </a:lnTo>
                    <a:lnTo>
                      <a:pt x="73" y="715"/>
                    </a:lnTo>
                    <a:lnTo>
                      <a:pt x="100" y="702"/>
                    </a:lnTo>
                    <a:lnTo>
                      <a:pt x="126" y="686"/>
                    </a:lnTo>
                    <a:lnTo>
                      <a:pt x="153" y="669"/>
                    </a:lnTo>
                    <a:lnTo>
                      <a:pt x="178" y="651"/>
                    </a:lnTo>
                    <a:lnTo>
                      <a:pt x="203" y="631"/>
                    </a:lnTo>
                    <a:lnTo>
                      <a:pt x="228" y="609"/>
                    </a:lnTo>
                    <a:lnTo>
                      <a:pt x="252" y="586"/>
                    </a:lnTo>
                    <a:lnTo>
                      <a:pt x="277" y="563"/>
                    </a:lnTo>
                    <a:lnTo>
                      <a:pt x="301" y="539"/>
                    </a:lnTo>
                    <a:lnTo>
                      <a:pt x="326" y="513"/>
                    </a:lnTo>
                    <a:lnTo>
                      <a:pt x="373" y="461"/>
                    </a:lnTo>
                    <a:lnTo>
                      <a:pt x="420" y="407"/>
                    </a:lnTo>
                    <a:lnTo>
                      <a:pt x="466" y="353"/>
                    </a:lnTo>
                    <a:lnTo>
                      <a:pt x="512" y="299"/>
                    </a:lnTo>
                    <a:lnTo>
                      <a:pt x="558" y="247"/>
                    </a:lnTo>
                    <a:lnTo>
                      <a:pt x="604" y="198"/>
                    </a:lnTo>
                    <a:lnTo>
                      <a:pt x="626" y="175"/>
                    </a:lnTo>
                    <a:lnTo>
                      <a:pt x="649" y="153"/>
                    </a:lnTo>
                    <a:lnTo>
                      <a:pt x="671" y="133"/>
                    </a:lnTo>
                    <a:lnTo>
                      <a:pt x="694" y="113"/>
                    </a:lnTo>
                    <a:lnTo>
                      <a:pt x="716" y="96"/>
                    </a:lnTo>
                    <a:lnTo>
                      <a:pt x="738" y="80"/>
                    </a:lnTo>
                    <a:lnTo>
                      <a:pt x="760" y="65"/>
                    </a:lnTo>
                    <a:lnTo>
                      <a:pt x="782" y="52"/>
                    </a:lnTo>
                    <a:lnTo>
                      <a:pt x="740" y="43"/>
                    </a:lnTo>
                    <a:lnTo>
                      <a:pt x="782" y="52"/>
                    </a:lnTo>
                    <a:lnTo>
                      <a:pt x="789" y="49"/>
                    </a:lnTo>
                    <a:lnTo>
                      <a:pt x="793" y="45"/>
                    </a:lnTo>
                    <a:lnTo>
                      <a:pt x="795" y="40"/>
                    </a:lnTo>
                    <a:lnTo>
                      <a:pt x="797" y="34"/>
                    </a:lnTo>
                    <a:lnTo>
                      <a:pt x="799" y="30"/>
                    </a:lnTo>
                    <a:lnTo>
                      <a:pt x="797" y="25"/>
                    </a:lnTo>
                    <a:lnTo>
                      <a:pt x="796" y="20"/>
                    </a:lnTo>
                    <a:lnTo>
                      <a:pt x="793" y="15"/>
                    </a:lnTo>
                    <a:lnTo>
                      <a:pt x="790" y="11"/>
                    </a:lnTo>
                    <a:lnTo>
                      <a:pt x="786" y="7"/>
                    </a:lnTo>
                    <a:lnTo>
                      <a:pt x="781" y="4"/>
                    </a:lnTo>
                    <a:lnTo>
                      <a:pt x="777" y="2"/>
                    </a:lnTo>
                    <a:lnTo>
                      <a:pt x="770" y="0"/>
                    </a:lnTo>
                    <a:lnTo>
                      <a:pt x="765" y="0"/>
                    </a:lnTo>
                    <a:lnTo>
                      <a:pt x="758" y="3"/>
                    </a:lnTo>
                    <a:lnTo>
                      <a:pt x="751" y="5"/>
                    </a:lnTo>
                    <a:lnTo>
                      <a:pt x="793" y="1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5" name=""/>
              <p:cNvSpPr/>
              <p:nvPr/>
            </p:nvSpPr>
            <p:spPr>
              <a:xfrm>
                <a:off x="2450160" y="4552200"/>
                <a:ext cx="272160" cy="77760"/>
              </a:xfrm>
              <a:custGeom>
                <a:avLst/>
                <a:gdLst/>
                <a:ahLst/>
                <a:rect l="l" t="t" r="r" b="b"/>
                <a:pathLst>
                  <a:path w="1884" h="386">
                    <a:moveTo>
                      <a:pt x="1856" y="1"/>
                    </a:moveTo>
                    <a:lnTo>
                      <a:pt x="1842" y="3"/>
                    </a:lnTo>
                    <a:lnTo>
                      <a:pt x="1746" y="37"/>
                    </a:lnTo>
                    <a:lnTo>
                      <a:pt x="1639" y="76"/>
                    </a:lnTo>
                    <a:lnTo>
                      <a:pt x="1522" y="117"/>
                    </a:lnTo>
                    <a:lnTo>
                      <a:pt x="1399" y="158"/>
                    </a:lnTo>
                    <a:lnTo>
                      <a:pt x="1335" y="178"/>
                    </a:lnTo>
                    <a:lnTo>
                      <a:pt x="1270" y="199"/>
                    </a:lnTo>
                    <a:lnTo>
                      <a:pt x="1204" y="218"/>
                    </a:lnTo>
                    <a:lnTo>
                      <a:pt x="1138" y="237"/>
                    </a:lnTo>
                    <a:lnTo>
                      <a:pt x="1071" y="254"/>
                    </a:lnTo>
                    <a:lnTo>
                      <a:pt x="1004" y="271"/>
                    </a:lnTo>
                    <a:lnTo>
                      <a:pt x="937" y="285"/>
                    </a:lnTo>
                    <a:lnTo>
                      <a:pt x="870" y="298"/>
                    </a:lnTo>
                    <a:lnTo>
                      <a:pt x="803" y="309"/>
                    </a:lnTo>
                    <a:lnTo>
                      <a:pt x="738" y="318"/>
                    </a:lnTo>
                    <a:lnTo>
                      <a:pt x="707" y="323"/>
                    </a:lnTo>
                    <a:lnTo>
                      <a:pt x="675" y="325"/>
                    </a:lnTo>
                    <a:lnTo>
                      <a:pt x="643" y="328"/>
                    </a:lnTo>
                    <a:lnTo>
                      <a:pt x="611" y="329"/>
                    </a:lnTo>
                    <a:lnTo>
                      <a:pt x="580" y="331"/>
                    </a:lnTo>
                    <a:lnTo>
                      <a:pt x="551" y="331"/>
                    </a:lnTo>
                    <a:lnTo>
                      <a:pt x="521" y="331"/>
                    </a:lnTo>
                    <a:lnTo>
                      <a:pt x="492" y="330"/>
                    </a:lnTo>
                    <a:lnTo>
                      <a:pt x="463" y="328"/>
                    </a:lnTo>
                    <a:lnTo>
                      <a:pt x="435" y="326"/>
                    </a:lnTo>
                    <a:lnTo>
                      <a:pt x="407" y="323"/>
                    </a:lnTo>
                    <a:lnTo>
                      <a:pt x="380" y="318"/>
                    </a:lnTo>
                    <a:lnTo>
                      <a:pt x="353" y="313"/>
                    </a:lnTo>
                    <a:lnTo>
                      <a:pt x="328" y="307"/>
                    </a:lnTo>
                    <a:lnTo>
                      <a:pt x="303" y="300"/>
                    </a:lnTo>
                    <a:lnTo>
                      <a:pt x="279" y="293"/>
                    </a:lnTo>
                    <a:lnTo>
                      <a:pt x="256" y="284"/>
                    </a:lnTo>
                    <a:lnTo>
                      <a:pt x="233" y="275"/>
                    </a:lnTo>
                    <a:lnTo>
                      <a:pt x="211" y="264"/>
                    </a:lnTo>
                    <a:lnTo>
                      <a:pt x="190" y="253"/>
                    </a:lnTo>
                    <a:lnTo>
                      <a:pt x="170" y="241"/>
                    </a:lnTo>
                    <a:lnTo>
                      <a:pt x="151" y="227"/>
                    </a:lnTo>
                    <a:lnTo>
                      <a:pt x="132" y="212"/>
                    </a:lnTo>
                    <a:lnTo>
                      <a:pt x="114" y="198"/>
                    </a:lnTo>
                    <a:lnTo>
                      <a:pt x="98" y="181"/>
                    </a:lnTo>
                    <a:lnTo>
                      <a:pt x="83" y="163"/>
                    </a:lnTo>
                    <a:lnTo>
                      <a:pt x="67" y="143"/>
                    </a:lnTo>
                    <a:lnTo>
                      <a:pt x="53" y="123"/>
                    </a:lnTo>
                    <a:lnTo>
                      <a:pt x="0" y="151"/>
                    </a:lnTo>
                    <a:lnTo>
                      <a:pt x="16" y="174"/>
                    </a:lnTo>
                    <a:lnTo>
                      <a:pt x="33" y="195"/>
                    </a:lnTo>
                    <a:lnTo>
                      <a:pt x="51" y="217"/>
                    </a:lnTo>
                    <a:lnTo>
                      <a:pt x="71" y="236"/>
                    </a:lnTo>
                    <a:lnTo>
                      <a:pt x="90" y="254"/>
                    </a:lnTo>
                    <a:lnTo>
                      <a:pt x="111" y="270"/>
                    </a:lnTo>
                    <a:lnTo>
                      <a:pt x="134" y="285"/>
                    </a:lnTo>
                    <a:lnTo>
                      <a:pt x="157" y="299"/>
                    </a:lnTo>
                    <a:lnTo>
                      <a:pt x="180" y="313"/>
                    </a:lnTo>
                    <a:lnTo>
                      <a:pt x="205" y="325"/>
                    </a:lnTo>
                    <a:lnTo>
                      <a:pt x="231" y="335"/>
                    </a:lnTo>
                    <a:lnTo>
                      <a:pt x="257" y="345"/>
                    </a:lnTo>
                    <a:lnTo>
                      <a:pt x="284" y="353"/>
                    </a:lnTo>
                    <a:lnTo>
                      <a:pt x="312" y="361"/>
                    </a:lnTo>
                    <a:lnTo>
                      <a:pt x="339" y="367"/>
                    </a:lnTo>
                    <a:lnTo>
                      <a:pt x="369" y="372"/>
                    </a:lnTo>
                    <a:lnTo>
                      <a:pt x="397" y="377"/>
                    </a:lnTo>
                    <a:lnTo>
                      <a:pt x="427" y="381"/>
                    </a:lnTo>
                    <a:lnTo>
                      <a:pt x="458" y="383"/>
                    </a:lnTo>
                    <a:lnTo>
                      <a:pt x="488" y="385"/>
                    </a:lnTo>
                    <a:lnTo>
                      <a:pt x="519" y="386"/>
                    </a:lnTo>
                    <a:lnTo>
                      <a:pt x="551" y="386"/>
                    </a:lnTo>
                    <a:lnTo>
                      <a:pt x="583" y="386"/>
                    </a:lnTo>
                    <a:lnTo>
                      <a:pt x="614" y="385"/>
                    </a:lnTo>
                    <a:lnTo>
                      <a:pt x="647" y="383"/>
                    </a:lnTo>
                    <a:lnTo>
                      <a:pt x="680" y="380"/>
                    </a:lnTo>
                    <a:lnTo>
                      <a:pt x="713" y="377"/>
                    </a:lnTo>
                    <a:lnTo>
                      <a:pt x="747" y="373"/>
                    </a:lnTo>
                    <a:lnTo>
                      <a:pt x="814" y="364"/>
                    </a:lnTo>
                    <a:lnTo>
                      <a:pt x="882" y="352"/>
                    </a:lnTo>
                    <a:lnTo>
                      <a:pt x="950" y="339"/>
                    </a:lnTo>
                    <a:lnTo>
                      <a:pt x="1019" y="324"/>
                    </a:lnTo>
                    <a:lnTo>
                      <a:pt x="1087" y="308"/>
                    </a:lnTo>
                    <a:lnTo>
                      <a:pt x="1155" y="290"/>
                    </a:lnTo>
                    <a:lnTo>
                      <a:pt x="1223" y="271"/>
                    </a:lnTo>
                    <a:lnTo>
                      <a:pt x="1290" y="252"/>
                    </a:lnTo>
                    <a:lnTo>
                      <a:pt x="1356" y="230"/>
                    </a:lnTo>
                    <a:lnTo>
                      <a:pt x="1420" y="210"/>
                    </a:lnTo>
                    <a:lnTo>
                      <a:pt x="1544" y="168"/>
                    </a:lnTo>
                    <a:lnTo>
                      <a:pt x="1662" y="128"/>
                    </a:lnTo>
                    <a:lnTo>
                      <a:pt x="1769" y="88"/>
                    </a:lnTo>
                    <a:lnTo>
                      <a:pt x="1865" y="54"/>
                    </a:lnTo>
                    <a:lnTo>
                      <a:pt x="1850" y="57"/>
                    </a:lnTo>
                    <a:lnTo>
                      <a:pt x="1865" y="54"/>
                    </a:lnTo>
                    <a:lnTo>
                      <a:pt x="1871" y="51"/>
                    </a:lnTo>
                    <a:lnTo>
                      <a:pt x="1876" y="48"/>
                    </a:lnTo>
                    <a:lnTo>
                      <a:pt x="1880" y="44"/>
                    </a:lnTo>
                    <a:lnTo>
                      <a:pt x="1882" y="39"/>
                    </a:lnTo>
                    <a:lnTo>
                      <a:pt x="1883" y="34"/>
                    </a:lnTo>
                    <a:lnTo>
                      <a:pt x="1884" y="29"/>
                    </a:lnTo>
                    <a:lnTo>
                      <a:pt x="1883" y="24"/>
                    </a:lnTo>
                    <a:lnTo>
                      <a:pt x="1882" y="18"/>
                    </a:lnTo>
                    <a:lnTo>
                      <a:pt x="1879" y="14"/>
                    </a:lnTo>
                    <a:lnTo>
                      <a:pt x="1876" y="10"/>
                    </a:lnTo>
                    <a:lnTo>
                      <a:pt x="1871" y="6"/>
                    </a:lnTo>
                    <a:lnTo>
                      <a:pt x="1867" y="4"/>
                    </a:lnTo>
                    <a:lnTo>
                      <a:pt x="1861" y="1"/>
                    </a:lnTo>
                    <a:lnTo>
                      <a:pt x="1855" y="0"/>
                    </a:lnTo>
                    <a:lnTo>
                      <a:pt x="1848" y="1"/>
                    </a:lnTo>
                    <a:lnTo>
                      <a:pt x="1842" y="3"/>
                    </a:lnTo>
                    <a:lnTo>
                      <a:pt x="1856" y="1"/>
                    </a:lnTo>
                    <a:close/>
                  </a:path>
                </a:pathLst>
              </a:custGeom>
              <a:solidFill>
                <a:srgbClr val="000000"/>
              </a:solidFill>
              <a:ln w="0">
                <a:noFill/>
              </a:ln>
            </p:spPr>
            <p:style>
              <a:lnRef idx="0"/>
              <a:fillRef idx="0"/>
              <a:effectRef idx="0"/>
              <a:fontRef idx="minor"/>
            </p:style>
            <p:txBody>
              <a:bodyPr wrap="none" lIns="93240" rIns="93240" tIns="31320" bIns="31320" anchor="t">
                <a:spAutoFit/>
              </a:bodyPr>
              <a:p>
                <a:endParaRPr b="0" lang="en-US" sz="2400" spc="-1" strike="noStrike">
                  <a:solidFill>
                    <a:srgbClr val="ffffff"/>
                  </a:solidFill>
                  <a:latin typeface="Times New Roman"/>
                </a:endParaRPr>
              </a:p>
            </p:txBody>
          </p:sp>
          <p:sp>
            <p:nvSpPr>
              <p:cNvPr id="376" name=""/>
              <p:cNvSpPr/>
              <p:nvPr/>
            </p:nvSpPr>
            <p:spPr>
              <a:xfrm>
                <a:off x="2111760" y="4487760"/>
                <a:ext cx="176040" cy="84960"/>
              </a:xfrm>
              <a:custGeom>
                <a:avLst/>
                <a:gdLst/>
                <a:ahLst/>
                <a:rect l="l" t="t" r="r" b="b"/>
                <a:pathLst>
                  <a:path w="1229" h="421">
                    <a:moveTo>
                      <a:pt x="26" y="421"/>
                    </a:moveTo>
                    <a:lnTo>
                      <a:pt x="32" y="421"/>
                    </a:lnTo>
                    <a:lnTo>
                      <a:pt x="179" y="416"/>
                    </a:lnTo>
                    <a:lnTo>
                      <a:pt x="305" y="408"/>
                    </a:lnTo>
                    <a:lnTo>
                      <a:pt x="336" y="406"/>
                    </a:lnTo>
                    <a:lnTo>
                      <a:pt x="365" y="403"/>
                    </a:lnTo>
                    <a:lnTo>
                      <a:pt x="395" y="400"/>
                    </a:lnTo>
                    <a:lnTo>
                      <a:pt x="423" y="396"/>
                    </a:lnTo>
                    <a:lnTo>
                      <a:pt x="453" y="391"/>
                    </a:lnTo>
                    <a:lnTo>
                      <a:pt x="483" y="385"/>
                    </a:lnTo>
                    <a:lnTo>
                      <a:pt x="513" y="379"/>
                    </a:lnTo>
                    <a:lnTo>
                      <a:pt x="544" y="371"/>
                    </a:lnTo>
                    <a:lnTo>
                      <a:pt x="575" y="363"/>
                    </a:lnTo>
                    <a:lnTo>
                      <a:pt x="606" y="352"/>
                    </a:lnTo>
                    <a:lnTo>
                      <a:pt x="639" y="341"/>
                    </a:lnTo>
                    <a:lnTo>
                      <a:pt x="673" y="329"/>
                    </a:lnTo>
                    <a:lnTo>
                      <a:pt x="708" y="315"/>
                    </a:lnTo>
                    <a:lnTo>
                      <a:pt x="746" y="300"/>
                    </a:lnTo>
                    <a:lnTo>
                      <a:pt x="784" y="283"/>
                    </a:lnTo>
                    <a:lnTo>
                      <a:pt x="824" y="264"/>
                    </a:lnTo>
                    <a:lnTo>
                      <a:pt x="866" y="244"/>
                    </a:lnTo>
                    <a:lnTo>
                      <a:pt x="910" y="222"/>
                    </a:lnTo>
                    <a:lnTo>
                      <a:pt x="956" y="198"/>
                    </a:lnTo>
                    <a:lnTo>
                      <a:pt x="1006" y="172"/>
                    </a:lnTo>
                    <a:lnTo>
                      <a:pt x="1111" y="114"/>
                    </a:lnTo>
                    <a:lnTo>
                      <a:pt x="1229" y="47"/>
                    </a:lnTo>
                    <a:lnTo>
                      <a:pt x="1195" y="0"/>
                    </a:lnTo>
                    <a:lnTo>
                      <a:pt x="1079" y="67"/>
                    </a:lnTo>
                    <a:lnTo>
                      <a:pt x="974" y="124"/>
                    </a:lnTo>
                    <a:lnTo>
                      <a:pt x="926" y="150"/>
                    </a:lnTo>
                    <a:lnTo>
                      <a:pt x="879" y="174"/>
                    </a:lnTo>
                    <a:lnTo>
                      <a:pt x="837" y="195"/>
                    </a:lnTo>
                    <a:lnTo>
                      <a:pt x="795" y="215"/>
                    </a:lnTo>
                    <a:lnTo>
                      <a:pt x="757" y="233"/>
                    </a:lnTo>
                    <a:lnTo>
                      <a:pt x="719" y="249"/>
                    </a:lnTo>
                    <a:lnTo>
                      <a:pt x="683" y="264"/>
                    </a:lnTo>
                    <a:lnTo>
                      <a:pt x="649" y="278"/>
                    </a:lnTo>
                    <a:lnTo>
                      <a:pt x="617" y="290"/>
                    </a:lnTo>
                    <a:lnTo>
                      <a:pt x="586" y="300"/>
                    </a:lnTo>
                    <a:lnTo>
                      <a:pt x="556" y="310"/>
                    </a:lnTo>
                    <a:lnTo>
                      <a:pt x="526" y="318"/>
                    </a:lnTo>
                    <a:lnTo>
                      <a:pt x="498" y="325"/>
                    </a:lnTo>
                    <a:lnTo>
                      <a:pt x="469" y="331"/>
                    </a:lnTo>
                    <a:lnTo>
                      <a:pt x="441" y="336"/>
                    </a:lnTo>
                    <a:lnTo>
                      <a:pt x="413" y="341"/>
                    </a:lnTo>
                    <a:lnTo>
                      <a:pt x="386" y="345"/>
                    </a:lnTo>
                    <a:lnTo>
                      <a:pt x="358" y="348"/>
                    </a:lnTo>
                    <a:lnTo>
                      <a:pt x="329" y="351"/>
                    </a:lnTo>
                    <a:lnTo>
                      <a:pt x="302" y="353"/>
                    </a:lnTo>
                    <a:lnTo>
                      <a:pt x="175" y="359"/>
                    </a:lnTo>
                    <a:lnTo>
                      <a:pt x="29" y="366"/>
                    </a:lnTo>
                    <a:lnTo>
                      <a:pt x="35" y="366"/>
                    </a:lnTo>
                    <a:lnTo>
                      <a:pt x="29" y="366"/>
                    </a:lnTo>
                    <a:lnTo>
                      <a:pt x="22" y="367"/>
                    </a:lnTo>
                    <a:lnTo>
                      <a:pt x="15" y="369"/>
                    </a:lnTo>
                    <a:lnTo>
                      <a:pt x="11" y="372"/>
                    </a:lnTo>
                    <a:lnTo>
                      <a:pt x="7" y="375"/>
                    </a:lnTo>
                    <a:lnTo>
                      <a:pt x="3" y="380"/>
                    </a:lnTo>
                    <a:lnTo>
                      <a:pt x="1" y="385"/>
                    </a:lnTo>
                    <a:lnTo>
                      <a:pt x="0" y="390"/>
                    </a:lnTo>
                    <a:lnTo>
                      <a:pt x="0" y="396"/>
                    </a:lnTo>
                    <a:lnTo>
                      <a:pt x="1" y="400"/>
                    </a:lnTo>
                    <a:lnTo>
                      <a:pt x="2" y="405"/>
                    </a:lnTo>
                    <a:lnTo>
                      <a:pt x="6" y="409"/>
                    </a:lnTo>
                    <a:lnTo>
                      <a:pt x="9" y="414"/>
                    </a:lnTo>
                    <a:lnTo>
                      <a:pt x="13" y="417"/>
                    </a:lnTo>
                    <a:lnTo>
                      <a:pt x="19" y="420"/>
                    </a:lnTo>
                    <a:lnTo>
                      <a:pt x="25" y="421"/>
                    </a:lnTo>
                    <a:lnTo>
                      <a:pt x="32" y="421"/>
                    </a:lnTo>
                    <a:lnTo>
                      <a:pt x="26" y="421"/>
                    </a:lnTo>
                    <a:close/>
                  </a:path>
                </a:pathLst>
              </a:custGeom>
              <a:solidFill>
                <a:srgbClr val="000000"/>
              </a:solidFill>
              <a:ln w="0">
                <a:noFill/>
              </a:ln>
            </p:spPr>
            <p:style>
              <a:lnRef idx="0"/>
              <a:fillRef idx="0"/>
              <a:effectRef idx="0"/>
              <a:fontRef idx="minor"/>
            </p:style>
            <p:txBody>
              <a:bodyPr wrap="none" lIns="93240" rIns="93240" tIns="38520" bIns="38520" anchor="t">
                <a:spAutoFit/>
              </a:bodyPr>
              <a:p>
                <a:endParaRPr b="0" lang="en-US" sz="2400" spc="-1" strike="noStrike">
                  <a:solidFill>
                    <a:srgbClr val="ffffff"/>
                  </a:solidFill>
                  <a:latin typeface="Times New Roman"/>
                </a:endParaRPr>
              </a:p>
            </p:txBody>
          </p:sp>
          <p:sp>
            <p:nvSpPr>
              <p:cNvPr id="377" name=""/>
              <p:cNvSpPr/>
              <p:nvPr/>
            </p:nvSpPr>
            <p:spPr>
              <a:xfrm>
                <a:off x="1976400" y="4560480"/>
                <a:ext cx="141840" cy="190800"/>
              </a:xfrm>
              <a:custGeom>
                <a:avLst/>
                <a:gdLst/>
                <a:ahLst/>
                <a:rect l="l" t="t" r="r" b="b"/>
                <a:pathLst>
                  <a:path w="980" h="954">
                    <a:moveTo>
                      <a:pt x="223" y="902"/>
                    </a:moveTo>
                    <a:lnTo>
                      <a:pt x="221" y="901"/>
                    </a:lnTo>
                    <a:lnTo>
                      <a:pt x="204" y="891"/>
                    </a:lnTo>
                    <a:lnTo>
                      <a:pt x="186" y="882"/>
                    </a:lnTo>
                    <a:lnTo>
                      <a:pt x="171" y="871"/>
                    </a:lnTo>
                    <a:lnTo>
                      <a:pt x="157" y="860"/>
                    </a:lnTo>
                    <a:lnTo>
                      <a:pt x="142" y="848"/>
                    </a:lnTo>
                    <a:lnTo>
                      <a:pt x="130" y="835"/>
                    </a:lnTo>
                    <a:lnTo>
                      <a:pt x="119" y="823"/>
                    </a:lnTo>
                    <a:lnTo>
                      <a:pt x="108" y="809"/>
                    </a:lnTo>
                    <a:lnTo>
                      <a:pt x="100" y="795"/>
                    </a:lnTo>
                    <a:lnTo>
                      <a:pt x="91" y="780"/>
                    </a:lnTo>
                    <a:lnTo>
                      <a:pt x="84" y="765"/>
                    </a:lnTo>
                    <a:lnTo>
                      <a:pt x="78" y="749"/>
                    </a:lnTo>
                    <a:lnTo>
                      <a:pt x="72" y="733"/>
                    </a:lnTo>
                    <a:lnTo>
                      <a:pt x="69" y="717"/>
                    </a:lnTo>
                    <a:lnTo>
                      <a:pt x="66" y="700"/>
                    </a:lnTo>
                    <a:lnTo>
                      <a:pt x="63" y="682"/>
                    </a:lnTo>
                    <a:lnTo>
                      <a:pt x="61" y="665"/>
                    </a:lnTo>
                    <a:lnTo>
                      <a:pt x="61" y="646"/>
                    </a:lnTo>
                    <a:lnTo>
                      <a:pt x="62" y="628"/>
                    </a:lnTo>
                    <a:lnTo>
                      <a:pt x="63" y="610"/>
                    </a:lnTo>
                    <a:lnTo>
                      <a:pt x="67" y="591"/>
                    </a:lnTo>
                    <a:lnTo>
                      <a:pt x="70" y="571"/>
                    </a:lnTo>
                    <a:lnTo>
                      <a:pt x="74" y="552"/>
                    </a:lnTo>
                    <a:lnTo>
                      <a:pt x="80" y="532"/>
                    </a:lnTo>
                    <a:lnTo>
                      <a:pt x="86" y="513"/>
                    </a:lnTo>
                    <a:lnTo>
                      <a:pt x="94" y="494"/>
                    </a:lnTo>
                    <a:lnTo>
                      <a:pt x="103" y="475"/>
                    </a:lnTo>
                    <a:lnTo>
                      <a:pt x="112" y="455"/>
                    </a:lnTo>
                    <a:lnTo>
                      <a:pt x="123" y="436"/>
                    </a:lnTo>
                    <a:lnTo>
                      <a:pt x="134" y="417"/>
                    </a:lnTo>
                    <a:lnTo>
                      <a:pt x="146" y="398"/>
                    </a:lnTo>
                    <a:lnTo>
                      <a:pt x="159" y="379"/>
                    </a:lnTo>
                    <a:lnTo>
                      <a:pt x="172" y="360"/>
                    </a:lnTo>
                    <a:lnTo>
                      <a:pt x="187" y="342"/>
                    </a:lnTo>
                    <a:lnTo>
                      <a:pt x="203" y="322"/>
                    </a:lnTo>
                    <a:lnTo>
                      <a:pt x="219" y="305"/>
                    </a:lnTo>
                    <a:lnTo>
                      <a:pt x="236" y="287"/>
                    </a:lnTo>
                    <a:lnTo>
                      <a:pt x="253" y="271"/>
                    </a:lnTo>
                    <a:lnTo>
                      <a:pt x="273" y="254"/>
                    </a:lnTo>
                    <a:lnTo>
                      <a:pt x="291" y="238"/>
                    </a:lnTo>
                    <a:lnTo>
                      <a:pt x="312" y="222"/>
                    </a:lnTo>
                    <a:lnTo>
                      <a:pt x="333" y="206"/>
                    </a:lnTo>
                    <a:lnTo>
                      <a:pt x="355" y="191"/>
                    </a:lnTo>
                    <a:lnTo>
                      <a:pt x="378" y="177"/>
                    </a:lnTo>
                    <a:lnTo>
                      <a:pt x="401" y="164"/>
                    </a:lnTo>
                    <a:lnTo>
                      <a:pt x="425" y="151"/>
                    </a:lnTo>
                    <a:lnTo>
                      <a:pt x="450" y="138"/>
                    </a:lnTo>
                    <a:lnTo>
                      <a:pt x="476" y="126"/>
                    </a:lnTo>
                    <a:lnTo>
                      <a:pt x="502" y="116"/>
                    </a:lnTo>
                    <a:lnTo>
                      <a:pt x="528" y="106"/>
                    </a:lnTo>
                    <a:lnTo>
                      <a:pt x="556" y="97"/>
                    </a:lnTo>
                    <a:lnTo>
                      <a:pt x="584" y="88"/>
                    </a:lnTo>
                    <a:lnTo>
                      <a:pt x="613" y="81"/>
                    </a:lnTo>
                    <a:lnTo>
                      <a:pt x="642" y="74"/>
                    </a:lnTo>
                    <a:lnTo>
                      <a:pt x="672" y="68"/>
                    </a:lnTo>
                    <a:lnTo>
                      <a:pt x="704" y="64"/>
                    </a:lnTo>
                    <a:lnTo>
                      <a:pt x="735" y="60"/>
                    </a:lnTo>
                    <a:lnTo>
                      <a:pt x="766" y="58"/>
                    </a:lnTo>
                    <a:lnTo>
                      <a:pt x="799" y="55"/>
                    </a:lnTo>
                    <a:lnTo>
                      <a:pt x="832" y="55"/>
                    </a:lnTo>
                    <a:lnTo>
                      <a:pt x="866" y="55"/>
                    </a:lnTo>
                    <a:lnTo>
                      <a:pt x="901" y="58"/>
                    </a:lnTo>
                    <a:lnTo>
                      <a:pt x="935" y="61"/>
                    </a:lnTo>
                    <a:lnTo>
                      <a:pt x="971" y="65"/>
                    </a:lnTo>
                    <a:lnTo>
                      <a:pt x="980" y="10"/>
                    </a:lnTo>
                    <a:lnTo>
                      <a:pt x="943" y="6"/>
                    </a:lnTo>
                    <a:lnTo>
                      <a:pt x="906" y="2"/>
                    </a:lnTo>
                    <a:lnTo>
                      <a:pt x="868" y="0"/>
                    </a:lnTo>
                    <a:lnTo>
                      <a:pt x="832" y="0"/>
                    </a:lnTo>
                    <a:lnTo>
                      <a:pt x="797" y="0"/>
                    </a:lnTo>
                    <a:lnTo>
                      <a:pt x="762" y="2"/>
                    </a:lnTo>
                    <a:lnTo>
                      <a:pt x="728" y="5"/>
                    </a:lnTo>
                    <a:lnTo>
                      <a:pt x="694" y="9"/>
                    </a:lnTo>
                    <a:lnTo>
                      <a:pt x="661" y="14"/>
                    </a:lnTo>
                    <a:lnTo>
                      <a:pt x="629" y="20"/>
                    </a:lnTo>
                    <a:lnTo>
                      <a:pt x="597" y="27"/>
                    </a:lnTo>
                    <a:lnTo>
                      <a:pt x="566" y="35"/>
                    </a:lnTo>
                    <a:lnTo>
                      <a:pt x="536" y="45"/>
                    </a:lnTo>
                    <a:lnTo>
                      <a:pt x="506" y="54"/>
                    </a:lnTo>
                    <a:lnTo>
                      <a:pt x="477" y="65"/>
                    </a:lnTo>
                    <a:lnTo>
                      <a:pt x="448" y="77"/>
                    </a:lnTo>
                    <a:lnTo>
                      <a:pt x="421" y="89"/>
                    </a:lnTo>
                    <a:lnTo>
                      <a:pt x="395" y="102"/>
                    </a:lnTo>
                    <a:lnTo>
                      <a:pt x="368" y="117"/>
                    </a:lnTo>
                    <a:lnTo>
                      <a:pt x="343" y="131"/>
                    </a:lnTo>
                    <a:lnTo>
                      <a:pt x="319" y="147"/>
                    </a:lnTo>
                    <a:lnTo>
                      <a:pt x="296" y="162"/>
                    </a:lnTo>
                    <a:lnTo>
                      <a:pt x="273" y="179"/>
                    </a:lnTo>
                    <a:lnTo>
                      <a:pt x="251" y="196"/>
                    </a:lnTo>
                    <a:lnTo>
                      <a:pt x="230" y="213"/>
                    </a:lnTo>
                    <a:lnTo>
                      <a:pt x="209" y="231"/>
                    </a:lnTo>
                    <a:lnTo>
                      <a:pt x="191" y="250"/>
                    </a:lnTo>
                    <a:lnTo>
                      <a:pt x="172" y="269"/>
                    </a:lnTo>
                    <a:lnTo>
                      <a:pt x="154" y="289"/>
                    </a:lnTo>
                    <a:lnTo>
                      <a:pt x="137" y="309"/>
                    </a:lnTo>
                    <a:lnTo>
                      <a:pt x="122" y="329"/>
                    </a:lnTo>
                    <a:lnTo>
                      <a:pt x="106" y="349"/>
                    </a:lnTo>
                    <a:lnTo>
                      <a:pt x="92" y="369"/>
                    </a:lnTo>
                    <a:lnTo>
                      <a:pt x="79" y="390"/>
                    </a:lnTo>
                    <a:lnTo>
                      <a:pt x="67" y="411"/>
                    </a:lnTo>
                    <a:lnTo>
                      <a:pt x="56" y="433"/>
                    </a:lnTo>
                    <a:lnTo>
                      <a:pt x="46" y="454"/>
                    </a:lnTo>
                    <a:lnTo>
                      <a:pt x="36" y="475"/>
                    </a:lnTo>
                    <a:lnTo>
                      <a:pt x="28" y="496"/>
                    </a:lnTo>
                    <a:lnTo>
                      <a:pt x="21" y="517"/>
                    </a:lnTo>
                    <a:lnTo>
                      <a:pt x="15" y="540"/>
                    </a:lnTo>
                    <a:lnTo>
                      <a:pt x="10" y="561"/>
                    </a:lnTo>
                    <a:lnTo>
                      <a:pt x="5" y="582"/>
                    </a:lnTo>
                    <a:lnTo>
                      <a:pt x="3" y="603"/>
                    </a:lnTo>
                    <a:lnTo>
                      <a:pt x="1" y="624"/>
                    </a:lnTo>
                    <a:lnTo>
                      <a:pt x="0" y="646"/>
                    </a:lnTo>
                    <a:lnTo>
                      <a:pt x="0" y="666"/>
                    </a:lnTo>
                    <a:lnTo>
                      <a:pt x="2" y="687"/>
                    </a:lnTo>
                    <a:lnTo>
                      <a:pt x="4" y="707"/>
                    </a:lnTo>
                    <a:lnTo>
                      <a:pt x="7" y="727"/>
                    </a:lnTo>
                    <a:lnTo>
                      <a:pt x="13" y="747"/>
                    </a:lnTo>
                    <a:lnTo>
                      <a:pt x="20" y="766"/>
                    </a:lnTo>
                    <a:lnTo>
                      <a:pt x="26" y="784"/>
                    </a:lnTo>
                    <a:lnTo>
                      <a:pt x="35" y="804"/>
                    </a:lnTo>
                    <a:lnTo>
                      <a:pt x="45" y="822"/>
                    </a:lnTo>
                    <a:lnTo>
                      <a:pt x="57" y="838"/>
                    </a:lnTo>
                    <a:lnTo>
                      <a:pt x="69" y="855"/>
                    </a:lnTo>
                    <a:lnTo>
                      <a:pt x="83" y="871"/>
                    </a:lnTo>
                    <a:lnTo>
                      <a:pt x="98" y="886"/>
                    </a:lnTo>
                    <a:lnTo>
                      <a:pt x="115" y="901"/>
                    </a:lnTo>
                    <a:lnTo>
                      <a:pt x="132" y="915"/>
                    </a:lnTo>
                    <a:lnTo>
                      <a:pt x="151" y="927"/>
                    </a:lnTo>
                    <a:lnTo>
                      <a:pt x="172" y="939"/>
                    </a:lnTo>
                    <a:lnTo>
                      <a:pt x="193" y="950"/>
                    </a:lnTo>
                    <a:lnTo>
                      <a:pt x="192" y="949"/>
                    </a:lnTo>
                    <a:lnTo>
                      <a:pt x="193" y="950"/>
                    </a:lnTo>
                    <a:lnTo>
                      <a:pt x="200" y="953"/>
                    </a:lnTo>
                    <a:lnTo>
                      <a:pt x="206" y="954"/>
                    </a:lnTo>
                    <a:lnTo>
                      <a:pt x="213" y="953"/>
                    </a:lnTo>
                    <a:lnTo>
                      <a:pt x="218" y="952"/>
                    </a:lnTo>
                    <a:lnTo>
                      <a:pt x="223" y="950"/>
                    </a:lnTo>
                    <a:lnTo>
                      <a:pt x="228" y="947"/>
                    </a:lnTo>
                    <a:lnTo>
                      <a:pt x="231" y="942"/>
                    </a:lnTo>
                    <a:lnTo>
                      <a:pt x="234" y="938"/>
                    </a:lnTo>
                    <a:lnTo>
                      <a:pt x="237" y="934"/>
                    </a:lnTo>
                    <a:lnTo>
                      <a:pt x="239" y="929"/>
                    </a:lnTo>
                    <a:lnTo>
                      <a:pt x="239" y="923"/>
                    </a:lnTo>
                    <a:lnTo>
                      <a:pt x="238" y="918"/>
                    </a:lnTo>
                    <a:lnTo>
                      <a:pt x="236" y="914"/>
                    </a:lnTo>
                    <a:lnTo>
                      <a:pt x="232" y="908"/>
                    </a:lnTo>
                    <a:lnTo>
                      <a:pt x="228" y="904"/>
                    </a:lnTo>
                    <a:lnTo>
                      <a:pt x="222" y="901"/>
                    </a:lnTo>
                    <a:lnTo>
                      <a:pt x="223" y="90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78" name=""/>
              <p:cNvSpPr/>
              <p:nvPr/>
            </p:nvSpPr>
            <p:spPr>
              <a:xfrm>
                <a:off x="2003040" y="4740120"/>
                <a:ext cx="251640" cy="69480"/>
              </a:xfrm>
              <a:custGeom>
                <a:avLst/>
                <a:gdLst/>
                <a:ahLst/>
                <a:rect l="l" t="t" r="r" b="b"/>
                <a:pathLst>
                  <a:path w="1745" h="343">
                    <a:moveTo>
                      <a:pt x="1693" y="147"/>
                    </a:moveTo>
                    <a:lnTo>
                      <a:pt x="1702" y="142"/>
                    </a:lnTo>
                    <a:lnTo>
                      <a:pt x="1642" y="164"/>
                    </a:lnTo>
                    <a:lnTo>
                      <a:pt x="1584" y="184"/>
                    </a:lnTo>
                    <a:lnTo>
                      <a:pt x="1526" y="204"/>
                    </a:lnTo>
                    <a:lnTo>
                      <a:pt x="1469" y="219"/>
                    </a:lnTo>
                    <a:lnTo>
                      <a:pt x="1414" y="234"/>
                    </a:lnTo>
                    <a:lnTo>
                      <a:pt x="1358" y="247"/>
                    </a:lnTo>
                    <a:lnTo>
                      <a:pt x="1305" y="259"/>
                    </a:lnTo>
                    <a:lnTo>
                      <a:pt x="1251" y="268"/>
                    </a:lnTo>
                    <a:lnTo>
                      <a:pt x="1198" y="276"/>
                    </a:lnTo>
                    <a:lnTo>
                      <a:pt x="1146" y="281"/>
                    </a:lnTo>
                    <a:lnTo>
                      <a:pt x="1094" y="285"/>
                    </a:lnTo>
                    <a:lnTo>
                      <a:pt x="1043" y="287"/>
                    </a:lnTo>
                    <a:lnTo>
                      <a:pt x="992" y="288"/>
                    </a:lnTo>
                    <a:lnTo>
                      <a:pt x="942" y="287"/>
                    </a:lnTo>
                    <a:lnTo>
                      <a:pt x="891" y="284"/>
                    </a:lnTo>
                    <a:lnTo>
                      <a:pt x="842" y="280"/>
                    </a:lnTo>
                    <a:lnTo>
                      <a:pt x="791" y="275"/>
                    </a:lnTo>
                    <a:lnTo>
                      <a:pt x="742" y="266"/>
                    </a:lnTo>
                    <a:lnTo>
                      <a:pt x="693" y="258"/>
                    </a:lnTo>
                    <a:lnTo>
                      <a:pt x="642" y="247"/>
                    </a:lnTo>
                    <a:lnTo>
                      <a:pt x="593" y="234"/>
                    </a:lnTo>
                    <a:lnTo>
                      <a:pt x="544" y="220"/>
                    </a:lnTo>
                    <a:lnTo>
                      <a:pt x="494" y="206"/>
                    </a:lnTo>
                    <a:lnTo>
                      <a:pt x="444" y="189"/>
                    </a:lnTo>
                    <a:lnTo>
                      <a:pt x="393" y="170"/>
                    </a:lnTo>
                    <a:lnTo>
                      <a:pt x="343" y="149"/>
                    </a:lnTo>
                    <a:lnTo>
                      <a:pt x="292" y="128"/>
                    </a:lnTo>
                    <a:lnTo>
                      <a:pt x="241" y="106"/>
                    </a:lnTo>
                    <a:lnTo>
                      <a:pt x="189" y="82"/>
                    </a:lnTo>
                    <a:lnTo>
                      <a:pt x="138" y="56"/>
                    </a:lnTo>
                    <a:lnTo>
                      <a:pt x="85" y="29"/>
                    </a:lnTo>
                    <a:lnTo>
                      <a:pt x="31" y="0"/>
                    </a:lnTo>
                    <a:lnTo>
                      <a:pt x="0" y="47"/>
                    </a:lnTo>
                    <a:lnTo>
                      <a:pt x="53" y="76"/>
                    </a:lnTo>
                    <a:lnTo>
                      <a:pt x="107" y="104"/>
                    </a:lnTo>
                    <a:lnTo>
                      <a:pt x="161" y="130"/>
                    </a:lnTo>
                    <a:lnTo>
                      <a:pt x="214" y="155"/>
                    </a:lnTo>
                    <a:lnTo>
                      <a:pt x="266" y="178"/>
                    </a:lnTo>
                    <a:lnTo>
                      <a:pt x="318" y="200"/>
                    </a:lnTo>
                    <a:lnTo>
                      <a:pt x="370" y="220"/>
                    </a:lnTo>
                    <a:lnTo>
                      <a:pt x="422" y="240"/>
                    </a:lnTo>
                    <a:lnTo>
                      <a:pt x="473" y="258"/>
                    </a:lnTo>
                    <a:lnTo>
                      <a:pt x="525" y="273"/>
                    </a:lnTo>
                    <a:lnTo>
                      <a:pt x="576" y="287"/>
                    </a:lnTo>
                    <a:lnTo>
                      <a:pt x="628" y="300"/>
                    </a:lnTo>
                    <a:lnTo>
                      <a:pt x="680" y="312"/>
                    </a:lnTo>
                    <a:lnTo>
                      <a:pt x="731" y="321"/>
                    </a:lnTo>
                    <a:lnTo>
                      <a:pt x="783" y="329"/>
                    </a:lnTo>
                    <a:lnTo>
                      <a:pt x="834" y="335"/>
                    </a:lnTo>
                    <a:lnTo>
                      <a:pt x="887" y="339"/>
                    </a:lnTo>
                    <a:lnTo>
                      <a:pt x="939" y="342"/>
                    </a:lnTo>
                    <a:lnTo>
                      <a:pt x="992" y="343"/>
                    </a:lnTo>
                    <a:lnTo>
                      <a:pt x="1045" y="342"/>
                    </a:lnTo>
                    <a:lnTo>
                      <a:pt x="1098" y="340"/>
                    </a:lnTo>
                    <a:lnTo>
                      <a:pt x="1152" y="336"/>
                    </a:lnTo>
                    <a:lnTo>
                      <a:pt x="1207" y="330"/>
                    </a:lnTo>
                    <a:lnTo>
                      <a:pt x="1262" y="322"/>
                    </a:lnTo>
                    <a:lnTo>
                      <a:pt x="1317" y="313"/>
                    </a:lnTo>
                    <a:lnTo>
                      <a:pt x="1374" y="301"/>
                    </a:lnTo>
                    <a:lnTo>
                      <a:pt x="1430" y="288"/>
                    </a:lnTo>
                    <a:lnTo>
                      <a:pt x="1488" y="272"/>
                    </a:lnTo>
                    <a:lnTo>
                      <a:pt x="1546" y="255"/>
                    </a:lnTo>
                    <a:lnTo>
                      <a:pt x="1605" y="236"/>
                    </a:lnTo>
                    <a:lnTo>
                      <a:pt x="1665" y="216"/>
                    </a:lnTo>
                    <a:lnTo>
                      <a:pt x="1726" y="193"/>
                    </a:lnTo>
                    <a:lnTo>
                      <a:pt x="1734" y="189"/>
                    </a:lnTo>
                    <a:lnTo>
                      <a:pt x="1726" y="193"/>
                    </a:lnTo>
                    <a:lnTo>
                      <a:pt x="1732" y="190"/>
                    </a:lnTo>
                    <a:lnTo>
                      <a:pt x="1738" y="187"/>
                    </a:lnTo>
                    <a:lnTo>
                      <a:pt x="1741" y="182"/>
                    </a:lnTo>
                    <a:lnTo>
                      <a:pt x="1743" y="177"/>
                    </a:lnTo>
                    <a:lnTo>
                      <a:pt x="1744" y="172"/>
                    </a:lnTo>
                    <a:lnTo>
                      <a:pt x="1745" y="167"/>
                    </a:lnTo>
                    <a:lnTo>
                      <a:pt x="1744" y="162"/>
                    </a:lnTo>
                    <a:lnTo>
                      <a:pt x="1742" y="157"/>
                    </a:lnTo>
                    <a:lnTo>
                      <a:pt x="1740" y="153"/>
                    </a:lnTo>
                    <a:lnTo>
                      <a:pt x="1736" y="148"/>
                    </a:lnTo>
                    <a:lnTo>
                      <a:pt x="1732" y="145"/>
                    </a:lnTo>
                    <a:lnTo>
                      <a:pt x="1727" y="142"/>
                    </a:lnTo>
                    <a:lnTo>
                      <a:pt x="1721" y="141"/>
                    </a:lnTo>
                    <a:lnTo>
                      <a:pt x="1716" y="140"/>
                    </a:lnTo>
                    <a:lnTo>
                      <a:pt x="1709" y="140"/>
                    </a:lnTo>
                    <a:lnTo>
                      <a:pt x="1702" y="142"/>
                    </a:lnTo>
                    <a:lnTo>
                      <a:pt x="1693" y="147"/>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379" name=""/>
              <p:cNvSpPr/>
              <p:nvPr/>
            </p:nvSpPr>
            <p:spPr>
              <a:xfrm>
                <a:off x="2247120" y="4690080"/>
                <a:ext cx="130320" cy="88920"/>
              </a:xfrm>
              <a:custGeom>
                <a:avLst/>
                <a:gdLst/>
                <a:ahLst/>
                <a:rect l="l" t="t" r="r" b="b"/>
                <a:pathLst>
                  <a:path w="907" h="443">
                    <a:moveTo>
                      <a:pt x="852" y="9"/>
                    </a:moveTo>
                    <a:lnTo>
                      <a:pt x="854" y="8"/>
                    </a:lnTo>
                    <a:lnTo>
                      <a:pt x="838" y="21"/>
                    </a:lnTo>
                    <a:lnTo>
                      <a:pt x="819" y="34"/>
                    </a:lnTo>
                    <a:lnTo>
                      <a:pt x="800" y="46"/>
                    </a:lnTo>
                    <a:lnTo>
                      <a:pt x="781" y="57"/>
                    </a:lnTo>
                    <a:lnTo>
                      <a:pt x="760" y="68"/>
                    </a:lnTo>
                    <a:lnTo>
                      <a:pt x="738" y="78"/>
                    </a:lnTo>
                    <a:lnTo>
                      <a:pt x="716" y="88"/>
                    </a:lnTo>
                    <a:lnTo>
                      <a:pt x="693" y="97"/>
                    </a:lnTo>
                    <a:lnTo>
                      <a:pt x="642" y="115"/>
                    </a:lnTo>
                    <a:lnTo>
                      <a:pt x="591" y="132"/>
                    </a:lnTo>
                    <a:lnTo>
                      <a:pt x="536" y="149"/>
                    </a:lnTo>
                    <a:lnTo>
                      <a:pt x="480" y="167"/>
                    </a:lnTo>
                    <a:lnTo>
                      <a:pt x="422" y="185"/>
                    </a:lnTo>
                    <a:lnTo>
                      <a:pt x="363" y="206"/>
                    </a:lnTo>
                    <a:lnTo>
                      <a:pt x="332" y="217"/>
                    </a:lnTo>
                    <a:lnTo>
                      <a:pt x="302" y="229"/>
                    </a:lnTo>
                    <a:lnTo>
                      <a:pt x="272" y="241"/>
                    </a:lnTo>
                    <a:lnTo>
                      <a:pt x="241" y="255"/>
                    </a:lnTo>
                    <a:lnTo>
                      <a:pt x="210" y="269"/>
                    </a:lnTo>
                    <a:lnTo>
                      <a:pt x="180" y="284"/>
                    </a:lnTo>
                    <a:lnTo>
                      <a:pt x="150" y="301"/>
                    </a:lnTo>
                    <a:lnTo>
                      <a:pt x="119" y="318"/>
                    </a:lnTo>
                    <a:lnTo>
                      <a:pt x="89" y="337"/>
                    </a:lnTo>
                    <a:lnTo>
                      <a:pt x="59" y="357"/>
                    </a:lnTo>
                    <a:lnTo>
                      <a:pt x="29" y="378"/>
                    </a:lnTo>
                    <a:lnTo>
                      <a:pt x="0" y="401"/>
                    </a:lnTo>
                    <a:lnTo>
                      <a:pt x="41" y="443"/>
                    </a:lnTo>
                    <a:lnTo>
                      <a:pt x="69" y="420"/>
                    </a:lnTo>
                    <a:lnTo>
                      <a:pt x="97" y="400"/>
                    </a:lnTo>
                    <a:lnTo>
                      <a:pt x="125" y="381"/>
                    </a:lnTo>
                    <a:lnTo>
                      <a:pt x="153" y="364"/>
                    </a:lnTo>
                    <a:lnTo>
                      <a:pt x="182" y="347"/>
                    </a:lnTo>
                    <a:lnTo>
                      <a:pt x="210" y="332"/>
                    </a:lnTo>
                    <a:lnTo>
                      <a:pt x="240" y="318"/>
                    </a:lnTo>
                    <a:lnTo>
                      <a:pt x="268" y="304"/>
                    </a:lnTo>
                    <a:lnTo>
                      <a:pt x="298" y="291"/>
                    </a:lnTo>
                    <a:lnTo>
                      <a:pt x="327" y="279"/>
                    </a:lnTo>
                    <a:lnTo>
                      <a:pt x="356" y="268"/>
                    </a:lnTo>
                    <a:lnTo>
                      <a:pt x="385" y="257"/>
                    </a:lnTo>
                    <a:lnTo>
                      <a:pt x="443" y="237"/>
                    </a:lnTo>
                    <a:lnTo>
                      <a:pt x="500" y="219"/>
                    </a:lnTo>
                    <a:lnTo>
                      <a:pt x="557" y="202"/>
                    </a:lnTo>
                    <a:lnTo>
                      <a:pt x="612" y="184"/>
                    </a:lnTo>
                    <a:lnTo>
                      <a:pt x="664" y="167"/>
                    </a:lnTo>
                    <a:lnTo>
                      <a:pt x="716" y="148"/>
                    </a:lnTo>
                    <a:lnTo>
                      <a:pt x="741" y="139"/>
                    </a:lnTo>
                    <a:lnTo>
                      <a:pt x="765" y="128"/>
                    </a:lnTo>
                    <a:lnTo>
                      <a:pt x="789" y="116"/>
                    </a:lnTo>
                    <a:lnTo>
                      <a:pt x="812" y="105"/>
                    </a:lnTo>
                    <a:lnTo>
                      <a:pt x="834" y="92"/>
                    </a:lnTo>
                    <a:lnTo>
                      <a:pt x="856" y="78"/>
                    </a:lnTo>
                    <a:lnTo>
                      <a:pt x="877" y="63"/>
                    </a:lnTo>
                    <a:lnTo>
                      <a:pt x="896" y="48"/>
                    </a:lnTo>
                    <a:lnTo>
                      <a:pt x="898" y="46"/>
                    </a:lnTo>
                    <a:lnTo>
                      <a:pt x="896" y="48"/>
                    </a:lnTo>
                    <a:lnTo>
                      <a:pt x="901" y="43"/>
                    </a:lnTo>
                    <a:lnTo>
                      <a:pt x="904" y="38"/>
                    </a:lnTo>
                    <a:lnTo>
                      <a:pt x="906" y="33"/>
                    </a:lnTo>
                    <a:lnTo>
                      <a:pt x="907" y="27"/>
                    </a:lnTo>
                    <a:lnTo>
                      <a:pt x="906" y="22"/>
                    </a:lnTo>
                    <a:lnTo>
                      <a:pt x="903" y="18"/>
                    </a:lnTo>
                    <a:lnTo>
                      <a:pt x="901" y="12"/>
                    </a:lnTo>
                    <a:lnTo>
                      <a:pt x="898" y="9"/>
                    </a:lnTo>
                    <a:lnTo>
                      <a:pt x="894" y="5"/>
                    </a:lnTo>
                    <a:lnTo>
                      <a:pt x="888" y="3"/>
                    </a:lnTo>
                    <a:lnTo>
                      <a:pt x="883" y="1"/>
                    </a:lnTo>
                    <a:lnTo>
                      <a:pt x="877" y="0"/>
                    </a:lnTo>
                    <a:lnTo>
                      <a:pt x="872" y="0"/>
                    </a:lnTo>
                    <a:lnTo>
                      <a:pt x="866" y="1"/>
                    </a:lnTo>
                    <a:lnTo>
                      <a:pt x="860" y="4"/>
                    </a:lnTo>
                    <a:lnTo>
                      <a:pt x="854" y="8"/>
                    </a:lnTo>
                    <a:lnTo>
                      <a:pt x="852" y="9"/>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380" name=""/>
              <p:cNvSpPr/>
              <p:nvPr/>
            </p:nvSpPr>
            <p:spPr>
              <a:xfrm>
                <a:off x="2369880" y="4573080"/>
                <a:ext cx="90360" cy="126720"/>
              </a:xfrm>
              <a:custGeom>
                <a:avLst/>
                <a:gdLst/>
                <a:ahLst/>
                <a:rect l="l" t="t" r="r" b="b"/>
                <a:pathLst>
                  <a:path w="630" h="626">
                    <a:moveTo>
                      <a:pt x="569" y="36"/>
                    </a:moveTo>
                    <a:lnTo>
                      <a:pt x="582" y="4"/>
                    </a:lnTo>
                    <a:lnTo>
                      <a:pt x="561" y="18"/>
                    </a:lnTo>
                    <a:lnTo>
                      <a:pt x="540" y="31"/>
                    </a:lnTo>
                    <a:lnTo>
                      <a:pt x="521" y="46"/>
                    </a:lnTo>
                    <a:lnTo>
                      <a:pt x="500" y="61"/>
                    </a:lnTo>
                    <a:lnTo>
                      <a:pt x="462" y="92"/>
                    </a:lnTo>
                    <a:lnTo>
                      <a:pt x="423" y="125"/>
                    </a:lnTo>
                    <a:lnTo>
                      <a:pt x="386" y="161"/>
                    </a:lnTo>
                    <a:lnTo>
                      <a:pt x="350" y="198"/>
                    </a:lnTo>
                    <a:lnTo>
                      <a:pt x="313" y="236"/>
                    </a:lnTo>
                    <a:lnTo>
                      <a:pt x="278" y="277"/>
                    </a:lnTo>
                    <a:lnTo>
                      <a:pt x="208" y="356"/>
                    </a:lnTo>
                    <a:lnTo>
                      <a:pt x="139" y="438"/>
                    </a:lnTo>
                    <a:lnTo>
                      <a:pt x="105" y="477"/>
                    </a:lnTo>
                    <a:lnTo>
                      <a:pt x="70" y="516"/>
                    </a:lnTo>
                    <a:lnTo>
                      <a:pt x="35" y="553"/>
                    </a:lnTo>
                    <a:lnTo>
                      <a:pt x="0" y="589"/>
                    </a:lnTo>
                    <a:lnTo>
                      <a:pt x="46" y="626"/>
                    </a:lnTo>
                    <a:lnTo>
                      <a:pt x="82" y="589"/>
                    </a:lnTo>
                    <a:lnTo>
                      <a:pt x="118" y="550"/>
                    </a:lnTo>
                    <a:lnTo>
                      <a:pt x="153" y="511"/>
                    </a:lnTo>
                    <a:lnTo>
                      <a:pt x="188" y="472"/>
                    </a:lnTo>
                    <a:lnTo>
                      <a:pt x="258" y="390"/>
                    </a:lnTo>
                    <a:lnTo>
                      <a:pt x="327" y="311"/>
                    </a:lnTo>
                    <a:lnTo>
                      <a:pt x="362" y="272"/>
                    </a:lnTo>
                    <a:lnTo>
                      <a:pt x="397" y="234"/>
                    </a:lnTo>
                    <a:lnTo>
                      <a:pt x="432" y="198"/>
                    </a:lnTo>
                    <a:lnTo>
                      <a:pt x="468" y="164"/>
                    </a:lnTo>
                    <a:lnTo>
                      <a:pt x="504" y="133"/>
                    </a:lnTo>
                    <a:lnTo>
                      <a:pt x="540" y="102"/>
                    </a:lnTo>
                    <a:lnTo>
                      <a:pt x="559" y="88"/>
                    </a:lnTo>
                    <a:lnTo>
                      <a:pt x="578" y="75"/>
                    </a:lnTo>
                    <a:lnTo>
                      <a:pt x="596" y="63"/>
                    </a:lnTo>
                    <a:lnTo>
                      <a:pt x="616" y="51"/>
                    </a:lnTo>
                    <a:lnTo>
                      <a:pt x="628" y="20"/>
                    </a:lnTo>
                    <a:lnTo>
                      <a:pt x="616" y="51"/>
                    </a:lnTo>
                    <a:lnTo>
                      <a:pt x="622" y="47"/>
                    </a:lnTo>
                    <a:lnTo>
                      <a:pt x="626" y="43"/>
                    </a:lnTo>
                    <a:lnTo>
                      <a:pt x="628" y="37"/>
                    </a:lnTo>
                    <a:lnTo>
                      <a:pt x="629" y="33"/>
                    </a:lnTo>
                    <a:lnTo>
                      <a:pt x="630" y="28"/>
                    </a:lnTo>
                    <a:lnTo>
                      <a:pt x="629" y="22"/>
                    </a:lnTo>
                    <a:lnTo>
                      <a:pt x="627" y="17"/>
                    </a:lnTo>
                    <a:lnTo>
                      <a:pt x="625" y="13"/>
                    </a:lnTo>
                    <a:lnTo>
                      <a:pt x="621" y="9"/>
                    </a:lnTo>
                    <a:lnTo>
                      <a:pt x="617" y="5"/>
                    </a:lnTo>
                    <a:lnTo>
                      <a:pt x="612" y="2"/>
                    </a:lnTo>
                    <a:lnTo>
                      <a:pt x="606" y="1"/>
                    </a:lnTo>
                    <a:lnTo>
                      <a:pt x="601" y="0"/>
                    </a:lnTo>
                    <a:lnTo>
                      <a:pt x="594" y="0"/>
                    </a:lnTo>
                    <a:lnTo>
                      <a:pt x="589" y="2"/>
                    </a:lnTo>
                    <a:lnTo>
                      <a:pt x="582" y="4"/>
                    </a:lnTo>
                    <a:lnTo>
                      <a:pt x="569"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1" name=""/>
              <p:cNvSpPr/>
              <p:nvPr/>
            </p:nvSpPr>
            <p:spPr>
              <a:xfrm>
                <a:off x="2445120" y="4526640"/>
                <a:ext cx="15120" cy="52920"/>
              </a:xfrm>
              <a:custGeom>
                <a:avLst/>
                <a:gdLst/>
                <a:ahLst/>
                <a:rect l="l" t="t" r="r" b="b"/>
                <a:pathLst>
                  <a:path w="102" h="264">
                    <a:moveTo>
                      <a:pt x="34" y="56"/>
                    </a:moveTo>
                    <a:lnTo>
                      <a:pt x="2" y="27"/>
                    </a:lnTo>
                    <a:lnTo>
                      <a:pt x="1" y="45"/>
                    </a:lnTo>
                    <a:lnTo>
                      <a:pt x="0" y="63"/>
                    </a:lnTo>
                    <a:lnTo>
                      <a:pt x="1" y="80"/>
                    </a:lnTo>
                    <a:lnTo>
                      <a:pt x="2" y="97"/>
                    </a:lnTo>
                    <a:lnTo>
                      <a:pt x="6" y="129"/>
                    </a:lnTo>
                    <a:lnTo>
                      <a:pt x="11" y="158"/>
                    </a:lnTo>
                    <a:lnTo>
                      <a:pt x="19" y="187"/>
                    </a:lnTo>
                    <a:lnTo>
                      <a:pt x="27" y="214"/>
                    </a:lnTo>
                    <a:lnTo>
                      <a:pt x="35" y="240"/>
                    </a:lnTo>
                    <a:lnTo>
                      <a:pt x="43" y="264"/>
                    </a:lnTo>
                    <a:lnTo>
                      <a:pt x="102" y="248"/>
                    </a:lnTo>
                    <a:lnTo>
                      <a:pt x="95" y="224"/>
                    </a:lnTo>
                    <a:lnTo>
                      <a:pt x="86" y="200"/>
                    </a:lnTo>
                    <a:lnTo>
                      <a:pt x="79" y="174"/>
                    </a:lnTo>
                    <a:lnTo>
                      <a:pt x="73" y="148"/>
                    </a:lnTo>
                    <a:lnTo>
                      <a:pt x="67" y="121"/>
                    </a:lnTo>
                    <a:lnTo>
                      <a:pt x="64" y="91"/>
                    </a:lnTo>
                    <a:lnTo>
                      <a:pt x="63" y="78"/>
                    </a:lnTo>
                    <a:lnTo>
                      <a:pt x="63" y="62"/>
                    </a:lnTo>
                    <a:lnTo>
                      <a:pt x="63" y="47"/>
                    </a:lnTo>
                    <a:lnTo>
                      <a:pt x="64" y="30"/>
                    </a:lnTo>
                    <a:lnTo>
                      <a:pt x="31" y="0"/>
                    </a:lnTo>
                    <a:lnTo>
                      <a:pt x="64" y="30"/>
                    </a:lnTo>
                    <a:lnTo>
                      <a:pt x="63" y="24"/>
                    </a:lnTo>
                    <a:lnTo>
                      <a:pt x="62" y="18"/>
                    </a:lnTo>
                    <a:lnTo>
                      <a:pt x="59" y="13"/>
                    </a:lnTo>
                    <a:lnTo>
                      <a:pt x="55" y="9"/>
                    </a:lnTo>
                    <a:lnTo>
                      <a:pt x="51" y="6"/>
                    </a:lnTo>
                    <a:lnTo>
                      <a:pt x="46" y="3"/>
                    </a:lnTo>
                    <a:lnTo>
                      <a:pt x="41" y="1"/>
                    </a:lnTo>
                    <a:lnTo>
                      <a:pt x="34" y="0"/>
                    </a:lnTo>
                    <a:lnTo>
                      <a:pt x="29" y="1"/>
                    </a:lnTo>
                    <a:lnTo>
                      <a:pt x="23" y="1"/>
                    </a:lnTo>
                    <a:lnTo>
                      <a:pt x="18" y="3"/>
                    </a:lnTo>
                    <a:lnTo>
                      <a:pt x="13" y="7"/>
                    </a:lnTo>
                    <a:lnTo>
                      <a:pt x="9" y="10"/>
                    </a:lnTo>
                    <a:lnTo>
                      <a:pt x="6" y="15"/>
                    </a:lnTo>
                    <a:lnTo>
                      <a:pt x="4" y="20"/>
                    </a:lnTo>
                    <a:lnTo>
                      <a:pt x="2" y="27"/>
                    </a:lnTo>
                    <a:lnTo>
                      <a:pt x="34" y="56"/>
                    </a:lnTo>
                    <a:close/>
                  </a:path>
                </a:pathLst>
              </a:custGeom>
              <a:solidFill>
                <a:srgbClr val="000000"/>
              </a:solidFill>
              <a:ln w="0">
                <a:noFill/>
              </a:ln>
            </p:spPr>
            <p:style>
              <a:lnRef idx="0"/>
              <a:fillRef idx="0"/>
              <a:effectRef idx="0"/>
              <a:fontRef idx="minor"/>
            </p:style>
            <p:txBody>
              <a:bodyPr wrap="none" lIns="93240" rIns="93240" tIns="6480" bIns="6480" anchor="t">
                <a:spAutoFit/>
              </a:bodyPr>
              <a:p>
                <a:endParaRPr b="0" lang="en-US" sz="2400" spc="-1" strike="noStrike">
                  <a:solidFill>
                    <a:srgbClr val="ffffff"/>
                  </a:solidFill>
                  <a:latin typeface="Times New Roman"/>
                </a:endParaRPr>
              </a:p>
            </p:txBody>
          </p:sp>
          <p:sp>
            <p:nvSpPr>
              <p:cNvPr id="382" name=""/>
              <p:cNvSpPr/>
              <p:nvPr/>
            </p:nvSpPr>
            <p:spPr>
              <a:xfrm>
                <a:off x="2281680" y="4486320"/>
                <a:ext cx="168480" cy="55800"/>
              </a:xfrm>
              <a:custGeom>
                <a:avLst/>
                <a:gdLst/>
                <a:ahLst/>
                <a:rect l="l" t="t" r="r" b="b"/>
                <a:pathLst>
                  <a:path w="1171" h="279">
                    <a:moveTo>
                      <a:pt x="48" y="52"/>
                    </a:moveTo>
                    <a:lnTo>
                      <a:pt x="2" y="38"/>
                    </a:lnTo>
                    <a:lnTo>
                      <a:pt x="9" y="53"/>
                    </a:lnTo>
                    <a:lnTo>
                      <a:pt x="17" y="67"/>
                    </a:lnTo>
                    <a:lnTo>
                      <a:pt x="24" y="81"/>
                    </a:lnTo>
                    <a:lnTo>
                      <a:pt x="33" y="93"/>
                    </a:lnTo>
                    <a:lnTo>
                      <a:pt x="43" y="106"/>
                    </a:lnTo>
                    <a:lnTo>
                      <a:pt x="53" y="119"/>
                    </a:lnTo>
                    <a:lnTo>
                      <a:pt x="64" y="129"/>
                    </a:lnTo>
                    <a:lnTo>
                      <a:pt x="75" y="141"/>
                    </a:lnTo>
                    <a:lnTo>
                      <a:pt x="88" y="150"/>
                    </a:lnTo>
                    <a:lnTo>
                      <a:pt x="100" y="161"/>
                    </a:lnTo>
                    <a:lnTo>
                      <a:pt x="113" y="171"/>
                    </a:lnTo>
                    <a:lnTo>
                      <a:pt x="128" y="179"/>
                    </a:lnTo>
                    <a:lnTo>
                      <a:pt x="157" y="195"/>
                    </a:lnTo>
                    <a:lnTo>
                      <a:pt x="188" y="210"/>
                    </a:lnTo>
                    <a:lnTo>
                      <a:pt x="220" y="223"/>
                    </a:lnTo>
                    <a:lnTo>
                      <a:pt x="254" y="234"/>
                    </a:lnTo>
                    <a:lnTo>
                      <a:pt x="291" y="244"/>
                    </a:lnTo>
                    <a:lnTo>
                      <a:pt x="328" y="251"/>
                    </a:lnTo>
                    <a:lnTo>
                      <a:pt x="366" y="259"/>
                    </a:lnTo>
                    <a:lnTo>
                      <a:pt x="406" y="264"/>
                    </a:lnTo>
                    <a:lnTo>
                      <a:pt x="446" y="269"/>
                    </a:lnTo>
                    <a:lnTo>
                      <a:pt x="488" y="272"/>
                    </a:lnTo>
                    <a:lnTo>
                      <a:pt x="530" y="275"/>
                    </a:lnTo>
                    <a:lnTo>
                      <a:pt x="572" y="277"/>
                    </a:lnTo>
                    <a:lnTo>
                      <a:pt x="615" y="278"/>
                    </a:lnTo>
                    <a:lnTo>
                      <a:pt x="659" y="279"/>
                    </a:lnTo>
                    <a:lnTo>
                      <a:pt x="748" y="278"/>
                    </a:lnTo>
                    <a:lnTo>
                      <a:pt x="836" y="274"/>
                    </a:lnTo>
                    <a:lnTo>
                      <a:pt x="1009" y="266"/>
                    </a:lnTo>
                    <a:lnTo>
                      <a:pt x="1171" y="257"/>
                    </a:lnTo>
                    <a:lnTo>
                      <a:pt x="1168" y="201"/>
                    </a:lnTo>
                    <a:lnTo>
                      <a:pt x="1006" y="211"/>
                    </a:lnTo>
                    <a:lnTo>
                      <a:pt x="833" y="219"/>
                    </a:lnTo>
                    <a:lnTo>
                      <a:pt x="746" y="223"/>
                    </a:lnTo>
                    <a:lnTo>
                      <a:pt x="659" y="224"/>
                    </a:lnTo>
                    <a:lnTo>
                      <a:pt x="616" y="223"/>
                    </a:lnTo>
                    <a:lnTo>
                      <a:pt x="575" y="221"/>
                    </a:lnTo>
                    <a:lnTo>
                      <a:pt x="533" y="220"/>
                    </a:lnTo>
                    <a:lnTo>
                      <a:pt x="492" y="217"/>
                    </a:lnTo>
                    <a:lnTo>
                      <a:pt x="453" y="214"/>
                    </a:lnTo>
                    <a:lnTo>
                      <a:pt x="415" y="210"/>
                    </a:lnTo>
                    <a:lnTo>
                      <a:pt x="377" y="204"/>
                    </a:lnTo>
                    <a:lnTo>
                      <a:pt x="341" y="197"/>
                    </a:lnTo>
                    <a:lnTo>
                      <a:pt x="307" y="190"/>
                    </a:lnTo>
                    <a:lnTo>
                      <a:pt x="274" y="181"/>
                    </a:lnTo>
                    <a:lnTo>
                      <a:pt x="243" y="171"/>
                    </a:lnTo>
                    <a:lnTo>
                      <a:pt x="214" y="160"/>
                    </a:lnTo>
                    <a:lnTo>
                      <a:pt x="186" y="147"/>
                    </a:lnTo>
                    <a:lnTo>
                      <a:pt x="161" y="134"/>
                    </a:lnTo>
                    <a:lnTo>
                      <a:pt x="150" y="126"/>
                    </a:lnTo>
                    <a:lnTo>
                      <a:pt x="139" y="119"/>
                    </a:lnTo>
                    <a:lnTo>
                      <a:pt x="128" y="110"/>
                    </a:lnTo>
                    <a:lnTo>
                      <a:pt x="118" y="102"/>
                    </a:lnTo>
                    <a:lnTo>
                      <a:pt x="110" y="92"/>
                    </a:lnTo>
                    <a:lnTo>
                      <a:pt x="101" y="84"/>
                    </a:lnTo>
                    <a:lnTo>
                      <a:pt x="92" y="74"/>
                    </a:lnTo>
                    <a:lnTo>
                      <a:pt x="84" y="64"/>
                    </a:lnTo>
                    <a:lnTo>
                      <a:pt x="78" y="53"/>
                    </a:lnTo>
                    <a:lnTo>
                      <a:pt x="71" y="42"/>
                    </a:lnTo>
                    <a:lnTo>
                      <a:pt x="66" y="31"/>
                    </a:lnTo>
                    <a:lnTo>
                      <a:pt x="60" y="19"/>
                    </a:lnTo>
                    <a:lnTo>
                      <a:pt x="14" y="5"/>
                    </a:lnTo>
                    <a:lnTo>
                      <a:pt x="60" y="19"/>
                    </a:lnTo>
                    <a:lnTo>
                      <a:pt x="57" y="13"/>
                    </a:lnTo>
                    <a:lnTo>
                      <a:pt x="53" y="8"/>
                    </a:lnTo>
                    <a:lnTo>
                      <a:pt x="48" y="5"/>
                    </a:lnTo>
                    <a:lnTo>
                      <a:pt x="43" y="2"/>
                    </a:lnTo>
                    <a:lnTo>
                      <a:pt x="37" y="1"/>
                    </a:lnTo>
                    <a:lnTo>
                      <a:pt x="32" y="0"/>
                    </a:lnTo>
                    <a:lnTo>
                      <a:pt x="26" y="1"/>
                    </a:lnTo>
                    <a:lnTo>
                      <a:pt x="21" y="2"/>
                    </a:lnTo>
                    <a:lnTo>
                      <a:pt x="15" y="4"/>
                    </a:lnTo>
                    <a:lnTo>
                      <a:pt x="11" y="7"/>
                    </a:lnTo>
                    <a:lnTo>
                      <a:pt x="7" y="11"/>
                    </a:lnTo>
                    <a:lnTo>
                      <a:pt x="3" y="15"/>
                    </a:lnTo>
                    <a:lnTo>
                      <a:pt x="1" y="20"/>
                    </a:lnTo>
                    <a:lnTo>
                      <a:pt x="0" y="25"/>
                    </a:lnTo>
                    <a:lnTo>
                      <a:pt x="0" y="32"/>
                    </a:lnTo>
                    <a:lnTo>
                      <a:pt x="2" y="38"/>
                    </a:lnTo>
                    <a:lnTo>
                      <a:pt x="48" y="52"/>
                    </a:lnTo>
                    <a:close/>
                  </a:path>
                </a:pathLst>
              </a:custGeom>
              <a:solidFill>
                <a:srgbClr val="000000"/>
              </a:solidFill>
              <a:ln w="0">
                <a:noFill/>
              </a:ln>
            </p:spPr>
            <p:style>
              <a:lnRef idx="0"/>
              <a:fillRef idx="0"/>
              <a:effectRef idx="0"/>
              <a:fontRef idx="minor"/>
            </p:style>
            <p:txBody>
              <a:bodyPr wrap="none" lIns="93240" rIns="93240" tIns="9360" bIns="9360" anchor="t">
                <a:spAutoFit/>
              </a:bodyPr>
              <a:p>
                <a:endParaRPr b="0" lang="en-US" sz="2400" spc="-1" strike="noStrike">
                  <a:solidFill>
                    <a:srgbClr val="ffffff"/>
                  </a:solidFill>
                  <a:latin typeface="Times New Roman"/>
                </a:endParaRPr>
              </a:p>
            </p:txBody>
          </p:sp>
          <p:sp>
            <p:nvSpPr>
              <p:cNvPr id="383" name=""/>
              <p:cNvSpPr/>
              <p:nvPr/>
            </p:nvSpPr>
            <p:spPr>
              <a:xfrm>
                <a:off x="2461680" y="2923200"/>
                <a:ext cx="16200" cy="90720"/>
              </a:xfrm>
              <a:custGeom>
                <a:avLst/>
                <a:gdLst/>
                <a:ahLst/>
                <a:rect l="l" t="t" r="r" b="b"/>
                <a:pathLst>
                  <a:path w="116" h="450">
                    <a:moveTo>
                      <a:pt x="0" y="0"/>
                    </a:moveTo>
                    <a:lnTo>
                      <a:pt x="10" y="10"/>
                    </a:lnTo>
                    <a:lnTo>
                      <a:pt x="34" y="39"/>
                    </a:lnTo>
                    <a:lnTo>
                      <a:pt x="49" y="59"/>
                    </a:lnTo>
                    <a:lnTo>
                      <a:pt x="65" y="83"/>
                    </a:lnTo>
                    <a:lnTo>
                      <a:pt x="72" y="96"/>
                    </a:lnTo>
                    <a:lnTo>
                      <a:pt x="80" y="110"/>
                    </a:lnTo>
                    <a:lnTo>
                      <a:pt x="87" y="124"/>
                    </a:lnTo>
                    <a:lnTo>
                      <a:pt x="93" y="140"/>
                    </a:lnTo>
                    <a:lnTo>
                      <a:pt x="100" y="156"/>
                    </a:lnTo>
                    <a:lnTo>
                      <a:pt x="105" y="173"/>
                    </a:lnTo>
                    <a:lnTo>
                      <a:pt x="110" y="190"/>
                    </a:lnTo>
                    <a:lnTo>
                      <a:pt x="113" y="208"/>
                    </a:lnTo>
                    <a:lnTo>
                      <a:pt x="115" y="226"/>
                    </a:lnTo>
                    <a:lnTo>
                      <a:pt x="116" y="245"/>
                    </a:lnTo>
                    <a:lnTo>
                      <a:pt x="116" y="264"/>
                    </a:lnTo>
                    <a:lnTo>
                      <a:pt x="115" y="284"/>
                    </a:lnTo>
                    <a:lnTo>
                      <a:pt x="112" y="304"/>
                    </a:lnTo>
                    <a:lnTo>
                      <a:pt x="106" y="325"/>
                    </a:lnTo>
                    <a:lnTo>
                      <a:pt x="100" y="345"/>
                    </a:lnTo>
                    <a:lnTo>
                      <a:pt x="91" y="366"/>
                    </a:lnTo>
                    <a:lnTo>
                      <a:pt x="80" y="386"/>
                    </a:lnTo>
                    <a:lnTo>
                      <a:pt x="67" y="407"/>
                    </a:lnTo>
                    <a:lnTo>
                      <a:pt x="52" y="428"/>
                    </a:lnTo>
                    <a:lnTo>
                      <a:pt x="34" y="450"/>
                    </a:lnTo>
                  </a:path>
                </a:pathLst>
              </a:custGeom>
              <a:noFill/>
              <a:ln w="3240">
                <a:solidFill>
                  <a:srgbClr val="000000"/>
                </a:solidFill>
                <a:round/>
              </a:ln>
            </p:spPr>
            <p:style>
              <a:lnRef idx="0"/>
              <a:fillRef idx="0"/>
              <a:effectRef idx="0"/>
              <a:fontRef idx="minor"/>
            </p:style>
            <p:txBody>
              <a:bodyPr wrap="none" lIns="93240" rIns="93240" tIns="44280" bIns="44280" anchor="t">
                <a:spAutoFit/>
              </a:bodyPr>
              <a:p>
                <a:endParaRPr b="0" lang="en-US" sz="2400" spc="-1" strike="noStrike">
                  <a:solidFill>
                    <a:srgbClr val="ffffff"/>
                  </a:solidFill>
                  <a:latin typeface="Times New Roman"/>
                </a:endParaRPr>
              </a:p>
            </p:txBody>
          </p:sp>
          <p:sp>
            <p:nvSpPr>
              <p:cNvPr id="384" name=""/>
              <p:cNvSpPr/>
              <p:nvPr/>
            </p:nvSpPr>
            <p:spPr>
              <a:xfrm>
                <a:off x="2129400" y="2153520"/>
                <a:ext cx="109800" cy="181080"/>
              </a:xfrm>
              <a:custGeom>
                <a:avLst/>
                <a:gdLst/>
                <a:ahLst/>
                <a:rect l="l" t="t" r="r" b="b"/>
                <a:pathLst>
                  <a:path w="771" h="898">
                    <a:moveTo>
                      <a:pt x="390" y="898"/>
                    </a:moveTo>
                    <a:lnTo>
                      <a:pt x="409" y="897"/>
                    </a:lnTo>
                    <a:lnTo>
                      <a:pt x="428" y="896"/>
                    </a:lnTo>
                    <a:lnTo>
                      <a:pt x="447" y="892"/>
                    </a:lnTo>
                    <a:lnTo>
                      <a:pt x="465" y="888"/>
                    </a:lnTo>
                    <a:lnTo>
                      <a:pt x="484" y="883"/>
                    </a:lnTo>
                    <a:lnTo>
                      <a:pt x="501" y="878"/>
                    </a:lnTo>
                    <a:lnTo>
                      <a:pt x="520" y="870"/>
                    </a:lnTo>
                    <a:lnTo>
                      <a:pt x="537" y="862"/>
                    </a:lnTo>
                    <a:lnTo>
                      <a:pt x="554" y="853"/>
                    </a:lnTo>
                    <a:lnTo>
                      <a:pt x="571" y="843"/>
                    </a:lnTo>
                    <a:lnTo>
                      <a:pt x="586" y="832"/>
                    </a:lnTo>
                    <a:lnTo>
                      <a:pt x="601" y="820"/>
                    </a:lnTo>
                    <a:lnTo>
                      <a:pt x="617" y="808"/>
                    </a:lnTo>
                    <a:lnTo>
                      <a:pt x="631" y="794"/>
                    </a:lnTo>
                    <a:lnTo>
                      <a:pt x="645" y="780"/>
                    </a:lnTo>
                    <a:lnTo>
                      <a:pt x="658" y="765"/>
                    </a:lnTo>
                    <a:lnTo>
                      <a:pt x="671" y="749"/>
                    </a:lnTo>
                    <a:lnTo>
                      <a:pt x="683" y="732"/>
                    </a:lnTo>
                    <a:lnTo>
                      <a:pt x="694" y="715"/>
                    </a:lnTo>
                    <a:lnTo>
                      <a:pt x="705" y="698"/>
                    </a:lnTo>
                    <a:lnTo>
                      <a:pt x="715" y="679"/>
                    </a:lnTo>
                    <a:lnTo>
                      <a:pt x="724" y="660"/>
                    </a:lnTo>
                    <a:lnTo>
                      <a:pt x="733" y="641"/>
                    </a:lnTo>
                    <a:lnTo>
                      <a:pt x="740" y="621"/>
                    </a:lnTo>
                    <a:lnTo>
                      <a:pt x="748" y="601"/>
                    </a:lnTo>
                    <a:lnTo>
                      <a:pt x="754" y="580"/>
                    </a:lnTo>
                    <a:lnTo>
                      <a:pt x="759" y="559"/>
                    </a:lnTo>
                    <a:lnTo>
                      <a:pt x="763" y="537"/>
                    </a:lnTo>
                    <a:lnTo>
                      <a:pt x="767" y="515"/>
                    </a:lnTo>
                    <a:lnTo>
                      <a:pt x="769" y="493"/>
                    </a:lnTo>
                    <a:lnTo>
                      <a:pt x="771" y="470"/>
                    </a:lnTo>
                    <a:lnTo>
                      <a:pt x="771" y="446"/>
                    </a:lnTo>
                    <a:lnTo>
                      <a:pt x="771" y="423"/>
                    </a:lnTo>
                    <a:lnTo>
                      <a:pt x="769" y="401"/>
                    </a:lnTo>
                    <a:lnTo>
                      <a:pt x="767" y="377"/>
                    </a:lnTo>
                    <a:lnTo>
                      <a:pt x="763" y="355"/>
                    </a:lnTo>
                    <a:lnTo>
                      <a:pt x="759" y="334"/>
                    </a:lnTo>
                    <a:lnTo>
                      <a:pt x="754" y="313"/>
                    </a:lnTo>
                    <a:lnTo>
                      <a:pt x="748" y="292"/>
                    </a:lnTo>
                    <a:lnTo>
                      <a:pt x="740" y="271"/>
                    </a:lnTo>
                    <a:lnTo>
                      <a:pt x="733" y="251"/>
                    </a:lnTo>
                    <a:lnTo>
                      <a:pt x="724" y="232"/>
                    </a:lnTo>
                    <a:lnTo>
                      <a:pt x="715" y="213"/>
                    </a:lnTo>
                    <a:lnTo>
                      <a:pt x="705" y="195"/>
                    </a:lnTo>
                    <a:lnTo>
                      <a:pt x="694" y="177"/>
                    </a:lnTo>
                    <a:lnTo>
                      <a:pt x="683" y="160"/>
                    </a:lnTo>
                    <a:lnTo>
                      <a:pt x="671" y="144"/>
                    </a:lnTo>
                    <a:lnTo>
                      <a:pt x="658" y="129"/>
                    </a:lnTo>
                    <a:lnTo>
                      <a:pt x="645" y="115"/>
                    </a:lnTo>
                    <a:lnTo>
                      <a:pt x="631" y="101"/>
                    </a:lnTo>
                    <a:lnTo>
                      <a:pt x="617" y="87"/>
                    </a:lnTo>
                    <a:lnTo>
                      <a:pt x="601" y="75"/>
                    </a:lnTo>
                    <a:lnTo>
                      <a:pt x="586" y="64"/>
                    </a:lnTo>
                    <a:lnTo>
                      <a:pt x="571" y="53"/>
                    </a:lnTo>
                    <a:lnTo>
                      <a:pt x="554" y="44"/>
                    </a:lnTo>
                    <a:lnTo>
                      <a:pt x="537" y="34"/>
                    </a:lnTo>
                    <a:lnTo>
                      <a:pt x="520" y="27"/>
                    </a:lnTo>
                    <a:lnTo>
                      <a:pt x="501" y="19"/>
                    </a:lnTo>
                    <a:lnTo>
                      <a:pt x="484" y="14"/>
                    </a:lnTo>
                    <a:lnTo>
                      <a:pt x="465" y="9"/>
                    </a:lnTo>
                    <a:lnTo>
                      <a:pt x="447" y="4"/>
                    </a:lnTo>
                    <a:lnTo>
                      <a:pt x="428" y="2"/>
                    </a:lnTo>
                    <a:lnTo>
                      <a:pt x="409" y="0"/>
                    </a:lnTo>
                    <a:lnTo>
                      <a:pt x="390" y="0"/>
                    </a:lnTo>
                    <a:lnTo>
                      <a:pt x="370" y="0"/>
                    </a:lnTo>
                    <a:lnTo>
                      <a:pt x="349" y="2"/>
                    </a:lnTo>
                    <a:lnTo>
                      <a:pt x="329" y="4"/>
                    </a:lnTo>
                    <a:lnTo>
                      <a:pt x="311" y="9"/>
                    </a:lnTo>
                    <a:lnTo>
                      <a:pt x="291" y="14"/>
                    </a:lnTo>
                    <a:lnTo>
                      <a:pt x="272" y="19"/>
                    </a:lnTo>
                    <a:lnTo>
                      <a:pt x="255" y="27"/>
                    </a:lnTo>
                    <a:lnTo>
                      <a:pt x="236" y="34"/>
                    </a:lnTo>
                    <a:lnTo>
                      <a:pt x="220" y="44"/>
                    </a:lnTo>
                    <a:lnTo>
                      <a:pt x="202" y="53"/>
                    </a:lnTo>
                    <a:lnTo>
                      <a:pt x="186" y="64"/>
                    </a:lnTo>
                    <a:lnTo>
                      <a:pt x="170" y="75"/>
                    </a:lnTo>
                    <a:lnTo>
                      <a:pt x="155" y="87"/>
                    </a:lnTo>
                    <a:lnTo>
                      <a:pt x="141" y="101"/>
                    </a:lnTo>
                    <a:lnTo>
                      <a:pt x="126" y="115"/>
                    </a:lnTo>
                    <a:lnTo>
                      <a:pt x="113" y="129"/>
                    </a:lnTo>
                    <a:lnTo>
                      <a:pt x="100" y="144"/>
                    </a:lnTo>
                    <a:lnTo>
                      <a:pt x="88" y="160"/>
                    </a:lnTo>
                    <a:lnTo>
                      <a:pt x="77" y="177"/>
                    </a:lnTo>
                    <a:lnTo>
                      <a:pt x="66" y="195"/>
                    </a:lnTo>
                    <a:lnTo>
                      <a:pt x="56" y="213"/>
                    </a:lnTo>
                    <a:lnTo>
                      <a:pt x="46" y="232"/>
                    </a:lnTo>
                    <a:lnTo>
                      <a:pt x="38" y="251"/>
                    </a:lnTo>
                    <a:lnTo>
                      <a:pt x="30" y="271"/>
                    </a:lnTo>
                    <a:lnTo>
                      <a:pt x="23" y="292"/>
                    </a:lnTo>
                    <a:lnTo>
                      <a:pt x="18" y="313"/>
                    </a:lnTo>
                    <a:lnTo>
                      <a:pt x="12" y="334"/>
                    </a:lnTo>
                    <a:lnTo>
                      <a:pt x="8" y="355"/>
                    </a:lnTo>
                    <a:lnTo>
                      <a:pt x="5" y="377"/>
                    </a:lnTo>
                    <a:lnTo>
                      <a:pt x="2" y="401"/>
                    </a:lnTo>
                    <a:lnTo>
                      <a:pt x="1" y="423"/>
                    </a:lnTo>
                    <a:lnTo>
                      <a:pt x="0" y="446"/>
                    </a:lnTo>
                    <a:lnTo>
                      <a:pt x="1" y="470"/>
                    </a:lnTo>
                    <a:lnTo>
                      <a:pt x="2" y="493"/>
                    </a:lnTo>
                    <a:lnTo>
                      <a:pt x="5" y="515"/>
                    </a:lnTo>
                    <a:lnTo>
                      <a:pt x="8" y="537"/>
                    </a:lnTo>
                    <a:lnTo>
                      <a:pt x="12" y="559"/>
                    </a:lnTo>
                    <a:lnTo>
                      <a:pt x="18" y="580"/>
                    </a:lnTo>
                    <a:lnTo>
                      <a:pt x="23" y="601"/>
                    </a:lnTo>
                    <a:lnTo>
                      <a:pt x="30" y="621"/>
                    </a:lnTo>
                    <a:lnTo>
                      <a:pt x="38" y="641"/>
                    </a:lnTo>
                    <a:lnTo>
                      <a:pt x="46" y="660"/>
                    </a:lnTo>
                    <a:lnTo>
                      <a:pt x="56" y="679"/>
                    </a:lnTo>
                    <a:lnTo>
                      <a:pt x="66" y="698"/>
                    </a:lnTo>
                    <a:lnTo>
                      <a:pt x="77" y="715"/>
                    </a:lnTo>
                    <a:lnTo>
                      <a:pt x="88" y="732"/>
                    </a:lnTo>
                    <a:lnTo>
                      <a:pt x="100" y="749"/>
                    </a:lnTo>
                    <a:lnTo>
                      <a:pt x="113" y="765"/>
                    </a:lnTo>
                    <a:lnTo>
                      <a:pt x="126" y="780"/>
                    </a:lnTo>
                    <a:lnTo>
                      <a:pt x="141" y="794"/>
                    </a:lnTo>
                    <a:lnTo>
                      <a:pt x="155" y="808"/>
                    </a:lnTo>
                    <a:lnTo>
                      <a:pt x="170" y="820"/>
                    </a:lnTo>
                    <a:lnTo>
                      <a:pt x="186" y="832"/>
                    </a:lnTo>
                    <a:lnTo>
                      <a:pt x="202" y="843"/>
                    </a:lnTo>
                    <a:lnTo>
                      <a:pt x="220" y="853"/>
                    </a:lnTo>
                    <a:lnTo>
                      <a:pt x="236" y="862"/>
                    </a:lnTo>
                    <a:lnTo>
                      <a:pt x="255" y="870"/>
                    </a:lnTo>
                    <a:lnTo>
                      <a:pt x="272" y="878"/>
                    </a:lnTo>
                    <a:lnTo>
                      <a:pt x="291" y="883"/>
                    </a:lnTo>
                    <a:lnTo>
                      <a:pt x="311" y="888"/>
                    </a:lnTo>
                    <a:lnTo>
                      <a:pt x="329" y="892"/>
                    </a:lnTo>
                    <a:lnTo>
                      <a:pt x="349" y="896"/>
                    </a:lnTo>
                    <a:lnTo>
                      <a:pt x="370" y="897"/>
                    </a:lnTo>
                    <a:lnTo>
                      <a:pt x="390" y="898"/>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5" name=""/>
              <p:cNvSpPr/>
              <p:nvPr/>
            </p:nvSpPr>
            <p:spPr>
              <a:xfrm>
                <a:off x="2129400" y="2153520"/>
                <a:ext cx="109800" cy="181080"/>
              </a:xfrm>
              <a:custGeom>
                <a:avLst/>
                <a:gdLst/>
                <a:ahLst/>
                <a:rect l="l" t="t" r="r" b="b"/>
                <a:pathLst>
                  <a:path w="771" h="898">
                    <a:moveTo>
                      <a:pt x="390" y="898"/>
                    </a:moveTo>
                    <a:lnTo>
                      <a:pt x="409" y="897"/>
                    </a:lnTo>
                    <a:lnTo>
                      <a:pt x="428" y="896"/>
                    </a:lnTo>
                    <a:lnTo>
                      <a:pt x="447" y="892"/>
                    </a:lnTo>
                    <a:lnTo>
                      <a:pt x="465" y="888"/>
                    </a:lnTo>
                    <a:lnTo>
                      <a:pt x="484" y="883"/>
                    </a:lnTo>
                    <a:lnTo>
                      <a:pt x="501" y="878"/>
                    </a:lnTo>
                    <a:lnTo>
                      <a:pt x="520" y="870"/>
                    </a:lnTo>
                    <a:lnTo>
                      <a:pt x="537" y="862"/>
                    </a:lnTo>
                    <a:lnTo>
                      <a:pt x="554" y="853"/>
                    </a:lnTo>
                    <a:lnTo>
                      <a:pt x="571" y="843"/>
                    </a:lnTo>
                    <a:lnTo>
                      <a:pt x="586" y="832"/>
                    </a:lnTo>
                    <a:lnTo>
                      <a:pt x="601" y="820"/>
                    </a:lnTo>
                    <a:lnTo>
                      <a:pt x="617" y="808"/>
                    </a:lnTo>
                    <a:lnTo>
                      <a:pt x="631" y="794"/>
                    </a:lnTo>
                    <a:lnTo>
                      <a:pt x="645" y="780"/>
                    </a:lnTo>
                    <a:lnTo>
                      <a:pt x="658" y="765"/>
                    </a:lnTo>
                    <a:lnTo>
                      <a:pt x="671" y="749"/>
                    </a:lnTo>
                    <a:lnTo>
                      <a:pt x="683" y="732"/>
                    </a:lnTo>
                    <a:lnTo>
                      <a:pt x="694" y="715"/>
                    </a:lnTo>
                    <a:lnTo>
                      <a:pt x="705" y="698"/>
                    </a:lnTo>
                    <a:lnTo>
                      <a:pt x="715" y="679"/>
                    </a:lnTo>
                    <a:lnTo>
                      <a:pt x="724" y="660"/>
                    </a:lnTo>
                    <a:lnTo>
                      <a:pt x="733" y="641"/>
                    </a:lnTo>
                    <a:lnTo>
                      <a:pt x="740" y="621"/>
                    </a:lnTo>
                    <a:lnTo>
                      <a:pt x="748" y="601"/>
                    </a:lnTo>
                    <a:lnTo>
                      <a:pt x="754" y="580"/>
                    </a:lnTo>
                    <a:lnTo>
                      <a:pt x="759" y="559"/>
                    </a:lnTo>
                    <a:lnTo>
                      <a:pt x="763" y="537"/>
                    </a:lnTo>
                    <a:lnTo>
                      <a:pt x="767" y="515"/>
                    </a:lnTo>
                    <a:lnTo>
                      <a:pt x="769" y="493"/>
                    </a:lnTo>
                    <a:lnTo>
                      <a:pt x="771" y="470"/>
                    </a:lnTo>
                    <a:lnTo>
                      <a:pt x="771" y="446"/>
                    </a:lnTo>
                    <a:lnTo>
                      <a:pt x="771" y="423"/>
                    </a:lnTo>
                    <a:lnTo>
                      <a:pt x="769" y="401"/>
                    </a:lnTo>
                    <a:lnTo>
                      <a:pt x="767" y="377"/>
                    </a:lnTo>
                    <a:lnTo>
                      <a:pt x="763" y="355"/>
                    </a:lnTo>
                    <a:lnTo>
                      <a:pt x="759" y="334"/>
                    </a:lnTo>
                    <a:lnTo>
                      <a:pt x="754" y="313"/>
                    </a:lnTo>
                    <a:lnTo>
                      <a:pt x="748" y="292"/>
                    </a:lnTo>
                    <a:lnTo>
                      <a:pt x="740" y="271"/>
                    </a:lnTo>
                    <a:lnTo>
                      <a:pt x="733" y="251"/>
                    </a:lnTo>
                    <a:lnTo>
                      <a:pt x="724" y="232"/>
                    </a:lnTo>
                    <a:lnTo>
                      <a:pt x="715" y="213"/>
                    </a:lnTo>
                    <a:lnTo>
                      <a:pt x="705" y="195"/>
                    </a:lnTo>
                    <a:lnTo>
                      <a:pt x="694" y="177"/>
                    </a:lnTo>
                    <a:lnTo>
                      <a:pt x="683" y="160"/>
                    </a:lnTo>
                    <a:lnTo>
                      <a:pt x="671" y="144"/>
                    </a:lnTo>
                    <a:lnTo>
                      <a:pt x="658" y="129"/>
                    </a:lnTo>
                    <a:lnTo>
                      <a:pt x="645" y="115"/>
                    </a:lnTo>
                    <a:lnTo>
                      <a:pt x="631" y="101"/>
                    </a:lnTo>
                    <a:lnTo>
                      <a:pt x="617" y="87"/>
                    </a:lnTo>
                    <a:lnTo>
                      <a:pt x="601" y="75"/>
                    </a:lnTo>
                    <a:lnTo>
                      <a:pt x="586" y="64"/>
                    </a:lnTo>
                    <a:lnTo>
                      <a:pt x="571" y="53"/>
                    </a:lnTo>
                    <a:lnTo>
                      <a:pt x="554" y="44"/>
                    </a:lnTo>
                    <a:lnTo>
                      <a:pt x="537" y="34"/>
                    </a:lnTo>
                    <a:lnTo>
                      <a:pt x="520" y="27"/>
                    </a:lnTo>
                    <a:lnTo>
                      <a:pt x="501" y="19"/>
                    </a:lnTo>
                    <a:lnTo>
                      <a:pt x="484" y="14"/>
                    </a:lnTo>
                    <a:lnTo>
                      <a:pt x="465" y="9"/>
                    </a:lnTo>
                    <a:lnTo>
                      <a:pt x="447" y="4"/>
                    </a:lnTo>
                    <a:lnTo>
                      <a:pt x="428" y="2"/>
                    </a:lnTo>
                    <a:lnTo>
                      <a:pt x="409" y="0"/>
                    </a:lnTo>
                    <a:lnTo>
                      <a:pt x="390" y="0"/>
                    </a:lnTo>
                    <a:lnTo>
                      <a:pt x="370" y="0"/>
                    </a:lnTo>
                    <a:lnTo>
                      <a:pt x="349" y="2"/>
                    </a:lnTo>
                    <a:lnTo>
                      <a:pt x="329" y="4"/>
                    </a:lnTo>
                    <a:lnTo>
                      <a:pt x="311" y="9"/>
                    </a:lnTo>
                    <a:lnTo>
                      <a:pt x="291" y="14"/>
                    </a:lnTo>
                    <a:lnTo>
                      <a:pt x="272" y="19"/>
                    </a:lnTo>
                    <a:lnTo>
                      <a:pt x="255" y="27"/>
                    </a:lnTo>
                    <a:lnTo>
                      <a:pt x="236" y="34"/>
                    </a:lnTo>
                    <a:lnTo>
                      <a:pt x="220" y="44"/>
                    </a:lnTo>
                    <a:lnTo>
                      <a:pt x="202" y="53"/>
                    </a:lnTo>
                    <a:lnTo>
                      <a:pt x="186" y="64"/>
                    </a:lnTo>
                    <a:lnTo>
                      <a:pt x="170" y="75"/>
                    </a:lnTo>
                    <a:lnTo>
                      <a:pt x="155" y="87"/>
                    </a:lnTo>
                    <a:lnTo>
                      <a:pt x="141" y="101"/>
                    </a:lnTo>
                    <a:lnTo>
                      <a:pt x="126" y="115"/>
                    </a:lnTo>
                    <a:lnTo>
                      <a:pt x="113" y="129"/>
                    </a:lnTo>
                    <a:lnTo>
                      <a:pt x="100" y="144"/>
                    </a:lnTo>
                    <a:lnTo>
                      <a:pt x="88" y="160"/>
                    </a:lnTo>
                    <a:lnTo>
                      <a:pt x="77" y="177"/>
                    </a:lnTo>
                    <a:lnTo>
                      <a:pt x="66" y="195"/>
                    </a:lnTo>
                    <a:lnTo>
                      <a:pt x="56" y="213"/>
                    </a:lnTo>
                    <a:lnTo>
                      <a:pt x="46" y="232"/>
                    </a:lnTo>
                    <a:lnTo>
                      <a:pt x="38" y="251"/>
                    </a:lnTo>
                    <a:lnTo>
                      <a:pt x="30" y="271"/>
                    </a:lnTo>
                    <a:lnTo>
                      <a:pt x="23" y="292"/>
                    </a:lnTo>
                    <a:lnTo>
                      <a:pt x="18" y="313"/>
                    </a:lnTo>
                    <a:lnTo>
                      <a:pt x="12" y="334"/>
                    </a:lnTo>
                    <a:lnTo>
                      <a:pt x="8" y="355"/>
                    </a:lnTo>
                    <a:lnTo>
                      <a:pt x="5" y="377"/>
                    </a:lnTo>
                    <a:lnTo>
                      <a:pt x="2" y="401"/>
                    </a:lnTo>
                    <a:lnTo>
                      <a:pt x="1" y="423"/>
                    </a:lnTo>
                    <a:lnTo>
                      <a:pt x="0" y="446"/>
                    </a:lnTo>
                    <a:lnTo>
                      <a:pt x="1" y="470"/>
                    </a:lnTo>
                    <a:lnTo>
                      <a:pt x="2" y="493"/>
                    </a:lnTo>
                    <a:lnTo>
                      <a:pt x="5" y="515"/>
                    </a:lnTo>
                    <a:lnTo>
                      <a:pt x="8" y="537"/>
                    </a:lnTo>
                    <a:lnTo>
                      <a:pt x="12" y="559"/>
                    </a:lnTo>
                    <a:lnTo>
                      <a:pt x="18" y="580"/>
                    </a:lnTo>
                    <a:lnTo>
                      <a:pt x="23" y="601"/>
                    </a:lnTo>
                    <a:lnTo>
                      <a:pt x="30" y="621"/>
                    </a:lnTo>
                    <a:lnTo>
                      <a:pt x="38" y="641"/>
                    </a:lnTo>
                    <a:lnTo>
                      <a:pt x="46" y="660"/>
                    </a:lnTo>
                    <a:lnTo>
                      <a:pt x="56" y="679"/>
                    </a:lnTo>
                    <a:lnTo>
                      <a:pt x="66" y="698"/>
                    </a:lnTo>
                    <a:lnTo>
                      <a:pt x="77" y="715"/>
                    </a:lnTo>
                    <a:lnTo>
                      <a:pt x="88" y="732"/>
                    </a:lnTo>
                    <a:lnTo>
                      <a:pt x="100" y="749"/>
                    </a:lnTo>
                    <a:lnTo>
                      <a:pt x="113" y="765"/>
                    </a:lnTo>
                    <a:lnTo>
                      <a:pt x="126" y="780"/>
                    </a:lnTo>
                    <a:lnTo>
                      <a:pt x="141" y="794"/>
                    </a:lnTo>
                    <a:lnTo>
                      <a:pt x="155" y="808"/>
                    </a:lnTo>
                    <a:lnTo>
                      <a:pt x="170" y="820"/>
                    </a:lnTo>
                    <a:lnTo>
                      <a:pt x="186" y="832"/>
                    </a:lnTo>
                    <a:lnTo>
                      <a:pt x="202" y="843"/>
                    </a:lnTo>
                    <a:lnTo>
                      <a:pt x="220" y="853"/>
                    </a:lnTo>
                    <a:lnTo>
                      <a:pt x="236" y="862"/>
                    </a:lnTo>
                    <a:lnTo>
                      <a:pt x="255" y="870"/>
                    </a:lnTo>
                    <a:lnTo>
                      <a:pt x="272" y="878"/>
                    </a:lnTo>
                    <a:lnTo>
                      <a:pt x="291" y="883"/>
                    </a:lnTo>
                    <a:lnTo>
                      <a:pt x="311" y="888"/>
                    </a:lnTo>
                    <a:lnTo>
                      <a:pt x="329" y="892"/>
                    </a:lnTo>
                    <a:lnTo>
                      <a:pt x="349" y="896"/>
                    </a:lnTo>
                    <a:lnTo>
                      <a:pt x="370" y="897"/>
                    </a:lnTo>
                    <a:lnTo>
                      <a:pt x="390" y="898"/>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6" name=""/>
              <p:cNvSpPr/>
              <p:nvPr/>
            </p:nvSpPr>
            <p:spPr>
              <a:xfrm>
                <a:off x="2618640" y="2116080"/>
                <a:ext cx="110880" cy="181080"/>
              </a:xfrm>
              <a:custGeom>
                <a:avLst/>
                <a:gdLst/>
                <a:ahLst/>
                <a:rect l="l" t="t" r="r" b="b"/>
                <a:pathLst>
                  <a:path w="771" h="897">
                    <a:moveTo>
                      <a:pt x="386" y="897"/>
                    </a:moveTo>
                    <a:lnTo>
                      <a:pt x="406" y="897"/>
                    </a:lnTo>
                    <a:lnTo>
                      <a:pt x="427" y="895"/>
                    </a:lnTo>
                    <a:lnTo>
                      <a:pt x="447" y="892"/>
                    </a:lnTo>
                    <a:lnTo>
                      <a:pt x="465" y="889"/>
                    </a:lnTo>
                    <a:lnTo>
                      <a:pt x="485" y="883"/>
                    </a:lnTo>
                    <a:lnTo>
                      <a:pt x="504" y="877"/>
                    </a:lnTo>
                    <a:lnTo>
                      <a:pt x="521" y="869"/>
                    </a:lnTo>
                    <a:lnTo>
                      <a:pt x="539" y="862"/>
                    </a:lnTo>
                    <a:lnTo>
                      <a:pt x="556" y="853"/>
                    </a:lnTo>
                    <a:lnTo>
                      <a:pt x="573" y="843"/>
                    </a:lnTo>
                    <a:lnTo>
                      <a:pt x="589" y="831"/>
                    </a:lnTo>
                    <a:lnTo>
                      <a:pt x="605" y="820"/>
                    </a:lnTo>
                    <a:lnTo>
                      <a:pt x="620" y="808"/>
                    </a:lnTo>
                    <a:lnTo>
                      <a:pt x="634" y="794"/>
                    </a:lnTo>
                    <a:lnTo>
                      <a:pt x="649" y="780"/>
                    </a:lnTo>
                    <a:lnTo>
                      <a:pt x="662" y="765"/>
                    </a:lnTo>
                    <a:lnTo>
                      <a:pt x="674" y="750"/>
                    </a:lnTo>
                    <a:lnTo>
                      <a:pt x="686" y="733"/>
                    </a:lnTo>
                    <a:lnTo>
                      <a:pt x="697" y="716"/>
                    </a:lnTo>
                    <a:lnTo>
                      <a:pt x="708" y="699"/>
                    </a:lnTo>
                    <a:lnTo>
                      <a:pt x="718" y="681"/>
                    </a:lnTo>
                    <a:lnTo>
                      <a:pt x="726" y="662"/>
                    </a:lnTo>
                    <a:lnTo>
                      <a:pt x="735" y="643"/>
                    </a:lnTo>
                    <a:lnTo>
                      <a:pt x="743" y="623"/>
                    </a:lnTo>
                    <a:lnTo>
                      <a:pt x="749" y="602"/>
                    </a:lnTo>
                    <a:lnTo>
                      <a:pt x="755" y="582"/>
                    </a:lnTo>
                    <a:lnTo>
                      <a:pt x="760" y="561"/>
                    </a:lnTo>
                    <a:lnTo>
                      <a:pt x="765" y="539"/>
                    </a:lnTo>
                    <a:lnTo>
                      <a:pt x="768" y="518"/>
                    </a:lnTo>
                    <a:lnTo>
                      <a:pt x="770" y="495"/>
                    </a:lnTo>
                    <a:lnTo>
                      <a:pt x="771" y="473"/>
                    </a:lnTo>
                    <a:lnTo>
                      <a:pt x="771" y="450"/>
                    </a:lnTo>
                    <a:lnTo>
                      <a:pt x="771" y="428"/>
                    </a:lnTo>
                    <a:lnTo>
                      <a:pt x="770" y="404"/>
                    </a:lnTo>
                    <a:lnTo>
                      <a:pt x="768" y="382"/>
                    </a:lnTo>
                    <a:lnTo>
                      <a:pt x="765" y="360"/>
                    </a:lnTo>
                    <a:lnTo>
                      <a:pt x="760" y="339"/>
                    </a:lnTo>
                    <a:lnTo>
                      <a:pt x="755" y="317"/>
                    </a:lnTo>
                    <a:lnTo>
                      <a:pt x="749" y="296"/>
                    </a:lnTo>
                    <a:lnTo>
                      <a:pt x="743" y="276"/>
                    </a:lnTo>
                    <a:lnTo>
                      <a:pt x="735" y="256"/>
                    </a:lnTo>
                    <a:lnTo>
                      <a:pt x="726" y="236"/>
                    </a:lnTo>
                    <a:lnTo>
                      <a:pt x="718" y="218"/>
                    </a:lnTo>
                    <a:lnTo>
                      <a:pt x="708" y="199"/>
                    </a:lnTo>
                    <a:lnTo>
                      <a:pt x="697" y="182"/>
                    </a:lnTo>
                    <a:lnTo>
                      <a:pt x="686" y="165"/>
                    </a:lnTo>
                    <a:lnTo>
                      <a:pt x="674" y="148"/>
                    </a:lnTo>
                    <a:lnTo>
                      <a:pt x="662" y="132"/>
                    </a:lnTo>
                    <a:lnTo>
                      <a:pt x="649" y="117"/>
                    </a:lnTo>
                    <a:lnTo>
                      <a:pt x="634" y="103"/>
                    </a:lnTo>
                    <a:lnTo>
                      <a:pt x="620" y="90"/>
                    </a:lnTo>
                    <a:lnTo>
                      <a:pt x="605" y="77"/>
                    </a:lnTo>
                    <a:lnTo>
                      <a:pt x="589" y="65"/>
                    </a:lnTo>
                    <a:lnTo>
                      <a:pt x="573" y="55"/>
                    </a:lnTo>
                    <a:lnTo>
                      <a:pt x="556" y="44"/>
                    </a:lnTo>
                    <a:lnTo>
                      <a:pt x="539" y="36"/>
                    </a:lnTo>
                    <a:lnTo>
                      <a:pt x="521" y="27"/>
                    </a:lnTo>
                    <a:lnTo>
                      <a:pt x="504" y="20"/>
                    </a:lnTo>
                    <a:lnTo>
                      <a:pt x="485" y="13"/>
                    </a:lnTo>
                    <a:lnTo>
                      <a:pt x="465" y="9"/>
                    </a:lnTo>
                    <a:lnTo>
                      <a:pt x="447" y="5"/>
                    </a:lnTo>
                    <a:lnTo>
                      <a:pt x="427" y="2"/>
                    </a:lnTo>
                    <a:lnTo>
                      <a:pt x="406" y="0"/>
                    </a:lnTo>
                    <a:lnTo>
                      <a:pt x="386" y="0"/>
                    </a:lnTo>
                    <a:lnTo>
                      <a:pt x="367" y="0"/>
                    </a:lnTo>
                    <a:lnTo>
                      <a:pt x="347" y="2"/>
                    </a:lnTo>
                    <a:lnTo>
                      <a:pt x="327" y="5"/>
                    </a:lnTo>
                    <a:lnTo>
                      <a:pt x="309" y="9"/>
                    </a:lnTo>
                    <a:lnTo>
                      <a:pt x="289" y="13"/>
                    </a:lnTo>
                    <a:lnTo>
                      <a:pt x="271" y="20"/>
                    </a:lnTo>
                    <a:lnTo>
                      <a:pt x="253" y="27"/>
                    </a:lnTo>
                    <a:lnTo>
                      <a:pt x="235" y="36"/>
                    </a:lnTo>
                    <a:lnTo>
                      <a:pt x="219" y="44"/>
                    </a:lnTo>
                    <a:lnTo>
                      <a:pt x="201" y="55"/>
                    </a:lnTo>
                    <a:lnTo>
                      <a:pt x="186" y="65"/>
                    </a:lnTo>
                    <a:lnTo>
                      <a:pt x="170" y="77"/>
                    </a:lnTo>
                    <a:lnTo>
                      <a:pt x="155" y="90"/>
                    </a:lnTo>
                    <a:lnTo>
                      <a:pt x="140" y="103"/>
                    </a:lnTo>
                    <a:lnTo>
                      <a:pt x="127" y="117"/>
                    </a:lnTo>
                    <a:lnTo>
                      <a:pt x="113" y="132"/>
                    </a:lnTo>
                    <a:lnTo>
                      <a:pt x="100" y="148"/>
                    </a:lnTo>
                    <a:lnTo>
                      <a:pt x="88" y="165"/>
                    </a:lnTo>
                    <a:lnTo>
                      <a:pt x="77" y="182"/>
                    </a:lnTo>
                    <a:lnTo>
                      <a:pt x="66" y="199"/>
                    </a:lnTo>
                    <a:lnTo>
                      <a:pt x="56" y="218"/>
                    </a:lnTo>
                    <a:lnTo>
                      <a:pt x="47" y="236"/>
                    </a:lnTo>
                    <a:lnTo>
                      <a:pt x="39" y="256"/>
                    </a:lnTo>
                    <a:lnTo>
                      <a:pt x="31" y="276"/>
                    </a:lnTo>
                    <a:lnTo>
                      <a:pt x="23" y="296"/>
                    </a:lnTo>
                    <a:lnTo>
                      <a:pt x="18" y="317"/>
                    </a:lnTo>
                    <a:lnTo>
                      <a:pt x="13" y="339"/>
                    </a:lnTo>
                    <a:lnTo>
                      <a:pt x="8" y="360"/>
                    </a:lnTo>
                    <a:lnTo>
                      <a:pt x="5" y="382"/>
                    </a:lnTo>
                    <a:lnTo>
                      <a:pt x="3" y="404"/>
                    </a:lnTo>
                    <a:lnTo>
                      <a:pt x="2" y="428"/>
                    </a:lnTo>
                    <a:lnTo>
                      <a:pt x="0" y="450"/>
                    </a:lnTo>
                    <a:lnTo>
                      <a:pt x="2" y="473"/>
                    </a:lnTo>
                    <a:lnTo>
                      <a:pt x="3" y="495"/>
                    </a:lnTo>
                    <a:lnTo>
                      <a:pt x="5" y="518"/>
                    </a:lnTo>
                    <a:lnTo>
                      <a:pt x="8" y="539"/>
                    </a:lnTo>
                    <a:lnTo>
                      <a:pt x="13" y="561"/>
                    </a:lnTo>
                    <a:lnTo>
                      <a:pt x="18" y="582"/>
                    </a:lnTo>
                    <a:lnTo>
                      <a:pt x="23" y="602"/>
                    </a:lnTo>
                    <a:lnTo>
                      <a:pt x="31" y="623"/>
                    </a:lnTo>
                    <a:lnTo>
                      <a:pt x="39" y="643"/>
                    </a:lnTo>
                    <a:lnTo>
                      <a:pt x="47" y="662"/>
                    </a:lnTo>
                    <a:lnTo>
                      <a:pt x="56" y="681"/>
                    </a:lnTo>
                    <a:lnTo>
                      <a:pt x="66" y="699"/>
                    </a:lnTo>
                    <a:lnTo>
                      <a:pt x="77" y="716"/>
                    </a:lnTo>
                    <a:lnTo>
                      <a:pt x="88" y="733"/>
                    </a:lnTo>
                    <a:lnTo>
                      <a:pt x="100" y="750"/>
                    </a:lnTo>
                    <a:lnTo>
                      <a:pt x="113" y="765"/>
                    </a:lnTo>
                    <a:lnTo>
                      <a:pt x="127" y="780"/>
                    </a:lnTo>
                    <a:lnTo>
                      <a:pt x="140" y="794"/>
                    </a:lnTo>
                    <a:lnTo>
                      <a:pt x="155" y="808"/>
                    </a:lnTo>
                    <a:lnTo>
                      <a:pt x="170" y="820"/>
                    </a:lnTo>
                    <a:lnTo>
                      <a:pt x="186" y="831"/>
                    </a:lnTo>
                    <a:lnTo>
                      <a:pt x="201" y="843"/>
                    </a:lnTo>
                    <a:lnTo>
                      <a:pt x="219" y="853"/>
                    </a:lnTo>
                    <a:lnTo>
                      <a:pt x="235" y="862"/>
                    </a:lnTo>
                    <a:lnTo>
                      <a:pt x="253" y="869"/>
                    </a:lnTo>
                    <a:lnTo>
                      <a:pt x="271" y="877"/>
                    </a:lnTo>
                    <a:lnTo>
                      <a:pt x="289" y="883"/>
                    </a:lnTo>
                    <a:lnTo>
                      <a:pt x="309" y="889"/>
                    </a:lnTo>
                    <a:lnTo>
                      <a:pt x="327" y="892"/>
                    </a:lnTo>
                    <a:lnTo>
                      <a:pt x="347" y="895"/>
                    </a:lnTo>
                    <a:lnTo>
                      <a:pt x="367" y="897"/>
                    </a:lnTo>
                    <a:lnTo>
                      <a:pt x="386" y="897"/>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7" name=""/>
              <p:cNvSpPr/>
              <p:nvPr/>
            </p:nvSpPr>
            <p:spPr>
              <a:xfrm>
                <a:off x="2618640" y="2116080"/>
                <a:ext cx="110880" cy="181080"/>
              </a:xfrm>
              <a:custGeom>
                <a:avLst/>
                <a:gdLst/>
                <a:ahLst/>
                <a:rect l="l" t="t" r="r" b="b"/>
                <a:pathLst>
                  <a:path w="771" h="897">
                    <a:moveTo>
                      <a:pt x="386" y="897"/>
                    </a:moveTo>
                    <a:lnTo>
                      <a:pt x="406" y="897"/>
                    </a:lnTo>
                    <a:lnTo>
                      <a:pt x="427" y="895"/>
                    </a:lnTo>
                    <a:lnTo>
                      <a:pt x="447" y="892"/>
                    </a:lnTo>
                    <a:lnTo>
                      <a:pt x="465" y="889"/>
                    </a:lnTo>
                    <a:lnTo>
                      <a:pt x="485" y="883"/>
                    </a:lnTo>
                    <a:lnTo>
                      <a:pt x="504" y="877"/>
                    </a:lnTo>
                    <a:lnTo>
                      <a:pt x="521" y="869"/>
                    </a:lnTo>
                    <a:lnTo>
                      <a:pt x="539" y="862"/>
                    </a:lnTo>
                    <a:lnTo>
                      <a:pt x="556" y="853"/>
                    </a:lnTo>
                    <a:lnTo>
                      <a:pt x="573" y="843"/>
                    </a:lnTo>
                    <a:lnTo>
                      <a:pt x="589" y="831"/>
                    </a:lnTo>
                    <a:lnTo>
                      <a:pt x="605" y="820"/>
                    </a:lnTo>
                    <a:lnTo>
                      <a:pt x="620" y="808"/>
                    </a:lnTo>
                    <a:lnTo>
                      <a:pt x="634" y="794"/>
                    </a:lnTo>
                    <a:lnTo>
                      <a:pt x="649" y="780"/>
                    </a:lnTo>
                    <a:lnTo>
                      <a:pt x="662" y="765"/>
                    </a:lnTo>
                    <a:lnTo>
                      <a:pt x="674" y="750"/>
                    </a:lnTo>
                    <a:lnTo>
                      <a:pt x="686" y="733"/>
                    </a:lnTo>
                    <a:lnTo>
                      <a:pt x="697" y="716"/>
                    </a:lnTo>
                    <a:lnTo>
                      <a:pt x="708" y="699"/>
                    </a:lnTo>
                    <a:lnTo>
                      <a:pt x="718" y="681"/>
                    </a:lnTo>
                    <a:lnTo>
                      <a:pt x="726" y="662"/>
                    </a:lnTo>
                    <a:lnTo>
                      <a:pt x="735" y="643"/>
                    </a:lnTo>
                    <a:lnTo>
                      <a:pt x="743" y="623"/>
                    </a:lnTo>
                    <a:lnTo>
                      <a:pt x="749" y="602"/>
                    </a:lnTo>
                    <a:lnTo>
                      <a:pt x="755" y="582"/>
                    </a:lnTo>
                    <a:lnTo>
                      <a:pt x="760" y="561"/>
                    </a:lnTo>
                    <a:lnTo>
                      <a:pt x="765" y="539"/>
                    </a:lnTo>
                    <a:lnTo>
                      <a:pt x="768" y="518"/>
                    </a:lnTo>
                    <a:lnTo>
                      <a:pt x="770" y="495"/>
                    </a:lnTo>
                    <a:lnTo>
                      <a:pt x="771" y="473"/>
                    </a:lnTo>
                    <a:lnTo>
                      <a:pt x="771" y="450"/>
                    </a:lnTo>
                    <a:lnTo>
                      <a:pt x="771" y="428"/>
                    </a:lnTo>
                    <a:lnTo>
                      <a:pt x="770" y="404"/>
                    </a:lnTo>
                    <a:lnTo>
                      <a:pt x="768" y="382"/>
                    </a:lnTo>
                    <a:lnTo>
                      <a:pt x="765" y="360"/>
                    </a:lnTo>
                    <a:lnTo>
                      <a:pt x="760" y="339"/>
                    </a:lnTo>
                    <a:lnTo>
                      <a:pt x="755" y="317"/>
                    </a:lnTo>
                    <a:lnTo>
                      <a:pt x="749" y="296"/>
                    </a:lnTo>
                    <a:lnTo>
                      <a:pt x="743" y="276"/>
                    </a:lnTo>
                    <a:lnTo>
                      <a:pt x="735" y="256"/>
                    </a:lnTo>
                    <a:lnTo>
                      <a:pt x="726" y="236"/>
                    </a:lnTo>
                    <a:lnTo>
                      <a:pt x="718" y="218"/>
                    </a:lnTo>
                    <a:lnTo>
                      <a:pt x="708" y="199"/>
                    </a:lnTo>
                    <a:lnTo>
                      <a:pt x="697" y="182"/>
                    </a:lnTo>
                    <a:lnTo>
                      <a:pt x="686" y="165"/>
                    </a:lnTo>
                    <a:lnTo>
                      <a:pt x="674" y="148"/>
                    </a:lnTo>
                    <a:lnTo>
                      <a:pt x="662" y="132"/>
                    </a:lnTo>
                    <a:lnTo>
                      <a:pt x="649" y="117"/>
                    </a:lnTo>
                    <a:lnTo>
                      <a:pt x="634" y="103"/>
                    </a:lnTo>
                    <a:lnTo>
                      <a:pt x="620" y="90"/>
                    </a:lnTo>
                    <a:lnTo>
                      <a:pt x="605" y="77"/>
                    </a:lnTo>
                    <a:lnTo>
                      <a:pt x="589" y="65"/>
                    </a:lnTo>
                    <a:lnTo>
                      <a:pt x="573" y="55"/>
                    </a:lnTo>
                    <a:lnTo>
                      <a:pt x="556" y="44"/>
                    </a:lnTo>
                    <a:lnTo>
                      <a:pt x="539" y="36"/>
                    </a:lnTo>
                    <a:lnTo>
                      <a:pt x="521" y="27"/>
                    </a:lnTo>
                    <a:lnTo>
                      <a:pt x="504" y="20"/>
                    </a:lnTo>
                    <a:lnTo>
                      <a:pt x="485" y="13"/>
                    </a:lnTo>
                    <a:lnTo>
                      <a:pt x="465" y="9"/>
                    </a:lnTo>
                    <a:lnTo>
                      <a:pt x="447" y="5"/>
                    </a:lnTo>
                    <a:lnTo>
                      <a:pt x="427" y="2"/>
                    </a:lnTo>
                    <a:lnTo>
                      <a:pt x="406" y="0"/>
                    </a:lnTo>
                    <a:lnTo>
                      <a:pt x="386" y="0"/>
                    </a:lnTo>
                    <a:lnTo>
                      <a:pt x="367" y="0"/>
                    </a:lnTo>
                    <a:lnTo>
                      <a:pt x="347" y="2"/>
                    </a:lnTo>
                    <a:lnTo>
                      <a:pt x="327" y="5"/>
                    </a:lnTo>
                    <a:lnTo>
                      <a:pt x="309" y="9"/>
                    </a:lnTo>
                    <a:lnTo>
                      <a:pt x="289" y="13"/>
                    </a:lnTo>
                    <a:lnTo>
                      <a:pt x="271" y="20"/>
                    </a:lnTo>
                    <a:lnTo>
                      <a:pt x="253" y="27"/>
                    </a:lnTo>
                    <a:lnTo>
                      <a:pt x="235" y="36"/>
                    </a:lnTo>
                    <a:lnTo>
                      <a:pt x="219" y="44"/>
                    </a:lnTo>
                    <a:lnTo>
                      <a:pt x="201" y="55"/>
                    </a:lnTo>
                    <a:lnTo>
                      <a:pt x="186" y="65"/>
                    </a:lnTo>
                    <a:lnTo>
                      <a:pt x="170" y="77"/>
                    </a:lnTo>
                    <a:lnTo>
                      <a:pt x="155" y="90"/>
                    </a:lnTo>
                    <a:lnTo>
                      <a:pt x="140" y="103"/>
                    </a:lnTo>
                    <a:lnTo>
                      <a:pt x="127" y="117"/>
                    </a:lnTo>
                    <a:lnTo>
                      <a:pt x="113" y="132"/>
                    </a:lnTo>
                    <a:lnTo>
                      <a:pt x="100" y="148"/>
                    </a:lnTo>
                    <a:lnTo>
                      <a:pt x="88" y="165"/>
                    </a:lnTo>
                    <a:lnTo>
                      <a:pt x="77" y="182"/>
                    </a:lnTo>
                    <a:lnTo>
                      <a:pt x="66" y="199"/>
                    </a:lnTo>
                    <a:lnTo>
                      <a:pt x="56" y="218"/>
                    </a:lnTo>
                    <a:lnTo>
                      <a:pt x="47" y="236"/>
                    </a:lnTo>
                    <a:lnTo>
                      <a:pt x="39" y="256"/>
                    </a:lnTo>
                    <a:lnTo>
                      <a:pt x="31" y="276"/>
                    </a:lnTo>
                    <a:lnTo>
                      <a:pt x="23" y="296"/>
                    </a:lnTo>
                    <a:lnTo>
                      <a:pt x="18" y="317"/>
                    </a:lnTo>
                    <a:lnTo>
                      <a:pt x="13" y="339"/>
                    </a:lnTo>
                    <a:lnTo>
                      <a:pt x="8" y="360"/>
                    </a:lnTo>
                    <a:lnTo>
                      <a:pt x="5" y="382"/>
                    </a:lnTo>
                    <a:lnTo>
                      <a:pt x="3" y="404"/>
                    </a:lnTo>
                    <a:lnTo>
                      <a:pt x="2" y="428"/>
                    </a:lnTo>
                    <a:lnTo>
                      <a:pt x="0" y="450"/>
                    </a:lnTo>
                    <a:lnTo>
                      <a:pt x="2" y="473"/>
                    </a:lnTo>
                    <a:lnTo>
                      <a:pt x="3" y="495"/>
                    </a:lnTo>
                    <a:lnTo>
                      <a:pt x="5" y="518"/>
                    </a:lnTo>
                    <a:lnTo>
                      <a:pt x="8" y="539"/>
                    </a:lnTo>
                    <a:lnTo>
                      <a:pt x="13" y="561"/>
                    </a:lnTo>
                    <a:lnTo>
                      <a:pt x="18" y="582"/>
                    </a:lnTo>
                    <a:lnTo>
                      <a:pt x="23" y="602"/>
                    </a:lnTo>
                    <a:lnTo>
                      <a:pt x="31" y="623"/>
                    </a:lnTo>
                    <a:lnTo>
                      <a:pt x="39" y="643"/>
                    </a:lnTo>
                    <a:lnTo>
                      <a:pt x="47" y="662"/>
                    </a:lnTo>
                    <a:lnTo>
                      <a:pt x="56" y="681"/>
                    </a:lnTo>
                    <a:lnTo>
                      <a:pt x="66" y="699"/>
                    </a:lnTo>
                    <a:lnTo>
                      <a:pt x="77" y="716"/>
                    </a:lnTo>
                    <a:lnTo>
                      <a:pt x="88" y="733"/>
                    </a:lnTo>
                    <a:lnTo>
                      <a:pt x="100" y="750"/>
                    </a:lnTo>
                    <a:lnTo>
                      <a:pt x="113" y="765"/>
                    </a:lnTo>
                    <a:lnTo>
                      <a:pt x="127" y="780"/>
                    </a:lnTo>
                    <a:lnTo>
                      <a:pt x="140" y="794"/>
                    </a:lnTo>
                    <a:lnTo>
                      <a:pt x="155" y="808"/>
                    </a:lnTo>
                    <a:lnTo>
                      <a:pt x="170" y="820"/>
                    </a:lnTo>
                    <a:lnTo>
                      <a:pt x="186" y="831"/>
                    </a:lnTo>
                    <a:lnTo>
                      <a:pt x="201" y="843"/>
                    </a:lnTo>
                    <a:lnTo>
                      <a:pt x="219" y="853"/>
                    </a:lnTo>
                    <a:lnTo>
                      <a:pt x="235" y="862"/>
                    </a:lnTo>
                    <a:lnTo>
                      <a:pt x="253" y="869"/>
                    </a:lnTo>
                    <a:lnTo>
                      <a:pt x="271" y="877"/>
                    </a:lnTo>
                    <a:lnTo>
                      <a:pt x="289" y="883"/>
                    </a:lnTo>
                    <a:lnTo>
                      <a:pt x="309" y="889"/>
                    </a:lnTo>
                    <a:lnTo>
                      <a:pt x="327" y="892"/>
                    </a:lnTo>
                    <a:lnTo>
                      <a:pt x="347" y="895"/>
                    </a:lnTo>
                    <a:lnTo>
                      <a:pt x="367" y="897"/>
                    </a:lnTo>
                    <a:lnTo>
                      <a:pt x="386" y="897"/>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8" name=""/>
              <p:cNvSpPr/>
              <p:nvPr/>
            </p:nvSpPr>
            <p:spPr>
              <a:xfrm>
                <a:off x="2097720" y="1831320"/>
                <a:ext cx="679320" cy="1433160"/>
              </a:xfrm>
              <a:custGeom>
                <a:avLst/>
                <a:gdLst/>
                <a:ahLst/>
                <a:rect l="l" t="t" r="r" b="b"/>
                <a:pathLst>
                  <a:path w="4719" h="7104">
                    <a:moveTo>
                      <a:pt x="916" y="2258"/>
                    </a:moveTo>
                    <a:lnTo>
                      <a:pt x="903" y="2254"/>
                    </a:lnTo>
                    <a:lnTo>
                      <a:pt x="866" y="2243"/>
                    </a:lnTo>
                    <a:lnTo>
                      <a:pt x="841" y="2237"/>
                    </a:lnTo>
                    <a:lnTo>
                      <a:pt x="812" y="2230"/>
                    </a:lnTo>
                    <a:lnTo>
                      <a:pt x="779" y="2221"/>
                    </a:lnTo>
                    <a:lnTo>
                      <a:pt x="741" y="2214"/>
                    </a:lnTo>
                    <a:lnTo>
                      <a:pt x="702" y="2205"/>
                    </a:lnTo>
                    <a:lnTo>
                      <a:pt x="659" y="2199"/>
                    </a:lnTo>
                    <a:lnTo>
                      <a:pt x="615" y="2192"/>
                    </a:lnTo>
                    <a:lnTo>
                      <a:pt x="569" y="2187"/>
                    </a:lnTo>
                    <a:lnTo>
                      <a:pt x="522" y="2185"/>
                    </a:lnTo>
                    <a:lnTo>
                      <a:pt x="475" y="2183"/>
                    </a:lnTo>
                    <a:lnTo>
                      <a:pt x="427" y="2184"/>
                    </a:lnTo>
                    <a:lnTo>
                      <a:pt x="380" y="2188"/>
                    </a:lnTo>
                    <a:lnTo>
                      <a:pt x="332" y="2195"/>
                    </a:lnTo>
                    <a:lnTo>
                      <a:pt x="287" y="2204"/>
                    </a:lnTo>
                    <a:lnTo>
                      <a:pt x="244" y="2217"/>
                    </a:lnTo>
                    <a:lnTo>
                      <a:pt x="202" y="2234"/>
                    </a:lnTo>
                    <a:lnTo>
                      <a:pt x="162" y="2256"/>
                    </a:lnTo>
                    <a:lnTo>
                      <a:pt x="127" y="2281"/>
                    </a:lnTo>
                    <a:lnTo>
                      <a:pt x="94" y="2312"/>
                    </a:lnTo>
                    <a:lnTo>
                      <a:pt x="66" y="2348"/>
                    </a:lnTo>
                    <a:lnTo>
                      <a:pt x="42" y="2388"/>
                    </a:lnTo>
                    <a:lnTo>
                      <a:pt x="23" y="2436"/>
                    </a:lnTo>
                    <a:lnTo>
                      <a:pt x="10" y="2489"/>
                    </a:lnTo>
                    <a:lnTo>
                      <a:pt x="2" y="2549"/>
                    </a:lnTo>
                    <a:lnTo>
                      <a:pt x="0" y="2615"/>
                    </a:lnTo>
                    <a:lnTo>
                      <a:pt x="6" y="2688"/>
                    </a:lnTo>
                    <a:lnTo>
                      <a:pt x="19" y="2770"/>
                    </a:lnTo>
                    <a:lnTo>
                      <a:pt x="39" y="2858"/>
                    </a:lnTo>
                    <a:lnTo>
                      <a:pt x="64" y="2949"/>
                    </a:lnTo>
                    <a:lnTo>
                      <a:pt x="90" y="3036"/>
                    </a:lnTo>
                    <a:lnTo>
                      <a:pt x="119" y="3120"/>
                    </a:lnTo>
                    <a:lnTo>
                      <a:pt x="147" y="3199"/>
                    </a:lnTo>
                    <a:lnTo>
                      <a:pt x="179" y="3276"/>
                    </a:lnTo>
                    <a:lnTo>
                      <a:pt x="211" y="3350"/>
                    </a:lnTo>
                    <a:lnTo>
                      <a:pt x="245" y="3421"/>
                    </a:lnTo>
                    <a:lnTo>
                      <a:pt x="280" y="3489"/>
                    </a:lnTo>
                    <a:lnTo>
                      <a:pt x="316" y="3555"/>
                    </a:lnTo>
                    <a:lnTo>
                      <a:pt x="353" y="3619"/>
                    </a:lnTo>
                    <a:lnTo>
                      <a:pt x="391" y="3680"/>
                    </a:lnTo>
                    <a:lnTo>
                      <a:pt x="430" y="3740"/>
                    </a:lnTo>
                    <a:lnTo>
                      <a:pt x="471" y="3797"/>
                    </a:lnTo>
                    <a:lnTo>
                      <a:pt x="511" y="3853"/>
                    </a:lnTo>
                    <a:lnTo>
                      <a:pt x="553" y="3908"/>
                    </a:lnTo>
                    <a:lnTo>
                      <a:pt x="596" y="3961"/>
                    </a:lnTo>
                    <a:lnTo>
                      <a:pt x="638" y="4014"/>
                    </a:lnTo>
                    <a:lnTo>
                      <a:pt x="682" y="4065"/>
                    </a:lnTo>
                    <a:lnTo>
                      <a:pt x="726" y="4116"/>
                    </a:lnTo>
                    <a:lnTo>
                      <a:pt x="770" y="4167"/>
                    </a:lnTo>
                    <a:lnTo>
                      <a:pt x="860" y="4267"/>
                    </a:lnTo>
                    <a:lnTo>
                      <a:pt x="951" y="4367"/>
                    </a:lnTo>
                    <a:lnTo>
                      <a:pt x="1042" y="4469"/>
                    </a:lnTo>
                    <a:lnTo>
                      <a:pt x="1134" y="4575"/>
                    </a:lnTo>
                    <a:lnTo>
                      <a:pt x="1179" y="4629"/>
                    </a:lnTo>
                    <a:lnTo>
                      <a:pt x="1224" y="4684"/>
                    </a:lnTo>
                    <a:lnTo>
                      <a:pt x="1269" y="4741"/>
                    </a:lnTo>
                    <a:lnTo>
                      <a:pt x="1313" y="4799"/>
                    </a:lnTo>
                    <a:lnTo>
                      <a:pt x="1357" y="4861"/>
                    </a:lnTo>
                    <a:lnTo>
                      <a:pt x="1400" y="4927"/>
                    </a:lnTo>
                    <a:lnTo>
                      <a:pt x="1443" y="4996"/>
                    </a:lnTo>
                    <a:lnTo>
                      <a:pt x="1485" y="5069"/>
                    </a:lnTo>
                    <a:lnTo>
                      <a:pt x="1527" y="5146"/>
                    </a:lnTo>
                    <a:lnTo>
                      <a:pt x="1567" y="5224"/>
                    </a:lnTo>
                    <a:lnTo>
                      <a:pt x="1606" y="5305"/>
                    </a:lnTo>
                    <a:lnTo>
                      <a:pt x="1644" y="5387"/>
                    </a:lnTo>
                    <a:lnTo>
                      <a:pt x="1682" y="5471"/>
                    </a:lnTo>
                    <a:lnTo>
                      <a:pt x="1718" y="5556"/>
                    </a:lnTo>
                    <a:lnTo>
                      <a:pt x="1754" y="5640"/>
                    </a:lnTo>
                    <a:lnTo>
                      <a:pt x="1788" y="5726"/>
                    </a:lnTo>
                    <a:lnTo>
                      <a:pt x="1820" y="5811"/>
                    </a:lnTo>
                    <a:lnTo>
                      <a:pt x="1851" y="5896"/>
                    </a:lnTo>
                    <a:lnTo>
                      <a:pt x="1882" y="5979"/>
                    </a:lnTo>
                    <a:lnTo>
                      <a:pt x="1911" y="6061"/>
                    </a:lnTo>
                    <a:lnTo>
                      <a:pt x="1964" y="6219"/>
                    </a:lnTo>
                    <a:lnTo>
                      <a:pt x="2012" y="6366"/>
                    </a:lnTo>
                    <a:lnTo>
                      <a:pt x="2054" y="6500"/>
                    </a:lnTo>
                    <a:lnTo>
                      <a:pt x="2088" y="6615"/>
                    </a:lnTo>
                    <a:lnTo>
                      <a:pt x="2136" y="6784"/>
                    </a:lnTo>
                    <a:lnTo>
                      <a:pt x="2153" y="6846"/>
                    </a:lnTo>
                    <a:lnTo>
                      <a:pt x="2179" y="6862"/>
                    </a:lnTo>
                    <a:lnTo>
                      <a:pt x="2250" y="6904"/>
                    </a:lnTo>
                    <a:lnTo>
                      <a:pt x="2296" y="6931"/>
                    </a:lnTo>
                    <a:lnTo>
                      <a:pt x="2349" y="6960"/>
                    </a:lnTo>
                    <a:lnTo>
                      <a:pt x="2405" y="6989"/>
                    </a:lnTo>
                    <a:lnTo>
                      <a:pt x="2463" y="7018"/>
                    </a:lnTo>
                    <a:lnTo>
                      <a:pt x="2493" y="7032"/>
                    </a:lnTo>
                    <a:lnTo>
                      <a:pt x="2521" y="7046"/>
                    </a:lnTo>
                    <a:lnTo>
                      <a:pt x="2550" y="7057"/>
                    </a:lnTo>
                    <a:lnTo>
                      <a:pt x="2577" y="7069"/>
                    </a:lnTo>
                    <a:lnTo>
                      <a:pt x="2605" y="7078"/>
                    </a:lnTo>
                    <a:lnTo>
                      <a:pt x="2630" y="7087"/>
                    </a:lnTo>
                    <a:lnTo>
                      <a:pt x="2654" y="7094"/>
                    </a:lnTo>
                    <a:lnTo>
                      <a:pt x="2677" y="7100"/>
                    </a:lnTo>
                    <a:lnTo>
                      <a:pt x="2698" y="7103"/>
                    </a:lnTo>
                    <a:lnTo>
                      <a:pt x="2716" y="7104"/>
                    </a:lnTo>
                    <a:lnTo>
                      <a:pt x="2733" y="7103"/>
                    </a:lnTo>
                    <a:lnTo>
                      <a:pt x="2747" y="7100"/>
                    </a:lnTo>
                    <a:lnTo>
                      <a:pt x="2758" y="7093"/>
                    </a:lnTo>
                    <a:lnTo>
                      <a:pt x="2767" y="7085"/>
                    </a:lnTo>
                    <a:lnTo>
                      <a:pt x="2772" y="7073"/>
                    </a:lnTo>
                    <a:lnTo>
                      <a:pt x="2773" y="7058"/>
                    </a:lnTo>
                    <a:lnTo>
                      <a:pt x="2775" y="7037"/>
                    </a:lnTo>
                    <a:lnTo>
                      <a:pt x="2776" y="7008"/>
                    </a:lnTo>
                    <a:lnTo>
                      <a:pt x="2779" y="6972"/>
                    </a:lnTo>
                    <a:lnTo>
                      <a:pt x="2782" y="6929"/>
                    </a:lnTo>
                    <a:lnTo>
                      <a:pt x="2788" y="6878"/>
                    </a:lnTo>
                    <a:lnTo>
                      <a:pt x="2794" y="6822"/>
                    </a:lnTo>
                    <a:lnTo>
                      <a:pt x="2802" y="6761"/>
                    </a:lnTo>
                    <a:lnTo>
                      <a:pt x="2812" y="6693"/>
                    </a:lnTo>
                    <a:lnTo>
                      <a:pt x="2822" y="6621"/>
                    </a:lnTo>
                    <a:lnTo>
                      <a:pt x="2834" y="6544"/>
                    </a:lnTo>
                    <a:lnTo>
                      <a:pt x="2848" y="6464"/>
                    </a:lnTo>
                    <a:lnTo>
                      <a:pt x="2863" y="6379"/>
                    </a:lnTo>
                    <a:lnTo>
                      <a:pt x="2880" y="6292"/>
                    </a:lnTo>
                    <a:lnTo>
                      <a:pt x="2898" y="6202"/>
                    </a:lnTo>
                    <a:lnTo>
                      <a:pt x="2919" y="6111"/>
                    </a:lnTo>
                    <a:lnTo>
                      <a:pt x="2941" y="6017"/>
                    </a:lnTo>
                    <a:lnTo>
                      <a:pt x="2965" y="5922"/>
                    </a:lnTo>
                    <a:lnTo>
                      <a:pt x="2991" y="5826"/>
                    </a:lnTo>
                    <a:lnTo>
                      <a:pt x="3019" y="5731"/>
                    </a:lnTo>
                    <a:lnTo>
                      <a:pt x="3049" y="5634"/>
                    </a:lnTo>
                    <a:lnTo>
                      <a:pt x="3080" y="5540"/>
                    </a:lnTo>
                    <a:lnTo>
                      <a:pt x="3114" y="5446"/>
                    </a:lnTo>
                    <a:lnTo>
                      <a:pt x="3150" y="5352"/>
                    </a:lnTo>
                    <a:lnTo>
                      <a:pt x="3188" y="5261"/>
                    </a:lnTo>
                    <a:lnTo>
                      <a:pt x="3228" y="5173"/>
                    </a:lnTo>
                    <a:lnTo>
                      <a:pt x="3271" y="5087"/>
                    </a:lnTo>
                    <a:lnTo>
                      <a:pt x="3316" y="5005"/>
                    </a:lnTo>
                    <a:lnTo>
                      <a:pt x="3363" y="4926"/>
                    </a:lnTo>
                    <a:lnTo>
                      <a:pt x="3413" y="4852"/>
                    </a:lnTo>
                    <a:lnTo>
                      <a:pt x="3465" y="4782"/>
                    </a:lnTo>
                    <a:lnTo>
                      <a:pt x="3520" y="4718"/>
                    </a:lnTo>
                    <a:lnTo>
                      <a:pt x="3577" y="4658"/>
                    </a:lnTo>
                    <a:lnTo>
                      <a:pt x="3635" y="4600"/>
                    </a:lnTo>
                    <a:lnTo>
                      <a:pt x="3693" y="4540"/>
                    </a:lnTo>
                    <a:lnTo>
                      <a:pt x="3752" y="4476"/>
                    </a:lnTo>
                    <a:lnTo>
                      <a:pt x="3809" y="4409"/>
                    </a:lnTo>
                    <a:lnTo>
                      <a:pt x="3866" y="4340"/>
                    </a:lnTo>
                    <a:lnTo>
                      <a:pt x="3922" y="4270"/>
                    </a:lnTo>
                    <a:lnTo>
                      <a:pt x="3976" y="4197"/>
                    </a:lnTo>
                    <a:lnTo>
                      <a:pt x="4031" y="4124"/>
                    </a:lnTo>
                    <a:lnTo>
                      <a:pt x="4085" y="4049"/>
                    </a:lnTo>
                    <a:lnTo>
                      <a:pt x="4136" y="3973"/>
                    </a:lnTo>
                    <a:lnTo>
                      <a:pt x="4188" y="3895"/>
                    </a:lnTo>
                    <a:lnTo>
                      <a:pt x="4237" y="3818"/>
                    </a:lnTo>
                    <a:lnTo>
                      <a:pt x="4284" y="3740"/>
                    </a:lnTo>
                    <a:lnTo>
                      <a:pt x="4331" y="3662"/>
                    </a:lnTo>
                    <a:lnTo>
                      <a:pt x="4374" y="3584"/>
                    </a:lnTo>
                    <a:lnTo>
                      <a:pt x="4416" y="3506"/>
                    </a:lnTo>
                    <a:lnTo>
                      <a:pt x="4457" y="3430"/>
                    </a:lnTo>
                    <a:lnTo>
                      <a:pt x="4494" y="3355"/>
                    </a:lnTo>
                    <a:lnTo>
                      <a:pt x="4529" y="3281"/>
                    </a:lnTo>
                    <a:lnTo>
                      <a:pt x="4562" y="3208"/>
                    </a:lnTo>
                    <a:lnTo>
                      <a:pt x="4592" y="3137"/>
                    </a:lnTo>
                    <a:lnTo>
                      <a:pt x="4619" y="3068"/>
                    </a:lnTo>
                    <a:lnTo>
                      <a:pt x="4643" y="3001"/>
                    </a:lnTo>
                    <a:lnTo>
                      <a:pt x="4664" y="2936"/>
                    </a:lnTo>
                    <a:lnTo>
                      <a:pt x="4683" y="2875"/>
                    </a:lnTo>
                    <a:lnTo>
                      <a:pt x="4697" y="2816"/>
                    </a:lnTo>
                    <a:lnTo>
                      <a:pt x="4708" y="2760"/>
                    </a:lnTo>
                    <a:lnTo>
                      <a:pt x="4714" y="2709"/>
                    </a:lnTo>
                    <a:lnTo>
                      <a:pt x="4719" y="2660"/>
                    </a:lnTo>
                    <a:lnTo>
                      <a:pt x="4718" y="2616"/>
                    </a:lnTo>
                    <a:lnTo>
                      <a:pt x="4713" y="2576"/>
                    </a:lnTo>
                    <a:lnTo>
                      <a:pt x="4706" y="2541"/>
                    </a:lnTo>
                    <a:lnTo>
                      <a:pt x="4695" y="2507"/>
                    </a:lnTo>
                    <a:lnTo>
                      <a:pt x="4681" y="2473"/>
                    </a:lnTo>
                    <a:lnTo>
                      <a:pt x="4667" y="2439"/>
                    </a:lnTo>
                    <a:lnTo>
                      <a:pt x="4652" y="2405"/>
                    </a:lnTo>
                    <a:lnTo>
                      <a:pt x="4634" y="2370"/>
                    </a:lnTo>
                    <a:lnTo>
                      <a:pt x="4616" y="2337"/>
                    </a:lnTo>
                    <a:lnTo>
                      <a:pt x="4596" y="2303"/>
                    </a:lnTo>
                    <a:lnTo>
                      <a:pt x="4575" y="2269"/>
                    </a:lnTo>
                    <a:lnTo>
                      <a:pt x="4553" y="2235"/>
                    </a:lnTo>
                    <a:lnTo>
                      <a:pt x="4530" y="2202"/>
                    </a:lnTo>
                    <a:lnTo>
                      <a:pt x="4506" y="2170"/>
                    </a:lnTo>
                    <a:lnTo>
                      <a:pt x="4481" y="2139"/>
                    </a:lnTo>
                    <a:lnTo>
                      <a:pt x="4456" y="2109"/>
                    </a:lnTo>
                    <a:lnTo>
                      <a:pt x="4428" y="2080"/>
                    </a:lnTo>
                    <a:lnTo>
                      <a:pt x="4402" y="2053"/>
                    </a:lnTo>
                    <a:lnTo>
                      <a:pt x="4373" y="2026"/>
                    </a:lnTo>
                    <a:lnTo>
                      <a:pt x="4345" y="2002"/>
                    </a:lnTo>
                    <a:lnTo>
                      <a:pt x="4316" y="1978"/>
                    </a:lnTo>
                    <a:lnTo>
                      <a:pt x="4287" y="1957"/>
                    </a:lnTo>
                    <a:lnTo>
                      <a:pt x="4257" y="1938"/>
                    </a:lnTo>
                    <a:lnTo>
                      <a:pt x="4227" y="1920"/>
                    </a:lnTo>
                    <a:lnTo>
                      <a:pt x="4198" y="1905"/>
                    </a:lnTo>
                    <a:lnTo>
                      <a:pt x="4167" y="1893"/>
                    </a:lnTo>
                    <a:lnTo>
                      <a:pt x="4136" y="1882"/>
                    </a:lnTo>
                    <a:lnTo>
                      <a:pt x="4107" y="1875"/>
                    </a:lnTo>
                    <a:lnTo>
                      <a:pt x="4076" y="1870"/>
                    </a:lnTo>
                    <a:lnTo>
                      <a:pt x="4047" y="1868"/>
                    </a:lnTo>
                    <a:lnTo>
                      <a:pt x="4017" y="1869"/>
                    </a:lnTo>
                    <a:lnTo>
                      <a:pt x="3987" y="1872"/>
                    </a:lnTo>
                    <a:lnTo>
                      <a:pt x="3959" y="1880"/>
                    </a:lnTo>
                    <a:lnTo>
                      <a:pt x="3930" y="1892"/>
                    </a:lnTo>
                    <a:lnTo>
                      <a:pt x="3902" y="1905"/>
                    </a:lnTo>
                    <a:lnTo>
                      <a:pt x="3878" y="1916"/>
                    </a:lnTo>
                    <a:lnTo>
                      <a:pt x="3858" y="1913"/>
                    </a:lnTo>
                    <a:lnTo>
                      <a:pt x="3844" y="1898"/>
                    </a:lnTo>
                    <a:lnTo>
                      <a:pt x="3833" y="1872"/>
                    </a:lnTo>
                    <a:lnTo>
                      <a:pt x="3826" y="1837"/>
                    </a:lnTo>
                    <a:lnTo>
                      <a:pt x="3822" y="1792"/>
                    </a:lnTo>
                    <a:lnTo>
                      <a:pt x="3818" y="1739"/>
                    </a:lnTo>
                    <a:lnTo>
                      <a:pt x="3818" y="1677"/>
                    </a:lnTo>
                    <a:lnTo>
                      <a:pt x="3817" y="1534"/>
                    </a:lnTo>
                    <a:lnTo>
                      <a:pt x="3814" y="1371"/>
                    </a:lnTo>
                    <a:lnTo>
                      <a:pt x="3810" y="1283"/>
                    </a:lnTo>
                    <a:lnTo>
                      <a:pt x="3803" y="1192"/>
                    </a:lnTo>
                    <a:lnTo>
                      <a:pt x="3792" y="1100"/>
                    </a:lnTo>
                    <a:lnTo>
                      <a:pt x="3779" y="1006"/>
                    </a:lnTo>
                    <a:lnTo>
                      <a:pt x="3760" y="911"/>
                    </a:lnTo>
                    <a:lnTo>
                      <a:pt x="3736" y="817"/>
                    </a:lnTo>
                    <a:lnTo>
                      <a:pt x="3707" y="725"/>
                    </a:lnTo>
                    <a:lnTo>
                      <a:pt x="3669" y="634"/>
                    </a:lnTo>
                    <a:lnTo>
                      <a:pt x="3625" y="546"/>
                    </a:lnTo>
                    <a:lnTo>
                      <a:pt x="3574" y="462"/>
                    </a:lnTo>
                    <a:lnTo>
                      <a:pt x="3514" y="382"/>
                    </a:lnTo>
                    <a:lnTo>
                      <a:pt x="3445" y="307"/>
                    </a:lnTo>
                    <a:lnTo>
                      <a:pt x="3366" y="240"/>
                    </a:lnTo>
                    <a:lnTo>
                      <a:pt x="3276" y="178"/>
                    </a:lnTo>
                    <a:lnTo>
                      <a:pt x="3175" y="124"/>
                    </a:lnTo>
                    <a:lnTo>
                      <a:pt x="3062" y="79"/>
                    </a:lnTo>
                    <a:lnTo>
                      <a:pt x="2936" y="42"/>
                    </a:lnTo>
                    <a:lnTo>
                      <a:pt x="2798" y="17"/>
                    </a:lnTo>
                    <a:lnTo>
                      <a:pt x="2645" y="2"/>
                    </a:lnTo>
                    <a:lnTo>
                      <a:pt x="2477" y="0"/>
                    </a:lnTo>
                    <a:lnTo>
                      <a:pt x="2308" y="5"/>
                    </a:lnTo>
                    <a:lnTo>
                      <a:pt x="2151" y="14"/>
                    </a:lnTo>
                    <a:lnTo>
                      <a:pt x="2004" y="27"/>
                    </a:lnTo>
                    <a:lnTo>
                      <a:pt x="1867" y="44"/>
                    </a:lnTo>
                    <a:lnTo>
                      <a:pt x="1738" y="64"/>
                    </a:lnTo>
                    <a:lnTo>
                      <a:pt x="1621" y="88"/>
                    </a:lnTo>
                    <a:lnTo>
                      <a:pt x="1512" y="117"/>
                    </a:lnTo>
                    <a:lnTo>
                      <a:pt x="1413" y="150"/>
                    </a:lnTo>
                    <a:lnTo>
                      <a:pt x="1322" y="186"/>
                    </a:lnTo>
                    <a:lnTo>
                      <a:pt x="1239" y="227"/>
                    </a:lnTo>
                    <a:lnTo>
                      <a:pt x="1165" y="271"/>
                    </a:lnTo>
                    <a:lnTo>
                      <a:pt x="1098" y="320"/>
                    </a:lnTo>
                    <a:lnTo>
                      <a:pt x="1039" y="374"/>
                    </a:lnTo>
                    <a:lnTo>
                      <a:pt x="986" y="431"/>
                    </a:lnTo>
                    <a:lnTo>
                      <a:pt x="941" y="494"/>
                    </a:lnTo>
                    <a:lnTo>
                      <a:pt x="902" y="560"/>
                    </a:lnTo>
                    <a:lnTo>
                      <a:pt x="870" y="631"/>
                    </a:lnTo>
                    <a:lnTo>
                      <a:pt x="842" y="707"/>
                    </a:lnTo>
                    <a:lnTo>
                      <a:pt x="821" y="786"/>
                    </a:lnTo>
                    <a:lnTo>
                      <a:pt x="805" y="871"/>
                    </a:lnTo>
                    <a:lnTo>
                      <a:pt x="794" y="960"/>
                    </a:lnTo>
                    <a:lnTo>
                      <a:pt x="789" y="1053"/>
                    </a:lnTo>
                    <a:lnTo>
                      <a:pt x="786" y="1152"/>
                    </a:lnTo>
                    <a:lnTo>
                      <a:pt x="789" y="1256"/>
                    </a:lnTo>
                    <a:lnTo>
                      <a:pt x="794" y="1364"/>
                    </a:lnTo>
                    <a:lnTo>
                      <a:pt x="804" y="1476"/>
                    </a:lnTo>
                    <a:lnTo>
                      <a:pt x="816" y="1594"/>
                    </a:lnTo>
                    <a:lnTo>
                      <a:pt x="831" y="1717"/>
                    </a:lnTo>
                    <a:lnTo>
                      <a:pt x="850" y="1845"/>
                    </a:lnTo>
                    <a:lnTo>
                      <a:pt x="870" y="1977"/>
                    </a:lnTo>
                    <a:lnTo>
                      <a:pt x="892" y="2115"/>
                    </a:lnTo>
                    <a:lnTo>
                      <a:pt x="916" y="2258"/>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89" name=""/>
              <p:cNvSpPr/>
              <p:nvPr/>
            </p:nvSpPr>
            <p:spPr>
              <a:xfrm>
                <a:off x="2097720" y="1831320"/>
                <a:ext cx="679320" cy="1433160"/>
              </a:xfrm>
              <a:custGeom>
                <a:avLst/>
                <a:gdLst/>
                <a:ahLst/>
                <a:rect l="l" t="t" r="r" b="b"/>
                <a:pathLst>
                  <a:path w="4719" h="7104">
                    <a:moveTo>
                      <a:pt x="916" y="2258"/>
                    </a:moveTo>
                    <a:lnTo>
                      <a:pt x="903" y="2254"/>
                    </a:lnTo>
                    <a:lnTo>
                      <a:pt x="866" y="2243"/>
                    </a:lnTo>
                    <a:lnTo>
                      <a:pt x="841" y="2237"/>
                    </a:lnTo>
                    <a:lnTo>
                      <a:pt x="812" y="2230"/>
                    </a:lnTo>
                    <a:lnTo>
                      <a:pt x="779" y="2221"/>
                    </a:lnTo>
                    <a:lnTo>
                      <a:pt x="741" y="2214"/>
                    </a:lnTo>
                    <a:lnTo>
                      <a:pt x="702" y="2205"/>
                    </a:lnTo>
                    <a:lnTo>
                      <a:pt x="659" y="2199"/>
                    </a:lnTo>
                    <a:lnTo>
                      <a:pt x="615" y="2192"/>
                    </a:lnTo>
                    <a:lnTo>
                      <a:pt x="569" y="2187"/>
                    </a:lnTo>
                    <a:lnTo>
                      <a:pt x="522" y="2185"/>
                    </a:lnTo>
                    <a:lnTo>
                      <a:pt x="475" y="2183"/>
                    </a:lnTo>
                    <a:lnTo>
                      <a:pt x="427" y="2184"/>
                    </a:lnTo>
                    <a:lnTo>
                      <a:pt x="380" y="2188"/>
                    </a:lnTo>
                    <a:lnTo>
                      <a:pt x="332" y="2195"/>
                    </a:lnTo>
                    <a:lnTo>
                      <a:pt x="287" y="2204"/>
                    </a:lnTo>
                    <a:lnTo>
                      <a:pt x="244" y="2217"/>
                    </a:lnTo>
                    <a:lnTo>
                      <a:pt x="202" y="2234"/>
                    </a:lnTo>
                    <a:lnTo>
                      <a:pt x="162" y="2256"/>
                    </a:lnTo>
                    <a:lnTo>
                      <a:pt x="127" y="2281"/>
                    </a:lnTo>
                    <a:lnTo>
                      <a:pt x="94" y="2312"/>
                    </a:lnTo>
                    <a:lnTo>
                      <a:pt x="66" y="2348"/>
                    </a:lnTo>
                    <a:lnTo>
                      <a:pt x="42" y="2388"/>
                    </a:lnTo>
                    <a:lnTo>
                      <a:pt x="23" y="2436"/>
                    </a:lnTo>
                    <a:lnTo>
                      <a:pt x="10" y="2489"/>
                    </a:lnTo>
                    <a:lnTo>
                      <a:pt x="2" y="2549"/>
                    </a:lnTo>
                    <a:lnTo>
                      <a:pt x="0" y="2615"/>
                    </a:lnTo>
                    <a:lnTo>
                      <a:pt x="6" y="2688"/>
                    </a:lnTo>
                    <a:lnTo>
                      <a:pt x="19" y="2770"/>
                    </a:lnTo>
                    <a:lnTo>
                      <a:pt x="39" y="2858"/>
                    </a:lnTo>
                    <a:lnTo>
                      <a:pt x="64" y="2949"/>
                    </a:lnTo>
                    <a:lnTo>
                      <a:pt x="90" y="3036"/>
                    </a:lnTo>
                    <a:lnTo>
                      <a:pt x="119" y="3120"/>
                    </a:lnTo>
                    <a:lnTo>
                      <a:pt x="147" y="3199"/>
                    </a:lnTo>
                    <a:lnTo>
                      <a:pt x="179" y="3276"/>
                    </a:lnTo>
                    <a:lnTo>
                      <a:pt x="211" y="3350"/>
                    </a:lnTo>
                    <a:lnTo>
                      <a:pt x="245" y="3421"/>
                    </a:lnTo>
                    <a:lnTo>
                      <a:pt x="280" y="3489"/>
                    </a:lnTo>
                    <a:lnTo>
                      <a:pt x="316" y="3555"/>
                    </a:lnTo>
                    <a:lnTo>
                      <a:pt x="353" y="3619"/>
                    </a:lnTo>
                    <a:lnTo>
                      <a:pt x="391" y="3680"/>
                    </a:lnTo>
                    <a:lnTo>
                      <a:pt x="430" y="3740"/>
                    </a:lnTo>
                    <a:lnTo>
                      <a:pt x="471" y="3797"/>
                    </a:lnTo>
                    <a:lnTo>
                      <a:pt x="511" y="3853"/>
                    </a:lnTo>
                    <a:lnTo>
                      <a:pt x="553" y="3908"/>
                    </a:lnTo>
                    <a:lnTo>
                      <a:pt x="596" y="3961"/>
                    </a:lnTo>
                    <a:lnTo>
                      <a:pt x="638" y="4014"/>
                    </a:lnTo>
                    <a:lnTo>
                      <a:pt x="682" y="4065"/>
                    </a:lnTo>
                    <a:lnTo>
                      <a:pt x="726" y="4116"/>
                    </a:lnTo>
                    <a:lnTo>
                      <a:pt x="770" y="4167"/>
                    </a:lnTo>
                    <a:lnTo>
                      <a:pt x="860" y="4267"/>
                    </a:lnTo>
                    <a:lnTo>
                      <a:pt x="951" y="4367"/>
                    </a:lnTo>
                    <a:lnTo>
                      <a:pt x="1042" y="4469"/>
                    </a:lnTo>
                    <a:lnTo>
                      <a:pt x="1134" y="4575"/>
                    </a:lnTo>
                    <a:lnTo>
                      <a:pt x="1179" y="4629"/>
                    </a:lnTo>
                    <a:lnTo>
                      <a:pt x="1224" y="4684"/>
                    </a:lnTo>
                    <a:lnTo>
                      <a:pt x="1269" y="4741"/>
                    </a:lnTo>
                    <a:lnTo>
                      <a:pt x="1313" y="4799"/>
                    </a:lnTo>
                    <a:lnTo>
                      <a:pt x="1357" y="4861"/>
                    </a:lnTo>
                    <a:lnTo>
                      <a:pt x="1400" y="4927"/>
                    </a:lnTo>
                    <a:lnTo>
                      <a:pt x="1443" y="4996"/>
                    </a:lnTo>
                    <a:lnTo>
                      <a:pt x="1485" y="5069"/>
                    </a:lnTo>
                    <a:lnTo>
                      <a:pt x="1527" y="5146"/>
                    </a:lnTo>
                    <a:lnTo>
                      <a:pt x="1567" y="5224"/>
                    </a:lnTo>
                    <a:lnTo>
                      <a:pt x="1606" y="5305"/>
                    </a:lnTo>
                    <a:lnTo>
                      <a:pt x="1644" y="5387"/>
                    </a:lnTo>
                    <a:lnTo>
                      <a:pt x="1682" y="5471"/>
                    </a:lnTo>
                    <a:lnTo>
                      <a:pt x="1718" y="5556"/>
                    </a:lnTo>
                    <a:lnTo>
                      <a:pt x="1754" y="5640"/>
                    </a:lnTo>
                    <a:lnTo>
                      <a:pt x="1788" y="5726"/>
                    </a:lnTo>
                    <a:lnTo>
                      <a:pt x="1820" y="5811"/>
                    </a:lnTo>
                    <a:lnTo>
                      <a:pt x="1851" y="5896"/>
                    </a:lnTo>
                    <a:lnTo>
                      <a:pt x="1882" y="5979"/>
                    </a:lnTo>
                    <a:lnTo>
                      <a:pt x="1911" y="6061"/>
                    </a:lnTo>
                    <a:lnTo>
                      <a:pt x="1964" y="6219"/>
                    </a:lnTo>
                    <a:lnTo>
                      <a:pt x="2012" y="6366"/>
                    </a:lnTo>
                    <a:lnTo>
                      <a:pt x="2054" y="6500"/>
                    </a:lnTo>
                    <a:lnTo>
                      <a:pt x="2088" y="6615"/>
                    </a:lnTo>
                    <a:lnTo>
                      <a:pt x="2136" y="6784"/>
                    </a:lnTo>
                    <a:lnTo>
                      <a:pt x="2153" y="6846"/>
                    </a:lnTo>
                    <a:lnTo>
                      <a:pt x="2179" y="6862"/>
                    </a:lnTo>
                    <a:lnTo>
                      <a:pt x="2250" y="6904"/>
                    </a:lnTo>
                    <a:lnTo>
                      <a:pt x="2296" y="6931"/>
                    </a:lnTo>
                    <a:lnTo>
                      <a:pt x="2349" y="6960"/>
                    </a:lnTo>
                    <a:lnTo>
                      <a:pt x="2405" y="6989"/>
                    </a:lnTo>
                    <a:lnTo>
                      <a:pt x="2463" y="7018"/>
                    </a:lnTo>
                    <a:lnTo>
                      <a:pt x="2493" y="7032"/>
                    </a:lnTo>
                    <a:lnTo>
                      <a:pt x="2521" y="7046"/>
                    </a:lnTo>
                    <a:lnTo>
                      <a:pt x="2550" y="7057"/>
                    </a:lnTo>
                    <a:lnTo>
                      <a:pt x="2577" y="7069"/>
                    </a:lnTo>
                    <a:lnTo>
                      <a:pt x="2605" y="7078"/>
                    </a:lnTo>
                    <a:lnTo>
                      <a:pt x="2630" y="7087"/>
                    </a:lnTo>
                    <a:lnTo>
                      <a:pt x="2654" y="7094"/>
                    </a:lnTo>
                    <a:lnTo>
                      <a:pt x="2677" y="7100"/>
                    </a:lnTo>
                    <a:lnTo>
                      <a:pt x="2698" y="7103"/>
                    </a:lnTo>
                    <a:lnTo>
                      <a:pt x="2716" y="7104"/>
                    </a:lnTo>
                    <a:lnTo>
                      <a:pt x="2733" y="7103"/>
                    </a:lnTo>
                    <a:lnTo>
                      <a:pt x="2747" y="7100"/>
                    </a:lnTo>
                    <a:lnTo>
                      <a:pt x="2758" y="7093"/>
                    </a:lnTo>
                    <a:lnTo>
                      <a:pt x="2767" y="7085"/>
                    </a:lnTo>
                    <a:lnTo>
                      <a:pt x="2772" y="7073"/>
                    </a:lnTo>
                    <a:lnTo>
                      <a:pt x="2773" y="7058"/>
                    </a:lnTo>
                    <a:lnTo>
                      <a:pt x="2775" y="7037"/>
                    </a:lnTo>
                    <a:lnTo>
                      <a:pt x="2776" y="7008"/>
                    </a:lnTo>
                    <a:lnTo>
                      <a:pt x="2779" y="6972"/>
                    </a:lnTo>
                    <a:lnTo>
                      <a:pt x="2782" y="6929"/>
                    </a:lnTo>
                    <a:lnTo>
                      <a:pt x="2788" y="6878"/>
                    </a:lnTo>
                    <a:lnTo>
                      <a:pt x="2794" y="6822"/>
                    </a:lnTo>
                    <a:lnTo>
                      <a:pt x="2802" y="6761"/>
                    </a:lnTo>
                    <a:lnTo>
                      <a:pt x="2812" y="6693"/>
                    </a:lnTo>
                    <a:lnTo>
                      <a:pt x="2822" y="6621"/>
                    </a:lnTo>
                    <a:lnTo>
                      <a:pt x="2834" y="6544"/>
                    </a:lnTo>
                    <a:lnTo>
                      <a:pt x="2848" y="6464"/>
                    </a:lnTo>
                    <a:lnTo>
                      <a:pt x="2863" y="6379"/>
                    </a:lnTo>
                    <a:lnTo>
                      <a:pt x="2880" y="6292"/>
                    </a:lnTo>
                    <a:lnTo>
                      <a:pt x="2898" y="6202"/>
                    </a:lnTo>
                    <a:lnTo>
                      <a:pt x="2919" y="6111"/>
                    </a:lnTo>
                    <a:lnTo>
                      <a:pt x="2941" y="6017"/>
                    </a:lnTo>
                    <a:lnTo>
                      <a:pt x="2965" y="5922"/>
                    </a:lnTo>
                    <a:lnTo>
                      <a:pt x="2991" y="5826"/>
                    </a:lnTo>
                    <a:lnTo>
                      <a:pt x="3019" y="5731"/>
                    </a:lnTo>
                    <a:lnTo>
                      <a:pt x="3049" y="5634"/>
                    </a:lnTo>
                    <a:lnTo>
                      <a:pt x="3080" y="5540"/>
                    </a:lnTo>
                    <a:lnTo>
                      <a:pt x="3114" y="5446"/>
                    </a:lnTo>
                    <a:lnTo>
                      <a:pt x="3150" y="5352"/>
                    </a:lnTo>
                    <a:lnTo>
                      <a:pt x="3188" y="5261"/>
                    </a:lnTo>
                    <a:lnTo>
                      <a:pt x="3228" y="5173"/>
                    </a:lnTo>
                    <a:lnTo>
                      <a:pt x="3271" y="5087"/>
                    </a:lnTo>
                    <a:lnTo>
                      <a:pt x="3316" y="5005"/>
                    </a:lnTo>
                    <a:lnTo>
                      <a:pt x="3363" y="4926"/>
                    </a:lnTo>
                    <a:lnTo>
                      <a:pt x="3413" y="4852"/>
                    </a:lnTo>
                    <a:lnTo>
                      <a:pt x="3465" y="4782"/>
                    </a:lnTo>
                    <a:lnTo>
                      <a:pt x="3520" y="4718"/>
                    </a:lnTo>
                    <a:lnTo>
                      <a:pt x="3577" y="4658"/>
                    </a:lnTo>
                    <a:lnTo>
                      <a:pt x="3635" y="4600"/>
                    </a:lnTo>
                    <a:lnTo>
                      <a:pt x="3693" y="4540"/>
                    </a:lnTo>
                    <a:lnTo>
                      <a:pt x="3752" y="4476"/>
                    </a:lnTo>
                    <a:lnTo>
                      <a:pt x="3809" y="4409"/>
                    </a:lnTo>
                    <a:lnTo>
                      <a:pt x="3866" y="4340"/>
                    </a:lnTo>
                    <a:lnTo>
                      <a:pt x="3922" y="4270"/>
                    </a:lnTo>
                    <a:lnTo>
                      <a:pt x="3976" y="4197"/>
                    </a:lnTo>
                    <a:lnTo>
                      <a:pt x="4031" y="4124"/>
                    </a:lnTo>
                    <a:lnTo>
                      <a:pt x="4085" y="4049"/>
                    </a:lnTo>
                    <a:lnTo>
                      <a:pt x="4136" y="3973"/>
                    </a:lnTo>
                    <a:lnTo>
                      <a:pt x="4188" y="3895"/>
                    </a:lnTo>
                    <a:lnTo>
                      <a:pt x="4237" y="3818"/>
                    </a:lnTo>
                    <a:lnTo>
                      <a:pt x="4284" y="3740"/>
                    </a:lnTo>
                    <a:lnTo>
                      <a:pt x="4331" y="3662"/>
                    </a:lnTo>
                    <a:lnTo>
                      <a:pt x="4374" y="3584"/>
                    </a:lnTo>
                    <a:lnTo>
                      <a:pt x="4416" y="3506"/>
                    </a:lnTo>
                    <a:lnTo>
                      <a:pt x="4457" y="3430"/>
                    </a:lnTo>
                    <a:lnTo>
                      <a:pt x="4494" y="3355"/>
                    </a:lnTo>
                    <a:lnTo>
                      <a:pt x="4529" y="3281"/>
                    </a:lnTo>
                    <a:lnTo>
                      <a:pt x="4562" y="3208"/>
                    </a:lnTo>
                    <a:lnTo>
                      <a:pt x="4592" y="3137"/>
                    </a:lnTo>
                    <a:lnTo>
                      <a:pt x="4619" y="3068"/>
                    </a:lnTo>
                    <a:lnTo>
                      <a:pt x="4643" y="3001"/>
                    </a:lnTo>
                    <a:lnTo>
                      <a:pt x="4664" y="2936"/>
                    </a:lnTo>
                    <a:lnTo>
                      <a:pt x="4683" y="2875"/>
                    </a:lnTo>
                    <a:lnTo>
                      <a:pt x="4697" y="2816"/>
                    </a:lnTo>
                    <a:lnTo>
                      <a:pt x="4708" y="2760"/>
                    </a:lnTo>
                    <a:lnTo>
                      <a:pt x="4714" y="2709"/>
                    </a:lnTo>
                    <a:lnTo>
                      <a:pt x="4719" y="2660"/>
                    </a:lnTo>
                    <a:lnTo>
                      <a:pt x="4718" y="2616"/>
                    </a:lnTo>
                    <a:lnTo>
                      <a:pt x="4713" y="2576"/>
                    </a:lnTo>
                    <a:lnTo>
                      <a:pt x="4706" y="2541"/>
                    </a:lnTo>
                    <a:lnTo>
                      <a:pt x="4695" y="2507"/>
                    </a:lnTo>
                    <a:lnTo>
                      <a:pt x="4681" y="2473"/>
                    </a:lnTo>
                    <a:lnTo>
                      <a:pt x="4667" y="2439"/>
                    </a:lnTo>
                    <a:lnTo>
                      <a:pt x="4652" y="2405"/>
                    </a:lnTo>
                    <a:lnTo>
                      <a:pt x="4634" y="2370"/>
                    </a:lnTo>
                    <a:lnTo>
                      <a:pt x="4616" y="2337"/>
                    </a:lnTo>
                    <a:lnTo>
                      <a:pt x="4596" y="2303"/>
                    </a:lnTo>
                    <a:lnTo>
                      <a:pt x="4575" y="2269"/>
                    </a:lnTo>
                    <a:lnTo>
                      <a:pt x="4553" y="2235"/>
                    </a:lnTo>
                    <a:lnTo>
                      <a:pt x="4530" y="2202"/>
                    </a:lnTo>
                    <a:lnTo>
                      <a:pt x="4506" y="2170"/>
                    </a:lnTo>
                    <a:lnTo>
                      <a:pt x="4481" y="2139"/>
                    </a:lnTo>
                    <a:lnTo>
                      <a:pt x="4456" y="2109"/>
                    </a:lnTo>
                    <a:lnTo>
                      <a:pt x="4428" y="2080"/>
                    </a:lnTo>
                    <a:lnTo>
                      <a:pt x="4402" y="2053"/>
                    </a:lnTo>
                    <a:lnTo>
                      <a:pt x="4373" y="2026"/>
                    </a:lnTo>
                    <a:lnTo>
                      <a:pt x="4345" y="2002"/>
                    </a:lnTo>
                    <a:lnTo>
                      <a:pt x="4316" y="1978"/>
                    </a:lnTo>
                    <a:lnTo>
                      <a:pt x="4287" y="1957"/>
                    </a:lnTo>
                    <a:lnTo>
                      <a:pt x="4257" y="1938"/>
                    </a:lnTo>
                    <a:lnTo>
                      <a:pt x="4227" y="1920"/>
                    </a:lnTo>
                    <a:lnTo>
                      <a:pt x="4198" y="1905"/>
                    </a:lnTo>
                    <a:lnTo>
                      <a:pt x="4167" y="1893"/>
                    </a:lnTo>
                    <a:lnTo>
                      <a:pt x="4136" y="1882"/>
                    </a:lnTo>
                    <a:lnTo>
                      <a:pt x="4107" y="1875"/>
                    </a:lnTo>
                    <a:lnTo>
                      <a:pt x="4076" y="1870"/>
                    </a:lnTo>
                    <a:lnTo>
                      <a:pt x="4047" y="1868"/>
                    </a:lnTo>
                    <a:lnTo>
                      <a:pt x="4017" y="1869"/>
                    </a:lnTo>
                    <a:lnTo>
                      <a:pt x="3987" y="1872"/>
                    </a:lnTo>
                    <a:lnTo>
                      <a:pt x="3959" y="1880"/>
                    </a:lnTo>
                    <a:lnTo>
                      <a:pt x="3930" y="1892"/>
                    </a:lnTo>
                    <a:lnTo>
                      <a:pt x="3902" y="1905"/>
                    </a:lnTo>
                    <a:lnTo>
                      <a:pt x="3878" y="1916"/>
                    </a:lnTo>
                    <a:lnTo>
                      <a:pt x="3858" y="1913"/>
                    </a:lnTo>
                    <a:lnTo>
                      <a:pt x="3844" y="1898"/>
                    </a:lnTo>
                    <a:lnTo>
                      <a:pt x="3833" y="1872"/>
                    </a:lnTo>
                    <a:lnTo>
                      <a:pt x="3826" y="1837"/>
                    </a:lnTo>
                    <a:lnTo>
                      <a:pt x="3822" y="1792"/>
                    </a:lnTo>
                    <a:lnTo>
                      <a:pt x="3818" y="1739"/>
                    </a:lnTo>
                    <a:lnTo>
                      <a:pt x="3818" y="1677"/>
                    </a:lnTo>
                    <a:lnTo>
                      <a:pt x="3817" y="1534"/>
                    </a:lnTo>
                    <a:lnTo>
                      <a:pt x="3814" y="1371"/>
                    </a:lnTo>
                    <a:lnTo>
                      <a:pt x="3810" y="1283"/>
                    </a:lnTo>
                    <a:lnTo>
                      <a:pt x="3803" y="1192"/>
                    </a:lnTo>
                    <a:lnTo>
                      <a:pt x="3792" y="1100"/>
                    </a:lnTo>
                    <a:lnTo>
                      <a:pt x="3779" y="1006"/>
                    </a:lnTo>
                    <a:lnTo>
                      <a:pt x="3760" y="911"/>
                    </a:lnTo>
                    <a:lnTo>
                      <a:pt x="3736" y="817"/>
                    </a:lnTo>
                    <a:lnTo>
                      <a:pt x="3707" y="725"/>
                    </a:lnTo>
                    <a:lnTo>
                      <a:pt x="3669" y="634"/>
                    </a:lnTo>
                    <a:lnTo>
                      <a:pt x="3625" y="546"/>
                    </a:lnTo>
                    <a:lnTo>
                      <a:pt x="3574" y="462"/>
                    </a:lnTo>
                    <a:lnTo>
                      <a:pt x="3514" y="382"/>
                    </a:lnTo>
                    <a:lnTo>
                      <a:pt x="3445" y="307"/>
                    </a:lnTo>
                    <a:lnTo>
                      <a:pt x="3366" y="240"/>
                    </a:lnTo>
                    <a:lnTo>
                      <a:pt x="3276" y="178"/>
                    </a:lnTo>
                    <a:lnTo>
                      <a:pt x="3175" y="124"/>
                    </a:lnTo>
                    <a:lnTo>
                      <a:pt x="3062" y="79"/>
                    </a:lnTo>
                    <a:lnTo>
                      <a:pt x="2936" y="42"/>
                    </a:lnTo>
                    <a:lnTo>
                      <a:pt x="2798" y="17"/>
                    </a:lnTo>
                    <a:lnTo>
                      <a:pt x="2645" y="2"/>
                    </a:lnTo>
                    <a:lnTo>
                      <a:pt x="2477" y="0"/>
                    </a:lnTo>
                    <a:lnTo>
                      <a:pt x="2308" y="5"/>
                    </a:lnTo>
                    <a:lnTo>
                      <a:pt x="2151" y="14"/>
                    </a:lnTo>
                    <a:lnTo>
                      <a:pt x="2004" y="27"/>
                    </a:lnTo>
                    <a:lnTo>
                      <a:pt x="1867" y="44"/>
                    </a:lnTo>
                    <a:lnTo>
                      <a:pt x="1738" y="64"/>
                    </a:lnTo>
                    <a:lnTo>
                      <a:pt x="1621" y="88"/>
                    </a:lnTo>
                    <a:lnTo>
                      <a:pt x="1512" y="117"/>
                    </a:lnTo>
                    <a:lnTo>
                      <a:pt x="1413" y="150"/>
                    </a:lnTo>
                    <a:lnTo>
                      <a:pt x="1322" y="186"/>
                    </a:lnTo>
                    <a:lnTo>
                      <a:pt x="1239" y="227"/>
                    </a:lnTo>
                    <a:lnTo>
                      <a:pt x="1165" y="271"/>
                    </a:lnTo>
                    <a:lnTo>
                      <a:pt x="1098" y="320"/>
                    </a:lnTo>
                    <a:lnTo>
                      <a:pt x="1039" y="374"/>
                    </a:lnTo>
                    <a:lnTo>
                      <a:pt x="986" y="431"/>
                    </a:lnTo>
                    <a:lnTo>
                      <a:pt x="941" y="494"/>
                    </a:lnTo>
                    <a:lnTo>
                      <a:pt x="902" y="560"/>
                    </a:lnTo>
                    <a:lnTo>
                      <a:pt x="870" y="631"/>
                    </a:lnTo>
                    <a:lnTo>
                      <a:pt x="842" y="707"/>
                    </a:lnTo>
                    <a:lnTo>
                      <a:pt x="821" y="786"/>
                    </a:lnTo>
                    <a:lnTo>
                      <a:pt x="805" y="871"/>
                    </a:lnTo>
                    <a:lnTo>
                      <a:pt x="794" y="960"/>
                    </a:lnTo>
                    <a:lnTo>
                      <a:pt x="789" y="1053"/>
                    </a:lnTo>
                    <a:lnTo>
                      <a:pt x="786" y="1152"/>
                    </a:lnTo>
                    <a:lnTo>
                      <a:pt x="789" y="1256"/>
                    </a:lnTo>
                    <a:lnTo>
                      <a:pt x="794" y="1364"/>
                    </a:lnTo>
                    <a:lnTo>
                      <a:pt x="804" y="1476"/>
                    </a:lnTo>
                    <a:lnTo>
                      <a:pt x="816" y="1594"/>
                    </a:lnTo>
                    <a:lnTo>
                      <a:pt x="831" y="1717"/>
                    </a:lnTo>
                    <a:lnTo>
                      <a:pt x="850" y="1845"/>
                    </a:lnTo>
                    <a:lnTo>
                      <a:pt x="870" y="1977"/>
                    </a:lnTo>
                    <a:lnTo>
                      <a:pt x="892" y="2115"/>
                    </a:lnTo>
                    <a:lnTo>
                      <a:pt x="916" y="2258"/>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0" name=""/>
              <p:cNvSpPr/>
              <p:nvPr/>
            </p:nvSpPr>
            <p:spPr>
              <a:xfrm>
                <a:off x="2418120" y="2591280"/>
                <a:ext cx="1080" cy="101520"/>
              </a:xfrm>
              <a:prstGeom prst="line">
                <a:avLst/>
              </a:prstGeom>
              <a:ln w="3240">
                <a:solidFill>
                  <a:srgbClr val="000000"/>
                </a:solidFill>
                <a:miter/>
              </a:ln>
            </p:spPr>
            <p:style>
              <a:lnRef idx="0"/>
              <a:fillRef idx="0"/>
              <a:effectRef idx="0"/>
              <a:fontRef idx="minor"/>
            </p:style>
            <p:txBody>
              <a:bodyPr lIns="93240" rIns="93240" tIns="46440" bIns="46440" anchor="t">
                <a:noAutofit/>
              </a:bodyPr>
              <a:p>
                <a:endParaRPr b="0" lang="en-US" sz="2400" spc="-1" strike="noStrike">
                  <a:solidFill>
                    <a:srgbClr val="ffffff"/>
                  </a:solidFill>
                  <a:latin typeface="Times New Roman"/>
                </a:endParaRPr>
              </a:p>
            </p:txBody>
          </p:sp>
          <p:sp>
            <p:nvSpPr>
              <p:cNvPr id="391" name=""/>
              <p:cNvSpPr/>
              <p:nvPr/>
            </p:nvSpPr>
            <p:spPr>
              <a:xfrm flipH="1">
                <a:off x="2438640" y="2601000"/>
                <a:ext cx="4680" cy="107280"/>
              </a:xfrm>
              <a:prstGeom prst="line">
                <a:avLst/>
              </a:prstGeom>
              <a:ln w="3240">
                <a:solidFill>
                  <a:srgbClr val="000000"/>
                </a:solidFill>
                <a:miter/>
              </a:ln>
            </p:spPr>
            <p:style>
              <a:lnRef idx="0"/>
              <a:fillRef idx="0"/>
              <a:effectRef idx="0"/>
              <a:fontRef idx="minor"/>
            </p:style>
            <p:txBody>
              <a:bodyPr lIns="93240" rIns="93240" tIns="46440" bIns="46440" anchor="t">
                <a:noAutofit/>
              </a:bodyPr>
              <a:p>
                <a:endParaRPr b="0" lang="en-US" sz="2400" spc="-1" strike="noStrike">
                  <a:solidFill>
                    <a:srgbClr val="ffffff"/>
                  </a:solidFill>
                  <a:latin typeface="Times New Roman"/>
                </a:endParaRPr>
              </a:p>
            </p:txBody>
          </p:sp>
          <p:sp>
            <p:nvSpPr>
              <p:cNvPr id="392" name=""/>
              <p:cNvSpPr/>
              <p:nvPr/>
            </p:nvSpPr>
            <p:spPr>
              <a:xfrm>
                <a:off x="2153880" y="2332080"/>
                <a:ext cx="524880" cy="399960"/>
              </a:xfrm>
              <a:custGeom>
                <a:avLst/>
                <a:gdLst/>
                <a:ahLst/>
                <a:rect l="l" t="t" r="r" b="b"/>
                <a:pathLst>
                  <a:path w="3652" h="1978">
                    <a:moveTo>
                      <a:pt x="0" y="247"/>
                    </a:moveTo>
                    <a:lnTo>
                      <a:pt x="26" y="303"/>
                    </a:lnTo>
                    <a:lnTo>
                      <a:pt x="94" y="450"/>
                    </a:lnTo>
                    <a:lnTo>
                      <a:pt x="142" y="551"/>
                    </a:lnTo>
                    <a:lnTo>
                      <a:pt x="196" y="663"/>
                    </a:lnTo>
                    <a:lnTo>
                      <a:pt x="256" y="786"/>
                    </a:lnTo>
                    <a:lnTo>
                      <a:pt x="321" y="915"/>
                    </a:lnTo>
                    <a:lnTo>
                      <a:pt x="389" y="1048"/>
                    </a:lnTo>
                    <a:lnTo>
                      <a:pt x="458" y="1179"/>
                    </a:lnTo>
                    <a:lnTo>
                      <a:pt x="493" y="1244"/>
                    </a:lnTo>
                    <a:lnTo>
                      <a:pt x="528" y="1306"/>
                    </a:lnTo>
                    <a:lnTo>
                      <a:pt x="563" y="1368"/>
                    </a:lnTo>
                    <a:lnTo>
                      <a:pt x="597" y="1427"/>
                    </a:lnTo>
                    <a:lnTo>
                      <a:pt x="631" y="1483"/>
                    </a:lnTo>
                    <a:lnTo>
                      <a:pt x="665" y="1536"/>
                    </a:lnTo>
                    <a:lnTo>
                      <a:pt x="697" y="1586"/>
                    </a:lnTo>
                    <a:lnTo>
                      <a:pt x="728" y="1633"/>
                    </a:lnTo>
                    <a:lnTo>
                      <a:pt x="758" y="1674"/>
                    </a:lnTo>
                    <a:lnTo>
                      <a:pt x="788" y="1711"/>
                    </a:lnTo>
                    <a:lnTo>
                      <a:pt x="815" y="1743"/>
                    </a:lnTo>
                    <a:lnTo>
                      <a:pt x="840" y="1768"/>
                    </a:lnTo>
                    <a:lnTo>
                      <a:pt x="880" y="1803"/>
                    </a:lnTo>
                    <a:lnTo>
                      <a:pt x="917" y="1834"/>
                    </a:lnTo>
                    <a:lnTo>
                      <a:pt x="953" y="1861"/>
                    </a:lnTo>
                    <a:lnTo>
                      <a:pt x="989" y="1885"/>
                    </a:lnTo>
                    <a:lnTo>
                      <a:pt x="1023" y="1906"/>
                    </a:lnTo>
                    <a:lnTo>
                      <a:pt x="1057" y="1924"/>
                    </a:lnTo>
                    <a:lnTo>
                      <a:pt x="1091" y="1939"/>
                    </a:lnTo>
                    <a:lnTo>
                      <a:pt x="1124" y="1952"/>
                    </a:lnTo>
                    <a:lnTo>
                      <a:pt x="1156" y="1961"/>
                    </a:lnTo>
                    <a:lnTo>
                      <a:pt x="1188" y="1968"/>
                    </a:lnTo>
                    <a:lnTo>
                      <a:pt x="1220" y="1974"/>
                    </a:lnTo>
                    <a:lnTo>
                      <a:pt x="1252" y="1977"/>
                    </a:lnTo>
                    <a:lnTo>
                      <a:pt x="1282" y="1978"/>
                    </a:lnTo>
                    <a:lnTo>
                      <a:pt x="1314" y="1977"/>
                    </a:lnTo>
                    <a:lnTo>
                      <a:pt x="1346" y="1975"/>
                    </a:lnTo>
                    <a:lnTo>
                      <a:pt x="1378" y="1972"/>
                    </a:lnTo>
                    <a:lnTo>
                      <a:pt x="1409" y="1966"/>
                    </a:lnTo>
                    <a:lnTo>
                      <a:pt x="1441" y="1960"/>
                    </a:lnTo>
                    <a:lnTo>
                      <a:pt x="1474" y="1953"/>
                    </a:lnTo>
                    <a:lnTo>
                      <a:pt x="1507" y="1944"/>
                    </a:lnTo>
                    <a:lnTo>
                      <a:pt x="1576" y="1926"/>
                    </a:lnTo>
                    <a:lnTo>
                      <a:pt x="1649" y="1906"/>
                    </a:lnTo>
                    <a:lnTo>
                      <a:pt x="1724" y="1886"/>
                    </a:lnTo>
                    <a:lnTo>
                      <a:pt x="1805" y="1866"/>
                    </a:lnTo>
                    <a:lnTo>
                      <a:pt x="1847" y="1856"/>
                    </a:lnTo>
                    <a:lnTo>
                      <a:pt x="1891" y="1848"/>
                    </a:lnTo>
                    <a:lnTo>
                      <a:pt x="1937" y="1839"/>
                    </a:lnTo>
                    <a:lnTo>
                      <a:pt x="1984" y="1833"/>
                    </a:lnTo>
                    <a:lnTo>
                      <a:pt x="2045" y="1825"/>
                    </a:lnTo>
                    <a:lnTo>
                      <a:pt x="2100" y="1820"/>
                    </a:lnTo>
                    <a:lnTo>
                      <a:pt x="2151" y="1816"/>
                    </a:lnTo>
                    <a:lnTo>
                      <a:pt x="2196" y="1815"/>
                    </a:lnTo>
                    <a:lnTo>
                      <a:pt x="2236" y="1815"/>
                    </a:lnTo>
                    <a:lnTo>
                      <a:pt x="2272" y="1816"/>
                    </a:lnTo>
                    <a:lnTo>
                      <a:pt x="2304" y="1819"/>
                    </a:lnTo>
                    <a:lnTo>
                      <a:pt x="2333" y="1823"/>
                    </a:lnTo>
                    <a:lnTo>
                      <a:pt x="2359" y="1829"/>
                    </a:lnTo>
                    <a:lnTo>
                      <a:pt x="2382" y="1835"/>
                    </a:lnTo>
                    <a:lnTo>
                      <a:pt x="2403" y="1842"/>
                    </a:lnTo>
                    <a:lnTo>
                      <a:pt x="2422" y="1850"/>
                    </a:lnTo>
                    <a:lnTo>
                      <a:pt x="2456" y="1867"/>
                    </a:lnTo>
                    <a:lnTo>
                      <a:pt x="2487" y="1886"/>
                    </a:lnTo>
                    <a:lnTo>
                      <a:pt x="2504" y="1894"/>
                    </a:lnTo>
                    <a:lnTo>
                      <a:pt x="2519" y="1904"/>
                    </a:lnTo>
                    <a:lnTo>
                      <a:pt x="2537" y="1912"/>
                    </a:lnTo>
                    <a:lnTo>
                      <a:pt x="2555" y="1921"/>
                    </a:lnTo>
                    <a:lnTo>
                      <a:pt x="2576" y="1928"/>
                    </a:lnTo>
                    <a:lnTo>
                      <a:pt x="2599" y="1936"/>
                    </a:lnTo>
                    <a:lnTo>
                      <a:pt x="2624" y="1942"/>
                    </a:lnTo>
                    <a:lnTo>
                      <a:pt x="2652" y="1947"/>
                    </a:lnTo>
                    <a:lnTo>
                      <a:pt x="2684" y="1950"/>
                    </a:lnTo>
                    <a:lnTo>
                      <a:pt x="2719" y="1954"/>
                    </a:lnTo>
                    <a:lnTo>
                      <a:pt x="2758" y="1955"/>
                    </a:lnTo>
                    <a:lnTo>
                      <a:pt x="2802" y="1955"/>
                    </a:lnTo>
                    <a:lnTo>
                      <a:pt x="2851" y="1953"/>
                    </a:lnTo>
                    <a:lnTo>
                      <a:pt x="2906" y="1949"/>
                    </a:lnTo>
                    <a:lnTo>
                      <a:pt x="2967" y="1943"/>
                    </a:lnTo>
                    <a:lnTo>
                      <a:pt x="3032" y="1936"/>
                    </a:lnTo>
                    <a:lnTo>
                      <a:pt x="3053" y="1931"/>
                    </a:lnTo>
                    <a:lnTo>
                      <a:pt x="3074" y="1925"/>
                    </a:lnTo>
                    <a:lnTo>
                      <a:pt x="3094" y="1917"/>
                    </a:lnTo>
                    <a:lnTo>
                      <a:pt x="3115" y="1906"/>
                    </a:lnTo>
                    <a:lnTo>
                      <a:pt x="3134" y="1892"/>
                    </a:lnTo>
                    <a:lnTo>
                      <a:pt x="3154" y="1876"/>
                    </a:lnTo>
                    <a:lnTo>
                      <a:pt x="3174" y="1859"/>
                    </a:lnTo>
                    <a:lnTo>
                      <a:pt x="3192" y="1839"/>
                    </a:lnTo>
                    <a:lnTo>
                      <a:pt x="3211" y="1818"/>
                    </a:lnTo>
                    <a:lnTo>
                      <a:pt x="3229" y="1795"/>
                    </a:lnTo>
                    <a:lnTo>
                      <a:pt x="3246" y="1769"/>
                    </a:lnTo>
                    <a:lnTo>
                      <a:pt x="3263" y="1743"/>
                    </a:lnTo>
                    <a:lnTo>
                      <a:pt x="3279" y="1714"/>
                    </a:lnTo>
                    <a:lnTo>
                      <a:pt x="3294" y="1683"/>
                    </a:lnTo>
                    <a:lnTo>
                      <a:pt x="3309" y="1652"/>
                    </a:lnTo>
                    <a:lnTo>
                      <a:pt x="3323" y="1619"/>
                    </a:lnTo>
                    <a:lnTo>
                      <a:pt x="3336" y="1584"/>
                    </a:lnTo>
                    <a:lnTo>
                      <a:pt x="3348" y="1549"/>
                    </a:lnTo>
                    <a:lnTo>
                      <a:pt x="3359" y="1512"/>
                    </a:lnTo>
                    <a:lnTo>
                      <a:pt x="3369" y="1474"/>
                    </a:lnTo>
                    <a:lnTo>
                      <a:pt x="3378" y="1434"/>
                    </a:lnTo>
                    <a:lnTo>
                      <a:pt x="3385" y="1394"/>
                    </a:lnTo>
                    <a:lnTo>
                      <a:pt x="3392" y="1353"/>
                    </a:lnTo>
                    <a:lnTo>
                      <a:pt x="3399" y="1310"/>
                    </a:lnTo>
                    <a:lnTo>
                      <a:pt x="3402" y="1268"/>
                    </a:lnTo>
                    <a:lnTo>
                      <a:pt x="3405" y="1225"/>
                    </a:lnTo>
                    <a:lnTo>
                      <a:pt x="3406" y="1180"/>
                    </a:lnTo>
                    <a:lnTo>
                      <a:pt x="3407" y="1136"/>
                    </a:lnTo>
                    <a:lnTo>
                      <a:pt x="3405" y="1091"/>
                    </a:lnTo>
                    <a:lnTo>
                      <a:pt x="3403" y="1046"/>
                    </a:lnTo>
                    <a:lnTo>
                      <a:pt x="3399" y="999"/>
                    </a:lnTo>
                    <a:lnTo>
                      <a:pt x="3392" y="953"/>
                    </a:lnTo>
                    <a:lnTo>
                      <a:pt x="3387" y="908"/>
                    </a:lnTo>
                    <a:lnTo>
                      <a:pt x="3382" y="862"/>
                    </a:lnTo>
                    <a:lnTo>
                      <a:pt x="3379" y="819"/>
                    </a:lnTo>
                    <a:lnTo>
                      <a:pt x="3378" y="775"/>
                    </a:lnTo>
                    <a:lnTo>
                      <a:pt x="3378" y="733"/>
                    </a:lnTo>
                    <a:lnTo>
                      <a:pt x="3380" y="692"/>
                    </a:lnTo>
                    <a:lnTo>
                      <a:pt x="3382" y="651"/>
                    </a:lnTo>
                    <a:lnTo>
                      <a:pt x="3387" y="612"/>
                    </a:lnTo>
                    <a:lnTo>
                      <a:pt x="3392" y="574"/>
                    </a:lnTo>
                    <a:lnTo>
                      <a:pt x="3399" y="536"/>
                    </a:lnTo>
                    <a:lnTo>
                      <a:pt x="3405" y="500"/>
                    </a:lnTo>
                    <a:lnTo>
                      <a:pt x="3414" y="464"/>
                    </a:lnTo>
                    <a:lnTo>
                      <a:pt x="3423" y="430"/>
                    </a:lnTo>
                    <a:lnTo>
                      <a:pt x="3433" y="396"/>
                    </a:lnTo>
                    <a:lnTo>
                      <a:pt x="3443" y="363"/>
                    </a:lnTo>
                    <a:lnTo>
                      <a:pt x="3453" y="332"/>
                    </a:lnTo>
                    <a:lnTo>
                      <a:pt x="3466" y="303"/>
                    </a:lnTo>
                    <a:lnTo>
                      <a:pt x="3478" y="273"/>
                    </a:lnTo>
                    <a:lnTo>
                      <a:pt x="3490" y="246"/>
                    </a:lnTo>
                    <a:lnTo>
                      <a:pt x="3503" y="219"/>
                    </a:lnTo>
                    <a:lnTo>
                      <a:pt x="3516" y="194"/>
                    </a:lnTo>
                    <a:lnTo>
                      <a:pt x="3528" y="169"/>
                    </a:lnTo>
                    <a:lnTo>
                      <a:pt x="3542" y="146"/>
                    </a:lnTo>
                    <a:lnTo>
                      <a:pt x="3555" y="125"/>
                    </a:lnTo>
                    <a:lnTo>
                      <a:pt x="3581" y="86"/>
                    </a:lnTo>
                    <a:lnTo>
                      <a:pt x="3606" y="52"/>
                    </a:lnTo>
                    <a:lnTo>
                      <a:pt x="3630" y="23"/>
                    </a:lnTo>
                    <a:lnTo>
                      <a:pt x="3652" y="0"/>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3" name=""/>
              <p:cNvSpPr/>
              <p:nvPr/>
            </p:nvSpPr>
            <p:spPr>
              <a:xfrm>
                <a:off x="2130840" y="2344680"/>
                <a:ext cx="59760" cy="64080"/>
              </a:xfrm>
              <a:custGeom>
                <a:avLst/>
                <a:gdLst/>
                <a:ahLst/>
                <a:rect l="l" t="t" r="r" b="b"/>
                <a:pathLst>
                  <a:path w="423" h="317">
                    <a:moveTo>
                      <a:pt x="423" y="0"/>
                    </a:moveTo>
                    <a:lnTo>
                      <a:pt x="400" y="0"/>
                    </a:lnTo>
                    <a:lnTo>
                      <a:pt x="340" y="4"/>
                    </a:lnTo>
                    <a:lnTo>
                      <a:pt x="301" y="10"/>
                    </a:lnTo>
                    <a:lnTo>
                      <a:pt x="258" y="16"/>
                    </a:lnTo>
                    <a:lnTo>
                      <a:pt x="236" y="21"/>
                    </a:lnTo>
                    <a:lnTo>
                      <a:pt x="213" y="27"/>
                    </a:lnTo>
                    <a:lnTo>
                      <a:pt x="192" y="33"/>
                    </a:lnTo>
                    <a:lnTo>
                      <a:pt x="169" y="39"/>
                    </a:lnTo>
                    <a:lnTo>
                      <a:pt x="148" y="48"/>
                    </a:lnTo>
                    <a:lnTo>
                      <a:pt x="126" y="56"/>
                    </a:lnTo>
                    <a:lnTo>
                      <a:pt x="106" y="66"/>
                    </a:lnTo>
                    <a:lnTo>
                      <a:pt x="86" y="77"/>
                    </a:lnTo>
                    <a:lnTo>
                      <a:pt x="69" y="89"/>
                    </a:lnTo>
                    <a:lnTo>
                      <a:pt x="52" y="103"/>
                    </a:lnTo>
                    <a:lnTo>
                      <a:pt x="38" y="118"/>
                    </a:lnTo>
                    <a:lnTo>
                      <a:pt x="26" y="134"/>
                    </a:lnTo>
                    <a:lnTo>
                      <a:pt x="15" y="152"/>
                    </a:lnTo>
                    <a:lnTo>
                      <a:pt x="7" y="170"/>
                    </a:lnTo>
                    <a:lnTo>
                      <a:pt x="2" y="191"/>
                    </a:lnTo>
                    <a:lnTo>
                      <a:pt x="0" y="212"/>
                    </a:lnTo>
                    <a:lnTo>
                      <a:pt x="1" y="236"/>
                    </a:lnTo>
                    <a:lnTo>
                      <a:pt x="5" y="262"/>
                    </a:lnTo>
                    <a:lnTo>
                      <a:pt x="13" y="288"/>
                    </a:lnTo>
                    <a:lnTo>
                      <a:pt x="25" y="317"/>
                    </a:lnTo>
                  </a:path>
                </a:pathLst>
              </a:custGeom>
              <a:noFill/>
              <a:ln w="3240">
                <a:solidFill>
                  <a:srgbClr val="000000"/>
                </a:solidFill>
                <a:round/>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394" name=""/>
              <p:cNvSpPr/>
              <p:nvPr/>
            </p:nvSpPr>
            <p:spPr>
              <a:xfrm>
                <a:off x="2670120" y="2287440"/>
                <a:ext cx="59760" cy="70920"/>
              </a:xfrm>
              <a:custGeom>
                <a:avLst/>
                <a:gdLst/>
                <a:ahLst/>
                <a:rect l="l" t="t" r="r" b="b"/>
                <a:pathLst>
                  <a:path w="417" h="357">
                    <a:moveTo>
                      <a:pt x="0" y="4"/>
                    </a:moveTo>
                    <a:lnTo>
                      <a:pt x="21" y="2"/>
                    </a:lnTo>
                    <a:lnTo>
                      <a:pt x="78" y="0"/>
                    </a:lnTo>
                    <a:lnTo>
                      <a:pt x="96" y="0"/>
                    </a:lnTo>
                    <a:lnTo>
                      <a:pt x="115" y="1"/>
                    </a:lnTo>
                    <a:lnTo>
                      <a:pt x="135" y="2"/>
                    </a:lnTo>
                    <a:lnTo>
                      <a:pt x="156" y="4"/>
                    </a:lnTo>
                    <a:lnTo>
                      <a:pt x="177" y="7"/>
                    </a:lnTo>
                    <a:lnTo>
                      <a:pt x="199" y="12"/>
                    </a:lnTo>
                    <a:lnTo>
                      <a:pt x="221" y="16"/>
                    </a:lnTo>
                    <a:lnTo>
                      <a:pt x="242" y="22"/>
                    </a:lnTo>
                    <a:lnTo>
                      <a:pt x="263" y="30"/>
                    </a:lnTo>
                    <a:lnTo>
                      <a:pt x="283" y="38"/>
                    </a:lnTo>
                    <a:lnTo>
                      <a:pt x="304" y="48"/>
                    </a:lnTo>
                    <a:lnTo>
                      <a:pt x="323" y="59"/>
                    </a:lnTo>
                    <a:lnTo>
                      <a:pt x="340" y="73"/>
                    </a:lnTo>
                    <a:lnTo>
                      <a:pt x="357" y="88"/>
                    </a:lnTo>
                    <a:lnTo>
                      <a:pt x="372" y="105"/>
                    </a:lnTo>
                    <a:lnTo>
                      <a:pt x="385" y="124"/>
                    </a:lnTo>
                    <a:lnTo>
                      <a:pt x="396" y="144"/>
                    </a:lnTo>
                    <a:lnTo>
                      <a:pt x="405" y="167"/>
                    </a:lnTo>
                    <a:lnTo>
                      <a:pt x="411" y="193"/>
                    </a:lnTo>
                    <a:lnTo>
                      <a:pt x="416" y="220"/>
                    </a:lnTo>
                    <a:lnTo>
                      <a:pt x="417" y="251"/>
                    </a:lnTo>
                    <a:lnTo>
                      <a:pt x="415" y="284"/>
                    </a:lnTo>
                    <a:lnTo>
                      <a:pt x="410" y="319"/>
                    </a:lnTo>
                    <a:lnTo>
                      <a:pt x="402" y="357"/>
                    </a:lnTo>
                  </a:path>
                </a:pathLst>
              </a:custGeom>
              <a:noFill/>
              <a:ln w="3240">
                <a:solidFill>
                  <a:srgbClr val="000000"/>
                </a:solidFill>
                <a:round/>
              </a:ln>
            </p:spPr>
            <p:style>
              <a:lnRef idx="0"/>
              <a:fillRef idx="0"/>
              <a:effectRef idx="0"/>
              <a:fontRef idx="minor"/>
            </p:style>
            <p:txBody>
              <a:bodyPr wrap="none" lIns="93240" rIns="93240" tIns="24480" bIns="24480" anchor="t">
                <a:spAutoFit/>
              </a:bodyPr>
              <a:p>
                <a:endParaRPr b="0" lang="en-US" sz="2400" spc="-1" strike="noStrike">
                  <a:solidFill>
                    <a:srgbClr val="ffffff"/>
                  </a:solidFill>
                  <a:latin typeface="Times New Roman"/>
                </a:endParaRPr>
              </a:p>
            </p:txBody>
          </p:sp>
          <p:sp>
            <p:nvSpPr>
              <p:cNvPr id="395" name=""/>
              <p:cNvSpPr/>
              <p:nvPr/>
            </p:nvSpPr>
            <p:spPr>
              <a:xfrm>
                <a:off x="2299320" y="2082600"/>
                <a:ext cx="252720" cy="268920"/>
              </a:xfrm>
              <a:custGeom>
                <a:avLst/>
                <a:gdLst/>
                <a:ahLst/>
                <a:rect l="l" t="t" r="r" b="b"/>
                <a:pathLst>
                  <a:path w="1763" h="1333">
                    <a:moveTo>
                      <a:pt x="1003" y="203"/>
                    </a:moveTo>
                    <a:lnTo>
                      <a:pt x="1001" y="200"/>
                    </a:lnTo>
                    <a:lnTo>
                      <a:pt x="995" y="192"/>
                    </a:lnTo>
                    <a:lnTo>
                      <a:pt x="987" y="178"/>
                    </a:lnTo>
                    <a:lnTo>
                      <a:pt x="973" y="163"/>
                    </a:lnTo>
                    <a:lnTo>
                      <a:pt x="965" y="156"/>
                    </a:lnTo>
                    <a:lnTo>
                      <a:pt x="955" y="148"/>
                    </a:lnTo>
                    <a:lnTo>
                      <a:pt x="945" y="141"/>
                    </a:lnTo>
                    <a:lnTo>
                      <a:pt x="933" y="135"/>
                    </a:lnTo>
                    <a:lnTo>
                      <a:pt x="920" y="128"/>
                    </a:lnTo>
                    <a:lnTo>
                      <a:pt x="905" y="123"/>
                    </a:lnTo>
                    <a:lnTo>
                      <a:pt x="889" y="120"/>
                    </a:lnTo>
                    <a:lnTo>
                      <a:pt x="872" y="118"/>
                    </a:lnTo>
                    <a:lnTo>
                      <a:pt x="854" y="117"/>
                    </a:lnTo>
                    <a:lnTo>
                      <a:pt x="834" y="118"/>
                    </a:lnTo>
                    <a:lnTo>
                      <a:pt x="812" y="122"/>
                    </a:lnTo>
                    <a:lnTo>
                      <a:pt x="789" y="127"/>
                    </a:lnTo>
                    <a:lnTo>
                      <a:pt x="765" y="136"/>
                    </a:lnTo>
                    <a:lnTo>
                      <a:pt x="739" y="146"/>
                    </a:lnTo>
                    <a:lnTo>
                      <a:pt x="711" y="160"/>
                    </a:lnTo>
                    <a:lnTo>
                      <a:pt x="683" y="177"/>
                    </a:lnTo>
                    <a:lnTo>
                      <a:pt x="651" y="198"/>
                    </a:lnTo>
                    <a:lnTo>
                      <a:pt x="619" y="222"/>
                    </a:lnTo>
                    <a:lnTo>
                      <a:pt x="584" y="250"/>
                    </a:lnTo>
                    <a:lnTo>
                      <a:pt x="549" y="282"/>
                    </a:lnTo>
                    <a:lnTo>
                      <a:pt x="511" y="318"/>
                    </a:lnTo>
                    <a:lnTo>
                      <a:pt x="471" y="359"/>
                    </a:lnTo>
                    <a:lnTo>
                      <a:pt x="429" y="405"/>
                    </a:lnTo>
                    <a:lnTo>
                      <a:pt x="386" y="455"/>
                    </a:lnTo>
                    <a:lnTo>
                      <a:pt x="343" y="507"/>
                    </a:lnTo>
                    <a:lnTo>
                      <a:pt x="302" y="557"/>
                    </a:lnTo>
                    <a:lnTo>
                      <a:pt x="264" y="606"/>
                    </a:lnTo>
                    <a:lnTo>
                      <a:pt x="228" y="654"/>
                    </a:lnTo>
                    <a:lnTo>
                      <a:pt x="195" y="699"/>
                    </a:lnTo>
                    <a:lnTo>
                      <a:pt x="165" y="744"/>
                    </a:lnTo>
                    <a:lnTo>
                      <a:pt x="137" y="787"/>
                    </a:lnTo>
                    <a:lnTo>
                      <a:pt x="111" y="829"/>
                    </a:lnTo>
                    <a:lnTo>
                      <a:pt x="90" y="869"/>
                    </a:lnTo>
                    <a:lnTo>
                      <a:pt x="69" y="907"/>
                    </a:lnTo>
                    <a:lnTo>
                      <a:pt x="51" y="944"/>
                    </a:lnTo>
                    <a:lnTo>
                      <a:pt x="37" y="979"/>
                    </a:lnTo>
                    <a:lnTo>
                      <a:pt x="24" y="1013"/>
                    </a:lnTo>
                    <a:lnTo>
                      <a:pt x="14" y="1045"/>
                    </a:lnTo>
                    <a:lnTo>
                      <a:pt x="7" y="1076"/>
                    </a:lnTo>
                    <a:lnTo>
                      <a:pt x="2" y="1104"/>
                    </a:lnTo>
                    <a:lnTo>
                      <a:pt x="0" y="1132"/>
                    </a:lnTo>
                    <a:lnTo>
                      <a:pt x="1" y="1157"/>
                    </a:lnTo>
                    <a:lnTo>
                      <a:pt x="4" y="1180"/>
                    </a:lnTo>
                    <a:lnTo>
                      <a:pt x="9" y="1203"/>
                    </a:lnTo>
                    <a:lnTo>
                      <a:pt x="17" y="1224"/>
                    </a:lnTo>
                    <a:lnTo>
                      <a:pt x="28" y="1242"/>
                    </a:lnTo>
                    <a:lnTo>
                      <a:pt x="41" y="1259"/>
                    </a:lnTo>
                    <a:lnTo>
                      <a:pt x="57" y="1275"/>
                    </a:lnTo>
                    <a:lnTo>
                      <a:pt x="75" y="1289"/>
                    </a:lnTo>
                    <a:lnTo>
                      <a:pt x="96" y="1300"/>
                    </a:lnTo>
                    <a:lnTo>
                      <a:pt x="120" y="1310"/>
                    </a:lnTo>
                    <a:lnTo>
                      <a:pt x="147" y="1318"/>
                    </a:lnTo>
                    <a:lnTo>
                      <a:pt x="175" y="1325"/>
                    </a:lnTo>
                    <a:lnTo>
                      <a:pt x="206" y="1329"/>
                    </a:lnTo>
                    <a:lnTo>
                      <a:pt x="240" y="1332"/>
                    </a:lnTo>
                    <a:lnTo>
                      <a:pt x="276" y="1333"/>
                    </a:lnTo>
                    <a:lnTo>
                      <a:pt x="314" y="1332"/>
                    </a:lnTo>
                    <a:lnTo>
                      <a:pt x="350" y="1330"/>
                    </a:lnTo>
                    <a:lnTo>
                      <a:pt x="387" y="1326"/>
                    </a:lnTo>
                    <a:lnTo>
                      <a:pt x="422" y="1319"/>
                    </a:lnTo>
                    <a:lnTo>
                      <a:pt x="457" y="1312"/>
                    </a:lnTo>
                    <a:lnTo>
                      <a:pt x="491" y="1303"/>
                    </a:lnTo>
                    <a:lnTo>
                      <a:pt x="524" y="1294"/>
                    </a:lnTo>
                    <a:lnTo>
                      <a:pt x="556" y="1283"/>
                    </a:lnTo>
                    <a:lnTo>
                      <a:pt x="586" y="1272"/>
                    </a:lnTo>
                    <a:lnTo>
                      <a:pt x="616" y="1259"/>
                    </a:lnTo>
                    <a:lnTo>
                      <a:pt x="644" y="1246"/>
                    </a:lnTo>
                    <a:lnTo>
                      <a:pt x="673" y="1232"/>
                    </a:lnTo>
                    <a:lnTo>
                      <a:pt x="699" y="1219"/>
                    </a:lnTo>
                    <a:lnTo>
                      <a:pt x="726" y="1204"/>
                    </a:lnTo>
                    <a:lnTo>
                      <a:pt x="750" y="1189"/>
                    </a:lnTo>
                    <a:lnTo>
                      <a:pt x="773" y="1174"/>
                    </a:lnTo>
                    <a:lnTo>
                      <a:pt x="817" y="1144"/>
                    </a:lnTo>
                    <a:lnTo>
                      <a:pt x="855" y="1116"/>
                    </a:lnTo>
                    <a:lnTo>
                      <a:pt x="888" y="1089"/>
                    </a:lnTo>
                    <a:lnTo>
                      <a:pt x="915" y="1065"/>
                    </a:lnTo>
                    <a:lnTo>
                      <a:pt x="953" y="1029"/>
                    </a:lnTo>
                    <a:lnTo>
                      <a:pt x="966" y="1015"/>
                    </a:lnTo>
                    <a:lnTo>
                      <a:pt x="984" y="1029"/>
                    </a:lnTo>
                    <a:lnTo>
                      <a:pt x="1034" y="1065"/>
                    </a:lnTo>
                    <a:lnTo>
                      <a:pt x="1068" y="1088"/>
                    </a:lnTo>
                    <a:lnTo>
                      <a:pt x="1107" y="1114"/>
                    </a:lnTo>
                    <a:lnTo>
                      <a:pt x="1152" y="1141"/>
                    </a:lnTo>
                    <a:lnTo>
                      <a:pt x="1200" y="1170"/>
                    </a:lnTo>
                    <a:lnTo>
                      <a:pt x="1252" y="1197"/>
                    </a:lnTo>
                    <a:lnTo>
                      <a:pt x="1305" y="1224"/>
                    </a:lnTo>
                    <a:lnTo>
                      <a:pt x="1332" y="1237"/>
                    </a:lnTo>
                    <a:lnTo>
                      <a:pt x="1359" y="1248"/>
                    </a:lnTo>
                    <a:lnTo>
                      <a:pt x="1387" y="1259"/>
                    </a:lnTo>
                    <a:lnTo>
                      <a:pt x="1414" y="1268"/>
                    </a:lnTo>
                    <a:lnTo>
                      <a:pt x="1442" y="1277"/>
                    </a:lnTo>
                    <a:lnTo>
                      <a:pt x="1469" y="1284"/>
                    </a:lnTo>
                    <a:lnTo>
                      <a:pt x="1496" y="1291"/>
                    </a:lnTo>
                    <a:lnTo>
                      <a:pt x="1523" y="1296"/>
                    </a:lnTo>
                    <a:lnTo>
                      <a:pt x="1549" y="1299"/>
                    </a:lnTo>
                    <a:lnTo>
                      <a:pt x="1574" y="1300"/>
                    </a:lnTo>
                    <a:lnTo>
                      <a:pt x="1599" y="1300"/>
                    </a:lnTo>
                    <a:lnTo>
                      <a:pt x="1624" y="1298"/>
                    </a:lnTo>
                    <a:lnTo>
                      <a:pt x="1647" y="1293"/>
                    </a:lnTo>
                    <a:lnTo>
                      <a:pt x="1666" y="1284"/>
                    </a:lnTo>
                    <a:lnTo>
                      <a:pt x="1685" y="1274"/>
                    </a:lnTo>
                    <a:lnTo>
                      <a:pt x="1701" y="1260"/>
                    </a:lnTo>
                    <a:lnTo>
                      <a:pt x="1716" y="1243"/>
                    </a:lnTo>
                    <a:lnTo>
                      <a:pt x="1728" y="1224"/>
                    </a:lnTo>
                    <a:lnTo>
                      <a:pt x="1738" y="1203"/>
                    </a:lnTo>
                    <a:lnTo>
                      <a:pt x="1746" y="1179"/>
                    </a:lnTo>
                    <a:lnTo>
                      <a:pt x="1753" y="1154"/>
                    </a:lnTo>
                    <a:lnTo>
                      <a:pt x="1757" y="1127"/>
                    </a:lnTo>
                    <a:lnTo>
                      <a:pt x="1761" y="1099"/>
                    </a:lnTo>
                    <a:lnTo>
                      <a:pt x="1763" y="1068"/>
                    </a:lnTo>
                    <a:lnTo>
                      <a:pt x="1763" y="1036"/>
                    </a:lnTo>
                    <a:lnTo>
                      <a:pt x="1762" y="1004"/>
                    </a:lnTo>
                    <a:lnTo>
                      <a:pt x="1760" y="971"/>
                    </a:lnTo>
                    <a:lnTo>
                      <a:pt x="1755" y="936"/>
                    </a:lnTo>
                    <a:lnTo>
                      <a:pt x="1751" y="901"/>
                    </a:lnTo>
                    <a:lnTo>
                      <a:pt x="1745" y="866"/>
                    </a:lnTo>
                    <a:lnTo>
                      <a:pt x="1738" y="830"/>
                    </a:lnTo>
                    <a:lnTo>
                      <a:pt x="1730" y="794"/>
                    </a:lnTo>
                    <a:lnTo>
                      <a:pt x="1721" y="758"/>
                    </a:lnTo>
                    <a:lnTo>
                      <a:pt x="1711" y="723"/>
                    </a:lnTo>
                    <a:lnTo>
                      <a:pt x="1701" y="688"/>
                    </a:lnTo>
                    <a:lnTo>
                      <a:pt x="1691" y="653"/>
                    </a:lnTo>
                    <a:lnTo>
                      <a:pt x="1678" y="619"/>
                    </a:lnTo>
                    <a:lnTo>
                      <a:pt x="1666" y="586"/>
                    </a:lnTo>
                    <a:lnTo>
                      <a:pt x="1653" y="553"/>
                    </a:lnTo>
                    <a:lnTo>
                      <a:pt x="1641" y="522"/>
                    </a:lnTo>
                    <a:lnTo>
                      <a:pt x="1628" y="494"/>
                    </a:lnTo>
                    <a:lnTo>
                      <a:pt x="1614" y="465"/>
                    </a:lnTo>
                    <a:lnTo>
                      <a:pt x="1601" y="440"/>
                    </a:lnTo>
                    <a:lnTo>
                      <a:pt x="1586" y="415"/>
                    </a:lnTo>
                    <a:lnTo>
                      <a:pt x="1559" y="368"/>
                    </a:lnTo>
                    <a:lnTo>
                      <a:pt x="1530" y="317"/>
                    </a:lnTo>
                    <a:lnTo>
                      <a:pt x="1499" y="265"/>
                    </a:lnTo>
                    <a:lnTo>
                      <a:pt x="1467" y="214"/>
                    </a:lnTo>
                    <a:lnTo>
                      <a:pt x="1449" y="189"/>
                    </a:lnTo>
                    <a:lnTo>
                      <a:pt x="1433" y="164"/>
                    </a:lnTo>
                    <a:lnTo>
                      <a:pt x="1415" y="141"/>
                    </a:lnTo>
                    <a:lnTo>
                      <a:pt x="1398" y="119"/>
                    </a:lnTo>
                    <a:lnTo>
                      <a:pt x="1379" y="98"/>
                    </a:lnTo>
                    <a:lnTo>
                      <a:pt x="1360" y="78"/>
                    </a:lnTo>
                    <a:lnTo>
                      <a:pt x="1342" y="60"/>
                    </a:lnTo>
                    <a:lnTo>
                      <a:pt x="1323" y="45"/>
                    </a:lnTo>
                    <a:lnTo>
                      <a:pt x="1305" y="31"/>
                    </a:lnTo>
                    <a:lnTo>
                      <a:pt x="1285" y="19"/>
                    </a:lnTo>
                    <a:lnTo>
                      <a:pt x="1266" y="11"/>
                    </a:lnTo>
                    <a:lnTo>
                      <a:pt x="1246" y="4"/>
                    </a:lnTo>
                    <a:lnTo>
                      <a:pt x="1227" y="0"/>
                    </a:lnTo>
                    <a:lnTo>
                      <a:pt x="1207" y="0"/>
                    </a:lnTo>
                    <a:lnTo>
                      <a:pt x="1186" y="2"/>
                    </a:lnTo>
                    <a:lnTo>
                      <a:pt x="1166" y="9"/>
                    </a:lnTo>
                    <a:lnTo>
                      <a:pt x="1146" y="18"/>
                    </a:lnTo>
                    <a:lnTo>
                      <a:pt x="1126" y="32"/>
                    </a:lnTo>
                    <a:lnTo>
                      <a:pt x="1105" y="49"/>
                    </a:lnTo>
                    <a:lnTo>
                      <a:pt x="1084" y="71"/>
                    </a:lnTo>
                    <a:lnTo>
                      <a:pt x="1064" y="98"/>
                    </a:lnTo>
                    <a:lnTo>
                      <a:pt x="1044" y="128"/>
                    </a:lnTo>
                    <a:lnTo>
                      <a:pt x="1023" y="163"/>
                    </a:lnTo>
                    <a:lnTo>
                      <a:pt x="1003" y="203"/>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6" name=""/>
              <p:cNvSpPr/>
              <p:nvPr/>
            </p:nvSpPr>
            <p:spPr>
              <a:xfrm>
                <a:off x="2299320" y="2082600"/>
                <a:ext cx="252720" cy="268920"/>
              </a:xfrm>
              <a:custGeom>
                <a:avLst/>
                <a:gdLst/>
                <a:ahLst/>
                <a:rect l="l" t="t" r="r" b="b"/>
                <a:pathLst>
                  <a:path w="1763" h="1333">
                    <a:moveTo>
                      <a:pt x="1003" y="203"/>
                    </a:moveTo>
                    <a:lnTo>
                      <a:pt x="1001" y="200"/>
                    </a:lnTo>
                    <a:lnTo>
                      <a:pt x="995" y="192"/>
                    </a:lnTo>
                    <a:lnTo>
                      <a:pt x="987" y="178"/>
                    </a:lnTo>
                    <a:lnTo>
                      <a:pt x="973" y="163"/>
                    </a:lnTo>
                    <a:lnTo>
                      <a:pt x="965" y="156"/>
                    </a:lnTo>
                    <a:lnTo>
                      <a:pt x="955" y="148"/>
                    </a:lnTo>
                    <a:lnTo>
                      <a:pt x="945" y="141"/>
                    </a:lnTo>
                    <a:lnTo>
                      <a:pt x="933" y="135"/>
                    </a:lnTo>
                    <a:lnTo>
                      <a:pt x="920" y="128"/>
                    </a:lnTo>
                    <a:lnTo>
                      <a:pt x="905" y="123"/>
                    </a:lnTo>
                    <a:lnTo>
                      <a:pt x="889" y="120"/>
                    </a:lnTo>
                    <a:lnTo>
                      <a:pt x="872" y="118"/>
                    </a:lnTo>
                    <a:lnTo>
                      <a:pt x="854" y="117"/>
                    </a:lnTo>
                    <a:lnTo>
                      <a:pt x="834" y="118"/>
                    </a:lnTo>
                    <a:lnTo>
                      <a:pt x="812" y="122"/>
                    </a:lnTo>
                    <a:lnTo>
                      <a:pt x="789" y="127"/>
                    </a:lnTo>
                    <a:lnTo>
                      <a:pt x="765" y="136"/>
                    </a:lnTo>
                    <a:lnTo>
                      <a:pt x="739" y="146"/>
                    </a:lnTo>
                    <a:lnTo>
                      <a:pt x="711" y="160"/>
                    </a:lnTo>
                    <a:lnTo>
                      <a:pt x="683" y="177"/>
                    </a:lnTo>
                    <a:lnTo>
                      <a:pt x="651" y="198"/>
                    </a:lnTo>
                    <a:lnTo>
                      <a:pt x="619" y="222"/>
                    </a:lnTo>
                    <a:lnTo>
                      <a:pt x="584" y="250"/>
                    </a:lnTo>
                    <a:lnTo>
                      <a:pt x="549" y="282"/>
                    </a:lnTo>
                    <a:lnTo>
                      <a:pt x="511" y="318"/>
                    </a:lnTo>
                    <a:lnTo>
                      <a:pt x="471" y="359"/>
                    </a:lnTo>
                    <a:lnTo>
                      <a:pt x="429" y="405"/>
                    </a:lnTo>
                    <a:lnTo>
                      <a:pt x="386" y="455"/>
                    </a:lnTo>
                    <a:lnTo>
                      <a:pt x="343" y="507"/>
                    </a:lnTo>
                    <a:lnTo>
                      <a:pt x="302" y="557"/>
                    </a:lnTo>
                    <a:lnTo>
                      <a:pt x="264" y="606"/>
                    </a:lnTo>
                    <a:lnTo>
                      <a:pt x="228" y="654"/>
                    </a:lnTo>
                    <a:lnTo>
                      <a:pt x="195" y="699"/>
                    </a:lnTo>
                    <a:lnTo>
                      <a:pt x="165" y="744"/>
                    </a:lnTo>
                    <a:lnTo>
                      <a:pt x="137" y="787"/>
                    </a:lnTo>
                    <a:lnTo>
                      <a:pt x="111" y="829"/>
                    </a:lnTo>
                    <a:lnTo>
                      <a:pt x="90" y="869"/>
                    </a:lnTo>
                    <a:lnTo>
                      <a:pt x="69" y="907"/>
                    </a:lnTo>
                    <a:lnTo>
                      <a:pt x="51" y="944"/>
                    </a:lnTo>
                    <a:lnTo>
                      <a:pt x="37" y="979"/>
                    </a:lnTo>
                    <a:lnTo>
                      <a:pt x="24" y="1013"/>
                    </a:lnTo>
                    <a:lnTo>
                      <a:pt x="14" y="1045"/>
                    </a:lnTo>
                    <a:lnTo>
                      <a:pt x="7" y="1076"/>
                    </a:lnTo>
                    <a:lnTo>
                      <a:pt x="2" y="1104"/>
                    </a:lnTo>
                    <a:lnTo>
                      <a:pt x="0" y="1132"/>
                    </a:lnTo>
                    <a:lnTo>
                      <a:pt x="1" y="1157"/>
                    </a:lnTo>
                    <a:lnTo>
                      <a:pt x="4" y="1180"/>
                    </a:lnTo>
                    <a:lnTo>
                      <a:pt x="9" y="1203"/>
                    </a:lnTo>
                    <a:lnTo>
                      <a:pt x="17" y="1224"/>
                    </a:lnTo>
                    <a:lnTo>
                      <a:pt x="28" y="1242"/>
                    </a:lnTo>
                    <a:lnTo>
                      <a:pt x="41" y="1259"/>
                    </a:lnTo>
                    <a:lnTo>
                      <a:pt x="57" y="1275"/>
                    </a:lnTo>
                    <a:lnTo>
                      <a:pt x="75" y="1289"/>
                    </a:lnTo>
                    <a:lnTo>
                      <a:pt x="96" y="1300"/>
                    </a:lnTo>
                    <a:lnTo>
                      <a:pt x="120" y="1310"/>
                    </a:lnTo>
                    <a:lnTo>
                      <a:pt x="147" y="1318"/>
                    </a:lnTo>
                    <a:lnTo>
                      <a:pt x="175" y="1325"/>
                    </a:lnTo>
                    <a:lnTo>
                      <a:pt x="206" y="1329"/>
                    </a:lnTo>
                    <a:lnTo>
                      <a:pt x="240" y="1332"/>
                    </a:lnTo>
                    <a:lnTo>
                      <a:pt x="276" y="1333"/>
                    </a:lnTo>
                    <a:lnTo>
                      <a:pt x="314" y="1332"/>
                    </a:lnTo>
                    <a:lnTo>
                      <a:pt x="350" y="1330"/>
                    </a:lnTo>
                    <a:lnTo>
                      <a:pt x="387" y="1326"/>
                    </a:lnTo>
                    <a:lnTo>
                      <a:pt x="422" y="1319"/>
                    </a:lnTo>
                    <a:lnTo>
                      <a:pt x="457" y="1312"/>
                    </a:lnTo>
                    <a:lnTo>
                      <a:pt x="491" y="1303"/>
                    </a:lnTo>
                    <a:lnTo>
                      <a:pt x="524" y="1294"/>
                    </a:lnTo>
                    <a:lnTo>
                      <a:pt x="556" y="1283"/>
                    </a:lnTo>
                    <a:lnTo>
                      <a:pt x="586" y="1272"/>
                    </a:lnTo>
                    <a:lnTo>
                      <a:pt x="616" y="1259"/>
                    </a:lnTo>
                    <a:lnTo>
                      <a:pt x="644" y="1246"/>
                    </a:lnTo>
                    <a:lnTo>
                      <a:pt x="673" y="1232"/>
                    </a:lnTo>
                    <a:lnTo>
                      <a:pt x="699" y="1219"/>
                    </a:lnTo>
                    <a:lnTo>
                      <a:pt x="726" y="1204"/>
                    </a:lnTo>
                    <a:lnTo>
                      <a:pt x="750" y="1189"/>
                    </a:lnTo>
                    <a:lnTo>
                      <a:pt x="773" y="1174"/>
                    </a:lnTo>
                    <a:lnTo>
                      <a:pt x="817" y="1144"/>
                    </a:lnTo>
                    <a:lnTo>
                      <a:pt x="855" y="1116"/>
                    </a:lnTo>
                    <a:lnTo>
                      <a:pt x="888" y="1089"/>
                    </a:lnTo>
                    <a:lnTo>
                      <a:pt x="915" y="1065"/>
                    </a:lnTo>
                    <a:lnTo>
                      <a:pt x="953" y="1029"/>
                    </a:lnTo>
                    <a:lnTo>
                      <a:pt x="966" y="1015"/>
                    </a:lnTo>
                    <a:lnTo>
                      <a:pt x="984" y="1029"/>
                    </a:lnTo>
                    <a:lnTo>
                      <a:pt x="1034" y="1065"/>
                    </a:lnTo>
                    <a:lnTo>
                      <a:pt x="1068" y="1088"/>
                    </a:lnTo>
                    <a:lnTo>
                      <a:pt x="1107" y="1114"/>
                    </a:lnTo>
                    <a:lnTo>
                      <a:pt x="1152" y="1141"/>
                    </a:lnTo>
                    <a:lnTo>
                      <a:pt x="1200" y="1170"/>
                    </a:lnTo>
                    <a:lnTo>
                      <a:pt x="1252" y="1197"/>
                    </a:lnTo>
                    <a:lnTo>
                      <a:pt x="1305" y="1224"/>
                    </a:lnTo>
                    <a:lnTo>
                      <a:pt x="1332" y="1237"/>
                    </a:lnTo>
                    <a:lnTo>
                      <a:pt x="1359" y="1248"/>
                    </a:lnTo>
                    <a:lnTo>
                      <a:pt x="1387" y="1259"/>
                    </a:lnTo>
                    <a:lnTo>
                      <a:pt x="1414" y="1268"/>
                    </a:lnTo>
                    <a:lnTo>
                      <a:pt x="1442" y="1277"/>
                    </a:lnTo>
                    <a:lnTo>
                      <a:pt x="1469" y="1284"/>
                    </a:lnTo>
                    <a:lnTo>
                      <a:pt x="1496" y="1291"/>
                    </a:lnTo>
                    <a:lnTo>
                      <a:pt x="1523" y="1296"/>
                    </a:lnTo>
                    <a:lnTo>
                      <a:pt x="1549" y="1299"/>
                    </a:lnTo>
                    <a:lnTo>
                      <a:pt x="1574" y="1300"/>
                    </a:lnTo>
                    <a:lnTo>
                      <a:pt x="1599" y="1300"/>
                    </a:lnTo>
                    <a:lnTo>
                      <a:pt x="1624" y="1298"/>
                    </a:lnTo>
                    <a:lnTo>
                      <a:pt x="1647" y="1293"/>
                    </a:lnTo>
                    <a:lnTo>
                      <a:pt x="1666" y="1284"/>
                    </a:lnTo>
                    <a:lnTo>
                      <a:pt x="1685" y="1274"/>
                    </a:lnTo>
                    <a:lnTo>
                      <a:pt x="1701" y="1260"/>
                    </a:lnTo>
                    <a:lnTo>
                      <a:pt x="1716" y="1243"/>
                    </a:lnTo>
                    <a:lnTo>
                      <a:pt x="1728" y="1224"/>
                    </a:lnTo>
                    <a:lnTo>
                      <a:pt x="1738" y="1203"/>
                    </a:lnTo>
                    <a:lnTo>
                      <a:pt x="1746" y="1179"/>
                    </a:lnTo>
                    <a:lnTo>
                      <a:pt x="1753" y="1154"/>
                    </a:lnTo>
                    <a:lnTo>
                      <a:pt x="1757" y="1127"/>
                    </a:lnTo>
                    <a:lnTo>
                      <a:pt x="1761" y="1099"/>
                    </a:lnTo>
                    <a:lnTo>
                      <a:pt x="1763" y="1068"/>
                    </a:lnTo>
                    <a:lnTo>
                      <a:pt x="1763" y="1036"/>
                    </a:lnTo>
                    <a:lnTo>
                      <a:pt x="1762" y="1004"/>
                    </a:lnTo>
                    <a:lnTo>
                      <a:pt x="1760" y="971"/>
                    </a:lnTo>
                    <a:lnTo>
                      <a:pt x="1755" y="936"/>
                    </a:lnTo>
                    <a:lnTo>
                      <a:pt x="1751" y="901"/>
                    </a:lnTo>
                    <a:lnTo>
                      <a:pt x="1745" y="866"/>
                    </a:lnTo>
                    <a:lnTo>
                      <a:pt x="1738" y="830"/>
                    </a:lnTo>
                    <a:lnTo>
                      <a:pt x="1730" y="794"/>
                    </a:lnTo>
                    <a:lnTo>
                      <a:pt x="1721" y="758"/>
                    </a:lnTo>
                    <a:lnTo>
                      <a:pt x="1711" y="723"/>
                    </a:lnTo>
                    <a:lnTo>
                      <a:pt x="1701" y="688"/>
                    </a:lnTo>
                    <a:lnTo>
                      <a:pt x="1691" y="653"/>
                    </a:lnTo>
                    <a:lnTo>
                      <a:pt x="1678" y="619"/>
                    </a:lnTo>
                    <a:lnTo>
                      <a:pt x="1666" y="586"/>
                    </a:lnTo>
                    <a:lnTo>
                      <a:pt x="1653" y="553"/>
                    </a:lnTo>
                    <a:lnTo>
                      <a:pt x="1641" y="522"/>
                    </a:lnTo>
                    <a:lnTo>
                      <a:pt x="1628" y="494"/>
                    </a:lnTo>
                    <a:lnTo>
                      <a:pt x="1614" y="465"/>
                    </a:lnTo>
                    <a:lnTo>
                      <a:pt x="1601" y="440"/>
                    </a:lnTo>
                    <a:lnTo>
                      <a:pt x="1586" y="415"/>
                    </a:lnTo>
                    <a:lnTo>
                      <a:pt x="1559" y="368"/>
                    </a:lnTo>
                    <a:lnTo>
                      <a:pt x="1530" y="317"/>
                    </a:lnTo>
                    <a:lnTo>
                      <a:pt x="1499" y="265"/>
                    </a:lnTo>
                    <a:lnTo>
                      <a:pt x="1467" y="214"/>
                    </a:lnTo>
                    <a:lnTo>
                      <a:pt x="1449" y="189"/>
                    </a:lnTo>
                    <a:lnTo>
                      <a:pt x="1433" y="164"/>
                    </a:lnTo>
                    <a:lnTo>
                      <a:pt x="1415" y="141"/>
                    </a:lnTo>
                    <a:lnTo>
                      <a:pt x="1398" y="119"/>
                    </a:lnTo>
                    <a:lnTo>
                      <a:pt x="1379" y="98"/>
                    </a:lnTo>
                    <a:lnTo>
                      <a:pt x="1360" y="78"/>
                    </a:lnTo>
                    <a:lnTo>
                      <a:pt x="1342" y="60"/>
                    </a:lnTo>
                    <a:lnTo>
                      <a:pt x="1323" y="45"/>
                    </a:lnTo>
                    <a:lnTo>
                      <a:pt x="1305" y="31"/>
                    </a:lnTo>
                    <a:lnTo>
                      <a:pt x="1285" y="19"/>
                    </a:lnTo>
                    <a:lnTo>
                      <a:pt x="1266" y="11"/>
                    </a:lnTo>
                    <a:lnTo>
                      <a:pt x="1246" y="4"/>
                    </a:lnTo>
                    <a:lnTo>
                      <a:pt x="1227" y="0"/>
                    </a:lnTo>
                    <a:lnTo>
                      <a:pt x="1207" y="0"/>
                    </a:lnTo>
                    <a:lnTo>
                      <a:pt x="1186" y="2"/>
                    </a:lnTo>
                    <a:lnTo>
                      <a:pt x="1166" y="9"/>
                    </a:lnTo>
                    <a:lnTo>
                      <a:pt x="1146" y="18"/>
                    </a:lnTo>
                    <a:lnTo>
                      <a:pt x="1126" y="32"/>
                    </a:lnTo>
                    <a:lnTo>
                      <a:pt x="1105" y="49"/>
                    </a:lnTo>
                    <a:lnTo>
                      <a:pt x="1084" y="71"/>
                    </a:lnTo>
                    <a:lnTo>
                      <a:pt x="1064" y="98"/>
                    </a:lnTo>
                    <a:lnTo>
                      <a:pt x="1044" y="128"/>
                    </a:lnTo>
                    <a:lnTo>
                      <a:pt x="1023" y="163"/>
                    </a:lnTo>
                    <a:lnTo>
                      <a:pt x="1003" y="20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397" name=""/>
              <p:cNvSpPr/>
              <p:nvPr/>
            </p:nvSpPr>
            <p:spPr>
              <a:xfrm>
                <a:off x="2369880" y="2231640"/>
                <a:ext cx="25200" cy="59760"/>
              </a:xfrm>
              <a:custGeom>
                <a:avLst/>
                <a:gdLst/>
                <a:ahLst/>
                <a:rect l="l" t="t" r="r" b="b"/>
                <a:pathLst>
                  <a:path w="166" h="295">
                    <a:moveTo>
                      <a:pt x="48" y="294"/>
                    </a:moveTo>
                    <a:lnTo>
                      <a:pt x="56" y="295"/>
                    </a:lnTo>
                    <a:lnTo>
                      <a:pt x="64" y="295"/>
                    </a:lnTo>
                    <a:lnTo>
                      <a:pt x="71" y="293"/>
                    </a:lnTo>
                    <a:lnTo>
                      <a:pt x="80" y="290"/>
                    </a:lnTo>
                    <a:lnTo>
                      <a:pt x="88" y="285"/>
                    </a:lnTo>
                    <a:lnTo>
                      <a:pt x="97" y="278"/>
                    </a:lnTo>
                    <a:lnTo>
                      <a:pt x="104" y="272"/>
                    </a:lnTo>
                    <a:lnTo>
                      <a:pt x="112" y="264"/>
                    </a:lnTo>
                    <a:lnTo>
                      <a:pt x="120" y="254"/>
                    </a:lnTo>
                    <a:lnTo>
                      <a:pt x="126" y="243"/>
                    </a:lnTo>
                    <a:lnTo>
                      <a:pt x="133" y="232"/>
                    </a:lnTo>
                    <a:lnTo>
                      <a:pt x="139" y="219"/>
                    </a:lnTo>
                    <a:lnTo>
                      <a:pt x="145" y="206"/>
                    </a:lnTo>
                    <a:lnTo>
                      <a:pt x="149" y="194"/>
                    </a:lnTo>
                    <a:lnTo>
                      <a:pt x="154" y="179"/>
                    </a:lnTo>
                    <a:lnTo>
                      <a:pt x="158" y="165"/>
                    </a:lnTo>
                    <a:lnTo>
                      <a:pt x="161" y="149"/>
                    </a:lnTo>
                    <a:lnTo>
                      <a:pt x="164" y="134"/>
                    </a:lnTo>
                    <a:lnTo>
                      <a:pt x="165" y="120"/>
                    </a:lnTo>
                    <a:lnTo>
                      <a:pt x="166" y="106"/>
                    </a:lnTo>
                    <a:lnTo>
                      <a:pt x="166" y="92"/>
                    </a:lnTo>
                    <a:lnTo>
                      <a:pt x="166" y="79"/>
                    </a:lnTo>
                    <a:lnTo>
                      <a:pt x="165" y="68"/>
                    </a:lnTo>
                    <a:lnTo>
                      <a:pt x="162" y="56"/>
                    </a:lnTo>
                    <a:lnTo>
                      <a:pt x="159" y="45"/>
                    </a:lnTo>
                    <a:lnTo>
                      <a:pt x="156" y="36"/>
                    </a:lnTo>
                    <a:lnTo>
                      <a:pt x="151" y="27"/>
                    </a:lnTo>
                    <a:lnTo>
                      <a:pt x="147" y="19"/>
                    </a:lnTo>
                    <a:lnTo>
                      <a:pt x="142" y="12"/>
                    </a:lnTo>
                    <a:lnTo>
                      <a:pt x="135" y="7"/>
                    </a:lnTo>
                    <a:lnTo>
                      <a:pt x="128" y="3"/>
                    </a:lnTo>
                    <a:lnTo>
                      <a:pt x="121" y="0"/>
                    </a:lnTo>
                    <a:lnTo>
                      <a:pt x="113" y="0"/>
                    </a:lnTo>
                    <a:lnTo>
                      <a:pt x="104" y="0"/>
                    </a:lnTo>
                    <a:lnTo>
                      <a:pt x="96" y="2"/>
                    </a:lnTo>
                    <a:lnTo>
                      <a:pt x="87" y="6"/>
                    </a:lnTo>
                    <a:lnTo>
                      <a:pt x="78" y="10"/>
                    </a:lnTo>
                    <a:lnTo>
                      <a:pt x="70" y="17"/>
                    </a:lnTo>
                    <a:lnTo>
                      <a:pt x="62" y="24"/>
                    </a:lnTo>
                    <a:lnTo>
                      <a:pt x="54" y="33"/>
                    </a:lnTo>
                    <a:lnTo>
                      <a:pt x="46" y="42"/>
                    </a:lnTo>
                    <a:lnTo>
                      <a:pt x="40" y="53"/>
                    </a:lnTo>
                    <a:lnTo>
                      <a:pt x="33" y="64"/>
                    </a:lnTo>
                    <a:lnTo>
                      <a:pt x="28" y="77"/>
                    </a:lnTo>
                    <a:lnTo>
                      <a:pt x="22" y="90"/>
                    </a:lnTo>
                    <a:lnTo>
                      <a:pt x="18" y="104"/>
                    </a:lnTo>
                    <a:lnTo>
                      <a:pt x="14" y="118"/>
                    </a:lnTo>
                    <a:lnTo>
                      <a:pt x="11" y="133"/>
                    </a:lnTo>
                    <a:lnTo>
                      <a:pt x="8" y="148"/>
                    </a:lnTo>
                    <a:lnTo>
                      <a:pt x="5" y="164"/>
                    </a:lnTo>
                    <a:lnTo>
                      <a:pt x="2" y="178"/>
                    </a:lnTo>
                    <a:lnTo>
                      <a:pt x="0" y="192"/>
                    </a:lnTo>
                    <a:lnTo>
                      <a:pt x="0" y="205"/>
                    </a:lnTo>
                    <a:lnTo>
                      <a:pt x="0" y="218"/>
                    </a:lnTo>
                    <a:lnTo>
                      <a:pt x="1" y="231"/>
                    </a:lnTo>
                    <a:lnTo>
                      <a:pt x="3" y="241"/>
                    </a:lnTo>
                    <a:lnTo>
                      <a:pt x="7" y="252"/>
                    </a:lnTo>
                    <a:lnTo>
                      <a:pt x="10" y="262"/>
                    </a:lnTo>
                    <a:lnTo>
                      <a:pt x="14" y="270"/>
                    </a:lnTo>
                    <a:lnTo>
                      <a:pt x="20" y="277"/>
                    </a:lnTo>
                    <a:lnTo>
                      <a:pt x="26" y="284"/>
                    </a:lnTo>
                    <a:lnTo>
                      <a:pt x="33" y="288"/>
                    </a:lnTo>
                    <a:lnTo>
                      <a:pt x="40" y="292"/>
                    </a:lnTo>
                    <a:lnTo>
                      <a:pt x="48" y="294"/>
                    </a:lnTo>
                    <a:close/>
                  </a:path>
                </a:pathLst>
              </a:custGeom>
              <a:solidFill>
                <a:srgbClr val="000000"/>
              </a:solidFill>
              <a:ln w="0">
                <a:noFill/>
              </a:ln>
            </p:spPr>
            <p:style>
              <a:lnRef idx="0"/>
              <a:fillRef idx="0"/>
              <a:effectRef idx="0"/>
              <a:fontRef idx="minor"/>
            </p:style>
            <p:txBody>
              <a:bodyPr wrap="none" lIns="93240" rIns="93240" tIns="13320" bIns="13320" anchor="t">
                <a:spAutoFit/>
              </a:bodyPr>
              <a:p>
                <a:endParaRPr b="0" lang="en-US" sz="2400" spc="-1" strike="noStrike">
                  <a:solidFill>
                    <a:srgbClr val="ffffff"/>
                  </a:solidFill>
                  <a:latin typeface="Times New Roman"/>
                </a:endParaRPr>
              </a:p>
            </p:txBody>
          </p:sp>
          <p:sp>
            <p:nvSpPr>
              <p:cNvPr id="398" name=""/>
              <p:cNvSpPr/>
              <p:nvPr/>
            </p:nvSpPr>
            <p:spPr>
              <a:xfrm>
                <a:off x="2369880" y="2231640"/>
                <a:ext cx="25200" cy="59760"/>
              </a:xfrm>
              <a:custGeom>
                <a:avLst/>
                <a:gdLst/>
                <a:ahLst/>
                <a:rect l="l" t="t" r="r" b="b"/>
                <a:pathLst>
                  <a:path w="166" h="295">
                    <a:moveTo>
                      <a:pt x="48" y="294"/>
                    </a:moveTo>
                    <a:lnTo>
                      <a:pt x="56" y="295"/>
                    </a:lnTo>
                    <a:lnTo>
                      <a:pt x="64" y="295"/>
                    </a:lnTo>
                    <a:lnTo>
                      <a:pt x="71" y="293"/>
                    </a:lnTo>
                    <a:lnTo>
                      <a:pt x="80" y="290"/>
                    </a:lnTo>
                    <a:lnTo>
                      <a:pt x="88" y="285"/>
                    </a:lnTo>
                    <a:lnTo>
                      <a:pt x="97" y="278"/>
                    </a:lnTo>
                    <a:lnTo>
                      <a:pt x="104" y="272"/>
                    </a:lnTo>
                    <a:lnTo>
                      <a:pt x="112" y="264"/>
                    </a:lnTo>
                    <a:lnTo>
                      <a:pt x="120" y="254"/>
                    </a:lnTo>
                    <a:lnTo>
                      <a:pt x="126" y="243"/>
                    </a:lnTo>
                    <a:lnTo>
                      <a:pt x="133" y="232"/>
                    </a:lnTo>
                    <a:lnTo>
                      <a:pt x="139" y="219"/>
                    </a:lnTo>
                    <a:lnTo>
                      <a:pt x="145" y="206"/>
                    </a:lnTo>
                    <a:lnTo>
                      <a:pt x="149" y="194"/>
                    </a:lnTo>
                    <a:lnTo>
                      <a:pt x="154" y="179"/>
                    </a:lnTo>
                    <a:lnTo>
                      <a:pt x="158" y="165"/>
                    </a:lnTo>
                    <a:lnTo>
                      <a:pt x="161" y="149"/>
                    </a:lnTo>
                    <a:lnTo>
                      <a:pt x="164" y="134"/>
                    </a:lnTo>
                    <a:lnTo>
                      <a:pt x="165" y="120"/>
                    </a:lnTo>
                    <a:lnTo>
                      <a:pt x="166" y="106"/>
                    </a:lnTo>
                    <a:lnTo>
                      <a:pt x="166" y="92"/>
                    </a:lnTo>
                    <a:lnTo>
                      <a:pt x="166" y="79"/>
                    </a:lnTo>
                    <a:lnTo>
                      <a:pt x="165" y="68"/>
                    </a:lnTo>
                    <a:lnTo>
                      <a:pt x="162" y="56"/>
                    </a:lnTo>
                    <a:lnTo>
                      <a:pt x="159" y="45"/>
                    </a:lnTo>
                    <a:lnTo>
                      <a:pt x="156" y="36"/>
                    </a:lnTo>
                    <a:lnTo>
                      <a:pt x="151" y="27"/>
                    </a:lnTo>
                    <a:lnTo>
                      <a:pt x="147" y="19"/>
                    </a:lnTo>
                    <a:lnTo>
                      <a:pt x="142" y="12"/>
                    </a:lnTo>
                    <a:lnTo>
                      <a:pt x="135" y="7"/>
                    </a:lnTo>
                    <a:lnTo>
                      <a:pt x="128" y="3"/>
                    </a:lnTo>
                    <a:lnTo>
                      <a:pt x="121" y="0"/>
                    </a:lnTo>
                    <a:lnTo>
                      <a:pt x="113" y="0"/>
                    </a:lnTo>
                    <a:lnTo>
                      <a:pt x="104" y="0"/>
                    </a:lnTo>
                    <a:lnTo>
                      <a:pt x="96" y="2"/>
                    </a:lnTo>
                    <a:lnTo>
                      <a:pt x="87" y="6"/>
                    </a:lnTo>
                    <a:lnTo>
                      <a:pt x="78" y="10"/>
                    </a:lnTo>
                    <a:lnTo>
                      <a:pt x="70" y="17"/>
                    </a:lnTo>
                    <a:lnTo>
                      <a:pt x="62" y="24"/>
                    </a:lnTo>
                    <a:lnTo>
                      <a:pt x="54" y="33"/>
                    </a:lnTo>
                    <a:lnTo>
                      <a:pt x="46" y="42"/>
                    </a:lnTo>
                    <a:lnTo>
                      <a:pt x="40" y="53"/>
                    </a:lnTo>
                    <a:lnTo>
                      <a:pt x="33" y="64"/>
                    </a:lnTo>
                    <a:lnTo>
                      <a:pt x="28" y="77"/>
                    </a:lnTo>
                    <a:lnTo>
                      <a:pt x="22" y="90"/>
                    </a:lnTo>
                    <a:lnTo>
                      <a:pt x="18" y="104"/>
                    </a:lnTo>
                    <a:lnTo>
                      <a:pt x="14" y="118"/>
                    </a:lnTo>
                    <a:lnTo>
                      <a:pt x="11" y="133"/>
                    </a:lnTo>
                    <a:lnTo>
                      <a:pt x="8" y="148"/>
                    </a:lnTo>
                    <a:lnTo>
                      <a:pt x="5" y="164"/>
                    </a:lnTo>
                    <a:lnTo>
                      <a:pt x="2" y="178"/>
                    </a:lnTo>
                    <a:lnTo>
                      <a:pt x="0" y="192"/>
                    </a:lnTo>
                    <a:lnTo>
                      <a:pt x="0" y="205"/>
                    </a:lnTo>
                    <a:lnTo>
                      <a:pt x="0" y="218"/>
                    </a:lnTo>
                    <a:lnTo>
                      <a:pt x="1" y="231"/>
                    </a:lnTo>
                    <a:lnTo>
                      <a:pt x="3" y="241"/>
                    </a:lnTo>
                    <a:lnTo>
                      <a:pt x="7" y="252"/>
                    </a:lnTo>
                    <a:lnTo>
                      <a:pt x="10" y="262"/>
                    </a:lnTo>
                    <a:lnTo>
                      <a:pt x="14" y="270"/>
                    </a:lnTo>
                    <a:lnTo>
                      <a:pt x="20" y="277"/>
                    </a:lnTo>
                    <a:lnTo>
                      <a:pt x="26" y="284"/>
                    </a:lnTo>
                    <a:lnTo>
                      <a:pt x="33" y="288"/>
                    </a:lnTo>
                    <a:lnTo>
                      <a:pt x="40" y="292"/>
                    </a:lnTo>
                    <a:lnTo>
                      <a:pt x="48" y="294"/>
                    </a:lnTo>
                  </a:path>
                </a:pathLst>
              </a:custGeom>
              <a:noFill/>
              <a:ln w="3240">
                <a:solidFill>
                  <a:srgbClr val="000000"/>
                </a:solidFill>
                <a:round/>
              </a:ln>
            </p:spPr>
            <p:style>
              <a:lnRef idx="0"/>
              <a:fillRef idx="0"/>
              <a:effectRef idx="0"/>
              <a:fontRef idx="minor"/>
            </p:style>
            <p:txBody>
              <a:bodyPr wrap="none" lIns="93240" rIns="93240" tIns="13320" bIns="13320" anchor="t">
                <a:spAutoFit/>
              </a:bodyPr>
              <a:p>
                <a:endParaRPr b="0" lang="en-US" sz="2400" spc="-1" strike="noStrike">
                  <a:solidFill>
                    <a:srgbClr val="ffffff"/>
                  </a:solidFill>
                  <a:latin typeface="Times New Roman"/>
                </a:endParaRPr>
              </a:p>
            </p:txBody>
          </p:sp>
          <p:sp>
            <p:nvSpPr>
              <p:cNvPr id="399" name=""/>
              <p:cNvSpPr/>
              <p:nvPr/>
            </p:nvSpPr>
            <p:spPr>
              <a:xfrm>
                <a:off x="2473200" y="2215080"/>
                <a:ext cx="25200" cy="56880"/>
              </a:xfrm>
              <a:custGeom>
                <a:avLst/>
                <a:gdLst/>
                <a:ahLst/>
                <a:rect l="l" t="t" r="r" b="b"/>
                <a:pathLst>
                  <a:path w="164" h="292">
                    <a:moveTo>
                      <a:pt x="118" y="291"/>
                    </a:moveTo>
                    <a:lnTo>
                      <a:pt x="126" y="289"/>
                    </a:lnTo>
                    <a:lnTo>
                      <a:pt x="133" y="285"/>
                    </a:lnTo>
                    <a:lnTo>
                      <a:pt x="139" y="280"/>
                    </a:lnTo>
                    <a:lnTo>
                      <a:pt x="146" y="272"/>
                    </a:lnTo>
                    <a:lnTo>
                      <a:pt x="150" y="265"/>
                    </a:lnTo>
                    <a:lnTo>
                      <a:pt x="154" y="256"/>
                    </a:lnTo>
                    <a:lnTo>
                      <a:pt x="158" y="247"/>
                    </a:lnTo>
                    <a:lnTo>
                      <a:pt x="161" y="236"/>
                    </a:lnTo>
                    <a:lnTo>
                      <a:pt x="162" y="224"/>
                    </a:lnTo>
                    <a:lnTo>
                      <a:pt x="163" y="212"/>
                    </a:lnTo>
                    <a:lnTo>
                      <a:pt x="164" y="199"/>
                    </a:lnTo>
                    <a:lnTo>
                      <a:pt x="163" y="186"/>
                    </a:lnTo>
                    <a:lnTo>
                      <a:pt x="162" y="171"/>
                    </a:lnTo>
                    <a:lnTo>
                      <a:pt x="161" y="158"/>
                    </a:lnTo>
                    <a:lnTo>
                      <a:pt x="158" y="142"/>
                    </a:lnTo>
                    <a:lnTo>
                      <a:pt x="154" y="127"/>
                    </a:lnTo>
                    <a:lnTo>
                      <a:pt x="150" y="112"/>
                    </a:lnTo>
                    <a:lnTo>
                      <a:pt x="146" y="97"/>
                    </a:lnTo>
                    <a:lnTo>
                      <a:pt x="140" y="84"/>
                    </a:lnTo>
                    <a:lnTo>
                      <a:pt x="135" y="71"/>
                    </a:lnTo>
                    <a:lnTo>
                      <a:pt x="128" y="59"/>
                    </a:lnTo>
                    <a:lnTo>
                      <a:pt x="121" y="48"/>
                    </a:lnTo>
                    <a:lnTo>
                      <a:pt x="115" y="38"/>
                    </a:lnTo>
                    <a:lnTo>
                      <a:pt x="107" y="28"/>
                    </a:lnTo>
                    <a:lnTo>
                      <a:pt x="99" y="21"/>
                    </a:lnTo>
                    <a:lnTo>
                      <a:pt x="92" y="15"/>
                    </a:lnTo>
                    <a:lnTo>
                      <a:pt x="84" y="9"/>
                    </a:lnTo>
                    <a:lnTo>
                      <a:pt x="76" y="4"/>
                    </a:lnTo>
                    <a:lnTo>
                      <a:pt x="68" y="2"/>
                    </a:lnTo>
                    <a:lnTo>
                      <a:pt x="60" y="0"/>
                    </a:lnTo>
                    <a:lnTo>
                      <a:pt x="52" y="0"/>
                    </a:lnTo>
                    <a:lnTo>
                      <a:pt x="45" y="2"/>
                    </a:lnTo>
                    <a:lnTo>
                      <a:pt x="37" y="4"/>
                    </a:lnTo>
                    <a:lnTo>
                      <a:pt x="30" y="7"/>
                    </a:lnTo>
                    <a:lnTo>
                      <a:pt x="25" y="13"/>
                    </a:lnTo>
                    <a:lnTo>
                      <a:pt x="19" y="19"/>
                    </a:lnTo>
                    <a:lnTo>
                      <a:pt x="14" y="26"/>
                    </a:lnTo>
                    <a:lnTo>
                      <a:pt x="10" y="35"/>
                    </a:lnTo>
                    <a:lnTo>
                      <a:pt x="6" y="44"/>
                    </a:lnTo>
                    <a:lnTo>
                      <a:pt x="4" y="55"/>
                    </a:lnTo>
                    <a:lnTo>
                      <a:pt x="2" y="67"/>
                    </a:lnTo>
                    <a:lnTo>
                      <a:pt x="0" y="79"/>
                    </a:lnTo>
                    <a:lnTo>
                      <a:pt x="0" y="92"/>
                    </a:lnTo>
                    <a:lnTo>
                      <a:pt x="0" y="105"/>
                    </a:lnTo>
                    <a:lnTo>
                      <a:pt x="1" y="119"/>
                    </a:lnTo>
                    <a:lnTo>
                      <a:pt x="2" y="133"/>
                    </a:lnTo>
                    <a:lnTo>
                      <a:pt x="5" y="148"/>
                    </a:lnTo>
                    <a:lnTo>
                      <a:pt x="8" y="162"/>
                    </a:lnTo>
                    <a:lnTo>
                      <a:pt x="13" y="178"/>
                    </a:lnTo>
                    <a:lnTo>
                      <a:pt x="17" y="192"/>
                    </a:lnTo>
                    <a:lnTo>
                      <a:pt x="23" y="205"/>
                    </a:lnTo>
                    <a:lnTo>
                      <a:pt x="28" y="218"/>
                    </a:lnTo>
                    <a:lnTo>
                      <a:pt x="35" y="231"/>
                    </a:lnTo>
                    <a:lnTo>
                      <a:pt x="41" y="241"/>
                    </a:lnTo>
                    <a:lnTo>
                      <a:pt x="48" y="252"/>
                    </a:lnTo>
                    <a:lnTo>
                      <a:pt x="56" y="260"/>
                    </a:lnTo>
                    <a:lnTo>
                      <a:pt x="63" y="269"/>
                    </a:lnTo>
                    <a:lnTo>
                      <a:pt x="71" y="276"/>
                    </a:lnTo>
                    <a:lnTo>
                      <a:pt x="79" y="282"/>
                    </a:lnTo>
                    <a:lnTo>
                      <a:pt x="86" y="286"/>
                    </a:lnTo>
                    <a:lnTo>
                      <a:pt x="94" y="290"/>
                    </a:lnTo>
                    <a:lnTo>
                      <a:pt x="103" y="292"/>
                    </a:lnTo>
                    <a:lnTo>
                      <a:pt x="110" y="292"/>
                    </a:lnTo>
                    <a:lnTo>
                      <a:pt x="118" y="291"/>
                    </a:lnTo>
                    <a:close/>
                  </a:path>
                </a:pathLst>
              </a:custGeom>
              <a:solidFill>
                <a:srgbClr val="000000"/>
              </a:solidFill>
              <a:ln w="0">
                <a:noFill/>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00" name=""/>
              <p:cNvSpPr/>
              <p:nvPr/>
            </p:nvSpPr>
            <p:spPr>
              <a:xfrm>
                <a:off x="2473200" y="2215080"/>
                <a:ext cx="25200" cy="56880"/>
              </a:xfrm>
              <a:custGeom>
                <a:avLst/>
                <a:gdLst/>
                <a:ahLst/>
                <a:rect l="l" t="t" r="r" b="b"/>
                <a:pathLst>
                  <a:path w="164" h="292">
                    <a:moveTo>
                      <a:pt x="118" y="291"/>
                    </a:moveTo>
                    <a:lnTo>
                      <a:pt x="126" y="289"/>
                    </a:lnTo>
                    <a:lnTo>
                      <a:pt x="133" y="285"/>
                    </a:lnTo>
                    <a:lnTo>
                      <a:pt x="139" y="280"/>
                    </a:lnTo>
                    <a:lnTo>
                      <a:pt x="146" y="272"/>
                    </a:lnTo>
                    <a:lnTo>
                      <a:pt x="150" y="265"/>
                    </a:lnTo>
                    <a:lnTo>
                      <a:pt x="154" y="256"/>
                    </a:lnTo>
                    <a:lnTo>
                      <a:pt x="158" y="247"/>
                    </a:lnTo>
                    <a:lnTo>
                      <a:pt x="161" y="236"/>
                    </a:lnTo>
                    <a:lnTo>
                      <a:pt x="162" y="224"/>
                    </a:lnTo>
                    <a:lnTo>
                      <a:pt x="163" y="212"/>
                    </a:lnTo>
                    <a:lnTo>
                      <a:pt x="164" y="199"/>
                    </a:lnTo>
                    <a:lnTo>
                      <a:pt x="163" y="186"/>
                    </a:lnTo>
                    <a:lnTo>
                      <a:pt x="162" y="171"/>
                    </a:lnTo>
                    <a:lnTo>
                      <a:pt x="161" y="158"/>
                    </a:lnTo>
                    <a:lnTo>
                      <a:pt x="158" y="142"/>
                    </a:lnTo>
                    <a:lnTo>
                      <a:pt x="154" y="127"/>
                    </a:lnTo>
                    <a:lnTo>
                      <a:pt x="150" y="112"/>
                    </a:lnTo>
                    <a:lnTo>
                      <a:pt x="146" y="97"/>
                    </a:lnTo>
                    <a:lnTo>
                      <a:pt x="140" y="84"/>
                    </a:lnTo>
                    <a:lnTo>
                      <a:pt x="135" y="71"/>
                    </a:lnTo>
                    <a:lnTo>
                      <a:pt x="128" y="59"/>
                    </a:lnTo>
                    <a:lnTo>
                      <a:pt x="121" y="48"/>
                    </a:lnTo>
                    <a:lnTo>
                      <a:pt x="115" y="38"/>
                    </a:lnTo>
                    <a:lnTo>
                      <a:pt x="107" y="28"/>
                    </a:lnTo>
                    <a:lnTo>
                      <a:pt x="99" y="21"/>
                    </a:lnTo>
                    <a:lnTo>
                      <a:pt x="92" y="15"/>
                    </a:lnTo>
                    <a:lnTo>
                      <a:pt x="84" y="9"/>
                    </a:lnTo>
                    <a:lnTo>
                      <a:pt x="76" y="4"/>
                    </a:lnTo>
                    <a:lnTo>
                      <a:pt x="68" y="2"/>
                    </a:lnTo>
                    <a:lnTo>
                      <a:pt x="60" y="0"/>
                    </a:lnTo>
                    <a:lnTo>
                      <a:pt x="52" y="0"/>
                    </a:lnTo>
                    <a:lnTo>
                      <a:pt x="45" y="2"/>
                    </a:lnTo>
                    <a:lnTo>
                      <a:pt x="37" y="4"/>
                    </a:lnTo>
                    <a:lnTo>
                      <a:pt x="30" y="7"/>
                    </a:lnTo>
                    <a:lnTo>
                      <a:pt x="25" y="13"/>
                    </a:lnTo>
                    <a:lnTo>
                      <a:pt x="19" y="19"/>
                    </a:lnTo>
                    <a:lnTo>
                      <a:pt x="14" y="26"/>
                    </a:lnTo>
                    <a:lnTo>
                      <a:pt x="10" y="35"/>
                    </a:lnTo>
                    <a:lnTo>
                      <a:pt x="6" y="44"/>
                    </a:lnTo>
                    <a:lnTo>
                      <a:pt x="4" y="55"/>
                    </a:lnTo>
                    <a:lnTo>
                      <a:pt x="2" y="67"/>
                    </a:lnTo>
                    <a:lnTo>
                      <a:pt x="0" y="79"/>
                    </a:lnTo>
                    <a:lnTo>
                      <a:pt x="0" y="92"/>
                    </a:lnTo>
                    <a:lnTo>
                      <a:pt x="0" y="105"/>
                    </a:lnTo>
                    <a:lnTo>
                      <a:pt x="1" y="119"/>
                    </a:lnTo>
                    <a:lnTo>
                      <a:pt x="2" y="133"/>
                    </a:lnTo>
                    <a:lnTo>
                      <a:pt x="5" y="148"/>
                    </a:lnTo>
                    <a:lnTo>
                      <a:pt x="8" y="162"/>
                    </a:lnTo>
                    <a:lnTo>
                      <a:pt x="13" y="178"/>
                    </a:lnTo>
                    <a:lnTo>
                      <a:pt x="17" y="192"/>
                    </a:lnTo>
                    <a:lnTo>
                      <a:pt x="23" y="205"/>
                    </a:lnTo>
                    <a:lnTo>
                      <a:pt x="28" y="218"/>
                    </a:lnTo>
                    <a:lnTo>
                      <a:pt x="35" y="231"/>
                    </a:lnTo>
                    <a:lnTo>
                      <a:pt x="41" y="241"/>
                    </a:lnTo>
                    <a:lnTo>
                      <a:pt x="48" y="252"/>
                    </a:lnTo>
                    <a:lnTo>
                      <a:pt x="56" y="260"/>
                    </a:lnTo>
                    <a:lnTo>
                      <a:pt x="63" y="269"/>
                    </a:lnTo>
                    <a:lnTo>
                      <a:pt x="71" y="276"/>
                    </a:lnTo>
                    <a:lnTo>
                      <a:pt x="79" y="282"/>
                    </a:lnTo>
                    <a:lnTo>
                      <a:pt x="86" y="286"/>
                    </a:lnTo>
                    <a:lnTo>
                      <a:pt x="94" y="290"/>
                    </a:lnTo>
                    <a:lnTo>
                      <a:pt x="103" y="292"/>
                    </a:lnTo>
                    <a:lnTo>
                      <a:pt x="110" y="292"/>
                    </a:lnTo>
                    <a:lnTo>
                      <a:pt x="118" y="291"/>
                    </a:lnTo>
                  </a:path>
                </a:pathLst>
              </a:custGeom>
              <a:noFill/>
              <a:ln w="3240">
                <a:solidFill>
                  <a:srgbClr val="000000"/>
                </a:solidFill>
                <a:round/>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01" name=""/>
              <p:cNvSpPr/>
              <p:nvPr/>
            </p:nvSpPr>
            <p:spPr>
              <a:xfrm>
                <a:off x="2244600" y="2272320"/>
                <a:ext cx="357480" cy="222840"/>
              </a:xfrm>
              <a:custGeom>
                <a:avLst/>
                <a:gdLst/>
                <a:ahLst/>
                <a:rect l="l" t="t" r="r" b="b"/>
                <a:pathLst>
                  <a:path w="2483" h="1100">
                    <a:moveTo>
                      <a:pt x="1420" y="0"/>
                    </a:moveTo>
                    <a:lnTo>
                      <a:pt x="1466" y="13"/>
                    </a:lnTo>
                    <a:lnTo>
                      <a:pt x="1586" y="50"/>
                    </a:lnTo>
                    <a:lnTo>
                      <a:pt x="1667" y="77"/>
                    </a:lnTo>
                    <a:lnTo>
                      <a:pt x="1757" y="108"/>
                    </a:lnTo>
                    <a:lnTo>
                      <a:pt x="1804" y="126"/>
                    </a:lnTo>
                    <a:lnTo>
                      <a:pt x="1852" y="145"/>
                    </a:lnTo>
                    <a:lnTo>
                      <a:pt x="1902" y="166"/>
                    </a:lnTo>
                    <a:lnTo>
                      <a:pt x="1952" y="187"/>
                    </a:lnTo>
                    <a:lnTo>
                      <a:pt x="2001" y="209"/>
                    </a:lnTo>
                    <a:lnTo>
                      <a:pt x="2051" y="232"/>
                    </a:lnTo>
                    <a:lnTo>
                      <a:pt x="2099" y="256"/>
                    </a:lnTo>
                    <a:lnTo>
                      <a:pt x="2147" y="281"/>
                    </a:lnTo>
                    <a:lnTo>
                      <a:pt x="2192" y="306"/>
                    </a:lnTo>
                    <a:lnTo>
                      <a:pt x="2236" y="333"/>
                    </a:lnTo>
                    <a:lnTo>
                      <a:pt x="2278" y="361"/>
                    </a:lnTo>
                    <a:lnTo>
                      <a:pt x="2317" y="388"/>
                    </a:lnTo>
                    <a:lnTo>
                      <a:pt x="2352" y="418"/>
                    </a:lnTo>
                    <a:lnTo>
                      <a:pt x="2385" y="446"/>
                    </a:lnTo>
                    <a:lnTo>
                      <a:pt x="2414" y="477"/>
                    </a:lnTo>
                    <a:lnTo>
                      <a:pt x="2438" y="508"/>
                    </a:lnTo>
                    <a:lnTo>
                      <a:pt x="2456" y="539"/>
                    </a:lnTo>
                    <a:lnTo>
                      <a:pt x="2471" y="570"/>
                    </a:lnTo>
                    <a:lnTo>
                      <a:pt x="2481" y="602"/>
                    </a:lnTo>
                    <a:lnTo>
                      <a:pt x="2483" y="635"/>
                    </a:lnTo>
                    <a:lnTo>
                      <a:pt x="2483" y="668"/>
                    </a:lnTo>
                    <a:lnTo>
                      <a:pt x="2482" y="699"/>
                    </a:lnTo>
                    <a:lnTo>
                      <a:pt x="2479" y="728"/>
                    </a:lnTo>
                    <a:lnTo>
                      <a:pt x="2476" y="756"/>
                    </a:lnTo>
                    <a:lnTo>
                      <a:pt x="2472" y="783"/>
                    </a:lnTo>
                    <a:lnTo>
                      <a:pt x="2467" y="809"/>
                    </a:lnTo>
                    <a:lnTo>
                      <a:pt x="2461" y="832"/>
                    </a:lnTo>
                    <a:lnTo>
                      <a:pt x="2454" y="855"/>
                    </a:lnTo>
                    <a:lnTo>
                      <a:pt x="2447" y="877"/>
                    </a:lnTo>
                    <a:lnTo>
                      <a:pt x="2437" y="897"/>
                    </a:lnTo>
                    <a:lnTo>
                      <a:pt x="2427" y="916"/>
                    </a:lnTo>
                    <a:lnTo>
                      <a:pt x="2416" y="934"/>
                    </a:lnTo>
                    <a:lnTo>
                      <a:pt x="2405" y="950"/>
                    </a:lnTo>
                    <a:lnTo>
                      <a:pt x="2392" y="966"/>
                    </a:lnTo>
                    <a:lnTo>
                      <a:pt x="2377" y="979"/>
                    </a:lnTo>
                    <a:lnTo>
                      <a:pt x="2362" y="992"/>
                    </a:lnTo>
                    <a:lnTo>
                      <a:pt x="2347" y="1004"/>
                    </a:lnTo>
                    <a:lnTo>
                      <a:pt x="2329" y="1015"/>
                    </a:lnTo>
                    <a:lnTo>
                      <a:pt x="2311" y="1025"/>
                    </a:lnTo>
                    <a:lnTo>
                      <a:pt x="2291" y="1033"/>
                    </a:lnTo>
                    <a:lnTo>
                      <a:pt x="2271" y="1041"/>
                    </a:lnTo>
                    <a:lnTo>
                      <a:pt x="2249" y="1047"/>
                    </a:lnTo>
                    <a:lnTo>
                      <a:pt x="2226" y="1052"/>
                    </a:lnTo>
                    <a:lnTo>
                      <a:pt x="2202" y="1057"/>
                    </a:lnTo>
                    <a:lnTo>
                      <a:pt x="2177" y="1060"/>
                    </a:lnTo>
                    <a:lnTo>
                      <a:pt x="2150" y="1063"/>
                    </a:lnTo>
                    <a:lnTo>
                      <a:pt x="2123" y="1064"/>
                    </a:lnTo>
                    <a:lnTo>
                      <a:pt x="2095" y="1065"/>
                    </a:lnTo>
                    <a:lnTo>
                      <a:pt x="2065" y="1065"/>
                    </a:lnTo>
                    <a:lnTo>
                      <a:pt x="2034" y="1063"/>
                    </a:lnTo>
                    <a:lnTo>
                      <a:pt x="2001" y="1061"/>
                    </a:lnTo>
                    <a:lnTo>
                      <a:pt x="1967" y="1059"/>
                    </a:lnTo>
                    <a:lnTo>
                      <a:pt x="515" y="1094"/>
                    </a:lnTo>
                    <a:lnTo>
                      <a:pt x="481" y="1097"/>
                    </a:lnTo>
                    <a:lnTo>
                      <a:pt x="449" y="1099"/>
                    </a:lnTo>
                    <a:lnTo>
                      <a:pt x="417" y="1100"/>
                    </a:lnTo>
                    <a:lnTo>
                      <a:pt x="387" y="1100"/>
                    </a:lnTo>
                    <a:lnTo>
                      <a:pt x="358" y="1100"/>
                    </a:lnTo>
                    <a:lnTo>
                      <a:pt x="330" y="1098"/>
                    </a:lnTo>
                    <a:lnTo>
                      <a:pt x="304" y="1096"/>
                    </a:lnTo>
                    <a:lnTo>
                      <a:pt x="279" y="1092"/>
                    </a:lnTo>
                    <a:lnTo>
                      <a:pt x="254" y="1087"/>
                    </a:lnTo>
                    <a:lnTo>
                      <a:pt x="231" y="1082"/>
                    </a:lnTo>
                    <a:lnTo>
                      <a:pt x="211" y="1076"/>
                    </a:lnTo>
                    <a:lnTo>
                      <a:pt x="190" y="1068"/>
                    </a:lnTo>
                    <a:lnTo>
                      <a:pt x="170" y="1060"/>
                    </a:lnTo>
                    <a:lnTo>
                      <a:pt x="152" y="1050"/>
                    </a:lnTo>
                    <a:lnTo>
                      <a:pt x="135" y="1040"/>
                    </a:lnTo>
                    <a:lnTo>
                      <a:pt x="119" y="1028"/>
                    </a:lnTo>
                    <a:lnTo>
                      <a:pt x="104" y="1014"/>
                    </a:lnTo>
                    <a:lnTo>
                      <a:pt x="90" y="1001"/>
                    </a:lnTo>
                    <a:lnTo>
                      <a:pt x="77" y="986"/>
                    </a:lnTo>
                    <a:lnTo>
                      <a:pt x="66" y="969"/>
                    </a:lnTo>
                    <a:lnTo>
                      <a:pt x="55" y="951"/>
                    </a:lnTo>
                    <a:lnTo>
                      <a:pt x="45" y="932"/>
                    </a:lnTo>
                    <a:lnTo>
                      <a:pt x="36" y="912"/>
                    </a:lnTo>
                    <a:lnTo>
                      <a:pt x="29" y="890"/>
                    </a:lnTo>
                    <a:lnTo>
                      <a:pt x="22" y="868"/>
                    </a:lnTo>
                    <a:lnTo>
                      <a:pt x="15" y="844"/>
                    </a:lnTo>
                    <a:lnTo>
                      <a:pt x="11" y="818"/>
                    </a:lnTo>
                    <a:lnTo>
                      <a:pt x="7" y="792"/>
                    </a:lnTo>
                    <a:lnTo>
                      <a:pt x="3" y="763"/>
                    </a:lnTo>
                    <a:lnTo>
                      <a:pt x="1" y="733"/>
                    </a:lnTo>
                    <a:lnTo>
                      <a:pt x="0" y="703"/>
                    </a:lnTo>
                    <a:lnTo>
                      <a:pt x="0" y="670"/>
                    </a:lnTo>
                    <a:lnTo>
                      <a:pt x="2" y="637"/>
                    </a:lnTo>
                    <a:lnTo>
                      <a:pt x="12" y="605"/>
                    </a:lnTo>
                    <a:lnTo>
                      <a:pt x="26" y="573"/>
                    </a:lnTo>
                    <a:lnTo>
                      <a:pt x="45" y="542"/>
                    </a:lnTo>
                    <a:lnTo>
                      <a:pt x="69" y="511"/>
                    </a:lnTo>
                    <a:lnTo>
                      <a:pt x="98" y="480"/>
                    </a:lnTo>
                    <a:lnTo>
                      <a:pt x="131" y="452"/>
                    </a:lnTo>
                    <a:lnTo>
                      <a:pt x="166" y="422"/>
                    </a:lnTo>
                    <a:lnTo>
                      <a:pt x="205" y="394"/>
                    </a:lnTo>
                    <a:lnTo>
                      <a:pt x="247" y="367"/>
                    </a:lnTo>
                    <a:lnTo>
                      <a:pt x="291" y="340"/>
                    </a:lnTo>
                    <a:lnTo>
                      <a:pt x="336" y="314"/>
                    </a:lnTo>
                    <a:lnTo>
                      <a:pt x="384" y="290"/>
                    </a:lnTo>
                    <a:lnTo>
                      <a:pt x="432" y="265"/>
                    </a:lnTo>
                    <a:lnTo>
                      <a:pt x="481" y="243"/>
                    </a:lnTo>
                    <a:lnTo>
                      <a:pt x="531" y="221"/>
                    </a:lnTo>
                    <a:lnTo>
                      <a:pt x="581" y="199"/>
                    </a:lnTo>
                    <a:lnTo>
                      <a:pt x="631" y="179"/>
                    </a:lnTo>
                    <a:lnTo>
                      <a:pt x="679" y="160"/>
                    </a:lnTo>
                    <a:lnTo>
                      <a:pt x="726" y="143"/>
                    </a:lnTo>
                    <a:lnTo>
                      <a:pt x="816" y="111"/>
                    </a:lnTo>
                    <a:lnTo>
                      <a:pt x="897" y="85"/>
                    </a:lnTo>
                    <a:lnTo>
                      <a:pt x="1018" y="48"/>
                    </a:lnTo>
                    <a:lnTo>
                      <a:pt x="1063" y="35"/>
                    </a:lnTo>
                    <a:lnTo>
                      <a:pt x="1420"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2" name=""/>
              <p:cNvSpPr/>
              <p:nvPr/>
            </p:nvSpPr>
            <p:spPr>
              <a:xfrm>
                <a:off x="2244600" y="2272320"/>
                <a:ext cx="357480" cy="222840"/>
              </a:xfrm>
              <a:custGeom>
                <a:avLst/>
                <a:gdLst/>
                <a:ahLst/>
                <a:rect l="l" t="t" r="r" b="b"/>
                <a:pathLst>
                  <a:path w="2483" h="1100">
                    <a:moveTo>
                      <a:pt x="1420" y="0"/>
                    </a:moveTo>
                    <a:lnTo>
                      <a:pt x="1466" y="13"/>
                    </a:lnTo>
                    <a:lnTo>
                      <a:pt x="1586" y="50"/>
                    </a:lnTo>
                    <a:lnTo>
                      <a:pt x="1667" y="77"/>
                    </a:lnTo>
                    <a:lnTo>
                      <a:pt x="1757" y="108"/>
                    </a:lnTo>
                    <a:lnTo>
                      <a:pt x="1804" y="126"/>
                    </a:lnTo>
                    <a:lnTo>
                      <a:pt x="1852" y="145"/>
                    </a:lnTo>
                    <a:lnTo>
                      <a:pt x="1902" y="166"/>
                    </a:lnTo>
                    <a:lnTo>
                      <a:pt x="1952" y="187"/>
                    </a:lnTo>
                    <a:lnTo>
                      <a:pt x="2001" y="209"/>
                    </a:lnTo>
                    <a:lnTo>
                      <a:pt x="2051" y="232"/>
                    </a:lnTo>
                    <a:lnTo>
                      <a:pt x="2099" y="256"/>
                    </a:lnTo>
                    <a:lnTo>
                      <a:pt x="2147" y="281"/>
                    </a:lnTo>
                    <a:lnTo>
                      <a:pt x="2192" y="306"/>
                    </a:lnTo>
                    <a:lnTo>
                      <a:pt x="2236" y="333"/>
                    </a:lnTo>
                    <a:lnTo>
                      <a:pt x="2278" y="361"/>
                    </a:lnTo>
                    <a:lnTo>
                      <a:pt x="2317" y="388"/>
                    </a:lnTo>
                    <a:lnTo>
                      <a:pt x="2352" y="418"/>
                    </a:lnTo>
                    <a:lnTo>
                      <a:pt x="2385" y="446"/>
                    </a:lnTo>
                    <a:lnTo>
                      <a:pt x="2414" y="477"/>
                    </a:lnTo>
                    <a:lnTo>
                      <a:pt x="2438" y="508"/>
                    </a:lnTo>
                    <a:lnTo>
                      <a:pt x="2456" y="539"/>
                    </a:lnTo>
                    <a:lnTo>
                      <a:pt x="2471" y="570"/>
                    </a:lnTo>
                    <a:lnTo>
                      <a:pt x="2481" y="602"/>
                    </a:lnTo>
                    <a:lnTo>
                      <a:pt x="2483" y="635"/>
                    </a:lnTo>
                    <a:lnTo>
                      <a:pt x="2483" y="668"/>
                    </a:lnTo>
                    <a:lnTo>
                      <a:pt x="2482" y="699"/>
                    </a:lnTo>
                    <a:lnTo>
                      <a:pt x="2479" y="728"/>
                    </a:lnTo>
                    <a:lnTo>
                      <a:pt x="2476" y="756"/>
                    </a:lnTo>
                    <a:lnTo>
                      <a:pt x="2472" y="783"/>
                    </a:lnTo>
                    <a:lnTo>
                      <a:pt x="2467" y="809"/>
                    </a:lnTo>
                    <a:lnTo>
                      <a:pt x="2461" y="832"/>
                    </a:lnTo>
                    <a:lnTo>
                      <a:pt x="2454" y="855"/>
                    </a:lnTo>
                    <a:lnTo>
                      <a:pt x="2447" y="877"/>
                    </a:lnTo>
                    <a:lnTo>
                      <a:pt x="2437" y="897"/>
                    </a:lnTo>
                    <a:lnTo>
                      <a:pt x="2427" y="916"/>
                    </a:lnTo>
                    <a:lnTo>
                      <a:pt x="2416" y="934"/>
                    </a:lnTo>
                    <a:lnTo>
                      <a:pt x="2405" y="950"/>
                    </a:lnTo>
                    <a:lnTo>
                      <a:pt x="2392" y="966"/>
                    </a:lnTo>
                    <a:lnTo>
                      <a:pt x="2377" y="979"/>
                    </a:lnTo>
                    <a:lnTo>
                      <a:pt x="2362" y="992"/>
                    </a:lnTo>
                    <a:lnTo>
                      <a:pt x="2347" y="1004"/>
                    </a:lnTo>
                    <a:lnTo>
                      <a:pt x="2329" y="1015"/>
                    </a:lnTo>
                    <a:lnTo>
                      <a:pt x="2311" y="1025"/>
                    </a:lnTo>
                    <a:lnTo>
                      <a:pt x="2291" y="1033"/>
                    </a:lnTo>
                    <a:lnTo>
                      <a:pt x="2271" y="1041"/>
                    </a:lnTo>
                    <a:lnTo>
                      <a:pt x="2249" y="1047"/>
                    </a:lnTo>
                    <a:lnTo>
                      <a:pt x="2226" y="1052"/>
                    </a:lnTo>
                    <a:lnTo>
                      <a:pt x="2202" y="1057"/>
                    </a:lnTo>
                    <a:lnTo>
                      <a:pt x="2177" y="1060"/>
                    </a:lnTo>
                    <a:lnTo>
                      <a:pt x="2150" y="1063"/>
                    </a:lnTo>
                    <a:lnTo>
                      <a:pt x="2123" y="1064"/>
                    </a:lnTo>
                    <a:lnTo>
                      <a:pt x="2095" y="1065"/>
                    </a:lnTo>
                    <a:lnTo>
                      <a:pt x="2065" y="1065"/>
                    </a:lnTo>
                    <a:lnTo>
                      <a:pt x="2034" y="1063"/>
                    </a:lnTo>
                    <a:lnTo>
                      <a:pt x="2001" y="1061"/>
                    </a:lnTo>
                    <a:lnTo>
                      <a:pt x="1967" y="1059"/>
                    </a:lnTo>
                    <a:lnTo>
                      <a:pt x="515" y="1094"/>
                    </a:lnTo>
                    <a:lnTo>
                      <a:pt x="481" y="1097"/>
                    </a:lnTo>
                    <a:lnTo>
                      <a:pt x="449" y="1099"/>
                    </a:lnTo>
                    <a:lnTo>
                      <a:pt x="417" y="1100"/>
                    </a:lnTo>
                    <a:lnTo>
                      <a:pt x="387" y="1100"/>
                    </a:lnTo>
                    <a:lnTo>
                      <a:pt x="358" y="1100"/>
                    </a:lnTo>
                    <a:lnTo>
                      <a:pt x="330" y="1098"/>
                    </a:lnTo>
                    <a:lnTo>
                      <a:pt x="304" y="1096"/>
                    </a:lnTo>
                    <a:lnTo>
                      <a:pt x="279" y="1092"/>
                    </a:lnTo>
                    <a:lnTo>
                      <a:pt x="254" y="1087"/>
                    </a:lnTo>
                    <a:lnTo>
                      <a:pt x="231" y="1082"/>
                    </a:lnTo>
                    <a:lnTo>
                      <a:pt x="211" y="1076"/>
                    </a:lnTo>
                    <a:lnTo>
                      <a:pt x="190" y="1068"/>
                    </a:lnTo>
                    <a:lnTo>
                      <a:pt x="170" y="1060"/>
                    </a:lnTo>
                    <a:lnTo>
                      <a:pt x="152" y="1050"/>
                    </a:lnTo>
                    <a:lnTo>
                      <a:pt x="135" y="1040"/>
                    </a:lnTo>
                    <a:lnTo>
                      <a:pt x="119" y="1028"/>
                    </a:lnTo>
                    <a:lnTo>
                      <a:pt x="104" y="1014"/>
                    </a:lnTo>
                    <a:lnTo>
                      <a:pt x="90" y="1001"/>
                    </a:lnTo>
                    <a:lnTo>
                      <a:pt x="77" y="986"/>
                    </a:lnTo>
                    <a:lnTo>
                      <a:pt x="66" y="969"/>
                    </a:lnTo>
                    <a:lnTo>
                      <a:pt x="55" y="951"/>
                    </a:lnTo>
                    <a:lnTo>
                      <a:pt x="45" y="932"/>
                    </a:lnTo>
                    <a:lnTo>
                      <a:pt x="36" y="912"/>
                    </a:lnTo>
                    <a:lnTo>
                      <a:pt x="29" y="890"/>
                    </a:lnTo>
                    <a:lnTo>
                      <a:pt x="22" y="868"/>
                    </a:lnTo>
                    <a:lnTo>
                      <a:pt x="15" y="844"/>
                    </a:lnTo>
                    <a:lnTo>
                      <a:pt x="11" y="818"/>
                    </a:lnTo>
                    <a:lnTo>
                      <a:pt x="7" y="792"/>
                    </a:lnTo>
                    <a:lnTo>
                      <a:pt x="3" y="763"/>
                    </a:lnTo>
                    <a:lnTo>
                      <a:pt x="1" y="733"/>
                    </a:lnTo>
                    <a:lnTo>
                      <a:pt x="0" y="703"/>
                    </a:lnTo>
                    <a:lnTo>
                      <a:pt x="0" y="670"/>
                    </a:lnTo>
                    <a:lnTo>
                      <a:pt x="2" y="637"/>
                    </a:lnTo>
                    <a:lnTo>
                      <a:pt x="12" y="605"/>
                    </a:lnTo>
                    <a:lnTo>
                      <a:pt x="26" y="573"/>
                    </a:lnTo>
                    <a:lnTo>
                      <a:pt x="45" y="542"/>
                    </a:lnTo>
                    <a:lnTo>
                      <a:pt x="69" y="511"/>
                    </a:lnTo>
                    <a:lnTo>
                      <a:pt x="98" y="480"/>
                    </a:lnTo>
                    <a:lnTo>
                      <a:pt x="131" y="452"/>
                    </a:lnTo>
                    <a:lnTo>
                      <a:pt x="166" y="422"/>
                    </a:lnTo>
                    <a:lnTo>
                      <a:pt x="205" y="394"/>
                    </a:lnTo>
                    <a:lnTo>
                      <a:pt x="247" y="367"/>
                    </a:lnTo>
                    <a:lnTo>
                      <a:pt x="291" y="340"/>
                    </a:lnTo>
                    <a:lnTo>
                      <a:pt x="336" y="314"/>
                    </a:lnTo>
                    <a:lnTo>
                      <a:pt x="384" y="290"/>
                    </a:lnTo>
                    <a:lnTo>
                      <a:pt x="432" y="265"/>
                    </a:lnTo>
                    <a:lnTo>
                      <a:pt x="481" y="243"/>
                    </a:lnTo>
                    <a:lnTo>
                      <a:pt x="531" y="221"/>
                    </a:lnTo>
                    <a:lnTo>
                      <a:pt x="581" y="199"/>
                    </a:lnTo>
                    <a:lnTo>
                      <a:pt x="631" y="179"/>
                    </a:lnTo>
                    <a:lnTo>
                      <a:pt x="679" y="160"/>
                    </a:lnTo>
                    <a:lnTo>
                      <a:pt x="726" y="143"/>
                    </a:lnTo>
                    <a:lnTo>
                      <a:pt x="816" y="111"/>
                    </a:lnTo>
                    <a:lnTo>
                      <a:pt x="897" y="85"/>
                    </a:lnTo>
                    <a:lnTo>
                      <a:pt x="1018" y="48"/>
                    </a:lnTo>
                    <a:lnTo>
                      <a:pt x="1063" y="3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3" name=""/>
              <p:cNvSpPr/>
              <p:nvPr/>
            </p:nvSpPr>
            <p:spPr>
              <a:xfrm>
                <a:off x="2259720" y="2442240"/>
                <a:ext cx="326880" cy="130680"/>
              </a:xfrm>
              <a:custGeom>
                <a:avLst/>
                <a:gdLst/>
                <a:ahLst/>
                <a:rect l="l" t="t" r="r" b="b"/>
                <a:pathLst>
                  <a:path w="2263" h="651">
                    <a:moveTo>
                      <a:pt x="2263" y="15"/>
                    </a:moveTo>
                    <a:lnTo>
                      <a:pt x="2244" y="11"/>
                    </a:lnTo>
                    <a:lnTo>
                      <a:pt x="2192" y="3"/>
                    </a:lnTo>
                    <a:lnTo>
                      <a:pt x="2156" y="1"/>
                    </a:lnTo>
                    <a:lnTo>
                      <a:pt x="2114" y="0"/>
                    </a:lnTo>
                    <a:lnTo>
                      <a:pt x="2092" y="1"/>
                    </a:lnTo>
                    <a:lnTo>
                      <a:pt x="2069" y="2"/>
                    </a:lnTo>
                    <a:lnTo>
                      <a:pt x="2045" y="5"/>
                    </a:lnTo>
                    <a:lnTo>
                      <a:pt x="2020" y="9"/>
                    </a:lnTo>
                    <a:lnTo>
                      <a:pt x="1994" y="13"/>
                    </a:lnTo>
                    <a:lnTo>
                      <a:pt x="1969" y="18"/>
                    </a:lnTo>
                    <a:lnTo>
                      <a:pt x="1944" y="26"/>
                    </a:lnTo>
                    <a:lnTo>
                      <a:pt x="1918" y="34"/>
                    </a:lnTo>
                    <a:lnTo>
                      <a:pt x="1891" y="45"/>
                    </a:lnTo>
                    <a:lnTo>
                      <a:pt x="1866" y="56"/>
                    </a:lnTo>
                    <a:lnTo>
                      <a:pt x="1840" y="70"/>
                    </a:lnTo>
                    <a:lnTo>
                      <a:pt x="1815" y="86"/>
                    </a:lnTo>
                    <a:lnTo>
                      <a:pt x="1790" y="103"/>
                    </a:lnTo>
                    <a:lnTo>
                      <a:pt x="1766" y="123"/>
                    </a:lnTo>
                    <a:lnTo>
                      <a:pt x="1743" y="145"/>
                    </a:lnTo>
                    <a:lnTo>
                      <a:pt x="1720" y="170"/>
                    </a:lnTo>
                    <a:lnTo>
                      <a:pt x="1699" y="196"/>
                    </a:lnTo>
                    <a:lnTo>
                      <a:pt x="1679" y="226"/>
                    </a:lnTo>
                    <a:lnTo>
                      <a:pt x="1660" y="258"/>
                    </a:lnTo>
                    <a:lnTo>
                      <a:pt x="1642" y="293"/>
                    </a:lnTo>
                    <a:lnTo>
                      <a:pt x="1625" y="329"/>
                    </a:lnTo>
                    <a:lnTo>
                      <a:pt x="1608" y="362"/>
                    </a:lnTo>
                    <a:lnTo>
                      <a:pt x="1591" y="392"/>
                    </a:lnTo>
                    <a:lnTo>
                      <a:pt x="1574" y="421"/>
                    </a:lnTo>
                    <a:lnTo>
                      <a:pt x="1558" y="447"/>
                    </a:lnTo>
                    <a:lnTo>
                      <a:pt x="1542" y="472"/>
                    </a:lnTo>
                    <a:lnTo>
                      <a:pt x="1525" y="494"/>
                    </a:lnTo>
                    <a:lnTo>
                      <a:pt x="1510" y="514"/>
                    </a:lnTo>
                    <a:lnTo>
                      <a:pt x="1493" y="533"/>
                    </a:lnTo>
                    <a:lnTo>
                      <a:pt x="1478" y="549"/>
                    </a:lnTo>
                    <a:lnTo>
                      <a:pt x="1461" y="565"/>
                    </a:lnTo>
                    <a:lnTo>
                      <a:pt x="1446" y="579"/>
                    </a:lnTo>
                    <a:lnTo>
                      <a:pt x="1431" y="590"/>
                    </a:lnTo>
                    <a:lnTo>
                      <a:pt x="1415" y="601"/>
                    </a:lnTo>
                    <a:lnTo>
                      <a:pt x="1399" y="611"/>
                    </a:lnTo>
                    <a:lnTo>
                      <a:pt x="1384" y="619"/>
                    </a:lnTo>
                    <a:lnTo>
                      <a:pt x="1368" y="625"/>
                    </a:lnTo>
                    <a:lnTo>
                      <a:pt x="1353" y="632"/>
                    </a:lnTo>
                    <a:lnTo>
                      <a:pt x="1338" y="636"/>
                    </a:lnTo>
                    <a:lnTo>
                      <a:pt x="1322" y="640"/>
                    </a:lnTo>
                    <a:lnTo>
                      <a:pt x="1307" y="643"/>
                    </a:lnTo>
                    <a:lnTo>
                      <a:pt x="1292" y="647"/>
                    </a:lnTo>
                    <a:lnTo>
                      <a:pt x="1276" y="648"/>
                    </a:lnTo>
                    <a:lnTo>
                      <a:pt x="1261" y="650"/>
                    </a:lnTo>
                    <a:lnTo>
                      <a:pt x="1197" y="651"/>
                    </a:lnTo>
                    <a:lnTo>
                      <a:pt x="1131" y="650"/>
                    </a:lnTo>
                    <a:lnTo>
                      <a:pt x="1066" y="651"/>
                    </a:lnTo>
                    <a:lnTo>
                      <a:pt x="1002" y="650"/>
                    </a:lnTo>
                    <a:lnTo>
                      <a:pt x="987" y="648"/>
                    </a:lnTo>
                    <a:lnTo>
                      <a:pt x="970" y="647"/>
                    </a:lnTo>
                    <a:lnTo>
                      <a:pt x="955" y="643"/>
                    </a:lnTo>
                    <a:lnTo>
                      <a:pt x="939" y="640"/>
                    </a:lnTo>
                    <a:lnTo>
                      <a:pt x="924" y="636"/>
                    </a:lnTo>
                    <a:lnTo>
                      <a:pt x="909" y="632"/>
                    </a:lnTo>
                    <a:lnTo>
                      <a:pt x="892" y="625"/>
                    </a:lnTo>
                    <a:lnTo>
                      <a:pt x="877" y="619"/>
                    </a:lnTo>
                    <a:lnTo>
                      <a:pt x="862" y="611"/>
                    </a:lnTo>
                    <a:lnTo>
                      <a:pt x="846" y="601"/>
                    </a:lnTo>
                    <a:lnTo>
                      <a:pt x="831" y="590"/>
                    </a:lnTo>
                    <a:lnTo>
                      <a:pt x="816" y="579"/>
                    </a:lnTo>
                    <a:lnTo>
                      <a:pt x="799" y="565"/>
                    </a:lnTo>
                    <a:lnTo>
                      <a:pt x="784" y="549"/>
                    </a:lnTo>
                    <a:lnTo>
                      <a:pt x="767" y="533"/>
                    </a:lnTo>
                    <a:lnTo>
                      <a:pt x="752" y="514"/>
                    </a:lnTo>
                    <a:lnTo>
                      <a:pt x="736" y="494"/>
                    </a:lnTo>
                    <a:lnTo>
                      <a:pt x="720" y="472"/>
                    </a:lnTo>
                    <a:lnTo>
                      <a:pt x="704" y="447"/>
                    </a:lnTo>
                    <a:lnTo>
                      <a:pt x="687" y="421"/>
                    </a:lnTo>
                    <a:lnTo>
                      <a:pt x="671" y="392"/>
                    </a:lnTo>
                    <a:lnTo>
                      <a:pt x="654" y="362"/>
                    </a:lnTo>
                    <a:lnTo>
                      <a:pt x="637" y="329"/>
                    </a:lnTo>
                    <a:lnTo>
                      <a:pt x="620" y="293"/>
                    </a:lnTo>
                    <a:lnTo>
                      <a:pt x="603" y="258"/>
                    </a:lnTo>
                    <a:lnTo>
                      <a:pt x="584" y="226"/>
                    </a:lnTo>
                    <a:lnTo>
                      <a:pt x="563" y="196"/>
                    </a:lnTo>
                    <a:lnTo>
                      <a:pt x="543" y="170"/>
                    </a:lnTo>
                    <a:lnTo>
                      <a:pt x="520" y="145"/>
                    </a:lnTo>
                    <a:lnTo>
                      <a:pt x="496" y="123"/>
                    </a:lnTo>
                    <a:lnTo>
                      <a:pt x="472" y="103"/>
                    </a:lnTo>
                    <a:lnTo>
                      <a:pt x="448" y="86"/>
                    </a:lnTo>
                    <a:lnTo>
                      <a:pt x="423" y="70"/>
                    </a:lnTo>
                    <a:lnTo>
                      <a:pt x="397" y="56"/>
                    </a:lnTo>
                    <a:lnTo>
                      <a:pt x="371" y="45"/>
                    </a:lnTo>
                    <a:lnTo>
                      <a:pt x="345" y="34"/>
                    </a:lnTo>
                    <a:lnTo>
                      <a:pt x="319" y="26"/>
                    </a:lnTo>
                    <a:lnTo>
                      <a:pt x="294" y="18"/>
                    </a:lnTo>
                    <a:lnTo>
                      <a:pt x="268" y="13"/>
                    </a:lnTo>
                    <a:lnTo>
                      <a:pt x="243" y="9"/>
                    </a:lnTo>
                    <a:lnTo>
                      <a:pt x="218" y="5"/>
                    </a:lnTo>
                    <a:lnTo>
                      <a:pt x="194" y="2"/>
                    </a:lnTo>
                    <a:lnTo>
                      <a:pt x="171" y="1"/>
                    </a:lnTo>
                    <a:lnTo>
                      <a:pt x="149" y="0"/>
                    </a:lnTo>
                    <a:lnTo>
                      <a:pt x="107" y="1"/>
                    </a:lnTo>
                    <a:lnTo>
                      <a:pt x="71" y="3"/>
                    </a:lnTo>
                    <a:lnTo>
                      <a:pt x="18" y="11"/>
                    </a:lnTo>
                    <a:lnTo>
                      <a:pt x="0" y="15"/>
                    </a:lnTo>
                    <a:lnTo>
                      <a:pt x="2263" y="15"/>
                    </a:lnTo>
                    <a:close/>
                  </a:path>
                </a:pathLst>
              </a:custGeom>
              <a:solidFill>
                <a:srgbClr val="ffcc99"/>
              </a:solidFill>
              <a:ln w="0">
                <a:noFill/>
              </a:ln>
            </p:spPr>
            <p:style>
              <a:lnRef idx="0"/>
              <a:fillRef idx="0"/>
              <a:effectRef idx="0"/>
              <a:fontRef idx="minor"/>
            </p:style>
            <p:txBody>
              <a:bodyPr lIns="93240" rIns="93240" tIns="46440" bIns="46440" anchor="t">
                <a:spAutoFit/>
              </a:bodyPr>
              <a:p>
                <a:endParaRPr b="0" lang="en-US" sz="2400" spc="-1" strike="noStrike">
                  <a:solidFill>
                    <a:srgbClr val="ffffff"/>
                  </a:solidFill>
                  <a:latin typeface="Times New Roman"/>
                </a:endParaRPr>
              </a:p>
            </p:txBody>
          </p:sp>
          <p:sp>
            <p:nvSpPr>
              <p:cNvPr id="404" name=""/>
              <p:cNvSpPr/>
              <p:nvPr/>
            </p:nvSpPr>
            <p:spPr>
              <a:xfrm>
                <a:off x="2259720" y="2442240"/>
                <a:ext cx="326880" cy="130680"/>
              </a:xfrm>
              <a:custGeom>
                <a:avLst/>
                <a:gdLst/>
                <a:ahLst/>
                <a:rect l="l" t="t" r="r" b="b"/>
                <a:pathLst>
                  <a:path w="2263" h="651">
                    <a:moveTo>
                      <a:pt x="2263" y="15"/>
                    </a:moveTo>
                    <a:lnTo>
                      <a:pt x="2244" y="11"/>
                    </a:lnTo>
                    <a:lnTo>
                      <a:pt x="2192" y="3"/>
                    </a:lnTo>
                    <a:lnTo>
                      <a:pt x="2156" y="1"/>
                    </a:lnTo>
                    <a:lnTo>
                      <a:pt x="2114" y="0"/>
                    </a:lnTo>
                    <a:lnTo>
                      <a:pt x="2092" y="1"/>
                    </a:lnTo>
                    <a:lnTo>
                      <a:pt x="2069" y="2"/>
                    </a:lnTo>
                    <a:lnTo>
                      <a:pt x="2045" y="5"/>
                    </a:lnTo>
                    <a:lnTo>
                      <a:pt x="2020" y="9"/>
                    </a:lnTo>
                    <a:lnTo>
                      <a:pt x="1994" y="13"/>
                    </a:lnTo>
                    <a:lnTo>
                      <a:pt x="1969" y="18"/>
                    </a:lnTo>
                    <a:lnTo>
                      <a:pt x="1944" y="26"/>
                    </a:lnTo>
                    <a:lnTo>
                      <a:pt x="1918" y="34"/>
                    </a:lnTo>
                    <a:lnTo>
                      <a:pt x="1891" y="45"/>
                    </a:lnTo>
                    <a:lnTo>
                      <a:pt x="1866" y="56"/>
                    </a:lnTo>
                    <a:lnTo>
                      <a:pt x="1840" y="70"/>
                    </a:lnTo>
                    <a:lnTo>
                      <a:pt x="1815" y="86"/>
                    </a:lnTo>
                    <a:lnTo>
                      <a:pt x="1790" y="103"/>
                    </a:lnTo>
                    <a:lnTo>
                      <a:pt x="1766" y="123"/>
                    </a:lnTo>
                    <a:lnTo>
                      <a:pt x="1743" y="145"/>
                    </a:lnTo>
                    <a:lnTo>
                      <a:pt x="1720" y="170"/>
                    </a:lnTo>
                    <a:lnTo>
                      <a:pt x="1699" y="196"/>
                    </a:lnTo>
                    <a:lnTo>
                      <a:pt x="1679" y="226"/>
                    </a:lnTo>
                    <a:lnTo>
                      <a:pt x="1660" y="258"/>
                    </a:lnTo>
                    <a:lnTo>
                      <a:pt x="1642" y="293"/>
                    </a:lnTo>
                    <a:lnTo>
                      <a:pt x="1625" y="329"/>
                    </a:lnTo>
                    <a:lnTo>
                      <a:pt x="1608" y="362"/>
                    </a:lnTo>
                    <a:lnTo>
                      <a:pt x="1591" y="392"/>
                    </a:lnTo>
                    <a:lnTo>
                      <a:pt x="1574" y="421"/>
                    </a:lnTo>
                    <a:lnTo>
                      <a:pt x="1558" y="447"/>
                    </a:lnTo>
                    <a:lnTo>
                      <a:pt x="1542" y="472"/>
                    </a:lnTo>
                    <a:lnTo>
                      <a:pt x="1525" y="494"/>
                    </a:lnTo>
                    <a:lnTo>
                      <a:pt x="1510" y="514"/>
                    </a:lnTo>
                    <a:lnTo>
                      <a:pt x="1493" y="533"/>
                    </a:lnTo>
                    <a:lnTo>
                      <a:pt x="1478" y="549"/>
                    </a:lnTo>
                    <a:lnTo>
                      <a:pt x="1461" y="565"/>
                    </a:lnTo>
                    <a:lnTo>
                      <a:pt x="1446" y="579"/>
                    </a:lnTo>
                    <a:lnTo>
                      <a:pt x="1431" y="590"/>
                    </a:lnTo>
                    <a:lnTo>
                      <a:pt x="1415" y="601"/>
                    </a:lnTo>
                    <a:lnTo>
                      <a:pt x="1399" y="611"/>
                    </a:lnTo>
                    <a:lnTo>
                      <a:pt x="1384" y="619"/>
                    </a:lnTo>
                    <a:lnTo>
                      <a:pt x="1368" y="625"/>
                    </a:lnTo>
                    <a:lnTo>
                      <a:pt x="1353" y="632"/>
                    </a:lnTo>
                    <a:lnTo>
                      <a:pt x="1338" y="636"/>
                    </a:lnTo>
                    <a:lnTo>
                      <a:pt x="1322" y="640"/>
                    </a:lnTo>
                    <a:lnTo>
                      <a:pt x="1307" y="643"/>
                    </a:lnTo>
                    <a:lnTo>
                      <a:pt x="1292" y="647"/>
                    </a:lnTo>
                    <a:lnTo>
                      <a:pt x="1276" y="648"/>
                    </a:lnTo>
                    <a:lnTo>
                      <a:pt x="1261" y="650"/>
                    </a:lnTo>
                    <a:lnTo>
                      <a:pt x="1197" y="651"/>
                    </a:lnTo>
                    <a:lnTo>
                      <a:pt x="1131" y="650"/>
                    </a:lnTo>
                    <a:lnTo>
                      <a:pt x="1066" y="651"/>
                    </a:lnTo>
                    <a:lnTo>
                      <a:pt x="1002" y="650"/>
                    </a:lnTo>
                    <a:lnTo>
                      <a:pt x="987" y="648"/>
                    </a:lnTo>
                    <a:lnTo>
                      <a:pt x="970" y="647"/>
                    </a:lnTo>
                    <a:lnTo>
                      <a:pt x="955" y="643"/>
                    </a:lnTo>
                    <a:lnTo>
                      <a:pt x="939" y="640"/>
                    </a:lnTo>
                    <a:lnTo>
                      <a:pt x="924" y="636"/>
                    </a:lnTo>
                    <a:lnTo>
                      <a:pt x="909" y="632"/>
                    </a:lnTo>
                    <a:lnTo>
                      <a:pt x="892" y="625"/>
                    </a:lnTo>
                    <a:lnTo>
                      <a:pt x="877" y="619"/>
                    </a:lnTo>
                    <a:lnTo>
                      <a:pt x="862" y="611"/>
                    </a:lnTo>
                    <a:lnTo>
                      <a:pt x="846" y="601"/>
                    </a:lnTo>
                    <a:lnTo>
                      <a:pt x="831" y="590"/>
                    </a:lnTo>
                    <a:lnTo>
                      <a:pt x="816" y="579"/>
                    </a:lnTo>
                    <a:lnTo>
                      <a:pt x="799" y="565"/>
                    </a:lnTo>
                    <a:lnTo>
                      <a:pt x="784" y="549"/>
                    </a:lnTo>
                    <a:lnTo>
                      <a:pt x="767" y="533"/>
                    </a:lnTo>
                    <a:lnTo>
                      <a:pt x="752" y="514"/>
                    </a:lnTo>
                    <a:lnTo>
                      <a:pt x="736" y="494"/>
                    </a:lnTo>
                    <a:lnTo>
                      <a:pt x="720" y="472"/>
                    </a:lnTo>
                    <a:lnTo>
                      <a:pt x="704" y="447"/>
                    </a:lnTo>
                    <a:lnTo>
                      <a:pt x="687" y="421"/>
                    </a:lnTo>
                    <a:lnTo>
                      <a:pt x="671" y="392"/>
                    </a:lnTo>
                    <a:lnTo>
                      <a:pt x="654" y="362"/>
                    </a:lnTo>
                    <a:lnTo>
                      <a:pt x="637" y="329"/>
                    </a:lnTo>
                    <a:lnTo>
                      <a:pt x="620" y="293"/>
                    </a:lnTo>
                    <a:lnTo>
                      <a:pt x="603" y="258"/>
                    </a:lnTo>
                    <a:lnTo>
                      <a:pt x="584" y="226"/>
                    </a:lnTo>
                    <a:lnTo>
                      <a:pt x="563" y="196"/>
                    </a:lnTo>
                    <a:lnTo>
                      <a:pt x="543" y="170"/>
                    </a:lnTo>
                    <a:lnTo>
                      <a:pt x="520" y="145"/>
                    </a:lnTo>
                    <a:lnTo>
                      <a:pt x="496" y="123"/>
                    </a:lnTo>
                    <a:lnTo>
                      <a:pt x="472" y="103"/>
                    </a:lnTo>
                    <a:lnTo>
                      <a:pt x="448" y="86"/>
                    </a:lnTo>
                    <a:lnTo>
                      <a:pt x="423" y="70"/>
                    </a:lnTo>
                    <a:lnTo>
                      <a:pt x="397" y="56"/>
                    </a:lnTo>
                    <a:lnTo>
                      <a:pt x="371" y="45"/>
                    </a:lnTo>
                    <a:lnTo>
                      <a:pt x="345" y="34"/>
                    </a:lnTo>
                    <a:lnTo>
                      <a:pt x="319" y="26"/>
                    </a:lnTo>
                    <a:lnTo>
                      <a:pt x="294" y="18"/>
                    </a:lnTo>
                    <a:lnTo>
                      <a:pt x="268" y="13"/>
                    </a:lnTo>
                    <a:lnTo>
                      <a:pt x="243" y="9"/>
                    </a:lnTo>
                    <a:lnTo>
                      <a:pt x="218" y="5"/>
                    </a:lnTo>
                    <a:lnTo>
                      <a:pt x="194" y="2"/>
                    </a:lnTo>
                    <a:lnTo>
                      <a:pt x="171" y="1"/>
                    </a:lnTo>
                    <a:lnTo>
                      <a:pt x="149" y="0"/>
                    </a:lnTo>
                    <a:lnTo>
                      <a:pt x="107" y="1"/>
                    </a:lnTo>
                    <a:lnTo>
                      <a:pt x="71" y="3"/>
                    </a:lnTo>
                    <a:lnTo>
                      <a:pt x="18" y="11"/>
                    </a:lnTo>
                    <a:lnTo>
                      <a:pt x="0" y="1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5" name=""/>
              <p:cNvSpPr/>
              <p:nvPr/>
            </p:nvSpPr>
            <p:spPr>
              <a:xfrm>
                <a:off x="2060640" y="1623600"/>
                <a:ext cx="730800" cy="663480"/>
              </a:xfrm>
              <a:custGeom>
                <a:avLst/>
                <a:gdLst/>
                <a:ahLst/>
                <a:rect l="l" t="t" r="r" b="b"/>
                <a:pathLst>
                  <a:path w="5074" h="3281">
                    <a:moveTo>
                      <a:pt x="4525" y="1521"/>
                    </a:moveTo>
                    <a:lnTo>
                      <a:pt x="4534" y="1532"/>
                    </a:lnTo>
                    <a:lnTo>
                      <a:pt x="4545" y="1541"/>
                    </a:lnTo>
                    <a:lnTo>
                      <a:pt x="4556" y="1550"/>
                    </a:lnTo>
                    <a:lnTo>
                      <a:pt x="4568" y="1557"/>
                    </a:lnTo>
                    <a:lnTo>
                      <a:pt x="4580" y="1564"/>
                    </a:lnTo>
                    <a:lnTo>
                      <a:pt x="4593" y="1569"/>
                    </a:lnTo>
                    <a:lnTo>
                      <a:pt x="4607" y="1574"/>
                    </a:lnTo>
                    <a:lnTo>
                      <a:pt x="4621" y="1577"/>
                    </a:lnTo>
                    <a:lnTo>
                      <a:pt x="4636" y="1580"/>
                    </a:lnTo>
                    <a:lnTo>
                      <a:pt x="4651" y="1583"/>
                    </a:lnTo>
                    <a:lnTo>
                      <a:pt x="4666" y="1585"/>
                    </a:lnTo>
                    <a:lnTo>
                      <a:pt x="4682" y="1586"/>
                    </a:lnTo>
                    <a:lnTo>
                      <a:pt x="4712" y="1586"/>
                    </a:lnTo>
                    <a:lnTo>
                      <a:pt x="4742" y="1584"/>
                    </a:lnTo>
                    <a:lnTo>
                      <a:pt x="4772" y="1582"/>
                    </a:lnTo>
                    <a:lnTo>
                      <a:pt x="4799" y="1577"/>
                    </a:lnTo>
                    <a:lnTo>
                      <a:pt x="4824" y="1572"/>
                    </a:lnTo>
                    <a:lnTo>
                      <a:pt x="4846" y="1568"/>
                    </a:lnTo>
                    <a:lnTo>
                      <a:pt x="4878" y="1559"/>
                    </a:lnTo>
                    <a:lnTo>
                      <a:pt x="4890" y="1556"/>
                    </a:lnTo>
                    <a:lnTo>
                      <a:pt x="4901" y="1571"/>
                    </a:lnTo>
                    <a:lnTo>
                      <a:pt x="4930" y="1611"/>
                    </a:lnTo>
                    <a:lnTo>
                      <a:pt x="4947" y="1638"/>
                    </a:lnTo>
                    <a:lnTo>
                      <a:pt x="4967" y="1668"/>
                    </a:lnTo>
                    <a:lnTo>
                      <a:pt x="4988" y="1701"/>
                    </a:lnTo>
                    <a:lnTo>
                      <a:pt x="5007" y="1735"/>
                    </a:lnTo>
                    <a:lnTo>
                      <a:pt x="5027" y="1769"/>
                    </a:lnTo>
                    <a:lnTo>
                      <a:pt x="5044" y="1803"/>
                    </a:lnTo>
                    <a:lnTo>
                      <a:pt x="5051" y="1820"/>
                    </a:lnTo>
                    <a:lnTo>
                      <a:pt x="5058" y="1836"/>
                    </a:lnTo>
                    <a:lnTo>
                      <a:pt x="5063" y="1851"/>
                    </a:lnTo>
                    <a:lnTo>
                      <a:pt x="5068" y="1866"/>
                    </a:lnTo>
                    <a:lnTo>
                      <a:pt x="5072" y="1879"/>
                    </a:lnTo>
                    <a:lnTo>
                      <a:pt x="5073" y="1892"/>
                    </a:lnTo>
                    <a:lnTo>
                      <a:pt x="5074" y="1904"/>
                    </a:lnTo>
                    <a:lnTo>
                      <a:pt x="5073" y="1914"/>
                    </a:lnTo>
                    <a:lnTo>
                      <a:pt x="5071" y="1923"/>
                    </a:lnTo>
                    <a:lnTo>
                      <a:pt x="5067" y="1930"/>
                    </a:lnTo>
                    <a:lnTo>
                      <a:pt x="5060" y="1936"/>
                    </a:lnTo>
                    <a:lnTo>
                      <a:pt x="5052" y="1941"/>
                    </a:lnTo>
                    <a:lnTo>
                      <a:pt x="5052" y="1955"/>
                    </a:lnTo>
                    <a:lnTo>
                      <a:pt x="5050" y="1993"/>
                    </a:lnTo>
                    <a:lnTo>
                      <a:pt x="5049" y="2049"/>
                    </a:lnTo>
                    <a:lnTo>
                      <a:pt x="5047" y="2117"/>
                    </a:lnTo>
                    <a:lnTo>
                      <a:pt x="5045" y="2192"/>
                    </a:lnTo>
                    <a:lnTo>
                      <a:pt x="5043" y="2268"/>
                    </a:lnTo>
                    <a:lnTo>
                      <a:pt x="5040" y="2339"/>
                    </a:lnTo>
                    <a:lnTo>
                      <a:pt x="5040" y="2400"/>
                    </a:lnTo>
                    <a:lnTo>
                      <a:pt x="5040" y="2411"/>
                    </a:lnTo>
                    <a:lnTo>
                      <a:pt x="5038" y="2420"/>
                    </a:lnTo>
                    <a:lnTo>
                      <a:pt x="5036" y="2427"/>
                    </a:lnTo>
                    <a:lnTo>
                      <a:pt x="5033" y="2431"/>
                    </a:lnTo>
                    <a:lnTo>
                      <a:pt x="5028" y="2433"/>
                    </a:lnTo>
                    <a:lnTo>
                      <a:pt x="5023" y="2433"/>
                    </a:lnTo>
                    <a:lnTo>
                      <a:pt x="5016" y="2431"/>
                    </a:lnTo>
                    <a:lnTo>
                      <a:pt x="5010" y="2428"/>
                    </a:lnTo>
                    <a:lnTo>
                      <a:pt x="4994" y="2417"/>
                    </a:lnTo>
                    <a:lnTo>
                      <a:pt x="4978" y="2401"/>
                    </a:lnTo>
                    <a:lnTo>
                      <a:pt x="4958" y="2382"/>
                    </a:lnTo>
                    <a:lnTo>
                      <a:pt x="4938" y="2361"/>
                    </a:lnTo>
                    <a:lnTo>
                      <a:pt x="4916" y="2339"/>
                    </a:lnTo>
                    <a:lnTo>
                      <a:pt x="4894" y="2319"/>
                    </a:lnTo>
                    <a:lnTo>
                      <a:pt x="4884" y="2309"/>
                    </a:lnTo>
                    <a:lnTo>
                      <a:pt x="4874" y="2301"/>
                    </a:lnTo>
                    <a:lnTo>
                      <a:pt x="4863" y="2294"/>
                    </a:lnTo>
                    <a:lnTo>
                      <a:pt x="4852" y="2286"/>
                    </a:lnTo>
                    <a:lnTo>
                      <a:pt x="4842" y="2281"/>
                    </a:lnTo>
                    <a:lnTo>
                      <a:pt x="4832" y="2278"/>
                    </a:lnTo>
                    <a:lnTo>
                      <a:pt x="4822" y="2275"/>
                    </a:lnTo>
                    <a:lnTo>
                      <a:pt x="4812" y="2275"/>
                    </a:lnTo>
                    <a:lnTo>
                      <a:pt x="4803" y="2276"/>
                    </a:lnTo>
                    <a:lnTo>
                      <a:pt x="4796" y="2279"/>
                    </a:lnTo>
                    <a:lnTo>
                      <a:pt x="4788" y="2285"/>
                    </a:lnTo>
                    <a:lnTo>
                      <a:pt x="4780" y="2294"/>
                    </a:lnTo>
                    <a:lnTo>
                      <a:pt x="4774" y="2303"/>
                    </a:lnTo>
                    <a:lnTo>
                      <a:pt x="4769" y="2315"/>
                    </a:lnTo>
                    <a:lnTo>
                      <a:pt x="4765" y="2326"/>
                    </a:lnTo>
                    <a:lnTo>
                      <a:pt x="4761" y="2339"/>
                    </a:lnTo>
                    <a:lnTo>
                      <a:pt x="4759" y="2352"/>
                    </a:lnTo>
                    <a:lnTo>
                      <a:pt x="4756" y="2366"/>
                    </a:lnTo>
                    <a:lnTo>
                      <a:pt x="4756" y="2379"/>
                    </a:lnTo>
                    <a:lnTo>
                      <a:pt x="4755" y="2393"/>
                    </a:lnTo>
                    <a:lnTo>
                      <a:pt x="4756" y="2422"/>
                    </a:lnTo>
                    <a:lnTo>
                      <a:pt x="4760" y="2451"/>
                    </a:lnTo>
                    <a:lnTo>
                      <a:pt x="4765" y="2481"/>
                    </a:lnTo>
                    <a:lnTo>
                      <a:pt x="4772" y="2510"/>
                    </a:lnTo>
                    <a:lnTo>
                      <a:pt x="4778" y="2537"/>
                    </a:lnTo>
                    <a:lnTo>
                      <a:pt x="4786" y="2563"/>
                    </a:lnTo>
                    <a:lnTo>
                      <a:pt x="4794" y="2586"/>
                    </a:lnTo>
                    <a:lnTo>
                      <a:pt x="4801" y="2606"/>
                    </a:lnTo>
                    <a:lnTo>
                      <a:pt x="4812" y="2636"/>
                    </a:lnTo>
                    <a:lnTo>
                      <a:pt x="4817" y="2646"/>
                    </a:lnTo>
                    <a:lnTo>
                      <a:pt x="4744" y="3140"/>
                    </a:lnTo>
                    <a:lnTo>
                      <a:pt x="4734" y="3107"/>
                    </a:lnTo>
                    <a:lnTo>
                      <a:pt x="4706" y="3020"/>
                    </a:lnTo>
                    <a:lnTo>
                      <a:pt x="4685" y="2962"/>
                    </a:lnTo>
                    <a:lnTo>
                      <a:pt x="4661" y="2899"/>
                    </a:lnTo>
                    <a:lnTo>
                      <a:pt x="4634" y="2831"/>
                    </a:lnTo>
                    <a:lnTo>
                      <a:pt x="4603" y="2761"/>
                    </a:lnTo>
                    <a:lnTo>
                      <a:pt x="4586" y="2726"/>
                    </a:lnTo>
                    <a:lnTo>
                      <a:pt x="4569" y="2692"/>
                    </a:lnTo>
                    <a:lnTo>
                      <a:pt x="4550" y="2659"/>
                    </a:lnTo>
                    <a:lnTo>
                      <a:pt x="4532" y="2626"/>
                    </a:lnTo>
                    <a:lnTo>
                      <a:pt x="4513" y="2596"/>
                    </a:lnTo>
                    <a:lnTo>
                      <a:pt x="4493" y="2567"/>
                    </a:lnTo>
                    <a:lnTo>
                      <a:pt x="4472" y="2539"/>
                    </a:lnTo>
                    <a:lnTo>
                      <a:pt x="4451" y="2515"/>
                    </a:lnTo>
                    <a:lnTo>
                      <a:pt x="4430" y="2493"/>
                    </a:lnTo>
                    <a:lnTo>
                      <a:pt x="4408" y="2474"/>
                    </a:lnTo>
                    <a:lnTo>
                      <a:pt x="4386" y="2457"/>
                    </a:lnTo>
                    <a:lnTo>
                      <a:pt x="4363" y="2444"/>
                    </a:lnTo>
                    <a:lnTo>
                      <a:pt x="4340" y="2436"/>
                    </a:lnTo>
                    <a:lnTo>
                      <a:pt x="4317" y="2430"/>
                    </a:lnTo>
                    <a:lnTo>
                      <a:pt x="4294" y="2430"/>
                    </a:lnTo>
                    <a:lnTo>
                      <a:pt x="4269" y="2435"/>
                    </a:lnTo>
                    <a:lnTo>
                      <a:pt x="4245" y="2442"/>
                    </a:lnTo>
                    <a:lnTo>
                      <a:pt x="4223" y="2453"/>
                    </a:lnTo>
                    <a:lnTo>
                      <a:pt x="4201" y="2464"/>
                    </a:lnTo>
                    <a:lnTo>
                      <a:pt x="4181" y="2479"/>
                    </a:lnTo>
                    <a:lnTo>
                      <a:pt x="4160" y="2495"/>
                    </a:lnTo>
                    <a:lnTo>
                      <a:pt x="4141" y="2513"/>
                    </a:lnTo>
                    <a:lnTo>
                      <a:pt x="4123" y="2532"/>
                    </a:lnTo>
                    <a:lnTo>
                      <a:pt x="4105" y="2552"/>
                    </a:lnTo>
                    <a:lnTo>
                      <a:pt x="4087" y="2574"/>
                    </a:lnTo>
                    <a:lnTo>
                      <a:pt x="4071" y="2597"/>
                    </a:lnTo>
                    <a:lnTo>
                      <a:pt x="4056" y="2620"/>
                    </a:lnTo>
                    <a:lnTo>
                      <a:pt x="4041" y="2644"/>
                    </a:lnTo>
                    <a:lnTo>
                      <a:pt x="4028" y="2669"/>
                    </a:lnTo>
                    <a:lnTo>
                      <a:pt x="4015" y="2693"/>
                    </a:lnTo>
                    <a:lnTo>
                      <a:pt x="4002" y="2719"/>
                    </a:lnTo>
                    <a:lnTo>
                      <a:pt x="3991" y="2743"/>
                    </a:lnTo>
                    <a:lnTo>
                      <a:pt x="3970" y="2793"/>
                    </a:lnTo>
                    <a:lnTo>
                      <a:pt x="3953" y="2839"/>
                    </a:lnTo>
                    <a:lnTo>
                      <a:pt x="3937" y="2883"/>
                    </a:lnTo>
                    <a:lnTo>
                      <a:pt x="3925" y="2921"/>
                    </a:lnTo>
                    <a:lnTo>
                      <a:pt x="3910" y="2978"/>
                    </a:lnTo>
                    <a:lnTo>
                      <a:pt x="3904" y="2999"/>
                    </a:lnTo>
                    <a:lnTo>
                      <a:pt x="3611" y="2928"/>
                    </a:lnTo>
                    <a:lnTo>
                      <a:pt x="3940" y="1870"/>
                    </a:lnTo>
                    <a:lnTo>
                      <a:pt x="3937" y="1850"/>
                    </a:lnTo>
                    <a:lnTo>
                      <a:pt x="3925" y="1796"/>
                    </a:lnTo>
                    <a:lnTo>
                      <a:pt x="3916" y="1757"/>
                    </a:lnTo>
                    <a:lnTo>
                      <a:pt x="3904" y="1715"/>
                    </a:lnTo>
                    <a:lnTo>
                      <a:pt x="3890" y="1666"/>
                    </a:lnTo>
                    <a:lnTo>
                      <a:pt x="3872" y="1615"/>
                    </a:lnTo>
                    <a:lnTo>
                      <a:pt x="3852" y="1561"/>
                    </a:lnTo>
                    <a:lnTo>
                      <a:pt x="3829" y="1506"/>
                    </a:lnTo>
                    <a:lnTo>
                      <a:pt x="3815" y="1479"/>
                    </a:lnTo>
                    <a:lnTo>
                      <a:pt x="3801" y="1450"/>
                    </a:lnTo>
                    <a:lnTo>
                      <a:pt x="3787" y="1423"/>
                    </a:lnTo>
                    <a:lnTo>
                      <a:pt x="3772" y="1395"/>
                    </a:lnTo>
                    <a:lnTo>
                      <a:pt x="3755" y="1367"/>
                    </a:lnTo>
                    <a:lnTo>
                      <a:pt x="3738" y="1341"/>
                    </a:lnTo>
                    <a:lnTo>
                      <a:pt x="3719" y="1316"/>
                    </a:lnTo>
                    <a:lnTo>
                      <a:pt x="3699" y="1290"/>
                    </a:lnTo>
                    <a:lnTo>
                      <a:pt x="3679" y="1266"/>
                    </a:lnTo>
                    <a:lnTo>
                      <a:pt x="3658" y="1242"/>
                    </a:lnTo>
                    <a:lnTo>
                      <a:pt x="3636" y="1220"/>
                    </a:lnTo>
                    <a:lnTo>
                      <a:pt x="3611" y="1199"/>
                    </a:lnTo>
                    <a:lnTo>
                      <a:pt x="3569" y="1231"/>
                    </a:lnTo>
                    <a:lnTo>
                      <a:pt x="3447" y="1317"/>
                    </a:lnTo>
                    <a:lnTo>
                      <a:pt x="3361" y="1374"/>
                    </a:lnTo>
                    <a:lnTo>
                      <a:pt x="3262" y="1437"/>
                    </a:lnTo>
                    <a:lnTo>
                      <a:pt x="3207" y="1471"/>
                    </a:lnTo>
                    <a:lnTo>
                      <a:pt x="3150" y="1506"/>
                    </a:lnTo>
                    <a:lnTo>
                      <a:pt x="3091" y="1542"/>
                    </a:lnTo>
                    <a:lnTo>
                      <a:pt x="3028" y="1578"/>
                    </a:lnTo>
                    <a:lnTo>
                      <a:pt x="2963" y="1615"/>
                    </a:lnTo>
                    <a:lnTo>
                      <a:pt x="2898" y="1651"/>
                    </a:lnTo>
                    <a:lnTo>
                      <a:pt x="2830" y="1687"/>
                    </a:lnTo>
                    <a:lnTo>
                      <a:pt x="2761" y="1724"/>
                    </a:lnTo>
                    <a:lnTo>
                      <a:pt x="2690" y="1757"/>
                    </a:lnTo>
                    <a:lnTo>
                      <a:pt x="2619" y="1791"/>
                    </a:lnTo>
                    <a:lnTo>
                      <a:pt x="2547" y="1824"/>
                    </a:lnTo>
                    <a:lnTo>
                      <a:pt x="2473" y="1854"/>
                    </a:lnTo>
                    <a:lnTo>
                      <a:pt x="2401" y="1884"/>
                    </a:lnTo>
                    <a:lnTo>
                      <a:pt x="2327" y="1910"/>
                    </a:lnTo>
                    <a:lnTo>
                      <a:pt x="2254" y="1934"/>
                    </a:lnTo>
                    <a:lnTo>
                      <a:pt x="2182" y="1956"/>
                    </a:lnTo>
                    <a:lnTo>
                      <a:pt x="2109" y="1975"/>
                    </a:lnTo>
                    <a:lnTo>
                      <a:pt x="2039" y="1991"/>
                    </a:lnTo>
                    <a:lnTo>
                      <a:pt x="1969" y="2002"/>
                    </a:lnTo>
                    <a:lnTo>
                      <a:pt x="1900" y="2011"/>
                    </a:lnTo>
                    <a:lnTo>
                      <a:pt x="1926" y="2000"/>
                    </a:lnTo>
                    <a:lnTo>
                      <a:pt x="1997" y="1969"/>
                    </a:lnTo>
                    <a:lnTo>
                      <a:pt x="2044" y="1947"/>
                    </a:lnTo>
                    <a:lnTo>
                      <a:pt x="2098" y="1922"/>
                    </a:lnTo>
                    <a:lnTo>
                      <a:pt x="2155" y="1893"/>
                    </a:lnTo>
                    <a:lnTo>
                      <a:pt x="2214" y="1861"/>
                    </a:lnTo>
                    <a:lnTo>
                      <a:pt x="2244" y="1844"/>
                    </a:lnTo>
                    <a:lnTo>
                      <a:pt x="2274" y="1827"/>
                    </a:lnTo>
                    <a:lnTo>
                      <a:pt x="2303" y="1809"/>
                    </a:lnTo>
                    <a:lnTo>
                      <a:pt x="2332" y="1791"/>
                    </a:lnTo>
                    <a:lnTo>
                      <a:pt x="2360" y="1772"/>
                    </a:lnTo>
                    <a:lnTo>
                      <a:pt x="2387" y="1753"/>
                    </a:lnTo>
                    <a:lnTo>
                      <a:pt x="2413" y="1734"/>
                    </a:lnTo>
                    <a:lnTo>
                      <a:pt x="2437" y="1715"/>
                    </a:lnTo>
                    <a:lnTo>
                      <a:pt x="2460" y="1695"/>
                    </a:lnTo>
                    <a:lnTo>
                      <a:pt x="2481" y="1675"/>
                    </a:lnTo>
                    <a:lnTo>
                      <a:pt x="2500" y="1656"/>
                    </a:lnTo>
                    <a:lnTo>
                      <a:pt x="2516" y="1636"/>
                    </a:lnTo>
                    <a:lnTo>
                      <a:pt x="2529" y="1615"/>
                    </a:lnTo>
                    <a:lnTo>
                      <a:pt x="2540" y="1595"/>
                    </a:lnTo>
                    <a:lnTo>
                      <a:pt x="2548" y="1576"/>
                    </a:lnTo>
                    <a:lnTo>
                      <a:pt x="2553" y="1556"/>
                    </a:lnTo>
                    <a:lnTo>
                      <a:pt x="2555" y="1538"/>
                    </a:lnTo>
                    <a:lnTo>
                      <a:pt x="2557" y="1523"/>
                    </a:lnTo>
                    <a:lnTo>
                      <a:pt x="2555" y="1513"/>
                    </a:lnTo>
                    <a:lnTo>
                      <a:pt x="2553" y="1505"/>
                    </a:lnTo>
                    <a:lnTo>
                      <a:pt x="2550" y="1500"/>
                    </a:lnTo>
                    <a:lnTo>
                      <a:pt x="2545" y="1499"/>
                    </a:lnTo>
                    <a:lnTo>
                      <a:pt x="2538" y="1500"/>
                    </a:lnTo>
                    <a:lnTo>
                      <a:pt x="2529" y="1504"/>
                    </a:lnTo>
                    <a:lnTo>
                      <a:pt x="2519" y="1509"/>
                    </a:lnTo>
                    <a:lnTo>
                      <a:pt x="2507" y="1518"/>
                    </a:lnTo>
                    <a:lnTo>
                      <a:pt x="2495" y="1529"/>
                    </a:lnTo>
                    <a:lnTo>
                      <a:pt x="2481" y="1540"/>
                    </a:lnTo>
                    <a:lnTo>
                      <a:pt x="2448" y="1569"/>
                    </a:lnTo>
                    <a:lnTo>
                      <a:pt x="2411" y="1602"/>
                    </a:lnTo>
                    <a:lnTo>
                      <a:pt x="2367" y="1637"/>
                    </a:lnTo>
                    <a:lnTo>
                      <a:pt x="2320" y="1674"/>
                    </a:lnTo>
                    <a:lnTo>
                      <a:pt x="2293" y="1693"/>
                    </a:lnTo>
                    <a:lnTo>
                      <a:pt x="2266" y="1711"/>
                    </a:lnTo>
                    <a:lnTo>
                      <a:pt x="2239" y="1729"/>
                    </a:lnTo>
                    <a:lnTo>
                      <a:pt x="2209" y="1746"/>
                    </a:lnTo>
                    <a:lnTo>
                      <a:pt x="2178" y="1762"/>
                    </a:lnTo>
                    <a:lnTo>
                      <a:pt x="2146" y="1778"/>
                    </a:lnTo>
                    <a:lnTo>
                      <a:pt x="2115" y="1791"/>
                    </a:lnTo>
                    <a:lnTo>
                      <a:pt x="2081" y="1804"/>
                    </a:lnTo>
                    <a:lnTo>
                      <a:pt x="2046" y="1815"/>
                    </a:lnTo>
                    <a:lnTo>
                      <a:pt x="2010" y="1823"/>
                    </a:lnTo>
                    <a:lnTo>
                      <a:pt x="1973" y="1829"/>
                    </a:lnTo>
                    <a:lnTo>
                      <a:pt x="1936" y="1835"/>
                    </a:lnTo>
                    <a:lnTo>
                      <a:pt x="1872" y="1840"/>
                    </a:lnTo>
                    <a:lnTo>
                      <a:pt x="1828" y="1844"/>
                    </a:lnTo>
                    <a:lnTo>
                      <a:pt x="1814" y="1845"/>
                    </a:lnTo>
                    <a:lnTo>
                      <a:pt x="1804" y="1845"/>
                    </a:lnTo>
                    <a:lnTo>
                      <a:pt x="1799" y="1845"/>
                    </a:lnTo>
                    <a:lnTo>
                      <a:pt x="1797" y="1844"/>
                    </a:lnTo>
                    <a:lnTo>
                      <a:pt x="1821" y="1834"/>
                    </a:lnTo>
                    <a:lnTo>
                      <a:pt x="1885" y="1808"/>
                    </a:lnTo>
                    <a:lnTo>
                      <a:pt x="1906" y="1800"/>
                    </a:lnTo>
                    <a:lnTo>
                      <a:pt x="1927" y="1790"/>
                    </a:lnTo>
                    <a:lnTo>
                      <a:pt x="1950" y="1780"/>
                    </a:lnTo>
                    <a:lnTo>
                      <a:pt x="1973" y="1767"/>
                    </a:lnTo>
                    <a:lnTo>
                      <a:pt x="1996" y="1754"/>
                    </a:lnTo>
                    <a:lnTo>
                      <a:pt x="2019" y="1739"/>
                    </a:lnTo>
                    <a:lnTo>
                      <a:pt x="2042" y="1725"/>
                    </a:lnTo>
                    <a:lnTo>
                      <a:pt x="2064" y="1708"/>
                    </a:lnTo>
                    <a:lnTo>
                      <a:pt x="2086" y="1689"/>
                    </a:lnTo>
                    <a:lnTo>
                      <a:pt x="2107" y="1669"/>
                    </a:lnTo>
                    <a:lnTo>
                      <a:pt x="2126" y="1648"/>
                    </a:lnTo>
                    <a:lnTo>
                      <a:pt x="2143" y="1626"/>
                    </a:lnTo>
                    <a:lnTo>
                      <a:pt x="2159" y="1602"/>
                    </a:lnTo>
                    <a:lnTo>
                      <a:pt x="2173" y="1576"/>
                    </a:lnTo>
                    <a:lnTo>
                      <a:pt x="2184" y="1550"/>
                    </a:lnTo>
                    <a:lnTo>
                      <a:pt x="2191" y="1521"/>
                    </a:lnTo>
                    <a:lnTo>
                      <a:pt x="2198" y="1493"/>
                    </a:lnTo>
                    <a:lnTo>
                      <a:pt x="2201" y="1467"/>
                    </a:lnTo>
                    <a:lnTo>
                      <a:pt x="2203" y="1446"/>
                    </a:lnTo>
                    <a:lnTo>
                      <a:pt x="2205" y="1428"/>
                    </a:lnTo>
                    <a:lnTo>
                      <a:pt x="2202" y="1412"/>
                    </a:lnTo>
                    <a:lnTo>
                      <a:pt x="2200" y="1399"/>
                    </a:lnTo>
                    <a:lnTo>
                      <a:pt x="2195" y="1390"/>
                    </a:lnTo>
                    <a:lnTo>
                      <a:pt x="2189" y="1383"/>
                    </a:lnTo>
                    <a:lnTo>
                      <a:pt x="2182" y="1378"/>
                    </a:lnTo>
                    <a:lnTo>
                      <a:pt x="2172" y="1377"/>
                    </a:lnTo>
                    <a:lnTo>
                      <a:pt x="2161" y="1377"/>
                    </a:lnTo>
                    <a:lnTo>
                      <a:pt x="2149" y="1379"/>
                    </a:lnTo>
                    <a:lnTo>
                      <a:pt x="2136" y="1383"/>
                    </a:lnTo>
                    <a:lnTo>
                      <a:pt x="2120" y="1391"/>
                    </a:lnTo>
                    <a:lnTo>
                      <a:pt x="2105" y="1398"/>
                    </a:lnTo>
                    <a:lnTo>
                      <a:pt x="2087" y="1409"/>
                    </a:lnTo>
                    <a:lnTo>
                      <a:pt x="2049" y="1433"/>
                    </a:lnTo>
                    <a:lnTo>
                      <a:pt x="2007" y="1463"/>
                    </a:lnTo>
                    <a:lnTo>
                      <a:pt x="1961" y="1497"/>
                    </a:lnTo>
                    <a:lnTo>
                      <a:pt x="1911" y="1534"/>
                    </a:lnTo>
                    <a:lnTo>
                      <a:pt x="1858" y="1573"/>
                    </a:lnTo>
                    <a:lnTo>
                      <a:pt x="1802" y="1613"/>
                    </a:lnTo>
                    <a:lnTo>
                      <a:pt x="1744" y="1654"/>
                    </a:lnTo>
                    <a:lnTo>
                      <a:pt x="1685" y="1694"/>
                    </a:lnTo>
                    <a:lnTo>
                      <a:pt x="1630" y="1729"/>
                    </a:lnTo>
                    <a:lnTo>
                      <a:pt x="1592" y="1755"/>
                    </a:lnTo>
                    <a:lnTo>
                      <a:pt x="1565" y="1775"/>
                    </a:lnTo>
                    <a:lnTo>
                      <a:pt x="1551" y="1788"/>
                    </a:lnTo>
                    <a:lnTo>
                      <a:pt x="1547" y="1792"/>
                    </a:lnTo>
                    <a:lnTo>
                      <a:pt x="1544" y="1796"/>
                    </a:lnTo>
                    <a:lnTo>
                      <a:pt x="1544" y="1797"/>
                    </a:lnTo>
                    <a:lnTo>
                      <a:pt x="1546" y="1798"/>
                    </a:lnTo>
                    <a:lnTo>
                      <a:pt x="1551" y="1796"/>
                    </a:lnTo>
                    <a:lnTo>
                      <a:pt x="1560" y="1790"/>
                    </a:lnTo>
                    <a:lnTo>
                      <a:pt x="1567" y="1783"/>
                    </a:lnTo>
                    <a:lnTo>
                      <a:pt x="1574" y="1773"/>
                    </a:lnTo>
                    <a:lnTo>
                      <a:pt x="1576" y="1768"/>
                    </a:lnTo>
                    <a:lnTo>
                      <a:pt x="1577" y="1763"/>
                    </a:lnTo>
                    <a:lnTo>
                      <a:pt x="1576" y="1758"/>
                    </a:lnTo>
                    <a:lnTo>
                      <a:pt x="1574" y="1753"/>
                    </a:lnTo>
                    <a:lnTo>
                      <a:pt x="1570" y="1748"/>
                    </a:lnTo>
                    <a:lnTo>
                      <a:pt x="1563" y="1744"/>
                    </a:lnTo>
                    <a:lnTo>
                      <a:pt x="1554" y="1739"/>
                    </a:lnTo>
                    <a:lnTo>
                      <a:pt x="1542" y="1736"/>
                    </a:lnTo>
                    <a:lnTo>
                      <a:pt x="1527" y="1733"/>
                    </a:lnTo>
                    <a:lnTo>
                      <a:pt x="1509" y="1731"/>
                    </a:lnTo>
                    <a:lnTo>
                      <a:pt x="1487" y="1729"/>
                    </a:lnTo>
                    <a:lnTo>
                      <a:pt x="1461" y="1729"/>
                    </a:lnTo>
                    <a:lnTo>
                      <a:pt x="1435" y="1729"/>
                    </a:lnTo>
                    <a:lnTo>
                      <a:pt x="1408" y="1730"/>
                    </a:lnTo>
                    <a:lnTo>
                      <a:pt x="1383" y="1731"/>
                    </a:lnTo>
                    <a:lnTo>
                      <a:pt x="1359" y="1734"/>
                    </a:lnTo>
                    <a:lnTo>
                      <a:pt x="1335" y="1736"/>
                    </a:lnTo>
                    <a:lnTo>
                      <a:pt x="1312" y="1739"/>
                    </a:lnTo>
                    <a:lnTo>
                      <a:pt x="1290" y="1744"/>
                    </a:lnTo>
                    <a:lnTo>
                      <a:pt x="1269" y="1749"/>
                    </a:lnTo>
                    <a:lnTo>
                      <a:pt x="1249" y="1754"/>
                    </a:lnTo>
                    <a:lnTo>
                      <a:pt x="1230" y="1760"/>
                    </a:lnTo>
                    <a:lnTo>
                      <a:pt x="1212" y="1766"/>
                    </a:lnTo>
                    <a:lnTo>
                      <a:pt x="1196" y="1773"/>
                    </a:lnTo>
                    <a:lnTo>
                      <a:pt x="1180" y="1782"/>
                    </a:lnTo>
                    <a:lnTo>
                      <a:pt x="1165" y="1790"/>
                    </a:lnTo>
                    <a:lnTo>
                      <a:pt x="1153" y="1799"/>
                    </a:lnTo>
                    <a:lnTo>
                      <a:pt x="1141" y="1808"/>
                    </a:lnTo>
                    <a:lnTo>
                      <a:pt x="1130" y="1819"/>
                    </a:lnTo>
                    <a:lnTo>
                      <a:pt x="1121" y="1829"/>
                    </a:lnTo>
                    <a:lnTo>
                      <a:pt x="1115" y="1841"/>
                    </a:lnTo>
                    <a:lnTo>
                      <a:pt x="1108" y="1854"/>
                    </a:lnTo>
                    <a:lnTo>
                      <a:pt x="1104" y="1867"/>
                    </a:lnTo>
                    <a:lnTo>
                      <a:pt x="1101" y="1880"/>
                    </a:lnTo>
                    <a:lnTo>
                      <a:pt x="1100" y="1894"/>
                    </a:lnTo>
                    <a:lnTo>
                      <a:pt x="1100" y="1909"/>
                    </a:lnTo>
                    <a:lnTo>
                      <a:pt x="1104" y="1925"/>
                    </a:lnTo>
                    <a:lnTo>
                      <a:pt x="1107" y="1941"/>
                    </a:lnTo>
                    <a:lnTo>
                      <a:pt x="1113" y="1957"/>
                    </a:lnTo>
                    <a:lnTo>
                      <a:pt x="1121" y="1975"/>
                    </a:lnTo>
                    <a:lnTo>
                      <a:pt x="1131" y="1993"/>
                    </a:lnTo>
                    <a:lnTo>
                      <a:pt x="1143" y="2011"/>
                    </a:lnTo>
                    <a:lnTo>
                      <a:pt x="1157" y="2031"/>
                    </a:lnTo>
                    <a:lnTo>
                      <a:pt x="1174" y="2050"/>
                    </a:lnTo>
                    <a:lnTo>
                      <a:pt x="1189" y="2070"/>
                    </a:lnTo>
                    <a:lnTo>
                      <a:pt x="1206" y="2090"/>
                    </a:lnTo>
                    <a:lnTo>
                      <a:pt x="1220" y="2111"/>
                    </a:lnTo>
                    <a:lnTo>
                      <a:pt x="1234" y="2133"/>
                    </a:lnTo>
                    <a:lnTo>
                      <a:pt x="1247" y="2154"/>
                    </a:lnTo>
                    <a:lnTo>
                      <a:pt x="1259" y="2176"/>
                    </a:lnTo>
                    <a:lnTo>
                      <a:pt x="1271" y="2198"/>
                    </a:lnTo>
                    <a:lnTo>
                      <a:pt x="1282" y="2219"/>
                    </a:lnTo>
                    <a:lnTo>
                      <a:pt x="1302" y="2264"/>
                    </a:lnTo>
                    <a:lnTo>
                      <a:pt x="1320" y="2307"/>
                    </a:lnTo>
                    <a:lnTo>
                      <a:pt x="1335" y="2350"/>
                    </a:lnTo>
                    <a:lnTo>
                      <a:pt x="1348" y="2391"/>
                    </a:lnTo>
                    <a:lnTo>
                      <a:pt x="1358" y="2429"/>
                    </a:lnTo>
                    <a:lnTo>
                      <a:pt x="1368" y="2464"/>
                    </a:lnTo>
                    <a:lnTo>
                      <a:pt x="1374" y="2496"/>
                    </a:lnTo>
                    <a:lnTo>
                      <a:pt x="1380" y="2522"/>
                    </a:lnTo>
                    <a:lnTo>
                      <a:pt x="1387" y="2562"/>
                    </a:lnTo>
                    <a:lnTo>
                      <a:pt x="1389" y="2575"/>
                    </a:lnTo>
                    <a:lnTo>
                      <a:pt x="1374" y="2563"/>
                    </a:lnTo>
                    <a:lnTo>
                      <a:pt x="1338" y="2529"/>
                    </a:lnTo>
                    <a:lnTo>
                      <a:pt x="1314" y="2509"/>
                    </a:lnTo>
                    <a:lnTo>
                      <a:pt x="1288" y="2486"/>
                    </a:lnTo>
                    <a:lnTo>
                      <a:pt x="1259" y="2464"/>
                    </a:lnTo>
                    <a:lnTo>
                      <a:pt x="1231" y="2443"/>
                    </a:lnTo>
                    <a:lnTo>
                      <a:pt x="1217" y="2433"/>
                    </a:lnTo>
                    <a:lnTo>
                      <a:pt x="1202" y="2425"/>
                    </a:lnTo>
                    <a:lnTo>
                      <a:pt x="1188" y="2417"/>
                    </a:lnTo>
                    <a:lnTo>
                      <a:pt x="1175" y="2410"/>
                    </a:lnTo>
                    <a:lnTo>
                      <a:pt x="1163" y="2405"/>
                    </a:lnTo>
                    <a:lnTo>
                      <a:pt x="1151" y="2401"/>
                    </a:lnTo>
                    <a:lnTo>
                      <a:pt x="1140" y="2397"/>
                    </a:lnTo>
                    <a:lnTo>
                      <a:pt x="1130" y="2397"/>
                    </a:lnTo>
                    <a:lnTo>
                      <a:pt x="1121" y="2397"/>
                    </a:lnTo>
                    <a:lnTo>
                      <a:pt x="1113" y="2401"/>
                    </a:lnTo>
                    <a:lnTo>
                      <a:pt x="1107" y="2406"/>
                    </a:lnTo>
                    <a:lnTo>
                      <a:pt x="1103" y="2413"/>
                    </a:lnTo>
                    <a:lnTo>
                      <a:pt x="1099" y="2424"/>
                    </a:lnTo>
                    <a:lnTo>
                      <a:pt x="1097" y="2436"/>
                    </a:lnTo>
                    <a:lnTo>
                      <a:pt x="1098" y="2451"/>
                    </a:lnTo>
                    <a:lnTo>
                      <a:pt x="1100" y="2469"/>
                    </a:lnTo>
                    <a:lnTo>
                      <a:pt x="1105" y="2491"/>
                    </a:lnTo>
                    <a:lnTo>
                      <a:pt x="1110" y="2512"/>
                    </a:lnTo>
                    <a:lnTo>
                      <a:pt x="1119" y="2535"/>
                    </a:lnTo>
                    <a:lnTo>
                      <a:pt x="1128" y="2560"/>
                    </a:lnTo>
                    <a:lnTo>
                      <a:pt x="1139" y="2584"/>
                    </a:lnTo>
                    <a:lnTo>
                      <a:pt x="1151" y="2610"/>
                    </a:lnTo>
                    <a:lnTo>
                      <a:pt x="1164" y="2637"/>
                    </a:lnTo>
                    <a:lnTo>
                      <a:pt x="1178" y="2663"/>
                    </a:lnTo>
                    <a:lnTo>
                      <a:pt x="1209" y="2720"/>
                    </a:lnTo>
                    <a:lnTo>
                      <a:pt x="1242" y="2775"/>
                    </a:lnTo>
                    <a:lnTo>
                      <a:pt x="1277" y="2831"/>
                    </a:lnTo>
                    <a:lnTo>
                      <a:pt x="1313" y="2885"/>
                    </a:lnTo>
                    <a:lnTo>
                      <a:pt x="1348" y="2936"/>
                    </a:lnTo>
                    <a:lnTo>
                      <a:pt x="1382" y="2983"/>
                    </a:lnTo>
                    <a:lnTo>
                      <a:pt x="1413" y="3028"/>
                    </a:lnTo>
                    <a:lnTo>
                      <a:pt x="1441" y="3065"/>
                    </a:lnTo>
                    <a:lnTo>
                      <a:pt x="1482" y="3120"/>
                    </a:lnTo>
                    <a:lnTo>
                      <a:pt x="1498" y="3140"/>
                    </a:lnTo>
                    <a:lnTo>
                      <a:pt x="1174" y="3281"/>
                    </a:lnTo>
                    <a:lnTo>
                      <a:pt x="1168" y="3249"/>
                    </a:lnTo>
                    <a:lnTo>
                      <a:pt x="1153" y="3165"/>
                    </a:lnTo>
                    <a:lnTo>
                      <a:pt x="1142" y="3108"/>
                    </a:lnTo>
                    <a:lnTo>
                      <a:pt x="1128" y="3047"/>
                    </a:lnTo>
                    <a:lnTo>
                      <a:pt x="1112" y="2982"/>
                    </a:lnTo>
                    <a:lnTo>
                      <a:pt x="1094" y="2916"/>
                    </a:lnTo>
                    <a:lnTo>
                      <a:pt x="1084" y="2883"/>
                    </a:lnTo>
                    <a:lnTo>
                      <a:pt x="1073" y="2850"/>
                    </a:lnTo>
                    <a:lnTo>
                      <a:pt x="1062" y="2818"/>
                    </a:lnTo>
                    <a:lnTo>
                      <a:pt x="1050" y="2788"/>
                    </a:lnTo>
                    <a:lnTo>
                      <a:pt x="1038" y="2759"/>
                    </a:lnTo>
                    <a:lnTo>
                      <a:pt x="1025" y="2732"/>
                    </a:lnTo>
                    <a:lnTo>
                      <a:pt x="1012" y="2707"/>
                    </a:lnTo>
                    <a:lnTo>
                      <a:pt x="997" y="2685"/>
                    </a:lnTo>
                    <a:lnTo>
                      <a:pt x="982" y="2664"/>
                    </a:lnTo>
                    <a:lnTo>
                      <a:pt x="968" y="2648"/>
                    </a:lnTo>
                    <a:lnTo>
                      <a:pt x="951" y="2633"/>
                    </a:lnTo>
                    <a:lnTo>
                      <a:pt x="935" y="2623"/>
                    </a:lnTo>
                    <a:lnTo>
                      <a:pt x="918" y="2617"/>
                    </a:lnTo>
                    <a:lnTo>
                      <a:pt x="901" y="2614"/>
                    </a:lnTo>
                    <a:lnTo>
                      <a:pt x="883" y="2616"/>
                    </a:lnTo>
                    <a:lnTo>
                      <a:pt x="865" y="2623"/>
                    </a:lnTo>
                    <a:lnTo>
                      <a:pt x="846" y="2633"/>
                    </a:lnTo>
                    <a:lnTo>
                      <a:pt x="826" y="2644"/>
                    </a:lnTo>
                    <a:lnTo>
                      <a:pt x="808" y="2656"/>
                    </a:lnTo>
                    <a:lnTo>
                      <a:pt x="789" y="2670"/>
                    </a:lnTo>
                    <a:lnTo>
                      <a:pt x="770" y="2685"/>
                    </a:lnTo>
                    <a:lnTo>
                      <a:pt x="752" y="2700"/>
                    </a:lnTo>
                    <a:lnTo>
                      <a:pt x="734" y="2716"/>
                    </a:lnTo>
                    <a:lnTo>
                      <a:pt x="717" y="2733"/>
                    </a:lnTo>
                    <a:lnTo>
                      <a:pt x="683" y="2769"/>
                    </a:lnTo>
                    <a:lnTo>
                      <a:pt x="651" y="2808"/>
                    </a:lnTo>
                    <a:lnTo>
                      <a:pt x="620" y="2846"/>
                    </a:lnTo>
                    <a:lnTo>
                      <a:pt x="593" y="2883"/>
                    </a:lnTo>
                    <a:lnTo>
                      <a:pt x="567" y="2920"/>
                    </a:lnTo>
                    <a:lnTo>
                      <a:pt x="544" y="2954"/>
                    </a:lnTo>
                    <a:lnTo>
                      <a:pt x="524" y="2986"/>
                    </a:lnTo>
                    <a:lnTo>
                      <a:pt x="507" y="3013"/>
                    </a:lnTo>
                    <a:lnTo>
                      <a:pt x="484" y="3054"/>
                    </a:lnTo>
                    <a:lnTo>
                      <a:pt x="475" y="3069"/>
                    </a:lnTo>
                    <a:lnTo>
                      <a:pt x="297" y="2756"/>
                    </a:lnTo>
                    <a:lnTo>
                      <a:pt x="110" y="2610"/>
                    </a:lnTo>
                    <a:lnTo>
                      <a:pt x="334" y="2294"/>
                    </a:lnTo>
                    <a:lnTo>
                      <a:pt x="184" y="2191"/>
                    </a:lnTo>
                    <a:lnTo>
                      <a:pt x="386" y="2027"/>
                    </a:lnTo>
                    <a:lnTo>
                      <a:pt x="0" y="1854"/>
                    </a:lnTo>
                    <a:lnTo>
                      <a:pt x="334" y="1748"/>
                    </a:lnTo>
                    <a:lnTo>
                      <a:pt x="297" y="1658"/>
                    </a:lnTo>
                    <a:lnTo>
                      <a:pt x="406" y="1694"/>
                    </a:lnTo>
                    <a:lnTo>
                      <a:pt x="370" y="1572"/>
                    </a:lnTo>
                    <a:lnTo>
                      <a:pt x="480" y="1607"/>
                    </a:lnTo>
                    <a:lnTo>
                      <a:pt x="459" y="1427"/>
                    </a:lnTo>
                    <a:lnTo>
                      <a:pt x="585" y="1415"/>
                    </a:lnTo>
                    <a:lnTo>
                      <a:pt x="584" y="1411"/>
                    </a:lnTo>
                    <a:lnTo>
                      <a:pt x="582" y="1399"/>
                    </a:lnTo>
                    <a:lnTo>
                      <a:pt x="578" y="1381"/>
                    </a:lnTo>
                    <a:lnTo>
                      <a:pt x="572" y="1360"/>
                    </a:lnTo>
                    <a:lnTo>
                      <a:pt x="565" y="1335"/>
                    </a:lnTo>
                    <a:lnTo>
                      <a:pt x="555" y="1307"/>
                    </a:lnTo>
                    <a:lnTo>
                      <a:pt x="544" y="1281"/>
                    </a:lnTo>
                    <a:lnTo>
                      <a:pt x="532" y="1254"/>
                    </a:lnTo>
                    <a:lnTo>
                      <a:pt x="529" y="1248"/>
                    </a:lnTo>
                    <a:lnTo>
                      <a:pt x="527" y="1242"/>
                    </a:lnTo>
                    <a:lnTo>
                      <a:pt x="526" y="1237"/>
                    </a:lnTo>
                    <a:lnTo>
                      <a:pt x="526" y="1233"/>
                    </a:lnTo>
                    <a:lnTo>
                      <a:pt x="526" y="1230"/>
                    </a:lnTo>
                    <a:lnTo>
                      <a:pt x="527" y="1227"/>
                    </a:lnTo>
                    <a:lnTo>
                      <a:pt x="528" y="1223"/>
                    </a:lnTo>
                    <a:lnTo>
                      <a:pt x="531" y="1221"/>
                    </a:lnTo>
                    <a:lnTo>
                      <a:pt x="537" y="1218"/>
                    </a:lnTo>
                    <a:lnTo>
                      <a:pt x="544" y="1217"/>
                    </a:lnTo>
                    <a:lnTo>
                      <a:pt x="553" y="1217"/>
                    </a:lnTo>
                    <a:lnTo>
                      <a:pt x="563" y="1218"/>
                    </a:lnTo>
                    <a:lnTo>
                      <a:pt x="584" y="1222"/>
                    </a:lnTo>
                    <a:lnTo>
                      <a:pt x="602" y="1228"/>
                    </a:lnTo>
                    <a:lnTo>
                      <a:pt x="616" y="1233"/>
                    </a:lnTo>
                    <a:lnTo>
                      <a:pt x="621" y="1235"/>
                    </a:lnTo>
                    <a:lnTo>
                      <a:pt x="658" y="1078"/>
                    </a:lnTo>
                    <a:lnTo>
                      <a:pt x="731" y="1042"/>
                    </a:lnTo>
                    <a:lnTo>
                      <a:pt x="722" y="1037"/>
                    </a:lnTo>
                    <a:lnTo>
                      <a:pt x="699" y="1022"/>
                    </a:lnTo>
                    <a:lnTo>
                      <a:pt x="684" y="1011"/>
                    </a:lnTo>
                    <a:lnTo>
                      <a:pt x="666" y="999"/>
                    </a:lnTo>
                    <a:lnTo>
                      <a:pt x="650" y="984"/>
                    </a:lnTo>
                    <a:lnTo>
                      <a:pt x="632" y="968"/>
                    </a:lnTo>
                    <a:lnTo>
                      <a:pt x="616" y="951"/>
                    </a:lnTo>
                    <a:lnTo>
                      <a:pt x="600" y="933"/>
                    </a:lnTo>
                    <a:lnTo>
                      <a:pt x="594" y="925"/>
                    </a:lnTo>
                    <a:lnTo>
                      <a:pt x="588" y="915"/>
                    </a:lnTo>
                    <a:lnTo>
                      <a:pt x="583" y="905"/>
                    </a:lnTo>
                    <a:lnTo>
                      <a:pt x="578" y="895"/>
                    </a:lnTo>
                    <a:lnTo>
                      <a:pt x="575" y="885"/>
                    </a:lnTo>
                    <a:lnTo>
                      <a:pt x="573" y="876"/>
                    </a:lnTo>
                    <a:lnTo>
                      <a:pt x="572" y="865"/>
                    </a:lnTo>
                    <a:lnTo>
                      <a:pt x="572" y="856"/>
                    </a:lnTo>
                    <a:lnTo>
                      <a:pt x="573" y="845"/>
                    </a:lnTo>
                    <a:lnTo>
                      <a:pt x="575" y="836"/>
                    </a:lnTo>
                    <a:lnTo>
                      <a:pt x="579" y="825"/>
                    </a:lnTo>
                    <a:lnTo>
                      <a:pt x="585" y="815"/>
                    </a:lnTo>
                    <a:lnTo>
                      <a:pt x="598" y="795"/>
                    </a:lnTo>
                    <a:lnTo>
                      <a:pt x="612" y="778"/>
                    </a:lnTo>
                    <a:lnTo>
                      <a:pt x="626" y="762"/>
                    </a:lnTo>
                    <a:lnTo>
                      <a:pt x="639" y="749"/>
                    </a:lnTo>
                    <a:lnTo>
                      <a:pt x="651" y="736"/>
                    </a:lnTo>
                    <a:lnTo>
                      <a:pt x="663" y="725"/>
                    </a:lnTo>
                    <a:lnTo>
                      <a:pt x="675" y="717"/>
                    </a:lnTo>
                    <a:lnTo>
                      <a:pt x="686" y="709"/>
                    </a:lnTo>
                    <a:lnTo>
                      <a:pt x="704" y="698"/>
                    </a:lnTo>
                    <a:lnTo>
                      <a:pt x="719" y="690"/>
                    </a:lnTo>
                    <a:lnTo>
                      <a:pt x="727" y="687"/>
                    </a:lnTo>
                    <a:lnTo>
                      <a:pt x="731" y="685"/>
                    </a:lnTo>
                    <a:lnTo>
                      <a:pt x="730" y="689"/>
                    </a:lnTo>
                    <a:lnTo>
                      <a:pt x="726" y="698"/>
                    </a:lnTo>
                    <a:lnTo>
                      <a:pt x="724" y="705"/>
                    </a:lnTo>
                    <a:lnTo>
                      <a:pt x="723" y="713"/>
                    </a:lnTo>
                    <a:lnTo>
                      <a:pt x="722" y="722"/>
                    </a:lnTo>
                    <a:lnTo>
                      <a:pt x="722" y="733"/>
                    </a:lnTo>
                    <a:lnTo>
                      <a:pt x="722" y="744"/>
                    </a:lnTo>
                    <a:lnTo>
                      <a:pt x="724" y="757"/>
                    </a:lnTo>
                    <a:lnTo>
                      <a:pt x="726" y="771"/>
                    </a:lnTo>
                    <a:lnTo>
                      <a:pt x="731" y="785"/>
                    </a:lnTo>
                    <a:lnTo>
                      <a:pt x="737" y="801"/>
                    </a:lnTo>
                    <a:lnTo>
                      <a:pt x="745" y="816"/>
                    </a:lnTo>
                    <a:lnTo>
                      <a:pt x="755" y="833"/>
                    </a:lnTo>
                    <a:lnTo>
                      <a:pt x="767" y="850"/>
                    </a:lnTo>
                    <a:lnTo>
                      <a:pt x="780" y="864"/>
                    </a:lnTo>
                    <a:lnTo>
                      <a:pt x="791" y="875"/>
                    </a:lnTo>
                    <a:lnTo>
                      <a:pt x="801" y="882"/>
                    </a:lnTo>
                    <a:lnTo>
                      <a:pt x="810" y="885"/>
                    </a:lnTo>
                    <a:lnTo>
                      <a:pt x="814" y="886"/>
                    </a:lnTo>
                    <a:lnTo>
                      <a:pt x="817" y="886"/>
                    </a:lnTo>
                    <a:lnTo>
                      <a:pt x="821" y="885"/>
                    </a:lnTo>
                    <a:lnTo>
                      <a:pt x="824" y="884"/>
                    </a:lnTo>
                    <a:lnTo>
                      <a:pt x="829" y="880"/>
                    </a:lnTo>
                    <a:lnTo>
                      <a:pt x="835" y="874"/>
                    </a:lnTo>
                    <a:lnTo>
                      <a:pt x="838" y="865"/>
                    </a:lnTo>
                    <a:lnTo>
                      <a:pt x="843" y="856"/>
                    </a:lnTo>
                    <a:lnTo>
                      <a:pt x="846" y="845"/>
                    </a:lnTo>
                    <a:lnTo>
                      <a:pt x="849" y="832"/>
                    </a:lnTo>
                    <a:lnTo>
                      <a:pt x="857" y="807"/>
                    </a:lnTo>
                    <a:lnTo>
                      <a:pt x="865" y="779"/>
                    </a:lnTo>
                    <a:lnTo>
                      <a:pt x="866" y="773"/>
                    </a:lnTo>
                    <a:lnTo>
                      <a:pt x="868" y="768"/>
                    </a:lnTo>
                    <a:lnTo>
                      <a:pt x="870" y="763"/>
                    </a:lnTo>
                    <a:lnTo>
                      <a:pt x="872" y="760"/>
                    </a:lnTo>
                    <a:lnTo>
                      <a:pt x="874" y="758"/>
                    </a:lnTo>
                    <a:lnTo>
                      <a:pt x="878" y="757"/>
                    </a:lnTo>
                    <a:lnTo>
                      <a:pt x="881" y="756"/>
                    </a:lnTo>
                    <a:lnTo>
                      <a:pt x="884" y="756"/>
                    </a:lnTo>
                    <a:lnTo>
                      <a:pt x="891" y="758"/>
                    </a:lnTo>
                    <a:lnTo>
                      <a:pt x="899" y="763"/>
                    </a:lnTo>
                    <a:lnTo>
                      <a:pt x="906" y="770"/>
                    </a:lnTo>
                    <a:lnTo>
                      <a:pt x="914" y="777"/>
                    </a:lnTo>
                    <a:lnTo>
                      <a:pt x="929" y="795"/>
                    </a:lnTo>
                    <a:lnTo>
                      <a:pt x="942" y="812"/>
                    </a:lnTo>
                    <a:lnTo>
                      <a:pt x="951" y="825"/>
                    </a:lnTo>
                    <a:lnTo>
                      <a:pt x="954" y="830"/>
                    </a:lnTo>
                    <a:lnTo>
                      <a:pt x="969" y="816"/>
                    </a:lnTo>
                    <a:lnTo>
                      <a:pt x="1010" y="780"/>
                    </a:lnTo>
                    <a:lnTo>
                      <a:pt x="1040" y="758"/>
                    </a:lnTo>
                    <a:lnTo>
                      <a:pt x="1074" y="734"/>
                    </a:lnTo>
                    <a:lnTo>
                      <a:pt x="1094" y="721"/>
                    </a:lnTo>
                    <a:lnTo>
                      <a:pt x="1115" y="708"/>
                    </a:lnTo>
                    <a:lnTo>
                      <a:pt x="1135" y="696"/>
                    </a:lnTo>
                    <a:lnTo>
                      <a:pt x="1158" y="684"/>
                    </a:lnTo>
                    <a:lnTo>
                      <a:pt x="1181" y="672"/>
                    </a:lnTo>
                    <a:lnTo>
                      <a:pt x="1206" y="662"/>
                    </a:lnTo>
                    <a:lnTo>
                      <a:pt x="1231" y="652"/>
                    </a:lnTo>
                    <a:lnTo>
                      <a:pt x="1257" y="644"/>
                    </a:lnTo>
                    <a:lnTo>
                      <a:pt x="1285" y="635"/>
                    </a:lnTo>
                    <a:lnTo>
                      <a:pt x="1312" y="629"/>
                    </a:lnTo>
                    <a:lnTo>
                      <a:pt x="1339" y="624"/>
                    </a:lnTo>
                    <a:lnTo>
                      <a:pt x="1368" y="620"/>
                    </a:lnTo>
                    <a:lnTo>
                      <a:pt x="1398" y="619"/>
                    </a:lnTo>
                    <a:lnTo>
                      <a:pt x="1427" y="619"/>
                    </a:lnTo>
                    <a:lnTo>
                      <a:pt x="1458" y="622"/>
                    </a:lnTo>
                    <a:lnTo>
                      <a:pt x="1487" y="626"/>
                    </a:lnTo>
                    <a:lnTo>
                      <a:pt x="1518" y="633"/>
                    </a:lnTo>
                    <a:lnTo>
                      <a:pt x="1549" y="643"/>
                    </a:lnTo>
                    <a:lnTo>
                      <a:pt x="1581" y="654"/>
                    </a:lnTo>
                    <a:lnTo>
                      <a:pt x="1611" y="670"/>
                    </a:lnTo>
                    <a:lnTo>
                      <a:pt x="1027" y="458"/>
                    </a:lnTo>
                    <a:lnTo>
                      <a:pt x="1076" y="442"/>
                    </a:lnTo>
                    <a:lnTo>
                      <a:pt x="1208" y="402"/>
                    </a:lnTo>
                    <a:lnTo>
                      <a:pt x="1299" y="377"/>
                    </a:lnTo>
                    <a:lnTo>
                      <a:pt x="1402" y="350"/>
                    </a:lnTo>
                    <a:lnTo>
                      <a:pt x="1458" y="336"/>
                    </a:lnTo>
                    <a:lnTo>
                      <a:pt x="1516" y="324"/>
                    </a:lnTo>
                    <a:lnTo>
                      <a:pt x="1576" y="311"/>
                    </a:lnTo>
                    <a:lnTo>
                      <a:pt x="1638" y="299"/>
                    </a:lnTo>
                    <a:lnTo>
                      <a:pt x="1700" y="289"/>
                    </a:lnTo>
                    <a:lnTo>
                      <a:pt x="1764" y="278"/>
                    </a:lnTo>
                    <a:lnTo>
                      <a:pt x="1828" y="270"/>
                    </a:lnTo>
                    <a:lnTo>
                      <a:pt x="1893" y="262"/>
                    </a:lnTo>
                    <a:lnTo>
                      <a:pt x="1958" y="256"/>
                    </a:lnTo>
                    <a:lnTo>
                      <a:pt x="2023" y="252"/>
                    </a:lnTo>
                    <a:lnTo>
                      <a:pt x="2086" y="250"/>
                    </a:lnTo>
                    <a:lnTo>
                      <a:pt x="2149" y="250"/>
                    </a:lnTo>
                    <a:lnTo>
                      <a:pt x="2210" y="252"/>
                    </a:lnTo>
                    <a:lnTo>
                      <a:pt x="2269" y="257"/>
                    </a:lnTo>
                    <a:lnTo>
                      <a:pt x="2327" y="265"/>
                    </a:lnTo>
                    <a:lnTo>
                      <a:pt x="2382" y="276"/>
                    </a:lnTo>
                    <a:lnTo>
                      <a:pt x="2435" y="290"/>
                    </a:lnTo>
                    <a:lnTo>
                      <a:pt x="2484" y="307"/>
                    </a:lnTo>
                    <a:lnTo>
                      <a:pt x="2530" y="328"/>
                    </a:lnTo>
                    <a:lnTo>
                      <a:pt x="2573" y="352"/>
                    </a:lnTo>
                    <a:lnTo>
                      <a:pt x="2558" y="343"/>
                    </a:lnTo>
                    <a:lnTo>
                      <a:pt x="2541" y="335"/>
                    </a:lnTo>
                    <a:lnTo>
                      <a:pt x="2526" y="328"/>
                    </a:lnTo>
                    <a:lnTo>
                      <a:pt x="2508" y="321"/>
                    </a:lnTo>
                    <a:lnTo>
                      <a:pt x="2492" y="315"/>
                    </a:lnTo>
                    <a:lnTo>
                      <a:pt x="2474" y="310"/>
                    </a:lnTo>
                    <a:lnTo>
                      <a:pt x="2457" y="306"/>
                    </a:lnTo>
                    <a:lnTo>
                      <a:pt x="2439" y="301"/>
                    </a:lnTo>
                    <a:lnTo>
                      <a:pt x="2404" y="295"/>
                    </a:lnTo>
                    <a:lnTo>
                      <a:pt x="2370" y="291"/>
                    </a:lnTo>
                    <a:lnTo>
                      <a:pt x="2336" y="289"/>
                    </a:lnTo>
                    <a:lnTo>
                      <a:pt x="2303" y="289"/>
                    </a:lnTo>
                    <a:lnTo>
                      <a:pt x="2273" y="289"/>
                    </a:lnTo>
                    <a:lnTo>
                      <a:pt x="2245" y="291"/>
                    </a:lnTo>
                    <a:lnTo>
                      <a:pt x="2220" y="293"/>
                    </a:lnTo>
                    <a:lnTo>
                      <a:pt x="2198" y="295"/>
                    </a:lnTo>
                    <a:lnTo>
                      <a:pt x="2166" y="299"/>
                    </a:lnTo>
                    <a:lnTo>
                      <a:pt x="2155" y="301"/>
                    </a:lnTo>
                    <a:lnTo>
                      <a:pt x="1936" y="0"/>
                    </a:lnTo>
                    <a:lnTo>
                      <a:pt x="1985" y="3"/>
                    </a:lnTo>
                    <a:lnTo>
                      <a:pt x="2119" y="15"/>
                    </a:lnTo>
                    <a:lnTo>
                      <a:pt x="2211" y="26"/>
                    </a:lnTo>
                    <a:lnTo>
                      <a:pt x="2315" y="39"/>
                    </a:lnTo>
                    <a:lnTo>
                      <a:pt x="2371" y="46"/>
                    </a:lnTo>
                    <a:lnTo>
                      <a:pt x="2429" y="55"/>
                    </a:lnTo>
                    <a:lnTo>
                      <a:pt x="2490" y="64"/>
                    </a:lnTo>
                    <a:lnTo>
                      <a:pt x="2552" y="75"/>
                    </a:lnTo>
                    <a:lnTo>
                      <a:pt x="2615" y="85"/>
                    </a:lnTo>
                    <a:lnTo>
                      <a:pt x="2678" y="98"/>
                    </a:lnTo>
                    <a:lnTo>
                      <a:pt x="2743" y="111"/>
                    </a:lnTo>
                    <a:lnTo>
                      <a:pt x="2807" y="126"/>
                    </a:lnTo>
                    <a:lnTo>
                      <a:pt x="2871" y="140"/>
                    </a:lnTo>
                    <a:lnTo>
                      <a:pt x="2935" y="156"/>
                    </a:lnTo>
                    <a:lnTo>
                      <a:pt x="2997" y="174"/>
                    </a:lnTo>
                    <a:lnTo>
                      <a:pt x="3059" y="193"/>
                    </a:lnTo>
                    <a:lnTo>
                      <a:pt x="3119" y="212"/>
                    </a:lnTo>
                    <a:lnTo>
                      <a:pt x="3177" y="234"/>
                    </a:lnTo>
                    <a:lnTo>
                      <a:pt x="3233" y="256"/>
                    </a:lnTo>
                    <a:lnTo>
                      <a:pt x="3286" y="279"/>
                    </a:lnTo>
                    <a:lnTo>
                      <a:pt x="3336" y="305"/>
                    </a:lnTo>
                    <a:lnTo>
                      <a:pt x="3383" y="331"/>
                    </a:lnTo>
                    <a:lnTo>
                      <a:pt x="3426" y="359"/>
                    </a:lnTo>
                    <a:lnTo>
                      <a:pt x="3466" y="387"/>
                    </a:lnTo>
                    <a:lnTo>
                      <a:pt x="3503" y="418"/>
                    </a:lnTo>
                    <a:lnTo>
                      <a:pt x="3539" y="448"/>
                    </a:lnTo>
                    <a:lnTo>
                      <a:pt x="3573" y="477"/>
                    </a:lnTo>
                    <a:lnTo>
                      <a:pt x="3606" y="507"/>
                    </a:lnTo>
                    <a:lnTo>
                      <a:pt x="3637" y="536"/>
                    </a:lnTo>
                    <a:lnTo>
                      <a:pt x="3665" y="564"/>
                    </a:lnTo>
                    <a:lnTo>
                      <a:pt x="3693" y="592"/>
                    </a:lnTo>
                    <a:lnTo>
                      <a:pt x="3719" y="618"/>
                    </a:lnTo>
                    <a:lnTo>
                      <a:pt x="3743" y="645"/>
                    </a:lnTo>
                    <a:lnTo>
                      <a:pt x="3766" y="671"/>
                    </a:lnTo>
                    <a:lnTo>
                      <a:pt x="3788" y="696"/>
                    </a:lnTo>
                    <a:lnTo>
                      <a:pt x="3808" y="720"/>
                    </a:lnTo>
                    <a:lnTo>
                      <a:pt x="3844" y="767"/>
                    </a:lnTo>
                    <a:lnTo>
                      <a:pt x="3876" y="810"/>
                    </a:lnTo>
                    <a:lnTo>
                      <a:pt x="3902" y="848"/>
                    </a:lnTo>
                    <a:lnTo>
                      <a:pt x="3924" y="883"/>
                    </a:lnTo>
                    <a:lnTo>
                      <a:pt x="3942" y="914"/>
                    </a:lnTo>
                    <a:lnTo>
                      <a:pt x="3955" y="939"/>
                    </a:lnTo>
                    <a:lnTo>
                      <a:pt x="3972" y="975"/>
                    </a:lnTo>
                    <a:lnTo>
                      <a:pt x="3977" y="987"/>
                    </a:lnTo>
                    <a:lnTo>
                      <a:pt x="3981" y="974"/>
                    </a:lnTo>
                    <a:lnTo>
                      <a:pt x="3993" y="939"/>
                    </a:lnTo>
                    <a:lnTo>
                      <a:pt x="4002" y="916"/>
                    </a:lnTo>
                    <a:lnTo>
                      <a:pt x="4014" y="891"/>
                    </a:lnTo>
                    <a:lnTo>
                      <a:pt x="4028" y="862"/>
                    </a:lnTo>
                    <a:lnTo>
                      <a:pt x="4046" y="832"/>
                    </a:lnTo>
                    <a:lnTo>
                      <a:pt x="4056" y="818"/>
                    </a:lnTo>
                    <a:lnTo>
                      <a:pt x="4067" y="802"/>
                    </a:lnTo>
                    <a:lnTo>
                      <a:pt x="4079" y="787"/>
                    </a:lnTo>
                    <a:lnTo>
                      <a:pt x="4091" y="773"/>
                    </a:lnTo>
                    <a:lnTo>
                      <a:pt x="4104" y="758"/>
                    </a:lnTo>
                    <a:lnTo>
                      <a:pt x="4118" y="744"/>
                    </a:lnTo>
                    <a:lnTo>
                      <a:pt x="4132" y="731"/>
                    </a:lnTo>
                    <a:lnTo>
                      <a:pt x="4149" y="718"/>
                    </a:lnTo>
                    <a:lnTo>
                      <a:pt x="4165" y="706"/>
                    </a:lnTo>
                    <a:lnTo>
                      <a:pt x="4183" y="695"/>
                    </a:lnTo>
                    <a:lnTo>
                      <a:pt x="4201" y="684"/>
                    </a:lnTo>
                    <a:lnTo>
                      <a:pt x="4221" y="674"/>
                    </a:lnTo>
                    <a:lnTo>
                      <a:pt x="4242" y="667"/>
                    </a:lnTo>
                    <a:lnTo>
                      <a:pt x="4263" y="660"/>
                    </a:lnTo>
                    <a:lnTo>
                      <a:pt x="4286" y="654"/>
                    </a:lnTo>
                    <a:lnTo>
                      <a:pt x="4310" y="650"/>
                    </a:lnTo>
                    <a:lnTo>
                      <a:pt x="4333" y="648"/>
                    </a:lnTo>
                    <a:lnTo>
                      <a:pt x="4355" y="649"/>
                    </a:lnTo>
                    <a:lnTo>
                      <a:pt x="4376" y="651"/>
                    </a:lnTo>
                    <a:lnTo>
                      <a:pt x="4397" y="654"/>
                    </a:lnTo>
                    <a:lnTo>
                      <a:pt x="4415" y="660"/>
                    </a:lnTo>
                    <a:lnTo>
                      <a:pt x="4433" y="667"/>
                    </a:lnTo>
                    <a:lnTo>
                      <a:pt x="4450" y="676"/>
                    </a:lnTo>
                    <a:lnTo>
                      <a:pt x="4467" y="685"/>
                    </a:lnTo>
                    <a:lnTo>
                      <a:pt x="4482" y="696"/>
                    </a:lnTo>
                    <a:lnTo>
                      <a:pt x="4496" y="707"/>
                    </a:lnTo>
                    <a:lnTo>
                      <a:pt x="4511" y="720"/>
                    </a:lnTo>
                    <a:lnTo>
                      <a:pt x="4523" y="734"/>
                    </a:lnTo>
                    <a:lnTo>
                      <a:pt x="4535" y="748"/>
                    </a:lnTo>
                    <a:lnTo>
                      <a:pt x="4547" y="761"/>
                    </a:lnTo>
                    <a:lnTo>
                      <a:pt x="4557" y="776"/>
                    </a:lnTo>
                    <a:lnTo>
                      <a:pt x="4567" y="791"/>
                    </a:lnTo>
                    <a:lnTo>
                      <a:pt x="4584" y="822"/>
                    </a:lnTo>
                    <a:lnTo>
                      <a:pt x="4598" y="851"/>
                    </a:lnTo>
                    <a:lnTo>
                      <a:pt x="4609" y="879"/>
                    </a:lnTo>
                    <a:lnTo>
                      <a:pt x="4619" y="904"/>
                    </a:lnTo>
                    <a:lnTo>
                      <a:pt x="4631" y="942"/>
                    </a:lnTo>
                    <a:lnTo>
                      <a:pt x="4635" y="956"/>
                    </a:lnTo>
                    <a:lnTo>
                      <a:pt x="4630" y="957"/>
                    </a:lnTo>
                    <a:lnTo>
                      <a:pt x="4619" y="960"/>
                    </a:lnTo>
                    <a:lnTo>
                      <a:pt x="4603" y="966"/>
                    </a:lnTo>
                    <a:lnTo>
                      <a:pt x="4582" y="974"/>
                    </a:lnTo>
                    <a:lnTo>
                      <a:pt x="4570" y="980"/>
                    </a:lnTo>
                    <a:lnTo>
                      <a:pt x="4558" y="987"/>
                    </a:lnTo>
                    <a:lnTo>
                      <a:pt x="4545" y="994"/>
                    </a:lnTo>
                    <a:lnTo>
                      <a:pt x="4533" y="1004"/>
                    </a:lnTo>
                    <a:lnTo>
                      <a:pt x="4519" y="1014"/>
                    </a:lnTo>
                    <a:lnTo>
                      <a:pt x="4507" y="1025"/>
                    </a:lnTo>
                    <a:lnTo>
                      <a:pt x="4495" y="1038"/>
                    </a:lnTo>
                    <a:lnTo>
                      <a:pt x="4484" y="1052"/>
                    </a:lnTo>
                    <a:lnTo>
                      <a:pt x="4473" y="1068"/>
                    </a:lnTo>
                    <a:lnTo>
                      <a:pt x="4464" y="1085"/>
                    </a:lnTo>
                    <a:lnTo>
                      <a:pt x="4455" y="1103"/>
                    </a:lnTo>
                    <a:lnTo>
                      <a:pt x="4447" y="1124"/>
                    </a:lnTo>
                    <a:lnTo>
                      <a:pt x="4442" y="1145"/>
                    </a:lnTo>
                    <a:lnTo>
                      <a:pt x="4437" y="1169"/>
                    </a:lnTo>
                    <a:lnTo>
                      <a:pt x="4435" y="1195"/>
                    </a:lnTo>
                    <a:lnTo>
                      <a:pt x="4434" y="1222"/>
                    </a:lnTo>
                    <a:lnTo>
                      <a:pt x="4436" y="1252"/>
                    </a:lnTo>
                    <a:lnTo>
                      <a:pt x="4441" y="1284"/>
                    </a:lnTo>
                    <a:lnTo>
                      <a:pt x="4447" y="1318"/>
                    </a:lnTo>
                    <a:lnTo>
                      <a:pt x="4456" y="1354"/>
                    </a:lnTo>
                    <a:lnTo>
                      <a:pt x="4469" y="1392"/>
                    </a:lnTo>
                    <a:lnTo>
                      <a:pt x="4484" y="1432"/>
                    </a:lnTo>
                    <a:lnTo>
                      <a:pt x="4503" y="1476"/>
                    </a:lnTo>
                    <a:lnTo>
                      <a:pt x="4525" y="1521"/>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6" name=""/>
              <p:cNvSpPr/>
              <p:nvPr/>
            </p:nvSpPr>
            <p:spPr>
              <a:xfrm>
                <a:off x="2060640" y="1623600"/>
                <a:ext cx="730800" cy="663480"/>
              </a:xfrm>
              <a:custGeom>
                <a:avLst/>
                <a:gdLst/>
                <a:ahLst/>
                <a:rect l="l" t="t" r="r" b="b"/>
                <a:pathLst>
                  <a:path w="5074" h="3281">
                    <a:moveTo>
                      <a:pt x="4525" y="1521"/>
                    </a:moveTo>
                    <a:lnTo>
                      <a:pt x="4534" y="1532"/>
                    </a:lnTo>
                    <a:lnTo>
                      <a:pt x="4545" y="1541"/>
                    </a:lnTo>
                    <a:lnTo>
                      <a:pt x="4556" y="1550"/>
                    </a:lnTo>
                    <a:lnTo>
                      <a:pt x="4568" y="1557"/>
                    </a:lnTo>
                    <a:lnTo>
                      <a:pt x="4580" y="1564"/>
                    </a:lnTo>
                    <a:lnTo>
                      <a:pt x="4593" y="1569"/>
                    </a:lnTo>
                    <a:lnTo>
                      <a:pt x="4607" y="1574"/>
                    </a:lnTo>
                    <a:lnTo>
                      <a:pt x="4621" y="1577"/>
                    </a:lnTo>
                    <a:lnTo>
                      <a:pt x="4636" y="1580"/>
                    </a:lnTo>
                    <a:lnTo>
                      <a:pt x="4651" y="1583"/>
                    </a:lnTo>
                    <a:lnTo>
                      <a:pt x="4666" y="1585"/>
                    </a:lnTo>
                    <a:lnTo>
                      <a:pt x="4682" y="1586"/>
                    </a:lnTo>
                    <a:lnTo>
                      <a:pt x="4712" y="1586"/>
                    </a:lnTo>
                    <a:lnTo>
                      <a:pt x="4742" y="1584"/>
                    </a:lnTo>
                    <a:lnTo>
                      <a:pt x="4772" y="1582"/>
                    </a:lnTo>
                    <a:lnTo>
                      <a:pt x="4799" y="1577"/>
                    </a:lnTo>
                    <a:lnTo>
                      <a:pt x="4824" y="1572"/>
                    </a:lnTo>
                    <a:lnTo>
                      <a:pt x="4846" y="1568"/>
                    </a:lnTo>
                    <a:lnTo>
                      <a:pt x="4878" y="1559"/>
                    </a:lnTo>
                    <a:lnTo>
                      <a:pt x="4890" y="1556"/>
                    </a:lnTo>
                    <a:lnTo>
                      <a:pt x="4901" y="1571"/>
                    </a:lnTo>
                    <a:lnTo>
                      <a:pt x="4930" y="1611"/>
                    </a:lnTo>
                    <a:lnTo>
                      <a:pt x="4947" y="1638"/>
                    </a:lnTo>
                    <a:lnTo>
                      <a:pt x="4967" y="1668"/>
                    </a:lnTo>
                    <a:lnTo>
                      <a:pt x="4988" y="1701"/>
                    </a:lnTo>
                    <a:lnTo>
                      <a:pt x="5007" y="1735"/>
                    </a:lnTo>
                    <a:lnTo>
                      <a:pt x="5027" y="1769"/>
                    </a:lnTo>
                    <a:lnTo>
                      <a:pt x="5044" y="1803"/>
                    </a:lnTo>
                    <a:lnTo>
                      <a:pt x="5051" y="1820"/>
                    </a:lnTo>
                    <a:lnTo>
                      <a:pt x="5058" y="1836"/>
                    </a:lnTo>
                    <a:lnTo>
                      <a:pt x="5063" y="1851"/>
                    </a:lnTo>
                    <a:lnTo>
                      <a:pt x="5068" y="1866"/>
                    </a:lnTo>
                    <a:lnTo>
                      <a:pt x="5072" y="1879"/>
                    </a:lnTo>
                    <a:lnTo>
                      <a:pt x="5073" y="1892"/>
                    </a:lnTo>
                    <a:lnTo>
                      <a:pt x="5074" y="1904"/>
                    </a:lnTo>
                    <a:lnTo>
                      <a:pt x="5073" y="1914"/>
                    </a:lnTo>
                    <a:lnTo>
                      <a:pt x="5071" y="1923"/>
                    </a:lnTo>
                    <a:lnTo>
                      <a:pt x="5067" y="1930"/>
                    </a:lnTo>
                    <a:lnTo>
                      <a:pt x="5060" y="1936"/>
                    </a:lnTo>
                    <a:lnTo>
                      <a:pt x="5052" y="1941"/>
                    </a:lnTo>
                    <a:lnTo>
                      <a:pt x="5052" y="1955"/>
                    </a:lnTo>
                    <a:lnTo>
                      <a:pt x="5050" y="1993"/>
                    </a:lnTo>
                    <a:lnTo>
                      <a:pt x="5049" y="2049"/>
                    </a:lnTo>
                    <a:lnTo>
                      <a:pt x="5047" y="2117"/>
                    </a:lnTo>
                    <a:lnTo>
                      <a:pt x="5045" y="2192"/>
                    </a:lnTo>
                    <a:lnTo>
                      <a:pt x="5043" y="2268"/>
                    </a:lnTo>
                    <a:lnTo>
                      <a:pt x="5040" y="2339"/>
                    </a:lnTo>
                    <a:lnTo>
                      <a:pt x="5040" y="2400"/>
                    </a:lnTo>
                    <a:lnTo>
                      <a:pt x="5040" y="2411"/>
                    </a:lnTo>
                    <a:lnTo>
                      <a:pt x="5038" y="2420"/>
                    </a:lnTo>
                    <a:lnTo>
                      <a:pt x="5036" y="2427"/>
                    </a:lnTo>
                    <a:lnTo>
                      <a:pt x="5033" y="2431"/>
                    </a:lnTo>
                    <a:lnTo>
                      <a:pt x="5028" y="2433"/>
                    </a:lnTo>
                    <a:lnTo>
                      <a:pt x="5023" y="2433"/>
                    </a:lnTo>
                    <a:lnTo>
                      <a:pt x="5016" y="2431"/>
                    </a:lnTo>
                    <a:lnTo>
                      <a:pt x="5010" y="2428"/>
                    </a:lnTo>
                    <a:lnTo>
                      <a:pt x="4994" y="2417"/>
                    </a:lnTo>
                    <a:lnTo>
                      <a:pt x="4978" y="2401"/>
                    </a:lnTo>
                    <a:lnTo>
                      <a:pt x="4958" y="2382"/>
                    </a:lnTo>
                    <a:lnTo>
                      <a:pt x="4938" y="2361"/>
                    </a:lnTo>
                    <a:lnTo>
                      <a:pt x="4916" y="2339"/>
                    </a:lnTo>
                    <a:lnTo>
                      <a:pt x="4894" y="2319"/>
                    </a:lnTo>
                    <a:lnTo>
                      <a:pt x="4884" y="2309"/>
                    </a:lnTo>
                    <a:lnTo>
                      <a:pt x="4874" y="2301"/>
                    </a:lnTo>
                    <a:lnTo>
                      <a:pt x="4863" y="2294"/>
                    </a:lnTo>
                    <a:lnTo>
                      <a:pt x="4852" y="2286"/>
                    </a:lnTo>
                    <a:lnTo>
                      <a:pt x="4842" y="2281"/>
                    </a:lnTo>
                    <a:lnTo>
                      <a:pt x="4832" y="2278"/>
                    </a:lnTo>
                    <a:lnTo>
                      <a:pt x="4822" y="2275"/>
                    </a:lnTo>
                    <a:lnTo>
                      <a:pt x="4812" y="2275"/>
                    </a:lnTo>
                    <a:lnTo>
                      <a:pt x="4803" y="2276"/>
                    </a:lnTo>
                    <a:lnTo>
                      <a:pt x="4796" y="2279"/>
                    </a:lnTo>
                    <a:lnTo>
                      <a:pt x="4788" y="2285"/>
                    </a:lnTo>
                    <a:lnTo>
                      <a:pt x="4780" y="2294"/>
                    </a:lnTo>
                    <a:lnTo>
                      <a:pt x="4774" y="2303"/>
                    </a:lnTo>
                    <a:lnTo>
                      <a:pt x="4769" y="2315"/>
                    </a:lnTo>
                    <a:lnTo>
                      <a:pt x="4765" y="2326"/>
                    </a:lnTo>
                    <a:lnTo>
                      <a:pt x="4761" y="2339"/>
                    </a:lnTo>
                    <a:lnTo>
                      <a:pt x="4759" y="2352"/>
                    </a:lnTo>
                    <a:lnTo>
                      <a:pt x="4756" y="2366"/>
                    </a:lnTo>
                    <a:lnTo>
                      <a:pt x="4756" y="2379"/>
                    </a:lnTo>
                    <a:lnTo>
                      <a:pt x="4755" y="2393"/>
                    </a:lnTo>
                    <a:lnTo>
                      <a:pt x="4756" y="2422"/>
                    </a:lnTo>
                    <a:lnTo>
                      <a:pt x="4760" y="2451"/>
                    </a:lnTo>
                    <a:lnTo>
                      <a:pt x="4765" y="2481"/>
                    </a:lnTo>
                    <a:lnTo>
                      <a:pt x="4772" y="2510"/>
                    </a:lnTo>
                    <a:lnTo>
                      <a:pt x="4778" y="2537"/>
                    </a:lnTo>
                    <a:lnTo>
                      <a:pt x="4786" y="2563"/>
                    </a:lnTo>
                    <a:lnTo>
                      <a:pt x="4794" y="2586"/>
                    </a:lnTo>
                    <a:lnTo>
                      <a:pt x="4801" y="2606"/>
                    </a:lnTo>
                    <a:lnTo>
                      <a:pt x="4812" y="2636"/>
                    </a:lnTo>
                    <a:lnTo>
                      <a:pt x="4817" y="2646"/>
                    </a:lnTo>
                    <a:lnTo>
                      <a:pt x="4744" y="3140"/>
                    </a:lnTo>
                    <a:lnTo>
                      <a:pt x="4734" y="3107"/>
                    </a:lnTo>
                    <a:lnTo>
                      <a:pt x="4706" y="3020"/>
                    </a:lnTo>
                    <a:lnTo>
                      <a:pt x="4685" y="2962"/>
                    </a:lnTo>
                    <a:lnTo>
                      <a:pt x="4661" y="2899"/>
                    </a:lnTo>
                    <a:lnTo>
                      <a:pt x="4634" y="2831"/>
                    </a:lnTo>
                    <a:lnTo>
                      <a:pt x="4603" y="2761"/>
                    </a:lnTo>
                    <a:lnTo>
                      <a:pt x="4586" y="2726"/>
                    </a:lnTo>
                    <a:lnTo>
                      <a:pt x="4569" y="2692"/>
                    </a:lnTo>
                    <a:lnTo>
                      <a:pt x="4550" y="2659"/>
                    </a:lnTo>
                    <a:lnTo>
                      <a:pt x="4532" y="2626"/>
                    </a:lnTo>
                    <a:lnTo>
                      <a:pt x="4513" y="2596"/>
                    </a:lnTo>
                    <a:lnTo>
                      <a:pt x="4493" y="2567"/>
                    </a:lnTo>
                    <a:lnTo>
                      <a:pt x="4472" y="2539"/>
                    </a:lnTo>
                    <a:lnTo>
                      <a:pt x="4451" y="2515"/>
                    </a:lnTo>
                    <a:lnTo>
                      <a:pt x="4430" y="2493"/>
                    </a:lnTo>
                    <a:lnTo>
                      <a:pt x="4408" y="2474"/>
                    </a:lnTo>
                    <a:lnTo>
                      <a:pt x="4386" y="2457"/>
                    </a:lnTo>
                    <a:lnTo>
                      <a:pt x="4363" y="2444"/>
                    </a:lnTo>
                    <a:lnTo>
                      <a:pt x="4340" y="2436"/>
                    </a:lnTo>
                    <a:lnTo>
                      <a:pt x="4317" y="2430"/>
                    </a:lnTo>
                    <a:lnTo>
                      <a:pt x="4294" y="2430"/>
                    </a:lnTo>
                    <a:lnTo>
                      <a:pt x="4269" y="2435"/>
                    </a:lnTo>
                    <a:lnTo>
                      <a:pt x="4245" y="2442"/>
                    </a:lnTo>
                    <a:lnTo>
                      <a:pt x="4223" y="2453"/>
                    </a:lnTo>
                    <a:lnTo>
                      <a:pt x="4201" y="2464"/>
                    </a:lnTo>
                    <a:lnTo>
                      <a:pt x="4181" y="2479"/>
                    </a:lnTo>
                    <a:lnTo>
                      <a:pt x="4160" y="2495"/>
                    </a:lnTo>
                    <a:lnTo>
                      <a:pt x="4141" y="2513"/>
                    </a:lnTo>
                    <a:lnTo>
                      <a:pt x="4123" y="2532"/>
                    </a:lnTo>
                    <a:lnTo>
                      <a:pt x="4105" y="2552"/>
                    </a:lnTo>
                    <a:lnTo>
                      <a:pt x="4087" y="2574"/>
                    </a:lnTo>
                    <a:lnTo>
                      <a:pt x="4071" y="2597"/>
                    </a:lnTo>
                    <a:lnTo>
                      <a:pt x="4056" y="2620"/>
                    </a:lnTo>
                    <a:lnTo>
                      <a:pt x="4041" y="2644"/>
                    </a:lnTo>
                    <a:lnTo>
                      <a:pt x="4028" y="2669"/>
                    </a:lnTo>
                    <a:lnTo>
                      <a:pt x="4015" y="2693"/>
                    </a:lnTo>
                    <a:lnTo>
                      <a:pt x="4002" y="2719"/>
                    </a:lnTo>
                    <a:lnTo>
                      <a:pt x="3991" y="2743"/>
                    </a:lnTo>
                    <a:lnTo>
                      <a:pt x="3970" y="2793"/>
                    </a:lnTo>
                    <a:lnTo>
                      <a:pt x="3953" y="2839"/>
                    </a:lnTo>
                    <a:lnTo>
                      <a:pt x="3937" y="2883"/>
                    </a:lnTo>
                    <a:lnTo>
                      <a:pt x="3925" y="2921"/>
                    </a:lnTo>
                    <a:lnTo>
                      <a:pt x="3910" y="2978"/>
                    </a:lnTo>
                    <a:lnTo>
                      <a:pt x="3904" y="2999"/>
                    </a:lnTo>
                    <a:lnTo>
                      <a:pt x="3611" y="2928"/>
                    </a:lnTo>
                    <a:lnTo>
                      <a:pt x="3940" y="1870"/>
                    </a:lnTo>
                    <a:lnTo>
                      <a:pt x="3937" y="1850"/>
                    </a:lnTo>
                    <a:lnTo>
                      <a:pt x="3925" y="1796"/>
                    </a:lnTo>
                    <a:lnTo>
                      <a:pt x="3916" y="1757"/>
                    </a:lnTo>
                    <a:lnTo>
                      <a:pt x="3904" y="1715"/>
                    </a:lnTo>
                    <a:lnTo>
                      <a:pt x="3890" y="1666"/>
                    </a:lnTo>
                    <a:lnTo>
                      <a:pt x="3872" y="1615"/>
                    </a:lnTo>
                    <a:lnTo>
                      <a:pt x="3852" y="1561"/>
                    </a:lnTo>
                    <a:lnTo>
                      <a:pt x="3829" y="1506"/>
                    </a:lnTo>
                    <a:lnTo>
                      <a:pt x="3815" y="1479"/>
                    </a:lnTo>
                    <a:lnTo>
                      <a:pt x="3801" y="1450"/>
                    </a:lnTo>
                    <a:lnTo>
                      <a:pt x="3787" y="1423"/>
                    </a:lnTo>
                    <a:lnTo>
                      <a:pt x="3772" y="1395"/>
                    </a:lnTo>
                    <a:lnTo>
                      <a:pt x="3755" y="1367"/>
                    </a:lnTo>
                    <a:lnTo>
                      <a:pt x="3738" y="1341"/>
                    </a:lnTo>
                    <a:lnTo>
                      <a:pt x="3719" y="1316"/>
                    </a:lnTo>
                    <a:lnTo>
                      <a:pt x="3699" y="1290"/>
                    </a:lnTo>
                    <a:lnTo>
                      <a:pt x="3679" y="1266"/>
                    </a:lnTo>
                    <a:lnTo>
                      <a:pt x="3658" y="1242"/>
                    </a:lnTo>
                    <a:lnTo>
                      <a:pt x="3636" y="1220"/>
                    </a:lnTo>
                    <a:lnTo>
                      <a:pt x="3611" y="1199"/>
                    </a:lnTo>
                    <a:lnTo>
                      <a:pt x="3569" y="1231"/>
                    </a:lnTo>
                    <a:lnTo>
                      <a:pt x="3447" y="1317"/>
                    </a:lnTo>
                    <a:lnTo>
                      <a:pt x="3361" y="1374"/>
                    </a:lnTo>
                    <a:lnTo>
                      <a:pt x="3262" y="1437"/>
                    </a:lnTo>
                    <a:lnTo>
                      <a:pt x="3207" y="1471"/>
                    </a:lnTo>
                    <a:lnTo>
                      <a:pt x="3150" y="1506"/>
                    </a:lnTo>
                    <a:lnTo>
                      <a:pt x="3091" y="1542"/>
                    </a:lnTo>
                    <a:lnTo>
                      <a:pt x="3028" y="1578"/>
                    </a:lnTo>
                    <a:lnTo>
                      <a:pt x="2963" y="1615"/>
                    </a:lnTo>
                    <a:lnTo>
                      <a:pt x="2898" y="1651"/>
                    </a:lnTo>
                    <a:lnTo>
                      <a:pt x="2830" y="1687"/>
                    </a:lnTo>
                    <a:lnTo>
                      <a:pt x="2761" y="1724"/>
                    </a:lnTo>
                    <a:lnTo>
                      <a:pt x="2690" y="1757"/>
                    </a:lnTo>
                    <a:lnTo>
                      <a:pt x="2619" y="1791"/>
                    </a:lnTo>
                    <a:lnTo>
                      <a:pt x="2547" y="1824"/>
                    </a:lnTo>
                    <a:lnTo>
                      <a:pt x="2473" y="1854"/>
                    </a:lnTo>
                    <a:lnTo>
                      <a:pt x="2401" y="1884"/>
                    </a:lnTo>
                    <a:lnTo>
                      <a:pt x="2327" y="1910"/>
                    </a:lnTo>
                    <a:lnTo>
                      <a:pt x="2254" y="1934"/>
                    </a:lnTo>
                    <a:lnTo>
                      <a:pt x="2182" y="1956"/>
                    </a:lnTo>
                    <a:lnTo>
                      <a:pt x="2109" y="1975"/>
                    </a:lnTo>
                    <a:lnTo>
                      <a:pt x="2039" y="1991"/>
                    </a:lnTo>
                    <a:lnTo>
                      <a:pt x="1969" y="2002"/>
                    </a:lnTo>
                    <a:lnTo>
                      <a:pt x="1900" y="2011"/>
                    </a:lnTo>
                    <a:lnTo>
                      <a:pt x="1926" y="2000"/>
                    </a:lnTo>
                    <a:lnTo>
                      <a:pt x="1997" y="1969"/>
                    </a:lnTo>
                    <a:lnTo>
                      <a:pt x="2044" y="1947"/>
                    </a:lnTo>
                    <a:lnTo>
                      <a:pt x="2098" y="1922"/>
                    </a:lnTo>
                    <a:lnTo>
                      <a:pt x="2155" y="1893"/>
                    </a:lnTo>
                    <a:lnTo>
                      <a:pt x="2214" y="1861"/>
                    </a:lnTo>
                    <a:lnTo>
                      <a:pt x="2244" y="1844"/>
                    </a:lnTo>
                    <a:lnTo>
                      <a:pt x="2274" y="1827"/>
                    </a:lnTo>
                    <a:lnTo>
                      <a:pt x="2303" y="1809"/>
                    </a:lnTo>
                    <a:lnTo>
                      <a:pt x="2332" y="1791"/>
                    </a:lnTo>
                    <a:lnTo>
                      <a:pt x="2360" y="1772"/>
                    </a:lnTo>
                    <a:lnTo>
                      <a:pt x="2387" y="1753"/>
                    </a:lnTo>
                    <a:lnTo>
                      <a:pt x="2413" y="1734"/>
                    </a:lnTo>
                    <a:lnTo>
                      <a:pt x="2437" y="1715"/>
                    </a:lnTo>
                    <a:lnTo>
                      <a:pt x="2460" y="1695"/>
                    </a:lnTo>
                    <a:lnTo>
                      <a:pt x="2481" y="1675"/>
                    </a:lnTo>
                    <a:lnTo>
                      <a:pt x="2500" y="1656"/>
                    </a:lnTo>
                    <a:lnTo>
                      <a:pt x="2516" y="1636"/>
                    </a:lnTo>
                    <a:lnTo>
                      <a:pt x="2529" y="1615"/>
                    </a:lnTo>
                    <a:lnTo>
                      <a:pt x="2540" y="1595"/>
                    </a:lnTo>
                    <a:lnTo>
                      <a:pt x="2548" y="1576"/>
                    </a:lnTo>
                    <a:lnTo>
                      <a:pt x="2553" y="1556"/>
                    </a:lnTo>
                    <a:lnTo>
                      <a:pt x="2555" y="1538"/>
                    </a:lnTo>
                    <a:lnTo>
                      <a:pt x="2557" y="1523"/>
                    </a:lnTo>
                    <a:lnTo>
                      <a:pt x="2555" y="1513"/>
                    </a:lnTo>
                    <a:lnTo>
                      <a:pt x="2553" y="1505"/>
                    </a:lnTo>
                    <a:lnTo>
                      <a:pt x="2550" y="1500"/>
                    </a:lnTo>
                    <a:lnTo>
                      <a:pt x="2545" y="1499"/>
                    </a:lnTo>
                    <a:lnTo>
                      <a:pt x="2538" y="1500"/>
                    </a:lnTo>
                    <a:lnTo>
                      <a:pt x="2529" y="1504"/>
                    </a:lnTo>
                    <a:lnTo>
                      <a:pt x="2519" y="1509"/>
                    </a:lnTo>
                    <a:lnTo>
                      <a:pt x="2507" y="1518"/>
                    </a:lnTo>
                    <a:lnTo>
                      <a:pt x="2495" y="1529"/>
                    </a:lnTo>
                    <a:lnTo>
                      <a:pt x="2481" y="1540"/>
                    </a:lnTo>
                    <a:lnTo>
                      <a:pt x="2448" y="1569"/>
                    </a:lnTo>
                    <a:lnTo>
                      <a:pt x="2411" y="1602"/>
                    </a:lnTo>
                    <a:lnTo>
                      <a:pt x="2367" y="1637"/>
                    </a:lnTo>
                    <a:lnTo>
                      <a:pt x="2320" y="1674"/>
                    </a:lnTo>
                    <a:lnTo>
                      <a:pt x="2293" y="1693"/>
                    </a:lnTo>
                    <a:lnTo>
                      <a:pt x="2266" y="1711"/>
                    </a:lnTo>
                    <a:lnTo>
                      <a:pt x="2239" y="1729"/>
                    </a:lnTo>
                    <a:lnTo>
                      <a:pt x="2209" y="1746"/>
                    </a:lnTo>
                    <a:lnTo>
                      <a:pt x="2178" y="1762"/>
                    </a:lnTo>
                    <a:lnTo>
                      <a:pt x="2146" y="1778"/>
                    </a:lnTo>
                    <a:lnTo>
                      <a:pt x="2115" y="1791"/>
                    </a:lnTo>
                    <a:lnTo>
                      <a:pt x="2081" y="1804"/>
                    </a:lnTo>
                    <a:lnTo>
                      <a:pt x="2046" y="1815"/>
                    </a:lnTo>
                    <a:lnTo>
                      <a:pt x="2010" y="1823"/>
                    </a:lnTo>
                    <a:lnTo>
                      <a:pt x="1973" y="1829"/>
                    </a:lnTo>
                    <a:lnTo>
                      <a:pt x="1936" y="1835"/>
                    </a:lnTo>
                    <a:lnTo>
                      <a:pt x="1872" y="1840"/>
                    </a:lnTo>
                    <a:lnTo>
                      <a:pt x="1828" y="1844"/>
                    </a:lnTo>
                    <a:lnTo>
                      <a:pt x="1814" y="1845"/>
                    </a:lnTo>
                    <a:lnTo>
                      <a:pt x="1804" y="1845"/>
                    </a:lnTo>
                    <a:lnTo>
                      <a:pt x="1799" y="1845"/>
                    </a:lnTo>
                    <a:lnTo>
                      <a:pt x="1797" y="1844"/>
                    </a:lnTo>
                    <a:lnTo>
                      <a:pt x="1821" y="1834"/>
                    </a:lnTo>
                    <a:lnTo>
                      <a:pt x="1885" y="1808"/>
                    </a:lnTo>
                    <a:lnTo>
                      <a:pt x="1906" y="1800"/>
                    </a:lnTo>
                    <a:lnTo>
                      <a:pt x="1927" y="1790"/>
                    </a:lnTo>
                    <a:lnTo>
                      <a:pt x="1950" y="1780"/>
                    </a:lnTo>
                    <a:lnTo>
                      <a:pt x="1973" y="1767"/>
                    </a:lnTo>
                    <a:lnTo>
                      <a:pt x="1996" y="1754"/>
                    </a:lnTo>
                    <a:lnTo>
                      <a:pt x="2019" y="1739"/>
                    </a:lnTo>
                    <a:lnTo>
                      <a:pt x="2042" y="1725"/>
                    </a:lnTo>
                    <a:lnTo>
                      <a:pt x="2064" y="1708"/>
                    </a:lnTo>
                    <a:lnTo>
                      <a:pt x="2086" y="1689"/>
                    </a:lnTo>
                    <a:lnTo>
                      <a:pt x="2107" y="1669"/>
                    </a:lnTo>
                    <a:lnTo>
                      <a:pt x="2126" y="1648"/>
                    </a:lnTo>
                    <a:lnTo>
                      <a:pt x="2143" y="1626"/>
                    </a:lnTo>
                    <a:lnTo>
                      <a:pt x="2159" y="1602"/>
                    </a:lnTo>
                    <a:lnTo>
                      <a:pt x="2173" y="1576"/>
                    </a:lnTo>
                    <a:lnTo>
                      <a:pt x="2184" y="1550"/>
                    </a:lnTo>
                    <a:lnTo>
                      <a:pt x="2191" y="1521"/>
                    </a:lnTo>
                    <a:lnTo>
                      <a:pt x="2198" y="1493"/>
                    </a:lnTo>
                    <a:lnTo>
                      <a:pt x="2201" y="1467"/>
                    </a:lnTo>
                    <a:lnTo>
                      <a:pt x="2203" y="1446"/>
                    </a:lnTo>
                    <a:lnTo>
                      <a:pt x="2205" y="1428"/>
                    </a:lnTo>
                    <a:lnTo>
                      <a:pt x="2202" y="1412"/>
                    </a:lnTo>
                    <a:lnTo>
                      <a:pt x="2200" y="1399"/>
                    </a:lnTo>
                    <a:lnTo>
                      <a:pt x="2195" y="1390"/>
                    </a:lnTo>
                    <a:lnTo>
                      <a:pt x="2189" y="1383"/>
                    </a:lnTo>
                    <a:lnTo>
                      <a:pt x="2182" y="1378"/>
                    </a:lnTo>
                    <a:lnTo>
                      <a:pt x="2172" y="1377"/>
                    </a:lnTo>
                    <a:lnTo>
                      <a:pt x="2161" y="1377"/>
                    </a:lnTo>
                    <a:lnTo>
                      <a:pt x="2149" y="1379"/>
                    </a:lnTo>
                    <a:lnTo>
                      <a:pt x="2136" y="1383"/>
                    </a:lnTo>
                    <a:lnTo>
                      <a:pt x="2120" y="1391"/>
                    </a:lnTo>
                    <a:lnTo>
                      <a:pt x="2105" y="1398"/>
                    </a:lnTo>
                    <a:lnTo>
                      <a:pt x="2087" y="1409"/>
                    </a:lnTo>
                    <a:lnTo>
                      <a:pt x="2049" y="1433"/>
                    </a:lnTo>
                    <a:lnTo>
                      <a:pt x="2007" y="1463"/>
                    </a:lnTo>
                    <a:lnTo>
                      <a:pt x="1961" y="1497"/>
                    </a:lnTo>
                    <a:lnTo>
                      <a:pt x="1911" y="1534"/>
                    </a:lnTo>
                    <a:lnTo>
                      <a:pt x="1858" y="1573"/>
                    </a:lnTo>
                    <a:lnTo>
                      <a:pt x="1802" y="1613"/>
                    </a:lnTo>
                    <a:lnTo>
                      <a:pt x="1744" y="1654"/>
                    </a:lnTo>
                    <a:lnTo>
                      <a:pt x="1685" y="1694"/>
                    </a:lnTo>
                    <a:lnTo>
                      <a:pt x="1630" y="1729"/>
                    </a:lnTo>
                    <a:lnTo>
                      <a:pt x="1592" y="1755"/>
                    </a:lnTo>
                    <a:lnTo>
                      <a:pt x="1565" y="1775"/>
                    </a:lnTo>
                    <a:lnTo>
                      <a:pt x="1551" y="1788"/>
                    </a:lnTo>
                    <a:lnTo>
                      <a:pt x="1547" y="1792"/>
                    </a:lnTo>
                    <a:lnTo>
                      <a:pt x="1544" y="1796"/>
                    </a:lnTo>
                    <a:lnTo>
                      <a:pt x="1544" y="1797"/>
                    </a:lnTo>
                    <a:lnTo>
                      <a:pt x="1546" y="1798"/>
                    </a:lnTo>
                    <a:lnTo>
                      <a:pt x="1551" y="1796"/>
                    </a:lnTo>
                    <a:lnTo>
                      <a:pt x="1560" y="1790"/>
                    </a:lnTo>
                    <a:lnTo>
                      <a:pt x="1567" y="1783"/>
                    </a:lnTo>
                    <a:lnTo>
                      <a:pt x="1574" y="1773"/>
                    </a:lnTo>
                    <a:lnTo>
                      <a:pt x="1576" y="1768"/>
                    </a:lnTo>
                    <a:lnTo>
                      <a:pt x="1577" y="1763"/>
                    </a:lnTo>
                    <a:lnTo>
                      <a:pt x="1576" y="1758"/>
                    </a:lnTo>
                    <a:lnTo>
                      <a:pt x="1574" y="1753"/>
                    </a:lnTo>
                    <a:lnTo>
                      <a:pt x="1570" y="1748"/>
                    </a:lnTo>
                    <a:lnTo>
                      <a:pt x="1563" y="1744"/>
                    </a:lnTo>
                    <a:lnTo>
                      <a:pt x="1554" y="1739"/>
                    </a:lnTo>
                    <a:lnTo>
                      <a:pt x="1542" y="1736"/>
                    </a:lnTo>
                    <a:lnTo>
                      <a:pt x="1527" y="1733"/>
                    </a:lnTo>
                    <a:lnTo>
                      <a:pt x="1509" y="1731"/>
                    </a:lnTo>
                    <a:lnTo>
                      <a:pt x="1487" y="1729"/>
                    </a:lnTo>
                    <a:lnTo>
                      <a:pt x="1461" y="1729"/>
                    </a:lnTo>
                    <a:lnTo>
                      <a:pt x="1435" y="1729"/>
                    </a:lnTo>
                    <a:lnTo>
                      <a:pt x="1408" y="1730"/>
                    </a:lnTo>
                    <a:lnTo>
                      <a:pt x="1383" y="1731"/>
                    </a:lnTo>
                    <a:lnTo>
                      <a:pt x="1359" y="1734"/>
                    </a:lnTo>
                    <a:lnTo>
                      <a:pt x="1335" y="1736"/>
                    </a:lnTo>
                    <a:lnTo>
                      <a:pt x="1312" y="1739"/>
                    </a:lnTo>
                    <a:lnTo>
                      <a:pt x="1290" y="1744"/>
                    </a:lnTo>
                    <a:lnTo>
                      <a:pt x="1269" y="1749"/>
                    </a:lnTo>
                    <a:lnTo>
                      <a:pt x="1249" y="1754"/>
                    </a:lnTo>
                    <a:lnTo>
                      <a:pt x="1230" y="1760"/>
                    </a:lnTo>
                    <a:lnTo>
                      <a:pt x="1212" y="1766"/>
                    </a:lnTo>
                    <a:lnTo>
                      <a:pt x="1196" y="1773"/>
                    </a:lnTo>
                    <a:lnTo>
                      <a:pt x="1180" y="1782"/>
                    </a:lnTo>
                    <a:lnTo>
                      <a:pt x="1165" y="1790"/>
                    </a:lnTo>
                    <a:lnTo>
                      <a:pt x="1153" y="1799"/>
                    </a:lnTo>
                    <a:lnTo>
                      <a:pt x="1141" y="1808"/>
                    </a:lnTo>
                    <a:lnTo>
                      <a:pt x="1130" y="1819"/>
                    </a:lnTo>
                    <a:lnTo>
                      <a:pt x="1121" y="1829"/>
                    </a:lnTo>
                    <a:lnTo>
                      <a:pt x="1115" y="1841"/>
                    </a:lnTo>
                    <a:lnTo>
                      <a:pt x="1108" y="1854"/>
                    </a:lnTo>
                    <a:lnTo>
                      <a:pt x="1104" y="1867"/>
                    </a:lnTo>
                    <a:lnTo>
                      <a:pt x="1101" y="1880"/>
                    </a:lnTo>
                    <a:lnTo>
                      <a:pt x="1100" y="1894"/>
                    </a:lnTo>
                    <a:lnTo>
                      <a:pt x="1100" y="1909"/>
                    </a:lnTo>
                    <a:lnTo>
                      <a:pt x="1104" y="1925"/>
                    </a:lnTo>
                    <a:lnTo>
                      <a:pt x="1107" y="1941"/>
                    </a:lnTo>
                    <a:lnTo>
                      <a:pt x="1113" y="1957"/>
                    </a:lnTo>
                    <a:lnTo>
                      <a:pt x="1121" y="1975"/>
                    </a:lnTo>
                    <a:lnTo>
                      <a:pt x="1131" y="1993"/>
                    </a:lnTo>
                    <a:lnTo>
                      <a:pt x="1143" y="2011"/>
                    </a:lnTo>
                    <a:lnTo>
                      <a:pt x="1157" y="2031"/>
                    </a:lnTo>
                    <a:lnTo>
                      <a:pt x="1174" y="2050"/>
                    </a:lnTo>
                    <a:lnTo>
                      <a:pt x="1189" y="2070"/>
                    </a:lnTo>
                    <a:lnTo>
                      <a:pt x="1206" y="2090"/>
                    </a:lnTo>
                    <a:lnTo>
                      <a:pt x="1220" y="2111"/>
                    </a:lnTo>
                    <a:lnTo>
                      <a:pt x="1234" y="2133"/>
                    </a:lnTo>
                    <a:lnTo>
                      <a:pt x="1247" y="2154"/>
                    </a:lnTo>
                    <a:lnTo>
                      <a:pt x="1259" y="2176"/>
                    </a:lnTo>
                    <a:lnTo>
                      <a:pt x="1271" y="2198"/>
                    </a:lnTo>
                    <a:lnTo>
                      <a:pt x="1282" y="2219"/>
                    </a:lnTo>
                    <a:lnTo>
                      <a:pt x="1302" y="2264"/>
                    </a:lnTo>
                    <a:lnTo>
                      <a:pt x="1320" y="2307"/>
                    </a:lnTo>
                    <a:lnTo>
                      <a:pt x="1335" y="2350"/>
                    </a:lnTo>
                    <a:lnTo>
                      <a:pt x="1348" y="2391"/>
                    </a:lnTo>
                    <a:lnTo>
                      <a:pt x="1358" y="2429"/>
                    </a:lnTo>
                    <a:lnTo>
                      <a:pt x="1368" y="2464"/>
                    </a:lnTo>
                    <a:lnTo>
                      <a:pt x="1374" y="2496"/>
                    </a:lnTo>
                    <a:lnTo>
                      <a:pt x="1380" y="2522"/>
                    </a:lnTo>
                    <a:lnTo>
                      <a:pt x="1387" y="2562"/>
                    </a:lnTo>
                    <a:lnTo>
                      <a:pt x="1389" y="2575"/>
                    </a:lnTo>
                    <a:lnTo>
                      <a:pt x="1374" y="2563"/>
                    </a:lnTo>
                    <a:lnTo>
                      <a:pt x="1338" y="2529"/>
                    </a:lnTo>
                    <a:lnTo>
                      <a:pt x="1314" y="2509"/>
                    </a:lnTo>
                    <a:lnTo>
                      <a:pt x="1288" y="2486"/>
                    </a:lnTo>
                    <a:lnTo>
                      <a:pt x="1259" y="2464"/>
                    </a:lnTo>
                    <a:lnTo>
                      <a:pt x="1231" y="2443"/>
                    </a:lnTo>
                    <a:lnTo>
                      <a:pt x="1217" y="2433"/>
                    </a:lnTo>
                    <a:lnTo>
                      <a:pt x="1202" y="2425"/>
                    </a:lnTo>
                    <a:lnTo>
                      <a:pt x="1188" y="2417"/>
                    </a:lnTo>
                    <a:lnTo>
                      <a:pt x="1175" y="2410"/>
                    </a:lnTo>
                    <a:lnTo>
                      <a:pt x="1163" y="2405"/>
                    </a:lnTo>
                    <a:lnTo>
                      <a:pt x="1151" y="2401"/>
                    </a:lnTo>
                    <a:lnTo>
                      <a:pt x="1140" y="2397"/>
                    </a:lnTo>
                    <a:lnTo>
                      <a:pt x="1130" y="2397"/>
                    </a:lnTo>
                    <a:lnTo>
                      <a:pt x="1121" y="2397"/>
                    </a:lnTo>
                    <a:lnTo>
                      <a:pt x="1113" y="2401"/>
                    </a:lnTo>
                    <a:lnTo>
                      <a:pt x="1107" y="2406"/>
                    </a:lnTo>
                    <a:lnTo>
                      <a:pt x="1103" y="2413"/>
                    </a:lnTo>
                    <a:lnTo>
                      <a:pt x="1099" y="2424"/>
                    </a:lnTo>
                    <a:lnTo>
                      <a:pt x="1097" y="2436"/>
                    </a:lnTo>
                    <a:lnTo>
                      <a:pt x="1098" y="2451"/>
                    </a:lnTo>
                    <a:lnTo>
                      <a:pt x="1100" y="2469"/>
                    </a:lnTo>
                    <a:lnTo>
                      <a:pt x="1105" y="2491"/>
                    </a:lnTo>
                    <a:lnTo>
                      <a:pt x="1110" y="2512"/>
                    </a:lnTo>
                    <a:lnTo>
                      <a:pt x="1119" y="2535"/>
                    </a:lnTo>
                    <a:lnTo>
                      <a:pt x="1128" y="2560"/>
                    </a:lnTo>
                    <a:lnTo>
                      <a:pt x="1139" y="2584"/>
                    </a:lnTo>
                    <a:lnTo>
                      <a:pt x="1151" y="2610"/>
                    </a:lnTo>
                    <a:lnTo>
                      <a:pt x="1164" y="2637"/>
                    </a:lnTo>
                    <a:lnTo>
                      <a:pt x="1178" y="2663"/>
                    </a:lnTo>
                    <a:lnTo>
                      <a:pt x="1209" y="2720"/>
                    </a:lnTo>
                    <a:lnTo>
                      <a:pt x="1242" y="2775"/>
                    </a:lnTo>
                    <a:lnTo>
                      <a:pt x="1277" y="2831"/>
                    </a:lnTo>
                    <a:lnTo>
                      <a:pt x="1313" y="2885"/>
                    </a:lnTo>
                    <a:lnTo>
                      <a:pt x="1348" y="2936"/>
                    </a:lnTo>
                    <a:lnTo>
                      <a:pt x="1382" y="2983"/>
                    </a:lnTo>
                    <a:lnTo>
                      <a:pt x="1413" y="3028"/>
                    </a:lnTo>
                    <a:lnTo>
                      <a:pt x="1441" y="3065"/>
                    </a:lnTo>
                    <a:lnTo>
                      <a:pt x="1482" y="3120"/>
                    </a:lnTo>
                    <a:lnTo>
                      <a:pt x="1498" y="3140"/>
                    </a:lnTo>
                    <a:lnTo>
                      <a:pt x="1174" y="3281"/>
                    </a:lnTo>
                    <a:lnTo>
                      <a:pt x="1168" y="3249"/>
                    </a:lnTo>
                    <a:lnTo>
                      <a:pt x="1153" y="3165"/>
                    </a:lnTo>
                    <a:lnTo>
                      <a:pt x="1142" y="3108"/>
                    </a:lnTo>
                    <a:lnTo>
                      <a:pt x="1128" y="3047"/>
                    </a:lnTo>
                    <a:lnTo>
                      <a:pt x="1112" y="2982"/>
                    </a:lnTo>
                    <a:lnTo>
                      <a:pt x="1094" y="2916"/>
                    </a:lnTo>
                    <a:lnTo>
                      <a:pt x="1084" y="2883"/>
                    </a:lnTo>
                    <a:lnTo>
                      <a:pt x="1073" y="2850"/>
                    </a:lnTo>
                    <a:lnTo>
                      <a:pt x="1062" y="2818"/>
                    </a:lnTo>
                    <a:lnTo>
                      <a:pt x="1050" y="2788"/>
                    </a:lnTo>
                    <a:lnTo>
                      <a:pt x="1038" y="2759"/>
                    </a:lnTo>
                    <a:lnTo>
                      <a:pt x="1025" y="2732"/>
                    </a:lnTo>
                    <a:lnTo>
                      <a:pt x="1012" y="2707"/>
                    </a:lnTo>
                    <a:lnTo>
                      <a:pt x="997" y="2685"/>
                    </a:lnTo>
                    <a:lnTo>
                      <a:pt x="982" y="2664"/>
                    </a:lnTo>
                    <a:lnTo>
                      <a:pt x="968" y="2648"/>
                    </a:lnTo>
                    <a:lnTo>
                      <a:pt x="951" y="2633"/>
                    </a:lnTo>
                    <a:lnTo>
                      <a:pt x="935" y="2623"/>
                    </a:lnTo>
                    <a:lnTo>
                      <a:pt x="918" y="2617"/>
                    </a:lnTo>
                    <a:lnTo>
                      <a:pt x="901" y="2614"/>
                    </a:lnTo>
                    <a:lnTo>
                      <a:pt x="883" y="2616"/>
                    </a:lnTo>
                    <a:lnTo>
                      <a:pt x="865" y="2623"/>
                    </a:lnTo>
                    <a:lnTo>
                      <a:pt x="846" y="2633"/>
                    </a:lnTo>
                    <a:lnTo>
                      <a:pt x="826" y="2644"/>
                    </a:lnTo>
                    <a:lnTo>
                      <a:pt x="808" y="2656"/>
                    </a:lnTo>
                    <a:lnTo>
                      <a:pt x="789" y="2670"/>
                    </a:lnTo>
                    <a:lnTo>
                      <a:pt x="770" y="2685"/>
                    </a:lnTo>
                    <a:lnTo>
                      <a:pt x="752" y="2700"/>
                    </a:lnTo>
                    <a:lnTo>
                      <a:pt x="734" y="2716"/>
                    </a:lnTo>
                    <a:lnTo>
                      <a:pt x="717" y="2733"/>
                    </a:lnTo>
                    <a:lnTo>
                      <a:pt x="683" y="2769"/>
                    </a:lnTo>
                    <a:lnTo>
                      <a:pt x="651" y="2808"/>
                    </a:lnTo>
                    <a:lnTo>
                      <a:pt x="620" y="2846"/>
                    </a:lnTo>
                    <a:lnTo>
                      <a:pt x="593" y="2883"/>
                    </a:lnTo>
                    <a:lnTo>
                      <a:pt x="567" y="2920"/>
                    </a:lnTo>
                    <a:lnTo>
                      <a:pt x="544" y="2954"/>
                    </a:lnTo>
                    <a:lnTo>
                      <a:pt x="524" y="2986"/>
                    </a:lnTo>
                    <a:lnTo>
                      <a:pt x="507" y="3013"/>
                    </a:lnTo>
                    <a:lnTo>
                      <a:pt x="484" y="3054"/>
                    </a:lnTo>
                    <a:lnTo>
                      <a:pt x="475" y="3069"/>
                    </a:lnTo>
                    <a:lnTo>
                      <a:pt x="297" y="2756"/>
                    </a:lnTo>
                    <a:lnTo>
                      <a:pt x="110" y="2610"/>
                    </a:lnTo>
                    <a:lnTo>
                      <a:pt x="334" y="2294"/>
                    </a:lnTo>
                    <a:lnTo>
                      <a:pt x="184" y="2191"/>
                    </a:lnTo>
                    <a:lnTo>
                      <a:pt x="386" y="2027"/>
                    </a:lnTo>
                    <a:lnTo>
                      <a:pt x="0" y="1854"/>
                    </a:lnTo>
                    <a:lnTo>
                      <a:pt x="334" y="1748"/>
                    </a:lnTo>
                    <a:lnTo>
                      <a:pt x="297" y="1658"/>
                    </a:lnTo>
                    <a:lnTo>
                      <a:pt x="406" y="1694"/>
                    </a:lnTo>
                    <a:lnTo>
                      <a:pt x="370" y="1572"/>
                    </a:lnTo>
                    <a:lnTo>
                      <a:pt x="480" y="1607"/>
                    </a:lnTo>
                    <a:lnTo>
                      <a:pt x="459" y="1427"/>
                    </a:lnTo>
                    <a:lnTo>
                      <a:pt x="585" y="1415"/>
                    </a:lnTo>
                    <a:lnTo>
                      <a:pt x="584" y="1411"/>
                    </a:lnTo>
                    <a:lnTo>
                      <a:pt x="582" y="1399"/>
                    </a:lnTo>
                    <a:lnTo>
                      <a:pt x="578" y="1381"/>
                    </a:lnTo>
                    <a:lnTo>
                      <a:pt x="572" y="1360"/>
                    </a:lnTo>
                    <a:lnTo>
                      <a:pt x="565" y="1335"/>
                    </a:lnTo>
                    <a:lnTo>
                      <a:pt x="555" y="1307"/>
                    </a:lnTo>
                    <a:lnTo>
                      <a:pt x="544" y="1281"/>
                    </a:lnTo>
                    <a:lnTo>
                      <a:pt x="532" y="1254"/>
                    </a:lnTo>
                    <a:lnTo>
                      <a:pt x="529" y="1248"/>
                    </a:lnTo>
                    <a:lnTo>
                      <a:pt x="527" y="1242"/>
                    </a:lnTo>
                    <a:lnTo>
                      <a:pt x="526" y="1237"/>
                    </a:lnTo>
                    <a:lnTo>
                      <a:pt x="526" y="1233"/>
                    </a:lnTo>
                    <a:lnTo>
                      <a:pt x="526" y="1230"/>
                    </a:lnTo>
                    <a:lnTo>
                      <a:pt x="527" y="1227"/>
                    </a:lnTo>
                    <a:lnTo>
                      <a:pt x="528" y="1223"/>
                    </a:lnTo>
                    <a:lnTo>
                      <a:pt x="531" y="1221"/>
                    </a:lnTo>
                    <a:lnTo>
                      <a:pt x="537" y="1218"/>
                    </a:lnTo>
                    <a:lnTo>
                      <a:pt x="544" y="1217"/>
                    </a:lnTo>
                    <a:lnTo>
                      <a:pt x="553" y="1217"/>
                    </a:lnTo>
                    <a:lnTo>
                      <a:pt x="563" y="1218"/>
                    </a:lnTo>
                    <a:lnTo>
                      <a:pt x="584" y="1222"/>
                    </a:lnTo>
                    <a:lnTo>
                      <a:pt x="602" y="1228"/>
                    </a:lnTo>
                    <a:lnTo>
                      <a:pt x="616" y="1233"/>
                    </a:lnTo>
                    <a:lnTo>
                      <a:pt x="621" y="1235"/>
                    </a:lnTo>
                    <a:lnTo>
                      <a:pt x="658" y="1078"/>
                    </a:lnTo>
                    <a:lnTo>
                      <a:pt x="731" y="1042"/>
                    </a:lnTo>
                    <a:lnTo>
                      <a:pt x="722" y="1037"/>
                    </a:lnTo>
                    <a:lnTo>
                      <a:pt x="699" y="1022"/>
                    </a:lnTo>
                    <a:lnTo>
                      <a:pt x="684" y="1011"/>
                    </a:lnTo>
                    <a:lnTo>
                      <a:pt x="666" y="999"/>
                    </a:lnTo>
                    <a:lnTo>
                      <a:pt x="650" y="984"/>
                    </a:lnTo>
                    <a:lnTo>
                      <a:pt x="632" y="968"/>
                    </a:lnTo>
                    <a:lnTo>
                      <a:pt x="616" y="951"/>
                    </a:lnTo>
                    <a:lnTo>
                      <a:pt x="600" y="933"/>
                    </a:lnTo>
                    <a:lnTo>
                      <a:pt x="594" y="925"/>
                    </a:lnTo>
                    <a:lnTo>
                      <a:pt x="588" y="915"/>
                    </a:lnTo>
                    <a:lnTo>
                      <a:pt x="583" y="905"/>
                    </a:lnTo>
                    <a:lnTo>
                      <a:pt x="578" y="895"/>
                    </a:lnTo>
                    <a:lnTo>
                      <a:pt x="575" y="885"/>
                    </a:lnTo>
                    <a:lnTo>
                      <a:pt x="573" y="876"/>
                    </a:lnTo>
                    <a:lnTo>
                      <a:pt x="572" y="865"/>
                    </a:lnTo>
                    <a:lnTo>
                      <a:pt x="572" y="856"/>
                    </a:lnTo>
                    <a:lnTo>
                      <a:pt x="573" y="845"/>
                    </a:lnTo>
                    <a:lnTo>
                      <a:pt x="575" y="836"/>
                    </a:lnTo>
                    <a:lnTo>
                      <a:pt x="579" y="825"/>
                    </a:lnTo>
                    <a:lnTo>
                      <a:pt x="585" y="815"/>
                    </a:lnTo>
                    <a:lnTo>
                      <a:pt x="598" y="795"/>
                    </a:lnTo>
                    <a:lnTo>
                      <a:pt x="612" y="778"/>
                    </a:lnTo>
                    <a:lnTo>
                      <a:pt x="626" y="762"/>
                    </a:lnTo>
                    <a:lnTo>
                      <a:pt x="639" y="749"/>
                    </a:lnTo>
                    <a:lnTo>
                      <a:pt x="651" y="736"/>
                    </a:lnTo>
                    <a:lnTo>
                      <a:pt x="663" y="725"/>
                    </a:lnTo>
                    <a:lnTo>
                      <a:pt x="675" y="717"/>
                    </a:lnTo>
                    <a:lnTo>
                      <a:pt x="686" y="709"/>
                    </a:lnTo>
                    <a:lnTo>
                      <a:pt x="704" y="698"/>
                    </a:lnTo>
                    <a:lnTo>
                      <a:pt x="719" y="690"/>
                    </a:lnTo>
                    <a:lnTo>
                      <a:pt x="727" y="687"/>
                    </a:lnTo>
                    <a:lnTo>
                      <a:pt x="731" y="685"/>
                    </a:lnTo>
                    <a:lnTo>
                      <a:pt x="730" y="689"/>
                    </a:lnTo>
                    <a:lnTo>
                      <a:pt x="726" y="698"/>
                    </a:lnTo>
                    <a:lnTo>
                      <a:pt x="724" y="705"/>
                    </a:lnTo>
                    <a:lnTo>
                      <a:pt x="723" y="713"/>
                    </a:lnTo>
                    <a:lnTo>
                      <a:pt x="722" y="722"/>
                    </a:lnTo>
                    <a:lnTo>
                      <a:pt x="722" y="733"/>
                    </a:lnTo>
                    <a:lnTo>
                      <a:pt x="722" y="744"/>
                    </a:lnTo>
                    <a:lnTo>
                      <a:pt x="724" y="757"/>
                    </a:lnTo>
                    <a:lnTo>
                      <a:pt x="726" y="771"/>
                    </a:lnTo>
                    <a:lnTo>
                      <a:pt x="731" y="785"/>
                    </a:lnTo>
                    <a:lnTo>
                      <a:pt x="737" y="801"/>
                    </a:lnTo>
                    <a:lnTo>
                      <a:pt x="745" y="816"/>
                    </a:lnTo>
                    <a:lnTo>
                      <a:pt x="755" y="833"/>
                    </a:lnTo>
                    <a:lnTo>
                      <a:pt x="767" y="850"/>
                    </a:lnTo>
                    <a:lnTo>
                      <a:pt x="780" y="864"/>
                    </a:lnTo>
                    <a:lnTo>
                      <a:pt x="791" y="875"/>
                    </a:lnTo>
                    <a:lnTo>
                      <a:pt x="801" y="882"/>
                    </a:lnTo>
                    <a:lnTo>
                      <a:pt x="810" y="885"/>
                    </a:lnTo>
                    <a:lnTo>
                      <a:pt x="814" y="886"/>
                    </a:lnTo>
                    <a:lnTo>
                      <a:pt x="817" y="886"/>
                    </a:lnTo>
                    <a:lnTo>
                      <a:pt x="821" y="885"/>
                    </a:lnTo>
                    <a:lnTo>
                      <a:pt x="824" y="884"/>
                    </a:lnTo>
                    <a:lnTo>
                      <a:pt x="829" y="880"/>
                    </a:lnTo>
                    <a:lnTo>
                      <a:pt x="835" y="874"/>
                    </a:lnTo>
                    <a:lnTo>
                      <a:pt x="838" y="865"/>
                    </a:lnTo>
                    <a:lnTo>
                      <a:pt x="843" y="856"/>
                    </a:lnTo>
                    <a:lnTo>
                      <a:pt x="846" y="845"/>
                    </a:lnTo>
                    <a:lnTo>
                      <a:pt x="849" y="832"/>
                    </a:lnTo>
                    <a:lnTo>
                      <a:pt x="857" y="807"/>
                    </a:lnTo>
                    <a:lnTo>
                      <a:pt x="865" y="779"/>
                    </a:lnTo>
                    <a:lnTo>
                      <a:pt x="866" y="773"/>
                    </a:lnTo>
                    <a:lnTo>
                      <a:pt x="868" y="768"/>
                    </a:lnTo>
                    <a:lnTo>
                      <a:pt x="870" y="763"/>
                    </a:lnTo>
                    <a:lnTo>
                      <a:pt x="872" y="760"/>
                    </a:lnTo>
                    <a:lnTo>
                      <a:pt x="874" y="758"/>
                    </a:lnTo>
                    <a:lnTo>
                      <a:pt x="878" y="757"/>
                    </a:lnTo>
                    <a:lnTo>
                      <a:pt x="881" y="756"/>
                    </a:lnTo>
                    <a:lnTo>
                      <a:pt x="884" y="756"/>
                    </a:lnTo>
                    <a:lnTo>
                      <a:pt x="891" y="758"/>
                    </a:lnTo>
                    <a:lnTo>
                      <a:pt x="899" y="763"/>
                    </a:lnTo>
                    <a:lnTo>
                      <a:pt x="906" y="770"/>
                    </a:lnTo>
                    <a:lnTo>
                      <a:pt x="914" y="777"/>
                    </a:lnTo>
                    <a:lnTo>
                      <a:pt x="929" y="795"/>
                    </a:lnTo>
                    <a:lnTo>
                      <a:pt x="942" y="812"/>
                    </a:lnTo>
                    <a:lnTo>
                      <a:pt x="951" y="825"/>
                    </a:lnTo>
                    <a:lnTo>
                      <a:pt x="954" y="830"/>
                    </a:lnTo>
                    <a:lnTo>
                      <a:pt x="969" y="816"/>
                    </a:lnTo>
                    <a:lnTo>
                      <a:pt x="1010" y="780"/>
                    </a:lnTo>
                    <a:lnTo>
                      <a:pt x="1040" y="758"/>
                    </a:lnTo>
                    <a:lnTo>
                      <a:pt x="1074" y="734"/>
                    </a:lnTo>
                    <a:lnTo>
                      <a:pt x="1094" y="721"/>
                    </a:lnTo>
                    <a:lnTo>
                      <a:pt x="1115" y="708"/>
                    </a:lnTo>
                    <a:lnTo>
                      <a:pt x="1135" y="696"/>
                    </a:lnTo>
                    <a:lnTo>
                      <a:pt x="1158" y="684"/>
                    </a:lnTo>
                    <a:lnTo>
                      <a:pt x="1181" y="672"/>
                    </a:lnTo>
                    <a:lnTo>
                      <a:pt x="1206" y="662"/>
                    </a:lnTo>
                    <a:lnTo>
                      <a:pt x="1231" y="652"/>
                    </a:lnTo>
                    <a:lnTo>
                      <a:pt x="1257" y="644"/>
                    </a:lnTo>
                    <a:lnTo>
                      <a:pt x="1285" y="635"/>
                    </a:lnTo>
                    <a:lnTo>
                      <a:pt x="1312" y="629"/>
                    </a:lnTo>
                    <a:lnTo>
                      <a:pt x="1339" y="624"/>
                    </a:lnTo>
                    <a:lnTo>
                      <a:pt x="1368" y="620"/>
                    </a:lnTo>
                    <a:lnTo>
                      <a:pt x="1398" y="619"/>
                    </a:lnTo>
                    <a:lnTo>
                      <a:pt x="1427" y="619"/>
                    </a:lnTo>
                    <a:lnTo>
                      <a:pt x="1458" y="622"/>
                    </a:lnTo>
                    <a:lnTo>
                      <a:pt x="1487" y="626"/>
                    </a:lnTo>
                    <a:lnTo>
                      <a:pt x="1518" y="633"/>
                    </a:lnTo>
                    <a:lnTo>
                      <a:pt x="1549" y="643"/>
                    </a:lnTo>
                    <a:lnTo>
                      <a:pt x="1581" y="654"/>
                    </a:lnTo>
                    <a:lnTo>
                      <a:pt x="1611" y="670"/>
                    </a:lnTo>
                    <a:lnTo>
                      <a:pt x="1027" y="458"/>
                    </a:lnTo>
                    <a:lnTo>
                      <a:pt x="1076" y="442"/>
                    </a:lnTo>
                    <a:lnTo>
                      <a:pt x="1208" y="402"/>
                    </a:lnTo>
                    <a:lnTo>
                      <a:pt x="1299" y="377"/>
                    </a:lnTo>
                    <a:lnTo>
                      <a:pt x="1402" y="350"/>
                    </a:lnTo>
                    <a:lnTo>
                      <a:pt x="1458" y="336"/>
                    </a:lnTo>
                    <a:lnTo>
                      <a:pt x="1516" y="324"/>
                    </a:lnTo>
                    <a:lnTo>
                      <a:pt x="1576" y="311"/>
                    </a:lnTo>
                    <a:lnTo>
                      <a:pt x="1638" y="299"/>
                    </a:lnTo>
                    <a:lnTo>
                      <a:pt x="1700" y="289"/>
                    </a:lnTo>
                    <a:lnTo>
                      <a:pt x="1764" y="278"/>
                    </a:lnTo>
                    <a:lnTo>
                      <a:pt x="1828" y="270"/>
                    </a:lnTo>
                    <a:lnTo>
                      <a:pt x="1893" y="262"/>
                    </a:lnTo>
                    <a:lnTo>
                      <a:pt x="1958" y="256"/>
                    </a:lnTo>
                    <a:lnTo>
                      <a:pt x="2023" y="252"/>
                    </a:lnTo>
                    <a:lnTo>
                      <a:pt x="2086" y="250"/>
                    </a:lnTo>
                    <a:lnTo>
                      <a:pt x="2149" y="250"/>
                    </a:lnTo>
                    <a:lnTo>
                      <a:pt x="2210" y="252"/>
                    </a:lnTo>
                    <a:lnTo>
                      <a:pt x="2269" y="257"/>
                    </a:lnTo>
                    <a:lnTo>
                      <a:pt x="2327" y="265"/>
                    </a:lnTo>
                    <a:lnTo>
                      <a:pt x="2382" y="276"/>
                    </a:lnTo>
                    <a:lnTo>
                      <a:pt x="2435" y="290"/>
                    </a:lnTo>
                    <a:lnTo>
                      <a:pt x="2484" y="307"/>
                    </a:lnTo>
                    <a:lnTo>
                      <a:pt x="2530" y="328"/>
                    </a:lnTo>
                    <a:lnTo>
                      <a:pt x="2573" y="352"/>
                    </a:lnTo>
                    <a:lnTo>
                      <a:pt x="2558" y="343"/>
                    </a:lnTo>
                    <a:lnTo>
                      <a:pt x="2541" y="335"/>
                    </a:lnTo>
                    <a:lnTo>
                      <a:pt x="2526" y="328"/>
                    </a:lnTo>
                    <a:lnTo>
                      <a:pt x="2508" y="321"/>
                    </a:lnTo>
                    <a:lnTo>
                      <a:pt x="2492" y="315"/>
                    </a:lnTo>
                    <a:lnTo>
                      <a:pt x="2474" y="310"/>
                    </a:lnTo>
                    <a:lnTo>
                      <a:pt x="2457" y="306"/>
                    </a:lnTo>
                    <a:lnTo>
                      <a:pt x="2439" y="301"/>
                    </a:lnTo>
                    <a:lnTo>
                      <a:pt x="2404" y="295"/>
                    </a:lnTo>
                    <a:lnTo>
                      <a:pt x="2370" y="291"/>
                    </a:lnTo>
                    <a:lnTo>
                      <a:pt x="2336" y="289"/>
                    </a:lnTo>
                    <a:lnTo>
                      <a:pt x="2303" y="289"/>
                    </a:lnTo>
                    <a:lnTo>
                      <a:pt x="2273" y="289"/>
                    </a:lnTo>
                    <a:lnTo>
                      <a:pt x="2245" y="291"/>
                    </a:lnTo>
                    <a:lnTo>
                      <a:pt x="2220" y="293"/>
                    </a:lnTo>
                    <a:lnTo>
                      <a:pt x="2198" y="295"/>
                    </a:lnTo>
                    <a:lnTo>
                      <a:pt x="2166" y="299"/>
                    </a:lnTo>
                    <a:lnTo>
                      <a:pt x="2155" y="301"/>
                    </a:lnTo>
                    <a:lnTo>
                      <a:pt x="1936" y="0"/>
                    </a:lnTo>
                    <a:lnTo>
                      <a:pt x="1985" y="3"/>
                    </a:lnTo>
                    <a:lnTo>
                      <a:pt x="2119" y="15"/>
                    </a:lnTo>
                    <a:lnTo>
                      <a:pt x="2211" y="26"/>
                    </a:lnTo>
                    <a:lnTo>
                      <a:pt x="2315" y="39"/>
                    </a:lnTo>
                    <a:lnTo>
                      <a:pt x="2371" y="46"/>
                    </a:lnTo>
                    <a:lnTo>
                      <a:pt x="2429" y="55"/>
                    </a:lnTo>
                    <a:lnTo>
                      <a:pt x="2490" y="64"/>
                    </a:lnTo>
                    <a:lnTo>
                      <a:pt x="2552" y="75"/>
                    </a:lnTo>
                    <a:lnTo>
                      <a:pt x="2615" y="85"/>
                    </a:lnTo>
                    <a:lnTo>
                      <a:pt x="2678" y="98"/>
                    </a:lnTo>
                    <a:lnTo>
                      <a:pt x="2743" y="111"/>
                    </a:lnTo>
                    <a:lnTo>
                      <a:pt x="2807" y="126"/>
                    </a:lnTo>
                    <a:lnTo>
                      <a:pt x="2871" y="140"/>
                    </a:lnTo>
                    <a:lnTo>
                      <a:pt x="2935" y="156"/>
                    </a:lnTo>
                    <a:lnTo>
                      <a:pt x="2997" y="174"/>
                    </a:lnTo>
                    <a:lnTo>
                      <a:pt x="3059" y="193"/>
                    </a:lnTo>
                    <a:lnTo>
                      <a:pt x="3119" y="212"/>
                    </a:lnTo>
                    <a:lnTo>
                      <a:pt x="3177" y="234"/>
                    </a:lnTo>
                    <a:lnTo>
                      <a:pt x="3233" y="256"/>
                    </a:lnTo>
                    <a:lnTo>
                      <a:pt x="3286" y="279"/>
                    </a:lnTo>
                    <a:lnTo>
                      <a:pt x="3336" y="305"/>
                    </a:lnTo>
                    <a:lnTo>
                      <a:pt x="3383" y="331"/>
                    </a:lnTo>
                    <a:lnTo>
                      <a:pt x="3426" y="359"/>
                    </a:lnTo>
                    <a:lnTo>
                      <a:pt x="3466" y="387"/>
                    </a:lnTo>
                    <a:lnTo>
                      <a:pt x="3503" y="418"/>
                    </a:lnTo>
                    <a:lnTo>
                      <a:pt x="3539" y="448"/>
                    </a:lnTo>
                    <a:lnTo>
                      <a:pt x="3573" y="477"/>
                    </a:lnTo>
                    <a:lnTo>
                      <a:pt x="3606" y="507"/>
                    </a:lnTo>
                    <a:lnTo>
                      <a:pt x="3637" y="536"/>
                    </a:lnTo>
                    <a:lnTo>
                      <a:pt x="3665" y="564"/>
                    </a:lnTo>
                    <a:lnTo>
                      <a:pt x="3693" y="592"/>
                    </a:lnTo>
                    <a:lnTo>
                      <a:pt x="3719" y="618"/>
                    </a:lnTo>
                    <a:lnTo>
                      <a:pt x="3743" y="645"/>
                    </a:lnTo>
                    <a:lnTo>
                      <a:pt x="3766" y="671"/>
                    </a:lnTo>
                    <a:lnTo>
                      <a:pt x="3788" y="696"/>
                    </a:lnTo>
                    <a:lnTo>
                      <a:pt x="3808" y="720"/>
                    </a:lnTo>
                    <a:lnTo>
                      <a:pt x="3844" y="767"/>
                    </a:lnTo>
                    <a:lnTo>
                      <a:pt x="3876" y="810"/>
                    </a:lnTo>
                    <a:lnTo>
                      <a:pt x="3902" y="848"/>
                    </a:lnTo>
                    <a:lnTo>
                      <a:pt x="3924" y="883"/>
                    </a:lnTo>
                    <a:lnTo>
                      <a:pt x="3942" y="914"/>
                    </a:lnTo>
                    <a:lnTo>
                      <a:pt x="3955" y="939"/>
                    </a:lnTo>
                    <a:lnTo>
                      <a:pt x="3972" y="975"/>
                    </a:lnTo>
                    <a:lnTo>
                      <a:pt x="3977" y="987"/>
                    </a:lnTo>
                    <a:lnTo>
                      <a:pt x="3981" y="974"/>
                    </a:lnTo>
                    <a:lnTo>
                      <a:pt x="3993" y="939"/>
                    </a:lnTo>
                    <a:lnTo>
                      <a:pt x="4002" y="916"/>
                    </a:lnTo>
                    <a:lnTo>
                      <a:pt x="4014" y="891"/>
                    </a:lnTo>
                    <a:lnTo>
                      <a:pt x="4028" y="862"/>
                    </a:lnTo>
                    <a:lnTo>
                      <a:pt x="4046" y="832"/>
                    </a:lnTo>
                    <a:lnTo>
                      <a:pt x="4056" y="818"/>
                    </a:lnTo>
                    <a:lnTo>
                      <a:pt x="4067" y="802"/>
                    </a:lnTo>
                    <a:lnTo>
                      <a:pt x="4079" y="787"/>
                    </a:lnTo>
                    <a:lnTo>
                      <a:pt x="4091" y="773"/>
                    </a:lnTo>
                    <a:lnTo>
                      <a:pt x="4104" y="758"/>
                    </a:lnTo>
                    <a:lnTo>
                      <a:pt x="4118" y="744"/>
                    </a:lnTo>
                    <a:lnTo>
                      <a:pt x="4132" y="731"/>
                    </a:lnTo>
                    <a:lnTo>
                      <a:pt x="4149" y="718"/>
                    </a:lnTo>
                    <a:lnTo>
                      <a:pt x="4165" y="706"/>
                    </a:lnTo>
                    <a:lnTo>
                      <a:pt x="4183" y="695"/>
                    </a:lnTo>
                    <a:lnTo>
                      <a:pt x="4201" y="684"/>
                    </a:lnTo>
                    <a:lnTo>
                      <a:pt x="4221" y="674"/>
                    </a:lnTo>
                    <a:lnTo>
                      <a:pt x="4242" y="667"/>
                    </a:lnTo>
                    <a:lnTo>
                      <a:pt x="4263" y="660"/>
                    </a:lnTo>
                    <a:lnTo>
                      <a:pt x="4286" y="654"/>
                    </a:lnTo>
                    <a:lnTo>
                      <a:pt x="4310" y="650"/>
                    </a:lnTo>
                    <a:lnTo>
                      <a:pt x="4333" y="648"/>
                    </a:lnTo>
                    <a:lnTo>
                      <a:pt x="4355" y="649"/>
                    </a:lnTo>
                    <a:lnTo>
                      <a:pt x="4376" y="651"/>
                    </a:lnTo>
                    <a:lnTo>
                      <a:pt x="4397" y="654"/>
                    </a:lnTo>
                    <a:lnTo>
                      <a:pt x="4415" y="660"/>
                    </a:lnTo>
                    <a:lnTo>
                      <a:pt x="4433" y="667"/>
                    </a:lnTo>
                    <a:lnTo>
                      <a:pt x="4450" y="676"/>
                    </a:lnTo>
                    <a:lnTo>
                      <a:pt x="4467" y="685"/>
                    </a:lnTo>
                    <a:lnTo>
                      <a:pt x="4482" y="696"/>
                    </a:lnTo>
                    <a:lnTo>
                      <a:pt x="4496" y="707"/>
                    </a:lnTo>
                    <a:lnTo>
                      <a:pt x="4511" y="720"/>
                    </a:lnTo>
                    <a:lnTo>
                      <a:pt x="4523" y="734"/>
                    </a:lnTo>
                    <a:lnTo>
                      <a:pt x="4535" y="748"/>
                    </a:lnTo>
                    <a:lnTo>
                      <a:pt x="4547" y="761"/>
                    </a:lnTo>
                    <a:lnTo>
                      <a:pt x="4557" y="776"/>
                    </a:lnTo>
                    <a:lnTo>
                      <a:pt x="4567" y="791"/>
                    </a:lnTo>
                    <a:lnTo>
                      <a:pt x="4584" y="822"/>
                    </a:lnTo>
                    <a:lnTo>
                      <a:pt x="4598" y="851"/>
                    </a:lnTo>
                    <a:lnTo>
                      <a:pt x="4609" y="879"/>
                    </a:lnTo>
                    <a:lnTo>
                      <a:pt x="4619" y="904"/>
                    </a:lnTo>
                    <a:lnTo>
                      <a:pt x="4631" y="942"/>
                    </a:lnTo>
                    <a:lnTo>
                      <a:pt x="4635" y="956"/>
                    </a:lnTo>
                    <a:lnTo>
                      <a:pt x="4630" y="957"/>
                    </a:lnTo>
                    <a:lnTo>
                      <a:pt x="4619" y="960"/>
                    </a:lnTo>
                    <a:lnTo>
                      <a:pt x="4603" y="966"/>
                    </a:lnTo>
                    <a:lnTo>
                      <a:pt x="4582" y="974"/>
                    </a:lnTo>
                    <a:lnTo>
                      <a:pt x="4570" y="980"/>
                    </a:lnTo>
                    <a:lnTo>
                      <a:pt x="4558" y="987"/>
                    </a:lnTo>
                    <a:lnTo>
                      <a:pt x="4545" y="994"/>
                    </a:lnTo>
                    <a:lnTo>
                      <a:pt x="4533" y="1004"/>
                    </a:lnTo>
                    <a:lnTo>
                      <a:pt x="4519" y="1014"/>
                    </a:lnTo>
                    <a:lnTo>
                      <a:pt x="4507" y="1025"/>
                    </a:lnTo>
                    <a:lnTo>
                      <a:pt x="4495" y="1038"/>
                    </a:lnTo>
                    <a:lnTo>
                      <a:pt x="4484" y="1052"/>
                    </a:lnTo>
                    <a:lnTo>
                      <a:pt x="4473" y="1068"/>
                    </a:lnTo>
                    <a:lnTo>
                      <a:pt x="4464" y="1085"/>
                    </a:lnTo>
                    <a:lnTo>
                      <a:pt x="4455" y="1103"/>
                    </a:lnTo>
                    <a:lnTo>
                      <a:pt x="4447" y="1124"/>
                    </a:lnTo>
                    <a:lnTo>
                      <a:pt x="4442" y="1145"/>
                    </a:lnTo>
                    <a:lnTo>
                      <a:pt x="4437" y="1169"/>
                    </a:lnTo>
                    <a:lnTo>
                      <a:pt x="4435" y="1195"/>
                    </a:lnTo>
                    <a:lnTo>
                      <a:pt x="4434" y="1222"/>
                    </a:lnTo>
                    <a:lnTo>
                      <a:pt x="4436" y="1252"/>
                    </a:lnTo>
                    <a:lnTo>
                      <a:pt x="4441" y="1284"/>
                    </a:lnTo>
                    <a:lnTo>
                      <a:pt x="4447" y="1318"/>
                    </a:lnTo>
                    <a:lnTo>
                      <a:pt x="4456" y="1354"/>
                    </a:lnTo>
                    <a:lnTo>
                      <a:pt x="4469" y="1392"/>
                    </a:lnTo>
                    <a:lnTo>
                      <a:pt x="4484" y="1432"/>
                    </a:lnTo>
                    <a:lnTo>
                      <a:pt x="4503" y="1476"/>
                    </a:lnTo>
                    <a:lnTo>
                      <a:pt x="4525" y="1521"/>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7" name=""/>
              <p:cNvSpPr/>
              <p:nvPr/>
            </p:nvSpPr>
            <p:spPr>
              <a:xfrm>
                <a:off x="2276640" y="2014200"/>
                <a:ext cx="122400" cy="115560"/>
              </a:xfrm>
              <a:custGeom>
                <a:avLst/>
                <a:gdLst/>
                <a:ahLst/>
                <a:rect l="l" t="t" r="r" b="b"/>
                <a:pathLst>
                  <a:path w="839" h="575">
                    <a:moveTo>
                      <a:pt x="839" y="45"/>
                    </a:moveTo>
                    <a:lnTo>
                      <a:pt x="819" y="38"/>
                    </a:lnTo>
                    <a:lnTo>
                      <a:pt x="763" y="24"/>
                    </a:lnTo>
                    <a:lnTo>
                      <a:pt x="725" y="16"/>
                    </a:lnTo>
                    <a:lnTo>
                      <a:pt x="681" y="9"/>
                    </a:lnTo>
                    <a:lnTo>
                      <a:pt x="657" y="5"/>
                    </a:lnTo>
                    <a:lnTo>
                      <a:pt x="632" y="3"/>
                    </a:lnTo>
                    <a:lnTo>
                      <a:pt x="605" y="1"/>
                    </a:lnTo>
                    <a:lnTo>
                      <a:pt x="578" y="0"/>
                    </a:lnTo>
                    <a:lnTo>
                      <a:pt x="551" y="0"/>
                    </a:lnTo>
                    <a:lnTo>
                      <a:pt x="522" y="0"/>
                    </a:lnTo>
                    <a:lnTo>
                      <a:pt x="494" y="2"/>
                    </a:lnTo>
                    <a:lnTo>
                      <a:pt x="464" y="5"/>
                    </a:lnTo>
                    <a:lnTo>
                      <a:pt x="434" y="11"/>
                    </a:lnTo>
                    <a:lnTo>
                      <a:pt x="405" y="16"/>
                    </a:lnTo>
                    <a:lnTo>
                      <a:pt x="375" y="24"/>
                    </a:lnTo>
                    <a:lnTo>
                      <a:pt x="346" y="33"/>
                    </a:lnTo>
                    <a:lnTo>
                      <a:pt x="317" y="44"/>
                    </a:lnTo>
                    <a:lnTo>
                      <a:pt x="287" y="57"/>
                    </a:lnTo>
                    <a:lnTo>
                      <a:pt x="259" y="72"/>
                    </a:lnTo>
                    <a:lnTo>
                      <a:pt x="232" y="89"/>
                    </a:lnTo>
                    <a:lnTo>
                      <a:pt x="204" y="108"/>
                    </a:lnTo>
                    <a:lnTo>
                      <a:pt x="178" y="131"/>
                    </a:lnTo>
                    <a:lnTo>
                      <a:pt x="153" y="155"/>
                    </a:lnTo>
                    <a:lnTo>
                      <a:pt x="128" y="181"/>
                    </a:lnTo>
                    <a:lnTo>
                      <a:pt x="54" y="274"/>
                    </a:lnTo>
                    <a:lnTo>
                      <a:pt x="13" y="324"/>
                    </a:lnTo>
                    <a:lnTo>
                      <a:pt x="5" y="337"/>
                    </a:lnTo>
                    <a:lnTo>
                      <a:pt x="0" y="344"/>
                    </a:lnTo>
                    <a:lnTo>
                      <a:pt x="1" y="344"/>
                    </a:lnTo>
                    <a:lnTo>
                      <a:pt x="6" y="339"/>
                    </a:lnTo>
                    <a:lnTo>
                      <a:pt x="23" y="321"/>
                    </a:lnTo>
                    <a:lnTo>
                      <a:pt x="45" y="298"/>
                    </a:lnTo>
                    <a:lnTo>
                      <a:pt x="64" y="277"/>
                    </a:lnTo>
                    <a:lnTo>
                      <a:pt x="73" y="268"/>
                    </a:lnTo>
                    <a:lnTo>
                      <a:pt x="214" y="575"/>
                    </a:lnTo>
                    <a:lnTo>
                      <a:pt x="221" y="554"/>
                    </a:lnTo>
                    <a:lnTo>
                      <a:pt x="244" y="500"/>
                    </a:lnTo>
                    <a:lnTo>
                      <a:pt x="262" y="464"/>
                    </a:lnTo>
                    <a:lnTo>
                      <a:pt x="284" y="424"/>
                    </a:lnTo>
                    <a:lnTo>
                      <a:pt x="297" y="403"/>
                    </a:lnTo>
                    <a:lnTo>
                      <a:pt x="313" y="381"/>
                    </a:lnTo>
                    <a:lnTo>
                      <a:pt x="328" y="357"/>
                    </a:lnTo>
                    <a:lnTo>
                      <a:pt x="346" y="334"/>
                    </a:lnTo>
                    <a:lnTo>
                      <a:pt x="364" y="311"/>
                    </a:lnTo>
                    <a:lnTo>
                      <a:pt x="384" y="287"/>
                    </a:lnTo>
                    <a:lnTo>
                      <a:pt x="406" y="264"/>
                    </a:lnTo>
                    <a:lnTo>
                      <a:pt x="429" y="242"/>
                    </a:lnTo>
                    <a:lnTo>
                      <a:pt x="454" y="218"/>
                    </a:lnTo>
                    <a:lnTo>
                      <a:pt x="480" y="197"/>
                    </a:lnTo>
                    <a:lnTo>
                      <a:pt x="508" y="176"/>
                    </a:lnTo>
                    <a:lnTo>
                      <a:pt x="537" y="156"/>
                    </a:lnTo>
                    <a:lnTo>
                      <a:pt x="569" y="136"/>
                    </a:lnTo>
                    <a:lnTo>
                      <a:pt x="602" y="118"/>
                    </a:lnTo>
                    <a:lnTo>
                      <a:pt x="637" y="102"/>
                    </a:lnTo>
                    <a:lnTo>
                      <a:pt x="673" y="86"/>
                    </a:lnTo>
                    <a:lnTo>
                      <a:pt x="712" y="73"/>
                    </a:lnTo>
                    <a:lnTo>
                      <a:pt x="752" y="62"/>
                    </a:lnTo>
                    <a:lnTo>
                      <a:pt x="795" y="52"/>
                    </a:lnTo>
                    <a:lnTo>
                      <a:pt x="839" y="4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8" name=""/>
              <p:cNvSpPr/>
              <p:nvPr/>
            </p:nvSpPr>
            <p:spPr>
              <a:xfrm>
                <a:off x="2276640" y="2014200"/>
                <a:ext cx="122400" cy="115560"/>
              </a:xfrm>
              <a:custGeom>
                <a:avLst/>
                <a:gdLst/>
                <a:ahLst/>
                <a:rect l="l" t="t" r="r" b="b"/>
                <a:pathLst>
                  <a:path w="839" h="575">
                    <a:moveTo>
                      <a:pt x="839" y="45"/>
                    </a:moveTo>
                    <a:lnTo>
                      <a:pt x="819" y="38"/>
                    </a:lnTo>
                    <a:lnTo>
                      <a:pt x="763" y="24"/>
                    </a:lnTo>
                    <a:lnTo>
                      <a:pt x="725" y="16"/>
                    </a:lnTo>
                    <a:lnTo>
                      <a:pt x="681" y="9"/>
                    </a:lnTo>
                    <a:lnTo>
                      <a:pt x="657" y="5"/>
                    </a:lnTo>
                    <a:lnTo>
                      <a:pt x="632" y="3"/>
                    </a:lnTo>
                    <a:lnTo>
                      <a:pt x="605" y="1"/>
                    </a:lnTo>
                    <a:lnTo>
                      <a:pt x="578" y="0"/>
                    </a:lnTo>
                    <a:lnTo>
                      <a:pt x="551" y="0"/>
                    </a:lnTo>
                    <a:lnTo>
                      <a:pt x="522" y="0"/>
                    </a:lnTo>
                    <a:lnTo>
                      <a:pt x="494" y="2"/>
                    </a:lnTo>
                    <a:lnTo>
                      <a:pt x="464" y="5"/>
                    </a:lnTo>
                    <a:lnTo>
                      <a:pt x="434" y="11"/>
                    </a:lnTo>
                    <a:lnTo>
                      <a:pt x="405" y="16"/>
                    </a:lnTo>
                    <a:lnTo>
                      <a:pt x="375" y="24"/>
                    </a:lnTo>
                    <a:lnTo>
                      <a:pt x="346" y="33"/>
                    </a:lnTo>
                    <a:lnTo>
                      <a:pt x="317" y="44"/>
                    </a:lnTo>
                    <a:lnTo>
                      <a:pt x="287" y="57"/>
                    </a:lnTo>
                    <a:lnTo>
                      <a:pt x="259" y="72"/>
                    </a:lnTo>
                    <a:lnTo>
                      <a:pt x="232" y="89"/>
                    </a:lnTo>
                    <a:lnTo>
                      <a:pt x="204" y="108"/>
                    </a:lnTo>
                    <a:lnTo>
                      <a:pt x="178" y="131"/>
                    </a:lnTo>
                    <a:lnTo>
                      <a:pt x="153" y="155"/>
                    </a:lnTo>
                    <a:lnTo>
                      <a:pt x="128" y="181"/>
                    </a:lnTo>
                    <a:lnTo>
                      <a:pt x="54" y="274"/>
                    </a:lnTo>
                    <a:lnTo>
                      <a:pt x="13" y="324"/>
                    </a:lnTo>
                    <a:lnTo>
                      <a:pt x="5" y="337"/>
                    </a:lnTo>
                    <a:lnTo>
                      <a:pt x="0" y="344"/>
                    </a:lnTo>
                    <a:lnTo>
                      <a:pt x="1" y="344"/>
                    </a:lnTo>
                    <a:lnTo>
                      <a:pt x="6" y="339"/>
                    </a:lnTo>
                    <a:lnTo>
                      <a:pt x="23" y="321"/>
                    </a:lnTo>
                    <a:lnTo>
                      <a:pt x="45" y="298"/>
                    </a:lnTo>
                    <a:lnTo>
                      <a:pt x="64" y="277"/>
                    </a:lnTo>
                    <a:lnTo>
                      <a:pt x="73" y="268"/>
                    </a:lnTo>
                    <a:lnTo>
                      <a:pt x="214" y="575"/>
                    </a:lnTo>
                    <a:lnTo>
                      <a:pt x="221" y="554"/>
                    </a:lnTo>
                    <a:lnTo>
                      <a:pt x="244" y="500"/>
                    </a:lnTo>
                    <a:lnTo>
                      <a:pt x="262" y="464"/>
                    </a:lnTo>
                    <a:lnTo>
                      <a:pt x="284" y="424"/>
                    </a:lnTo>
                    <a:lnTo>
                      <a:pt x="297" y="403"/>
                    </a:lnTo>
                    <a:lnTo>
                      <a:pt x="313" y="381"/>
                    </a:lnTo>
                    <a:lnTo>
                      <a:pt x="328" y="357"/>
                    </a:lnTo>
                    <a:lnTo>
                      <a:pt x="346" y="334"/>
                    </a:lnTo>
                    <a:lnTo>
                      <a:pt x="364" y="311"/>
                    </a:lnTo>
                    <a:lnTo>
                      <a:pt x="384" y="287"/>
                    </a:lnTo>
                    <a:lnTo>
                      <a:pt x="406" y="264"/>
                    </a:lnTo>
                    <a:lnTo>
                      <a:pt x="429" y="242"/>
                    </a:lnTo>
                    <a:lnTo>
                      <a:pt x="454" y="218"/>
                    </a:lnTo>
                    <a:lnTo>
                      <a:pt x="480" y="197"/>
                    </a:lnTo>
                    <a:lnTo>
                      <a:pt x="508" y="176"/>
                    </a:lnTo>
                    <a:lnTo>
                      <a:pt x="537" y="156"/>
                    </a:lnTo>
                    <a:lnTo>
                      <a:pt x="569" y="136"/>
                    </a:lnTo>
                    <a:lnTo>
                      <a:pt x="602" y="118"/>
                    </a:lnTo>
                    <a:lnTo>
                      <a:pt x="637" y="102"/>
                    </a:lnTo>
                    <a:lnTo>
                      <a:pt x="673" y="86"/>
                    </a:lnTo>
                    <a:lnTo>
                      <a:pt x="712" y="73"/>
                    </a:lnTo>
                    <a:lnTo>
                      <a:pt x="752" y="62"/>
                    </a:lnTo>
                    <a:lnTo>
                      <a:pt x="795" y="52"/>
                    </a:lnTo>
                    <a:lnTo>
                      <a:pt x="839" y="4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09" name=""/>
              <p:cNvSpPr/>
              <p:nvPr/>
            </p:nvSpPr>
            <p:spPr>
              <a:xfrm>
                <a:off x="2474640" y="1987560"/>
                <a:ext cx="86760" cy="107280"/>
              </a:xfrm>
              <a:custGeom>
                <a:avLst/>
                <a:gdLst/>
                <a:ahLst/>
                <a:rect l="l" t="t" r="r" b="b"/>
                <a:pathLst>
                  <a:path w="605" h="533">
                    <a:moveTo>
                      <a:pt x="0" y="0"/>
                    </a:moveTo>
                    <a:lnTo>
                      <a:pt x="605" y="160"/>
                    </a:lnTo>
                    <a:lnTo>
                      <a:pt x="512" y="533"/>
                    </a:lnTo>
                    <a:lnTo>
                      <a:pt x="29" y="175"/>
                    </a:lnTo>
                    <a:lnTo>
                      <a:pt x="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0" name=""/>
              <p:cNvSpPr/>
              <p:nvPr/>
            </p:nvSpPr>
            <p:spPr>
              <a:xfrm>
                <a:off x="2474640" y="1987560"/>
                <a:ext cx="86760" cy="107280"/>
              </a:xfrm>
              <a:custGeom>
                <a:avLst/>
                <a:gdLst/>
                <a:ahLst/>
                <a:rect l="l" t="t" r="r" b="b"/>
                <a:pathLst>
                  <a:path w="605" h="533">
                    <a:moveTo>
                      <a:pt x="0" y="0"/>
                    </a:moveTo>
                    <a:lnTo>
                      <a:pt x="605" y="160"/>
                    </a:lnTo>
                    <a:lnTo>
                      <a:pt x="512" y="533"/>
                    </a:lnTo>
                    <a:lnTo>
                      <a:pt x="29" y="175"/>
                    </a:lnTo>
                    <a:lnTo>
                      <a:pt x="0" y="0"/>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1" name=""/>
              <p:cNvSpPr/>
              <p:nvPr/>
            </p:nvSpPr>
            <p:spPr>
              <a:xfrm>
                <a:off x="2217960" y="3363840"/>
                <a:ext cx="519840" cy="1260360"/>
              </a:xfrm>
              <a:custGeom>
                <a:avLst/>
                <a:gdLst/>
                <a:ahLst/>
                <a:rect l="l" t="t" r="r" b="b"/>
                <a:pathLst>
                  <a:path w="3613" h="6243">
                    <a:moveTo>
                      <a:pt x="791" y="5192"/>
                    </a:moveTo>
                    <a:lnTo>
                      <a:pt x="769" y="5206"/>
                    </a:lnTo>
                    <a:lnTo>
                      <a:pt x="745" y="5220"/>
                    </a:lnTo>
                    <a:lnTo>
                      <a:pt x="720" y="5233"/>
                    </a:lnTo>
                    <a:lnTo>
                      <a:pt x="693" y="5245"/>
                    </a:lnTo>
                    <a:lnTo>
                      <a:pt x="637" y="5271"/>
                    </a:lnTo>
                    <a:lnTo>
                      <a:pt x="581" y="5298"/>
                    </a:lnTo>
                    <a:lnTo>
                      <a:pt x="555" y="5312"/>
                    </a:lnTo>
                    <a:lnTo>
                      <a:pt x="529" y="5328"/>
                    </a:lnTo>
                    <a:lnTo>
                      <a:pt x="518" y="5337"/>
                    </a:lnTo>
                    <a:lnTo>
                      <a:pt x="507" y="5345"/>
                    </a:lnTo>
                    <a:lnTo>
                      <a:pt x="496" y="5354"/>
                    </a:lnTo>
                    <a:lnTo>
                      <a:pt x="488" y="5363"/>
                    </a:lnTo>
                    <a:lnTo>
                      <a:pt x="479" y="5373"/>
                    </a:lnTo>
                    <a:lnTo>
                      <a:pt x="470" y="5383"/>
                    </a:lnTo>
                    <a:lnTo>
                      <a:pt x="464" y="5394"/>
                    </a:lnTo>
                    <a:lnTo>
                      <a:pt x="458" y="5404"/>
                    </a:lnTo>
                    <a:lnTo>
                      <a:pt x="453" y="5416"/>
                    </a:lnTo>
                    <a:lnTo>
                      <a:pt x="449" y="5428"/>
                    </a:lnTo>
                    <a:lnTo>
                      <a:pt x="446" y="5440"/>
                    </a:lnTo>
                    <a:lnTo>
                      <a:pt x="445" y="5453"/>
                    </a:lnTo>
                    <a:lnTo>
                      <a:pt x="448" y="5498"/>
                    </a:lnTo>
                    <a:lnTo>
                      <a:pt x="456" y="5538"/>
                    </a:lnTo>
                    <a:lnTo>
                      <a:pt x="468" y="5575"/>
                    </a:lnTo>
                    <a:lnTo>
                      <a:pt x="485" y="5609"/>
                    </a:lnTo>
                    <a:lnTo>
                      <a:pt x="506" y="5640"/>
                    </a:lnTo>
                    <a:lnTo>
                      <a:pt x="531" y="5667"/>
                    </a:lnTo>
                    <a:lnTo>
                      <a:pt x="560" y="5692"/>
                    </a:lnTo>
                    <a:lnTo>
                      <a:pt x="592" y="5713"/>
                    </a:lnTo>
                    <a:lnTo>
                      <a:pt x="627" y="5732"/>
                    </a:lnTo>
                    <a:lnTo>
                      <a:pt x="665" y="5748"/>
                    </a:lnTo>
                    <a:lnTo>
                      <a:pt x="705" y="5763"/>
                    </a:lnTo>
                    <a:lnTo>
                      <a:pt x="748" y="5774"/>
                    </a:lnTo>
                    <a:lnTo>
                      <a:pt x="792" y="5784"/>
                    </a:lnTo>
                    <a:lnTo>
                      <a:pt x="839" y="5792"/>
                    </a:lnTo>
                    <a:lnTo>
                      <a:pt x="886" y="5798"/>
                    </a:lnTo>
                    <a:lnTo>
                      <a:pt x="934" y="5803"/>
                    </a:lnTo>
                    <a:lnTo>
                      <a:pt x="983" y="5806"/>
                    </a:lnTo>
                    <a:lnTo>
                      <a:pt x="1033" y="5808"/>
                    </a:lnTo>
                    <a:lnTo>
                      <a:pt x="1082" y="5808"/>
                    </a:lnTo>
                    <a:lnTo>
                      <a:pt x="1131" y="5808"/>
                    </a:lnTo>
                    <a:lnTo>
                      <a:pt x="1181" y="5807"/>
                    </a:lnTo>
                    <a:lnTo>
                      <a:pt x="1229" y="5805"/>
                    </a:lnTo>
                    <a:lnTo>
                      <a:pt x="1276" y="5803"/>
                    </a:lnTo>
                    <a:lnTo>
                      <a:pt x="1323" y="5800"/>
                    </a:lnTo>
                    <a:lnTo>
                      <a:pt x="1410" y="5794"/>
                    </a:lnTo>
                    <a:lnTo>
                      <a:pt x="1489" y="5788"/>
                    </a:lnTo>
                    <a:lnTo>
                      <a:pt x="1557" y="5784"/>
                    </a:lnTo>
                    <a:lnTo>
                      <a:pt x="1611" y="5783"/>
                    </a:lnTo>
                    <a:lnTo>
                      <a:pt x="1615" y="5858"/>
                    </a:lnTo>
                    <a:lnTo>
                      <a:pt x="1627" y="5926"/>
                    </a:lnTo>
                    <a:lnTo>
                      <a:pt x="1647" y="5986"/>
                    </a:lnTo>
                    <a:lnTo>
                      <a:pt x="1674" y="6039"/>
                    </a:lnTo>
                    <a:lnTo>
                      <a:pt x="1708" y="6086"/>
                    </a:lnTo>
                    <a:lnTo>
                      <a:pt x="1748" y="6125"/>
                    </a:lnTo>
                    <a:lnTo>
                      <a:pt x="1794" y="6158"/>
                    </a:lnTo>
                    <a:lnTo>
                      <a:pt x="1844" y="6185"/>
                    </a:lnTo>
                    <a:lnTo>
                      <a:pt x="1900" y="6207"/>
                    </a:lnTo>
                    <a:lnTo>
                      <a:pt x="1960" y="6222"/>
                    </a:lnTo>
                    <a:lnTo>
                      <a:pt x="2025" y="6234"/>
                    </a:lnTo>
                    <a:lnTo>
                      <a:pt x="2092" y="6240"/>
                    </a:lnTo>
                    <a:lnTo>
                      <a:pt x="2162" y="6243"/>
                    </a:lnTo>
                    <a:lnTo>
                      <a:pt x="2236" y="6242"/>
                    </a:lnTo>
                    <a:lnTo>
                      <a:pt x="2310" y="6236"/>
                    </a:lnTo>
                    <a:lnTo>
                      <a:pt x="2387" y="6228"/>
                    </a:lnTo>
                    <a:lnTo>
                      <a:pt x="2464" y="6216"/>
                    </a:lnTo>
                    <a:lnTo>
                      <a:pt x="2543" y="6201"/>
                    </a:lnTo>
                    <a:lnTo>
                      <a:pt x="2620" y="6185"/>
                    </a:lnTo>
                    <a:lnTo>
                      <a:pt x="2698" y="6166"/>
                    </a:lnTo>
                    <a:lnTo>
                      <a:pt x="2775" y="6146"/>
                    </a:lnTo>
                    <a:lnTo>
                      <a:pt x="2852" y="6125"/>
                    </a:lnTo>
                    <a:lnTo>
                      <a:pt x="2925" y="6103"/>
                    </a:lnTo>
                    <a:lnTo>
                      <a:pt x="2998" y="6079"/>
                    </a:lnTo>
                    <a:lnTo>
                      <a:pt x="3067" y="6056"/>
                    </a:lnTo>
                    <a:lnTo>
                      <a:pt x="3134" y="6033"/>
                    </a:lnTo>
                    <a:lnTo>
                      <a:pt x="3196" y="6011"/>
                    </a:lnTo>
                    <a:lnTo>
                      <a:pt x="3255" y="5988"/>
                    </a:lnTo>
                    <a:lnTo>
                      <a:pt x="3358" y="5947"/>
                    </a:lnTo>
                    <a:lnTo>
                      <a:pt x="3440" y="5913"/>
                    </a:lnTo>
                    <a:lnTo>
                      <a:pt x="3466" y="5888"/>
                    </a:lnTo>
                    <a:lnTo>
                      <a:pt x="3489" y="5864"/>
                    </a:lnTo>
                    <a:lnTo>
                      <a:pt x="3510" y="5841"/>
                    </a:lnTo>
                    <a:lnTo>
                      <a:pt x="3530" y="5818"/>
                    </a:lnTo>
                    <a:lnTo>
                      <a:pt x="3546" y="5795"/>
                    </a:lnTo>
                    <a:lnTo>
                      <a:pt x="3561" y="5773"/>
                    </a:lnTo>
                    <a:lnTo>
                      <a:pt x="3575" y="5751"/>
                    </a:lnTo>
                    <a:lnTo>
                      <a:pt x="3585" y="5730"/>
                    </a:lnTo>
                    <a:lnTo>
                      <a:pt x="3594" y="5707"/>
                    </a:lnTo>
                    <a:lnTo>
                      <a:pt x="3602" y="5685"/>
                    </a:lnTo>
                    <a:lnTo>
                      <a:pt x="3607" y="5664"/>
                    </a:lnTo>
                    <a:lnTo>
                      <a:pt x="3611" y="5642"/>
                    </a:lnTo>
                    <a:lnTo>
                      <a:pt x="3613" y="5618"/>
                    </a:lnTo>
                    <a:lnTo>
                      <a:pt x="3613" y="5596"/>
                    </a:lnTo>
                    <a:lnTo>
                      <a:pt x="3611" y="5572"/>
                    </a:lnTo>
                    <a:lnTo>
                      <a:pt x="3607" y="5547"/>
                    </a:lnTo>
                    <a:lnTo>
                      <a:pt x="3602" y="5523"/>
                    </a:lnTo>
                    <a:lnTo>
                      <a:pt x="3595" y="5497"/>
                    </a:lnTo>
                    <a:lnTo>
                      <a:pt x="3587" y="5470"/>
                    </a:lnTo>
                    <a:lnTo>
                      <a:pt x="3577" y="5443"/>
                    </a:lnTo>
                    <a:lnTo>
                      <a:pt x="3566" y="5414"/>
                    </a:lnTo>
                    <a:lnTo>
                      <a:pt x="3553" y="5384"/>
                    </a:lnTo>
                    <a:lnTo>
                      <a:pt x="3537" y="5352"/>
                    </a:lnTo>
                    <a:lnTo>
                      <a:pt x="3522" y="5320"/>
                    </a:lnTo>
                    <a:lnTo>
                      <a:pt x="3486" y="5250"/>
                    </a:lnTo>
                    <a:lnTo>
                      <a:pt x="3444" y="5172"/>
                    </a:lnTo>
                    <a:lnTo>
                      <a:pt x="3397" y="5089"/>
                    </a:lnTo>
                    <a:lnTo>
                      <a:pt x="3345" y="4995"/>
                    </a:lnTo>
                    <a:lnTo>
                      <a:pt x="3342" y="4919"/>
                    </a:lnTo>
                    <a:lnTo>
                      <a:pt x="3340" y="4841"/>
                    </a:lnTo>
                    <a:lnTo>
                      <a:pt x="3338" y="4761"/>
                    </a:lnTo>
                    <a:lnTo>
                      <a:pt x="3338" y="4680"/>
                    </a:lnTo>
                    <a:lnTo>
                      <a:pt x="3337" y="4597"/>
                    </a:lnTo>
                    <a:lnTo>
                      <a:pt x="3338" y="4512"/>
                    </a:lnTo>
                    <a:lnTo>
                      <a:pt x="3338" y="4426"/>
                    </a:lnTo>
                    <a:lnTo>
                      <a:pt x="3340" y="4341"/>
                    </a:lnTo>
                    <a:lnTo>
                      <a:pt x="3342" y="4253"/>
                    </a:lnTo>
                    <a:lnTo>
                      <a:pt x="3344" y="4164"/>
                    </a:lnTo>
                    <a:lnTo>
                      <a:pt x="3348" y="4075"/>
                    </a:lnTo>
                    <a:lnTo>
                      <a:pt x="3352" y="3985"/>
                    </a:lnTo>
                    <a:lnTo>
                      <a:pt x="3362" y="3803"/>
                    </a:lnTo>
                    <a:lnTo>
                      <a:pt x="3374" y="3620"/>
                    </a:lnTo>
                    <a:lnTo>
                      <a:pt x="3387" y="3437"/>
                    </a:lnTo>
                    <a:lnTo>
                      <a:pt x="3403" y="3253"/>
                    </a:lnTo>
                    <a:lnTo>
                      <a:pt x="3421" y="3071"/>
                    </a:lnTo>
                    <a:lnTo>
                      <a:pt x="3441" y="2892"/>
                    </a:lnTo>
                    <a:lnTo>
                      <a:pt x="3463" y="2715"/>
                    </a:lnTo>
                    <a:lnTo>
                      <a:pt x="3486" y="2542"/>
                    </a:lnTo>
                    <a:lnTo>
                      <a:pt x="3499" y="2458"/>
                    </a:lnTo>
                    <a:lnTo>
                      <a:pt x="3511" y="2375"/>
                    </a:lnTo>
                    <a:lnTo>
                      <a:pt x="3524" y="2293"/>
                    </a:lnTo>
                    <a:lnTo>
                      <a:pt x="3537" y="2213"/>
                    </a:lnTo>
                    <a:lnTo>
                      <a:pt x="3550" y="2174"/>
                    </a:lnTo>
                    <a:lnTo>
                      <a:pt x="3562" y="2135"/>
                    </a:lnTo>
                    <a:lnTo>
                      <a:pt x="3572" y="2099"/>
                    </a:lnTo>
                    <a:lnTo>
                      <a:pt x="3580" y="2063"/>
                    </a:lnTo>
                    <a:lnTo>
                      <a:pt x="3587" y="2028"/>
                    </a:lnTo>
                    <a:lnTo>
                      <a:pt x="3593" y="1996"/>
                    </a:lnTo>
                    <a:lnTo>
                      <a:pt x="3596" y="1963"/>
                    </a:lnTo>
                    <a:lnTo>
                      <a:pt x="3600" y="1931"/>
                    </a:lnTo>
                    <a:lnTo>
                      <a:pt x="3602" y="1899"/>
                    </a:lnTo>
                    <a:lnTo>
                      <a:pt x="3603" y="1868"/>
                    </a:lnTo>
                    <a:lnTo>
                      <a:pt x="3602" y="1839"/>
                    </a:lnTo>
                    <a:lnTo>
                      <a:pt x="3601" y="1809"/>
                    </a:lnTo>
                    <a:lnTo>
                      <a:pt x="3600" y="1780"/>
                    </a:lnTo>
                    <a:lnTo>
                      <a:pt x="3596" y="1752"/>
                    </a:lnTo>
                    <a:lnTo>
                      <a:pt x="3593" y="1723"/>
                    </a:lnTo>
                    <a:lnTo>
                      <a:pt x="3589" y="1695"/>
                    </a:lnTo>
                    <a:lnTo>
                      <a:pt x="3579" y="1640"/>
                    </a:lnTo>
                    <a:lnTo>
                      <a:pt x="3567" y="1583"/>
                    </a:lnTo>
                    <a:lnTo>
                      <a:pt x="3553" y="1526"/>
                    </a:lnTo>
                    <a:lnTo>
                      <a:pt x="3539" y="1469"/>
                    </a:lnTo>
                    <a:lnTo>
                      <a:pt x="3524" y="1410"/>
                    </a:lnTo>
                    <a:lnTo>
                      <a:pt x="3511" y="1347"/>
                    </a:lnTo>
                    <a:lnTo>
                      <a:pt x="3498" y="1282"/>
                    </a:lnTo>
                    <a:lnTo>
                      <a:pt x="3486" y="1214"/>
                    </a:lnTo>
                    <a:lnTo>
                      <a:pt x="3156" y="798"/>
                    </a:lnTo>
                    <a:lnTo>
                      <a:pt x="3152" y="771"/>
                    </a:lnTo>
                    <a:lnTo>
                      <a:pt x="3145" y="743"/>
                    </a:lnTo>
                    <a:lnTo>
                      <a:pt x="3134" y="717"/>
                    </a:lnTo>
                    <a:lnTo>
                      <a:pt x="3119" y="690"/>
                    </a:lnTo>
                    <a:lnTo>
                      <a:pt x="3102" y="664"/>
                    </a:lnTo>
                    <a:lnTo>
                      <a:pt x="3081" y="637"/>
                    </a:lnTo>
                    <a:lnTo>
                      <a:pt x="3057" y="611"/>
                    </a:lnTo>
                    <a:lnTo>
                      <a:pt x="3031" y="585"/>
                    </a:lnTo>
                    <a:lnTo>
                      <a:pt x="3002" y="560"/>
                    </a:lnTo>
                    <a:lnTo>
                      <a:pt x="2971" y="535"/>
                    </a:lnTo>
                    <a:lnTo>
                      <a:pt x="2938" y="511"/>
                    </a:lnTo>
                    <a:lnTo>
                      <a:pt x="2903" y="488"/>
                    </a:lnTo>
                    <a:lnTo>
                      <a:pt x="2867" y="463"/>
                    </a:lnTo>
                    <a:lnTo>
                      <a:pt x="2830" y="441"/>
                    </a:lnTo>
                    <a:lnTo>
                      <a:pt x="2792" y="419"/>
                    </a:lnTo>
                    <a:lnTo>
                      <a:pt x="2752" y="397"/>
                    </a:lnTo>
                    <a:lnTo>
                      <a:pt x="2711" y="376"/>
                    </a:lnTo>
                    <a:lnTo>
                      <a:pt x="2671" y="356"/>
                    </a:lnTo>
                    <a:lnTo>
                      <a:pt x="2630" y="336"/>
                    </a:lnTo>
                    <a:lnTo>
                      <a:pt x="2590" y="317"/>
                    </a:lnTo>
                    <a:lnTo>
                      <a:pt x="2508" y="282"/>
                    </a:lnTo>
                    <a:lnTo>
                      <a:pt x="2429" y="250"/>
                    </a:lnTo>
                    <a:lnTo>
                      <a:pt x="2354" y="222"/>
                    </a:lnTo>
                    <a:lnTo>
                      <a:pt x="2285" y="197"/>
                    </a:lnTo>
                    <a:lnTo>
                      <a:pt x="2224" y="177"/>
                    </a:lnTo>
                    <a:lnTo>
                      <a:pt x="2171" y="161"/>
                    </a:lnTo>
                    <a:lnTo>
                      <a:pt x="2137" y="150"/>
                    </a:lnTo>
                    <a:lnTo>
                      <a:pt x="2099" y="138"/>
                    </a:lnTo>
                    <a:lnTo>
                      <a:pt x="2057" y="127"/>
                    </a:lnTo>
                    <a:lnTo>
                      <a:pt x="2013" y="116"/>
                    </a:lnTo>
                    <a:lnTo>
                      <a:pt x="1965" y="105"/>
                    </a:lnTo>
                    <a:lnTo>
                      <a:pt x="1914" y="96"/>
                    </a:lnTo>
                    <a:lnTo>
                      <a:pt x="1862" y="85"/>
                    </a:lnTo>
                    <a:lnTo>
                      <a:pt x="1806" y="76"/>
                    </a:lnTo>
                    <a:lnTo>
                      <a:pt x="1748" y="67"/>
                    </a:lnTo>
                    <a:lnTo>
                      <a:pt x="1688" y="59"/>
                    </a:lnTo>
                    <a:lnTo>
                      <a:pt x="1627" y="50"/>
                    </a:lnTo>
                    <a:lnTo>
                      <a:pt x="1564" y="43"/>
                    </a:lnTo>
                    <a:lnTo>
                      <a:pt x="1501" y="35"/>
                    </a:lnTo>
                    <a:lnTo>
                      <a:pt x="1436" y="29"/>
                    </a:lnTo>
                    <a:lnTo>
                      <a:pt x="1371" y="23"/>
                    </a:lnTo>
                    <a:lnTo>
                      <a:pt x="1306" y="17"/>
                    </a:lnTo>
                    <a:lnTo>
                      <a:pt x="1240" y="12"/>
                    </a:lnTo>
                    <a:lnTo>
                      <a:pt x="1173" y="9"/>
                    </a:lnTo>
                    <a:lnTo>
                      <a:pt x="1107" y="6"/>
                    </a:lnTo>
                    <a:lnTo>
                      <a:pt x="1043" y="2"/>
                    </a:lnTo>
                    <a:lnTo>
                      <a:pt x="978" y="1"/>
                    </a:lnTo>
                    <a:lnTo>
                      <a:pt x="914" y="0"/>
                    </a:lnTo>
                    <a:lnTo>
                      <a:pt x="852" y="0"/>
                    </a:lnTo>
                    <a:lnTo>
                      <a:pt x="790" y="0"/>
                    </a:lnTo>
                    <a:lnTo>
                      <a:pt x="731" y="2"/>
                    </a:lnTo>
                    <a:lnTo>
                      <a:pt x="674" y="6"/>
                    </a:lnTo>
                    <a:lnTo>
                      <a:pt x="618" y="9"/>
                    </a:lnTo>
                    <a:lnTo>
                      <a:pt x="565" y="13"/>
                    </a:lnTo>
                    <a:lnTo>
                      <a:pt x="515" y="19"/>
                    </a:lnTo>
                    <a:lnTo>
                      <a:pt x="468" y="26"/>
                    </a:lnTo>
                    <a:lnTo>
                      <a:pt x="423" y="34"/>
                    </a:lnTo>
                    <a:lnTo>
                      <a:pt x="382" y="43"/>
                    </a:lnTo>
                    <a:lnTo>
                      <a:pt x="354" y="50"/>
                    </a:lnTo>
                    <a:lnTo>
                      <a:pt x="326" y="58"/>
                    </a:lnTo>
                    <a:lnTo>
                      <a:pt x="301" y="66"/>
                    </a:lnTo>
                    <a:lnTo>
                      <a:pt x="276" y="76"/>
                    </a:lnTo>
                    <a:lnTo>
                      <a:pt x="265" y="82"/>
                    </a:lnTo>
                    <a:lnTo>
                      <a:pt x="254" y="87"/>
                    </a:lnTo>
                    <a:lnTo>
                      <a:pt x="243" y="94"/>
                    </a:lnTo>
                    <a:lnTo>
                      <a:pt x="233" y="101"/>
                    </a:lnTo>
                    <a:lnTo>
                      <a:pt x="224" y="107"/>
                    </a:lnTo>
                    <a:lnTo>
                      <a:pt x="216" y="116"/>
                    </a:lnTo>
                    <a:lnTo>
                      <a:pt x="207" y="124"/>
                    </a:lnTo>
                    <a:lnTo>
                      <a:pt x="200" y="133"/>
                    </a:lnTo>
                    <a:lnTo>
                      <a:pt x="194" y="142"/>
                    </a:lnTo>
                    <a:lnTo>
                      <a:pt x="188" y="153"/>
                    </a:lnTo>
                    <a:lnTo>
                      <a:pt x="183" y="163"/>
                    </a:lnTo>
                    <a:lnTo>
                      <a:pt x="179" y="175"/>
                    </a:lnTo>
                    <a:lnTo>
                      <a:pt x="176" y="187"/>
                    </a:lnTo>
                    <a:lnTo>
                      <a:pt x="174" y="201"/>
                    </a:lnTo>
                    <a:lnTo>
                      <a:pt x="173" y="214"/>
                    </a:lnTo>
                    <a:lnTo>
                      <a:pt x="174" y="229"/>
                    </a:lnTo>
                    <a:lnTo>
                      <a:pt x="175" y="244"/>
                    </a:lnTo>
                    <a:lnTo>
                      <a:pt x="177" y="261"/>
                    </a:lnTo>
                    <a:lnTo>
                      <a:pt x="181" y="278"/>
                    </a:lnTo>
                    <a:lnTo>
                      <a:pt x="186" y="296"/>
                    </a:lnTo>
                    <a:lnTo>
                      <a:pt x="192" y="315"/>
                    </a:lnTo>
                    <a:lnTo>
                      <a:pt x="199" y="335"/>
                    </a:lnTo>
                    <a:lnTo>
                      <a:pt x="208" y="356"/>
                    </a:lnTo>
                    <a:lnTo>
                      <a:pt x="218" y="379"/>
                    </a:lnTo>
                    <a:lnTo>
                      <a:pt x="187" y="459"/>
                    </a:lnTo>
                    <a:lnTo>
                      <a:pt x="159" y="540"/>
                    </a:lnTo>
                    <a:lnTo>
                      <a:pt x="133" y="621"/>
                    </a:lnTo>
                    <a:lnTo>
                      <a:pt x="110" y="702"/>
                    </a:lnTo>
                    <a:lnTo>
                      <a:pt x="90" y="784"/>
                    </a:lnTo>
                    <a:lnTo>
                      <a:pt x="71" y="866"/>
                    </a:lnTo>
                    <a:lnTo>
                      <a:pt x="56" y="949"/>
                    </a:lnTo>
                    <a:lnTo>
                      <a:pt x="41" y="1031"/>
                    </a:lnTo>
                    <a:lnTo>
                      <a:pt x="30" y="1114"/>
                    </a:lnTo>
                    <a:lnTo>
                      <a:pt x="20" y="1197"/>
                    </a:lnTo>
                    <a:lnTo>
                      <a:pt x="13" y="1280"/>
                    </a:lnTo>
                    <a:lnTo>
                      <a:pt x="7" y="1364"/>
                    </a:lnTo>
                    <a:lnTo>
                      <a:pt x="3" y="1448"/>
                    </a:lnTo>
                    <a:lnTo>
                      <a:pt x="1" y="1531"/>
                    </a:lnTo>
                    <a:lnTo>
                      <a:pt x="0" y="1616"/>
                    </a:lnTo>
                    <a:lnTo>
                      <a:pt x="0" y="1701"/>
                    </a:lnTo>
                    <a:lnTo>
                      <a:pt x="2" y="1785"/>
                    </a:lnTo>
                    <a:lnTo>
                      <a:pt x="5" y="1869"/>
                    </a:lnTo>
                    <a:lnTo>
                      <a:pt x="10" y="1954"/>
                    </a:lnTo>
                    <a:lnTo>
                      <a:pt x="15" y="2039"/>
                    </a:lnTo>
                    <a:lnTo>
                      <a:pt x="22" y="2125"/>
                    </a:lnTo>
                    <a:lnTo>
                      <a:pt x="29" y="2210"/>
                    </a:lnTo>
                    <a:lnTo>
                      <a:pt x="37" y="2294"/>
                    </a:lnTo>
                    <a:lnTo>
                      <a:pt x="46" y="2380"/>
                    </a:lnTo>
                    <a:lnTo>
                      <a:pt x="65" y="2551"/>
                    </a:lnTo>
                    <a:lnTo>
                      <a:pt x="87" y="2721"/>
                    </a:lnTo>
                    <a:lnTo>
                      <a:pt x="110" y="2892"/>
                    </a:lnTo>
                    <a:lnTo>
                      <a:pt x="133" y="3062"/>
                    </a:lnTo>
                    <a:lnTo>
                      <a:pt x="154" y="3128"/>
                    </a:lnTo>
                    <a:lnTo>
                      <a:pt x="175" y="3196"/>
                    </a:lnTo>
                    <a:lnTo>
                      <a:pt x="195" y="3265"/>
                    </a:lnTo>
                    <a:lnTo>
                      <a:pt x="215" y="3336"/>
                    </a:lnTo>
                    <a:lnTo>
                      <a:pt x="252" y="3480"/>
                    </a:lnTo>
                    <a:lnTo>
                      <a:pt x="289" y="3627"/>
                    </a:lnTo>
                    <a:lnTo>
                      <a:pt x="362" y="3926"/>
                    </a:lnTo>
                    <a:lnTo>
                      <a:pt x="434" y="4223"/>
                    </a:lnTo>
                    <a:lnTo>
                      <a:pt x="472" y="4368"/>
                    </a:lnTo>
                    <a:lnTo>
                      <a:pt x="511" y="4508"/>
                    </a:lnTo>
                    <a:lnTo>
                      <a:pt x="530" y="4576"/>
                    </a:lnTo>
                    <a:lnTo>
                      <a:pt x="551" y="4643"/>
                    </a:lnTo>
                    <a:lnTo>
                      <a:pt x="572" y="4708"/>
                    </a:lnTo>
                    <a:lnTo>
                      <a:pt x="594" y="4771"/>
                    </a:lnTo>
                    <a:lnTo>
                      <a:pt x="616" y="4832"/>
                    </a:lnTo>
                    <a:lnTo>
                      <a:pt x="638" y="4892"/>
                    </a:lnTo>
                    <a:lnTo>
                      <a:pt x="662" y="4949"/>
                    </a:lnTo>
                    <a:lnTo>
                      <a:pt x="686" y="5003"/>
                    </a:lnTo>
                    <a:lnTo>
                      <a:pt x="711" y="5055"/>
                    </a:lnTo>
                    <a:lnTo>
                      <a:pt x="737" y="5103"/>
                    </a:lnTo>
                    <a:lnTo>
                      <a:pt x="764" y="5150"/>
                    </a:lnTo>
                    <a:lnTo>
                      <a:pt x="791" y="5192"/>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2" name=""/>
              <p:cNvSpPr/>
              <p:nvPr/>
            </p:nvSpPr>
            <p:spPr>
              <a:xfrm>
                <a:off x="2277720" y="4408200"/>
                <a:ext cx="56160" cy="62640"/>
              </a:xfrm>
              <a:custGeom>
                <a:avLst/>
                <a:gdLst/>
                <a:ahLst/>
                <a:rect l="l" t="t" r="r" b="b"/>
                <a:pathLst>
                  <a:path w="392" h="311">
                    <a:moveTo>
                      <a:pt x="57" y="283"/>
                    </a:moveTo>
                    <a:lnTo>
                      <a:pt x="57" y="284"/>
                    </a:lnTo>
                    <a:lnTo>
                      <a:pt x="58" y="275"/>
                    </a:lnTo>
                    <a:lnTo>
                      <a:pt x="61" y="264"/>
                    </a:lnTo>
                    <a:lnTo>
                      <a:pt x="64" y="256"/>
                    </a:lnTo>
                    <a:lnTo>
                      <a:pt x="67" y="246"/>
                    </a:lnTo>
                    <a:lnTo>
                      <a:pt x="73" y="238"/>
                    </a:lnTo>
                    <a:lnTo>
                      <a:pt x="78" y="229"/>
                    </a:lnTo>
                    <a:lnTo>
                      <a:pt x="85" y="221"/>
                    </a:lnTo>
                    <a:lnTo>
                      <a:pt x="92" y="212"/>
                    </a:lnTo>
                    <a:lnTo>
                      <a:pt x="100" y="204"/>
                    </a:lnTo>
                    <a:lnTo>
                      <a:pt x="109" y="196"/>
                    </a:lnTo>
                    <a:lnTo>
                      <a:pt x="119" y="189"/>
                    </a:lnTo>
                    <a:lnTo>
                      <a:pt x="130" y="181"/>
                    </a:lnTo>
                    <a:lnTo>
                      <a:pt x="153" y="167"/>
                    </a:lnTo>
                    <a:lnTo>
                      <a:pt x="178" y="153"/>
                    </a:lnTo>
                    <a:lnTo>
                      <a:pt x="233" y="126"/>
                    </a:lnTo>
                    <a:lnTo>
                      <a:pt x="289" y="101"/>
                    </a:lnTo>
                    <a:lnTo>
                      <a:pt x="316" y="88"/>
                    </a:lnTo>
                    <a:lnTo>
                      <a:pt x="344" y="74"/>
                    </a:lnTo>
                    <a:lnTo>
                      <a:pt x="369" y="61"/>
                    </a:lnTo>
                    <a:lnTo>
                      <a:pt x="392" y="45"/>
                    </a:lnTo>
                    <a:lnTo>
                      <a:pt x="358" y="0"/>
                    </a:lnTo>
                    <a:lnTo>
                      <a:pt x="338" y="13"/>
                    </a:lnTo>
                    <a:lnTo>
                      <a:pt x="316" y="26"/>
                    </a:lnTo>
                    <a:lnTo>
                      <a:pt x="291" y="38"/>
                    </a:lnTo>
                    <a:lnTo>
                      <a:pt x="265" y="50"/>
                    </a:lnTo>
                    <a:lnTo>
                      <a:pt x="208" y="77"/>
                    </a:lnTo>
                    <a:lnTo>
                      <a:pt x="152" y="104"/>
                    </a:lnTo>
                    <a:lnTo>
                      <a:pt x="123" y="119"/>
                    </a:lnTo>
                    <a:lnTo>
                      <a:pt x="97" y="136"/>
                    </a:lnTo>
                    <a:lnTo>
                      <a:pt x="85" y="144"/>
                    </a:lnTo>
                    <a:lnTo>
                      <a:pt x="73" y="154"/>
                    </a:lnTo>
                    <a:lnTo>
                      <a:pt x="61" y="163"/>
                    </a:lnTo>
                    <a:lnTo>
                      <a:pt x="50" y="174"/>
                    </a:lnTo>
                    <a:lnTo>
                      <a:pt x="40" y="186"/>
                    </a:lnTo>
                    <a:lnTo>
                      <a:pt x="31" y="197"/>
                    </a:lnTo>
                    <a:lnTo>
                      <a:pt x="22" y="210"/>
                    </a:lnTo>
                    <a:lnTo>
                      <a:pt x="16" y="223"/>
                    </a:lnTo>
                    <a:lnTo>
                      <a:pt x="10" y="237"/>
                    </a:lnTo>
                    <a:lnTo>
                      <a:pt x="5" y="251"/>
                    </a:lnTo>
                    <a:lnTo>
                      <a:pt x="3" y="266"/>
                    </a:lnTo>
                    <a:lnTo>
                      <a:pt x="0" y="282"/>
                    </a:lnTo>
                    <a:lnTo>
                      <a:pt x="0" y="283"/>
                    </a:lnTo>
                    <a:lnTo>
                      <a:pt x="0" y="282"/>
                    </a:lnTo>
                    <a:lnTo>
                      <a:pt x="0" y="288"/>
                    </a:lnTo>
                    <a:lnTo>
                      <a:pt x="3" y="295"/>
                    </a:lnTo>
                    <a:lnTo>
                      <a:pt x="5" y="299"/>
                    </a:lnTo>
                    <a:lnTo>
                      <a:pt x="8" y="303"/>
                    </a:lnTo>
                    <a:lnTo>
                      <a:pt x="12" y="306"/>
                    </a:lnTo>
                    <a:lnTo>
                      <a:pt x="18" y="309"/>
                    </a:lnTo>
                    <a:lnTo>
                      <a:pt x="22" y="311"/>
                    </a:lnTo>
                    <a:lnTo>
                      <a:pt x="28" y="311"/>
                    </a:lnTo>
                    <a:lnTo>
                      <a:pt x="33" y="311"/>
                    </a:lnTo>
                    <a:lnTo>
                      <a:pt x="39" y="310"/>
                    </a:lnTo>
                    <a:lnTo>
                      <a:pt x="43" y="308"/>
                    </a:lnTo>
                    <a:lnTo>
                      <a:pt x="48" y="305"/>
                    </a:lnTo>
                    <a:lnTo>
                      <a:pt x="52" y="301"/>
                    </a:lnTo>
                    <a:lnTo>
                      <a:pt x="55" y="297"/>
                    </a:lnTo>
                    <a:lnTo>
                      <a:pt x="56" y="292"/>
                    </a:lnTo>
                    <a:lnTo>
                      <a:pt x="57" y="285"/>
                    </a:lnTo>
                    <a:lnTo>
                      <a:pt x="57" y="283"/>
                    </a:lnTo>
                    <a:close/>
                  </a:path>
                </a:pathLst>
              </a:custGeom>
              <a:solidFill>
                <a:srgbClr val="000000"/>
              </a:solidFill>
              <a:ln w="0">
                <a:noFill/>
              </a:ln>
            </p:spPr>
            <p:style>
              <a:lnRef idx="0"/>
              <a:fillRef idx="0"/>
              <a:effectRef idx="0"/>
              <a:fontRef idx="minor"/>
            </p:style>
            <p:txBody>
              <a:bodyPr wrap="none" lIns="93240" rIns="93240" tIns="16200" bIns="16200" anchor="t">
                <a:spAutoFit/>
              </a:bodyPr>
              <a:p>
                <a:endParaRPr b="0" lang="en-US" sz="2400" spc="-1" strike="noStrike">
                  <a:solidFill>
                    <a:srgbClr val="ffffff"/>
                  </a:solidFill>
                  <a:latin typeface="Times New Roman"/>
                </a:endParaRPr>
              </a:p>
            </p:txBody>
          </p:sp>
          <p:sp>
            <p:nvSpPr>
              <p:cNvPr id="413" name=""/>
              <p:cNvSpPr/>
              <p:nvPr/>
            </p:nvSpPr>
            <p:spPr>
              <a:xfrm>
                <a:off x="2277720" y="4465440"/>
                <a:ext cx="176400" cy="76680"/>
              </a:xfrm>
              <a:custGeom>
                <a:avLst/>
                <a:gdLst/>
                <a:ahLst/>
                <a:rect l="l" t="t" r="r" b="b"/>
                <a:pathLst>
                  <a:path w="1224" h="383">
                    <a:moveTo>
                      <a:pt x="1224" y="330"/>
                    </a:moveTo>
                    <a:lnTo>
                      <a:pt x="1195" y="301"/>
                    </a:lnTo>
                    <a:lnTo>
                      <a:pt x="1139" y="303"/>
                    </a:lnTo>
                    <a:lnTo>
                      <a:pt x="1071" y="307"/>
                    </a:lnTo>
                    <a:lnTo>
                      <a:pt x="992" y="314"/>
                    </a:lnTo>
                    <a:lnTo>
                      <a:pt x="905" y="319"/>
                    </a:lnTo>
                    <a:lnTo>
                      <a:pt x="859" y="322"/>
                    </a:lnTo>
                    <a:lnTo>
                      <a:pt x="812" y="324"/>
                    </a:lnTo>
                    <a:lnTo>
                      <a:pt x="764" y="327"/>
                    </a:lnTo>
                    <a:lnTo>
                      <a:pt x="715" y="328"/>
                    </a:lnTo>
                    <a:lnTo>
                      <a:pt x="666" y="328"/>
                    </a:lnTo>
                    <a:lnTo>
                      <a:pt x="617" y="327"/>
                    </a:lnTo>
                    <a:lnTo>
                      <a:pt x="568" y="325"/>
                    </a:lnTo>
                    <a:lnTo>
                      <a:pt x="520" y="322"/>
                    </a:lnTo>
                    <a:lnTo>
                      <a:pt x="473" y="317"/>
                    </a:lnTo>
                    <a:lnTo>
                      <a:pt x="427" y="312"/>
                    </a:lnTo>
                    <a:lnTo>
                      <a:pt x="382" y="304"/>
                    </a:lnTo>
                    <a:lnTo>
                      <a:pt x="338" y="294"/>
                    </a:lnTo>
                    <a:lnTo>
                      <a:pt x="318" y="288"/>
                    </a:lnTo>
                    <a:lnTo>
                      <a:pt x="298" y="283"/>
                    </a:lnTo>
                    <a:lnTo>
                      <a:pt x="279" y="277"/>
                    </a:lnTo>
                    <a:lnTo>
                      <a:pt x="259" y="269"/>
                    </a:lnTo>
                    <a:lnTo>
                      <a:pt x="242" y="262"/>
                    </a:lnTo>
                    <a:lnTo>
                      <a:pt x="224" y="253"/>
                    </a:lnTo>
                    <a:lnTo>
                      <a:pt x="207" y="245"/>
                    </a:lnTo>
                    <a:lnTo>
                      <a:pt x="191" y="236"/>
                    </a:lnTo>
                    <a:lnTo>
                      <a:pt x="176" y="227"/>
                    </a:lnTo>
                    <a:lnTo>
                      <a:pt x="162" y="216"/>
                    </a:lnTo>
                    <a:lnTo>
                      <a:pt x="148" y="206"/>
                    </a:lnTo>
                    <a:lnTo>
                      <a:pt x="135" y="194"/>
                    </a:lnTo>
                    <a:lnTo>
                      <a:pt x="123" y="182"/>
                    </a:lnTo>
                    <a:lnTo>
                      <a:pt x="112" y="170"/>
                    </a:lnTo>
                    <a:lnTo>
                      <a:pt x="102" y="156"/>
                    </a:lnTo>
                    <a:lnTo>
                      <a:pt x="94" y="142"/>
                    </a:lnTo>
                    <a:lnTo>
                      <a:pt x="86" y="127"/>
                    </a:lnTo>
                    <a:lnTo>
                      <a:pt x="78" y="112"/>
                    </a:lnTo>
                    <a:lnTo>
                      <a:pt x="73" y="96"/>
                    </a:lnTo>
                    <a:lnTo>
                      <a:pt x="67" y="79"/>
                    </a:lnTo>
                    <a:lnTo>
                      <a:pt x="63" y="61"/>
                    </a:lnTo>
                    <a:lnTo>
                      <a:pt x="61" y="41"/>
                    </a:lnTo>
                    <a:lnTo>
                      <a:pt x="58" y="21"/>
                    </a:lnTo>
                    <a:lnTo>
                      <a:pt x="57" y="0"/>
                    </a:lnTo>
                    <a:lnTo>
                      <a:pt x="0" y="0"/>
                    </a:lnTo>
                    <a:lnTo>
                      <a:pt x="1" y="25"/>
                    </a:lnTo>
                    <a:lnTo>
                      <a:pt x="4" y="48"/>
                    </a:lnTo>
                    <a:lnTo>
                      <a:pt x="7" y="70"/>
                    </a:lnTo>
                    <a:lnTo>
                      <a:pt x="11" y="92"/>
                    </a:lnTo>
                    <a:lnTo>
                      <a:pt x="18" y="112"/>
                    </a:lnTo>
                    <a:lnTo>
                      <a:pt x="26" y="133"/>
                    </a:lnTo>
                    <a:lnTo>
                      <a:pt x="34" y="152"/>
                    </a:lnTo>
                    <a:lnTo>
                      <a:pt x="44" y="170"/>
                    </a:lnTo>
                    <a:lnTo>
                      <a:pt x="55" y="187"/>
                    </a:lnTo>
                    <a:lnTo>
                      <a:pt x="67" y="204"/>
                    </a:lnTo>
                    <a:lnTo>
                      <a:pt x="80" y="218"/>
                    </a:lnTo>
                    <a:lnTo>
                      <a:pt x="95" y="233"/>
                    </a:lnTo>
                    <a:lnTo>
                      <a:pt x="110" y="247"/>
                    </a:lnTo>
                    <a:lnTo>
                      <a:pt x="126" y="260"/>
                    </a:lnTo>
                    <a:lnTo>
                      <a:pt x="143" y="272"/>
                    </a:lnTo>
                    <a:lnTo>
                      <a:pt x="160" y="283"/>
                    </a:lnTo>
                    <a:lnTo>
                      <a:pt x="179" y="294"/>
                    </a:lnTo>
                    <a:lnTo>
                      <a:pt x="198" y="303"/>
                    </a:lnTo>
                    <a:lnTo>
                      <a:pt x="217" y="313"/>
                    </a:lnTo>
                    <a:lnTo>
                      <a:pt x="238" y="321"/>
                    </a:lnTo>
                    <a:lnTo>
                      <a:pt x="259" y="329"/>
                    </a:lnTo>
                    <a:lnTo>
                      <a:pt x="280" y="335"/>
                    </a:lnTo>
                    <a:lnTo>
                      <a:pt x="302" y="341"/>
                    </a:lnTo>
                    <a:lnTo>
                      <a:pt x="325" y="348"/>
                    </a:lnTo>
                    <a:lnTo>
                      <a:pt x="370" y="358"/>
                    </a:lnTo>
                    <a:lnTo>
                      <a:pt x="418" y="366"/>
                    </a:lnTo>
                    <a:lnTo>
                      <a:pt x="466" y="372"/>
                    </a:lnTo>
                    <a:lnTo>
                      <a:pt x="516" y="377"/>
                    </a:lnTo>
                    <a:lnTo>
                      <a:pt x="565" y="381"/>
                    </a:lnTo>
                    <a:lnTo>
                      <a:pt x="616" y="383"/>
                    </a:lnTo>
                    <a:lnTo>
                      <a:pt x="666" y="383"/>
                    </a:lnTo>
                    <a:lnTo>
                      <a:pt x="716" y="383"/>
                    </a:lnTo>
                    <a:lnTo>
                      <a:pt x="766" y="382"/>
                    </a:lnTo>
                    <a:lnTo>
                      <a:pt x="814" y="379"/>
                    </a:lnTo>
                    <a:lnTo>
                      <a:pt x="862" y="377"/>
                    </a:lnTo>
                    <a:lnTo>
                      <a:pt x="908" y="375"/>
                    </a:lnTo>
                    <a:lnTo>
                      <a:pt x="996" y="369"/>
                    </a:lnTo>
                    <a:lnTo>
                      <a:pt x="1075" y="363"/>
                    </a:lnTo>
                    <a:lnTo>
                      <a:pt x="1142" y="358"/>
                    </a:lnTo>
                    <a:lnTo>
                      <a:pt x="1195" y="357"/>
                    </a:lnTo>
                    <a:lnTo>
                      <a:pt x="1166" y="330"/>
                    </a:lnTo>
                    <a:lnTo>
                      <a:pt x="1195" y="357"/>
                    </a:lnTo>
                    <a:lnTo>
                      <a:pt x="1201" y="356"/>
                    </a:lnTo>
                    <a:lnTo>
                      <a:pt x="1208" y="355"/>
                    </a:lnTo>
                    <a:lnTo>
                      <a:pt x="1212" y="352"/>
                    </a:lnTo>
                    <a:lnTo>
                      <a:pt x="1216" y="349"/>
                    </a:lnTo>
                    <a:lnTo>
                      <a:pt x="1220" y="345"/>
                    </a:lnTo>
                    <a:lnTo>
                      <a:pt x="1222" y="339"/>
                    </a:lnTo>
                    <a:lnTo>
                      <a:pt x="1223" y="335"/>
                    </a:lnTo>
                    <a:lnTo>
                      <a:pt x="1224" y="330"/>
                    </a:lnTo>
                    <a:lnTo>
                      <a:pt x="1223" y="324"/>
                    </a:lnTo>
                    <a:lnTo>
                      <a:pt x="1222" y="319"/>
                    </a:lnTo>
                    <a:lnTo>
                      <a:pt x="1220" y="315"/>
                    </a:lnTo>
                    <a:lnTo>
                      <a:pt x="1216" y="311"/>
                    </a:lnTo>
                    <a:lnTo>
                      <a:pt x="1212" y="306"/>
                    </a:lnTo>
                    <a:lnTo>
                      <a:pt x="1208" y="304"/>
                    </a:lnTo>
                    <a:lnTo>
                      <a:pt x="1201" y="302"/>
                    </a:lnTo>
                    <a:lnTo>
                      <a:pt x="1195" y="301"/>
                    </a:lnTo>
                    <a:lnTo>
                      <a:pt x="1224" y="330"/>
                    </a:lnTo>
                    <a:close/>
                  </a:path>
                </a:pathLst>
              </a:custGeom>
              <a:solidFill>
                <a:srgbClr val="000000"/>
              </a:solidFill>
              <a:ln w="0">
                <a:noFill/>
              </a:ln>
            </p:spPr>
            <p:style>
              <a:lnRef idx="0"/>
              <a:fillRef idx="0"/>
              <a:effectRef idx="0"/>
              <a:fontRef idx="minor"/>
            </p:style>
            <p:txBody>
              <a:bodyPr wrap="none" lIns="93240" rIns="93240" tIns="30240" bIns="30240" anchor="t">
                <a:spAutoFit/>
              </a:bodyPr>
              <a:p>
                <a:endParaRPr b="0" lang="en-US" sz="2400" spc="-1" strike="noStrike">
                  <a:solidFill>
                    <a:srgbClr val="ffffff"/>
                  </a:solidFill>
                  <a:latin typeface="Times New Roman"/>
                </a:endParaRPr>
              </a:p>
            </p:txBody>
          </p:sp>
          <p:sp>
            <p:nvSpPr>
              <p:cNvPr id="414" name=""/>
              <p:cNvSpPr/>
              <p:nvPr/>
            </p:nvSpPr>
            <p:spPr>
              <a:xfrm>
                <a:off x="2445120" y="4530960"/>
                <a:ext cx="271800" cy="98640"/>
              </a:xfrm>
              <a:custGeom>
                <a:avLst/>
                <a:gdLst/>
                <a:ahLst/>
                <a:rect l="l" t="t" r="r" b="b"/>
                <a:pathLst>
                  <a:path w="1887" h="487">
                    <a:moveTo>
                      <a:pt x="1838" y="110"/>
                    </a:moveTo>
                    <a:lnTo>
                      <a:pt x="1847" y="105"/>
                    </a:lnTo>
                    <a:lnTo>
                      <a:pt x="1766" y="138"/>
                    </a:lnTo>
                    <a:lnTo>
                      <a:pt x="1662" y="179"/>
                    </a:lnTo>
                    <a:lnTo>
                      <a:pt x="1604" y="201"/>
                    </a:lnTo>
                    <a:lnTo>
                      <a:pt x="1542" y="224"/>
                    </a:lnTo>
                    <a:lnTo>
                      <a:pt x="1476" y="248"/>
                    </a:lnTo>
                    <a:lnTo>
                      <a:pt x="1407" y="270"/>
                    </a:lnTo>
                    <a:lnTo>
                      <a:pt x="1335" y="293"/>
                    </a:lnTo>
                    <a:lnTo>
                      <a:pt x="1261" y="315"/>
                    </a:lnTo>
                    <a:lnTo>
                      <a:pt x="1185" y="337"/>
                    </a:lnTo>
                    <a:lnTo>
                      <a:pt x="1110" y="357"/>
                    </a:lnTo>
                    <a:lnTo>
                      <a:pt x="1032" y="375"/>
                    </a:lnTo>
                    <a:lnTo>
                      <a:pt x="954" y="392"/>
                    </a:lnTo>
                    <a:lnTo>
                      <a:pt x="916" y="399"/>
                    </a:lnTo>
                    <a:lnTo>
                      <a:pt x="877" y="406"/>
                    </a:lnTo>
                    <a:lnTo>
                      <a:pt x="839" y="412"/>
                    </a:lnTo>
                    <a:lnTo>
                      <a:pt x="801" y="417"/>
                    </a:lnTo>
                    <a:lnTo>
                      <a:pt x="763" y="421"/>
                    </a:lnTo>
                    <a:lnTo>
                      <a:pt x="725" y="426"/>
                    </a:lnTo>
                    <a:lnTo>
                      <a:pt x="689" y="429"/>
                    </a:lnTo>
                    <a:lnTo>
                      <a:pt x="651" y="431"/>
                    </a:lnTo>
                    <a:lnTo>
                      <a:pt x="616" y="432"/>
                    </a:lnTo>
                    <a:lnTo>
                      <a:pt x="580" y="432"/>
                    </a:lnTo>
                    <a:lnTo>
                      <a:pt x="546" y="432"/>
                    </a:lnTo>
                    <a:lnTo>
                      <a:pt x="512" y="430"/>
                    </a:lnTo>
                    <a:lnTo>
                      <a:pt x="478" y="428"/>
                    </a:lnTo>
                    <a:lnTo>
                      <a:pt x="446" y="424"/>
                    </a:lnTo>
                    <a:lnTo>
                      <a:pt x="416" y="418"/>
                    </a:lnTo>
                    <a:lnTo>
                      <a:pt x="385" y="413"/>
                    </a:lnTo>
                    <a:lnTo>
                      <a:pt x="355" y="406"/>
                    </a:lnTo>
                    <a:lnTo>
                      <a:pt x="328" y="397"/>
                    </a:lnTo>
                    <a:lnTo>
                      <a:pt x="300" y="388"/>
                    </a:lnTo>
                    <a:lnTo>
                      <a:pt x="274" y="377"/>
                    </a:lnTo>
                    <a:lnTo>
                      <a:pt x="250" y="365"/>
                    </a:lnTo>
                    <a:lnTo>
                      <a:pt x="227" y="351"/>
                    </a:lnTo>
                    <a:lnTo>
                      <a:pt x="205" y="337"/>
                    </a:lnTo>
                    <a:lnTo>
                      <a:pt x="184" y="321"/>
                    </a:lnTo>
                    <a:lnTo>
                      <a:pt x="166" y="304"/>
                    </a:lnTo>
                    <a:lnTo>
                      <a:pt x="148" y="285"/>
                    </a:lnTo>
                    <a:lnTo>
                      <a:pt x="132" y="265"/>
                    </a:lnTo>
                    <a:lnTo>
                      <a:pt x="117" y="242"/>
                    </a:lnTo>
                    <a:lnTo>
                      <a:pt x="103" y="219"/>
                    </a:lnTo>
                    <a:lnTo>
                      <a:pt x="92" y="194"/>
                    </a:lnTo>
                    <a:lnTo>
                      <a:pt x="81" y="166"/>
                    </a:lnTo>
                    <a:lnTo>
                      <a:pt x="73" y="136"/>
                    </a:lnTo>
                    <a:lnTo>
                      <a:pt x="67" y="106"/>
                    </a:lnTo>
                    <a:lnTo>
                      <a:pt x="61" y="72"/>
                    </a:lnTo>
                    <a:lnTo>
                      <a:pt x="58" y="37"/>
                    </a:lnTo>
                    <a:lnTo>
                      <a:pt x="58" y="0"/>
                    </a:lnTo>
                    <a:lnTo>
                      <a:pt x="0" y="0"/>
                    </a:lnTo>
                    <a:lnTo>
                      <a:pt x="1" y="40"/>
                    </a:lnTo>
                    <a:lnTo>
                      <a:pt x="4" y="78"/>
                    </a:lnTo>
                    <a:lnTo>
                      <a:pt x="10" y="115"/>
                    </a:lnTo>
                    <a:lnTo>
                      <a:pt x="18" y="149"/>
                    </a:lnTo>
                    <a:lnTo>
                      <a:pt x="27" y="183"/>
                    </a:lnTo>
                    <a:lnTo>
                      <a:pt x="38" y="214"/>
                    </a:lnTo>
                    <a:lnTo>
                      <a:pt x="53" y="243"/>
                    </a:lnTo>
                    <a:lnTo>
                      <a:pt x="68" y="271"/>
                    </a:lnTo>
                    <a:lnTo>
                      <a:pt x="84" y="296"/>
                    </a:lnTo>
                    <a:lnTo>
                      <a:pt x="104" y="320"/>
                    </a:lnTo>
                    <a:lnTo>
                      <a:pt x="125" y="342"/>
                    </a:lnTo>
                    <a:lnTo>
                      <a:pt x="147" y="363"/>
                    </a:lnTo>
                    <a:lnTo>
                      <a:pt x="171" y="381"/>
                    </a:lnTo>
                    <a:lnTo>
                      <a:pt x="196" y="398"/>
                    </a:lnTo>
                    <a:lnTo>
                      <a:pt x="223" y="414"/>
                    </a:lnTo>
                    <a:lnTo>
                      <a:pt x="250" y="427"/>
                    </a:lnTo>
                    <a:lnTo>
                      <a:pt x="280" y="439"/>
                    </a:lnTo>
                    <a:lnTo>
                      <a:pt x="309" y="450"/>
                    </a:lnTo>
                    <a:lnTo>
                      <a:pt x="340" y="459"/>
                    </a:lnTo>
                    <a:lnTo>
                      <a:pt x="372" y="467"/>
                    </a:lnTo>
                    <a:lnTo>
                      <a:pt x="405" y="473"/>
                    </a:lnTo>
                    <a:lnTo>
                      <a:pt x="439" y="479"/>
                    </a:lnTo>
                    <a:lnTo>
                      <a:pt x="473" y="483"/>
                    </a:lnTo>
                    <a:lnTo>
                      <a:pt x="508" y="485"/>
                    </a:lnTo>
                    <a:lnTo>
                      <a:pt x="544" y="487"/>
                    </a:lnTo>
                    <a:lnTo>
                      <a:pt x="580" y="487"/>
                    </a:lnTo>
                    <a:lnTo>
                      <a:pt x="617" y="487"/>
                    </a:lnTo>
                    <a:lnTo>
                      <a:pt x="655" y="486"/>
                    </a:lnTo>
                    <a:lnTo>
                      <a:pt x="692" y="484"/>
                    </a:lnTo>
                    <a:lnTo>
                      <a:pt x="730" y="481"/>
                    </a:lnTo>
                    <a:lnTo>
                      <a:pt x="770" y="477"/>
                    </a:lnTo>
                    <a:lnTo>
                      <a:pt x="808" y="471"/>
                    </a:lnTo>
                    <a:lnTo>
                      <a:pt x="848" y="466"/>
                    </a:lnTo>
                    <a:lnTo>
                      <a:pt x="887" y="460"/>
                    </a:lnTo>
                    <a:lnTo>
                      <a:pt x="927" y="453"/>
                    </a:lnTo>
                    <a:lnTo>
                      <a:pt x="966" y="446"/>
                    </a:lnTo>
                    <a:lnTo>
                      <a:pt x="1045" y="429"/>
                    </a:lnTo>
                    <a:lnTo>
                      <a:pt x="1124" y="411"/>
                    </a:lnTo>
                    <a:lnTo>
                      <a:pt x="1202" y="390"/>
                    </a:lnTo>
                    <a:lnTo>
                      <a:pt x="1278" y="368"/>
                    </a:lnTo>
                    <a:lnTo>
                      <a:pt x="1352" y="346"/>
                    </a:lnTo>
                    <a:lnTo>
                      <a:pt x="1426" y="323"/>
                    </a:lnTo>
                    <a:lnTo>
                      <a:pt x="1495" y="300"/>
                    </a:lnTo>
                    <a:lnTo>
                      <a:pt x="1562" y="276"/>
                    </a:lnTo>
                    <a:lnTo>
                      <a:pt x="1624" y="253"/>
                    </a:lnTo>
                    <a:lnTo>
                      <a:pt x="1683" y="231"/>
                    </a:lnTo>
                    <a:lnTo>
                      <a:pt x="1787" y="189"/>
                    </a:lnTo>
                    <a:lnTo>
                      <a:pt x="1870" y="155"/>
                    </a:lnTo>
                    <a:lnTo>
                      <a:pt x="1877" y="149"/>
                    </a:lnTo>
                    <a:lnTo>
                      <a:pt x="1870" y="155"/>
                    </a:lnTo>
                    <a:lnTo>
                      <a:pt x="1875" y="151"/>
                    </a:lnTo>
                    <a:lnTo>
                      <a:pt x="1880" y="148"/>
                    </a:lnTo>
                    <a:lnTo>
                      <a:pt x="1883" y="144"/>
                    </a:lnTo>
                    <a:lnTo>
                      <a:pt x="1885" y="138"/>
                    </a:lnTo>
                    <a:lnTo>
                      <a:pt x="1886" y="133"/>
                    </a:lnTo>
                    <a:lnTo>
                      <a:pt x="1887" y="128"/>
                    </a:lnTo>
                    <a:lnTo>
                      <a:pt x="1886" y="124"/>
                    </a:lnTo>
                    <a:lnTo>
                      <a:pt x="1884" y="118"/>
                    </a:lnTo>
                    <a:lnTo>
                      <a:pt x="1882" y="114"/>
                    </a:lnTo>
                    <a:lnTo>
                      <a:pt x="1878" y="110"/>
                    </a:lnTo>
                    <a:lnTo>
                      <a:pt x="1874" y="107"/>
                    </a:lnTo>
                    <a:lnTo>
                      <a:pt x="1870" y="104"/>
                    </a:lnTo>
                    <a:lnTo>
                      <a:pt x="1864" y="102"/>
                    </a:lnTo>
                    <a:lnTo>
                      <a:pt x="1859" y="101"/>
                    </a:lnTo>
                    <a:lnTo>
                      <a:pt x="1852" y="102"/>
                    </a:lnTo>
                    <a:lnTo>
                      <a:pt x="1847" y="105"/>
                    </a:lnTo>
                    <a:lnTo>
                      <a:pt x="1838" y="11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5" name=""/>
              <p:cNvSpPr/>
              <p:nvPr/>
            </p:nvSpPr>
            <p:spPr>
              <a:xfrm>
                <a:off x="2695320" y="4367880"/>
                <a:ext cx="45720" cy="195120"/>
              </a:xfrm>
              <a:custGeom>
                <a:avLst/>
                <a:gdLst/>
                <a:ahLst/>
                <a:rect l="l" t="t" r="r" b="b"/>
                <a:pathLst>
                  <a:path w="325" h="964">
                    <a:moveTo>
                      <a:pt x="1" y="28"/>
                    </a:moveTo>
                    <a:lnTo>
                      <a:pt x="4" y="41"/>
                    </a:lnTo>
                    <a:lnTo>
                      <a:pt x="56" y="133"/>
                    </a:lnTo>
                    <a:lnTo>
                      <a:pt x="103" y="218"/>
                    </a:lnTo>
                    <a:lnTo>
                      <a:pt x="144" y="294"/>
                    </a:lnTo>
                    <a:lnTo>
                      <a:pt x="180" y="363"/>
                    </a:lnTo>
                    <a:lnTo>
                      <a:pt x="196" y="396"/>
                    </a:lnTo>
                    <a:lnTo>
                      <a:pt x="210" y="427"/>
                    </a:lnTo>
                    <a:lnTo>
                      <a:pt x="222" y="457"/>
                    </a:lnTo>
                    <a:lnTo>
                      <a:pt x="234" y="484"/>
                    </a:lnTo>
                    <a:lnTo>
                      <a:pt x="243" y="511"/>
                    </a:lnTo>
                    <a:lnTo>
                      <a:pt x="252" y="537"/>
                    </a:lnTo>
                    <a:lnTo>
                      <a:pt x="259" y="561"/>
                    </a:lnTo>
                    <a:lnTo>
                      <a:pt x="263" y="585"/>
                    </a:lnTo>
                    <a:lnTo>
                      <a:pt x="266" y="607"/>
                    </a:lnTo>
                    <a:lnTo>
                      <a:pt x="268" y="628"/>
                    </a:lnTo>
                    <a:lnTo>
                      <a:pt x="268" y="649"/>
                    </a:lnTo>
                    <a:lnTo>
                      <a:pt x="266" y="671"/>
                    </a:lnTo>
                    <a:lnTo>
                      <a:pt x="263" y="691"/>
                    </a:lnTo>
                    <a:lnTo>
                      <a:pt x="259" y="710"/>
                    </a:lnTo>
                    <a:lnTo>
                      <a:pt x="252" y="730"/>
                    </a:lnTo>
                    <a:lnTo>
                      <a:pt x="243" y="750"/>
                    </a:lnTo>
                    <a:lnTo>
                      <a:pt x="233" y="770"/>
                    </a:lnTo>
                    <a:lnTo>
                      <a:pt x="221" y="790"/>
                    </a:lnTo>
                    <a:lnTo>
                      <a:pt x="207" y="812"/>
                    </a:lnTo>
                    <a:lnTo>
                      <a:pt x="191" y="833"/>
                    </a:lnTo>
                    <a:lnTo>
                      <a:pt x="172" y="855"/>
                    </a:lnTo>
                    <a:lnTo>
                      <a:pt x="152" y="877"/>
                    </a:lnTo>
                    <a:lnTo>
                      <a:pt x="129" y="901"/>
                    </a:lnTo>
                    <a:lnTo>
                      <a:pt x="104" y="925"/>
                    </a:lnTo>
                    <a:lnTo>
                      <a:pt x="143" y="964"/>
                    </a:lnTo>
                    <a:lnTo>
                      <a:pt x="170" y="940"/>
                    </a:lnTo>
                    <a:lnTo>
                      <a:pt x="194" y="914"/>
                    </a:lnTo>
                    <a:lnTo>
                      <a:pt x="216" y="890"/>
                    </a:lnTo>
                    <a:lnTo>
                      <a:pt x="235" y="867"/>
                    </a:lnTo>
                    <a:lnTo>
                      <a:pt x="254" y="843"/>
                    </a:lnTo>
                    <a:lnTo>
                      <a:pt x="269" y="820"/>
                    </a:lnTo>
                    <a:lnTo>
                      <a:pt x="284" y="796"/>
                    </a:lnTo>
                    <a:lnTo>
                      <a:pt x="296" y="772"/>
                    </a:lnTo>
                    <a:lnTo>
                      <a:pt x="306" y="749"/>
                    </a:lnTo>
                    <a:lnTo>
                      <a:pt x="313" y="725"/>
                    </a:lnTo>
                    <a:lnTo>
                      <a:pt x="320" y="701"/>
                    </a:lnTo>
                    <a:lnTo>
                      <a:pt x="323" y="676"/>
                    </a:lnTo>
                    <a:lnTo>
                      <a:pt x="325" y="652"/>
                    </a:lnTo>
                    <a:lnTo>
                      <a:pt x="325" y="627"/>
                    </a:lnTo>
                    <a:lnTo>
                      <a:pt x="323" y="601"/>
                    </a:lnTo>
                    <a:lnTo>
                      <a:pt x="320" y="575"/>
                    </a:lnTo>
                    <a:lnTo>
                      <a:pt x="314" y="549"/>
                    </a:lnTo>
                    <a:lnTo>
                      <a:pt x="307" y="521"/>
                    </a:lnTo>
                    <a:lnTo>
                      <a:pt x="298" y="494"/>
                    </a:lnTo>
                    <a:lnTo>
                      <a:pt x="288" y="465"/>
                    </a:lnTo>
                    <a:lnTo>
                      <a:pt x="276" y="435"/>
                    </a:lnTo>
                    <a:lnTo>
                      <a:pt x="263" y="405"/>
                    </a:lnTo>
                    <a:lnTo>
                      <a:pt x="248" y="373"/>
                    </a:lnTo>
                    <a:lnTo>
                      <a:pt x="231" y="340"/>
                    </a:lnTo>
                    <a:lnTo>
                      <a:pt x="195" y="269"/>
                    </a:lnTo>
                    <a:lnTo>
                      <a:pt x="153" y="192"/>
                    </a:lnTo>
                    <a:lnTo>
                      <a:pt x="106" y="107"/>
                    </a:lnTo>
                    <a:lnTo>
                      <a:pt x="55" y="15"/>
                    </a:lnTo>
                    <a:lnTo>
                      <a:pt x="58" y="26"/>
                    </a:lnTo>
                    <a:lnTo>
                      <a:pt x="55" y="15"/>
                    </a:lnTo>
                    <a:lnTo>
                      <a:pt x="50" y="9"/>
                    </a:lnTo>
                    <a:lnTo>
                      <a:pt x="46" y="5"/>
                    </a:lnTo>
                    <a:lnTo>
                      <a:pt x="41" y="2"/>
                    </a:lnTo>
                    <a:lnTo>
                      <a:pt x="36" y="1"/>
                    </a:lnTo>
                    <a:lnTo>
                      <a:pt x="32" y="0"/>
                    </a:lnTo>
                    <a:lnTo>
                      <a:pt x="26" y="0"/>
                    </a:lnTo>
                    <a:lnTo>
                      <a:pt x="21" y="1"/>
                    </a:lnTo>
                    <a:lnTo>
                      <a:pt x="15" y="3"/>
                    </a:lnTo>
                    <a:lnTo>
                      <a:pt x="11" y="6"/>
                    </a:lnTo>
                    <a:lnTo>
                      <a:pt x="7" y="9"/>
                    </a:lnTo>
                    <a:lnTo>
                      <a:pt x="4" y="14"/>
                    </a:lnTo>
                    <a:lnTo>
                      <a:pt x="2" y="19"/>
                    </a:lnTo>
                    <a:lnTo>
                      <a:pt x="1" y="23"/>
                    </a:lnTo>
                    <a:lnTo>
                      <a:pt x="0" y="30"/>
                    </a:lnTo>
                    <a:lnTo>
                      <a:pt x="1" y="35"/>
                    </a:lnTo>
                    <a:lnTo>
                      <a:pt x="4" y="41"/>
                    </a:lnTo>
                    <a:lnTo>
                      <a:pt x="1"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6" name=""/>
              <p:cNvSpPr/>
              <p:nvPr/>
            </p:nvSpPr>
            <p:spPr>
              <a:xfrm>
                <a:off x="2694240" y="3804480"/>
                <a:ext cx="36720" cy="568800"/>
              </a:xfrm>
              <a:custGeom>
                <a:avLst/>
                <a:gdLst/>
                <a:ahLst/>
                <a:rect l="l" t="t" r="r" b="b"/>
                <a:pathLst>
                  <a:path w="258" h="2811">
                    <a:moveTo>
                      <a:pt x="203" y="19"/>
                    </a:moveTo>
                    <a:lnTo>
                      <a:pt x="202" y="24"/>
                    </a:lnTo>
                    <a:lnTo>
                      <a:pt x="188" y="104"/>
                    </a:lnTo>
                    <a:lnTo>
                      <a:pt x="174" y="186"/>
                    </a:lnTo>
                    <a:lnTo>
                      <a:pt x="162" y="269"/>
                    </a:lnTo>
                    <a:lnTo>
                      <a:pt x="150" y="354"/>
                    </a:lnTo>
                    <a:lnTo>
                      <a:pt x="126" y="527"/>
                    </a:lnTo>
                    <a:lnTo>
                      <a:pt x="105" y="704"/>
                    </a:lnTo>
                    <a:lnTo>
                      <a:pt x="84" y="884"/>
                    </a:lnTo>
                    <a:lnTo>
                      <a:pt x="67" y="1066"/>
                    </a:lnTo>
                    <a:lnTo>
                      <a:pt x="50" y="1250"/>
                    </a:lnTo>
                    <a:lnTo>
                      <a:pt x="37" y="1433"/>
                    </a:lnTo>
                    <a:lnTo>
                      <a:pt x="25" y="1616"/>
                    </a:lnTo>
                    <a:lnTo>
                      <a:pt x="15" y="1798"/>
                    </a:lnTo>
                    <a:lnTo>
                      <a:pt x="11" y="1889"/>
                    </a:lnTo>
                    <a:lnTo>
                      <a:pt x="8" y="1978"/>
                    </a:lnTo>
                    <a:lnTo>
                      <a:pt x="6" y="2067"/>
                    </a:lnTo>
                    <a:lnTo>
                      <a:pt x="3" y="2154"/>
                    </a:lnTo>
                    <a:lnTo>
                      <a:pt x="1" y="2241"/>
                    </a:lnTo>
                    <a:lnTo>
                      <a:pt x="0" y="2327"/>
                    </a:lnTo>
                    <a:lnTo>
                      <a:pt x="0" y="2412"/>
                    </a:lnTo>
                    <a:lnTo>
                      <a:pt x="0" y="2495"/>
                    </a:lnTo>
                    <a:lnTo>
                      <a:pt x="1" y="2576"/>
                    </a:lnTo>
                    <a:lnTo>
                      <a:pt x="3" y="2657"/>
                    </a:lnTo>
                    <a:lnTo>
                      <a:pt x="6" y="2735"/>
                    </a:lnTo>
                    <a:lnTo>
                      <a:pt x="9" y="2811"/>
                    </a:lnTo>
                    <a:lnTo>
                      <a:pt x="66" y="2809"/>
                    </a:lnTo>
                    <a:lnTo>
                      <a:pt x="63" y="2733"/>
                    </a:lnTo>
                    <a:lnTo>
                      <a:pt x="60" y="2656"/>
                    </a:lnTo>
                    <a:lnTo>
                      <a:pt x="59" y="2575"/>
                    </a:lnTo>
                    <a:lnTo>
                      <a:pt x="58" y="2495"/>
                    </a:lnTo>
                    <a:lnTo>
                      <a:pt x="57" y="2412"/>
                    </a:lnTo>
                    <a:lnTo>
                      <a:pt x="58" y="2327"/>
                    </a:lnTo>
                    <a:lnTo>
                      <a:pt x="58" y="2242"/>
                    </a:lnTo>
                    <a:lnTo>
                      <a:pt x="60" y="2156"/>
                    </a:lnTo>
                    <a:lnTo>
                      <a:pt x="63" y="2068"/>
                    </a:lnTo>
                    <a:lnTo>
                      <a:pt x="65" y="1980"/>
                    </a:lnTo>
                    <a:lnTo>
                      <a:pt x="69" y="1891"/>
                    </a:lnTo>
                    <a:lnTo>
                      <a:pt x="72" y="1801"/>
                    </a:lnTo>
                    <a:lnTo>
                      <a:pt x="82" y="1619"/>
                    </a:lnTo>
                    <a:lnTo>
                      <a:pt x="94" y="1437"/>
                    </a:lnTo>
                    <a:lnTo>
                      <a:pt x="109" y="1254"/>
                    </a:lnTo>
                    <a:lnTo>
                      <a:pt x="124" y="1070"/>
                    </a:lnTo>
                    <a:lnTo>
                      <a:pt x="141" y="889"/>
                    </a:lnTo>
                    <a:lnTo>
                      <a:pt x="161" y="710"/>
                    </a:lnTo>
                    <a:lnTo>
                      <a:pt x="183" y="533"/>
                    </a:lnTo>
                    <a:lnTo>
                      <a:pt x="206" y="362"/>
                    </a:lnTo>
                    <a:lnTo>
                      <a:pt x="219" y="277"/>
                    </a:lnTo>
                    <a:lnTo>
                      <a:pt x="231" y="194"/>
                    </a:lnTo>
                    <a:lnTo>
                      <a:pt x="245" y="113"/>
                    </a:lnTo>
                    <a:lnTo>
                      <a:pt x="258" y="32"/>
                    </a:lnTo>
                    <a:lnTo>
                      <a:pt x="257" y="36"/>
                    </a:lnTo>
                    <a:lnTo>
                      <a:pt x="258" y="32"/>
                    </a:lnTo>
                    <a:lnTo>
                      <a:pt x="258" y="26"/>
                    </a:lnTo>
                    <a:lnTo>
                      <a:pt x="258" y="20"/>
                    </a:lnTo>
                    <a:lnTo>
                      <a:pt x="256" y="15"/>
                    </a:lnTo>
                    <a:lnTo>
                      <a:pt x="252" y="11"/>
                    </a:lnTo>
                    <a:lnTo>
                      <a:pt x="249" y="7"/>
                    </a:lnTo>
                    <a:lnTo>
                      <a:pt x="245" y="3"/>
                    </a:lnTo>
                    <a:lnTo>
                      <a:pt x="239" y="1"/>
                    </a:lnTo>
                    <a:lnTo>
                      <a:pt x="235" y="0"/>
                    </a:lnTo>
                    <a:lnTo>
                      <a:pt x="229" y="0"/>
                    </a:lnTo>
                    <a:lnTo>
                      <a:pt x="224" y="0"/>
                    </a:lnTo>
                    <a:lnTo>
                      <a:pt x="218" y="2"/>
                    </a:lnTo>
                    <a:lnTo>
                      <a:pt x="214" y="5"/>
                    </a:lnTo>
                    <a:lnTo>
                      <a:pt x="209" y="8"/>
                    </a:lnTo>
                    <a:lnTo>
                      <a:pt x="206" y="12"/>
                    </a:lnTo>
                    <a:lnTo>
                      <a:pt x="203" y="17"/>
                    </a:lnTo>
                    <a:lnTo>
                      <a:pt x="202" y="24"/>
                    </a:lnTo>
                    <a:lnTo>
                      <a:pt x="203" y="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7" name=""/>
              <p:cNvSpPr/>
              <p:nvPr/>
            </p:nvSpPr>
            <p:spPr>
              <a:xfrm>
                <a:off x="2714760" y="3603960"/>
                <a:ext cx="25200" cy="207720"/>
              </a:xfrm>
              <a:custGeom>
                <a:avLst/>
                <a:gdLst/>
                <a:ahLst/>
                <a:rect l="l" t="t" r="r" b="b"/>
                <a:pathLst>
                  <a:path w="175" h="1035">
                    <a:moveTo>
                      <a:pt x="6" y="45"/>
                    </a:moveTo>
                    <a:lnTo>
                      <a:pt x="0" y="32"/>
                    </a:lnTo>
                    <a:lnTo>
                      <a:pt x="12" y="102"/>
                    </a:lnTo>
                    <a:lnTo>
                      <a:pt x="25" y="166"/>
                    </a:lnTo>
                    <a:lnTo>
                      <a:pt x="40" y="229"/>
                    </a:lnTo>
                    <a:lnTo>
                      <a:pt x="54" y="289"/>
                    </a:lnTo>
                    <a:lnTo>
                      <a:pt x="68" y="347"/>
                    </a:lnTo>
                    <a:lnTo>
                      <a:pt x="81" y="403"/>
                    </a:lnTo>
                    <a:lnTo>
                      <a:pt x="93" y="459"/>
                    </a:lnTo>
                    <a:lnTo>
                      <a:pt x="103" y="514"/>
                    </a:lnTo>
                    <a:lnTo>
                      <a:pt x="108" y="540"/>
                    </a:lnTo>
                    <a:lnTo>
                      <a:pt x="111" y="569"/>
                    </a:lnTo>
                    <a:lnTo>
                      <a:pt x="114" y="597"/>
                    </a:lnTo>
                    <a:lnTo>
                      <a:pt x="115" y="625"/>
                    </a:lnTo>
                    <a:lnTo>
                      <a:pt x="116" y="654"/>
                    </a:lnTo>
                    <a:lnTo>
                      <a:pt x="116" y="682"/>
                    </a:lnTo>
                    <a:lnTo>
                      <a:pt x="116" y="712"/>
                    </a:lnTo>
                    <a:lnTo>
                      <a:pt x="114" y="743"/>
                    </a:lnTo>
                    <a:lnTo>
                      <a:pt x="111" y="774"/>
                    </a:lnTo>
                    <a:lnTo>
                      <a:pt x="108" y="805"/>
                    </a:lnTo>
                    <a:lnTo>
                      <a:pt x="102" y="838"/>
                    </a:lnTo>
                    <a:lnTo>
                      <a:pt x="96" y="872"/>
                    </a:lnTo>
                    <a:lnTo>
                      <a:pt x="87" y="906"/>
                    </a:lnTo>
                    <a:lnTo>
                      <a:pt x="77" y="942"/>
                    </a:lnTo>
                    <a:lnTo>
                      <a:pt x="66" y="979"/>
                    </a:lnTo>
                    <a:lnTo>
                      <a:pt x="54" y="1018"/>
                    </a:lnTo>
                    <a:lnTo>
                      <a:pt x="108" y="1035"/>
                    </a:lnTo>
                    <a:lnTo>
                      <a:pt x="121" y="996"/>
                    </a:lnTo>
                    <a:lnTo>
                      <a:pt x="133" y="957"/>
                    </a:lnTo>
                    <a:lnTo>
                      <a:pt x="143" y="920"/>
                    </a:lnTo>
                    <a:lnTo>
                      <a:pt x="151" y="883"/>
                    </a:lnTo>
                    <a:lnTo>
                      <a:pt x="158" y="848"/>
                    </a:lnTo>
                    <a:lnTo>
                      <a:pt x="164" y="813"/>
                    </a:lnTo>
                    <a:lnTo>
                      <a:pt x="168" y="779"/>
                    </a:lnTo>
                    <a:lnTo>
                      <a:pt x="171" y="746"/>
                    </a:lnTo>
                    <a:lnTo>
                      <a:pt x="173" y="714"/>
                    </a:lnTo>
                    <a:lnTo>
                      <a:pt x="175" y="682"/>
                    </a:lnTo>
                    <a:lnTo>
                      <a:pt x="175" y="652"/>
                    </a:lnTo>
                    <a:lnTo>
                      <a:pt x="173" y="622"/>
                    </a:lnTo>
                    <a:lnTo>
                      <a:pt x="171" y="592"/>
                    </a:lnTo>
                    <a:lnTo>
                      <a:pt x="168" y="563"/>
                    </a:lnTo>
                    <a:lnTo>
                      <a:pt x="165" y="534"/>
                    </a:lnTo>
                    <a:lnTo>
                      <a:pt x="160" y="504"/>
                    </a:lnTo>
                    <a:lnTo>
                      <a:pt x="149" y="448"/>
                    </a:lnTo>
                    <a:lnTo>
                      <a:pt x="137" y="391"/>
                    </a:lnTo>
                    <a:lnTo>
                      <a:pt x="124" y="335"/>
                    </a:lnTo>
                    <a:lnTo>
                      <a:pt x="110" y="277"/>
                    </a:lnTo>
                    <a:lnTo>
                      <a:pt x="96" y="217"/>
                    </a:lnTo>
                    <a:lnTo>
                      <a:pt x="81" y="156"/>
                    </a:lnTo>
                    <a:lnTo>
                      <a:pt x="68" y="91"/>
                    </a:lnTo>
                    <a:lnTo>
                      <a:pt x="57" y="24"/>
                    </a:lnTo>
                    <a:lnTo>
                      <a:pt x="52" y="11"/>
                    </a:lnTo>
                    <a:lnTo>
                      <a:pt x="57" y="24"/>
                    </a:lnTo>
                    <a:lnTo>
                      <a:pt x="56" y="18"/>
                    </a:lnTo>
                    <a:lnTo>
                      <a:pt x="53" y="13"/>
                    </a:lnTo>
                    <a:lnTo>
                      <a:pt x="50" y="7"/>
                    </a:lnTo>
                    <a:lnTo>
                      <a:pt x="45" y="4"/>
                    </a:lnTo>
                    <a:lnTo>
                      <a:pt x="41" y="2"/>
                    </a:lnTo>
                    <a:lnTo>
                      <a:pt x="35" y="1"/>
                    </a:lnTo>
                    <a:lnTo>
                      <a:pt x="30" y="0"/>
                    </a:lnTo>
                    <a:lnTo>
                      <a:pt x="24" y="0"/>
                    </a:lnTo>
                    <a:lnTo>
                      <a:pt x="20" y="2"/>
                    </a:lnTo>
                    <a:lnTo>
                      <a:pt x="14" y="3"/>
                    </a:lnTo>
                    <a:lnTo>
                      <a:pt x="10" y="6"/>
                    </a:lnTo>
                    <a:lnTo>
                      <a:pt x="7" y="10"/>
                    </a:lnTo>
                    <a:lnTo>
                      <a:pt x="3" y="15"/>
                    </a:lnTo>
                    <a:lnTo>
                      <a:pt x="1" y="19"/>
                    </a:lnTo>
                    <a:lnTo>
                      <a:pt x="0" y="25"/>
                    </a:lnTo>
                    <a:lnTo>
                      <a:pt x="0" y="32"/>
                    </a:lnTo>
                    <a:lnTo>
                      <a:pt x="6" y="4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8" name=""/>
              <p:cNvSpPr/>
              <p:nvPr/>
            </p:nvSpPr>
            <p:spPr>
              <a:xfrm>
                <a:off x="2668680" y="3518640"/>
                <a:ext cx="53640" cy="93240"/>
              </a:xfrm>
              <a:custGeom>
                <a:avLst/>
                <a:gdLst/>
                <a:ahLst/>
                <a:rect l="l" t="t" r="r" b="b"/>
                <a:pathLst>
                  <a:path w="383" h="461">
                    <a:moveTo>
                      <a:pt x="1" y="29"/>
                    </a:moveTo>
                    <a:lnTo>
                      <a:pt x="7" y="44"/>
                    </a:lnTo>
                    <a:lnTo>
                      <a:pt x="337" y="461"/>
                    </a:lnTo>
                    <a:lnTo>
                      <a:pt x="383" y="427"/>
                    </a:lnTo>
                    <a:lnTo>
                      <a:pt x="53" y="11"/>
                    </a:lnTo>
                    <a:lnTo>
                      <a:pt x="58" y="26"/>
                    </a:lnTo>
                    <a:lnTo>
                      <a:pt x="53" y="11"/>
                    </a:lnTo>
                    <a:lnTo>
                      <a:pt x="48" y="6"/>
                    </a:lnTo>
                    <a:lnTo>
                      <a:pt x="43" y="3"/>
                    </a:lnTo>
                    <a:lnTo>
                      <a:pt x="37" y="1"/>
                    </a:lnTo>
                    <a:lnTo>
                      <a:pt x="32" y="0"/>
                    </a:lnTo>
                    <a:lnTo>
                      <a:pt x="27" y="0"/>
                    </a:lnTo>
                    <a:lnTo>
                      <a:pt x="22" y="1"/>
                    </a:lnTo>
                    <a:lnTo>
                      <a:pt x="16" y="3"/>
                    </a:lnTo>
                    <a:lnTo>
                      <a:pt x="12" y="6"/>
                    </a:lnTo>
                    <a:lnTo>
                      <a:pt x="9" y="9"/>
                    </a:lnTo>
                    <a:lnTo>
                      <a:pt x="5" y="13"/>
                    </a:lnTo>
                    <a:lnTo>
                      <a:pt x="2" y="18"/>
                    </a:lnTo>
                    <a:lnTo>
                      <a:pt x="1" y="23"/>
                    </a:lnTo>
                    <a:lnTo>
                      <a:pt x="0" y="28"/>
                    </a:lnTo>
                    <a:lnTo>
                      <a:pt x="1" y="34"/>
                    </a:lnTo>
                    <a:lnTo>
                      <a:pt x="3" y="39"/>
                    </a:lnTo>
                    <a:lnTo>
                      <a:pt x="7" y="44"/>
                    </a:lnTo>
                    <a:lnTo>
                      <a:pt x="1" y="2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19" name=""/>
              <p:cNvSpPr/>
              <p:nvPr/>
            </p:nvSpPr>
            <p:spPr>
              <a:xfrm>
                <a:off x="2525400" y="3390480"/>
                <a:ext cx="150840" cy="135000"/>
              </a:xfrm>
              <a:custGeom>
                <a:avLst/>
                <a:gdLst/>
                <a:ahLst/>
                <a:rect l="l" t="t" r="r" b="b"/>
                <a:pathLst>
                  <a:path w="1042" h="666">
                    <a:moveTo>
                      <a:pt x="19" y="54"/>
                    </a:moveTo>
                    <a:lnTo>
                      <a:pt x="21" y="55"/>
                    </a:lnTo>
                    <a:lnTo>
                      <a:pt x="73" y="70"/>
                    </a:lnTo>
                    <a:lnTo>
                      <a:pt x="133" y="90"/>
                    </a:lnTo>
                    <a:lnTo>
                      <a:pt x="202" y="114"/>
                    </a:lnTo>
                    <a:lnTo>
                      <a:pt x="277" y="143"/>
                    </a:lnTo>
                    <a:lnTo>
                      <a:pt x="355" y="175"/>
                    </a:lnTo>
                    <a:lnTo>
                      <a:pt x="436" y="210"/>
                    </a:lnTo>
                    <a:lnTo>
                      <a:pt x="476" y="229"/>
                    </a:lnTo>
                    <a:lnTo>
                      <a:pt x="516" y="248"/>
                    </a:lnTo>
                    <a:lnTo>
                      <a:pt x="556" y="268"/>
                    </a:lnTo>
                    <a:lnTo>
                      <a:pt x="596" y="288"/>
                    </a:lnTo>
                    <a:lnTo>
                      <a:pt x="635" y="310"/>
                    </a:lnTo>
                    <a:lnTo>
                      <a:pt x="674" y="331"/>
                    </a:lnTo>
                    <a:lnTo>
                      <a:pt x="710" y="354"/>
                    </a:lnTo>
                    <a:lnTo>
                      <a:pt x="745" y="377"/>
                    </a:lnTo>
                    <a:lnTo>
                      <a:pt x="779" y="400"/>
                    </a:lnTo>
                    <a:lnTo>
                      <a:pt x="811" y="424"/>
                    </a:lnTo>
                    <a:lnTo>
                      <a:pt x="841" y="448"/>
                    </a:lnTo>
                    <a:lnTo>
                      <a:pt x="869" y="472"/>
                    </a:lnTo>
                    <a:lnTo>
                      <a:pt x="894" y="497"/>
                    </a:lnTo>
                    <a:lnTo>
                      <a:pt x="917" y="522"/>
                    </a:lnTo>
                    <a:lnTo>
                      <a:pt x="927" y="534"/>
                    </a:lnTo>
                    <a:lnTo>
                      <a:pt x="936" y="547"/>
                    </a:lnTo>
                    <a:lnTo>
                      <a:pt x="945" y="558"/>
                    </a:lnTo>
                    <a:lnTo>
                      <a:pt x="952" y="571"/>
                    </a:lnTo>
                    <a:lnTo>
                      <a:pt x="960" y="583"/>
                    </a:lnTo>
                    <a:lnTo>
                      <a:pt x="965" y="595"/>
                    </a:lnTo>
                    <a:lnTo>
                      <a:pt x="971" y="607"/>
                    </a:lnTo>
                    <a:lnTo>
                      <a:pt x="975" y="619"/>
                    </a:lnTo>
                    <a:lnTo>
                      <a:pt x="980" y="631"/>
                    </a:lnTo>
                    <a:lnTo>
                      <a:pt x="982" y="643"/>
                    </a:lnTo>
                    <a:lnTo>
                      <a:pt x="984" y="655"/>
                    </a:lnTo>
                    <a:lnTo>
                      <a:pt x="985" y="666"/>
                    </a:lnTo>
                    <a:lnTo>
                      <a:pt x="1042" y="663"/>
                    </a:lnTo>
                    <a:lnTo>
                      <a:pt x="1041" y="648"/>
                    </a:lnTo>
                    <a:lnTo>
                      <a:pt x="1039" y="632"/>
                    </a:lnTo>
                    <a:lnTo>
                      <a:pt x="1034" y="616"/>
                    </a:lnTo>
                    <a:lnTo>
                      <a:pt x="1030" y="602"/>
                    </a:lnTo>
                    <a:lnTo>
                      <a:pt x="1025" y="587"/>
                    </a:lnTo>
                    <a:lnTo>
                      <a:pt x="1018" y="572"/>
                    </a:lnTo>
                    <a:lnTo>
                      <a:pt x="1010" y="557"/>
                    </a:lnTo>
                    <a:lnTo>
                      <a:pt x="1002" y="542"/>
                    </a:lnTo>
                    <a:lnTo>
                      <a:pt x="993" y="529"/>
                    </a:lnTo>
                    <a:lnTo>
                      <a:pt x="983" y="514"/>
                    </a:lnTo>
                    <a:lnTo>
                      <a:pt x="972" y="500"/>
                    </a:lnTo>
                    <a:lnTo>
                      <a:pt x="960" y="486"/>
                    </a:lnTo>
                    <a:lnTo>
                      <a:pt x="936" y="460"/>
                    </a:lnTo>
                    <a:lnTo>
                      <a:pt x="908" y="432"/>
                    </a:lnTo>
                    <a:lnTo>
                      <a:pt x="879" y="407"/>
                    </a:lnTo>
                    <a:lnTo>
                      <a:pt x="847" y="381"/>
                    </a:lnTo>
                    <a:lnTo>
                      <a:pt x="813" y="356"/>
                    </a:lnTo>
                    <a:lnTo>
                      <a:pt x="778" y="331"/>
                    </a:lnTo>
                    <a:lnTo>
                      <a:pt x="742" y="308"/>
                    </a:lnTo>
                    <a:lnTo>
                      <a:pt x="703" y="285"/>
                    </a:lnTo>
                    <a:lnTo>
                      <a:pt x="664" y="261"/>
                    </a:lnTo>
                    <a:lnTo>
                      <a:pt x="624" y="240"/>
                    </a:lnTo>
                    <a:lnTo>
                      <a:pt x="584" y="219"/>
                    </a:lnTo>
                    <a:lnTo>
                      <a:pt x="542" y="198"/>
                    </a:lnTo>
                    <a:lnTo>
                      <a:pt x="500" y="178"/>
                    </a:lnTo>
                    <a:lnTo>
                      <a:pt x="459" y="159"/>
                    </a:lnTo>
                    <a:lnTo>
                      <a:pt x="378" y="124"/>
                    </a:lnTo>
                    <a:lnTo>
                      <a:pt x="298" y="91"/>
                    </a:lnTo>
                    <a:lnTo>
                      <a:pt x="222" y="62"/>
                    </a:lnTo>
                    <a:lnTo>
                      <a:pt x="153" y="38"/>
                    </a:lnTo>
                    <a:lnTo>
                      <a:pt x="90" y="18"/>
                    </a:lnTo>
                    <a:lnTo>
                      <a:pt x="37" y="2"/>
                    </a:lnTo>
                    <a:lnTo>
                      <a:pt x="39" y="2"/>
                    </a:lnTo>
                    <a:lnTo>
                      <a:pt x="37" y="2"/>
                    </a:lnTo>
                    <a:lnTo>
                      <a:pt x="30" y="0"/>
                    </a:lnTo>
                    <a:lnTo>
                      <a:pt x="24" y="0"/>
                    </a:lnTo>
                    <a:lnTo>
                      <a:pt x="19" y="2"/>
                    </a:lnTo>
                    <a:lnTo>
                      <a:pt x="14" y="4"/>
                    </a:lnTo>
                    <a:lnTo>
                      <a:pt x="9" y="7"/>
                    </a:lnTo>
                    <a:lnTo>
                      <a:pt x="6" y="10"/>
                    </a:lnTo>
                    <a:lnTo>
                      <a:pt x="4" y="16"/>
                    </a:lnTo>
                    <a:lnTo>
                      <a:pt x="1" y="20"/>
                    </a:lnTo>
                    <a:lnTo>
                      <a:pt x="0" y="25"/>
                    </a:lnTo>
                    <a:lnTo>
                      <a:pt x="0" y="30"/>
                    </a:lnTo>
                    <a:lnTo>
                      <a:pt x="0" y="36"/>
                    </a:lnTo>
                    <a:lnTo>
                      <a:pt x="3" y="40"/>
                    </a:lnTo>
                    <a:lnTo>
                      <a:pt x="6" y="45"/>
                    </a:lnTo>
                    <a:lnTo>
                      <a:pt x="9" y="49"/>
                    </a:lnTo>
                    <a:lnTo>
                      <a:pt x="15" y="52"/>
                    </a:lnTo>
                    <a:lnTo>
                      <a:pt x="21" y="55"/>
                    </a:lnTo>
                    <a:lnTo>
                      <a:pt x="19" y="5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0" name=""/>
              <p:cNvSpPr/>
              <p:nvPr/>
            </p:nvSpPr>
            <p:spPr>
              <a:xfrm>
                <a:off x="2268720" y="3358440"/>
                <a:ext cx="263160" cy="43200"/>
              </a:xfrm>
              <a:custGeom>
                <a:avLst/>
                <a:gdLst/>
                <a:ahLst/>
                <a:rect l="l" t="t" r="r" b="b"/>
                <a:pathLst>
                  <a:path w="1827" h="215">
                    <a:moveTo>
                      <a:pt x="35" y="98"/>
                    </a:moveTo>
                    <a:lnTo>
                      <a:pt x="74" y="89"/>
                    </a:lnTo>
                    <a:lnTo>
                      <a:pt x="118" y="81"/>
                    </a:lnTo>
                    <a:lnTo>
                      <a:pt x="164" y="75"/>
                    </a:lnTo>
                    <a:lnTo>
                      <a:pt x="215" y="69"/>
                    </a:lnTo>
                    <a:lnTo>
                      <a:pt x="266" y="64"/>
                    </a:lnTo>
                    <a:lnTo>
                      <a:pt x="321" y="61"/>
                    </a:lnTo>
                    <a:lnTo>
                      <a:pt x="378" y="58"/>
                    </a:lnTo>
                    <a:lnTo>
                      <a:pt x="437" y="57"/>
                    </a:lnTo>
                    <a:lnTo>
                      <a:pt x="498" y="56"/>
                    </a:lnTo>
                    <a:lnTo>
                      <a:pt x="560" y="56"/>
                    </a:lnTo>
                    <a:lnTo>
                      <a:pt x="623" y="57"/>
                    </a:lnTo>
                    <a:lnTo>
                      <a:pt x="687" y="58"/>
                    </a:lnTo>
                    <a:lnTo>
                      <a:pt x="752" y="61"/>
                    </a:lnTo>
                    <a:lnTo>
                      <a:pt x="818" y="64"/>
                    </a:lnTo>
                    <a:lnTo>
                      <a:pt x="884" y="69"/>
                    </a:lnTo>
                    <a:lnTo>
                      <a:pt x="949" y="73"/>
                    </a:lnTo>
                    <a:lnTo>
                      <a:pt x="1015" y="78"/>
                    </a:lnTo>
                    <a:lnTo>
                      <a:pt x="1080" y="84"/>
                    </a:lnTo>
                    <a:lnTo>
                      <a:pt x="1144" y="91"/>
                    </a:lnTo>
                    <a:lnTo>
                      <a:pt x="1207" y="98"/>
                    </a:lnTo>
                    <a:lnTo>
                      <a:pt x="1270" y="106"/>
                    </a:lnTo>
                    <a:lnTo>
                      <a:pt x="1330" y="114"/>
                    </a:lnTo>
                    <a:lnTo>
                      <a:pt x="1389" y="123"/>
                    </a:lnTo>
                    <a:lnTo>
                      <a:pt x="1447" y="131"/>
                    </a:lnTo>
                    <a:lnTo>
                      <a:pt x="1502" y="141"/>
                    </a:lnTo>
                    <a:lnTo>
                      <a:pt x="1555" y="150"/>
                    </a:lnTo>
                    <a:lnTo>
                      <a:pt x="1605" y="161"/>
                    </a:lnTo>
                    <a:lnTo>
                      <a:pt x="1652" y="171"/>
                    </a:lnTo>
                    <a:lnTo>
                      <a:pt x="1696" y="182"/>
                    </a:lnTo>
                    <a:lnTo>
                      <a:pt x="1737" y="193"/>
                    </a:lnTo>
                    <a:lnTo>
                      <a:pt x="1774" y="204"/>
                    </a:lnTo>
                    <a:lnTo>
                      <a:pt x="1807" y="215"/>
                    </a:lnTo>
                    <a:lnTo>
                      <a:pt x="1827" y="163"/>
                    </a:lnTo>
                    <a:lnTo>
                      <a:pt x="1792" y="151"/>
                    </a:lnTo>
                    <a:lnTo>
                      <a:pt x="1753" y="140"/>
                    </a:lnTo>
                    <a:lnTo>
                      <a:pt x="1711" y="128"/>
                    </a:lnTo>
                    <a:lnTo>
                      <a:pt x="1666" y="117"/>
                    </a:lnTo>
                    <a:lnTo>
                      <a:pt x="1617" y="107"/>
                    </a:lnTo>
                    <a:lnTo>
                      <a:pt x="1566" y="96"/>
                    </a:lnTo>
                    <a:lnTo>
                      <a:pt x="1512" y="87"/>
                    </a:lnTo>
                    <a:lnTo>
                      <a:pt x="1456" y="77"/>
                    </a:lnTo>
                    <a:lnTo>
                      <a:pt x="1398" y="68"/>
                    </a:lnTo>
                    <a:lnTo>
                      <a:pt x="1339" y="59"/>
                    </a:lnTo>
                    <a:lnTo>
                      <a:pt x="1277" y="51"/>
                    </a:lnTo>
                    <a:lnTo>
                      <a:pt x="1214" y="43"/>
                    </a:lnTo>
                    <a:lnTo>
                      <a:pt x="1150" y="36"/>
                    </a:lnTo>
                    <a:lnTo>
                      <a:pt x="1085" y="29"/>
                    </a:lnTo>
                    <a:lnTo>
                      <a:pt x="1020" y="23"/>
                    </a:lnTo>
                    <a:lnTo>
                      <a:pt x="954" y="18"/>
                    </a:lnTo>
                    <a:lnTo>
                      <a:pt x="887" y="12"/>
                    </a:lnTo>
                    <a:lnTo>
                      <a:pt x="821" y="9"/>
                    </a:lnTo>
                    <a:lnTo>
                      <a:pt x="755" y="6"/>
                    </a:lnTo>
                    <a:lnTo>
                      <a:pt x="690" y="3"/>
                    </a:lnTo>
                    <a:lnTo>
                      <a:pt x="624" y="2"/>
                    </a:lnTo>
                    <a:lnTo>
                      <a:pt x="560" y="1"/>
                    </a:lnTo>
                    <a:lnTo>
                      <a:pt x="498" y="0"/>
                    </a:lnTo>
                    <a:lnTo>
                      <a:pt x="436" y="1"/>
                    </a:lnTo>
                    <a:lnTo>
                      <a:pt x="376" y="3"/>
                    </a:lnTo>
                    <a:lnTo>
                      <a:pt x="318" y="6"/>
                    </a:lnTo>
                    <a:lnTo>
                      <a:pt x="262" y="9"/>
                    </a:lnTo>
                    <a:lnTo>
                      <a:pt x="208" y="15"/>
                    </a:lnTo>
                    <a:lnTo>
                      <a:pt x="158" y="20"/>
                    </a:lnTo>
                    <a:lnTo>
                      <a:pt x="110" y="27"/>
                    </a:lnTo>
                    <a:lnTo>
                      <a:pt x="63" y="35"/>
                    </a:lnTo>
                    <a:lnTo>
                      <a:pt x="21" y="44"/>
                    </a:lnTo>
                    <a:lnTo>
                      <a:pt x="22" y="44"/>
                    </a:lnTo>
                    <a:lnTo>
                      <a:pt x="21" y="44"/>
                    </a:lnTo>
                    <a:lnTo>
                      <a:pt x="15" y="46"/>
                    </a:lnTo>
                    <a:lnTo>
                      <a:pt x="10" y="50"/>
                    </a:lnTo>
                    <a:lnTo>
                      <a:pt x="5" y="53"/>
                    </a:lnTo>
                    <a:lnTo>
                      <a:pt x="2" y="58"/>
                    </a:lnTo>
                    <a:lnTo>
                      <a:pt x="0" y="62"/>
                    </a:lnTo>
                    <a:lnTo>
                      <a:pt x="0" y="68"/>
                    </a:lnTo>
                    <a:lnTo>
                      <a:pt x="0" y="73"/>
                    </a:lnTo>
                    <a:lnTo>
                      <a:pt x="0" y="78"/>
                    </a:lnTo>
                    <a:lnTo>
                      <a:pt x="2" y="82"/>
                    </a:lnTo>
                    <a:lnTo>
                      <a:pt x="4" y="88"/>
                    </a:lnTo>
                    <a:lnTo>
                      <a:pt x="8" y="91"/>
                    </a:lnTo>
                    <a:lnTo>
                      <a:pt x="12" y="95"/>
                    </a:lnTo>
                    <a:lnTo>
                      <a:pt x="16" y="97"/>
                    </a:lnTo>
                    <a:lnTo>
                      <a:pt x="22" y="98"/>
                    </a:lnTo>
                    <a:lnTo>
                      <a:pt x="28" y="99"/>
                    </a:lnTo>
                    <a:lnTo>
                      <a:pt x="35" y="98"/>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421" name=""/>
              <p:cNvSpPr/>
              <p:nvPr/>
            </p:nvSpPr>
            <p:spPr>
              <a:xfrm>
                <a:off x="2238120" y="3366720"/>
                <a:ext cx="35640" cy="79560"/>
              </a:xfrm>
              <a:custGeom>
                <a:avLst/>
                <a:gdLst/>
                <a:ahLst/>
                <a:rect l="l" t="t" r="r" b="b"/>
                <a:pathLst>
                  <a:path w="245" h="390">
                    <a:moveTo>
                      <a:pt x="101" y="373"/>
                    </a:moveTo>
                    <a:lnTo>
                      <a:pt x="100" y="351"/>
                    </a:lnTo>
                    <a:lnTo>
                      <a:pt x="90" y="330"/>
                    </a:lnTo>
                    <a:lnTo>
                      <a:pt x="83" y="310"/>
                    </a:lnTo>
                    <a:lnTo>
                      <a:pt x="75" y="291"/>
                    </a:lnTo>
                    <a:lnTo>
                      <a:pt x="69" y="273"/>
                    </a:lnTo>
                    <a:lnTo>
                      <a:pt x="65" y="256"/>
                    </a:lnTo>
                    <a:lnTo>
                      <a:pt x="62" y="240"/>
                    </a:lnTo>
                    <a:lnTo>
                      <a:pt x="60" y="225"/>
                    </a:lnTo>
                    <a:lnTo>
                      <a:pt x="59" y="211"/>
                    </a:lnTo>
                    <a:lnTo>
                      <a:pt x="59" y="198"/>
                    </a:lnTo>
                    <a:lnTo>
                      <a:pt x="59" y="187"/>
                    </a:lnTo>
                    <a:lnTo>
                      <a:pt x="61" y="176"/>
                    </a:lnTo>
                    <a:lnTo>
                      <a:pt x="63" y="167"/>
                    </a:lnTo>
                    <a:lnTo>
                      <a:pt x="66" y="157"/>
                    </a:lnTo>
                    <a:lnTo>
                      <a:pt x="69" y="149"/>
                    </a:lnTo>
                    <a:lnTo>
                      <a:pt x="74" y="140"/>
                    </a:lnTo>
                    <a:lnTo>
                      <a:pt x="79" y="133"/>
                    </a:lnTo>
                    <a:lnTo>
                      <a:pt x="85" y="126"/>
                    </a:lnTo>
                    <a:lnTo>
                      <a:pt x="91" y="119"/>
                    </a:lnTo>
                    <a:lnTo>
                      <a:pt x="99" y="113"/>
                    </a:lnTo>
                    <a:lnTo>
                      <a:pt x="107" y="106"/>
                    </a:lnTo>
                    <a:lnTo>
                      <a:pt x="116" y="101"/>
                    </a:lnTo>
                    <a:lnTo>
                      <a:pt x="124" y="96"/>
                    </a:lnTo>
                    <a:lnTo>
                      <a:pt x="134" y="90"/>
                    </a:lnTo>
                    <a:lnTo>
                      <a:pt x="144" y="85"/>
                    </a:lnTo>
                    <a:lnTo>
                      <a:pt x="167" y="77"/>
                    </a:lnTo>
                    <a:lnTo>
                      <a:pt x="191" y="68"/>
                    </a:lnTo>
                    <a:lnTo>
                      <a:pt x="218" y="61"/>
                    </a:lnTo>
                    <a:lnTo>
                      <a:pt x="245" y="54"/>
                    </a:lnTo>
                    <a:lnTo>
                      <a:pt x="232" y="0"/>
                    </a:lnTo>
                    <a:lnTo>
                      <a:pt x="202" y="7"/>
                    </a:lnTo>
                    <a:lnTo>
                      <a:pt x="175" y="15"/>
                    </a:lnTo>
                    <a:lnTo>
                      <a:pt x="147" y="25"/>
                    </a:lnTo>
                    <a:lnTo>
                      <a:pt x="121" y="34"/>
                    </a:lnTo>
                    <a:lnTo>
                      <a:pt x="108" y="40"/>
                    </a:lnTo>
                    <a:lnTo>
                      <a:pt x="96" y="48"/>
                    </a:lnTo>
                    <a:lnTo>
                      <a:pt x="84" y="54"/>
                    </a:lnTo>
                    <a:lnTo>
                      <a:pt x="72" y="63"/>
                    </a:lnTo>
                    <a:lnTo>
                      <a:pt x="61" y="71"/>
                    </a:lnTo>
                    <a:lnTo>
                      <a:pt x="51" y="80"/>
                    </a:lnTo>
                    <a:lnTo>
                      <a:pt x="41" y="90"/>
                    </a:lnTo>
                    <a:lnTo>
                      <a:pt x="32" y="101"/>
                    </a:lnTo>
                    <a:lnTo>
                      <a:pt x="25" y="113"/>
                    </a:lnTo>
                    <a:lnTo>
                      <a:pt x="18" y="124"/>
                    </a:lnTo>
                    <a:lnTo>
                      <a:pt x="12" y="138"/>
                    </a:lnTo>
                    <a:lnTo>
                      <a:pt x="8" y="152"/>
                    </a:lnTo>
                    <a:lnTo>
                      <a:pt x="4" y="167"/>
                    </a:lnTo>
                    <a:lnTo>
                      <a:pt x="1" y="181"/>
                    </a:lnTo>
                    <a:lnTo>
                      <a:pt x="0" y="197"/>
                    </a:lnTo>
                    <a:lnTo>
                      <a:pt x="1" y="214"/>
                    </a:lnTo>
                    <a:lnTo>
                      <a:pt x="3" y="231"/>
                    </a:lnTo>
                    <a:lnTo>
                      <a:pt x="5" y="249"/>
                    </a:lnTo>
                    <a:lnTo>
                      <a:pt x="9" y="268"/>
                    </a:lnTo>
                    <a:lnTo>
                      <a:pt x="15" y="287"/>
                    </a:lnTo>
                    <a:lnTo>
                      <a:pt x="21" y="308"/>
                    </a:lnTo>
                    <a:lnTo>
                      <a:pt x="29" y="329"/>
                    </a:lnTo>
                    <a:lnTo>
                      <a:pt x="38" y="351"/>
                    </a:lnTo>
                    <a:lnTo>
                      <a:pt x="49" y="374"/>
                    </a:lnTo>
                    <a:lnTo>
                      <a:pt x="48" y="353"/>
                    </a:lnTo>
                    <a:lnTo>
                      <a:pt x="49" y="374"/>
                    </a:lnTo>
                    <a:lnTo>
                      <a:pt x="52" y="380"/>
                    </a:lnTo>
                    <a:lnTo>
                      <a:pt x="55" y="385"/>
                    </a:lnTo>
                    <a:lnTo>
                      <a:pt x="61" y="388"/>
                    </a:lnTo>
                    <a:lnTo>
                      <a:pt x="65" y="389"/>
                    </a:lnTo>
                    <a:lnTo>
                      <a:pt x="71" y="390"/>
                    </a:lnTo>
                    <a:lnTo>
                      <a:pt x="76" y="390"/>
                    </a:lnTo>
                    <a:lnTo>
                      <a:pt x="82" y="390"/>
                    </a:lnTo>
                    <a:lnTo>
                      <a:pt x="86" y="388"/>
                    </a:lnTo>
                    <a:lnTo>
                      <a:pt x="91" y="385"/>
                    </a:lnTo>
                    <a:lnTo>
                      <a:pt x="95" y="382"/>
                    </a:lnTo>
                    <a:lnTo>
                      <a:pt x="99" y="378"/>
                    </a:lnTo>
                    <a:lnTo>
                      <a:pt x="101" y="373"/>
                    </a:lnTo>
                    <a:lnTo>
                      <a:pt x="102" y="369"/>
                    </a:lnTo>
                    <a:lnTo>
                      <a:pt x="103" y="364"/>
                    </a:lnTo>
                    <a:lnTo>
                      <a:pt x="102" y="357"/>
                    </a:lnTo>
                    <a:lnTo>
                      <a:pt x="100" y="351"/>
                    </a:lnTo>
                    <a:lnTo>
                      <a:pt x="101" y="373"/>
                    </a:lnTo>
                    <a:close/>
                  </a:path>
                </a:pathLst>
              </a:custGeom>
              <a:solidFill>
                <a:srgbClr val="000000"/>
              </a:solidFill>
              <a:ln w="0">
                <a:noFill/>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422" name=""/>
              <p:cNvSpPr/>
              <p:nvPr/>
            </p:nvSpPr>
            <p:spPr>
              <a:xfrm>
                <a:off x="2214000" y="3439440"/>
                <a:ext cx="39240" cy="547920"/>
              </a:xfrm>
              <a:custGeom>
                <a:avLst/>
                <a:gdLst/>
                <a:ahLst/>
                <a:rect l="l" t="t" r="r" b="b"/>
                <a:pathLst>
                  <a:path w="274" h="2720">
                    <a:moveTo>
                      <a:pt x="190" y="2684"/>
                    </a:moveTo>
                    <a:lnTo>
                      <a:pt x="191" y="2689"/>
                    </a:lnTo>
                    <a:lnTo>
                      <a:pt x="168" y="2519"/>
                    </a:lnTo>
                    <a:lnTo>
                      <a:pt x="145" y="2348"/>
                    </a:lnTo>
                    <a:lnTo>
                      <a:pt x="123" y="2179"/>
                    </a:lnTo>
                    <a:lnTo>
                      <a:pt x="103" y="2008"/>
                    </a:lnTo>
                    <a:lnTo>
                      <a:pt x="94" y="1923"/>
                    </a:lnTo>
                    <a:lnTo>
                      <a:pt x="87" y="1839"/>
                    </a:lnTo>
                    <a:lnTo>
                      <a:pt x="79" y="1754"/>
                    </a:lnTo>
                    <a:lnTo>
                      <a:pt x="73" y="1669"/>
                    </a:lnTo>
                    <a:lnTo>
                      <a:pt x="67" y="1584"/>
                    </a:lnTo>
                    <a:lnTo>
                      <a:pt x="63" y="1499"/>
                    </a:lnTo>
                    <a:lnTo>
                      <a:pt x="59" y="1416"/>
                    </a:lnTo>
                    <a:lnTo>
                      <a:pt x="57" y="1331"/>
                    </a:lnTo>
                    <a:lnTo>
                      <a:pt x="57" y="1247"/>
                    </a:lnTo>
                    <a:lnTo>
                      <a:pt x="58" y="1164"/>
                    </a:lnTo>
                    <a:lnTo>
                      <a:pt x="60" y="1080"/>
                    </a:lnTo>
                    <a:lnTo>
                      <a:pt x="65" y="996"/>
                    </a:lnTo>
                    <a:lnTo>
                      <a:pt x="70" y="913"/>
                    </a:lnTo>
                    <a:lnTo>
                      <a:pt x="78" y="831"/>
                    </a:lnTo>
                    <a:lnTo>
                      <a:pt x="88" y="748"/>
                    </a:lnTo>
                    <a:lnTo>
                      <a:pt x="99" y="666"/>
                    </a:lnTo>
                    <a:lnTo>
                      <a:pt x="113" y="584"/>
                    </a:lnTo>
                    <a:lnTo>
                      <a:pt x="128" y="502"/>
                    </a:lnTo>
                    <a:lnTo>
                      <a:pt x="137" y="462"/>
                    </a:lnTo>
                    <a:lnTo>
                      <a:pt x="147" y="421"/>
                    </a:lnTo>
                    <a:lnTo>
                      <a:pt x="157" y="380"/>
                    </a:lnTo>
                    <a:lnTo>
                      <a:pt x="167" y="340"/>
                    </a:lnTo>
                    <a:lnTo>
                      <a:pt x="178" y="300"/>
                    </a:lnTo>
                    <a:lnTo>
                      <a:pt x="190" y="260"/>
                    </a:lnTo>
                    <a:lnTo>
                      <a:pt x="202" y="219"/>
                    </a:lnTo>
                    <a:lnTo>
                      <a:pt x="215" y="179"/>
                    </a:lnTo>
                    <a:lnTo>
                      <a:pt x="229" y="139"/>
                    </a:lnTo>
                    <a:lnTo>
                      <a:pt x="244" y="100"/>
                    </a:lnTo>
                    <a:lnTo>
                      <a:pt x="258" y="59"/>
                    </a:lnTo>
                    <a:lnTo>
                      <a:pt x="274" y="20"/>
                    </a:lnTo>
                    <a:lnTo>
                      <a:pt x="221" y="0"/>
                    </a:lnTo>
                    <a:lnTo>
                      <a:pt x="204" y="40"/>
                    </a:lnTo>
                    <a:lnTo>
                      <a:pt x="189" y="81"/>
                    </a:lnTo>
                    <a:lnTo>
                      <a:pt x="174" y="122"/>
                    </a:lnTo>
                    <a:lnTo>
                      <a:pt x="160" y="162"/>
                    </a:lnTo>
                    <a:lnTo>
                      <a:pt x="147" y="204"/>
                    </a:lnTo>
                    <a:lnTo>
                      <a:pt x="135" y="244"/>
                    </a:lnTo>
                    <a:lnTo>
                      <a:pt x="123" y="285"/>
                    </a:lnTo>
                    <a:lnTo>
                      <a:pt x="112" y="326"/>
                    </a:lnTo>
                    <a:lnTo>
                      <a:pt x="101" y="368"/>
                    </a:lnTo>
                    <a:lnTo>
                      <a:pt x="91" y="409"/>
                    </a:lnTo>
                    <a:lnTo>
                      <a:pt x="81" y="450"/>
                    </a:lnTo>
                    <a:lnTo>
                      <a:pt x="73" y="492"/>
                    </a:lnTo>
                    <a:lnTo>
                      <a:pt x="56" y="574"/>
                    </a:lnTo>
                    <a:lnTo>
                      <a:pt x="43" y="658"/>
                    </a:lnTo>
                    <a:lnTo>
                      <a:pt x="31" y="742"/>
                    </a:lnTo>
                    <a:lnTo>
                      <a:pt x="21" y="826"/>
                    </a:lnTo>
                    <a:lnTo>
                      <a:pt x="13" y="909"/>
                    </a:lnTo>
                    <a:lnTo>
                      <a:pt x="8" y="994"/>
                    </a:lnTo>
                    <a:lnTo>
                      <a:pt x="3" y="1078"/>
                    </a:lnTo>
                    <a:lnTo>
                      <a:pt x="0" y="1162"/>
                    </a:lnTo>
                    <a:lnTo>
                      <a:pt x="0" y="1247"/>
                    </a:lnTo>
                    <a:lnTo>
                      <a:pt x="0" y="1332"/>
                    </a:lnTo>
                    <a:lnTo>
                      <a:pt x="2" y="1417"/>
                    </a:lnTo>
                    <a:lnTo>
                      <a:pt x="6" y="1502"/>
                    </a:lnTo>
                    <a:lnTo>
                      <a:pt x="10" y="1587"/>
                    </a:lnTo>
                    <a:lnTo>
                      <a:pt x="15" y="1672"/>
                    </a:lnTo>
                    <a:lnTo>
                      <a:pt x="22" y="1758"/>
                    </a:lnTo>
                    <a:lnTo>
                      <a:pt x="30" y="1843"/>
                    </a:lnTo>
                    <a:lnTo>
                      <a:pt x="37" y="1929"/>
                    </a:lnTo>
                    <a:lnTo>
                      <a:pt x="46" y="2014"/>
                    </a:lnTo>
                    <a:lnTo>
                      <a:pt x="66" y="2185"/>
                    </a:lnTo>
                    <a:lnTo>
                      <a:pt x="88" y="2356"/>
                    </a:lnTo>
                    <a:lnTo>
                      <a:pt x="111" y="2526"/>
                    </a:lnTo>
                    <a:lnTo>
                      <a:pt x="134" y="2697"/>
                    </a:lnTo>
                    <a:lnTo>
                      <a:pt x="135" y="2701"/>
                    </a:lnTo>
                    <a:lnTo>
                      <a:pt x="134" y="2697"/>
                    </a:lnTo>
                    <a:lnTo>
                      <a:pt x="136" y="2703"/>
                    </a:lnTo>
                    <a:lnTo>
                      <a:pt x="138" y="2708"/>
                    </a:lnTo>
                    <a:lnTo>
                      <a:pt x="142" y="2713"/>
                    </a:lnTo>
                    <a:lnTo>
                      <a:pt x="146" y="2716"/>
                    </a:lnTo>
                    <a:lnTo>
                      <a:pt x="150" y="2718"/>
                    </a:lnTo>
                    <a:lnTo>
                      <a:pt x="156" y="2720"/>
                    </a:lnTo>
                    <a:lnTo>
                      <a:pt x="161" y="2720"/>
                    </a:lnTo>
                    <a:lnTo>
                      <a:pt x="167" y="2720"/>
                    </a:lnTo>
                    <a:lnTo>
                      <a:pt x="171" y="2719"/>
                    </a:lnTo>
                    <a:lnTo>
                      <a:pt x="177" y="2717"/>
                    </a:lnTo>
                    <a:lnTo>
                      <a:pt x="181" y="2715"/>
                    </a:lnTo>
                    <a:lnTo>
                      <a:pt x="184" y="2711"/>
                    </a:lnTo>
                    <a:lnTo>
                      <a:pt x="188" y="2706"/>
                    </a:lnTo>
                    <a:lnTo>
                      <a:pt x="190" y="2701"/>
                    </a:lnTo>
                    <a:lnTo>
                      <a:pt x="191" y="2696"/>
                    </a:lnTo>
                    <a:lnTo>
                      <a:pt x="191" y="2689"/>
                    </a:lnTo>
                    <a:lnTo>
                      <a:pt x="190" y="268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3" name=""/>
              <p:cNvSpPr/>
              <p:nvPr/>
            </p:nvSpPr>
            <p:spPr>
              <a:xfrm>
                <a:off x="2233080" y="3980520"/>
                <a:ext cx="101880" cy="437400"/>
              </a:xfrm>
              <a:custGeom>
                <a:avLst/>
                <a:gdLst/>
                <a:ahLst/>
                <a:rect l="l" t="t" r="r" b="b"/>
                <a:pathLst>
                  <a:path w="714" h="2168">
                    <a:moveTo>
                      <a:pt x="702" y="2162"/>
                    </a:moveTo>
                    <a:lnTo>
                      <a:pt x="710" y="2125"/>
                    </a:lnTo>
                    <a:lnTo>
                      <a:pt x="682" y="2082"/>
                    </a:lnTo>
                    <a:lnTo>
                      <a:pt x="656" y="2038"/>
                    </a:lnTo>
                    <a:lnTo>
                      <a:pt x="631" y="1989"/>
                    </a:lnTo>
                    <a:lnTo>
                      <a:pt x="606" y="1938"/>
                    </a:lnTo>
                    <a:lnTo>
                      <a:pt x="582" y="1885"/>
                    </a:lnTo>
                    <a:lnTo>
                      <a:pt x="559" y="1829"/>
                    </a:lnTo>
                    <a:lnTo>
                      <a:pt x="536" y="1770"/>
                    </a:lnTo>
                    <a:lnTo>
                      <a:pt x="514" y="1709"/>
                    </a:lnTo>
                    <a:lnTo>
                      <a:pt x="493" y="1647"/>
                    </a:lnTo>
                    <a:lnTo>
                      <a:pt x="473" y="1582"/>
                    </a:lnTo>
                    <a:lnTo>
                      <a:pt x="452" y="1515"/>
                    </a:lnTo>
                    <a:lnTo>
                      <a:pt x="432" y="1448"/>
                    </a:lnTo>
                    <a:lnTo>
                      <a:pt x="394" y="1308"/>
                    </a:lnTo>
                    <a:lnTo>
                      <a:pt x="356" y="1164"/>
                    </a:lnTo>
                    <a:lnTo>
                      <a:pt x="284" y="867"/>
                    </a:lnTo>
                    <a:lnTo>
                      <a:pt x="212" y="568"/>
                    </a:lnTo>
                    <a:lnTo>
                      <a:pt x="174" y="420"/>
                    </a:lnTo>
                    <a:lnTo>
                      <a:pt x="136" y="276"/>
                    </a:lnTo>
                    <a:lnTo>
                      <a:pt x="116" y="205"/>
                    </a:lnTo>
                    <a:lnTo>
                      <a:pt x="97" y="136"/>
                    </a:lnTo>
                    <a:lnTo>
                      <a:pt x="76" y="67"/>
                    </a:lnTo>
                    <a:lnTo>
                      <a:pt x="55" y="0"/>
                    </a:lnTo>
                    <a:lnTo>
                      <a:pt x="0" y="17"/>
                    </a:lnTo>
                    <a:lnTo>
                      <a:pt x="21" y="83"/>
                    </a:lnTo>
                    <a:lnTo>
                      <a:pt x="42" y="151"/>
                    </a:lnTo>
                    <a:lnTo>
                      <a:pt x="61" y="219"/>
                    </a:lnTo>
                    <a:lnTo>
                      <a:pt x="80" y="289"/>
                    </a:lnTo>
                    <a:lnTo>
                      <a:pt x="118" y="433"/>
                    </a:lnTo>
                    <a:lnTo>
                      <a:pt x="156" y="580"/>
                    </a:lnTo>
                    <a:lnTo>
                      <a:pt x="228" y="880"/>
                    </a:lnTo>
                    <a:lnTo>
                      <a:pt x="300" y="1176"/>
                    </a:lnTo>
                    <a:lnTo>
                      <a:pt x="338" y="1321"/>
                    </a:lnTo>
                    <a:lnTo>
                      <a:pt x="377" y="1462"/>
                    </a:lnTo>
                    <a:lnTo>
                      <a:pt x="397" y="1531"/>
                    </a:lnTo>
                    <a:lnTo>
                      <a:pt x="418" y="1598"/>
                    </a:lnTo>
                    <a:lnTo>
                      <a:pt x="439" y="1664"/>
                    </a:lnTo>
                    <a:lnTo>
                      <a:pt x="461" y="1727"/>
                    </a:lnTo>
                    <a:lnTo>
                      <a:pt x="483" y="1789"/>
                    </a:lnTo>
                    <a:lnTo>
                      <a:pt x="506" y="1848"/>
                    </a:lnTo>
                    <a:lnTo>
                      <a:pt x="530" y="1906"/>
                    </a:lnTo>
                    <a:lnTo>
                      <a:pt x="554" y="1961"/>
                    </a:lnTo>
                    <a:lnTo>
                      <a:pt x="579" y="2013"/>
                    </a:lnTo>
                    <a:lnTo>
                      <a:pt x="605" y="2063"/>
                    </a:lnTo>
                    <a:lnTo>
                      <a:pt x="633" y="2111"/>
                    </a:lnTo>
                    <a:lnTo>
                      <a:pt x="661" y="2155"/>
                    </a:lnTo>
                    <a:lnTo>
                      <a:pt x="668" y="2117"/>
                    </a:lnTo>
                    <a:lnTo>
                      <a:pt x="661" y="2155"/>
                    </a:lnTo>
                    <a:lnTo>
                      <a:pt x="666" y="2160"/>
                    </a:lnTo>
                    <a:lnTo>
                      <a:pt x="670" y="2164"/>
                    </a:lnTo>
                    <a:lnTo>
                      <a:pt x="676" y="2166"/>
                    </a:lnTo>
                    <a:lnTo>
                      <a:pt x="680" y="2167"/>
                    </a:lnTo>
                    <a:lnTo>
                      <a:pt x="685" y="2168"/>
                    </a:lnTo>
                    <a:lnTo>
                      <a:pt x="691" y="2167"/>
                    </a:lnTo>
                    <a:lnTo>
                      <a:pt x="696" y="2165"/>
                    </a:lnTo>
                    <a:lnTo>
                      <a:pt x="701" y="2163"/>
                    </a:lnTo>
                    <a:lnTo>
                      <a:pt x="705" y="2160"/>
                    </a:lnTo>
                    <a:lnTo>
                      <a:pt x="708" y="2155"/>
                    </a:lnTo>
                    <a:lnTo>
                      <a:pt x="712" y="2151"/>
                    </a:lnTo>
                    <a:lnTo>
                      <a:pt x="714" y="2147"/>
                    </a:lnTo>
                    <a:lnTo>
                      <a:pt x="714" y="2142"/>
                    </a:lnTo>
                    <a:lnTo>
                      <a:pt x="714" y="2136"/>
                    </a:lnTo>
                    <a:lnTo>
                      <a:pt x="713" y="2130"/>
                    </a:lnTo>
                    <a:lnTo>
                      <a:pt x="710" y="2125"/>
                    </a:lnTo>
                    <a:lnTo>
                      <a:pt x="702" y="216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4" name=""/>
              <p:cNvSpPr/>
              <p:nvPr/>
            </p:nvSpPr>
            <p:spPr>
              <a:xfrm>
                <a:off x="2305800" y="2806200"/>
                <a:ext cx="674280" cy="825120"/>
              </a:xfrm>
              <a:custGeom>
                <a:avLst/>
                <a:gdLst/>
                <a:ahLst/>
                <a:rect l="l" t="t" r="r" b="b"/>
                <a:pathLst>
                  <a:path w="4688" h="4085">
                    <a:moveTo>
                      <a:pt x="0" y="2780"/>
                    </a:moveTo>
                    <a:lnTo>
                      <a:pt x="60" y="2777"/>
                    </a:lnTo>
                    <a:lnTo>
                      <a:pt x="120" y="2774"/>
                    </a:lnTo>
                    <a:lnTo>
                      <a:pt x="181" y="2772"/>
                    </a:lnTo>
                    <a:lnTo>
                      <a:pt x="241" y="2771"/>
                    </a:lnTo>
                    <a:lnTo>
                      <a:pt x="302" y="2770"/>
                    </a:lnTo>
                    <a:lnTo>
                      <a:pt x="364" y="2770"/>
                    </a:lnTo>
                    <a:lnTo>
                      <a:pt x="425" y="2771"/>
                    </a:lnTo>
                    <a:lnTo>
                      <a:pt x="487" y="2773"/>
                    </a:lnTo>
                    <a:lnTo>
                      <a:pt x="548" y="2775"/>
                    </a:lnTo>
                    <a:lnTo>
                      <a:pt x="609" y="2778"/>
                    </a:lnTo>
                    <a:lnTo>
                      <a:pt x="670" y="2781"/>
                    </a:lnTo>
                    <a:lnTo>
                      <a:pt x="731" y="2785"/>
                    </a:lnTo>
                    <a:lnTo>
                      <a:pt x="791" y="2791"/>
                    </a:lnTo>
                    <a:lnTo>
                      <a:pt x="853" y="2796"/>
                    </a:lnTo>
                    <a:lnTo>
                      <a:pt x="912" y="2802"/>
                    </a:lnTo>
                    <a:lnTo>
                      <a:pt x="972" y="2810"/>
                    </a:lnTo>
                    <a:lnTo>
                      <a:pt x="1032" y="2817"/>
                    </a:lnTo>
                    <a:lnTo>
                      <a:pt x="1090" y="2826"/>
                    </a:lnTo>
                    <a:lnTo>
                      <a:pt x="1148" y="2835"/>
                    </a:lnTo>
                    <a:lnTo>
                      <a:pt x="1205" y="2845"/>
                    </a:lnTo>
                    <a:lnTo>
                      <a:pt x="1262" y="2855"/>
                    </a:lnTo>
                    <a:lnTo>
                      <a:pt x="1318" y="2867"/>
                    </a:lnTo>
                    <a:lnTo>
                      <a:pt x="1373" y="2879"/>
                    </a:lnTo>
                    <a:lnTo>
                      <a:pt x="1426" y="2891"/>
                    </a:lnTo>
                    <a:lnTo>
                      <a:pt x="1480" y="2904"/>
                    </a:lnTo>
                    <a:lnTo>
                      <a:pt x="1532" y="2918"/>
                    </a:lnTo>
                    <a:lnTo>
                      <a:pt x="1583" y="2932"/>
                    </a:lnTo>
                    <a:lnTo>
                      <a:pt x="1632" y="2948"/>
                    </a:lnTo>
                    <a:lnTo>
                      <a:pt x="1681" y="2962"/>
                    </a:lnTo>
                    <a:lnTo>
                      <a:pt x="1729" y="2979"/>
                    </a:lnTo>
                    <a:lnTo>
                      <a:pt x="1775" y="2996"/>
                    </a:lnTo>
                    <a:lnTo>
                      <a:pt x="1819" y="3013"/>
                    </a:lnTo>
                    <a:lnTo>
                      <a:pt x="1821" y="3011"/>
                    </a:lnTo>
                    <a:lnTo>
                      <a:pt x="1828" y="3011"/>
                    </a:lnTo>
                    <a:lnTo>
                      <a:pt x="1836" y="3013"/>
                    </a:lnTo>
                    <a:lnTo>
                      <a:pt x="1848" y="3016"/>
                    </a:lnTo>
                    <a:lnTo>
                      <a:pt x="1880" y="3028"/>
                    </a:lnTo>
                    <a:lnTo>
                      <a:pt x="1922" y="3046"/>
                    </a:lnTo>
                    <a:lnTo>
                      <a:pt x="1971" y="3069"/>
                    </a:lnTo>
                    <a:lnTo>
                      <a:pt x="2027" y="3098"/>
                    </a:lnTo>
                    <a:lnTo>
                      <a:pt x="2086" y="3131"/>
                    </a:lnTo>
                    <a:lnTo>
                      <a:pt x="2149" y="3168"/>
                    </a:lnTo>
                    <a:lnTo>
                      <a:pt x="2181" y="3188"/>
                    </a:lnTo>
                    <a:lnTo>
                      <a:pt x="2213" y="3209"/>
                    </a:lnTo>
                    <a:lnTo>
                      <a:pt x="2243" y="3230"/>
                    </a:lnTo>
                    <a:lnTo>
                      <a:pt x="2275" y="3253"/>
                    </a:lnTo>
                    <a:lnTo>
                      <a:pt x="2306" y="3276"/>
                    </a:lnTo>
                    <a:lnTo>
                      <a:pt x="2335" y="3299"/>
                    </a:lnTo>
                    <a:lnTo>
                      <a:pt x="2364" y="3324"/>
                    </a:lnTo>
                    <a:lnTo>
                      <a:pt x="2391" y="3348"/>
                    </a:lnTo>
                    <a:lnTo>
                      <a:pt x="2418" y="3374"/>
                    </a:lnTo>
                    <a:lnTo>
                      <a:pt x="2442" y="3399"/>
                    </a:lnTo>
                    <a:lnTo>
                      <a:pt x="2464" y="3424"/>
                    </a:lnTo>
                    <a:lnTo>
                      <a:pt x="2484" y="3450"/>
                    </a:lnTo>
                    <a:lnTo>
                      <a:pt x="2503" y="3476"/>
                    </a:lnTo>
                    <a:lnTo>
                      <a:pt x="2518" y="3502"/>
                    </a:lnTo>
                    <a:lnTo>
                      <a:pt x="2532" y="3528"/>
                    </a:lnTo>
                    <a:lnTo>
                      <a:pt x="2542" y="3555"/>
                    </a:lnTo>
                    <a:lnTo>
                      <a:pt x="2566" y="3580"/>
                    </a:lnTo>
                    <a:lnTo>
                      <a:pt x="2589" y="3605"/>
                    </a:lnTo>
                    <a:lnTo>
                      <a:pt x="2611" y="3629"/>
                    </a:lnTo>
                    <a:lnTo>
                      <a:pt x="2630" y="3652"/>
                    </a:lnTo>
                    <a:lnTo>
                      <a:pt x="2667" y="3697"/>
                    </a:lnTo>
                    <a:lnTo>
                      <a:pt x="2698" y="3738"/>
                    </a:lnTo>
                    <a:lnTo>
                      <a:pt x="2752" y="3813"/>
                    </a:lnTo>
                    <a:lnTo>
                      <a:pt x="2797" y="3880"/>
                    </a:lnTo>
                    <a:lnTo>
                      <a:pt x="2818" y="3910"/>
                    </a:lnTo>
                    <a:lnTo>
                      <a:pt x="2841" y="3938"/>
                    </a:lnTo>
                    <a:lnTo>
                      <a:pt x="2852" y="3952"/>
                    </a:lnTo>
                    <a:lnTo>
                      <a:pt x="2864" y="3966"/>
                    </a:lnTo>
                    <a:lnTo>
                      <a:pt x="2877" y="3979"/>
                    </a:lnTo>
                    <a:lnTo>
                      <a:pt x="2890" y="3991"/>
                    </a:lnTo>
                    <a:lnTo>
                      <a:pt x="2903" y="4004"/>
                    </a:lnTo>
                    <a:lnTo>
                      <a:pt x="2919" y="4016"/>
                    </a:lnTo>
                    <a:lnTo>
                      <a:pt x="2934" y="4028"/>
                    </a:lnTo>
                    <a:lnTo>
                      <a:pt x="2951" y="4039"/>
                    </a:lnTo>
                    <a:lnTo>
                      <a:pt x="2969" y="4051"/>
                    </a:lnTo>
                    <a:lnTo>
                      <a:pt x="2988" y="4062"/>
                    </a:lnTo>
                    <a:lnTo>
                      <a:pt x="3009" y="4073"/>
                    </a:lnTo>
                    <a:lnTo>
                      <a:pt x="3031" y="4085"/>
                    </a:lnTo>
                    <a:lnTo>
                      <a:pt x="3062" y="4080"/>
                    </a:lnTo>
                    <a:lnTo>
                      <a:pt x="3090" y="4071"/>
                    </a:lnTo>
                    <a:lnTo>
                      <a:pt x="3113" y="4055"/>
                    </a:lnTo>
                    <a:lnTo>
                      <a:pt x="3133" y="4034"/>
                    </a:lnTo>
                    <a:lnTo>
                      <a:pt x="3148" y="4007"/>
                    </a:lnTo>
                    <a:lnTo>
                      <a:pt x="3161" y="3975"/>
                    </a:lnTo>
                    <a:lnTo>
                      <a:pt x="3171" y="3940"/>
                    </a:lnTo>
                    <a:lnTo>
                      <a:pt x="3178" y="3901"/>
                    </a:lnTo>
                    <a:lnTo>
                      <a:pt x="3182" y="3858"/>
                    </a:lnTo>
                    <a:lnTo>
                      <a:pt x="3184" y="3812"/>
                    </a:lnTo>
                    <a:lnTo>
                      <a:pt x="3185" y="3765"/>
                    </a:lnTo>
                    <a:lnTo>
                      <a:pt x="3184" y="3714"/>
                    </a:lnTo>
                    <a:lnTo>
                      <a:pt x="3182" y="3662"/>
                    </a:lnTo>
                    <a:lnTo>
                      <a:pt x="3179" y="3609"/>
                    </a:lnTo>
                    <a:lnTo>
                      <a:pt x="3174" y="3554"/>
                    </a:lnTo>
                    <a:lnTo>
                      <a:pt x="3169" y="3500"/>
                    </a:lnTo>
                    <a:lnTo>
                      <a:pt x="3159" y="3390"/>
                    </a:lnTo>
                    <a:lnTo>
                      <a:pt x="3150" y="3285"/>
                    </a:lnTo>
                    <a:lnTo>
                      <a:pt x="3147" y="3235"/>
                    </a:lnTo>
                    <a:lnTo>
                      <a:pt x="3144" y="3186"/>
                    </a:lnTo>
                    <a:lnTo>
                      <a:pt x="3144" y="3140"/>
                    </a:lnTo>
                    <a:lnTo>
                      <a:pt x="3144" y="3098"/>
                    </a:lnTo>
                    <a:lnTo>
                      <a:pt x="3146" y="3059"/>
                    </a:lnTo>
                    <a:lnTo>
                      <a:pt x="3151" y="3023"/>
                    </a:lnTo>
                    <a:lnTo>
                      <a:pt x="3158" y="2991"/>
                    </a:lnTo>
                    <a:lnTo>
                      <a:pt x="3168" y="2965"/>
                    </a:lnTo>
                    <a:lnTo>
                      <a:pt x="3181" y="2943"/>
                    </a:lnTo>
                    <a:lnTo>
                      <a:pt x="3196" y="2927"/>
                    </a:lnTo>
                    <a:lnTo>
                      <a:pt x="3216" y="2917"/>
                    </a:lnTo>
                    <a:lnTo>
                      <a:pt x="3240" y="2914"/>
                    </a:lnTo>
                    <a:lnTo>
                      <a:pt x="3267" y="2910"/>
                    </a:lnTo>
                    <a:lnTo>
                      <a:pt x="3298" y="2909"/>
                    </a:lnTo>
                    <a:lnTo>
                      <a:pt x="3330" y="2908"/>
                    </a:lnTo>
                    <a:lnTo>
                      <a:pt x="3364" y="2907"/>
                    </a:lnTo>
                    <a:lnTo>
                      <a:pt x="3436" y="2907"/>
                    </a:lnTo>
                    <a:lnTo>
                      <a:pt x="3513" y="2909"/>
                    </a:lnTo>
                    <a:lnTo>
                      <a:pt x="3593" y="2913"/>
                    </a:lnTo>
                    <a:lnTo>
                      <a:pt x="3674" y="2917"/>
                    </a:lnTo>
                    <a:lnTo>
                      <a:pt x="3755" y="2921"/>
                    </a:lnTo>
                    <a:lnTo>
                      <a:pt x="3834" y="2926"/>
                    </a:lnTo>
                    <a:lnTo>
                      <a:pt x="3980" y="2938"/>
                    </a:lnTo>
                    <a:lnTo>
                      <a:pt x="4101" y="2947"/>
                    </a:lnTo>
                    <a:lnTo>
                      <a:pt x="4147" y="2950"/>
                    </a:lnTo>
                    <a:lnTo>
                      <a:pt x="4182" y="2952"/>
                    </a:lnTo>
                    <a:lnTo>
                      <a:pt x="4195" y="2952"/>
                    </a:lnTo>
                    <a:lnTo>
                      <a:pt x="4205" y="2952"/>
                    </a:lnTo>
                    <a:lnTo>
                      <a:pt x="4211" y="2951"/>
                    </a:lnTo>
                    <a:lnTo>
                      <a:pt x="4213" y="2950"/>
                    </a:lnTo>
                    <a:lnTo>
                      <a:pt x="4251" y="2937"/>
                    </a:lnTo>
                    <a:lnTo>
                      <a:pt x="4288" y="2920"/>
                    </a:lnTo>
                    <a:lnTo>
                      <a:pt x="4327" y="2899"/>
                    </a:lnTo>
                    <a:lnTo>
                      <a:pt x="4363" y="2874"/>
                    </a:lnTo>
                    <a:lnTo>
                      <a:pt x="4399" y="2847"/>
                    </a:lnTo>
                    <a:lnTo>
                      <a:pt x="4434" y="2817"/>
                    </a:lnTo>
                    <a:lnTo>
                      <a:pt x="4467" y="2784"/>
                    </a:lnTo>
                    <a:lnTo>
                      <a:pt x="4499" y="2748"/>
                    </a:lnTo>
                    <a:lnTo>
                      <a:pt x="4530" y="2711"/>
                    </a:lnTo>
                    <a:lnTo>
                      <a:pt x="4557" y="2672"/>
                    </a:lnTo>
                    <a:lnTo>
                      <a:pt x="4583" y="2632"/>
                    </a:lnTo>
                    <a:lnTo>
                      <a:pt x="4607" y="2589"/>
                    </a:lnTo>
                    <a:lnTo>
                      <a:pt x="4628" y="2546"/>
                    </a:lnTo>
                    <a:lnTo>
                      <a:pt x="4646" y="2503"/>
                    </a:lnTo>
                    <a:lnTo>
                      <a:pt x="4661" y="2458"/>
                    </a:lnTo>
                    <a:lnTo>
                      <a:pt x="4673" y="2415"/>
                    </a:lnTo>
                    <a:lnTo>
                      <a:pt x="4682" y="2370"/>
                    </a:lnTo>
                    <a:lnTo>
                      <a:pt x="4686" y="2327"/>
                    </a:lnTo>
                    <a:lnTo>
                      <a:pt x="4688" y="2283"/>
                    </a:lnTo>
                    <a:lnTo>
                      <a:pt x="4684" y="2241"/>
                    </a:lnTo>
                    <a:lnTo>
                      <a:pt x="4678" y="2201"/>
                    </a:lnTo>
                    <a:lnTo>
                      <a:pt x="4666" y="2161"/>
                    </a:lnTo>
                    <a:lnTo>
                      <a:pt x="4649" y="2123"/>
                    </a:lnTo>
                    <a:lnTo>
                      <a:pt x="4628" y="2088"/>
                    </a:lnTo>
                    <a:lnTo>
                      <a:pt x="4602" y="2055"/>
                    </a:lnTo>
                    <a:lnTo>
                      <a:pt x="4570" y="2025"/>
                    </a:lnTo>
                    <a:lnTo>
                      <a:pt x="4533" y="1997"/>
                    </a:lnTo>
                    <a:lnTo>
                      <a:pt x="4490" y="1973"/>
                    </a:lnTo>
                    <a:lnTo>
                      <a:pt x="4441" y="1953"/>
                    </a:lnTo>
                    <a:lnTo>
                      <a:pt x="4386" y="1935"/>
                    </a:lnTo>
                    <a:lnTo>
                      <a:pt x="4325" y="1922"/>
                    </a:lnTo>
                    <a:lnTo>
                      <a:pt x="4257" y="1913"/>
                    </a:lnTo>
                    <a:lnTo>
                      <a:pt x="4257" y="1878"/>
                    </a:lnTo>
                    <a:lnTo>
                      <a:pt x="4255" y="1805"/>
                    </a:lnTo>
                    <a:lnTo>
                      <a:pt x="4254" y="1755"/>
                    </a:lnTo>
                    <a:lnTo>
                      <a:pt x="4251" y="1698"/>
                    </a:lnTo>
                    <a:lnTo>
                      <a:pt x="4246" y="1635"/>
                    </a:lnTo>
                    <a:lnTo>
                      <a:pt x="4238" y="1565"/>
                    </a:lnTo>
                    <a:lnTo>
                      <a:pt x="4227" y="1490"/>
                    </a:lnTo>
                    <a:lnTo>
                      <a:pt x="4213" y="1409"/>
                    </a:lnTo>
                    <a:lnTo>
                      <a:pt x="4195" y="1325"/>
                    </a:lnTo>
                    <a:lnTo>
                      <a:pt x="4173" y="1238"/>
                    </a:lnTo>
                    <a:lnTo>
                      <a:pt x="4147" y="1149"/>
                    </a:lnTo>
                    <a:lnTo>
                      <a:pt x="4116" y="1058"/>
                    </a:lnTo>
                    <a:lnTo>
                      <a:pt x="4079" y="967"/>
                    </a:lnTo>
                    <a:lnTo>
                      <a:pt x="4036" y="876"/>
                    </a:lnTo>
                    <a:lnTo>
                      <a:pt x="3987" y="785"/>
                    </a:lnTo>
                    <a:lnTo>
                      <a:pt x="3931" y="695"/>
                    </a:lnTo>
                    <a:lnTo>
                      <a:pt x="3867" y="608"/>
                    </a:lnTo>
                    <a:lnTo>
                      <a:pt x="3796" y="523"/>
                    </a:lnTo>
                    <a:lnTo>
                      <a:pt x="3717" y="443"/>
                    </a:lnTo>
                    <a:lnTo>
                      <a:pt x="3628" y="366"/>
                    </a:lnTo>
                    <a:lnTo>
                      <a:pt x="3532" y="294"/>
                    </a:lnTo>
                    <a:lnTo>
                      <a:pt x="3425" y="230"/>
                    </a:lnTo>
                    <a:lnTo>
                      <a:pt x="3309" y="170"/>
                    </a:lnTo>
                    <a:lnTo>
                      <a:pt x="3182" y="119"/>
                    </a:lnTo>
                    <a:lnTo>
                      <a:pt x="3045" y="76"/>
                    </a:lnTo>
                    <a:lnTo>
                      <a:pt x="2896" y="42"/>
                    </a:lnTo>
                    <a:lnTo>
                      <a:pt x="2736" y="17"/>
                    </a:lnTo>
                    <a:lnTo>
                      <a:pt x="2562" y="3"/>
                    </a:lnTo>
                    <a:lnTo>
                      <a:pt x="2378" y="0"/>
                    </a:lnTo>
                    <a:lnTo>
                      <a:pt x="2180" y="8"/>
                    </a:lnTo>
                    <a:lnTo>
                      <a:pt x="2134" y="15"/>
                    </a:lnTo>
                    <a:lnTo>
                      <a:pt x="2084" y="22"/>
                    </a:lnTo>
                    <a:lnTo>
                      <a:pt x="2035" y="30"/>
                    </a:lnTo>
                    <a:lnTo>
                      <a:pt x="1983" y="40"/>
                    </a:lnTo>
                    <a:lnTo>
                      <a:pt x="1933" y="52"/>
                    </a:lnTo>
                    <a:lnTo>
                      <a:pt x="1881" y="64"/>
                    </a:lnTo>
                    <a:lnTo>
                      <a:pt x="1831" y="78"/>
                    </a:lnTo>
                    <a:lnTo>
                      <a:pt x="1783" y="93"/>
                    </a:lnTo>
                    <a:lnTo>
                      <a:pt x="1736" y="109"/>
                    </a:lnTo>
                    <a:lnTo>
                      <a:pt x="1692" y="126"/>
                    </a:lnTo>
                    <a:lnTo>
                      <a:pt x="1651" y="143"/>
                    </a:lnTo>
                    <a:lnTo>
                      <a:pt x="1614" y="161"/>
                    </a:lnTo>
                    <a:lnTo>
                      <a:pt x="1597" y="170"/>
                    </a:lnTo>
                    <a:lnTo>
                      <a:pt x="1582" y="180"/>
                    </a:lnTo>
                    <a:lnTo>
                      <a:pt x="1568" y="189"/>
                    </a:lnTo>
                    <a:lnTo>
                      <a:pt x="1555" y="199"/>
                    </a:lnTo>
                    <a:lnTo>
                      <a:pt x="1543" y="208"/>
                    </a:lnTo>
                    <a:lnTo>
                      <a:pt x="1533" y="219"/>
                    </a:lnTo>
                    <a:lnTo>
                      <a:pt x="1524" y="229"/>
                    </a:lnTo>
                    <a:lnTo>
                      <a:pt x="1517" y="239"/>
                    </a:lnTo>
                    <a:lnTo>
                      <a:pt x="1507" y="289"/>
                    </a:lnTo>
                    <a:lnTo>
                      <a:pt x="1496" y="335"/>
                    </a:lnTo>
                    <a:lnTo>
                      <a:pt x="1484" y="378"/>
                    </a:lnTo>
                    <a:lnTo>
                      <a:pt x="1471" y="417"/>
                    </a:lnTo>
                    <a:lnTo>
                      <a:pt x="1457" y="452"/>
                    </a:lnTo>
                    <a:lnTo>
                      <a:pt x="1442" y="485"/>
                    </a:lnTo>
                    <a:lnTo>
                      <a:pt x="1426" y="516"/>
                    </a:lnTo>
                    <a:lnTo>
                      <a:pt x="1409" y="542"/>
                    </a:lnTo>
                    <a:lnTo>
                      <a:pt x="1391" y="567"/>
                    </a:lnTo>
                    <a:lnTo>
                      <a:pt x="1373" y="588"/>
                    </a:lnTo>
                    <a:lnTo>
                      <a:pt x="1353" y="608"/>
                    </a:lnTo>
                    <a:lnTo>
                      <a:pt x="1333" y="624"/>
                    </a:lnTo>
                    <a:lnTo>
                      <a:pt x="1313" y="639"/>
                    </a:lnTo>
                    <a:lnTo>
                      <a:pt x="1293" y="651"/>
                    </a:lnTo>
                    <a:lnTo>
                      <a:pt x="1272" y="663"/>
                    </a:lnTo>
                    <a:lnTo>
                      <a:pt x="1251" y="671"/>
                    </a:lnTo>
                    <a:lnTo>
                      <a:pt x="1229" y="679"/>
                    </a:lnTo>
                    <a:lnTo>
                      <a:pt x="1207" y="685"/>
                    </a:lnTo>
                    <a:lnTo>
                      <a:pt x="1186" y="690"/>
                    </a:lnTo>
                    <a:lnTo>
                      <a:pt x="1164" y="693"/>
                    </a:lnTo>
                    <a:lnTo>
                      <a:pt x="1142" y="695"/>
                    </a:lnTo>
                    <a:lnTo>
                      <a:pt x="1121" y="697"/>
                    </a:lnTo>
                    <a:lnTo>
                      <a:pt x="1100" y="697"/>
                    </a:lnTo>
                    <a:lnTo>
                      <a:pt x="1079" y="697"/>
                    </a:lnTo>
                    <a:lnTo>
                      <a:pt x="1000" y="693"/>
                    </a:lnTo>
                    <a:lnTo>
                      <a:pt x="931" y="688"/>
                    </a:lnTo>
                    <a:lnTo>
                      <a:pt x="908" y="685"/>
                    </a:lnTo>
                    <a:lnTo>
                      <a:pt x="882" y="682"/>
                    </a:lnTo>
                    <a:lnTo>
                      <a:pt x="855" y="681"/>
                    </a:lnTo>
                    <a:lnTo>
                      <a:pt x="823" y="682"/>
                    </a:lnTo>
                    <a:lnTo>
                      <a:pt x="789" y="683"/>
                    </a:lnTo>
                    <a:lnTo>
                      <a:pt x="753" y="686"/>
                    </a:lnTo>
                    <a:lnTo>
                      <a:pt x="715" y="690"/>
                    </a:lnTo>
                    <a:lnTo>
                      <a:pt x="674" y="696"/>
                    </a:lnTo>
                    <a:lnTo>
                      <a:pt x="631" y="703"/>
                    </a:lnTo>
                    <a:lnTo>
                      <a:pt x="585" y="712"/>
                    </a:lnTo>
                    <a:lnTo>
                      <a:pt x="539" y="722"/>
                    </a:lnTo>
                    <a:lnTo>
                      <a:pt x="490" y="734"/>
                    </a:lnTo>
                    <a:lnTo>
                      <a:pt x="440" y="749"/>
                    </a:lnTo>
                    <a:lnTo>
                      <a:pt x="389" y="765"/>
                    </a:lnTo>
                    <a:lnTo>
                      <a:pt x="335" y="782"/>
                    </a:lnTo>
                    <a:lnTo>
                      <a:pt x="281" y="802"/>
                    </a:lnTo>
                    <a:lnTo>
                      <a:pt x="254" y="860"/>
                    </a:lnTo>
                    <a:lnTo>
                      <a:pt x="230" y="918"/>
                    </a:lnTo>
                    <a:lnTo>
                      <a:pt x="209" y="976"/>
                    </a:lnTo>
                    <a:lnTo>
                      <a:pt x="189" y="1032"/>
                    </a:lnTo>
                    <a:lnTo>
                      <a:pt x="174" y="1089"/>
                    </a:lnTo>
                    <a:lnTo>
                      <a:pt x="160" y="1144"/>
                    </a:lnTo>
                    <a:lnTo>
                      <a:pt x="148" y="1200"/>
                    </a:lnTo>
                    <a:lnTo>
                      <a:pt x="138" y="1256"/>
                    </a:lnTo>
                    <a:lnTo>
                      <a:pt x="129" y="1313"/>
                    </a:lnTo>
                    <a:lnTo>
                      <a:pt x="122" y="1368"/>
                    </a:lnTo>
                    <a:lnTo>
                      <a:pt x="117" y="1424"/>
                    </a:lnTo>
                    <a:lnTo>
                      <a:pt x="113" y="1480"/>
                    </a:lnTo>
                    <a:lnTo>
                      <a:pt x="109" y="1537"/>
                    </a:lnTo>
                    <a:lnTo>
                      <a:pt x="107" y="1594"/>
                    </a:lnTo>
                    <a:lnTo>
                      <a:pt x="105" y="1652"/>
                    </a:lnTo>
                    <a:lnTo>
                      <a:pt x="104" y="1710"/>
                    </a:lnTo>
                    <a:lnTo>
                      <a:pt x="103" y="1828"/>
                    </a:lnTo>
                    <a:lnTo>
                      <a:pt x="101" y="1948"/>
                    </a:lnTo>
                    <a:lnTo>
                      <a:pt x="98" y="2011"/>
                    </a:lnTo>
                    <a:lnTo>
                      <a:pt x="96" y="2073"/>
                    </a:lnTo>
                    <a:lnTo>
                      <a:pt x="93" y="2138"/>
                    </a:lnTo>
                    <a:lnTo>
                      <a:pt x="90" y="2204"/>
                    </a:lnTo>
                    <a:lnTo>
                      <a:pt x="84" y="2270"/>
                    </a:lnTo>
                    <a:lnTo>
                      <a:pt x="77" y="2338"/>
                    </a:lnTo>
                    <a:lnTo>
                      <a:pt x="70" y="2407"/>
                    </a:lnTo>
                    <a:lnTo>
                      <a:pt x="60" y="2479"/>
                    </a:lnTo>
                    <a:lnTo>
                      <a:pt x="48" y="2551"/>
                    </a:lnTo>
                    <a:lnTo>
                      <a:pt x="35" y="2625"/>
                    </a:lnTo>
                    <a:lnTo>
                      <a:pt x="18" y="2702"/>
                    </a:lnTo>
                    <a:lnTo>
                      <a:pt x="0" y="278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5" name=""/>
              <p:cNvSpPr/>
              <p:nvPr/>
            </p:nvSpPr>
            <p:spPr>
              <a:xfrm>
                <a:off x="2305800" y="3359520"/>
                <a:ext cx="266760" cy="61200"/>
              </a:xfrm>
              <a:custGeom>
                <a:avLst/>
                <a:gdLst/>
                <a:ahLst/>
                <a:rect l="l" t="t" r="r" b="b"/>
                <a:pathLst>
                  <a:path w="1849" h="300">
                    <a:moveTo>
                      <a:pt x="1792" y="265"/>
                    </a:moveTo>
                    <a:lnTo>
                      <a:pt x="1831" y="246"/>
                    </a:lnTo>
                    <a:lnTo>
                      <a:pt x="1786" y="228"/>
                    </a:lnTo>
                    <a:lnTo>
                      <a:pt x="1740" y="211"/>
                    </a:lnTo>
                    <a:lnTo>
                      <a:pt x="1692" y="195"/>
                    </a:lnTo>
                    <a:lnTo>
                      <a:pt x="1642" y="179"/>
                    </a:lnTo>
                    <a:lnTo>
                      <a:pt x="1592" y="163"/>
                    </a:lnTo>
                    <a:lnTo>
                      <a:pt x="1540" y="149"/>
                    </a:lnTo>
                    <a:lnTo>
                      <a:pt x="1488" y="136"/>
                    </a:lnTo>
                    <a:lnTo>
                      <a:pt x="1435" y="122"/>
                    </a:lnTo>
                    <a:lnTo>
                      <a:pt x="1380" y="109"/>
                    </a:lnTo>
                    <a:lnTo>
                      <a:pt x="1324" y="97"/>
                    </a:lnTo>
                    <a:lnTo>
                      <a:pt x="1268" y="87"/>
                    </a:lnTo>
                    <a:lnTo>
                      <a:pt x="1211" y="76"/>
                    </a:lnTo>
                    <a:lnTo>
                      <a:pt x="1153" y="66"/>
                    </a:lnTo>
                    <a:lnTo>
                      <a:pt x="1095" y="57"/>
                    </a:lnTo>
                    <a:lnTo>
                      <a:pt x="1036" y="49"/>
                    </a:lnTo>
                    <a:lnTo>
                      <a:pt x="977" y="40"/>
                    </a:lnTo>
                    <a:lnTo>
                      <a:pt x="916" y="33"/>
                    </a:lnTo>
                    <a:lnTo>
                      <a:pt x="856" y="26"/>
                    </a:lnTo>
                    <a:lnTo>
                      <a:pt x="796" y="21"/>
                    </a:lnTo>
                    <a:lnTo>
                      <a:pt x="734" y="16"/>
                    </a:lnTo>
                    <a:lnTo>
                      <a:pt x="673" y="12"/>
                    </a:lnTo>
                    <a:lnTo>
                      <a:pt x="611" y="8"/>
                    </a:lnTo>
                    <a:lnTo>
                      <a:pt x="550" y="5"/>
                    </a:lnTo>
                    <a:lnTo>
                      <a:pt x="489" y="3"/>
                    </a:lnTo>
                    <a:lnTo>
                      <a:pt x="426" y="1"/>
                    </a:lnTo>
                    <a:lnTo>
                      <a:pt x="365" y="0"/>
                    </a:lnTo>
                    <a:lnTo>
                      <a:pt x="303" y="0"/>
                    </a:lnTo>
                    <a:lnTo>
                      <a:pt x="242" y="1"/>
                    </a:lnTo>
                    <a:lnTo>
                      <a:pt x="180" y="2"/>
                    </a:lnTo>
                    <a:lnTo>
                      <a:pt x="120" y="4"/>
                    </a:lnTo>
                    <a:lnTo>
                      <a:pt x="60" y="7"/>
                    </a:lnTo>
                    <a:lnTo>
                      <a:pt x="0" y="11"/>
                    </a:lnTo>
                    <a:lnTo>
                      <a:pt x="3" y="66"/>
                    </a:lnTo>
                    <a:lnTo>
                      <a:pt x="62" y="63"/>
                    </a:lnTo>
                    <a:lnTo>
                      <a:pt x="122" y="59"/>
                    </a:lnTo>
                    <a:lnTo>
                      <a:pt x="183" y="57"/>
                    </a:lnTo>
                    <a:lnTo>
                      <a:pt x="243" y="56"/>
                    </a:lnTo>
                    <a:lnTo>
                      <a:pt x="303" y="56"/>
                    </a:lnTo>
                    <a:lnTo>
                      <a:pt x="365" y="56"/>
                    </a:lnTo>
                    <a:lnTo>
                      <a:pt x="425" y="56"/>
                    </a:lnTo>
                    <a:lnTo>
                      <a:pt x="486" y="58"/>
                    </a:lnTo>
                    <a:lnTo>
                      <a:pt x="548" y="60"/>
                    </a:lnTo>
                    <a:lnTo>
                      <a:pt x="608" y="64"/>
                    </a:lnTo>
                    <a:lnTo>
                      <a:pt x="670" y="67"/>
                    </a:lnTo>
                    <a:lnTo>
                      <a:pt x="730" y="71"/>
                    </a:lnTo>
                    <a:lnTo>
                      <a:pt x="790" y="76"/>
                    </a:lnTo>
                    <a:lnTo>
                      <a:pt x="850" y="82"/>
                    </a:lnTo>
                    <a:lnTo>
                      <a:pt x="910" y="88"/>
                    </a:lnTo>
                    <a:lnTo>
                      <a:pt x="970" y="95"/>
                    </a:lnTo>
                    <a:lnTo>
                      <a:pt x="1028" y="103"/>
                    </a:lnTo>
                    <a:lnTo>
                      <a:pt x="1086" y="111"/>
                    </a:lnTo>
                    <a:lnTo>
                      <a:pt x="1144" y="121"/>
                    </a:lnTo>
                    <a:lnTo>
                      <a:pt x="1201" y="130"/>
                    </a:lnTo>
                    <a:lnTo>
                      <a:pt x="1257" y="141"/>
                    </a:lnTo>
                    <a:lnTo>
                      <a:pt x="1312" y="152"/>
                    </a:lnTo>
                    <a:lnTo>
                      <a:pt x="1367" y="163"/>
                    </a:lnTo>
                    <a:lnTo>
                      <a:pt x="1421" y="176"/>
                    </a:lnTo>
                    <a:lnTo>
                      <a:pt x="1473" y="189"/>
                    </a:lnTo>
                    <a:lnTo>
                      <a:pt x="1525" y="202"/>
                    </a:lnTo>
                    <a:lnTo>
                      <a:pt x="1575" y="216"/>
                    </a:lnTo>
                    <a:lnTo>
                      <a:pt x="1625" y="231"/>
                    </a:lnTo>
                    <a:lnTo>
                      <a:pt x="1673" y="247"/>
                    </a:lnTo>
                    <a:lnTo>
                      <a:pt x="1720" y="263"/>
                    </a:lnTo>
                    <a:lnTo>
                      <a:pt x="1765" y="280"/>
                    </a:lnTo>
                    <a:lnTo>
                      <a:pt x="1809" y="297"/>
                    </a:lnTo>
                    <a:lnTo>
                      <a:pt x="1848" y="278"/>
                    </a:lnTo>
                    <a:lnTo>
                      <a:pt x="1809" y="297"/>
                    </a:lnTo>
                    <a:lnTo>
                      <a:pt x="1815" y="299"/>
                    </a:lnTo>
                    <a:lnTo>
                      <a:pt x="1822" y="300"/>
                    </a:lnTo>
                    <a:lnTo>
                      <a:pt x="1828" y="299"/>
                    </a:lnTo>
                    <a:lnTo>
                      <a:pt x="1832" y="297"/>
                    </a:lnTo>
                    <a:lnTo>
                      <a:pt x="1837" y="295"/>
                    </a:lnTo>
                    <a:lnTo>
                      <a:pt x="1841" y="290"/>
                    </a:lnTo>
                    <a:lnTo>
                      <a:pt x="1844" y="287"/>
                    </a:lnTo>
                    <a:lnTo>
                      <a:pt x="1846" y="282"/>
                    </a:lnTo>
                    <a:lnTo>
                      <a:pt x="1848" y="278"/>
                    </a:lnTo>
                    <a:lnTo>
                      <a:pt x="1849" y="272"/>
                    </a:lnTo>
                    <a:lnTo>
                      <a:pt x="1848" y="267"/>
                    </a:lnTo>
                    <a:lnTo>
                      <a:pt x="1847" y="262"/>
                    </a:lnTo>
                    <a:lnTo>
                      <a:pt x="1845" y="257"/>
                    </a:lnTo>
                    <a:lnTo>
                      <a:pt x="1842" y="252"/>
                    </a:lnTo>
                    <a:lnTo>
                      <a:pt x="1837" y="249"/>
                    </a:lnTo>
                    <a:lnTo>
                      <a:pt x="1831" y="246"/>
                    </a:lnTo>
                    <a:lnTo>
                      <a:pt x="1792" y="265"/>
                    </a:lnTo>
                    <a:close/>
                  </a:path>
                </a:pathLst>
              </a:custGeom>
              <a:solidFill>
                <a:srgbClr val="000000"/>
              </a:solidFill>
              <a:ln w="0">
                <a:noFill/>
              </a:ln>
            </p:spPr>
            <p:style>
              <a:lnRef idx="0"/>
              <a:fillRef idx="0"/>
              <a:effectRef idx="0"/>
              <a:fontRef idx="minor"/>
            </p:style>
            <p:txBody>
              <a:bodyPr wrap="none" lIns="93240" rIns="93240" tIns="14760" bIns="14760" anchor="t">
                <a:spAutoFit/>
              </a:bodyPr>
              <a:p>
                <a:endParaRPr b="0" lang="en-US" sz="2400" spc="-1" strike="noStrike">
                  <a:solidFill>
                    <a:srgbClr val="ffffff"/>
                  </a:solidFill>
                  <a:latin typeface="Times New Roman"/>
                </a:endParaRPr>
              </a:p>
            </p:txBody>
          </p:sp>
          <p:sp>
            <p:nvSpPr>
              <p:cNvPr id="426" name=""/>
              <p:cNvSpPr/>
              <p:nvPr/>
            </p:nvSpPr>
            <p:spPr>
              <a:xfrm>
                <a:off x="2562480" y="3407040"/>
                <a:ext cx="113760" cy="122400"/>
              </a:xfrm>
              <a:custGeom>
                <a:avLst/>
                <a:gdLst/>
                <a:ahLst/>
                <a:rect l="l" t="t" r="r" b="b"/>
                <a:pathLst>
                  <a:path w="779" h="598">
                    <a:moveTo>
                      <a:pt x="771" y="552"/>
                    </a:moveTo>
                    <a:lnTo>
                      <a:pt x="778" y="562"/>
                    </a:lnTo>
                    <a:lnTo>
                      <a:pt x="772" y="547"/>
                    </a:lnTo>
                    <a:lnTo>
                      <a:pt x="767" y="534"/>
                    </a:lnTo>
                    <a:lnTo>
                      <a:pt x="760" y="520"/>
                    </a:lnTo>
                    <a:lnTo>
                      <a:pt x="753" y="505"/>
                    </a:lnTo>
                    <a:lnTo>
                      <a:pt x="736" y="477"/>
                    </a:lnTo>
                    <a:lnTo>
                      <a:pt x="717" y="450"/>
                    </a:lnTo>
                    <a:lnTo>
                      <a:pt x="696" y="423"/>
                    </a:lnTo>
                    <a:lnTo>
                      <a:pt x="672" y="396"/>
                    </a:lnTo>
                    <a:lnTo>
                      <a:pt x="646" y="370"/>
                    </a:lnTo>
                    <a:lnTo>
                      <a:pt x="620" y="345"/>
                    </a:lnTo>
                    <a:lnTo>
                      <a:pt x="592" y="320"/>
                    </a:lnTo>
                    <a:lnTo>
                      <a:pt x="563" y="294"/>
                    </a:lnTo>
                    <a:lnTo>
                      <a:pt x="532" y="271"/>
                    </a:lnTo>
                    <a:lnTo>
                      <a:pt x="502" y="248"/>
                    </a:lnTo>
                    <a:lnTo>
                      <a:pt x="470" y="224"/>
                    </a:lnTo>
                    <a:lnTo>
                      <a:pt x="438" y="202"/>
                    </a:lnTo>
                    <a:lnTo>
                      <a:pt x="405" y="182"/>
                    </a:lnTo>
                    <a:lnTo>
                      <a:pt x="373" y="161"/>
                    </a:lnTo>
                    <a:lnTo>
                      <a:pt x="311" y="124"/>
                    </a:lnTo>
                    <a:lnTo>
                      <a:pt x="249" y="90"/>
                    </a:lnTo>
                    <a:lnTo>
                      <a:pt x="193" y="61"/>
                    </a:lnTo>
                    <a:lnTo>
                      <a:pt x="143" y="37"/>
                    </a:lnTo>
                    <a:lnTo>
                      <a:pt x="100" y="19"/>
                    </a:lnTo>
                    <a:lnTo>
                      <a:pt x="67" y="6"/>
                    </a:lnTo>
                    <a:lnTo>
                      <a:pt x="52" y="2"/>
                    </a:lnTo>
                    <a:lnTo>
                      <a:pt x="41" y="0"/>
                    </a:lnTo>
                    <a:lnTo>
                      <a:pt x="32" y="0"/>
                    </a:lnTo>
                    <a:lnTo>
                      <a:pt x="23" y="1"/>
                    </a:lnTo>
                    <a:lnTo>
                      <a:pt x="10" y="7"/>
                    </a:lnTo>
                    <a:lnTo>
                      <a:pt x="0" y="23"/>
                    </a:lnTo>
                    <a:lnTo>
                      <a:pt x="56" y="36"/>
                    </a:lnTo>
                    <a:lnTo>
                      <a:pt x="47" y="49"/>
                    </a:lnTo>
                    <a:lnTo>
                      <a:pt x="38" y="55"/>
                    </a:lnTo>
                    <a:lnTo>
                      <a:pt x="33" y="55"/>
                    </a:lnTo>
                    <a:lnTo>
                      <a:pt x="32" y="55"/>
                    </a:lnTo>
                    <a:lnTo>
                      <a:pt x="39" y="56"/>
                    </a:lnTo>
                    <a:lnTo>
                      <a:pt x="48" y="59"/>
                    </a:lnTo>
                    <a:lnTo>
                      <a:pt x="78" y="70"/>
                    </a:lnTo>
                    <a:lnTo>
                      <a:pt x="119" y="88"/>
                    </a:lnTo>
                    <a:lnTo>
                      <a:pt x="167" y="110"/>
                    </a:lnTo>
                    <a:lnTo>
                      <a:pt x="222" y="138"/>
                    </a:lnTo>
                    <a:lnTo>
                      <a:pt x="281" y="171"/>
                    </a:lnTo>
                    <a:lnTo>
                      <a:pt x="343" y="207"/>
                    </a:lnTo>
                    <a:lnTo>
                      <a:pt x="373" y="227"/>
                    </a:lnTo>
                    <a:lnTo>
                      <a:pt x="405" y="248"/>
                    </a:lnTo>
                    <a:lnTo>
                      <a:pt x="436" y="270"/>
                    </a:lnTo>
                    <a:lnTo>
                      <a:pt x="466" y="291"/>
                    </a:lnTo>
                    <a:lnTo>
                      <a:pt x="496" y="314"/>
                    </a:lnTo>
                    <a:lnTo>
                      <a:pt x="526" y="337"/>
                    </a:lnTo>
                    <a:lnTo>
                      <a:pt x="554" y="361"/>
                    </a:lnTo>
                    <a:lnTo>
                      <a:pt x="581" y="384"/>
                    </a:lnTo>
                    <a:lnTo>
                      <a:pt x="606" y="409"/>
                    </a:lnTo>
                    <a:lnTo>
                      <a:pt x="629" y="433"/>
                    </a:lnTo>
                    <a:lnTo>
                      <a:pt x="651" y="457"/>
                    </a:lnTo>
                    <a:lnTo>
                      <a:pt x="670" y="483"/>
                    </a:lnTo>
                    <a:lnTo>
                      <a:pt x="687" y="507"/>
                    </a:lnTo>
                    <a:lnTo>
                      <a:pt x="702" y="532"/>
                    </a:lnTo>
                    <a:lnTo>
                      <a:pt x="708" y="543"/>
                    </a:lnTo>
                    <a:lnTo>
                      <a:pt x="714" y="555"/>
                    </a:lnTo>
                    <a:lnTo>
                      <a:pt x="719" y="568"/>
                    </a:lnTo>
                    <a:lnTo>
                      <a:pt x="723" y="578"/>
                    </a:lnTo>
                    <a:lnTo>
                      <a:pt x="730" y="590"/>
                    </a:lnTo>
                    <a:lnTo>
                      <a:pt x="723" y="578"/>
                    </a:lnTo>
                    <a:lnTo>
                      <a:pt x="725" y="585"/>
                    </a:lnTo>
                    <a:lnTo>
                      <a:pt x="729" y="590"/>
                    </a:lnTo>
                    <a:lnTo>
                      <a:pt x="733" y="593"/>
                    </a:lnTo>
                    <a:lnTo>
                      <a:pt x="737" y="596"/>
                    </a:lnTo>
                    <a:lnTo>
                      <a:pt x="743" y="597"/>
                    </a:lnTo>
                    <a:lnTo>
                      <a:pt x="748" y="598"/>
                    </a:lnTo>
                    <a:lnTo>
                      <a:pt x="754" y="598"/>
                    </a:lnTo>
                    <a:lnTo>
                      <a:pt x="759" y="597"/>
                    </a:lnTo>
                    <a:lnTo>
                      <a:pt x="764" y="595"/>
                    </a:lnTo>
                    <a:lnTo>
                      <a:pt x="768" y="592"/>
                    </a:lnTo>
                    <a:lnTo>
                      <a:pt x="772" y="589"/>
                    </a:lnTo>
                    <a:lnTo>
                      <a:pt x="776" y="585"/>
                    </a:lnTo>
                    <a:lnTo>
                      <a:pt x="778" y="580"/>
                    </a:lnTo>
                    <a:lnTo>
                      <a:pt x="779" y="574"/>
                    </a:lnTo>
                    <a:lnTo>
                      <a:pt x="779" y="569"/>
                    </a:lnTo>
                    <a:lnTo>
                      <a:pt x="778" y="562"/>
                    </a:lnTo>
                    <a:lnTo>
                      <a:pt x="771" y="5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7" name=""/>
              <p:cNvSpPr/>
              <p:nvPr/>
            </p:nvSpPr>
            <p:spPr>
              <a:xfrm>
                <a:off x="2670120" y="3518640"/>
                <a:ext cx="75240" cy="118440"/>
              </a:xfrm>
              <a:custGeom>
                <a:avLst/>
                <a:gdLst/>
                <a:ahLst/>
                <a:rect l="l" t="t" r="r" b="b"/>
                <a:pathLst>
                  <a:path w="538" h="576">
                    <a:moveTo>
                      <a:pt x="510" y="521"/>
                    </a:moveTo>
                    <a:lnTo>
                      <a:pt x="523" y="523"/>
                    </a:lnTo>
                    <a:lnTo>
                      <a:pt x="501" y="513"/>
                    </a:lnTo>
                    <a:lnTo>
                      <a:pt x="481" y="502"/>
                    </a:lnTo>
                    <a:lnTo>
                      <a:pt x="464" y="491"/>
                    </a:lnTo>
                    <a:lnTo>
                      <a:pt x="446" y="481"/>
                    </a:lnTo>
                    <a:lnTo>
                      <a:pt x="431" y="470"/>
                    </a:lnTo>
                    <a:lnTo>
                      <a:pt x="415" y="458"/>
                    </a:lnTo>
                    <a:lnTo>
                      <a:pt x="401" y="447"/>
                    </a:lnTo>
                    <a:lnTo>
                      <a:pt x="389" y="435"/>
                    </a:lnTo>
                    <a:lnTo>
                      <a:pt x="376" y="424"/>
                    </a:lnTo>
                    <a:lnTo>
                      <a:pt x="365" y="411"/>
                    </a:lnTo>
                    <a:lnTo>
                      <a:pt x="353" y="398"/>
                    </a:lnTo>
                    <a:lnTo>
                      <a:pt x="342" y="385"/>
                    </a:lnTo>
                    <a:lnTo>
                      <a:pt x="321" y="358"/>
                    </a:lnTo>
                    <a:lnTo>
                      <a:pt x="299" y="328"/>
                    </a:lnTo>
                    <a:lnTo>
                      <a:pt x="254" y="261"/>
                    </a:lnTo>
                    <a:lnTo>
                      <a:pt x="201" y="186"/>
                    </a:lnTo>
                    <a:lnTo>
                      <a:pt x="169" y="144"/>
                    </a:lnTo>
                    <a:lnTo>
                      <a:pt x="132" y="98"/>
                    </a:lnTo>
                    <a:lnTo>
                      <a:pt x="112" y="75"/>
                    </a:lnTo>
                    <a:lnTo>
                      <a:pt x="90" y="51"/>
                    </a:lnTo>
                    <a:lnTo>
                      <a:pt x="65" y="25"/>
                    </a:lnTo>
                    <a:lnTo>
                      <a:pt x="41" y="0"/>
                    </a:lnTo>
                    <a:lnTo>
                      <a:pt x="0" y="38"/>
                    </a:lnTo>
                    <a:lnTo>
                      <a:pt x="24" y="62"/>
                    </a:lnTo>
                    <a:lnTo>
                      <a:pt x="47" y="88"/>
                    </a:lnTo>
                    <a:lnTo>
                      <a:pt x="68" y="111"/>
                    </a:lnTo>
                    <a:lnTo>
                      <a:pt x="87" y="133"/>
                    </a:lnTo>
                    <a:lnTo>
                      <a:pt x="122" y="178"/>
                    </a:lnTo>
                    <a:lnTo>
                      <a:pt x="154" y="218"/>
                    </a:lnTo>
                    <a:lnTo>
                      <a:pt x="207" y="293"/>
                    </a:lnTo>
                    <a:lnTo>
                      <a:pt x="252" y="359"/>
                    </a:lnTo>
                    <a:lnTo>
                      <a:pt x="274" y="391"/>
                    </a:lnTo>
                    <a:lnTo>
                      <a:pt x="297" y="419"/>
                    </a:lnTo>
                    <a:lnTo>
                      <a:pt x="309" y="434"/>
                    </a:lnTo>
                    <a:lnTo>
                      <a:pt x="322" y="448"/>
                    </a:lnTo>
                    <a:lnTo>
                      <a:pt x="335" y="462"/>
                    </a:lnTo>
                    <a:lnTo>
                      <a:pt x="348" y="475"/>
                    </a:lnTo>
                    <a:lnTo>
                      <a:pt x="364" y="488"/>
                    </a:lnTo>
                    <a:lnTo>
                      <a:pt x="379" y="502"/>
                    </a:lnTo>
                    <a:lnTo>
                      <a:pt x="396" y="514"/>
                    </a:lnTo>
                    <a:lnTo>
                      <a:pt x="413" y="526"/>
                    </a:lnTo>
                    <a:lnTo>
                      <a:pt x="433" y="538"/>
                    </a:lnTo>
                    <a:lnTo>
                      <a:pt x="453" y="551"/>
                    </a:lnTo>
                    <a:lnTo>
                      <a:pt x="474" y="561"/>
                    </a:lnTo>
                    <a:lnTo>
                      <a:pt x="498" y="573"/>
                    </a:lnTo>
                    <a:lnTo>
                      <a:pt x="510" y="576"/>
                    </a:lnTo>
                    <a:lnTo>
                      <a:pt x="498" y="573"/>
                    </a:lnTo>
                    <a:lnTo>
                      <a:pt x="503" y="575"/>
                    </a:lnTo>
                    <a:lnTo>
                      <a:pt x="510" y="576"/>
                    </a:lnTo>
                    <a:lnTo>
                      <a:pt x="515" y="576"/>
                    </a:lnTo>
                    <a:lnTo>
                      <a:pt x="521" y="575"/>
                    </a:lnTo>
                    <a:lnTo>
                      <a:pt x="525" y="572"/>
                    </a:lnTo>
                    <a:lnTo>
                      <a:pt x="529" y="569"/>
                    </a:lnTo>
                    <a:lnTo>
                      <a:pt x="533" y="566"/>
                    </a:lnTo>
                    <a:lnTo>
                      <a:pt x="536" y="560"/>
                    </a:lnTo>
                    <a:lnTo>
                      <a:pt x="537" y="556"/>
                    </a:lnTo>
                    <a:lnTo>
                      <a:pt x="538" y="551"/>
                    </a:lnTo>
                    <a:lnTo>
                      <a:pt x="538" y="545"/>
                    </a:lnTo>
                    <a:lnTo>
                      <a:pt x="538" y="540"/>
                    </a:lnTo>
                    <a:lnTo>
                      <a:pt x="536" y="536"/>
                    </a:lnTo>
                    <a:lnTo>
                      <a:pt x="533" y="531"/>
                    </a:lnTo>
                    <a:lnTo>
                      <a:pt x="528" y="527"/>
                    </a:lnTo>
                    <a:lnTo>
                      <a:pt x="523" y="523"/>
                    </a:lnTo>
                    <a:lnTo>
                      <a:pt x="510" y="52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8" name=""/>
              <p:cNvSpPr/>
              <p:nvPr/>
            </p:nvSpPr>
            <p:spPr>
              <a:xfrm>
                <a:off x="2741400" y="3387600"/>
                <a:ext cx="35280" cy="249480"/>
              </a:xfrm>
              <a:custGeom>
                <a:avLst/>
                <a:gdLst/>
                <a:ahLst/>
                <a:rect l="l" t="t" r="r" b="b"/>
                <a:pathLst>
                  <a:path w="238" h="1226">
                    <a:moveTo>
                      <a:pt x="206" y="0"/>
                    </a:moveTo>
                    <a:lnTo>
                      <a:pt x="208" y="0"/>
                    </a:lnTo>
                    <a:lnTo>
                      <a:pt x="191" y="1"/>
                    </a:lnTo>
                    <a:lnTo>
                      <a:pt x="176" y="5"/>
                    </a:lnTo>
                    <a:lnTo>
                      <a:pt x="162" y="11"/>
                    </a:lnTo>
                    <a:lnTo>
                      <a:pt x="149" y="19"/>
                    </a:lnTo>
                    <a:lnTo>
                      <a:pt x="137" y="30"/>
                    </a:lnTo>
                    <a:lnTo>
                      <a:pt x="127" y="40"/>
                    </a:lnTo>
                    <a:lnTo>
                      <a:pt x="118" y="54"/>
                    </a:lnTo>
                    <a:lnTo>
                      <a:pt x="110" y="68"/>
                    </a:lnTo>
                    <a:lnTo>
                      <a:pt x="105" y="83"/>
                    </a:lnTo>
                    <a:lnTo>
                      <a:pt x="99" y="98"/>
                    </a:lnTo>
                    <a:lnTo>
                      <a:pt x="95" y="115"/>
                    </a:lnTo>
                    <a:lnTo>
                      <a:pt x="92" y="133"/>
                    </a:lnTo>
                    <a:lnTo>
                      <a:pt x="88" y="151"/>
                    </a:lnTo>
                    <a:lnTo>
                      <a:pt x="86" y="170"/>
                    </a:lnTo>
                    <a:lnTo>
                      <a:pt x="85" y="190"/>
                    </a:lnTo>
                    <a:lnTo>
                      <a:pt x="84" y="211"/>
                    </a:lnTo>
                    <a:lnTo>
                      <a:pt x="83" y="254"/>
                    </a:lnTo>
                    <a:lnTo>
                      <a:pt x="84" y="301"/>
                    </a:lnTo>
                    <a:lnTo>
                      <a:pt x="87" y="350"/>
                    </a:lnTo>
                    <a:lnTo>
                      <a:pt x="91" y="401"/>
                    </a:lnTo>
                    <a:lnTo>
                      <a:pt x="99" y="507"/>
                    </a:lnTo>
                    <a:lnTo>
                      <a:pt x="109" y="616"/>
                    </a:lnTo>
                    <a:lnTo>
                      <a:pt x="115" y="670"/>
                    </a:lnTo>
                    <a:lnTo>
                      <a:pt x="118" y="724"/>
                    </a:lnTo>
                    <a:lnTo>
                      <a:pt x="122" y="777"/>
                    </a:lnTo>
                    <a:lnTo>
                      <a:pt x="125" y="829"/>
                    </a:lnTo>
                    <a:lnTo>
                      <a:pt x="126" y="879"/>
                    </a:lnTo>
                    <a:lnTo>
                      <a:pt x="125" y="926"/>
                    </a:lnTo>
                    <a:lnTo>
                      <a:pt x="123" y="948"/>
                    </a:lnTo>
                    <a:lnTo>
                      <a:pt x="122" y="970"/>
                    </a:lnTo>
                    <a:lnTo>
                      <a:pt x="120" y="991"/>
                    </a:lnTo>
                    <a:lnTo>
                      <a:pt x="118" y="1011"/>
                    </a:lnTo>
                    <a:lnTo>
                      <a:pt x="115" y="1030"/>
                    </a:lnTo>
                    <a:lnTo>
                      <a:pt x="111" y="1048"/>
                    </a:lnTo>
                    <a:lnTo>
                      <a:pt x="107" y="1065"/>
                    </a:lnTo>
                    <a:lnTo>
                      <a:pt x="103" y="1081"/>
                    </a:lnTo>
                    <a:lnTo>
                      <a:pt x="97" y="1096"/>
                    </a:lnTo>
                    <a:lnTo>
                      <a:pt x="91" y="1110"/>
                    </a:lnTo>
                    <a:lnTo>
                      <a:pt x="85" y="1121"/>
                    </a:lnTo>
                    <a:lnTo>
                      <a:pt x="77" y="1132"/>
                    </a:lnTo>
                    <a:lnTo>
                      <a:pt x="71" y="1140"/>
                    </a:lnTo>
                    <a:lnTo>
                      <a:pt x="62" y="1149"/>
                    </a:lnTo>
                    <a:lnTo>
                      <a:pt x="54" y="1155"/>
                    </a:lnTo>
                    <a:lnTo>
                      <a:pt x="45" y="1160"/>
                    </a:lnTo>
                    <a:lnTo>
                      <a:pt x="36" y="1165"/>
                    </a:lnTo>
                    <a:lnTo>
                      <a:pt x="25" y="1168"/>
                    </a:lnTo>
                    <a:lnTo>
                      <a:pt x="13" y="1170"/>
                    </a:lnTo>
                    <a:lnTo>
                      <a:pt x="0" y="1171"/>
                    </a:lnTo>
                    <a:lnTo>
                      <a:pt x="0" y="1226"/>
                    </a:lnTo>
                    <a:lnTo>
                      <a:pt x="19" y="1225"/>
                    </a:lnTo>
                    <a:lnTo>
                      <a:pt x="38" y="1222"/>
                    </a:lnTo>
                    <a:lnTo>
                      <a:pt x="56" y="1217"/>
                    </a:lnTo>
                    <a:lnTo>
                      <a:pt x="72" y="1209"/>
                    </a:lnTo>
                    <a:lnTo>
                      <a:pt x="87" y="1200"/>
                    </a:lnTo>
                    <a:lnTo>
                      <a:pt x="100" y="1189"/>
                    </a:lnTo>
                    <a:lnTo>
                      <a:pt x="114" y="1177"/>
                    </a:lnTo>
                    <a:lnTo>
                      <a:pt x="125" y="1164"/>
                    </a:lnTo>
                    <a:lnTo>
                      <a:pt x="134" y="1149"/>
                    </a:lnTo>
                    <a:lnTo>
                      <a:pt x="143" y="1133"/>
                    </a:lnTo>
                    <a:lnTo>
                      <a:pt x="151" y="1116"/>
                    </a:lnTo>
                    <a:lnTo>
                      <a:pt x="157" y="1098"/>
                    </a:lnTo>
                    <a:lnTo>
                      <a:pt x="163" y="1080"/>
                    </a:lnTo>
                    <a:lnTo>
                      <a:pt x="167" y="1060"/>
                    </a:lnTo>
                    <a:lnTo>
                      <a:pt x="172" y="1040"/>
                    </a:lnTo>
                    <a:lnTo>
                      <a:pt x="175" y="1018"/>
                    </a:lnTo>
                    <a:lnTo>
                      <a:pt x="177" y="996"/>
                    </a:lnTo>
                    <a:lnTo>
                      <a:pt x="179" y="974"/>
                    </a:lnTo>
                    <a:lnTo>
                      <a:pt x="182" y="951"/>
                    </a:lnTo>
                    <a:lnTo>
                      <a:pt x="182" y="927"/>
                    </a:lnTo>
                    <a:lnTo>
                      <a:pt x="183" y="879"/>
                    </a:lnTo>
                    <a:lnTo>
                      <a:pt x="182" y="827"/>
                    </a:lnTo>
                    <a:lnTo>
                      <a:pt x="179" y="775"/>
                    </a:lnTo>
                    <a:lnTo>
                      <a:pt x="176" y="721"/>
                    </a:lnTo>
                    <a:lnTo>
                      <a:pt x="172" y="666"/>
                    </a:lnTo>
                    <a:lnTo>
                      <a:pt x="166" y="612"/>
                    </a:lnTo>
                    <a:lnTo>
                      <a:pt x="156" y="502"/>
                    </a:lnTo>
                    <a:lnTo>
                      <a:pt x="148" y="397"/>
                    </a:lnTo>
                    <a:lnTo>
                      <a:pt x="144" y="347"/>
                    </a:lnTo>
                    <a:lnTo>
                      <a:pt x="142" y="299"/>
                    </a:lnTo>
                    <a:lnTo>
                      <a:pt x="141" y="254"/>
                    </a:lnTo>
                    <a:lnTo>
                      <a:pt x="141" y="212"/>
                    </a:lnTo>
                    <a:lnTo>
                      <a:pt x="142" y="193"/>
                    </a:lnTo>
                    <a:lnTo>
                      <a:pt x="143" y="175"/>
                    </a:lnTo>
                    <a:lnTo>
                      <a:pt x="145" y="158"/>
                    </a:lnTo>
                    <a:lnTo>
                      <a:pt x="148" y="141"/>
                    </a:lnTo>
                    <a:lnTo>
                      <a:pt x="151" y="126"/>
                    </a:lnTo>
                    <a:lnTo>
                      <a:pt x="154" y="112"/>
                    </a:lnTo>
                    <a:lnTo>
                      <a:pt x="159" y="101"/>
                    </a:lnTo>
                    <a:lnTo>
                      <a:pt x="163" y="90"/>
                    </a:lnTo>
                    <a:lnTo>
                      <a:pt x="167" y="81"/>
                    </a:lnTo>
                    <a:lnTo>
                      <a:pt x="173" y="73"/>
                    </a:lnTo>
                    <a:lnTo>
                      <a:pt x="178" y="68"/>
                    </a:lnTo>
                    <a:lnTo>
                      <a:pt x="183" y="64"/>
                    </a:lnTo>
                    <a:lnTo>
                      <a:pt x="188" y="59"/>
                    </a:lnTo>
                    <a:lnTo>
                      <a:pt x="195" y="57"/>
                    </a:lnTo>
                    <a:lnTo>
                      <a:pt x="201" y="56"/>
                    </a:lnTo>
                    <a:lnTo>
                      <a:pt x="209" y="55"/>
                    </a:lnTo>
                    <a:lnTo>
                      <a:pt x="211" y="55"/>
                    </a:lnTo>
                    <a:lnTo>
                      <a:pt x="209" y="55"/>
                    </a:lnTo>
                    <a:lnTo>
                      <a:pt x="216" y="54"/>
                    </a:lnTo>
                    <a:lnTo>
                      <a:pt x="221" y="52"/>
                    </a:lnTo>
                    <a:lnTo>
                      <a:pt x="227" y="50"/>
                    </a:lnTo>
                    <a:lnTo>
                      <a:pt x="230" y="46"/>
                    </a:lnTo>
                    <a:lnTo>
                      <a:pt x="233" y="41"/>
                    </a:lnTo>
                    <a:lnTo>
                      <a:pt x="235" y="37"/>
                    </a:lnTo>
                    <a:lnTo>
                      <a:pt x="236" y="32"/>
                    </a:lnTo>
                    <a:lnTo>
                      <a:pt x="238" y="27"/>
                    </a:lnTo>
                    <a:lnTo>
                      <a:pt x="236" y="22"/>
                    </a:lnTo>
                    <a:lnTo>
                      <a:pt x="235" y="17"/>
                    </a:lnTo>
                    <a:lnTo>
                      <a:pt x="233" y="12"/>
                    </a:lnTo>
                    <a:lnTo>
                      <a:pt x="230" y="9"/>
                    </a:lnTo>
                    <a:lnTo>
                      <a:pt x="225" y="4"/>
                    </a:lnTo>
                    <a:lnTo>
                      <a:pt x="221" y="2"/>
                    </a:lnTo>
                    <a:lnTo>
                      <a:pt x="215" y="0"/>
                    </a:lnTo>
                    <a:lnTo>
                      <a:pt x="208" y="0"/>
                    </a:lnTo>
                    <a:lnTo>
                      <a:pt x="206"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29" name=""/>
              <p:cNvSpPr/>
              <p:nvPr/>
            </p:nvSpPr>
            <p:spPr>
              <a:xfrm>
                <a:off x="2772360" y="3387600"/>
                <a:ext cx="144000" cy="19440"/>
              </a:xfrm>
              <a:custGeom>
                <a:avLst/>
                <a:gdLst/>
                <a:ahLst/>
                <a:rect l="l" t="t" r="r" b="b"/>
                <a:pathLst>
                  <a:path w="1004" h="99">
                    <a:moveTo>
                      <a:pt x="967" y="43"/>
                    </a:moveTo>
                    <a:lnTo>
                      <a:pt x="946" y="70"/>
                    </a:lnTo>
                    <a:lnTo>
                      <a:pt x="966" y="44"/>
                    </a:lnTo>
                    <a:lnTo>
                      <a:pt x="958" y="44"/>
                    </a:lnTo>
                    <a:lnTo>
                      <a:pt x="946" y="44"/>
                    </a:lnTo>
                    <a:lnTo>
                      <a:pt x="912" y="42"/>
                    </a:lnTo>
                    <a:lnTo>
                      <a:pt x="866" y="39"/>
                    </a:lnTo>
                    <a:lnTo>
                      <a:pt x="745" y="30"/>
                    </a:lnTo>
                    <a:lnTo>
                      <a:pt x="600" y="19"/>
                    </a:lnTo>
                    <a:lnTo>
                      <a:pt x="520" y="14"/>
                    </a:lnTo>
                    <a:lnTo>
                      <a:pt x="438" y="9"/>
                    </a:lnTo>
                    <a:lnTo>
                      <a:pt x="357" y="5"/>
                    </a:lnTo>
                    <a:lnTo>
                      <a:pt x="277" y="2"/>
                    </a:lnTo>
                    <a:lnTo>
                      <a:pt x="199" y="0"/>
                    </a:lnTo>
                    <a:lnTo>
                      <a:pt x="127" y="0"/>
                    </a:lnTo>
                    <a:lnTo>
                      <a:pt x="92" y="1"/>
                    </a:lnTo>
                    <a:lnTo>
                      <a:pt x="60" y="2"/>
                    </a:lnTo>
                    <a:lnTo>
                      <a:pt x="28" y="3"/>
                    </a:lnTo>
                    <a:lnTo>
                      <a:pt x="0" y="6"/>
                    </a:lnTo>
                    <a:lnTo>
                      <a:pt x="5" y="61"/>
                    </a:lnTo>
                    <a:lnTo>
                      <a:pt x="33" y="59"/>
                    </a:lnTo>
                    <a:lnTo>
                      <a:pt x="62" y="57"/>
                    </a:lnTo>
                    <a:lnTo>
                      <a:pt x="94" y="56"/>
                    </a:lnTo>
                    <a:lnTo>
                      <a:pt x="127" y="55"/>
                    </a:lnTo>
                    <a:lnTo>
                      <a:pt x="199" y="55"/>
                    </a:lnTo>
                    <a:lnTo>
                      <a:pt x="275" y="57"/>
                    </a:lnTo>
                    <a:lnTo>
                      <a:pt x="355" y="60"/>
                    </a:lnTo>
                    <a:lnTo>
                      <a:pt x="435" y="64"/>
                    </a:lnTo>
                    <a:lnTo>
                      <a:pt x="516" y="69"/>
                    </a:lnTo>
                    <a:lnTo>
                      <a:pt x="595" y="74"/>
                    </a:lnTo>
                    <a:lnTo>
                      <a:pt x="741" y="86"/>
                    </a:lnTo>
                    <a:lnTo>
                      <a:pt x="862" y="94"/>
                    </a:lnTo>
                    <a:lnTo>
                      <a:pt x="909" y="97"/>
                    </a:lnTo>
                    <a:lnTo>
                      <a:pt x="944" y="99"/>
                    </a:lnTo>
                    <a:lnTo>
                      <a:pt x="958" y="99"/>
                    </a:lnTo>
                    <a:lnTo>
                      <a:pt x="969" y="99"/>
                    </a:lnTo>
                    <a:lnTo>
                      <a:pt x="981" y="97"/>
                    </a:lnTo>
                    <a:lnTo>
                      <a:pt x="1004" y="70"/>
                    </a:lnTo>
                    <a:lnTo>
                      <a:pt x="983" y="96"/>
                    </a:lnTo>
                    <a:lnTo>
                      <a:pt x="1004" y="70"/>
                    </a:lnTo>
                    <a:lnTo>
                      <a:pt x="1003" y="63"/>
                    </a:lnTo>
                    <a:lnTo>
                      <a:pt x="1002" y="57"/>
                    </a:lnTo>
                    <a:lnTo>
                      <a:pt x="999" y="53"/>
                    </a:lnTo>
                    <a:lnTo>
                      <a:pt x="995" y="48"/>
                    </a:lnTo>
                    <a:lnTo>
                      <a:pt x="991" y="45"/>
                    </a:lnTo>
                    <a:lnTo>
                      <a:pt x="986" y="43"/>
                    </a:lnTo>
                    <a:lnTo>
                      <a:pt x="981" y="42"/>
                    </a:lnTo>
                    <a:lnTo>
                      <a:pt x="976" y="42"/>
                    </a:lnTo>
                    <a:lnTo>
                      <a:pt x="970" y="42"/>
                    </a:lnTo>
                    <a:lnTo>
                      <a:pt x="965" y="43"/>
                    </a:lnTo>
                    <a:lnTo>
                      <a:pt x="960" y="45"/>
                    </a:lnTo>
                    <a:lnTo>
                      <a:pt x="956" y="48"/>
                    </a:lnTo>
                    <a:lnTo>
                      <a:pt x="952" y="53"/>
                    </a:lnTo>
                    <a:lnTo>
                      <a:pt x="949" y="57"/>
                    </a:lnTo>
                    <a:lnTo>
                      <a:pt x="947" y="63"/>
                    </a:lnTo>
                    <a:lnTo>
                      <a:pt x="946" y="70"/>
                    </a:lnTo>
                    <a:lnTo>
                      <a:pt x="967" y="43"/>
                    </a:lnTo>
                    <a:close/>
                  </a:path>
                </a:pathLst>
              </a:custGeom>
              <a:solidFill>
                <a:srgbClr val="000000"/>
              </a:solidFill>
              <a:ln w="0">
                <a:noFill/>
              </a:ln>
            </p:spPr>
            <p:style>
              <a:lnRef idx="0"/>
              <a:fillRef idx="0"/>
              <a:effectRef idx="0"/>
              <a:fontRef idx="minor"/>
            </p:style>
            <p:txBody>
              <a:bodyPr wrap="none" lIns="93240" rIns="93240" tIns="-27000" bIns="-27000" anchor="t">
                <a:spAutoFit/>
              </a:bodyPr>
              <a:p>
                <a:endParaRPr b="0" lang="en-US" sz="2400" spc="-1" strike="noStrike">
                  <a:solidFill>
                    <a:srgbClr val="ffffff"/>
                  </a:solidFill>
                  <a:latin typeface="Times New Roman"/>
                </a:endParaRPr>
              </a:p>
            </p:txBody>
          </p:sp>
          <p:sp>
            <p:nvSpPr>
              <p:cNvPr id="430" name=""/>
              <p:cNvSpPr/>
              <p:nvPr/>
            </p:nvSpPr>
            <p:spPr>
              <a:xfrm>
                <a:off x="2911320" y="3186720"/>
                <a:ext cx="72720" cy="218880"/>
              </a:xfrm>
              <a:custGeom>
                <a:avLst/>
                <a:gdLst/>
                <a:ahLst/>
                <a:rect l="l" t="t" r="r" b="b"/>
                <a:pathLst>
                  <a:path w="512" h="1090">
                    <a:moveTo>
                      <a:pt x="24" y="28"/>
                    </a:moveTo>
                    <a:lnTo>
                      <a:pt x="50" y="55"/>
                    </a:lnTo>
                    <a:lnTo>
                      <a:pt x="84" y="58"/>
                    </a:lnTo>
                    <a:lnTo>
                      <a:pt x="116" y="63"/>
                    </a:lnTo>
                    <a:lnTo>
                      <a:pt x="146" y="69"/>
                    </a:lnTo>
                    <a:lnTo>
                      <a:pt x="174" y="76"/>
                    </a:lnTo>
                    <a:lnTo>
                      <a:pt x="202" y="84"/>
                    </a:lnTo>
                    <a:lnTo>
                      <a:pt x="227" y="92"/>
                    </a:lnTo>
                    <a:lnTo>
                      <a:pt x="251" y="102"/>
                    </a:lnTo>
                    <a:lnTo>
                      <a:pt x="273" y="112"/>
                    </a:lnTo>
                    <a:lnTo>
                      <a:pt x="294" y="123"/>
                    </a:lnTo>
                    <a:lnTo>
                      <a:pt x="312" y="134"/>
                    </a:lnTo>
                    <a:lnTo>
                      <a:pt x="331" y="147"/>
                    </a:lnTo>
                    <a:lnTo>
                      <a:pt x="348" y="160"/>
                    </a:lnTo>
                    <a:lnTo>
                      <a:pt x="362" y="174"/>
                    </a:lnTo>
                    <a:lnTo>
                      <a:pt x="376" y="187"/>
                    </a:lnTo>
                    <a:lnTo>
                      <a:pt x="389" y="202"/>
                    </a:lnTo>
                    <a:lnTo>
                      <a:pt x="400" y="218"/>
                    </a:lnTo>
                    <a:lnTo>
                      <a:pt x="410" y="234"/>
                    </a:lnTo>
                    <a:lnTo>
                      <a:pt x="420" y="250"/>
                    </a:lnTo>
                    <a:lnTo>
                      <a:pt x="428" y="267"/>
                    </a:lnTo>
                    <a:lnTo>
                      <a:pt x="434" y="285"/>
                    </a:lnTo>
                    <a:lnTo>
                      <a:pt x="441" y="302"/>
                    </a:lnTo>
                    <a:lnTo>
                      <a:pt x="445" y="321"/>
                    </a:lnTo>
                    <a:lnTo>
                      <a:pt x="450" y="339"/>
                    </a:lnTo>
                    <a:lnTo>
                      <a:pt x="452" y="358"/>
                    </a:lnTo>
                    <a:lnTo>
                      <a:pt x="454" y="378"/>
                    </a:lnTo>
                    <a:lnTo>
                      <a:pt x="455" y="398"/>
                    </a:lnTo>
                    <a:lnTo>
                      <a:pt x="455" y="418"/>
                    </a:lnTo>
                    <a:lnTo>
                      <a:pt x="454" y="439"/>
                    </a:lnTo>
                    <a:lnTo>
                      <a:pt x="452" y="460"/>
                    </a:lnTo>
                    <a:lnTo>
                      <a:pt x="450" y="480"/>
                    </a:lnTo>
                    <a:lnTo>
                      <a:pt x="446" y="501"/>
                    </a:lnTo>
                    <a:lnTo>
                      <a:pt x="442" y="522"/>
                    </a:lnTo>
                    <a:lnTo>
                      <a:pt x="436" y="543"/>
                    </a:lnTo>
                    <a:lnTo>
                      <a:pt x="430" y="565"/>
                    </a:lnTo>
                    <a:lnTo>
                      <a:pt x="423" y="586"/>
                    </a:lnTo>
                    <a:lnTo>
                      <a:pt x="416" y="607"/>
                    </a:lnTo>
                    <a:lnTo>
                      <a:pt x="407" y="628"/>
                    </a:lnTo>
                    <a:lnTo>
                      <a:pt x="398" y="649"/>
                    </a:lnTo>
                    <a:lnTo>
                      <a:pt x="388" y="671"/>
                    </a:lnTo>
                    <a:lnTo>
                      <a:pt x="377" y="691"/>
                    </a:lnTo>
                    <a:lnTo>
                      <a:pt x="366" y="711"/>
                    </a:lnTo>
                    <a:lnTo>
                      <a:pt x="355" y="732"/>
                    </a:lnTo>
                    <a:lnTo>
                      <a:pt x="342" y="751"/>
                    </a:lnTo>
                    <a:lnTo>
                      <a:pt x="330" y="771"/>
                    </a:lnTo>
                    <a:lnTo>
                      <a:pt x="316" y="790"/>
                    </a:lnTo>
                    <a:lnTo>
                      <a:pt x="303" y="809"/>
                    </a:lnTo>
                    <a:lnTo>
                      <a:pt x="288" y="827"/>
                    </a:lnTo>
                    <a:lnTo>
                      <a:pt x="273" y="845"/>
                    </a:lnTo>
                    <a:lnTo>
                      <a:pt x="258" y="862"/>
                    </a:lnTo>
                    <a:lnTo>
                      <a:pt x="242" y="879"/>
                    </a:lnTo>
                    <a:lnTo>
                      <a:pt x="227" y="895"/>
                    </a:lnTo>
                    <a:lnTo>
                      <a:pt x="210" y="911"/>
                    </a:lnTo>
                    <a:lnTo>
                      <a:pt x="194" y="926"/>
                    </a:lnTo>
                    <a:lnTo>
                      <a:pt x="176" y="941"/>
                    </a:lnTo>
                    <a:lnTo>
                      <a:pt x="160" y="953"/>
                    </a:lnTo>
                    <a:lnTo>
                      <a:pt x="142" y="966"/>
                    </a:lnTo>
                    <a:lnTo>
                      <a:pt x="125" y="979"/>
                    </a:lnTo>
                    <a:lnTo>
                      <a:pt x="107" y="990"/>
                    </a:lnTo>
                    <a:lnTo>
                      <a:pt x="90" y="1000"/>
                    </a:lnTo>
                    <a:lnTo>
                      <a:pt x="71" y="1009"/>
                    </a:lnTo>
                    <a:lnTo>
                      <a:pt x="54" y="1017"/>
                    </a:lnTo>
                    <a:lnTo>
                      <a:pt x="36" y="1024"/>
                    </a:lnTo>
                    <a:lnTo>
                      <a:pt x="19" y="1032"/>
                    </a:lnTo>
                    <a:lnTo>
                      <a:pt x="0" y="1037"/>
                    </a:lnTo>
                    <a:lnTo>
                      <a:pt x="16" y="1090"/>
                    </a:lnTo>
                    <a:lnTo>
                      <a:pt x="37" y="1084"/>
                    </a:lnTo>
                    <a:lnTo>
                      <a:pt x="57" y="1076"/>
                    </a:lnTo>
                    <a:lnTo>
                      <a:pt x="78" y="1068"/>
                    </a:lnTo>
                    <a:lnTo>
                      <a:pt x="98" y="1058"/>
                    </a:lnTo>
                    <a:lnTo>
                      <a:pt x="117" y="1048"/>
                    </a:lnTo>
                    <a:lnTo>
                      <a:pt x="137" y="1036"/>
                    </a:lnTo>
                    <a:lnTo>
                      <a:pt x="157" y="1024"/>
                    </a:lnTo>
                    <a:lnTo>
                      <a:pt x="176" y="1011"/>
                    </a:lnTo>
                    <a:lnTo>
                      <a:pt x="195" y="997"/>
                    </a:lnTo>
                    <a:lnTo>
                      <a:pt x="214" y="982"/>
                    </a:lnTo>
                    <a:lnTo>
                      <a:pt x="232" y="967"/>
                    </a:lnTo>
                    <a:lnTo>
                      <a:pt x="250" y="951"/>
                    </a:lnTo>
                    <a:lnTo>
                      <a:pt x="267" y="934"/>
                    </a:lnTo>
                    <a:lnTo>
                      <a:pt x="284" y="916"/>
                    </a:lnTo>
                    <a:lnTo>
                      <a:pt x="301" y="899"/>
                    </a:lnTo>
                    <a:lnTo>
                      <a:pt x="317" y="880"/>
                    </a:lnTo>
                    <a:lnTo>
                      <a:pt x="333" y="861"/>
                    </a:lnTo>
                    <a:lnTo>
                      <a:pt x="349" y="842"/>
                    </a:lnTo>
                    <a:lnTo>
                      <a:pt x="363" y="822"/>
                    </a:lnTo>
                    <a:lnTo>
                      <a:pt x="377" y="801"/>
                    </a:lnTo>
                    <a:lnTo>
                      <a:pt x="391" y="781"/>
                    </a:lnTo>
                    <a:lnTo>
                      <a:pt x="405" y="760"/>
                    </a:lnTo>
                    <a:lnTo>
                      <a:pt x="417" y="737"/>
                    </a:lnTo>
                    <a:lnTo>
                      <a:pt x="429" y="716"/>
                    </a:lnTo>
                    <a:lnTo>
                      <a:pt x="440" y="694"/>
                    </a:lnTo>
                    <a:lnTo>
                      <a:pt x="451" y="672"/>
                    </a:lnTo>
                    <a:lnTo>
                      <a:pt x="460" y="649"/>
                    </a:lnTo>
                    <a:lnTo>
                      <a:pt x="469" y="626"/>
                    </a:lnTo>
                    <a:lnTo>
                      <a:pt x="477" y="603"/>
                    </a:lnTo>
                    <a:lnTo>
                      <a:pt x="485" y="581"/>
                    </a:lnTo>
                    <a:lnTo>
                      <a:pt x="491" y="557"/>
                    </a:lnTo>
                    <a:lnTo>
                      <a:pt x="498" y="534"/>
                    </a:lnTo>
                    <a:lnTo>
                      <a:pt x="502" y="512"/>
                    </a:lnTo>
                    <a:lnTo>
                      <a:pt x="507" y="488"/>
                    </a:lnTo>
                    <a:lnTo>
                      <a:pt x="509" y="465"/>
                    </a:lnTo>
                    <a:lnTo>
                      <a:pt x="511" y="442"/>
                    </a:lnTo>
                    <a:lnTo>
                      <a:pt x="512" y="419"/>
                    </a:lnTo>
                    <a:lnTo>
                      <a:pt x="512" y="397"/>
                    </a:lnTo>
                    <a:lnTo>
                      <a:pt x="511" y="374"/>
                    </a:lnTo>
                    <a:lnTo>
                      <a:pt x="509" y="352"/>
                    </a:lnTo>
                    <a:lnTo>
                      <a:pt x="505" y="330"/>
                    </a:lnTo>
                    <a:lnTo>
                      <a:pt x="501" y="308"/>
                    </a:lnTo>
                    <a:lnTo>
                      <a:pt x="496" y="287"/>
                    </a:lnTo>
                    <a:lnTo>
                      <a:pt x="489" y="266"/>
                    </a:lnTo>
                    <a:lnTo>
                      <a:pt x="480" y="246"/>
                    </a:lnTo>
                    <a:lnTo>
                      <a:pt x="471" y="226"/>
                    </a:lnTo>
                    <a:lnTo>
                      <a:pt x="460" y="205"/>
                    </a:lnTo>
                    <a:lnTo>
                      <a:pt x="447" y="186"/>
                    </a:lnTo>
                    <a:lnTo>
                      <a:pt x="434" y="168"/>
                    </a:lnTo>
                    <a:lnTo>
                      <a:pt x="419" y="151"/>
                    </a:lnTo>
                    <a:lnTo>
                      <a:pt x="402" y="134"/>
                    </a:lnTo>
                    <a:lnTo>
                      <a:pt x="385" y="117"/>
                    </a:lnTo>
                    <a:lnTo>
                      <a:pt x="365" y="103"/>
                    </a:lnTo>
                    <a:lnTo>
                      <a:pt x="344" y="88"/>
                    </a:lnTo>
                    <a:lnTo>
                      <a:pt x="322" y="75"/>
                    </a:lnTo>
                    <a:lnTo>
                      <a:pt x="299" y="62"/>
                    </a:lnTo>
                    <a:lnTo>
                      <a:pt x="274" y="51"/>
                    </a:lnTo>
                    <a:lnTo>
                      <a:pt x="247" y="40"/>
                    </a:lnTo>
                    <a:lnTo>
                      <a:pt x="219" y="31"/>
                    </a:lnTo>
                    <a:lnTo>
                      <a:pt x="190" y="22"/>
                    </a:lnTo>
                    <a:lnTo>
                      <a:pt x="158" y="15"/>
                    </a:lnTo>
                    <a:lnTo>
                      <a:pt x="126" y="8"/>
                    </a:lnTo>
                    <a:lnTo>
                      <a:pt x="91" y="4"/>
                    </a:lnTo>
                    <a:lnTo>
                      <a:pt x="56" y="0"/>
                    </a:lnTo>
                    <a:lnTo>
                      <a:pt x="81" y="25"/>
                    </a:lnTo>
                    <a:lnTo>
                      <a:pt x="56" y="0"/>
                    </a:lnTo>
                    <a:lnTo>
                      <a:pt x="49" y="0"/>
                    </a:lnTo>
                    <a:lnTo>
                      <a:pt x="43" y="1"/>
                    </a:lnTo>
                    <a:lnTo>
                      <a:pt x="37" y="3"/>
                    </a:lnTo>
                    <a:lnTo>
                      <a:pt x="33" y="6"/>
                    </a:lnTo>
                    <a:lnTo>
                      <a:pt x="30" y="10"/>
                    </a:lnTo>
                    <a:lnTo>
                      <a:pt x="27" y="15"/>
                    </a:lnTo>
                    <a:lnTo>
                      <a:pt x="25" y="20"/>
                    </a:lnTo>
                    <a:lnTo>
                      <a:pt x="24" y="24"/>
                    </a:lnTo>
                    <a:lnTo>
                      <a:pt x="24" y="29"/>
                    </a:lnTo>
                    <a:lnTo>
                      <a:pt x="25" y="35"/>
                    </a:lnTo>
                    <a:lnTo>
                      <a:pt x="27" y="40"/>
                    </a:lnTo>
                    <a:lnTo>
                      <a:pt x="30" y="44"/>
                    </a:lnTo>
                    <a:lnTo>
                      <a:pt x="33" y="49"/>
                    </a:lnTo>
                    <a:lnTo>
                      <a:pt x="38" y="52"/>
                    </a:lnTo>
                    <a:lnTo>
                      <a:pt x="44" y="54"/>
                    </a:lnTo>
                    <a:lnTo>
                      <a:pt x="50" y="55"/>
                    </a:lnTo>
                    <a:lnTo>
                      <a:pt x="24"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1" name=""/>
              <p:cNvSpPr/>
              <p:nvPr/>
            </p:nvSpPr>
            <p:spPr>
              <a:xfrm>
                <a:off x="2615040" y="2799360"/>
                <a:ext cx="307800" cy="392760"/>
              </a:xfrm>
              <a:custGeom>
                <a:avLst/>
                <a:gdLst/>
                <a:ahLst/>
                <a:rect l="l" t="t" r="r" b="b"/>
                <a:pathLst>
                  <a:path w="2134" h="1942">
                    <a:moveTo>
                      <a:pt x="32" y="64"/>
                    </a:moveTo>
                    <a:lnTo>
                      <a:pt x="31" y="64"/>
                    </a:lnTo>
                    <a:lnTo>
                      <a:pt x="81" y="61"/>
                    </a:lnTo>
                    <a:lnTo>
                      <a:pt x="131" y="58"/>
                    </a:lnTo>
                    <a:lnTo>
                      <a:pt x="179" y="56"/>
                    </a:lnTo>
                    <a:lnTo>
                      <a:pt x="227" y="55"/>
                    </a:lnTo>
                    <a:lnTo>
                      <a:pt x="274" y="55"/>
                    </a:lnTo>
                    <a:lnTo>
                      <a:pt x="320" y="55"/>
                    </a:lnTo>
                    <a:lnTo>
                      <a:pt x="365" y="56"/>
                    </a:lnTo>
                    <a:lnTo>
                      <a:pt x="410" y="58"/>
                    </a:lnTo>
                    <a:lnTo>
                      <a:pt x="454" y="61"/>
                    </a:lnTo>
                    <a:lnTo>
                      <a:pt x="497" y="64"/>
                    </a:lnTo>
                    <a:lnTo>
                      <a:pt x="540" y="68"/>
                    </a:lnTo>
                    <a:lnTo>
                      <a:pt x="581" y="72"/>
                    </a:lnTo>
                    <a:lnTo>
                      <a:pt x="622" y="77"/>
                    </a:lnTo>
                    <a:lnTo>
                      <a:pt x="661" y="84"/>
                    </a:lnTo>
                    <a:lnTo>
                      <a:pt x="701" y="90"/>
                    </a:lnTo>
                    <a:lnTo>
                      <a:pt x="739" y="97"/>
                    </a:lnTo>
                    <a:lnTo>
                      <a:pt x="778" y="104"/>
                    </a:lnTo>
                    <a:lnTo>
                      <a:pt x="814" y="112"/>
                    </a:lnTo>
                    <a:lnTo>
                      <a:pt x="850" y="121"/>
                    </a:lnTo>
                    <a:lnTo>
                      <a:pt x="886" y="130"/>
                    </a:lnTo>
                    <a:lnTo>
                      <a:pt x="921" y="141"/>
                    </a:lnTo>
                    <a:lnTo>
                      <a:pt x="955" y="151"/>
                    </a:lnTo>
                    <a:lnTo>
                      <a:pt x="988" y="161"/>
                    </a:lnTo>
                    <a:lnTo>
                      <a:pt x="1021" y="173"/>
                    </a:lnTo>
                    <a:lnTo>
                      <a:pt x="1053" y="186"/>
                    </a:lnTo>
                    <a:lnTo>
                      <a:pt x="1085" y="197"/>
                    </a:lnTo>
                    <a:lnTo>
                      <a:pt x="1115" y="210"/>
                    </a:lnTo>
                    <a:lnTo>
                      <a:pt x="1146" y="224"/>
                    </a:lnTo>
                    <a:lnTo>
                      <a:pt x="1176" y="237"/>
                    </a:lnTo>
                    <a:lnTo>
                      <a:pt x="1204" y="251"/>
                    </a:lnTo>
                    <a:lnTo>
                      <a:pt x="1233" y="266"/>
                    </a:lnTo>
                    <a:lnTo>
                      <a:pt x="1260" y="281"/>
                    </a:lnTo>
                    <a:lnTo>
                      <a:pt x="1286" y="297"/>
                    </a:lnTo>
                    <a:lnTo>
                      <a:pt x="1313" y="313"/>
                    </a:lnTo>
                    <a:lnTo>
                      <a:pt x="1339" y="329"/>
                    </a:lnTo>
                    <a:lnTo>
                      <a:pt x="1364" y="346"/>
                    </a:lnTo>
                    <a:lnTo>
                      <a:pt x="1388" y="363"/>
                    </a:lnTo>
                    <a:lnTo>
                      <a:pt x="1413" y="379"/>
                    </a:lnTo>
                    <a:lnTo>
                      <a:pt x="1437" y="398"/>
                    </a:lnTo>
                    <a:lnTo>
                      <a:pt x="1459" y="416"/>
                    </a:lnTo>
                    <a:lnTo>
                      <a:pt x="1504" y="452"/>
                    </a:lnTo>
                    <a:lnTo>
                      <a:pt x="1545" y="490"/>
                    </a:lnTo>
                    <a:lnTo>
                      <a:pt x="1586" y="529"/>
                    </a:lnTo>
                    <a:lnTo>
                      <a:pt x="1623" y="569"/>
                    </a:lnTo>
                    <a:lnTo>
                      <a:pt x="1659" y="610"/>
                    </a:lnTo>
                    <a:lnTo>
                      <a:pt x="1693" y="652"/>
                    </a:lnTo>
                    <a:lnTo>
                      <a:pt x="1725" y="695"/>
                    </a:lnTo>
                    <a:lnTo>
                      <a:pt x="1756" y="738"/>
                    </a:lnTo>
                    <a:lnTo>
                      <a:pt x="1784" y="782"/>
                    </a:lnTo>
                    <a:lnTo>
                      <a:pt x="1811" y="826"/>
                    </a:lnTo>
                    <a:lnTo>
                      <a:pt x="1836" y="871"/>
                    </a:lnTo>
                    <a:lnTo>
                      <a:pt x="1859" y="916"/>
                    </a:lnTo>
                    <a:lnTo>
                      <a:pt x="1881" y="960"/>
                    </a:lnTo>
                    <a:lnTo>
                      <a:pt x="1902" y="1006"/>
                    </a:lnTo>
                    <a:lnTo>
                      <a:pt x="1920" y="1051"/>
                    </a:lnTo>
                    <a:lnTo>
                      <a:pt x="1938" y="1096"/>
                    </a:lnTo>
                    <a:lnTo>
                      <a:pt x="1954" y="1141"/>
                    </a:lnTo>
                    <a:lnTo>
                      <a:pt x="1968" y="1186"/>
                    </a:lnTo>
                    <a:lnTo>
                      <a:pt x="1983" y="1230"/>
                    </a:lnTo>
                    <a:lnTo>
                      <a:pt x="1995" y="1274"/>
                    </a:lnTo>
                    <a:lnTo>
                      <a:pt x="2007" y="1317"/>
                    </a:lnTo>
                    <a:lnTo>
                      <a:pt x="2017" y="1360"/>
                    </a:lnTo>
                    <a:lnTo>
                      <a:pt x="2026" y="1401"/>
                    </a:lnTo>
                    <a:lnTo>
                      <a:pt x="2034" y="1442"/>
                    </a:lnTo>
                    <a:lnTo>
                      <a:pt x="2041" y="1483"/>
                    </a:lnTo>
                    <a:lnTo>
                      <a:pt x="2047" y="1522"/>
                    </a:lnTo>
                    <a:lnTo>
                      <a:pt x="2053" y="1559"/>
                    </a:lnTo>
                    <a:lnTo>
                      <a:pt x="2058" y="1596"/>
                    </a:lnTo>
                    <a:lnTo>
                      <a:pt x="2066" y="1665"/>
                    </a:lnTo>
                    <a:lnTo>
                      <a:pt x="2072" y="1728"/>
                    </a:lnTo>
                    <a:lnTo>
                      <a:pt x="2075" y="1785"/>
                    </a:lnTo>
                    <a:lnTo>
                      <a:pt x="2076" y="1834"/>
                    </a:lnTo>
                    <a:lnTo>
                      <a:pt x="2077" y="1907"/>
                    </a:lnTo>
                    <a:lnTo>
                      <a:pt x="2077" y="1942"/>
                    </a:lnTo>
                    <a:lnTo>
                      <a:pt x="2134" y="1939"/>
                    </a:lnTo>
                    <a:lnTo>
                      <a:pt x="2134" y="1906"/>
                    </a:lnTo>
                    <a:lnTo>
                      <a:pt x="2134" y="1832"/>
                    </a:lnTo>
                    <a:lnTo>
                      <a:pt x="2132" y="1782"/>
                    </a:lnTo>
                    <a:lnTo>
                      <a:pt x="2129" y="1724"/>
                    </a:lnTo>
                    <a:lnTo>
                      <a:pt x="2123" y="1660"/>
                    </a:lnTo>
                    <a:lnTo>
                      <a:pt x="2115" y="1590"/>
                    </a:lnTo>
                    <a:lnTo>
                      <a:pt x="2110" y="1551"/>
                    </a:lnTo>
                    <a:lnTo>
                      <a:pt x="2104" y="1513"/>
                    </a:lnTo>
                    <a:lnTo>
                      <a:pt x="2098" y="1473"/>
                    </a:lnTo>
                    <a:lnTo>
                      <a:pt x="2090" y="1432"/>
                    </a:lnTo>
                    <a:lnTo>
                      <a:pt x="2081" y="1390"/>
                    </a:lnTo>
                    <a:lnTo>
                      <a:pt x="2073" y="1348"/>
                    </a:lnTo>
                    <a:lnTo>
                      <a:pt x="2062" y="1303"/>
                    </a:lnTo>
                    <a:lnTo>
                      <a:pt x="2051" y="1260"/>
                    </a:lnTo>
                    <a:lnTo>
                      <a:pt x="2038" y="1214"/>
                    </a:lnTo>
                    <a:lnTo>
                      <a:pt x="2023" y="1169"/>
                    </a:lnTo>
                    <a:lnTo>
                      <a:pt x="2008" y="1123"/>
                    </a:lnTo>
                    <a:lnTo>
                      <a:pt x="1992" y="1078"/>
                    </a:lnTo>
                    <a:lnTo>
                      <a:pt x="1974" y="1031"/>
                    </a:lnTo>
                    <a:lnTo>
                      <a:pt x="1954" y="985"/>
                    </a:lnTo>
                    <a:lnTo>
                      <a:pt x="1933" y="938"/>
                    </a:lnTo>
                    <a:lnTo>
                      <a:pt x="1910" y="891"/>
                    </a:lnTo>
                    <a:lnTo>
                      <a:pt x="1886" y="845"/>
                    </a:lnTo>
                    <a:lnTo>
                      <a:pt x="1861" y="799"/>
                    </a:lnTo>
                    <a:lnTo>
                      <a:pt x="1833" y="754"/>
                    </a:lnTo>
                    <a:lnTo>
                      <a:pt x="1803" y="708"/>
                    </a:lnTo>
                    <a:lnTo>
                      <a:pt x="1772" y="663"/>
                    </a:lnTo>
                    <a:lnTo>
                      <a:pt x="1739" y="619"/>
                    </a:lnTo>
                    <a:lnTo>
                      <a:pt x="1703" y="576"/>
                    </a:lnTo>
                    <a:lnTo>
                      <a:pt x="1666" y="533"/>
                    </a:lnTo>
                    <a:lnTo>
                      <a:pt x="1627" y="491"/>
                    </a:lnTo>
                    <a:lnTo>
                      <a:pt x="1586" y="450"/>
                    </a:lnTo>
                    <a:lnTo>
                      <a:pt x="1542" y="411"/>
                    </a:lnTo>
                    <a:lnTo>
                      <a:pt x="1496" y="373"/>
                    </a:lnTo>
                    <a:lnTo>
                      <a:pt x="1472" y="354"/>
                    </a:lnTo>
                    <a:lnTo>
                      <a:pt x="1448" y="336"/>
                    </a:lnTo>
                    <a:lnTo>
                      <a:pt x="1422" y="318"/>
                    </a:lnTo>
                    <a:lnTo>
                      <a:pt x="1397" y="300"/>
                    </a:lnTo>
                    <a:lnTo>
                      <a:pt x="1371" y="283"/>
                    </a:lnTo>
                    <a:lnTo>
                      <a:pt x="1345" y="266"/>
                    </a:lnTo>
                    <a:lnTo>
                      <a:pt x="1316" y="249"/>
                    </a:lnTo>
                    <a:lnTo>
                      <a:pt x="1289" y="233"/>
                    </a:lnTo>
                    <a:lnTo>
                      <a:pt x="1260" y="217"/>
                    </a:lnTo>
                    <a:lnTo>
                      <a:pt x="1230" y="203"/>
                    </a:lnTo>
                    <a:lnTo>
                      <a:pt x="1201" y="188"/>
                    </a:lnTo>
                    <a:lnTo>
                      <a:pt x="1170" y="174"/>
                    </a:lnTo>
                    <a:lnTo>
                      <a:pt x="1138" y="160"/>
                    </a:lnTo>
                    <a:lnTo>
                      <a:pt x="1107" y="146"/>
                    </a:lnTo>
                    <a:lnTo>
                      <a:pt x="1075" y="134"/>
                    </a:lnTo>
                    <a:lnTo>
                      <a:pt x="1041" y="121"/>
                    </a:lnTo>
                    <a:lnTo>
                      <a:pt x="1007" y="109"/>
                    </a:lnTo>
                    <a:lnTo>
                      <a:pt x="973" y="99"/>
                    </a:lnTo>
                    <a:lnTo>
                      <a:pt x="938" y="87"/>
                    </a:lnTo>
                    <a:lnTo>
                      <a:pt x="902" y="77"/>
                    </a:lnTo>
                    <a:lnTo>
                      <a:pt x="864" y="68"/>
                    </a:lnTo>
                    <a:lnTo>
                      <a:pt x="827" y="58"/>
                    </a:lnTo>
                    <a:lnTo>
                      <a:pt x="790" y="50"/>
                    </a:lnTo>
                    <a:lnTo>
                      <a:pt x="750" y="43"/>
                    </a:lnTo>
                    <a:lnTo>
                      <a:pt x="711" y="35"/>
                    </a:lnTo>
                    <a:lnTo>
                      <a:pt x="670" y="29"/>
                    </a:lnTo>
                    <a:lnTo>
                      <a:pt x="630" y="22"/>
                    </a:lnTo>
                    <a:lnTo>
                      <a:pt x="588" y="17"/>
                    </a:lnTo>
                    <a:lnTo>
                      <a:pt x="545" y="13"/>
                    </a:lnTo>
                    <a:lnTo>
                      <a:pt x="502" y="9"/>
                    </a:lnTo>
                    <a:lnTo>
                      <a:pt x="458" y="5"/>
                    </a:lnTo>
                    <a:lnTo>
                      <a:pt x="414" y="3"/>
                    </a:lnTo>
                    <a:lnTo>
                      <a:pt x="367" y="1"/>
                    </a:lnTo>
                    <a:lnTo>
                      <a:pt x="321" y="0"/>
                    </a:lnTo>
                    <a:lnTo>
                      <a:pt x="274" y="0"/>
                    </a:lnTo>
                    <a:lnTo>
                      <a:pt x="226" y="0"/>
                    </a:lnTo>
                    <a:lnTo>
                      <a:pt x="178" y="1"/>
                    </a:lnTo>
                    <a:lnTo>
                      <a:pt x="128" y="3"/>
                    </a:lnTo>
                    <a:lnTo>
                      <a:pt x="78" y="5"/>
                    </a:lnTo>
                    <a:lnTo>
                      <a:pt x="26" y="9"/>
                    </a:lnTo>
                    <a:lnTo>
                      <a:pt x="25" y="9"/>
                    </a:lnTo>
                    <a:lnTo>
                      <a:pt x="26" y="9"/>
                    </a:lnTo>
                    <a:lnTo>
                      <a:pt x="20" y="10"/>
                    </a:lnTo>
                    <a:lnTo>
                      <a:pt x="14" y="12"/>
                    </a:lnTo>
                    <a:lnTo>
                      <a:pt x="9" y="15"/>
                    </a:lnTo>
                    <a:lnTo>
                      <a:pt x="6" y="19"/>
                    </a:lnTo>
                    <a:lnTo>
                      <a:pt x="2" y="23"/>
                    </a:lnTo>
                    <a:lnTo>
                      <a:pt x="1" y="29"/>
                    </a:lnTo>
                    <a:lnTo>
                      <a:pt x="0" y="33"/>
                    </a:lnTo>
                    <a:lnTo>
                      <a:pt x="0" y="38"/>
                    </a:lnTo>
                    <a:lnTo>
                      <a:pt x="0" y="44"/>
                    </a:lnTo>
                    <a:lnTo>
                      <a:pt x="2" y="49"/>
                    </a:lnTo>
                    <a:lnTo>
                      <a:pt x="5" y="53"/>
                    </a:lnTo>
                    <a:lnTo>
                      <a:pt x="9" y="57"/>
                    </a:lnTo>
                    <a:lnTo>
                      <a:pt x="12" y="61"/>
                    </a:lnTo>
                    <a:lnTo>
                      <a:pt x="18" y="63"/>
                    </a:lnTo>
                    <a:lnTo>
                      <a:pt x="24" y="64"/>
                    </a:lnTo>
                    <a:lnTo>
                      <a:pt x="31" y="64"/>
                    </a:lnTo>
                    <a:lnTo>
                      <a:pt x="32" y="6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2" name=""/>
              <p:cNvSpPr/>
              <p:nvPr/>
            </p:nvSpPr>
            <p:spPr>
              <a:xfrm>
                <a:off x="2520360" y="2801880"/>
                <a:ext cx="99360" cy="56880"/>
              </a:xfrm>
              <a:custGeom>
                <a:avLst/>
                <a:gdLst/>
                <a:ahLst/>
                <a:rect l="l" t="t" r="r" b="b"/>
                <a:pathLst>
                  <a:path w="694" h="286">
                    <a:moveTo>
                      <a:pt x="57" y="262"/>
                    </a:moveTo>
                    <a:lnTo>
                      <a:pt x="54" y="271"/>
                    </a:lnTo>
                    <a:lnTo>
                      <a:pt x="59" y="263"/>
                    </a:lnTo>
                    <a:lnTo>
                      <a:pt x="66" y="256"/>
                    </a:lnTo>
                    <a:lnTo>
                      <a:pt x="73" y="248"/>
                    </a:lnTo>
                    <a:lnTo>
                      <a:pt x="83" y="239"/>
                    </a:lnTo>
                    <a:lnTo>
                      <a:pt x="95" y="231"/>
                    </a:lnTo>
                    <a:lnTo>
                      <a:pt x="108" y="222"/>
                    </a:lnTo>
                    <a:lnTo>
                      <a:pt x="123" y="213"/>
                    </a:lnTo>
                    <a:lnTo>
                      <a:pt x="138" y="204"/>
                    </a:lnTo>
                    <a:lnTo>
                      <a:pt x="174" y="187"/>
                    </a:lnTo>
                    <a:lnTo>
                      <a:pt x="214" y="170"/>
                    </a:lnTo>
                    <a:lnTo>
                      <a:pt x="256" y="153"/>
                    </a:lnTo>
                    <a:lnTo>
                      <a:pt x="302" y="138"/>
                    </a:lnTo>
                    <a:lnTo>
                      <a:pt x="351" y="124"/>
                    </a:lnTo>
                    <a:lnTo>
                      <a:pt x="400" y="110"/>
                    </a:lnTo>
                    <a:lnTo>
                      <a:pt x="450" y="97"/>
                    </a:lnTo>
                    <a:lnTo>
                      <a:pt x="501" y="87"/>
                    </a:lnTo>
                    <a:lnTo>
                      <a:pt x="551" y="76"/>
                    </a:lnTo>
                    <a:lnTo>
                      <a:pt x="601" y="67"/>
                    </a:lnTo>
                    <a:lnTo>
                      <a:pt x="648" y="61"/>
                    </a:lnTo>
                    <a:lnTo>
                      <a:pt x="694" y="55"/>
                    </a:lnTo>
                    <a:lnTo>
                      <a:pt x="687" y="0"/>
                    </a:lnTo>
                    <a:lnTo>
                      <a:pt x="640" y="6"/>
                    </a:lnTo>
                    <a:lnTo>
                      <a:pt x="591" y="13"/>
                    </a:lnTo>
                    <a:lnTo>
                      <a:pt x="540" y="22"/>
                    </a:lnTo>
                    <a:lnTo>
                      <a:pt x="489" y="32"/>
                    </a:lnTo>
                    <a:lnTo>
                      <a:pt x="436" y="44"/>
                    </a:lnTo>
                    <a:lnTo>
                      <a:pt x="385" y="57"/>
                    </a:lnTo>
                    <a:lnTo>
                      <a:pt x="334" y="71"/>
                    </a:lnTo>
                    <a:lnTo>
                      <a:pt x="284" y="85"/>
                    </a:lnTo>
                    <a:lnTo>
                      <a:pt x="237" y="101"/>
                    </a:lnTo>
                    <a:lnTo>
                      <a:pt x="192" y="118"/>
                    </a:lnTo>
                    <a:lnTo>
                      <a:pt x="150" y="136"/>
                    </a:lnTo>
                    <a:lnTo>
                      <a:pt x="112" y="155"/>
                    </a:lnTo>
                    <a:lnTo>
                      <a:pt x="93" y="165"/>
                    </a:lnTo>
                    <a:lnTo>
                      <a:pt x="77" y="176"/>
                    </a:lnTo>
                    <a:lnTo>
                      <a:pt x="61" y="186"/>
                    </a:lnTo>
                    <a:lnTo>
                      <a:pt x="47" y="197"/>
                    </a:lnTo>
                    <a:lnTo>
                      <a:pt x="34" y="207"/>
                    </a:lnTo>
                    <a:lnTo>
                      <a:pt x="23" y="219"/>
                    </a:lnTo>
                    <a:lnTo>
                      <a:pt x="12" y="232"/>
                    </a:lnTo>
                    <a:lnTo>
                      <a:pt x="3" y="244"/>
                    </a:lnTo>
                    <a:lnTo>
                      <a:pt x="1" y="253"/>
                    </a:lnTo>
                    <a:lnTo>
                      <a:pt x="4" y="244"/>
                    </a:lnTo>
                    <a:lnTo>
                      <a:pt x="1" y="250"/>
                    </a:lnTo>
                    <a:lnTo>
                      <a:pt x="0" y="256"/>
                    </a:lnTo>
                    <a:lnTo>
                      <a:pt x="0" y="261"/>
                    </a:lnTo>
                    <a:lnTo>
                      <a:pt x="1" y="267"/>
                    </a:lnTo>
                    <a:lnTo>
                      <a:pt x="3" y="271"/>
                    </a:lnTo>
                    <a:lnTo>
                      <a:pt x="6" y="275"/>
                    </a:lnTo>
                    <a:lnTo>
                      <a:pt x="10" y="279"/>
                    </a:lnTo>
                    <a:lnTo>
                      <a:pt x="14" y="281"/>
                    </a:lnTo>
                    <a:lnTo>
                      <a:pt x="20" y="284"/>
                    </a:lnTo>
                    <a:lnTo>
                      <a:pt x="25" y="286"/>
                    </a:lnTo>
                    <a:lnTo>
                      <a:pt x="29" y="286"/>
                    </a:lnTo>
                    <a:lnTo>
                      <a:pt x="35" y="285"/>
                    </a:lnTo>
                    <a:lnTo>
                      <a:pt x="40" y="284"/>
                    </a:lnTo>
                    <a:lnTo>
                      <a:pt x="45" y="280"/>
                    </a:lnTo>
                    <a:lnTo>
                      <a:pt x="49" y="276"/>
                    </a:lnTo>
                    <a:lnTo>
                      <a:pt x="54" y="271"/>
                    </a:lnTo>
                    <a:lnTo>
                      <a:pt x="57" y="262"/>
                    </a:lnTo>
                    <a:close/>
                  </a:path>
                </a:pathLst>
              </a:custGeom>
              <a:solidFill>
                <a:srgbClr val="000000"/>
              </a:solidFill>
              <a:ln w="0">
                <a:noFill/>
              </a:ln>
            </p:spPr>
            <p:style>
              <a:lnRef idx="0"/>
              <a:fillRef idx="0"/>
              <a:effectRef idx="0"/>
              <a:fontRef idx="minor"/>
            </p:style>
            <p:txBody>
              <a:bodyPr wrap="none" lIns="93240" rIns="93240" tIns="10440" bIns="10440" anchor="t">
                <a:spAutoFit/>
              </a:bodyPr>
              <a:p>
                <a:endParaRPr b="0" lang="en-US" sz="2400" spc="-1" strike="noStrike">
                  <a:solidFill>
                    <a:srgbClr val="ffffff"/>
                  </a:solidFill>
                  <a:latin typeface="Times New Roman"/>
                </a:endParaRPr>
              </a:p>
            </p:txBody>
          </p:sp>
          <p:sp>
            <p:nvSpPr>
              <p:cNvPr id="433" name=""/>
              <p:cNvSpPr/>
              <p:nvPr/>
            </p:nvSpPr>
            <p:spPr>
              <a:xfrm>
                <a:off x="2436120" y="2853360"/>
                <a:ext cx="91800" cy="99000"/>
              </a:xfrm>
              <a:custGeom>
                <a:avLst/>
                <a:gdLst/>
                <a:ahLst/>
                <a:rect l="l" t="t" r="r" b="b"/>
                <a:pathLst>
                  <a:path w="644" h="490">
                    <a:moveTo>
                      <a:pt x="23" y="481"/>
                    </a:moveTo>
                    <a:lnTo>
                      <a:pt x="29" y="482"/>
                    </a:lnTo>
                    <a:lnTo>
                      <a:pt x="96" y="486"/>
                    </a:lnTo>
                    <a:lnTo>
                      <a:pt x="176" y="490"/>
                    </a:lnTo>
                    <a:lnTo>
                      <a:pt x="198" y="490"/>
                    </a:lnTo>
                    <a:lnTo>
                      <a:pt x="221" y="490"/>
                    </a:lnTo>
                    <a:lnTo>
                      <a:pt x="242" y="488"/>
                    </a:lnTo>
                    <a:lnTo>
                      <a:pt x="265" y="486"/>
                    </a:lnTo>
                    <a:lnTo>
                      <a:pt x="289" y="483"/>
                    </a:lnTo>
                    <a:lnTo>
                      <a:pt x="313" y="478"/>
                    </a:lnTo>
                    <a:lnTo>
                      <a:pt x="336" y="471"/>
                    </a:lnTo>
                    <a:lnTo>
                      <a:pt x="359" y="463"/>
                    </a:lnTo>
                    <a:lnTo>
                      <a:pt x="382" y="453"/>
                    </a:lnTo>
                    <a:lnTo>
                      <a:pt x="405" y="442"/>
                    </a:lnTo>
                    <a:lnTo>
                      <a:pt x="428" y="428"/>
                    </a:lnTo>
                    <a:lnTo>
                      <a:pt x="450" y="412"/>
                    </a:lnTo>
                    <a:lnTo>
                      <a:pt x="471" y="393"/>
                    </a:lnTo>
                    <a:lnTo>
                      <a:pt x="491" y="373"/>
                    </a:lnTo>
                    <a:lnTo>
                      <a:pt x="511" y="350"/>
                    </a:lnTo>
                    <a:lnTo>
                      <a:pt x="531" y="323"/>
                    </a:lnTo>
                    <a:lnTo>
                      <a:pt x="548" y="296"/>
                    </a:lnTo>
                    <a:lnTo>
                      <a:pt x="566" y="264"/>
                    </a:lnTo>
                    <a:lnTo>
                      <a:pt x="581" y="230"/>
                    </a:lnTo>
                    <a:lnTo>
                      <a:pt x="597" y="192"/>
                    </a:lnTo>
                    <a:lnTo>
                      <a:pt x="610" y="151"/>
                    </a:lnTo>
                    <a:lnTo>
                      <a:pt x="623" y="108"/>
                    </a:lnTo>
                    <a:lnTo>
                      <a:pt x="634" y="60"/>
                    </a:lnTo>
                    <a:lnTo>
                      <a:pt x="644" y="9"/>
                    </a:lnTo>
                    <a:lnTo>
                      <a:pt x="588" y="0"/>
                    </a:lnTo>
                    <a:lnTo>
                      <a:pt x="578" y="49"/>
                    </a:lnTo>
                    <a:lnTo>
                      <a:pt x="567" y="94"/>
                    </a:lnTo>
                    <a:lnTo>
                      <a:pt x="555" y="136"/>
                    </a:lnTo>
                    <a:lnTo>
                      <a:pt x="543" y="174"/>
                    </a:lnTo>
                    <a:lnTo>
                      <a:pt x="529" y="208"/>
                    </a:lnTo>
                    <a:lnTo>
                      <a:pt x="514" y="239"/>
                    </a:lnTo>
                    <a:lnTo>
                      <a:pt x="499" y="268"/>
                    </a:lnTo>
                    <a:lnTo>
                      <a:pt x="483" y="293"/>
                    </a:lnTo>
                    <a:lnTo>
                      <a:pt x="466" y="316"/>
                    </a:lnTo>
                    <a:lnTo>
                      <a:pt x="449" y="336"/>
                    </a:lnTo>
                    <a:lnTo>
                      <a:pt x="431" y="354"/>
                    </a:lnTo>
                    <a:lnTo>
                      <a:pt x="414" y="369"/>
                    </a:lnTo>
                    <a:lnTo>
                      <a:pt x="395" y="382"/>
                    </a:lnTo>
                    <a:lnTo>
                      <a:pt x="376" y="394"/>
                    </a:lnTo>
                    <a:lnTo>
                      <a:pt x="358" y="404"/>
                    </a:lnTo>
                    <a:lnTo>
                      <a:pt x="338" y="412"/>
                    </a:lnTo>
                    <a:lnTo>
                      <a:pt x="318" y="418"/>
                    </a:lnTo>
                    <a:lnTo>
                      <a:pt x="298" y="424"/>
                    </a:lnTo>
                    <a:lnTo>
                      <a:pt x="279" y="428"/>
                    </a:lnTo>
                    <a:lnTo>
                      <a:pt x="258" y="431"/>
                    </a:lnTo>
                    <a:lnTo>
                      <a:pt x="238" y="433"/>
                    </a:lnTo>
                    <a:lnTo>
                      <a:pt x="217" y="434"/>
                    </a:lnTo>
                    <a:lnTo>
                      <a:pt x="198" y="435"/>
                    </a:lnTo>
                    <a:lnTo>
                      <a:pt x="178" y="435"/>
                    </a:lnTo>
                    <a:lnTo>
                      <a:pt x="99" y="431"/>
                    </a:lnTo>
                    <a:lnTo>
                      <a:pt x="29" y="427"/>
                    </a:lnTo>
                    <a:lnTo>
                      <a:pt x="34" y="427"/>
                    </a:lnTo>
                    <a:lnTo>
                      <a:pt x="29" y="427"/>
                    </a:lnTo>
                    <a:lnTo>
                      <a:pt x="22" y="427"/>
                    </a:lnTo>
                    <a:lnTo>
                      <a:pt x="17" y="429"/>
                    </a:lnTo>
                    <a:lnTo>
                      <a:pt x="11" y="431"/>
                    </a:lnTo>
                    <a:lnTo>
                      <a:pt x="8" y="435"/>
                    </a:lnTo>
                    <a:lnTo>
                      <a:pt x="5" y="439"/>
                    </a:lnTo>
                    <a:lnTo>
                      <a:pt x="2" y="444"/>
                    </a:lnTo>
                    <a:lnTo>
                      <a:pt x="0" y="449"/>
                    </a:lnTo>
                    <a:lnTo>
                      <a:pt x="0" y="453"/>
                    </a:lnTo>
                    <a:lnTo>
                      <a:pt x="0" y="459"/>
                    </a:lnTo>
                    <a:lnTo>
                      <a:pt x="1" y="464"/>
                    </a:lnTo>
                    <a:lnTo>
                      <a:pt x="3" y="468"/>
                    </a:lnTo>
                    <a:lnTo>
                      <a:pt x="7" y="472"/>
                    </a:lnTo>
                    <a:lnTo>
                      <a:pt x="11" y="477"/>
                    </a:lnTo>
                    <a:lnTo>
                      <a:pt x="15" y="479"/>
                    </a:lnTo>
                    <a:lnTo>
                      <a:pt x="21" y="481"/>
                    </a:lnTo>
                    <a:lnTo>
                      <a:pt x="28" y="482"/>
                    </a:lnTo>
                    <a:lnTo>
                      <a:pt x="23" y="48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4" name=""/>
              <p:cNvSpPr/>
              <p:nvPr/>
            </p:nvSpPr>
            <p:spPr>
              <a:xfrm>
                <a:off x="2342880" y="2937240"/>
                <a:ext cx="96840" cy="36360"/>
              </a:xfrm>
              <a:custGeom>
                <a:avLst/>
                <a:gdLst/>
                <a:ahLst/>
                <a:rect l="l" t="t" r="r" b="b"/>
                <a:pathLst>
                  <a:path w="683" h="177">
                    <a:moveTo>
                      <a:pt x="55" y="160"/>
                    </a:moveTo>
                    <a:lnTo>
                      <a:pt x="39" y="174"/>
                    </a:lnTo>
                    <a:lnTo>
                      <a:pt x="92" y="155"/>
                    </a:lnTo>
                    <a:lnTo>
                      <a:pt x="145" y="137"/>
                    </a:lnTo>
                    <a:lnTo>
                      <a:pt x="195" y="122"/>
                    </a:lnTo>
                    <a:lnTo>
                      <a:pt x="244" y="109"/>
                    </a:lnTo>
                    <a:lnTo>
                      <a:pt x="293" y="96"/>
                    </a:lnTo>
                    <a:lnTo>
                      <a:pt x="339" y="86"/>
                    </a:lnTo>
                    <a:lnTo>
                      <a:pt x="383" y="77"/>
                    </a:lnTo>
                    <a:lnTo>
                      <a:pt x="425" y="70"/>
                    </a:lnTo>
                    <a:lnTo>
                      <a:pt x="465" y="64"/>
                    </a:lnTo>
                    <a:lnTo>
                      <a:pt x="503" y="61"/>
                    </a:lnTo>
                    <a:lnTo>
                      <a:pt x="538" y="58"/>
                    </a:lnTo>
                    <a:lnTo>
                      <a:pt x="571" y="57"/>
                    </a:lnTo>
                    <a:lnTo>
                      <a:pt x="601" y="57"/>
                    </a:lnTo>
                    <a:lnTo>
                      <a:pt x="628" y="58"/>
                    </a:lnTo>
                    <a:lnTo>
                      <a:pt x="651" y="60"/>
                    </a:lnTo>
                    <a:lnTo>
                      <a:pt x="672" y="62"/>
                    </a:lnTo>
                    <a:lnTo>
                      <a:pt x="683" y="8"/>
                    </a:lnTo>
                    <a:lnTo>
                      <a:pt x="659" y="5"/>
                    </a:lnTo>
                    <a:lnTo>
                      <a:pt x="632" y="2"/>
                    </a:lnTo>
                    <a:lnTo>
                      <a:pt x="602" y="0"/>
                    </a:lnTo>
                    <a:lnTo>
                      <a:pt x="570" y="0"/>
                    </a:lnTo>
                    <a:lnTo>
                      <a:pt x="535" y="3"/>
                    </a:lnTo>
                    <a:lnTo>
                      <a:pt x="498" y="6"/>
                    </a:lnTo>
                    <a:lnTo>
                      <a:pt x="458" y="10"/>
                    </a:lnTo>
                    <a:lnTo>
                      <a:pt x="417" y="15"/>
                    </a:lnTo>
                    <a:lnTo>
                      <a:pt x="373" y="23"/>
                    </a:lnTo>
                    <a:lnTo>
                      <a:pt x="327" y="31"/>
                    </a:lnTo>
                    <a:lnTo>
                      <a:pt x="280" y="43"/>
                    </a:lnTo>
                    <a:lnTo>
                      <a:pt x="230" y="55"/>
                    </a:lnTo>
                    <a:lnTo>
                      <a:pt x="179" y="69"/>
                    </a:lnTo>
                    <a:lnTo>
                      <a:pt x="126" y="85"/>
                    </a:lnTo>
                    <a:lnTo>
                      <a:pt x="72" y="103"/>
                    </a:lnTo>
                    <a:lnTo>
                      <a:pt x="19" y="123"/>
                    </a:lnTo>
                    <a:lnTo>
                      <a:pt x="2" y="137"/>
                    </a:lnTo>
                    <a:lnTo>
                      <a:pt x="19" y="123"/>
                    </a:lnTo>
                    <a:lnTo>
                      <a:pt x="12" y="127"/>
                    </a:lnTo>
                    <a:lnTo>
                      <a:pt x="8" y="130"/>
                    </a:lnTo>
                    <a:lnTo>
                      <a:pt x="3" y="134"/>
                    </a:lnTo>
                    <a:lnTo>
                      <a:pt x="1" y="139"/>
                    </a:lnTo>
                    <a:lnTo>
                      <a:pt x="0" y="144"/>
                    </a:lnTo>
                    <a:lnTo>
                      <a:pt x="0" y="149"/>
                    </a:lnTo>
                    <a:lnTo>
                      <a:pt x="0" y="154"/>
                    </a:lnTo>
                    <a:lnTo>
                      <a:pt x="2" y="159"/>
                    </a:lnTo>
                    <a:lnTo>
                      <a:pt x="4" y="164"/>
                    </a:lnTo>
                    <a:lnTo>
                      <a:pt x="8" y="168"/>
                    </a:lnTo>
                    <a:lnTo>
                      <a:pt x="11" y="171"/>
                    </a:lnTo>
                    <a:lnTo>
                      <a:pt x="15" y="174"/>
                    </a:lnTo>
                    <a:lnTo>
                      <a:pt x="21" y="176"/>
                    </a:lnTo>
                    <a:lnTo>
                      <a:pt x="26" y="177"/>
                    </a:lnTo>
                    <a:lnTo>
                      <a:pt x="33" y="176"/>
                    </a:lnTo>
                    <a:lnTo>
                      <a:pt x="39" y="174"/>
                    </a:lnTo>
                    <a:lnTo>
                      <a:pt x="55" y="160"/>
                    </a:lnTo>
                    <a:close/>
                  </a:path>
                </a:pathLst>
              </a:custGeom>
              <a:solidFill>
                <a:srgbClr val="000000"/>
              </a:solidFill>
              <a:ln w="0">
                <a:noFill/>
              </a:ln>
            </p:spPr>
            <p:style>
              <a:lnRef idx="0"/>
              <a:fillRef idx="0"/>
              <a:effectRef idx="0"/>
              <a:fontRef idx="minor"/>
            </p:style>
            <p:txBody>
              <a:bodyPr wrap="none" lIns="93240" rIns="93240" tIns="-10080" bIns="-10080" anchor="t">
                <a:spAutoFit/>
              </a:bodyPr>
              <a:p>
                <a:endParaRPr b="0" lang="en-US" sz="2400" spc="-1" strike="noStrike">
                  <a:solidFill>
                    <a:srgbClr val="ffffff"/>
                  </a:solidFill>
                  <a:latin typeface="Times New Roman"/>
                </a:endParaRPr>
              </a:p>
            </p:txBody>
          </p:sp>
          <p:sp>
            <p:nvSpPr>
              <p:cNvPr id="435" name=""/>
              <p:cNvSpPr/>
              <p:nvPr/>
            </p:nvSpPr>
            <p:spPr>
              <a:xfrm>
                <a:off x="2302200" y="2964960"/>
                <a:ext cx="48240" cy="407160"/>
              </a:xfrm>
              <a:custGeom>
                <a:avLst/>
                <a:gdLst/>
                <a:ahLst/>
                <a:rect l="l" t="t" r="r" b="b"/>
                <a:pathLst>
                  <a:path w="337" h="2018">
                    <a:moveTo>
                      <a:pt x="28" y="1963"/>
                    </a:moveTo>
                    <a:lnTo>
                      <a:pt x="57" y="1997"/>
                    </a:lnTo>
                    <a:lnTo>
                      <a:pt x="76" y="1918"/>
                    </a:lnTo>
                    <a:lnTo>
                      <a:pt x="91" y="1841"/>
                    </a:lnTo>
                    <a:lnTo>
                      <a:pt x="105" y="1767"/>
                    </a:lnTo>
                    <a:lnTo>
                      <a:pt x="117" y="1692"/>
                    </a:lnTo>
                    <a:lnTo>
                      <a:pt x="127" y="1621"/>
                    </a:lnTo>
                    <a:lnTo>
                      <a:pt x="135" y="1551"/>
                    </a:lnTo>
                    <a:lnTo>
                      <a:pt x="142" y="1483"/>
                    </a:lnTo>
                    <a:lnTo>
                      <a:pt x="147" y="1415"/>
                    </a:lnTo>
                    <a:lnTo>
                      <a:pt x="150" y="1349"/>
                    </a:lnTo>
                    <a:lnTo>
                      <a:pt x="154" y="1284"/>
                    </a:lnTo>
                    <a:lnTo>
                      <a:pt x="156" y="1222"/>
                    </a:lnTo>
                    <a:lnTo>
                      <a:pt x="158" y="1159"/>
                    </a:lnTo>
                    <a:lnTo>
                      <a:pt x="160" y="1038"/>
                    </a:lnTo>
                    <a:lnTo>
                      <a:pt x="161" y="920"/>
                    </a:lnTo>
                    <a:lnTo>
                      <a:pt x="164" y="862"/>
                    </a:lnTo>
                    <a:lnTo>
                      <a:pt x="165" y="804"/>
                    </a:lnTo>
                    <a:lnTo>
                      <a:pt x="167" y="748"/>
                    </a:lnTo>
                    <a:lnTo>
                      <a:pt x="170" y="692"/>
                    </a:lnTo>
                    <a:lnTo>
                      <a:pt x="174" y="637"/>
                    </a:lnTo>
                    <a:lnTo>
                      <a:pt x="180" y="581"/>
                    </a:lnTo>
                    <a:lnTo>
                      <a:pt x="187" y="526"/>
                    </a:lnTo>
                    <a:lnTo>
                      <a:pt x="194" y="471"/>
                    </a:lnTo>
                    <a:lnTo>
                      <a:pt x="204" y="416"/>
                    </a:lnTo>
                    <a:lnTo>
                      <a:pt x="216" y="360"/>
                    </a:lnTo>
                    <a:lnTo>
                      <a:pt x="230" y="305"/>
                    </a:lnTo>
                    <a:lnTo>
                      <a:pt x="246" y="250"/>
                    </a:lnTo>
                    <a:lnTo>
                      <a:pt x="264" y="194"/>
                    </a:lnTo>
                    <a:lnTo>
                      <a:pt x="286" y="138"/>
                    </a:lnTo>
                    <a:lnTo>
                      <a:pt x="297" y="109"/>
                    </a:lnTo>
                    <a:lnTo>
                      <a:pt x="309" y="81"/>
                    </a:lnTo>
                    <a:lnTo>
                      <a:pt x="323" y="52"/>
                    </a:lnTo>
                    <a:lnTo>
                      <a:pt x="337" y="23"/>
                    </a:lnTo>
                    <a:lnTo>
                      <a:pt x="284" y="0"/>
                    </a:lnTo>
                    <a:lnTo>
                      <a:pt x="270" y="30"/>
                    </a:lnTo>
                    <a:lnTo>
                      <a:pt x="257" y="60"/>
                    </a:lnTo>
                    <a:lnTo>
                      <a:pt x="245" y="89"/>
                    </a:lnTo>
                    <a:lnTo>
                      <a:pt x="233" y="119"/>
                    </a:lnTo>
                    <a:lnTo>
                      <a:pt x="211" y="176"/>
                    </a:lnTo>
                    <a:lnTo>
                      <a:pt x="191" y="234"/>
                    </a:lnTo>
                    <a:lnTo>
                      <a:pt x="174" y="292"/>
                    </a:lnTo>
                    <a:lnTo>
                      <a:pt x="160" y="349"/>
                    </a:lnTo>
                    <a:lnTo>
                      <a:pt x="148" y="406"/>
                    </a:lnTo>
                    <a:lnTo>
                      <a:pt x="138" y="462"/>
                    </a:lnTo>
                    <a:lnTo>
                      <a:pt x="130" y="518"/>
                    </a:lnTo>
                    <a:lnTo>
                      <a:pt x="123" y="576"/>
                    </a:lnTo>
                    <a:lnTo>
                      <a:pt x="117" y="632"/>
                    </a:lnTo>
                    <a:lnTo>
                      <a:pt x="113" y="689"/>
                    </a:lnTo>
                    <a:lnTo>
                      <a:pt x="110" y="746"/>
                    </a:lnTo>
                    <a:lnTo>
                      <a:pt x="108" y="803"/>
                    </a:lnTo>
                    <a:lnTo>
                      <a:pt x="105" y="861"/>
                    </a:lnTo>
                    <a:lnTo>
                      <a:pt x="104" y="919"/>
                    </a:lnTo>
                    <a:lnTo>
                      <a:pt x="103" y="1038"/>
                    </a:lnTo>
                    <a:lnTo>
                      <a:pt x="101" y="1158"/>
                    </a:lnTo>
                    <a:lnTo>
                      <a:pt x="99" y="1220"/>
                    </a:lnTo>
                    <a:lnTo>
                      <a:pt x="97" y="1282"/>
                    </a:lnTo>
                    <a:lnTo>
                      <a:pt x="93" y="1347"/>
                    </a:lnTo>
                    <a:lnTo>
                      <a:pt x="90" y="1412"/>
                    </a:lnTo>
                    <a:lnTo>
                      <a:pt x="85" y="1477"/>
                    </a:lnTo>
                    <a:lnTo>
                      <a:pt x="78" y="1545"/>
                    </a:lnTo>
                    <a:lnTo>
                      <a:pt x="70" y="1614"/>
                    </a:lnTo>
                    <a:lnTo>
                      <a:pt x="60" y="1685"/>
                    </a:lnTo>
                    <a:lnTo>
                      <a:pt x="48" y="1757"/>
                    </a:lnTo>
                    <a:lnTo>
                      <a:pt x="35" y="1831"/>
                    </a:lnTo>
                    <a:lnTo>
                      <a:pt x="20" y="1906"/>
                    </a:lnTo>
                    <a:lnTo>
                      <a:pt x="1" y="1984"/>
                    </a:lnTo>
                    <a:lnTo>
                      <a:pt x="31" y="2018"/>
                    </a:lnTo>
                    <a:lnTo>
                      <a:pt x="1" y="1984"/>
                    </a:lnTo>
                    <a:lnTo>
                      <a:pt x="0" y="1990"/>
                    </a:lnTo>
                    <a:lnTo>
                      <a:pt x="1" y="1997"/>
                    </a:lnTo>
                    <a:lnTo>
                      <a:pt x="2" y="2002"/>
                    </a:lnTo>
                    <a:lnTo>
                      <a:pt x="5" y="2006"/>
                    </a:lnTo>
                    <a:lnTo>
                      <a:pt x="9" y="2010"/>
                    </a:lnTo>
                    <a:lnTo>
                      <a:pt x="12" y="2013"/>
                    </a:lnTo>
                    <a:lnTo>
                      <a:pt x="18" y="2016"/>
                    </a:lnTo>
                    <a:lnTo>
                      <a:pt x="22" y="2017"/>
                    </a:lnTo>
                    <a:lnTo>
                      <a:pt x="28" y="2018"/>
                    </a:lnTo>
                    <a:lnTo>
                      <a:pt x="33" y="2018"/>
                    </a:lnTo>
                    <a:lnTo>
                      <a:pt x="39" y="2017"/>
                    </a:lnTo>
                    <a:lnTo>
                      <a:pt x="43" y="2015"/>
                    </a:lnTo>
                    <a:lnTo>
                      <a:pt x="47" y="2012"/>
                    </a:lnTo>
                    <a:lnTo>
                      <a:pt x="52" y="2008"/>
                    </a:lnTo>
                    <a:lnTo>
                      <a:pt x="55" y="2003"/>
                    </a:lnTo>
                    <a:lnTo>
                      <a:pt x="57" y="1997"/>
                    </a:lnTo>
                    <a:lnTo>
                      <a:pt x="28" y="196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6" name=""/>
              <p:cNvSpPr/>
              <p:nvPr/>
            </p:nvSpPr>
            <p:spPr>
              <a:xfrm>
                <a:off x="2400480" y="4087440"/>
                <a:ext cx="67680" cy="437760"/>
              </a:xfrm>
              <a:custGeom>
                <a:avLst/>
                <a:gdLst/>
                <a:ahLst/>
                <a:rect l="l" t="t" r="r" b="b"/>
                <a:pathLst>
                  <a:path w="477" h="2170">
                    <a:moveTo>
                      <a:pt x="333" y="2170"/>
                    </a:moveTo>
                    <a:lnTo>
                      <a:pt x="333" y="2147"/>
                    </a:lnTo>
                    <a:lnTo>
                      <a:pt x="334" y="2124"/>
                    </a:lnTo>
                    <a:lnTo>
                      <a:pt x="336" y="2103"/>
                    </a:lnTo>
                    <a:lnTo>
                      <a:pt x="340" y="2083"/>
                    </a:lnTo>
                    <a:lnTo>
                      <a:pt x="343" y="2064"/>
                    </a:lnTo>
                    <a:lnTo>
                      <a:pt x="346" y="2045"/>
                    </a:lnTo>
                    <a:lnTo>
                      <a:pt x="351" y="2027"/>
                    </a:lnTo>
                    <a:lnTo>
                      <a:pt x="356" y="2010"/>
                    </a:lnTo>
                    <a:lnTo>
                      <a:pt x="367" y="1978"/>
                    </a:lnTo>
                    <a:lnTo>
                      <a:pt x="379" y="1950"/>
                    </a:lnTo>
                    <a:lnTo>
                      <a:pt x="392" y="1923"/>
                    </a:lnTo>
                    <a:lnTo>
                      <a:pt x="406" y="1899"/>
                    </a:lnTo>
                    <a:lnTo>
                      <a:pt x="433" y="1857"/>
                    </a:lnTo>
                    <a:lnTo>
                      <a:pt x="456" y="1824"/>
                    </a:lnTo>
                    <a:lnTo>
                      <a:pt x="465" y="1809"/>
                    </a:lnTo>
                    <a:lnTo>
                      <a:pt x="471" y="1796"/>
                    </a:lnTo>
                    <a:lnTo>
                      <a:pt x="474" y="1790"/>
                    </a:lnTo>
                    <a:lnTo>
                      <a:pt x="476" y="1783"/>
                    </a:lnTo>
                    <a:lnTo>
                      <a:pt x="477" y="1778"/>
                    </a:lnTo>
                    <a:lnTo>
                      <a:pt x="477" y="1772"/>
                    </a:lnTo>
                    <a:lnTo>
                      <a:pt x="456" y="1753"/>
                    </a:lnTo>
                    <a:lnTo>
                      <a:pt x="436" y="1732"/>
                    </a:lnTo>
                    <a:lnTo>
                      <a:pt x="419" y="1710"/>
                    </a:lnTo>
                    <a:lnTo>
                      <a:pt x="401" y="1686"/>
                    </a:lnTo>
                    <a:lnTo>
                      <a:pt x="385" y="1661"/>
                    </a:lnTo>
                    <a:lnTo>
                      <a:pt x="369" y="1635"/>
                    </a:lnTo>
                    <a:lnTo>
                      <a:pt x="355" y="1607"/>
                    </a:lnTo>
                    <a:lnTo>
                      <a:pt x="342" y="1579"/>
                    </a:lnTo>
                    <a:lnTo>
                      <a:pt x="330" y="1549"/>
                    </a:lnTo>
                    <a:lnTo>
                      <a:pt x="319" y="1519"/>
                    </a:lnTo>
                    <a:lnTo>
                      <a:pt x="308" y="1489"/>
                    </a:lnTo>
                    <a:lnTo>
                      <a:pt x="299" y="1457"/>
                    </a:lnTo>
                    <a:lnTo>
                      <a:pt x="290" y="1426"/>
                    </a:lnTo>
                    <a:lnTo>
                      <a:pt x="282" y="1393"/>
                    </a:lnTo>
                    <a:lnTo>
                      <a:pt x="275" y="1362"/>
                    </a:lnTo>
                    <a:lnTo>
                      <a:pt x="268" y="1330"/>
                    </a:lnTo>
                    <a:lnTo>
                      <a:pt x="256" y="1265"/>
                    </a:lnTo>
                    <a:lnTo>
                      <a:pt x="248" y="1203"/>
                    </a:lnTo>
                    <a:lnTo>
                      <a:pt x="241" y="1142"/>
                    </a:lnTo>
                    <a:lnTo>
                      <a:pt x="237" y="1085"/>
                    </a:lnTo>
                    <a:lnTo>
                      <a:pt x="233" y="1032"/>
                    </a:lnTo>
                    <a:lnTo>
                      <a:pt x="231" y="984"/>
                    </a:lnTo>
                    <a:lnTo>
                      <a:pt x="230" y="943"/>
                    </a:lnTo>
                    <a:lnTo>
                      <a:pt x="230" y="908"/>
                    </a:lnTo>
                    <a:lnTo>
                      <a:pt x="213" y="894"/>
                    </a:lnTo>
                    <a:lnTo>
                      <a:pt x="197" y="878"/>
                    </a:lnTo>
                    <a:lnTo>
                      <a:pt x="184" y="859"/>
                    </a:lnTo>
                    <a:lnTo>
                      <a:pt x="172" y="838"/>
                    </a:lnTo>
                    <a:lnTo>
                      <a:pt x="161" y="815"/>
                    </a:lnTo>
                    <a:lnTo>
                      <a:pt x="152" y="790"/>
                    </a:lnTo>
                    <a:lnTo>
                      <a:pt x="143" y="763"/>
                    </a:lnTo>
                    <a:lnTo>
                      <a:pt x="136" y="734"/>
                    </a:lnTo>
                    <a:lnTo>
                      <a:pt x="130" y="705"/>
                    </a:lnTo>
                    <a:lnTo>
                      <a:pt x="125" y="673"/>
                    </a:lnTo>
                    <a:lnTo>
                      <a:pt x="119" y="641"/>
                    </a:lnTo>
                    <a:lnTo>
                      <a:pt x="115" y="607"/>
                    </a:lnTo>
                    <a:lnTo>
                      <a:pt x="108" y="538"/>
                    </a:lnTo>
                    <a:lnTo>
                      <a:pt x="103" y="467"/>
                    </a:lnTo>
                    <a:lnTo>
                      <a:pt x="97" y="396"/>
                    </a:lnTo>
                    <a:lnTo>
                      <a:pt x="92" y="325"/>
                    </a:lnTo>
                    <a:lnTo>
                      <a:pt x="89" y="291"/>
                    </a:lnTo>
                    <a:lnTo>
                      <a:pt x="85" y="257"/>
                    </a:lnTo>
                    <a:lnTo>
                      <a:pt x="81" y="225"/>
                    </a:lnTo>
                    <a:lnTo>
                      <a:pt x="75" y="193"/>
                    </a:lnTo>
                    <a:lnTo>
                      <a:pt x="70" y="163"/>
                    </a:lnTo>
                    <a:lnTo>
                      <a:pt x="63" y="133"/>
                    </a:lnTo>
                    <a:lnTo>
                      <a:pt x="56" y="107"/>
                    </a:lnTo>
                    <a:lnTo>
                      <a:pt x="47" y="81"/>
                    </a:lnTo>
                    <a:lnTo>
                      <a:pt x="37" y="57"/>
                    </a:lnTo>
                    <a:lnTo>
                      <a:pt x="26" y="36"/>
                    </a:lnTo>
                    <a:lnTo>
                      <a:pt x="14" y="17"/>
                    </a:lnTo>
                    <a:lnTo>
                      <a:pt x="0" y="0"/>
                    </a:lnTo>
                    <a:lnTo>
                      <a:pt x="1" y="85"/>
                    </a:lnTo>
                    <a:lnTo>
                      <a:pt x="4" y="205"/>
                    </a:lnTo>
                    <a:lnTo>
                      <a:pt x="10" y="350"/>
                    </a:lnTo>
                    <a:lnTo>
                      <a:pt x="18" y="505"/>
                    </a:lnTo>
                    <a:lnTo>
                      <a:pt x="23" y="584"/>
                    </a:lnTo>
                    <a:lnTo>
                      <a:pt x="29" y="660"/>
                    </a:lnTo>
                    <a:lnTo>
                      <a:pt x="36" y="732"/>
                    </a:lnTo>
                    <a:lnTo>
                      <a:pt x="44" y="800"/>
                    </a:lnTo>
                    <a:lnTo>
                      <a:pt x="52" y="861"/>
                    </a:lnTo>
                    <a:lnTo>
                      <a:pt x="61" y="913"/>
                    </a:lnTo>
                    <a:lnTo>
                      <a:pt x="67" y="936"/>
                    </a:lnTo>
                    <a:lnTo>
                      <a:pt x="72" y="956"/>
                    </a:lnTo>
                    <a:lnTo>
                      <a:pt x="78" y="973"/>
                    </a:lnTo>
                    <a:lnTo>
                      <a:pt x="83" y="986"/>
                    </a:lnTo>
                    <a:lnTo>
                      <a:pt x="94" y="1019"/>
                    </a:lnTo>
                    <a:lnTo>
                      <a:pt x="105" y="1054"/>
                    </a:lnTo>
                    <a:lnTo>
                      <a:pt x="114" y="1091"/>
                    </a:lnTo>
                    <a:lnTo>
                      <a:pt x="123" y="1131"/>
                    </a:lnTo>
                    <a:lnTo>
                      <a:pt x="130" y="1172"/>
                    </a:lnTo>
                    <a:lnTo>
                      <a:pt x="137" y="1214"/>
                    </a:lnTo>
                    <a:lnTo>
                      <a:pt x="142" y="1258"/>
                    </a:lnTo>
                    <a:lnTo>
                      <a:pt x="148" y="1302"/>
                    </a:lnTo>
                    <a:lnTo>
                      <a:pt x="152" y="1347"/>
                    </a:lnTo>
                    <a:lnTo>
                      <a:pt x="156" y="1392"/>
                    </a:lnTo>
                    <a:lnTo>
                      <a:pt x="159" y="1437"/>
                    </a:lnTo>
                    <a:lnTo>
                      <a:pt x="161" y="1480"/>
                    </a:lnTo>
                    <a:lnTo>
                      <a:pt x="164" y="1565"/>
                    </a:lnTo>
                    <a:lnTo>
                      <a:pt x="165" y="1643"/>
                    </a:lnTo>
                    <a:lnTo>
                      <a:pt x="183" y="1654"/>
                    </a:lnTo>
                    <a:lnTo>
                      <a:pt x="198" y="1665"/>
                    </a:lnTo>
                    <a:lnTo>
                      <a:pt x="211" y="1677"/>
                    </a:lnTo>
                    <a:lnTo>
                      <a:pt x="222" y="1689"/>
                    </a:lnTo>
                    <a:lnTo>
                      <a:pt x="232" y="1702"/>
                    </a:lnTo>
                    <a:lnTo>
                      <a:pt x="239" y="1715"/>
                    </a:lnTo>
                    <a:lnTo>
                      <a:pt x="245" y="1729"/>
                    </a:lnTo>
                    <a:lnTo>
                      <a:pt x="250" y="1743"/>
                    </a:lnTo>
                    <a:lnTo>
                      <a:pt x="252" y="1757"/>
                    </a:lnTo>
                    <a:lnTo>
                      <a:pt x="254" y="1772"/>
                    </a:lnTo>
                    <a:lnTo>
                      <a:pt x="254" y="1787"/>
                    </a:lnTo>
                    <a:lnTo>
                      <a:pt x="254" y="1803"/>
                    </a:lnTo>
                    <a:lnTo>
                      <a:pt x="253" y="1835"/>
                    </a:lnTo>
                    <a:lnTo>
                      <a:pt x="250" y="1869"/>
                    </a:lnTo>
                    <a:lnTo>
                      <a:pt x="247" y="1903"/>
                    </a:lnTo>
                    <a:lnTo>
                      <a:pt x="244" y="1939"/>
                    </a:lnTo>
                    <a:lnTo>
                      <a:pt x="244" y="1957"/>
                    </a:lnTo>
                    <a:lnTo>
                      <a:pt x="245" y="1976"/>
                    </a:lnTo>
                    <a:lnTo>
                      <a:pt x="247" y="1994"/>
                    </a:lnTo>
                    <a:lnTo>
                      <a:pt x="250" y="2013"/>
                    </a:lnTo>
                    <a:lnTo>
                      <a:pt x="254" y="2032"/>
                    </a:lnTo>
                    <a:lnTo>
                      <a:pt x="260" y="2051"/>
                    </a:lnTo>
                    <a:lnTo>
                      <a:pt x="266" y="2071"/>
                    </a:lnTo>
                    <a:lnTo>
                      <a:pt x="276" y="2091"/>
                    </a:lnTo>
                    <a:lnTo>
                      <a:pt x="287" y="2111"/>
                    </a:lnTo>
                    <a:lnTo>
                      <a:pt x="300" y="2131"/>
                    </a:lnTo>
                    <a:lnTo>
                      <a:pt x="316" y="2150"/>
                    </a:lnTo>
                    <a:lnTo>
                      <a:pt x="333" y="217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7" name=""/>
              <p:cNvSpPr/>
              <p:nvPr/>
            </p:nvSpPr>
            <p:spPr>
              <a:xfrm>
                <a:off x="2442600" y="4438800"/>
                <a:ext cx="29160" cy="86400"/>
              </a:xfrm>
              <a:custGeom>
                <a:avLst/>
                <a:gdLst/>
                <a:ahLst/>
                <a:rect l="l" t="t" r="r" b="b"/>
                <a:pathLst>
                  <a:path w="200" h="426">
                    <a:moveTo>
                      <a:pt x="153" y="49"/>
                    </a:moveTo>
                    <a:lnTo>
                      <a:pt x="143" y="30"/>
                    </a:lnTo>
                    <a:lnTo>
                      <a:pt x="143" y="31"/>
                    </a:lnTo>
                    <a:lnTo>
                      <a:pt x="142" y="33"/>
                    </a:lnTo>
                    <a:lnTo>
                      <a:pt x="141" y="37"/>
                    </a:lnTo>
                    <a:lnTo>
                      <a:pt x="140" y="40"/>
                    </a:lnTo>
                    <a:lnTo>
                      <a:pt x="135" y="52"/>
                    </a:lnTo>
                    <a:lnTo>
                      <a:pt x="127" y="65"/>
                    </a:lnTo>
                    <a:lnTo>
                      <a:pt x="103" y="99"/>
                    </a:lnTo>
                    <a:lnTo>
                      <a:pt x="76" y="141"/>
                    </a:lnTo>
                    <a:lnTo>
                      <a:pt x="62" y="166"/>
                    </a:lnTo>
                    <a:lnTo>
                      <a:pt x="48" y="194"/>
                    </a:lnTo>
                    <a:lnTo>
                      <a:pt x="35" y="225"/>
                    </a:lnTo>
                    <a:lnTo>
                      <a:pt x="24" y="258"/>
                    </a:lnTo>
                    <a:lnTo>
                      <a:pt x="18" y="277"/>
                    </a:lnTo>
                    <a:lnTo>
                      <a:pt x="14" y="296"/>
                    </a:lnTo>
                    <a:lnTo>
                      <a:pt x="10" y="315"/>
                    </a:lnTo>
                    <a:lnTo>
                      <a:pt x="6" y="336"/>
                    </a:lnTo>
                    <a:lnTo>
                      <a:pt x="3" y="357"/>
                    </a:lnTo>
                    <a:lnTo>
                      <a:pt x="1" y="379"/>
                    </a:lnTo>
                    <a:lnTo>
                      <a:pt x="0" y="403"/>
                    </a:lnTo>
                    <a:lnTo>
                      <a:pt x="0" y="426"/>
                    </a:lnTo>
                    <a:lnTo>
                      <a:pt x="57" y="426"/>
                    </a:lnTo>
                    <a:lnTo>
                      <a:pt x="57" y="404"/>
                    </a:lnTo>
                    <a:lnTo>
                      <a:pt x="59" y="383"/>
                    </a:lnTo>
                    <a:lnTo>
                      <a:pt x="60" y="362"/>
                    </a:lnTo>
                    <a:lnTo>
                      <a:pt x="63" y="343"/>
                    </a:lnTo>
                    <a:lnTo>
                      <a:pt x="65" y="324"/>
                    </a:lnTo>
                    <a:lnTo>
                      <a:pt x="70" y="307"/>
                    </a:lnTo>
                    <a:lnTo>
                      <a:pt x="74" y="290"/>
                    </a:lnTo>
                    <a:lnTo>
                      <a:pt x="79" y="274"/>
                    </a:lnTo>
                    <a:lnTo>
                      <a:pt x="88" y="244"/>
                    </a:lnTo>
                    <a:lnTo>
                      <a:pt x="101" y="216"/>
                    </a:lnTo>
                    <a:lnTo>
                      <a:pt x="113" y="192"/>
                    </a:lnTo>
                    <a:lnTo>
                      <a:pt x="126" y="169"/>
                    </a:lnTo>
                    <a:lnTo>
                      <a:pt x="152" y="128"/>
                    </a:lnTo>
                    <a:lnTo>
                      <a:pt x="174" y="94"/>
                    </a:lnTo>
                    <a:lnTo>
                      <a:pt x="185" y="78"/>
                    </a:lnTo>
                    <a:lnTo>
                      <a:pt x="193" y="63"/>
                    </a:lnTo>
                    <a:lnTo>
                      <a:pt x="196" y="54"/>
                    </a:lnTo>
                    <a:lnTo>
                      <a:pt x="198" y="46"/>
                    </a:lnTo>
                    <a:lnTo>
                      <a:pt x="200" y="36"/>
                    </a:lnTo>
                    <a:lnTo>
                      <a:pt x="200" y="27"/>
                    </a:lnTo>
                    <a:lnTo>
                      <a:pt x="190" y="7"/>
                    </a:lnTo>
                    <a:lnTo>
                      <a:pt x="200" y="27"/>
                    </a:lnTo>
                    <a:lnTo>
                      <a:pt x="199" y="20"/>
                    </a:lnTo>
                    <a:lnTo>
                      <a:pt x="197" y="15"/>
                    </a:lnTo>
                    <a:lnTo>
                      <a:pt x="194" y="11"/>
                    </a:lnTo>
                    <a:lnTo>
                      <a:pt x="190" y="6"/>
                    </a:lnTo>
                    <a:lnTo>
                      <a:pt x="186" y="3"/>
                    </a:lnTo>
                    <a:lnTo>
                      <a:pt x="181" y="1"/>
                    </a:lnTo>
                    <a:lnTo>
                      <a:pt x="176" y="0"/>
                    </a:lnTo>
                    <a:lnTo>
                      <a:pt x="171" y="0"/>
                    </a:lnTo>
                    <a:lnTo>
                      <a:pt x="165" y="1"/>
                    </a:lnTo>
                    <a:lnTo>
                      <a:pt x="160" y="2"/>
                    </a:lnTo>
                    <a:lnTo>
                      <a:pt x="155" y="5"/>
                    </a:lnTo>
                    <a:lnTo>
                      <a:pt x="151" y="9"/>
                    </a:lnTo>
                    <a:lnTo>
                      <a:pt x="148" y="13"/>
                    </a:lnTo>
                    <a:lnTo>
                      <a:pt x="144" y="17"/>
                    </a:lnTo>
                    <a:lnTo>
                      <a:pt x="143" y="22"/>
                    </a:lnTo>
                    <a:lnTo>
                      <a:pt x="143" y="30"/>
                    </a:lnTo>
                    <a:lnTo>
                      <a:pt x="153" y="49"/>
                    </a:lnTo>
                    <a:close/>
                  </a:path>
                </a:pathLst>
              </a:custGeom>
              <a:solidFill>
                <a:srgbClr val="000000"/>
              </a:solidFill>
              <a:ln w="0">
                <a:noFill/>
              </a:ln>
            </p:spPr>
            <p:style>
              <a:lnRef idx="0"/>
              <a:fillRef idx="0"/>
              <a:effectRef idx="0"/>
              <a:fontRef idx="minor"/>
            </p:style>
            <p:txBody>
              <a:bodyPr wrap="none" lIns="93240" rIns="93240" tIns="39960" bIns="39960" anchor="t">
                <a:spAutoFit/>
              </a:bodyPr>
              <a:p>
                <a:endParaRPr b="0" lang="en-US" sz="2400" spc="-1" strike="noStrike">
                  <a:solidFill>
                    <a:srgbClr val="ffffff"/>
                  </a:solidFill>
                  <a:latin typeface="Times New Roman"/>
                </a:endParaRPr>
              </a:p>
            </p:txBody>
          </p:sp>
          <p:sp>
            <p:nvSpPr>
              <p:cNvPr id="438" name=""/>
              <p:cNvSpPr/>
              <p:nvPr/>
            </p:nvSpPr>
            <p:spPr>
              <a:xfrm>
                <a:off x="2428560" y="4266360"/>
                <a:ext cx="42120" cy="182160"/>
              </a:xfrm>
              <a:custGeom>
                <a:avLst/>
                <a:gdLst/>
                <a:ahLst/>
                <a:rect l="l" t="t" r="r" b="b"/>
                <a:pathLst>
                  <a:path w="295" h="913">
                    <a:moveTo>
                      <a:pt x="14" y="50"/>
                    </a:moveTo>
                    <a:lnTo>
                      <a:pt x="0" y="28"/>
                    </a:lnTo>
                    <a:lnTo>
                      <a:pt x="2" y="63"/>
                    </a:lnTo>
                    <a:lnTo>
                      <a:pt x="3" y="105"/>
                    </a:lnTo>
                    <a:lnTo>
                      <a:pt x="5" y="154"/>
                    </a:lnTo>
                    <a:lnTo>
                      <a:pt x="8" y="207"/>
                    </a:lnTo>
                    <a:lnTo>
                      <a:pt x="13" y="265"/>
                    </a:lnTo>
                    <a:lnTo>
                      <a:pt x="19" y="326"/>
                    </a:lnTo>
                    <a:lnTo>
                      <a:pt x="29" y="389"/>
                    </a:lnTo>
                    <a:lnTo>
                      <a:pt x="40" y="454"/>
                    </a:lnTo>
                    <a:lnTo>
                      <a:pt x="47" y="487"/>
                    </a:lnTo>
                    <a:lnTo>
                      <a:pt x="54" y="520"/>
                    </a:lnTo>
                    <a:lnTo>
                      <a:pt x="62" y="553"/>
                    </a:lnTo>
                    <a:lnTo>
                      <a:pt x="72" y="584"/>
                    </a:lnTo>
                    <a:lnTo>
                      <a:pt x="81" y="617"/>
                    </a:lnTo>
                    <a:lnTo>
                      <a:pt x="92" y="648"/>
                    </a:lnTo>
                    <a:lnTo>
                      <a:pt x="104" y="680"/>
                    </a:lnTo>
                    <a:lnTo>
                      <a:pt x="116" y="709"/>
                    </a:lnTo>
                    <a:lnTo>
                      <a:pt x="130" y="739"/>
                    </a:lnTo>
                    <a:lnTo>
                      <a:pt x="144" y="768"/>
                    </a:lnTo>
                    <a:lnTo>
                      <a:pt x="161" y="795"/>
                    </a:lnTo>
                    <a:lnTo>
                      <a:pt x="177" y="822"/>
                    </a:lnTo>
                    <a:lnTo>
                      <a:pt x="196" y="847"/>
                    </a:lnTo>
                    <a:lnTo>
                      <a:pt x="214" y="870"/>
                    </a:lnTo>
                    <a:lnTo>
                      <a:pt x="235" y="893"/>
                    </a:lnTo>
                    <a:lnTo>
                      <a:pt x="258" y="913"/>
                    </a:lnTo>
                    <a:lnTo>
                      <a:pt x="295" y="871"/>
                    </a:lnTo>
                    <a:lnTo>
                      <a:pt x="277" y="853"/>
                    </a:lnTo>
                    <a:lnTo>
                      <a:pt x="258" y="834"/>
                    </a:lnTo>
                    <a:lnTo>
                      <a:pt x="241" y="813"/>
                    </a:lnTo>
                    <a:lnTo>
                      <a:pt x="225" y="791"/>
                    </a:lnTo>
                    <a:lnTo>
                      <a:pt x="210" y="768"/>
                    </a:lnTo>
                    <a:lnTo>
                      <a:pt x="195" y="742"/>
                    </a:lnTo>
                    <a:lnTo>
                      <a:pt x="181" y="716"/>
                    </a:lnTo>
                    <a:lnTo>
                      <a:pt x="168" y="688"/>
                    </a:lnTo>
                    <a:lnTo>
                      <a:pt x="157" y="660"/>
                    </a:lnTo>
                    <a:lnTo>
                      <a:pt x="146" y="630"/>
                    </a:lnTo>
                    <a:lnTo>
                      <a:pt x="135" y="600"/>
                    </a:lnTo>
                    <a:lnTo>
                      <a:pt x="127" y="569"/>
                    </a:lnTo>
                    <a:lnTo>
                      <a:pt x="118" y="539"/>
                    </a:lnTo>
                    <a:lnTo>
                      <a:pt x="110" y="508"/>
                    </a:lnTo>
                    <a:lnTo>
                      <a:pt x="102" y="476"/>
                    </a:lnTo>
                    <a:lnTo>
                      <a:pt x="96" y="444"/>
                    </a:lnTo>
                    <a:lnTo>
                      <a:pt x="85" y="382"/>
                    </a:lnTo>
                    <a:lnTo>
                      <a:pt x="76" y="319"/>
                    </a:lnTo>
                    <a:lnTo>
                      <a:pt x="70" y="260"/>
                    </a:lnTo>
                    <a:lnTo>
                      <a:pt x="65" y="203"/>
                    </a:lnTo>
                    <a:lnTo>
                      <a:pt x="62" y="151"/>
                    </a:lnTo>
                    <a:lnTo>
                      <a:pt x="60" y="103"/>
                    </a:lnTo>
                    <a:lnTo>
                      <a:pt x="59" y="62"/>
                    </a:lnTo>
                    <a:lnTo>
                      <a:pt x="59" y="28"/>
                    </a:lnTo>
                    <a:lnTo>
                      <a:pt x="47" y="5"/>
                    </a:lnTo>
                    <a:lnTo>
                      <a:pt x="59" y="28"/>
                    </a:lnTo>
                    <a:lnTo>
                      <a:pt x="58" y="22"/>
                    </a:lnTo>
                    <a:lnTo>
                      <a:pt x="56" y="15"/>
                    </a:lnTo>
                    <a:lnTo>
                      <a:pt x="53" y="11"/>
                    </a:lnTo>
                    <a:lnTo>
                      <a:pt x="50" y="7"/>
                    </a:lnTo>
                    <a:lnTo>
                      <a:pt x="45" y="4"/>
                    </a:lnTo>
                    <a:lnTo>
                      <a:pt x="40" y="2"/>
                    </a:lnTo>
                    <a:lnTo>
                      <a:pt x="36" y="0"/>
                    </a:lnTo>
                    <a:lnTo>
                      <a:pt x="30" y="0"/>
                    </a:lnTo>
                    <a:lnTo>
                      <a:pt x="25" y="0"/>
                    </a:lnTo>
                    <a:lnTo>
                      <a:pt x="19" y="2"/>
                    </a:lnTo>
                    <a:lnTo>
                      <a:pt x="15" y="4"/>
                    </a:lnTo>
                    <a:lnTo>
                      <a:pt x="10" y="7"/>
                    </a:lnTo>
                    <a:lnTo>
                      <a:pt x="6" y="11"/>
                    </a:lnTo>
                    <a:lnTo>
                      <a:pt x="4" y="15"/>
                    </a:lnTo>
                    <a:lnTo>
                      <a:pt x="2" y="22"/>
                    </a:lnTo>
                    <a:lnTo>
                      <a:pt x="0" y="28"/>
                    </a:lnTo>
                    <a:lnTo>
                      <a:pt x="14" y="5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39" name=""/>
              <p:cNvSpPr/>
              <p:nvPr/>
            </p:nvSpPr>
            <p:spPr>
              <a:xfrm>
                <a:off x="2395440" y="4082040"/>
                <a:ext cx="39240" cy="193680"/>
              </a:xfrm>
              <a:custGeom>
                <a:avLst/>
                <a:gdLst/>
                <a:ahLst/>
                <a:rect l="l" t="t" r="r" b="b"/>
                <a:pathLst>
                  <a:path w="276" h="958">
                    <a:moveTo>
                      <a:pt x="57" y="28"/>
                    </a:moveTo>
                    <a:lnTo>
                      <a:pt x="8" y="47"/>
                    </a:lnTo>
                    <a:lnTo>
                      <a:pt x="15" y="54"/>
                    </a:lnTo>
                    <a:lnTo>
                      <a:pt x="20" y="61"/>
                    </a:lnTo>
                    <a:lnTo>
                      <a:pt x="26" y="69"/>
                    </a:lnTo>
                    <a:lnTo>
                      <a:pt x="30" y="77"/>
                    </a:lnTo>
                    <a:lnTo>
                      <a:pt x="41" y="97"/>
                    </a:lnTo>
                    <a:lnTo>
                      <a:pt x="50" y="119"/>
                    </a:lnTo>
                    <a:lnTo>
                      <a:pt x="57" y="142"/>
                    </a:lnTo>
                    <a:lnTo>
                      <a:pt x="65" y="169"/>
                    </a:lnTo>
                    <a:lnTo>
                      <a:pt x="72" y="196"/>
                    </a:lnTo>
                    <a:lnTo>
                      <a:pt x="77" y="226"/>
                    </a:lnTo>
                    <a:lnTo>
                      <a:pt x="81" y="257"/>
                    </a:lnTo>
                    <a:lnTo>
                      <a:pt x="86" y="289"/>
                    </a:lnTo>
                    <a:lnTo>
                      <a:pt x="89" y="321"/>
                    </a:lnTo>
                    <a:lnTo>
                      <a:pt x="92" y="355"/>
                    </a:lnTo>
                    <a:lnTo>
                      <a:pt x="98" y="426"/>
                    </a:lnTo>
                    <a:lnTo>
                      <a:pt x="103" y="497"/>
                    </a:lnTo>
                    <a:lnTo>
                      <a:pt x="109" y="568"/>
                    </a:lnTo>
                    <a:lnTo>
                      <a:pt x="115" y="638"/>
                    </a:lnTo>
                    <a:lnTo>
                      <a:pt x="120" y="672"/>
                    </a:lnTo>
                    <a:lnTo>
                      <a:pt x="125" y="705"/>
                    </a:lnTo>
                    <a:lnTo>
                      <a:pt x="131" y="738"/>
                    </a:lnTo>
                    <a:lnTo>
                      <a:pt x="137" y="769"/>
                    </a:lnTo>
                    <a:lnTo>
                      <a:pt x="145" y="798"/>
                    </a:lnTo>
                    <a:lnTo>
                      <a:pt x="154" y="827"/>
                    </a:lnTo>
                    <a:lnTo>
                      <a:pt x="164" y="853"/>
                    </a:lnTo>
                    <a:lnTo>
                      <a:pt x="175" y="878"/>
                    </a:lnTo>
                    <a:lnTo>
                      <a:pt x="182" y="890"/>
                    </a:lnTo>
                    <a:lnTo>
                      <a:pt x="189" y="902"/>
                    </a:lnTo>
                    <a:lnTo>
                      <a:pt x="197" y="913"/>
                    </a:lnTo>
                    <a:lnTo>
                      <a:pt x="204" y="923"/>
                    </a:lnTo>
                    <a:lnTo>
                      <a:pt x="213" y="933"/>
                    </a:lnTo>
                    <a:lnTo>
                      <a:pt x="222" y="942"/>
                    </a:lnTo>
                    <a:lnTo>
                      <a:pt x="232" y="951"/>
                    </a:lnTo>
                    <a:lnTo>
                      <a:pt x="243" y="958"/>
                    </a:lnTo>
                    <a:lnTo>
                      <a:pt x="276" y="913"/>
                    </a:lnTo>
                    <a:lnTo>
                      <a:pt x="268" y="908"/>
                    </a:lnTo>
                    <a:lnTo>
                      <a:pt x="261" y="902"/>
                    </a:lnTo>
                    <a:lnTo>
                      <a:pt x="255" y="896"/>
                    </a:lnTo>
                    <a:lnTo>
                      <a:pt x="249" y="888"/>
                    </a:lnTo>
                    <a:lnTo>
                      <a:pt x="243" y="881"/>
                    </a:lnTo>
                    <a:lnTo>
                      <a:pt x="237" y="872"/>
                    </a:lnTo>
                    <a:lnTo>
                      <a:pt x="232" y="864"/>
                    </a:lnTo>
                    <a:lnTo>
                      <a:pt x="227" y="854"/>
                    </a:lnTo>
                    <a:lnTo>
                      <a:pt x="216" y="833"/>
                    </a:lnTo>
                    <a:lnTo>
                      <a:pt x="208" y="810"/>
                    </a:lnTo>
                    <a:lnTo>
                      <a:pt x="200" y="784"/>
                    </a:lnTo>
                    <a:lnTo>
                      <a:pt x="193" y="757"/>
                    </a:lnTo>
                    <a:lnTo>
                      <a:pt x="187" y="727"/>
                    </a:lnTo>
                    <a:lnTo>
                      <a:pt x="181" y="697"/>
                    </a:lnTo>
                    <a:lnTo>
                      <a:pt x="177" y="665"/>
                    </a:lnTo>
                    <a:lnTo>
                      <a:pt x="172" y="632"/>
                    </a:lnTo>
                    <a:lnTo>
                      <a:pt x="166" y="564"/>
                    </a:lnTo>
                    <a:lnTo>
                      <a:pt x="160" y="493"/>
                    </a:lnTo>
                    <a:lnTo>
                      <a:pt x="155" y="422"/>
                    </a:lnTo>
                    <a:lnTo>
                      <a:pt x="149" y="351"/>
                    </a:lnTo>
                    <a:lnTo>
                      <a:pt x="146" y="316"/>
                    </a:lnTo>
                    <a:lnTo>
                      <a:pt x="143" y="282"/>
                    </a:lnTo>
                    <a:lnTo>
                      <a:pt x="138" y="249"/>
                    </a:lnTo>
                    <a:lnTo>
                      <a:pt x="133" y="217"/>
                    </a:lnTo>
                    <a:lnTo>
                      <a:pt x="128" y="186"/>
                    </a:lnTo>
                    <a:lnTo>
                      <a:pt x="121" y="155"/>
                    </a:lnTo>
                    <a:lnTo>
                      <a:pt x="112" y="126"/>
                    </a:lnTo>
                    <a:lnTo>
                      <a:pt x="103" y="100"/>
                    </a:lnTo>
                    <a:lnTo>
                      <a:pt x="92" y="75"/>
                    </a:lnTo>
                    <a:lnTo>
                      <a:pt x="80" y="51"/>
                    </a:lnTo>
                    <a:lnTo>
                      <a:pt x="74" y="40"/>
                    </a:lnTo>
                    <a:lnTo>
                      <a:pt x="66" y="29"/>
                    </a:lnTo>
                    <a:lnTo>
                      <a:pt x="58" y="19"/>
                    </a:lnTo>
                    <a:lnTo>
                      <a:pt x="50" y="10"/>
                    </a:lnTo>
                    <a:lnTo>
                      <a:pt x="0" y="28"/>
                    </a:lnTo>
                    <a:lnTo>
                      <a:pt x="50" y="10"/>
                    </a:lnTo>
                    <a:lnTo>
                      <a:pt x="45" y="6"/>
                    </a:lnTo>
                    <a:lnTo>
                      <a:pt x="40" y="2"/>
                    </a:lnTo>
                    <a:lnTo>
                      <a:pt x="34" y="0"/>
                    </a:lnTo>
                    <a:lnTo>
                      <a:pt x="29" y="0"/>
                    </a:lnTo>
                    <a:lnTo>
                      <a:pt x="23" y="1"/>
                    </a:lnTo>
                    <a:lnTo>
                      <a:pt x="19" y="2"/>
                    </a:lnTo>
                    <a:lnTo>
                      <a:pt x="13" y="5"/>
                    </a:lnTo>
                    <a:lnTo>
                      <a:pt x="9" y="8"/>
                    </a:lnTo>
                    <a:lnTo>
                      <a:pt x="6" y="12"/>
                    </a:lnTo>
                    <a:lnTo>
                      <a:pt x="2" y="16"/>
                    </a:lnTo>
                    <a:lnTo>
                      <a:pt x="1" y="22"/>
                    </a:lnTo>
                    <a:lnTo>
                      <a:pt x="0" y="26"/>
                    </a:lnTo>
                    <a:lnTo>
                      <a:pt x="0" y="31"/>
                    </a:lnTo>
                    <a:lnTo>
                      <a:pt x="1" y="36"/>
                    </a:lnTo>
                    <a:lnTo>
                      <a:pt x="4" y="42"/>
                    </a:lnTo>
                    <a:lnTo>
                      <a:pt x="8" y="47"/>
                    </a:lnTo>
                    <a:lnTo>
                      <a:pt x="57" y="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0" name=""/>
              <p:cNvSpPr/>
              <p:nvPr/>
            </p:nvSpPr>
            <p:spPr>
              <a:xfrm>
                <a:off x="2395440" y="4087440"/>
                <a:ext cx="20160" cy="201960"/>
              </a:xfrm>
              <a:custGeom>
                <a:avLst/>
                <a:gdLst/>
                <a:ahLst/>
                <a:rect l="l" t="t" r="r" b="b"/>
                <a:pathLst>
                  <a:path w="140" h="998">
                    <a:moveTo>
                      <a:pt x="140" y="977"/>
                    </a:moveTo>
                    <a:lnTo>
                      <a:pt x="138" y="975"/>
                    </a:lnTo>
                    <a:lnTo>
                      <a:pt x="133" y="963"/>
                    </a:lnTo>
                    <a:lnTo>
                      <a:pt x="129" y="948"/>
                    </a:lnTo>
                    <a:lnTo>
                      <a:pt x="123" y="929"/>
                    </a:lnTo>
                    <a:lnTo>
                      <a:pt x="119" y="908"/>
                    </a:lnTo>
                    <a:lnTo>
                      <a:pt x="110" y="857"/>
                    </a:lnTo>
                    <a:lnTo>
                      <a:pt x="101" y="797"/>
                    </a:lnTo>
                    <a:lnTo>
                      <a:pt x="94" y="730"/>
                    </a:lnTo>
                    <a:lnTo>
                      <a:pt x="87" y="658"/>
                    </a:lnTo>
                    <a:lnTo>
                      <a:pt x="80" y="582"/>
                    </a:lnTo>
                    <a:lnTo>
                      <a:pt x="76" y="504"/>
                    </a:lnTo>
                    <a:lnTo>
                      <a:pt x="67" y="349"/>
                    </a:lnTo>
                    <a:lnTo>
                      <a:pt x="62" y="204"/>
                    </a:lnTo>
                    <a:lnTo>
                      <a:pt x="58" y="84"/>
                    </a:lnTo>
                    <a:lnTo>
                      <a:pt x="57" y="0"/>
                    </a:lnTo>
                    <a:lnTo>
                      <a:pt x="0" y="0"/>
                    </a:lnTo>
                    <a:lnTo>
                      <a:pt x="1" y="85"/>
                    </a:lnTo>
                    <a:lnTo>
                      <a:pt x="5" y="205"/>
                    </a:lnTo>
                    <a:lnTo>
                      <a:pt x="10" y="351"/>
                    </a:lnTo>
                    <a:lnTo>
                      <a:pt x="18" y="507"/>
                    </a:lnTo>
                    <a:lnTo>
                      <a:pt x="23" y="586"/>
                    </a:lnTo>
                    <a:lnTo>
                      <a:pt x="30" y="662"/>
                    </a:lnTo>
                    <a:lnTo>
                      <a:pt x="36" y="735"/>
                    </a:lnTo>
                    <a:lnTo>
                      <a:pt x="44" y="803"/>
                    </a:lnTo>
                    <a:lnTo>
                      <a:pt x="53" y="865"/>
                    </a:lnTo>
                    <a:lnTo>
                      <a:pt x="63" y="919"/>
                    </a:lnTo>
                    <a:lnTo>
                      <a:pt x="67" y="942"/>
                    </a:lnTo>
                    <a:lnTo>
                      <a:pt x="74" y="963"/>
                    </a:lnTo>
                    <a:lnTo>
                      <a:pt x="79" y="982"/>
                    </a:lnTo>
                    <a:lnTo>
                      <a:pt x="86" y="998"/>
                    </a:lnTo>
                    <a:lnTo>
                      <a:pt x="86" y="996"/>
                    </a:lnTo>
                    <a:lnTo>
                      <a:pt x="140" y="97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1" name=""/>
              <p:cNvSpPr/>
              <p:nvPr/>
            </p:nvSpPr>
            <p:spPr>
              <a:xfrm>
                <a:off x="2408040" y="4285440"/>
                <a:ext cx="19080" cy="139320"/>
              </a:xfrm>
              <a:custGeom>
                <a:avLst/>
                <a:gdLst/>
                <a:ahLst/>
                <a:rect l="l" t="t" r="r" b="b"/>
                <a:pathLst>
                  <a:path w="137" h="694">
                    <a:moveTo>
                      <a:pt x="123" y="642"/>
                    </a:moveTo>
                    <a:lnTo>
                      <a:pt x="137" y="666"/>
                    </a:lnTo>
                    <a:lnTo>
                      <a:pt x="136" y="587"/>
                    </a:lnTo>
                    <a:lnTo>
                      <a:pt x="133" y="502"/>
                    </a:lnTo>
                    <a:lnTo>
                      <a:pt x="130" y="458"/>
                    </a:lnTo>
                    <a:lnTo>
                      <a:pt x="127" y="413"/>
                    </a:lnTo>
                    <a:lnTo>
                      <a:pt x="124" y="368"/>
                    </a:lnTo>
                    <a:lnTo>
                      <a:pt x="119" y="323"/>
                    </a:lnTo>
                    <a:lnTo>
                      <a:pt x="114" y="278"/>
                    </a:lnTo>
                    <a:lnTo>
                      <a:pt x="108" y="234"/>
                    </a:lnTo>
                    <a:lnTo>
                      <a:pt x="102" y="191"/>
                    </a:lnTo>
                    <a:lnTo>
                      <a:pt x="94" y="148"/>
                    </a:lnTo>
                    <a:lnTo>
                      <a:pt x="85" y="108"/>
                    </a:lnTo>
                    <a:lnTo>
                      <a:pt x="76" y="70"/>
                    </a:lnTo>
                    <a:lnTo>
                      <a:pt x="65" y="34"/>
                    </a:lnTo>
                    <a:lnTo>
                      <a:pt x="54" y="0"/>
                    </a:lnTo>
                    <a:lnTo>
                      <a:pt x="0" y="19"/>
                    </a:lnTo>
                    <a:lnTo>
                      <a:pt x="10" y="51"/>
                    </a:lnTo>
                    <a:lnTo>
                      <a:pt x="21" y="84"/>
                    </a:lnTo>
                    <a:lnTo>
                      <a:pt x="29" y="121"/>
                    </a:lnTo>
                    <a:lnTo>
                      <a:pt x="37" y="159"/>
                    </a:lnTo>
                    <a:lnTo>
                      <a:pt x="45" y="199"/>
                    </a:lnTo>
                    <a:lnTo>
                      <a:pt x="51" y="241"/>
                    </a:lnTo>
                    <a:lnTo>
                      <a:pt x="57" y="284"/>
                    </a:lnTo>
                    <a:lnTo>
                      <a:pt x="62" y="328"/>
                    </a:lnTo>
                    <a:lnTo>
                      <a:pt x="67" y="373"/>
                    </a:lnTo>
                    <a:lnTo>
                      <a:pt x="70" y="417"/>
                    </a:lnTo>
                    <a:lnTo>
                      <a:pt x="73" y="461"/>
                    </a:lnTo>
                    <a:lnTo>
                      <a:pt x="76" y="504"/>
                    </a:lnTo>
                    <a:lnTo>
                      <a:pt x="79" y="589"/>
                    </a:lnTo>
                    <a:lnTo>
                      <a:pt x="80" y="666"/>
                    </a:lnTo>
                    <a:lnTo>
                      <a:pt x="94" y="690"/>
                    </a:lnTo>
                    <a:lnTo>
                      <a:pt x="80" y="666"/>
                    </a:lnTo>
                    <a:lnTo>
                      <a:pt x="80" y="673"/>
                    </a:lnTo>
                    <a:lnTo>
                      <a:pt x="82" y="678"/>
                    </a:lnTo>
                    <a:lnTo>
                      <a:pt x="84" y="683"/>
                    </a:lnTo>
                    <a:lnTo>
                      <a:pt x="89" y="687"/>
                    </a:lnTo>
                    <a:lnTo>
                      <a:pt x="93" y="690"/>
                    </a:lnTo>
                    <a:lnTo>
                      <a:pt x="97" y="692"/>
                    </a:lnTo>
                    <a:lnTo>
                      <a:pt x="103" y="693"/>
                    </a:lnTo>
                    <a:lnTo>
                      <a:pt x="108" y="694"/>
                    </a:lnTo>
                    <a:lnTo>
                      <a:pt x="114" y="693"/>
                    </a:lnTo>
                    <a:lnTo>
                      <a:pt x="118" y="692"/>
                    </a:lnTo>
                    <a:lnTo>
                      <a:pt x="124" y="690"/>
                    </a:lnTo>
                    <a:lnTo>
                      <a:pt x="128" y="687"/>
                    </a:lnTo>
                    <a:lnTo>
                      <a:pt x="131" y="683"/>
                    </a:lnTo>
                    <a:lnTo>
                      <a:pt x="135" y="678"/>
                    </a:lnTo>
                    <a:lnTo>
                      <a:pt x="136" y="673"/>
                    </a:lnTo>
                    <a:lnTo>
                      <a:pt x="137" y="666"/>
                    </a:lnTo>
                    <a:lnTo>
                      <a:pt x="123" y="64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2" name=""/>
              <p:cNvSpPr/>
              <p:nvPr/>
            </p:nvSpPr>
            <p:spPr>
              <a:xfrm>
                <a:off x="2421000" y="4413960"/>
                <a:ext cx="30600" cy="116640"/>
              </a:xfrm>
              <a:custGeom>
                <a:avLst/>
                <a:gdLst/>
                <a:ahLst/>
                <a:rect l="l" t="t" r="r" b="b"/>
                <a:pathLst>
                  <a:path w="211" h="580">
                    <a:moveTo>
                      <a:pt x="154" y="551"/>
                    </a:moveTo>
                    <a:lnTo>
                      <a:pt x="203" y="532"/>
                    </a:lnTo>
                    <a:lnTo>
                      <a:pt x="187" y="514"/>
                    </a:lnTo>
                    <a:lnTo>
                      <a:pt x="172" y="496"/>
                    </a:lnTo>
                    <a:lnTo>
                      <a:pt x="160" y="478"/>
                    </a:lnTo>
                    <a:lnTo>
                      <a:pt x="150" y="460"/>
                    </a:lnTo>
                    <a:lnTo>
                      <a:pt x="143" y="442"/>
                    </a:lnTo>
                    <a:lnTo>
                      <a:pt x="136" y="424"/>
                    </a:lnTo>
                    <a:lnTo>
                      <a:pt x="131" y="407"/>
                    </a:lnTo>
                    <a:lnTo>
                      <a:pt x="127" y="390"/>
                    </a:lnTo>
                    <a:lnTo>
                      <a:pt x="124" y="372"/>
                    </a:lnTo>
                    <a:lnTo>
                      <a:pt x="123" y="355"/>
                    </a:lnTo>
                    <a:lnTo>
                      <a:pt x="122" y="338"/>
                    </a:lnTo>
                    <a:lnTo>
                      <a:pt x="122" y="321"/>
                    </a:lnTo>
                    <a:lnTo>
                      <a:pt x="124" y="286"/>
                    </a:lnTo>
                    <a:lnTo>
                      <a:pt x="127" y="252"/>
                    </a:lnTo>
                    <a:lnTo>
                      <a:pt x="131" y="218"/>
                    </a:lnTo>
                    <a:lnTo>
                      <a:pt x="133" y="184"/>
                    </a:lnTo>
                    <a:lnTo>
                      <a:pt x="133" y="167"/>
                    </a:lnTo>
                    <a:lnTo>
                      <a:pt x="132" y="150"/>
                    </a:lnTo>
                    <a:lnTo>
                      <a:pt x="130" y="135"/>
                    </a:lnTo>
                    <a:lnTo>
                      <a:pt x="126" y="118"/>
                    </a:lnTo>
                    <a:lnTo>
                      <a:pt x="121" y="101"/>
                    </a:lnTo>
                    <a:lnTo>
                      <a:pt x="114" y="85"/>
                    </a:lnTo>
                    <a:lnTo>
                      <a:pt x="105" y="69"/>
                    </a:lnTo>
                    <a:lnTo>
                      <a:pt x="94" y="53"/>
                    </a:lnTo>
                    <a:lnTo>
                      <a:pt x="81" y="38"/>
                    </a:lnTo>
                    <a:lnTo>
                      <a:pt x="66" y="24"/>
                    </a:lnTo>
                    <a:lnTo>
                      <a:pt x="48" y="12"/>
                    </a:lnTo>
                    <a:lnTo>
                      <a:pt x="29" y="0"/>
                    </a:lnTo>
                    <a:lnTo>
                      <a:pt x="0" y="48"/>
                    </a:lnTo>
                    <a:lnTo>
                      <a:pt x="15" y="57"/>
                    </a:lnTo>
                    <a:lnTo>
                      <a:pt x="30" y="68"/>
                    </a:lnTo>
                    <a:lnTo>
                      <a:pt x="41" y="77"/>
                    </a:lnTo>
                    <a:lnTo>
                      <a:pt x="49" y="87"/>
                    </a:lnTo>
                    <a:lnTo>
                      <a:pt x="56" y="97"/>
                    </a:lnTo>
                    <a:lnTo>
                      <a:pt x="63" y="108"/>
                    </a:lnTo>
                    <a:lnTo>
                      <a:pt x="67" y="119"/>
                    </a:lnTo>
                    <a:lnTo>
                      <a:pt x="70" y="130"/>
                    </a:lnTo>
                    <a:lnTo>
                      <a:pt x="73" y="142"/>
                    </a:lnTo>
                    <a:lnTo>
                      <a:pt x="75" y="155"/>
                    </a:lnTo>
                    <a:lnTo>
                      <a:pt x="75" y="168"/>
                    </a:lnTo>
                    <a:lnTo>
                      <a:pt x="75" y="183"/>
                    </a:lnTo>
                    <a:lnTo>
                      <a:pt x="74" y="214"/>
                    </a:lnTo>
                    <a:lnTo>
                      <a:pt x="70" y="247"/>
                    </a:lnTo>
                    <a:lnTo>
                      <a:pt x="67" y="282"/>
                    </a:lnTo>
                    <a:lnTo>
                      <a:pt x="65" y="319"/>
                    </a:lnTo>
                    <a:lnTo>
                      <a:pt x="65" y="339"/>
                    </a:lnTo>
                    <a:lnTo>
                      <a:pt x="66" y="358"/>
                    </a:lnTo>
                    <a:lnTo>
                      <a:pt x="67" y="378"/>
                    </a:lnTo>
                    <a:lnTo>
                      <a:pt x="70" y="399"/>
                    </a:lnTo>
                    <a:lnTo>
                      <a:pt x="75" y="421"/>
                    </a:lnTo>
                    <a:lnTo>
                      <a:pt x="81" y="441"/>
                    </a:lnTo>
                    <a:lnTo>
                      <a:pt x="89" y="463"/>
                    </a:lnTo>
                    <a:lnTo>
                      <a:pt x="99" y="484"/>
                    </a:lnTo>
                    <a:lnTo>
                      <a:pt x="111" y="505"/>
                    </a:lnTo>
                    <a:lnTo>
                      <a:pt x="125" y="527"/>
                    </a:lnTo>
                    <a:lnTo>
                      <a:pt x="142" y="549"/>
                    </a:lnTo>
                    <a:lnTo>
                      <a:pt x="161" y="570"/>
                    </a:lnTo>
                    <a:lnTo>
                      <a:pt x="211" y="551"/>
                    </a:lnTo>
                    <a:lnTo>
                      <a:pt x="161" y="570"/>
                    </a:lnTo>
                    <a:lnTo>
                      <a:pt x="166" y="574"/>
                    </a:lnTo>
                    <a:lnTo>
                      <a:pt x="171" y="578"/>
                    </a:lnTo>
                    <a:lnTo>
                      <a:pt x="177" y="579"/>
                    </a:lnTo>
                    <a:lnTo>
                      <a:pt x="182" y="580"/>
                    </a:lnTo>
                    <a:lnTo>
                      <a:pt x="188" y="579"/>
                    </a:lnTo>
                    <a:lnTo>
                      <a:pt x="192" y="578"/>
                    </a:lnTo>
                    <a:lnTo>
                      <a:pt x="198" y="574"/>
                    </a:lnTo>
                    <a:lnTo>
                      <a:pt x="202" y="571"/>
                    </a:lnTo>
                    <a:lnTo>
                      <a:pt x="205" y="568"/>
                    </a:lnTo>
                    <a:lnTo>
                      <a:pt x="208" y="564"/>
                    </a:lnTo>
                    <a:lnTo>
                      <a:pt x="210" y="558"/>
                    </a:lnTo>
                    <a:lnTo>
                      <a:pt x="211" y="553"/>
                    </a:lnTo>
                    <a:lnTo>
                      <a:pt x="211" y="548"/>
                    </a:lnTo>
                    <a:lnTo>
                      <a:pt x="210" y="543"/>
                    </a:lnTo>
                    <a:lnTo>
                      <a:pt x="207" y="537"/>
                    </a:lnTo>
                    <a:lnTo>
                      <a:pt x="203" y="532"/>
                    </a:lnTo>
                    <a:lnTo>
                      <a:pt x="154" y="55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3" name=""/>
              <p:cNvSpPr/>
              <p:nvPr/>
            </p:nvSpPr>
            <p:spPr>
              <a:xfrm>
                <a:off x="1981440" y="4565880"/>
                <a:ext cx="522360" cy="432000"/>
              </a:xfrm>
              <a:custGeom>
                <a:avLst/>
                <a:gdLst/>
                <a:ahLst/>
                <a:rect l="l" t="t" r="r" b="b"/>
                <a:pathLst>
                  <a:path w="3628" h="2143">
                    <a:moveTo>
                      <a:pt x="2485" y="782"/>
                    </a:moveTo>
                    <a:lnTo>
                      <a:pt x="2520" y="784"/>
                    </a:lnTo>
                    <a:lnTo>
                      <a:pt x="2558" y="789"/>
                    </a:lnTo>
                    <a:lnTo>
                      <a:pt x="2600" y="799"/>
                    </a:lnTo>
                    <a:lnTo>
                      <a:pt x="2644" y="813"/>
                    </a:lnTo>
                    <a:lnTo>
                      <a:pt x="2689" y="829"/>
                    </a:lnTo>
                    <a:lnTo>
                      <a:pt x="2737" y="849"/>
                    </a:lnTo>
                    <a:lnTo>
                      <a:pt x="2787" y="871"/>
                    </a:lnTo>
                    <a:lnTo>
                      <a:pt x="2837" y="896"/>
                    </a:lnTo>
                    <a:lnTo>
                      <a:pt x="2889" y="925"/>
                    </a:lnTo>
                    <a:lnTo>
                      <a:pt x="2940" y="956"/>
                    </a:lnTo>
                    <a:lnTo>
                      <a:pt x="2993" y="990"/>
                    </a:lnTo>
                    <a:lnTo>
                      <a:pt x="3045" y="1026"/>
                    </a:lnTo>
                    <a:lnTo>
                      <a:pt x="3098" y="1063"/>
                    </a:lnTo>
                    <a:lnTo>
                      <a:pt x="3148" y="1103"/>
                    </a:lnTo>
                    <a:lnTo>
                      <a:pt x="3199" y="1146"/>
                    </a:lnTo>
                    <a:lnTo>
                      <a:pt x="3248" y="1189"/>
                    </a:lnTo>
                    <a:lnTo>
                      <a:pt x="3296" y="1235"/>
                    </a:lnTo>
                    <a:lnTo>
                      <a:pt x="3341" y="1281"/>
                    </a:lnTo>
                    <a:lnTo>
                      <a:pt x="3385" y="1329"/>
                    </a:lnTo>
                    <a:lnTo>
                      <a:pt x="3426" y="1378"/>
                    </a:lnTo>
                    <a:lnTo>
                      <a:pt x="3464" y="1427"/>
                    </a:lnTo>
                    <a:lnTo>
                      <a:pt x="3499" y="1478"/>
                    </a:lnTo>
                    <a:lnTo>
                      <a:pt x="3530" y="1530"/>
                    </a:lnTo>
                    <a:lnTo>
                      <a:pt x="3557" y="1582"/>
                    </a:lnTo>
                    <a:lnTo>
                      <a:pt x="3582" y="1635"/>
                    </a:lnTo>
                    <a:lnTo>
                      <a:pt x="3600" y="1687"/>
                    </a:lnTo>
                    <a:lnTo>
                      <a:pt x="3614" y="1740"/>
                    </a:lnTo>
                    <a:lnTo>
                      <a:pt x="3624" y="1793"/>
                    </a:lnTo>
                    <a:lnTo>
                      <a:pt x="3628" y="1846"/>
                    </a:lnTo>
                    <a:lnTo>
                      <a:pt x="3625" y="1898"/>
                    </a:lnTo>
                    <a:lnTo>
                      <a:pt x="3618" y="1950"/>
                    </a:lnTo>
                    <a:lnTo>
                      <a:pt x="3604" y="2001"/>
                    </a:lnTo>
                    <a:lnTo>
                      <a:pt x="3553" y="2021"/>
                    </a:lnTo>
                    <a:lnTo>
                      <a:pt x="3499" y="2039"/>
                    </a:lnTo>
                    <a:lnTo>
                      <a:pt x="3445" y="2057"/>
                    </a:lnTo>
                    <a:lnTo>
                      <a:pt x="3388" y="2073"/>
                    </a:lnTo>
                    <a:lnTo>
                      <a:pt x="3329" y="2086"/>
                    </a:lnTo>
                    <a:lnTo>
                      <a:pt x="3269" y="2100"/>
                    </a:lnTo>
                    <a:lnTo>
                      <a:pt x="3208" y="2111"/>
                    </a:lnTo>
                    <a:lnTo>
                      <a:pt x="3145" y="2121"/>
                    </a:lnTo>
                    <a:lnTo>
                      <a:pt x="3080" y="2129"/>
                    </a:lnTo>
                    <a:lnTo>
                      <a:pt x="3016" y="2135"/>
                    </a:lnTo>
                    <a:lnTo>
                      <a:pt x="2950" y="2139"/>
                    </a:lnTo>
                    <a:lnTo>
                      <a:pt x="2883" y="2142"/>
                    </a:lnTo>
                    <a:lnTo>
                      <a:pt x="2815" y="2143"/>
                    </a:lnTo>
                    <a:lnTo>
                      <a:pt x="2748" y="2140"/>
                    </a:lnTo>
                    <a:lnTo>
                      <a:pt x="2680" y="2137"/>
                    </a:lnTo>
                    <a:lnTo>
                      <a:pt x="2611" y="2131"/>
                    </a:lnTo>
                    <a:lnTo>
                      <a:pt x="2543" y="2122"/>
                    </a:lnTo>
                    <a:lnTo>
                      <a:pt x="2475" y="2112"/>
                    </a:lnTo>
                    <a:lnTo>
                      <a:pt x="2407" y="2099"/>
                    </a:lnTo>
                    <a:lnTo>
                      <a:pt x="2339" y="2083"/>
                    </a:lnTo>
                    <a:lnTo>
                      <a:pt x="2272" y="2065"/>
                    </a:lnTo>
                    <a:lnTo>
                      <a:pt x="2205" y="2044"/>
                    </a:lnTo>
                    <a:lnTo>
                      <a:pt x="2140" y="2021"/>
                    </a:lnTo>
                    <a:lnTo>
                      <a:pt x="2075" y="1994"/>
                    </a:lnTo>
                    <a:lnTo>
                      <a:pt x="2011" y="1965"/>
                    </a:lnTo>
                    <a:lnTo>
                      <a:pt x="1949" y="1933"/>
                    </a:lnTo>
                    <a:lnTo>
                      <a:pt x="1887" y="1898"/>
                    </a:lnTo>
                    <a:lnTo>
                      <a:pt x="1828" y="1860"/>
                    </a:lnTo>
                    <a:lnTo>
                      <a:pt x="1770" y="1818"/>
                    </a:lnTo>
                    <a:lnTo>
                      <a:pt x="1714" y="1774"/>
                    </a:lnTo>
                    <a:lnTo>
                      <a:pt x="1659" y="1726"/>
                    </a:lnTo>
                    <a:lnTo>
                      <a:pt x="1607" y="1675"/>
                    </a:lnTo>
                    <a:lnTo>
                      <a:pt x="1591" y="1624"/>
                    </a:lnTo>
                    <a:lnTo>
                      <a:pt x="1581" y="1576"/>
                    </a:lnTo>
                    <a:lnTo>
                      <a:pt x="1575" y="1529"/>
                    </a:lnTo>
                    <a:lnTo>
                      <a:pt x="1574" y="1484"/>
                    </a:lnTo>
                    <a:lnTo>
                      <a:pt x="1575" y="1440"/>
                    </a:lnTo>
                    <a:lnTo>
                      <a:pt x="1580" y="1399"/>
                    </a:lnTo>
                    <a:lnTo>
                      <a:pt x="1590" y="1358"/>
                    </a:lnTo>
                    <a:lnTo>
                      <a:pt x="1602" y="1320"/>
                    </a:lnTo>
                    <a:lnTo>
                      <a:pt x="1619" y="1283"/>
                    </a:lnTo>
                    <a:lnTo>
                      <a:pt x="1637" y="1248"/>
                    </a:lnTo>
                    <a:lnTo>
                      <a:pt x="1659" y="1215"/>
                    </a:lnTo>
                    <a:lnTo>
                      <a:pt x="1683" y="1183"/>
                    </a:lnTo>
                    <a:lnTo>
                      <a:pt x="1711" y="1152"/>
                    </a:lnTo>
                    <a:lnTo>
                      <a:pt x="1740" y="1123"/>
                    </a:lnTo>
                    <a:lnTo>
                      <a:pt x="1772" y="1095"/>
                    </a:lnTo>
                    <a:lnTo>
                      <a:pt x="1806" y="1068"/>
                    </a:lnTo>
                    <a:lnTo>
                      <a:pt x="1841" y="1043"/>
                    </a:lnTo>
                    <a:lnTo>
                      <a:pt x="1879" y="1018"/>
                    </a:lnTo>
                    <a:lnTo>
                      <a:pt x="1918" y="995"/>
                    </a:lnTo>
                    <a:lnTo>
                      <a:pt x="1958" y="974"/>
                    </a:lnTo>
                    <a:lnTo>
                      <a:pt x="1999" y="953"/>
                    </a:lnTo>
                    <a:lnTo>
                      <a:pt x="2042" y="933"/>
                    </a:lnTo>
                    <a:lnTo>
                      <a:pt x="2085" y="915"/>
                    </a:lnTo>
                    <a:lnTo>
                      <a:pt x="2129" y="896"/>
                    </a:lnTo>
                    <a:lnTo>
                      <a:pt x="2174" y="880"/>
                    </a:lnTo>
                    <a:lnTo>
                      <a:pt x="2219" y="864"/>
                    </a:lnTo>
                    <a:lnTo>
                      <a:pt x="2264" y="848"/>
                    </a:lnTo>
                    <a:lnTo>
                      <a:pt x="2308" y="833"/>
                    </a:lnTo>
                    <a:lnTo>
                      <a:pt x="2398" y="806"/>
                    </a:lnTo>
                    <a:lnTo>
                      <a:pt x="2485" y="782"/>
                    </a:lnTo>
                    <a:close/>
                    <a:moveTo>
                      <a:pt x="957" y="11"/>
                    </a:moveTo>
                    <a:lnTo>
                      <a:pt x="1006" y="29"/>
                    </a:lnTo>
                    <a:lnTo>
                      <a:pt x="1056" y="48"/>
                    </a:lnTo>
                    <a:lnTo>
                      <a:pt x="1081" y="57"/>
                    </a:lnTo>
                    <a:lnTo>
                      <a:pt x="1108" y="68"/>
                    </a:lnTo>
                    <a:lnTo>
                      <a:pt x="1134" y="80"/>
                    </a:lnTo>
                    <a:lnTo>
                      <a:pt x="1160" y="92"/>
                    </a:lnTo>
                    <a:lnTo>
                      <a:pt x="1187" y="106"/>
                    </a:lnTo>
                    <a:lnTo>
                      <a:pt x="1213" y="121"/>
                    </a:lnTo>
                    <a:lnTo>
                      <a:pt x="1239" y="137"/>
                    </a:lnTo>
                    <a:lnTo>
                      <a:pt x="1265" y="155"/>
                    </a:lnTo>
                    <a:lnTo>
                      <a:pt x="1290" y="174"/>
                    </a:lnTo>
                    <a:lnTo>
                      <a:pt x="1315" y="195"/>
                    </a:lnTo>
                    <a:lnTo>
                      <a:pt x="1339" y="218"/>
                    </a:lnTo>
                    <a:lnTo>
                      <a:pt x="1363" y="244"/>
                    </a:lnTo>
                    <a:lnTo>
                      <a:pt x="1386" y="271"/>
                    </a:lnTo>
                    <a:lnTo>
                      <a:pt x="1408" y="302"/>
                    </a:lnTo>
                    <a:lnTo>
                      <a:pt x="1429" y="335"/>
                    </a:lnTo>
                    <a:lnTo>
                      <a:pt x="1450" y="370"/>
                    </a:lnTo>
                    <a:lnTo>
                      <a:pt x="1468" y="408"/>
                    </a:lnTo>
                    <a:lnTo>
                      <a:pt x="1486" y="449"/>
                    </a:lnTo>
                    <a:lnTo>
                      <a:pt x="1502" y="494"/>
                    </a:lnTo>
                    <a:lnTo>
                      <a:pt x="1517" y="540"/>
                    </a:lnTo>
                    <a:lnTo>
                      <a:pt x="1530" y="592"/>
                    </a:lnTo>
                    <a:lnTo>
                      <a:pt x="1542" y="646"/>
                    </a:lnTo>
                    <a:lnTo>
                      <a:pt x="1552" y="705"/>
                    </a:lnTo>
                    <a:lnTo>
                      <a:pt x="1560" y="767"/>
                    </a:lnTo>
                    <a:lnTo>
                      <a:pt x="1565" y="833"/>
                    </a:lnTo>
                    <a:lnTo>
                      <a:pt x="1569" y="903"/>
                    </a:lnTo>
                    <a:lnTo>
                      <a:pt x="1572" y="978"/>
                    </a:lnTo>
                    <a:lnTo>
                      <a:pt x="1570" y="1056"/>
                    </a:lnTo>
                    <a:lnTo>
                      <a:pt x="1551" y="1062"/>
                    </a:lnTo>
                    <a:lnTo>
                      <a:pt x="1530" y="1067"/>
                    </a:lnTo>
                    <a:lnTo>
                      <a:pt x="1507" y="1071"/>
                    </a:lnTo>
                    <a:lnTo>
                      <a:pt x="1483" y="1075"/>
                    </a:lnTo>
                    <a:lnTo>
                      <a:pt x="1431" y="1081"/>
                    </a:lnTo>
                    <a:lnTo>
                      <a:pt x="1374" y="1085"/>
                    </a:lnTo>
                    <a:lnTo>
                      <a:pt x="1315" y="1087"/>
                    </a:lnTo>
                    <a:lnTo>
                      <a:pt x="1251" y="1088"/>
                    </a:lnTo>
                    <a:lnTo>
                      <a:pt x="1187" y="1088"/>
                    </a:lnTo>
                    <a:lnTo>
                      <a:pt x="1121" y="1086"/>
                    </a:lnTo>
                    <a:lnTo>
                      <a:pt x="1054" y="1083"/>
                    </a:lnTo>
                    <a:lnTo>
                      <a:pt x="987" y="1079"/>
                    </a:lnTo>
                    <a:lnTo>
                      <a:pt x="921" y="1072"/>
                    </a:lnTo>
                    <a:lnTo>
                      <a:pt x="858" y="1066"/>
                    </a:lnTo>
                    <a:lnTo>
                      <a:pt x="797" y="1058"/>
                    </a:lnTo>
                    <a:lnTo>
                      <a:pt x="739" y="1049"/>
                    </a:lnTo>
                    <a:lnTo>
                      <a:pt x="686" y="1040"/>
                    </a:lnTo>
                    <a:lnTo>
                      <a:pt x="636" y="1029"/>
                    </a:lnTo>
                    <a:lnTo>
                      <a:pt x="579" y="1015"/>
                    </a:lnTo>
                    <a:lnTo>
                      <a:pt x="508" y="996"/>
                    </a:lnTo>
                    <a:lnTo>
                      <a:pt x="468" y="984"/>
                    </a:lnTo>
                    <a:lnTo>
                      <a:pt x="427" y="971"/>
                    </a:lnTo>
                    <a:lnTo>
                      <a:pt x="384" y="955"/>
                    </a:lnTo>
                    <a:lnTo>
                      <a:pt x="340" y="938"/>
                    </a:lnTo>
                    <a:lnTo>
                      <a:pt x="296" y="919"/>
                    </a:lnTo>
                    <a:lnTo>
                      <a:pt x="252" y="898"/>
                    </a:lnTo>
                    <a:lnTo>
                      <a:pt x="230" y="886"/>
                    </a:lnTo>
                    <a:lnTo>
                      <a:pt x="210" y="874"/>
                    </a:lnTo>
                    <a:lnTo>
                      <a:pt x="188" y="862"/>
                    </a:lnTo>
                    <a:lnTo>
                      <a:pt x="167" y="849"/>
                    </a:lnTo>
                    <a:lnTo>
                      <a:pt x="147" y="835"/>
                    </a:lnTo>
                    <a:lnTo>
                      <a:pt x="127" y="821"/>
                    </a:lnTo>
                    <a:lnTo>
                      <a:pt x="109" y="806"/>
                    </a:lnTo>
                    <a:lnTo>
                      <a:pt x="90" y="792"/>
                    </a:lnTo>
                    <a:lnTo>
                      <a:pt x="73" y="776"/>
                    </a:lnTo>
                    <a:lnTo>
                      <a:pt x="56" y="760"/>
                    </a:lnTo>
                    <a:lnTo>
                      <a:pt x="40" y="743"/>
                    </a:lnTo>
                    <a:lnTo>
                      <a:pt x="24" y="725"/>
                    </a:lnTo>
                    <a:lnTo>
                      <a:pt x="12" y="684"/>
                    </a:lnTo>
                    <a:lnTo>
                      <a:pt x="5" y="642"/>
                    </a:lnTo>
                    <a:lnTo>
                      <a:pt x="0" y="602"/>
                    </a:lnTo>
                    <a:lnTo>
                      <a:pt x="1" y="563"/>
                    </a:lnTo>
                    <a:lnTo>
                      <a:pt x="6" y="525"/>
                    </a:lnTo>
                    <a:lnTo>
                      <a:pt x="14" y="486"/>
                    </a:lnTo>
                    <a:lnTo>
                      <a:pt x="25" y="449"/>
                    </a:lnTo>
                    <a:lnTo>
                      <a:pt x="41" y="414"/>
                    </a:lnTo>
                    <a:lnTo>
                      <a:pt x="59" y="379"/>
                    </a:lnTo>
                    <a:lnTo>
                      <a:pt x="81" y="345"/>
                    </a:lnTo>
                    <a:lnTo>
                      <a:pt x="105" y="314"/>
                    </a:lnTo>
                    <a:lnTo>
                      <a:pt x="133" y="282"/>
                    </a:lnTo>
                    <a:lnTo>
                      <a:pt x="162" y="252"/>
                    </a:lnTo>
                    <a:lnTo>
                      <a:pt x="194" y="224"/>
                    </a:lnTo>
                    <a:lnTo>
                      <a:pt x="228" y="197"/>
                    </a:lnTo>
                    <a:lnTo>
                      <a:pt x="264" y="172"/>
                    </a:lnTo>
                    <a:lnTo>
                      <a:pt x="302" y="147"/>
                    </a:lnTo>
                    <a:lnTo>
                      <a:pt x="341" y="125"/>
                    </a:lnTo>
                    <a:lnTo>
                      <a:pt x="382" y="104"/>
                    </a:lnTo>
                    <a:lnTo>
                      <a:pt x="423" y="85"/>
                    </a:lnTo>
                    <a:lnTo>
                      <a:pt x="466" y="68"/>
                    </a:lnTo>
                    <a:lnTo>
                      <a:pt x="511" y="53"/>
                    </a:lnTo>
                    <a:lnTo>
                      <a:pt x="555" y="39"/>
                    </a:lnTo>
                    <a:lnTo>
                      <a:pt x="600" y="28"/>
                    </a:lnTo>
                    <a:lnTo>
                      <a:pt x="646" y="18"/>
                    </a:lnTo>
                    <a:lnTo>
                      <a:pt x="691" y="10"/>
                    </a:lnTo>
                    <a:lnTo>
                      <a:pt x="737" y="4"/>
                    </a:lnTo>
                    <a:lnTo>
                      <a:pt x="782" y="1"/>
                    </a:lnTo>
                    <a:lnTo>
                      <a:pt x="827" y="0"/>
                    </a:lnTo>
                    <a:lnTo>
                      <a:pt x="872" y="1"/>
                    </a:lnTo>
                    <a:lnTo>
                      <a:pt x="915" y="5"/>
                    </a:lnTo>
                    <a:lnTo>
                      <a:pt x="957" y="11"/>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4" name=""/>
              <p:cNvSpPr/>
              <p:nvPr/>
            </p:nvSpPr>
            <p:spPr>
              <a:xfrm>
                <a:off x="2339280" y="4717800"/>
                <a:ext cx="168480" cy="257760"/>
              </a:xfrm>
              <a:custGeom>
                <a:avLst/>
                <a:gdLst/>
                <a:ahLst/>
                <a:rect l="l" t="t" r="r" b="b"/>
                <a:pathLst>
                  <a:path w="1173" h="1273">
                    <a:moveTo>
                      <a:pt x="1132" y="1270"/>
                    </a:moveTo>
                    <a:lnTo>
                      <a:pt x="1148" y="1253"/>
                    </a:lnTo>
                    <a:lnTo>
                      <a:pt x="1157" y="1227"/>
                    </a:lnTo>
                    <a:lnTo>
                      <a:pt x="1163" y="1199"/>
                    </a:lnTo>
                    <a:lnTo>
                      <a:pt x="1168" y="1173"/>
                    </a:lnTo>
                    <a:lnTo>
                      <a:pt x="1171" y="1145"/>
                    </a:lnTo>
                    <a:lnTo>
                      <a:pt x="1173" y="1117"/>
                    </a:lnTo>
                    <a:lnTo>
                      <a:pt x="1173" y="1090"/>
                    </a:lnTo>
                    <a:lnTo>
                      <a:pt x="1172" y="1062"/>
                    </a:lnTo>
                    <a:lnTo>
                      <a:pt x="1169" y="1035"/>
                    </a:lnTo>
                    <a:lnTo>
                      <a:pt x="1166" y="1007"/>
                    </a:lnTo>
                    <a:lnTo>
                      <a:pt x="1160" y="980"/>
                    </a:lnTo>
                    <a:lnTo>
                      <a:pt x="1153" y="952"/>
                    </a:lnTo>
                    <a:lnTo>
                      <a:pt x="1145" y="925"/>
                    </a:lnTo>
                    <a:lnTo>
                      <a:pt x="1136" y="898"/>
                    </a:lnTo>
                    <a:lnTo>
                      <a:pt x="1125" y="871"/>
                    </a:lnTo>
                    <a:lnTo>
                      <a:pt x="1114" y="843"/>
                    </a:lnTo>
                    <a:lnTo>
                      <a:pt x="1101" y="816"/>
                    </a:lnTo>
                    <a:lnTo>
                      <a:pt x="1088" y="789"/>
                    </a:lnTo>
                    <a:lnTo>
                      <a:pt x="1072" y="762"/>
                    </a:lnTo>
                    <a:lnTo>
                      <a:pt x="1057" y="736"/>
                    </a:lnTo>
                    <a:lnTo>
                      <a:pt x="1041" y="709"/>
                    </a:lnTo>
                    <a:lnTo>
                      <a:pt x="1023" y="684"/>
                    </a:lnTo>
                    <a:lnTo>
                      <a:pt x="1004" y="658"/>
                    </a:lnTo>
                    <a:lnTo>
                      <a:pt x="986" y="632"/>
                    </a:lnTo>
                    <a:lnTo>
                      <a:pt x="966" y="607"/>
                    </a:lnTo>
                    <a:lnTo>
                      <a:pt x="945" y="581"/>
                    </a:lnTo>
                    <a:lnTo>
                      <a:pt x="924" y="557"/>
                    </a:lnTo>
                    <a:lnTo>
                      <a:pt x="903" y="532"/>
                    </a:lnTo>
                    <a:lnTo>
                      <a:pt x="881" y="508"/>
                    </a:lnTo>
                    <a:lnTo>
                      <a:pt x="858" y="484"/>
                    </a:lnTo>
                    <a:lnTo>
                      <a:pt x="833" y="460"/>
                    </a:lnTo>
                    <a:lnTo>
                      <a:pt x="810" y="437"/>
                    </a:lnTo>
                    <a:lnTo>
                      <a:pt x="785" y="415"/>
                    </a:lnTo>
                    <a:lnTo>
                      <a:pt x="736" y="370"/>
                    </a:lnTo>
                    <a:lnTo>
                      <a:pt x="684" y="328"/>
                    </a:lnTo>
                    <a:lnTo>
                      <a:pt x="633" y="287"/>
                    </a:lnTo>
                    <a:lnTo>
                      <a:pt x="579" y="249"/>
                    </a:lnTo>
                    <a:lnTo>
                      <a:pt x="526" y="212"/>
                    </a:lnTo>
                    <a:lnTo>
                      <a:pt x="473" y="179"/>
                    </a:lnTo>
                    <a:lnTo>
                      <a:pt x="420" y="147"/>
                    </a:lnTo>
                    <a:lnTo>
                      <a:pt x="367" y="118"/>
                    </a:lnTo>
                    <a:lnTo>
                      <a:pt x="316" y="92"/>
                    </a:lnTo>
                    <a:lnTo>
                      <a:pt x="265" y="68"/>
                    </a:lnTo>
                    <a:lnTo>
                      <a:pt x="216" y="48"/>
                    </a:lnTo>
                    <a:lnTo>
                      <a:pt x="170" y="31"/>
                    </a:lnTo>
                    <a:lnTo>
                      <a:pt x="146" y="24"/>
                    </a:lnTo>
                    <a:lnTo>
                      <a:pt x="124" y="18"/>
                    </a:lnTo>
                    <a:lnTo>
                      <a:pt x="102" y="12"/>
                    </a:lnTo>
                    <a:lnTo>
                      <a:pt x="80" y="8"/>
                    </a:lnTo>
                    <a:lnTo>
                      <a:pt x="59" y="5"/>
                    </a:lnTo>
                    <a:lnTo>
                      <a:pt x="39" y="2"/>
                    </a:lnTo>
                    <a:lnTo>
                      <a:pt x="20" y="1"/>
                    </a:lnTo>
                    <a:lnTo>
                      <a:pt x="0" y="0"/>
                    </a:lnTo>
                    <a:lnTo>
                      <a:pt x="0" y="55"/>
                    </a:lnTo>
                    <a:lnTo>
                      <a:pt x="15" y="56"/>
                    </a:lnTo>
                    <a:lnTo>
                      <a:pt x="32" y="57"/>
                    </a:lnTo>
                    <a:lnTo>
                      <a:pt x="49" y="59"/>
                    </a:lnTo>
                    <a:lnTo>
                      <a:pt x="67" y="62"/>
                    </a:lnTo>
                    <a:lnTo>
                      <a:pt x="87" y="66"/>
                    </a:lnTo>
                    <a:lnTo>
                      <a:pt x="106" y="70"/>
                    </a:lnTo>
                    <a:lnTo>
                      <a:pt x="127" y="77"/>
                    </a:lnTo>
                    <a:lnTo>
                      <a:pt x="148" y="83"/>
                    </a:lnTo>
                    <a:lnTo>
                      <a:pt x="192" y="99"/>
                    </a:lnTo>
                    <a:lnTo>
                      <a:pt x="239" y="118"/>
                    </a:lnTo>
                    <a:lnTo>
                      <a:pt x="287" y="140"/>
                    </a:lnTo>
                    <a:lnTo>
                      <a:pt x="337" y="166"/>
                    </a:lnTo>
                    <a:lnTo>
                      <a:pt x="387" y="193"/>
                    </a:lnTo>
                    <a:lnTo>
                      <a:pt x="439" y="224"/>
                    </a:lnTo>
                    <a:lnTo>
                      <a:pt x="490" y="257"/>
                    </a:lnTo>
                    <a:lnTo>
                      <a:pt x="542" y="292"/>
                    </a:lnTo>
                    <a:lnTo>
                      <a:pt x="592" y="330"/>
                    </a:lnTo>
                    <a:lnTo>
                      <a:pt x="644" y="369"/>
                    </a:lnTo>
                    <a:lnTo>
                      <a:pt x="693" y="411"/>
                    </a:lnTo>
                    <a:lnTo>
                      <a:pt x="741" y="453"/>
                    </a:lnTo>
                    <a:lnTo>
                      <a:pt x="765" y="475"/>
                    </a:lnTo>
                    <a:lnTo>
                      <a:pt x="788" y="498"/>
                    </a:lnTo>
                    <a:lnTo>
                      <a:pt x="811" y="521"/>
                    </a:lnTo>
                    <a:lnTo>
                      <a:pt x="833" y="543"/>
                    </a:lnTo>
                    <a:lnTo>
                      <a:pt x="855" y="567"/>
                    </a:lnTo>
                    <a:lnTo>
                      <a:pt x="876" y="591"/>
                    </a:lnTo>
                    <a:lnTo>
                      <a:pt x="896" y="615"/>
                    </a:lnTo>
                    <a:lnTo>
                      <a:pt x="916" y="638"/>
                    </a:lnTo>
                    <a:lnTo>
                      <a:pt x="935" y="663"/>
                    </a:lnTo>
                    <a:lnTo>
                      <a:pt x="953" y="688"/>
                    </a:lnTo>
                    <a:lnTo>
                      <a:pt x="970" y="713"/>
                    </a:lnTo>
                    <a:lnTo>
                      <a:pt x="987" y="737"/>
                    </a:lnTo>
                    <a:lnTo>
                      <a:pt x="1003" y="762"/>
                    </a:lnTo>
                    <a:lnTo>
                      <a:pt x="1018" y="788"/>
                    </a:lnTo>
                    <a:lnTo>
                      <a:pt x="1032" y="813"/>
                    </a:lnTo>
                    <a:lnTo>
                      <a:pt x="1045" y="839"/>
                    </a:lnTo>
                    <a:lnTo>
                      <a:pt x="1056" y="864"/>
                    </a:lnTo>
                    <a:lnTo>
                      <a:pt x="1067" y="890"/>
                    </a:lnTo>
                    <a:lnTo>
                      <a:pt x="1077" y="915"/>
                    </a:lnTo>
                    <a:lnTo>
                      <a:pt x="1086" y="940"/>
                    </a:lnTo>
                    <a:lnTo>
                      <a:pt x="1093" y="966"/>
                    </a:lnTo>
                    <a:lnTo>
                      <a:pt x="1100" y="990"/>
                    </a:lnTo>
                    <a:lnTo>
                      <a:pt x="1104" y="1016"/>
                    </a:lnTo>
                    <a:lnTo>
                      <a:pt x="1109" y="1041"/>
                    </a:lnTo>
                    <a:lnTo>
                      <a:pt x="1111" y="1067"/>
                    </a:lnTo>
                    <a:lnTo>
                      <a:pt x="1112" y="1091"/>
                    </a:lnTo>
                    <a:lnTo>
                      <a:pt x="1112" y="1115"/>
                    </a:lnTo>
                    <a:lnTo>
                      <a:pt x="1110" y="1141"/>
                    </a:lnTo>
                    <a:lnTo>
                      <a:pt x="1108" y="1165"/>
                    </a:lnTo>
                    <a:lnTo>
                      <a:pt x="1102" y="1189"/>
                    </a:lnTo>
                    <a:lnTo>
                      <a:pt x="1097" y="1213"/>
                    </a:lnTo>
                    <a:lnTo>
                      <a:pt x="1089" y="1237"/>
                    </a:lnTo>
                    <a:lnTo>
                      <a:pt x="1105" y="1220"/>
                    </a:lnTo>
                    <a:lnTo>
                      <a:pt x="1089" y="1237"/>
                    </a:lnTo>
                    <a:lnTo>
                      <a:pt x="1088" y="1244"/>
                    </a:lnTo>
                    <a:lnTo>
                      <a:pt x="1088" y="1250"/>
                    </a:lnTo>
                    <a:lnTo>
                      <a:pt x="1089" y="1255"/>
                    </a:lnTo>
                    <a:lnTo>
                      <a:pt x="1091" y="1259"/>
                    </a:lnTo>
                    <a:lnTo>
                      <a:pt x="1096" y="1264"/>
                    </a:lnTo>
                    <a:lnTo>
                      <a:pt x="1100" y="1267"/>
                    </a:lnTo>
                    <a:lnTo>
                      <a:pt x="1104" y="1270"/>
                    </a:lnTo>
                    <a:lnTo>
                      <a:pt x="1110" y="1272"/>
                    </a:lnTo>
                    <a:lnTo>
                      <a:pt x="1115" y="1273"/>
                    </a:lnTo>
                    <a:lnTo>
                      <a:pt x="1121" y="1273"/>
                    </a:lnTo>
                    <a:lnTo>
                      <a:pt x="1126" y="1272"/>
                    </a:lnTo>
                    <a:lnTo>
                      <a:pt x="1132" y="1271"/>
                    </a:lnTo>
                    <a:lnTo>
                      <a:pt x="1137" y="1268"/>
                    </a:lnTo>
                    <a:lnTo>
                      <a:pt x="1142" y="1265"/>
                    </a:lnTo>
                    <a:lnTo>
                      <a:pt x="1145" y="1259"/>
                    </a:lnTo>
                    <a:lnTo>
                      <a:pt x="1148" y="1253"/>
                    </a:lnTo>
                    <a:lnTo>
                      <a:pt x="1132" y="127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5" name=""/>
              <p:cNvSpPr/>
              <p:nvPr/>
            </p:nvSpPr>
            <p:spPr>
              <a:xfrm>
                <a:off x="2208960" y="4897800"/>
                <a:ext cx="293400" cy="105840"/>
              </a:xfrm>
              <a:custGeom>
                <a:avLst/>
                <a:gdLst/>
                <a:ahLst/>
                <a:rect l="l" t="t" r="r" b="b"/>
                <a:pathLst>
                  <a:path w="2041" h="522">
                    <a:moveTo>
                      <a:pt x="1" y="36"/>
                    </a:moveTo>
                    <a:lnTo>
                      <a:pt x="8" y="45"/>
                    </a:lnTo>
                    <a:lnTo>
                      <a:pt x="34" y="72"/>
                    </a:lnTo>
                    <a:lnTo>
                      <a:pt x="61" y="98"/>
                    </a:lnTo>
                    <a:lnTo>
                      <a:pt x="89" y="123"/>
                    </a:lnTo>
                    <a:lnTo>
                      <a:pt x="117" y="147"/>
                    </a:lnTo>
                    <a:lnTo>
                      <a:pt x="146" y="169"/>
                    </a:lnTo>
                    <a:lnTo>
                      <a:pt x="174" y="192"/>
                    </a:lnTo>
                    <a:lnTo>
                      <a:pt x="204" y="214"/>
                    </a:lnTo>
                    <a:lnTo>
                      <a:pt x="234" y="234"/>
                    </a:lnTo>
                    <a:lnTo>
                      <a:pt x="264" y="254"/>
                    </a:lnTo>
                    <a:lnTo>
                      <a:pt x="295" y="273"/>
                    </a:lnTo>
                    <a:lnTo>
                      <a:pt x="326" y="291"/>
                    </a:lnTo>
                    <a:lnTo>
                      <a:pt x="357" y="309"/>
                    </a:lnTo>
                    <a:lnTo>
                      <a:pt x="389" y="325"/>
                    </a:lnTo>
                    <a:lnTo>
                      <a:pt x="421" y="341"/>
                    </a:lnTo>
                    <a:lnTo>
                      <a:pt x="453" y="357"/>
                    </a:lnTo>
                    <a:lnTo>
                      <a:pt x="486" y="371"/>
                    </a:lnTo>
                    <a:lnTo>
                      <a:pt x="519" y="385"/>
                    </a:lnTo>
                    <a:lnTo>
                      <a:pt x="552" y="398"/>
                    </a:lnTo>
                    <a:lnTo>
                      <a:pt x="586" y="410"/>
                    </a:lnTo>
                    <a:lnTo>
                      <a:pt x="620" y="421"/>
                    </a:lnTo>
                    <a:lnTo>
                      <a:pt x="652" y="433"/>
                    </a:lnTo>
                    <a:lnTo>
                      <a:pt x="686" y="443"/>
                    </a:lnTo>
                    <a:lnTo>
                      <a:pt x="722" y="453"/>
                    </a:lnTo>
                    <a:lnTo>
                      <a:pt x="755" y="462"/>
                    </a:lnTo>
                    <a:lnTo>
                      <a:pt x="789" y="470"/>
                    </a:lnTo>
                    <a:lnTo>
                      <a:pt x="825" y="478"/>
                    </a:lnTo>
                    <a:lnTo>
                      <a:pt x="859" y="485"/>
                    </a:lnTo>
                    <a:lnTo>
                      <a:pt x="894" y="491"/>
                    </a:lnTo>
                    <a:lnTo>
                      <a:pt x="928" y="497"/>
                    </a:lnTo>
                    <a:lnTo>
                      <a:pt x="963" y="502"/>
                    </a:lnTo>
                    <a:lnTo>
                      <a:pt x="998" y="506"/>
                    </a:lnTo>
                    <a:lnTo>
                      <a:pt x="1032" y="511"/>
                    </a:lnTo>
                    <a:lnTo>
                      <a:pt x="1067" y="514"/>
                    </a:lnTo>
                    <a:lnTo>
                      <a:pt x="1101" y="517"/>
                    </a:lnTo>
                    <a:lnTo>
                      <a:pt x="1136" y="519"/>
                    </a:lnTo>
                    <a:lnTo>
                      <a:pt x="1171" y="520"/>
                    </a:lnTo>
                    <a:lnTo>
                      <a:pt x="1239" y="522"/>
                    </a:lnTo>
                    <a:lnTo>
                      <a:pt x="1307" y="522"/>
                    </a:lnTo>
                    <a:lnTo>
                      <a:pt x="1375" y="519"/>
                    </a:lnTo>
                    <a:lnTo>
                      <a:pt x="1442" y="515"/>
                    </a:lnTo>
                    <a:lnTo>
                      <a:pt x="1509" y="508"/>
                    </a:lnTo>
                    <a:lnTo>
                      <a:pt x="1574" y="500"/>
                    </a:lnTo>
                    <a:lnTo>
                      <a:pt x="1637" y="490"/>
                    </a:lnTo>
                    <a:lnTo>
                      <a:pt x="1700" y="479"/>
                    </a:lnTo>
                    <a:lnTo>
                      <a:pt x="1761" y="466"/>
                    </a:lnTo>
                    <a:lnTo>
                      <a:pt x="1820" y="451"/>
                    </a:lnTo>
                    <a:lnTo>
                      <a:pt x="1878" y="434"/>
                    </a:lnTo>
                    <a:lnTo>
                      <a:pt x="1934" y="417"/>
                    </a:lnTo>
                    <a:lnTo>
                      <a:pt x="1988" y="398"/>
                    </a:lnTo>
                    <a:lnTo>
                      <a:pt x="2041" y="377"/>
                    </a:lnTo>
                    <a:lnTo>
                      <a:pt x="2014" y="327"/>
                    </a:lnTo>
                    <a:lnTo>
                      <a:pt x="1965" y="346"/>
                    </a:lnTo>
                    <a:lnTo>
                      <a:pt x="1913" y="365"/>
                    </a:lnTo>
                    <a:lnTo>
                      <a:pt x="1859" y="382"/>
                    </a:lnTo>
                    <a:lnTo>
                      <a:pt x="1803" y="398"/>
                    </a:lnTo>
                    <a:lnTo>
                      <a:pt x="1746" y="412"/>
                    </a:lnTo>
                    <a:lnTo>
                      <a:pt x="1686" y="425"/>
                    </a:lnTo>
                    <a:lnTo>
                      <a:pt x="1626" y="436"/>
                    </a:lnTo>
                    <a:lnTo>
                      <a:pt x="1564" y="446"/>
                    </a:lnTo>
                    <a:lnTo>
                      <a:pt x="1501" y="453"/>
                    </a:lnTo>
                    <a:lnTo>
                      <a:pt x="1436" y="460"/>
                    </a:lnTo>
                    <a:lnTo>
                      <a:pt x="1372" y="464"/>
                    </a:lnTo>
                    <a:lnTo>
                      <a:pt x="1306" y="466"/>
                    </a:lnTo>
                    <a:lnTo>
                      <a:pt x="1240" y="467"/>
                    </a:lnTo>
                    <a:lnTo>
                      <a:pt x="1173" y="465"/>
                    </a:lnTo>
                    <a:lnTo>
                      <a:pt x="1139" y="464"/>
                    </a:lnTo>
                    <a:lnTo>
                      <a:pt x="1106" y="462"/>
                    </a:lnTo>
                    <a:lnTo>
                      <a:pt x="1072" y="459"/>
                    </a:lnTo>
                    <a:lnTo>
                      <a:pt x="1040" y="455"/>
                    </a:lnTo>
                    <a:lnTo>
                      <a:pt x="1006" y="451"/>
                    </a:lnTo>
                    <a:lnTo>
                      <a:pt x="972" y="447"/>
                    </a:lnTo>
                    <a:lnTo>
                      <a:pt x="939" y="442"/>
                    </a:lnTo>
                    <a:lnTo>
                      <a:pt x="905" y="436"/>
                    </a:lnTo>
                    <a:lnTo>
                      <a:pt x="872" y="430"/>
                    </a:lnTo>
                    <a:lnTo>
                      <a:pt x="838" y="424"/>
                    </a:lnTo>
                    <a:lnTo>
                      <a:pt x="805" y="416"/>
                    </a:lnTo>
                    <a:lnTo>
                      <a:pt x="772" y="409"/>
                    </a:lnTo>
                    <a:lnTo>
                      <a:pt x="739" y="399"/>
                    </a:lnTo>
                    <a:lnTo>
                      <a:pt x="706" y="391"/>
                    </a:lnTo>
                    <a:lnTo>
                      <a:pt x="673" y="381"/>
                    </a:lnTo>
                    <a:lnTo>
                      <a:pt x="640" y="371"/>
                    </a:lnTo>
                    <a:lnTo>
                      <a:pt x="609" y="359"/>
                    </a:lnTo>
                    <a:lnTo>
                      <a:pt x="576" y="347"/>
                    </a:lnTo>
                    <a:lnTo>
                      <a:pt x="544" y="335"/>
                    </a:lnTo>
                    <a:lnTo>
                      <a:pt x="512" y="321"/>
                    </a:lnTo>
                    <a:lnTo>
                      <a:pt x="481" y="307"/>
                    </a:lnTo>
                    <a:lnTo>
                      <a:pt x="451" y="292"/>
                    </a:lnTo>
                    <a:lnTo>
                      <a:pt x="419" y="277"/>
                    </a:lnTo>
                    <a:lnTo>
                      <a:pt x="389" y="261"/>
                    </a:lnTo>
                    <a:lnTo>
                      <a:pt x="359" y="245"/>
                    </a:lnTo>
                    <a:lnTo>
                      <a:pt x="329" y="227"/>
                    </a:lnTo>
                    <a:lnTo>
                      <a:pt x="299" y="209"/>
                    </a:lnTo>
                    <a:lnTo>
                      <a:pt x="271" y="189"/>
                    </a:lnTo>
                    <a:lnTo>
                      <a:pt x="242" y="170"/>
                    </a:lnTo>
                    <a:lnTo>
                      <a:pt x="214" y="149"/>
                    </a:lnTo>
                    <a:lnTo>
                      <a:pt x="185" y="128"/>
                    </a:lnTo>
                    <a:lnTo>
                      <a:pt x="159" y="106"/>
                    </a:lnTo>
                    <a:lnTo>
                      <a:pt x="132" y="83"/>
                    </a:lnTo>
                    <a:lnTo>
                      <a:pt x="105" y="59"/>
                    </a:lnTo>
                    <a:lnTo>
                      <a:pt x="79" y="35"/>
                    </a:lnTo>
                    <a:lnTo>
                      <a:pt x="54" y="9"/>
                    </a:lnTo>
                    <a:lnTo>
                      <a:pt x="60" y="20"/>
                    </a:lnTo>
                    <a:lnTo>
                      <a:pt x="54" y="9"/>
                    </a:lnTo>
                    <a:lnTo>
                      <a:pt x="48" y="5"/>
                    </a:lnTo>
                    <a:lnTo>
                      <a:pt x="43" y="2"/>
                    </a:lnTo>
                    <a:lnTo>
                      <a:pt x="37" y="0"/>
                    </a:lnTo>
                    <a:lnTo>
                      <a:pt x="32" y="0"/>
                    </a:lnTo>
                    <a:lnTo>
                      <a:pt x="25" y="0"/>
                    </a:lnTo>
                    <a:lnTo>
                      <a:pt x="20" y="2"/>
                    </a:lnTo>
                    <a:lnTo>
                      <a:pt x="15" y="4"/>
                    </a:lnTo>
                    <a:lnTo>
                      <a:pt x="11" y="7"/>
                    </a:lnTo>
                    <a:lnTo>
                      <a:pt x="7" y="10"/>
                    </a:lnTo>
                    <a:lnTo>
                      <a:pt x="3" y="15"/>
                    </a:lnTo>
                    <a:lnTo>
                      <a:pt x="1" y="20"/>
                    </a:lnTo>
                    <a:lnTo>
                      <a:pt x="0" y="24"/>
                    </a:lnTo>
                    <a:lnTo>
                      <a:pt x="0" y="29"/>
                    </a:lnTo>
                    <a:lnTo>
                      <a:pt x="1" y="35"/>
                    </a:lnTo>
                    <a:lnTo>
                      <a:pt x="3" y="40"/>
                    </a:lnTo>
                    <a:lnTo>
                      <a:pt x="8" y="45"/>
                    </a:lnTo>
                    <a:lnTo>
                      <a:pt x="1"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6" name=""/>
              <p:cNvSpPr/>
              <p:nvPr/>
            </p:nvSpPr>
            <p:spPr>
              <a:xfrm>
                <a:off x="2202480" y="4717800"/>
                <a:ext cx="141480" cy="188280"/>
              </a:xfrm>
              <a:custGeom>
                <a:avLst/>
                <a:gdLst/>
                <a:ahLst/>
                <a:rect l="l" t="t" r="r" b="b"/>
                <a:pathLst>
                  <a:path w="974" h="929">
                    <a:moveTo>
                      <a:pt x="943" y="0"/>
                    </a:moveTo>
                    <a:lnTo>
                      <a:pt x="934" y="1"/>
                    </a:lnTo>
                    <a:lnTo>
                      <a:pt x="847" y="25"/>
                    </a:lnTo>
                    <a:lnTo>
                      <a:pt x="757" y="52"/>
                    </a:lnTo>
                    <a:lnTo>
                      <a:pt x="711" y="67"/>
                    </a:lnTo>
                    <a:lnTo>
                      <a:pt x="666" y="82"/>
                    </a:lnTo>
                    <a:lnTo>
                      <a:pt x="620" y="99"/>
                    </a:lnTo>
                    <a:lnTo>
                      <a:pt x="575" y="116"/>
                    </a:lnTo>
                    <a:lnTo>
                      <a:pt x="530" y="134"/>
                    </a:lnTo>
                    <a:lnTo>
                      <a:pt x="486" y="153"/>
                    </a:lnTo>
                    <a:lnTo>
                      <a:pt x="443" y="173"/>
                    </a:lnTo>
                    <a:lnTo>
                      <a:pt x="400" y="194"/>
                    </a:lnTo>
                    <a:lnTo>
                      <a:pt x="360" y="217"/>
                    </a:lnTo>
                    <a:lnTo>
                      <a:pt x="319" y="241"/>
                    </a:lnTo>
                    <a:lnTo>
                      <a:pt x="281" y="265"/>
                    </a:lnTo>
                    <a:lnTo>
                      <a:pt x="244" y="292"/>
                    </a:lnTo>
                    <a:lnTo>
                      <a:pt x="209" y="320"/>
                    </a:lnTo>
                    <a:lnTo>
                      <a:pt x="177" y="348"/>
                    </a:lnTo>
                    <a:lnTo>
                      <a:pt x="160" y="364"/>
                    </a:lnTo>
                    <a:lnTo>
                      <a:pt x="146" y="379"/>
                    </a:lnTo>
                    <a:lnTo>
                      <a:pt x="130" y="395"/>
                    </a:lnTo>
                    <a:lnTo>
                      <a:pt x="117" y="412"/>
                    </a:lnTo>
                    <a:lnTo>
                      <a:pt x="104" y="429"/>
                    </a:lnTo>
                    <a:lnTo>
                      <a:pt x="91" y="446"/>
                    </a:lnTo>
                    <a:lnTo>
                      <a:pt x="79" y="463"/>
                    </a:lnTo>
                    <a:lnTo>
                      <a:pt x="68" y="481"/>
                    </a:lnTo>
                    <a:lnTo>
                      <a:pt x="58" y="499"/>
                    </a:lnTo>
                    <a:lnTo>
                      <a:pt x="48" y="518"/>
                    </a:lnTo>
                    <a:lnTo>
                      <a:pt x="39" y="537"/>
                    </a:lnTo>
                    <a:lnTo>
                      <a:pt x="32" y="557"/>
                    </a:lnTo>
                    <a:lnTo>
                      <a:pt x="24" y="577"/>
                    </a:lnTo>
                    <a:lnTo>
                      <a:pt x="19" y="597"/>
                    </a:lnTo>
                    <a:lnTo>
                      <a:pt x="13" y="618"/>
                    </a:lnTo>
                    <a:lnTo>
                      <a:pt x="9" y="640"/>
                    </a:lnTo>
                    <a:lnTo>
                      <a:pt x="4" y="661"/>
                    </a:lnTo>
                    <a:lnTo>
                      <a:pt x="2" y="683"/>
                    </a:lnTo>
                    <a:lnTo>
                      <a:pt x="1" y="706"/>
                    </a:lnTo>
                    <a:lnTo>
                      <a:pt x="0" y="729"/>
                    </a:lnTo>
                    <a:lnTo>
                      <a:pt x="1" y="752"/>
                    </a:lnTo>
                    <a:lnTo>
                      <a:pt x="2" y="776"/>
                    </a:lnTo>
                    <a:lnTo>
                      <a:pt x="5" y="801"/>
                    </a:lnTo>
                    <a:lnTo>
                      <a:pt x="9" y="825"/>
                    </a:lnTo>
                    <a:lnTo>
                      <a:pt x="14" y="850"/>
                    </a:lnTo>
                    <a:lnTo>
                      <a:pt x="20" y="876"/>
                    </a:lnTo>
                    <a:lnTo>
                      <a:pt x="27" y="902"/>
                    </a:lnTo>
                    <a:lnTo>
                      <a:pt x="35" y="929"/>
                    </a:lnTo>
                    <a:lnTo>
                      <a:pt x="94" y="913"/>
                    </a:lnTo>
                    <a:lnTo>
                      <a:pt x="87" y="887"/>
                    </a:lnTo>
                    <a:lnTo>
                      <a:pt x="80" y="864"/>
                    </a:lnTo>
                    <a:lnTo>
                      <a:pt x="75" y="840"/>
                    </a:lnTo>
                    <a:lnTo>
                      <a:pt x="70" y="816"/>
                    </a:lnTo>
                    <a:lnTo>
                      <a:pt x="67" y="794"/>
                    </a:lnTo>
                    <a:lnTo>
                      <a:pt x="64" y="772"/>
                    </a:lnTo>
                    <a:lnTo>
                      <a:pt x="62" y="750"/>
                    </a:lnTo>
                    <a:lnTo>
                      <a:pt x="62" y="729"/>
                    </a:lnTo>
                    <a:lnTo>
                      <a:pt x="62" y="707"/>
                    </a:lnTo>
                    <a:lnTo>
                      <a:pt x="64" y="687"/>
                    </a:lnTo>
                    <a:lnTo>
                      <a:pt x="66" y="668"/>
                    </a:lnTo>
                    <a:lnTo>
                      <a:pt x="69" y="648"/>
                    </a:lnTo>
                    <a:lnTo>
                      <a:pt x="73" y="629"/>
                    </a:lnTo>
                    <a:lnTo>
                      <a:pt x="78" y="611"/>
                    </a:lnTo>
                    <a:lnTo>
                      <a:pt x="83" y="592"/>
                    </a:lnTo>
                    <a:lnTo>
                      <a:pt x="90" y="574"/>
                    </a:lnTo>
                    <a:lnTo>
                      <a:pt x="96" y="557"/>
                    </a:lnTo>
                    <a:lnTo>
                      <a:pt x="104" y="540"/>
                    </a:lnTo>
                    <a:lnTo>
                      <a:pt x="113" y="523"/>
                    </a:lnTo>
                    <a:lnTo>
                      <a:pt x="123" y="507"/>
                    </a:lnTo>
                    <a:lnTo>
                      <a:pt x="133" y="490"/>
                    </a:lnTo>
                    <a:lnTo>
                      <a:pt x="144" y="475"/>
                    </a:lnTo>
                    <a:lnTo>
                      <a:pt x="155" y="459"/>
                    </a:lnTo>
                    <a:lnTo>
                      <a:pt x="167" y="445"/>
                    </a:lnTo>
                    <a:lnTo>
                      <a:pt x="179" y="430"/>
                    </a:lnTo>
                    <a:lnTo>
                      <a:pt x="192" y="415"/>
                    </a:lnTo>
                    <a:lnTo>
                      <a:pt x="206" y="401"/>
                    </a:lnTo>
                    <a:lnTo>
                      <a:pt x="220" y="387"/>
                    </a:lnTo>
                    <a:lnTo>
                      <a:pt x="251" y="360"/>
                    </a:lnTo>
                    <a:lnTo>
                      <a:pt x="284" y="334"/>
                    </a:lnTo>
                    <a:lnTo>
                      <a:pt x="318" y="310"/>
                    </a:lnTo>
                    <a:lnTo>
                      <a:pt x="354" y="287"/>
                    </a:lnTo>
                    <a:lnTo>
                      <a:pt x="393" y="264"/>
                    </a:lnTo>
                    <a:lnTo>
                      <a:pt x="431" y="242"/>
                    </a:lnTo>
                    <a:lnTo>
                      <a:pt x="471" y="222"/>
                    </a:lnTo>
                    <a:lnTo>
                      <a:pt x="513" y="203"/>
                    </a:lnTo>
                    <a:lnTo>
                      <a:pt x="556" y="184"/>
                    </a:lnTo>
                    <a:lnTo>
                      <a:pt x="600" y="167"/>
                    </a:lnTo>
                    <a:lnTo>
                      <a:pt x="644" y="150"/>
                    </a:lnTo>
                    <a:lnTo>
                      <a:pt x="688" y="134"/>
                    </a:lnTo>
                    <a:lnTo>
                      <a:pt x="732" y="119"/>
                    </a:lnTo>
                    <a:lnTo>
                      <a:pt x="776" y="104"/>
                    </a:lnTo>
                    <a:lnTo>
                      <a:pt x="865" y="78"/>
                    </a:lnTo>
                    <a:lnTo>
                      <a:pt x="952" y="54"/>
                    </a:lnTo>
                    <a:lnTo>
                      <a:pt x="943" y="55"/>
                    </a:lnTo>
                    <a:lnTo>
                      <a:pt x="952" y="54"/>
                    </a:lnTo>
                    <a:lnTo>
                      <a:pt x="958" y="51"/>
                    </a:lnTo>
                    <a:lnTo>
                      <a:pt x="964" y="48"/>
                    </a:lnTo>
                    <a:lnTo>
                      <a:pt x="968" y="44"/>
                    </a:lnTo>
                    <a:lnTo>
                      <a:pt x="972" y="40"/>
                    </a:lnTo>
                    <a:lnTo>
                      <a:pt x="974" y="34"/>
                    </a:lnTo>
                    <a:lnTo>
                      <a:pt x="974" y="29"/>
                    </a:lnTo>
                    <a:lnTo>
                      <a:pt x="974" y="24"/>
                    </a:lnTo>
                    <a:lnTo>
                      <a:pt x="973" y="20"/>
                    </a:lnTo>
                    <a:lnTo>
                      <a:pt x="970" y="14"/>
                    </a:lnTo>
                    <a:lnTo>
                      <a:pt x="968" y="10"/>
                    </a:lnTo>
                    <a:lnTo>
                      <a:pt x="964" y="6"/>
                    </a:lnTo>
                    <a:lnTo>
                      <a:pt x="959" y="3"/>
                    </a:lnTo>
                    <a:lnTo>
                      <a:pt x="954" y="1"/>
                    </a:lnTo>
                    <a:lnTo>
                      <a:pt x="949" y="0"/>
                    </a:lnTo>
                    <a:lnTo>
                      <a:pt x="942" y="0"/>
                    </a:lnTo>
                    <a:lnTo>
                      <a:pt x="934" y="1"/>
                    </a:lnTo>
                    <a:lnTo>
                      <a:pt x="943"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7" name=""/>
              <p:cNvSpPr/>
              <p:nvPr/>
            </p:nvSpPr>
            <p:spPr>
              <a:xfrm>
                <a:off x="2118240" y="4563000"/>
                <a:ext cx="94320" cy="221400"/>
              </a:xfrm>
              <a:custGeom>
                <a:avLst/>
                <a:gdLst/>
                <a:ahLst/>
                <a:rect l="l" t="t" r="r" b="b"/>
                <a:pathLst>
                  <a:path w="657" h="1099">
                    <a:moveTo>
                      <a:pt x="635" y="1098"/>
                    </a:moveTo>
                    <a:lnTo>
                      <a:pt x="656" y="1073"/>
                    </a:lnTo>
                    <a:lnTo>
                      <a:pt x="657" y="1032"/>
                    </a:lnTo>
                    <a:lnTo>
                      <a:pt x="657" y="993"/>
                    </a:lnTo>
                    <a:lnTo>
                      <a:pt x="656" y="955"/>
                    </a:lnTo>
                    <a:lnTo>
                      <a:pt x="655" y="918"/>
                    </a:lnTo>
                    <a:lnTo>
                      <a:pt x="653" y="882"/>
                    </a:lnTo>
                    <a:lnTo>
                      <a:pt x="651" y="846"/>
                    </a:lnTo>
                    <a:lnTo>
                      <a:pt x="649" y="812"/>
                    </a:lnTo>
                    <a:lnTo>
                      <a:pt x="645" y="779"/>
                    </a:lnTo>
                    <a:lnTo>
                      <a:pt x="641" y="747"/>
                    </a:lnTo>
                    <a:lnTo>
                      <a:pt x="638" y="717"/>
                    </a:lnTo>
                    <a:lnTo>
                      <a:pt x="632" y="686"/>
                    </a:lnTo>
                    <a:lnTo>
                      <a:pt x="627" y="657"/>
                    </a:lnTo>
                    <a:lnTo>
                      <a:pt x="621" y="629"/>
                    </a:lnTo>
                    <a:lnTo>
                      <a:pt x="616" y="601"/>
                    </a:lnTo>
                    <a:lnTo>
                      <a:pt x="609" y="575"/>
                    </a:lnTo>
                    <a:lnTo>
                      <a:pt x="601" y="549"/>
                    </a:lnTo>
                    <a:lnTo>
                      <a:pt x="587" y="500"/>
                    </a:lnTo>
                    <a:lnTo>
                      <a:pt x="570" y="455"/>
                    </a:lnTo>
                    <a:lnTo>
                      <a:pt x="552" y="412"/>
                    </a:lnTo>
                    <a:lnTo>
                      <a:pt x="532" y="373"/>
                    </a:lnTo>
                    <a:lnTo>
                      <a:pt x="511" y="336"/>
                    </a:lnTo>
                    <a:lnTo>
                      <a:pt x="489" y="302"/>
                    </a:lnTo>
                    <a:lnTo>
                      <a:pt x="466" y="271"/>
                    </a:lnTo>
                    <a:lnTo>
                      <a:pt x="442" y="242"/>
                    </a:lnTo>
                    <a:lnTo>
                      <a:pt x="417" y="215"/>
                    </a:lnTo>
                    <a:lnTo>
                      <a:pt x="392" y="191"/>
                    </a:lnTo>
                    <a:lnTo>
                      <a:pt x="366" y="169"/>
                    </a:lnTo>
                    <a:lnTo>
                      <a:pt x="339" y="149"/>
                    </a:lnTo>
                    <a:lnTo>
                      <a:pt x="312" y="129"/>
                    </a:lnTo>
                    <a:lnTo>
                      <a:pt x="284" y="113"/>
                    </a:lnTo>
                    <a:lnTo>
                      <a:pt x="257" y="97"/>
                    </a:lnTo>
                    <a:lnTo>
                      <a:pt x="230" y="83"/>
                    </a:lnTo>
                    <a:lnTo>
                      <a:pt x="202" y="70"/>
                    </a:lnTo>
                    <a:lnTo>
                      <a:pt x="176" y="58"/>
                    </a:lnTo>
                    <a:lnTo>
                      <a:pt x="148" y="47"/>
                    </a:lnTo>
                    <a:lnTo>
                      <a:pt x="122" y="37"/>
                    </a:lnTo>
                    <a:lnTo>
                      <a:pt x="73" y="18"/>
                    </a:lnTo>
                    <a:lnTo>
                      <a:pt x="25" y="0"/>
                    </a:lnTo>
                    <a:lnTo>
                      <a:pt x="0" y="51"/>
                    </a:lnTo>
                    <a:lnTo>
                      <a:pt x="49" y="69"/>
                    </a:lnTo>
                    <a:lnTo>
                      <a:pt x="99" y="88"/>
                    </a:lnTo>
                    <a:lnTo>
                      <a:pt x="124" y="98"/>
                    </a:lnTo>
                    <a:lnTo>
                      <a:pt x="150" y="108"/>
                    </a:lnTo>
                    <a:lnTo>
                      <a:pt x="175" y="119"/>
                    </a:lnTo>
                    <a:lnTo>
                      <a:pt x="200" y="132"/>
                    </a:lnTo>
                    <a:lnTo>
                      <a:pt x="225" y="144"/>
                    </a:lnTo>
                    <a:lnTo>
                      <a:pt x="250" y="159"/>
                    </a:lnTo>
                    <a:lnTo>
                      <a:pt x="276" y="174"/>
                    </a:lnTo>
                    <a:lnTo>
                      <a:pt x="301" y="191"/>
                    </a:lnTo>
                    <a:lnTo>
                      <a:pt x="325" y="210"/>
                    </a:lnTo>
                    <a:lnTo>
                      <a:pt x="348" y="230"/>
                    </a:lnTo>
                    <a:lnTo>
                      <a:pt x="371" y="252"/>
                    </a:lnTo>
                    <a:lnTo>
                      <a:pt x="394" y="276"/>
                    </a:lnTo>
                    <a:lnTo>
                      <a:pt x="416" y="302"/>
                    </a:lnTo>
                    <a:lnTo>
                      <a:pt x="437" y="332"/>
                    </a:lnTo>
                    <a:lnTo>
                      <a:pt x="458" y="363"/>
                    </a:lnTo>
                    <a:lnTo>
                      <a:pt x="476" y="397"/>
                    </a:lnTo>
                    <a:lnTo>
                      <a:pt x="495" y="434"/>
                    </a:lnTo>
                    <a:lnTo>
                      <a:pt x="511" y="473"/>
                    </a:lnTo>
                    <a:lnTo>
                      <a:pt x="528" y="516"/>
                    </a:lnTo>
                    <a:lnTo>
                      <a:pt x="542" y="563"/>
                    </a:lnTo>
                    <a:lnTo>
                      <a:pt x="549" y="587"/>
                    </a:lnTo>
                    <a:lnTo>
                      <a:pt x="555" y="613"/>
                    </a:lnTo>
                    <a:lnTo>
                      <a:pt x="561" y="639"/>
                    </a:lnTo>
                    <a:lnTo>
                      <a:pt x="566" y="666"/>
                    </a:lnTo>
                    <a:lnTo>
                      <a:pt x="572" y="694"/>
                    </a:lnTo>
                    <a:lnTo>
                      <a:pt x="576" y="723"/>
                    </a:lnTo>
                    <a:lnTo>
                      <a:pt x="581" y="754"/>
                    </a:lnTo>
                    <a:lnTo>
                      <a:pt x="584" y="784"/>
                    </a:lnTo>
                    <a:lnTo>
                      <a:pt x="587" y="816"/>
                    </a:lnTo>
                    <a:lnTo>
                      <a:pt x="589" y="850"/>
                    </a:lnTo>
                    <a:lnTo>
                      <a:pt x="591" y="884"/>
                    </a:lnTo>
                    <a:lnTo>
                      <a:pt x="594" y="919"/>
                    </a:lnTo>
                    <a:lnTo>
                      <a:pt x="595" y="956"/>
                    </a:lnTo>
                    <a:lnTo>
                      <a:pt x="596" y="993"/>
                    </a:lnTo>
                    <a:lnTo>
                      <a:pt x="596" y="1031"/>
                    </a:lnTo>
                    <a:lnTo>
                      <a:pt x="595" y="1071"/>
                    </a:lnTo>
                    <a:lnTo>
                      <a:pt x="617" y="1046"/>
                    </a:lnTo>
                    <a:lnTo>
                      <a:pt x="595" y="1071"/>
                    </a:lnTo>
                    <a:lnTo>
                      <a:pt x="596" y="1078"/>
                    </a:lnTo>
                    <a:lnTo>
                      <a:pt x="597" y="1083"/>
                    </a:lnTo>
                    <a:lnTo>
                      <a:pt x="600" y="1088"/>
                    </a:lnTo>
                    <a:lnTo>
                      <a:pt x="605" y="1093"/>
                    </a:lnTo>
                    <a:lnTo>
                      <a:pt x="609" y="1096"/>
                    </a:lnTo>
                    <a:lnTo>
                      <a:pt x="615" y="1098"/>
                    </a:lnTo>
                    <a:lnTo>
                      <a:pt x="620" y="1099"/>
                    </a:lnTo>
                    <a:lnTo>
                      <a:pt x="625" y="1099"/>
                    </a:lnTo>
                    <a:lnTo>
                      <a:pt x="631" y="1099"/>
                    </a:lnTo>
                    <a:lnTo>
                      <a:pt x="636" y="1098"/>
                    </a:lnTo>
                    <a:lnTo>
                      <a:pt x="642" y="1096"/>
                    </a:lnTo>
                    <a:lnTo>
                      <a:pt x="646" y="1093"/>
                    </a:lnTo>
                    <a:lnTo>
                      <a:pt x="651" y="1090"/>
                    </a:lnTo>
                    <a:lnTo>
                      <a:pt x="654" y="1084"/>
                    </a:lnTo>
                    <a:lnTo>
                      <a:pt x="656" y="1079"/>
                    </a:lnTo>
                    <a:lnTo>
                      <a:pt x="656" y="1073"/>
                    </a:lnTo>
                    <a:lnTo>
                      <a:pt x="635" y="109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48" name=""/>
              <p:cNvSpPr/>
              <p:nvPr/>
            </p:nvSpPr>
            <p:spPr>
              <a:xfrm>
                <a:off x="2068200" y="4768200"/>
                <a:ext cx="141480" cy="23400"/>
              </a:xfrm>
              <a:custGeom>
                <a:avLst/>
                <a:gdLst/>
                <a:ahLst/>
                <a:rect l="l" t="t" r="r" b="b"/>
                <a:pathLst>
                  <a:path w="975" h="116">
                    <a:moveTo>
                      <a:pt x="24" y="55"/>
                    </a:moveTo>
                    <a:lnTo>
                      <a:pt x="74" y="66"/>
                    </a:lnTo>
                    <a:lnTo>
                      <a:pt x="129" y="76"/>
                    </a:lnTo>
                    <a:lnTo>
                      <a:pt x="187" y="84"/>
                    </a:lnTo>
                    <a:lnTo>
                      <a:pt x="249" y="93"/>
                    </a:lnTo>
                    <a:lnTo>
                      <a:pt x="314" y="99"/>
                    </a:lnTo>
                    <a:lnTo>
                      <a:pt x="380" y="105"/>
                    </a:lnTo>
                    <a:lnTo>
                      <a:pt x="447" y="110"/>
                    </a:lnTo>
                    <a:lnTo>
                      <a:pt x="515" y="113"/>
                    </a:lnTo>
                    <a:lnTo>
                      <a:pt x="582" y="115"/>
                    </a:lnTo>
                    <a:lnTo>
                      <a:pt x="647" y="116"/>
                    </a:lnTo>
                    <a:lnTo>
                      <a:pt x="711" y="115"/>
                    </a:lnTo>
                    <a:lnTo>
                      <a:pt x="771" y="112"/>
                    </a:lnTo>
                    <a:lnTo>
                      <a:pt x="829" y="107"/>
                    </a:lnTo>
                    <a:lnTo>
                      <a:pt x="882" y="101"/>
                    </a:lnTo>
                    <a:lnTo>
                      <a:pt x="907" y="97"/>
                    </a:lnTo>
                    <a:lnTo>
                      <a:pt x="931" y="93"/>
                    </a:lnTo>
                    <a:lnTo>
                      <a:pt x="955" y="88"/>
                    </a:lnTo>
                    <a:lnTo>
                      <a:pt x="975" y="82"/>
                    </a:lnTo>
                    <a:lnTo>
                      <a:pt x="957" y="30"/>
                    </a:lnTo>
                    <a:lnTo>
                      <a:pt x="938" y="34"/>
                    </a:lnTo>
                    <a:lnTo>
                      <a:pt x="918" y="39"/>
                    </a:lnTo>
                    <a:lnTo>
                      <a:pt x="896" y="43"/>
                    </a:lnTo>
                    <a:lnTo>
                      <a:pt x="873" y="46"/>
                    </a:lnTo>
                    <a:lnTo>
                      <a:pt x="823" y="52"/>
                    </a:lnTo>
                    <a:lnTo>
                      <a:pt x="768" y="57"/>
                    </a:lnTo>
                    <a:lnTo>
                      <a:pt x="709" y="59"/>
                    </a:lnTo>
                    <a:lnTo>
                      <a:pt x="646" y="60"/>
                    </a:lnTo>
                    <a:lnTo>
                      <a:pt x="583" y="60"/>
                    </a:lnTo>
                    <a:lnTo>
                      <a:pt x="517" y="58"/>
                    </a:lnTo>
                    <a:lnTo>
                      <a:pt x="451" y="54"/>
                    </a:lnTo>
                    <a:lnTo>
                      <a:pt x="385" y="50"/>
                    </a:lnTo>
                    <a:lnTo>
                      <a:pt x="320" y="44"/>
                    </a:lnTo>
                    <a:lnTo>
                      <a:pt x="257" y="37"/>
                    </a:lnTo>
                    <a:lnTo>
                      <a:pt x="197" y="30"/>
                    </a:lnTo>
                    <a:lnTo>
                      <a:pt x="140" y="21"/>
                    </a:lnTo>
                    <a:lnTo>
                      <a:pt x="86" y="11"/>
                    </a:lnTo>
                    <a:lnTo>
                      <a:pt x="39" y="1"/>
                    </a:lnTo>
                    <a:lnTo>
                      <a:pt x="31" y="0"/>
                    </a:lnTo>
                    <a:lnTo>
                      <a:pt x="25" y="0"/>
                    </a:lnTo>
                    <a:lnTo>
                      <a:pt x="19" y="3"/>
                    </a:lnTo>
                    <a:lnTo>
                      <a:pt x="14" y="5"/>
                    </a:lnTo>
                    <a:lnTo>
                      <a:pt x="9" y="8"/>
                    </a:lnTo>
                    <a:lnTo>
                      <a:pt x="6" y="12"/>
                    </a:lnTo>
                    <a:lnTo>
                      <a:pt x="4" y="16"/>
                    </a:lnTo>
                    <a:lnTo>
                      <a:pt x="2" y="22"/>
                    </a:lnTo>
                    <a:lnTo>
                      <a:pt x="0" y="27"/>
                    </a:lnTo>
                    <a:lnTo>
                      <a:pt x="0" y="31"/>
                    </a:lnTo>
                    <a:lnTo>
                      <a:pt x="2" y="36"/>
                    </a:lnTo>
                    <a:lnTo>
                      <a:pt x="4" y="42"/>
                    </a:lnTo>
                    <a:lnTo>
                      <a:pt x="7" y="46"/>
                    </a:lnTo>
                    <a:lnTo>
                      <a:pt x="11" y="49"/>
                    </a:lnTo>
                    <a:lnTo>
                      <a:pt x="17" y="52"/>
                    </a:lnTo>
                    <a:lnTo>
                      <a:pt x="24" y="54"/>
                    </a:lnTo>
                    <a:lnTo>
                      <a:pt x="24" y="55"/>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449" name=""/>
              <p:cNvSpPr/>
              <p:nvPr/>
            </p:nvSpPr>
            <p:spPr>
              <a:xfrm>
                <a:off x="1980360" y="4706640"/>
                <a:ext cx="94320" cy="72360"/>
              </a:xfrm>
              <a:custGeom>
                <a:avLst/>
                <a:gdLst/>
                <a:ahLst/>
                <a:rect l="l" t="t" r="r" b="b"/>
                <a:pathLst>
                  <a:path w="650" h="359">
                    <a:moveTo>
                      <a:pt x="1" y="36"/>
                    </a:moveTo>
                    <a:lnTo>
                      <a:pt x="6" y="45"/>
                    </a:lnTo>
                    <a:lnTo>
                      <a:pt x="22" y="63"/>
                    </a:lnTo>
                    <a:lnTo>
                      <a:pt x="39" y="81"/>
                    </a:lnTo>
                    <a:lnTo>
                      <a:pt x="57" y="99"/>
                    </a:lnTo>
                    <a:lnTo>
                      <a:pt x="75" y="115"/>
                    </a:lnTo>
                    <a:lnTo>
                      <a:pt x="94" y="131"/>
                    </a:lnTo>
                    <a:lnTo>
                      <a:pt x="114" y="145"/>
                    </a:lnTo>
                    <a:lnTo>
                      <a:pt x="134" y="160"/>
                    </a:lnTo>
                    <a:lnTo>
                      <a:pt x="155" y="174"/>
                    </a:lnTo>
                    <a:lnTo>
                      <a:pt x="177" y="188"/>
                    </a:lnTo>
                    <a:lnTo>
                      <a:pt x="198" y="201"/>
                    </a:lnTo>
                    <a:lnTo>
                      <a:pt x="221" y="212"/>
                    </a:lnTo>
                    <a:lnTo>
                      <a:pt x="243" y="225"/>
                    </a:lnTo>
                    <a:lnTo>
                      <a:pt x="288" y="246"/>
                    </a:lnTo>
                    <a:lnTo>
                      <a:pt x="333" y="266"/>
                    </a:lnTo>
                    <a:lnTo>
                      <a:pt x="378" y="283"/>
                    </a:lnTo>
                    <a:lnTo>
                      <a:pt x="422" y="299"/>
                    </a:lnTo>
                    <a:lnTo>
                      <a:pt x="465" y="313"/>
                    </a:lnTo>
                    <a:lnTo>
                      <a:pt x="505" y="326"/>
                    </a:lnTo>
                    <a:lnTo>
                      <a:pt x="576" y="346"/>
                    </a:lnTo>
                    <a:lnTo>
                      <a:pt x="635" y="359"/>
                    </a:lnTo>
                    <a:lnTo>
                      <a:pt x="650" y="305"/>
                    </a:lnTo>
                    <a:lnTo>
                      <a:pt x="594" y="292"/>
                    </a:lnTo>
                    <a:lnTo>
                      <a:pt x="523" y="273"/>
                    </a:lnTo>
                    <a:lnTo>
                      <a:pt x="484" y="261"/>
                    </a:lnTo>
                    <a:lnTo>
                      <a:pt x="444" y="247"/>
                    </a:lnTo>
                    <a:lnTo>
                      <a:pt x="402" y="232"/>
                    </a:lnTo>
                    <a:lnTo>
                      <a:pt x="359" y="215"/>
                    </a:lnTo>
                    <a:lnTo>
                      <a:pt x="317" y="196"/>
                    </a:lnTo>
                    <a:lnTo>
                      <a:pt x="273" y="176"/>
                    </a:lnTo>
                    <a:lnTo>
                      <a:pt x="252" y="166"/>
                    </a:lnTo>
                    <a:lnTo>
                      <a:pt x="232" y="154"/>
                    </a:lnTo>
                    <a:lnTo>
                      <a:pt x="211" y="142"/>
                    </a:lnTo>
                    <a:lnTo>
                      <a:pt x="191" y="130"/>
                    </a:lnTo>
                    <a:lnTo>
                      <a:pt x="172" y="117"/>
                    </a:lnTo>
                    <a:lnTo>
                      <a:pt x="153" y="103"/>
                    </a:lnTo>
                    <a:lnTo>
                      <a:pt x="134" y="89"/>
                    </a:lnTo>
                    <a:lnTo>
                      <a:pt x="117" y="74"/>
                    </a:lnTo>
                    <a:lnTo>
                      <a:pt x="100" y="60"/>
                    </a:lnTo>
                    <a:lnTo>
                      <a:pt x="85" y="45"/>
                    </a:lnTo>
                    <a:lnTo>
                      <a:pt x="70" y="29"/>
                    </a:lnTo>
                    <a:lnTo>
                      <a:pt x="56" y="12"/>
                    </a:lnTo>
                    <a:lnTo>
                      <a:pt x="60" y="20"/>
                    </a:lnTo>
                    <a:lnTo>
                      <a:pt x="56" y="12"/>
                    </a:lnTo>
                    <a:lnTo>
                      <a:pt x="50" y="7"/>
                    </a:lnTo>
                    <a:lnTo>
                      <a:pt x="46" y="3"/>
                    </a:lnTo>
                    <a:lnTo>
                      <a:pt x="40" y="1"/>
                    </a:lnTo>
                    <a:lnTo>
                      <a:pt x="34" y="0"/>
                    </a:lnTo>
                    <a:lnTo>
                      <a:pt x="28" y="0"/>
                    </a:lnTo>
                    <a:lnTo>
                      <a:pt x="23" y="1"/>
                    </a:lnTo>
                    <a:lnTo>
                      <a:pt x="17" y="3"/>
                    </a:lnTo>
                    <a:lnTo>
                      <a:pt x="13" y="6"/>
                    </a:lnTo>
                    <a:lnTo>
                      <a:pt x="8" y="10"/>
                    </a:lnTo>
                    <a:lnTo>
                      <a:pt x="4" y="13"/>
                    </a:lnTo>
                    <a:lnTo>
                      <a:pt x="2" y="18"/>
                    </a:lnTo>
                    <a:lnTo>
                      <a:pt x="0" y="23"/>
                    </a:lnTo>
                    <a:lnTo>
                      <a:pt x="0" y="28"/>
                    </a:lnTo>
                    <a:lnTo>
                      <a:pt x="0" y="33"/>
                    </a:lnTo>
                    <a:lnTo>
                      <a:pt x="2" y="39"/>
                    </a:lnTo>
                    <a:lnTo>
                      <a:pt x="6" y="45"/>
                    </a:lnTo>
                    <a:lnTo>
                      <a:pt x="1" y="36"/>
                    </a:lnTo>
                    <a:close/>
                  </a:path>
                </a:pathLst>
              </a:custGeom>
              <a:solidFill>
                <a:srgbClr val="000000"/>
              </a:solidFill>
              <a:ln w="0">
                <a:noFill/>
              </a:ln>
            </p:spPr>
            <p:style>
              <a:lnRef idx="0"/>
              <a:fillRef idx="0"/>
              <a:effectRef idx="0"/>
              <a:fontRef idx="minor"/>
            </p:style>
            <p:txBody>
              <a:bodyPr wrap="none" lIns="93240" rIns="93240" tIns="25920" bIns="25920" anchor="t">
                <a:spAutoFit/>
              </a:bodyPr>
              <a:p>
                <a:endParaRPr b="0" lang="en-US" sz="2400" spc="-1" strike="noStrike">
                  <a:solidFill>
                    <a:srgbClr val="ffffff"/>
                  </a:solidFill>
                  <a:latin typeface="Times New Roman"/>
                </a:endParaRPr>
              </a:p>
            </p:txBody>
          </p:sp>
          <p:sp>
            <p:nvSpPr>
              <p:cNvPr id="450" name=""/>
              <p:cNvSpPr/>
              <p:nvPr/>
            </p:nvSpPr>
            <p:spPr>
              <a:xfrm>
                <a:off x="1977840" y="4560480"/>
                <a:ext cx="146520" cy="153000"/>
              </a:xfrm>
              <a:custGeom>
                <a:avLst/>
                <a:gdLst/>
                <a:ahLst/>
                <a:rect l="l" t="t" r="r" b="b"/>
                <a:pathLst>
                  <a:path w="1019" h="761">
                    <a:moveTo>
                      <a:pt x="1001" y="13"/>
                    </a:moveTo>
                    <a:lnTo>
                      <a:pt x="994" y="12"/>
                    </a:lnTo>
                    <a:lnTo>
                      <a:pt x="972" y="8"/>
                    </a:lnTo>
                    <a:lnTo>
                      <a:pt x="950" y="6"/>
                    </a:lnTo>
                    <a:lnTo>
                      <a:pt x="927" y="4"/>
                    </a:lnTo>
                    <a:lnTo>
                      <a:pt x="904" y="2"/>
                    </a:lnTo>
                    <a:lnTo>
                      <a:pt x="881" y="0"/>
                    </a:lnTo>
                    <a:lnTo>
                      <a:pt x="858" y="0"/>
                    </a:lnTo>
                    <a:lnTo>
                      <a:pt x="835" y="0"/>
                    </a:lnTo>
                    <a:lnTo>
                      <a:pt x="811" y="2"/>
                    </a:lnTo>
                    <a:lnTo>
                      <a:pt x="765" y="5"/>
                    </a:lnTo>
                    <a:lnTo>
                      <a:pt x="718" y="11"/>
                    </a:lnTo>
                    <a:lnTo>
                      <a:pt x="670" y="19"/>
                    </a:lnTo>
                    <a:lnTo>
                      <a:pt x="623" y="28"/>
                    </a:lnTo>
                    <a:lnTo>
                      <a:pt x="577" y="41"/>
                    </a:lnTo>
                    <a:lnTo>
                      <a:pt x="531" y="55"/>
                    </a:lnTo>
                    <a:lnTo>
                      <a:pt x="486" y="70"/>
                    </a:lnTo>
                    <a:lnTo>
                      <a:pt x="441" y="88"/>
                    </a:lnTo>
                    <a:lnTo>
                      <a:pt x="399" y="108"/>
                    </a:lnTo>
                    <a:lnTo>
                      <a:pt x="356" y="130"/>
                    </a:lnTo>
                    <a:lnTo>
                      <a:pt x="315" y="152"/>
                    </a:lnTo>
                    <a:lnTo>
                      <a:pt x="277" y="177"/>
                    </a:lnTo>
                    <a:lnTo>
                      <a:pt x="240" y="204"/>
                    </a:lnTo>
                    <a:lnTo>
                      <a:pt x="204" y="231"/>
                    </a:lnTo>
                    <a:lnTo>
                      <a:pt x="187" y="246"/>
                    </a:lnTo>
                    <a:lnTo>
                      <a:pt x="170" y="261"/>
                    </a:lnTo>
                    <a:lnTo>
                      <a:pt x="155" y="277"/>
                    </a:lnTo>
                    <a:lnTo>
                      <a:pt x="140" y="293"/>
                    </a:lnTo>
                    <a:lnTo>
                      <a:pt x="125" y="309"/>
                    </a:lnTo>
                    <a:lnTo>
                      <a:pt x="111" y="325"/>
                    </a:lnTo>
                    <a:lnTo>
                      <a:pt x="98" y="342"/>
                    </a:lnTo>
                    <a:lnTo>
                      <a:pt x="86" y="359"/>
                    </a:lnTo>
                    <a:lnTo>
                      <a:pt x="74" y="377"/>
                    </a:lnTo>
                    <a:lnTo>
                      <a:pt x="63" y="395"/>
                    </a:lnTo>
                    <a:lnTo>
                      <a:pt x="53" y="413"/>
                    </a:lnTo>
                    <a:lnTo>
                      <a:pt x="44" y="431"/>
                    </a:lnTo>
                    <a:lnTo>
                      <a:pt x="36" y="450"/>
                    </a:lnTo>
                    <a:lnTo>
                      <a:pt x="28" y="469"/>
                    </a:lnTo>
                    <a:lnTo>
                      <a:pt x="21" y="488"/>
                    </a:lnTo>
                    <a:lnTo>
                      <a:pt x="15" y="508"/>
                    </a:lnTo>
                    <a:lnTo>
                      <a:pt x="10" y="528"/>
                    </a:lnTo>
                    <a:lnTo>
                      <a:pt x="6" y="548"/>
                    </a:lnTo>
                    <a:lnTo>
                      <a:pt x="4" y="568"/>
                    </a:lnTo>
                    <a:lnTo>
                      <a:pt x="2" y="590"/>
                    </a:lnTo>
                    <a:lnTo>
                      <a:pt x="0" y="610"/>
                    </a:lnTo>
                    <a:lnTo>
                      <a:pt x="0" y="631"/>
                    </a:lnTo>
                    <a:lnTo>
                      <a:pt x="3" y="652"/>
                    </a:lnTo>
                    <a:lnTo>
                      <a:pt x="5" y="674"/>
                    </a:lnTo>
                    <a:lnTo>
                      <a:pt x="8" y="696"/>
                    </a:lnTo>
                    <a:lnTo>
                      <a:pt x="13" y="718"/>
                    </a:lnTo>
                    <a:lnTo>
                      <a:pt x="19" y="739"/>
                    </a:lnTo>
                    <a:lnTo>
                      <a:pt x="26" y="761"/>
                    </a:lnTo>
                    <a:lnTo>
                      <a:pt x="85" y="745"/>
                    </a:lnTo>
                    <a:lnTo>
                      <a:pt x="78" y="725"/>
                    </a:lnTo>
                    <a:lnTo>
                      <a:pt x="73" y="706"/>
                    </a:lnTo>
                    <a:lnTo>
                      <a:pt x="70" y="686"/>
                    </a:lnTo>
                    <a:lnTo>
                      <a:pt x="66" y="667"/>
                    </a:lnTo>
                    <a:lnTo>
                      <a:pt x="64" y="648"/>
                    </a:lnTo>
                    <a:lnTo>
                      <a:pt x="63" y="630"/>
                    </a:lnTo>
                    <a:lnTo>
                      <a:pt x="62" y="611"/>
                    </a:lnTo>
                    <a:lnTo>
                      <a:pt x="63" y="593"/>
                    </a:lnTo>
                    <a:lnTo>
                      <a:pt x="65" y="574"/>
                    </a:lnTo>
                    <a:lnTo>
                      <a:pt x="67" y="557"/>
                    </a:lnTo>
                    <a:lnTo>
                      <a:pt x="71" y="539"/>
                    </a:lnTo>
                    <a:lnTo>
                      <a:pt x="75" y="521"/>
                    </a:lnTo>
                    <a:lnTo>
                      <a:pt x="81" y="504"/>
                    </a:lnTo>
                    <a:lnTo>
                      <a:pt x="86" y="487"/>
                    </a:lnTo>
                    <a:lnTo>
                      <a:pt x="93" y="470"/>
                    </a:lnTo>
                    <a:lnTo>
                      <a:pt x="100" y="453"/>
                    </a:lnTo>
                    <a:lnTo>
                      <a:pt x="109" y="436"/>
                    </a:lnTo>
                    <a:lnTo>
                      <a:pt x="118" y="420"/>
                    </a:lnTo>
                    <a:lnTo>
                      <a:pt x="128" y="404"/>
                    </a:lnTo>
                    <a:lnTo>
                      <a:pt x="139" y="388"/>
                    </a:lnTo>
                    <a:lnTo>
                      <a:pt x="150" y="372"/>
                    </a:lnTo>
                    <a:lnTo>
                      <a:pt x="162" y="358"/>
                    </a:lnTo>
                    <a:lnTo>
                      <a:pt x="174" y="343"/>
                    </a:lnTo>
                    <a:lnTo>
                      <a:pt x="187" y="328"/>
                    </a:lnTo>
                    <a:lnTo>
                      <a:pt x="201" y="313"/>
                    </a:lnTo>
                    <a:lnTo>
                      <a:pt x="215" y="299"/>
                    </a:lnTo>
                    <a:lnTo>
                      <a:pt x="231" y="286"/>
                    </a:lnTo>
                    <a:lnTo>
                      <a:pt x="246" y="273"/>
                    </a:lnTo>
                    <a:lnTo>
                      <a:pt x="279" y="246"/>
                    </a:lnTo>
                    <a:lnTo>
                      <a:pt x="313" y="222"/>
                    </a:lnTo>
                    <a:lnTo>
                      <a:pt x="350" y="199"/>
                    </a:lnTo>
                    <a:lnTo>
                      <a:pt x="388" y="176"/>
                    </a:lnTo>
                    <a:lnTo>
                      <a:pt x="427" y="156"/>
                    </a:lnTo>
                    <a:lnTo>
                      <a:pt x="468" y="138"/>
                    </a:lnTo>
                    <a:lnTo>
                      <a:pt x="509" y="121"/>
                    </a:lnTo>
                    <a:lnTo>
                      <a:pt x="552" y="106"/>
                    </a:lnTo>
                    <a:lnTo>
                      <a:pt x="596" y="94"/>
                    </a:lnTo>
                    <a:lnTo>
                      <a:pt x="639" y="82"/>
                    </a:lnTo>
                    <a:lnTo>
                      <a:pt x="683" y="73"/>
                    </a:lnTo>
                    <a:lnTo>
                      <a:pt x="728" y="65"/>
                    </a:lnTo>
                    <a:lnTo>
                      <a:pt x="771" y="60"/>
                    </a:lnTo>
                    <a:lnTo>
                      <a:pt x="815" y="57"/>
                    </a:lnTo>
                    <a:lnTo>
                      <a:pt x="836" y="56"/>
                    </a:lnTo>
                    <a:lnTo>
                      <a:pt x="858" y="56"/>
                    </a:lnTo>
                    <a:lnTo>
                      <a:pt x="880" y="57"/>
                    </a:lnTo>
                    <a:lnTo>
                      <a:pt x="901" y="57"/>
                    </a:lnTo>
                    <a:lnTo>
                      <a:pt x="922" y="59"/>
                    </a:lnTo>
                    <a:lnTo>
                      <a:pt x="942" y="61"/>
                    </a:lnTo>
                    <a:lnTo>
                      <a:pt x="963" y="63"/>
                    </a:lnTo>
                    <a:lnTo>
                      <a:pt x="983" y="66"/>
                    </a:lnTo>
                    <a:lnTo>
                      <a:pt x="976" y="64"/>
                    </a:lnTo>
                    <a:lnTo>
                      <a:pt x="983" y="66"/>
                    </a:lnTo>
                    <a:lnTo>
                      <a:pt x="991" y="66"/>
                    </a:lnTo>
                    <a:lnTo>
                      <a:pt x="997" y="66"/>
                    </a:lnTo>
                    <a:lnTo>
                      <a:pt x="1003" y="64"/>
                    </a:lnTo>
                    <a:lnTo>
                      <a:pt x="1007" y="61"/>
                    </a:lnTo>
                    <a:lnTo>
                      <a:pt x="1012" y="58"/>
                    </a:lnTo>
                    <a:lnTo>
                      <a:pt x="1015" y="53"/>
                    </a:lnTo>
                    <a:lnTo>
                      <a:pt x="1017" y="49"/>
                    </a:lnTo>
                    <a:lnTo>
                      <a:pt x="1019" y="44"/>
                    </a:lnTo>
                    <a:lnTo>
                      <a:pt x="1019" y="39"/>
                    </a:lnTo>
                    <a:lnTo>
                      <a:pt x="1019" y="33"/>
                    </a:lnTo>
                    <a:lnTo>
                      <a:pt x="1018" y="29"/>
                    </a:lnTo>
                    <a:lnTo>
                      <a:pt x="1015" y="24"/>
                    </a:lnTo>
                    <a:lnTo>
                      <a:pt x="1012" y="20"/>
                    </a:lnTo>
                    <a:lnTo>
                      <a:pt x="1007" y="16"/>
                    </a:lnTo>
                    <a:lnTo>
                      <a:pt x="1002" y="13"/>
                    </a:lnTo>
                    <a:lnTo>
                      <a:pt x="994" y="12"/>
                    </a:lnTo>
                    <a:lnTo>
                      <a:pt x="1001" y="1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1" name=""/>
              <p:cNvSpPr/>
              <p:nvPr/>
            </p:nvSpPr>
            <p:spPr>
              <a:xfrm>
                <a:off x="2220480" y="3440520"/>
                <a:ext cx="515880" cy="1122480"/>
              </a:xfrm>
              <a:custGeom>
                <a:avLst/>
                <a:gdLst/>
                <a:ahLst/>
                <a:rect l="l" t="t" r="r" b="b"/>
                <a:pathLst>
                  <a:path w="3595" h="5558">
                    <a:moveTo>
                      <a:pt x="771" y="4827"/>
                    </a:moveTo>
                    <a:lnTo>
                      <a:pt x="737" y="4846"/>
                    </a:lnTo>
                    <a:lnTo>
                      <a:pt x="704" y="4862"/>
                    </a:lnTo>
                    <a:lnTo>
                      <a:pt x="670" y="4878"/>
                    </a:lnTo>
                    <a:lnTo>
                      <a:pt x="637" y="4894"/>
                    </a:lnTo>
                    <a:lnTo>
                      <a:pt x="603" y="4911"/>
                    </a:lnTo>
                    <a:lnTo>
                      <a:pt x="571" y="4928"/>
                    </a:lnTo>
                    <a:lnTo>
                      <a:pt x="554" y="4938"/>
                    </a:lnTo>
                    <a:lnTo>
                      <a:pt x="538" y="4948"/>
                    </a:lnTo>
                    <a:lnTo>
                      <a:pt x="522" y="4960"/>
                    </a:lnTo>
                    <a:lnTo>
                      <a:pt x="506" y="4971"/>
                    </a:lnTo>
                    <a:lnTo>
                      <a:pt x="534" y="4999"/>
                    </a:lnTo>
                    <a:lnTo>
                      <a:pt x="561" y="5025"/>
                    </a:lnTo>
                    <a:lnTo>
                      <a:pt x="587" y="5051"/>
                    </a:lnTo>
                    <a:lnTo>
                      <a:pt x="614" y="5074"/>
                    </a:lnTo>
                    <a:lnTo>
                      <a:pt x="639" y="5095"/>
                    </a:lnTo>
                    <a:lnTo>
                      <a:pt x="664" y="5116"/>
                    </a:lnTo>
                    <a:lnTo>
                      <a:pt x="689" y="5136"/>
                    </a:lnTo>
                    <a:lnTo>
                      <a:pt x="715" y="5154"/>
                    </a:lnTo>
                    <a:lnTo>
                      <a:pt x="740" y="5169"/>
                    </a:lnTo>
                    <a:lnTo>
                      <a:pt x="765" y="5185"/>
                    </a:lnTo>
                    <a:lnTo>
                      <a:pt x="790" y="5199"/>
                    </a:lnTo>
                    <a:lnTo>
                      <a:pt x="815" y="5212"/>
                    </a:lnTo>
                    <a:lnTo>
                      <a:pt x="842" y="5223"/>
                    </a:lnTo>
                    <a:lnTo>
                      <a:pt x="867" y="5234"/>
                    </a:lnTo>
                    <a:lnTo>
                      <a:pt x="894" y="5244"/>
                    </a:lnTo>
                    <a:lnTo>
                      <a:pt x="922" y="5252"/>
                    </a:lnTo>
                    <a:lnTo>
                      <a:pt x="949" y="5258"/>
                    </a:lnTo>
                    <a:lnTo>
                      <a:pt x="978" y="5265"/>
                    </a:lnTo>
                    <a:lnTo>
                      <a:pt x="1007" y="5270"/>
                    </a:lnTo>
                    <a:lnTo>
                      <a:pt x="1038" y="5274"/>
                    </a:lnTo>
                    <a:lnTo>
                      <a:pt x="1070" y="5276"/>
                    </a:lnTo>
                    <a:lnTo>
                      <a:pt x="1102" y="5279"/>
                    </a:lnTo>
                    <a:lnTo>
                      <a:pt x="1136" y="5280"/>
                    </a:lnTo>
                    <a:lnTo>
                      <a:pt x="1171" y="5280"/>
                    </a:lnTo>
                    <a:lnTo>
                      <a:pt x="1207" y="5279"/>
                    </a:lnTo>
                    <a:lnTo>
                      <a:pt x="1245" y="5278"/>
                    </a:lnTo>
                    <a:lnTo>
                      <a:pt x="1285" y="5275"/>
                    </a:lnTo>
                    <a:lnTo>
                      <a:pt x="1325" y="5271"/>
                    </a:lnTo>
                    <a:lnTo>
                      <a:pt x="1413" y="5263"/>
                    </a:lnTo>
                    <a:lnTo>
                      <a:pt x="1509" y="5250"/>
                    </a:lnTo>
                    <a:lnTo>
                      <a:pt x="1502" y="5236"/>
                    </a:lnTo>
                    <a:lnTo>
                      <a:pt x="1498" y="5220"/>
                    </a:lnTo>
                    <a:lnTo>
                      <a:pt x="1495" y="5204"/>
                    </a:lnTo>
                    <a:lnTo>
                      <a:pt x="1493" y="5189"/>
                    </a:lnTo>
                    <a:lnTo>
                      <a:pt x="1492" y="5173"/>
                    </a:lnTo>
                    <a:lnTo>
                      <a:pt x="1492" y="5156"/>
                    </a:lnTo>
                    <a:lnTo>
                      <a:pt x="1493" y="5138"/>
                    </a:lnTo>
                    <a:lnTo>
                      <a:pt x="1494" y="5121"/>
                    </a:lnTo>
                    <a:lnTo>
                      <a:pt x="1496" y="5085"/>
                    </a:lnTo>
                    <a:lnTo>
                      <a:pt x="1500" y="5049"/>
                    </a:lnTo>
                    <a:lnTo>
                      <a:pt x="1502" y="5031"/>
                    </a:lnTo>
                    <a:lnTo>
                      <a:pt x="1502" y="5013"/>
                    </a:lnTo>
                    <a:lnTo>
                      <a:pt x="1503" y="4995"/>
                    </a:lnTo>
                    <a:lnTo>
                      <a:pt x="1502" y="4977"/>
                    </a:lnTo>
                    <a:lnTo>
                      <a:pt x="1375" y="4992"/>
                    </a:lnTo>
                    <a:lnTo>
                      <a:pt x="1264" y="5004"/>
                    </a:lnTo>
                    <a:lnTo>
                      <a:pt x="1212" y="5008"/>
                    </a:lnTo>
                    <a:lnTo>
                      <a:pt x="1165" y="5009"/>
                    </a:lnTo>
                    <a:lnTo>
                      <a:pt x="1142" y="5009"/>
                    </a:lnTo>
                    <a:lnTo>
                      <a:pt x="1120" y="5008"/>
                    </a:lnTo>
                    <a:lnTo>
                      <a:pt x="1098" y="5007"/>
                    </a:lnTo>
                    <a:lnTo>
                      <a:pt x="1076" y="5005"/>
                    </a:lnTo>
                    <a:lnTo>
                      <a:pt x="1056" y="5002"/>
                    </a:lnTo>
                    <a:lnTo>
                      <a:pt x="1036" y="4998"/>
                    </a:lnTo>
                    <a:lnTo>
                      <a:pt x="1016" y="4994"/>
                    </a:lnTo>
                    <a:lnTo>
                      <a:pt x="996" y="4988"/>
                    </a:lnTo>
                    <a:lnTo>
                      <a:pt x="977" y="4981"/>
                    </a:lnTo>
                    <a:lnTo>
                      <a:pt x="958" y="4973"/>
                    </a:lnTo>
                    <a:lnTo>
                      <a:pt x="938" y="4964"/>
                    </a:lnTo>
                    <a:lnTo>
                      <a:pt x="920" y="4954"/>
                    </a:lnTo>
                    <a:lnTo>
                      <a:pt x="901" y="4943"/>
                    </a:lnTo>
                    <a:lnTo>
                      <a:pt x="882" y="4931"/>
                    </a:lnTo>
                    <a:lnTo>
                      <a:pt x="864" y="4917"/>
                    </a:lnTo>
                    <a:lnTo>
                      <a:pt x="845" y="4902"/>
                    </a:lnTo>
                    <a:lnTo>
                      <a:pt x="826" y="4885"/>
                    </a:lnTo>
                    <a:lnTo>
                      <a:pt x="808" y="4867"/>
                    </a:lnTo>
                    <a:lnTo>
                      <a:pt x="789" y="4848"/>
                    </a:lnTo>
                    <a:lnTo>
                      <a:pt x="771" y="4827"/>
                    </a:lnTo>
                    <a:close/>
                    <a:moveTo>
                      <a:pt x="601" y="4428"/>
                    </a:moveTo>
                    <a:lnTo>
                      <a:pt x="626" y="4430"/>
                    </a:lnTo>
                    <a:lnTo>
                      <a:pt x="651" y="4432"/>
                    </a:lnTo>
                    <a:lnTo>
                      <a:pt x="676" y="4433"/>
                    </a:lnTo>
                    <a:lnTo>
                      <a:pt x="703" y="4434"/>
                    </a:lnTo>
                    <a:lnTo>
                      <a:pt x="754" y="4434"/>
                    </a:lnTo>
                    <a:lnTo>
                      <a:pt x="807" y="4432"/>
                    </a:lnTo>
                    <a:lnTo>
                      <a:pt x="859" y="4429"/>
                    </a:lnTo>
                    <a:lnTo>
                      <a:pt x="912" y="4423"/>
                    </a:lnTo>
                    <a:lnTo>
                      <a:pt x="965" y="4417"/>
                    </a:lnTo>
                    <a:lnTo>
                      <a:pt x="1016" y="4410"/>
                    </a:lnTo>
                    <a:lnTo>
                      <a:pt x="1067" y="4400"/>
                    </a:lnTo>
                    <a:lnTo>
                      <a:pt x="1117" y="4391"/>
                    </a:lnTo>
                    <a:lnTo>
                      <a:pt x="1164" y="4380"/>
                    </a:lnTo>
                    <a:lnTo>
                      <a:pt x="1210" y="4369"/>
                    </a:lnTo>
                    <a:lnTo>
                      <a:pt x="1254" y="4358"/>
                    </a:lnTo>
                    <a:lnTo>
                      <a:pt x="1295" y="4346"/>
                    </a:lnTo>
                    <a:lnTo>
                      <a:pt x="1333" y="4334"/>
                    </a:lnTo>
                    <a:lnTo>
                      <a:pt x="1369" y="4322"/>
                    </a:lnTo>
                    <a:lnTo>
                      <a:pt x="1375" y="4359"/>
                    </a:lnTo>
                    <a:lnTo>
                      <a:pt x="1381" y="4396"/>
                    </a:lnTo>
                    <a:lnTo>
                      <a:pt x="1387" y="4433"/>
                    </a:lnTo>
                    <a:lnTo>
                      <a:pt x="1393" y="4470"/>
                    </a:lnTo>
                    <a:lnTo>
                      <a:pt x="1399" y="4507"/>
                    </a:lnTo>
                    <a:lnTo>
                      <a:pt x="1403" y="4545"/>
                    </a:lnTo>
                    <a:lnTo>
                      <a:pt x="1407" y="4582"/>
                    </a:lnTo>
                    <a:lnTo>
                      <a:pt x="1408" y="4621"/>
                    </a:lnTo>
                    <a:lnTo>
                      <a:pt x="1371" y="4633"/>
                    </a:lnTo>
                    <a:lnTo>
                      <a:pt x="1333" y="4646"/>
                    </a:lnTo>
                    <a:lnTo>
                      <a:pt x="1292" y="4657"/>
                    </a:lnTo>
                    <a:lnTo>
                      <a:pt x="1250" y="4667"/>
                    </a:lnTo>
                    <a:lnTo>
                      <a:pt x="1205" y="4677"/>
                    </a:lnTo>
                    <a:lnTo>
                      <a:pt x="1159" y="4684"/>
                    </a:lnTo>
                    <a:lnTo>
                      <a:pt x="1113" y="4692"/>
                    </a:lnTo>
                    <a:lnTo>
                      <a:pt x="1065" y="4698"/>
                    </a:lnTo>
                    <a:lnTo>
                      <a:pt x="1019" y="4703"/>
                    </a:lnTo>
                    <a:lnTo>
                      <a:pt x="972" y="4707"/>
                    </a:lnTo>
                    <a:lnTo>
                      <a:pt x="926" y="4711"/>
                    </a:lnTo>
                    <a:lnTo>
                      <a:pt x="882" y="4712"/>
                    </a:lnTo>
                    <a:lnTo>
                      <a:pt x="839" y="4713"/>
                    </a:lnTo>
                    <a:lnTo>
                      <a:pt x="797" y="4713"/>
                    </a:lnTo>
                    <a:lnTo>
                      <a:pt x="758" y="4711"/>
                    </a:lnTo>
                    <a:lnTo>
                      <a:pt x="721" y="4707"/>
                    </a:lnTo>
                    <a:lnTo>
                      <a:pt x="704" y="4674"/>
                    </a:lnTo>
                    <a:lnTo>
                      <a:pt x="686" y="4640"/>
                    </a:lnTo>
                    <a:lnTo>
                      <a:pt x="670" y="4606"/>
                    </a:lnTo>
                    <a:lnTo>
                      <a:pt x="654" y="4571"/>
                    </a:lnTo>
                    <a:lnTo>
                      <a:pt x="639" y="4535"/>
                    </a:lnTo>
                    <a:lnTo>
                      <a:pt x="626" y="4500"/>
                    </a:lnTo>
                    <a:lnTo>
                      <a:pt x="613" y="4464"/>
                    </a:lnTo>
                    <a:lnTo>
                      <a:pt x="601" y="4428"/>
                    </a:lnTo>
                    <a:close/>
                    <a:moveTo>
                      <a:pt x="1268" y="3778"/>
                    </a:moveTo>
                    <a:lnTo>
                      <a:pt x="1274" y="3818"/>
                    </a:lnTo>
                    <a:lnTo>
                      <a:pt x="1278" y="3857"/>
                    </a:lnTo>
                    <a:lnTo>
                      <a:pt x="1283" y="3893"/>
                    </a:lnTo>
                    <a:lnTo>
                      <a:pt x="1287" y="3928"/>
                    </a:lnTo>
                    <a:lnTo>
                      <a:pt x="1291" y="3964"/>
                    </a:lnTo>
                    <a:lnTo>
                      <a:pt x="1296" y="4000"/>
                    </a:lnTo>
                    <a:lnTo>
                      <a:pt x="1301" y="4037"/>
                    </a:lnTo>
                    <a:lnTo>
                      <a:pt x="1309" y="4077"/>
                    </a:lnTo>
                    <a:lnTo>
                      <a:pt x="1267" y="4090"/>
                    </a:lnTo>
                    <a:lnTo>
                      <a:pt x="1223" y="4102"/>
                    </a:lnTo>
                    <a:lnTo>
                      <a:pt x="1177" y="4113"/>
                    </a:lnTo>
                    <a:lnTo>
                      <a:pt x="1129" y="4124"/>
                    </a:lnTo>
                    <a:lnTo>
                      <a:pt x="1079" y="4133"/>
                    </a:lnTo>
                    <a:lnTo>
                      <a:pt x="1027" y="4142"/>
                    </a:lnTo>
                    <a:lnTo>
                      <a:pt x="974" y="4149"/>
                    </a:lnTo>
                    <a:lnTo>
                      <a:pt x="921" y="4155"/>
                    </a:lnTo>
                    <a:lnTo>
                      <a:pt x="867" y="4161"/>
                    </a:lnTo>
                    <a:lnTo>
                      <a:pt x="813" y="4165"/>
                    </a:lnTo>
                    <a:lnTo>
                      <a:pt x="760" y="4168"/>
                    </a:lnTo>
                    <a:lnTo>
                      <a:pt x="707" y="4170"/>
                    </a:lnTo>
                    <a:lnTo>
                      <a:pt x="655" y="4171"/>
                    </a:lnTo>
                    <a:lnTo>
                      <a:pt x="606" y="4171"/>
                    </a:lnTo>
                    <a:lnTo>
                      <a:pt x="558" y="4170"/>
                    </a:lnTo>
                    <a:lnTo>
                      <a:pt x="512" y="4168"/>
                    </a:lnTo>
                    <a:lnTo>
                      <a:pt x="502" y="4127"/>
                    </a:lnTo>
                    <a:lnTo>
                      <a:pt x="491" y="4084"/>
                    </a:lnTo>
                    <a:lnTo>
                      <a:pt x="479" y="4042"/>
                    </a:lnTo>
                    <a:lnTo>
                      <a:pt x="467" y="4000"/>
                    </a:lnTo>
                    <a:lnTo>
                      <a:pt x="454" y="3956"/>
                    </a:lnTo>
                    <a:lnTo>
                      <a:pt x="443" y="3914"/>
                    </a:lnTo>
                    <a:lnTo>
                      <a:pt x="431" y="3872"/>
                    </a:lnTo>
                    <a:lnTo>
                      <a:pt x="421" y="3831"/>
                    </a:lnTo>
                    <a:lnTo>
                      <a:pt x="446" y="3836"/>
                    </a:lnTo>
                    <a:lnTo>
                      <a:pt x="472" y="3841"/>
                    </a:lnTo>
                    <a:lnTo>
                      <a:pt x="497" y="3845"/>
                    </a:lnTo>
                    <a:lnTo>
                      <a:pt x="525" y="3848"/>
                    </a:lnTo>
                    <a:lnTo>
                      <a:pt x="551" y="3850"/>
                    </a:lnTo>
                    <a:lnTo>
                      <a:pt x="579" y="3853"/>
                    </a:lnTo>
                    <a:lnTo>
                      <a:pt x="606" y="3854"/>
                    </a:lnTo>
                    <a:lnTo>
                      <a:pt x="635" y="3856"/>
                    </a:lnTo>
                    <a:lnTo>
                      <a:pt x="690" y="3857"/>
                    </a:lnTo>
                    <a:lnTo>
                      <a:pt x="747" y="3856"/>
                    </a:lnTo>
                    <a:lnTo>
                      <a:pt x="805" y="3852"/>
                    </a:lnTo>
                    <a:lnTo>
                      <a:pt x="862" y="3848"/>
                    </a:lnTo>
                    <a:lnTo>
                      <a:pt x="919" y="3843"/>
                    </a:lnTo>
                    <a:lnTo>
                      <a:pt x="974" y="3836"/>
                    </a:lnTo>
                    <a:lnTo>
                      <a:pt x="1028" y="3828"/>
                    </a:lnTo>
                    <a:lnTo>
                      <a:pt x="1081" y="3819"/>
                    </a:lnTo>
                    <a:lnTo>
                      <a:pt x="1131" y="3810"/>
                    </a:lnTo>
                    <a:lnTo>
                      <a:pt x="1180" y="3799"/>
                    </a:lnTo>
                    <a:lnTo>
                      <a:pt x="1226" y="3789"/>
                    </a:lnTo>
                    <a:lnTo>
                      <a:pt x="1268" y="3778"/>
                    </a:lnTo>
                    <a:close/>
                    <a:moveTo>
                      <a:pt x="298" y="3289"/>
                    </a:moveTo>
                    <a:lnTo>
                      <a:pt x="307" y="3324"/>
                    </a:lnTo>
                    <a:lnTo>
                      <a:pt x="314" y="3356"/>
                    </a:lnTo>
                    <a:lnTo>
                      <a:pt x="321" y="3388"/>
                    </a:lnTo>
                    <a:lnTo>
                      <a:pt x="327" y="3418"/>
                    </a:lnTo>
                    <a:lnTo>
                      <a:pt x="334" y="3449"/>
                    </a:lnTo>
                    <a:lnTo>
                      <a:pt x="341" y="3479"/>
                    </a:lnTo>
                    <a:lnTo>
                      <a:pt x="348" y="3512"/>
                    </a:lnTo>
                    <a:lnTo>
                      <a:pt x="357" y="3548"/>
                    </a:lnTo>
                    <a:lnTo>
                      <a:pt x="409" y="3560"/>
                    </a:lnTo>
                    <a:lnTo>
                      <a:pt x="461" y="3569"/>
                    </a:lnTo>
                    <a:lnTo>
                      <a:pt x="516" y="3577"/>
                    </a:lnTo>
                    <a:lnTo>
                      <a:pt x="573" y="3583"/>
                    </a:lnTo>
                    <a:lnTo>
                      <a:pt x="630" y="3587"/>
                    </a:lnTo>
                    <a:lnTo>
                      <a:pt x="688" y="3590"/>
                    </a:lnTo>
                    <a:lnTo>
                      <a:pt x="746" y="3591"/>
                    </a:lnTo>
                    <a:lnTo>
                      <a:pt x="806" y="3590"/>
                    </a:lnTo>
                    <a:lnTo>
                      <a:pt x="865" y="3587"/>
                    </a:lnTo>
                    <a:lnTo>
                      <a:pt x="924" y="3583"/>
                    </a:lnTo>
                    <a:lnTo>
                      <a:pt x="982" y="3578"/>
                    </a:lnTo>
                    <a:lnTo>
                      <a:pt x="1039" y="3572"/>
                    </a:lnTo>
                    <a:lnTo>
                      <a:pt x="1096" y="3564"/>
                    </a:lnTo>
                    <a:lnTo>
                      <a:pt x="1152" y="3555"/>
                    </a:lnTo>
                    <a:lnTo>
                      <a:pt x="1206" y="3544"/>
                    </a:lnTo>
                    <a:lnTo>
                      <a:pt x="1258" y="3532"/>
                    </a:lnTo>
                    <a:lnTo>
                      <a:pt x="1255" y="3497"/>
                    </a:lnTo>
                    <a:lnTo>
                      <a:pt x="1254" y="3462"/>
                    </a:lnTo>
                    <a:lnTo>
                      <a:pt x="1253" y="3426"/>
                    </a:lnTo>
                    <a:lnTo>
                      <a:pt x="1253" y="3391"/>
                    </a:lnTo>
                    <a:lnTo>
                      <a:pt x="1253" y="3356"/>
                    </a:lnTo>
                    <a:lnTo>
                      <a:pt x="1252" y="3320"/>
                    </a:lnTo>
                    <a:lnTo>
                      <a:pt x="1251" y="3285"/>
                    </a:lnTo>
                    <a:lnTo>
                      <a:pt x="1249" y="3249"/>
                    </a:lnTo>
                    <a:lnTo>
                      <a:pt x="1192" y="3264"/>
                    </a:lnTo>
                    <a:lnTo>
                      <a:pt x="1135" y="3278"/>
                    </a:lnTo>
                    <a:lnTo>
                      <a:pt x="1076" y="3290"/>
                    </a:lnTo>
                    <a:lnTo>
                      <a:pt x="1019" y="3300"/>
                    </a:lnTo>
                    <a:lnTo>
                      <a:pt x="961" y="3310"/>
                    </a:lnTo>
                    <a:lnTo>
                      <a:pt x="903" y="3317"/>
                    </a:lnTo>
                    <a:lnTo>
                      <a:pt x="845" y="3323"/>
                    </a:lnTo>
                    <a:lnTo>
                      <a:pt x="787" y="3327"/>
                    </a:lnTo>
                    <a:lnTo>
                      <a:pt x="727" y="3329"/>
                    </a:lnTo>
                    <a:lnTo>
                      <a:pt x="667" y="3330"/>
                    </a:lnTo>
                    <a:lnTo>
                      <a:pt x="607" y="3328"/>
                    </a:lnTo>
                    <a:lnTo>
                      <a:pt x="547" y="3325"/>
                    </a:lnTo>
                    <a:lnTo>
                      <a:pt x="485" y="3319"/>
                    </a:lnTo>
                    <a:lnTo>
                      <a:pt x="424" y="3311"/>
                    </a:lnTo>
                    <a:lnTo>
                      <a:pt x="360" y="3301"/>
                    </a:lnTo>
                    <a:lnTo>
                      <a:pt x="298" y="3289"/>
                    </a:lnTo>
                    <a:close/>
                    <a:moveTo>
                      <a:pt x="216" y="0"/>
                    </a:moveTo>
                    <a:lnTo>
                      <a:pt x="247" y="8"/>
                    </a:lnTo>
                    <a:lnTo>
                      <a:pt x="279" y="16"/>
                    </a:lnTo>
                    <a:lnTo>
                      <a:pt x="311" y="23"/>
                    </a:lnTo>
                    <a:lnTo>
                      <a:pt x="343" y="29"/>
                    </a:lnTo>
                    <a:lnTo>
                      <a:pt x="375" y="33"/>
                    </a:lnTo>
                    <a:lnTo>
                      <a:pt x="406" y="38"/>
                    </a:lnTo>
                    <a:lnTo>
                      <a:pt x="438" y="42"/>
                    </a:lnTo>
                    <a:lnTo>
                      <a:pt x="470" y="44"/>
                    </a:lnTo>
                    <a:lnTo>
                      <a:pt x="501" y="46"/>
                    </a:lnTo>
                    <a:lnTo>
                      <a:pt x="533" y="47"/>
                    </a:lnTo>
                    <a:lnTo>
                      <a:pt x="564" y="48"/>
                    </a:lnTo>
                    <a:lnTo>
                      <a:pt x="596" y="49"/>
                    </a:lnTo>
                    <a:lnTo>
                      <a:pt x="660" y="48"/>
                    </a:lnTo>
                    <a:lnTo>
                      <a:pt x="722" y="46"/>
                    </a:lnTo>
                    <a:lnTo>
                      <a:pt x="849" y="40"/>
                    </a:lnTo>
                    <a:lnTo>
                      <a:pt x="976" y="32"/>
                    </a:lnTo>
                    <a:lnTo>
                      <a:pt x="1039" y="29"/>
                    </a:lnTo>
                    <a:lnTo>
                      <a:pt x="1103" y="27"/>
                    </a:lnTo>
                    <a:lnTo>
                      <a:pt x="1166" y="27"/>
                    </a:lnTo>
                    <a:lnTo>
                      <a:pt x="1230" y="28"/>
                    </a:lnTo>
                    <a:lnTo>
                      <a:pt x="1311" y="40"/>
                    </a:lnTo>
                    <a:lnTo>
                      <a:pt x="1391" y="53"/>
                    </a:lnTo>
                    <a:lnTo>
                      <a:pt x="1472" y="66"/>
                    </a:lnTo>
                    <a:lnTo>
                      <a:pt x="1552" y="81"/>
                    </a:lnTo>
                    <a:lnTo>
                      <a:pt x="1632" y="97"/>
                    </a:lnTo>
                    <a:lnTo>
                      <a:pt x="1711" y="115"/>
                    </a:lnTo>
                    <a:lnTo>
                      <a:pt x="1790" y="134"/>
                    </a:lnTo>
                    <a:lnTo>
                      <a:pt x="1869" y="155"/>
                    </a:lnTo>
                    <a:lnTo>
                      <a:pt x="1947" y="176"/>
                    </a:lnTo>
                    <a:lnTo>
                      <a:pt x="2024" y="200"/>
                    </a:lnTo>
                    <a:lnTo>
                      <a:pt x="2101" y="225"/>
                    </a:lnTo>
                    <a:lnTo>
                      <a:pt x="2177" y="252"/>
                    </a:lnTo>
                    <a:lnTo>
                      <a:pt x="2253" y="279"/>
                    </a:lnTo>
                    <a:lnTo>
                      <a:pt x="2328" y="309"/>
                    </a:lnTo>
                    <a:lnTo>
                      <a:pt x="2402" y="340"/>
                    </a:lnTo>
                    <a:lnTo>
                      <a:pt x="2476" y="373"/>
                    </a:lnTo>
                    <a:lnTo>
                      <a:pt x="2549" y="406"/>
                    </a:lnTo>
                    <a:lnTo>
                      <a:pt x="2620" y="442"/>
                    </a:lnTo>
                    <a:lnTo>
                      <a:pt x="2692" y="480"/>
                    </a:lnTo>
                    <a:lnTo>
                      <a:pt x="2763" y="519"/>
                    </a:lnTo>
                    <a:lnTo>
                      <a:pt x="2832" y="559"/>
                    </a:lnTo>
                    <a:lnTo>
                      <a:pt x="2901" y="601"/>
                    </a:lnTo>
                    <a:lnTo>
                      <a:pt x="2968" y="646"/>
                    </a:lnTo>
                    <a:lnTo>
                      <a:pt x="3035" y="691"/>
                    </a:lnTo>
                    <a:lnTo>
                      <a:pt x="3101" y="739"/>
                    </a:lnTo>
                    <a:lnTo>
                      <a:pt x="3165" y="789"/>
                    </a:lnTo>
                    <a:lnTo>
                      <a:pt x="3229" y="840"/>
                    </a:lnTo>
                    <a:lnTo>
                      <a:pt x="3292" y="893"/>
                    </a:lnTo>
                    <a:lnTo>
                      <a:pt x="3353" y="948"/>
                    </a:lnTo>
                    <a:lnTo>
                      <a:pt x="3413" y="1004"/>
                    </a:lnTo>
                    <a:lnTo>
                      <a:pt x="3472" y="1062"/>
                    </a:lnTo>
                    <a:lnTo>
                      <a:pt x="3531" y="1123"/>
                    </a:lnTo>
                    <a:lnTo>
                      <a:pt x="3544" y="1168"/>
                    </a:lnTo>
                    <a:lnTo>
                      <a:pt x="3556" y="1215"/>
                    </a:lnTo>
                    <a:lnTo>
                      <a:pt x="3566" y="1263"/>
                    </a:lnTo>
                    <a:lnTo>
                      <a:pt x="3573" y="1310"/>
                    </a:lnTo>
                    <a:lnTo>
                      <a:pt x="3580" y="1359"/>
                    </a:lnTo>
                    <a:lnTo>
                      <a:pt x="3585" y="1408"/>
                    </a:lnTo>
                    <a:lnTo>
                      <a:pt x="3590" y="1454"/>
                    </a:lnTo>
                    <a:lnTo>
                      <a:pt x="3593" y="1500"/>
                    </a:lnTo>
                    <a:lnTo>
                      <a:pt x="3517" y="1433"/>
                    </a:lnTo>
                    <a:lnTo>
                      <a:pt x="3445" y="1368"/>
                    </a:lnTo>
                    <a:lnTo>
                      <a:pt x="3373" y="1305"/>
                    </a:lnTo>
                    <a:lnTo>
                      <a:pt x="3303" y="1244"/>
                    </a:lnTo>
                    <a:lnTo>
                      <a:pt x="3233" y="1185"/>
                    </a:lnTo>
                    <a:lnTo>
                      <a:pt x="3164" y="1128"/>
                    </a:lnTo>
                    <a:lnTo>
                      <a:pt x="3096" y="1073"/>
                    </a:lnTo>
                    <a:lnTo>
                      <a:pt x="3029" y="1021"/>
                    </a:lnTo>
                    <a:lnTo>
                      <a:pt x="2963" y="970"/>
                    </a:lnTo>
                    <a:lnTo>
                      <a:pt x="2896" y="921"/>
                    </a:lnTo>
                    <a:lnTo>
                      <a:pt x="2830" y="874"/>
                    </a:lnTo>
                    <a:lnTo>
                      <a:pt x="2763" y="829"/>
                    </a:lnTo>
                    <a:lnTo>
                      <a:pt x="2696" y="786"/>
                    </a:lnTo>
                    <a:lnTo>
                      <a:pt x="2629" y="744"/>
                    </a:lnTo>
                    <a:lnTo>
                      <a:pt x="2561" y="705"/>
                    </a:lnTo>
                    <a:lnTo>
                      <a:pt x="2493" y="668"/>
                    </a:lnTo>
                    <a:lnTo>
                      <a:pt x="2424" y="632"/>
                    </a:lnTo>
                    <a:lnTo>
                      <a:pt x="2354" y="598"/>
                    </a:lnTo>
                    <a:lnTo>
                      <a:pt x="2282" y="566"/>
                    </a:lnTo>
                    <a:lnTo>
                      <a:pt x="2209" y="536"/>
                    </a:lnTo>
                    <a:lnTo>
                      <a:pt x="2135" y="507"/>
                    </a:lnTo>
                    <a:lnTo>
                      <a:pt x="2059" y="480"/>
                    </a:lnTo>
                    <a:lnTo>
                      <a:pt x="1981" y="455"/>
                    </a:lnTo>
                    <a:lnTo>
                      <a:pt x="1901" y="431"/>
                    </a:lnTo>
                    <a:lnTo>
                      <a:pt x="1819" y="409"/>
                    </a:lnTo>
                    <a:lnTo>
                      <a:pt x="1734" y="388"/>
                    </a:lnTo>
                    <a:lnTo>
                      <a:pt x="1648" y="369"/>
                    </a:lnTo>
                    <a:lnTo>
                      <a:pt x="1558" y="352"/>
                    </a:lnTo>
                    <a:lnTo>
                      <a:pt x="1466" y="337"/>
                    </a:lnTo>
                    <a:lnTo>
                      <a:pt x="1370" y="322"/>
                    </a:lnTo>
                    <a:lnTo>
                      <a:pt x="1273" y="309"/>
                    </a:lnTo>
                    <a:lnTo>
                      <a:pt x="1171" y="297"/>
                    </a:lnTo>
                    <a:lnTo>
                      <a:pt x="1107" y="307"/>
                    </a:lnTo>
                    <a:lnTo>
                      <a:pt x="1042" y="315"/>
                    </a:lnTo>
                    <a:lnTo>
                      <a:pt x="978" y="321"/>
                    </a:lnTo>
                    <a:lnTo>
                      <a:pt x="913" y="325"/>
                    </a:lnTo>
                    <a:lnTo>
                      <a:pt x="847" y="327"/>
                    </a:lnTo>
                    <a:lnTo>
                      <a:pt x="781" y="327"/>
                    </a:lnTo>
                    <a:lnTo>
                      <a:pt x="716" y="326"/>
                    </a:lnTo>
                    <a:lnTo>
                      <a:pt x="650" y="323"/>
                    </a:lnTo>
                    <a:lnTo>
                      <a:pt x="585" y="317"/>
                    </a:lnTo>
                    <a:lnTo>
                      <a:pt x="519" y="311"/>
                    </a:lnTo>
                    <a:lnTo>
                      <a:pt x="454" y="303"/>
                    </a:lnTo>
                    <a:lnTo>
                      <a:pt x="389" y="293"/>
                    </a:lnTo>
                    <a:lnTo>
                      <a:pt x="325" y="282"/>
                    </a:lnTo>
                    <a:lnTo>
                      <a:pt x="261" y="270"/>
                    </a:lnTo>
                    <a:lnTo>
                      <a:pt x="198" y="255"/>
                    </a:lnTo>
                    <a:lnTo>
                      <a:pt x="136" y="239"/>
                    </a:lnTo>
                    <a:lnTo>
                      <a:pt x="143" y="207"/>
                    </a:lnTo>
                    <a:lnTo>
                      <a:pt x="152" y="176"/>
                    </a:lnTo>
                    <a:lnTo>
                      <a:pt x="161" y="147"/>
                    </a:lnTo>
                    <a:lnTo>
                      <a:pt x="170" y="118"/>
                    </a:lnTo>
                    <a:lnTo>
                      <a:pt x="181" y="90"/>
                    </a:lnTo>
                    <a:lnTo>
                      <a:pt x="192" y="60"/>
                    </a:lnTo>
                    <a:lnTo>
                      <a:pt x="202" y="30"/>
                    </a:lnTo>
                    <a:lnTo>
                      <a:pt x="216" y="0"/>
                    </a:lnTo>
                    <a:close/>
                    <a:moveTo>
                      <a:pt x="76" y="494"/>
                    </a:moveTo>
                    <a:lnTo>
                      <a:pt x="144" y="516"/>
                    </a:lnTo>
                    <a:lnTo>
                      <a:pt x="211" y="535"/>
                    </a:lnTo>
                    <a:lnTo>
                      <a:pt x="279" y="552"/>
                    </a:lnTo>
                    <a:lnTo>
                      <a:pt x="346" y="566"/>
                    </a:lnTo>
                    <a:lnTo>
                      <a:pt x="413" y="581"/>
                    </a:lnTo>
                    <a:lnTo>
                      <a:pt x="480" y="594"/>
                    </a:lnTo>
                    <a:lnTo>
                      <a:pt x="547" y="605"/>
                    </a:lnTo>
                    <a:lnTo>
                      <a:pt x="614" y="615"/>
                    </a:lnTo>
                    <a:lnTo>
                      <a:pt x="681" y="624"/>
                    </a:lnTo>
                    <a:lnTo>
                      <a:pt x="746" y="632"/>
                    </a:lnTo>
                    <a:lnTo>
                      <a:pt x="813" y="640"/>
                    </a:lnTo>
                    <a:lnTo>
                      <a:pt x="879" y="646"/>
                    </a:lnTo>
                    <a:lnTo>
                      <a:pt x="1011" y="658"/>
                    </a:lnTo>
                    <a:lnTo>
                      <a:pt x="1142" y="667"/>
                    </a:lnTo>
                    <a:lnTo>
                      <a:pt x="1244" y="671"/>
                    </a:lnTo>
                    <a:lnTo>
                      <a:pt x="1344" y="679"/>
                    </a:lnTo>
                    <a:lnTo>
                      <a:pt x="1439" y="688"/>
                    </a:lnTo>
                    <a:lnTo>
                      <a:pt x="1533" y="700"/>
                    </a:lnTo>
                    <a:lnTo>
                      <a:pt x="1623" y="714"/>
                    </a:lnTo>
                    <a:lnTo>
                      <a:pt x="1709" y="730"/>
                    </a:lnTo>
                    <a:lnTo>
                      <a:pt x="1794" y="748"/>
                    </a:lnTo>
                    <a:lnTo>
                      <a:pt x="1875" y="768"/>
                    </a:lnTo>
                    <a:lnTo>
                      <a:pt x="1955" y="789"/>
                    </a:lnTo>
                    <a:lnTo>
                      <a:pt x="2032" y="813"/>
                    </a:lnTo>
                    <a:lnTo>
                      <a:pt x="2107" y="839"/>
                    </a:lnTo>
                    <a:lnTo>
                      <a:pt x="2181" y="865"/>
                    </a:lnTo>
                    <a:lnTo>
                      <a:pt x="2253" y="895"/>
                    </a:lnTo>
                    <a:lnTo>
                      <a:pt x="2323" y="926"/>
                    </a:lnTo>
                    <a:lnTo>
                      <a:pt x="2393" y="959"/>
                    </a:lnTo>
                    <a:lnTo>
                      <a:pt x="2461" y="992"/>
                    </a:lnTo>
                    <a:lnTo>
                      <a:pt x="2528" y="1028"/>
                    </a:lnTo>
                    <a:lnTo>
                      <a:pt x="2595" y="1066"/>
                    </a:lnTo>
                    <a:lnTo>
                      <a:pt x="2661" y="1105"/>
                    </a:lnTo>
                    <a:lnTo>
                      <a:pt x="2727" y="1146"/>
                    </a:lnTo>
                    <a:lnTo>
                      <a:pt x="2793" y="1187"/>
                    </a:lnTo>
                    <a:lnTo>
                      <a:pt x="2858" y="1231"/>
                    </a:lnTo>
                    <a:lnTo>
                      <a:pt x="2924" y="1276"/>
                    </a:lnTo>
                    <a:lnTo>
                      <a:pt x="2990" y="1322"/>
                    </a:lnTo>
                    <a:lnTo>
                      <a:pt x="3124" y="1419"/>
                    </a:lnTo>
                    <a:lnTo>
                      <a:pt x="3260" y="1520"/>
                    </a:lnTo>
                    <a:lnTo>
                      <a:pt x="3401" y="1627"/>
                    </a:lnTo>
                    <a:lnTo>
                      <a:pt x="3549" y="1737"/>
                    </a:lnTo>
                    <a:lnTo>
                      <a:pt x="3542" y="1777"/>
                    </a:lnTo>
                    <a:lnTo>
                      <a:pt x="3534" y="1810"/>
                    </a:lnTo>
                    <a:lnTo>
                      <a:pt x="3527" y="1841"/>
                    </a:lnTo>
                    <a:lnTo>
                      <a:pt x="3522" y="1870"/>
                    </a:lnTo>
                    <a:lnTo>
                      <a:pt x="3517" y="1898"/>
                    </a:lnTo>
                    <a:lnTo>
                      <a:pt x="3512" y="1929"/>
                    </a:lnTo>
                    <a:lnTo>
                      <a:pt x="3508" y="1963"/>
                    </a:lnTo>
                    <a:lnTo>
                      <a:pt x="3502" y="2002"/>
                    </a:lnTo>
                    <a:lnTo>
                      <a:pt x="3431" y="1945"/>
                    </a:lnTo>
                    <a:lnTo>
                      <a:pt x="3361" y="1889"/>
                    </a:lnTo>
                    <a:lnTo>
                      <a:pt x="3292" y="1836"/>
                    </a:lnTo>
                    <a:lnTo>
                      <a:pt x="3221" y="1784"/>
                    </a:lnTo>
                    <a:lnTo>
                      <a:pt x="3152" y="1734"/>
                    </a:lnTo>
                    <a:lnTo>
                      <a:pt x="3084" y="1686"/>
                    </a:lnTo>
                    <a:lnTo>
                      <a:pt x="3015" y="1640"/>
                    </a:lnTo>
                    <a:lnTo>
                      <a:pt x="2946" y="1596"/>
                    </a:lnTo>
                    <a:lnTo>
                      <a:pt x="2878" y="1554"/>
                    </a:lnTo>
                    <a:lnTo>
                      <a:pt x="2809" y="1513"/>
                    </a:lnTo>
                    <a:lnTo>
                      <a:pt x="2740" y="1475"/>
                    </a:lnTo>
                    <a:lnTo>
                      <a:pt x="2671" y="1436"/>
                    </a:lnTo>
                    <a:lnTo>
                      <a:pt x="2602" y="1401"/>
                    </a:lnTo>
                    <a:lnTo>
                      <a:pt x="2532" y="1368"/>
                    </a:lnTo>
                    <a:lnTo>
                      <a:pt x="2460" y="1335"/>
                    </a:lnTo>
                    <a:lnTo>
                      <a:pt x="2390" y="1304"/>
                    </a:lnTo>
                    <a:lnTo>
                      <a:pt x="2318" y="1274"/>
                    </a:lnTo>
                    <a:lnTo>
                      <a:pt x="2245" y="1246"/>
                    </a:lnTo>
                    <a:lnTo>
                      <a:pt x="2172" y="1219"/>
                    </a:lnTo>
                    <a:lnTo>
                      <a:pt x="2097" y="1194"/>
                    </a:lnTo>
                    <a:lnTo>
                      <a:pt x="2022" y="1169"/>
                    </a:lnTo>
                    <a:lnTo>
                      <a:pt x="1945" y="1146"/>
                    </a:lnTo>
                    <a:lnTo>
                      <a:pt x="1867" y="1125"/>
                    </a:lnTo>
                    <a:lnTo>
                      <a:pt x="1788" y="1105"/>
                    </a:lnTo>
                    <a:lnTo>
                      <a:pt x="1707" y="1086"/>
                    </a:lnTo>
                    <a:lnTo>
                      <a:pt x="1625" y="1067"/>
                    </a:lnTo>
                    <a:lnTo>
                      <a:pt x="1541" y="1050"/>
                    </a:lnTo>
                    <a:lnTo>
                      <a:pt x="1457" y="1034"/>
                    </a:lnTo>
                    <a:lnTo>
                      <a:pt x="1369" y="1019"/>
                    </a:lnTo>
                    <a:lnTo>
                      <a:pt x="1280" y="1004"/>
                    </a:lnTo>
                    <a:lnTo>
                      <a:pt x="1191" y="991"/>
                    </a:lnTo>
                    <a:lnTo>
                      <a:pt x="1097" y="979"/>
                    </a:lnTo>
                    <a:lnTo>
                      <a:pt x="966" y="974"/>
                    </a:lnTo>
                    <a:lnTo>
                      <a:pt x="833" y="969"/>
                    </a:lnTo>
                    <a:lnTo>
                      <a:pt x="766" y="965"/>
                    </a:lnTo>
                    <a:lnTo>
                      <a:pt x="700" y="961"/>
                    </a:lnTo>
                    <a:lnTo>
                      <a:pt x="633" y="955"/>
                    </a:lnTo>
                    <a:lnTo>
                      <a:pt x="567" y="949"/>
                    </a:lnTo>
                    <a:lnTo>
                      <a:pt x="499" y="942"/>
                    </a:lnTo>
                    <a:lnTo>
                      <a:pt x="432" y="932"/>
                    </a:lnTo>
                    <a:lnTo>
                      <a:pt x="364" y="920"/>
                    </a:lnTo>
                    <a:lnTo>
                      <a:pt x="295" y="907"/>
                    </a:lnTo>
                    <a:lnTo>
                      <a:pt x="261" y="899"/>
                    </a:lnTo>
                    <a:lnTo>
                      <a:pt x="227" y="891"/>
                    </a:lnTo>
                    <a:lnTo>
                      <a:pt x="192" y="881"/>
                    </a:lnTo>
                    <a:lnTo>
                      <a:pt x="158" y="872"/>
                    </a:lnTo>
                    <a:lnTo>
                      <a:pt x="122" y="862"/>
                    </a:lnTo>
                    <a:lnTo>
                      <a:pt x="87" y="850"/>
                    </a:lnTo>
                    <a:lnTo>
                      <a:pt x="53" y="839"/>
                    </a:lnTo>
                    <a:lnTo>
                      <a:pt x="18" y="826"/>
                    </a:lnTo>
                    <a:lnTo>
                      <a:pt x="23" y="786"/>
                    </a:lnTo>
                    <a:lnTo>
                      <a:pt x="28" y="743"/>
                    </a:lnTo>
                    <a:lnTo>
                      <a:pt x="34" y="700"/>
                    </a:lnTo>
                    <a:lnTo>
                      <a:pt x="39" y="655"/>
                    </a:lnTo>
                    <a:lnTo>
                      <a:pt x="46" y="612"/>
                    </a:lnTo>
                    <a:lnTo>
                      <a:pt x="54" y="571"/>
                    </a:lnTo>
                    <a:lnTo>
                      <a:pt x="59" y="551"/>
                    </a:lnTo>
                    <a:lnTo>
                      <a:pt x="64" y="530"/>
                    </a:lnTo>
                    <a:lnTo>
                      <a:pt x="70" y="512"/>
                    </a:lnTo>
                    <a:lnTo>
                      <a:pt x="76" y="494"/>
                    </a:lnTo>
                    <a:close/>
                    <a:moveTo>
                      <a:pt x="4" y="1114"/>
                    </a:moveTo>
                    <a:lnTo>
                      <a:pt x="1" y="1158"/>
                    </a:lnTo>
                    <a:lnTo>
                      <a:pt x="0" y="1200"/>
                    </a:lnTo>
                    <a:lnTo>
                      <a:pt x="0" y="1242"/>
                    </a:lnTo>
                    <a:lnTo>
                      <a:pt x="0" y="1284"/>
                    </a:lnTo>
                    <a:lnTo>
                      <a:pt x="0" y="1326"/>
                    </a:lnTo>
                    <a:lnTo>
                      <a:pt x="1" y="1366"/>
                    </a:lnTo>
                    <a:lnTo>
                      <a:pt x="2" y="1407"/>
                    </a:lnTo>
                    <a:lnTo>
                      <a:pt x="4" y="1446"/>
                    </a:lnTo>
                    <a:lnTo>
                      <a:pt x="27" y="1455"/>
                    </a:lnTo>
                    <a:lnTo>
                      <a:pt x="51" y="1464"/>
                    </a:lnTo>
                    <a:lnTo>
                      <a:pt x="77" y="1472"/>
                    </a:lnTo>
                    <a:lnTo>
                      <a:pt x="104" y="1480"/>
                    </a:lnTo>
                    <a:lnTo>
                      <a:pt x="131" y="1487"/>
                    </a:lnTo>
                    <a:lnTo>
                      <a:pt x="160" y="1494"/>
                    </a:lnTo>
                    <a:lnTo>
                      <a:pt x="189" y="1500"/>
                    </a:lnTo>
                    <a:lnTo>
                      <a:pt x="219" y="1506"/>
                    </a:lnTo>
                    <a:lnTo>
                      <a:pt x="281" y="1517"/>
                    </a:lnTo>
                    <a:lnTo>
                      <a:pt x="345" y="1525"/>
                    </a:lnTo>
                    <a:lnTo>
                      <a:pt x="411" y="1533"/>
                    </a:lnTo>
                    <a:lnTo>
                      <a:pt x="478" y="1539"/>
                    </a:lnTo>
                    <a:lnTo>
                      <a:pt x="546" y="1543"/>
                    </a:lnTo>
                    <a:lnTo>
                      <a:pt x="613" y="1547"/>
                    </a:lnTo>
                    <a:lnTo>
                      <a:pt x="678" y="1550"/>
                    </a:lnTo>
                    <a:lnTo>
                      <a:pt x="744" y="1551"/>
                    </a:lnTo>
                    <a:lnTo>
                      <a:pt x="807" y="1551"/>
                    </a:lnTo>
                    <a:lnTo>
                      <a:pt x="868" y="1550"/>
                    </a:lnTo>
                    <a:lnTo>
                      <a:pt x="925" y="1549"/>
                    </a:lnTo>
                    <a:lnTo>
                      <a:pt x="980" y="1547"/>
                    </a:lnTo>
                    <a:lnTo>
                      <a:pt x="1064" y="1560"/>
                    </a:lnTo>
                    <a:lnTo>
                      <a:pt x="1150" y="1574"/>
                    </a:lnTo>
                    <a:lnTo>
                      <a:pt x="1233" y="1590"/>
                    </a:lnTo>
                    <a:lnTo>
                      <a:pt x="1318" y="1606"/>
                    </a:lnTo>
                    <a:lnTo>
                      <a:pt x="1401" y="1623"/>
                    </a:lnTo>
                    <a:lnTo>
                      <a:pt x="1483" y="1641"/>
                    </a:lnTo>
                    <a:lnTo>
                      <a:pt x="1566" y="1659"/>
                    </a:lnTo>
                    <a:lnTo>
                      <a:pt x="1647" y="1679"/>
                    </a:lnTo>
                    <a:lnTo>
                      <a:pt x="1728" y="1699"/>
                    </a:lnTo>
                    <a:lnTo>
                      <a:pt x="1808" y="1721"/>
                    </a:lnTo>
                    <a:lnTo>
                      <a:pt x="1888" y="1744"/>
                    </a:lnTo>
                    <a:lnTo>
                      <a:pt x="1968" y="1767"/>
                    </a:lnTo>
                    <a:lnTo>
                      <a:pt x="2046" y="1791"/>
                    </a:lnTo>
                    <a:lnTo>
                      <a:pt x="2125" y="1818"/>
                    </a:lnTo>
                    <a:lnTo>
                      <a:pt x="2202" y="1844"/>
                    </a:lnTo>
                    <a:lnTo>
                      <a:pt x="2279" y="1872"/>
                    </a:lnTo>
                    <a:lnTo>
                      <a:pt x="2355" y="1901"/>
                    </a:lnTo>
                    <a:lnTo>
                      <a:pt x="2432" y="1930"/>
                    </a:lnTo>
                    <a:lnTo>
                      <a:pt x="2506" y="1962"/>
                    </a:lnTo>
                    <a:lnTo>
                      <a:pt x="2581" y="1994"/>
                    </a:lnTo>
                    <a:lnTo>
                      <a:pt x="2656" y="2028"/>
                    </a:lnTo>
                    <a:lnTo>
                      <a:pt x="2729" y="2062"/>
                    </a:lnTo>
                    <a:lnTo>
                      <a:pt x="2801" y="2098"/>
                    </a:lnTo>
                    <a:lnTo>
                      <a:pt x="2874" y="2135"/>
                    </a:lnTo>
                    <a:lnTo>
                      <a:pt x="2946" y="2173"/>
                    </a:lnTo>
                    <a:lnTo>
                      <a:pt x="3016" y="2213"/>
                    </a:lnTo>
                    <a:lnTo>
                      <a:pt x="3086" y="2253"/>
                    </a:lnTo>
                    <a:lnTo>
                      <a:pt x="3157" y="2296"/>
                    </a:lnTo>
                    <a:lnTo>
                      <a:pt x="3226" y="2339"/>
                    </a:lnTo>
                    <a:lnTo>
                      <a:pt x="3294" y="2385"/>
                    </a:lnTo>
                    <a:lnTo>
                      <a:pt x="3362" y="2430"/>
                    </a:lnTo>
                    <a:lnTo>
                      <a:pt x="3429" y="2478"/>
                    </a:lnTo>
                    <a:lnTo>
                      <a:pt x="3435" y="2435"/>
                    </a:lnTo>
                    <a:lnTo>
                      <a:pt x="3440" y="2395"/>
                    </a:lnTo>
                    <a:lnTo>
                      <a:pt x="3444" y="2359"/>
                    </a:lnTo>
                    <a:lnTo>
                      <a:pt x="3447" y="2324"/>
                    </a:lnTo>
                    <a:lnTo>
                      <a:pt x="3452" y="2289"/>
                    </a:lnTo>
                    <a:lnTo>
                      <a:pt x="3456" y="2252"/>
                    </a:lnTo>
                    <a:lnTo>
                      <a:pt x="3462" y="2214"/>
                    </a:lnTo>
                    <a:lnTo>
                      <a:pt x="3468" y="2171"/>
                    </a:lnTo>
                    <a:lnTo>
                      <a:pt x="3330" y="2087"/>
                    </a:lnTo>
                    <a:lnTo>
                      <a:pt x="3193" y="2006"/>
                    </a:lnTo>
                    <a:lnTo>
                      <a:pt x="3125" y="1967"/>
                    </a:lnTo>
                    <a:lnTo>
                      <a:pt x="3057" y="1929"/>
                    </a:lnTo>
                    <a:lnTo>
                      <a:pt x="2989" y="1892"/>
                    </a:lnTo>
                    <a:lnTo>
                      <a:pt x="2921" y="1855"/>
                    </a:lnTo>
                    <a:lnTo>
                      <a:pt x="2853" y="1820"/>
                    </a:lnTo>
                    <a:lnTo>
                      <a:pt x="2785" y="1785"/>
                    </a:lnTo>
                    <a:lnTo>
                      <a:pt x="2716" y="1751"/>
                    </a:lnTo>
                    <a:lnTo>
                      <a:pt x="2648" y="1718"/>
                    </a:lnTo>
                    <a:lnTo>
                      <a:pt x="2579" y="1685"/>
                    </a:lnTo>
                    <a:lnTo>
                      <a:pt x="2510" y="1655"/>
                    </a:lnTo>
                    <a:lnTo>
                      <a:pt x="2441" y="1624"/>
                    </a:lnTo>
                    <a:lnTo>
                      <a:pt x="2370" y="1594"/>
                    </a:lnTo>
                    <a:lnTo>
                      <a:pt x="2300" y="1566"/>
                    </a:lnTo>
                    <a:lnTo>
                      <a:pt x="2230" y="1539"/>
                    </a:lnTo>
                    <a:lnTo>
                      <a:pt x="2159" y="1513"/>
                    </a:lnTo>
                    <a:lnTo>
                      <a:pt x="2086" y="1487"/>
                    </a:lnTo>
                    <a:lnTo>
                      <a:pt x="2014" y="1462"/>
                    </a:lnTo>
                    <a:lnTo>
                      <a:pt x="1941" y="1439"/>
                    </a:lnTo>
                    <a:lnTo>
                      <a:pt x="1866" y="1416"/>
                    </a:lnTo>
                    <a:lnTo>
                      <a:pt x="1791" y="1395"/>
                    </a:lnTo>
                    <a:lnTo>
                      <a:pt x="1716" y="1375"/>
                    </a:lnTo>
                    <a:lnTo>
                      <a:pt x="1639" y="1356"/>
                    </a:lnTo>
                    <a:lnTo>
                      <a:pt x="1561" y="1337"/>
                    </a:lnTo>
                    <a:lnTo>
                      <a:pt x="1482" y="1320"/>
                    </a:lnTo>
                    <a:lnTo>
                      <a:pt x="1402" y="1304"/>
                    </a:lnTo>
                    <a:lnTo>
                      <a:pt x="1322" y="1289"/>
                    </a:lnTo>
                    <a:lnTo>
                      <a:pt x="1240" y="1275"/>
                    </a:lnTo>
                    <a:lnTo>
                      <a:pt x="1157" y="1264"/>
                    </a:lnTo>
                    <a:lnTo>
                      <a:pt x="1016" y="1264"/>
                    </a:lnTo>
                    <a:lnTo>
                      <a:pt x="874" y="1263"/>
                    </a:lnTo>
                    <a:lnTo>
                      <a:pt x="801" y="1262"/>
                    </a:lnTo>
                    <a:lnTo>
                      <a:pt x="729" y="1259"/>
                    </a:lnTo>
                    <a:lnTo>
                      <a:pt x="655" y="1255"/>
                    </a:lnTo>
                    <a:lnTo>
                      <a:pt x="583" y="1250"/>
                    </a:lnTo>
                    <a:lnTo>
                      <a:pt x="510" y="1242"/>
                    </a:lnTo>
                    <a:lnTo>
                      <a:pt x="436" y="1233"/>
                    </a:lnTo>
                    <a:lnTo>
                      <a:pt x="400" y="1228"/>
                    </a:lnTo>
                    <a:lnTo>
                      <a:pt x="363" y="1221"/>
                    </a:lnTo>
                    <a:lnTo>
                      <a:pt x="326" y="1214"/>
                    </a:lnTo>
                    <a:lnTo>
                      <a:pt x="290" y="1206"/>
                    </a:lnTo>
                    <a:lnTo>
                      <a:pt x="254" y="1198"/>
                    </a:lnTo>
                    <a:lnTo>
                      <a:pt x="218" y="1188"/>
                    </a:lnTo>
                    <a:lnTo>
                      <a:pt x="182" y="1179"/>
                    </a:lnTo>
                    <a:lnTo>
                      <a:pt x="145" y="1167"/>
                    </a:lnTo>
                    <a:lnTo>
                      <a:pt x="109" y="1156"/>
                    </a:lnTo>
                    <a:lnTo>
                      <a:pt x="74" y="1143"/>
                    </a:lnTo>
                    <a:lnTo>
                      <a:pt x="39" y="1129"/>
                    </a:lnTo>
                    <a:lnTo>
                      <a:pt x="4" y="1114"/>
                    </a:lnTo>
                    <a:close/>
                    <a:moveTo>
                      <a:pt x="70" y="2173"/>
                    </a:moveTo>
                    <a:lnTo>
                      <a:pt x="63" y="2127"/>
                    </a:lnTo>
                    <a:lnTo>
                      <a:pt x="57" y="2080"/>
                    </a:lnTo>
                    <a:lnTo>
                      <a:pt x="51" y="2030"/>
                    </a:lnTo>
                    <a:lnTo>
                      <a:pt x="46" y="1980"/>
                    </a:lnTo>
                    <a:lnTo>
                      <a:pt x="41" y="1930"/>
                    </a:lnTo>
                    <a:lnTo>
                      <a:pt x="36" y="1880"/>
                    </a:lnTo>
                    <a:lnTo>
                      <a:pt x="30" y="1833"/>
                    </a:lnTo>
                    <a:lnTo>
                      <a:pt x="25" y="1786"/>
                    </a:lnTo>
                    <a:lnTo>
                      <a:pt x="60" y="1799"/>
                    </a:lnTo>
                    <a:lnTo>
                      <a:pt x="94" y="1812"/>
                    </a:lnTo>
                    <a:lnTo>
                      <a:pt x="128" y="1822"/>
                    </a:lnTo>
                    <a:lnTo>
                      <a:pt x="163" y="1833"/>
                    </a:lnTo>
                    <a:lnTo>
                      <a:pt x="197" y="1842"/>
                    </a:lnTo>
                    <a:lnTo>
                      <a:pt x="231" y="1851"/>
                    </a:lnTo>
                    <a:lnTo>
                      <a:pt x="265" y="1859"/>
                    </a:lnTo>
                    <a:lnTo>
                      <a:pt x="299" y="1867"/>
                    </a:lnTo>
                    <a:lnTo>
                      <a:pt x="332" y="1873"/>
                    </a:lnTo>
                    <a:lnTo>
                      <a:pt x="366" y="1879"/>
                    </a:lnTo>
                    <a:lnTo>
                      <a:pt x="399" y="1885"/>
                    </a:lnTo>
                    <a:lnTo>
                      <a:pt x="432" y="1889"/>
                    </a:lnTo>
                    <a:lnTo>
                      <a:pt x="496" y="1897"/>
                    </a:lnTo>
                    <a:lnTo>
                      <a:pt x="560" y="1903"/>
                    </a:lnTo>
                    <a:lnTo>
                      <a:pt x="621" y="1907"/>
                    </a:lnTo>
                    <a:lnTo>
                      <a:pt x="682" y="1909"/>
                    </a:lnTo>
                    <a:lnTo>
                      <a:pt x="740" y="1910"/>
                    </a:lnTo>
                    <a:lnTo>
                      <a:pt x="796" y="1909"/>
                    </a:lnTo>
                    <a:lnTo>
                      <a:pt x="849" y="1908"/>
                    </a:lnTo>
                    <a:lnTo>
                      <a:pt x="900" y="1906"/>
                    </a:lnTo>
                    <a:lnTo>
                      <a:pt x="948" y="1904"/>
                    </a:lnTo>
                    <a:lnTo>
                      <a:pt x="994" y="1902"/>
                    </a:lnTo>
                    <a:lnTo>
                      <a:pt x="1078" y="1912"/>
                    </a:lnTo>
                    <a:lnTo>
                      <a:pt x="1161" y="1925"/>
                    </a:lnTo>
                    <a:lnTo>
                      <a:pt x="1243" y="1939"/>
                    </a:lnTo>
                    <a:lnTo>
                      <a:pt x="1324" y="1953"/>
                    </a:lnTo>
                    <a:lnTo>
                      <a:pt x="1405" y="1969"/>
                    </a:lnTo>
                    <a:lnTo>
                      <a:pt x="1485" y="1986"/>
                    </a:lnTo>
                    <a:lnTo>
                      <a:pt x="1564" y="2004"/>
                    </a:lnTo>
                    <a:lnTo>
                      <a:pt x="1643" y="2024"/>
                    </a:lnTo>
                    <a:lnTo>
                      <a:pt x="1722" y="2045"/>
                    </a:lnTo>
                    <a:lnTo>
                      <a:pt x="1799" y="2066"/>
                    </a:lnTo>
                    <a:lnTo>
                      <a:pt x="1877" y="2087"/>
                    </a:lnTo>
                    <a:lnTo>
                      <a:pt x="1954" y="2110"/>
                    </a:lnTo>
                    <a:lnTo>
                      <a:pt x="2029" y="2135"/>
                    </a:lnTo>
                    <a:lnTo>
                      <a:pt x="2105" y="2159"/>
                    </a:lnTo>
                    <a:lnTo>
                      <a:pt x="2180" y="2184"/>
                    </a:lnTo>
                    <a:lnTo>
                      <a:pt x="2254" y="2211"/>
                    </a:lnTo>
                    <a:lnTo>
                      <a:pt x="2329" y="2239"/>
                    </a:lnTo>
                    <a:lnTo>
                      <a:pt x="2402" y="2266"/>
                    </a:lnTo>
                    <a:lnTo>
                      <a:pt x="2476" y="2295"/>
                    </a:lnTo>
                    <a:lnTo>
                      <a:pt x="2548" y="2324"/>
                    </a:lnTo>
                    <a:lnTo>
                      <a:pt x="2620" y="2354"/>
                    </a:lnTo>
                    <a:lnTo>
                      <a:pt x="2693" y="2385"/>
                    </a:lnTo>
                    <a:lnTo>
                      <a:pt x="2764" y="2417"/>
                    </a:lnTo>
                    <a:lnTo>
                      <a:pt x="2836" y="2448"/>
                    </a:lnTo>
                    <a:lnTo>
                      <a:pt x="2978" y="2513"/>
                    </a:lnTo>
                    <a:lnTo>
                      <a:pt x="3119" y="2581"/>
                    </a:lnTo>
                    <a:lnTo>
                      <a:pt x="3260" y="2650"/>
                    </a:lnTo>
                    <a:lnTo>
                      <a:pt x="3400" y="2720"/>
                    </a:lnTo>
                    <a:lnTo>
                      <a:pt x="3397" y="2759"/>
                    </a:lnTo>
                    <a:lnTo>
                      <a:pt x="3394" y="2799"/>
                    </a:lnTo>
                    <a:lnTo>
                      <a:pt x="3391" y="2838"/>
                    </a:lnTo>
                    <a:lnTo>
                      <a:pt x="3389" y="2879"/>
                    </a:lnTo>
                    <a:lnTo>
                      <a:pt x="3386" y="2919"/>
                    </a:lnTo>
                    <a:lnTo>
                      <a:pt x="3384" y="2959"/>
                    </a:lnTo>
                    <a:lnTo>
                      <a:pt x="3380" y="2998"/>
                    </a:lnTo>
                    <a:lnTo>
                      <a:pt x="3377" y="3037"/>
                    </a:lnTo>
                    <a:lnTo>
                      <a:pt x="3285" y="2983"/>
                    </a:lnTo>
                    <a:lnTo>
                      <a:pt x="3182" y="2923"/>
                    </a:lnTo>
                    <a:lnTo>
                      <a:pt x="3068" y="2859"/>
                    </a:lnTo>
                    <a:lnTo>
                      <a:pt x="2944" y="2792"/>
                    </a:lnTo>
                    <a:lnTo>
                      <a:pt x="2878" y="2758"/>
                    </a:lnTo>
                    <a:lnTo>
                      <a:pt x="2810" y="2723"/>
                    </a:lnTo>
                    <a:lnTo>
                      <a:pt x="2740" y="2689"/>
                    </a:lnTo>
                    <a:lnTo>
                      <a:pt x="2669" y="2654"/>
                    </a:lnTo>
                    <a:lnTo>
                      <a:pt x="2594" y="2620"/>
                    </a:lnTo>
                    <a:lnTo>
                      <a:pt x="2520" y="2586"/>
                    </a:lnTo>
                    <a:lnTo>
                      <a:pt x="2442" y="2552"/>
                    </a:lnTo>
                    <a:lnTo>
                      <a:pt x="2363" y="2519"/>
                    </a:lnTo>
                    <a:lnTo>
                      <a:pt x="2283" y="2488"/>
                    </a:lnTo>
                    <a:lnTo>
                      <a:pt x="2200" y="2457"/>
                    </a:lnTo>
                    <a:lnTo>
                      <a:pt x="2118" y="2427"/>
                    </a:lnTo>
                    <a:lnTo>
                      <a:pt x="2034" y="2400"/>
                    </a:lnTo>
                    <a:lnTo>
                      <a:pt x="1948" y="2373"/>
                    </a:lnTo>
                    <a:lnTo>
                      <a:pt x="1862" y="2348"/>
                    </a:lnTo>
                    <a:lnTo>
                      <a:pt x="1775" y="2324"/>
                    </a:lnTo>
                    <a:lnTo>
                      <a:pt x="1686" y="2303"/>
                    </a:lnTo>
                    <a:lnTo>
                      <a:pt x="1597" y="2284"/>
                    </a:lnTo>
                    <a:lnTo>
                      <a:pt x="1509" y="2268"/>
                    </a:lnTo>
                    <a:lnTo>
                      <a:pt x="1419" y="2254"/>
                    </a:lnTo>
                    <a:lnTo>
                      <a:pt x="1329" y="2243"/>
                    </a:lnTo>
                    <a:lnTo>
                      <a:pt x="1238" y="2234"/>
                    </a:lnTo>
                    <a:lnTo>
                      <a:pt x="1147" y="2229"/>
                    </a:lnTo>
                    <a:lnTo>
                      <a:pt x="1057" y="2227"/>
                    </a:lnTo>
                    <a:lnTo>
                      <a:pt x="966" y="2227"/>
                    </a:lnTo>
                    <a:lnTo>
                      <a:pt x="917" y="2237"/>
                    </a:lnTo>
                    <a:lnTo>
                      <a:pt x="869" y="2247"/>
                    </a:lnTo>
                    <a:lnTo>
                      <a:pt x="819" y="2254"/>
                    </a:lnTo>
                    <a:lnTo>
                      <a:pt x="767" y="2261"/>
                    </a:lnTo>
                    <a:lnTo>
                      <a:pt x="715" y="2265"/>
                    </a:lnTo>
                    <a:lnTo>
                      <a:pt x="661" y="2268"/>
                    </a:lnTo>
                    <a:lnTo>
                      <a:pt x="606" y="2269"/>
                    </a:lnTo>
                    <a:lnTo>
                      <a:pt x="550" y="2268"/>
                    </a:lnTo>
                    <a:lnTo>
                      <a:pt x="493" y="2265"/>
                    </a:lnTo>
                    <a:lnTo>
                      <a:pt x="435" y="2261"/>
                    </a:lnTo>
                    <a:lnTo>
                      <a:pt x="406" y="2257"/>
                    </a:lnTo>
                    <a:lnTo>
                      <a:pt x="377" y="2252"/>
                    </a:lnTo>
                    <a:lnTo>
                      <a:pt x="346" y="2248"/>
                    </a:lnTo>
                    <a:lnTo>
                      <a:pt x="317" y="2243"/>
                    </a:lnTo>
                    <a:lnTo>
                      <a:pt x="287" y="2236"/>
                    </a:lnTo>
                    <a:lnTo>
                      <a:pt x="256" y="2229"/>
                    </a:lnTo>
                    <a:lnTo>
                      <a:pt x="226" y="2222"/>
                    </a:lnTo>
                    <a:lnTo>
                      <a:pt x="195" y="2214"/>
                    </a:lnTo>
                    <a:lnTo>
                      <a:pt x="164" y="2205"/>
                    </a:lnTo>
                    <a:lnTo>
                      <a:pt x="132" y="2195"/>
                    </a:lnTo>
                    <a:lnTo>
                      <a:pt x="101" y="2184"/>
                    </a:lnTo>
                    <a:lnTo>
                      <a:pt x="70" y="2173"/>
                    </a:lnTo>
                    <a:close/>
                    <a:moveTo>
                      <a:pt x="121" y="2554"/>
                    </a:moveTo>
                    <a:lnTo>
                      <a:pt x="150" y="2565"/>
                    </a:lnTo>
                    <a:lnTo>
                      <a:pt x="178" y="2573"/>
                    </a:lnTo>
                    <a:lnTo>
                      <a:pt x="209" y="2582"/>
                    </a:lnTo>
                    <a:lnTo>
                      <a:pt x="239" y="2589"/>
                    </a:lnTo>
                    <a:lnTo>
                      <a:pt x="269" y="2596"/>
                    </a:lnTo>
                    <a:lnTo>
                      <a:pt x="300" y="2601"/>
                    </a:lnTo>
                    <a:lnTo>
                      <a:pt x="332" y="2606"/>
                    </a:lnTo>
                    <a:lnTo>
                      <a:pt x="364" y="2609"/>
                    </a:lnTo>
                    <a:lnTo>
                      <a:pt x="395" y="2613"/>
                    </a:lnTo>
                    <a:lnTo>
                      <a:pt x="428" y="2616"/>
                    </a:lnTo>
                    <a:lnTo>
                      <a:pt x="460" y="2617"/>
                    </a:lnTo>
                    <a:lnTo>
                      <a:pt x="493" y="2618"/>
                    </a:lnTo>
                    <a:lnTo>
                      <a:pt x="526" y="2619"/>
                    </a:lnTo>
                    <a:lnTo>
                      <a:pt x="559" y="2619"/>
                    </a:lnTo>
                    <a:lnTo>
                      <a:pt x="592" y="2618"/>
                    </a:lnTo>
                    <a:lnTo>
                      <a:pt x="625" y="2617"/>
                    </a:lnTo>
                    <a:lnTo>
                      <a:pt x="690" y="2614"/>
                    </a:lnTo>
                    <a:lnTo>
                      <a:pt x="755" y="2608"/>
                    </a:lnTo>
                    <a:lnTo>
                      <a:pt x="819" y="2601"/>
                    </a:lnTo>
                    <a:lnTo>
                      <a:pt x="881" y="2592"/>
                    </a:lnTo>
                    <a:lnTo>
                      <a:pt x="943" y="2584"/>
                    </a:lnTo>
                    <a:lnTo>
                      <a:pt x="1001" y="2574"/>
                    </a:lnTo>
                    <a:lnTo>
                      <a:pt x="1058" y="2564"/>
                    </a:lnTo>
                    <a:lnTo>
                      <a:pt x="1112" y="2553"/>
                    </a:lnTo>
                    <a:lnTo>
                      <a:pt x="1192" y="2559"/>
                    </a:lnTo>
                    <a:lnTo>
                      <a:pt x="1271" y="2565"/>
                    </a:lnTo>
                    <a:lnTo>
                      <a:pt x="1350" y="2573"/>
                    </a:lnTo>
                    <a:lnTo>
                      <a:pt x="1428" y="2583"/>
                    </a:lnTo>
                    <a:lnTo>
                      <a:pt x="1506" y="2595"/>
                    </a:lnTo>
                    <a:lnTo>
                      <a:pt x="1584" y="2607"/>
                    </a:lnTo>
                    <a:lnTo>
                      <a:pt x="1661" y="2622"/>
                    </a:lnTo>
                    <a:lnTo>
                      <a:pt x="1738" y="2638"/>
                    </a:lnTo>
                    <a:lnTo>
                      <a:pt x="1813" y="2656"/>
                    </a:lnTo>
                    <a:lnTo>
                      <a:pt x="1889" y="2674"/>
                    </a:lnTo>
                    <a:lnTo>
                      <a:pt x="1964" y="2694"/>
                    </a:lnTo>
                    <a:lnTo>
                      <a:pt x="2038" y="2715"/>
                    </a:lnTo>
                    <a:lnTo>
                      <a:pt x="2112" y="2737"/>
                    </a:lnTo>
                    <a:lnTo>
                      <a:pt x="2185" y="2760"/>
                    </a:lnTo>
                    <a:lnTo>
                      <a:pt x="2257" y="2784"/>
                    </a:lnTo>
                    <a:lnTo>
                      <a:pt x="2329" y="2810"/>
                    </a:lnTo>
                    <a:lnTo>
                      <a:pt x="2400" y="2835"/>
                    </a:lnTo>
                    <a:lnTo>
                      <a:pt x="2469" y="2862"/>
                    </a:lnTo>
                    <a:lnTo>
                      <a:pt x="2539" y="2889"/>
                    </a:lnTo>
                    <a:lnTo>
                      <a:pt x="2607" y="2918"/>
                    </a:lnTo>
                    <a:lnTo>
                      <a:pt x="2675" y="2946"/>
                    </a:lnTo>
                    <a:lnTo>
                      <a:pt x="2742" y="2976"/>
                    </a:lnTo>
                    <a:lnTo>
                      <a:pt x="2808" y="3006"/>
                    </a:lnTo>
                    <a:lnTo>
                      <a:pt x="2873" y="3035"/>
                    </a:lnTo>
                    <a:lnTo>
                      <a:pt x="2937" y="3066"/>
                    </a:lnTo>
                    <a:lnTo>
                      <a:pt x="3000" y="3097"/>
                    </a:lnTo>
                    <a:lnTo>
                      <a:pt x="3062" y="3129"/>
                    </a:lnTo>
                    <a:lnTo>
                      <a:pt x="3124" y="3159"/>
                    </a:lnTo>
                    <a:lnTo>
                      <a:pt x="3242" y="3223"/>
                    </a:lnTo>
                    <a:lnTo>
                      <a:pt x="3357" y="3285"/>
                    </a:lnTo>
                    <a:lnTo>
                      <a:pt x="3355" y="3327"/>
                    </a:lnTo>
                    <a:lnTo>
                      <a:pt x="3353" y="3368"/>
                    </a:lnTo>
                    <a:lnTo>
                      <a:pt x="3351" y="3410"/>
                    </a:lnTo>
                    <a:lnTo>
                      <a:pt x="3349" y="3453"/>
                    </a:lnTo>
                    <a:lnTo>
                      <a:pt x="3346" y="3495"/>
                    </a:lnTo>
                    <a:lnTo>
                      <a:pt x="3345" y="3537"/>
                    </a:lnTo>
                    <a:lnTo>
                      <a:pt x="3343" y="3579"/>
                    </a:lnTo>
                    <a:lnTo>
                      <a:pt x="3341" y="3620"/>
                    </a:lnTo>
                    <a:lnTo>
                      <a:pt x="3278" y="3582"/>
                    </a:lnTo>
                    <a:lnTo>
                      <a:pt x="3216" y="3545"/>
                    </a:lnTo>
                    <a:lnTo>
                      <a:pt x="3153" y="3510"/>
                    </a:lnTo>
                    <a:lnTo>
                      <a:pt x="3091" y="3476"/>
                    </a:lnTo>
                    <a:lnTo>
                      <a:pt x="3028" y="3444"/>
                    </a:lnTo>
                    <a:lnTo>
                      <a:pt x="2966" y="3414"/>
                    </a:lnTo>
                    <a:lnTo>
                      <a:pt x="2903" y="3383"/>
                    </a:lnTo>
                    <a:lnTo>
                      <a:pt x="2841" y="3355"/>
                    </a:lnTo>
                    <a:lnTo>
                      <a:pt x="2778" y="3328"/>
                    </a:lnTo>
                    <a:lnTo>
                      <a:pt x="2715" y="3302"/>
                    </a:lnTo>
                    <a:lnTo>
                      <a:pt x="2652" y="3277"/>
                    </a:lnTo>
                    <a:lnTo>
                      <a:pt x="2589" y="3254"/>
                    </a:lnTo>
                    <a:lnTo>
                      <a:pt x="2525" y="3231"/>
                    </a:lnTo>
                    <a:lnTo>
                      <a:pt x="2460" y="3210"/>
                    </a:lnTo>
                    <a:lnTo>
                      <a:pt x="2397" y="3190"/>
                    </a:lnTo>
                    <a:lnTo>
                      <a:pt x="2331" y="3171"/>
                    </a:lnTo>
                    <a:lnTo>
                      <a:pt x="2265" y="3153"/>
                    </a:lnTo>
                    <a:lnTo>
                      <a:pt x="2199" y="3135"/>
                    </a:lnTo>
                    <a:lnTo>
                      <a:pt x="2132" y="3119"/>
                    </a:lnTo>
                    <a:lnTo>
                      <a:pt x="2066" y="3104"/>
                    </a:lnTo>
                    <a:lnTo>
                      <a:pt x="1998" y="3089"/>
                    </a:lnTo>
                    <a:lnTo>
                      <a:pt x="1929" y="3076"/>
                    </a:lnTo>
                    <a:lnTo>
                      <a:pt x="1858" y="3063"/>
                    </a:lnTo>
                    <a:lnTo>
                      <a:pt x="1788" y="3051"/>
                    </a:lnTo>
                    <a:lnTo>
                      <a:pt x="1716" y="3040"/>
                    </a:lnTo>
                    <a:lnTo>
                      <a:pt x="1643" y="3029"/>
                    </a:lnTo>
                    <a:lnTo>
                      <a:pt x="1570" y="3019"/>
                    </a:lnTo>
                    <a:lnTo>
                      <a:pt x="1495" y="3010"/>
                    </a:lnTo>
                    <a:lnTo>
                      <a:pt x="1421" y="3001"/>
                    </a:lnTo>
                    <a:lnTo>
                      <a:pt x="1344" y="2994"/>
                    </a:lnTo>
                    <a:lnTo>
                      <a:pt x="1265" y="2987"/>
                    </a:lnTo>
                    <a:lnTo>
                      <a:pt x="1186" y="2979"/>
                    </a:lnTo>
                    <a:lnTo>
                      <a:pt x="1142" y="2990"/>
                    </a:lnTo>
                    <a:lnTo>
                      <a:pt x="1092" y="2998"/>
                    </a:lnTo>
                    <a:lnTo>
                      <a:pt x="1036" y="3006"/>
                    </a:lnTo>
                    <a:lnTo>
                      <a:pt x="977" y="3012"/>
                    </a:lnTo>
                    <a:lnTo>
                      <a:pt x="913" y="3016"/>
                    </a:lnTo>
                    <a:lnTo>
                      <a:pt x="847" y="3019"/>
                    </a:lnTo>
                    <a:lnTo>
                      <a:pt x="779" y="3021"/>
                    </a:lnTo>
                    <a:lnTo>
                      <a:pt x="710" y="3019"/>
                    </a:lnTo>
                    <a:lnTo>
                      <a:pt x="675" y="3017"/>
                    </a:lnTo>
                    <a:lnTo>
                      <a:pt x="640" y="3015"/>
                    </a:lnTo>
                    <a:lnTo>
                      <a:pt x="606" y="3013"/>
                    </a:lnTo>
                    <a:lnTo>
                      <a:pt x="571" y="3010"/>
                    </a:lnTo>
                    <a:lnTo>
                      <a:pt x="537" y="3006"/>
                    </a:lnTo>
                    <a:lnTo>
                      <a:pt x="503" y="3001"/>
                    </a:lnTo>
                    <a:lnTo>
                      <a:pt x="469" y="2996"/>
                    </a:lnTo>
                    <a:lnTo>
                      <a:pt x="436" y="2990"/>
                    </a:lnTo>
                    <a:lnTo>
                      <a:pt x="403" y="2983"/>
                    </a:lnTo>
                    <a:lnTo>
                      <a:pt x="371" y="2976"/>
                    </a:lnTo>
                    <a:lnTo>
                      <a:pt x="341" y="2969"/>
                    </a:lnTo>
                    <a:lnTo>
                      <a:pt x="311" y="2959"/>
                    </a:lnTo>
                    <a:lnTo>
                      <a:pt x="281" y="2950"/>
                    </a:lnTo>
                    <a:lnTo>
                      <a:pt x="254" y="2939"/>
                    </a:lnTo>
                    <a:lnTo>
                      <a:pt x="227" y="2927"/>
                    </a:lnTo>
                    <a:lnTo>
                      <a:pt x="201" y="2916"/>
                    </a:lnTo>
                    <a:lnTo>
                      <a:pt x="189" y="2871"/>
                    </a:lnTo>
                    <a:lnTo>
                      <a:pt x="176" y="2826"/>
                    </a:lnTo>
                    <a:lnTo>
                      <a:pt x="162" y="2781"/>
                    </a:lnTo>
                    <a:lnTo>
                      <a:pt x="148" y="2735"/>
                    </a:lnTo>
                    <a:lnTo>
                      <a:pt x="141" y="2713"/>
                    </a:lnTo>
                    <a:lnTo>
                      <a:pt x="136" y="2691"/>
                    </a:lnTo>
                    <a:lnTo>
                      <a:pt x="131" y="2668"/>
                    </a:lnTo>
                    <a:lnTo>
                      <a:pt x="127" y="2645"/>
                    </a:lnTo>
                    <a:lnTo>
                      <a:pt x="124" y="2623"/>
                    </a:lnTo>
                    <a:lnTo>
                      <a:pt x="121" y="2600"/>
                    </a:lnTo>
                    <a:lnTo>
                      <a:pt x="120" y="2578"/>
                    </a:lnTo>
                    <a:lnTo>
                      <a:pt x="121" y="2554"/>
                    </a:lnTo>
                    <a:close/>
                    <a:moveTo>
                      <a:pt x="1316" y="3325"/>
                    </a:moveTo>
                    <a:lnTo>
                      <a:pt x="1314" y="3342"/>
                    </a:lnTo>
                    <a:lnTo>
                      <a:pt x="1314" y="3359"/>
                    </a:lnTo>
                    <a:lnTo>
                      <a:pt x="1316" y="3377"/>
                    </a:lnTo>
                    <a:lnTo>
                      <a:pt x="1317" y="3394"/>
                    </a:lnTo>
                    <a:lnTo>
                      <a:pt x="1321" y="3430"/>
                    </a:lnTo>
                    <a:lnTo>
                      <a:pt x="1325" y="3466"/>
                    </a:lnTo>
                    <a:lnTo>
                      <a:pt x="1332" y="3502"/>
                    </a:lnTo>
                    <a:lnTo>
                      <a:pt x="1337" y="3537"/>
                    </a:lnTo>
                    <a:lnTo>
                      <a:pt x="1344" y="3570"/>
                    </a:lnTo>
                    <a:lnTo>
                      <a:pt x="1348" y="3602"/>
                    </a:lnTo>
                    <a:lnTo>
                      <a:pt x="1436" y="3604"/>
                    </a:lnTo>
                    <a:lnTo>
                      <a:pt x="1522" y="3608"/>
                    </a:lnTo>
                    <a:lnTo>
                      <a:pt x="1605" y="3613"/>
                    </a:lnTo>
                    <a:lnTo>
                      <a:pt x="1685" y="3618"/>
                    </a:lnTo>
                    <a:lnTo>
                      <a:pt x="1763" y="3626"/>
                    </a:lnTo>
                    <a:lnTo>
                      <a:pt x="1839" y="3634"/>
                    </a:lnTo>
                    <a:lnTo>
                      <a:pt x="1912" y="3644"/>
                    </a:lnTo>
                    <a:lnTo>
                      <a:pt x="1984" y="3653"/>
                    </a:lnTo>
                    <a:lnTo>
                      <a:pt x="2054" y="3665"/>
                    </a:lnTo>
                    <a:lnTo>
                      <a:pt x="2121" y="3676"/>
                    </a:lnTo>
                    <a:lnTo>
                      <a:pt x="2187" y="3689"/>
                    </a:lnTo>
                    <a:lnTo>
                      <a:pt x="2251" y="3703"/>
                    </a:lnTo>
                    <a:lnTo>
                      <a:pt x="2313" y="3717"/>
                    </a:lnTo>
                    <a:lnTo>
                      <a:pt x="2375" y="3732"/>
                    </a:lnTo>
                    <a:lnTo>
                      <a:pt x="2434" y="3746"/>
                    </a:lnTo>
                    <a:lnTo>
                      <a:pt x="2492" y="3762"/>
                    </a:lnTo>
                    <a:lnTo>
                      <a:pt x="2606" y="3795"/>
                    </a:lnTo>
                    <a:lnTo>
                      <a:pt x="2715" y="3829"/>
                    </a:lnTo>
                    <a:lnTo>
                      <a:pt x="2820" y="3863"/>
                    </a:lnTo>
                    <a:lnTo>
                      <a:pt x="2923" y="3898"/>
                    </a:lnTo>
                    <a:lnTo>
                      <a:pt x="3025" y="3932"/>
                    </a:lnTo>
                    <a:lnTo>
                      <a:pt x="3125" y="3965"/>
                    </a:lnTo>
                    <a:lnTo>
                      <a:pt x="3225" y="3996"/>
                    </a:lnTo>
                    <a:lnTo>
                      <a:pt x="3326" y="4027"/>
                    </a:lnTo>
                    <a:lnTo>
                      <a:pt x="3326" y="3993"/>
                    </a:lnTo>
                    <a:lnTo>
                      <a:pt x="3326" y="3964"/>
                    </a:lnTo>
                    <a:lnTo>
                      <a:pt x="3327" y="3935"/>
                    </a:lnTo>
                    <a:lnTo>
                      <a:pt x="3327" y="3907"/>
                    </a:lnTo>
                    <a:lnTo>
                      <a:pt x="3326" y="3881"/>
                    </a:lnTo>
                    <a:lnTo>
                      <a:pt x="3324" y="3853"/>
                    </a:lnTo>
                    <a:lnTo>
                      <a:pt x="3323" y="3826"/>
                    </a:lnTo>
                    <a:lnTo>
                      <a:pt x="3320" y="3795"/>
                    </a:lnTo>
                    <a:lnTo>
                      <a:pt x="3270" y="3779"/>
                    </a:lnTo>
                    <a:lnTo>
                      <a:pt x="3220" y="3762"/>
                    </a:lnTo>
                    <a:lnTo>
                      <a:pt x="3170" y="3745"/>
                    </a:lnTo>
                    <a:lnTo>
                      <a:pt x="3120" y="3726"/>
                    </a:lnTo>
                    <a:lnTo>
                      <a:pt x="3020" y="3688"/>
                    </a:lnTo>
                    <a:lnTo>
                      <a:pt x="2917" y="3648"/>
                    </a:lnTo>
                    <a:lnTo>
                      <a:pt x="2812" y="3607"/>
                    </a:lnTo>
                    <a:lnTo>
                      <a:pt x="2704" y="3565"/>
                    </a:lnTo>
                    <a:lnTo>
                      <a:pt x="2649" y="3545"/>
                    </a:lnTo>
                    <a:lnTo>
                      <a:pt x="2593" y="3525"/>
                    </a:lnTo>
                    <a:lnTo>
                      <a:pt x="2536" y="3505"/>
                    </a:lnTo>
                    <a:lnTo>
                      <a:pt x="2477" y="3486"/>
                    </a:lnTo>
                    <a:lnTo>
                      <a:pt x="2418" y="3468"/>
                    </a:lnTo>
                    <a:lnTo>
                      <a:pt x="2356" y="3450"/>
                    </a:lnTo>
                    <a:lnTo>
                      <a:pt x="2294" y="3432"/>
                    </a:lnTo>
                    <a:lnTo>
                      <a:pt x="2230" y="3416"/>
                    </a:lnTo>
                    <a:lnTo>
                      <a:pt x="2164" y="3400"/>
                    </a:lnTo>
                    <a:lnTo>
                      <a:pt x="2097" y="3386"/>
                    </a:lnTo>
                    <a:lnTo>
                      <a:pt x="2028" y="3373"/>
                    </a:lnTo>
                    <a:lnTo>
                      <a:pt x="1958" y="3361"/>
                    </a:lnTo>
                    <a:lnTo>
                      <a:pt x="1886" y="3351"/>
                    </a:lnTo>
                    <a:lnTo>
                      <a:pt x="1810" y="3342"/>
                    </a:lnTo>
                    <a:lnTo>
                      <a:pt x="1733" y="3334"/>
                    </a:lnTo>
                    <a:lnTo>
                      <a:pt x="1654" y="3329"/>
                    </a:lnTo>
                    <a:lnTo>
                      <a:pt x="1573" y="3325"/>
                    </a:lnTo>
                    <a:lnTo>
                      <a:pt x="1490" y="3323"/>
                    </a:lnTo>
                    <a:lnTo>
                      <a:pt x="1404" y="3323"/>
                    </a:lnTo>
                    <a:lnTo>
                      <a:pt x="1316" y="3325"/>
                    </a:lnTo>
                    <a:close/>
                    <a:moveTo>
                      <a:pt x="1386" y="3936"/>
                    </a:moveTo>
                    <a:lnTo>
                      <a:pt x="1472" y="3939"/>
                    </a:lnTo>
                    <a:lnTo>
                      <a:pt x="1556" y="3942"/>
                    </a:lnTo>
                    <a:lnTo>
                      <a:pt x="1636" y="3946"/>
                    </a:lnTo>
                    <a:lnTo>
                      <a:pt x="1715" y="3950"/>
                    </a:lnTo>
                    <a:lnTo>
                      <a:pt x="1790" y="3955"/>
                    </a:lnTo>
                    <a:lnTo>
                      <a:pt x="1864" y="3961"/>
                    </a:lnTo>
                    <a:lnTo>
                      <a:pt x="1936" y="3968"/>
                    </a:lnTo>
                    <a:lnTo>
                      <a:pt x="2005" y="3974"/>
                    </a:lnTo>
                    <a:lnTo>
                      <a:pt x="2073" y="3982"/>
                    </a:lnTo>
                    <a:lnTo>
                      <a:pt x="2139" y="3989"/>
                    </a:lnTo>
                    <a:lnTo>
                      <a:pt x="2204" y="3998"/>
                    </a:lnTo>
                    <a:lnTo>
                      <a:pt x="2266" y="4006"/>
                    </a:lnTo>
                    <a:lnTo>
                      <a:pt x="2387" y="4023"/>
                    </a:lnTo>
                    <a:lnTo>
                      <a:pt x="2502" y="4042"/>
                    </a:lnTo>
                    <a:lnTo>
                      <a:pt x="2719" y="4081"/>
                    </a:lnTo>
                    <a:lnTo>
                      <a:pt x="2924" y="4119"/>
                    </a:lnTo>
                    <a:lnTo>
                      <a:pt x="3023" y="4138"/>
                    </a:lnTo>
                    <a:lnTo>
                      <a:pt x="3122" y="4155"/>
                    </a:lnTo>
                    <a:lnTo>
                      <a:pt x="3220" y="4171"/>
                    </a:lnTo>
                    <a:lnTo>
                      <a:pt x="3320" y="4186"/>
                    </a:lnTo>
                    <a:lnTo>
                      <a:pt x="3321" y="4223"/>
                    </a:lnTo>
                    <a:lnTo>
                      <a:pt x="3322" y="4260"/>
                    </a:lnTo>
                    <a:lnTo>
                      <a:pt x="3323" y="4297"/>
                    </a:lnTo>
                    <a:lnTo>
                      <a:pt x="3324" y="4334"/>
                    </a:lnTo>
                    <a:lnTo>
                      <a:pt x="3326" y="4373"/>
                    </a:lnTo>
                    <a:lnTo>
                      <a:pt x="3327" y="4410"/>
                    </a:lnTo>
                    <a:lnTo>
                      <a:pt x="3328" y="4447"/>
                    </a:lnTo>
                    <a:lnTo>
                      <a:pt x="3330" y="4485"/>
                    </a:lnTo>
                    <a:lnTo>
                      <a:pt x="3281" y="4469"/>
                    </a:lnTo>
                    <a:lnTo>
                      <a:pt x="3230" y="4453"/>
                    </a:lnTo>
                    <a:lnTo>
                      <a:pt x="3181" y="4439"/>
                    </a:lnTo>
                    <a:lnTo>
                      <a:pt x="3130" y="4426"/>
                    </a:lnTo>
                    <a:lnTo>
                      <a:pt x="3080" y="4412"/>
                    </a:lnTo>
                    <a:lnTo>
                      <a:pt x="3029" y="4399"/>
                    </a:lnTo>
                    <a:lnTo>
                      <a:pt x="2979" y="4386"/>
                    </a:lnTo>
                    <a:lnTo>
                      <a:pt x="2927" y="4375"/>
                    </a:lnTo>
                    <a:lnTo>
                      <a:pt x="2823" y="4354"/>
                    </a:lnTo>
                    <a:lnTo>
                      <a:pt x="2718" y="4333"/>
                    </a:lnTo>
                    <a:lnTo>
                      <a:pt x="2609" y="4314"/>
                    </a:lnTo>
                    <a:lnTo>
                      <a:pt x="2500" y="4297"/>
                    </a:lnTo>
                    <a:lnTo>
                      <a:pt x="2386" y="4281"/>
                    </a:lnTo>
                    <a:lnTo>
                      <a:pt x="2270" y="4267"/>
                    </a:lnTo>
                    <a:lnTo>
                      <a:pt x="2150" y="4253"/>
                    </a:lnTo>
                    <a:lnTo>
                      <a:pt x="2027" y="4239"/>
                    </a:lnTo>
                    <a:lnTo>
                      <a:pt x="1899" y="4226"/>
                    </a:lnTo>
                    <a:lnTo>
                      <a:pt x="1767" y="4214"/>
                    </a:lnTo>
                    <a:lnTo>
                      <a:pt x="1631" y="4201"/>
                    </a:lnTo>
                    <a:lnTo>
                      <a:pt x="1490" y="4189"/>
                    </a:lnTo>
                    <a:lnTo>
                      <a:pt x="1473" y="4162"/>
                    </a:lnTo>
                    <a:lnTo>
                      <a:pt x="1458" y="4133"/>
                    </a:lnTo>
                    <a:lnTo>
                      <a:pt x="1443" y="4105"/>
                    </a:lnTo>
                    <a:lnTo>
                      <a:pt x="1430" y="4073"/>
                    </a:lnTo>
                    <a:lnTo>
                      <a:pt x="1416" y="4041"/>
                    </a:lnTo>
                    <a:lnTo>
                      <a:pt x="1404" y="4008"/>
                    </a:lnTo>
                    <a:lnTo>
                      <a:pt x="1394" y="3973"/>
                    </a:lnTo>
                    <a:lnTo>
                      <a:pt x="1386" y="3936"/>
                    </a:lnTo>
                    <a:close/>
                    <a:moveTo>
                      <a:pt x="3326" y="4612"/>
                    </a:moveTo>
                    <a:lnTo>
                      <a:pt x="3335" y="4636"/>
                    </a:lnTo>
                    <a:lnTo>
                      <a:pt x="3344" y="4663"/>
                    </a:lnTo>
                    <a:lnTo>
                      <a:pt x="3353" y="4692"/>
                    </a:lnTo>
                    <a:lnTo>
                      <a:pt x="3362" y="4720"/>
                    </a:lnTo>
                    <a:lnTo>
                      <a:pt x="3372" y="4748"/>
                    </a:lnTo>
                    <a:lnTo>
                      <a:pt x="3381" y="4775"/>
                    </a:lnTo>
                    <a:lnTo>
                      <a:pt x="3392" y="4801"/>
                    </a:lnTo>
                    <a:lnTo>
                      <a:pt x="3404" y="4823"/>
                    </a:lnTo>
                    <a:lnTo>
                      <a:pt x="3335" y="4842"/>
                    </a:lnTo>
                    <a:lnTo>
                      <a:pt x="3269" y="4858"/>
                    </a:lnTo>
                    <a:lnTo>
                      <a:pt x="3203" y="4872"/>
                    </a:lnTo>
                    <a:lnTo>
                      <a:pt x="3139" y="4882"/>
                    </a:lnTo>
                    <a:lnTo>
                      <a:pt x="3078" y="4892"/>
                    </a:lnTo>
                    <a:lnTo>
                      <a:pt x="3017" y="4899"/>
                    </a:lnTo>
                    <a:lnTo>
                      <a:pt x="2958" y="4905"/>
                    </a:lnTo>
                    <a:lnTo>
                      <a:pt x="2901" y="4908"/>
                    </a:lnTo>
                    <a:lnTo>
                      <a:pt x="2844" y="4910"/>
                    </a:lnTo>
                    <a:lnTo>
                      <a:pt x="2789" y="4910"/>
                    </a:lnTo>
                    <a:lnTo>
                      <a:pt x="2734" y="4909"/>
                    </a:lnTo>
                    <a:lnTo>
                      <a:pt x="2681" y="4906"/>
                    </a:lnTo>
                    <a:lnTo>
                      <a:pt x="2628" y="4902"/>
                    </a:lnTo>
                    <a:lnTo>
                      <a:pt x="2575" y="4897"/>
                    </a:lnTo>
                    <a:lnTo>
                      <a:pt x="2524" y="4892"/>
                    </a:lnTo>
                    <a:lnTo>
                      <a:pt x="2472" y="4884"/>
                    </a:lnTo>
                    <a:lnTo>
                      <a:pt x="2369" y="4870"/>
                    </a:lnTo>
                    <a:lnTo>
                      <a:pt x="2265" y="4853"/>
                    </a:lnTo>
                    <a:lnTo>
                      <a:pt x="2161" y="4835"/>
                    </a:lnTo>
                    <a:lnTo>
                      <a:pt x="2055" y="4818"/>
                    </a:lnTo>
                    <a:lnTo>
                      <a:pt x="2000" y="4809"/>
                    </a:lnTo>
                    <a:lnTo>
                      <a:pt x="1945" y="4801"/>
                    </a:lnTo>
                    <a:lnTo>
                      <a:pt x="1888" y="4793"/>
                    </a:lnTo>
                    <a:lnTo>
                      <a:pt x="1831" y="4786"/>
                    </a:lnTo>
                    <a:lnTo>
                      <a:pt x="1772" y="4781"/>
                    </a:lnTo>
                    <a:lnTo>
                      <a:pt x="1711" y="4775"/>
                    </a:lnTo>
                    <a:lnTo>
                      <a:pt x="1649" y="4771"/>
                    </a:lnTo>
                    <a:lnTo>
                      <a:pt x="1585" y="4768"/>
                    </a:lnTo>
                    <a:lnTo>
                      <a:pt x="1578" y="4736"/>
                    </a:lnTo>
                    <a:lnTo>
                      <a:pt x="1568" y="4703"/>
                    </a:lnTo>
                    <a:lnTo>
                      <a:pt x="1557" y="4668"/>
                    </a:lnTo>
                    <a:lnTo>
                      <a:pt x="1546" y="4633"/>
                    </a:lnTo>
                    <a:lnTo>
                      <a:pt x="1535" y="4598"/>
                    </a:lnTo>
                    <a:lnTo>
                      <a:pt x="1524" y="4564"/>
                    </a:lnTo>
                    <a:lnTo>
                      <a:pt x="1514" y="4532"/>
                    </a:lnTo>
                    <a:lnTo>
                      <a:pt x="1506" y="4500"/>
                    </a:lnTo>
                    <a:lnTo>
                      <a:pt x="1577" y="4501"/>
                    </a:lnTo>
                    <a:lnTo>
                      <a:pt x="1646" y="4503"/>
                    </a:lnTo>
                    <a:lnTo>
                      <a:pt x="1714" y="4506"/>
                    </a:lnTo>
                    <a:lnTo>
                      <a:pt x="1780" y="4509"/>
                    </a:lnTo>
                    <a:lnTo>
                      <a:pt x="1912" y="4518"/>
                    </a:lnTo>
                    <a:lnTo>
                      <a:pt x="2040" y="4527"/>
                    </a:lnTo>
                    <a:lnTo>
                      <a:pt x="2164" y="4539"/>
                    </a:lnTo>
                    <a:lnTo>
                      <a:pt x="2286" y="4551"/>
                    </a:lnTo>
                    <a:lnTo>
                      <a:pt x="2403" y="4563"/>
                    </a:lnTo>
                    <a:lnTo>
                      <a:pt x="2517" y="4575"/>
                    </a:lnTo>
                    <a:lnTo>
                      <a:pt x="2629" y="4587"/>
                    </a:lnTo>
                    <a:lnTo>
                      <a:pt x="2738" y="4597"/>
                    </a:lnTo>
                    <a:lnTo>
                      <a:pt x="2842" y="4606"/>
                    </a:lnTo>
                    <a:lnTo>
                      <a:pt x="2945" y="4613"/>
                    </a:lnTo>
                    <a:lnTo>
                      <a:pt x="2994" y="4615"/>
                    </a:lnTo>
                    <a:lnTo>
                      <a:pt x="3044" y="4617"/>
                    </a:lnTo>
                    <a:lnTo>
                      <a:pt x="3093" y="4618"/>
                    </a:lnTo>
                    <a:lnTo>
                      <a:pt x="3140" y="4620"/>
                    </a:lnTo>
                    <a:lnTo>
                      <a:pt x="3187" y="4618"/>
                    </a:lnTo>
                    <a:lnTo>
                      <a:pt x="3235" y="4617"/>
                    </a:lnTo>
                    <a:lnTo>
                      <a:pt x="3281" y="4615"/>
                    </a:lnTo>
                    <a:lnTo>
                      <a:pt x="3326" y="4612"/>
                    </a:lnTo>
                    <a:close/>
                    <a:moveTo>
                      <a:pt x="1729" y="5008"/>
                    </a:moveTo>
                    <a:lnTo>
                      <a:pt x="1708" y="5033"/>
                    </a:lnTo>
                    <a:lnTo>
                      <a:pt x="1688" y="5057"/>
                    </a:lnTo>
                    <a:lnTo>
                      <a:pt x="1671" y="5083"/>
                    </a:lnTo>
                    <a:lnTo>
                      <a:pt x="1654" y="5109"/>
                    </a:lnTo>
                    <a:lnTo>
                      <a:pt x="1640" y="5138"/>
                    </a:lnTo>
                    <a:lnTo>
                      <a:pt x="1627" y="5166"/>
                    </a:lnTo>
                    <a:lnTo>
                      <a:pt x="1616" y="5197"/>
                    </a:lnTo>
                    <a:lnTo>
                      <a:pt x="1607" y="5230"/>
                    </a:lnTo>
                    <a:lnTo>
                      <a:pt x="1668" y="5268"/>
                    </a:lnTo>
                    <a:lnTo>
                      <a:pt x="1728" y="5305"/>
                    </a:lnTo>
                    <a:lnTo>
                      <a:pt x="1787" y="5339"/>
                    </a:lnTo>
                    <a:lnTo>
                      <a:pt x="1845" y="5370"/>
                    </a:lnTo>
                    <a:lnTo>
                      <a:pt x="1903" y="5398"/>
                    </a:lnTo>
                    <a:lnTo>
                      <a:pt x="1961" y="5425"/>
                    </a:lnTo>
                    <a:lnTo>
                      <a:pt x="2018" y="5448"/>
                    </a:lnTo>
                    <a:lnTo>
                      <a:pt x="2075" y="5469"/>
                    </a:lnTo>
                    <a:lnTo>
                      <a:pt x="2132" y="5488"/>
                    </a:lnTo>
                    <a:lnTo>
                      <a:pt x="2189" y="5505"/>
                    </a:lnTo>
                    <a:lnTo>
                      <a:pt x="2247" y="5519"/>
                    </a:lnTo>
                    <a:lnTo>
                      <a:pt x="2302" y="5531"/>
                    </a:lnTo>
                    <a:lnTo>
                      <a:pt x="2359" y="5541"/>
                    </a:lnTo>
                    <a:lnTo>
                      <a:pt x="2416" y="5549"/>
                    </a:lnTo>
                    <a:lnTo>
                      <a:pt x="2474" y="5554"/>
                    </a:lnTo>
                    <a:lnTo>
                      <a:pt x="2532" y="5557"/>
                    </a:lnTo>
                    <a:lnTo>
                      <a:pt x="2589" y="5558"/>
                    </a:lnTo>
                    <a:lnTo>
                      <a:pt x="2647" y="5557"/>
                    </a:lnTo>
                    <a:lnTo>
                      <a:pt x="2706" y="5555"/>
                    </a:lnTo>
                    <a:lnTo>
                      <a:pt x="2765" y="5550"/>
                    </a:lnTo>
                    <a:lnTo>
                      <a:pt x="2824" y="5543"/>
                    </a:lnTo>
                    <a:lnTo>
                      <a:pt x="2886" y="5535"/>
                    </a:lnTo>
                    <a:lnTo>
                      <a:pt x="2947" y="5524"/>
                    </a:lnTo>
                    <a:lnTo>
                      <a:pt x="3010" y="5513"/>
                    </a:lnTo>
                    <a:lnTo>
                      <a:pt x="3072" y="5498"/>
                    </a:lnTo>
                    <a:lnTo>
                      <a:pt x="3137" y="5483"/>
                    </a:lnTo>
                    <a:lnTo>
                      <a:pt x="3202" y="5465"/>
                    </a:lnTo>
                    <a:lnTo>
                      <a:pt x="3269" y="5446"/>
                    </a:lnTo>
                    <a:lnTo>
                      <a:pt x="3335" y="5426"/>
                    </a:lnTo>
                    <a:lnTo>
                      <a:pt x="3404" y="5404"/>
                    </a:lnTo>
                    <a:lnTo>
                      <a:pt x="3475" y="5379"/>
                    </a:lnTo>
                    <a:lnTo>
                      <a:pt x="3547" y="5354"/>
                    </a:lnTo>
                    <a:lnTo>
                      <a:pt x="3559" y="5340"/>
                    </a:lnTo>
                    <a:lnTo>
                      <a:pt x="3570" y="5326"/>
                    </a:lnTo>
                    <a:lnTo>
                      <a:pt x="3579" y="5313"/>
                    </a:lnTo>
                    <a:lnTo>
                      <a:pt x="3585" y="5299"/>
                    </a:lnTo>
                    <a:lnTo>
                      <a:pt x="3590" y="5284"/>
                    </a:lnTo>
                    <a:lnTo>
                      <a:pt x="3593" y="5269"/>
                    </a:lnTo>
                    <a:lnTo>
                      <a:pt x="3595" y="5253"/>
                    </a:lnTo>
                    <a:lnTo>
                      <a:pt x="3595" y="5237"/>
                    </a:lnTo>
                    <a:lnTo>
                      <a:pt x="3595" y="5220"/>
                    </a:lnTo>
                    <a:lnTo>
                      <a:pt x="3594" y="5203"/>
                    </a:lnTo>
                    <a:lnTo>
                      <a:pt x="3592" y="5185"/>
                    </a:lnTo>
                    <a:lnTo>
                      <a:pt x="3589" y="5165"/>
                    </a:lnTo>
                    <a:lnTo>
                      <a:pt x="3583" y="5124"/>
                    </a:lnTo>
                    <a:lnTo>
                      <a:pt x="3577" y="5077"/>
                    </a:lnTo>
                    <a:lnTo>
                      <a:pt x="3453" y="5103"/>
                    </a:lnTo>
                    <a:lnTo>
                      <a:pt x="3331" y="5127"/>
                    </a:lnTo>
                    <a:lnTo>
                      <a:pt x="3211" y="5150"/>
                    </a:lnTo>
                    <a:lnTo>
                      <a:pt x="3094" y="5172"/>
                    </a:lnTo>
                    <a:lnTo>
                      <a:pt x="3036" y="5181"/>
                    </a:lnTo>
                    <a:lnTo>
                      <a:pt x="2978" y="5190"/>
                    </a:lnTo>
                    <a:lnTo>
                      <a:pt x="2921" y="5197"/>
                    </a:lnTo>
                    <a:lnTo>
                      <a:pt x="2864" y="5204"/>
                    </a:lnTo>
                    <a:lnTo>
                      <a:pt x="2807" y="5211"/>
                    </a:lnTo>
                    <a:lnTo>
                      <a:pt x="2751" y="5215"/>
                    </a:lnTo>
                    <a:lnTo>
                      <a:pt x="2695" y="5218"/>
                    </a:lnTo>
                    <a:lnTo>
                      <a:pt x="2638" y="5220"/>
                    </a:lnTo>
                    <a:lnTo>
                      <a:pt x="2582" y="5221"/>
                    </a:lnTo>
                    <a:lnTo>
                      <a:pt x="2526" y="5221"/>
                    </a:lnTo>
                    <a:lnTo>
                      <a:pt x="2470" y="5219"/>
                    </a:lnTo>
                    <a:lnTo>
                      <a:pt x="2414" y="5215"/>
                    </a:lnTo>
                    <a:lnTo>
                      <a:pt x="2358" y="5210"/>
                    </a:lnTo>
                    <a:lnTo>
                      <a:pt x="2302" y="5202"/>
                    </a:lnTo>
                    <a:lnTo>
                      <a:pt x="2247" y="5193"/>
                    </a:lnTo>
                    <a:lnTo>
                      <a:pt x="2189" y="5181"/>
                    </a:lnTo>
                    <a:lnTo>
                      <a:pt x="2134" y="5168"/>
                    </a:lnTo>
                    <a:lnTo>
                      <a:pt x="2077" y="5152"/>
                    </a:lnTo>
                    <a:lnTo>
                      <a:pt x="2020" y="5134"/>
                    </a:lnTo>
                    <a:lnTo>
                      <a:pt x="1962" y="5114"/>
                    </a:lnTo>
                    <a:lnTo>
                      <a:pt x="1904" y="5092"/>
                    </a:lnTo>
                    <a:lnTo>
                      <a:pt x="1846" y="5067"/>
                    </a:lnTo>
                    <a:lnTo>
                      <a:pt x="1788" y="5039"/>
                    </a:lnTo>
                    <a:lnTo>
                      <a:pt x="1729" y="500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2" name=""/>
              <p:cNvSpPr/>
              <p:nvPr/>
            </p:nvSpPr>
            <p:spPr>
              <a:xfrm>
                <a:off x="2312280" y="2831400"/>
                <a:ext cx="666720" cy="780480"/>
              </a:xfrm>
              <a:custGeom>
                <a:avLst/>
                <a:gdLst/>
                <a:ahLst/>
                <a:rect l="l" t="t" r="r" b="b"/>
                <a:pathLst>
                  <a:path w="4636" h="3867">
                    <a:moveTo>
                      <a:pt x="1294" y="504"/>
                    </a:moveTo>
                    <a:lnTo>
                      <a:pt x="1338" y="500"/>
                    </a:lnTo>
                    <a:lnTo>
                      <a:pt x="1384" y="496"/>
                    </a:lnTo>
                    <a:lnTo>
                      <a:pt x="1429" y="493"/>
                    </a:lnTo>
                    <a:lnTo>
                      <a:pt x="1476" y="490"/>
                    </a:lnTo>
                    <a:lnTo>
                      <a:pt x="1522" y="487"/>
                    </a:lnTo>
                    <a:lnTo>
                      <a:pt x="1571" y="486"/>
                    </a:lnTo>
                    <a:lnTo>
                      <a:pt x="1618" y="485"/>
                    </a:lnTo>
                    <a:lnTo>
                      <a:pt x="1666" y="484"/>
                    </a:lnTo>
                    <a:lnTo>
                      <a:pt x="1714" y="484"/>
                    </a:lnTo>
                    <a:lnTo>
                      <a:pt x="1763" y="484"/>
                    </a:lnTo>
                    <a:lnTo>
                      <a:pt x="1811" y="485"/>
                    </a:lnTo>
                    <a:lnTo>
                      <a:pt x="1860" y="487"/>
                    </a:lnTo>
                    <a:lnTo>
                      <a:pt x="1908" y="489"/>
                    </a:lnTo>
                    <a:lnTo>
                      <a:pt x="1957" y="492"/>
                    </a:lnTo>
                    <a:lnTo>
                      <a:pt x="2005" y="495"/>
                    </a:lnTo>
                    <a:lnTo>
                      <a:pt x="2052" y="499"/>
                    </a:lnTo>
                    <a:lnTo>
                      <a:pt x="2100" y="503"/>
                    </a:lnTo>
                    <a:lnTo>
                      <a:pt x="2147" y="508"/>
                    </a:lnTo>
                    <a:lnTo>
                      <a:pt x="2193" y="514"/>
                    </a:lnTo>
                    <a:lnTo>
                      <a:pt x="2240" y="520"/>
                    </a:lnTo>
                    <a:lnTo>
                      <a:pt x="2284" y="526"/>
                    </a:lnTo>
                    <a:lnTo>
                      <a:pt x="2329" y="534"/>
                    </a:lnTo>
                    <a:lnTo>
                      <a:pt x="2373" y="541"/>
                    </a:lnTo>
                    <a:lnTo>
                      <a:pt x="2416" y="550"/>
                    </a:lnTo>
                    <a:lnTo>
                      <a:pt x="2459" y="558"/>
                    </a:lnTo>
                    <a:lnTo>
                      <a:pt x="2499" y="568"/>
                    </a:lnTo>
                    <a:lnTo>
                      <a:pt x="2540" y="577"/>
                    </a:lnTo>
                    <a:lnTo>
                      <a:pt x="2578" y="588"/>
                    </a:lnTo>
                    <a:lnTo>
                      <a:pt x="2617" y="600"/>
                    </a:lnTo>
                    <a:lnTo>
                      <a:pt x="2653" y="611"/>
                    </a:lnTo>
                    <a:lnTo>
                      <a:pt x="2688" y="623"/>
                    </a:lnTo>
                    <a:lnTo>
                      <a:pt x="2721" y="636"/>
                    </a:lnTo>
                    <a:lnTo>
                      <a:pt x="2730" y="612"/>
                    </a:lnTo>
                    <a:lnTo>
                      <a:pt x="2737" y="589"/>
                    </a:lnTo>
                    <a:lnTo>
                      <a:pt x="2744" y="566"/>
                    </a:lnTo>
                    <a:lnTo>
                      <a:pt x="2749" y="542"/>
                    </a:lnTo>
                    <a:lnTo>
                      <a:pt x="2755" y="519"/>
                    </a:lnTo>
                    <a:lnTo>
                      <a:pt x="2761" y="496"/>
                    </a:lnTo>
                    <a:lnTo>
                      <a:pt x="2769" y="471"/>
                    </a:lnTo>
                    <a:lnTo>
                      <a:pt x="2779" y="447"/>
                    </a:lnTo>
                    <a:lnTo>
                      <a:pt x="2721" y="432"/>
                    </a:lnTo>
                    <a:lnTo>
                      <a:pt x="2655" y="416"/>
                    </a:lnTo>
                    <a:lnTo>
                      <a:pt x="2583" y="401"/>
                    </a:lnTo>
                    <a:lnTo>
                      <a:pt x="2504" y="387"/>
                    </a:lnTo>
                    <a:lnTo>
                      <a:pt x="2419" y="372"/>
                    </a:lnTo>
                    <a:lnTo>
                      <a:pt x="2331" y="358"/>
                    </a:lnTo>
                    <a:lnTo>
                      <a:pt x="2240" y="345"/>
                    </a:lnTo>
                    <a:lnTo>
                      <a:pt x="2146" y="334"/>
                    </a:lnTo>
                    <a:lnTo>
                      <a:pt x="2051" y="323"/>
                    </a:lnTo>
                    <a:lnTo>
                      <a:pt x="1956" y="315"/>
                    </a:lnTo>
                    <a:lnTo>
                      <a:pt x="1861" y="308"/>
                    </a:lnTo>
                    <a:lnTo>
                      <a:pt x="1769" y="304"/>
                    </a:lnTo>
                    <a:lnTo>
                      <a:pt x="1724" y="303"/>
                    </a:lnTo>
                    <a:lnTo>
                      <a:pt x="1679" y="302"/>
                    </a:lnTo>
                    <a:lnTo>
                      <a:pt x="1635" y="302"/>
                    </a:lnTo>
                    <a:lnTo>
                      <a:pt x="1594" y="303"/>
                    </a:lnTo>
                    <a:lnTo>
                      <a:pt x="1552" y="304"/>
                    </a:lnTo>
                    <a:lnTo>
                      <a:pt x="1512" y="306"/>
                    </a:lnTo>
                    <a:lnTo>
                      <a:pt x="1473" y="309"/>
                    </a:lnTo>
                    <a:lnTo>
                      <a:pt x="1437" y="312"/>
                    </a:lnTo>
                    <a:lnTo>
                      <a:pt x="1408" y="351"/>
                    </a:lnTo>
                    <a:lnTo>
                      <a:pt x="1386" y="382"/>
                    </a:lnTo>
                    <a:lnTo>
                      <a:pt x="1370" y="409"/>
                    </a:lnTo>
                    <a:lnTo>
                      <a:pt x="1357" y="430"/>
                    </a:lnTo>
                    <a:lnTo>
                      <a:pt x="1345" y="450"/>
                    </a:lnTo>
                    <a:lnTo>
                      <a:pt x="1332" y="468"/>
                    </a:lnTo>
                    <a:lnTo>
                      <a:pt x="1324" y="477"/>
                    </a:lnTo>
                    <a:lnTo>
                      <a:pt x="1315" y="485"/>
                    </a:lnTo>
                    <a:lnTo>
                      <a:pt x="1305" y="495"/>
                    </a:lnTo>
                    <a:lnTo>
                      <a:pt x="1294" y="504"/>
                    </a:lnTo>
                    <a:close/>
                    <a:moveTo>
                      <a:pt x="177" y="788"/>
                    </a:moveTo>
                    <a:lnTo>
                      <a:pt x="170" y="806"/>
                    </a:lnTo>
                    <a:lnTo>
                      <a:pt x="163" y="824"/>
                    </a:lnTo>
                    <a:lnTo>
                      <a:pt x="156" y="843"/>
                    </a:lnTo>
                    <a:lnTo>
                      <a:pt x="149" y="862"/>
                    </a:lnTo>
                    <a:lnTo>
                      <a:pt x="144" y="881"/>
                    </a:lnTo>
                    <a:lnTo>
                      <a:pt x="138" y="901"/>
                    </a:lnTo>
                    <a:lnTo>
                      <a:pt x="133" y="920"/>
                    </a:lnTo>
                    <a:lnTo>
                      <a:pt x="129" y="939"/>
                    </a:lnTo>
                    <a:lnTo>
                      <a:pt x="217" y="949"/>
                    </a:lnTo>
                    <a:lnTo>
                      <a:pt x="308" y="958"/>
                    </a:lnTo>
                    <a:lnTo>
                      <a:pt x="401" y="964"/>
                    </a:lnTo>
                    <a:lnTo>
                      <a:pt x="495" y="968"/>
                    </a:lnTo>
                    <a:lnTo>
                      <a:pt x="589" y="972"/>
                    </a:lnTo>
                    <a:lnTo>
                      <a:pt x="685" y="972"/>
                    </a:lnTo>
                    <a:lnTo>
                      <a:pt x="780" y="972"/>
                    </a:lnTo>
                    <a:lnTo>
                      <a:pt x="876" y="969"/>
                    </a:lnTo>
                    <a:lnTo>
                      <a:pt x="973" y="965"/>
                    </a:lnTo>
                    <a:lnTo>
                      <a:pt x="1069" y="960"/>
                    </a:lnTo>
                    <a:lnTo>
                      <a:pt x="1166" y="954"/>
                    </a:lnTo>
                    <a:lnTo>
                      <a:pt x="1262" y="946"/>
                    </a:lnTo>
                    <a:lnTo>
                      <a:pt x="1358" y="937"/>
                    </a:lnTo>
                    <a:lnTo>
                      <a:pt x="1452" y="927"/>
                    </a:lnTo>
                    <a:lnTo>
                      <a:pt x="1546" y="916"/>
                    </a:lnTo>
                    <a:lnTo>
                      <a:pt x="1639" y="904"/>
                    </a:lnTo>
                    <a:lnTo>
                      <a:pt x="1682" y="903"/>
                    </a:lnTo>
                    <a:lnTo>
                      <a:pt x="1725" y="903"/>
                    </a:lnTo>
                    <a:lnTo>
                      <a:pt x="1768" y="904"/>
                    </a:lnTo>
                    <a:lnTo>
                      <a:pt x="1811" y="905"/>
                    </a:lnTo>
                    <a:lnTo>
                      <a:pt x="1851" y="907"/>
                    </a:lnTo>
                    <a:lnTo>
                      <a:pt x="1893" y="909"/>
                    </a:lnTo>
                    <a:lnTo>
                      <a:pt x="1934" y="912"/>
                    </a:lnTo>
                    <a:lnTo>
                      <a:pt x="1973" y="916"/>
                    </a:lnTo>
                    <a:lnTo>
                      <a:pt x="2052" y="925"/>
                    </a:lnTo>
                    <a:lnTo>
                      <a:pt x="2129" y="937"/>
                    </a:lnTo>
                    <a:lnTo>
                      <a:pt x="2203" y="949"/>
                    </a:lnTo>
                    <a:lnTo>
                      <a:pt x="2277" y="963"/>
                    </a:lnTo>
                    <a:lnTo>
                      <a:pt x="2349" y="979"/>
                    </a:lnTo>
                    <a:lnTo>
                      <a:pt x="2420" y="997"/>
                    </a:lnTo>
                    <a:lnTo>
                      <a:pt x="2491" y="1015"/>
                    </a:lnTo>
                    <a:lnTo>
                      <a:pt x="2560" y="1034"/>
                    </a:lnTo>
                    <a:lnTo>
                      <a:pt x="2696" y="1073"/>
                    </a:lnTo>
                    <a:lnTo>
                      <a:pt x="2831" y="1115"/>
                    </a:lnTo>
                    <a:lnTo>
                      <a:pt x="2813" y="1091"/>
                    </a:lnTo>
                    <a:lnTo>
                      <a:pt x="2797" y="1065"/>
                    </a:lnTo>
                    <a:lnTo>
                      <a:pt x="2781" y="1035"/>
                    </a:lnTo>
                    <a:lnTo>
                      <a:pt x="2767" y="1005"/>
                    </a:lnTo>
                    <a:lnTo>
                      <a:pt x="2754" y="974"/>
                    </a:lnTo>
                    <a:lnTo>
                      <a:pt x="2742" y="943"/>
                    </a:lnTo>
                    <a:lnTo>
                      <a:pt x="2731" y="911"/>
                    </a:lnTo>
                    <a:lnTo>
                      <a:pt x="2721" y="880"/>
                    </a:lnTo>
                    <a:lnTo>
                      <a:pt x="2610" y="839"/>
                    </a:lnTo>
                    <a:lnTo>
                      <a:pt x="2498" y="800"/>
                    </a:lnTo>
                    <a:lnTo>
                      <a:pt x="2440" y="782"/>
                    </a:lnTo>
                    <a:lnTo>
                      <a:pt x="2382" y="765"/>
                    </a:lnTo>
                    <a:lnTo>
                      <a:pt x="2322" y="748"/>
                    </a:lnTo>
                    <a:lnTo>
                      <a:pt x="2260" y="733"/>
                    </a:lnTo>
                    <a:lnTo>
                      <a:pt x="2198" y="720"/>
                    </a:lnTo>
                    <a:lnTo>
                      <a:pt x="2133" y="709"/>
                    </a:lnTo>
                    <a:lnTo>
                      <a:pt x="2100" y="704"/>
                    </a:lnTo>
                    <a:lnTo>
                      <a:pt x="2066" y="700"/>
                    </a:lnTo>
                    <a:lnTo>
                      <a:pt x="2032" y="696"/>
                    </a:lnTo>
                    <a:lnTo>
                      <a:pt x="1998" y="693"/>
                    </a:lnTo>
                    <a:lnTo>
                      <a:pt x="1963" y="691"/>
                    </a:lnTo>
                    <a:lnTo>
                      <a:pt x="1927" y="689"/>
                    </a:lnTo>
                    <a:lnTo>
                      <a:pt x="1891" y="688"/>
                    </a:lnTo>
                    <a:lnTo>
                      <a:pt x="1854" y="686"/>
                    </a:lnTo>
                    <a:lnTo>
                      <a:pt x="1815" y="686"/>
                    </a:lnTo>
                    <a:lnTo>
                      <a:pt x="1777" y="688"/>
                    </a:lnTo>
                    <a:lnTo>
                      <a:pt x="1737" y="690"/>
                    </a:lnTo>
                    <a:lnTo>
                      <a:pt x="1698" y="692"/>
                    </a:lnTo>
                    <a:lnTo>
                      <a:pt x="1610" y="706"/>
                    </a:lnTo>
                    <a:lnTo>
                      <a:pt x="1521" y="719"/>
                    </a:lnTo>
                    <a:lnTo>
                      <a:pt x="1430" y="733"/>
                    </a:lnTo>
                    <a:lnTo>
                      <a:pt x="1337" y="745"/>
                    </a:lnTo>
                    <a:lnTo>
                      <a:pt x="1244" y="755"/>
                    </a:lnTo>
                    <a:lnTo>
                      <a:pt x="1148" y="765"/>
                    </a:lnTo>
                    <a:lnTo>
                      <a:pt x="1053" y="773"/>
                    </a:lnTo>
                    <a:lnTo>
                      <a:pt x="957" y="779"/>
                    </a:lnTo>
                    <a:lnTo>
                      <a:pt x="908" y="781"/>
                    </a:lnTo>
                    <a:lnTo>
                      <a:pt x="861" y="783"/>
                    </a:lnTo>
                    <a:lnTo>
                      <a:pt x="813" y="784"/>
                    </a:lnTo>
                    <a:lnTo>
                      <a:pt x="765" y="784"/>
                    </a:lnTo>
                    <a:lnTo>
                      <a:pt x="716" y="784"/>
                    </a:lnTo>
                    <a:lnTo>
                      <a:pt x="668" y="783"/>
                    </a:lnTo>
                    <a:lnTo>
                      <a:pt x="621" y="781"/>
                    </a:lnTo>
                    <a:lnTo>
                      <a:pt x="573" y="779"/>
                    </a:lnTo>
                    <a:lnTo>
                      <a:pt x="526" y="775"/>
                    </a:lnTo>
                    <a:lnTo>
                      <a:pt x="478" y="771"/>
                    </a:lnTo>
                    <a:lnTo>
                      <a:pt x="432" y="766"/>
                    </a:lnTo>
                    <a:lnTo>
                      <a:pt x="385" y="761"/>
                    </a:lnTo>
                    <a:lnTo>
                      <a:pt x="339" y="753"/>
                    </a:lnTo>
                    <a:lnTo>
                      <a:pt x="293" y="746"/>
                    </a:lnTo>
                    <a:lnTo>
                      <a:pt x="248" y="737"/>
                    </a:lnTo>
                    <a:lnTo>
                      <a:pt x="203" y="728"/>
                    </a:lnTo>
                    <a:lnTo>
                      <a:pt x="200" y="734"/>
                    </a:lnTo>
                    <a:lnTo>
                      <a:pt x="197" y="742"/>
                    </a:lnTo>
                    <a:lnTo>
                      <a:pt x="193" y="749"/>
                    </a:lnTo>
                    <a:lnTo>
                      <a:pt x="190" y="756"/>
                    </a:lnTo>
                    <a:lnTo>
                      <a:pt x="187" y="764"/>
                    </a:lnTo>
                    <a:lnTo>
                      <a:pt x="183" y="772"/>
                    </a:lnTo>
                    <a:lnTo>
                      <a:pt x="180" y="780"/>
                    </a:lnTo>
                    <a:lnTo>
                      <a:pt x="177" y="788"/>
                    </a:lnTo>
                    <a:close/>
                    <a:moveTo>
                      <a:pt x="97" y="1108"/>
                    </a:moveTo>
                    <a:lnTo>
                      <a:pt x="92" y="1133"/>
                    </a:lnTo>
                    <a:lnTo>
                      <a:pt x="88" y="1159"/>
                    </a:lnTo>
                    <a:lnTo>
                      <a:pt x="84" y="1188"/>
                    </a:lnTo>
                    <a:lnTo>
                      <a:pt x="79" y="1217"/>
                    </a:lnTo>
                    <a:lnTo>
                      <a:pt x="77" y="1247"/>
                    </a:lnTo>
                    <a:lnTo>
                      <a:pt x="75" y="1276"/>
                    </a:lnTo>
                    <a:lnTo>
                      <a:pt x="74" y="1303"/>
                    </a:lnTo>
                    <a:lnTo>
                      <a:pt x="75" y="1330"/>
                    </a:lnTo>
                    <a:lnTo>
                      <a:pt x="165" y="1336"/>
                    </a:lnTo>
                    <a:lnTo>
                      <a:pt x="255" y="1341"/>
                    </a:lnTo>
                    <a:lnTo>
                      <a:pt x="345" y="1347"/>
                    </a:lnTo>
                    <a:lnTo>
                      <a:pt x="436" y="1350"/>
                    </a:lnTo>
                    <a:lnTo>
                      <a:pt x="528" y="1353"/>
                    </a:lnTo>
                    <a:lnTo>
                      <a:pt x="619" y="1354"/>
                    </a:lnTo>
                    <a:lnTo>
                      <a:pt x="711" y="1355"/>
                    </a:lnTo>
                    <a:lnTo>
                      <a:pt x="802" y="1355"/>
                    </a:lnTo>
                    <a:lnTo>
                      <a:pt x="894" y="1354"/>
                    </a:lnTo>
                    <a:lnTo>
                      <a:pt x="985" y="1352"/>
                    </a:lnTo>
                    <a:lnTo>
                      <a:pt x="1075" y="1350"/>
                    </a:lnTo>
                    <a:lnTo>
                      <a:pt x="1166" y="1346"/>
                    </a:lnTo>
                    <a:lnTo>
                      <a:pt x="1255" y="1340"/>
                    </a:lnTo>
                    <a:lnTo>
                      <a:pt x="1344" y="1334"/>
                    </a:lnTo>
                    <a:lnTo>
                      <a:pt x="1431" y="1326"/>
                    </a:lnTo>
                    <a:lnTo>
                      <a:pt x="1518" y="1319"/>
                    </a:lnTo>
                    <a:lnTo>
                      <a:pt x="1590" y="1319"/>
                    </a:lnTo>
                    <a:lnTo>
                      <a:pt x="1659" y="1320"/>
                    </a:lnTo>
                    <a:lnTo>
                      <a:pt x="1725" y="1322"/>
                    </a:lnTo>
                    <a:lnTo>
                      <a:pt x="1790" y="1326"/>
                    </a:lnTo>
                    <a:lnTo>
                      <a:pt x="1851" y="1332"/>
                    </a:lnTo>
                    <a:lnTo>
                      <a:pt x="1912" y="1339"/>
                    </a:lnTo>
                    <a:lnTo>
                      <a:pt x="1969" y="1347"/>
                    </a:lnTo>
                    <a:lnTo>
                      <a:pt x="2025" y="1355"/>
                    </a:lnTo>
                    <a:lnTo>
                      <a:pt x="2078" y="1366"/>
                    </a:lnTo>
                    <a:lnTo>
                      <a:pt x="2130" y="1376"/>
                    </a:lnTo>
                    <a:lnTo>
                      <a:pt x="2180" y="1388"/>
                    </a:lnTo>
                    <a:lnTo>
                      <a:pt x="2230" y="1400"/>
                    </a:lnTo>
                    <a:lnTo>
                      <a:pt x="2277" y="1413"/>
                    </a:lnTo>
                    <a:lnTo>
                      <a:pt x="2323" y="1426"/>
                    </a:lnTo>
                    <a:lnTo>
                      <a:pt x="2368" y="1441"/>
                    </a:lnTo>
                    <a:lnTo>
                      <a:pt x="2412" y="1456"/>
                    </a:lnTo>
                    <a:lnTo>
                      <a:pt x="2497" y="1487"/>
                    </a:lnTo>
                    <a:lnTo>
                      <a:pt x="2579" y="1517"/>
                    </a:lnTo>
                    <a:lnTo>
                      <a:pt x="2660" y="1550"/>
                    </a:lnTo>
                    <a:lnTo>
                      <a:pt x="2738" y="1582"/>
                    </a:lnTo>
                    <a:lnTo>
                      <a:pt x="2817" y="1614"/>
                    </a:lnTo>
                    <a:lnTo>
                      <a:pt x="2897" y="1643"/>
                    </a:lnTo>
                    <a:lnTo>
                      <a:pt x="2938" y="1658"/>
                    </a:lnTo>
                    <a:lnTo>
                      <a:pt x="2979" y="1672"/>
                    </a:lnTo>
                    <a:lnTo>
                      <a:pt x="3020" y="1685"/>
                    </a:lnTo>
                    <a:lnTo>
                      <a:pt x="3063" y="1697"/>
                    </a:lnTo>
                    <a:lnTo>
                      <a:pt x="3041" y="1681"/>
                    </a:lnTo>
                    <a:lnTo>
                      <a:pt x="3015" y="1666"/>
                    </a:lnTo>
                    <a:lnTo>
                      <a:pt x="2984" y="1648"/>
                    </a:lnTo>
                    <a:lnTo>
                      <a:pt x="2953" y="1628"/>
                    </a:lnTo>
                    <a:lnTo>
                      <a:pt x="2923" y="1609"/>
                    </a:lnTo>
                    <a:lnTo>
                      <a:pt x="2895" y="1590"/>
                    </a:lnTo>
                    <a:lnTo>
                      <a:pt x="2883" y="1580"/>
                    </a:lnTo>
                    <a:lnTo>
                      <a:pt x="2872" y="1569"/>
                    </a:lnTo>
                    <a:lnTo>
                      <a:pt x="2862" y="1560"/>
                    </a:lnTo>
                    <a:lnTo>
                      <a:pt x="2855" y="1549"/>
                    </a:lnTo>
                    <a:lnTo>
                      <a:pt x="2856" y="1538"/>
                    </a:lnTo>
                    <a:lnTo>
                      <a:pt x="2858" y="1529"/>
                    </a:lnTo>
                    <a:lnTo>
                      <a:pt x="2860" y="1520"/>
                    </a:lnTo>
                    <a:lnTo>
                      <a:pt x="2862" y="1511"/>
                    </a:lnTo>
                    <a:lnTo>
                      <a:pt x="2869" y="1495"/>
                    </a:lnTo>
                    <a:lnTo>
                      <a:pt x="2877" y="1479"/>
                    </a:lnTo>
                    <a:lnTo>
                      <a:pt x="2887" y="1464"/>
                    </a:lnTo>
                    <a:lnTo>
                      <a:pt x="2896" y="1450"/>
                    </a:lnTo>
                    <a:lnTo>
                      <a:pt x="2906" y="1437"/>
                    </a:lnTo>
                    <a:lnTo>
                      <a:pt x="2916" y="1423"/>
                    </a:lnTo>
                    <a:lnTo>
                      <a:pt x="2849" y="1391"/>
                    </a:lnTo>
                    <a:lnTo>
                      <a:pt x="2779" y="1359"/>
                    </a:lnTo>
                    <a:lnTo>
                      <a:pt x="2707" y="1330"/>
                    </a:lnTo>
                    <a:lnTo>
                      <a:pt x="2631" y="1300"/>
                    </a:lnTo>
                    <a:lnTo>
                      <a:pt x="2554" y="1272"/>
                    </a:lnTo>
                    <a:lnTo>
                      <a:pt x="2474" y="1246"/>
                    </a:lnTo>
                    <a:lnTo>
                      <a:pt x="2393" y="1221"/>
                    </a:lnTo>
                    <a:lnTo>
                      <a:pt x="2311" y="1197"/>
                    </a:lnTo>
                    <a:lnTo>
                      <a:pt x="2226" y="1176"/>
                    </a:lnTo>
                    <a:lnTo>
                      <a:pt x="2142" y="1157"/>
                    </a:lnTo>
                    <a:lnTo>
                      <a:pt x="2056" y="1139"/>
                    </a:lnTo>
                    <a:lnTo>
                      <a:pt x="1971" y="1123"/>
                    </a:lnTo>
                    <a:lnTo>
                      <a:pt x="1927" y="1117"/>
                    </a:lnTo>
                    <a:lnTo>
                      <a:pt x="1884" y="1110"/>
                    </a:lnTo>
                    <a:lnTo>
                      <a:pt x="1841" y="1105"/>
                    </a:lnTo>
                    <a:lnTo>
                      <a:pt x="1799" y="1100"/>
                    </a:lnTo>
                    <a:lnTo>
                      <a:pt x="1756" y="1096"/>
                    </a:lnTo>
                    <a:lnTo>
                      <a:pt x="1713" y="1092"/>
                    </a:lnTo>
                    <a:lnTo>
                      <a:pt x="1671" y="1089"/>
                    </a:lnTo>
                    <a:lnTo>
                      <a:pt x="1629" y="1087"/>
                    </a:lnTo>
                    <a:lnTo>
                      <a:pt x="1440" y="1104"/>
                    </a:lnTo>
                    <a:lnTo>
                      <a:pt x="1250" y="1119"/>
                    </a:lnTo>
                    <a:lnTo>
                      <a:pt x="1155" y="1126"/>
                    </a:lnTo>
                    <a:lnTo>
                      <a:pt x="1060" y="1132"/>
                    </a:lnTo>
                    <a:lnTo>
                      <a:pt x="964" y="1136"/>
                    </a:lnTo>
                    <a:lnTo>
                      <a:pt x="868" y="1140"/>
                    </a:lnTo>
                    <a:lnTo>
                      <a:pt x="771" y="1142"/>
                    </a:lnTo>
                    <a:lnTo>
                      <a:pt x="675" y="1142"/>
                    </a:lnTo>
                    <a:lnTo>
                      <a:pt x="578" y="1141"/>
                    </a:lnTo>
                    <a:lnTo>
                      <a:pt x="483" y="1139"/>
                    </a:lnTo>
                    <a:lnTo>
                      <a:pt x="386" y="1134"/>
                    </a:lnTo>
                    <a:lnTo>
                      <a:pt x="290" y="1127"/>
                    </a:lnTo>
                    <a:lnTo>
                      <a:pt x="242" y="1123"/>
                    </a:lnTo>
                    <a:lnTo>
                      <a:pt x="193" y="1119"/>
                    </a:lnTo>
                    <a:lnTo>
                      <a:pt x="145" y="1114"/>
                    </a:lnTo>
                    <a:lnTo>
                      <a:pt x="97" y="1108"/>
                    </a:lnTo>
                    <a:close/>
                    <a:moveTo>
                      <a:pt x="49" y="1715"/>
                    </a:moveTo>
                    <a:lnTo>
                      <a:pt x="138" y="1707"/>
                    </a:lnTo>
                    <a:lnTo>
                      <a:pt x="231" y="1699"/>
                    </a:lnTo>
                    <a:lnTo>
                      <a:pt x="323" y="1693"/>
                    </a:lnTo>
                    <a:lnTo>
                      <a:pt x="416" y="1689"/>
                    </a:lnTo>
                    <a:lnTo>
                      <a:pt x="509" y="1685"/>
                    </a:lnTo>
                    <a:lnTo>
                      <a:pt x="603" y="1681"/>
                    </a:lnTo>
                    <a:lnTo>
                      <a:pt x="697" y="1680"/>
                    </a:lnTo>
                    <a:lnTo>
                      <a:pt x="790" y="1679"/>
                    </a:lnTo>
                    <a:lnTo>
                      <a:pt x="883" y="1679"/>
                    </a:lnTo>
                    <a:lnTo>
                      <a:pt x="975" y="1679"/>
                    </a:lnTo>
                    <a:lnTo>
                      <a:pt x="1067" y="1680"/>
                    </a:lnTo>
                    <a:lnTo>
                      <a:pt x="1158" y="1683"/>
                    </a:lnTo>
                    <a:lnTo>
                      <a:pt x="1336" y="1688"/>
                    </a:lnTo>
                    <a:lnTo>
                      <a:pt x="1508" y="1694"/>
                    </a:lnTo>
                    <a:lnTo>
                      <a:pt x="1561" y="1699"/>
                    </a:lnTo>
                    <a:lnTo>
                      <a:pt x="1612" y="1706"/>
                    </a:lnTo>
                    <a:lnTo>
                      <a:pt x="1663" y="1712"/>
                    </a:lnTo>
                    <a:lnTo>
                      <a:pt x="1713" y="1720"/>
                    </a:lnTo>
                    <a:lnTo>
                      <a:pt x="1763" y="1728"/>
                    </a:lnTo>
                    <a:lnTo>
                      <a:pt x="1812" y="1738"/>
                    </a:lnTo>
                    <a:lnTo>
                      <a:pt x="1860" y="1748"/>
                    </a:lnTo>
                    <a:lnTo>
                      <a:pt x="1907" y="1759"/>
                    </a:lnTo>
                    <a:lnTo>
                      <a:pt x="1954" y="1770"/>
                    </a:lnTo>
                    <a:lnTo>
                      <a:pt x="2000" y="1783"/>
                    </a:lnTo>
                    <a:lnTo>
                      <a:pt x="2047" y="1796"/>
                    </a:lnTo>
                    <a:lnTo>
                      <a:pt x="2091" y="1810"/>
                    </a:lnTo>
                    <a:lnTo>
                      <a:pt x="2135" y="1825"/>
                    </a:lnTo>
                    <a:lnTo>
                      <a:pt x="2179" y="1839"/>
                    </a:lnTo>
                    <a:lnTo>
                      <a:pt x="2223" y="1855"/>
                    </a:lnTo>
                    <a:lnTo>
                      <a:pt x="2265" y="1872"/>
                    </a:lnTo>
                    <a:lnTo>
                      <a:pt x="2306" y="1889"/>
                    </a:lnTo>
                    <a:lnTo>
                      <a:pt x="2348" y="1906"/>
                    </a:lnTo>
                    <a:lnTo>
                      <a:pt x="2389" y="1924"/>
                    </a:lnTo>
                    <a:lnTo>
                      <a:pt x="2428" y="1943"/>
                    </a:lnTo>
                    <a:lnTo>
                      <a:pt x="2468" y="1962"/>
                    </a:lnTo>
                    <a:lnTo>
                      <a:pt x="2506" y="1981"/>
                    </a:lnTo>
                    <a:lnTo>
                      <a:pt x="2543" y="2001"/>
                    </a:lnTo>
                    <a:lnTo>
                      <a:pt x="2581" y="2022"/>
                    </a:lnTo>
                    <a:lnTo>
                      <a:pt x="2653" y="2063"/>
                    </a:lnTo>
                    <a:lnTo>
                      <a:pt x="2723" y="2105"/>
                    </a:lnTo>
                    <a:lnTo>
                      <a:pt x="2790" y="2150"/>
                    </a:lnTo>
                    <a:lnTo>
                      <a:pt x="2855" y="2194"/>
                    </a:lnTo>
                    <a:lnTo>
                      <a:pt x="2863" y="2160"/>
                    </a:lnTo>
                    <a:lnTo>
                      <a:pt x="2872" y="2128"/>
                    </a:lnTo>
                    <a:lnTo>
                      <a:pt x="2881" y="2095"/>
                    </a:lnTo>
                    <a:lnTo>
                      <a:pt x="2891" y="2061"/>
                    </a:lnTo>
                    <a:lnTo>
                      <a:pt x="2901" y="2029"/>
                    </a:lnTo>
                    <a:lnTo>
                      <a:pt x="2911" y="1996"/>
                    </a:lnTo>
                    <a:lnTo>
                      <a:pt x="2922" y="1965"/>
                    </a:lnTo>
                    <a:lnTo>
                      <a:pt x="2933" y="1935"/>
                    </a:lnTo>
                    <a:lnTo>
                      <a:pt x="2863" y="1897"/>
                    </a:lnTo>
                    <a:lnTo>
                      <a:pt x="2791" y="1858"/>
                    </a:lnTo>
                    <a:lnTo>
                      <a:pt x="2715" y="1820"/>
                    </a:lnTo>
                    <a:lnTo>
                      <a:pt x="2636" y="1783"/>
                    </a:lnTo>
                    <a:lnTo>
                      <a:pt x="2553" y="1746"/>
                    </a:lnTo>
                    <a:lnTo>
                      <a:pt x="2469" y="1711"/>
                    </a:lnTo>
                    <a:lnTo>
                      <a:pt x="2425" y="1693"/>
                    </a:lnTo>
                    <a:lnTo>
                      <a:pt x="2380" y="1677"/>
                    </a:lnTo>
                    <a:lnTo>
                      <a:pt x="2335" y="1660"/>
                    </a:lnTo>
                    <a:lnTo>
                      <a:pt x="2290" y="1644"/>
                    </a:lnTo>
                    <a:lnTo>
                      <a:pt x="2244" y="1630"/>
                    </a:lnTo>
                    <a:lnTo>
                      <a:pt x="2197" y="1615"/>
                    </a:lnTo>
                    <a:lnTo>
                      <a:pt x="2150" y="1601"/>
                    </a:lnTo>
                    <a:lnTo>
                      <a:pt x="2102" y="1587"/>
                    </a:lnTo>
                    <a:lnTo>
                      <a:pt x="2054" y="1574"/>
                    </a:lnTo>
                    <a:lnTo>
                      <a:pt x="2006" y="1563"/>
                    </a:lnTo>
                    <a:lnTo>
                      <a:pt x="1958" y="1551"/>
                    </a:lnTo>
                    <a:lnTo>
                      <a:pt x="1908" y="1541"/>
                    </a:lnTo>
                    <a:lnTo>
                      <a:pt x="1859" y="1531"/>
                    </a:lnTo>
                    <a:lnTo>
                      <a:pt x="1810" y="1523"/>
                    </a:lnTo>
                    <a:lnTo>
                      <a:pt x="1760" y="1515"/>
                    </a:lnTo>
                    <a:lnTo>
                      <a:pt x="1710" y="1509"/>
                    </a:lnTo>
                    <a:lnTo>
                      <a:pt x="1659" y="1502"/>
                    </a:lnTo>
                    <a:lnTo>
                      <a:pt x="1609" y="1498"/>
                    </a:lnTo>
                    <a:lnTo>
                      <a:pt x="1559" y="1495"/>
                    </a:lnTo>
                    <a:lnTo>
                      <a:pt x="1508" y="1492"/>
                    </a:lnTo>
                    <a:lnTo>
                      <a:pt x="1418" y="1500"/>
                    </a:lnTo>
                    <a:lnTo>
                      <a:pt x="1328" y="1508"/>
                    </a:lnTo>
                    <a:lnTo>
                      <a:pt x="1237" y="1512"/>
                    </a:lnTo>
                    <a:lnTo>
                      <a:pt x="1147" y="1516"/>
                    </a:lnTo>
                    <a:lnTo>
                      <a:pt x="1056" y="1519"/>
                    </a:lnTo>
                    <a:lnTo>
                      <a:pt x="965" y="1520"/>
                    </a:lnTo>
                    <a:lnTo>
                      <a:pt x="874" y="1520"/>
                    </a:lnTo>
                    <a:lnTo>
                      <a:pt x="784" y="1519"/>
                    </a:lnTo>
                    <a:lnTo>
                      <a:pt x="693" y="1517"/>
                    </a:lnTo>
                    <a:lnTo>
                      <a:pt x="602" y="1514"/>
                    </a:lnTo>
                    <a:lnTo>
                      <a:pt x="511" y="1510"/>
                    </a:lnTo>
                    <a:lnTo>
                      <a:pt x="420" y="1506"/>
                    </a:lnTo>
                    <a:lnTo>
                      <a:pt x="330" y="1500"/>
                    </a:lnTo>
                    <a:lnTo>
                      <a:pt x="239" y="1494"/>
                    </a:lnTo>
                    <a:lnTo>
                      <a:pt x="149" y="1487"/>
                    </a:lnTo>
                    <a:lnTo>
                      <a:pt x="60" y="1479"/>
                    </a:lnTo>
                    <a:lnTo>
                      <a:pt x="55" y="1509"/>
                    </a:lnTo>
                    <a:lnTo>
                      <a:pt x="54" y="1537"/>
                    </a:lnTo>
                    <a:lnTo>
                      <a:pt x="53" y="1568"/>
                    </a:lnTo>
                    <a:lnTo>
                      <a:pt x="53" y="1598"/>
                    </a:lnTo>
                    <a:lnTo>
                      <a:pt x="54" y="1628"/>
                    </a:lnTo>
                    <a:lnTo>
                      <a:pt x="53" y="1658"/>
                    </a:lnTo>
                    <a:lnTo>
                      <a:pt x="52" y="1688"/>
                    </a:lnTo>
                    <a:lnTo>
                      <a:pt x="49" y="1715"/>
                    </a:lnTo>
                    <a:close/>
                    <a:moveTo>
                      <a:pt x="49" y="2097"/>
                    </a:moveTo>
                    <a:lnTo>
                      <a:pt x="160" y="2088"/>
                    </a:lnTo>
                    <a:lnTo>
                      <a:pt x="268" y="2081"/>
                    </a:lnTo>
                    <a:lnTo>
                      <a:pt x="372" y="2075"/>
                    </a:lnTo>
                    <a:lnTo>
                      <a:pt x="472" y="2070"/>
                    </a:lnTo>
                    <a:lnTo>
                      <a:pt x="568" y="2067"/>
                    </a:lnTo>
                    <a:lnTo>
                      <a:pt x="662" y="2066"/>
                    </a:lnTo>
                    <a:lnTo>
                      <a:pt x="751" y="2067"/>
                    </a:lnTo>
                    <a:lnTo>
                      <a:pt x="839" y="2069"/>
                    </a:lnTo>
                    <a:lnTo>
                      <a:pt x="924" y="2074"/>
                    </a:lnTo>
                    <a:lnTo>
                      <a:pt x="1006" y="2079"/>
                    </a:lnTo>
                    <a:lnTo>
                      <a:pt x="1087" y="2086"/>
                    </a:lnTo>
                    <a:lnTo>
                      <a:pt x="1165" y="2096"/>
                    </a:lnTo>
                    <a:lnTo>
                      <a:pt x="1242" y="2106"/>
                    </a:lnTo>
                    <a:lnTo>
                      <a:pt x="1317" y="2119"/>
                    </a:lnTo>
                    <a:lnTo>
                      <a:pt x="1391" y="2134"/>
                    </a:lnTo>
                    <a:lnTo>
                      <a:pt x="1464" y="2151"/>
                    </a:lnTo>
                    <a:lnTo>
                      <a:pt x="1537" y="2169"/>
                    </a:lnTo>
                    <a:lnTo>
                      <a:pt x="1609" y="2189"/>
                    </a:lnTo>
                    <a:lnTo>
                      <a:pt x="1680" y="2211"/>
                    </a:lnTo>
                    <a:lnTo>
                      <a:pt x="1753" y="2236"/>
                    </a:lnTo>
                    <a:lnTo>
                      <a:pt x="1825" y="2262"/>
                    </a:lnTo>
                    <a:lnTo>
                      <a:pt x="1897" y="2290"/>
                    </a:lnTo>
                    <a:lnTo>
                      <a:pt x="1971" y="2320"/>
                    </a:lnTo>
                    <a:lnTo>
                      <a:pt x="2045" y="2352"/>
                    </a:lnTo>
                    <a:lnTo>
                      <a:pt x="2121" y="2387"/>
                    </a:lnTo>
                    <a:lnTo>
                      <a:pt x="2199" y="2423"/>
                    </a:lnTo>
                    <a:lnTo>
                      <a:pt x="2278" y="2462"/>
                    </a:lnTo>
                    <a:lnTo>
                      <a:pt x="2359" y="2503"/>
                    </a:lnTo>
                    <a:lnTo>
                      <a:pt x="2442" y="2546"/>
                    </a:lnTo>
                    <a:lnTo>
                      <a:pt x="2528" y="2591"/>
                    </a:lnTo>
                    <a:lnTo>
                      <a:pt x="2616" y="2638"/>
                    </a:lnTo>
                    <a:lnTo>
                      <a:pt x="2707" y="2688"/>
                    </a:lnTo>
                    <a:lnTo>
                      <a:pt x="2717" y="2699"/>
                    </a:lnTo>
                    <a:lnTo>
                      <a:pt x="2726" y="2708"/>
                    </a:lnTo>
                    <a:lnTo>
                      <a:pt x="2738" y="2719"/>
                    </a:lnTo>
                    <a:lnTo>
                      <a:pt x="2752" y="2728"/>
                    </a:lnTo>
                    <a:lnTo>
                      <a:pt x="2779" y="2749"/>
                    </a:lnTo>
                    <a:lnTo>
                      <a:pt x="2808" y="2768"/>
                    </a:lnTo>
                    <a:lnTo>
                      <a:pt x="2837" y="2787"/>
                    </a:lnTo>
                    <a:lnTo>
                      <a:pt x="2865" y="2807"/>
                    </a:lnTo>
                    <a:lnTo>
                      <a:pt x="2877" y="2816"/>
                    </a:lnTo>
                    <a:lnTo>
                      <a:pt x="2889" y="2826"/>
                    </a:lnTo>
                    <a:lnTo>
                      <a:pt x="2900" y="2836"/>
                    </a:lnTo>
                    <a:lnTo>
                      <a:pt x="2910" y="2846"/>
                    </a:lnTo>
                    <a:lnTo>
                      <a:pt x="2917" y="2827"/>
                    </a:lnTo>
                    <a:lnTo>
                      <a:pt x="2924" y="2807"/>
                    </a:lnTo>
                    <a:lnTo>
                      <a:pt x="2928" y="2788"/>
                    </a:lnTo>
                    <a:lnTo>
                      <a:pt x="2933" y="2768"/>
                    </a:lnTo>
                    <a:lnTo>
                      <a:pt x="2935" y="2749"/>
                    </a:lnTo>
                    <a:lnTo>
                      <a:pt x="2935" y="2728"/>
                    </a:lnTo>
                    <a:lnTo>
                      <a:pt x="2935" y="2709"/>
                    </a:lnTo>
                    <a:lnTo>
                      <a:pt x="2933" y="2689"/>
                    </a:lnTo>
                    <a:lnTo>
                      <a:pt x="2918" y="2669"/>
                    </a:lnTo>
                    <a:lnTo>
                      <a:pt x="2904" y="2646"/>
                    </a:lnTo>
                    <a:lnTo>
                      <a:pt x="2892" y="2620"/>
                    </a:lnTo>
                    <a:lnTo>
                      <a:pt x="2880" y="2593"/>
                    </a:lnTo>
                    <a:lnTo>
                      <a:pt x="2869" y="2562"/>
                    </a:lnTo>
                    <a:lnTo>
                      <a:pt x="2860" y="2529"/>
                    </a:lnTo>
                    <a:lnTo>
                      <a:pt x="2853" y="2494"/>
                    </a:lnTo>
                    <a:lnTo>
                      <a:pt x="2848" y="2456"/>
                    </a:lnTo>
                    <a:lnTo>
                      <a:pt x="2779" y="2415"/>
                    </a:lnTo>
                    <a:lnTo>
                      <a:pt x="2709" y="2374"/>
                    </a:lnTo>
                    <a:lnTo>
                      <a:pt x="2638" y="2335"/>
                    </a:lnTo>
                    <a:lnTo>
                      <a:pt x="2565" y="2296"/>
                    </a:lnTo>
                    <a:lnTo>
                      <a:pt x="2491" y="2258"/>
                    </a:lnTo>
                    <a:lnTo>
                      <a:pt x="2415" y="2221"/>
                    </a:lnTo>
                    <a:lnTo>
                      <a:pt x="2337" y="2185"/>
                    </a:lnTo>
                    <a:lnTo>
                      <a:pt x="2259" y="2150"/>
                    </a:lnTo>
                    <a:lnTo>
                      <a:pt x="2179" y="2116"/>
                    </a:lnTo>
                    <a:lnTo>
                      <a:pt x="2098" y="2083"/>
                    </a:lnTo>
                    <a:lnTo>
                      <a:pt x="2016" y="2052"/>
                    </a:lnTo>
                    <a:lnTo>
                      <a:pt x="1932" y="2022"/>
                    </a:lnTo>
                    <a:lnTo>
                      <a:pt x="1848" y="1993"/>
                    </a:lnTo>
                    <a:lnTo>
                      <a:pt x="1763" y="1965"/>
                    </a:lnTo>
                    <a:lnTo>
                      <a:pt x="1676" y="1940"/>
                    </a:lnTo>
                    <a:lnTo>
                      <a:pt x="1588" y="1916"/>
                    </a:lnTo>
                    <a:lnTo>
                      <a:pt x="1502" y="1905"/>
                    </a:lnTo>
                    <a:lnTo>
                      <a:pt x="1413" y="1896"/>
                    </a:lnTo>
                    <a:lnTo>
                      <a:pt x="1322" y="1887"/>
                    </a:lnTo>
                    <a:lnTo>
                      <a:pt x="1228" y="1879"/>
                    </a:lnTo>
                    <a:lnTo>
                      <a:pt x="1135" y="1872"/>
                    </a:lnTo>
                    <a:lnTo>
                      <a:pt x="1040" y="1866"/>
                    </a:lnTo>
                    <a:lnTo>
                      <a:pt x="944" y="1862"/>
                    </a:lnTo>
                    <a:lnTo>
                      <a:pt x="847" y="1858"/>
                    </a:lnTo>
                    <a:lnTo>
                      <a:pt x="749" y="1856"/>
                    </a:lnTo>
                    <a:lnTo>
                      <a:pt x="652" y="1855"/>
                    </a:lnTo>
                    <a:lnTo>
                      <a:pt x="553" y="1856"/>
                    </a:lnTo>
                    <a:lnTo>
                      <a:pt x="455" y="1858"/>
                    </a:lnTo>
                    <a:lnTo>
                      <a:pt x="357" y="1863"/>
                    </a:lnTo>
                    <a:lnTo>
                      <a:pt x="259" y="1869"/>
                    </a:lnTo>
                    <a:lnTo>
                      <a:pt x="160" y="1876"/>
                    </a:lnTo>
                    <a:lnTo>
                      <a:pt x="64" y="1886"/>
                    </a:lnTo>
                    <a:lnTo>
                      <a:pt x="62" y="1914"/>
                    </a:lnTo>
                    <a:lnTo>
                      <a:pt x="60" y="1940"/>
                    </a:lnTo>
                    <a:lnTo>
                      <a:pt x="57" y="1967"/>
                    </a:lnTo>
                    <a:lnTo>
                      <a:pt x="55" y="1992"/>
                    </a:lnTo>
                    <a:lnTo>
                      <a:pt x="54" y="2017"/>
                    </a:lnTo>
                    <a:lnTo>
                      <a:pt x="52" y="2044"/>
                    </a:lnTo>
                    <a:lnTo>
                      <a:pt x="50" y="2070"/>
                    </a:lnTo>
                    <a:lnTo>
                      <a:pt x="49" y="2097"/>
                    </a:lnTo>
                    <a:close/>
                    <a:moveTo>
                      <a:pt x="0" y="2504"/>
                    </a:moveTo>
                    <a:lnTo>
                      <a:pt x="97" y="2492"/>
                    </a:lnTo>
                    <a:lnTo>
                      <a:pt x="190" y="2483"/>
                    </a:lnTo>
                    <a:lnTo>
                      <a:pt x="280" y="2475"/>
                    </a:lnTo>
                    <a:lnTo>
                      <a:pt x="368" y="2470"/>
                    </a:lnTo>
                    <a:lnTo>
                      <a:pt x="452" y="2467"/>
                    </a:lnTo>
                    <a:lnTo>
                      <a:pt x="535" y="2466"/>
                    </a:lnTo>
                    <a:lnTo>
                      <a:pt x="617" y="2466"/>
                    </a:lnTo>
                    <a:lnTo>
                      <a:pt x="696" y="2469"/>
                    </a:lnTo>
                    <a:lnTo>
                      <a:pt x="772" y="2473"/>
                    </a:lnTo>
                    <a:lnTo>
                      <a:pt x="848" y="2480"/>
                    </a:lnTo>
                    <a:lnTo>
                      <a:pt x="921" y="2489"/>
                    </a:lnTo>
                    <a:lnTo>
                      <a:pt x="995" y="2498"/>
                    </a:lnTo>
                    <a:lnTo>
                      <a:pt x="1066" y="2510"/>
                    </a:lnTo>
                    <a:lnTo>
                      <a:pt x="1137" y="2524"/>
                    </a:lnTo>
                    <a:lnTo>
                      <a:pt x="1208" y="2539"/>
                    </a:lnTo>
                    <a:lnTo>
                      <a:pt x="1278" y="2556"/>
                    </a:lnTo>
                    <a:lnTo>
                      <a:pt x="1347" y="2574"/>
                    </a:lnTo>
                    <a:lnTo>
                      <a:pt x="1416" y="2594"/>
                    </a:lnTo>
                    <a:lnTo>
                      <a:pt x="1485" y="2615"/>
                    </a:lnTo>
                    <a:lnTo>
                      <a:pt x="1554" y="2638"/>
                    </a:lnTo>
                    <a:lnTo>
                      <a:pt x="1623" y="2662"/>
                    </a:lnTo>
                    <a:lnTo>
                      <a:pt x="1693" y="2687"/>
                    </a:lnTo>
                    <a:lnTo>
                      <a:pt x="1764" y="2715"/>
                    </a:lnTo>
                    <a:lnTo>
                      <a:pt x="1836" y="2742"/>
                    </a:lnTo>
                    <a:lnTo>
                      <a:pt x="1982" y="2801"/>
                    </a:lnTo>
                    <a:lnTo>
                      <a:pt x="2133" y="2866"/>
                    </a:lnTo>
                    <a:lnTo>
                      <a:pt x="2291" y="2934"/>
                    </a:lnTo>
                    <a:lnTo>
                      <a:pt x="2457" y="3006"/>
                    </a:lnTo>
                    <a:lnTo>
                      <a:pt x="2491" y="3028"/>
                    </a:lnTo>
                    <a:lnTo>
                      <a:pt x="2522" y="3052"/>
                    </a:lnTo>
                    <a:lnTo>
                      <a:pt x="2553" y="3075"/>
                    </a:lnTo>
                    <a:lnTo>
                      <a:pt x="2584" y="3099"/>
                    </a:lnTo>
                    <a:lnTo>
                      <a:pt x="2612" y="3124"/>
                    </a:lnTo>
                    <a:lnTo>
                      <a:pt x="2641" y="3148"/>
                    </a:lnTo>
                    <a:lnTo>
                      <a:pt x="2668" y="3173"/>
                    </a:lnTo>
                    <a:lnTo>
                      <a:pt x="2695" y="3198"/>
                    </a:lnTo>
                    <a:lnTo>
                      <a:pt x="2720" y="3223"/>
                    </a:lnTo>
                    <a:lnTo>
                      <a:pt x="2745" y="3250"/>
                    </a:lnTo>
                    <a:lnTo>
                      <a:pt x="2769" y="3275"/>
                    </a:lnTo>
                    <a:lnTo>
                      <a:pt x="2792" y="3302"/>
                    </a:lnTo>
                    <a:lnTo>
                      <a:pt x="2814" y="3328"/>
                    </a:lnTo>
                    <a:lnTo>
                      <a:pt x="2836" y="3356"/>
                    </a:lnTo>
                    <a:lnTo>
                      <a:pt x="2857" y="3382"/>
                    </a:lnTo>
                    <a:lnTo>
                      <a:pt x="2878" y="3410"/>
                    </a:lnTo>
                    <a:lnTo>
                      <a:pt x="2917" y="3465"/>
                    </a:lnTo>
                    <a:lnTo>
                      <a:pt x="2954" y="3521"/>
                    </a:lnTo>
                    <a:lnTo>
                      <a:pt x="2991" y="3578"/>
                    </a:lnTo>
                    <a:lnTo>
                      <a:pt x="3025" y="3634"/>
                    </a:lnTo>
                    <a:lnTo>
                      <a:pt x="3058" y="3693"/>
                    </a:lnTo>
                    <a:lnTo>
                      <a:pt x="3089" y="3751"/>
                    </a:lnTo>
                    <a:lnTo>
                      <a:pt x="3121" y="3809"/>
                    </a:lnTo>
                    <a:lnTo>
                      <a:pt x="3152" y="3867"/>
                    </a:lnTo>
                    <a:lnTo>
                      <a:pt x="3172" y="3844"/>
                    </a:lnTo>
                    <a:lnTo>
                      <a:pt x="3191" y="3820"/>
                    </a:lnTo>
                    <a:lnTo>
                      <a:pt x="3209" y="3794"/>
                    </a:lnTo>
                    <a:lnTo>
                      <a:pt x="3226" y="3767"/>
                    </a:lnTo>
                    <a:lnTo>
                      <a:pt x="3242" y="3739"/>
                    </a:lnTo>
                    <a:lnTo>
                      <a:pt x="3256" y="3711"/>
                    </a:lnTo>
                    <a:lnTo>
                      <a:pt x="3269" y="3682"/>
                    </a:lnTo>
                    <a:lnTo>
                      <a:pt x="3281" y="3654"/>
                    </a:lnTo>
                    <a:lnTo>
                      <a:pt x="3254" y="3602"/>
                    </a:lnTo>
                    <a:lnTo>
                      <a:pt x="3226" y="3550"/>
                    </a:lnTo>
                    <a:lnTo>
                      <a:pt x="3197" y="3498"/>
                    </a:lnTo>
                    <a:lnTo>
                      <a:pt x="3167" y="3446"/>
                    </a:lnTo>
                    <a:lnTo>
                      <a:pt x="3137" y="3395"/>
                    </a:lnTo>
                    <a:lnTo>
                      <a:pt x="3105" y="3344"/>
                    </a:lnTo>
                    <a:lnTo>
                      <a:pt x="3071" y="3294"/>
                    </a:lnTo>
                    <a:lnTo>
                      <a:pt x="3036" y="3245"/>
                    </a:lnTo>
                    <a:lnTo>
                      <a:pt x="2998" y="3198"/>
                    </a:lnTo>
                    <a:lnTo>
                      <a:pt x="2959" y="3150"/>
                    </a:lnTo>
                    <a:lnTo>
                      <a:pt x="2939" y="3127"/>
                    </a:lnTo>
                    <a:lnTo>
                      <a:pt x="2917" y="3103"/>
                    </a:lnTo>
                    <a:lnTo>
                      <a:pt x="2895" y="3081"/>
                    </a:lnTo>
                    <a:lnTo>
                      <a:pt x="2873" y="3059"/>
                    </a:lnTo>
                    <a:lnTo>
                      <a:pt x="2850" y="3037"/>
                    </a:lnTo>
                    <a:lnTo>
                      <a:pt x="2826" y="3014"/>
                    </a:lnTo>
                    <a:lnTo>
                      <a:pt x="2802" y="2992"/>
                    </a:lnTo>
                    <a:lnTo>
                      <a:pt x="2776" y="2971"/>
                    </a:lnTo>
                    <a:lnTo>
                      <a:pt x="2751" y="2950"/>
                    </a:lnTo>
                    <a:lnTo>
                      <a:pt x="2723" y="2930"/>
                    </a:lnTo>
                    <a:lnTo>
                      <a:pt x="2696" y="2910"/>
                    </a:lnTo>
                    <a:lnTo>
                      <a:pt x="2667" y="2889"/>
                    </a:lnTo>
                    <a:lnTo>
                      <a:pt x="2579" y="2843"/>
                    </a:lnTo>
                    <a:lnTo>
                      <a:pt x="2495" y="2799"/>
                    </a:lnTo>
                    <a:lnTo>
                      <a:pt x="2413" y="2757"/>
                    </a:lnTo>
                    <a:lnTo>
                      <a:pt x="2333" y="2717"/>
                    </a:lnTo>
                    <a:lnTo>
                      <a:pt x="2255" y="2679"/>
                    </a:lnTo>
                    <a:lnTo>
                      <a:pt x="2177" y="2641"/>
                    </a:lnTo>
                    <a:lnTo>
                      <a:pt x="2101" y="2607"/>
                    </a:lnTo>
                    <a:lnTo>
                      <a:pt x="2027" y="2574"/>
                    </a:lnTo>
                    <a:lnTo>
                      <a:pt x="1953" y="2543"/>
                    </a:lnTo>
                    <a:lnTo>
                      <a:pt x="1880" y="2513"/>
                    </a:lnTo>
                    <a:lnTo>
                      <a:pt x="1807" y="2486"/>
                    </a:lnTo>
                    <a:lnTo>
                      <a:pt x="1735" y="2460"/>
                    </a:lnTo>
                    <a:lnTo>
                      <a:pt x="1664" y="2437"/>
                    </a:lnTo>
                    <a:lnTo>
                      <a:pt x="1591" y="2415"/>
                    </a:lnTo>
                    <a:lnTo>
                      <a:pt x="1518" y="2394"/>
                    </a:lnTo>
                    <a:lnTo>
                      <a:pt x="1446" y="2376"/>
                    </a:lnTo>
                    <a:lnTo>
                      <a:pt x="1371" y="2359"/>
                    </a:lnTo>
                    <a:lnTo>
                      <a:pt x="1296" y="2343"/>
                    </a:lnTo>
                    <a:lnTo>
                      <a:pt x="1220" y="2330"/>
                    </a:lnTo>
                    <a:lnTo>
                      <a:pt x="1143" y="2318"/>
                    </a:lnTo>
                    <a:lnTo>
                      <a:pt x="1063" y="2308"/>
                    </a:lnTo>
                    <a:lnTo>
                      <a:pt x="982" y="2299"/>
                    </a:lnTo>
                    <a:lnTo>
                      <a:pt x="900" y="2293"/>
                    </a:lnTo>
                    <a:lnTo>
                      <a:pt x="814" y="2288"/>
                    </a:lnTo>
                    <a:lnTo>
                      <a:pt x="726" y="2283"/>
                    </a:lnTo>
                    <a:lnTo>
                      <a:pt x="636" y="2282"/>
                    </a:lnTo>
                    <a:lnTo>
                      <a:pt x="543" y="2281"/>
                    </a:lnTo>
                    <a:lnTo>
                      <a:pt x="447" y="2282"/>
                    </a:lnTo>
                    <a:lnTo>
                      <a:pt x="347" y="2285"/>
                    </a:lnTo>
                    <a:lnTo>
                      <a:pt x="244" y="2290"/>
                    </a:lnTo>
                    <a:lnTo>
                      <a:pt x="137" y="2296"/>
                    </a:lnTo>
                    <a:lnTo>
                      <a:pt x="27" y="2303"/>
                    </a:lnTo>
                    <a:lnTo>
                      <a:pt x="21" y="2330"/>
                    </a:lnTo>
                    <a:lnTo>
                      <a:pt x="17" y="2356"/>
                    </a:lnTo>
                    <a:lnTo>
                      <a:pt x="15" y="2383"/>
                    </a:lnTo>
                    <a:lnTo>
                      <a:pt x="11" y="2407"/>
                    </a:lnTo>
                    <a:lnTo>
                      <a:pt x="9" y="2433"/>
                    </a:lnTo>
                    <a:lnTo>
                      <a:pt x="7" y="2457"/>
                    </a:lnTo>
                    <a:lnTo>
                      <a:pt x="4" y="2480"/>
                    </a:lnTo>
                    <a:lnTo>
                      <a:pt x="0" y="2504"/>
                    </a:lnTo>
                    <a:close/>
                    <a:moveTo>
                      <a:pt x="2853" y="2321"/>
                    </a:moveTo>
                    <a:lnTo>
                      <a:pt x="2849" y="2336"/>
                    </a:lnTo>
                    <a:lnTo>
                      <a:pt x="2848" y="2352"/>
                    </a:lnTo>
                    <a:lnTo>
                      <a:pt x="2847" y="2368"/>
                    </a:lnTo>
                    <a:lnTo>
                      <a:pt x="2846" y="2385"/>
                    </a:lnTo>
                    <a:lnTo>
                      <a:pt x="2846" y="2420"/>
                    </a:lnTo>
                    <a:lnTo>
                      <a:pt x="2849" y="2456"/>
                    </a:lnTo>
                    <a:lnTo>
                      <a:pt x="2854" y="2491"/>
                    </a:lnTo>
                    <a:lnTo>
                      <a:pt x="2860" y="2526"/>
                    </a:lnTo>
                    <a:lnTo>
                      <a:pt x="2865" y="2542"/>
                    </a:lnTo>
                    <a:lnTo>
                      <a:pt x="2869" y="2558"/>
                    </a:lnTo>
                    <a:lnTo>
                      <a:pt x="2873" y="2573"/>
                    </a:lnTo>
                    <a:lnTo>
                      <a:pt x="2879" y="2586"/>
                    </a:lnTo>
                    <a:lnTo>
                      <a:pt x="2930" y="2605"/>
                    </a:lnTo>
                    <a:lnTo>
                      <a:pt x="2982" y="2623"/>
                    </a:lnTo>
                    <a:lnTo>
                      <a:pt x="3033" y="2640"/>
                    </a:lnTo>
                    <a:lnTo>
                      <a:pt x="3084" y="2656"/>
                    </a:lnTo>
                    <a:lnTo>
                      <a:pt x="3134" y="2670"/>
                    </a:lnTo>
                    <a:lnTo>
                      <a:pt x="3185" y="2683"/>
                    </a:lnTo>
                    <a:lnTo>
                      <a:pt x="3234" y="2694"/>
                    </a:lnTo>
                    <a:lnTo>
                      <a:pt x="3285" y="2705"/>
                    </a:lnTo>
                    <a:lnTo>
                      <a:pt x="3334" y="2715"/>
                    </a:lnTo>
                    <a:lnTo>
                      <a:pt x="3383" y="2722"/>
                    </a:lnTo>
                    <a:lnTo>
                      <a:pt x="3433" y="2728"/>
                    </a:lnTo>
                    <a:lnTo>
                      <a:pt x="3482" y="2735"/>
                    </a:lnTo>
                    <a:lnTo>
                      <a:pt x="3531" y="2739"/>
                    </a:lnTo>
                    <a:lnTo>
                      <a:pt x="3580" y="2741"/>
                    </a:lnTo>
                    <a:lnTo>
                      <a:pt x="3629" y="2743"/>
                    </a:lnTo>
                    <a:lnTo>
                      <a:pt x="3678" y="2744"/>
                    </a:lnTo>
                    <a:lnTo>
                      <a:pt x="3726" y="2743"/>
                    </a:lnTo>
                    <a:lnTo>
                      <a:pt x="3776" y="2742"/>
                    </a:lnTo>
                    <a:lnTo>
                      <a:pt x="3825" y="2739"/>
                    </a:lnTo>
                    <a:lnTo>
                      <a:pt x="3875" y="2735"/>
                    </a:lnTo>
                    <a:lnTo>
                      <a:pt x="3924" y="2729"/>
                    </a:lnTo>
                    <a:lnTo>
                      <a:pt x="3973" y="2723"/>
                    </a:lnTo>
                    <a:lnTo>
                      <a:pt x="4023" y="2716"/>
                    </a:lnTo>
                    <a:lnTo>
                      <a:pt x="4072" y="2707"/>
                    </a:lnTo>
                    <a:lnTo>
                      <a:pt x="4122" y="2697"/>
                    </a:lnTo>
                    <a:lnTo>
                      <a:pt x="4172" y="2686"/>
                    </a:lnTo>
                    <a:lnTo>
                      <a:pt x="4222" y="2673"/>
                    </a:lnTo>
                    <a:lnTo>
                      <a:pt x="4273" y="2661"/>
                    </a:lnTo>
                    <a:lnTo>
                      <a:pt x="4324" y="2646"/>
                    </a:lnTo>
                    <a:lnTo>
                      <a:pt x="4375" y="2631"/>
                    </a:lnTo>
                    <a:lnTo>
                      <a:pt x="4426" y="2614"/>
                    </a:lnTo>
                    <a:lnTo>
                      <a:pt x="4479" y="2596"/>
                    </a:lnTo>
                    <a:lnTo>
                      <a:pt x="4502" y="2563"/>
                    </a:lnTo>
                    <a:lnTo>
                      <a:pt x="4525" y="2528"/>
                    </a:lnTo>
                    <a:lnTo>
                      <a:pt x="4546" y="2493"/>
                    </a:lnTo>
                    <a:lnTo>
                      <a:pt x="4565" y="2457"/>
                    </a:lnTo>
                    <a:lnTo>
                      <a:pt x="4583" y="2421"/>
                    </a:lnTo>
                    <a:lnTo>
                      <a:pt x="4598" y="2385"/>
                    </a:lnTo>
                    <a:lnTo>
                      <a:pt x="4613" y="2350"/>
                    </a:lnTo>
                    <a:lnTo>
                      <a:pt x="4623" y="2316"/>
                    </a:lnTo>
                    <a:lnTo>
                      <a:pt x="4562" y="2338"/>
                    </a:lnTo>
                    <a:lnTo>
                      <a:pt x="4503" y="2359"/>
                    </a:lnTo>
                    <a:lnTo>
                      <a:pt x="4444" y="2378"/>
                    </a:lnTo>
                    <a:lnTo>
                      <a:pt x="4386" y="2396"/>
                    </a:lnTo>
                    <a:lnTo>
                      <a:pt x="4329" y="2413"/>
                    </a:lnTo>
                    <a:lnTo>
                      <a:pt x="4273" y="2429"/>
                    </a:lnTo>
                    <a:lnTo>
                      <a:pt x="4217" y="2442"/>
                    </a:lnTo>
                    <a:lnTo>
                      <a:pt x="4162" y="2455"/>
                    </a:lnTo>
                    <a:lnTo>
                      <a:pt x="4107" y="2466"/>
                    </a:lnTo>
                    <a:lnTo>
                      <a:pt x="4053" y="2476"/>
                    </a:lnTo>
                    <a:lnTo>
                      <a:pt x="4000" y="2485"/>
                    </a:lnTo>
                    <a:lnTo>
                      <a:pt x="3947" y="2492"/>
                    </a:lnTo>
                    <a:lnTo>
                      <a:pt x="3894" y="2497"/>
                    </a:lnTo>
                    <a:lnTo>
                      <a:pt x="3842" y="2502"/>
                    </a:lnTo>
                    <a:lnTo>
                      <a:pt x="3789" y="2505"/>
                    </a:lnTo>
                    <a:lnTo>
                      <a:pt x="3736" y="2506"/>
                    </a:lnTo>
                    <a:lnTo>
                      <a:pt x="3685" y="2506"/>
                    </a:lnTo>
                    <a:lnTo>
                      <a:pt x="3632" y="2505"/>
                    </a:lnTo>
                    <a:lnTo>
                      <a:pt x="3580" y="2502"/>
                    </a:lnTo>
                    <a:lnTo>
                      <a:pt x="3527" y="2497"/>
                    </a:lnTo>
                    <a:lnTo>
                      <a:pt x="3473" y="2491"/>
                    </a:lnTo>
                    <a:lnTo>
                      <a:pt x="3421" y="2484"/>
                    </a:lnTo>
                    <a:lnTo>
                      <a:pt x="3367" y="2475"/>
                    </a:lnTo>
                    <a:lnTo>
                      <a:pt x="3312" y="2465"/>
                    </a:lnTo>
                    <a:lnTo>
                      <a:pt x="3257" y="2452"/>
                    </a:lnTo>
                    <a:lnTo>
                      <a:pt x="3202" y="2438"/>
                    </a:lnTo>
                    <a:lnTo>
                      <a:pt x="3145" y="2423"/>
                    </a:lnTo>
                    <a:lnTo>
                      <a:pt x="3088" y="2406"/>
                    </a:lnTo>
                    <a:lnTo>
                      <a:pt x="3031" y="2387"/>
                    </a:lnTo>
                    <a:lnTo>
                      <a:pt x="2972" y="2367"/>
                    </a:lnTo>
                    <a:lnTo>
                      <a:pt x="2913" y="2345"/>
                    </a:lnTo>
                    <a:lnTo>
                      <a:pt x="2853" y="2321"/>
                    </a:lnTo>
                    <a:close/>
                    <a:moveTo>
                      <a:pt x="2994" y="1872"/>
                    </a:moveTo>
                    <a:lnTo>
                      <a:pt x="3036" y="1889"/>
                    </a:lnTo>
                    <a:lnTo>
                      <a:pt x="3077" y="1905"/>
                    </a:lnTo>
                    <a:lnTo>
                      <a:pt x="3119" y="1920"/>
                    </a:lnTo>
                    <a:lnTo>
                      <a:pt x="3161" y="1934"/>
                    </a:lnTo>
                    <a:lnTo>
                      <a:pt x="3201" y="1946"/>
                    </a:lnTo>
                    <a:lnTo>
                      <a:pt x="3243" y="1959"/>
                    </a:lnTo>
                    <a:lnTo>
                      <a:pt x="3285" y="1970"/>
                    </a:lnTo>
                    <a:lnTo>
                      <a:pt x="3327" y="1979"/>
                    </a:lnTo>
                    <a:lnTo>
                      <a:pt x="3369" y="1988"/>
                    </a:lnTo>
                    <a:lnTo>
                      <a:pt x="3412" y="1995"/>
                    </a:lnTo>
                    <a:lnTo>
                      <a:pt x="3453" y="2001"/>
                    </a:lnTo>
                    <a:lnTo>
                      <a:pt x="3496" y="2007"/>
                    </a:lnTo>
                    <a:lnTo>
                      <a:pt x="3540" y="2011"/>
                    </a:lnTo>
                    <a:lnTo>
                      <a:pt x="3583" y="2014"/>
                    </a:lnTo>
                    <a:lnTo>
                      <a:pt x="3627" y="2016"/>
                    </a:lnTo>
                    <a:lnTo>
                      <a:pt x="3672" y="2016"/>
                    </a:lnTo>
                    <a:lnTo>
                      <a:pt x="3716" y="2016"/>
                    </a:lnTo>
                    <a:lnTo>
                      <a:pt x="3762" y="2014"/>
                    </a:lnTo>
                    <a:lnTo>
                      <a:pt x="3807" y="2012"/>
                    </a:lnTo>
                    <a:lnTo>
                      <a:pt x="3854" y="2008"/>
                    </a:lnTo>
                    <a:lnTo>
                      <a:pt x="3900" y="2003"/>
                    </a:lnTo>
                    <a:lnTo>
                      <a:pt x="3948" y="1995"/>
                    </a:lnTo>
                    <a:lnTo>
                      <a:pt x="3995" y="1988"/>
                    </a:lnTo>
                    <a:lnTo>
                      <a:pt x="4044" y="1978"/>
                    </a:lnTo>
                    <a:lnTo>
                      <a:pt x="4094" y="1969"/>
                    </a:lnTo>
                    <a:lnTo>
                      <a:pt x="4144" y="1957"/>
                    </a:lnTo>
                    <a:lnTo>
                      <a:pt x="4195" y="1943"/>
                    </a:lnTo>
                    <a:lnTo>
                      <a:pt x="4246" y="1929"/>
                    </a:lnTo>
                    <a:lnTo>
                      <a:pt x="4299" y="1914"/>
                    </a:lnTo>
                    <a:lnTo>
                      <a:pt x="4353" y="1897"/>
                    </a:lnTo>
                    <a:lnTo>
                      <a:pt x="4407" y="1879"/>
                    </a:lnTo>
                    <a:lnTo>
                      <a:pt x="4462" y="1858"/>
                    </a:lnTo>
                    <a:lnTo>
                      <a:pt x="4490" y="1875"/>
                    </a:lnTo>
                    <a:lnTo>
                      <a:pt x="4517" y="1894"/>
                    </a:lnTo>
                    <a:lnTo>
                      <a:pt x="4530" y="1905"/>
                    </a:lnTo>
                    <a:lnTo>
                      <a:pt x="4543" y="1917"/>
                    </a:lnTo>
                    <a:lnTo>
                      <a:pt x="4555" y="1928"/>
                    </a:lnTo>
                    <a:lnTo>
                      <a:pt x="4568" y="1942"/>
                    </a:lnTo>
                    <a:lnTo>
                      <a:pt x="4579" y="1956"/>
                    </a:lnTo>
                    <a:lnTo>
                      <a:pt x="4589" y="1970"/>
                    </a:lnTo>
                    <a:lnTo>
                      <a:pt x="4599" y="1986"/>
                    </a:lnTo>
                    <a:lnTo>
                      <a:pt x="4608" y="2001"/>
                    </a:lnTo>
                    <a:lnTo>
                      <a:pt x="4616" y="2018"/>
                    </a:lnTo>
                    <a:lnTo>
                      <a:pt x="4623" y="2038"/>
                    </a:lnTo>
                    <a:lnTo>
                      <a:pt x="4630" y="2057"/>
                    </a:lnTo>
                    <a:lnTo>
                      <a:pt x="4636" y="2076"/>
                    </a:lnTo>
                    <a:lnTo>
                      <a:pt x="4568" y="2102"/>
                    </a:lnTo>
                    <a:lnTo>
                      <a:pt x="4502" y="2127"/>
                    </a:lnTo>
                    <a:lnTo>
                      <a:pt x="4437" y="2149"/>
                    </a:lnTo>
                    <a:lnTo>
                      <a:pt x="4375" y="2170"/>
                    </a:lnTo>
                    <a:lnTo>
                      <a:pt x="4312" y="2188"/>
                    </a:lnTo>
                    <a:lnTo>
                      <a:pt x="4252" y="2205"/>
                    </a:lnTo>
                    <a:lnTo>
                      <a:pt x="4193" y="2220"/>
                    </a:lnTo>
                    <a:lnTo>
                      <a:pt x="4134" y="2234"/>
                    </a:lnTo>
                    <a:lnTo>
                      <a:pt x="4077" y="2245"/>
                    </a:lnTo>
                    <a:lnTo>
                      <a:pt x="4020" y="2255"/>
                    </a:lnTo>
                    <a:lnTo>
                      <a:pt x="3966" y="2262"/>
                    </a:lnTo>
                    <a:lnTo>
                      <a:pt x="3911" y="2269"/>
                    </a:lnTo>
                    <a:lnTo>
                      <a:pt x="3857" y="2274"/>
                    </a:lnTo>
                    <a:lnTo>
                      <a:pt x="3804" y="2277"/>
                    </a:lnTo>
                    <a:lnTo>
                      <a:pt x="3752" y="2278"/>
                    </a:lnTo>
                    <a:lnTo>
                      <a:pt x="3699" y="2278"/>
                    </a:lnTo>
                    <a:lnTo>
                      <a:pt x="3648" y="2277"/>
                    </a:lnTo>
                    <a:lnTo>
                      <a:pt x="3597" y="2275"/>
                    </a:lnTo>
                    <a:lnTo>
                      <a:pt x="3546" y="2271"/>
                    </a:lnTo>
                    <a:lnTo>
                      <a:pt x="3495" y="2264"/>
                    </a:lnTo>
                    <a:lnTo>
                      <a:pt x="3445" y="2258"/>
                    </a:lnTo>
                    <a:lnTo>
                      <a:pt x="3394" y="2249"/>
                    </a:lnTo>
                    <a:lnTo>
                      <a:pt x="3345" y="2240"/>
                    </a:lnTo>
                    <a:lnTo>
                      <a:pt x="3294" y="2229"/>
                    </a:lnTo>
                    <a:lnTo>
                      <a:pt x="3244" y="2217"/>
                    </a:lnTo>
                    <a:lnTo>
                      <a:pt x="3194" y="2204"/>
                    </a:lnTo>
                    <a:lnTo>
                      <a:pt x="3142" y="2189"/>
                    </a:lnTo>
                    <a:lnTo>
                      <a:pt x="3092" y="2174"/>
                    </a:lnTo>
                    <a:lnTo>
                      <a:pt x="3040" y="2157"/>
                    </a:lnTo>
                    <a:lnTo>
                      <a:pt x="2987" y="2139"/>
                    </a:lnTo>
                    <a:lnTo>
                      <a:pt x="2935" y="2121"/>
                    </a:lnTo>
                    <a:lnTo>
                      <a:pt x="2882" y="2101"/>
                    </a:lnTo>
                    <a:lnTo>
                      <a:pt x="2890" y="2066"/>
                    </a:lnTo>
                    <a:lnTo>
                      <a:pt x="2900" y="2031"/>
                    </a:lnTo>
                    <a:lnTo>
                      <a:pt x="2913" y="1997"/>
                    </a:lnTo>
                    <a:lnTo>
                      <a:pt x="2927" y="1965"/>
                    </a:lnTo>
                    <a:lnTo>
                      <a:pt x="2935" y="1951"/>
                    </a:lnTo>
                    <a:lnTo>
                      <a:pt x="2942" y="1936"/>
                    </a:lnTo>
                    <a:lnTo>
                      <a:pt x="2950" y="1922"/>
                    </a:lnTo>
                    <a:lnTo>
                      <a:pt x="2959" y="1909"/>
                    </a:lnTo>
                    <a:lnTo>
                      <a:pt x="2968" y="1899"/>
                    </a:lnTo>
                    <a:lnTo>
                      <a:pt x="2976" y="1888"/>
                    </a:lnTo>
                    <a:lnTo>
                      <a:pt x="2985" y="1880"/>
                    </a:lnTo>
                    <a:lnTo>
                      <a:pt x="2994" y="1872"/>
                    </a:lnTo>
                    <a:close/>
                    <a:moveTo>
                      <a:pt x="3119" y="1710"/>
                    </a:moveTo>
                    <a:lnTo>
                      <a:pt x="3191" y="1707"/>
                    </a:lnTo>
                    <a:lnTo>
                      <a:pt x="3263" y="1703"/>
                    </a:lnTo>
                    <a:lnTo>
                      <a:pt x="3335" y="1697"/>
                    </a:lnTo>
                    <a:lnTo>
                      <a:pt x="3407" y="1691"/>
                    </a:lnTo>
                    <a:lnTo>
                      <a:pt x="3479" y="1684"/>
                    </a:lnTo>
                    <a:lnTo>
                      <a:pt x="3549" y="1675"/>
                    </a:lnTo>
                    <a:lnTo>
                      <a:pt x="3620" y="1666"/>
                    </a:lnTo>
                    <a:lnTo>
                      <a:pt x="3689" y="1654"/>
                    </a:lnTo>
                    <a:lnTo>
                      <a:pt x="3757" y="1641"/>
                    </a:lnTo>
                    <a:lnTo>
                      <a:pt x="3825" y="1626"/>
                    </a:lnTo>
                    <a:lnTo>
                      <a:pt x="3891" y="1609"/>
                    </a:lnTo>
                    <a:lnTo>
                      <a:pt x="3956" y="1591"/>
                    </a:lnTo>
                    <a:lnTo>
                      <a:pt x="3987" y="1582"/>
                    </a:lnTo>
                    <a:lnTo>
                      <a:pt x="4018" y="1571"/>
                    </a:lnTo>
                    <a:lnTo>
                      <a:pt x="4049" y="1561"/>
                    </a:lnTo>
                    <a:lnTo>
                      <a:pt x="4080" y="1549"/>
                    </a:lnTo>
                    <a:lnTo>
                      <a:pt x="4109" y="1537"/>
                    </a:lnTo>
                    <a:lnTo>
                      <a:pt x="4139" y="1525"/>
                    </a:lnTo>
                    <a:lnTo>
                      <a:pt x="4167" y="1512"/>
                    </a:lnTo>
                    <a:lnTo>
                      <a:pt x="4196" y="1498"/>
                    </a:lnTo>
                    <a:lnTo>
                      <a:pt x="4202" y="1533"/>
                    </a:lnTo>
                    <a:lnTo>
                      <a:pt x="4207" y="1569"/>
                    </a:lnTo>
                    <a:lnTo>
                      <a:pt x="4210" y="1605"/>
                    </a:lnTo>
                    <a:lnTo>
                      <a:pt x="4211" y="1641"/>
                    </a:lnTo>
                    <a:lnTo>
                      <a:pt x="4212" y="1677"/>
                    </a:lnTo>
                    <a:lnTo>
                      <a:pt x="4212" y="1713"/>
                    </a:lnTo>
                    <a:lnTo>
                      <a:pt x="4211" y="1749"/>
                    </a:lnTo>
                    <a:lnTo>
                      <a:pt x="4210" y="1785"/>
                    </a:lnTo>
                    <a:lnTo>
                      <a:pt x="4155" y="1794"/>
                    </a:lnTo>
                    <a:lnTo>
                      <a:pt x="4099" y="1801"/>
                    </a:lnTo>
                    <a:lnTo>
                      <a:pt x="4041" y="1810"/>
                    </a:lnTo>
                    <a:lnTo>
                      <a:pt x="3982" y="1816"/>
                    </a:lnTo>
                    <a:lnTo>
                      <a:pt x="3922" y="1822"/>
                    </a:lnTo>
                    <a:lnTo>
                      <a:pt x="3861" y="1828"/>
                    </a:lnTo>
                    <a:lnTo>
                      <a:pt x="3799" y="1831"/>
                    </a:lnTo>
                    <a:lnTo>
                      <a:pt x="3736" y="1833"/>
                    </a:lnTo>
                    <a:lnTo>
                      <a:pt x="3673" y="1834"/>
                    </a:lnTo>
                    <a:lnTo>
                      <a:pt x="3609" y="1832"/>
                    </a:lnTo>
                    <a:lnTo>
                      <a:pt x="3577" y="1830"/>
                    </a:lnTo>
                    <a:lnTo>
                      <a:pt x="3546" y="1828"/>
                    </a:lnTo>
                    <a:lnTo>
                      <a:pt x="3514" y="1825"/>
                    </a:lnTo>
                    <a:lnTo>
                      <a:pt x="3482" y="1821"/>
                    </a:lnTo>
                    <a:lnTo>
                      <a:pt x="3449" y="1817"/>
                    </a:lnTo>
                    <a:lnTo>
                      <a:pt x="3417" y="1812"/>
                    </a:lnTo>
                    <a:lnTo>
                      <a:pt x="3385" y="1807"/>
                    </a:lnTo>
                    <a:lnTo>
                      <a:pt x="3353" y="1799"/>
                    </a:lnTo>
                    <a:lnTo>
                      <a:pt x="3321" y="1793"/>
                    </a:lnTo>
                    <a:lnTo>
                      <a:pt x="3289" y="1784"/>
                    </a:lnTo>
                    <a:lnTo>
                      <a:pt x="3257" y="1775"/>
                    </a:lnTo>
                    <a:lnTo>
                      <a:pt x="3225" y="1765"/>
                    </a:lnTo>
                    <a:lnTo>
                      <a:pt x="3214" y="1759"/>
                    </a:lnTo>
                    <a:lnTo>
                      <a:pt x="3201" y="1751"/>
                    </a:lnTo>
                    <a:lnTo>
                      <a:pt x="3187" y="1745"/>
                    </a:lnTo>
                    <a:lnTo>
                      <a:pt x="3172" y="1739"/>
                    </a:lnTo>
                    <a:lnTo>
                      <a:pt x="3156" y="1731"/>
                    </a:lnTo>
                    <a:lnTo>
                      <a:pt x="3142" y="1724"/>
                    </a:lnTo>
                    <a:lnTo>
                      <a:pt x="3129" y="1718"/>
                    </a:lnTo>
                    <a:lnTo>
                      <a:pt x="3119" y="1710"/>
                    </a:lnTo>
                    <a:close/>
                    <a:moveTo>
                      <a:pt x="4053" y="879"/>
                    </a:moveTo>
                    <a:lnTo>
                      <a:pt x="4028" y="902"/>
                    </a:lnTo>
                    <a:lnTo>
                      <a:pt x="4003" y="925"/>
                    </a:lnTo>
                    <a:lnTo>
                      <a:pt x="3975" y="946"/>
                    </a:lnTo>
                    <a:lnTo>
                      <a:pt x="3948" y="967"/>
                    </a:lnTo>
                    <a:lnTo>
                      <a:pt x="3919" y="987"/>
                    </a:lnTo>
                    <a:lnTo>
                      <a:pt x="3890" y="1006"/>
                    </a:lnTo>
                    <a:lnTo>
                      <a:pt x="3859" y="1026"/>
                    </a:lnTo>
                    <a:lnTo>
                      <a:pt x="3828" y="1044"/>
                    </a:lnTo>
                    <a:lnTo>
                      <a:pt x="3797" y="1061"/>
                    </a:lnTo>
                    <a:lnTo>
                      <a:pt x="3765" y="1077"/>
                    </a:lnTo>
                    <a:lnTo>
                      <a:pt x="3732" y="1093"/>
                    </a:lnTo>
                    <a:lnTo>
                      <a:pt x="3699" y="1109"/>
                    </a:lnTo>
                    <a:lnTo>
                      <a:pt x="3665" y="1124"/>
                    </a:lnTo>
                    <a:lnTo>
                      <a:pt x="3631" y="1139"/>
                    </a:lnTo>
                    <a:lnTo>
                      <a:pt x="3596" y="1153"/>
                    </a:lnTo>
                    <a:lnTo>
                      <a:pt x="3561" y="1165"/>
                    </a:lnTo>
                    <a:lnTo>
                      <a:pt x="3490" y="1191"/>
                    </a:lnTo>
                    <a:lnTo>
                      <a:pt x="3417" y="1214"/>
                    </a:lnTo>
                    <a:lnTo>
                      <a:pt x="3345" y="1235"/>
                    </a:lnTo>
                    <a:lnTo>
                      <a:pt x="3271" y="1254"/>
                    </a:lnTo>
                    <a:lnTo>
                      <a:pt x="3198" y="1272"/>
                    </a:lnTo>
                    <a:lnTo>
                      <a:pt x="3124" y="1289"/>
                    </a:lnTo>
                    <a:lnTo>
                      <a:pt x="3052" y="1304"/>
                    </a:lnTo>
                    <a:lnTo>
                      <a:pt x="2980" y="1319"/>
                    </a:lnTo>
                    <a:lnTo>
                      <a:pt x="2964" y="1343"/>
                    </a:lnTo>
                    <a:lnTo>
                      <a:pt x="2950" y="1368"/>
                    </a:lnTo>
                    <a:lnTo>
                      <a:pt x="2936" y="1393"/>
                    </a:lnTo>
                    <a:lnTo>
                      <a:pt x="2922" y="1419"/>
                    </a:lnTo>
                    <a:lnTo>
                      <a:pt x="2907" y="1443"/>
                    </a:lnTo>
                    <a:lnTo>
                      <a:pt x="2893" y="1468"/>
                    </a:lnTo>
                    <a:lnTo>
                      <a:pt x="2879" y="1493"/>
                    </a:lnTo>
                    <a:lnTo>
                      <a:pt x="2863" y="1517"/>
                    </a:lnTo>
                    <a:lnTo>
                      <a:pt x="3022" y="1497"/>
                    </a:lnTo>
                    <a:lnTo>
                      <a:pt x="3184" y="1475"/>
                    </a:lnTo>
                    <a:lnTo>
                      <a:pt x="3265" y="1462"/>
                    </a:lnTo>
                    <a:lnTo>
                      <a:pt x="3346" y="1448"/>
                    </a:lnTo>
                    <a:lnTo>
                      <a:pt x="3428" y="1434"/>
                    </a:lnTo>
                    <a:lnTo>
                      <a:pt x="3509" y="1416"/>
                    </a:lnTo>
                    <a:lnTo>
                      <a:pt x="3550" y="1406"/>
                    </a:lnTo>
                    <a:lnTo>
                      <a:pt x="3591" y="1395"/>
                    </a:lnTo>
                    <a:lnTo>
                      <a:pt x="3631" y="1385"/>
                    </a:lnTo>
                    <a:lnTo>
                      <a:pt x="3672" y="1373"/>
                    </a:lnTo>
                    <a:lnTo>
                      <a:pt x="3712" y="1361"/>
                    </a:lnTo>
                    <a:lnTo>
                      <a:pt x="3752" y="1349"/>
                    </a:lnTo>
                    <a:lnTo>
                      <a:pt x="3792" y="1335"/>
                    </a:lnTo>
                    <a:lnTo>
                      <a:pt x="3832" y="1321"/>
                    </a:lnTo>
                    <a:lnTo>
                      <a:pt x="3871" y="1305"/>
                    </a:lnTo>
                    <a:lnTo>
                      <a:pt x="3911" y="1289"/>
                    </a:lnTo>
                    <a:lnTo>
                      <a:pt x="3950" y="1272"/>
                    </a:lnTo>
                    <a:lnTo>
                      <a:pt x="3990" y="1256"/>
                    </a:lnTo>
                    <a:lnTo>
                      <a:pt x="4028" y="1236"/>
                    </a:lnTo>
                    <a:lnTo>
                      <a:pt x="4066" y="1216"/>
                    </a:lnTo>
                    <a:lnTo>
                      <a:pt x="4105" y="1196"/>
                    </a:lnTo>
                    <a:lnTo>
                      <a:pt x="4142" y="1174"/>
                    </a:lnTo>
                    <a:lnTo>
                      <a:pt x="4134" y="1136"/>
                    </a:lnTo>
                    <a:lnTo>
                      <a:pt x="4125" y="1098"/>
                    </a:lnTo>
                    <a:lnTo>
                      <a:pt x="4115" y="1061"/>
                    </a:lnTo>
                    <a:lnTo>
                      <a:pt x="4104" y="1023"/>
                    </a:lnTo>
                    <a:lnTo>
                      <a:pt x="4092" y="986"/>
                    </a:lnTo>
                    <a:lnTo>
                      <a:pt x="4080" y="950"/>
                    </a:lnTo>
                    <a:lnTo>
                      <a:pt x="4066" y="914"/>
                    </a:lnTo>
                    <a:lnTo>
                      <a:pt x="4053" y="879"/>
                    </a:lnTo>
                    <a:close/>
                    <a:moveTo>
                      <a:pt x="3763" y="415"/>
                    </a:moveTo>
                    <a:lnTo>
                      <a:pt x="3744" y="437"/>
                    </a:lnTo>
                    <a:lnTo>
                      <a:pt x="3725" y="460"/>
                    </a:lnTo>
                    <a:lnTo>
                      <a:pt x="3705" y="481"/>
                    </a:lnTo>
                    <a:lnTo>
                      <a:pt x="3683" y="503"/>
                    </a:lnTo>
                    <a:lnTo>
                      <a:pt x="3661" y="524"/>
                    </a:lnTo>
                    <a:lnTo>
                      <a:pt x="3637" y="544"/>
                    </a:lnTo>
                    <a:lnTo>
                      <a:pt x="3612" y="566"/>
                    </a:lnTo>
                    <a:lnTo>
                      <a:pt x="3586" y="586"/>
                    </a:lnTo>
                    <a:lnTo>
                      <a:pt x="3560" y="606"/>
                    </a:lnTo>
                    <a:lnTo>
                      <a:pt x="3532" y="626"/>
                    </a:lnTo>
                    <a:lnTo>
                      <a:pt x="3504" y="646"/>
                    </a:lnTo>
                    <a:lnTo>
                      <a:pt x="3474" y="665"/>
                    </a:lnTo>
                    <a:lnTo>
                      <a:pt x="3445" y="684"/>
                    </a:lnTo>
                    <a:lnTo>
                      <a:pt x="3413" y="703"/>
                    </a:lnTo>
                    <a:lnTo>
                      <a:pt x="3381" y="723"/>
                    </a:lnTo>
                    <a:lnTo>
                      <a:pt x="3349" y="741"/>
                    </a:lnTo>
                    <a:lnTo>
                      <a:pt x="3282" y="777"/>
                    </a:lnTo>
                    <a:lnTo>
                      <a:pt x="3213" y="812"/>
                    </a:lnTo>
                    <a:lnTo>
                      <a:pt x="3142" y="844"/>
                    </a:lnTo>
                    <a:lnTo>
                      <a:pt x="3069" y="877"/>
                    </a:lnTo>
                    <a:lnTo>
                      <a:pt x="2994" y="909"/>
                    </a:lnTo>
                    <a:lnTo>
                      <a:pt x="2918" y="939"/>
                    </a:lnTo>
                    <a:lnTo>
                      <a:pt x="2840" y="967"/>
                    </a:lnTo>
                    <a:lnTo>
                      <a:pt x="2763" y="996"/>
                    </a:lnTo>
                    <a:lnTo>
                      <a:pt x="2778" y="1028"/>
                    </a:lnTo>
                    <a:lnTo>
                      <a:pt x="2793" y="1058"/>
                    </a:lnTo>
                    <a:lnTo>
                      <a:pt x="2810" y="1086"/>
                    </a:lnTo>
                    <a:lnTo>
                      <a:pt x="2827" y="1112"/>
                    </a:lnTo>
                    <a:lnTo>
                      <a:pt x="2846" y="1137"/>
                    </a:lnTo>
                    <a:lnTo>
                      <a:pt x="2866" y="1160"/>
                    </a:lnTo>
                    <a:lnTo>
                      <a:pt x="2888" y="1182"/>
                    </a:lnTo>
                    <a:lnTo>
                      <a:pt x="2912" y="1205"/>
                    </a:lnTo>
                    <a:lnTo>
                      <a:pt x="3048" y="1154"/>
                    </a:lnTo>
                    <a:lnTo>
                      <a:pt x="3189" y="1101"/>
                    </a:lnTo>
                    <a:lnTo>
                      <a:pt x="3260" y="1073"/>
                    </a:lnTo>
                    <a:lnTo>
                      <a:pt x="3331" y="1045"/>
                    </a:lnTo>
                    <a:lnTo>
                      <a:pt x="3401" y="1014"/>
                    </a:lnTo>
                    <a:lnTo>
                      <a:pt x="3471" y="982"/>
                    </a:lnTo>
                    <a:lnTo>
                      <a:pt x="3505" y="966"/>
                    </a:lnTo>
                    <a:lnTo>
                      <a:pt x="3539" y="949"/>
                    </a:lnTo>
                    <a:lnTo>
                      <a:pt x="3572" y="931"/>
                    </a:lnTo>
                    <a:lnTo>
                      <a:pt x="3605" y="914"/>
                    </a:lnTo>
                    <a:lnTo>
                      <a:pt x="3637" y="895"/>
                    </a:lnTo>
                    <a:lnTo>
                      <a:pt x="3668" y="876"/>
                    </a:lnTo>
                    <a:lnTo>
                      <a:pt x="3699" y="857"/>
                    </a:lnTo>
                    <a:lnTo>
                      <a:pt x="3730" y="837"/>
                    </a:lnTo>
                    <a:lnTo>
                      <a:pt x="3758" y="817"/>
                    </a:lnTo>
                    <a:lnTo>
                      <a:pt x="3787" y="796"/>
                    </a:lnTo>
                    <a:lnTo>
                      <a:pt x="3814" y="774"/>
                    </a:lnTo>
                    <a:lnTo>
                      <a:pt x="3842" y="752"/>
                    </a:lnTo>
                    <a:lnTo>
                      <a:pt x="3867" y="729"/>
                    </a:lnTo>
                    <a:lnTo>
                      <a:pt x="3892" y="706"/>
                    </a:lnTo>
                    <a:lnTo>
                      <a:pt x="3915" y="681"/>
                    </a:lnTo>
                    <a:lnTo>
                      <a:pt x="3937" y="656"/>
                    </a:lnTo>
                    <a:lnTo>
                      <a:pt x="3919" y="624"/>
                    </a:lnTo>
                    <a:lnTo>
                      <a:pt x="3900" y="593"/>
                    </a:lnTo>
                    <a:lnTo>
                      <a:pt x="3880" y="563"/>
                    </a:lnTo>
                    <a:lnTo>
                      <a:pt x="3859" y="533"/>
                    </a:lnTo>
                    <a:lnTo>
                      <a:pt x="3836" y="503"/>
                    </a:lnTo>
                    <a:lnTo>
                      <a:pt x="3813" y="474"/>
                    </a:lnTo>
                    <a:lnTo>
                      <a:pt x="3788" y="444"/>
                    </a:lnTo>
                    <a:lnTo>
                      <a:pt x="3763" y="415"/>
                    </a:lnTo>
                    <a:close/>
                    <a:moveTo>
                      <a:pt x="2761" y="500"/>
                    </a:moveTo>
                    <a:lnTo>
                      <a:pt x="2755" y="518"/>
                    </a:lnTo>
                    <a:lnTo>
                      <a:pt x="2749" y="535"/>
                    </a:lnTo>
                    <a:lnTo>
                      <a:pt x="2745" y="552"/>
                    </a:lnTo>
                    <a:lnTo>
                      <a:pt x="2741" y="568"/>
                    </a:lnTo>
                    <a:lnTo>
                      <a:pt x="2734" y="601"/>
                    </a:lnTo>
                    <a:lnTo>
                      <a:pt x="2730" y="634"/>
                    </a:lnTo>
                    <a:lnTo>
                      <a:pt x="2726" y="665"/>
                    </a:lnTo>
                    <a:lnTo>
                      <a:pt x="2724" y="697"/>
                    </a:lnTo>
                    <a:lnTo>
                      <a:pt x="2722" y="729"/>
                    </a:lnTo>
                    <a:lnTo>
                      <a:pt x="2720" y="761"/>
                    </a:lnTo>
                    <a:lnTo>
                      <a:pt x="2775" y="739"/>
                    </a:lnTo>
                    <a:lnTo>
                      <a:pt x="2831" y="717"/>
                    </a:lnTo>
                    <a:lnTo>
                      <a:pt x="2888" y="693"/>
                    </a:lnTo>
                    <a:lnTo>
                      <a:pt x="2946" y="667"/>
                    </a:lnTo>
                    <a:lnTo>
                      <a:pt x="3005" y="641"/>
                    </a:lnTo>
                    <a:lnTo>
                      <a:pt x="3064" y="612"/>
                    </a:lnTo>
                    <a:lnTo>
                      <a:pt x="3122" y="583"/>
                    </a:lnTo>
                    <a:lnTo>
                      <a:pt x="3181" y="551"/>
                    </a:lnTo>
                    <a:lnTo>
                      <a:pt x="3239" y="518"/>
                    </a:lnTo>
                    <a:lnTo>
                      <a:pt x="3294" y="484"/>
                    </a:lnTo>
                    <a:lnTo>
                      <a:pt x="3322" y="466"/>
                    </a:lnTo>
                    <a:lnTo>
                      <a:pt x="3349" y="448"/>
                    </a:lnTo>
                    <a:lnTo>
                      <a:pt x="3376" y="430"/>
                    </a:lnTo>
                    <a:lnTo>
                      <a:pt x="3402" y="411"/>
                    </a:lnTo>
                    <a:lnTo>
                      <a:pt x="3427" y="391"/>
                    </a:lnTo>
                    <a:lnTo>
                      <a:pt x="3452" y="372"/>
                    </a:lnTo>
                    <a:lnTo>
                      <a:pt x="3476" y="352"/>
                    </a:lnTo>
                    <a:lnTo>
                      <a:pt x="3499" y="330"/>
                    </a:lnTo>
                    <a:lnTo>
                      <a:pt x="3521" y="309"/>
                    </a:lnTo>
                    <a:lnTo>
                      <a:pt x="3543" y="288"/>
                    </a:lnTo>
                    <a:lnTo>
                      <a:pt x="3564" y="266"/>
                    </a:lnTo>
                    <a:lnTo>
                      <a:pt x="3584" y="244"/>
                    </a:lnTo>
                    <a:lnTo>
                      <a:pt x="3557" y="221"/>
                    </a:lnTo>
                    <a:lnTo>
                      <a:pt x="3528" y="200"/>
                    </a:lnTo>
                    <a:lnTo>
                      <a:pt x="3498" y="179"/>
                    </a:lnTo>
                    <a:lnTo>
                      <a:pt x="3469" y="159"/>
                    </a:lnTo>
                    <a:lnTo>
                      <a:pt x="3438" y="140"/>
                    </a:lnTo>
                    <a:lnTo>
                      <a:pt x="3405" y="122"/>
                    </a:lnTo>
                    <a:lnTo>
                      <a:pt x="3372" y="104"/>
                    </a:lnTo>
                    <a:lnTo>
                      <a:pt x="3337" y="86"/>
                    </a:lnTo>
                    <a:lnTo>
                      <a:pt x="3315" y="116"/>
                    </a:lnTo>
                    <a:lnTo>
                      <a:pt x="3291" y="147"/>
                    </a:lnTo>
                    <a:lnTo>
                      <a:pt x="3265" y="178"/>
                    </a:lnTo>
                    <a:lnTo>
                      <a:pt x="3235" y="209"/>
                    </a:lnTo>
                    <a:lnTo>
                      <a:pt x="3203" y="239"/>
                    </a:lnTo>
                    <a:lnTo>
                      <a:pt x="3171" y="268"/>
                    </a:lnTo>
                    <a:lnTo>
                      <a:pt x="3134" y="298"/>
                    </a:lnTo>
                    <a:lnTo>
                      <a:pt x="3098" y="325"/>
                    </a:lnTo>
                    <a:lnTo>
                      <a:pt x="3060" y="352"/>
                    </a:lnTo>
                    <a:lnTo>
                      <a:pt x="3019" y="378"/>
                    </a:lnTo>
                    <a:lnTo>
                      <a:pt x="2979" y="403"/>
                    </a:lnTo>
                    <a:lnTo>
                      <a:pt x="2936" y="425"/>
                    </a:lnTo>
                    <a:lnTo>
                      <a:pt x="2893" y="447"/>
                    </a:lnTo>
                    <a:lnTo>
                      <a:pt x="2850" y="466"/>
                    </a:lnTo>
                    <a:lnTo>
                      <a:pt x="2805" y="484"/>
                    </a:lnTo>
                    <a:lnTo>
                      <a:pt x="2761" y="500"/>
                    </a:lnTo>
                    <a:close/>
                    <a:moveTo>
                      <a:pt x="1451" y="202"/>
                    </a:moveTo>
                    <a:lnTo>
                      <a:pt x="1460" y="173"/>
                    </a:lnTo>
                    <a:lnTo>
                      <a:pt x="1469" y="147"/>
                    </a:lnTo>
                    <a:lnTo>
                      <a:pt x="1472" y="135"/>
                    </a:lnTo>
                    <a:lnTo>
                      <a:pt x="1477" y="124"/>
                    </a:lnTo>
                    <a:lnTo>
                      <a:pt x="1483" y="113"/>
                    </a:lnTo>
                    <a:lnTo>
                      <a:pt x="1488" y="104"/>
                    </a:lnTo>
                    <a:lnTo>
                      <a:pt x="1496" y="94"/>
                    </a:lnTo>
                    <a:lnTo>
                      <a:pt x="1505" y="85"/>
                    </a:lnTo>
                    <a:lnTo>
                      <a:pt x="1516" y="75"/>
                    </a:lnTo>
                    <a:lnTo>
                      <a:pt x="1528" y="66"/>
                    </a:lnTo>
                    <a:lnTo>
                      <a:pt x="1543" y="57"/>
                    </a:lnTo>
                    <a:lnTo>
                      <a:pt x="1560" y="48"/>
                    </a:lnTo>
                    <a:lnTo>
                      <a:pt x="1580" y="37"/>
                    </a:lnTo>
                    <a:lnTo>
                      <a:pt x="1602" y="27"/>
                    </a:lnTo>
                    <a:lnTo>
                      <a:pt x="1624" y="22"/>
                    </a:lnTo>
                    <a:lnTo>
                      <a:pt x="1652" y="17"/>
                    </a:lnTo>
                    <a:lnTo>
                      <a:pt x="1684" y="13"/>
                    </a:lnTo>
                    <a:lnTo>
                      <a:pt x="1720" y="9"/>
                    </a:lnTo>
                    <a:lnTo>
                      <a:pt x="1759" y="6"/>
                    </a:lnTo>
                    <a:lnTo>
                      <a:pt x="1803" y="4"/>
                    </a:lnTo>
                    <a:lnTo>
                      <a:pt x="1850" y="2"/>
                    </a:lnTo>
                    <a:lnTo>
                      <a:pt x="1901" y="1"/>
                    </a:lnTo>
                    <a:lnTo>
                      <a:pt x="2008" y="0"/>
                    </a:lnTo>
                    <a:lnTo>
                      <a:pt x="2123" y="0"/>
                    </a:lnTo>
                    <a:lnTo>
                      <a:pt x="2244" y="2"/>
                    </a:lnTo>
                    <a:lnTo>
                      <a:pt x="2366" y="6"/>
                    </a:lnTo>
                    <a:lnTo>
                      <a:pt x="2488" y="12"/>
                    </a:lnTo>
                    <a:lnTo>
                      <a:pt x="2606" y="18"/>
                    </a:lnTo>
                    <a:lnTo>
                      <a:pt x="2719" y="25"/>
                    </a:lnTo>
                    <a:lnTo>
                      <a:pt x="2822" y="34"/>
                    </a:lnTo>
                    <a:lnTo>
                      <a:pt x="2869" y="39"/>
                    </a:lnTo>
                    <a:lnTo>
                      <a:pt x="2913" y="43"/>
                    </a:lnTo>
                    <a:lnTo>
                      <a:pt x="2952" y="49"/>
                    </a:lnTo>
                    <a:lnTo>
                      <a:pt x="2990" y="54"/>
                    </a:lnTo>
                    <a:lnTo>
                      <a:pt x="3021" y="59"/>
                    </a:lnTo>
                    <a:lnTo>
                      <a:pt x="3049" y="66"/>
                    </a:lnTo>
                    <a:lnTo>
                      <a:pt x="3071" y="71"/>
                    </a:lnTo>
                    <a:lnTo>
                      <a:pt x="3087" y="77"/>
                    </a:lnTo>
                    <a:lnTo>
                      <a:pt x="3078" y="80"/>
                    </a:lnTo>
                    <a:lnTo>
                      <a:pt x="3069" y="86"/>
                    </a:lnTo>
                    <a:lnTo>
                      <a:pt x="3058" y="91"/>
                    </a:lnTo>
                    <a:lnTo>
                      <a:pt x="3047" y="98"/>
                    </a:lnTo>
                    <a:lnTo>
                      <a:pt x="3026" y="114"/>
                    </a:lnTo>
                    <a:lnTo>
                      <a:pt x="3003" y="133"/>
                    </a:lnTo>
                    <a:lnTo>
                      <a:pt x="2982" y="155"/>
                    </a:lnTo>
                    <a:lnTo>
                      <a:pt x="2961" y="178"/>
                    </a:lnTo>
                    <a:lnTo>
                      <a:pt x="2951" y="191"/>
                    </a:lnTo>
                    <a:lnTo>
                      <a:pt x="2942" y="203"/>
                    </a:lnTo>
                    <a:lnTo>
                      <a:pt x="2935" y="216"/>
                    </a:lnTo>
                    <a:lnTo>
                      <a:pt x="2927" y="229"/>
                    </a:lnTo>
                    <a:lnTo>
                      <a:pt x="2903" y="222"/>
                    </a:lnTo>
                    <a:lnTo>
                      <a:pt x="2876" y="217"/>
                    </a:lnTo>
                    <a:lnTo>
                      <a:pt x="2846" y="213"/>
                    </a:lnTo>
                    <a:lnTo>
                      <a:pt x="2812" y="208"/>
                    </a:lnTo>
                    <a:lnTo>
                      <a:pt x="2736" y="199"/>
                    </a:lnTo>
                    <a:lnTo>
                      <a:pt x="2652" y="192"/>
                    </a:lnTo>
                    <a:lnTo>
                      <a:pt x="2559" y="184"/>
                    </a:lnTo>
                    <a:lnTo>
                      <a:pt x="2458" y="179"/>
                    </a:lnTo>
                    <a:lnTo>
                      <a:pt x="2354" y="175"/>
                    </a:lnTo>
                    <a:lnTo>
                      <a:pt x="2245" y="172"/>
                    </a:lnTo>
                    <a:lnTo>
                      <a:pt x="2134" y="170"/>
                    </a:lnTo>
                    <a:lnTo>
                      <a:pt x="2025" y="170"/>
                    </a:lnTo>
                    <a:lnTo>
                      <a:pt x="1915" y="172"/>
                    </a:lnTo>
                    <a:lnTo>
                      <a:pt x="1810" y="175"/>
                    </a:lnTo>
                    <a:lnTo>
                      <a:pt x="1709" y="179"/>
                    </a:lnTo>
                    <a:lnTo>
                      <a:pt x="1614" y="184"/>
                    </a:lnTo>
                    <a:lnTo>
                      <a:pt x="1570" y="188"/>
                    </a:lnTo>
                    <a:lnTo>
                      <a:pt x="1528" y="193"/>
                    </a:lnTo>
                    <a:lnTo>
                      <a:pt x="1488" y="197"/>
                    </a:lnTo>
                    <a:lnTo>
                      <a:pt x="1451" y="20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3" name=""/>
              <p:cNvSpPr/>
              <p:nvPr/>
            </p:nvSpPr>
            <p:spPr>
              <a:xfrm>
                <a:off x="2727360" y="3362400"/>
                <a:ext cx="7560" cy="9720"/>
              </a:xfrm>
              <a:custGeom>
                <a:avLst/>
                <a:gdLst/>
                <a:ahLst/>
                <a:rect l="l" t="t" r="r" b="b"/>
                <a:pathLst>
                  <a:path w="50" h="48">
                    <a:moveTo>
                      <a:pt x="0" y="38"/>
                    </a:moveTo>
                    <a:lnTo>
                      <a:pt x="5" y="42"/>
                    </a:lnTo>
                    <a:lnTo>
                      <a:pt x="11" y="45"/>
                    </a:lnTo>
                    <a:lnTo>
                      <a:pt x="16" y="46"/>
                    </a:lnTo>
                    <a:lnTo>
                      <a:pt x="22" y="48"/>
                    </a:lnTo>
                    <a:lnTo>
                      <a:pt x="27" y="46"/>
                    </a:lnTo>
                    <a:lnTo>
                      <a:pt x="32" y="45"/>
                    </a:lnTo>
                    <a:lnTo>
                      <a:pt x="37" y="42"/>
                    </a:lnTo>
                    <a:lnTo>
                      <a:pt x="40" y="39"/>
                    </a:lnTo>
                    <a:lnTo>
                      <a:pt x="45" y="36"/>
                    </a:lnTo>
                    <a:lnTo>
                      <a:pt x="47" y="31"/>
                    </a:lnTo>
                    <a:lnTo>
                      <a:pt x="49" y="26"/>
                    </a:lnTo>
                    <a:lnTo>
                      <a:pt x="50" y="21"/>
                    </a:lnTo>
                    <a:lnTo>
                      <a:pt x="50" y="16"/>
                    </a:lnTo>
                    <a:lnTo>
                      <a:pt x="49" y="10"/>
                    </a:lnTo>
                    <a:lnTo>
                      <a:pt x="46" y="5"/>
                    </a:lnTo>
                    <a:lnTo>
                      <a:pt x="43" y="0"/>
                    </a:lnTo>
                    <a:lnTo>
                      <a:pt x="0" y="38"/>
                    </a:lnTo>
                    <a:close/>
                  </a:path>
                </a:pathLst>
              </a:custGeom>
              <a:solidFill>
                <a:srgbClr val="000000"/>
              </a:solidFill>
              <a:ln w="0">
                <a:noFill/>
              </a:ln>
            </p:spPr>
            <p:style>
              <a:lnRef idx="0"/>
              <a:fillRef idx="0"/>
              <a:effectRef idx="0"/>
              <a:fontRef idx="minor"/>
            </p:style>
            <p:txBody>
              <a:bodyPr wrap="none" lIns="93240" rIns="93240" tIns="-36720" bIns="-36720" anchor="t">
                <a:spAutoFit/>
              </a:bodyPr>
              <a:p>
                <a:endParaRPr b="0" lang="en-US" sz="2400" spc="-1" strike="noStrike">
                  <a:solidFill>
                    <a:srgbClr val="ffffff"/>
                  </a:solidFill>
                  <a:latin typeface="Times New Roman"/>
                </a:endParaRPr>
              </a:p>
            </p:txBody>
          </p:sp>
          <p:sp>
            <p:nvSpPr>
              <p:cNvPr id="454" name=""/>
              <p:cNvSpPr/>
              <p:nvPr/>
            </p:nvSpPr>
            <p:spPr>
              <a:xfrm>
                <a:off x="2717280" y="3181320"/>
                <a:ext cx="63720" cy="187920"/>
              </a:xfrm>
              <a:custGeom>
                <a:avLst/>
                <a:gdLst/>
                <a:ahLst/>
                <a:rect l="l" t="t" r="r" b="b"/>
                <a:pathLst>
                  <a:path w="439" h="934">
                    <a:moveTo>
                      <a:pt x="397" y="53"/>
                    </a:moveTo>
                    <a:lnTo>
                      <a:pt x="410" y="0"/>
                    </a:lnTo>
                    <a:lnTo>
                      <a:pt x="389" y="2"/>
                    </a:lnTo>
                    <a:lnTo>
                      <a:pt x="368" y="4"/>
                    </a:lnTo>
                    <a:lnTo>
                      <a:pt x="347" y="6"/>
                    </a:lnTo>
                    <a:lnTo>
                      <a:pt x="326" y="10"/>
                    </a:lnTo>
                    <a:lnTo>
                      <a:pt x="307" y="15"/>
                    </a:lnTo>
                    <a:lnTo>
                      <a:pt x="289" y="22"/>
                    </a:lnTo>
                    <a:lnTo>
                      <a:pt x="270" y="29"/>
                    </a:lnTo>
                    <a:lnTo>
                      <a:pt x="253" y="38"/>
                    </a:lnTo>
                    <a:lnTo>
                      <a:pt x="236" y="47"/>
                    </a:lnTo>
                    <a:lnTo>
                      <a:pt x="220" y="57"/>
                    </a:lnTo>
                    <a:lnTo>
                      <a:pt x="204" y="68"/>
                    </a:lnTo>
                    <a:lnTo>
                      <a:pt x="189" y="80"/>
                    </a:lnTo>
                    <a:lnTo>
                      <a:pt x="176" y="93"/>
                    </a:lnTo>
                    <a:lnTo>
                      <a:pt x="162" y="105"/>
                    </a:lnTo>
                    <a:lnTo>
                      <a:pt x="149" y="119"/>
                    </a:lnTo>
                    <a:lnTo>
                      <a:pt x="137" y="134"/>
                    </a:lnTo>
                    <a:lnTo>
                      <a:pt x="125" y="149"/>
                    </a:lnTo>
                    <a:lnTo>
                      <a:pt x="114" y="165"/>
                    </a:lnTo>
                    <a:lnTo>
                      <a:pt x="105" y="181"/>
                    </a:lnTo>
                    <a:lnTo>
                      <a:pt x="95" y="198"/>
                    </a:lnTo>
                    <a:lnTo>
                      <a:pt x="85" y="214"/>
                    </a:lnTo>
                    <a:lnTo>
                      <a:pt x="77" y="233"/>
                    </a:lnTo>
                    <a:lnTo>
                      <a:pt x="68" y="251"/>
                    </a:lnTo>
                    <a:lnTo>
                      <a:pt x="61" y="269"/>
                    </a:lnTo>
                    <a:lnTo>
                      <a:pt x="47" y="306"/>
                    </a:lnTo>
                    <a:lnTo>
                      <a:pt x="35" y="345"/>
                    </a:lnTo>
                    <a:lnTo>
                      <a:pt x="26" y="384"/>
                    </a:lnTo>
                    <a:lnTo>
                      <a:pt x="18" y="423"/>
                    </a:lnTo>
                    <a:lnTo>
                      <a:pt x="11" y="464"/>
                    </a:lnTo>
                    <a:lnTo>
                      <a:pt x="6" y="504"/>
                    </a:lnTo>
                    <a:lnTo>
                      <a:pt x="3" y="543"/>
                    </a:lnTo>
                    <a:lnTo>
                      <a:pt x="1" y="582"/>
                    </a:lnTo>
                    <a:lnTo>
                      <a:pt x="0" y="621"/>
                    </a:lnTo>
                    <a:lnTo>
                      <a:pt x="1" y="658"/>
                    </a:lnTo>
                    <a:lnTo>
                      <a:pt x="4" y="696"/>
                    </a:lnTo>
                    <a:lnTo>
                      <a:pt x="7" y="731"/>
                    </a:lnTo>
                    <a:lnTo>
                      <a:pt x="11" y="763"/>
                    </a:lnTo>
                    <a:lnTo>
                      <a:pt x="17" y="795"/>
                    </a:lnTo>
                    <a:lnTo>
                      <a:pt x="24" y="825"/>
                    </a:lnTo>
                    <a:lnTo>
                      <a:pt x="32" y="851"/>
                    </a:lnTo>
                    <a:lnTo>
                      <a:pt x="41" y="877"/>
                    </a:lnTo>
                    <a:lnTo>
                      <a:pt x="51" y="898"/>
                    </a:lnTo>
                    <a:lnTo>
                      <a:pt x="56" y="909"/>
                    </a:lnTo>
                    <a:lnTo>
                      <a:pt x="62" y="918"/>
                    </a:lnTo>
                    <a:lnTo>
                      <a:pt x="68" y="927"/>
                    </a:lnTo>
                    <a:lnTo>
                      <a:pt x="75" y="934"/>
                    </a:lnTo>
                    <a:lnTo>
                      <a:pt x="118" y="896"/>
                    </a:lnTo>
                    <a:lnTo>
                      <a:pt x="113" y="893"/>
                    </a:lnTo>
                    <a:lnTo>
                      <a:pt x="110" y="887"/>
                    </a:lnTo>
                    <a:lnTo>
                      <a:pt x="106" y="881"/>
                    </a:lnTo>
                    <a:lnTo>
                      <a:pt x="102" y="875"/>
                    </a:lnTo>
                    <a:lnTo>
                      <a:pt x="94" y="857"/>
                    </a:lnTo>
                    <a:lnTo>
                      <a:pt x="87" y="835"/>
                    </a:lnTo>
                    <a:lnTo>
                      <a:pt x="79" y="811"/>
                    </a:lnTo>
                    <a:lnTo>
                      <a:pt x="74" y="785"/>
                    </a:lnTo>
                    <a:lnTo>
                      <a:pt x="68" y="756"/>
                    </a:lnTo>
                    <a:lnTo>
                      <a:pt x="64" y="724"/>
                    </a:lnTo>
                    <a:lnTo>
                      <a:pt x="61" y="691"/>
                    </a:lnTo>
                    <a:lnTo>
                      <a:pt x="58" y="656"/>
                    </a:lnTo>
                    <a:lnTo>
                      <a:pt x="58" y="621"/>
                    </a:lnTo>
                    <a:lnTo>
                      <a:pt x="58" y="584"/>
                    </a:lnTo>
                    <a:lnTo>
                      <a:pt x="60" y="546"/>
                    </a:lnTo>
                    <a:lnTo>
                      <a:pt x="63" y="509"/>
                    </a:lnTo>
                    <a:lnTo>
                      <a:pt x="67" y="471"/>
                    </a:lnTo>
                    <a:lnTo>
                      <a:pt x="74" y="433"/>
                    </a:lnTo>
                    <a:lnTo>
                      <a:pt x="81" y="396"/>
                    </a:lnTo>
                    <a:lnTo>
                      <a:pt x="91" y="359"/>
                    </a:lnTo>
                    <a:lnTo>
                      <a:pt x="101" y="323"/>
                    </a:lnTo>
                    <a:lnTo>
                      <a:pt x="114" y="288"/>
                    </a:lnTo>
                    <a:lnTo>
                      <a:pt x="121" y="272"/>
                    </a:lnTo>
                    <a:lnTo>
                      <a:pt x="129" y="255"/>
                    </a:lnTo>
                    <a:lnTo>
                      <a:pt x="136" y="239"/>
                    </a:lnTo>
                    <a:lnTo>
                      <a:pt x="145" y="224"/>
                    </a:lnTo>
                    <a:lnTo>
                      <a:pt x="154" y="209"/>
                    </a:lnTo>
                    <a:lnTo>
                      <a:pt x="163" y="194"/>
                    </a:lnTo>
                    <a:lnTo>
                      <a:pt x="172" y="181"/>
                    </a:lnTo>
                    <a:lnTo>
                      <a:pt x="182" y="168"/>
                    </a:lnTo>
                    <a:lnTo>
                      <a:pt x="193" y="155"/>
                    </a:lnTo>
                    <a:lnTo>
                      <a:pt x="204" y="144"/>
                    </a:lnTo>
                    <a:lnTo>
                      <a:pt x="215" y="132"/>
                    </a:lnTo>
                    <a:lnTo>
                      <a:pt x="227" y="121"/>
                    </a:lnTo>
                    <a:lnTo>
                      <a:pt x="239" y="112"/>
                    </a:lnTo>
                    <a:lnTo>
                      <a:pt x="253" y="102"/>
                    </a:lnTo>
                    <a:lnTo>
                      <a:pt x="266" y="94"/>
                    </a:lnTo>
                    <a:lnTo>
                      <a:pt x="279" y="86"/>
                    </a:lnTo>
                    <a:lnTo>
                      <a:pt x="293" y="80"/>
                    </a:lnTo>
                    <a:lnTo>
                      <a:pt x="308" y="74"/>
                    </a:lnTo>
                    <a:lnTo>
                      <a:pt x="324" y="68"/>
                    </a:lnTo>
                    <a:lnTo>
                      <a:pt x="340" y="64"/>
                    </a:lnTo>
                    <a:lnTo>
                      <a:pt x="357" y="61"/>
                    </a:lnTo>
                    <a:lnTo>
                      <a:pt x="374" y="59"/>
                    </a:lnTo>
                    <a:lnTo>
                      <a:pt x="392" y="57"/>
                    </a:lnTo>
                    <a:lnTo>
                      <a:pt x="410" y="57"/>
                    </a:lnTo>
                    <a:lnTo>
                      <a:pt x="424" y="4"/>
                    </a:lnTo>
                    <a:lnTo>
                      <a:pt x="410" y="57"/>
                    </a:lnTo>
                    <a:lnTo>
                      <a:pt x="417" y="56"/>
                    </a:lnTo>
                    <a:lnTo>
                      <a:pt x="424" y="54"/>
                    </a:lnTo>
                    <a:lnTo>
                      <a:pt x="428" y="51"/>
                    </a:lnTo>
                    <a:lnTo>
                      <a:pt x="432" y="48"/>
                    </a:lnTo>
                    <a:lnTo>
                      <a:pt x="436" y="44"/>
                    </a:lnTo>
                    <a:lnTo>
                      <a:pt x="438" y="39"/>
                    </a:lnTo>
                    <a:lnTo>
                      <a:pt x="439" y="33"/>
                    </a:lnTo>
                    <a:lnTo>
                      <a:pt x="439" y="29"/>
                    </a:lnTo>
                    <a:lnTo>
                      <a:pt x="439" y="24"/>
                    </a:lnTo>
                    <a:lnTo>
                      <a:pt x="438" y="18"/>
                    </a:lnTo>
                    <a:lnTo>
                      <a:pt x="436" y="14"/>
                    </a:lnTo>
                    <a:lnTo>
                      <a:pt x="432" y="10"/>
                    </a:lnTo>
                    <a:lnTo>
                      <a:pt x="428" y="6"/>
                    </a:lnTo>
                    <a:lnTo>
                      <a:pt x="424" y="4"/>
                    </a:lnTo>
                    <a:lnTo>
                      <a:pt x="417" y="2"/>
                    </a:lnTo>
                    <a:lnTo>
                      <a:pt x="410" y="0"/>
                    </a:lnTo>
                    <a:lnTo>
                      <a:pt x="397" y="5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5" name=""/>
              <p:cNvSpPr/>
              <p:nvPr/>
            </p:nvSpPr>
            <p:spPr>
              <a:xfrm>
                <a:off x="2718360" y="3082320"/>
                <a:ext cx="60120" cy="109800"/>
              </a:xfrm>
              <a:custGeom>
                <a:avLst/>
                <a:gdLst/>
                <a:ahLst/>
                <a:rect l="l" t="t" r="r" b="b"/>
                <a:pathLst>
                  <a:path w="413" h="543">
                    <a:moveTo>
                      <a:pt x="166" y="52"/>
                    </a:moveTo>
                    <a:lnTo>
                      <a:pt x="155" y="15"/>
                    </a:lnTo>
                    <a:lnTo>
                      <a:pt x="120" y="76"/>
                    </a:lnTo>
                    <a:lnTo>
                      <a:pt x="89" y="128"/>
                    </a:lnTo>
                    <a:lnTo>
                      <a:pt x="61" y="170"/>
                    </a:lnTo>
                    <a:lnTo>
                      <a:pt x="39" y="206"/>
                    </a:lnTo>
                    <a:lnTo>
                      <a:pt x="29" y="223"/>
                    </a:lnTo>
                    <a:lnTo>
                      <a:pt x="20" y="238"/>
                    </a:lnTo>
                    <a:lnTo>
                      <a:pt x="12" y="252"/>
                    </a:lnTo>
                    <a:lnTo>
                      <a:pt x="7" y="266"/>
                    </a:lnTo>
                    <a:lnTo>
                      <a:pt x="2" y="281"/>
                    </a:lnTo>
                    <a:lnTo>
                      <a:pt x="0" y="294"/>
                    </a:lnTo>
                    <a:lnTo>
                      <a:pt x="1" y="309"/>
                    </a:lnTo>
                    <a:lnTo>
                      <a:pt x="5" y="324"/>
                    </a:lnTo>
                    <a:lnTo>
                      <a:pt x="12" y="337"/>
                    </a:lnTo>
                    <a:lnTo>
                      <a:pt x="21" y="350"/>
                    </a:lnTo>
                    <a:lnTo>
                      <a:pt x="32" y="360"/>
                    </a:lnTo>
                    <a:lnTo>
                      <a:pt x="45" y="371"/>
                    </a:lnTo>
                    <a:lnTo>
                      <a:pt x="60" y="380"/>
                    </a:lnTo>
                    <a:lnTo>
                      <a:pt x="77" y="390"/>
                    </a:lnTo>
                    <a:lnTo>
                      <a:pt x="96" y="400"/>
                    </a:lnTo>
                    <a:lnTo>
                      <a:pt x="118" y="411"/>
                    </a:lnTo>
                    <a:lnTo>
                      <a:pt x="228" y="465"/>
                    </a:lnTo>
                    <a:lnTo>
                      <a:pt x="386" y="543"/>
                    </a:lnTo>
                    <a:lnTo>
                      <a:pt x="413" y="494"/>
                    </a:lnTo>
                    <a:lnTo>
                      <a:pt x="254" y="415"/>
                    </a:lnTo>
                    <a:lnTo>
                      <a:pt x="143" y="362"/>
                    </a:lnTo>
                    <a:lnTo>
                      <a:pt x="123" y="352"/>
                    </a:lnTo>
                    <a:lnTo>
                      <a:pt x="106" y="342"/>
                    </a:lnTo>
                    <a:lnTo>
                      <a:pt x="91" y="334"/>
                    </a:lnTo>
                    <a:lnTo>
                      <a:pt x="79" y="326"/>
                    </a:lnTo>
                    <a:lnTo>
                      <a:pt x="70" y="319"/>
                    </a:lnTo>
                    <a:lnTo>
                      <a:pt x="64" y="313"/>
                    </a:lnTo>
                    <a:lnTo>
                      <a:pt x="61" y="308"/>
                    </a:lnTo>
                    <a:lnTo>
                      <a:pt x="58" y="305"/>
                    </a:lnTo>
                    <a:lnTo>
                      <a:pt x="58" y="301"/>
                    </a:lnTo>
                    <a:lnTo>
                      <a:pt x="57" y="298"/>
                    </a:lnTo>
                    <a:lnTo>
                      <a:pt x="58" y="292"/>
                    </a:lnTo>
                    <a:lnTo>
                      <a:pt x="61" y="284"/>
                    </a:lnTo>
                    <a:lnTo>
                      <a:pt x="65" y="274"/>
                    </a:lnTo>
                    <a:lnTo>
                      <a:pt x="70" y="264"/>
                    </a:lnTo>
                    <a:lnTo>
                      <a:pt x="78" y="250"/>
                    </a:lnTo>
                    <a:lnTo>
                      <a:pt x="87" y="235"/>
                    </a:lnTo>
                    <a:lnTo>
                      <a:pt x="110" y="200"/>
                    </a:lnTo>
                    <a:lnTo>
                      <a:pt x="137" y="156"/>
                    </a:lnTo>
                    <a:lnTo>
                      <a:pt x="170" y="104"/>
                    </a:lnTo>
                    <a:lnTo>
                      <a:pt x="205" y="40"/>
                    </a:lnTo>
                    <a:lnTo>
                      <a:pt x="194" y="3"/>
                    </a:lnTo>
                    <a:lnTo>
                      <a:pt x="205" y="40"/>
                    </a:lnTo>
                    <a:lnTo>
                      <a:pt x="208" y="34"/>
                    </a:lnTo>
                    <a:lnTo>
                      <a:pt x="209" y="28"/>
                    </a:lnTo>
                    <a:lnTo>
                      <a:pt x="209" y="23"/>
                    </a:lnTo>
                    <a:lnTo>
                      <a:pt x="208" y="18"/>
                    </a:lnTo>
                    <a:lnTo>
                      <a:pt x="205" y="14"/>
                    </a:lnTo>
                    <a:lnTo>
                      <a:pt x="202" y="9"/>
                    </a:lnTo>
                    <a:lnTo>
                      <a:pt x="198" y="6"/>
                    </a:lnTo>
                    <a:lnTo>
                      <a:pt x="193" y="3"/>
                    </a:lnTo>
                    <a:lnTo>
                      <a:pt x="188" y="1"/>
                    </a:lnTo>
                    <a:lnTo>
                      <a:pt x="183" y="0"/>
                    </a:lnTo>
                    <a:lnTo>
                      <a:pt x="178" y="0"/>
                    </a:lnTo>
                    <a:lnTo>
                      <a:pt x="172" y="0"/>
                    </a:lnTo>
                    <a:lnTo>
                      <a:pt x="167" y="2"/>
                    </a:lnTo>
                    <a:lnTo>
                      <a:pt x="163" y="5"/>
                    </a:lnTo>
                    <a:lnTo>
                      <a:pt x="158" y="9"/>
                    </a:lnTo>
                    <a:lnTo>
                      <a:pt x="155" y="15"/>
                    </a:lnTo>
                    <a:lnTo>
                      <a:pt x="166" y="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6" name=""/>
              <p:cNvSpPr/>
              <p:nvPr/>
            </p:nvSpPr>
            <p:spPr>
              <a:xfrm>
                <a:off x="2699280" y="2934360"/>
                <a:ext cx="47160" cy="157680"/>
              </a:xfrm>
              <a:custGeom>
                <a:avLst/>
                <a:gdLst/>
                <a:ahLst/>
                <a:rect l="l" t="t" r="r" b="b"/>
                <a:pathLst>
                  <a:path w="329" h="786">
                    <a:moveTo>
                      <a:pt x="34" y="0"/>
                    </a:moveTo>
                    <a:lnTo>
                      <a:pt x="28" y="25"/>
                    </a:lnTo>
                    <a:lnTo>
                      <a:pt x="22" y="50"/>
                    </a:lnTo>
                    <a:lnTo>
                      <a:pt x="17" y="76"/>
                    </a:lnTo>
                    <a:lnTo>
                      <a:pt x="12" y="102"/>
                    </a:lnTo>
                    <a:lnTo>
                      <a:pt x="8" y="129"/>
                    </a:lnTo>
                    <a:lnTo>
                      <a:pt x="6" y="155"/>
                    </a:lnTo>
                    <a:lnTo>
                      <a:pt x="3" y="182"/>
                    </a:lnTo>
                    <a:lnTo>
                      <a:pt x="2" y="209"/>
                    </a:lnTo>
                    <a:lnTo>
                      <a:pt x="0" y="236"/>
                    </a:lnTo>
                    <a:lnTo>
                      <a:pt x="2" y="263"/>
                    </a:lnTo>
                    <a:lnTo>
                      <a:pt x="2" y="291"/>
                    </a:lnTo>
                    <a:lnTo>
                      <a:pt x="4" y="318"/>
                    </a:lnTo>
                    <a:lnTo>
                      <a:pt x="7" y="345"/>
                    </a:lnTo>
                    <a:lnTo>
                      <a:pt x="11" y="373"/>
                    </a:lnTo>
                    <a:lnTo>
                      <a:pt x="16" y="399"/>
                    </a:lnTo>
                    <a:lnTo>
                      <a:pt x="22" y="427"/>
                    </a:lnTo>
                    <a:lnTo>
                      <a:pt x="30" y="453"/>
                    </a:lnTo>
                    <a:lnTo>
                      <a:pt x="39" y="478"/>
                    </a:lnTo>
                    <a:lnTo>
                      <a:pt x="48" y="505"/>
                    </a:lnTo>
                    <a:lnTo>
                      <a:pt x="60" y="530"/>
                    </a:lnTo>
                    <a:lnTo>
                      <a:pt x="72" y="556"/>
                    </a:lnTo>
                    <a:lnTo>
                      <a:pt x="85" y="580"/>
                    </a:lnTo>
                    <a:lnTo>
                      <a:pt x="100" y="604"/>
                    </a:lnTo>
                    <a:lnTo>
                      <a:pt x="117" y="628"/>
                    </a:lnTo>
                    <a:lnTo>
                      <a:pt x="134" y="650"/>
                    </a:lnTo>
                    <a:lnTo>
                      <a:pt x="154" y="672"/>
                    </a:lnTo>
                    <a:lnTo>
                      <a:pt x="174" y="694"/>
                    </a:lnTo>
                    <a:lnTo>
                      <a:pt x="197" y="714"/>
                    </a:lnTo>
                    <a:lnTo>
                      <a:pt x="220" y="733"/>
                    </a:lnTo>
                    <a:lnTo>
                      <a:pt x="246" y="752"/>
                    </a:lnTo>
                    <a:lnTo>
                      <a:pt x="272" y="769"/>
                    </a:lnTo>
                    <a:lnTo>
                      <a:pt x="301" y="786"/>
                    </a:lnTo>
                    <a:lnTo>
                      <a:pt x="329" y="737"/>
                    </a:lnTo>
                    <a:lnTo>
                      <a:pt x="303" y="722"/>
                    </a:lnTo>
                    <a:lnTo>
                      <a:pt x="279" y="706"/>
                    </a:lnTo>
                    <a:lnTo>
                      <a:pt x="256" y="690"/>
                    </a:lnTo>
                    <a:lnTo>
                      <a:pt x="235" y="672"/>
                    </a:lnTo>
                    <a:lnTo>
                      <a:pt x="214" y="654"/>
                    </a:lnTo>
                    <a:lnTo>
                      <a:pt x="196" y="635"/>
                    </a:lnTo>
                    <a:lnTo>
                      <a:pt x="179" y="615"/>
                    </a:lnTo>
                    <a:lnTo>
                      <a:pt x="163" y="595"/>
                    </a:lnTo>
                    <a:lnTo>
                      <a:pt x="148" y="574"/>
                    </a:lnTo>
                    <a:lnTo>
                      <a:pt x="135" y="553"/>
                    </a:lnTo>
                    <a:lnTo>
                      <a:pt x="122" y="530"/>
                    </a:lnTo>
                    <a:lnTo>
                      <a:pt x="111" y="508"/>
                    </a:lnTo>
                    <a:lnTo>
                      <a:pt x="101" y="485"/>
                    </a:lnTo>
                    <a:lnTo>
                      <a:pt x="93" y="462"/>
                    </a:lnTo>
                    <a:lnTo>
                      <a:pt x="85" y="437"/>
                    </a:lnTo>
                    <a:lnTo>
                      <a:pt x="78" y="413"/>
                    </a:lnTo>
                    <a:lnTo>
                      <a:pt x="73" y="388"/>
                    </a:lnTo>
                    <a:lnTo>
                      <a:pt x="67" y="364"/>
                    </a:lnTo>
                    <a:lnTo>
                      <a:pt x="64" y="339"/>
                    </a:lnTo>
                    <a:lnTo>
                      <a:pt x="61" y="313"/>
                    </a:lnTo>
                    <a:lnTo>
                      <a:pt x="60" y="288"/>
                    </a:lnTo>
                    <a:lnTo>
                      <a:pt x="59" y="262"/>
                    </a:lnTo>
                    <a:lnTo>
                      <a:pt x="59" y="237"/>
                    </a:lnTo>
                    <a:lnTo>
                      <a:pt x="59" y="211"/>
                    </a:lnTo>
                    <a:lnTo>
                      <a:pt x="61" y="186"/>
                    </a:lnTo>
                    <a:lnTo>
                      <a:pt x="63" y="161"/>
                    </a:lnTo>
                    <a:lnTo>
                      <a:pt x="65" y="135"/>
                    </a:lnTo>
                    <a:lnTo>
                      <a:pt x="69" y="111"/>
                    </a:lnTo>
                    <a:lnTo>
                      <a:pt x="74" y="86"/>
                    </a:lnTo>
                    <a:lnTo>
                      <a:pt x="78" y="61"/>
                    </a:lnTo>
                    <a:lnTo>
                      <a:pt x="84" y="38"/>
                    </a:lnTo>
                    <a:lnTo>
                      <a:pt x="90" y="14"/>
                    </a:lnTo>
                    <a:lnTo>
                      <a:pt x="34"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7" name=""/>
              <p:cNvSpPr/>
              <p:nvPr/>
            </p:nvSpPr>
            <p:spPr>
              <a:xfrm>
                <a:off x="2704320" y="2930400"/>
                <a:ext cx="7200" cy="6840"/>
              </a:xfrm>
              <a:custGeom>
                <a:avLst/>
                <a:gdLst/>
                <a:ahLst/>
                <a:rect l="l" t="t" r="r" b="b"/>
                <a:pathLst>
                  <a:path w="57" h="35">
                    <a:moveTo>
                      <a:pt x="56" y="35"/>
                    </a:moveTo>
                    <a:lnTo>
                      <a:pt x="57" y="28"/>
                    </a:lnTo>
                    <a:lnTo>
                      <a:pt x="56" y="23"/>
                    </a:lnTo>
                    <a:lnTo>
                      <a:pt x="55" y="17"/>
                    </a:lnTo>
                    <a:lnTo>
                      <a:pt x="53" y="13"/>
                    </a:lnTo>
                    <a:lnTo>
                      <a:pt x="50" y="9"/>
                    </a:lnTo>
                    <a:lnTo>
                      <a:pt x="45" y="6"/>
                    </a:lnTo>
                    <a:lnTo>
                      <a:pt x="41" y="3"/>
                    </a:lnTo>
                    <a:lnTo>
                      <a:pt x="35" y="1"/>
                    </a:lnTo>
                    <a:lnTo>
                      <a:pt x="30" y="0"/>
                    </a:lnTo>
                    <a:lnTo>
                      <a:pt x="25" y="0"/>
                    </a:lnTo>
                    <a:lnTo>
                      <a:pt x="20" y="1"/>
                    </a:lnTo>
                    <a:lnTo>
                      <a:pt x="15" y="3"/>
                    </a:lnTo>
                    <a:lnTo>
                      <a:pt x="10" y="6"/>
                    </a:lnTo>
                    <a:lnTo>
                      <a:pt x="6" y="10"/>
                    </a:lnTo>
                    <a:lnTo>
                      <a:pt x="3" y="14"/>
                    </a:lnTo>
                    <a:lnTo>
                      <a:pt x="0" y="21"/>
                    </a:lnTo>
                    <a:lnTo>
                      <a:pt x="56" y="35"/>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458" name=""/>
              <p:cNvSpPr/>
              <p:nvPr/>
            </p:nvSpPr>
            <p:spPr>
              <a:xfrm>
                <a:off x="2063160" y="1630800"/>
                <a:ext cx="729360" cy="419400"/>
              </a:xfrm>
              <a:custGeom>
                <a:avLst/>
                <a:gdLst/>
                <a:ahLst/>
                <a:rect l="l" t="t" r="r" b="b"/>
                <a:pathLst>
                  <a:path w="5061" h="2080">
                    <a:moveTo>
                      <a:pt x="4956" y="2020"/>
                    </a:moveTo>
                    <a:lnTo>
                      <a:pt x="4989" y="1766"/>
                    </a:lnTo>
                    <a:lnTo>
                      <a:pt x="5030" y="1459"/>
                    </a:lnTo>
                    <a:lnTo>
                      <a:pt x="5040" y="1377"/>
                    </a:lnTo>
                    <a:lnTo>
                      <a:pt x="5048" y="1294"/>
                    </a:lnTo>
                    <a:lnTo>
                      <a:pt x="5055" y="1209"/>
                    </a:lnTo>
                    <a:lnTo>
                      <a:pt x="5059" y="1126"/>
                    </a:lnTo>
                    <a:lnTo>
                      <a:pt x="5061" y="1041"/>
                    </a:lnTo>
                    <a:lnTo>
                      <a:pt x="5061" y="957"/>
                    </a:lnTo>
                    <a:lnTo>
                      <a:pt x="5057" y="873"/>
                    </a:lnTo>
                    <a:lnTo>
                      <a:pt x="5050" y="792"/>
                    </a:lnTo>
                    <a:lnTo>
                      <a:pt x="5040" y="712"/>
                    </a:lnTo>
                    <a:lnTo>
                      <a:pt x="5025" y="634"/>
                    </a:lnTo>
                    <a:lnTo>
                      <a:pt x="5006" y="559"/>
                    </a:lnTo>
                    <a:lnTo>
                      <a:pt x="4982" y="487"/>
                    </a:lnTo>
                    <a:lnTo>
                      <a:pt x="4954" y="417"/>
                    </a:lnTo>
                    <a:lnTo>
                      <a:pt x="4919" y="352"/>
                    </a:lnTo>
                    <a:lnTo>
                      <a:pt x="4878" y="291"/>
                    </a:lnTo>
                    <a:lnTo>
                      <a:pt x="4832" y="234"/>
                    </a:lnTo>
                    <a:lnTo>
                      <a:pt x="4778" y="182"/>
                    </a:lnTo>
                    <a:lnTo>
                      <a:pt x="4718" y="137"/>
                    </a:lnTo>
                    <a:lnTo>
                      <a:pt x="4651" y="97"/>
                    </a:lnTo>
                    <a:lnTo>
                      <a:pt x="4575" y="64"/>
                    </a:lnTo>
                    <a:lnTo>
                      <a:pt x="4492" y="36"/>
                    </a:lnTo>
                    <a:lnTo>
                      <a:pt x="4401" y="17"/>
                    </a:lnTo>
                    <a:lnTo>
                      <a:pt x="4301" y="4"/>
                    </a:lnTo>
                    <a:lnTo>
                      <a:pt x="4192" y="0"/>
                    </a:lnTo>
                    <a:lnTo>
                      <a:pt x="3733" y="0"/>
                    </a:lnTo>
                    <a:lnTo>
                      <a:pt x="3311" y="0"/>
                    </a:lnTo>
                    <a:lnTo>
                      <a:pt x="2913" y="0"/>
                    </a:lnTo>
                    <a:lnTo>
                      <a:pt x="2527" y="0"/>
                    </a:lnTo>
                    <a:lnTo>
                      <a:pt x="2141" y="0"/>
                    </a:lnTo>
                    <a:lnTo>
                      <a:pt x="1743" y="0"/>
                    </a:lnTo>
                    <a:lnTo>
                      <a:pt x="1321" y="0"/>
                    </a:lnTo>
                    <a:lnTo>
                      <a:pt x="862" y="0"/>
                    </a:lnTo>
                    <a:lnTo>
                      <a:pt x="755" y="4"/>
                    </a:lnTo>
                    <a:lnTo>
                      <a:pt x="657" y="16"/>
                    </a:lnTo>
                    <a:lnTo>
                      <a:pt x="567" y="36"/>
                    </a:lnTo>
                    <a:lnTo>
                      <a:pt x="485" y="63"/>
                    </a:lnTo>
                    <a:lnTo>
                      <a:pt x="412" y="97"/>
                    </a:lnTo>
                    <a:lnTo>
                      <a:pt x="345" y="136"/>
                    </a:lnTo>
                    <a:lnTo>
                      <a:pt x="286" y="181"/>
                    </a:lnTo>
                    <a:lnTo>
                      <a:pt x="233" y="232"/>
                    </a:lnTo>
                    <a:lnTo>
                      <a:pt x="187" y="288"/>
                    </a:lnTo>
                    <a:lnTo>
                      <a:pt x="146" y="350"/>
                    </a:lnTo>
                    <a:lnTo>
                      <a:pt x="112" y="415"/>
                    </a:lnTo>
                    <a:lnTo>
                      <a:pt x="83" y="483"/>
                    </a:lnTo>
                    <a:lnTo>
                      <a:pt x="59" y="555"/>
                    </a:lnTo>
                    <a:lnTo>
                      <a:pt x="39" y="631"/>
                    </a:lnTo>
                    <a:lnTo>
                      <a:pt x="25" y="708"/>
                    </a:lnTo>
                    <a:lnTo>
                      <a:pt x="13" y="788"/>
                    </a:lnTo>
                    <a:lnTo>
                      <a:pt x="6" y="869"/>
                    </a:lnTo>
                    <a:lnTo>
                      <a:pt x="2" y="952"/>
                    </a:lnTo>
                    <a:lnTo>
                      <a:pt x="0" y="1037"/>
                    </a:lnTo>
                    <a:lnTo>
                      <a:pt x="2" y="1120"/>
                    </a:lnTo>
                    <a:lnTo>
                      <a:pt x="5" y="1205"/>
                    </a:lnTo>
                    <a:lnTo>
                      <a:pt x="10" y="1289"/>
                    </a:lnTo>
                    <a:lnTo>
                      <a:pt x="18" y="1372"/>
                    </a:lnTo>
                    <a:lnTo>
                      <a:pt x="27" y="1454"/>
                    </a:lnTo>
                    <a:lnTo>
                      <a:pt x="66" y="1762"/>
                    </a:lnTo>
                    <a:lnTo>
                      <a:pt x="98" y="2020"/>
                    </a:lnTo>
                    <a:lnTo>
                      <a:pt x="441" y="2030"/>
                    </a:lnTo>
                    <a:lnTo>
                      <a:pt x="775" y="2041"/>
                    </a:lnTo>
                    <a:lnTo>
                      <a:pt x="1099" y="2051"/>
                    </a:lnTo>
                    <a:lnTo>
                      <a:pt x="1416" y="2059"/>
                    </a:lnTo>
                    <a:lnTo>
                      <a:pt x="1727" y="2067"/>
                    </a:lnTo>
                    <a:lnTo>
                      <a:pt x="2032" y="2072"/>
                    </a:lnTo>
                    <a:lnTo>
                      <a:pt x="2332" y="2076"/>
                    </a:lnTo>
                    <a:lnTo>
                      <a:pt x="2628" y="2079"/>
                    </a:lnTo>
                    <a:lnTo>
                      <a:pt x="2921" y="2080"/>
                    </a:lnTo>
                    <a:lnTo>
                      <a:pt x="3211" y="2078"/>
                    </a:lnTo>
                    <a:lnTo>
                      <a:pt x="3356" y="2077"/>
                    </a:lnTo>
                    <a:lnTo>
                      <a:pt x="3501" y="2075"/>
                    </a:lnTo>
                    <a:lnTo>
                      <a:pt x="3644" y="2073"/>
                    </a:lnTo>
                    <a:lnTo>
                      <a:pt x="3789" y="2070"/>
                    </a:lnTo>
                    <a:lnTo>
                      <a:pt x="3933" y="2065"/>
                    </a:lnTo>
                    <a:lnTo>
                      <a:pt x="4078" y="2061"/>
                    </a:lnTo>
                    <a:lnTo>
                      <a:pt x="4222" y="2056"/>
                    </a:lnTo>
                    <a:lnTo>
                      <a:pt x="4368" y="2051"/>
                    </a:lnTo>
                    <a:lnTo>
                      <a:pt x="4514" y="2043"/>
                    </a:lnTo>
                    <a:lnTo>
                      <a:pt x="4660" y="2037"/>
                    </a:lnTo>
                    <a:lnTo>
                      <a:pt x="4808" y="2028"/>
                    </a:lnTo>
                    <a:lnTo>
                      <a:pt x="4956" y="2020"/>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59" name=""/>
              <p:cNvSpPr/>
              <p:nvPr/>
            </p:nvSpPr>
            <p:spPr>
              <a:xfrm>
                <a:off x="2654640" y="1615680"/>
                <a:ext cx="149400" cy="423360"/>
              </a:xfrm>
              <a:custGeom>
                <a:avLst/>
                <a:gdLst/>
                <a:ahLst/>
                <a:rect l="l" t="t" r="r" b="b"/>
                <a:pathLst>
                  <a:path w="1043" h="2101">
                    <a:moveTo>
                      <a:pt x="87" y="150"/>
                    </a:moveTo>
                    <a:lnTo>
                      <a:pt x="138" y="152"/>
                    </a:lnTo>
                    <a:lnTo>
                      <a:pt x="189" y="155"/>
                    </a:lnTo>
                    <a:lnTo>
                      <a:pt x="236" y="159"/>
                    </a:lnTo>
                    <a:lnTo>
                      <a:pt x="280" y="165"/>
                    </a:lnTo>
                    <a:lnTo>
                      <a:pt x="322" y="174"/>
                    </a:lnTo>
                    <a:lnTo>
                      <a:pt x="362" y="183"/>
                    </a:lnTo>
                    <a:lnTo>
                      <a:pt x="400" y="195"/>
                    </a:lnTo>
                    <a:lnTo>
                      <a:pt x="435" y="208"/>
                    </a:lnTo>
                    <a:lnTo>
                      <a:pt x="469" y="221"/>
                    </a:lnTo>
                    <a:lnTo>
                      <a:pt x="502" y="237"/>
                    </a:lnTo>
                    <a:lnTo>
                      <a:pt x="532" y="253"/>
                    </a:lnTo>
                    <a:lnTo>
                      <a:pt x="560" y="271"/>
                    </a:lnTo>
                    <a:lnTo>
                      <a:pt x="588" y="290"/>
                    </a:lnTo>
                    <a:lnTo>
                      <a:pt x="613" y="312"/>
                    </a:lnTo>
                    <a:lnTo>
                      <a:pt x="636" y="334"/>
                    </a:lnTo>
                    <a:lnTo>
                      <a:pt x="659" y="356"/>
                    </a:lnTo>
                    <a:lnTo>
                      <a:pt x="681" y="380"/>
                    </a:lnTo>
                    <a:lnTo>
                      <a:pt x="701" y="406"/>
                    </a:lnTo>
                    <a:lnTo>
                      <a:pt x="719" y="433"/>
                    </a:lnTo>
                    <a:lnTo>
                      <a:pt x="737" y="461"/>
                    </a:lnTo>
                    <a:lnTo>
                      <a:pt x="753" y="491"/>
                    </a:lnTo>
                    <a:lnTo>
                      <a:pt x="769" y="520"/>
                    </a:lnTo>
                    <a:lnTo>
                      <a:pt x="782" y="552"/>
                    </a:lnTo>
                    <a:lnTo>
                      <a:pt x="795" y="584"/>
                    </a:lnTo>
                    <a:lnTo>
                      <a:pt x="806" y="618"/>
                    </a:lnTo>
                    <a:lnTo>
                      <a:pt x="817" y="652"/>
                    </a:lnTo>
                    <a:lnTo>
                      <a:pt x="827" y="687"/>
                    </a:lnTo>
                    <a:lnTo>
                      <a:pt x="836" y="723"/>
                    </a:lnTo>
                    <a:lnTo>
                      <a:pt x="842" y="760"/>
                    </a:lnTo>
                    <a:lnTo>
                      <a:pt x="849" y="797"/>
                    </a:lnTo>
                    <a:lnTo>
                      <a:pt x="854" y="835"/>
                    </a:lnTo>
                    <a:lnTo>
                      <a:pt x="860" y="874"/>
                    </a:lnTo>
                    <a:lnTo>
                      <a:pt x="863" y="913"/>
                    </a:lnTo>
                    <a:lnTo>
                      <a:pt x="866" y="953"/>
                    </a:lnTo>
                    <a:lnTo>
                      <a:pt x="868" y="993"/>
                    </a:lnTo>
                    <a:lnTo>
                      <a:pt x="870" y="1033"/>
                    </a:lnTo>
                    <a:lnTo>
                      <a:pt x="870" y="1074"/>
                    </a:lnTo>
                    <a:lnTo>
                      <a:pt x="870" y="1116"/>
                    </a:lnTo>
                    <a:lnTo>
                      <a:pt x="868" y="1157"/>
                    </a:lnTo>
                    <a:lnTo>
                      <a:pt x="867" y="1197"/>
                    </a:lnTo>
                    <a:lnTo>
                      <a:pt x="863" y="1281"/>
                    </a:lnTo>
                    <a:lnTo>
                      <a:pt x="856" y="1363"/>
                    </a:lnTo>
                    <a:lnTo>
                      <a:pt x="849" y="1445"/>
                    </a:lnTo>
                    <a:lnTo>
                      <a:pt x="840" y="1525"/>
                    </a:lnTo>
                    <a:lnTo>
                      <a:pt x="797" y="1832"/>
                    </a:lnTo>
                    <a:lnTo>
                      <a:pt x="764" y="2089"/>
                    </a:lnTo>
                    <a:lnTo>
                      <a:pt x="938" y="2101"/>
                    </a:lnTo>
                    <a:lnTo>
                      <a:pt x="970" y="1849"/>
                    </a:lnTo>
                    <a:lnTo>
                      <a:pt x="1012" y="1543"/>
                    </a:lnTo>
                    <a:lnTo>
                      <a:pt x="1021" y="1459"/>
                    </a:lnTo>
                    <a:lnTo>
                      <a:pt x="1030" y="1374"/>
                    </a:lnTo>
                    <a:lnTo>
                      <a:pt x="1036" y="1289"/>
                    </a:lnTo>
                    <a:lnTo>
                      <a:pt x="1041" y="1204"/>
                    </a:lnTo>
                    <a:lnTo>
                      <a:pt x="1042" y="1159"/>
                    </a:lnTo>
                    <a:lnTo>
                      <a:pt x="1043" y="1117"/>
                    </a:lnTo>
                    <a:lnTo>
                      <a:pt x="1043" y="1073"/>
                    </a:lnTo>
                    <a:lnTo>
                      <a:pt x="1043" y="1031"/>
                    </a:lnTo>
                    <a:lnTo>
                      <a:pt x="1041" y="988"/>
                    </a:lnTo>
                    <a:lnTo>
                      <a:pt x="1038" y="945"/>
                    </a:lnTo>
                    <a:lnTo>
                      <a:pt x="1036" y="903"/>
                    </a:lnTo>
                    <a:lnTo>
                      <a:pt x="1032" y="860"/>
                    </a:lnTo>
                    <a:lnTo>
                      <a:pt x="1026" y="818"/>
                    </a:lnTo>
                    <a:lnTo>
                      <a:pt x="1021" y="777"/>
                    </a:lnTo>
                    <a:lnTo>
                      <a:pt x="1013" y="735"/>
                    </a:lnTo>
                    <a:lnTo>
                      <a:pt x="1006" y="695"/>
                    </a:lnTo>
                    <a:lnTo>
                      <a:pt x="996" y="655"/>
                    </a:lnTo>
                    <a:lnTo>
                      <a:pt x="986" y="616"/>
                    </a:lnTo>
                    <a:lnTo>
                      <a:pt x="974" y="576"/>
                    </a:lnTo>
                    <a:lnTo>
                      <a:pt x="959" y="538"/>
                    </a:lnTo>
                    <a:lnTo>
                      <a:pt x="945" y="500"/>
                    </a:lnTo>
                    <a:lnTo>
                      <a:pt x="929" y="463"/>
                    </a:lnTo>
                    <a:lnTo>
                      <a:pt x="910" y="427"/>
                    </a:lnTo>
                    <a:lnTo>
                      <a:pt x="890" y="392"/>
                    </a:lnTo>
                    <a:lnTo>
                      <a:pt x="870" y="358"/>
                    </a:lnTo>
                    <a:lnTo>
                      <a:pt x="847" y="325"/>
                    </a:lnTo>
                    <a:lnTo>
                      <a:pt x="821" y="292"/>
                    </a:lnTo>
                    <a:lnTo>
                      <a:pt x="794" y="262"/>
                    </a:lnTo>
                    <a:lnTo>
                      <a:pt x="765" y="232"/>
                    </a:lnTo>
                    <a:lnTo>
                      <a:pt x="734" y="205"/>
                    </a:lnTo>
                    <a:lnTo>
                      <a:pt x="701" y="178"/>
                    </a:lnTo>
                    <a:lnTo>
                      <a:pt x="666" y="153"/>
                    </a:lnTo>
                    <a:lnTo>
                      <a:pt x="629" y="129"/>
                    </a:lnTo>
                    <a:lnTo>
                      <a:pt x="590" y="107"/>
                    </a:lnTo>
                    <a:lnTo>
                      <a:pt x="549" y="88"/>
                    </a:lnTo>
                    <a:lnTo>
                      <a:pt x="506" y="70"/>
                    </a:lnTo>
                    <a:lnTo>
                      <a:pt x="461" y="54"/>
                    </a:lnTo>
                    <a:lnTo>
                      <a:pt x="413" y="39"/>
                    </a:lnTo>
                    <a:lnTo>
                      <a:pt x="364" y="28"/>
                    </a:lnTo>
                    <a:lnTo>
                      <a:pt x="313" y="18"/>
                    </a:lnTo>
                    <a:lnTo>
                      <a:pt x="259" y="11"/>
                    </a:lnTo>
                    <a:lnTo>
                      <a:pt x="203" y="4"/>
                    </a:lnTo>
                    <a:lnTo>
                      <a:pt x="146" y="1"/>
                    </a:lnTo>
                    <a:lnTo>
                      <a:pt x="87" y="0"/>
                    </a:lnTo>
                    <a:lnTo>
                      <a:pt x="76" y="0"/>
                    </a:lnTo>
                    <a:lnTo>
                      <a:pt x="66" y="2"/>
                    </a:lnTo>
                    <a:lnTo>
                      <a:pt x="57" y="4"/>
                    </a:lnTo>
                    <a:lnTo>
                      <a:pt x="48" y="6"/>
                    </a:lnTo>
                    <a:lnTo>
                      <a:pt x="41" y="10"/>
                    </a:lnTo>
                    <a:lnTo>
                      <a:pt x="34" y="14"/>
                    </a:lnTo>
                    <a:lnTo>
                      <a:pt x="27" y="18"/>
                    </a:lnTo>
                    <a:lnTo>
                      <a:pt x="22" y="23"/>
                    </a:lnTo>
                    <a:lnTo>
                      <a:pt x="16" y="29"/>
                    </a:lnTo>
                    <a:lnTo>
                      <a:pt x="12" y="35"/>
                    </a:lnTo>
                    <a:lnTo>
                      <a:pt x="9" y="41"/>
                    </a:lnTo>
                    <a:lnTo>
                      <a:pt x="5" y="48"/>
                    </a:lnTo>
                    <a:lnTo>
                      <a:pt x="3" y="54"/>
                    </a:lnTo>
                    <a:lnTo>
                      <a:pt x="1" y="61"/>
                    </a:lnTo>
                    <a:lnTo>
                      <a:pt x="0" y="69"/>
                    </a:lnTo>
                    <a:lnTo>
                      <a:pt x="0" y="75"/>
                    </a:lnTo>
                    <a:lnTo>
                      <a:pt x="0" y="83"/>
                    </a:lnTo>
                    <a:lnTo>
                      <a:pt x="1" y="90"/>
                    </a:lnTo>
                    <a:lnTo>
                      <a:pt x="3" y="96"/>
                    </a:lnTo>
                    <a:lnTo>
                      <a:pt x="5" y="103"/>
                    </a:lnTo>
                    <a:lnTo>
                      <a:pt x="9" y="110"/>
                    </a:lnTo>
                    <a:lnTo>
                      <a:pt x="12" y="115"/>
                    </a:lnTo>
                    <a:lnTo>
                      <a:pt x="16" y="122"/>
                    </a:lnTo>
                    <a:lnTo>
                      <a:pt x="22" y="127"/>
                    </a:lnTo>
                    <a:lnTo>
                      <a:pt x="27" y="132"/>
                    </a:lnTo>
                    <a:lnTo>
                      <a:pt x="34" y="137"/>
                    </a:lnTo>
                    <a:lnTo>
                      <a:pt x="41" y="141"/>
                    </a:lnTo>
                    <a:lnTo>
                      <a:pt x="48" y="144"/>
                    </a:lnTo>
                    <a:lnTo>
                      <a:pt x="57" y="147"/>
                    </a:lnTo>
                    <a:lnTo>
                      <a:pt x="66" y="149"/>
                    </a:lnTo>
                    <a:lnTo>
                      <a:pt x="76" y="150"/>
                    </a:lnTo>
                    <a:lnTo>
                      <a:pt x="87" y="15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0" name=""/>
              <p:cNvSpPr/>
              <p:nvPr/>
            </p:nvSpPr>
            <p:spPr>
              <a:xfrm>
                <a:off x="2175480" y="1615680"/>
                <a:ext cx="491760" cy="28800"/>
              </a:xfrm>
              <a:custGeom>
                <a:avLst/>
                <a:gdLst/>
                <a:ahLst/>
                <a:rect l="l" t="t" r="r" b="b"/>
                <a:pathLst>
                  <a:path w="3416" h="150">
                    <a:moveTo>
                      <a:pt x="86" y="150"/>
                    </a:moveTo>
                    <a:lnTo>
                      <a:pt x="545" y="150"/>
                    </a:lnTo>
                    <a:lnTo>
                      <a:pt x="967" y="150"/>
                    </a:lnTo>
                    <a:lnTo>
                      <a:pt x="1365" y="150"/>
                    </a:lnTo>
                    <a:lnTo>
                      <a:pt x="1751" y="150"/>
                    </a:lnTo>
                    <a:lnTo>
                      <a:pt x="2137" y="150"/>
                    </a:lnTo>
                    <a:lnTo>
                      <a:pt x="2535" y="150"/>
                    </a:lnTo>
                    <a:lnTo>
                      <a:pt x="2957" y="150"/>
                    </a:lnTo>
                    <a:lnTo>
                      <a:pt x="3416" y="150"/>
                    </a:lnTo>
                    <a:lnTo>
                      <a:pt x="3416" y="0"/>
                    </a:lnTo>
                    <a:lnTo>
                      <a:pt x="2957" y="0"/>
                    </a:lnTo>
                    <a:lnTo>
                      <a:pt x="2535" y="0"/>
                    </a:lnTo>
                    <a:lnTo>
                      <a:pt x="2137" y="0"/>
                    </a:lnTo>
                    <a:lnTo>
                      <a:pt x="1751" y="0"/>
                    </a:lnTo>
                    <a:lnTo>
                      <a:pt x="1365" y="0"/>
                    </a:lnTo>
                    <a:lnTo>
                      <a:pt x="967" y="0"/>
                    </a:lnTo>
                    <a:lnTo>
                      <a:pt x="545" y="0"/>
                    </a:lnTo>
                    <a:lnTo>
                      <a:pt x="86" y="0"/>
                    </a:lnTo>
                    <a:lnTo>
                      <a:pt x="75" y="0"/>
                    </a:lnTo>
                    <a:lnTo>
                      <a:pt x="66" y="2"/>
                    </a:lnTo>
                    <a:lnTo>
                      <a:pt x="57" y="4"/>
                    </a:lnTo>
                    <a:lnTo>
                      <a:pt x="48" y="6"/>
                    </a:lnTo>
                    <a:lnTo>
                      <a:pt x="40" y="10"/>
                    </a:lnTo>
                    <a:lnTo>
                      <a:pt x="34" y="14"/>
                    </a:lnTo>
                    <a:lnTo>
                      <a:pt x="27" y="18"/>
                    </a:lnTo>
                    <a:lnTo>
                      <a:pt x="21" y="23"/>
                    </a:lnTo>
                    <a:lnTo>
                      <a:pt x="16" y="29"/>
                    </a:lnTo>
                    <a:lnTo>
                      <a:pt x="12" y="35"/>
                    </a:lnTo>
                    <a:lnTo>
                      <a:pt x="7" y="41"/>
                    </a:lnTo>
                    <a:lnTo>
                      <a:pt x="5" y="48"/>
                    </a:lnTo>
                    <a:lnTo>
                      <a:pt x="2" y="54"/>
                    </a:lnTo>
                    <a:lnTo>
                      <a:pt x="1" y="61"/>
                    </a:lnTo>
                    <a:lnTo>
                      <a:pt x="0" y="69"/>
                    </a:lnTo>
                    <a:lnTo>
                      <a:pt x="0" y="75"/>
                    </a:lnTo>
                    <a:lnTo>
                      <a:pt x="0" y="83"/>
                    </a:lnTo>
                    <a:lnTo>
                      <a:pt x="1" y="90"/>
                    </a:lnTo>
                    <a:lnTo>
                      <a:pt x="2" y="96"/>
                    </a:lnTo>
                    <a:lnTo>
                      <a:pt x="5" y="103"/>
                    </a:lnTo>
                    <a:lnTo>
                      <a:pt x="7" y="110"/>
                    </a:lnTo>
                    <a:lnTo>
                      <a:pt x="12" y="115"/>
                    </a:lnTo>
                    <a:lnTo>
                      <a:pt x="16" y="122"/>
                    </a:lnTo>
                    <a:lnTo>
                      <a:pt x="21" y="127"/>
                    </a:lnTo>
                    <a:lnTo>
                      <a:pt x="27" y="132"/>
                    </a:lnTo>
                    <a:lnTo>
                      <a:pt x="34" y="137"/>
                    </a:lnTo>
                    <a:lnTo>
                      <a:pt x="40" y="141"/>
                    </a:lnTo>
                    <a:lnTo>
                      <a:pt x="48" y="144"/>
                    </a:lnTo>
                    <a:lnTo>
                      <a:pt x="57" y="147"/>
                    </a:lnTo>
                    <a:lnTo>
                      <a:pt x="66" y="149"/>
                    </a:lnTo>
                    <a:lnTo>
                      <a:pt x="75" y="150"/>
                    </a:lnTo>
                    <a:lnTo>
                      <a:pt x="86" y="150"/>
                    </a:lnTo>
                    <a:close/>
                  </a:path>
                </a:pathLst>
              </a:custGeom>
              <a:solidFill>
                <a:srgbClr val="000000"/>
              </a:solidFill>
              <a:ln w="0">
                <a:noFill/>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461" name=""/>
              <p:cNvSpPr/>
              <p:nvPr/>
            </p:nvSpPr>
            <p:spPr>
              <a:xfrm>
                <a:off x="2051640" y="1615680"/>
                <a:ext cx="135360" cy="437400"/>
              </a:xfrm>
              <a:custGeom>
                <a:avLst/>
                <a:gdLst/>
                <a:ahLst/>
                <a:rect l="l" t="t" r="r" b="b"/>
                <a:pathLst>
                  <a:path w="948" h="2170">
                    <a:moveTo>
                      <a:pt x="187" y="2019"/>
                    </a:moveTo>
                    <a:lnTo>
                      <a:pt x="271" y="2089"/>
                    </a:lnTo>
                    <a:lnTo>
                      <a:pt x="238" y="1829"/>
                    </a:lnTo>
                    <a:lnTo>
                      <a:pt x="198" y="1522"/>
                    </a:lnTo>
                    <a:lnTo>
                      <a:pt x="191" y="1441"/>
                    </a:lnTo>
                    <a:lnTo>
                      <a:pt x="183" y="1358"/>
                    </a:lnTo>
                    <a:lnTo>
                      <a:pt x="178" y="1276"/>
                    </a:lnTo>
                    <a:lnTo>
                      <a:pt x="174" y="1193"/>
                    </a:lnTo>
                    <a:lnTo>
                      <a:pt x="173" y="1152"/>
                    </a:lnTo>
                    <a:lnTo>
                      <a:pt x="173" y="1112"/>
                    </a:lnTo>
                    <a:lnTo>
                      <a:pt x="173" y="1070"/>
                    </a:lnTo>
                    <a:lnTo>
                      <a:pt x="174" y="1029"/>
                    </a:lnTo>
                    <a:lnTo>
                      <a:pt x="175" y="989"/>
                    </a:lnTo>
                    <a:lnTo>
                      <a:pt x="179" y="948"/>
                    </a:lnTo>
                    <a:lnTo>
                      <a:pt x="182" y="909"/>
                    </a:lnTo>
                    <a:lnTo>
                      <a:pt x="185" y="870"/>
                    </a:lnTo>
                    <a:lnTo>
                      <a:pt x="191" y="832"/>
                    </a:lnTo>
                    <a:lnTo>
                      <a:pt x="196" y="794"/>
                    </a:lnTo>
                    <a:lnTo>
                      <a:pt x="203" y="757"/>
                    </a:lnTo>
                    <a:lnTo>
                      <a:pt x="210" y="719"/>
                    </a:lnTo>
                    <a:lnTo>
                      <a:pt x="219" y="683"/>
                    </a:lnTo>
                    <a:lnTo>
                      <a:pt x="229" y="648"/>
                    </a:lnTo>
                    <a:lnTo>
                      <a:pt x="239" y="615"/>
                    </a:lnTo>
                    <a:lnTo>
                      <a:pt x="251" y="582"/>
                    </a:lnTo>
                    <a:lnTo>
                      <a:pt x="264" y="549"/>
                    </a:lnTo>
                    <a:lnTo>
                      <a:pt x="278" y="518"/>
                    </a:lnTo>
                    <a:lnTo>
                      <a:pt x="294" y="488"/>
                    </a:lnTo>
                    <a:lnTo>
                      <a:pt x="309" y="459"/>
                    </a:lnTo>
                    <a:lnTo>
                      <a:pt x="327" y="431"/>
                    </a:lnTo>
                    <a:lnTo>
                      <a:pt x="345" y="405"/>
                    </a:lnTo>
                    <a:lnTo>
                      <a:pt x="366" y="379"/>
                    </a:lnTo>
                    <a:lnTo>
                      <a:pt x="387" y="355"/>
                    </a:lnTo>
                    <a:lnTo>
                      <a:pt x="409" y="332"/>
                    </a:lnTo>
                    <a:lnTo>
                      <a:pt x="433" y="310"/>
                    </a:lnTo>
                    <a:lnTo>
                      <a:pt x="458" y="289"/>
                    </a:lnTo>
                    <a:lnTo>
                      <a:pt x="485" y="270"/>
                    </a:lnTo>
                    <a:lnTo>
                      <a:pt x="512" y="252"/>
                    </a:lnTo>
                    <a:lnTo>
                      <a:pt x="543" y="236"/>
                    </a:lnTo>
                    <a:lnTo>
                      <a:pt x="573" y="220"/>
                    </a:lnTo>
                    <a:lnTo>
                      <a:pt x="607" y="207"/>
                    </a:lnTo>
                    <a:lnTo>
                      <a:pt x="642" y="194"/>
                    </a:lnTo>
                    <a:lnTo>
                      <a:pt x="679" y="183"/>
                    </a:lnTo>
                    <a:lnTo>
                      <a:pt x="718" y="174"/>
                    </a:lnTo>
                    <a:lnTo>
                      <a:pt x="760" y="165"/>
                    </a:lnTo>
                    <a:lnTo>
                      <a:pt x="803" y="159"/>
                    </a:lnTo>
                    <a:lnTo>
                      <a:pt x="849" y="155"/>
                    </a:lnTo>
                    <a:lnTo>
                      <a:pt x="897" y="152"/>
                    </a:lnTo>
                    <a:lnTo>
                      <a:pt x="948" y="150"/>
                    </a:lnTo>
                    <a:lnTo>
                      <a:pt x="948" y="0"/>
                    </a:lnTo>
                    <a:lnTo>
                      <a:pt x="890" y="1"/>
                    </a:lnTo>
                    <a:lnTo>
                      <a:pt x="833" y="4"/>
                    </a:lnTo>
                    <a:lnTo>
                      <a:pt x="780" y="10"/>
                    </a:lnTo>
                    <a:lnTo>
                      <a:pt x="727" y="18"/>
                    </a:lnTo>
                    <a:lnTo>
                      <a:pt x="676" y="28"/>
                    </a:lnTo>
                    <a:lnTo>
                      <a:pt x="627" y="39"/>
                    </a:lnTo>
                    <a:lnTo>
                      <a:pt x="581" y="53"/>
                    </a:lnTo>
                    <a:lnTo>
                      <a:pt x="536" y="69"/>
                    </a:lnTo>
                    <a:lnTo>
                      <a:pt x="493" y="87"/>
                    </a:lnTo>
                    <a:lnTo>
                      <a:pt x="453" y="107"/>
                    </a:lnTo>
                    <a:lnTo>
                      <a:pt x="414" y="128"/>
                    </a:lnTo>
                    <a:lnTo>
                      <a:pt x="378" y="152"/>
                    </a:lnTo>
                    <a:lnTo>
                      <a:pt x="343" y="177"/>
                    </a:lnTo>
                    <a:lnTo>
                      <a:pt x="311" y="203"/>
                    </a:lnTo>
                    <a:lnTo>
                      <a:pt x="281" y="231"/>
                    </a:lnTo>
                    <a:lnTo>
                      <a:pt x="252" y="261"/>
                    </a:lnTo>
                    <a:lnTo>
                      <a:pt x="225" y="291"/>
                    </a:lnTo>
                    <a:lnTo>
                      <a:pt x="199" y="323"/>
                    </a:lnTo>
                    <a:lnTo>
                      <a:pt x="178" y="356"/>
                    </a:lnTo>
                    <a:lnTo>
                      <a:pt x="156" y="390"/>
                    </a:lnTo>
                    <a:lnTo>
                      <a:pt x="136" y="425"/>
                    </a:lnTo>
                    <a:lnTo>
                      <a:pt x="118" y="461"/>
                    </a:lnTo>
                    <a:lnTo>
                      <a:pt x="102" y="497"/>
                    </a:lnTo>
                    <a:lnTo>
                      <a:pt x="86" y="535"/>
                    </a:lnTo>
                    <a:lnTo>
                      <a:pt x="73" y="573"/>
                    </a:lnTo>
                    <a:lnTo>
                      <a:pt x="61" y="611"/>
                    </a:lnTo>
                    <a:lnTo>
                      <a:pt x="50" y="651"/>
                    </a:lnTo>
                    <a:lnTo>
                      <a:pt x="40" y="691"/>
                    </a:lnTo>
                    <a:lnTo>
                      <a:pt x="32" y="731"/>
                    </a:lnTo>
                    <a:lnTo>
                      <a:pt x="24" y="772"/>
                    </a:lnTo>
                    <a:lnTo>
                      <a:pt x="19" y="814"/>
                    </a:lnTo>
                    <a:lnTo>
                      <a:pt x="13" y="855"/>
                    </a:lnTo>
                    <a:lnTo>
                      <a:pt x="9" y="898"/>
                    </a:lnTo>
                    <a:lnTo>
                      <a:pt x="5" y="940"/>
                    </a:lnTo>
                    <a:lnTo>
                      <a:pt x="3" y="982"/>
                    </a:lnTo>
                    <a:lnTo>
                      <a:pt x="1" y="1026"/>
                    </a:lnTo>
                    <a:lnTo>
                      <a:pt x="0" y="1068"/>
                    </a:lnTo>
                    <a:lnTo>
                      <a:pt x="0" y="1112"/>
                    </a:lnTo>
                    <a:lnTo>
                      <a:pt x="0" y="1154"/>
                    </a:lnTo>
                    <a:lnTo>
                      <a:pt x="1" y="1197"/>
                    </a:lnTo>
                    <a:lnTo>
                      <a:pt x="4" y="1283"/>
                    </a:lnTo>
                    <a:lnTo>
                      <a:pt x="11" y="1369"/>
                    </a:lnTo>
                    <a:lnTo>
                      <a:pt x="17" y="1453"/>
                    </a:lnTo>
                    <a:lnTo>
                      <a:pt x="26" y="1538"/>
                    </a:lnTo>
                    <a:lnTo>
                      <a:pt x="66" y="1846"/>
                    </a:lnTo>
                    <a:lnTo>
                      <a:pt x="97" y="2100"/>
                    </a:lnTo>
                    <a:lnTo>
                      <a:pt x="181" y="2170"/>
                    </a:lnTo>
                    <a:lnTo>
                      <a:pt x="97" y="2101"/>
                    </a:lnTo>
                    <a:lnTo>
                      <a:pt x="100" y="2110"/>
                    </a:lnTo>
                    <a:lnTo>
                      <a:pt x="102" y="2118"/>
                    </a:lnTo>
                    <a:lnTo>
                      <a:pt x="104" y="2126"/>
                    </a:lnTo>
                    <a:lnTo>
                      <a:pt x="108" y="2133"/>
                    </a:lnTo>
                    <a:lnTo>
                      <a:pt x="113" y="2139"/>
                    </a:lnTo>
                    <a:lnTo>
                      <a:pt x="118" y="2146"/>
                    </a:lnTo>
                    <a:lnTo>
                      <a:pt x="124" y="2151"/>
                    </a:lnTo>
                    <a:lnTo>
                      <a:pt x="130" y="2155"/>
                    </a:lnTo>
                    <a:lnTo>
                      <a:pt x="137" y="2160"/>
                    </a:lnTo>
                    <a:lnTo>
                      <a:pt x="144" y="2163"/>
                    </a:lnTo>
                    <a:lnTo>
                      <a:pt x="151" y="2165"/>
                    </a:lnTo>
                    <a:lnTo>
                      <a:pt x="159" y="2167"/>
                    </a:lnTo>
                    <a:lnTo>
                      <a:pt x="167" y="2169"/>
                    </a:lnTo>
                    <a:lnTo>
                      <a:pt x="175" y="2170"/>
                    </a:lnTo>
                    <a:lnTo>
                      <a:pt x="183" y="2170"/>
                    </a:lnTo>
                    <a:lnTo>
                      <a:pt x="192" y="2170"/>
                    </a:lnTo>
                    <a:lnTo>
                      <a:pt x="199" y="2169"/>
                    </a:lnTo>
                    <a:lnTo>
                      <a:pt x="207" y="2167"/>
                    </a:lnTo>
                    <a:lnTo>
                      <a:pt x="215" y="2166"/>
                    </a:lnTo>
                    <a:lnTo>
                      <a:pt x="222" y="2163"/>
                    </a:lnTo>
                    <a:lnTo>
                      <a:pt x="230" y="2160"/>
                    </a:lnTo>
                    <a:lnTo>
                      <a:pt x="237" y="2156"/>
                    </a:lnTo>
                    <a:lnTo>
                      <a:pt x="243" y="2152"/>
                    </a:lnTo>
                    <a:lnTo>
                      <a:pt x="249" y="2147"/>
                    </a:lnTo>
                    <a:lnTo>
                      <a:pt x="254" y="2142"/>
                    </a:lnTo>
                    <a:lnTo>
                      <a:pt x="259" y="2135"/>
                    </a:lnTo>
                    <a:lnTo>
                      <a:pt x="263" y="2129"/>
                    </a:lnTo>
                    <a:lnTo>
                      <a:pt x="266" y="2121"/>
                    </a:lnTo>
                    <a:lnTo>
                      <a:pt x="269" y="2114"/>
                    </a:lnTo>
                    <a:lnTo>
                      <a:pt x="271" y="2107"/>
                    </a:lnTo>
                    <a:lnTo>
                      <a:pt x="271" y="2097"/>
                    </a:lnTo>
                    <a:lnTo>
                      <a:pt x="271" y="2089"/>
                    </a:lnTo>
                    <a:lnTo>
                      <a:pt x="187" y="20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2" name=""/>
              <p:cNvSpPr/>
              <p:nvPr/>
            </p:nvSpPr>
            <p:spPr>
              <a:xfrm>
                <a:off x="2077200" y="2022480"/>
                <a:ext cx="712440" cy="43200"/>
              </a:xfrm>
              <a:custGeom>
                <a:avLst/>
                <a:gdLst/>
                <a:ahLst/>
                <a:rect l="l" t="t" r="r" b="b"/>
                <a:pathLst>
                  <a:path w="4948" h="212">
                    <a:moveTo>
                      <a:pt x="4774" y="70"/>
                    </a:moveTo>
                    <a:lnTo>
                      <a:pt x="4854" y="0"/>
                    </a:lnTo>
                    <a:lnTo>
                      <a:pt x="4707" y="9"/>
                    </a:lnTo>
                    <a:lnTo>
                      <a:pt x="4560" y="18"/>
                    </a:lnTo>
                    <a:lnTo>
                      <a:pt x="4415" y="25"/>
                    </a:lnTo>
                    <a:lnTo>
                      <a:pt x="4269" y="31"/>
                    </a:lnTo>
                    <a:lnTo>
                      <a:pt x="4124" y="37"/>
                    </a:lnTo>
                    <a:lnTo>
                      <a:pt x="3979" y="42"/>
                    </a:lnTo>
                    <a:lnTo>
                      <a:pt x="3836" y="46"/>
                    </a:lnTo>
                    <a:lnTo>
                      <a:pt x="3692" y="50"/>
                    </a:lnTo>
                    <a:lnTo>
                      <a:pt x="3548" y="54"/>
                    </a:lnTo>
                    <a:lnTo>
                      <a:pt x="3404" y="56"/>
                    </a:lnTo>
                    <a:lnTo>
                      <a:pt x="3260" y="58"/>
                    </a:lnTo>
                    <a:lnTo>
                      <a:pt x="3116" y="59"/>
                    </a:lnTo>
                    <a:lnTo>
                      <a:pt x="2826" y="60"/>
                    </a:lnTo>
                    <a:lnTo>
                      <a:pt x="2533" y="60"/>
                    </a:lnTo>
                    <a:lnTo>
                      <a:pt x="2238" y="57"/>
                    </a:lnTo>
                    <a:lnTo>
                      <a:pt x="1939" y="53"/>
                    </a:lnTo>
                    <a:lnTo>
                      <a:pt x="1634" y="47"/>
                    </a:lnTo>
                    <a:lnTo>
                      <a:pt x="1323" y="40"/>
                    </a:lnTo>
                    <a:lnTo>
                      <a:pt x="1006" y="31"/>
                    </a:lnTo>
                    <a:lnTo>
                      <a:pt x="682" y="22"/>
                    </a:lnTo>
                    <a:lnTo>
                      <a:pt x="349" y="11"/>
                    </a:lnTo>
                    <a:lnTo>
                      <a:pt x="6" y="0"/>
                    </a:lnTo>
                    <a:lnTo>
                      <a:pt x="0" y="151"/>
                    </a:lnTo>
                    <a:lnTo>
                      <a:pt x="343" y="162"/>
                    </a:lnTo>
                    <a:lnTo>
                      <a:pt x="676" y="172"/>
                    </a:lnTo>
                    <a:lnTo>
                      <a:pt x="1001" y="182"/>
                    </a:lnTo>
                    <a:lnTo>
                      <a:pt x="1319" y="190"/>
                    </a:lnTo>
                    <a:lnTo>
                      <a:pt x="1630" y="198"/>
                    </a:lnTo>
                    <a:lnTo>
                      <a:pt x="1935" y="203"/>
                    </a:lnTo>
                    <a:lnTo>
                      <a:pt x="2236" y="207"/>
                    </a:lnTo>
                    <a:lnTo>
                      <a:pt x="2533" y="210"/>
                    </a:lnTo>
                    <a:lnTo>
                      <a:pt x="2826" y="212"/>
                    </a:lnTo>
                    <a:lnTo>
                      <a:pt x="3116" y="210"/>
                    </a:lnTo>
                    <a:lnTo>
                      <a:pt x="3262" y="208"/>
                    </a:lnTo>
                    <a:lnTo>
                      <a:pt x="3407" y="206"/>
                    </a:lnTo>
                    <a:lnTo>
                      <a:pt x="3552" y="204"/>
                    </a:lnTo>
                    <a:lnTo>
                      <a:pt x="3696" y="201"/>
                    </a:lnTo>
                    <a:lnTo>
                      <a:pt x="3841" y="197"/>
                    </a:lnTo>
                    <a:lnTo>
                      <a:pt x="3986" y="192"/>
                    </a:lnTo>
                    <a:lnTo>
                      <a:pt x="4132" y="187"/>
                    </a:lnTo>
                    <a:lnTo>
                      <a:pt x="4278" y="182"/>
                    </a:lnTo>
                    <a:lnTo>
                      <a:pt x="4423" y="174"/>
                    </a:lnTo>
                    <a:lnTo>
                      <a:pt x="4570" y="168"/>
                    </a:lnTo>
                    <a:lnTo>
                      <a:pt x="4718" y="160"/>
                    </a:lnTo>
                    <a:lnTo>
                      <a:pt x="4866" y="151"/>
                    </a:lnTo>
                    <a:lnTo>
                      <a:pt x="4948" y="82"/>
                    </a:lnTo>
                    <a:lnTo>
                      <a:pt x="4866" y="151"/>
                    </a:lnTo>
                    <a:lnTo>
                      <a:pt x="4877" y="150"/>
                    </a:lnTo>
                    <a:lnTo>
                      <a:pt x="4887" y="148"/>
                    </a:lnTo>
                    <a:lnTo>
                      <a:pt x="4896" y="145"/>
                    </a:lnTo>
                    <a:lnTo>
                      <a:pt x="4904" y="142"/>
                    </a:lnTo>
                    <a:lnTo>
                      <a:pt x="4911" y="138"/>
                    </a:lnTo>
                    <a:lnTo>
                      <a:pt x="4918" y="134"/>
                    </a:lnTo>
                    <a:lnTo>
                      <a:pt x="4925" y="129"/>
                    </a:lnTo>
                    <a:lnTo>
                      <a:pt x="4930" y="124"/>
                    </a:lnTo>
                    <a:lnTo>
                      <a:pt x="4934" y="117"/>
                    </a:lnTo>
                    <a:lnTo>
                      <a:pt x="4938" y="111"/>
                    </a:lnTo>
                    <a:lnTo>
                      <a:pt x="4941" y="104"/>
                    </a:lnTo>
                    <a:lnTo>
                      <a:pt x="4944" y="98"/>
                    </a:lnTo>
                    <a:lnTo>
                      <a:pt x="4945" y="92"/>
                    </a:lnTo>
                    <a:lnTo>
                      <a:pt x="4946" y="84"/>
                    </a:lnTo>
                    <a:lnTo>
                      <a:pt x="4948" y="77"/>
                    </a:lnTo>
                    <a:lnTo>
                      <a:pt x="4948" y="71"/>
                    </a:lnTo>
                    <a:lnTo>
                      <a:pt x="4946" y="63"/>
                    </a:lnTo>
                    <a:lnTo>
                      <a:pt x="4944" y="57"/>
                    </a:lnTo>
                    <a:lnTo>
                      <a:pt x="4942" y="49"/>
                    </a:lnTo>
                    <a:lnTo>
                      <a:pt x="4940" y="43"/>
                    </a:lnTo>
                    <a:lnTo>
                      <a:pt x="4935" y="37"/>
                    </a:lnTo>
                    <a:lnTo>
                      <a:pt x="4931" y="30"/>
                    </a:lnTo>
                    <a:lnTo>
                      <a:pt x="4927" y="25"/>
                    </a:lnTo>
                    <a:lnTo>
                      <a:pt x="4921" y="20"/>
                    </a:lnTo>
                    <a:lnTo>
                      <a:pt x="4915" y="15"/>
                    </a:lnTo>
                    <a:lnTo>
                      <a:pt x="4908" y="11"/>
                    </a:lnTo>
                    <a:lnTo>
                      <a:pt x="4900" y="7"/>
                    </a:lnTo>
                    <a:lnTo>
                      <a:pt x="4893" y="5"/>
                    </a:lnTo>
                    <a:lnTo>
                      <a:pt x="4884" y="3"/>
                    </a:lnTo>
                    <a:lnTo>
                      <a:pt x="4875" y="1"/>
                    </a:lnTo>
                    <a:lnTo>
                      <a:pt x="4865" y="1"/>
                    </a:lnTo>
                    <a:lnTo>
                      <a:pt x="4854" y="1"/>
                    </a:lnTo>
                    <a:lnTo>
                      <a:pt x="4774" y="70"/>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463" name=""/>
              <p:cNvSpPr/>
              <p:nvPr/>
            </p:nvSpPr>
            <p:spPr>
              <a:xfrm>
                <a:off x="2064600" y="1622520"/>
                <a:ext cx="723960" cy="326160"/>
              </a:xfrm>
              <a:custGeom>
                <a:avLst/>
                <a:gdLst/>
                <a:ahLst/>
                <a:rect l="l" t="t" r="r" b="b"/>
                <a:pathLst>
                  <a:path w="5030" h="1615">
                    <a:moveTo>
                      <a:pt x="151" y="510"/>
                    </a:moveTo>
                    <a:lnTo>
                      <a:pt x="4885" y="691"/>
                    </a:lnTo>
                    <a:lnTo>
                      <a:pt x="4902" y="665"/>
                    </a:lnTo>
                    <a:lnTo>
                      <a:pt x="4916" y="640"/>
                    </a:lnTo>
                    <a:lnTo>
                      <a:pt x="4928" y="615"/>
                    </a:lnTo>
                    <a:lnTo>
                      <a:pt x="4938" y="589"/>
                    </a:lnTo>
                    <a:lnTo>
                      <a:pt x="4946" y="563"/>
                    </a:lnTo>
                    <a:lnTo>
                      <a:pt x="4950" y="536"/>
                    </a:lnTo>
                    <a:lnTo>
                      <a:pt x="4953" y="510"/>
                    </a:lnTo>
                    <a:lnTo>
                      <a:pt x="4953" y="483"/>
                    </a:lnTo>
                    <a:lnTo>
                      <a:pt x="4952" y="457"/>
                    </a:lnTo>
                    <a:lnTo>
                      <a:pt x="4949" y="431"/>
                    </a:lnTo>
                    <a:lnTo>
                      <a:pt x="4944" y="405"/>
                    </a:lnTo>
                    <a:lnTo>
                      <a:pt x="4936" y="379"/>
                    </a:lnTo>
                    <a:lnTo>
                      <a:pt x="4926" y="354"/>
                    </a:lnTo>
                    <a:lnTo>
                      <a:pt x="4915" y="330"/>
                    </a:lnTo>
                    <a:lnTo>
                      <a:pt x="4902" y="305"/>
                    </a:lnTo>
                    <a:lnTo>
                      <a:pt x="4887" y="281"/>
                    </a:lnTo>
                    <a:lnTo>
                      <a:pt x="4870" y="258"/>
                    </a:lnTo>
                    <a:lnTo>
                      <a:pt x="4851" y="235"/>
                    </a:lnTo>
                    <a:lnTo>
                      <a:pt x="4831" y="213"/>
                    </a:lnTo>
                    <a:lnTo>
                      <a:pt x="4809" y="193"/>
                    </a:lnTo>
                    <a:lnTo>
                      <a:pt x="4786" y="173"/>
                    </a:lnTo>
                    <a:lnTo>
                      <a:pt x="4760" y="154"/>
                    </a:lnTo>
                    <a:lnTo>
                      <a:pt x="4734" y="136"/>
                    </a:lnTo>
                    <a:lnTo>
                      <a:pt x="4706" y="119"/>
                    </a:lnTo>
                    <a:lnTo>
                      <a:pt x="4676" y="103"/>
                    </a:lnTo>
                    <a:lnTo>
                      <a:pt x="4645" y="88"/>
                    </a:lnTo>
                    <a:lnTo>
                      <a:pt x="4613" y="75"/>
                    </a:lnTo>
                    <a:lnTo>
                      <a:pt x="4579" y="64"/>
                    </a:lnTo>
                    <a:lnTo>
                      <a:pt x="4544" y="53"/>
                    </a:lnTo>
                    <a:lnTo>
                      <a:pt x="4509" y="43"/>
                    </a:lnTo>
                    <a:lnTo>
                      <a:pt x="4472" y="37"/>
                    </a:lnTo>
                    <a:lnTo>
                      <a:pt x="4434" y="31"/>
                    </a:lnTo>
                    <a:lnTo>
                      <a:pt x="852" y="0"/>
                    </a:lnTo>
                    <a:lnTo>
                      <a:pt x="814" y="4"/>
                    </a:lnTo>
                    <a:lnTo>
                      <a:pt x="777" y="10"/>
                    </a:lnTo>
                    <a:lnTo>
                      <a:pt x="740" y="16"/>
                    </a:lnTo>
                    <a:lnTo>
                      <a:pt x="705" y="25"/>
                    </a:lnTo>
                    <a:lnTo>
                      <a:pt x="670" y="35"/>
                    </a:lnTo>
                    <a:lnTo>
                      <a:pt x="637" y="47"/>
                    </a:lnTo>
                    <a:lnTo>
                      <a:pt x="604" y="58"/>
                    </a:lnTo>
                    <a:lnTo>
                      <a:pt x="573" y="72"/>
                    </a:lnTo>
                    <a:lnTo>
                      <a:pt x="543" y="87"/>
                    </a:lnTo>
                    <a:lnTo>
                      <a:pt x="513" y="103"/>
                    </a:lnTo>
                    <a:lnTo>
                      <a:pt x="485" y="119"/>
                    </a:lnTo>
                    <a:lnTo>
                      <a:pt x="457" y="137"/>
                    </a:lnTo>
                    <a:lnTo>
                      <a:pt x="431" y="155"/>
                    </a:lnTo>
                    <a:lnTo>
                      <a:pt x="406" y="173"/>
                    </a:lnTo>
                    <a:lnTo>
                      <a:pt x="382" y="192"/>
                    </a:lnTo>
                    <a:lnTo>
                      <a:pt x="360" y="212"/>
                    </a:lnTo>
                    <a:lnTo>
                      <a:pt x="338" y="231"/>
                    </a:lnTo>
                    <a:lnTo>
                      <a:pt x="317" y="251"/>
                    </a:lnTo>
                    <a:lnTo>
                      <a:pt x="297" y="271"/>
                    </a:lnTo>
                    <a:lnTo>
                      <a:pt x="279" y="292"/>
                    </a:lnTo>
                    <a:lnTo>
                      <a:pt x="262" y="313"/>
                    </a:lnTo>
                    <a:lnTo>
                      <a:pt x="246" y="333"/>
                    </a:lnTo>
                    <a:lnTo>
                      <a:pt x="230" y="353"/>
                    </a:lnTo>
                    <a:lnTo>
                      <a:pt x="217" y="372"/>
                    </a:lnTo>
                    <a:lnTo>
                      <a:pt x="204" y="392"/>
                    </a:lnTo>
                    <a:lnTo>
                      <a:pt x="193" y="411"/>
                    </a:lnTo>
                    <a:lnTo>
                      <a:pt x="183" y="429"/>
                    </a:lnTo>
                    <a:lnTo>
                      <a:pt x="175" y="447"/>
                    </a:lnTo>
                    <a:lnTo>
                      <a:pt x="167" y="464"/>
                    </a:lnTo>
                    <a:lnTo>
                      <a:pt x="160" y="480"/>
                    </a:lnTo>
                    <a:lnTo>
                      <a:pt x="156" y="495"/>
                    </a:lnTo>
                    <a:lnTo>
                      <a:pt x="151" y="510"/>
                    </a:lnTo>
                    <a:close/>
                    <a:moveTo>
                      <a:pt x="59" y="1615"/>
                    </a:moveTo>
                    <a:lnTo>
                      <a:pt x="4981" y="1615"/>
                    </a:lnTo>
                    <a:lnTo>
                      <a:pt x="5030" y="1141"/>
                    </a:lnTo>
                    <a:lnTo>
                      <a:pt x="0" y="1074"/>
                    </a:lnTo>
                    <a:lnTo>
                      <a:pt x="59" y="161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grpSp>
          <p:nvGrpSpPr>
            <p:cNvPr id="464" name=""/>
            <p:cNvGrpSpPr/>
            <p:nvPr/>
          </p:nvGrpSpPr>
          <p:grpSpPr>
            <a:xfrm>
              <a:off x="2898720" y="1615680"/>
              <a:ext cx="1524960" cy="3466800"/>
              <a:chOff x="2898720" y="1615680"/>
              <a:chExt cx="1524960" cy="3466800"/>
            </a:xfrm>
          </p:grpSpPr>
          <p:sp>
            <p:nvSpPr>
              <p:cNvPr id="465" name=""/>
              <p:cNvSpPr/>
              <p:nvPr/>
            </p:nvSpPr>
            <p:spPr>
              <a:xfrm>
                <a:off x="2904120" y="4065480"/>
                <a:ext cx="200160" cy="88920"/>
              </a:xfrm>
              <a:custGeom>
                <a:avLst/>
                <a:gdLst/>
                <a:ahLst/>
                <a:rect l="l" t="t" r="r" b="b"/>
                <a:pathLst>
                  <a:path w="995" h="471">
                    <a:moveTo>
                      <a:pt x="0" y="22"/>
                    </a:moveTo>
                    <a:lnTo>
                      <a:pt x="17" y="53"/>
                    </a:lnTo>
                    <a:lnTo>
                      <a:pt x="972" y="471"/>
                    </a:lnTo>
                    <a:lnTo>
                      <a:pt x="995" y="418"/>
                    </a:lnTo>
                    <a:lnTo>
                      <a:pt x="40" y="0"/>
                    </a:lnTo>
                    <a:lnTo>
                      <a:pt x="56" y="31"/>
                    </a:lnTo>
                    <a:lnTo>
                      <a:pt x="0" y="22"/>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466" name=""/>
              <p:cNvSpPr/>
              <p:nvPr/>
            </p:nvSpPr>
            <p:spPr>
              <a:xfrm>
                <a:off x="2904120" y="3704040"/>
                <a:ext cx="139680" cy="367920"/>
              </a:xfrm>
              <a:custGeom>
                <a:avLst/>
                <a:gdLst/>
                <a:ahLst/>
                <a:rect l="l" t="t" r="r" b="b"/>
                <a:pathLst>
                  <a:path w="694" h="1947">
                    <a:moveTo>
                      <a:pt x="670" y="0"/>
                    </a:moveTo>
                    <a:lnTo>
                      <a:pt x="659" y="4"/>
                    </a:lnTo>
                    <a:lnTo>
                      <a:pt x="640" y="20"/>
                    </a:lnTo>
                    <a:lnTo>
                      <a:pt x="621" y="38"/>
                    </a:lnTo>
                    <a:lnTo>
                      <a:pt x="603" y="57"/>
                    </a:lnTo>
                    <a:lnTo>
                      <a:pt x="585" y="78"/>
                    </a:lnTo>
                    <a:lnTo>
                      <a:pt x="566" y="101"/>
                    </a:lnTo>
                    <a:lnTo>
                      <a:pt x="549" y="125"/>
                    </a:lnTo>
                    <a:lnTo>
                      <a:pt x="532" y="150"/>
                    </a:lnTo>
                    <a:lnTo>
                      <a:pt x="516" y="177"/>
                    </a:lnTo>
                    <a:lnTo>
                      <a:pt x="498" y="205"/>
                    </a:lnTo>
                    <a:lnTo>
                      <a:pt x="482" y="235"/>
                    </a:lnTo>
                    <a:lnTo>
                      <a:pt x="466" y="266"/>
                    </a:lnTo>
                    <a:lnTo>
                      <a:pt x="450" y="298"/>
                    </a:lnTo>
                    <a:lnTo>
                      <a:pt x="419" y="365"/>
                    </a:lnTo>
                    <a:lnTo>
                      <a:pt x="389" y="436"/>
                    </a:lnTo>
                    <a:lnTo>
                      <a:pt x="359" y="511"/>
                    </a:lnTo>
                    <a:lnTo>
                      <a:pt x="332" y="589"/>
                    </a:lnTo>
                    <a:lnTo>
                      <a:pt x="304" y="668"/>
                    </a:lnTo>
                    <a:lnTo>
                      <a:pt x="278" y="751"/>
                    </a:lnTo>
                    <a:lnTo>
                      <a:pt x="253" y="834"/>
                    </a:lnTo>
                    <a:lnTo>
                      <a:pt x="229" y="918"/>
                    </a:lnTo>
                    <a:lnTo>
                      <a:pt x="206" y="1001"/>
                    </a:lnTo>
                    <a:lnTo>
                      <a:pt x="183" y="1085"/>
                    </a:lnTo>
                    <a:lnTo>
                      <a:pt x="162" y="1168"/>
                    </a:lnTo>
                    <a:lnTo>
                      <a:pt x="142" y="1250"/>
                    </a:lnTo>
                    <a:lnTo>
                      <a:pt x="123" y="1329"/>
                    </a:lnTo>
                    <a:lnTo>
                      <a:pt x="106" y="1406"/>
                    </a:lnTo>
                    <a:lnTo>
                      <a:pt x="75" y="1551"/>
                    </a:lnTo>
                    <a:lnTo>
                      <a:pt x="48" y="1678"/>
                    </a:lnTo>
                    <a:lnTo>
                      <a:pt x="13" y="1867"/>
                    </a:lnTo>
                    <a:lnTo>
                      <a:pt x="0" y="1938"/>
                    </a:lnTo>
                    <a:lnTo>
                      <a:pt x="56" y="1947"/>
                    </a:lnTo>
                    <a:lnTo>
                      <a:pt x="69" y="1877"/>
                    </a:lnTo>
                    <a:lnTo>
                      <a:pt x="105" y="1690"/>
                    </a:lnTo>
                    <a:lnTo>
                      <a:pt x="131" y="1562"/>
                    </a:lnTo>
                    <a:lnTo>
                      <a:pt x="162" y="1418"/>
                    </a:lnTo>
                    <a:lnTo>
                      <a:pt x="179" y="1341"/>
                    </a:lnTo>
                    <a:lnTo>
                      <a:pt x="198" y="1262"/>
                    </a:lnTo>
                    <a:lnTo>
                      <a:pt x="218" y="1182"/>
                    </a:lnTo>
                    <a:lnTo>
                      <a:pt x="239" y="1099"/>
                    </a:lnTo>
                    <a:lnTo>
                      <a:pt x="261" y="1016"/>
                    </a:lnTo>
                    <a:lnTo>
                      <a:pt x="284" y="932"/>
                    </a:lnTo>
                    <a:lnTo>
                      <a:pt x="308" y="850"/>
                    </a:lnTo>
                    <a:lnTo>
                      <a:pt x="333" y="767"/>
                    </a:lnTo>
                    <a:lnTo>
                      <a:pt x="358" y="687"/>
                    </a:lnTo>
                    <a:lnTo>
                      <a:pt x="386" y="607"/>
                    </a:lnTo>
                    <a:lnTo>
                      <a:pt x="413" y="532"/>
                    </a:lnTo>
                    <a:lnTo>
                      <a:pt x="442" y="458"/>
                    </a:lnTo>
                    <a:lnTo>
                      <a:pt x="472" y="388"/>
                    </a:lnTo>
                    <a:lnTo>
                      <a:pt x="502" y="322"/>
                    </a:lnTo>
                    <a:lnTo>
                      <a:pt x="518" y="291"/>
                    </a:lnTo>
                    <a:lnTo>
                      <a:pt x="533" y="263"/>
                    </a:lnTo>
                    <a:lnTo>
                      <a:pt x="549" y="234"/>
                    </a:lnTo>
                    <a:lnTo>
                      <a:pt x="565" y="206"/>
                    </a:lnTo>
                    <a:lnTo>
                      <a:pt x="580" y="181"/>
                    </a:lnTo>
                    <a:lnTo>
                      <a:pt x="596" y="157"/>
                    </a:lnTo>
                    <a:lnTo>
                      <a:pt x="612" y="135"/>
                    </a:lnTo>
                    <a:lnTo>
                      <a:pt x="629" y="114"/>
                    </a:lnTo>
                    <a:lnTo>
                      <a:pt x="645" y="95"/>
                    </a:lnTo>
                    <a:lnTo>
                      <a:pt x="661" y="79"/>
                    </a:lnTo>
                    <a:lnTo>
                      <a:pt x="678" y="64"/>
                    </a:lnTo>
                    <a:lnTo>
                      <a:pt x="694" y="50"/>
                    </a:lnTo>
                    <a:lnTo>
                      <a:pt x="682" y="56"/>
                    </a:lnTo>
                    <a:lnTo>
                      <a:pt x="670" y="0"/>
                    </a:lnTo>
                    <a:lnTo>
                      <a:pt x="664" y="1"/>
                    </a:lnTo>
                    <a:lnTo>
                      <a:pt x="659" y="4"/>
                    </a:lnTo>
                    <a:lnTo>
                      <a:pt x="670"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7" name=""/>
              <p:cNvSpPr/>
              <p:nvPr/>
            </p:nvSpPr>
            <p:spPr>
              <a:xfrm>
                <a:off x="3039840" y="3459240"/>
                <a:ext cx="197280" cy="254160"/>
              </a:xfrm>
              <a:custGeom>
                <a:avLst/>
                <a:gdLst/>
                <a:ahLst/>
                <a:rect l="l" t="t" r="r" b="b"/>
                <a:pathLst>
                  <a:path w="985" h="1344">
                    <a:moveTo>
                      <a:pt x="985" y="4"/>
                    </a:moveTo>
                    <a:lnTo>
                      <a:pt x="931" y="0"/>
                    </a:lnTo>
                    <a:lnTo>
                      <a:pt x="908" y="51"/>
                    </a:lnTo>
                    <a:lnTo>
                      <a:pt x="842" y="188"/>
                    </a:lnTo>
                    <a:lnTo>
                      <a:pt x="796" y="281"/>
                    </a:lnTo>
                    <a:lnTo>
                      <a:pt x="743" y="385"/>
                    </a:lnTo>
                    <a:lnTo>
                      <a:pt x="713" y="440"/>
                    </a:lnTo>
                    <a:lnTo>
                      <a:pt x="682" y="496"/>
                    </a:lnTo>
                    <a:lnTo>
                      <a:pt x="649" y="553"/>
                    </a:lnTo>
                    <a:lnTo>
                      <a:pt x="616" y="611"/>
                    </a:lnTo>
                    <a:lnTo>
                      <a:pt x="581" y="670"/>
                    </a:lnTo>
                    <a:lnTo>
                      <a:pt x="545" y="728"/>
                    </a:lnTo>
                    <a:lnTo>
                      <a:pt x="507" y="786"/>
                    </a:lnTo>
                    <a:lnTo>
                      <a:pt x="469" y="843"/>
                    </a:lnTo>
                    <a:lnTo>
                      <a:pt x="431" y="898"/>
                    </a:lnTo>
                    <a:lnTo>
                      <a:pt x="391" y="951"/>
                    </a:lnTo>
                    <a:lnTo>
                      <a:pt x="352" y="1003"/>
                    </a:lnTo>
                    <a:lnTo>
                      <a:pt x="312" y="1051"/>
                    </a:lnTo>
                    <a:lnTo>
                      <a:pt x="291" y="1074"/>
                    </a:lnTo>
                    <a:lnTo>
                      <a:pt x="272" y="1096"/>
                    </a:lnTo>
                    <a:lnTo>
                      <a:pt x="251" y="1118"/>
                    </a:lnTo>
                    <a:lnTo>
                      <a:pt x="231" y="1137"/>
                    </a:lnTo>
                    <a:lnTo>
                      <a:pt x="211" y="1157"/>
                    </a:lnTo>
                    <a:lnTo>
                      <a:pt x="191" y="1175"/>
                    </a:lnTo>
                    <a:lnTo>
                      <a:pt x="171" y="1192"/>
                    </a:lnTo>
                    <a:lnTo>
                      <a:pt x="151" y="1208"/>
                    </a:lnTo>
                    <a:lnTo>
                      <a:pt x="132" y="1223"/>
                    </a:lnTo>
                    <a:lnTo>
                      <a:pt x="112" y="1236"/>
                    </a:lnTo>
                    <a:lnTo>
                      <a:pt x="93" y="1249"/>
                    </a:lnTo>
                    <a:lnTo>
                      <a:pt x="73" y="1259"/>
                    </a:lnTo>
                    <a:lnTo>
                      <a:pt x="55" y="1268"/>
                    </a:lnTo>
                    <a:lnTo>
                      <a:pt x="35" y="1276"/>
                    </a:lnTo>
                    <a:lnTo>
                      <a:pt x="18" y="1283"/>
                    </a:lnTo>
                    <a:lnTo>
                      <a:pt x="0" y="1288"/>
                    </a:lnTo>
                    <a:lnTo>
                      <a:pt x="12" y="1344"/>
                    </a:lnTo>
                    <a:lnTo>
                      <a:pt x="34" y="1337"/>
                    </a:lnTo>
                    <a:lnTo>
                      <a:pt x="57" y="1330"/>
                    </a:lnTo>
                    <a:lnTo>
                      <a:pt x="78" y="1321"/>
                    </a:lnTo>
                    <a:lnTo>
                      <a:pt x="99" y="1309"/>
                    </a:lnTo>
                    <a:lnTo>
                      <a:pt x="121" y="1298"/>
                    </a:lnTo>
                    <a:lnTo>
                      <a:pt x="143" y="1284"/>
                    </a:lnTo>
                    <a:lnTo>
                      <a:pt x="165" y="1269"/>
                    </a:lnTo>
                    <a:lnTo>
                      <a:pt x="186" y="1253"/>
                    </a:lnTo>
                    <a:lnTo>
                      <a:pt x="207" y="1237"/>
                    </a:lnTo>
                    <a:lnTo>
                      <a:pt x="229" y="1219"/>
                    </a:lnTo>
                    <a:lnTo>
                      <a:pt x="250" y="1199"/>
                    </a:lnTo>
                    <a:lnTo>
                      <a:pt x="272" y="1178"/>
                    </a:lnTo>
                    <a:lnTo>
                      <a:pt x="292" y="1158"/>
                    </a:lnTo>
                    <a:lnTo>
                      <a:pt x="313" y="1135"/>
                    </a:lnTo>
                    <a:lnTo>
                      <a:pt x="335" y="1112"/>
                    </a:lnTo>
                    <a:lnTo>
                      <a:pt x="356" y="1088"/>
                    </a:lnTo>
                    <a:lnTo>
                      <a:pt x="397" y="1038"/>
                    </a:lnTo>
                    <a:lnTo>
                      <a:pt x="437" y="987"/>
                    </a:lnTo>
                    <a:lnTo>
                      <a:pt x="477" y="931"/>
                    </a:lnTo>
                    <a:lnTo>
                      <a:pt x="517" y="875"/>
                    </a:lnTo>
                    <a:lnTo>
                      <a:pt x="555" y="818"/>
                    </a:lnTo>
                    <a:lnTo>
                      <a:pt x="593" y="759"/>
                    </a:lnTo>
                    <a:lnTo>
                      <a:pt x="630" y="699"/>
                    </a:lnTo>
                    <a:lnTo>
                      <a:pt x="666" y="641"/>
                    </a:lnTo>
                    <a:lnTo>
                      <a:pt x="700" y="582"/>
                    </a:lnTo>
                    <a:lnTo>
                      <a:pt x="732" y="524"/>
                    </a:lnTo>
                    <a:lnTo>
                      <a:pt x="763" y="466"/>
                    </a:lnTo>
                    <a:lnTo>
                      <a:pt x="793" y="411"/>
                    </a:lnTo>
                    <a:lnTo>
                      <a:pt x="847" y="306"/>
                    </a:lnTo>
                    <a:lnTo>
                      <a:pt x="894" y="213"/>
                    </a:lnTo>
                    <a:lnTo>
                      <a:pt x="960" y="76"/>
                    </a:lnTo>
                    <a:lnTo>
                      <a:pt x="984" y="23"/>
                    </a:lnTo>
                    <a:lnTo>
                      <a:pt x="930" y="18"/>
                    </a:lnTo>
                    <a:lnTo>
                      <a:pt x="985" y="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68" name=""/>
              <p:cNvSpPr/>
              <p:nvPr/>
            </p:nvSpPr>
            <p:spPr>
              <a:xfrm>
                <a:off x="2898720" y="3439080"/>
                <a:ext cx="363240" cy="688680"/>
              </a:xfrm>
              <a:custGeom>
                <a:avLst/>
                <a:gdLst/>
                <a:ahLst/>
                <a:rect l="l" t="t" r="r" b="b"/>
                <a:pathLst>
                  <a:path w="1800" h="3638">
                    <a:moveTo>
                      <a:pt x="1598" y="0"/>
                    </a:moveTo>
                    <a:lnTo>
                      <a:pt x="1604" y="23"/>
                    </a:lnTo>
                    <a:lnTo>
                      <a:pt x="1611" y="45"/>
                    </a:lnTo>
                    <a:lnTo>
                      <a:pt x="1618" y="66"/>
                    </a:lnTo>
                    <a:lnTo>
                      <a:pt x="1626" y="86"/>
                    </a:lnTo>
                    <a:lnTo>
                      <a:pt x="1643" y="124"/>
                    </a:lnTo>
                    <a:lnTo>
                      <a:pt x="1660" y="159"/>
                    </a:lnTo>
                    <a:lnTo>
                      <a:pt x="1680" y="191"/>
                    </a:lnTo>
                    <a:lnTo>
                      <a:pt x="1699" y="221"/>
                    </a:lnTo>
                    <a:lnTo>
                      <a:pt x="1718" y="247"/>
                    </a:lnTo>
                    <a:lnTo>
                      <a:pt x="1736" y="272"/>
                    </a:lnTo>
                    <a:lnTo>
                      <a:pt x="1753" y="295"/>
                    </a:lnTo>
                    <a:lnTo>
                      <a:pt x="1768" y="316"/>
                    </a:lnTo>
                    <a:lnTo>
                      <a:pt x="1781" y="335"/>
                    </a:lnTo>
                    <a:lnTo>
                      <a:pt x="1791" y="353"/>
                    </a:lnTo>
                    <a:lnTo>
                      <a:pt x="1795" y="361"/>
                    </a:lnTo>
                    <a:lnTo>
                      <a:pt x="1797" y="369"/>
                    </a:lnTo>
                    <a:lnTo>
                      <a:pt x="1799" y="377"/>
                    </a:lnTo>
                    <a:lnTo>
                      <a:pt x="1800" y="384"/>
                    </a:lnTo>
                    <a:lnTo>
                      <a:pt x="1799" y="392"/>
                    </a:lnTo>
                    <a:lnTo>
                      <a:pt x="1798" y="399"/>
                    </a:lnTo>
                    <a:lnTo>
                      <a:pt x="1796" y="406"/>
                    </a:lnTo>
                    <a:lnTo>
                      <a:pt x="1791" y="413"/>
                    </a:lnTo>
                    <a:lnTo>
                      <a:pt x="1785" y="426"/>
                    </a:lnTo>
                    <a:lnTo>
                      <a:pt x="1779" y="456"/>
                    </a:lnTo>
                    <a:lnTo>
                      <a:pt x="1771" y="499"/>
                    </a:lnTo>
                    <a:lnTo>
                      <a:pt x="1760" y="553"/>
                    </a:lnTo>
                    <a:lnTo>
                      <a:pt x="1751" y="618"/>
                    </a:lnTo>
                    <a:lnTo>
                      <a:pt x="1742" y="693"/>
                    </a:lnTo>
                    <a:lnTo>
                      <a:pt x="1733" y="776"/>
                    </a:lnTo>
                    <a:lnTo>
                      <a:pt x="1725" y="865"/>
                    </a:lnTo>
                    <a:lnTo>
                      <a:pt x="1719" y="958"/>
                    </a:lnTo>
                    <a:lnTo>
                      <a:pt x="1714" y="1056"/>
                    </a:lnTo>
                    <a:lnTo>
                      <a:pt x="1714" y="1107"/>
                    </a:lnTo>
                    <a:lnTo>
                      <a:pt x="1713" y="1156"/>
                    </a:lnTo>
                    <a:lnTo>
                      <a:pt x="1714" y="1207"/>
                    </a:lnTo>
                    <a:lnTo>
                      <a:pt x="1715" y="1257"/>
                    </a:lnTo>
                    <a:lnTo>
                      <a:pt x="1718" y="1306"/>
                    </a:lnTo>
                    <a:lnTo>
                      <a:pt x="1721" y="1357"/>
                    </a:lnTo>
                    <a:lnTo>
                      <a:pt x="1725" y="1406"/>
                    </a:lnTo>
                    <a:lnTo>
                      <a:pt x="1730" y="1455"/>
                    </a:lnTo>
                    <a:lnTo>
                      <a:pt x="1737" y="1502"/>
                    </a:lnTo>
                    <a:lnTo>
                      <a:pt x="1744" y="1549"/>
                    </a:lnTo>
                    <a:lnTo>
                      <a:pt x="1753" y="1595"/>
                    </a:lnTo>
                    <a:lnTo>
                      <a:pt x="1764" y="1639"/>
                    </a:lnTo>
                    <a:lnTo>
                      <a:pt x="1769" y="1673"/>
                    </a:lnTo>
                    <a:lnTo>
                      <a:pt x="1769" y="1715"/>
                    </a:lnTo>
                    <a:lnTo>
                      <a:pt x="1766" y="1765"/>
                    </a:lnTo>
                    <a:lnTo>
                      <a:pt x="1758" y="1821"/>
                    </a:lnTo>
                    <a:lnTo>
                      <a:pt x="1745" y="1882"/>
                    </a:lnTo>
                    <a:lnTo>
                      <a:pt x="1729" y="1949"/>
                    </a:lnTo>
                    <a:lnTo>
                      <a:pt x="1711" y="2021"/>
                    </a:lnTo>
                    <a:lnTo>
                      <a:pt x="1688" y="2096"/>
                    </a:lnTo>
                    <a:lnTo>
                      <a:pt x="1663" y="2175"/>
                    </a:lnTo>
                    <a:lnTo>
                      <a:pt x="1635" y="2258"/>
                    </a:lnTo>
                    <a:lnTo>
                      <a:pt x="1605" y="2342"/>
                    </a:lnTo>
                    <a:lnTo>
                      <a:pt x="1574" y="2428"/>
                    </a:lnTo>
                    <a:lnTo>
                      <a:pt x="1540" y="2515"/>
                    </a:lnTo>
                    <a:lnTo>
                      <a:pt x="1505" y="2604"/>
                    </a:lnTo>
                    <a:lnTo>
                      <a:pt x="1468" y="2692"/>
                    </a:lnTo>
                    <a:lnTo>
                      <a:pt x="1432" y="2779"/>
                    </a:lnTo>
                    <a:lnTo>
                      <a:pt x="1395" y="2866"/>
                    </a:lnTo>
                    <a:lnTo>
                      <a:pt x="1357" y="2951"/>
                    </a:lnTo>
                    <a:lnTo>
                      <a:pt x="1319" y="3033"/>
                    </a:lnTo>
                    <a:lnTo>
                      <a:pt x="1281" y="3113"/>
                    </a:lnTo>
                    <a:lnTo>
                      <a:pt x="1245" y="3189"/>
                    </a:lnTo>
                    <a:lnTo>
                      <a:pt x="1208" y="3262"/>
                    </a:lnTo>
                    <a:lnTo>
                      <a:pt x="1173" y="3330"/>
                    </a:lnTo>
                    <a:lnTo>
                      <a:pt x="1139" y="3392"/>
                    </a:lnTo>
                    <a:lnTo>
                      <a:pt x="1107" y="3449"/>
                    </a:lnTo>
                    <a:lnTo>
                      <a:pt x="1077" y="3499"/>
                    </a:lnTo>
                    <a:lnTo>
                      <a:pt x="1049" y="3542"/>
                    </a:lnTo>
                    <a:lnTo>
                      <a:pt x="1024" y="3579"/>
                    </a:lnTo>
                    <a:lnTo>
                      <a:pt x="1001" y="3607"/>
                    </a:lnTo>
                    <a:lnTo>
                      <a:pt x="983" y="3626"/>
                    </a:lnTo>
                    <a:lnTo>
                      <a:pt x="967" y="3636"/>
                    </a:lnTo>
                    <a:lnTo>
                      <a:pt x="954" y="3638"/>
                    </a:lnTo>
                    <a:lnTo>
                      <a:pt x="0" y="3219"/>
                    </a:lnTo>
                    <a:lnTo>
                      <a:pt x="11" y="3149"/>
                    </a:lnTo>
                    <a:lnTo>
                      <a:pt x="48" y="2961"/>
                    </a:lnTo>
                    <a:lnTo>
                      <a:pt x="73" y="2833"/>
                    </a:lnTo>
                    <a:lnTo>
                      <a:pt x="105" y="2689"/>
                    </a:lnTo>
                    <a:lnTo>
                      <a:pt x="123" y="2613"/>
                    </a:lnTo>
                    <a:lnTo>
                      <a:pt x="141" y="2533"/>
                    </a:lnTo>
                    <a:lnTo>
                      <a:pt x="160" y="2452"/>
                    </a:lnTo>
                    <a:lnTo>
                      <a:pt x="182" y="2369"/>
                    </a:lnTo>
                    <a:lnTo>
                      <a:pt x="204" y="2285"/>
                    </a:lnTo>
                    <a:lnTo>
                      <a:pt x="227" y="2203"/>
                    </a:lnTo>
                    <a:lnTo>
                      <a:pt x="251" y="2119"/>
                    </a:lnTo>
                    <a:lnTo>
                      <a:pt x="276" y="2036"/>
                    </a:lnTo>
                    <a:lnTo>
                      <a:pt x="303" y="1954"/>
                    </a:lnTo>
                    <a:lnTo>
                      <a:pt x="329" y="1875"/>
                    </a:lnTo>
                    <a:lnTo>
                      <a:pt x="358" y="1798"/>
                    </a:lnTo>
                    <a:lnTo>
                      <a:pt x="387" y="1725"/>
                    </a:lnTo>
                    <a:lnTo>
                      <a:pt x="417" y="1653"/>
                    </a:lnTo>
                    <a:lnTo>
                      <a:pt x="448" y="1587"/>
                    </a:lnTo>
                    <a:lnTo>
                      <a:pt x="479" y="1526"/>
                    </a:lnTo>
                    <a:lnTo>
                      <a:pt x="511" y="1468"/>
                    </a:lnTo>
                    <a:lnTo>
                      <a:pt x="544" y="1418"/>
                    </a:lnTo>
                    <a:lnTo>
                      <a:pt x="577" y="1373"/>
                    </a:lnTo>
                    <a:lnTo>
                      <a:pt x="612" y="1335"/>
                    </a:lnTo>
                    <a:lnTo>
                      <a:pt x="647" y="1304"/>
                    </a:lnTo>
                    <a:lnTo>
                      <a:pt x="688" y="1292"/>
                    </a:lnTo>
                    <a:lnTo>
                      <a:pt x="728" y="1273"/>
                    </a:lnTo>
                    <a:lnTo>
                      <a:pt x="768" y="1249"/>
                    </a:lnTo>
                    <a:lnTo>
                      <a:pt x="809" y="1220"/>
                    </a:lnTo>
                    <a:lnTo>
                      <a:pt x="851" y="1186"/>
                    </a:lnTo>
                    <a:lnTo>
                      <a:pt x="892" y="1147"/>
                    </a:lnTo>
                    <a:lnTo>
                      <a:pt x="933" y="1104"/>
                    </a:lnTo>
                    <a:lnTo>
                      <a:pt x="975" y="1058"/>
                    </a:lnTo>
                    <a:lnTo>
                      <a:pt x="1015" y="1010"/>
                    </a:lnTo>
                    <a:lnTo>
                      <a:pt x="1055" y="958"/>
                    </a:lnTo>
                    <a:lnTo>
                      <a:pt x="1095" y="904"/>
                    </a:lnTo>
                    <a:lnTo>
                      <a:pt x="1134" y="848"/>
                    </a:lnTo>
                    <a:lnTo>
                      <a:pt x="1172" y="791"/>
                    </a:lnTo>
                    <a:lnTo>
                      <a:pt x="1210" y="733"/>
                    </a:lnTo>
                    <a:lnTo>
                      <a:pt x="1246" y="673"/>
                    </a:lnTo>
                    <a:lnTo>
                      <a:pt x="1281" y="615"/>
                    </a:lnTo>
                    <a:lnTo>
                      <a:pt x="1316" y="556"/>
                    </a:lnTo>
                    <a:lnTo>
                      <a:pt x="1348" y="499"/>
                    </a:lnTo>
                    <a:lnTo>
                      <a:pt x="1379" y="441"/>
                    </a:lnTo>
                    <a:lnTo>
                      <a:pt x="1409" y="386"/>
                    </a:lnTo>
                    <a:lnTo>
                      <a:pt x="1463" y="283"/>
                    </a:lnTo>
                    <a:lnTo>
                      <a:pt x="1509" y="190"/>
                    </a:lnTo>
                    <a:lnTo>
                      <a:pt x="1574" y="52"/>
                    </a:lnTo>
                    <a:lnTo>
                      <a:pt x="1598" y="0"/>
                    </a:lnTo>
                    <a:close/>
                  </a:path>
                </a:pathLst>
              </a:custGeom>
              <a:solidFill>
                <a:srgbClr val="99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nvGrpSpPr>
              <p:cNvPr id="469" name=""/>
              <p:cNvGrpSpPr/>
              <p:nvPr/>
            </p:nvGrpSpPr>
            <p:grpSpPr>
              <a:xfrm>
                <a:off x="3088800" y="1615680"/>
                <a:ext cx="1334880" cy="3466800"/>
                <a:chOff x="3088800" y="1615680"/>
                <a:chExt cx="1334880" cy="3466800"/>
              </a:xfrm>
            </p:grpSpPr>
            <p:sp>
              <p:nvSpPr>
                <p:cNvPr id="470" name=""/>
                <p:cNvSpPr/>
                <p:nvPr/>
              </p:nvSpPr>
              <p:spPr>
                <a:xfrm>
                  <a:off x="3420360" y="3175920"/>
                  <a:ext cx="910080" cy="1505520"/>
                </a:xfrm>
                <a:custGeom>
                  <a:avLst/>
                  <a:gdLst/>
                  <a:ahLst/>
                  <a:rect l="l" t="t" r="r" b="b"/>
                  <a:pathLst>
                    <a:path w="4511" h="7948">
                      <a:moveTo>
                        <a:pt x="84" y="0"/>
                      </a:moveTo>
                      <a:lnTo>
                        <a:pt x="160" y="78"/>
                      </a:lnTo>
                      <a:lnTo>
                        <a:pt x="242" y="151"/>
                      </a:lnTo>
                      <a:lnTo>
                        <a:pt x="332" y="220"/>
                      </a:lnTo>
                      <a:lnTo>
                        <a:pt x="427" y="285"/>
                      </a:lnTo>
                      <a:lnTo>
                        <a:pt x="529" y="344"/>
                      </a:lnTo>
                      <a:lnTo>
                        <a:pt x="635" y="399"/>
                      </a:lnTo>
                      <a:lnTo>
                        <a:pt x="746" y="450"/>
                      </a:lnTo>
                      <a:lnTo>
                        <a:pt x="862" y="497"/>
                      </a:lnTo>
                      <a:lnTo>
                        <a:pt x="982" y="540"/>
                      </a:lnTo>
                      <a:lnTo>
                        <a:pt x="1104" y="579"/>
                      </a:lnTo>
                      <a:lnTo>
                        <a:pt x="1229" y="613"/>
                      </a:lnTo>
                      <a:lnTo>
                        <a:pt x="1356" y="644"/>
                      </a:lnTo>
                      <a:lnTo>
                        <a:pt x="1485" y="672"/>
                      </a:lnTo>
                      <a:lnTo>
                        <a:pt x="1613" y="695"/>
                      </a:lnTo>
                      <a:lnTo>
                        <a:pt x="1744" y="715"/>
                      </a:lnTo>
                      <a:lnTo>
                        <a:pt x="1874" y="731"/>
                      </a:lnTo>
                      <a:lnTo>
                        <a:pt x="2004" y="745"/>
                      </a:lnTo>
                      <a:lnTo>
                        <a:pt x="2133" y="754"/>
                      </a:lnTo>
                      <a:lnTo>
                        <a:pt x="2260" y="761"/>
                      </a:lnTo>
                      <a:lnTo>
                        <a:pt x="2385" y="766"/>
                      </a:lnTo>
                      <a:lnTo>
                        <a:pt x="2508" y="767"/>
                      </a:lnTo>
                      <a:lnTo>
                        <a:pt x="2628" y="765"/>
                      </a:lnTo>
                      <a:lnTo>
                        <a:pt x="2743" y="760"/>
                      </a:lnTo>
                      <a:lnTo>
                        <a:pt x="2856" y="753"/>
                      </a:lnTo>
                      <a:lnTo>
                        <a:pt x="2964" y="743"/>
                      </a:lnTo>
                      <a:lnTo>
                        <a:pt x="3066" y="731"/>
                      </a:lnTo>
                      <a:lnTo>
                        <a:pt x="3163" y="717"/>
                      </a:lnTo>
                      <a:lnTo>
                        <a:pt x="3253" y="700"/>
                      </a:lnTo>
                      <a:lnTo>
                        <a:pt x="3337" y="681"/>
                      </a:lnTo>
                      <a:lnTo>
                        <a:pt x="3414" y="660"/>
                      </a:lnTo>
                      <a:lnTo>
                        <a:pt x="3483" y="637"/>
                      </a:lnTo>
                      <a:lnTo>
                        <a:pt x="3544" y="612"/>
                      </a:lnTo>
                      <a:lnTo>
                        <a:pt x="3543" y="792"/>
                      </a:lnTo>
                      <a:lnTo>
                        <a:pt x="3542" y="957"/>
                      </a:lnTo>
                      <a:lnTo>
                        <a:pt x="3539" y="1035"/>
                      </a:lnTo>
                      <a:lnTo>
                        <a:pt x="3538" y="1111"/>
                      </a:lnTo>
                      <a:lnTo>
                        <a:pt x="3535" y="1184"/>
                      </a:lnTo>
                      <a:lnTo>
                        <a:pt x="3531" y="1258"/>
                      </a:lnTo>
                      <a:lnTo>
                        <a:pt x="3526" y="1331"/>
                      </a:lnTo>
                      <a:lnTo>
                        <a:pt x="3520" y="1405"/>
                      </a:lnTo>
                      <a:lnTo>
                        <a:pt x="3512" y="1479"/>
                      </a:lnTo>
                      <a:lnTo>
                        <a:pt x="3504" y="1556"/>
                      </a:lnTo>
                      <a:lnTo>
                        <a:pt x="3492" y="1636"/>
                      </a:lnTo>
                      <a:lnTo>
                        <a:pt x="3481" y="1718"/>
                      </a:lnTo>
                      <a:lnTo>
                        <a:pt x="3466" y="1805"/>
                      </a:lnTo>
                      <a:lnTo>
                        <a:pt x="3450" y="1895"/>
                      </a:lnTo>
                      <a:lnTo>
                        <a:pt x="3491" y="2161"/>
                      </a:lnTo>
                      <a:lnTo>
                        <a:pt x="3542" y="2482"/>
                      </a:lnTo>
                      <a:lnTo>
                        <a:pt x="3569" y="2658"/>
                      </a:lnTo>
                      <a:lnTo>
                        <a:pt x="3597" y="2841"/>
                      </a:lnTo>
                      <a:lnTo>
                        <a:pt x="3624" y="3029"/>
                      </a:lnTo>
                      <a:lnTo>
                        <a:pt x="3651" y="3220"/>
                      </a:lnTo>
                      <a:lnTo>
                        <a:pt x="3676" y="3409"/>
                      </a:lnTo>
                      <a:lnTo>
                        <a:pt x="3699" y="3598"/>
                      </a:lnTo>
                      <a:lnTo>
                        <a:pt x="3709" y="3691"/>
                      </a:lnTo>
                      <a:lnTo>
                        <a:pt x="3718" y="3782"/>
                      </a:lnTo>
                      <a:lnTo>
                        <a:pt x="3728" y="3871"/>
                      </a:lnTo>
                      <a:lnTo>
                        <a:pt x="3735" y="3959"/>
                      </a:lnTo>
                      <a:lnTo>
                        <a:pt x="3741" y="4044"/>
                      </a:lnTo>
                      <a:lnTo>
                        <a:pt x="3746" y="4125"/>
                      </a:lnTo>
                      <a:lnTo>
                        <a:pt x="3751" y="4205"/>
                      </a:lnTo>
                      <a:lnTo>
                        <a:pt x="3753" y="4281"/>
                      </a:lnTo>
                      <a:lnTo>
                        <a:pt x="3755" y="4354"/>
                      </a:lnTo>
                      <a:lnTo>
                        <a:pt x="3754" y="4423"/>
                      </a:lnTo>
                      <a:lnTo>
                        <a:pt x="3753" y="4488"/>
                      </a:lnTo>
                      <a:lnTo>
                        <a:pt x="3749" y="4549"/>
                      </a:lnTo>
                      <a:lnTo>
                        <a:pt x="3751" y="4615"/>
                      </a:lnTo>
                      <a:lnTo>
                        <a:pt x="3755" y="4681"/>
                      </a:lnTo>
                      <a:lnTo>
                        <a:pt x="3763" y="4747"/>
                      </a:lnTo>
                      <a:lnTo>
                        <a:pt x="3776" y="4813"/>
                      </a:lnTo>
                      <a:lnTo>
                        <a:pt x="3791" y="4879"/>
                      </a:lnTo>
                      <a:lnTo>
                        <a:pt x="3809" y="4946"/>
                      </a:lnTo>
                      <a:lnTo>
                        <a:pt x="3830" y="5013"/>
                      </a:lnTo>
                      <a:lnTo>
                        <a:pt x="3853" y="5081"/>
                      </a:lnTo>
                      <a:lnTo>
                        <a:pt x="3879" y="5150"/>
                      </a:lnTo>
                      <a:lnTo>
                        <a:pt x="3907" y="5220"/>
                      </a:lnTo>
                      <a:lnTo>
                        <a:pt x="3936" y="5291"/>
                      </a:lnTo>
                      <a:lnTo>
                        <a:pt x="3967" y="5365"/>
                      </a:lnTo>
                      <a:lnTo>
                        <a:pt x="4032" y="5517"/>
                      </a:lnTo>
                      <a:lnTo>
                        <a:pt x="4100" y="5677"/>
                      </a:lnTo>
                      <a:lnTo>
                        <a:pt x="4134" y="5762"/>
                      </a:lnTo>
                      <a:lnTo>
                        <a:pt x="4169" y="5850"/>
                      </a:lnTo>
                      <a:lnTo>
                        <a:pt x="4203" y="5939"/>
                      </a:lnTo>
                      <a:lnTo>
                        <a:pt x="4236" y="6034"/>
                      </a:lnTo>
                      <a:lnTo>
                        <a:pt x="4270" y="6130"/>
                      </a:lnTo>
                      <a:lnTo>
                        <a:pt x="4301" y="6231"/>
                      </a:lnTo>
                      <a:lnTo>
                        <a:pt x="4332" y="6336"/>
                      </a:lnTo>
                      <a:lnTo>
                        <a:pt x="4360" y="6444"/>
                      </a:lnTo>
                      <a:lnTo>
                        <a:pt x="4388" y="6557"/>
                      </a:lnTo>
                      <a:lnTo>
                        <a:pt x="4413" y="6675"/>
                      </a:lnTo>
                      <a:lnTo>
                        <a:pt x="4437" y="6796"/>
                      </a:lnTo>
                      <a:lnTo>
                        <a:pt x="4458" y="6924"/>
                      </a:lnTo>
                      <a:lnTo>
                        <a:pt x="4475" y="7056"/>
                      </a:lnTo>
                      <a:lnTo>
                        <a:pt x="4490" y="7194"/>
                      </a:lnTo>
                      <a:lnTo>
                        <a:pt x="4502" y="7336"/>
                      </a:lnTo>
                      <a:lnTo>
                        <a:pt x="4511" y="7486"/>
                      </a:lnTo>
                      <a:lnTo>
                        <a:pt x="4502" y="7524"/>
                      </a:lnTo>
                      <a:lnTo>
                        <a:pt x="4484" y="7559"/>
                      </a:lnTo>
                      <a:lnTo>
                        <a:pt x="4461" y="7594"/>
                      </a:lnTo>
                      <a:lnTo>
                        <a:pt x="4430" y="7625"/>
                      </a:lnTo>
                      <a:lnTo>
                        <a:pt x="4394" y="7656"/>
                      </a:lnTo>
                      <a:lnTo>
                        <a:pt x="4352" y="7683"/>
                      </a:lnTo>
                      <a:lnTo>
                        <a:pt x="4305" y="7710"/>
                      </a:lnTo>
                      <a:lnTo>
                        <a:pt x="4254" y="7734"/>
                      </a:lnTo>
                      <a:lnTo>
                        <a:pt x="4198" y="7757"/>
                      </a:lnTo>
                      <a:lnTo>
                        <a:pt x="4140" y="7778"/>
                      </a:lnTo>
                      <a:lnTo>
                        <a:pt x="4078" y="7796"/>
                      </a:lnTo>
                      <a:lnTo>
                        <a:pt x="4014" y="7813"/>
                      </a:lnTo>
                      <a:lnTo>
                        <a:pt x="3947" y="7828"/>
                      </a:lnTo>
                      <a:lnTo>
                        <a:pt x="3879" y="7841"/>
                      </a:lnTo>
                      <a:lnTo>
                        <a:pt x="3811" y="7851"/>
                      </a:lnTo>
                      <a:lnTo>
                        <a:pt x="3743" y="7860"/>
                      </a:lnTo>
                      <a:lnTo>
                        <a:pt x="3674" y="7867"/>
                      </a:lnTo>
                      <a:lnTo>
                        <a:pt x="3607" y="7873"/>
                      </a:lnTo>
                      <a:lnTo>
                        <a:pt x="3540" y="7876"/>
                      </a:lnTo>
                      <a:lnTo>
                        <a:pt x="3475" y="7877"/>
                      </a:lnTo>
                      <a:lnTo>
                        <a:pt x="3413" y="7876"/>
                      </a:lnTo>
                      <a:lnTo>
                        <a:pt x="3353" y="7874"/>
                      </a:lnTo>
                      <a:lnTo>
                        <a:pt x="3297" y="7869"/>
                      </a:lnTo>
                      <a:lnTo>
                        <a:pt x="3244" y="7863"/>
                      </a:lnTo>
                      <a:lnTo>
                        <a:pt x="3197" y="7854"/>
                      </a:lnTo>
                      <a:lnTo>
                        <a:pt x="3153" y="7844"/>
                      </a:lnTo>
                      <a:lnTo>
                        <a:pt x="3116" y="7832"/>
                      </a:lnTo>
                      <a:lnTo>
                        <a:pt x="3085" y="7817"/>
                      </a:lnTo>
                      <a:lnTo>
                        <a:pt x="3059" y="7800"/>
                      </a:lnTo>
                      <a:lnTo>
                        <a:pt x="3041" y="7782"/>
                      </a:lnTo>
                      <a:lnTo>
                        <a:pt x="3029" y="7763"/>
                      </a:lnTo>
                      <a:lnTo>
                        <a:pt x="3027" y="7740"/>
                      </a:lnTo>
                      <a:lnTo>
                        <a:pt x="3021" y="7674"/>
                      </a:lnTo>
                      <a:lnTo>
                        <a:pt x="3017" y="7605"/>
                      </a:lnTo>
                      <a:lnTo>
                        <a:pt x="3013" y="7534"/>
                      </a:lnTo>
                      <a:lnTo>
                        <a:pt x="3011" y="7460"/>
                      </a:lnTo>
                      <a:lnTo>
                        <a:pt x="3010" y="7385"/>
                      </a:lnTo>
                      <a:lnTo>
                        <a:pt x="3009" y="7306"/>
                      </a:lnTo>
                      <a:lnTo>
                        <a:pt x="3009" y="7226"/>
                      </a:lnTo>
                      <a:lnTo>
                        <a:pt x="3009" y="7144"/>
                      </a:lnTo>
                      <a:lnTo>
                        <a:pt x="3011" y="6976"/>
                      </a:lnTo>
                      <a:lnTo>
                        <a:pt x="3011" y="6803"/>
                      </a:lnTo>
                      <a:lnTo>
                        <a:pt x="3011" y="6716"/>
                      </a:lnTo>
                      <a:lnTo>
                        <a:pt x="3010" y="6627"/>
                      </a:lnTo>
                      <a:lnTo>
                        <a:pt x="3008" y="6539"/>
                      </a:lnTo>
                      <a:lnTo>
                        <a:pt x="3005" y="6449"/>
                      </a:lnTo>
                      <a:lnTo>
                        <a:pt x="3001" y="6361"/>
                      </a:lnTo>
                      <a:lnTo>
                        <a:pt x="2995" y="6271"/>
                      </a:lnTo>
                      <a:lnTo>
                        <a:pt x="2988" y="6183"/>
                      </a:lnTo>
                      <a:lnTo>
                        <a:pt x="2979" y="6096"/>
                      </a:lnTo>
                      <a:lnTo>
                        <a:pt x="2967" y="6007"/>
                      </a:lnTo>
                      <a:lnTo>
                        <a:pt x="2955" y="5921"/>
                      </a:lnTo>
                      <a:lnTo>
                        <a:pt x="2939" y="5835"/>
                      </a:lnTo>
                      <a:lnTo>
                        <a:pt x="2921" y="5751"/>
                      </a:lnTo>
                      <a:lnTo>
                        <a:pt x="2901" y="5668"/>
                      </a:lnTo>
                      <a:lnTo>
                        <a:pt x="2877" y="5587"/>
                      </a:lnTo>
                      <a:lnTo>
                        <a:pt x="2850" y="5507"/>
                      </a:lnTo>
                      <a:lnTo>
                        <a:pt x="2820" y="5429"/>
                      </a:lnTo>
                      <a:lnTo>
                        <a:pt x="2787" y="5353"/>
                      </a:lnTo>
                      <a:lnTo>
                        <a:pt x="2750" y="5280"/>
                      </a:lnTo>
                      <a:lnTo>
                        <a:pt x="2709" y="5210"/>
                      </a:lnTo>
                      <a:lnTo>
                        <a:pt x="2664" y="5142"/>
                      </a:lnTo>
                      <a:lnTo>
                        <a:pt x="2640" y="5079"/>
                      </a:lnTo>
                      <a:lnTo>
                        <a:pt x="2615" y="5014"/>
                      </a:lnTo>
                      <a:lnTo>
                        <a:pt x="2591" y="4949"/>
                      </a:lnTo>
                      <a:lnTo>
                        <a:pt x="2568" y="4885"/>
                      </a:lnTo>
                      <a:lnTo>
                        <a:pt x="2545" y="4818"/>
                      </a:lnTo>
                      <a:lnTo>
                        <a:pt x="2523" y="4753"/>
                      </a:lnTo>
                      <a:lnTo>
                        <a:pt x="2503" y="4686"/>
                      </a:lnTo>
                      <a:lnTo>
                        <a:pt x="2486" y="4619"/>
                      </a:lnTo>
                      <a:lnTo>
                        <a:pt x="2470" y="4553"/>
                      </a:lnTo>
                      <a:lnTo>
                        <a:pt x="2456" y="4486"/>
                      </a:lnTo>
                      <a:lnTo>
                        <a:pt x="2451" y="4453"/>
                      </a:lnTo>
                      <a:lnTo>
                        <a:pt x="2446" y="4419"/>
                      </a:lnTo>
                      <a:lnTo>
                        <a:pt x="2441" y="4387"/>
                      </a:lnTo>
                      <a:lnTo>
                        <a:pt x="2438" y="4354"/>
                      </a:lnTo>
                      <a:lnTo>
                        <a:pt x="2436" y="4321"/>
                      </a:lnTo>
                      <a:lnTo>
                        <a:pt x="2433" y="4288"/>
                      </a:lnTo>
                      <a:lnTo>
                        <a:pt x="2432" y="4255"/>
                      </a:lnTo>
                      <a:lnTo>
                        <a:pt x="2432" y="4223"/>
                      </a:lnTo>
                      <a:lnTo>
                        <a:pt x="2433" y="4190"/>
                      </a:lnTo>
                      <a:lnTo>
                        <a:pt x="2435" y="4157"/>
                      </a:lnTo>
                      <a:lnTo>
                        <a:pt x="2437" y="4125"/>
                      </a:lnTo>
                      <a:lnTo>
                        <a:pt x="2441" y="4093"/>
                      </a:lnTo>
                      <a:lnTo>
                        <a:pt x="2420" y="4062"/>
                      </a:lnTo>
                      <a:lnTo>
                        <a:pt x="2399" y="4029"/>
                      </a:lnTo>
                      <a:lnTo>
                        <a:pt x="2377" y="3991"/>
                      </a:lnTo>
                      <a:lnTo>
                        <a:pt x="2356" y="3951"/>
                      </a:lnTo>
                      <a:lnTo>
                        <a:pt x="2336" y="3908"/>
                      </a:lnTo>
                      <a:lnTo>
                        <a:pt x="2314" y="3862"/>
                      </a:lnTo>
                      <a:lnTo>
                        <a:pt x="2293" y="3815"/>
                      </a:lnTo>
                      <a:lnTo>
                        <a:pt x="2274" y="3766"/>
                      </a:lnTo>
                      <a:lnTo>
                        <a:pt x="2253" y="3714"/>
                      </a:lnTo>
                      <a:lnTo>
                        <a:pt x="2234" y="3661"/>
                      </a:lnTo>
                      <a:lnTo>
                        <a:pt x="2214" y="3607"/>
                      </a:lnTo>
                      <a:lnTo>
                        <a:pt x="2195" y="3552"/>
                      </a:lnTo>
                      <a:lnTo>
                        <a:pt x="2157" y="3441"/>
                      </a:lnTo>
                      <a:lnTo>
                        <a:pt x="2121" y="3328"/>
                      </a:lnTo>
                      <a:lnTo>
                        <a:pt x="2087" y="3215"/>
                      </a:lnTo>
                      <a:lnTo>
                        <a:pt x="2056" y="3105"/>
                      </a:lnTo>
                      <a:lnTo>
                        <a:pt x="2026" y="3000"/>
                      </a:lnTo>
                      <a:lnTo>
                        <a:pt x="1999" y="2901"/>
                      </a:lnTo>
                      <a:lnTo>
                        <a:pt x="1956" y="2729"/>
                      </a:lnTo>
                      <a:lnTo>
                        <a:pt x="1925" y="2606"/>
                      </a:lnTo>
                      <a:lnTo>
                        <a:pt x="1909" y="2701"/>
                      </a:lnTo>
                      <a:lnTo>
                        <a:pt x="1894" y="2801"/>
                      </a:lnTo>
                      <a:lnTo>
                        <a:pt x="1881" y="2904"/>
                      </a:lnTo>
                      <a:lnTo>
                        <a:pt x="1870" y="3011"/>
                      </a:lnTo>
                      <a:lnTo>
                        <a:pt x="1860" y="3120"/>
                      </a:lnTo>
                      <a:lnTo>
                        <a:pt x="1852" y="3231"/>
                      </a:lnTo>
                      <a:lnTo>
                        <a:pt x="1847" y="3344"/>
                      </a:lnTo>
                      <a:lnTo>
                        <a:pt x="1842" y="3458"/>
                      </a:lnTo>
                      <a:lnTo>
                        <a:pt x="1840" y="3570"/>
                      </a:lnTo>
                      <a:lnTo>
                        <a:pt x="1840" y="3683"/>
                      </a:lnTo>
                      <a:lnTo>
                        <a:pt x="1841" y="3793"/>
                      </a:lnTo>
                      <a:lnTo>
                        <a:pt x="1844" y="3901"/>
                      </a:lnTo>
                      <a:lnTo>
                        <a:pt x="1847" y="3954"/>
                      </a:lnTo>
                      <a:lnTo>
                        <a:pt x="1850" y="4007"/>
                      </a:lnTo>
                      <a:lnTo>
                        <a:pt x="1853" y="4057"/>
                      </a:lnTo>
                      <a:lnTo>
                        <a:pt x="1858" y="4108"/>
                      </a:lnTo>
                      <a:lnTo>
                        <a:pt x="1863" y="4156"/>
                      </a:lnTo>
                      <a:lnTo>
                        <a:pt x="1868" y="4205"/>
                      </a:lnTo>
                      <a:lnTo>
                        <a:pt x="1874" y="4250"/>
                      </a:lnTo>
                      <a:lnTo>
                        <a:pt x="1881" y="4296"/>
                      </a:lnTo>
                      <a:lnTo>
                        <a:pt x="1884" y="4324"/>
                      </a:lnTo>
                      <a:lnTo>
                        <a:pt x="1887" y="4353"/>
                      </a:lnTo>
                      <a:lnTo>
                        <a:pt x="1888" y="4383"/>
                      </a:lnTo>
                      <a:lnTo>
                        <a:pt x="1888" y="4414"/>
                      </a:lnTo>
                      <a:lnTo>
                        <a:pt x="1888" y="4446"/>
                      </a:lnTo>
                      <a:lnTo>
                        <a:pt x="1888" y="4479"/>
                      </a:lnTo>
                      <a:lnTo>
                        <a:pt x="1886" y="4512"/>
                      </a:lnTo>
                      <a:lnTo>
                        <a:pt x="1883" y="4546"/>
                      </a:lnTo>
                      <a:lnTo>
                        <a:pt x="1880" y="4580"/>
                      </a:lnTo>
                      <a:lnTo>
                        <a:pt x="1875" y="4616"/>
                      </a:lnTo>
                      <a:lnTo>
                        <a:pt x="1871" y="4650"/>
                      </a:lnTo>
                      <a:lnTo>
                        <a:pt x="1865" y="4686"/>
                      </a:lnTo>
                      <a:lnTo>
                        <a:pt x="1859" y="4722"/>
                      </a:lnTo>
                      <a:lnTo>
                        <a:pt x="1851" y="4756"/>
                      </a:lnTo>
                      <a:lnTo>
                        <a:pt x="1843" y="4792"/>
                      </a:lnTo>
                      <a:lnTo>
                        <a:pt x="1834" y="4826"/>
                      </a:lnTo>
                      <a:lnTo>
                        <a:pt x="1825" y="4861"/>
                      </a:lnTo>
                      <a:lnTo>
                        <a:pt x="1814" y="4895"/>
                      </a:lnTo>
                      <a:lnTo>
                        <a:pt x="1803" y="4928"/>
                      </a:lnTo>
                      <a:lnTo>
                        <a:pt x="1790" y="4962"/>
                      </a:lnTo>
                      <a:lnTo>
                        <a:pt x="1778" y="4994"/>
                      </a:lnTo>
                      <a:lnTo>
                        <a:pt x="1764" y="5025"/>
                      </a:lnTo>
                      <a:lnTo>
                        <a:pt x="1749" y="5055"/>
                      </a:lnTo>
                      <a:lnTo>
                        <a:pt x="1734" y="5083"/>
                      </a:lnTo>
                      <a:lnTo>
                        <a:pt x="1718" y="5112"/>
                      </a:lnTo>
                      <a:lnTo>
                        <a:pt x="1701" y="5139"/>
                      </a:lnTo>
                      <a:lnTo>
                        <a:pt x="1682" y="5164"/>
                      </a:lnTo>
                      <a:lnTo>
                        <a:pt x="1664" y="5187"/>
                      </a:lnTo>
                      <a:lnTo>
                        <a:pt x="1644" y="5209"/>
                      </a:lnTo>
                      <a:lnTo>
                        <a:pt x="1624" y="5229"/>
                      </a:lnTo>
                      <a:lnTo>
                        <a:pt x="1603" y="5248"/>
                      </a:lnTo>
                      <a:lnTo>
                        <a:pt x="1581" y="5265"/>
                      </a:lnTo>
                      <a:lnTo>
                        <a:pt x="1564" y="5356"/>
                      </a:lnTo>
                      <a:lnTo>
                        <a:pt x="1548" y="5445"/>
                      </a:lnTo>
                      <a:lnTo>
                        <a:pt x="1534" y="5534"/>
                      </a:lnTo>
                      <a:lnTo>
                        <a:pt x="1522" y="5622"/>
                      </a:lnTo>
                      <a:lnTo>
                        <a:pt x="1511" y="5708"/>
                      </a:lnTo>
                      <a:lnTo>
                        <a:pt x="1502" y="5793"/>
                      </a:lnTo>
                      <a:lnTo>
                        <a:pt x="1494" y="5878"/>
                      </a:lnTo>
                      <a:lnTo>
                        <a:pt x="1488" y="5961"/>
                      </a:lnTo>
                      <a:lnTo>
                        <a:pt x="1483" y="6043"/>
                      </a:lnTo>
                      <a:lnTo>
                        <a:pt x="1479" y="6123"/>
                      </a:lnTo>
                      <a:lnTo>
                        <a:pt x="1477" y="6202"/>
                      </a:lnTo>
                      <a:lnTo>
                        <a:pt x="1477" y="6281"/>
                      </a:lnTo>
                      <a:lnTo>
                        <a:pt x="1477" y="6356"/>
                      </a:lnTo>
                      <a:lnTo>
                        <a:pt x="1478" y="6432"/>
                      </a:lnTo>
                      <a:lnTo>
                        <a:pt x="1480" y="6506"/>
                      </a:lnTo>
                      <a:lnTo>
                        <a:pt x="1484" y="6578"/>
                      </a:lnTo>
                      <a:lnTo>
                        <a:pt x="1488" y="6649"/>
                      </a:lnTo>
                      <a:lnTo>
                        <a:pt x="1493" y="6719"/>
                      </a:lnTo>
                      <a:lnTo>
                        <a:pt x="1499" y="6787"/>
                      </a:lnTo>
                      <a:lnTo>
                        <a:pt x="1506" y="6854"/>
                      </a:lnTo>
                      <a:lnTo>
                        <a:pt x="1514" y="6919"/>
                      </a:lnTo>
                      <a:lnTo>
                        <a:pt x="1522" y="6982"/>
                      </a:lnTo>
                      <a:lnTo>
                        <a:pt x="1530" y="7045"/>
                      </a:lnTo>
                      <a:lnTo>
                        <a:pt x="1539" y="7105"/>
                      </a:lnTo>
                      <a:lnTo>
                        <a:pt x="1549" y="7164"/>
                      </a:lnTo>
                      <a:lnTo>
                        <a:pt x="1560" y="7221"/>
                      </a:lnTo>
                      <a:lnTo>
                        <a:pt x="1570" y="7277"/>
                      </a:lnTo>
                      <a:lnTo>
                        <a:pt x="1580" y="7331"/>
                      </a:lnTo>
                      <a:lnTo>
                        <a:pt x="1602" y="7434"/>
                      </a:lnTo>
                      <a:lnTo>
                        <a:pt x="1625" y="7529"/>
                      </a:lnTo>
                      <a:lnTo>
                        <a:pt x="1624" y="7579"/>
                      </a:lnTo>
                      <a:lnTo>
                        <a:pt x="1615" y="7625"/>
                      </a:lnTo>
                      <a:lnTo>
                        <a:pt x="1600" y="7668"/>
                      </a:lnTo>
                      <a:lnTo>
                        <a:pt x="1577" y="7707"/>
                      </a:lnTo>
                      <a:lnTo>
                        <a:pt x="1547" y="7744"/>
                      </a:lnTo>
                      <a:lnTo>
                        <a:pt x="1512" y="7778"/>
                      </a:lnTo>
                      <a:lnTo>
                        <a:pt x="1472" y="7809"/>
                      </a:lnTo>
                      <a:lnTo>
                        <a:pt x="1427" y="7835"/>
                      </a:lnTo>
                      <a:lnTo>
                        <a:pt x="1377" y="7859"/>
                      </a:lnTo>
                      <a:lnTo>
                        <a:pt x="1324" y="7881"/>
                      </a:lnTo>
                      <a:lnTo>
                        <a:pt x="1267" y="7898"/>
                      </a:lnTo>
                      <a:lnTo>
                        <a:pt x="1206" y="7914"/>
                      </a:lnTo>
                      <a:lnTo>
                        <a:pt x="1143" y="7926"/>
                      </a:lnTo>
                      <a:lnTo>
                        <a:pt x="1078" y="7936"/>
                      </a:lnTo>
                      <a:lnTo>
                        <a:pt x="1012" y="7942"/>
                      </a:lnTo>
                      <a:lnTo>
                        <a:pt x="943" y="7946"/>
                      </a:lnTo>
                      <a:lnTo>
                        <a:pt x="875" y="7948"/>
                      </a:lnTo>
                      <a:lnTo>
                        <a:pt x="805" y="7946"/>
                      </a:lnTo>
                      <a:lnTo>
                        <a:pt x="736" y="7942"/>
                      </a:lnTo>
                      <a:lnTo>
                        <a:pt x="668" y="7935"/>
                      </a:lnTo>
                      <a:lnTo>
                        <a:pt x="601" y="7926"/>
                      </a:lnTo>
                      <a:lnTo>
                        <a:pt x="535" y="7914"/>
                      </a:lnTo>
                      <a:lnTo>
                        <a:pt x="471" y="7899"/>
                      </a:lnTo>
                      <a:lnTo>
                        <a:pt x="410" y="7883"/>
                      </a:lnTo>
                      <a:lnTo>
                        <a:pt x="351" y="7864"/>
                      </a:lnTo>
                      <a:lnTo>
                        <a:pt x="296" y="7843"/>
                      </a:lnTo>
                      <a:lnTo>
                        <a:pt x="246" y="7819"/>
                      </a:lnTo>
                      <a:lnTo>
                        <a:pt x="199" y="7792"/>
                      </a:lnTo>
                      <a:lnTo>
                        <a:pt x="156" y="7765"/>
                      </a:lnTo>
                      <a:lnTo>
                        <a:pt x="119" y="7734"/>
                      </a:lnTo>
                      <a:lnTo>
                        <a:pt x="87" y="7702"/>
                      </a:lnTo>
                      <a:lnTo>
                        <a:pt x="62" y="7667"/>
                      </a:lnTo>
                      <a:lnTo>
                        <a:pt x="49" y="7619"/>
                      </a:lnTo>
                      <a:lnTo>
                        <a:pt x="38" y="7568"/>
                      </a:lnTo>
                      <a:lnTo>
                        <a:pt x="29" y="7514"/>
                      </a:lnTo>
                      <a:lnTo>
                        <a:pt x="22" y="7458"/>
                      </a:lnTo>
                      <a:lnTo>
                        <a:pt x="17" y="7400"/>
                      </a:lnTo>
                      <a:lnTo>
                        <a:pt x="15" y="7339"/>
                      </a:lnTo>
                      <a:lnTo>
                        <a:pt x="14" y="7274"/>
                      </a:lnTo>
                      <a:lnTo>
                        <a:pt x="16" y="7209"/>
                      </a:lnTo>
                      <a:lnTo>
                        <a:pt x="20" y="7140"/>
                      </a:lnTo>
                      <a:lnTo>
                        <a:pt x="24" y="7070"/>
                      </a:lnTo>
                      <a:lnTo>
                        <a:pt x="32" y="6996"/>
                      </a:lnTo>
                      <a:lnTo>
                        <a:pt x="41" y="6922"/>
                      </a:lnTo>
                      <a:lnTo>
                        <a:pt x="52" y="6845"/>
                      </a:lnTo>
                      <a:lnTo>
                        <a:pt x="65" y="6765"/>
                      </a:lnTo>
                      <a:lnTo>
                        <a:pt x="79" y="6685"/>
                      </a:lnTo>
                      <a:lnTo>
                        <a:pt x="96" y="6602"/>
                      </a:lnTo>
                      <a:lnTo>
                        <a:pt x="114" y="6518"/>
                      </a:lnTo>
                      <a:lnTo>
                        <a:pt x="133" y="6432"/>
                      </a:lnTo>
                      <a:lnTo>
                        <a:pt x="155" y="6345"/>
                      </a:lnTo>
                      <a:lnTo>
                        <a:pt x="177" y="6255"/>
                      </a:lnTo>
                      <a:lnTo>
                        <a:pt x="201" y="6166"/>
                      </a:lnTo>
                      <a:lnTo>
                        <a:pt x="227" y="6074"/>
                      </a:lnTo>
                      <a:lnTo>
                        <a:pt x="254" y="5981"/>
                      </a:lnTo>
                      <a:lnTo>
                        <a:pt x="282" y="5886"/>
                      </a:lnTo>
                      <a:lnTo>
                        <a:pt x="312" y="5791"/>
                      </a:lnTo>
                      <a:lnTo>
                        <a:pt x="343" y="5695"/>
                      </a:lnTo>
                      <a:lnTo>
                        <a:pt x="376" y="5597"/>
                      </a:lnTo>
                      <a:lnTo>
                        <a:pt x="409" y="5498"/>
                      </a:lnTo>
                      <a:lnTo>
                        <a:pt x="443" y="5399"/>
                      </a:lnTo>
                      <a:lnTo>
                        <a:pt x="479" y="5299"/>
                      </a:lnTo>
                      <a:lnTo>
                        <a:pt x="516" y="5199"/>
                      </a:lnTo>
                      <a:lnTo>
                        <a:pt x="554" y="5098"/>
                      </a:lnTo>
                      <a:lnTo>
                        <a:pt x="575" y="5048"/>
                      </a:lnTo>
                      <a:lnTo>
                        <a:pt x="594" y="4994"/>
                      </a:lnTo>
                      <a:lnTo>
                        <a:pt x="609" y="4937"/>
                      </a:lnTo>
                      <a:lnTo>
                        <a:pt x="620" y="4877"/>
                      </a:lnTo>
                      <a:lnTo>
                        <a:pt x="629" y="4812"/>
                      </a:lnTo>
                      <a:lnTo>
                        <a:pt x="634" y="4746"/>
                      </a:lnTo>
                      <a:lnTo>
                        <a:pt x="636" y="4677"/>
                      </a:lnTo>
                      <a:lnTo>
                        <a:pt x="636" y="4605"/>
                      </a:lnTo>
                      <a:lnTo>
                        <a:pt x="633" y="4532"/>
                      </a:lnTo>
                      <a:lnTo>
                        <a:pt x="628" y="4456"/>
                      </a:lnTo>
                      <a:lnTo>
                        <a:pt x="621" y="4379"/>
                      </a:lnTo>
                      <a:lnTo>
                        <a:pt x="611" y="4301"/>
                      </a:lnTo>
                      <a:lnTo>
                        <a:pt x="601" y="4222"/>
                      </a:lnTo>
                      <a:lnTo>
                        <a:pt x="588" y="4142"/>
                      </a:lnTo>
                      <a:lnTo>
                        <a:pt x="573" y="4062"/>
                      </a:lnTo>
                      <a:lnTo>
                        <a:pt x="558" y="3980"/>
                      </a:lnTo>
                      <a:lnTo>
                        <a:pt x="541" y="3900"/>
                      </a:lnTo>
                      <a:lnTo>
                        <a:pt x="524" y="3820"/>
                      </a:lnTo>
                      <a:lnTo>
                        <a:pt x="505" y="3739"/>
                      </a:lnTo>
                      <a:lnTo>
                        <a:pt x="487" y="3660"/>
                      </a:lnTo>
                      <a:lnTo>
                        <a:pt x="448" y="3506"/>
                      </a:lnTo>
                      <a:lnTo>
                        <a:pt x="410" y="3357"/>
                      </a:lnTo>
                      <a:lnTo>
                        <a:pt x="373" y="3216"/>
                      </a:lnTo>
                      <a:lnTo>
                        <a:pt x="339" y="3086"/>
                      </a:lnTo>
                      <a:lnTo>
                        <a:pt x="309" y="2967"/>
                      </a:lnTo>
                      <a:lnTo>
                        <a:pt x="285" y="2864"/>
                      </a:lnTo>
                      <a:lnTo>
                        <a:pt x="264" y="2728"/>
                      </a:lnTo>
                      <a:lnTo>
                        <a:pt x="239" y="2572"/>
                      </a:lnTo>
                      <a:lnTo>
                        <a:pt x="211" y="2401"/>
                      </a:lnTo>
                      <a:lnTo>
                        <a:pt x="180" y="2215"/>
                      </a:lnTo>
                      <a:lnTo>
                        <a:pt x="148" y="2019"/>
                      </a:lnTo>
                      <a:lnTo>
                        <a:pt x="117" y="1816"/>
                      </a:lnTo>
                      <a:lnTo>
                        <a:pt x="101" y="1711"/>
                      </a:lnTo>
                      <a:lnTo>
                        <a:pt x="86" y="1607"/>
                      </a:lnTo>
                      <a:lnTo>
                        <a:pt x="72" y="1502"/>
                      </a:lnTo>
                      <a:lnTo>
                        <a:pt x="59" y="1398"/>
                      </a:lnTo>
                      <a:lnTo>
                        <a:pt x="47" y="1292"/>
                      </a:lnTo>
                      <a:lnTo>
                        <a:pt x="36" y="1189"/>
                      </a:lnTo>
                      <a:lnTo>
                        <a:pt x="25" y="1085"/>
                      </a:lnTo>
                      <a:lnTo>
                        <a:pt x="17" y="983"/>
                      </a:lnTo>
                      <a:lnTo>
                        <a:pt x="10" y="883"/>
                      </a:lnTo>
                      <a:lnTo>
                        <a:pt x="5" y="785"/>
                      </a:lnTo>
                      <a:lnTo>
                        <a:pt x="1" y="690"/>
                      </a:lnTo>
                      <a:lnTo>
                        <a:pt x="0" y="597"/>
                      </a:lnTo>
                      <a:lnTo>
                        <a:pt x="1" y="507"/>
                      </a:lnTo>
                      <a:lnTo>
                        <a:pt x="5" y="421"/>
                      </a:lnTo>
                      <a:lnTo>
                        <a:pt x="10" y="340"/>
                      </a:lnTo>
                      <a:lnTo>
                        <a:pt x="20" y="262"/>
                      </a:lnTo>
                      <a:lnTo>
                        <a:pt x="31" y="188"/>
                      </a:lnTo>
                      <a:lnTo>
                        <a:pt x="45" y="120"/>
                      </a:lnTo>
                      <a:lnTo>
                        <a:pt x="63" y="57"/>
                      </a:lnTo>
                      <a:lnTo>
                        <a:pt x="84" y="0"/>
                      </a:lnTo>
                      <a:close/>
                    </a:path>
                  </a:pathLst>
                </a:custGeom>
                <a:solidFill>
                  <a:srgbClr val="0033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1" name=""/>
                <p:cNvSpPr/>
                <p:nvPr/>
              </p:nvSpPr>
              <p:spPr>
                <a:xfrm>
                  <a:off x="3431520" y="3171960"/>
                  <a:ext cx="709200" cy="154080"/>
                </a:xfrm>
                <a:custGeom>
                  <a:avLst/>
                  <a:gdLst/>
                  <a:ahLst/>
                  <a:rect l="l" t="t" r="r" b="b"/>
                  <a:pathLst>
                    <a:path w="3516" h="820">
                      <a:moveTo>
                        <a:pt x="3516" y="633"/>
                      </a:moveTo>
                      <a:lnTo>
                        <a:pt x="3470" y="604"/>
                      </a:lnTo>
                      <a:lnTo>
                        <a:pt x="3443" y="616"/>
                      </a:lnTo>
                      <a:lnTo>
                        <a:pt x="3412" y="627"/>
                      </a:lnTo>
                      <a:lnTo>
                        <a:pt x="3379" y="639"/>
                      </a:lnTo>
                      <a:lnTo>
                        <a:pt x="3345" y="650"/>
                      </a:lnTo>
                      <a:lnTo>
                        <a:pt x="3308" y="661"/>
                      </a:lnTo>
                      <a:lnTo>
                        <a:pt x="3269" y="671"/>
                      </a:lnTo>
                      <a:lnTo>
                        <a:pt x="3229" y="680"/>
                      </a:lnTo>
                      <a:lnTo>
                        <a:pt x="3186" y="689"/>
                      </a:lnTo>
                      <a:lnTo>
                        <a:pt x="3143" y="697"/>
                      </a:lnTo>
                      <a:lnTo>
                        <a:pt x="3097" y="705"/>
                      </a:lnTo>
                      <a:lnTo>
                        <a:pt x="3050" y="713"/>
                      </a:lnTo>
                      <a:lnTo>
                        <a:pt x="3002" y="720"/>
                      </a:lnTo>
                      <a:lnTo>
                        <a:pt x="2951" y="726"/>
                      </a:lnTo>
                      <a:lnTo>
                        <a:pt x="2901" y="732"/>
                      </a:lnTo>
                      <a:lnTo>
                        <a:pt x="2848" y="738"/>
                      </a:lnTo>
                      <a:lnTo>
                        <a:pt x="2794" y="742"/>
                      </a:lnTo>
                      <a:lnTo>
                        <a:pt x="2739" y="746"/>
                      </a:lnTo>
                      <a:lnTo>
                        <a:pt x="2682" y="749"/>
                      </a:lnTo>
                      <a:lnTo>
                        <a:pt x="2625" y="751"/>
                      </a:lnTo>
                      <a:lnTo>
                        <a:pt x="2568" y="754"/>
                      </a:lnTo>
                      <a:lnTo>
                        <a:pt x="2508" y="755"/>
                      </a:lnTo>
                      <a:lnTo>
                        <a:pt x="2448" y="756"/>
                      </a:lnTo>
                      <a:lnTo>
                        <a:pt x="2387" y="755"/>
                      </a:lnTo>
                      <a:lnTo>
                        <a:pt x="2326" y="755"/>
                      </a:lnTo>
                      <a:lnTo>
                        <a:pt x="2264" y="752"/>
                      </a:lnTo>
                      <a:lnTo>
                        <a:pt x="2201" y="750"/>
                      </a:lnTo>
                      <a:lnTo>
                        <a:pt x="2138" y="748"/>
                      </a:lnTo>
                      <a:lnTo>
                        <a:pt x="2075" y="743"/>
                      </a:lnTo>
                      <a:lnTo>
                        <a:pt x="2011" y="739"/>
                      </a:lnTo>
                      <a:lnTo>
                        <a:pt x="1947" y="734"/>
                      </a:lnTo>
                      <a:lnTo>
                        <a:pt x="1883" y="727"/>
                      </a:lnTo>
                      <a:lnTo>
                        <a:pt x="1818" y="720"/>
                      </a:lnTo>
                      <a:lnTo>
                        <a:pt x="1753" y="712"/>
                      </a:lnTo>
                      <a:lnTo>
                        <a:pt x="1689" y="704"/>
                      </a:lnTo>
                      <a:lnTo>
                        <a:pt x="1624" y="694"/>
                      </a:lnTo>
                      <a:lnTo>
                        <a:pt x="1559" y="684"/>
                      </a:lnTo>
                      <a:lnTo>
                        <a:pt x="1495" y="673"/>
                      </a:lnTo>
                      <a:lnTo>
                        <a:pt x="1431" y="661"/>
                      </a:lnTo>
                      <a:lnTo>
                        <a:pt x="1366" y="648"/>
                      </a:lnTo>
                      <a:lnTo>
                        <a:pt x="1303" y="633"/>
                      </a:lnTo>
                      <a:lnTo>
                        <a:pt x="1240" y="619"/>
                      </a:lnTo>
                      <a:lnTo>
                        <a:pt x="1177" y="603"/>
                      </a:lnTo>
                      <a:lnTo>
                        <a:pt x="1115" y="586"/>
                      </a:lnTo>
                      <a:lnTo>
                        <a:pt x="1053" y="569"/>
                      </a:lnTo>
                      <a:lnTo>
                        <a:pt x="992" y="550"/>
                      </a:lnTo>
                      <a:lnTo>
                        <a:pt x="932" y="531"/>
                      </a:lnTo>
                      <a:lnTo>
                        <a:pt x="872" y="509"/>
                      </a:lnTo>
                      <a:lnTo>
                        <a:pt x="814" y="488"/>
                      </a:lnTo>
                      <a:lnTo>
                        <a:pt x="756" y="465"/>
                      </a:lnTo>
                      <a:lnTo>
                        <a:pt x="700" y="441"/>
                      </a:lnTo>
                      <a:lnTo>
                        <a:pt x="644" y="417"/>
                      </a:lnTo>
                      <a:lnTo>
                        <a:pt x="590" y="392"/>
                      </a:lnTo>
                      <a:lnTo>
                        <a:pt x="536" y="364"/>
                      </a:lnTo>
                      <a:lnTo>
                        <a:pt x="484" y="337"/>
                      </a:lnTo>
                      <a:lnTo>
                        <a:pt x="434" y="308"/>
                      </a:lnTo>
                      <a:lnTo>
                        <a:pt x="384" y="278"/>
                      </a:lnTo>
                      <a:lnTo>
                        <a:pt x="336" y="247"/>
                      </a:lnTo>
                      <a:lnTo>
                        <a:pt x="290" y="215"/>
                      </a:lnTo>
                      <a:lnTo>
                        <a:pt x="245" y="181"/>
                      </a:lnTo>
                      <a:lnTo>
                        <a:pt x="203" y="148"/>
                      </a:lnTo>
                      <a:lnTo>
                        <a:pt x="162" y="113"/>
                      </a:lnTo>
                      <a:lnTo>
                        <a:pt x="121" y="76"/>
                      </a:lnTo>
                      <a:lnTo>
                        <a:pt x="84" y="38"/>
                      </a:lnTo>
                      <a:lnTo>
                        <a:pt x="48" y="0"/>
                      </a:lnTo>
                      <a:lnTo>
                        <a:pt x="0" y="42"/>
                      </a:lnTo>
                      <a:lnTo>
                        <a:pt x="38" y="83"/>
                      </a:lnTo>
                      <a:lnTo>
                        <a:pt x="77" y="123"/>
                      </a:lnTo>
                      <a:lnTo>
                        <a:pt x="118" y="161"/>
                      </a:lnTo>
                      <a:lnTo>
                        <a:pt x="162" y="198"/>
                      </a:lnTo>
                      <a:lnTo>
                        <a:pt x="206" y="233"/>
                      </a:lnTo>
                      <a:lnTo>
                        <a:pt x="252" y="268"/>
                      </a:lnTo>
                      <a:lnTo>
                        <a:pt x="301" y="301"/>
                      </a:lnTo>
                      <a:lnTo>
                        <a:pt x="350" y="333"/>
                      </a:lnTo>
                      <a:lnTo>
                        <a:pt x="402" y="364"/>
                      </a:lnTo>
                      <a:lnTo>
                        <a:pt x="453" y="394"/>
                      </a:lnTo>
                      <a:lnTo>
                        <a:pt x="507" y="422"/>
                      </a:lnTo>
                      <a:lnTo>
                        <a:pt x="561" y="449"/>
                      </a:lnTo>
                      <a:lnTo>
                        <a:pt x="618" y="476"/>
                      </a:lnTo>
                      <a:lnTo>
                        <a:pt x="674" y="501"/>
                      </a:lnTo>
                      <a:lnTo>
                        <a:pt x="732" y="525"/>
                      </a:lnTo>
                      <a:lnTo>
                        <a:pt x="791" y="548"/>
                      </a:lnTo>
                      <a:lnTo>
                        <a:pt x="851" y="571"/>
                      </a:lnTo>
                      <a:lnTo>
                        <a:pt x="912" y="592"/>
                      </a:lnTo>
                      <a:lnTo>
                        <a:pt x="972" y="611"/>
                      </a:lnTo>
                      <a:lnTo>
                        <a:pt x="1034" y="631"/>
                      </a:lnTo>
                      <a:lnTo>
                        <a:pt x="1098" y="648"/>
                      </a:lnTo>
                      <a:lnTo>
                        <a:pt x="1161" y="665"/>
                      </a:lnTo>
                      <a:lnTo>
                        <a:pt x="1224" y="681"/>
                      </a:lnTo>
                      <a:lnTo>
                        <a:pt x="1288" y="696"/>
                      </a:lnTo>
                      <a:lnTo>
                        <a:pt x="1354" y="711"/>
                      </a:lnTo>
                      <a:lnTo>
                        <a:pt x="1418" y="724"/>
                      </a:lnTo>
                      <a:lnTo>
                        <a:pt x="1483" y="736"/>
                      </a:lnTo>
                      <a:lnTo>
                        <a:pt x="1549" y="748"/>
                      </a:lnTo>
                      <a:lnTo>
                        <a:pt x="1614" y="758"/>
                      </a:lnTo>
                      <a:lnTo>
                        <a:pt x="1680" y="767"/>
                      </a:lnTo>
                      <a:lnTo>
                        <a:pt x="1745" y="777"/>
                      </a:lnTo>
                      <a:lnTo>
                        <a:pt x="1811" y="785"/>
                      </a:lnTo>
                      <a:lnTo>
                        <a:pt x="1876" y="792"/>
                      </a:lnTo>
                      <a:lnTo>
                        <a:pt x="1942" y="798"/>
                      </a:lnTo>
                      <a:lnTo>
                        <a:pt x="2006" y="803"/>
                      </a:lnTo>
                      <a:lnTo>
                        <a:pt x="2071" y="808"/>
                      </a:lnTo>
                      <a:lnTo>
                        <a:pt x="2135" y="812"/>
                      </a:lnTo>
                      <a:lnTo>
                        <a:pt x="2199" y="816"/>
                      </a:lnTo>
                      <a:lnTo>
                        <a:pt x="2262" y="818"/>
                      </a:lnTo>
                      <a:lnTo>
                        <a:pt x="2325" y="819"/>
                      </a:lnTo>
                      <a:lnTo>
                        <a:pt x="2387" y="820"/>
                      </a:lnTo>
                      <a:lnTo>
                        <a:pt x="2448" y="820"/>
                      </a:lnTo>
                      <a:lnTo>
                        <a:pt x="2509" y="819"/>
                      </a:lnTo>
                      <a:lnTo>
                        <a:pt x="2569" y="818"/>
                      </a:lnTo>
                      <a:lnTo>
                        <a:pt x="2627" y="817"/>
                      </a:lnTo>
                      <a:lnTo>
                        <a:pt x="2686" y="813"/>
                      </a:lnTo>
                      <a:lnTo>
                        <a:pt x="2742" y="810"/>
                      </a:lnTo>
                      <a:lnTo>
                        <a:pt x="2798" y="806"/>
                      </a:lnTo>
                      <a:lnTo>
                        <a:pt x="2853" y="802"/>
                      </a:lnTo>
                      <a:lnTo>
                        <a:pt x="2906" y="796"/>
                      </a:lnTo>
                      <a:lnTo>
                        <a:pt x="2959" y="790"/>
                      </a:lnTo>
                      <a:lnTo>
                        <a:pt x="3010" y="785"/>
                      </a:lnTo>
                      <a:lnTo>
                        <a:pt x="3059" y="778"/>
                      </a:lnTo>
                      <a:lnTo>
                        <a:pt x="3108" y="770"/>
                      </a:lnTo>
                      <a:lnTo>
                        <a:pt x="3154" y="762"/>
                      </a:lnTo>
                      <a:lnTo>
                        <a:pt x="3199" y="752"/>
                      </a:lnTo>
                      <a:lnTo>
                        <a:pt x="3243" y="743"/>
                      </a:lnTo>
                      <a:lnTo>
                        <a:pt x="3285" y="733"/>
                      </a:lnTo>
                      <a:lnTo>
                        <a:pt x="3324" y="723"/>
                      </a:lnTo>
                      <a:lnTo>
                        <a:pt x="3363" y="712"/>
                      </a:lnTo>
                      <a:lnTo>
                        <a:pt x="3399" y="701"/>
                      </a:lnTo>
                      <a:lnTo>
                        <a:pt x="3435" y="688"/>
                      </a:lnTo>
                      <a:lnTo>
                        <a:pt x="3467" y="675"/>
                      </a:lnTo>
                      <a:lnTo>
                        <a:pt x="3497" y="663"/>
                      </a:lnTo>
                      <a:lnTo>
                        <a:pt x="3452" y="633"/>
                      </a:lnTo>
                      <a:lnTo>
                        <a:pt x="3497" y="663"/>
                      </a:lnTo>
                      <a:lnTo>
                        <a:pt x="3503" y="659"/>
                      </a:lnTo>
                      <a:lnTo>
                        <a:pt x="3509" y="655"/>
                      </a:lnTo>
                      <a:lnTo>
                        <a:pt x="3513" y="649"/>
                      </a:lnTo>
                      <a:lnTo>
                        <a:pt x="3515" y="643"/>
                      </a:lnTo>
                      <a:lnTo>
                        <a:pt x="3516" y="638"/>
                      </a:lnTo>
                      <a:lnTo>
                        <a:pt x="3516" y="632"/>
                      </a:lnTo>
                      <a:lnTo>
                        <a:pt x="3515" y="626"/>
                      </a:lnTo>
                      <a:lnTo>
                        <a:pt x="3514" y="620"/>
                      </a:lnTo>
                      <a:lnTo>
                        <a:pt x="3510" y="615"/>
                      </a:lnTo>
                      <a:lnTo>
                        <a:pt x="3507" y="610"/>
                      </a:lnTo>
                      <a:lnTo>
                        <a:pt x="3502" y="607"/>
                      </a:lnTo>
                      <a:lnTo>
                        <a:pt x="3497" y="603"/>
                      </a:lnTo>
                      <a:lnTo>
                        <a:pt x="3491" y="601"/>
                      </a:lnTo>
                      <a:lnTo>
                        <a:pt x="3485" y="601"/>
                      </a:lnTo>
                      <a:lnTo>
                        <a:pt x="3478" y="602"/>
                      </a:lnTo>
                      <a:lnTo>
                        <a:pt x="3470" y="604"/>
                      </a:lnTo>
                      <a:lnTo>
                        <a:pt x="3516" y="63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2" name=""/>
                <p:cNvSpPr/>
                <p:nvPr/>
              </p:nvSpPr>
              <p:spPr>
                <a:xfrm>
                  <a:off x="4110480" y="3292560"/>
                  <a:ext cx="30600" cy="246960"/>
                </a:xfrm>
                <a:custGeom>
                  <a:avLst/>
                  <a:gdLst/>
                  <a:ahLst/>
                  <a:rect l="l" t="t" r="r" b="b"/>
                  <a:pathLst>
                    <a:path w="158" h="1315">
                      <a:moveTo>
                        <a:pt x="64" y="1279"/>
                      </a:moveTo>
                      <a:lnTo>
                        <a:pt x="64" y="1289"/>
                      </a:lnTo>
                      <a:lnTo>
                        <a:pt x="80" y="1198"/>
                      </a:lnTo>
                      <a:lnTo>
                        <a:pt x="94" y="1111"/>
                      </a:lnTo>
                      <a:lnTo>
                        <a:pt x="106" y="1028"/>
                      </a:lnTo>
                      <a:lnTo>
                        <a:pt x="118" y="948"/>
                      </a:lnTo>
                      <a:lnTo>
                        <a:pt x="126" y="871"/>
                      </a:lnTo>
                      <a:lnTo>
                        <a:pt x="134" y="795"/>
                      </a:lnTo>
                      <a:lnTo>
                        <a:pt x="140" y="721"/>
                      </a:lnTo>
                      <a:lnTo>
                        <a:pt x="145" y="648"/>
                      </a:lnTo>
                      <a:lnTo>
                        <a:pt x="149" y="573"/>
                      </a:lnTo>
                      <a:lnTo>
                        <a:pt x="152" y="499"/>
                      </a:lnTo>
                      <a:lnTo>
                        <a:pt x="155" y="423"/>
                      </a:lnTo>
                      <a:lnTo>
                        <a:pt x="156" y="345"/>
                      </a:lnTo>
                      <a:lnTo>
                        <a:pt x="157" y="180"/>
                      </a:lnTo>
                      <a:lnTo>
                        <a:pt x="158" y="0"/>
                      </a:lnTo>
                      <a:lnTo>
                        <a:pt x="94" y="0"/>
                      </a:lnTo>
                      <a:lnTo>
                        <a:pt x="93" y="180"/>
                      </a:lnTo>
                      <a:lnTo>
                        <a:pt x="91" y="345"/>
                      </a:lnTo>
                      <a:lnTo>
                        <a:pt x="89" y="422"/>
                      </a:lnTo>
                      <a:lnTo>
                        <a:pt x="87" y="497"/>
                      </a:lnTo>
                      <a:lnTo>
                        <a:pt x="85" y="571"/>
                      </a:lnTo>
                      <a:lnTo>
                        <a:pt x="80" y="643"/>
                      </a:lnTo>
                      <a:lnTo>
                        <a:pt x="75" y="717"/>
                      </a:lnTo>
                      <a:lnTo>
                        <a:pt x="70" y="789"/>
                      </a:lnTo>
                      <a:lnTo>
                        <a:pt x="62" y="864"/>
                      </a:lnTo>
                      <a:lnTo>
                        <a:pt x="54" y="941"/>
                      </a:lnTo>
                      <a:lnTo>
                        <a:pt x="42" y="1019"/>
                      </a:lnTo>
                      <a:lnTo>
                        <a:pt x="31" y="1102"/>
                      </a:lnTo>
                      <a:lnTo>
                        <a:pt x="16" y="1187"/>
                      </a:lnTo>
                      <a:lnTo>
                        <a:pt x="0" y="1278"/>
                      </a:lnTo>
                      <a:lnTo>
                        <a:pt x="0" y="1288"/>
                      </a:lnTo>
                      <a:lnTo>
                        <a:pt x="0" y="1278"/>
                      </a:lnTo>
                      <a:lnTo>
                        <a:pt x="0" y="1286"/>
                      </a:lnTo>
                      <a:lnTo>
                        <a:pt x="1" y="1292"/>
                      </a:lnTo>
                      <a:lnTo>
                        <a:pt x="2" y="1298"/>
                      </a:lnTo>
                      <a:lnTo>
                        <a:pt x="5" y="1303"/>
                      </a:lnTo>
                      <a:lnTo>
                        <a:pt x="10" y="1307"/>
                      </a:lnTo>
                      <a:lnTo>
                        <a:pt x="15" y="1311"/>
                      </a:lnTo>
                      <a:lnTo>
                        <a:pt x="20" y="1313"/>
                      </a:lnTo>
                      <a:lnTo>
                        <a:pt x="26" y="1315"/>
                      </a:lnTo>
                      <a:lnTo>
                        <a:pt x="32" y="1315"/>
                      </a:lnTo>
                      <a:lnTo>
                        <a:pt x="37" y="1315"/>
                      </a:lnTo>
                      <a:lnTo>
                        <a:pt x="44" y="1314"/>
                      </a:lnTo>
                      <a:lnTo>
                        <a:pt x="49" y="1311"/>
                      </a:lnTo>
                      <a:lnTo>
                        <a:pt x="55" y="1307"/>
                      </a:lnTo>
                      <a:lnTo>
                        <a:pt x="58" y="1303"/>
                      </a:lnTo>
                      <a:lnTo>
                        <a:pt x="62" y="1296"/>
                      </a:lnTo>
                      <a:lnTo>
                        <a:pt x="64" y="1289"/>
                      </a:lnTo>
                      <a:lnTo>
                        <a:pt x="64" y="127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3" name=""/>
                <p:cNvSpPr/>
                <p:nvPr/>
              </p:nvSpPr>
              <p:spPr>
                <a:xfrm>
                  <a:off x="4110480" y="3533040"/>
                  <a:ext cx="74880" cy="511200"/>
                </a:xfrm>
                <a:custGeom>
                  <a:avLst/>
                  <a:gdLst/>
                  <a:ahLst/>
                  <a:rect l="l" t="t" r="r" b="b"/>
                  <a:pathLst>
                    <a:path w="369" h="2690">
                      <a:moveTo>
                        <a:pt x="364" y="2658"/>
                      </a:moveTo>
                      <a:lnTo>
                        <a:pt x="364" y="2660"/>
                      </a:lnTo>
                      <a:lnTo>
                        <a:pt x="367" y="2598"/>
                      </a:lnTo>
                      <a:lnTo>
                        <a:pt x="368" y="2533"/>
                      </a:lnTo>
                      <a:lnTo>
                        <a:pt x="369" y="2463"/>
                      </a:lnTo>
                      <a:lnTo>
                        <a:pt x="367" y="2389"/>
                      </a:lnTo>
                      <a:lnTo>
                        <a:pt x="365" y="2312"/>
                      </a:lnTo>
                      <a:lnTo>
                        <a:pt x="360" y="2233"/>
                      </a:lnTo>
                      <a:lnTo>
                        <a:pt x="356" y="2150"/>
                      </a:lnTo>
                      <a:lnTo>
                        <a:pt x="349" y="2064"/>
                      </a:lnTo>
                      <a:lnTo>
                        <a:pt x="342" y="1977"/>
                      </a:lnTo>
                      <a:lnTo>
                        <a:pt x="333" y="1887"/>
                      </a:lnTo>
                      <a:lnTo>
                        <a:pt x="323" y="1797"/>
                      </a:lnTo>
                      <a:lnTo>
                        <a:pt x="313" y="1703"/>
                      </a:lnTo>
                      <a:lnTo>
                        <a:pt x="290" y="1515"/>
                      </a:lnTo>
                      <a:lnTo>
                        <a:pt x="265" y="1324"/>
                      </a:lnTo>
                      <a:lnTo>
                        <a:pt x="238" y="1134"/>
                      </a:lnTo>
                      <a:lnTo>
                        <a:pt x="211" y="945"/>
                      </a:lnTo>
                      <a:lnTo>
                        <a:pt x="183" y="763"/>
                      </a:lnTo>
                      <a:lnTo>
                        <a:pt x="156" y="587"/>
                      </a:lnTo>
                      <a:lnTo>
                        <a:pt x="105" y="265"/>
                      </a:lnTo>
                      <a:lnTo>
                        <a:pt x="64" y="0"/>
                      </a:lnTo>
                      <a:lnTo>
                        <a:pt x="0" y="9"/>
                      </a:lnTo>
                      <a:lnTo>
                        <a:pt x="41" y="274"/>
                      </a:lnTo>
                      <a:lnTo>
                        <a:pt x="93" y="596"/>
                      </a:lnTo>
                      <a:lnTo>
                        <a:pt x="119" y="772"/>
                      </a:lnTo>
                      <a:lnTo>
                        <a:pt x="147" y="956"/>
                      </a:lnTo>
                      <a:lnTo>
                        <a:pt x="174" y="1143"/>
                      </a:lnTo>
                      <a:lnTo>
                        <a:pt x="202" y="1332"/>
                      </a:lnTo>
                      <a:lnTo>
                        <a:pt x="226" y="1523"/>
                      </a:lnTo>
                      <a:lnTo>
                        <a:pt x="249" y="1710"/>
                      </a:lnTo>
                      <a:lnTo>
                        <a:pt x="259" y="1803"/>
                      </a:lnTo>
                      <a:lnTo>
                        <a:pt x="268" y="1894"/>
                      </a:lnTo>
                      <a:lnTo>
                        <a:pt x="278" y="1983"/>
                      </a:lnTo>
                      <a:lnTo>
                        <a:pt x="284" y="2070"/>
                      </a:lnTo>
                      <a:lnTo>
                        <a:pt x="291" y="2155"/>
                      </a:lnTo>
                      <a:lnTo>
                        <a:pt x="296" y="2237"/>
                      </a:lnTo>
                      <a:lnTo>
                        <a:pt x="300" y="2316"/>
                      </a:lnTo>
                      <a:lnTo>
                        <a:pt x="303" y="2392"/>
                      </a:lnTo>
                      <a:lnTo>
                        <a:pt x="304" y="2463"/>
                      </a:lnTo>
                      <a:lnTo>
                        <a:pt x="304" y="2532"/>
                      </a:lnTo>
                      <a:lnTo>
                        <a:pt x="303" y="2596"/>
                      </a:lnTo>
                      <a:lnTo>
                        <a:pt x="299" y="2656"/>
                      </a:lnTo>
                      <a:lnTo>
                        <a:pt x="299" y="2657"/>
                      </a:lnTo>
                      <a:lnTo>
                        <a:pt x="299" y="2656"/>
                      </a:lnTo>
                      <a:lnTo>
                        <a:pt x="299" y="2663"/>
                      </a:lnTo>
                      <a:lnTo>
                        <a:pt x="300" y="2670"/>
                      </a:lnTo>
                      <a:lnTo>
                        <a:pt x="304" y="2675"/>
                      </a:lnTo>
                      <a:lnTo>
                        <a:pt x="307" y="2680"/>
                      </a:lnTo>
                      <a:lnTo>
                        <a:pt x="312" y="2685"/>
                      </a:lnTo>
                      <a:lnTo>
                        <a:pt x="318" y="2687"/>
                      </a:lnTo>
                      <a:lnTo>
                        <a:pt x="323" y="2689"/>
                      </a:lnTo>
                      <a:lnTo>
                        <a:pt x="329" y="2690"/>
                      </a:lnTo>
                      <a:lnTo>
                        <a:pt x="335" y="2690"/>
                      </a:lnTo>
                      <a:lnTo>
                        <a:pt x="341" y="2689"/>
                      </a:lnTo>
                      <a:lnTo>
                        <a:pt x="346" y="2687"/>
                      </a:lnTo>
                      <a:lnTo>
                        <a:pt x="352" y="2683"/>
                      </a:lnTo>
                      <a:lnTo>
                        <a:pt x="357" y="2679"/>
                      </a:lnTo>
                      <a:lnTo>
                        <a:pt x="360" y="2674"/>
                      </a:lnTo>
                      <a:lnTo>
                        <a:pt x="362" y="2667"/>
                      </a:lnTo>
                      <a:lnTo>
                        <a:pt x="364" y="2660"/>
                      </a:lnTo>
                      <a:lnTo>
                        <a:pt x="364" y="265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4" name=""/>
                <p:cNvSpPr/>
                <p:nvPr/>
              </p:nvSpPr>
              <p:spPr>
                <a:xfrm>
                  <a:off x="4170240" y="4036680"/>
                  <a:ext cx="167040" cy="562320"/>
                </a:xfrm>
                <a:custGeom>
                  <a:avLst/>
                  <a:gdLst/>
                  <a:ahLst/>
                  <a:rect l="l" t="t" r="r" b="b"/>
                  <a:pathLst>
                    <a:path w="826" h="2970">
                      <a:moveTo>
                        <a:pt x="826" y="2941"/>
                      </a:moveTo>
                      <a:lnTo>
                        <a:pt x="826" y="2937"/>
                      </a:lnTo>
                      <a:lnTo>
                        <a:pt x="823" y="2861"/>
                      </a:lnTo>
                      <a:lnTo>
                        <a:pt x="818" y="2786"/>
                      </a:lnTo>
                      <a:lnTo>
                        <a:pt x="812" y="2714"/>
                      </a:lnTo>
                      <a:lnTo>
                        <a:pt x="805" y="2642"/>
                      </a:lnTo>
                      <a:lnTo>
                        <a:pt x="798" y="2572"/>
                      </a:lnTo>
                      <a:lnTo>
                        <a:pt x="790" y="2505"/>
                      </a:lnTo>
                      <a:lnTo>
                        <a:pt x="782" y="2437"/>
                      </a:lnTo>
                      <a:lnTo>
                        <a:pt x="773" y="2371"/>
                      </a:lnTo>
                      <a:lnTo>
                        <a:pt x="763" y="2307"/>
                      </a:lnTo>
                      <a:lnTo>
                        <a:pt x="751" y="2244"/>
                      </a:lnTo>
                      <a:lnTo>
                        <a:pt x="740" y="2182"/>
                      </a:lnTo>
                      <a:lnTo>
                        <a:pt x="728" y="2121"/>
                      </a:lnTo>
                      <a:lnTo>
                        <a:pt x="716" y="2060"/>
                      </a:lnTo>
                      <a:lnTo>
                        <a:pt x="703" y="2001"/>
                      </a:lnTo>
                      <a:lnTo>
                        <a:pt x="689" y="1945"/>
                      </a:lnTo>
                      <a:lnTo>
                        <a:pt x="676" y="1888"/>
                      </a:lnTo>
                      <a:lnTo>
                        <a:pt x="646" y="1778"/>
                      </a:lnTo>
                      <a:lnTo>
                        <a:pt x="615" y="1674"/>
                      </a:lnTo>
                      <a:lnTo>
                        <a:pt x="583" y="1572"/>
                      </a:lnTo>
                      <a:lnTo>
                        <a:pt x="549" y="1474"/>
                      </a:lnTo>
                      <a:lnTo>
                        <a:pt x="516" y="1380"/>
                      </a:lnTo>
                      <a:lnTo>
                        <a:pt x="481" y="1289"/>
                      </a:lnTo>
                      <a:lnTo>
                        <a:pt x="447" y="1202"/>
                      </a:lnTo>
                      <a:lnTo>
                        <a:pt x="413" y="1117"/>
                      </a:lnTo>
                      <a:lnTo>
                        <a:pt x="345" y="956"/>
                      </a:lnTo>
                      <a:lnTo>
                        <a:pt x="279" y="804"/>
                      </a:lnTo>
                      <a:lnTo>
                        <a:pt x="248" y="731"/>
                      </a:lnTo>
                      <a:lnTo>
                        <a:pt x="220" y="659"/>
                      </a:lnTo>
                      <a:lnTo>
                        <a:pt x="192" y="591"/>
                      </a:lnTo>
                      <a:lnTo>
                        <a:pt x="167" y="522"/>
                      </a:lnTo>
                      <a:lnTo>
                        <a:pt x="144" y="455"/>
                      </a:lnTo>
                      <a:lnTo>
                        <a:pt x="123" y="388"/>
                      </a:lnTo>
                      <a:lnTo>
                        <a:pt x="114" y="356"/>
                      </a:lnTo>
                      <a:lnTo>
                        <a:pt x="105" y="323"/>
                      </a:lnTo>
                      <a:lnTo>
                        <a:pt x="97" y="291"/>
                      </a:lnTo>
                      <a:lnTo>
                        <a:pt x="90" y="259"/>
                      </a:lnTo>
                      <a:lnTo>
                        <a:pt x="84" y="226"/>
                      </a:lnTo>
                      <a:lnTo>
                        <a:pt x="78" y="194"/>
                      </a:lnTo>
                      <a:lnTo>
                        <a:pt x="74" y="162"/>
                      </a:lnTo>
                      <a:lnTo>
                        <a:pt x="70" y="130"/>
                      </a:lnTo>
                      <a:lnTo>
                        <a:pt x="67" y="98"/>
                      </a:lnTo>
                      <a:lnTo>
                        <a:pt x="66" y="66"/>
                      </a:lnTo>
                      <a:lnTo>
                        <a:pt x="65" y="33"/>
                      </a:lnTo>
                      <a:lnTo>
                        <a:pt x="65" y="1"/>
                      </a:lnTo>
                      <a:lnTo>
                        <a:pt x="0" y="0"/>
                      </a:lnTo>
                      <a:lnTo>
                        <a:pt x="0" y="34"/>
                      </a:lnTo>
                      <a:lnTo>
                        <a:pt x="1" y="69"/>
                      </a:lnTo>
                      <a:lnTo>
                        <a:pt x="3" y="102"/>
                      </a:lnTo>
                      <a:lnTo>
                        <a:pt x="6" y="137"/>
                      </a:lnTo>
                      <a:lnTo>
                        <a:pt x="10" y="170"/>
                      </a:lnTo>
                      <a:lnTo>
                        <a:pt x="15" y="205"/>
                      </a:lnTo>
                      <a:lnTo>
                        <a:pt x="20" y="238"/>
                      </a:lnTo>
                      <a:lnTo>
                        <a:pt x="27" y="271"/>
                      </a:lnTo>
                      <a:lnTo>
                        <a:pt x="35" y="306"/>
                      </a:lnTo>
                      <a:lnTo>
                        <a:pt x="43" y="339"/>
                      </a:lnTo>
                      <a:lnTo>
                        <a:pt x="51" y="373"/>
                      </a:lnTo>
                      <a:lnTo>
                        <a:pt x="61" y="407"/>
                      </a:lnTo>
                      <a:lnTo>
                        <a:pt x="82" y="475"/>
                      </a:lnTo>
                      <a:lnTo>
                        <a:pt x="106" y="543"/>
                      </a:lnTo>
                      <a:lnTo>
                        <a:pt x="131" y="614"/>
                      </a:lnTo>
                      <a:lnTo>
                        <a:pt x="160" y="684"/>
                      </a:lnTo>
                      <a:lnTo>
                        <a:pt x="189" y="756"/>
                      </a:lnTo>
                      <a:lnTo>
                        <a:pt x="220" y="830"/>
                      </a:lnTo>
                      <a:lnTo>
                        <a:pt x="285" y="981"/>
                      </a:lnTo>
                      <a:lnTo>
                        <a:pt x="353" y="1142"/>
                      </a:lnTo>
                      <a:lnTo>
                        <a:pt x="387" y="1226"/>
                      </a:lnTo>
                      <a:lnTo>
                        <a:pt x="422" y="1313"/>
                      </a:lnTo>
                      <a:lnTo>
                        <a:pt x="455" y="1403"/>
                      </a:lnTo>
                      <a:lnTo>
                        <a:pt x="488" y="1496"/>
                      </a:lnTo>
                      <a:lnTo>
                        <a:pt x="522" y="1592"/>
                      </a:lnTo>
                      <a:lnTo>
                        <a:pt x="553" y="1692"/>
                      </a:lnTo>
                      <a:lnTo>
                        <a:pt x="584" y="1796"/>
                      </a:lnTo>
                      <a:lnTo>
                        <a:pt x="612" y="1904"/>
                      </a:lnTo>
                      <a:lnTo>
                        <a:pt x="626" y="1960"/>
                      </a:lnTo>
                      <a:lnTo>
                        <a:pt x="640" y="2016"/>
                      </a:lnTo>
                      <a:lnTo>
                        <a:pt x="653" y="2074"/>
                      </a:lnTo>
                      <a:lnTo>
                        <a:pt x="665" y="2133"/>
                      </a:lnTo>
                      <a:lnTo>
                        <a:pt x="677" y="2193"/>
                      </a:lnTo>
                      <a:lnTo>
                        <a:pt x="688" y="2254"/>
                      </a:lnTo>
                      <a:lnTo>
                        <a:pt x="699" y="2317"/>
                      </a:lnTo>
                      <a:lnTo>
                        <a:pt x="709" y="2380"/>
                      </a:lnTo>
                      <a:lnTo>
                        <a:pt x="718" y="2446"/>
                      </a:lnTo>
                      <a:lnTo>
                        <a:pt x="726" y="2513"/>
                      </a:lnTo>
                      <a:lnTo>
                        <a:pt x="734" y="2579"/>
                      </a:lnTo>
                      <a:lnTo>
                        <a:pt x="741" y="2648"/>
                      </a:lnTo>
                      <a:lnTo>
                        <a:pt x="748" y="2719"/>
                      </a:lnTo>
                      <a:lnTo>
                        <a:pt x="753" y="2791"/>
                      </a:lnTo>
                      <a:lnTo>
                        <a:pt x="757" y="2864"/>
                      </a:lnTo>
                      <a:lnTo>
                        <a:pt x="761" y="2939"/>
                      </a:lnTo>
                      <a:lnTo>
                        <a:pt x="762" y="2933"/>
                      </a:lnTo>
                      <a:lnTo>
                        <a:pt x="762" y="2939"/>
                      </a:lnTo>
                      <a:lnTo>
                        <a:pt x="762" y="2946"/>
                      </a:lnTo>
                      <a:lnTo>
                        <a:pt x="764" y="2953"/>
                      </a:lnTo>
                      <a:lnTo>
                        <a:pt x="767" y="2958"/>
                      </a:lnTo>
                      <a:lnTo>
                        <a:pt x="772" y="2963"/>
                      </a:lnTo>
                      <a:lnTo>
                        <a:pt x="777" y="2966"/>
                      </a:lnTo>
                      <a:lnTo>
                        <a:pt x="782" y="2969"/>
                      </a:lnTo>
                      <a:lnTo>
                        <a:pt x="788" y="2970"/>
                      </a:lnTo>
                      <a:lnTo>
                        <a:pt x="795" y="2970"/>
                      </a:lnTo>
                      <a:lnTo>
                        <a:pt x="801" y="2969"/>
                      </a:lnTo>
                      <a:lnTo>
                        <a:pt x="806" y="2968"/>
                      </a:lnTo>
                      <a:lnTo>
                        <a:pt x="812" y="2964"/>
                      </a:lnTo>
                      <a:lnTo>
                        <a:pt x="817" y="2961"/>
                      </a:lnTo>
                      <a:lnTo>
                        <a:pt x="820" y="2956"/>
                      </a:lnTo>
                      <a:lnTo>
                        <a:pt x="824" y="2950"/>
                      </a:lnTo>
                      <a:lnTo>
                        <a:pt x="825" y="2943"/>
                      </a:lnTo>
                      <a:lnTo>
                        <a:pt x="826" y="2937"/>
                      </a:lnTo>
                      <a:lnTo>
                        <a:pt x="826" y="294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5" name=""/>
                <p:cNvSpPr/>
                <p:nvPr/>
              </p:nvSpPr>
              <p:spPr>
                <a:xfrm>
                  <a:off x="4024080" y="4592520"/>
                  <a:ext cx="313560" cy="80640"/>
                </a:xfrm>
                <a:custGeom>
                  <a:avLst/>
                  <a:gdLst/>
                  <a:ahLst/>
                  <a:rect l="l" t="t" r="r" b="b"/>
                  <a:pathLst>
                    <a:path w="1548" h="429">
                      <a:moveTo>
                        <a:pt x="0" y="262"/>
                      </a:moveTo>
                      <a:lnTo>
                        <a:pt x="0" y="256"/>
                      </a:lnTo>
                      <a:lnTo>
                        <a:pt x="0" y="274"/>
                      </a:lnTo>
                      <a:lnTo>
                        <a:pt x="5" y="291"/>
                      </a:lnTo>
                      <a:lnTo>
                        <a:pt x="10" y="307"/>
                      </a:lnTo>
                      <a:lnTo>
                        <a:pt x="20" y="321"/>
                      </a:lnTo>
                      <a:lnTo>
                        <a:pt x="31" y="333"/>
                      </a:lnTo>
                      <a:lnTo>
                        <a:pt x="44" y="345"/>
                      </a:lnTo>
                      <a:lnTo>
                        <a:pt x="59" y="355"/>
                      </a:lnTo>
                      <a:lnTo>
                        <a:pt x="73" y="364"/>
                      </a:lnTo>
                      <a:lnTo>
                        <a:pt x="91" y="372"/>
                      </a:lnTo>
                      <a:lnTo>
                        <a:pt x="109" y="380"/>
                      </a:lnTo>
                      <a:lnTo>
                        <a:pt x="129" y="387"/>
                      </a:lnTo>
                      <a:lnTo>
                        <a:pt x="149" y="394"/>
                      </a:lnTo>
                      <a:lnTo>
                        <a:pt x="172" y="400"/>
                      </a:lnTo>
                      <a:lnTo>
                        <a:pt x="195" y="405"/>
                      </a:lnTo>
                      <a:lnTo>
                        <a:pt x="219" y="409"/>
                      </a:lnTo>
                      <a:lnTo>
                        <a:pt x="246" y="414"/>
                      </a:lnTo>
                      <a:lnTo>
                        <a:pt x="299" y="421"/>
                      </a:lnTo>
                      <a:lnTo>
                        <a:pt x="356" y="425"/>
                      </a:lnTo>
                      <a:lnTo>
                        <a:pt x="417" y="427"/>
                      </a:lnTo>
                      <a:lnTo>
                        <a:pt x="480" y="429"/>
                      </a:lnTo>
                      <a:lnTo>
                        <a:pt x="545" y="427"/>
                      </a:lnTo>
                      <a:lnTo>
                        <a:pt x="613" y="424"/>
                      </a:lnTo>
                      <a:lnTo>
                        <a:pt x="682" y="418"/>
                      </a:lnTo>
                      <a:lnTo>
                        <a:pt x="751" y="411"/>
                      </a:lnTo>
                      <a:lnTo>
                        <a:pt x="821" y="402"/>
                      </a:lnTo>
                      <a:lnTo>
                        <a:pt x="890" y="392"/>
                      </a:lnTo>
                      <a:lnTo>
                        <a:pt x="959" y="378"/>
                      </a:lnTo>
                      <a:lnTo>
                        <a:pt x="1025" y="363"/>
                      </a:lnTo>
                      <a:lnTo>
                        <a:pt x="1091" y="346"/>
                      </a:lnTo>
                      <a:lnTo>
                        <a:pt x="1154" y="328"/>
                      </a:lnTo>
                      <a:lnTo>
                        <a:pt x="1185" y="317"/>
                      </a:lnTo>
                      <a:lnTo>
                        <a:pt x="1215" y="306"/>
                      </a:lnTo>
                      <a:lnTo>
                        <a:pt x="1244" y="295"/>
                      </a:lnTo>
                      <a:lnTo>
                        <a:pt x="1271" y="283"/>
                      </a:lnTo>
                      <a:lnTo>
                        <a:pt x="1299" y="270"/>
                      </a:lnTo>
                      <a:lnTo>
                        <a:pt x="1325" y="257"/>
                      </a:lnTo>
                      <a:lnTo>
                        <a:pt x="1350" y="244"/>
                      </a:lnTo>
                      <a:lnTo>
                        <a:pt x="1375" y="230"/>
                      </a:lnTo>
                      <a:lnTo>
                        <a:pt x="1396" y="216"/>
                      </a:lnTo>
                      <a:lnTo>
                        <a:pt x="1418" y="200"/>
                      </a:lnTo>
                      <a:lnTo>
                        <a:pt x="1439" y="184"/>
                      </a:lnTo>
                      <a:lnTo>
                        <a:pt x="1457" y="168"/>
                      </a:lnTo>
                      <a:lnTo>
                        <a:pt x="1475" y="151"/>
                      </a:lnTo>
                      <a:lnTo>
                        <a:pt x="1491" y="132"/>
                      </a:lnTo>
                      <a:lnTo>
                        <a:pt x="1506" y="114"/>
                      </a:lnTo>
                      <a:lnTo>
                        <a:pt x="1518" y="94"/>
                      </a:lnTo>
                      <a:lnTo>
                        <a:pt x="1528" y="74"/>
                      </a:lnTo>
                      <a:lnTo>
                        <a:pt x="1537" y="53"/>
                      </a:lnTo>
                      <a:lnTo>
                        <a:pt x="1543" y="31"/>
                      </a:lnTo>
                      <a:lnTo>
                        <a:pt x="1548" y="8"/>
                      </a:lnTo>
                      <a:lnTo>
                        <a:pt x="1484" y="0"/>
                      </a:lnTo>
                      <a:lnTo>
                        <a:pt x="1480" y="16"/>
                      </a:lnTo>
                      <a:lnTo>
                        <a:pt x="1476" y="31"/>
                      </a:lnTo>
                      <a:lnTo>
                        <a:pt x="1470" y="47"/>
                      </a:lnTo>
                      <a:lnTo>
                        <a:pt x="1462" y="62"/>
                      </a:lnTo>
                      <a:lnTo>
                        <a:pt x="1453" y="77"/>
                      </a:lnTo>
                      <a:lnTo>
                        <a:pt x="1441" y="92"/>
                      </a:lnTo>
                      <a:lnTo>
                        <a:pt x="1429" y="106"/>
                      </a:lnTo>
                      <a:lnTo>
                        <a:pt x="1414" y="121"/>
                      </a:lnTo>
                      <a:lnTo>
                        <a:pt x="1398" y="135"/>
                      </a:lnTo>
                      <a:lnTo>
                        <a:pt x="1380" y="148"/>
                      </a:lnTo>
                      <a:lnTo>
                        <a:pt x="1361" y="162"/>
                      </a:lnTo>
                      <a:lnTo>
                        <a:pt x="1340" y="175"/>
                      </a:lnTo>
                      <a:lnTo>
                        <a:pt x="1318" y="187"/>
                      </a:lnTo>
                      <a:lnTo>
                        <a:pt x="1295" y="200"/>
                      </a:lnTo>
                      <a:lnTo>
                        <a:pt x="1271" y="213"/>
                      </a:lnTo>
                      <a:lnTo>
                        <a:pt x="1246" y="224"/>
                      </a:lnTo>
                      <a:lnTo>
                        <a:pt x="1220" y="234"/>
                      </a:lnTo>
                      <a:lnTo>
                        <a:pt x="1192" y="246"/>
                      </a:lnTo>
                      <a:lnTo>
                        <a:pt x="1163" y="256"/>
                      </a:lnTo>
                      <a:lnTo>
                        <a:pt x="1135" y="265"/>
                      </a:lnTo>
                      <a:lnTo>
                        <a:pt x="1074" y="284"/>
                      </a:lnTo>
                      <a:lnTo>
                        <a:pt x="1011" y="300"/>
                      </a:lnTo>
                      <a:lnTo>
                        <a:pt x="946" y="315"/>
                      </a:lnTo>
                      <a:lnTo>
                        <a:pt x="880" y="328"/>
                      </a:lnTo>
                      <a:lnTo>
                        <a:pt x="812" y="339"/>
                      </a:lnTo>
                      <a:lnTo>
                        <a:pt x="744" y="347"/>
                      </a:lnTo>
                      <a:lnTo>
                        <a:pt x="676" y="354"/>
                      </a:lnTo>
                      <a:lnTo>
                        <a:pt x="610" y="360"/>
                      </a:lnTo>
                      <a:lnTo>
                        <a:pt x="544" y="363"/>
                      </a:lnTo>
                      <a:lnTo>
                        <a:pt x="480" y="364"/>
                      </a:lnTo>
                      <a:lnTo>
                        <a:pt x="419" y="363"/>
                      </a:lnTo>
                      <a:lnTo>
                        <a:pt x="361" y="361"/>
                      </a:lnTo>
                      <a:lnTo>
                        <a:pt x="305" y="356"/>
                      </a:lnTo>
                      <a:lnTo>
                        <a:pt x="254" y="349"/>
                      </a:lnTo>
                      <a:lnTo>
                        <a:pt x="231" y="346"/>
                      </a:lnTo>
                      <a:lnTo>
                        <a:pt x="208" y="341"/>
                      </a:lnTo>
                      <a:lnTo>
                        <a:pt x="187" y="337"/>
                      </a:lnTo>
                      <a:lnTo>
                        <a:pt x="168" y="332"/>
                      </a:lnTo>
                      <a:lnTo>
                        <a:pt x="149" y="326"/>
                      </a:lnTo>
                      <a:lnTo>
                        <a:pt x="132" y="321"/>
                      </a:lnTo>
                      <a:lnTo>
                        <a:pt x="117" y="314"/>
                      </a:lnTo>
                      <a:lnTo>
                        <a:pt x="104" y="308"/>
                      </a:lnTo>
                      <a:lnTo>
                        <a:pt x="93" y="301"/>
                      </a:lnTo>
                      <a:lnTo>
                        <a:pt x="84" y="294"/>
                      </a:lnTo>
                      <a:lnTo>
                        <a:pt x="77" y="288"/>
                      </a:lnTo>
                      <a:lnTo>
                        <a:pt x="71" y="282"/>
                      </a:lnTo>
                      <a:lnTo>
                        <a:pt x="68" y="276"/>
                      </a:lnTo>
                      <a:lnTo>
                        <a:pt x="65" y="271"/>
                      </a:lnTo>
                      <a:lnTo>
                        <a:pt x="64" y="267"/>
                      </a:lnTo>
                      <a:lnTo>
                        <a:pt x="64" y="261"/>
                      </a:lnTo>
                      <a:lnTo>
                        <a:pt x="64" y="255"/>
                      </a:lnTo>
                      <a:lnTo>
                        <a:pt x="64" y="261"/>
                      </a:lnTo>
                      <a:lnTo>
                        <a:pt x="64" y="253"/>
                      </a:lnTo>
                      <a:lnTo>
                        <a:pt x="63" y="247"/>
                      </a:lnTo>
                      <a:lnTo>
                        <a:pt x="60" y="241"/>
                      </a:lnTo>
                      <a:lnTo>
                        <a:pt x="56" y="236"/>
                      </a:lnTo>
                      <a:lnTo>
                        <a:pt x="52" y="232"/>
                      </a:lnTo>
                      <a:lnTo>
                        <a:pt x="46" y="230"/>
                      </a:lnTo>
                      <a:lnTo>
                        <a:pt x="40" y="228"/>
                      </a:lnTo>
                      <a:lnTo>
                        <a:pt x="34" y="226"/>
                      </a:lnTo>
                      <a:lnTo>
                        <a:pt x="29" y="226"/>
                      </a:lnTo>
                      <a:lnTo>
                        <a:pt x="22" y="228"/>
                      </a:lnTo>
                      <a:lnTo>
                        <a:pt x="17" y="230"/>
                      </a:lnTo>
                      <a:lnTo>
                        <a:pt x="11" y="233"/>
                      </a:lnTo>
                      <a:lnTo>
                        <a:pt x="7" y="238"/>
                      </a:lnTo>
                      <a:lnTo>
                        <a:pt x="3" y="243"/>
                      </a:lnTo>
                      <a:lnTo>
                        <a:pt x="1" y="249"/>
                      </a:lnTo>
                      <a:lnTo>
                        <a:pt x="0" y="256"/>
                      </a:lnTo>
                      <a:lnTo>
                        <a:pt x="0" y="262"/>
                      </a:lnTo>
                      <a:close/>
                    </a:path>
                  </a:pathLst>
                </a:custGeom>
                <a:solidFill>
                  <a:srgbClr val="000000"/>
                </a:solidFill>
                <a:ln w="0">
                  <a:noFill/>
                </a:ln>
              </p:spPr>
              <p:style>
                <a:lnRef idx="0"/>
                <a:fillRef idx="0"/>
                <a:effectRef idx="0"/>
                <a:fontRef idx="minor"/>
              </p:style>
              <p:txBody>
                <a:bodyPr wrap="none" lIns="93240" rIns="93240" tIns="34200" bIns="34200" anchor="t">
                  <a:spAutoFit/>
                </a:bodyPr>
                <a:p>
                  <a:endParaRPr b="0" lang="en-US" sz="2400" spc="-1" strike="noStrike">
                    <a:solidFill>
                      <a:srgbClr val="ffffff"/>
                    </a:solidFill>
                    <a:latin typeface="Times New Roman"/>
                  </a:endParaRPr>
                </a:p>
              </p:txBody>
            </p:sp>
            <p:sp>
              <p:nvSpPr>
                <p:cNvPr id="476" name=""/>
                <p:cNvSpPr/>
                <p:nvPr/>
              </p:nvSpPr>
              <p:spPr>
                <a:xfrm>
                  <a:off x="3951720" y="4143600"/>
                  <a:ext cx="86040" cy="498240"/>
                </a:xfrm>
                <a:custGeom>
                  <a:avLst/>
                  <a:gdLst/>
                  <a:ahLst/>
                  <a:rect l="l" t="t" r="r" b="b"/>
                  <a:pathLst>
                    <a:path w="427" h="2634">
                      <a:moveTo>
                        <a:pt x="2" y="44"/>
                      </a:moveTo>
                      <a:lnTo>
                        <a:pt x="6" y="51"/>
                      </a:lnTo>
                      <a:lnTo>
                        <a:pt x="29" y="84"/>
                      </a:lnTo>
                      <a:lnTo>
                        <a:pt x="49" y="118"/>
                      </a:lnTo>
                      <a:lnTo>
                        <a:pt x="70" y="151"/>
                      </a:lnTo>
                      <a:lnTo>
                        <a:pt x="90" y="187"/>
                      </a:lnTo>
                      <a:lnTo>
                        <a:pt x="108" y="223"/>
                      </a:lnTo>
                      <a:lnTo>
                        <a:pt x="125" y="258"/>
                      </a:lnTo>
                      <a:lnTo>
                        <a:pt x="142" y="295"/>
                      </a:lnTo>
                      <a:lnTo>
                        <a:pt x="159" y="333"/>
                      </a:lnTo>
                      <a:lnTo>
                        <a:pt x="174" y="371"/>
                      </a:lnTo>
                      <a:lnTo>
                        <a:pt x="187" y="409"/>
                      </a:lnTo>
                      <a:lnTo>
                        <a:pt x="201" y="448"/>
                      </a:lnTo>
                      <a:lnTo>
                        <a:pt x="214" y="487"/>
                      </a:lnTo>
                      <a:lnTo>
                        <a:pt x="226" y="527"/>
                      </a:lnTo>
                      <a:lnTo>
                        <a:pt x="237" y="567"/>
                      </a:lnTo>
                      <a:lnTo>
                        <a:pt x="248" y="609"/>
                      </a:lnTo>
                      <a:lnTo>
                        <a:pt x="257" y="649"/>
                      </a:lnTo>
                      <a:lnTo>
                        <a:pt x="267" y="690"/>
                      </a:lnTo>
                      <a:lnTo>
                        <a:pt x="276" y="733"/>
                      </a:lnTo>
                      <a:lnTo>
                        <a:pt x="284" y="775"/>
                      </a:lnTo>
                      <a:lnTo>
                        <a:pt x="291" y="817"/>
                      </a:lnTo>
                      <a:lnTo>
                        <a:pt x="303" y="903"/>
                      </a:lnTo>
                      <a:lnTo>
                        <a:pt x="315" y="990"/>
                      </a:lnTo>
                      <a:lnTo>
                        <a:pt x="324" y="1077"/>
                      </a:lnTo>
                      <a:lnTo>
                        <a:pt x="331" y="1165"/>
                      </a:lnTo>
                      <a:lnTo>
                        <a:pt x="337" y="1253"/>
                      </a:lnTo>
                      <a:lnTo>
                        <a:pt x="341" y="1342"/>
                      </a:lnTo>
                      <a:lnTo>
                        <a:pt x="343" y="1431"/>
                      </a:lnTo>
                      <a:lnTo>
                        <a:pt x="346" y="1518"/>
                      </a:lnTo>
                      <a:lnTo>
                        <a:pt x="347" y="1607"/>
                      </a:lnTo>
                      <a:lnTo>
                        <a:pt x="347" y="1694"/>
                      </a:lnTo>
                      <a:lnTo>
                        <a:pt x="346" y="1867"/>
                      </a:lnTo>
                      <a:lnTo>
                        <a:pt x="345" y="2035"/>
                      </a:lnTo>
                      <a:lnTo>
                        <a:pt x="345" y="2117"/>
                      </a:lnTo>
                      <a:lnTo>
                        <a:pt x="345" y="2197"/>
                      </a:lnTo>
                      <a:lnTo>
                        <a:pt x="345" y="2276"/>
                      </a:lnTo>
                      <a:lnTo>
                        <a:pt x="347" y="2351"/>
                      </a:lnTo>
                      <a:lnTo>
                        <a:pt x="349" y="2426"/>
                      </a:lnTo>
                      <a:lnTo>
                        <a:pt x="353" y="2498"/>
                      </a:lnTo>
                      <a:lnTo>
                        <a:pt x="357" y="2567"/>
                      </a:lnTo>
                      <a:lnTo>
                        <a:pt x="363" y="2634"/>
                      </a:lnTo>
                      <a:lnTo>
                        <a:pt x="427" y="2627"/>
                      </a:lnTo>
                      <a:lnTo>
                        <a:pt x="422" y="2563"/>
                      </a:lnTo>
                      <a:lnTo>
                        <a:pt x="417" y="2495"/>
                      </a:lnTo>
                      <a:lnTo>
                        <a:pt x="414" y="2424"/>
                      </a:lnTo>
                      <a:lnTo>
                        <a:pt x="411" y="2350"/>
                      </a:lnTo>
                      <a:lnTo>
                        <a:pt x="410" y="2274"/>
                      </a:lnTo>
                      <a:lnTo>
                        <a:pt x="409" y="2197"/>
                      </a:lnTo>
                      <a:lnTo>
                        <a:pt x="409" y="2117"/>
                      </a:lnTo>
                      <a:lnTo>
                        <a:pt x="410" y="2035"/>
                      </a:lnTo>
                      <a:lnTo>
                        <a:pt x="411" y="1868"/>
                      </a:lnTo>
                      <a:lnTo>
                        <a:pt x="411" y="1694"/>
                      </a:lnTo>
                      <a:lnTo>
                        <a:pt x="411" y="1607"/>
                      </a:lnTo>
                      <a:lnTo>
                        <a:pt x="410" y="1518"/>
                      </a:lnTo>
                      <a:lnTo>
                        <a:pt x="408" y="1429"/>
                      </a:lnTo>
                      <a:lnTo>
                        <a:pt x="405" y="1339"/>
                      </a:lnTo>
                      <a:lnTo>
                        <a:pt x="401" y="1250"/>
                      </a:lnTo>
                      <a:lnTo>
                        <a:pt x="395" y="1160"/>
                      </a:lnTo>
                      <a:lnTo>
                        <a:pt x="388" y="1072"/>
                      </a:lnTo>
                      <a:lnTo>
                        <a:pt x="379" y="982"/>
                      </a:lnTo>
                      <a:lnTo>
                        <a:pt x="368" y="895"/>
                      </a:lnTo>
                      <a:lnTo>
                        <a:pt x="355" y="807"/>
                      </a:lnTo>
                      <a:lnTo>
                        <a:pt x="347" y="764"/>
                      </a:lnTo>
                      <a:lnTo>
                        <a:pt x="339" y="720"/>
                      </a:lnTo>
                      <a:lnTo>
                        <a:pt x="330" y="678"/>
                      </a:lnTo>
                      <a:lnTo>
                        <a:pt x="320" y="635"/>
                      </a:lnTo>
                      <a:lnTo>
                        <a:pt x="310" y="592"/>
                      </a:lnTo>
                      <a:lnTo>
                        <a:pt x="300" y="551"/>
                      </a:lnTo>
                      <a:lnTo>
                        <a:pt x="288" y="509"/>
                      </a:lnTo>
                      <a:lnTo>
                        <a:pt x="276" y="468"/>
                      </a:lnTo>
                      <a:lnTo>
                        <a:pt x="262" y="427"/>
                      </a:lnTo>
                      <a:lnTo>
                        <a:pt x="248" y="387"/>
                      </a:lnTo>
                      <a:lnTo>
                        <a:pt x="233" y="348"/>
                      </a:lnTo>
                      <a:lnTo>
                        <a:pt x="218" y="308"/>
                      </a:lnTo>
                      <a:lnTo>
                        <a:pt x="201" y="270"/>
                      </a:lnTo>
                      <a:lnTo>
                        <a:pt x="184" y="231"/>
                      </a:lnTo>
                      <a:lnTo>
                        <a:pt x="165" y="193"/>
                      </a:lnTo>
                      <a:lnTo>
                        <a:pt x="146" y="156"/>
                      </a:lnTo>
                      <a:lnTo>
                        <a:pt x="126" y="119"/>
                      </a:lnTo>
                      <a:lnTo>
                        <a:pt x="105" y="84"/>
                      </a:lnTo>
                      <a:lnTo>
                        <a:pt x="83" y="49"/>
                      </a:lnTo>
                      <a:lnTo>
                        <a:pt x="59" y="13"/>
                      </a:lnTo>
                      <a:lnTo>
                        <a:pt x="62" y="20"/>
                      </a:lnTo>
                      <a:lnTo>
                        <a:pt x="59" y="13"/>
                      </a:lnTo>
                      <a:lnTo>
                        <a:pt x="54" y="8"/>
                      </a:lnTo>
                      <a:lnTo>
                        <a:pt x="48" y="4"/>
                      </a:lnTo>
                      <a:lnTo>
                        <a:pt x="43" y="1"/>
                      </a:lnTo>
                      <a:lnTo>
                        <a:pt x="37" y="0"/>
                      </a:lnTo>
                      <a:lnTo>
                        <a:pt x="31" y="0"/>
                      </a:lnTo>
                      <a:lnTo>
                        <a:pt x="25" y="1"/>
                      </a:lnTo>
                      <a:lnTo>
                        <a:pt x="20" y="3"/>
                      </a:lnTo>
                      <a:lnTo>
                        <a:pt x="14" y="7"/>
                      </a:lnTo>
                      <a:lnTo>
                        <a:pt x="9" y="10"/>
                      </a:lnTo>
                      <a:lnTo>
                        <a:pt x="6" y="15"/>
                      </a:lnTo>
                      <a:lnTo>
                        <a:pt x="2" y="20"/>
                      </a:lnTo>
                      <a:lnTo>
                        <a:pt x="0" y="25"/>
                      </a:lnTo>
                      <a:lnTo>
                        <a:pt x="0" y="32"/>
                      </a:lnTo>
                      <a:lnTo>
                        <a:pt x="0" y="38"/>
                      </a:lnTo>
                      <a:lnTo>
                        <a:pt x="2" y="44"/>
                      </a:lnTo>
                      <a:lnTo>
                        <a:pt x="6" y="51"/>
                      </a:lnTo>
                      <a:lnTo>
                        <a:pt x="2" y="4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7" name=""/>
                <p:cNvSpPr/>
                <p:nvPr/>
              </p:nvSpPr>
              <p:spPr>
                <a:xfrm>
                  <a:off x="3904200" y="3944880"/>
                  <a:ext cx="58320" cy="206640"/>
                </a:xfrm>
                <a:custGeom>
                  <a:avLst/>
                  <a:gdLst/>
                  <a:ahLst/>
                  <a:rect l="l" t="t" r="r" b="b"/>
                  <a:pathLst>
                    <a:path w="294" h="1092">
                      <a:moveTo>
                        <a:pt x="15" y="52"/>
                      </a:moveTo>
                      <a:lnTo>
                        <a:pt x="9" y="29"/>
                      </a:lnTo>
                      <a:lnTo>
                        <a:pt x="5" y="61"/>
                      </a:lnTo>
                      <a:lnTo>
                        <a:pt x="2" y="94"/>
                      </a:lnTo>
                      <a:lnTo>
                        <a:pt x="1" y="127"/>
                      </a:lnTo>
                      <a:lnTo>
                        <a:pt x="0" y="161"/>
                      </a:lnTo>
                      <a:lnTo>
                        <a:pt x="0" y="194"/>
                      </a:lnTo>
                      <a:lnTo>
                        <a:pt x="1" y="229"/>
                      </a:lnTo>
                      <a:lnTo>
                        <a:pt x="4" y="262"/>
                      </a:lnTo>
                      <a:lnTo>
                        <a:pt x="6" y="295"/>
                      </a:lnTo>
                      <a:lnTo>
                        <a:pt x="9" y="330"/>
                      </a:lnTo>
                      <a:lnTo>
                        <a:pt x="14" y="363"/>
                      </a:lnTo>
                      <a:lnTo>
                        <a:pt x="20" y="397"/>
                      </a:lnTo>
                      <a:lnTo>
                        <a:pt x="25" y="431"/>
                      </a:lnTo>
                      <a:lnTo>
                        <a:pt x="39" y="499"/>
                      </a:lnTo>
                      <a:lnTo>
                        <a:pt x="54" y="566"/>
                      </a:lnTo>
                      <a:lnTo>
                        <a:pt x="72" y="634"/>
                      </a:lnTo>
                      <a:lnTo>
                        <a:pt x="93" y="701"/>
                      </a:lnTo>
                      <a:lnTo>
                        <a:pt x="114" y="767"/>
                      </a:lnTo>
                      <a:lnTo>
                        <a:pt x="137" y="834"/>
                      </a:lnTo>
                      <a:lnTo>
                        <a:pt x="161" y="899"/>
                      </a:lnTo>
                      <a:lnTo>
                        <a:pt x="185" y="965"/>
                      </a:lnTo>
                      <a:lnTo>
                        <a:pt x="209" y="1029"/>
                      </a:lnTo>
                      <a:lnTo>
                        <a:pt x="234" y="1092"/>
                      </a:lnTo>
                      <a:lnTo>
                        <a:pt x="294" y="1068"/>
                      </a:lnTo>
                      <a:lnTo>
                        <a:pt x="270" y="1005"/>
                      </a:lnTo>
                      <a:lnTo>
                        <a:pt x="245" y="942"/>
                      </a:lnTo>
                      <a:lnTo>
                        <a:pt x="221" y="878"/>
                      </a:lnTo>
                      <a:lnTo>
                        <a:pt x="198" y="812"/>
                      </a:lnTo>
                      <a:lnTo>
                        <a:pt x="176" y="748"/>
                      </a:lnTo>
                      <a:lnTo>
                        <a:pt x="154" y="682"/>
                      </a:lnTo>
                      <a:lnTo>
                        <a:pt x="134" y="616"/>
                      </a:lnTo>
                      <a:lnTo>
                        <a:pt x="117" y="550"/>
                      </a:lnTo>
                      <a:lnTo>
                        <a:pt x="102" y="485"/>
                      </a:lnTo>
                      <a:lnTo>
                        <a:pt x="89" y="419"/>
                      </a:lnTo>
                      <a:lnTo>
                        <a:pt x="83" y="387"/>
                      </a:lnTo>
                      <a:lnTo>
                        <a:pt x="78" y="355"/>
                      </a:lnTo>
                      <a:lnTo>
                        <a:pt x="74" y="322"/>
                      </a:lnTo>
                      <a:lnTo>
                        <a:pt x="70" y="289"/>
                      </a:lnTo>
                      <a:lnTo>
                        <a:pt x="68" y="257"/>
                      </a:lnTo>
                      <a:lnTo>
                        <a:pt x="66" y="225"/>
                      </a:lnTo>
                      <a:lnTo>
                        <a:pt x="64" y="194"/>
                      </a:lnTo>
                      <a:lnTo>
                        <a:pt x="64" y="162"/>
                      </a:lnTo>
                      <a:lnTo>
                        <a:pt x="66" y="130"/>
                      </a:lnTo>
                      <a:lnTo>
                        <a:pt x="67" y="99"/>
                      </a:lnTo>
                      <a:lnTo>
                        <a:pt x="69" y="68"/>
                      </a:lnTo>
                      <a:lnTo>
                        <a:pt x="74" y="37"/>
                      </a:lnTo>
                      <a:lnTo>
                        <a:pt x="67" y="14"/>
                      </a:lnTo>
                      <a:lnTo>
                        <a:pt x="74" y="37"/>
                      </a:lnTo>
                      <a:lnTo>
                        <a:pt x="74" y="29"/>
                      </a:lnTo>
                      <a:lnTo>
                        <a:pt x="72" y="22"/>
                      </a:lnTo>
                      <a:lnTo>
                        <a:pt x="70" y="16"/>
                      </a:lnTo>
                      <a:lnTo>
                        <a:pt x="67" y="11"/>
                      </a:lnTo>
                      <a:lnTo>
                        <a:pt x="62" y="7"/>
                      </a:lnTo>
                      <a:lnTo>
                        <a:pt x="56" y="4"/>
                      </a:lnTo>
                      <a:lnTo>
                        <a:pt x="51" y="2"/>
                      </a:lnTo>
                      <a:lnTo>
                        <a:pt x="45" y="0"/>
                      </a:lnTo>
                      <a:lnTo>
                        <a:pt x="39" y="0"/>
                      </a:lnTo>
                      <a:lnTo>
                        <a:pt x="33" y="1"/>
                      </a:lnTo>
                      <a:lnTo>
                        <a:pt x="28" y="2"/>
                      </a:lnTo>
                      <a:lnTo>
                        <a:pt x="22" y="6"/>
                      </a:lnTo>
                      <a:lnTo>
                        <a:pt x="17" y="9"/>
                      </a:lnTo>
                      <a:lnTo>
                        <a:pt x="14" y="15"/>
                      </a:lnTo>
                      <a:lnTo>
                        <a:pt x="10" y="21"/>
                      </a:lnTo>
                      <a:lnTo>
                        <a:pt x="9" y="29"/>
                      </a:lnTo>
                      <a:lnTo>
                        <a:pt x="15" y="5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8" name=""/>
                <p:cNvSpPr/>
                <p:nvPr/>
              </p:nvSpPr>
              <p:spPr>
                <a:xfrm>
                  <a:off x="3800880" y="3663720"/>
                  <a:ext cx="117000" cy="291240"/>
                </a:xfrm>
                <a:custGeom>
                  <a:avLst/>
                  <a:gdLst/>
                  <a:ahLst/>
                  <a:rect l="l" t="t" r="r" b="b"/>
                  <a:pathLst>
                    <a:path w="574" h="1539">
                      <a:moveTo>
                        <a:pt x="64" y="38"/>
                      </a:moveTo>
                      <a:lnTo>
                        <a:pt x="1" y="40"/>
                      </a:lnTo>
                      <a:lnTo>
                        <a:pt x="31" y="163"/>
                      </a:lnTo>
                      <a:lnTo>
                        <a:pt x="75" y="335"/>
                      </a:lnTo>
                      <a:lnTo>
                        <a:pt x="102" y="435"/>
                      </a:lnTo>
                      <a:lnTo>
                        <a:pt x="132" y="540"/>
                      </a:lnTo>
                      <a:lnTo>
                        <a:pt x="163" y="651"/>
                      </a:lnTo>
                      <a:lnTo>
                        <a:pt x="197" y="763"/>
                      </a:lnTo>
                      <a:lnTo>
                        <a:pt x="233" y="877"/>
                      </a:lnTo>
                      <a:lnTo>
                        <a:pt x="271" y="989"/>
                      </a:lnTo>
                      <a:lnTo>
                        <a:pt x="290" y="1045"/>
                      </a:lnTo>
                      <a:lnTo>
                        <a:pt x="310" y="1099"/>
                      </a:lnTo>
                      <a:lnTo>
                        <a:pt x="330" y="1151"/>
                      </a:lnTo>
                      <a:lnTo>
                        <a:pt x="351" y="1203"/>
                      </a:lnTo>
                      <a:lnTo>
                        <a:pt x="372" y="1254"/>
                      </a:lnTo>
                      <a:lnTo>
                        <a:pt x="392" y="1302"/>
                      </a:lnTo>
                      <a:lnTo>
                        <a:pt x="413" y="1348"/>
                      </a:lnTo>
                      <a:lnTo>
                        <a:pt x="435" y="1392"/>
                      </a:lnTo>
                      <a:lnTo>
                        <a:pt x="457" y="1433"/>
                      </a:lnTo>
                      <a:lnTo>
                        <a:pt x="477" y="1471"/>
                      </a:lnTo>
                      <a:lnTo>
                        <a:pt x="500" y="1506"/>
                      </a:lnTo>
                      <a:lnTo>
                        <a:pt x="522" y="1539"/>
                      </a:lnTo>
                      <a:lnTo>
                        <a:pt x="574" y="1501"/>
                      </a:lnTo>
                      <a:lnTo>
                        <a:pt x="554" y="1471"/>
                      </a:lnTo>
                      <a:lnTo>
                        <a:pt x="534" y="1437"/>
                      </a:lnTo>
                      <a:lnTo>
                        <a:pt x="513" y="1402"/>
                      </a:lnTo>
                      <a:lnTo>
                        <a:pt x="492" y="1362"/>
                      </a:lnTo>
                      <a:lnTo>
                        <a:pt x="472" y="1320"/>
                      </a:lnTo>
                      <a:lnTo>
                        <a:pt x="451" y="1276"/>
                      </a:lnTo>
                      <a:lnTo>
                        <a:pt x="430" y="1228"/>
                      </a:lnTo>
                      <a:lnTo>
                        <a:pt x="411" y="1179"/>
                      </a:lnTo>
                      <a:lnTo>
                        <a:pt x="390" y="1128"/>
                      </a:lnTo>
                      <a:lnTo>
                        <a:pt x="370" y="1076"/>
                      </a:lnTo>
                      <a:lnTo>
                        <a:pt x="351" y="1023"/>
                      </a:lnTo>
                      <a:lnTo>
                        <a:pt x="331" y="968"/>
                      </a:lnTo>
                      <a:lnTo>
                        <a:pt x="295" y="856"/>
                      </a:lnTo>
                      <a:lnTo>
                        <a:pt x="259" y="744"/>
                      </a:lnTo>
                      <a:lnTo>
                        <a:pt x="225" y="632"/>
                      </a:lnTo>
                      <a:lnTo>
                        <a:pt x="194" y="523"/>
                      </a:lnTo>
                      <a:lnTo>
                        <a:pt x="164" y="417"/>
                      </a:lnTo>
                      <a:lnTo>
                        <a:pt x="137" y="318"/>
                      </a:lnTo>
                      <a:lnTo>
                        <a:pt x="94" y="147"/>
                      </a:lnTo>
                      <a:lnTo>
                        <a:pt x="63" y="24"/>
                      </a:lnTo>
                      <a:lnTo>
                        <a:pt x="0" y="27"/>
                      </a:lnTo>
                      <a:lnTo>
                        <a:pt x="63" y="24"/>
                      </a:lnTo>
                      <a:lnTo>
                        <a:pt x="60" y="17"/>
                      </a:lnTo>
                      <a:lnTo>
                        <a:pt x="57" y="12"/>
                      </a:lnTo>
                      <a:lnTo>
                        <a:pt x="52" y="7"/>
                      </a:lnTo>
                      <a:lnTo>
                        <a:pt x="48" y="4"/>
                      </a:lnTo>
                      <a:lnTo>
                        <a:pt x="42" y="1"/>
                      </a:lnTo>
                      <a:lnTo>
                        <a:pt x="36" y="0"/>
                      </a:lnTo>
                      <a:lnTo>
                        <a:pt x="29" y="0"/>
                      </a:lnTo>
                      <a:lnTo>
                        <a:pt x="24" y="1"/>
                      </a:lnTo>
                      <a:lnTo>
                        <a:pt x="18" y="3"/>
                      </a:lnTo>
                      <a:lnTo>
                        <a:pt x="13" y="6"/>
                      </a:lnTo>
                      <a:lnTo>
                        <a:pt x="9" y="9"/>
                      </a:lnTo>
                      <a:lnTo>
                        <a:pt x="4" y="14"/>
                      </a:lnTo>
                      <a:lnTo>
                        <a:pt x="2" y="20"/>
                      </a:lnTo>
                      <a:lnTo>
                        <a:pt x="0" y="26"/>
                      </a:lnTo>
                      <a:lnTo>
                        <a:pt x="0" y="32"/>
                      </a:lnTo>
                      <a:lnTo>
                        <a:pt x="1" y="40"/>
                      </a:lnTo>
                      <a:lnTo>
                        <a:pt x="64" y="3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79" name=""/>
                <p:cNvSpPr/>
                <p:nvPr/>
              </p:nvSpPr>
              <p:spPr>
                <a:xfrm>
                  <a:off x="3783960" y="3669120"/>
                  <a:ext cx="30600" cy="326520"/>
                </a:xfrm>
                <a:custGeom>
                  <a:avLst/>
                  <a:gdLst/>
                  <a:ahLst/>
                  <a:rect l="l" t="t" r="r" b="b"/>
                  <a:pathLst>
                    <a:path w="151" h="1728">
                      <a:moveTo>
                        <a:pt x="107" y="1691"/>
                      </a:moveTo>
                      <a:lnTo>
                        <a:pt x="107" y="1690"/>
                      </a:lnTo>
                      <a:lnTo>
                        <a:pt x="100" y="1646"/>
                      </a:lnTo>
                      <a:lnTo>
                        <a:pt x="95" y="1600"/>
                      </a:lnTo>
                      <a:lnTo>
                        <a:pt x="89" y="1552"/>
                      </a:lnTo>
                      <a:lnTo>
                        <a:pt x="84" y="1504"/>
                      </a:lnTo>
                      <a:lnTo>
                        <a:pt x="80" y="1454"/>
                      </a:lnTo>
                      <a:lnTo>
                        <a:pt x="76" y="1404"/>
                      </a:lnTo>
                      <a:lnTo>
                        <a:pt x="73" y="1352"/>
                      </a:lnTo>
                      <a:lnTo>
                        <a:pt x="70" y="1299"/>
                      </a:lnTo>
                      <a:lnTo>
                        <a:pt x="67" y="1191"/>
                      </a:lnTo>
                      <a:lnTo>
                        <a:pt x="66" y="1082"/>
                      </a:lnTo>
                      <a:lnTo>
                        <a:pt x="66" y="969"/>
                      </a:lnTo>
                      <a:lnTo>
                        <a:pt x="68" y="857"/>
                      </a:lnTo>
                      <a:lnTo>
                        <a:pt x="73" y="744"/>
                      </a:lnTo>
                      <a:lnTo>
                        <a:pt x="78" y="633"/>
                      </a:lnTo>
                      <a:lnTo>
                        <a:pt x="87" y="521"/>
                      </a:lnTo>
                      <a:lnTo>
                        <a:pt x="96" y="412"/>
                      </a:lnTo>
                      <a:lnTo>
                        <a:pt x="107" y="306"/>
                      </a:lnTo>
                      <a:lnTo>
                        <a:pt x="120" y="203"/>
                      </a:lnTo>
                      <a:lnTo>
                        <a:pt x="135" y="104"/>
                      </a:lnTo>
                      <a:lnTo>
                        <a:pt x="151" y="11"/>
                      </a:lnTo>
                      <a:lnTo>
                        <a:pt x="87" y="0"/>
                      </a:lnTo>
                      <a:lnTo>
                        <a:pt x="70" y="95"/>
                      </a:lnTo>
                      <a:lnTo>
                        <a:pt x="57" y="195"/>
                      </a:lnTo>
                      <a:lnTo>
                        <a:pt x="43" y="298"/>
                      </a:lnTo>
                      <a:lnTo>
                        <a:pt x="31" y="406"/>
                      </a:lnTo>
                      <a:lnTo>
                        <a:pt x="22" y="517"/>
                      </a:lnTo>
                      <a:lnTo>
                        <a:pt x="14" y="628"/>
                      </a:lnTo>
                      <a:lnTo>
                        <a:pt x="8" y="742"/>
                      </a:lnTo>
                      <a:lnTo>
                        <a:pt x="4" y="856"/>
                      </a:lnTo>
                      <a:lnTo>
                        <a:pt x="2" y="969"/>
                      </a:lnTo>
                      <a:lnTo>
                        <a:pt x="0" y="1082"/>
                      </a:lnTo>
                      <a:lnTo>
                        <a:pt x="3" y="1193"/>
                      </a:lnTo>
                      <a:lnTo>
                        <a:pt x="6" y="1301"/>
                      </a:lnTo>
                      <a:lnTo>
                        <a:pt x="8" y="1355"/>
                      </a:lnTo>
                      <a:lnTo>
                        <a:pt x="12" y="1407"/>
                      </a:lnTo>
                      <a:lnTo>
                        <a:pt x="15" y="1459"/>
                      </a:lnTo>
                      <a:lnTo>
                        <a:pt x="20" y="1509"/>
                      </a:lnTo>
                      <a:lnTo>
                        <a:pt x="25" y="1559"/>
                      </a:lnTo>
                      <a:lnTo>
                        <a:pt x="30" y="1607"/>
                      </a:lnTo>
                      <a:lnTo>
                        <a:pt x="36" y="1654"/>
                      </a:lnTo>
                      <a:lnTo>
                        <a:pt x="43" y="1700"/>
                      </a:lnTo>
                      <a:lnTo>
                        <a:pt x="43" y="1699"/>
                      </a:lnTo>
                      <a:lnTo>
                        <a:pt x="43" y="1700"/>
                      </a:lnTo>
                      <a:lnTo>
                        <a:pt x="45" y="1707"/>
                      </a:lnTo>
                      <a:lnTo>
                        <a:pt x="47" y="1714"/>
                      </a:lnTo>
                      <a:lnTo>
                        <a:pt x="52" y="1718"/>
                      </a:lnTo>
                      <a:lnTo>
                        <a:pt x="57" y="1722"/>
                      </a:lnTo>
                      <a:lnTo>
                        <a:pt x="61" y="1725"/>
                      </a:lnTo>
                      <a:lnTo>
                        <a:pt x="68" y="1726"/>
                      </a:lnTo>
                      <a:lnTo>
                        <a:pt x="74" y="1728"/>
                      </a:lnTo>
                      <a:lnTo>
                        <a:pt x="80" y="1726"/>
                      </a:lnTo>
                      <a:lnTo>
                        <a:pt x="85" y="1725"/>
                      </a:lnTo>
                      <a:lnTo>
                        <a:pt x="91" y="1723"/>
                      </a:lnTo>
                      <a:lnTo>
                        <a:pt x="96" y="1720"/>
                      </a:lnTo>
                      <a:lnTo>
                        <a:pt x="100" y="1716"/>
                      </a:lnTo>
                      <a:lnTo>
                        <a:pt x="104" y="1710"/>
                      </a:lnTo>
                      <a:lnTo>
                        <a:pt x="106" y="1705"/>
                      </a:lnTo>
                      <a:lnTo>
                        <a:pt x="107" y="1698"/>
                      </a:lnTo>
                      <a:lnTo>
                        <a:pt x="107" y="1690"/>
                      </a:lnTo>
                      <a:lnTo>
                        <a:pt x="107" y="169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0" name=""/>
                <p:cNvSpPr/>
                <p:nvPr/>
              </p:nvSpPr>
              <p:spPr>
                <a:xfrm>
                  <a:off x="3732480" y="3988080"/>
                  <a:ext cx="74880" cy="190800"/>
                </a:xfrm>
                <a:custGeom>
                  <a:avLst/>
                  <a:gdLst/>
                  <a:ahLst/>
                  <a:rect l="l" t="t" r="r" b="b"/>
                  <a:pathLst>
                    <a:path w="372" h="1005">
                      <a:moveTo>
                        <a:pt x="64" y="979"/>
                      </a:moveTo>
                      <a:lnTo>
                        <a:pt x="51" y="999"/>
                      </a:lnTo>
                      <a:lnTo>
                        <a:pt x="75" y="981"/>
                      </a:lnTo>
                      <a:lnTo>
                        <a:pt x="98" y="961"/>
                      </a:lnTo>
                      <a:lnTo>
                        <a:pt x="120" y="940"/>
                      </a:lnTo>
                      <a:lnTo>
                        <a:pt x="140" y="915"/>
                      </a:lnTo>
                      <a:lnTo>
                        <a:pt x="160" y="890"/>
                      </a:lnTo>
                      <a:lnTo>
                        <a:pt x="178" y="864"/>
                      </a:lnTo>
                      <a:lnTo>
                        <a:pt x="197" y="836"/>
                      </a:lnTo>
                      <a:lnTo>
                        <a:pt x="213" y="807"/>
                      </a:lnTo>
                      <a:lnTo>
                        <a:pt x="229" y="778"/>
                      </a:lnTo>
                      <a:lnTo>
                        <a:pt x="244" y="745"/>
                      </a:lnTo>
                      <a:lnTo>
                        <a:pt x="259" y="713"/>
                      </a:lnTo>
                      <a:lnTo>
                        <a:pt x="271" y="681"/>
                      </a:lnTo>
                      <a:lnTo>
                        <a:pt x="284" y="648"/>
                      </a:lnTo>
                      <a:lnTo>
                        <a:pt x="295" y="613"/>
                      </a:lnTo>
                      <a:lnTo>
                        <a:pt x="307" y="578"/>
                      </a:lnTo>
                      <a:lnTo>
                        <a:pt x="317" y="543"/>
                      </a:lnTo>
                      <a:lnTo>
                        <a:pt x="325" y="508"/>
                      </a:lnTo>
                      <a:lnTo>
                        <a:pt x="334" y="471"/>
                      </a:lnTo>
                      <a:lnTo>
                        <a:pt x="341" y="435"/>
                      </a:lnTo>
                      <a:lnTo>
                        <a:pt x="348" y="400"/>
                      </a:lnTo>
                      <a:lnTo>
                        <a:pt x="354" y="364"/>
                      </a:lnTo>
                      <a:lnTo>
                        <a:pt x="358" y="327"/>
                      </a:lnTo>
                      <a:lnTo>
                        <a:pt x="363" y="292"/>
                      </a:lnTo>
                      <a:lnTo>
                        <a:pt x="367" y="257"/>
                      </a:lnTo>
                      <a:lnTo>
                        <a:pt x="369" y="222"/>
                      </a:lnTo>
                      <a:lnTo>
                        <a:pt x="371" y="188"/>
                      </a:lnTo>
                      <a:lnTo>
                        <a:pt x="371" y="155"/>
                      </a:lnTo>
                      <a:lnTo>
                        <a:pt x="372" y="122"/>
                      </a:lnTo>
                      <a:lnTo>
                        <a:pt x="371" y="89"/>
                      </a:lnTo>
                      <a:lnTo>
                        <a:pt x="370" y="58"/>
                      </a:lnTo>
                      <a:lnTo>
                        <a:pt x="368" y="29"/>
                      </a:lnTo>
                      <a:lnTo>
                        <a:pt x="364" y="0"/>
                      </a:lnTo>
                      <a:lnTo>
                        <a:pt x="300" y="8"/>
                      </a:lnTo>
                      <a:lnTo>
                        <a:pt x="303" y="34"/>
                      </a:lnTo>
                      <a:lnTo>
                        <a:pt x="304" y="63"/>
                      </a:lnTo>
                      <a:lnTo>
                        <a:pt x="307" y="92"/>
                      </a:lnTo>
                      <a:lnTo>
                        <a:pt x="307" y="123"/>
                      </a:lnTo>
                      <a:lnTo>
                        <a:pt x="307" y="154"/>
                      </a:lnTo>
                      <a:lnTo>
                        <a:pt x="306" y="186"/>
                      </a:lnTo>
                      <a:lnTo>
                        <a:pt x="304" y="218"/>
                      </a:lnTo>
                      <a:lnTo>
                        <a:pt x="302" y="251"/>
                      </a:lnTo>
                      <a:lnTo>
                        <a:pt x="299" y="285"/>
                      </a:lnTo>
                      <a:lnTo>
                        <a:pt x="295" y="319"/>
                      </a:lnTo>
                      <a:lnTo>
                        <a:pt x="290" y="354"/>
                      </a:lnTo>
                      <a:lnTo>
                        <a:pt x="284" y="388"/>
                      </a:lnTo>
                      <a:lnTo>
                        <a:pt x="278" y="423"/>
                      </a:lnTo>
                      <a:lnTo>
                        <a:pt x="271" y="458"/>
                      </a:lnTo>
                      <a:lnTo>
                        <a:pt x="263" y="492"/>
                      </a:lnTo>
                      <a:lnTo>
                        <a:pt x="254" y="526"/>
                      </a:lnTo>
                      <a:lnTo>
                        <a:pt x="245" y="559"/>
                      </a:lnTo>
                      <a:lnTo>
                        <a:pt x="234" y="593"/>
                      </a:lnTo>
                      <a:lnTo>
                        <a:pt x="223" y="626"/>
                      </a:lnTo>
                      <a:lnTo>
                        <a:pt x="211" y="658"/>
                      </a:lnTo>
                      <a:lnTo>
                        <a:pt x="199" y="689"/>
                      </a:lnTo>
                      <a:lnTo>
                        <a:pt x="185" y="719"/>
                      </a:lnTo>
                      <a:lnTo>
                        <a:pt x="171" y="748"/>
                      </a:lnTo>
                      <a:lnTo>
                        <a:pt x="156" y="776"/>
                      </a:lnTo>
                      <a:lnTo>
                        <a:pt x="141" y="803"/>
                      </a:lnTo>
                      <a:lnTo>
                        <a:pt x="124" y="828"/>
                      </a:lnTo>
                      <a:lnTo>
                        <a:pt x="108" y="852"/>
                      </a:lnTo>
                      <a:lnTo>
                        <a:pt x="90" y="874"/>
                      </a:lnTo>
                      <a:lnTo>
                        <a:pt x="73" y="895"/>
                      </a:lnTo>
                      <a:lnTo>
                        <a:pt x="53" y="914"/>
                      </a:lnTo>
                      <a:lnTo>
                        <a:pt x="33" y="930"/>
                      </a:lnTo>
                      <a:lnTo>
                        <a:pt x="14" y="946"/>
                      </a:lnTo>
                      <a:lnTo>
                        <a:pt x="0" y="966"/>
                      </a:lnTo>
                      <a:lnTo>
                        <a:pt x="14" y="946"/>
                      </a:lnTo>
                      <a:lnTo>
                        <a:pt x="8" y="951"/>
                      </a:lnTo>
                      <a:lnTo>
                        <a:pt x="4" y="957"/>
                      </a:lnTo>
                      <a:lnTo>
                        <a:pt x="1" y="963"/>
                      </a:lnTo>
                      <a:lnTo>
                        <a:pt x="0" y="968"/>
                      </a:lnTo>
                      <a:lnTo>
                        <a:pt x="0" y="974"/>
                      </a:lnTo>
                      <a:lnTo>
                        <a:pt x="1" y="980"/>
                      </a:lnTo>
                      <a:lnTo>
                        <a:pt x="2" y="986"/>
                      </a:lnTo>
                      <a:lnTo>
                        <a:pt x="6" y="991"/>
                      </a:lnTo>
                      <a:lnTo>
                        <a:pt x="9" y="996"/>
                      </a:lnTo>
                      <a:lnTo>
                        <a:pt x="14" y="999"/>
                      </a:lnTo>
                      <a:lnTo>
                        <a:pt x="20" y="1003"/>
                      </a:lnTo>
                      <a:lnTo>
                        <a:pt x="25" y="1005"/>
                      </a:lnTo>
                      <a:lnTo>
                        <a:pt x="31" y="1005"/>
                      </a:lnTo>
                      <a:lnTo>
                        <a:pt x="38" y="1005"/>
                      </a:lnTo>
                      <a:lnTo>
                        <a:pt x="44" y="1003"/>
                      </a:lnTo>
                      <a:lnTo>
                        <a:pt x="51" y="999"/>
                      </a:lnTo>
                      <a:lnTo>
                        <a:pt x="64" y="97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1" name=""/>
                <p:cNvSpPr/>
                <p:nvPr/>
              </p:nvSpPr>
              <p:spPr>
                <a:xfrm>
                  <a:off x="3711600" y="4171320"/>
                  <a:ext cx="41400" cy="435240"/>
                </a:xfrm>
                <a:custGeom>
                  <a:avLst/>
                  <a:gdLst/>
                  <a:ahLst/>
                  <a:rect l="l" t="t" r="r" b="b"/>
                  <a:pathLst>
                    <a:path w="213" h="2304">
                      <a:moveTo>
                        <a:pt x="213" y="2269"/>
                      </a:moveTo>
                      <a:lnTo>
                        <a:pt x="212" y="2263"/>
                      </a:lnTo>
                      <a:lnTo>
                        <a:pt x="190" y="2169"/>
                      </a:lnTo>
                      <a:lnTo>
                        <a:pt x="168" y="2067"/>
                      </a:lnTo>
                      <a:lnTo>
                        <a:pt x="157" y="2013"/>
                      </a:lnTo>
                      <a:lnTo>
                        <a:pt x="147" y="1958"/>
                      </a:lnTo>
                      <a:lnTo>
                        <a:pt x="137" y="1901"/>
                      </a:lnTo>
                      <a:lnTo>
                        <a:pt x="127" y="1843"/>
                      </a:lnTo>
                      <a:lnTo>
                        <a:pt x="118" y="1782"/>
                      </a:lnTo>
                      <a:lnTo>
                        <a:pt x="110" y="1721"/>
                      </a:lnTo>
                      <a:lnTo>
                        <a:pt x="102" y="1658"/>
                      </a:lnTo>
                      <a:lnTo>
                        <a:pt x="94" y="1592"/>
                      </a:lnTo>
                      <a:lnTo>
                        <a:pt x="87" y="1527"/>
                      </a:lnTo>
                      <a:lnTo>
                        <a:pt x="81" y="1459"/>
                      </a:lnTo>
                      <a:lnTo>
                        <a:pt x="76" y="1389"/>
                      </a:lnTo>
                      <a:lnTo>
                        <a:pt x="72" y="1319"/>
                      </a:lnTo>
                      <a:lnTo>
                        <a:pt x="68" y="1247"/>
                      </a:lnTo>
                      <a:lnTo>
                        <a:pt x="66" y="1173"/>
                      </a:lnTo>
                      <a:lnTo>
                        <a:pt x="65" y="1098"/>
                      </a:lnTo>
                      <a:lnTo>
                        <a:pt x="65" y="1023"/>
                      </a:lnTo>
                      <a:lnTo>
                        <a:pt x="65" y="946"/>
                      </a:lnTo>
                      <a:lnTo>
                        <a:pt x="67" y="866"/>
                      </a:lnTo>
                      <a:lnTo>
                        <a:pt x="71" y="786"/>
                      </a:lnTo>
                      <a:lnTo>
                        <a:pt x="76" y="705"/>
                      </a:lnTo>
                      <a:lnTo>
                        <a:pt x="82" y="623"/>
                      </a:lnTo>
                      <a:lnTo>
                        <a:pt x="90" y="539"/>
                      </a:lnTo>
                      <a:lnTo>
                        <a:pt x="99" y="454"/>
                      </a:lnTo>
                      <a:lnTo>
                        <a:pt x="110" y="368"/>
                      </a:lnTo>
                      <a:lnTo>
                        <a:pt x="122" y="280"/>
                      </a:lnTo>
                      <a:lnTo>
                        <a:pt x="136" y="193"/>
                      </a:lnTo>
                      <a:lnTo>
                        <a:pt x="151" y="103"/>
                      </a:lnTo>
                      <a:lnTo>
                        <a:pt x="169" y="13"/>
                      </a:lnTo>
                      <a:lnTo>
                        <a:pt x="105" y="0"/>
                      </a:lnTo>
                      <a:lnTo>
                        <a:pt x="88" y="92"/>
                      </a:lnTo>
                      <a:lnTo>
                        <a:pt x="72" y="182"/>
                      </a:lnTo>
                      <a:lnTo>
                        <a:pt x="58" y="271"/>
                      </a:lnTo>
                      <a:lnTo>
                        <a:pt x="45" y="360"/>
                      </a:lnTo>
                      <a:lnTo>
                        <a:pt x="35" y="447"/>
                      </a:lnTo>
                      <a:lnTo>
                        <a:pt x="26" y="532"/>
                      </a:lnTo>
                      <a:lnTo>
                        <a:pt x="18" y="617"/>
                      </a:lnTo>
                      <a:lnTo>
                        <a:pt x="11" y="701"/>
                      </a:lnTo>
                      <a:lnTo>
                        <a:pt x="6" y="782"/>
                      </a:lnTo>
                      <a:lnTo>
                        <a:pt x="3" y="864"/>
                      </a:lnTo>
                      <a:lnTo>
                        <a:pt x="1" y="943"/>
                      </a:lnTo>
                      <a:lnTo>
                        <a:pt x="0" y="1023"/>
                      </a:lnTo>
                      <a:lnTo>
                        <a:pt x="1" y="1099"/>
                      </a:lnTo>
                      <a:lnTo>
                        <a:pt x="2" y="1175"/>
                      </a:lnTo>
                      <a:lnTo>
                        <a:pt x="4" y="1249"/>
                      </a:lnTo>
                      <a:lnTo>
                        <a:pt x="8" y="1322"/>
                      </a:lnTo>
                      <a:lnTo>
                        <a:pt x="12" y="1394"/>
                      </a:lnTo>
                      <a:lnTo>
                        <a:pt x="17" y="1464"/>
                      </a:lnTo>
                      <a:lnTo>
                        <a:pt x="22" y="1533"/>
                      </a:lnTo>
                      <a:lnTo>
                        <a:pt x="29" y="1599"/>
                      </a:lnTo>
                      <a:lnTo>
                        <a:pt x="37" y="1665"/>
                      </a:lnTo>
                      <a:lnTo>
                        <a:pt x="45" y="1729"/>
                      </a:lnTo>
                      <a:lnTo>
                        <a:pt x="53" y="1791"/>
                      </a:lnTo>
                      <a:lnTo>
                        <a:pt x="64" y="1852"/>
                      </a:lnTo>
                      <a:lnTo>
                        <a:pt x="73" y="1912"/>
                      </a:lnTo>
                      <a:lnTo>
                        <a:pt x="83" y="1969"/>
                      </a:lnTo>
                      <a:lnTo>
                        <a:pt x="94" y="2025"/>
                      </a:lnTo>
                      <a:lnTo>
                        <a:pt x="104" y="2079"/>
                      </a:lnTo>
                      <a:lnTo>
                        <a:pt x="127" y="2183"/>
                      </a:lnTo>
                      <a:lnTo>
                        <a:pt x="150" y="2279"/>
                      </a:lnTo>
                      <a:lnTo>
                        <a:pt x="149" y="2273"/>
                      </a:lnTo>
                      <a:lnTo>
                        <a:pt x="150" y="2279"/>
                      </a:lnTo>
                      <a:lnTo>
                        <a:pt x="152" y="2286"/>
                      </a:lnTo>
                      <a:lnTo>
                        <a:pt x="156" y="2292"/>
                      </a:lnTo>
                      <a:lnTo>
                        <a:pt x="160" y="2297"/>
                      </a:lnTo>
                      <a:lnTo>
                        <a:pt x="165" y="2300"/>
                      </a:lnTo>
                      <a:lnTo>
                        <a:pt x="171" y="2302"/>
                      </a:lnTo>
                      <a:lnTo>
                        <a:pt x="176" y="2304"/>
                      </a:lnTo>
                      <a:lnTo>
                        <a:pt x="183" y="2304"/>
                      </a:lnTo>
                      <a:lnTo>
                        <a:pt x="189" y="2302"/>
                      </a:lnTo>
                      <a:lnTo>
                        <a:pt x="195" y="2301"/>
                      </a:lnTo>
                      <a:lnTo>
                        <a:pt x="199" y="2298"/>
                      </a:lnTo>
                      <a:lnTo>
                        <a:pt x="204" y="2294"/>
                      </a:lnTo>
                      <a:lnTo>
                        <a:pt x="209" y="2290"/>
                      </a:lnTo>
                      <a:lnTo>
                        <a:pt x="211" y="2284"/>
                      </a:lnTo>
                      <a:lnTo>
                        <a:pt x="213" y="2278"/>
                      </a:lnTo>
                      <a:lnTo>
                        <a:pt x="213" y="2271"/>
                      </a:lnTo>
                      <a:lnTo>
                        <a:pt x="212" y="2263"/>
                      </a:lnTo>
                      <a:lnTo>
                        <a:pt x="213" y="226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2" name=""/>
                <p:cNvSpPr/>
                <p:nvPr/>
              </p:nvSpPr>
              <p:spPr>
                <a:xfrm>
                  <a:off x="3425760" y="4600080"/>
                  <a:ext cx="327240" cy="86040"/>
                </a:xfrm>
                <a:custGeom>
                  <a:avLst/>
                  <a:gdLst/>
                  <a:ahLst/>
                  <a:rect l="l" t="t" r="r" b="b"/>
                  <a:pathLst>
                    <a:path w="1628" h="453">
                      <a:moveTo>
                        <a:pt x="2" y="149"/>
                      </a:moveTo>
                      <a:lnTo>
                        <a:pt x="4" y="156"/>
                      </a:lnTo>
                      <a:lnTo>
                        <a:pt x="18" y="177"/>
                      </a:lnTo>
                      <a:lnTo>
                        <a:pt x="33" y="195"/>
                      </a:lnTo>
                      <a:lnTo>
                        <a:pt x="49" y="214"/>
                      </a:lnTo>
                      <a:lnTo>
                        <a:pt x="68" y="231"/>
                      </a:lnTo>
                      <a:lnTo>
                        <a:pt x="86" y="247"/>
                      </a:lnTo>
                      <a:lnTo>
                        <a:pt x="107" y="263"/>
                      </a:lnTo>
                      <a:lnTo>
                        <a:pt x="128" y="279"/>
                      </a:lnTo>
                      <a:lnTo>
                        <a:pt x="151" y="293"/>
                      </a:lnTo>
                      <a:lnTo>
                        <a:pt x="176" y="307"/>
                      </a:lnTo>
                      <a:lnTo>
                        <a:pt x="201" y="321"/>
                      </a:lnTo>
                      <a:lnTo>
                        <a:pt x="227" y="333"/>
                      </a:lnTo>
                      <a:lnTo>
                        <a:pt x="254" y="345"/>
                      </a:lnTo>
                      <a:lnTo>
                        <a:pt x="282" y="356"/>
                      </a:lnTo>
                      <a:lnTo>
                        <a:pt x="311" y="368"/>
                      </a:lnTo>
                      <a:lnTo>
                        <a:pt x="341" y="378"/>
                      </a:lnTo>
                      <a:lnTo>
                        <a:pt x="371" y="387"/>
                      </a:lnTo>
                      <a:lnTo>
                        <a:pt x="402" y="396"/>
                      </a:lnTo>
                      <a:lnTo>
                        <a:pt x="434" y="404"/>
                      </a:lnTo>
                      <a:lnTo>
                        <a:pt x="466" y="411"/>
                      </a:lnTo>
                      <a:lnTo>
                        <a:pt x="499" y="418"/>
                      </a:lnTo>
                      <a:lnTo>
                        <a:pt x="533" y="425"/>
                      </a:lnTo>
                      <a:lnTo>
                        <a:pt x="566" y="431"/>
                      </a:lnTo>
                      <a:lnTo>
                        <a:pt x="600" y="435"/>
                      </a:lnTo>
                      <a:lnTo>
                        <a:pt x="635" y="440"/>
                      </a:lnTo>
                      <a:lnTo>
                        <a:pt x="669" y="444"/>
                      </a:lnTo>
                      <a:lnTo>
                        <a:pt x="704" y="447"/>
                      </a:lnTo>
                      <a:lnTo>
                        <a:pt x="739" y="449"/>
                      </a:lnTo>
                      <a:lnTo>
                        <a:pt x="774" y="452"/>
                      </a:lnTo>
                      <a:lnTo>
                        <a:pt x="809" y="453"/>
                      </a:lnTo>
                      <a:lnTo>
                        <a:pt x="845" y="453"/>
                      </a:lnTo>
                      <a:lnTo>
                        <a:pt x="880" y="453"/>
                      </a:lnTo>
                      <a:lnTo>
                        <a:pt x="914" y="452"/>
                      </a:lnTo>
                      <a:lnTo>
                        <a:pt x="950" y="449"/>
                      </a:lnTo>
                      <a:lnTo>
                        <a:pt x="984" y="447"/>
                      </a:lnTo>
                      <a:lnTo>
                        <a:pt x="1018" y="445"/>
                      </a:lnTo>
                      <a:lnTo>
                        <a:pt x="1052" y="441"/>
                      </a:lnTo>
                      <a:lnTo>
                        <a:pt x="1085" y="437"/>
                      </a:lnTo>
                      <a:lnTo>
                        <a:pt x="1118" y="431"/>
                      </a:lnTo>
                      <a:lnTo>
                        <a:pt x="1152" y="425"/>
                      </a:lnTo>
                      <a:lnTo>
                        <a:pt x="1183" y="418"/>
                      </a:lnTo>
                      <a:lnTo>
                        <a:pt x="1215" y="411"/>
                      </a:lnTo>
                      <a:lnTo>
                        <a:pt x="1245" y="402"/>
                      </a:lnTo>
                      <a:lnTo>
                        <a:pt x="1275" y="394"/>
                      </a:lnTo>
                      <a:lnTo>
                        <a:pt x="1304" y="384"/>
                      </a:lnTo>
                      <a:lnTo>
                        <a:pt x="1333" y="373"/>
                      </a:lnTo>
                      <a:lnTo>
                        <a:pt x="1361" y="362"/>
                      </a:lnTo>
                      <a:lnTo>
                        <a:pt x="1387" y="349"/>
                      </a:lnTo>
                      <a:lnTo>
                        <a:pt x="1412" y="337"/>
                      </a:lnTo>
                      <a:lnTo>
                        <a:pt x="1436" y="323"/>
                      </a:lnTo>
                      <a:lnTo>
                        <a:pt x="1461" y="308"/>
                      </a:lnTo>
                      <a:lnTo>
                        <a:pt x="1482" y="292"/>
                      </a:lnTo>
                      <a:lnTo>
                        <a:pt x="1503" y="276"/>
                      </a:lnTo>
                      <a:lnTo>
                        <a:pt x="1523" y="259"/>
                      </a:lnTo>
                      <a:lnTo>
                        <a:pt x="1541" y="239"/>
                      </a:lnTo>
                      <a:lnTo>
                        <a:pt x="1558" y="219"/>
                      </a:lnTo>
                      <a:lnTo>
                        <a:pt x="1573" y="199"/>
                      </a:lnTo>
                      <a:lnTo>
                        <a:pt x="1587" y="177"/>
                      </a:lnTo>
                      <a:lnTo>
                        <a:pt x="1598" y="155"/>
                      </a:lnTo>
                      <a:lnTo>
                        <a:pt x="1609" y="131"/>
                      </a:lnTo>
                      <a:lnTo>
                        <a:pt x="1617" y="107"/>
                      </a:lnTo>
                      <a:lnTo>
                        <a:pt x="1623" y="82"/>
                      </a:lnTo>
                      <a:lnTo>
                        <a:pt x="1626" y="55"/>
                      </a:lnTo>
                      <a:lnTo>
                        <a:pt x="1628" y="28"/>
                      </a:lnTo>
                      <a:lnTo>
                        <a:pt x="1627" y="0"/>
                      </a:lnTo>
                      <a:lnTo>
                        <a:pt x="1563" y="4"/>
                      </a:lnTo>
                      <a:lnTo>
                        <a:pt x="1563" y="26"/>
                      </a:lnTo>
                      <a:lnTo>
                        <a:pt x="1562" y="48"/>
                      </a:lnTo>
                      <a:lnTo>
                        <a:pt x="1558" y="69"/>
                      </a:lnTo>
                      <a:lnTo>
                        <a:pt x="1554" y="90"/>
                      </a:lnTo>
                      <a:lnTo>
                        <a:pt x="1548" y="109"/>
                      </a:lnTo>
                      <a:lnTo>
                        <a:pt x="1540" y="128"/>
                      </a:lnTo>
                      <a:lnTo>
                        <a:pt x="1531" y="146"/>
                      </a:lnTo>
                      <a:lnTo>
                        <a:pt x="1519" y="163"/>
                      </a:lnTo>
                      <a:lnTo>
                        <a:pt x="1508" y="179"/>
                      </a:lnTo>
                      <a:lnTo>
                        <a:pt x="1494" y="195"/>
                      </a:lnTo>
                      <a:lnTo>
                        <a:pt x="1478" y="211"/>
                      </a:lnTo>
                      <a:lnTo>
                        <a:pt x="1462" y="226"/>
                      </a:lnTo>
                      <a:lnTo>
                        <a:pt x="1443" y="240"/>
                      </a:lnTo>
                      <a:lnTo>
                        <a:pt x="1424" y="254"/>
                      </a:lnTo>
                      <a:lnTo>
                        <a:pt x="1403" y="268"/>
                      </a:lnTo>
                      <a:lnTo>
                        <a:pt x="1381" y="279"/>
                      </a:lnTo>
                      <a:lnTo>
                        <a:pt x="1358" y="292"/>
                      </a:lnTo>
                      <a:lnTo>
                        <a:pt x="1334" y="302"/>
                      </a:lnTo>
                      <a:lnTo>
                        <a:pt x="1309" y="314"/>
                      </a:lnTo>
                      <a:lnTo>
                        <a:pt x="1283" y="323"/>
                      </a:lnTo>
                      <a:lnTo>
                        <a:pt x="1256" y="332"/>
                      </a:lnTo>
                      <a:lnTo>
                        <a:pt x="1227" y="340"/>
                      </a:lnTo>
                      <a:lnTo>
                        <a:pt x="1199" y="348"/>
                      </a:lnTo>
                      <a:lnTo>
                        <a:pt x="1169" y="355"/>
                      </a:lnTo>
                      <a:lnTo>
                        <a:pt x="1139" y="362"/>
                      </a:lnTo>
                      <a:lnTo>
                        <a:pt x="1108" y="368"/>
                      </a:lnTo>
                      <a:lnTo>
                        <a:pt x="1076" y="372"/>
                      </a:lnTo>
                      <a:lnTo>
                        <a:pt x="1044" y="377"/>
                      </a:lnTo>
                      <a:lnTo>
                        <a:pt x="1012" y="380"/>
                      </a:lnTo>
                      <a:lnTo>
                        <a:pt x="979" y="383"/>
                      </a:lnTo>
                      <a:lnTo>
                        <a:pt x="946" y="385"/>
                      </a:lnTo>
                      <a:lnTo>
                        <a:pt x="912" y="387"/>
                      </a:lnTo>
                      <a:lnTo>
                        <a:pt x="878" y="388"/>
                      </a:lnTo>
                      <a:lnTo>
                        <a:pt x="845" y="388"/>
                      </a:lnTo>
                      <a:lnTo>
                        <a:pt x="811" y="387"/>
                      </a:lnTo>
                      <a:lnTo>
                        <a:pt x="777" y="386"/>
                      </a:lnTo>
                      <a:lnTo>
                        <a:pt x="743" y="385"/>
                      </a:lnTo>
                      <a:lnTo>
                        <a:pt x="710" y="383"/>
                      </a:lnTo>
                      <a:lnTo>
                        <a:pt x="675" y="379"/>
                      </a:lnTo>
                      <a:lnTo>
                        <a:pt x="642" y="376"/>
                      </a:lnTo>
                      <a:lnTo>
                        <a:pt x="608" y="371"/>
                      </a:lnTo>
                      <a:lnTo>
                        <a:pt x="576" y="367"/>
                      </a:lnTo>
                      <a:lnTo>
                        <a:pt x="543" y="362"/>
                      </a:lnTo>
                      <a:lnTo>
                        <a:pt x="512" y="355"/>
                      </a:lnTo>
                      <a:lnTo>
                        <a:pt x="480" y="348"/>
                      </a:lnTo>
                      <a:lnTo>
                        <a:pt x="449" y="341"/>
                      </a:lnTo>
                      <a:lnTo>
                        <a:pt x="419" y="333"/>
                      </a:lnTo>
                      <a:lnTo>
                        <a:pt x="389" y="325"/>
                      </a:lnTo>
                      <a:lnTo>
                        <a:pt x="360" y="316"/>
                      </a:lnTo>
                      <a:lnTo>
                        <a:pt x="333" y="307"/>
                      </a:lnTo>
                      <a:lnTo>
                        <a:pt x="305" y="296"/>
                      </a:lnTo>
                      <a:lnTo>
                        <a:pt x="279" y="286"/>
                      </a:lnTo>
                      <a:lnTo>
                        <a:pt x="254" y="275"/>
                      </a:lnTo>
                      <a:lnTo>
                        <a:pt x="230" y="263"/>
                      </a:lnTo>
                      <a:lnTo>
                        <a:pt x="207" y="251"/>
                      </a:lnTo>
                      <a:lnTo>
                        <a:pt x="185" y="238"/>
                      </a:lnTo>
                      <a:lnTo>
                        <a:pt x="164" y="225"/>
                      </a:lnTo>
                      <a:lnTo>
                        <a:pt x="146" y="211"/>
                      </a:lnTo>
                      <a:lnTo>
                        <a:pt x="127" y="198"/>
                      </a:lnTo>
                      <a:lnTo>
                        <a:pt x="111" y="184"/>
                      </a:lnTo>
                      <a:lnTo>
                        <a:pt x="96" y="169"/>
                      </a:lnTo>
                      <a:lnTo>
                        <a:pt x="83" y="154"/>
                      </a:lnTo>
                      <a:lnTo>
                        <a:pt x="70" y="139"/>
                      </a:lnTo>
                      <a:lnTo>
                        <a:pt x="61" y="123"/>
                      </a:lnTo>
                      <a:lnTo>
                        <a:pt x="63" y="130"/>
                      </a:lnTo>
                      <a:lnTo>
                        <a:pt x="60" y="123"/>
                      </a:lnTo>
                      <a:lnTo>
                        <a:pt x="55" y="117"/>
                      </a:lnTo>
                      <a:lnTo>
                        <a:pt x="50" y="113"/>
                      </a:lnTo>
                      <a:lnTo>
                        <a:pt x="45" y="109"/>
                      </a:lnTo>
                      <a:lnTo>
                        <a:pt x="39" y="108"/>
                      </a:lnTo>
                      <a:lnTo>
                        <a:pt x="33" y="107"/>
                      </a:lnTo>
                      <a:lnTo>
                        <a:pt x="26" y="108"/>
                      </a:lnTo>
                      <a:lnTo>
                        <a:pt x="21" y="109"/>
                      </a:lnTo>
                      <a:lnTo>
                        <a:pt x="16" y="113"/>
                      </a:lnTo>
                      <a:lnTo>
                        <a:pt x="10" y="116"/>
                      </a:lnTo>
                      <a:lnTo>
                        <a:pt x="7" y="121"/>
                      </a:lnTo>
                      <a:lnTo>
                        <a:pt x="3" y="125"/>
                      </a:lnTo>
                      <a:lnTo>
                        <a:pt x="1" y="131"/>
                      </a:lnTo>
                      <a:lnTo>
                        <a:pt x="0" y="137"/>
                      </a:lnTo>
                      <a:lnTo>
                        <a:pt x="0" y="144"/>
                      </a:lnTo>
                      <a:lnTo>
                        <a:pt x="2" y="151"/>
                      </a:lnTo>
                      <a:lnTo>
                        <a:pt x="6" y="156"/>
                      </a:lnTo>
                      <a:lnTo>
                        <a:pt x="2" y="149"/>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483" name=""/>
                <p:cNvSpPr/>
                <p:nvPr/>
              </p:nvSpPr>
              <p:spPr>
                <a:xfrm>
                  <a:off x="3414960" y="4134600"/>
                  <a:ext cx="122400" cy="494280"/>
                </a:xfrm>
                <a:custGeom>
                  <a:avLst/>
                  <a:gdLst/>
                  <a:ahLst/>
                  <a:rect l="l" t="t" r="r" b="b"/>
                  <a:pathLst>
                    <a:path w="604" h="2611">
                      <a:moveTo>
                        <a:pt x="543" y="18"/>
                      </a:moveTo>
                      <a:lnTo>
                        <a:pt x="541" y="22"/>
                      </a:lnTo>
                      <a:lnTo>
                        <a:pt x="503" y="123"/>
                      </a:lnTo>
                      <a:lnTo>
                        <a:pt x="466" y="224"/>
                      </a:lnTo>
                      <a:lnTo>
                        <a:pt x="430" y="324"/>
                      </a:lnTo>
                      <a:lnTo>
                        <a:pt x="396" y="423"/>
                      </a:lnTo>
                      <a:lnTo>
                        <a:pt x="363" y="522"/>
                      </a:lnTo>
                      <a:lnTo>
                        <a:pt x="330" y="619"/>
                      </a:lnTo>
                      <a:lnTo>
                        <a:pt x="299" y="716"/>
                      </a:lnTo>
                      <a:lnTo>
                        <a:pt x="269" y="811"/>
                      </a:lnTo>
                      <a:lnTo>
                        <a:pt x="241" y="906"/>
                      </a:lnTo>
                      <a:lnTo>
                        <a:pt x="214" y="1000"/>
                      </a:lnTo>
                      <a:lnTo>
                        <a:pt x="188" y="1091"/>
                      </a:lnTo>
                      <a:lnTo>
                        <a:pt x="164" y="1182"/>
                      </a:lnTo>
                      <a:lnTo>
                        <a:pt x="141" y="1272"/>
                      </a:lnTo>
                      <a:lnTo>
                        <a:pt x="120" y="1359"/>
                      </a:lnTo>
                      <a:lnTo>
                        <a:pt x="101" y="1446"/>
                      </a:lnTo>
                      <a:lnTo>
                        <a:pt x="82" y="1530"/>
                      </a:lnTo>
                      <a:lnTo>
                        <a:pt x="66" y="1614"/>
                      </a:lnTo>
                      <a:lnTo>
                        <a:pt x="51" y="1696"/>
                      </a:lnTo>
                      <a:lnTo>
                        <a:pt x="39" y="1775"/>
                      </a:lnTo>
                      <a:lnTo>
                        <a:pt x="27" y="1852"/>
                      </a:lnTo>
                      <a:lnTo>
                        <a:pt x="18" y="1928"/>
                      </a:lnTo>
                      <a:lnTo>
                        <a:pt x="10" y="2001"/>
                      </a:lnTo>
                      <a:lnTo>
                        <a:pt x="5" y="2073"/>
                      </a:lnTo>
                      <a:lnTo>
                        <a:pt x="1" y="2143"/>
                      </a:lnTo>
                      <a:lnTo>
                        <a:pt x="0" y="2209"/>
                      </a:lnTo>
                      <a:lnTo>
                        <a:pt x="1" y="2275"/>
                      </a:lnTo>
                      <a:lnTo>
                        <a:pt x="3" y="2337"/>
                      </a:lnTo>
                      <a:lnTo>
                        <a:pt x="8" y="2397"/>
                      </a:lnTo>
                      <a:lnTo>
                        <a:pt x="11" y="2425"/>
                      </a:lnTo>
                      <a:lnTo>
                        <a:pt x="15" y="2454"/>
                      </a:lnTo>
                      <a:lnTo>
                        <a:pt x="19" y="2483"/>
                      </a:lnTo>
                      <a:lnTo>
                        <a:pt x="24" y="2509"/>
                      </a:lnTo>
                      <a:lnTo>
                        <a:pt x="29" y="2536"/>
                      </a:lnTo>
                      <a:lnTo>
                        <a:pt x="35" y="2562"/>
                      </a:lnTo>
                      <a:lnTo>
                        <a:pt x="42" y="2587"/>
                      </a:lnTo>
                      <a:lnTo>
                        <a:pt x="50" y="2611"/>
                      </a:lnTo>
                      <a:lnTo>
                        <a:pt x="111" y="2592"/>
                      </a:lnTo>
                      <a:lnTo>
                        <a:pt x="104" y="2570"/>
                      </a:lnTo>
                      <a:lnTo>
                        <a:pt x="98" y="2546"/>
                      </a:lnTo>
                      <a:lnTo>
                        <a:pt x="93" y="2522"/>
                      </a:lnTo>
                      <a:lnTo>
                        <a:pt x="87" y="2497"/>
                      </a:lnTo>
                      <a:lnTo>
                        <a:pt x="82" y="2471"/>
                      </a:lnTo>
                      <a:lnTo>
                        <a:pt x="79" y="2445"/>
                      </a:lnTo>
                      <a:lnTo>
                        <a:pt x="75" y="2418"/>
                      </a:lnTo>
                      <a:lnTo>
                        <a:pt x="72" y="2391"/>
                      </a:lnTo>
                      <a:lnTo>
                        <a:pt x="67" y="2333"/>
                      </a:lnTo>
                      <a:lnTo>
                        <a:pt x="65" y="2272"/>
                      </a:lnTo>
                      <a:lnTo>
                        <a:pt x="64" y="2210"/>
                      </a:lnTo>
                      <a:lnTo>
                        <a:pt x="66" y="2145"/>
                      </a:lnTo>
                      <a:lnTo>
                        <a:pt x="70" y="2077"/>
                      </a:lnTo>
                      <a:lnTo>
                        <a:pt x="74" y="2007"/>
                      </a:lnTo>
                      <a:lnTo>
                        <a:pt x="82" y="1935"/>
                      </a:lnTo>
                      <a:lnTo>
                        <a:pt x="91" y="1861"/>
                      </a:lnTo>
                      <a:lnTo>
                        <a:pt x="102" y="1784"/>
                      </a:lnTo>
                      <a:lnTo>
                        <a:pt x="114" y="1706"/>
                      </a:lnTo>
                      <a:lnTo>
                        <a:pt x="129" y="1626"/>
                      </a:lnTo>
                      <a:lnTo>
                        <a:pt x="145" y="1544"/>
                      </a:lnTo>
                      <a:lnTo>
                        <a:pt x="164" y="1460"/>
                      </a:lnTo>
                      <a:lnTo>
                        <a:pt x="183" y="1374"/>
                      </a:lnTo>
                      <a:lnTo>
                        <a:pt x="204" y="1287"/>
                      </a:lnTo>
                      <a:lnTo>
                        <a:pt x="227" y="1198"/>
                      </a:lnTo>
                      <a:lnTo>
                        <a:pt x="250" y="1109"/>
                      </a:lnTo>
                      <a:lnTo>
                        <a:pt x="276" y="1017"/>
                      </a:lnTo>
                      <a:lnTo>
                        <a:pt x="303" y="925"/>
                      </a:lnTo>
                      <a:lnTo>
                        <a:pt x="331" y="831"/>
                      </a:lnTo>
                      <a:lnTo>
                        <a:pt x="361" y="735"/>
                      </a:lnTo>
                      <a:lnTo>
                        <a:pt x="391" y="639"/>
                      </a:lnTo>
                      <a:lnTo>
                        <a:pt x="423" y="542"/>
                      </a:lnTo>
                      <a:lnTo>
                        <a:pt x="457" y="443"/>
                      </a:lnTo>
                      <a:lnTo>
                        <a:pt x="491" y="345"/>
                      </a:lnTo>
                      <a:lnTo>
                        <a:pt x="527" y="246"/>
                      </a:lnTo>
                      <a:lnTo>
                        <a:pt x="563" y="145"/>
                      </a:lnTo>
                      <a:lnTo>
                        <a:pt x="601" y="44"/>
                      </a:lnTo>
                      <a:lnTo>
                        <a:pt x="600" y="47"/>
                      </a:lnTo>
                      <a:lnTo>
                        <a:pt x="601" y="44"/>
                      </a:lnTo>
                      <a:lnTo>
                        <a:pt x="604" y="37"/>
                      </a:lnTo>
                      <a:lnTo>
                        <a:pt x="604" y="30"/>
                      </a:lnTo>
                      <a:lnTo>
                        <a:pt x="603" y="24"/>
                      </a:lnTo>
                      <a:lnTo>
                        <a:pt x="600" y="18"/>
                      </a:lnTo>
                      <a:lnTo>
                        <a:pt x="597" y="13"/>
                      </a:lnTo>
                      <a:lnTo>
                        <a:pt x="593" y="9"/>
                      </a:lnTo>
                      <a:lnTo>
                        <a:pt x="588" y="5"/>
                      </a:lnTo>
                      <a:lnTo>
                        <a:pt x="583" y="2"/>
                      </a:lnTo>
                      <a:lnTo>
                        <a:pt x="577" y="1"/>
                      </a:lnTo>
                      <a:lnTo>
                        <a:pt x="570" y="0"/>
                      </a:lnTo>
                      <a:lnTo>
                        <a:pt x="565" y="1"/>
                      </a:lnTo>
                      <a:lnTo>
                        <a:pt x="559" y="2"/>
                      </a:lnTo>
                      <a:lnTo>
                        <a:pt x="553" y="5"/>
                      </a:lnTo>
                      <a:lnTo>
                        <a:pt x="549" y="9"/>
                      </a:lnTo>
                      <a:lnTo>
                        <a:pt x="544" y="15"/>
                      </a:lnTo>
                      <a:lnTo>
                        <a:pt x="541" y="22"/>
                      </a:lnTo>
                      <a:lnTo>
                        <a:pt x="543" y="1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4" name=""/>
                <p:cNvSpPr/>
                <p:nvPr/>
              </p:nvSpPr>
              <p:spPr>
                <a:xfrm>
                  <a:off x="3469320" y="3712320"/>
                  <a:ext cx="84960" cy="431280"/>
                </a:xfrm>
                <a:custGeom>
                  <a:avLst/>
                  <a:gdLst/>
                  <a:ahLst/>
                  <a:rect l="l" t="t" r="r" b="b"/>
                  <a:pathLst>
                    <a:path w="418" h="2280">
                      <a:moveTo>
                        <a:pt x="2" y="36"/>
                      </a:moveTo>
                      <a:lnTo>
                        <a:pt x="2" y="39"/>
                      </a:lnTo>
                      <a:lnTo>
                        <a:pt x="26" y="143"/>
                      </a:lnTo>
                      <a:lnTo>
                        <a:pt x="57" y="262"/>
                      </a:lnTo>
                      <a:lnTo>
                        <a:pt x="90" y="393"/>
                      </a:lnTo>
                      <a:lnTo>
                        <a:pt x="128" y="533"/>
                      </a:lnTo>
                      <a:lnTo>
                        <a:pt x="166" y="681"/>
                      </a:lnTo>
                      <a:lnTo>
                        <a:pt x="205" y="836"/>
                      </a:lnTo>
                      <a:lnTo>
                        <a:pt x="223" y="915"/>
                      </a:lnTo>
                      <a:lnTo>
                        <a:pt x="242" y="995"/>
                      </a:lnTo>
                      <a:lnTo>
                        <a:pt x="259" y="1075"/>
                      </a:lnTo>
                      <a:lnTo>
                        <a:pt x="275" y="1155"/>
                      </a:lnTo>
                      <a:lnTo>
                        <a:pt x="291" y="1236"/>
                      </a:lnTo>
                      <a:lnTo>
                        <a:pt x="305" y="1315"/>
                      </a:lnTo>
                      <a:lnTo>
                        <a:pt x="317" y="1395"/>
                      </a:lnTo>
                      <a:lnTo>
                        <a:pt x="329" y="1474"/>
                      </a:lnTo>
                      <a:lnTo>
                        <a:pt x="338" y="1551"/>
                      </a:lnTo>
                      <a:lnTo>
                        <a:pt x="345" y="1628"/>
                      </a:lnTo>
                      <a:lnTo>
                        <a:pt x="350" y="1701"/>
                      </a:lnTo>
                      <a:lnTo>
                        <a:pt x="353" y="1775"/>
                      </a:lnTo>
                      <a:lnTo>
                        <a:pt x="353" y="1809"/>
                      </a:lnTo>
                      <a:lnTo>
                        <a:pt x="353" y="1845"/>
                      </a:lnTo>
                      <a:lnTo>
                        <a:pt x="352" y="1879"/>
                      </a:lnTo>
                      <a:lnTo>
                        <a:pt x="351" y="1912"/>
                      </a:lnTo>
                      <a:lnTo>
                        <a:pt x="348" y="1945"/>
                      </a:lnTo>
                      <a:lnTo>
                        <a:pt x="346" y="1977"/>
                      </a:lnTo>
                      <a:lnTo>
                        <a:pt x="342" y="2009"/>
                      </a:lnTo>
                      <a:lnTo>
                        <a:pt x="338" y="2039"/>
                      </a:lnTo>
                      <a:lnTo>
                        <a:pt x="332" y="2069"/>
                      </a:lnTo>
                      <a:lnTo>
                        <a:pt x="327" y="2097"/>
                      </a:lnTo>
                      <a:lnTo>
                        <a:pt x="320" y="2126"/>
                      </a:lnTo>
                      <a:lnTo>
                        <a:pt x="312" y="2153"/>
                      </a:lnTo>
                      <a:lnTo>
                        <a:pt x="304" y="2179"/>
                      </a:lnTo>
                      <a:lnTo>
                        <a:pt x="294" y="2204"/>
                      </a:lnTo>
                      <a:lnTo>
                        <a:pt x="284" y="2228"/>
                      </a:lnTo>
                      <a:lnTo>
                        <a:pt x="274" y="2251"/>
                      </a:lnTo>
                      <a:lnTo>
                        <a:pt x="331" y="2280"/>
                      </a:lnTo>
                      <a:lnTo>
                        <a:pt x="344" y="2255"/>
                      </a:lnTo>
                      <a:lnTo>
                        <a:pt x="354" y="2227"/>
                      </a:lnTo>
                      <a:lnTo>
                        <a:pt x="365" y="2200"/>
                      </a:lnTo>
                      <a:lnTo>
                        <a:pt x="374" y="2171"/>
                      </a:lnTo>
                      <a:lnTo>
                        <a:pt x="382" y="2142"/>
                      </a:lnTo>
                      <a:lnTo>
                        <a:pt x="390" y="2112"/>
                      </a:lnTo>
                      <a:lnTo>
                        <a:pt x="396" y="2081"/>
                      </a:lnTo>
                      <a:lnTo>
                        <a:pt x="401" y="2049"/>
                      </a:lnTo>
                      <a:lnTo>
                        <a:pt x="406" y="2017"/>
                      </a:lnTo>
                      <a:lnTo>
                        <a:pt x="410" y="1984"/>
                      </a:lnTo>
                      <a:lnTo>
                        <a:pt x="413" y="1950"/>
                      </a:lnTo>
                      <a:lnTo>
                        <a:pt x="415" y="1916"/>
                      </a:lnTo>
                      <a:lnTo>
                        <a:pt x="417" y="1880"/>
                      </a:lnTo>
                      <a:lnTo>
                        <a:pt x="417" y="1845"/>
                      </a:lnTo>
                      <a:lnTo>
                        <a:pt x="418" y="1809"/>
                      </a:lnTo>
                      <a:lnTo>
                        <a:pt x="417" y="1772"/>
                      </a:lnTo>
                      <a:lnTo>
                        <a:pt x="415" y="1698"/>
                      </a:lnTo>
                      <a:lnTo>
                        <a:pt x="409" y="1622"/>
                      </a:lnTo>
                      <a:lnTo>
                        <a:pt x="402" y="1544"/>
                      </a:lnTo>
                      <a:lnTo>
                        <a:pt x="392" y="1466"/>
                      </a:lnTo>
                      <a:lnTo>
                        <a:pt x="382" y="1385"/>
                      </a:lnTo>
                      <a:lnTo>
                        <a:pt x="368" y="1305"/>
                      </a:lnTo>
                      <a:lnTo>
                        <a:pt x="354" y="1224"/>
                      </a:lnTo>
                      <a:lnTo>
                        <a:pt x="338" y="1143"/>
                      </a:lnTo>
                      <a:lnTo>
                        <a:pt x="322" y="1061"/>
                      </a:lnTo>
                      <a:lnTo>
                        <a:pt x="305" y="981"/>
                      </a:lnTo>
                      <a:lnTo>
                        <a:pt x="286" y="900"/>
                      </a:lnTo>
                      <a:lnTo>
                        <a:pt x="267" y="821"/>
                      </a:lnTo>
                      <a:lnTo>
                        <a:pt x="229" y="666"/>
                      </a:lnTo>
                      <a:lnTo>
                        <a:pt x="190" y="517"/>
                      </a:lnTo>
                      <a:lnTo>
                        <a:pt x="153" y="375"/>
                      </a:lnTo>
                      <a:lnTo>
                        <a:pt x="119" y="245"/>
                      </a:lnTo>
                      <a:lnTo>
                        <a:pt x="89" y="128"/>
                      </a:lnTo>
                      <a:lnTo>
                        <a:pt x="65" y="25"/>
                      </a:lnTo>
                      <a:lnTo>
                        <a:pt x="66" y="27"/>
                      </a:lnTo>
                      <a:lnTo>
                        <a:pt x="65" y="25"/>
                      </a:lnTo>
                      <a:lnTo>
                        <a:pt x="62" y="18"/>
                      </a:lnTo>
                      <a:lnTo>
                        <a:pt x="59" y="12"/>
                      </a:lnTo>
                      <a:lnTo>
                        <a:pt x="54" y="8"/>
                      </a:lnTo>
                      <a:lnTo>
                        <a:pt x="50" y="3"/>
                      </a:lnTo>
                      <a:lnTo>
                        <a:pt x="44" y="1"/>
                      </a:lnTo>
                      <a:lnTo>
                        <a:pt x="38" y="0"/>
                      </a:lnTo>
                      <a:lnTo>
                        <a:pt x="33" y="0"/>
                      </a:lnTo>
                      <a:lnTo>
                        <a:pt x="27" y="1"/>
                      </a:lnTo>
                      <a:lnTo>
                        <a:pt x="21" y="2"/>
                      </a:lnTo>
                      <a:lnTo>
                        <a:pt x="15" y="5"/>
                      </a:lnTo>
                      <a:lnTo>
                        <a:pt x="11" y="9"/>
                      </a:lnTo>
                      <a:lnTo>
                        <a:pt x="6" y="13"/>
                      </a:lnTo>
                      <a:lnTo>
                        <a:pt x="4" y="18"/>
                      </a:lnTo>
                      <a:lnTo>
                        <a:pt x="2" y="25"/>
                      </a:lnTo>
                      <a:lnTo>
                        <a:pt x="0" y="32"/>
                      </a:lnTo>
                      <a:lnTo>
                        <a:pt x="2" y="39"/>
                      </a:lnTo>
                      <a:lnTo>
                        <a:pt x="2" y="3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5" name=""/>
                <p:cNvSpPr/>
                <p:nvPr/>
              </p:nvSpPr>
              <p:spPr>
                <a:xfrm>
                  <a:off x="3412080" y="3169440"/>
                  <a:ext cx="70920" cy="549000"/>
                </a:xfrm>
                <a:custGeom>
                  <a:avLst/>
                  <a:gdLst/>
                  <a:ahLst/>
                  <a:rect l="l" t="t" r="r" b="b"/>
                  <a:pathLst>
                    <a:path w="349" h="2901">
                      <a:moveTo>
                        <a:pt x="140" y="12"/>
                      </a:moveTo>
                      <a:lnTo>
                        <a:pt x="86" y="21"/>
                      </a:lnTo>
                      <a:lnTo>
                        <a:pt x="74" y="50"/>
                      </a:lnTo>
                      <a:lnTo>
                        <a:pt x="64" y="81"/>
                      </a:lnTo>
                      <a:lnTo>
                        <a:pt x="54" y="112"/>
                      </a:lnTo>
                      <a:lnTo>
                        <a:pt x="46" y="145"/>
                      </a:lnTo>
                      <a:lnTo>
                        <a:pt x="38" y="180"/>
                      </a:lnTo>
                      <a:lnTo>
                        <a:pt x="31" y="215"/>
                      </a:lnTo>
                      <a:lnTo>
                        <a:pt x="25" y="252"/>
                      </a:lnTo>
                      <a:lnTo>
                        <a:pt x="19" y="290"/>
                      </a:lnTo>
                      <a:lnTo>
                        <a:pt x="15" y="329"/>
                      </a:lnTo>
                      <a:lnTo>
                        <a:pt x="10" y="369"/>
                      </a:lnTo>
                      <a:lnTo>
                        <a:pt x="7" y="411"/>
                      </a:lnTo>
                      <a:lnTo>
                        <a:pt x="4" y="453"/>
                      </a:lnTo>
                      <a:lnTo>
                        <a:pt x="2" y="496"/>
                      </a:lnTo>
                      <a:lnTo>
                        <a:pt x="1" y="540"/>
                      </a:lnTo>
                      <a:lnTo>
                        <a:pt x="0" y="585"/>
                      </a:lnTo>
                      <a:lnTo>
                        <a:pt x="0" y="630"/>
                      </a:lnTo>
                      <a:lnTo>
                        <a:pt x="1" y="724"/>
                      </a:lnTo>
                      <a:lnTo>
                        <a:pt x="4" y="820"/>
                      </a:lnTo>
                      <a:lnTo>
                        <a:pt x="9" y="918"/>
                      </a:lnTo>
                      <a:lnTo>
                        <a:pt x="17" y="1020"/>
                      </a:lnTo>
                      <a:lnTo>
                        <a:pt x="25" y="1122"/>
                      </a:lnTo>
                      <a:lnTo>
                        <a:pt x="35" y="1225"/>
                      </a:lnTo>
                      <a:lnTo>
                        <a:pt x="47" y="1330"/>
                      </a:lnTo>
                      <a:lnTo>
                        <a:pt x="58" y="1434"/>
                      </a:lnTo>
                      <a:lnTo>
                        <a:pt x="72" y="1540"/>
                      </a:lnTo>
                      <a:lnTo>
                        <a:pt x="86" y="1644"/>
                      </a:lnTo>
                      <a:lnTo>
                        <a:pt x="101" y="1749"/>
                      </a:lnTo>
                      <a:lnTo>
                        <a:pt x="117" y="1854"/>
                      </a:lnTo>
                      <a:lnTo>
                        <a:pt x="148" y="2057"/>
                      </a:lnTo>
                      <a:lnTo>
                        <a:pt x="180" y="2253"/>
                      </a:lnTo>
                      <a:lnTo>
                        <a:pt x="211" y="2438"/>
                      </a:lnTo>
                      <a:lnTo>
                        <a:pt x="240" y="2611"/>
                      </a:lnTo>
                      <a:lnTo>
                        <a:pt x="264" y="2766"/>
                      </a:lnTo>
                      <a:lnTo>
                        <a:pt x="285" y="2901"/>
                      </a:lnTo>
                      <a:lnTo>
                        <a:pt x="349" y="2892"/>
                      </a:lnTo>
                      <a:lnTo>
                        <a:pt x="328" y="2755"/>
                      </a:lnTo>
                      <a:lnTo>
                        <a:pt x="303" y="2600"/>
                      </a:lnTo>
                      <a:lnTo>
                        <a:pt x="274" y="2428"/>
                      </a:lnTo>
                      <a:lnTo>
                        <a:pt x="244" y="2243"/>
                      </a:lnTo>
                      <a:lnTo>
                        <a:pt x="212" y="2047"/>
                      </a:lnTo>
                      <a:lnTo>
                        <a:pt x="180" y="1843"/>
                      </a:lnTo>
                      <a:lnTo>
                        <a:pt x="165" y="1740"/>
                      </a:lnTo>
                      <a:lnTo>
                        <a:pt x="150" y="1636"/>
                      </a:lnTo>
                      <a:lnTo>
                        <a:pt x="136" y="1531"/>
                      </a:lnTo>
                      <a:lnTo>
                        <a:pt x="123" y="1426"/>
                      </a:lnTo>
                      <a:lnTo>
                        <a:pt x="110" y="1322"/>
                      </a:lnTo>
                      <a:lnTo>
                        <a:pt x="100" y="1218"/>
                      </a:lnTo>
                      <a:lnTo>
                        <a:pt x="89" y="1116"/>
                      </a:lnTo>
                      <a:lnTo>
                        <a:pt x="81" y="1014"/>
                      </a:lnTo>
                      <a:lnTo>
                        <a:pt x="74" y="915"/>
                      </a:lnTo>
                      <a:lnTo>
                        <a:pt x="69" y="817"/>
                      </a:lnTo>
                      <a:lnTo>
                        <a:pt x="65" y="722"/>
                      </a:lnTo>
                      <a:lnTo>
                        <a:pt x="64" y="630"/>
                      </a:lnTo>
                      <a:lnTo>
                        <a:pt x="65" y="585"/>
                      </a:lnTo>
                      <a:lnTo>
                        <a:pt x="65" y="542"/>
                      </a:lnTo>
                      <a:lnTo>
                        <a:pt x="66" y="498"/>
                      </a:lnTo>
                      <a:lnTo>
                        <a:pt x="69" y="457"/>
                      </a:lnTo>
                      <a:lnTo>
                        <a:pt x="71" y="415"/>
                      </a:lnTo>
                      <a:lnTo>
                        <a:pt x="74" y="375"/>
                      </a:lnTo>
                      <a:lnTo>
                        <a:pt x="79" y="337"/>
                      </a:lnTo>
                      <a:lnTo>
                        <a:pt x="84" y="299"/>
                      </a:lnTo>
                      <a:lnTo>
                        <a:pt x="88" y="262"/>
                      </a:lnTo>
                      <a:lnTo>
                        <a:pt x="94" y="227"/>
                      </a:lnTo>
                      <a:lnTo>
                        <a:pt x="101" y="193"/>
                      </a:lnTo>
                      <a:lnTo>
                        <a:pt x="109" y="161"/>
                      </a:lnTo>
                      <a:lnTo>
                        <a:pt x="117" y="130"/>
                      </a:lnTo>
                      <a:lnTo>
                        <a:pt x="125" y="100"/>
                      </a:lnTo>
                      <a:lnTo>
                        <a:pt x="135" y="72"/>
                      </a:lnTo>
                      <a:lnTo>
                        <a:pt x="146" y="45"/>
                      </a:lnTo>
                      <a:lnTo>
                        <a:pt x="92" y="54"/>
                      </a:lnTo>
                      <a:lnTo>
                        <a:pt x="146" y="45"/>
                      </a:lnTo>
                      <a:lnTo>
                        <a:pt x="148" y="38"/>
                      </a:lnTo>
                      <a:lnTo>
                        <a:pt x="148" y="31"/>
                      </a:lnTo>
                      <a:lnTo>
                        <a:pt x="148" y="25"/>
                      </a:lnTo>
                      <a:lnTo>
                        <a:pt x="146" y="19"/>
                      </a:lnTo>
                      <a:lnTo>
                        <a:pt x="142" y="14"/>
                      </a:lnTo>
                      <a:lnTo>
                        <a:pt x="138" y="10"/>
                      </a:lnTo>
                      <a:lnTo>
                        <a:pt x="133" y="6"/>
                      </a:lnTo>
                      <a:lnTo>
                        <a:pt x="128" y="3"/>
                      </a:lnTo>
                      <a:lnTo>
                        <a:pt x="123" y="2"/>
                      </a:lnTo>
                      <a:lnTo>
                        <a:pt x="116" y="0"/>
                      </a:lnTo>
                      <a:lnTo>
                        <a:pt x="110" y="0"/>
                      </a:lnTo>
                      <a:lnTo>
                        <a:pt x="104" y="2"/>
                      </a:lnTo>
                      <a:lnTo>
                        <a:pt x="99" y="5"/>
                      </a:lnTo>
                      <a:lnTo>
                        <a:pt x="94" y="8"/>
                      </a:lnTo>
                      <a:lnTo>
                        <a:pt x="89" y="14"/>
                      </a:lnTo>
                      <a:lnTo>
                        <a:pt x="86" y="21"/>
                      </a:lnTo>
                      <a:lnTo>
                        <a:pt x="140" y="1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6" name=""/>
                <p:cNvSpPr/>
                <p:nvPr/>
              </p:nvSpPr>
              <p:spPr>
                <a:xfrm>
                  <a:off x="3404880" y="4707360"/>
                  <a:ext cx="993600" cy="281160"/>
                </a:xfrm>
                <a:custGeom>
                  <a:avLst/>
                  <a:gdLst/>
                  <a:ahLst/>
                  <a:rect l="l" t="t" r="r" b="b"/>
                  <a:pathLst>
                    <a:path w="4920" h="1489">
                      <a:moveTo>
                        <a:pt x="31" y="1276"/>
                      </a:moveTo>
                      <a:lnTo>
                        <a:pt x="19" y="1254"/>
                      </a:lnTo>
                      <a:lnTo>
                        <a:pt x="11" y="1231"/>
                      </a:lnTo>
                      <a:lnTo>
                        <a:pt x="6" y="1206"/>
                      </a:lnTo>
                      <a:lnTo>
                        <a:pt x="2" y="1180"/>
                      </a:lnTo>
                      <a:lnTo>
                        <a:pt x="0" y="1151"/>
                      </a:lnTo>
                      <a:lnTo>
                        <a:pt x="0" y="1122"/>
                      </a:lnTo>
                      <a:lnTo>
                        <a:pt x="2" y="1092"/>
                      </a:lnTo>
                      <a:lnTo>
                        <a:pt x="6" y="1060"/>
                      </a:lnTo>
                      <a:lnTo>
                        <a:pt x="11" y="1028"/>
                      </a:lnTo>
                      <a:lnTo>
                        <a:pt x="18" y="996"/>
                      </a:lnTo>
                      <a:lnTo>
                        <a:pt x="26" y="962"/>
                      </a:lnTo>
                      <a:lnTo>
                        <a:pt x="37" y="929"/>
                      </a:lnTo>
                      <a:lnTo>
                        <a:pt x="47" y="895"/>
                      </a:lnTo>
                      <a:lnTo>
                        <a:pt x="59" y="861"/>
                      </a:lnTo>
                      <a:lnTo>
                        <a:pt x="71" y="827"/>
                      </a:lnTo>
                      <a:lnTo>
                        <a:pt x="85" y="794"/>
                      </a:lnTo>
                      <a:lnTo>
                        <a:pt x="99" y="760"/>
                      </a:lnTo>
                      <a:lnTo>
                        <a:pt x="114" y="728"/>
                      </a:lnTo>
                      <a:lnTo>
                        <a:pt x="129" y="696"/>
                      </a:lnTo>
                      <a:lnTo>
                        <a:pt x="145" y="664"/>
                      </a:lnTo>
                      <a:lnTo>
                        <a:pt x="176" y="604"/>
                      </a:lnTo>
                      <a:lnTo>
                        <a:pt x="207" y="549"/>
                      </a:lnTo>
                      <a:lnTo>
                        <a:pt x="237" y="499"/>
                      </a:lnTo>
                      <a:lnTo>
                        <a:pt x="264" y="457"/>
                      </a:lnTo>
                      <a:lnTo>
                        <a:pt x="278" y="440"/>
                      </a:lnTo>
                      <a:lnTo>
                        <a:pt x="289" y="424"/>
                      </a:lnTo>
                      <a:lnTo>
                        <a:pt x="301" y="410"/>
                      </a:lnTo>
                      <a:lnTo>
                        <a:pt x="311" y="398"/>
                      </a:lnTo>
                      <a:lnTo>
                        <a:pt x="330" y="374"/>
                      </a:lnTo>
                      <a:lnTo>
                        <a:pt x="346" y="351"/>
                      </a:lnTo>
                      <a:lnTo>
                        <a:pt x="359" y="329"/>
                      </a:lnTo>
                      <a:lnTo>
                        <a:pt x="371" y="309"/>
                      </a:lnTo>
                      <a:lnTo>
                        <a:pt x="390" y="270"/>
                      </a:lnTo>
                      <a:lnTo>
                        <a:pt x="408" y="233"/>
                      </a:lnTo>
                      <a:lnTo>
                        <a:pt x="416" y="216"/>
                      </a:lnTo>
                      <a:lnTo>
                        <a:pt x="425" y="198"/>
                      </a:lnTo>
                      <a:lnTo>
                        <a:pt x="434" y="181"/>
                      </a:lnTo>
                      <a:lnTo>
                        <a:pt x="444" y="165"/>
                      </a:lnTo>
                      <a:lnTo>
                        <a:pt x="457" y="148"/>
                      </a:lnTo>
                      <a:lnTo>
                        <a:pt x="472" y="132"/>
                      </a:lnTo>
                      <a:lnTo>
                        <a:pt x="488" y="116"/>
                      </a:lnTo>
                      <a:lnTo>
                        <a:pt x="509" y="99"/>
                      </a:lnTo>
                      <a:lnTo>
                        <a:pt x="519" y="89"/>
                      </a:lnTo>
                      <a:lnTo>
                        <a:pt x="534" y="80"/>
                      </a:lnTo>
                      <a:lnTo>
                        <a:pt x="550" y="73"/>
                      </a:lnTo>
                      <a:lnTo>
                        <a:pt x="570" y="65"/>
                      </a:lnTo>
                      <a:lnTo>
                        <a:pt x="590" y="58"/>
                      </a:lnTo>
                      <a:lnTo>
                        <a:pt x="613" y="53"/>
                      </a:lnTo>
                      <a:lnTo>
                        <a:pt x="638" y="48"/>
                      </a:lnTo>
                      <a:lnTo>
                        <a:pt x="665" y="43"/>
                      </a:lnTo>
                      <a:lnTo>
                        <a:pt x="692" y="40"/>
                      </a:lnTo>
                      <a:lnTo>
                        <a:pt x="721" y="36"/>
                      </a:lnTo>
                      <a:lnTo>
                        <a:pt x="752" y="34"/>
                      </a:lnTo>
                      <a:lnTo>
                        <a:pt x="783" y="32"/>
                      </a:lnTo>
                      <a:lnTo>
                        <a:pt x="846" y="30"/>
                      </a:lnTo>
                      <a:lnTo>
                        <a:pt x="911" y="30"/>
                      </a:lnTo>
                      <a:lnTo>
                        <a:pt x="975" y="32"/>
                      </a:lnTo>
                      <a:lnTo>
                        <a:pt x="1037" y="36"/>
                      </a:lnTo>
                      <a:lnTo>
                        <a:pt x="1095" y="42"/>
                      </a:lnTo>
                      <a:lnTo>
                        <a:pt x="1149" y="50"/>
                      </a:lnTo>
                      <a:lnTo>
                        <a:pt x="1174" y="55"/>
                      </a:lnTo>
                      <a:lnTo>
                        <a:pt x="1197" y="61"/>
                      </a:lnTo>
                      <a:lnTo>
                        <a:pt x="1217" y="66"/>
                      </a:lnTo>
                      <a:lnTo>
                        <a:pt x="1236" y="72"/>
                      </a:lnTo>
                      <a:lnTo>
                        <a:pt x="1251" y="78"/>
                      </a:lnTo>
                      <a:lnTo>
                        <a:pt x="1264" y="85"/>
                      </a:lnTo>
                      <a:lnTo>
                        <a:pt x="1275" y="92"/>
                      </a:lnTo>
                      <a:lnTo>
                        <a:pt x="1283" y="99"/>
                      </a:lnTo>
                      <a:lnTo>
                        <a:pt x="1309" y="112"/>
                      </a:lnTo>
                      <a:lnTo>
                        <a:pt x="1333" y="125"/>
                      </a:lnTo>
                      <a:lnTo>
                        <a:pt x="1355" y="139"/>
                      </a:lnTo>
                      <a:lnTo>
                        <a:pt x="1376" y="153"/>
                      </a:lnTo>
                      <a:lnTo>
                        <a:pt x="1394" y="167"/>
                      </a:lnTo>
                      <a:lnTo>
                        <a:pt x="1410" y="182"/>
                      </a:lnTo>
                      <a:lnTo>
                        <a:pt x="1425" y="198"/>
                      </a:lnTo>
                      <a:lnTo>
                        <a:pt x="1438" y="213"/>
                      </a:lnTo>
                      <a:lnTo>
                        <a:pt x="1449" y="229"/>
                      </a:lnTo>
                      <a:lnTo>
                        <a:pt x="1458" y="246"/>
                      </a:lnTo>
                      <a:lnTo>
                        <a:pt x="1468" y="262"/>
                      </a:lnTo>
                      <a:lnTo>
                        <a:pt x="1474" y="279"/>
                      </a:lnTo>
                      <a:lnTo>
                        <a:pt x="1481" y="295"/>
                      </a:lnTo>
                      <a:lnTo>
                        <a:pt x="1486" y="312"/>
                      </a:lnTo>
                      <a:lnTo>
                        <a:pt x="1491" y="329"/>
                      </a:lnTo>
                      <a:lnTo>
                        <a:pt x="1494" y="347"/>
                      </a:lnTo>
                      <a:lnTo>
                        <a:pt x="1500" y="381"/>
                      </a:lnTo>
                      <a:lnTo>
                        <a:pt x="1503" y="416"/>
                      </a:lnTo>
                      <a:lnTo>
                        <a:pt x="1505" y="450"/>
                      </a:lnTo>
                      <a:lnTo>
                        <a:pt x="1509" y="485"/>
                      </a:lnTo>
                      <a:lnTo>
                        <a:pt x="1512" y="518"/>
                      </a:lnTo>
                      <a:lnTo>
                        <a:pt x="1517" y="550"/>
                      </a:lnTo>
                      <a:lnTo>
                        <a:pt x="1520" y="566"/>
                      </a:lnTo>
                      <a:lnTo>
                        <a:pt x="1525" y="582"/>
                      </a:lnTo>
                      <a:lnTo>
                        <a:pt x="1531" y="597"/>
                      </a:lnTo>
                      <a:lnTo>
                        <a:pt x="1536" y="612"/>
                      </a:lnTo>
                      <a:lnTo>
                        <a:pt x="1558" y="643"/>
                      </a:lnTo>
                      <a:lnTo>
                        <a:pt x="1581" y="675"/>
                      </a:lnTo>
                      <a:lnTo>
                        <a:pt x="1603" y="710"/>
                      </a:lnTo>
                      <a:lnTo>
                        <a:pt x="1625" y="745"/>
                      </a:lnTo>
                      <a:lnTo>
                        <a:pt x="1647" y="782"/>
                      </a:lnTo>
                      <a:lnTo>
                        <a:pt x="1667" y="820"/>
                      </a:lnTo>
                      <a:lnTo>
                        <a:pt x="1687" y="858"/>
                      </a:lnTo>
                      <a:lnTo>
                        <a:pt x="1704" y="895"/>
                      </a:lnTo>
                      <a:lnTo>
                        <a:pt x="1721" y="933"/>
                      </a:lnTo>
                      <a:lnTo>
                        <a:pt x="1735" y="969"/>
                      </a:lnTo>
                      <a:lnTo>
                        <a:pt x="1748" y="1004"/>
                      </a:lnTo>
                      <a:lnTo>
                        <a:pt x="1758" y="1038"/>
                      </a:lnTo>
                      <a:lnTo>
                        <a:pt x="1765" y="1070"/>
                      </a:lnTo>
                      <a:lnTo>
                        <a:pt x="1770" y="1100"/>
                      </a:lnTo>
                      <a:lnTo>
                        <a:pt x="1771" y="1115"/>
                      </a:lnTo>
                      <a:lnTo>
                        <a:pt x="1772" y="1129"/>
                      </a:lnTo>
                      <a:lnTo>
                        <a:pt x="1771" y="1142"/>
                      </a:lnTo>
                      <a:lnTo>
                        <a:pt x="1770" y="1153"/>
                      </a:lnTo>
                      <a:lnTo>
                        <a:pt x="1737" y="1111"/>
                      </a:lnTo>
                      <a:lnTo>
                        <a:pt x="1702" y="1070"/>
                      </a:lnTo>
                      <a:lnTo>
                        <a:pt x="1663" y="1031"/>
                      </a:lnTo>
                      <a:lnTo>
                        <a:pt x="1620" y="995"/>
                      </a:lnTo>
                      <a:lnTo>
                        <a:pt x="1574" y="960"/>
                      </a:lnTo>
                      <a:lnTo>
                        <a:pt x="1525" y="928"/>
                      </a:lnTo>
                      <a:lnTo>
                        <a:pt x="1473" y="898"/>
                      </a:lnTo>
                      <a:lnTo>
                        <a:pt x="1418" y="871"/>
                      </a:lnTo>
                      <a:lnTo>
                        <a:pt x="1362" y="845"/>
                      </a:lnTo>
                      <a:lnTo>
                        <a:pt x="1303" y="823"/>
                      </a:lnTo>
                      <a:lnTo>
                        <a:pt x="1242" y="804"/>
                      </a:lnTo>
                      <a:lnTo>
                        <a:pt x="1182" y="788"/>
                      </a:lnTo>
                      <a:lnTo>
                        <a:pt x="1118" y="775"/>
                      </a:lnTo>
                      <a:lnTo>
                        <a:pt x="1054" y="765"/>
                      </a:lnTo>
                      <a:lnTo>
                        <a:pt x="990" y="759"/>
                      </a:lnTo>
                      <a:lnTo>
                        <a:pt x="924" y="756"/>
                      </a:lnTo>
                      <a:lnTo>
                        <a:pt x="859" y="757"/>
                      </a:lnTo>
                      <a:lnTo>
                        <a:pt x="793" y="760"/>
                      </a:lnTo>
                      <a:lnTo>
                        <a:pt x="729" y="768"/>
                      </a:lnTo>
                      <a:lnTo>
                        <a:pt x="665" y="781"/>
                      </a:lnTo>
                      <a:lnTo>
                        <a:pt x="601" y="797"/>
                      </a:lnTo>
                      <a:lnTo>
                        <a:pt x="539" y="818"/>
                      </a:lnTo>
                      <a:lnTo>
                        <a:pt x="478" y="842"/>
                      </a:lnTo>
                      <a:lnTo>
                        <a:pt x="418" y="871"/>
                      </a:lnTo>
                      <a:lnTo>
                        <a:pt x="361" y="905"/>
                      </a:lnTo>
                      <a:lnTo>
                        <a:pt x="304" y="943"/>
                      </a:lnTo>
                      <a:lnTo>
                        <a:pt x="251" y="985"/>
                      </a:lnTo>
                      <a:lnTo>
                        <a:pt x="201" y="1034"/>
                      </a:lnTo>
                      <a:lnTo>
                        <a:pt x="154" y="1087"/>
                      </a:lnTo>
                      <a:lnTo>
                        <a:pt x="109" y="1145"/>
                      </a:lnTo>
                      <a:lnTo>
                        <a:pt x="68" y="1208"/>
                      </a:lnTo>
                      <a:lnTo>
                        <a:pt x="31" y="1276"/>
                      </a:lnTo>
                      <a:close/>
                      <a:moveTo>
                        <a:pt x="2797" y="1054"/>
                      </a:moveTo>
                      <a:lnTo>
                        <a:pt x="2903" y="931"/>
                      </a:lnTo>
                      <a:lnTo>
                        <a:pt x="2988" y="833"/>
                      </a:lnTo>
                      <a:lnTo>
                        <a:pt x="3025" y="790"/>
                      </a:lnTo>
                      <a:lnTo>
                        <a:pt x="3057" y="750"/>
                      </a:lnTo>
                      <a:lnTo>
                        <a:pt x="3085" y="714"/>
                      </a:lnTo>
                      <a:lnTo>
                        <a:pt x="3109" y="679"/>
                      </a:lnTo>
                      <a:lnTo>
                        <a:pt x="3120" y="663"/>
                      </a:lnTo>
                      <a:lnTo>
                        <a:pt x="3129" y="645"/>
                      </a:lnTo>
                      <a:lnTo>
                        <a:pt x="3138" y="628"/>
                      </a:lnTo>
                      <a:lnTo>
                        <a:pt x="3147" y="612"/>
                      </a:lnTo>
                      <a:lnTo>
                        <a:pt x="3153" y="595"/>
                      </a:lnTo>
                      <a:lnTo>
                        <a:pt x="3160" y="578"/>
                      </a:lnTo>
                      <a:lnTo>
                        <a:pt x="3166" y="560"/>
                      </a:lnTo>
                      <a:lnTo>
                        <a:pt x="3171" y="543"/>
                      </a:lnTo>
                      <a:lnTo>
                        <a:pt x="3175" y="525"/>
                      </a:lnTo>
                      <a:lnTo>
                        <a:pt x="3179" y="505"/>
                      </a:lnTo>
                      <a:lnTo>
                        <a:pt x="3181" y="486"/>
                      </a:lnTo>
                      <a:lnTo>
                        <a:pt x="3183" y="465"/>
                      </a:lnTo>
                      <a:lnTo>
                        <a:pt x="3184" y="443"/>
                      </a:lnTo>
                      <a:lnTo>
                        <a:pt x="3186" y="421"/>
                      </a:lnTo>
                      <a:lnTo>
                        <a:pt x="3186" y="397"/>
                      </a:lnTo>
                      <a:lnTo>
                        <a:pt x="3184" y="373"/>
                      </a:lnTo>
                      <a:lnTo>
                        <a:pt x="3186" y="324"/>
                      </a:lnTo>
                      <a:lnTo>
                        <a:pt x="3191" y="279"/>
                      </a:lnTo>
                      <a:lnTo>
                        <a:pt x="3203" y="238"/>
                      </a:lnTo>
                      <a:lnTo>
                        <a:pt x="3219" y="198"/>
                      </a:lnTo>
                      <a:lnTo>
                        <a:pt x="3240" y="164"/>
                      </a:lnTo>
                      <a:lnTo>
                        <a:pt x="3265" y="133"/>
                      </a:lnTo>
                      <a:lnTo>
                        <a:pt x="3294" y="105"/>
                      </a:lnTo>
                      <a:lnTo>
                        <a:pt x="3326" y="80"/>
                      </a:lnTo>
                      <a:lnTo>
                        <a:pt x="3361" y="59"/>
                      </a:lnTo>
                      <a:lnTo>
                        <a:pt x="3399" y="41"/>
                      </a:lnTo>
                      <a:lnTo>
                        <a:pt x="3439" y="27"/>
                      </a:lnTo>
                      <a:lnTo>
                        <a:pt x="3483" y="16"/>
                      </a:lnTo>
                      <a:lnTo>
                        <a:pt x="3527" y="7"/>
                      </a:lnTo>
                      <a:lnTo>
                        <a:pt x="3573" y="2"/>
                      </a:lnTo>
                      <a:lnTo>
                        <a:pt x="3619" y="0"/>
                      </a:lnTo>
                      <a:lnTo>
                        <a:pt x="3666" y="0"/>
                      </a:lnTo>
                      <a:lnTo>
                        <a:pt x="3713" y="4"/>
                      </a:lnTo>
                      <a:lnTo>
                        <a:pt x="3760" y="10"/>
                      </a:lnTo>
                      <a:lnTo>
                        <a:pt x="3806" y="20"/>
                      </a:lnTo>
                      <a:lnTo>
                        <a:pt x="3852" y="33"/>
                      </a:lnTo>
                      <a:lnTo>
                        <a:pt x="3896" y="48"/>
                      </a:lnTo>
                      <a:lnTo>
                        <a:pt x="3939" y="66"/>
                      </a:lnTo>
                      <a:lnTo>
                        <a:pt x="3979" y="87"/>
                      </a:lnTo>
                      <a:lnTo>
                        <a:pt x="4018" y="110"/>
                      </a:lnTo>
                      <a:lnTo>
                        <a:pt x="4053" y="136"/>
                      </a:lnTo>
                      <a:lnTo>
                        <a:pt x="4086" y="165"/>
                      </a:lnTo>
                      <a:lnTo>
                        <a:pt x="4115" y="196"/>
                      </a:lnTo>
                      <a:lnTo>
                        <a:pt x="4140" y="231"/>
                      </a:lnTo>
                      <a:lnTo>
                        <a:pt x="4161" y="266"/>
                      </a:lnTo>
                      <a:lnTo>
                        <a:pt x="4178" y="305"/>
                      </a:lnTo>
                      <a:lnTo>
                        <a:pt x="4189" y="347"/>
                      </a:lnTo>
                      <a:lnTo>
                        <a:pt x="4195" y="390"/>
                      </a:lnTo>
                      <a:lnTo>
                        <a:pt x="4206" y="403"/>
                      </a:lnTo>
                      <a:lnTo>
                        <a:pt x="4218" y="414"/>
                      </a:lnTo>
                      <a:lnTo>
                        <a:pt x="4229" y="424"/>
                      </a:lnTo>
                      <a:lnTo>
                        <a:pt x="4241" y="433"/>
                      </a:lnTo>
                      <a:lnTo>
                        <a:pt x="4254" y="440"/>
                      </a:lnTo>
                      <a:lnTo>
                        <a:pt x="4266" y="445"/>
                      </a:lnTo>
                      <a:lnTo>
                        <a:pt x="4279" y="450"/>
                      </a:lnTo>
                      <a:lnTo>
                        <a:pt x="4291" y="454"/>
                      </a:lnTo>
                      <a:lnTo>
                        <a:pt x="4305" y="456"/>
                      </a:lnTo>
                      <a:lnTo>
                        <a:pt x="4318" y="457"/>
                      </a:lnTo>
                      <a:lnTo>
                        <a:pt x="4332" y="458"/>
                      </a:lnTo>
                      <a:lnTo>
                        <a:pt x="4344" y="457"/>
                      </a:lnTo>
                      <a:lnTo>
                        <a:pt x="4357" y="456"/>
                      </a:lnTo>
                      <a:lnTo>
                        <a:pt x="4371" y="454"/>
                      </a:lnTo>
                      <a:lnTo>
                        <a:pt x="4383" y="450"/>
                      </a:lnTo>
                      <a:lnTo>
                        <a:pt x="4396" y="447"/>
                      </a:lnTo>
                      <a:lnTo>
                        <a:pt x="4421" y="437"/>
                      </a:lnTo>
                      <a:lnTo>
                        <a:pt x="4445" y="425"/>
                      </a:lnTo>
                      <a:lnTo>
                        <a:pt x="4467" y="411"/>
                      </a:lnTo>
                      <a:lnTo>
                        <a:pt x="4488" y="396"/>
                      </a:lnTo>
                      <a:lnTo>
                        <a:pt x="4506" y="380"/>
                      </a:lnTo>
                      <a:lnTo>
                        <a:pt x="4522" y="363"/>
                      </a:lnTo>
                      <a:lnTo>
                        <a:pt x="4536" y="346"/>
                      </a:lnTo>
                      <a:lnTo>
                        <a:pt x="4546" y="329"/>
                      </a:lnTo>
                      <a:lnTo>
                        <a:pt x="4566" y="332"/>
                      </a:lnTo>
                      <a:lnTo>
                        <a:pt x="4585" y="336"/>
                      </a:lnTo>
                      <a:lnTo>
                        <a:pt x="4605" y="342"/>
                      </a:lnTo>
                      <a:lnTo>
                        <a:pt x="4623" y="350"/>
                      </a:lnTo>
                      <a:lnTo>
                        <a:pt x="4643" y="359"/>
                      </a:lnTo>
                      <a:lnTo>
                        <a:pt x="4661" y="371"/>
                      </a:lnTo>
                      <a:lnTo>
                        <a:pt x="4680" y="383"/>
                      </a:lnTo>
                      <a:lnTo>
                        <a:pt x="4698" y="397"/>
                      </a:lnTo>
                      <a:lnTo>
                        <a:pt x="4715" y="412"/>
                      </a:lnTo>
                      <a:lnTo>
                        <a:pt x="4732" y="429"/>
                      </a:lnTo>
                      <a:lnTo>
                        <a:pt x="4750" y="447"/>
                      </a:lnTo>
                      <a:lnTo>
                        <a:pt x="4766" y="465"/>
                      </a:lnTo>
                      <a:lnTo>
                        <a:pt x="4782" y="486"/>
                      </a:lnTo>
                      <a:lnTo>
                        <a:pt x="4797" y="506"/>
                      </a:lnTo>
                      <a:lnTo>
                        <a:pt x="4811" y="528"/>
                      </a:lnTo>
                      <a:lnTo>
                        <a:pt x="4824" y="550"/>
                      </a:lnTo>
                      <a:lnTo>
                        <a:pt x="4838" y="573"/>
                      </a:lnTo>
                      <a:lnTo>
                        <a:pt x="4850" y="597"/>
                      </a:lnTo>
                      <a:lnTo>
                        <a:pt x="4861" y="622"/>
                      </a:lnTo>
                      <a:lnTo>
                        <a:pt x="4871" y="647"/>
                      </a:lnTo>
                      <a:lnTo>
                        <a:pt x="4882" y="673"/>
                      </a:lnTo>
                      <a:lnTo>
                        <a:pt x="4890" y="698"/>
                      </a:lnTo>
                      <a:lnTo>
                        <a:pt x="4898" y="725"/>
                      </a:lnTo>
                      <a:lnTo>
                        <a:pt x="4904" y="751"/>
                      </a:lnTo>
                      <a:lnTo>
                        <a:pt x="4909" y="777"/>
                      </a:lnTo>
                      <a:lnTo>
                        <a:pt x="4914" y="804"/>
                      </a:lnTo>
                      <a:lnTo>
                        <a:pt x="4917" y="831"/>
                      </a:lnTo>
                      <a:lnTo>
                        <a:pt x="4918" y="858"/>
                      </a:lnTo>
                      <a:lnTo>
                        <a:pt x="4920" y="884"/>
                      </a:lnTo>
                      <a:lnTo>
                        <a:pt x="4918" y="911"/>
                      </a:lnTo>
                      <a:lnTo>
                        <a:pt x="4916" y="936"/>
                      </a:lnTo>
                      <a:lnTo>
                        <a:pt x="4913" y="962"/>
                      </a:lnTo>
                      <a:lnTo>
                        <a:pt x="4910" y="971"/>
                      </a:lnTo>
                      <a:lnTo>
                        <a:pt x="4906" y="980"/>
                      </a:lnTo>
                      <a:lnTo>
                        <a:pt x="4898" y="992"/>
                      </a:lnTo>
                      <a:lnTo>
                        <a:pt x="4886" y="1006"/>
                      </a:lnTo>
                      <a:lnTo>
                        <a:pt x="4874" y="1021"/>
                      </a:lnTo>
                      <a:lnTo>
                        <a:pt x="4858" y="1038"/>
                      </a:lnTo>
                      <a:lnTo>
                        <a:pt x="4839" y="1056"/>
                      </a:lnTo>
                      <a:lnTo>
                        <a:pt x="4819" y="1075"/>
                      </a:lnTo>
                      <a:lnTo>
                        <a:pt x="4773" y="1116"/>
                      </a:lnTo>
                      <a:lnTo>
                        <a:pt x="4721" y="1161"/>
                      </a:lnTo>
                      <a:lnTo>
                        <a:pt x="4666" y="1207"/>
                      </a:lnTo>
                      <a:lnTo>
                        <a:pt x="4607" y="1253"/>
                      </a:lnTo>
                      <a:lnTo>
                        <a:pt x="4549" y="1298"/>
                      </a:lnTo>
                      <a:lnTo>
                        <a:pt x="4490" y="1342"/>
                      </a:lnTo>
                      <a:lnTo>
                        <a:pt x="4435" y="1382"/>
                      </a:lnTo>
                      <a:lnTo>
                        <a:pt x="4383" y="1416"/>
                      </a:lnTo>
                      <a:lnTo>
                        <a:pt x="4336" y="1446"/>
                      </a:lnTo>
                      <a:lnTo>
                        <a:pt x="4298" y="1469"/>
                      </a:lnTo>
                      <a:lnTo>
                        <a:pt x="4281" y="1477"/>
                      </a:lnTo>
                      <a:lnTo>
                        <a:pt x="4268" y="1484"/>
                      </a:lnTo>
                      <a:lnTo>
                        <a:pt x="4257" y="1487"/>
                      </a:lnTo>
                      <a:lnTo>
                        <a:pt x="4249" y="1489"/>
                      </a:lnTo>
                      <a:lnTo>
                        <a:pt x="4212" y="1443"/>
                      </a:lnTo>
                      <a:lnTo>
                        <a:pt x="4177" y="1398"/>
                      </a:lnTo>
                      <a:lnTo>
                        <a:pt x="4140" y="1354"/>
                      </a:lnTo>
                      <a:lnTo>
                        <a:pt x="4103" y="1313"/>
                      </a:lnTo>
                      <a:lnTo>
                        <a:pt x="4066" y="1274"/>
                      </a:lnTo>
                      <a:lnTo>
                        <a:pt x="4028" y="1236"/>
                      </a:lnTo>
                      <a:lnTo>
                        <a:pt x="3991" y="1200"/>
                      </a:lnTo>
                      <a:lnTo>
                        <a:pt x="3952" y="1166"/>
                      </a:lnTo>
                      <a:lnTo>
                        <a:pt x="3912" y="1134"/>
                      </a:lnTo>
                      <a:lnTo>
                        <a:pt x="3872" y="1104"/>
                      </a:lnTo>
                      <a:lnTo>
                        <a:pt x="3832" y="1076"/>
                      </a:lnTo>
                      <a:lnTo>
                        <a:pt x="3791" y="1051"/>
                      </a:lnTo>
                      <a:lnTo>
                        <a:pt x="3749" y="1027"/>
                      </a:lnTo>
                      <a:lnTo>
                        <a:pt x="3707" y="1006"/>
                      </a:lnTo>
                      <a:lnTo>
                        <a:pt x="3664" y="987"/>
                      </a:lnTo>
                      <a:lnTo>
                        <a:pt x="3621" y="969"/>
                      </a:lnTo>
                      <a:lnTo>
                        <a:pt x="3576" y="956"/>
                      </a:lnTo>
                      <a:lnTo>
                        <a:pt x="3531" y="943"/>
                      </a:lnTo>
                      <a:lnTo>
                        <a:pt x="3485" y="934"/>
                      </a:lnTo>
                      <a:lnTo>
                        <a:pt x="3438" y="927"/>
                      </a:lnTo>
                      <a:lnTo>
                        <a:pt x="3390" y="922"/>
                      </a:lnTo>
                      <a:lnTo>
                        <a:pt x="3342" y="920"/>
                      </a:lnTo>
                      <a:lnTo>
                        <a:pt x="3292" y="921"/>
                      </a:lnTo>
                      <a:lnTo>
                        <a:pt x="3242" y="925"/>
                      </a:lnTo>
                      <a:lnTo>
                        <a:pt x="3190" y="930"/>
                      </a:lnTo>
                      <a:lnTo>
                        <a:pt x="3137" y="939"/>
                      </a:lnTo>
                      <a:lnTo>
                        <a:pt x="3083" y="951"/>
                      </a:lnTo>
                      <a:lnTo>
                        <a:pt x="3028" y="966"/>
                      </a:lnTo>
                      <a:lnTo>
                        <a:pt x="2973" y="983"/>
                      </a:lnTo>
                      <a:lnTo>
                        <a:pt x="2916" y="1004"/>
                      </a:lnTo>
                      <a:lnTo>
                        <a:pt x="2857" y="1028"/>
                      </a:lnTo>
                      <a:lnTo>
                        <a:pt x="2797" y="105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7" name=""/>
                <p:cNvSpPr/>
                <p:nvPr/>
              </p:nvSpPr>
              <p:spPr>
                <a:xfrm>
                  <a:off x="3399480" y="4776840"/>
                  <a:ext cx="73800" cy="174960"/>
                </a:xfrm>
                <a:custGeom>
                  <a:avLst/>
                  <a:gdLst/>
                  <a:ahLst/>
                  <a:rect l="l" t="t" r="r" b="b"/>
                  <a:pathLst>
                    <a:path w="367" h="924">
                      <a:moveTo>
                        <a:pt x="318" y="11"/>
                      </a:moveTo>
                      <a:lnTo>
                        <a:pt x="320" y="10"/>
                      </a:lnTo>
                      <a:lnTo>
                        <a:pt x="308" y="22"/>
                      </a:lnTo>
                      <a:lnTo>
                        <a:pt x="297" y="37"/>
                      </a:lnTo>
                      <a:lnTo>
                        <a:pt x="284" y="53"/>
                      </a:lnTo>
                      <a:lnTo>
                        <a:pt x="270" y="73"/>
                      </a:lnTo>
                      <a:lnTo>
                        <a:pt x="242" y="115"/>
                      </a:lnTo>
                      <a:lnTo>
                        <a:pt x="212" y="166"/>
                      </a:lnTo>
                      <a:lnTo>
                        <a:pt x="180" y="222"/>
                      </a:lnTo>
                      <a:lnTo>
                        <a:pt x="149" y="282"/>
                      </a:lnTo>
                      <a:lnTo>
                        <a:pt x="132" y="314"/>
                      </a:lnTo>
                      <a:lnTo>
                        <a:pt x="118" y="347"/>
                      </a:lnTo>
                      <a:lnTo>
                        <a:pt x="103" y="381"/>
                      </a:lnTo>
                      <a:lnTo>
                        <a:pt x="88" y="414"/>
                      </a:lnTo>
                      <a:lnTo>
                        <a:pt x="74" y="449"/>
                      </a:lnTo>
                      <a:lnTo>
                        <a:pt x="61" y="483"/>
                      </a:lnTo>
                      <a:lnTo>
                        <a:pt x="50" y="517"/>
                      </a:lnTo>
                      <a:lnTo>
                        <a:pt x="38" y="552"/>
                      </a:lnTo>
                      <a:lnTo>
                        <a:pt x="29" y="586"/>
                      </a:lnTo>
                      <a:lnTo>
                        <a:pt x="20" y="621"/>
                      </a:lnTo>
                      <a:lnTo>
                        <a:pt x="13" y="654"/>
                      </a:lnTo>
                      <a:lnTo>
                        <a:pt x="7" y="688"/>
                      </a:lnTo>
                      <a:lnTo>
                        <a:pt x="3" y="721"/>
                      </a:lnTo>
                      <a:lnTo>
                        <a:pt x="2" y="753"/>
                      </a:lnTo>
                      <a:lnTo>
                        <a:pt x="0" y="784"/>
                      </a:lnTo>
                      <a:lnTo>
                        <a:pt x="3" y="815"/>
                      </a:lnTo>
                      <a:lnTo>
                        <a:pt x="6" y="844"/>
                      </a:lnTo>
                      <a:lnTo>
                        <a:pt x="13" y="871"/>
                      </a:lnTo>
                      <a:lnTo>
                        <a:pt x="18" y="885"/>
                      </a:lnTo>
                      <a:lnTo>
                        <a:pt x="23" y="899"/>
                      </a:lnTo>
                      <a:lnTo>
                        <a:pt x="29" y="912"/>
                      </a:lnTo>
                      <a:lnTo>
                        <a:pt x="35" y="924"/>
                      </a:lnTo>
                      <a:lnTo>
                        <a:pt x="82" y="893"/>
                      </a:lnTo>
                      <a:lnTo>
                        <a:pt x="77" y="884"/>
                      </a:lnTo>
                      <a:lnTo>
                        <a:pt x="73" y="875"/>
                      </a:lnTo>
                      <a:lnTo>
                        <a:pt x="69" y="864"/>
                      </a:lnTo>
                      <a:lnTo>
                        <a:pt x="66" y="855"/>
                      </a:lnTo>
                      <a:lnTo>
                        <a:pt x="60" y="832"/>
                      </a:lnTo>
                      <a:lnTo>
                        <a:pt x="57" y="808"/>
                      </a:lnTo>
                      <a:lnTo>
                        <a:pt x="55" y="783"/>
                      </a:lnTo>
                      <a:lnTo>
                        <a:pt x="55" y="755"/>
                      </a:lnTo>
                      <a:lnTo>
                        <a:pt x="58" y="727"/>
                      </a:lnTo>
                      <a:lnTo>
                        <a:pt x="61" y="697"/>
                      </a:lnTo>
                      <a:lnTo>
                        <a:pt x="67" y="667"/>
                      </a:lnTo>
                      <a:lnTo>
                        <a:pt x="73" y="635"/>
                      </a:lnTo>
                      <a:lnTo>
                        <a:pt x="81" y="603"/>
                      </a:lnTo>
                      <a:lnTo>
                        <a:pt x="90" y="570"/>
                      </a:lnTo>
                      <a:lnTo>
                        <a:pt x="101" y="537"/>
                      </a:lnTo>
                      <a:lnTo>
                        <a:pt x="113" y="504"/>
                      </a:lnTo>
                      <a:lnTo>
                        <a:pt x="124" y="470"/>
                      </a:lnTo>
                      <a:lnTo>
                        <a:pt x="138" y="437"/>
                      </a:lnTo>
                      <a:lnTo>
                        <a:pt x="152" y="405"/>
                      </a:lnTo>
                      <a:lnTo>
                        <a:pt x="167" y="373"/>
                      </a:lnTo>
                      <a:lnTo>
                        <a:pt x="181" y="341"/>
                      </a:lnTo>
                      <a:lnTo>
                        <a:pt x="196" y="310"/>
                      </a:lnTo>
                      <a:lnTo>
                        <a:pt x="227" y="251"/>
                      </a:lnTo>
                      <a:lnTo>
                        <a:pt x="258" y="196"/>
                      </a:lnTo>
                      <a:lnTo>
                        <a:pt x="287" y="148"/>
                      </a:lnTo>
                      <a:lnTo>
                        <a:pt x="315" y="106"/>
                      </a:lnTo>
                      <a:lnTo>
                        <a:pt x="327" y="89"/>
                      </a:lnTo>
                      <a:lnTo>
                        <a:pt x="338" y="74"/>
                      </a:lnTo>
                      <a:lnTo>
                        <a:pt x="348" y="61"/>
                      </a:lnTo>
                      <a:lnTo>
                        <a:pt x="358" y="51"/>
                      </a:lnTo>
                      <a:lnTo>
                        <a:pt x="359" y="50"/>
                      </a:lnTo>
                      <a:lnTo>
                        <a:pt x="358" y="51"/>
                      </a:lnTo>
                      <a:lnTo>
                        <a:pt x="362" y="46"/>
                      </a:lnTo>
                      <a:lnTo>
                        <a:pt x="364" y="41"/>
                      </a:lnTo>
                      <a:lnTo>
                        <a:pt x="367" y="35"/>
                      </a:lnTo>
                      <a:lnTo>
                        <a:pt x="367" y="29"/>
                      </a:lnTo>
                      <a:lnTo>
                        <a:pt x="366" y="25"/>
                      </a:lnTo>
                      <a:lnTo>
                        <a:pt x="364" y="19"/>
                      </a:lnTo>
                      <a:lnTo>
                        <a:pt x="361" y="14"/>
                      </a:lnTo>
                      <a:lnTo>
                        <a:pt x="359" y="10"/>
                      </a:lnTo>
                      <a:lnTo>
                        <a:pt x="354" y="6"/>
                      </a:lnTo>
                      <a:lnTo>
                        <a:pt x="349" y="4"/>
                      </a:lnTo>
                      <a:lnTo>
                        <a:pt x="345" y="2"/>
                      </a:lnTo>
                      <a:lnTo>
                        <a:pt x="340" y="0"/>
                      </a:lnTo>
                      <a:lnTo>
                        <a:pt x="335" y="2"/>
                      </a:lnTo>
                      <a:lnTo>
                        <a:pt x="330" y="3"/>
                      </a:lnTo>
                      <a:lnTo>
                        <a:pt x="324" y="5"/>
                      </a:lnTo>
                      <a:lnTo>
                        <a:pt x="320" y="10"/>
                      </a:lnTo>
                      <a:lnTo>
                        <a:pt x="318" y="1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88" name=""/>
                <p:cNvSpPr/>
                <p:nvPr/>
              </p:nvSpPr>
              <p:spPr>
                <a:xfrm>
                  <a:off x="3463560" y="4720680"/>
                  <a:ext cx="48600" cy="65160"/>
                </a:xfrm>
                <a:custGeom>
                  <a:avLst/>
                  <a:gdLst/>
                  <a:ahLst/>
                  <a:rect l="l" t="t" r="r" b="b"/>
                  <a:pathLst>
                    <a:path w="246" h="348">
                      <a:moveTo>
                        <a:pt x="199" y="8"/>
                      </a:moveTo>
                      <a:lnTo>
                        <a:pt x="201" y="6"/>
                      </a:lnTo>
                      <a:lnTo>
                        <a:pt x="181" y="23"/>
                      </a:lnTo>
                      <a:lnTo>
                        <a:pt x="162" y="41"/>
                      </a:lnTo>
                      <a:lnTo>
                        <a:pt x="146" y="60"/>
                      </a:lnTo>
                      <a:lnTo>
                        <a:pt x="133" y="78"/>
                      </a:lnTo>
                      <a:lnTo>
                        <a:pt x="121" y="96"/>
                      </a:lnTo>
                      <a:lnTo>
                        <a:pt x="111" y="114"/>
                      </a:lnTo>
                      <a:lnTo>
                        <a:pt x="102" y="132"/>
                      </a:lnTo>
                      <a:lnTo>
                        <a:pt x="93" y="150"/>
                      </a:lnTo>
                      <a:lnTo>
                        <a:pt x="76" y="186"/>
                      </a:lnTo>
                      <a:lnTo>
                        <a:pt x="58" y="225"/>
                      </a:lnTo>
                      <a:lnTo>
                        <a:pt x="46" y="244"/>
                      </a:lnTo>
                      <a:lnTo>
                        <a:pt x="34" y="265"/>
                      </a:lnTo>
                      <a:lnTo>
                        <a:pt x="18" y="287"/>
                      </a:lnTo>
                      <a:lnTo>
                        <a:pt x="0" y="309"/>
                      </a:lnTo>
                      <a:lnTo>
                        <a:pt x="41" y="348"/>
                      </a:lnTo>
                      <a:lnTo>
                        <a:pt x="61" y="323"/>
                      </a:lnTo>
                      <a:lnTo>
                        <a:pt x="77" y="298"/>
                      </a:lnTo>
                      <a:lnTo>
                        <a:pt x="92" y="276"/>
                      </a:lnTo>
                      <a:lnTo>
                        <a:pt x="105" y="253"/>
                      </a:lnTo>
                      <a:lnTo>
                        <a:pt x="126" y="212"/>
                      </a:lnTo>
                      <a:lnTo>
                        <a:pt x="142" y="176"/>
                      </a:lnTo>
                      <a:lnTo>
                        <a:pt x="150" y="158"/>
                      </a:lnTo>
                      <a:lnTo>
                        <a:pt x="158" y="142"/>
                      </a:lnTo>
                      <a:lnTo>
                        <a:pt x="167" y="127"/>
                      </a:lnTo>
                      <a:lnTo>
                        <a:pt x="176" y="112"/>
                      </a:lnTo>
                      <a:lnTo>
                        <a:pt x="188" y="97"/>
                      </a:lnTo>
                      <a:lnTo>
                        <a:pt x="200" y="83"/>
                      </a:lnTo>
                      <a:lnTo>
                        <a:pt x="216" y="68"/>
                      </a:lnTo>
                      <a:lnTo>
                        <a:pt x="235" y="53"/>
                      </a:lnTo>
                      <a:lnTo>
                        <a:pt x="237" y="50"/>
                      </a:lnTo>
                      <a:lnTo>
                        <a:pt x="235" y="53"/>
                      </a:lnTo>
                      <a:lnTo>
                        <a:pt x="239" y="48"/>
                      </a:lnTo>
                      <a:lnTo>
                        <a:pt x="243" y="42"/>
                      </a:lnTo>
                      <a:lnTo>
                        <a:pt x="245" y="38"/>
                      </a:lnTo>
                      <a:lnTo>
                        <a:pt x="246" y="32"/>
                      </a:lnTo>
                      <a:lnTo>
                        <a:pt x="246" y="26"/>
                      </a:lnTo>
                      <a:lnTo>
                        <a:pt x="245" y="22"/>
                      </a:lnTo>
                      <a:lnTo>
                        <a:pt x="243" y="16"/>
                      </a:lnTo>
                      <a:lnTo>
                        <a:pt x="240" y="11"/>
                      </a:lnTo>
                      <a:lnTo>
                        <a:pt x="237" y="8"/>
                      </a:lnTo>
                      <a:lnTo>
                        <a:pt x="232" y="4"/>
                      </a:lnTo>
                      <a:lnTo>
                        <a:pt x="228" y="1"/>
                      </a:lnTo>
                      <a:lnTo>
                        <a:pt x="223" y="0"/>
                      </a:lnTo>
                      <a:lnTo>
                        <a:pt x="219" y="0"/>
                      </a:lnTo>
                      <a:lnTo>
                        <a:pt x="213" y="0"/>
                      </a:lnTo>
                      <a:lnTo>
                        <a:pt x="207" y="2"/>
                      </a:lnTo>
                      <a:lnTo>
                        <a:pt x="201" y="6"/>
                      </a:lnTo>
                      <a:lnTo>
                        <a:pt x="199" y="8"/>
                      </a:lnTo>
                      <a:close/>
                    </a:path>
                  </a:pathLst>
                </a:custGeom>
                <a:solidFill>
                  <a:srgbClr val="000000"/>
                </a:solidFill>
                <a:ln w="0">
                  <a:noFill/>
                </a:ln>
              </p:spPr>
              <p:style>
                <a:lnRef idx="0"/>
                <a:fillRef idx="0"/>
                <a:effectRef idx="0"/>
                <a:fontRef idx="minor"/>
              </p:style>
              <p:txBody>
                <a:bodyPr wrap="none" lIns="93240" rIns="93240" tIns="18720" bIns="18720" anchor="t">
                  <a:spAutoFit/>
                </a:bodyPr>
                <a:p>
                  <a:endParaRPr b="0" lang="en-US" sz="2400" spc="-1" strike="noStrike">
                    <a:solidFill>
                      <a:srgbClr val="ffffff"/>
                    </a:solidFill>
                    <a:latin typeface="Times New Roman"/>
                  </a:endParaRPr>
                </a:p>
              </p:txBody>
            </p:sp>
            <p:sp>
              <p:nvSpPr>
                <p:cNvPr id="489" name=""/>
                <p:cNvSpPr/>
                <p:nvPr/>
              </p:nvSpPr>
              <p:spPr>
                <a:xfrm>
                  <a:off x="3502800" y="4707360"/>
                  <a:ext cx="167040" cy="23400"/>
                </a:xfrm>
                <a:custGeom>
                  <a:avLst/>
                  <a:gdLst/>
                  <a:ahLst/>
                  <a:rect l="l" t="t" r="r" b="b"/>
                  <a:pathLst>
                    <a:path w="821" h="127">
                      <a:moveTo>
                        <a:pt x="804" y="71"/>
                      </a:moveTo>
                      <a:lnTo>
                        <a:pt x="814" y="79"/>
                      </a:lnTo>
                      <a:lnTo>
                        <a:pt x="802" y="68"/>
                      </a:lnTo>
                      <a:lnTo>
                        <a:pt x="788" y="58"/>
                      </a:lnTo>
                      <a:lnTo>
                        <a:pt x="772" y="50"/>
                      </a:lnTo>
                      <a:lnTo>
                        <a:pt x="755" y="44"/>
                      </a:lnTo>
                      <a:lnTo>
                        <a:pt x="735" y="37"/>
                      </a:lnTo>
                      <a:lnTo>
                        <a:pt x="713" y="31"/>
                      </a:lnTo>
                      <a:lnTo>
                        <a:pt x="690" y="26"/>
                      </a:lnTo>
                      <a:lnTo>
                        <a:pt x="665" y="21"/>
                      </a:lnTo>
                      <a:lnTo>
                        <a:pt x="610" y="12"/>
                      </a:lnTo>
                      <a:lnTo>
                        <a:pt x="550" y="7"/>
                      </a:lnTo>
                      <a:lnTo>
                        <a:pt x="487" y="2"/>
                      </a:lnTo>
                      <a:lnTo>
                        <a:pt x="423" y="0"/>
                      </a:lnTo>
                      <a:lnTo>
                        <a:pt x="357" y="0"/>
                      </a:lnTo>
                      <a:lnTo>
                        <a:pt x="293" y="2"/>
                      </a:lnTo>
                      <a:lnTo>
                        <a:pt x="261" y="3"/>
                      </a:lnTo>
                      <a:lnTo>
                        <a:pt x="230" y="7"/>
                      </a:lnTo>
                      <a:lnTo>
                        <a:pt x="200" y="9"/>
                      </a:lnTo>
                      <a:lnTo>
                        <a:pt x="171" y="14"/>
                      </a:lnTo>
                      <a:lnTo>
                        <a:pt x="145" y="18"/>
                      </a:lnTo>
                      <a:lnTo>
                        <a:pt x="118" y="24"/>
                      </a:lnTo>
                      <a:lnTo>
                        <a:pt x="94" y="30"/>
                      </a:lnTo>
                      <a:lnTo>
                        <a:pt x="71" y="37"/>
                      </a:lnTo>
                      <a:lnTo>
                        <a:pt x="51" y="45"/>
                      </a:lnTo>
                      <a:lnTo>
                        <a:pt x="32" y="54"/>
                      </a:lnTo>
                      <a:lnTo>
                        <a:pt x="15" y="64"/>
                      </a:lnTo>
                      <a:lnTo>
                        <a:pt x="0" y="77"/>
                      </a:lnTo>
                      <a:lnTo>
                        <a:pt x="38" y="119"/>
                      </a:lnTo>
                      <a:lnTo>
                        <a:pt x="46" y="112"/>
                      </a:lnTo>
                      <a:lnTo>
                        <a:pt x="56" y="106"/>
                      </a:lnTo>
                      <a:lnTo>
                        <a:pt x="71" y="99"/>
                      </a:lnTo>
                      <a:lnTo>
                        <a:pt x="89" y="92"/>
                      </a:lnTo>
                      <a:lnTo>
                        <a:pt x="108" y="86"/>
                      </a:lnTo>
                      <a:lnTo>
                        <a:pt x="130" y="80"/>
                      </a:lnTo>
                      <a:lnTo>
                        <a:pt x="154" y="76"/>
                      </a:lnTo>
                      <a:lnTo>
                        <a:pt x="179" y="71"/>
                      </a:lnTo>
                      <a:lnTo>
                        <a:pt x="207" y="68"/>
                      </a:lnTo>
                      <a:lnTo>
                        <a:pt x="236" y="64"/>
                      </a:lnTo>
                      <a:lnTo>
                        <a:pt x="264" y="62"/>
                      </a:lnTo>
                      <a:lnTo>
                        <a:pt x="295" y="60"/>
                      </a:lnTo>
                      <a:lnTo>
                        <a:pt x="357" y="57"/>
                      </a:lnTo>
                      <a:lnTo>
                        <a:pt x="422" y="57"/>
                      </a:lnTo>
                      <a:lnTo>
                        <a:pt x="485" y="60"/>
                      </a:lnTo>
                      <a:lnTo>
                        <a:pt x="546" y="64"/>
                      </a:lnTo>
                      <a:lnTo>
                        <a:pt x="604" y="70"/>
                      </a:lnTo>
                      <a:lnTo>
                        <a:pt x="656" y="78"/>
                      </a:lnTo>
                      <a:lnTo>
                        <a:pt x="680" y="83"/>
                      </a:lnTo>
                      <a:lnTo>
                        <a:pt x="701" y="88"/>
                      </a:lnTo>
                      <a:lnTo>
                        <a:pt x="720" y="93"/>
                      </a:lnTo>
                      <a:lnTo>
                        <a:pt x="737" y="99"/>
                      </a:lnTo>
                      <a:lnTo>
                        <a:pt x="751" y="104"/>
                      </a:lnTo>
                      <a:lnTo>
                        <a:pt x="763" y="109"/>
                      </a:lnTo>
                      <a:lnTo>
                        <a:pt x="770" y="114"/>
                      </a:lnTo>
                      <a:lnTo>
                        <a:pt x="772" y="117"/>
                      </a:lnTo>
                      <a:lnTo>
                        <a:pt x="782" y="125"/>
                      </a:lnTo>
                      <a:lnTo>
                        <a:pt x="772" y="117"/>
                      </a:lnTo>
                      <a:lnTo>
                        <a:pt x="776" y="122"/>
                      </a:lnTo>
                      <a:lnTo>
                        <a:pt x="782" y="125"/>
                      </a:lnTo>
                      <a:lnTo>
                        <a:pt x="787" y="126"/>
                      </a:lnTo>
                      <a:lnTo>
                        <a:pt x="793" y="127"/>
                      </a:lnTo>
                      <a:lnTo>
                        <a:pt x="797" y="127"/>
                      </a:lnTo>
                      <a:lnTo>
                        <a:pt x="802" y="125"/>
                      </a:lnTo>
                      <a:lnTo>
                        <a:pt x="806" y="123"/>
                      </a:lnTo>
                      <a:lnTo>
                        <a:pt x="811" y="120"/>
                      </a:lnTo>
                      <a:lnTo>
                        <a:pt x="814" y="116"/>
                      </a:lnTo>
                      <a:lnTo>
                        <a:pt x="818" y="111"/>
                      </a:lnTo>
                      <a:lnTo>
                        <a:pt x="819" y="107"/>
                      </a:lnTo>
                      <a:lnTo>
                        <a:pt x="821" y="102"/>
                      </a:lnTo>
                      <a:lnTo>
                        <a:pt x="821" y="96"/>
                      </a:lnTo>
                      <a:lnTo>
                        <a:pt x="820" y="91"/>
                      </a:lnTo>
                      <a:lnTo>
                        <a:pt x="818" y="85"/>
                      </a:lnTo>
                      <a:lnTo>
                        <a:pt x="814" y="79"/>
                      </a:lnTo>
                      <a:lnTo>
                        <a:pt x="804" y="71"/>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490" name=""/>
                <p:cNvSpPr/>
                <p:nvPr/>
              </p:nvSpPr>
              <p:spPr>
                <a:xfrm>
                  <a:off x="3661560" y="4720680"/>
                  <a:ext cx="59760" cy="107280"/>
                </a:xfrm>
                <a:custGeom>
                  <a:avLst/>
                  <a:gdLst/>
                  <a:ahLst/>
                  <a:rect l="l" t="t" r="r" b="b"/>
                  <a:pathLst>
                    <a:path w="293" h="570">
                      <a:moveTo>
                        <a:pt x="287" y="522"/>
                      </a:moveTo>
                      <a:lnTo>
                        <a:pt x="290" y="527"/>
                      </a:lnTo>
                      <a:lnTo>
                        <a:pt x="285" y="515"/>
                      </a:lnTo>
                      <a:lnTo>
                        <a:pt x="280" y="501"/>
                      </a:lnTo>
                      <a:lnTo>
                        <a:pt x="276" y="487"/>
                      </a:lnTo>
                      <a:lnTo>
                        <a:pt x="274" y="472"/>
                      </a:lnTo>
                      <a:lnTo>
                        <a:pt x="268" y="441"/>
                      </a:lnTo>
                      <a:lnTo>
                        <a:pt x="264" y="409"/>
                      </a:lnTo>
                      <a:lnTo>
                        <a:pt x="262" y="376"/>
                      </a:lnTo>
                      <a:lnTo>
                        <a:pt x="260" y="341"/>
                      </a:lnTo>
                      <a:lnTo>
                        <a:pt x="255" y="306"/>
                      </a:lnTo>
                      <a:lnTo>
                        <a:pt x="251" y="269"/>
                      </a:lnTo>
                      <a:lnTo>
                        <a:pt x="246" y="251"/>
                      </a:lnTo>
                      <a:lnTo>
                        <a:pt x="241" y="232"/>
                      </a:lnTo>
                      <a:lnTo>
                        <a:pt x="236" y="214"/>
                      </a:lnTo>
                      <a:lnTo>
                        <a:pt x="229" y="195"/>
                      </a:lnTo>
                      <a:lnTo>
                        <a:pt x="221" y="177"/>
                      </a:lnTo>
                      <a:lnTo>
                        <a:pt x="212" y="159"/>
                      </a:lnTo>
                      <a:lnTo>
                        <a:pt x="200" y="140"/>
                      </a:lnTo>
                      <a:lnTo>
                        <a:pt x="187" y="123"/>
                      </a:lnTo>
                      <a:lnTo>
                        <a:pt x="174" y="106"/>
                      </a:lnTo>
                      <a:lnTo>
                        <a:pt x="158" y="90"/>
                      </a:lnTo>
                      <a:lnTo>
                        <a:pt x="140" y="72"/>
                      </a:lnTo>
                      <a:lnTo>
                        <a:pt x="121" y="58"/>
                      </a:lnTo>
                      <a:lnTo>
                        <a:pt x="99" y="43"/>
                      </a:lnTo>
                      <a:lnTo>
                        <a:pt x="75" y="28"/>
                      </a:lnTo>
                      <a:lnTo>
                        <a:pt x="50" y="14"/>
                      </a:lnTo>
                      <a:lnTo>
                        <a:pt x="22" y="0"/>
                      </a:lnTo>
                      <a:lnTo>
                        <a:pt x="0" y="54"/>
                      </a:lnTo>
                      <a:lnTo>
                        <a:pt x="27" y="66"/>
                      </a:lnTo>
                      <a:lnTo>
                        <a:pt x="50" y="78"/>
                      </a:lnTo>
                      <a:lnTo>
                        <a:pt x="70" y="92"/>
                      </a:lnTo>
                      <a:lnTo>
                        <a:pt x="89" y="105"/>
                      </a:lnTo>
                      <a:lnTo>
                        <a:pt x="106" y="118"/>
                      </a:lnTo>
                      <a:lnTo>
                        <a:pt x="121" y="132"/>
                      </a:lnTo>
                      <a:lnTo>
                        <a:pt x="133" y="146"/>
                      </a:lnTo>
                      <a:lnTo>
                        <a:pt x="145" y="160"/>
                      </a:lnTo>
                      <a:lnTo>
                        <a:pt x="155" y="175"/>
                      </a:lnTo>
                      <a:lnTo>
                        <a:pt x="164" y="188"/>
                      </a:lnTo>
                      <a:lnTo>
                        <a:pt x="172" y="203"/>
                      </a:lnTo>
                      <a:lnTo>
                        <a:pt x="178" y="218"/>
                      </a:lnTo>
                      <a:lnTo>
                        <a:pt x="184" y="233"/>
                      </a:lnTo>
                      <a:lnTo>
                        <a:pt x="189" y="248"/>
                      </a:lnTo>
                      <a:lnTo>
                        <a:pt x="193" y="264"/>
                      </a:lnTo>
                      <a:lnTo>
                        <a:pt x="197" y="279"/>
                      </a:lnTo>
                      <a:lnTo>
                        <a:pt x="201" y="313"/>
                      </a:lnTo>
                      <a:lnTo>
                        <a:pt x="205" y="346"/>
                      </a:lnTo>
                      <a:lnTo>
                        <a:pt x="208" y="380"/>
                      </a:lnTo>
                      <a:lnTo>
                        <a:pt x="210" y="415"/>
                      </a:lnTo>
                      <a:lnTo>
                        <a:pt x="214" y="449"/>
                      </a:lnTo>
                      <a:lnTo>
                        <a:pt x="220" y="484"/>
                      </a:lnTo>
                      <a:lnTo>
                        <a:pt x="223" y="502"/>
                      </a:lnTo>
                      <a:lnTo>
                        <a:pt x="228" y="519"/>
                      </a:lnTo>
                      <a:lnTo>
                        <a:pt x="233" y="535"/>
                      </a:lnTo>
                      <a:lnTo>
                        <a:pt x="240" y="553"/>
                      </a:lnTo>
                      <a:lnTo>
                        <a:pt x="244" y="558"/>
                      </a:lnTo>
                      <a:lnTo>
                        <a:pt x="240" y="553"/>
                      </a:lnTo>
                      <a:lnTo>
                        <a:pt x="244" y="558"/>
                      </a:lnTo>
                      <a:lnTo>
                        <a:pt x="248" y="563"/>
                      </a:lnTo>
                      <a:lnTo>
                        <a:pt x="253" y="566"/>
                      </a:lnTo>
                      <a:lnTo>
                        <a:pt x="257" y="569"/>
                      </a:lnTo>
                      <a:lnTo>
                        <a:pt x="262" y="570"/>
                      </a:lnTo>
                      <a:lnTo>
                        <a:pt x="268" y="570"/>
                      </a:lnTo>
                      <a:lnTo>
                        <a:pt x="272" y="569"/>
                      </a:lnTo>
                      <a:lnTo>
                        <a:pt x="277" y="566"/>
                      </a:lnTo>
                      <a:lnTo>
                        <a:pt x="282" y="564"/>
                      </a:lnTo>
                      <a:lnTo>
                        <a:pt x="285" y="561"/>
                      </a:lnTo>
                      <a:lnTo>
                        <a:pt x="288" y="556"/>
                      </a:lnTo>
                      <a:lnTo>
                        <a:pt x="291" y="552"/>
                      </a:lnTo>
                      <a:lnTo>
                        <a:pt x="293" y="546"/>
                      </a:lnTo>
                      <a:lnTo>
                        <a:pt x="293" y="540"/>
                      </a:lnTo>
                      <a:lnTo>
                        <a:pt x="292" y="534"/>
                      </a:lnTo>
                      <a:lnTo>
                        <a:pt x="290" y="527"/>
                      </a:lnTo>
                      <a:lnTo>
                        <a:pt x="287" y="52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1" name=""/>
                <p:cNvSpPr/>
                <p:nvPr/>
              </p:nvSpPr>
              <p:spPr>
                <a:xfrm>
                  <a:off x="3711600" y="4818600"/>
                  <a:ext cx="55440" cy="112320"/>
                </a:xfrm>
                <a:custGeom>
                  <a:avLst/>
                  <a:gdLst/>
                  <a:ahLst/>
                  <a:rect l="l" t="t" r="r" b="b"/>
                  <a:pathLst>
                    <a:path w="283" h="589">
                      <a:moveTo>
                        <a:pt x="233" y="576"/>
                      </a:moveTo>
                      <a:lnTo>
                        <a:pt x="281" y="564"/>
                      </a:lnTo>
                      <a:lnTo>
                        <a:pt x="283" y="550"/>
                      </a:lnTo>
                      <a:lnTo>
                        <a:pt x="283" y="535"/>
                      </a:lnTo>
                      <a:lnTo>
                        <a:pt x="283" y="519"/>
                      </a:lnTo>
                      <a:lnTo>
                        <a:pt x="282" y="503"/>
                      </a:lnTo>
                      <a:lnTo>
                        <a:pt x="278" y="471"/>
                      </a:lnTo>
                      <a:lnTo>
                        <a:pt x="270" y="436"/>
                      </a:lnTo>
                      <a:lnTo>
                        <a:pt x="259" y="401"/>
                      </a:lnTo>
                      <a:lnTo>
                        <a:pt x="245" y="364"/>
                      </a:lnTo>
                      <a:lnTo>
                        <a:pt x="230" y="326"/>
                      </a:lnTo>
                      <a:lnTo>
                        <a:pt x="214" y="288"/>
                      </a:lnTo>
                      <a:lnTo>
                        <a:pt x="196" y="250"/>
                      </a:lnTo>
                      <a:lnTo>
                        <a:pt x="177" y="211"/>
                      </a:lnTo>
                      <a:lnTo>
                        <a:pt x="155" y="173"/>
                      </a:lnTo>
                      <a:lnTo>
                        <a:pt x="133" y="136"/>
                      </a:lnTo>
                      <a:lnTo>
                        <a:pt x="111" y="100"/>
                      </a:lnTo>
                      <a:lnTo>
                        <a:pt x="88" y="65"/>
                      </a:lnTo>
                      <a:lnTo>
                        <a:pt x="65" y="32"/>
                      </a:lnTo>
                      <a:lnTo>
                        <a:pt x="43" y="0"/>
                      </a:lnTo>
                      <a:lnTo>
                        <a:pt x="0" y="36"/>
                      </a:lnTo>
                      <a:lnTo>
                        <a:pt x="21" y="66"/>
                      </a:lnTo>
                      <a:lnTo>
                        <a:pt x="43" y="98"/>
                      </a:lnTo>
                      <a:lnTo>
                        <a:pt x="66" y="132"/>
                      </a:lnTo>
                      <a:lnTo>
                        <a:pt x="87" y="167"/>
                      </a:lnTo>
                      <a:lnTo>
                        <a:pt x="109" y="203"/>
                      </a:lnTo>
                      <a:lnTo>
                        <a:pt x="128" y="240"/>
                      </a:lnTo>
                      <a:lnTo>
                        <a:pt x="148" y="277"/>
                      </a:lnTo>
                      <a:lnTo>
                        <a:pt x="165" y="313"/>
                      </a:lnTo>
                      <a:lnTo>
                        <a:pt x="181" y="350"/>
                      </a:lnTo>
                      <a:lnTo>
                        <a:pt x="195" y="386"/>
                      </a:lnTo>
                      <a:lnTo>
                        <a:pt x="206" y="420"/>
                      </a:lnTo>
                      <a:lnTo>
                        <a:pt x="217" y="452"/>
                      </a:lnTo>
                      <a:lnTo>
                        <a:pt x="224" y="482"/>
                      </a:lnTo>
                      <a:lnTo>
                        <a:pt x="228" y="511"/>
                      </a:lnTo>
                      <a:lnTo>
                        <a:pt x="229" y="522"/>
                      </a:lnTo>
                      <a:lnTo>
                        <a:pt x="229" y="534"/>
                      </a:lnTo>
                      <a:lnTo>
                        <a:pt x="228" y="545"/>
                      </a:lnTo>
                      <a:lnTo>
                        <a:pt x="227" y="555"/>
                      </a:lnTo>
                      <a:lnTo>
                        <a:pt x="276" y="542"/>
                      </a:lnTo>
                      <a:lnTo>
                        <a:pt x="227" y="555"/>
                      </a:lnTo>
                      <a:lnTo>
                        <a:pt x="227" y="561"/>
                      </a:lnTo>
                      <a:lnTo>
                        <a:pt x="228" y="567"/>
                      </a:lnTo>
                      <a:lnTo>
                        <a:pt x="229" y="573"/>
                      </a:lnTo>
                      <a:lnTo>
                        <a:pt x="233" y="578"/>
                      </a:lnTo>
                      <a:lnTo>
                        <a:pt x="236" y="582"/>
                      </a:lnTo>
                      <a:lnTo>
                        <a:pt x="241" y="584"/>
                      </a:lnTo>
                      <a:lnTo>
                        <a:pt x="245" y="587"/>
                      </a:lnTo>
                      <a:lnTo>
                        <a:pt x="250" y="588"/>
                      </a:lnTo>
                      <a:lnTo>
                        <a:pt x="256" y="589"/>
                      </a:lnTo>
                      <a:lnTo>
                        <a:pt x="260" y="588"/>
                      </a:lnTo>
                      <a:lnTo>
                        <a:pt x="265" y="587"/>
                      </a:lnTo>
                      <a:lnTo>
                        <a:pt x="270" y="584"/>
                      </a:lnTo>
                      <a:lnTo>
                        <a:pt x="274" y="581"/>
                      </a:lnTo>
                      <a:lnTo>
                        <a:pt x="278" y="576"/>
                      </a:lnTo>
                      <a:lnTo>
                        <a:pt x="280" y="571"/>
                      </a:lnTo>
                      <a:lnTo>
                        <a:pt x="281" y="564"/>
                      </a:lnTo>
                      <a:lnTo>
                        <a:pt x="233" y="57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2" name=""/>
                <p:cNvSpPr/>
                <p:nvPr/>
              </p:nvSpPr>
              <p:spPr>
                <a:xfrm>
                  <a:off x="3404880" y="4844880"/>
                  <a:ext cx="360720" cy="109440"/>
                </a:xfrm>
                <a:custGeom>
                  <a:avLst/>
                  <a:gdLst/>
                  <a:ahLst/>
                  <a:rect l="l" t="t" r="r" b="b"/>
                  <a:pathLst>
                    <a:path w="1788" h="579">
                      <a:moveTo>
                        <a:pt x="4" y="565"/>
                      </a:moveTo>
                      <a:lnTo>
                        <a:pt x="52" y="563"/>
                      </a:lnTo>
                      <a:lnTo>
                        <a:pt x="69" y="530"/>
                      </a:lnTo>
                      <a:lnTo>
                        <a:pt x="88" y="496"/>
                      </a:lnTo>
                      <a:lnTo>
                        <a:pt x="107" y="465"/>
                      </a:lnTo>
                      <a:lnTo>
                        <a:pt x="128" y="435"/>
                      </a:lnTo>
                      <a:lnTo>
                        <a:pt x="149" y="407"/>
                      </a:lnTo>
                      <a:lnTo>
                        <a:pt x="171" y="379"/>
                      </a:lnTo>
                      <a:lnTo>
                        <a:pt x="193" y="353"/>
                      </a:lnTo>
                      <a:lnTo>
                        <a:pt x="217" y="327"/>
                      </a:lnTo>
                      <a:lnTo>
                        <a:pt x="242" y="304"/>
                      </a:lnTo>
                      <a:lnTo>
                        <a:pt x="266" y="281"/>
                      </a:lnTo>
                      <a:lnTo>
                        <a:pt x="291" y="260"/>
                      </a:lnTo>
                      <a:lnTo>
                        <a:pt x="317" y="240"/>
                      </a:lnTo>
                      <a:lnTo>
                        <a:pt x="344" y="221"/>
                      </a:lnTo>
                      <a:lnTo>
                        <a:pt x="371" y="202"/>
                      </a:lnTo>
                      <a:lnTo>
                        <a:pt x="399" y="186"/>
                      </a:lnTo>
                      <a:lnTo>
                        <a:pt x="428" y="170"/>
                      </a:lnTo>
                      <a:lnTo>
                        <a:pt x="456" y="155"/>
                      </a:lnTo>
                      <a:lnTo>
                        <a:pt x="485" y="141"/>
                      </a:lnTo>
                      <a:lnTo>
                        <a:pt x="515" y="130"/>
                      </a:lnTo>
                      <a:lnTo>
                        <a:pt x="545" y="118"/>
                      </a:lnTo>
                      <a:lnTo>
                        <a:pt x="575" y="108"/>
                      </a:lnTo>
                      <a:lnTo>
                        <a:pt x="606" y="98"/>
                      </a:lnTo>
                      <a:lnTo>
                        <a:pt x="635" y="90"/>
                      </a:lnTo>
                      <a:lnTo>
                        <a:pt x="666" y="83"/>
                      </a:lnTo>
                      <a:lnTo>
                        <a:pt x="699" y="76"/>
                      </a:lnTo>
                      <a:lnTo>
                        <a:pt x="730" y="71"/>
                      </a:lnTo>
                      <a:lnTo>
                        <a:pt x="762" y="67"/>
                      </a:lnTo>
                      <a:lnTo>
                        <a:pt x="793" y="63"/>
                      </a:lnTo>
                      <a:lnTo>
                        <a:pt x="825" y="60"/>
                      </a:lnTo>
                      <a:lnTo>
                        <a:pt x="857" y="59"/>
                      </a:lnTo>
                      <a:lnTo>
                        <a:pt x="889" y="57"/>
                      </a:lnTo>
                      <a:lnTo>
                        <a:pt x="921" y="57"/>
                      </a:lnTo>
                      <a:lnTo>
                        <a:pt x="952" y="59"/>
                      </a:lnTo>
                      <a:lnTo>
                        <a:pt x="985" y="61"/>
                      </a:lnTo>
                      <a:lnTo>
                        <a:pt x="1017" y="63"/>
                      </a:lnTo>
                      <a:lnTo>
                        <a:pt x="1048" y="67"/>
                      </a:lnTo>
                      <a:lnTo>
                        <a:pt x="1080" y="71"/>
                      </a:lnTo>
                      <a:lnTo>
                        <a:pt x="1111" y="77"/>
                      </a:lnTo>
                      <a:lnTo>
                        <a:pt x="1142" y="83"/>
                      </a:lnTo>
                      <a:lnTo>
                        <a:pt x="1173" y="90"/>
                      </a:lnTo>
                      <a:lnTo>
                        <a:pt x="1203" y="96"/>
                      </a:lnTo>
                      <a:lnTo>
                        <a:pt x="1233" y="106"/>
                      </a:lnTo>
                      <a:lnTo>
                        <a:pt x="1262" y="115"/>
                      </a:lnTo>
                      <a:lnTo>
                        <a:pt x="1292" y="124"/>
                      </a:lnTo>
                      <a:lnTo>
                        <a:pt x="1321" y="134"/>
                      </a:lnTo>
                      <a:lnTo>
                        <a:pt x="1350" y="146"/>
                      </a:lnTo>
                      <a:lnTo>
                        <a:pt x="1377" y="157"/>
                      </a:lnTo>
                      <a:lnTo>
                        <a:pt x="1405" y="170"/>
                      </a:lnTo>
                      <a:lnTo>
                        <a:pt x="1431" y="183"/>
                      </a:lnTo>
                      <a:lnTo>
                        <a:pt x="1458" y="196"/>
                      </a:lnTo>
                      <a:lnTo>
                        <a:pt x="1483" y="211"/>
                      </a:lnTo>
                      <a:lnTo>
                        <a:pt x="1508" y="225"/>
                      </a:lnTo>
                      <a:lnTo>
                        <a:pt x="1532" y="241"/>
                      </a:lnTo>
                      <a:lnTo>
                        <a:pt x="1556" y="257"/>
                      </a:lnTo>
                      <a:lnTo>
                        <a:pt x="1578" y="273"/>
                      </a:lnTo>
                      <a:lnTo>
                        <a:pt x="1601" y="291"/>
                      </a:lnTo>
                      <a:lnTo>
                        <a:pt x="1622" y="308"/>
                      </a:lnTo>
                      <a:lnTo>
                        <a:pt x="1643" y="326"/>
                      </a:lnTo>
                      <a:lnTo>
                        <a:pt x="1662" y="345"/>
                      </a:lnTo>
                      <a:lnTo>
                        <a:pt x="1680" y="364"/>
                      </a:lnTo>
                      <a:lnTo>
                        <a:pt x="1698" y="383"/>
                      </a:lnTo>
                      <a:lnTo>
                        <a:pt x="1714" y="403"/>
                      </a:lnTo>
                      <a:lnTo>
                        <a:pt x="1730" y="423"/>
                      </a:lnTo>
                      <a:lnTo>
                        <a:pt x="1745" y="443"/>
                      </a:lnTo>
                      <a:lnTo>
                        <a:pt x="1788" y="409"/>
                      </a:lnTo>
                      <a:lnTo>
                        <a:pt x="1772" y="387"/>
                      </a:lnTo>
                      <a:lnTo>
                        <a:pt x="1756" y="365"/>
                      </a:lnTo>
                      <a:lnTo>
                        <a:pt x="1738" y="343"/>
                      </a:lnTo>
                      <a:lnTo>
                        <a:pt x="1718" y="323"/>
                      </a:lnTo>
                      <a:lnTo>
                        <a:pt x="1699" y="302"/>
                      </a:lnTo>
                      <a:lnTo>
                        <a:pt x="1678" y="283"/>
                      </a:lnTo>
                      <a:lnTo>
                        <a:pt x="1656" y="263"/>
                      </a:lnTo>
                      <a:lnTo>
                        <a:pt x="1633" y="245"/>
                      </a:lnTo>
                      <a:lnTo>
                        <a:pt x="1610" y="226"/>
                      </a:lnTo>
                      <a:lnTo>
                        <a:pt x="1586" y="209"/>
                      </a:lnTo>
                      <a:lnTo>
                        <a:pt x="1561" y="192"/>
                      </a:lnTo>
                      <a:lnTo>
                        <a:pt x="1536" y="176"/>
                      </a:lnTo>
                      <a:lnTo>
                        <a:pt x="1509" y="160"/>
                      </a:lnTo>
                      <a:lnTo>
                        <a:pt x="1482" y="145"/>
                      </a:lnTo>
                      <a:lnTo>
                        <a:pt x="1454" y="130"/>
                      </a:lnTo>
                      <a:lnTo>
                        <a:pt x="1427" y="116"/>
                      </a:lnTo>
                      <a:lnTo>
                        <a:pt x="1398" y="103"/>
                      </a:lnTo>
                      <a:lnTo>
                        <a:pt x="1368" y="91"/>
                      </a:lnTo>
                      <a:lnTo>
                        <a:pt x="1339" y="79"/>
                      </a:lnTo>
                      <a:lnTo>
                        <a:pt x="1308" y="69"/>
                      </a:lnTo>
                      <a:lnTo>
                        <a:pt x="1279" y="59"/>
                      </a:lnTo>
                      <a:lnTo>
                        <a:pt x="1248" y="49"/>
                      </a:lnTo>
                      <a:lnTo>
                        <a:pt x="1215" y="40"/>
                      </a:lnTo>
                      <a:lnTo>
                        <a:pt x="1184" y="32"/>
                      </a:lnTo>
                      <a:lnTo>
                        <a:pt x="1152" y="25"/>
                      </a:lnTo>
                      <a:lnTo>
                        <a:pt x="1120" y="19"/>
                      </a:lnTo>
                      <a:lnTo>
                        <a:pt x="1087" y="14"/>
                      </a:lnTo>
                      <a:lnTo>
                        <a:pt x="1055" y="9"/>
                      </a:lnTo>
                      <a:lnTo>
                        <a:pt x="1021" y="6"/>
                      </a:lnTo>
                      <a:lnTo>
                        <a:pt x="988" y="2"/>
                      </a:lnTo>
                      <a:lnTo>
                        <a:pt x="955" y="1"/>
                      </a:lnTo>
                      <a:lnTo>
                        <a:pt x="921" y="0"/>
                      </a:lnTo>
                      <a:lnTo>
                        <a:pt x="888" y="0"/>
                      </a:lnTo>
                      <a:lnTo>
                        <a:pt x="855" y="0"/>
                      </a:lnTo>
                      <a:lnTo>
                        <a:pt x="821" y="2"/>
                      </a:lnTo>
                      <a:lnTo>
                        <a:pt x="788" y="5"/>
                      </a:lnTo>
                      <a:lnTo>
                        <a:pt x="755" y="8"/>
                      </a:lnTo>
                      <a:lnTo>
                        <a:pt x="722" y="13"/>
                      </a:lnTo>
                      <a:lnTo>
                        <a:pt x="688" y="18"/>
                      </a:lnTo>
                      <a:lnTo>
                        <a:pt x="656" y="25"/>
                      </a:lnTo>
                      <a:lnTo>
                        <a:pt x="623" y="33"/>
                      </a:lnTo>
                      <a:lnTo>
                        <a:pt x="591" y="41"/>
                      </a:lnTo>
                      <a:lnTo>
                        <a:pt x="558" y="52"/>
                      </a:lnTo>
                      <a:lnTo>
                        <a:pt x="526" y="63"/>
                      </a:lnTo>
                      <a:lnTo>
                        <a:pt x="495" y="75"/>
                      </a:lnTo>
                      <a:lnTo>
                        <a:pt x="464" y="88"/>
                      </a:lnTo>
                      <a:lnTo>
                        <a:pt x="433" y="102"/>
                      </a:lnTo>
                      <a:lnTo>
                        <a:pt x="402" y="118"/>
                      </a:lnTo>
                      <a:lnTo>
                        <a:pt x="372" y="134"/>
                      </a:lnTo>
                      <a:lnTo>
                        <a:pt x="344" y="153"/>
                      </a:lnTo>
                      <a:lnTo>
                        <a:pt x="314" y="171"/>
                      </a:lnTo>
                      <a:lnTo>
                        <a:pt x="286" y="192"/>
                      </a:lnTo>
                      <a:lnTo>
                        <a:pt x="259" y="214"/>
                      </a:lnTo>
                      <a:lnTo>
                        <a:pt x="231" y="237"/>
                      </a:lnTo>
                      <a:lnTo>
                        <a:pt x="205" y="261"/>
                      </a:lnTo>
                      <a:lnTo>
                        <a:pt x="180" y="286"/>
                      </a:lnTo>
                      <a:lnTo>
                        <a:pt x="154" y="312"/>
                      </a:lnTo>
                      <a:lnTo>
                        <a:pt x="130" y="340"/>
                      </a:lnTo>
                      <a:lnTo>
                        <a:pt x="107" y="370"/>
                      </a:lnTo>
                      <a:lnTo>
                        <a:pt x="84" y="400"/>
                      </a:lnTo>
                      <a:lnTo>
                        <a:pt x="62" y="432"/>
                      </a:lnTo>
                      <a:lnTo>
                        <a:pt x="42" y="465"/>
                      </a:lnTo>
                      <a:lnTo>
                        <a:pt x="22" y="500"/>
                      </a:lnTo>
                      <a:lnTo>
                        <a:pt x="4" y="536"/>
                      </a:lnTo>
                      <a:lnTo>
                        <a:pt x="51" y="534"/>
                      </a:lnTo>
                      <a:lnTo>
                        <a:pt x="4" y="536"/>
                      </a:lnTo>
                      <a:lnTo>
                        <a:pt x="0" y="542"/>
                      </a:lnTo>
                      <a:lnTo>
                        <a:pt x="0" y="548"/>
                      </a:lnTo>
                      <a:lnTo>
                        <a:pt x="0" y="554"/>
                      </a:lnTo>
                      <a:lnTo>
                        <a:pt x="2" y="559"/>
                      </a:lnTo>
                      <a:lnTo>
                        <a:pt x="4" y="564"/>
                      </a:lnTo>
                      <a:lnTo>
                        <a:pt x="7" y="569"/>
                      </a:lnTo>
                      <a:lnTo>
                        <a:pt x="11" y="572"/>
                      </a:lnTo>
                      <a:lnTo>
                        <a:pt x="15" y="576"/>
                      </a:lnTo>
                      <a:lnTo>
                        <a:pt x="20" y="578"/>
                      </a:lnTo>
                      <a:lnTo>
                        <a:pt x="24" y="579"/>
                      </a:lnTo>
                      <a:lnTo>
                        <a:pt x="29" y="579"/>
                      </a:lnTo>
                      <a:lnTo>
                        <a:pt x="35" y="578"/>
                      </a:lnTo>
                      <a:lnTo>
                        <a:pt x="39" y="577"/>
                      </a:lnTo>
                      <a:lnTo>
                        <a:pt x="44" y="573"/>
                      </a:lnTo>
                      <a:lnTo>
                        <a:pt x="49" y="569"/>
                      </a:lnTo>
                      <a:lnTo>
                        <a:pt x="52" y="563"/>
                      </a:lnTo>
                      <a:lnTo>
                        <a:pt x="4" y="5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3" name=""/>
                <p:cNvSpPr/>
                <p:nvPr/>
              </p:nvSpPr>
              <p:spPr>
                <a:xfrm>
                  <a:off x="3965400" y="4772880"/>
                  <a:ext cx="87480" cy="137160"/>
                </a:xfrm>
                <a:custGeom>
                  <a:avLst/>
                  <a:gdLst/>
                  <a:ahLst/>
                  <a:rect l="l" t="t" r="r" b="b"/>
                  <a:pathLst>
                    <a:path w="435" h="731">
                      <a:moveTo>
                        <a:pt x="380" y="31"/>
                      </a:moveTo>
                      <a:lnTo>
                        <a:pt x="380" y="30"/>
                      </a:lnTo>
                      <a:lnTo>
                        <a:pt x="381" y="54"/>
                      </a:lnTo>
                      <a:lnTo>
                        <a:pt x="381" y="77"/>
                      </a:lnTo>
                      <a:lnTo>
                        <a:pt x="380" y="99"/>
                      </a:lnTo>
                      <a:lnTo>
                        <a:pt x="379" y="120"/>
                      </a:lnTo>
                      <a:lnTo>
                        <a:pt x="376" y="139"/>
                      </a:lnTo>
                      <a:lnTo>
                        <a:pt x="374" y="158"/>
                      </a:lnTo>
                      <a:lnTo>
                        <a:pt x="371" y="175"/>
                      </a:lnTo>
                      <a:lnTo>
                        <a:pt x="367" y="192"/>
                      </a:lnTo>
                      <a:lnTo>
                        <a:pt x="363" y="209"/>
                      </a:lnTo>
                      <a:lnTo>
                        <a:pt x="358" y="225"/>
                      </a:lnTo>
                      <a:lnTo>
                        <a:pt x="351" y="240"/>
                      </a:lnTo>
                      <a:lnTo>
                        <a:pt x="345" y="256"/>
                      </a:lnTo>
                      <a:lnTo>
                        <a:pt x="337" y="271"/>
                      </a:lnTo>
                      <a:lnTo>
                        <a:pt x="329" y="287"/>
                      </a:lnTo>
                      <a:lnTo>
                        <a:pt x="320" y="304"/>
                      </a:lnTo>
                      <a:lnTo>
                        <a:pt x="310" y="320"/>
                      </a:lnTo>
                      <a:lnTo>
                        <a:pt x="286" y="353"/>
                      </a:lnTo>
                      <a:lnTo>
                        <a:pt x="259" y="389"/>
                      </a:lnTo>
                      <a:lnTo>
                        <a:pt x="227" y="428"/>
                      </a:lnTo>
                      <a:lnTo>
                        <a:pt x="192" y="470"/>
                      </a:lnTo>
                      <a:lnTo>
                        <a:pt x="105" y="569"/>
                      </a:lnTo>
                      <a:lnTo>
                        <a:pt x="0" y="692"/>
                      </a:lnTo>
                      <a:lnTo>
                        <a:pt x="41" y="731"/>
                      </a:lnTo>
                      <a:lnTo>
                        <a:pt x="146" y="608"/>
                      </a:lnTo>
                      <a:lnTo>
                        <a:pt x="232" y="509"/>
                      </a:lnTo>
                      <a:lnTo>
                        <a:pt x="268" y="466"/>
                      </a:lnTo>
                      <a:lnTo>
                        <a:pt x="301" y="426"/>
                      </a:lnTo>
                      <a:lnTo>
                        <a:pt x="329" y="389"/>
                      </a:lnTo>
                      <a:lnTo>
                        <a:pt x="355" y="353"/>
                      </a:lnTo>
                      <a:lnTo>
                        <a:pt x="366" y="335"/>
                      </a:lnTo>
                      <a:lnTo>
                        <a:pt x="376" y="317"/>
                      </a:lnTo>
                      <a:lnTo>
                        <a:pt x="386" y="299"/>
                      </a:lnTo>
                      <a:lnTo>
                        <a:pt x="394" y="282"/>
                      </a:lnTo>
                      <a:lnTo>
                        <a:pt x="402" y="263"/>
                      </a:lnTo>
                      <a:lnTo>
                        <a:pt x="409" y="245"/>
                      </a:lnTo>
                      <a:lnTo>
                        <a:pt x="415" y="227"/>
                      </a:lnTo>
                      <a:lnTo>
                        <a:pt x="420" y="207"/>
                      </a:lnTo>
                      <a:lnTo>
                        <a:pt x="425" y="187"/>
                      </a:lnTo>
                      <a:lnTo>
                        <a:pt x="428" y="167"/>
                      </a:lnTo>
                      <a:lnTo>
                        <a:pt x="432" y="146"/>
                      </a:lnTo>
                      <a:lnTo>
                        <a:pt x="433" y="124"/>
                      </a:lnTo>
                      <a:lnTo>
                        <a:pt x="435" y="102"/>
                      </a:lnTo>
                      <a:lnTo>
                        <a:pt x="435" y="78"/>
                      </a:lnTo>
                      <a:lnTo>
                        <a:pt x="435" y="54"/>
                      </a:lnTo>
                      <a:lnTo>
                        <a:pt x="435" y="29"/>
                      </a:lnTo>
                      <a:lnTo>
                        <a:pt x="435" y="28"/>
                      </a:lnTo>
                      <a:lnTo>
                        <a:pt x="435" y="29"/>
                      </a:lnTo>
                      <a:lnTo>
                        <a:pt x="434" y="22"/>
                      </a:lnTo>
                      <a:lnTo>
                        <a:pt x="433" y="16"/>
                      </a:lnTo>
                      <a:lnTo>
                        <a:pt x="429" y="12"/>
                      </a:lnTo>
                      <a:lnTo>
                        <a:pt x="426" y="7"/>
                      </a:lnTo>
                      <a:lnTo>
                        <a:pt x="421" y="4"/>
                      </a:lnTo>
                      <a:lnTo>
                        <a:pt x="417" y="3"/>
                      </a:lnTo>
                      <a:lnTo>
                        <a:pt x="412" y="1"/>
                      </a:lnTo>
                      <a:lnTo>
                        <a:pt x="406" y="0"/>
                      </a:lnTo>
                      <a:lnTo>
                        <a:pt x="402" y="1"/>
                      </a:lnTo>
                      <a:lnTo>
                        <a:pt x="397" y="3"/>
                      </a:lnTo>
                      <a:lnTo>
                        <a:pt x="392" y="5"/>
                      </a:lnTo>
                      <a:lnTo>
                        <a:pt x="388" y="8"/>
                      </a:lnTo>
                      <a:lnTo>
                        <a:pt x="384" y="13"/>
                      </a:lnTo>
                      <a:lnTo>
                        <a:pt x="382" y="17"/>
                      </a:lnTo>
                      <a:lnTo>
                        <a:pt x="381" y="23"/>
                      </a:lnTo>
                      <a:lnTo>
                        <a:pt x="380" y="30"/>
                      </a:lnTo>
                      <a:lnTo>
                        <a:pt x="380" y="3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4" name=""/>
                <p:cNvSpPr/>
                <p:nvPr/>
              </p:nvSpPr>
              <p:spPr>
                <a:xfrm>
                  <a:off x="4043520" y="4700880"/>
                  <a:ext cx="214560" cy="84600"/>
                </a:xfrm>
                <a:custGeom>
                  <a:avLst/>
                  <a:gdLst/>
                  <a:ahLst/>
                  <a:rect l="l" t="t" r="r" b="b"/>
                  <a:pathLst>
                    <a:path w="1066" h="449">
                      <a:moveTo>
                        <a:pt x="1059" y="402"/>
                      </a:moveTo>
                      <a:lnTo>
                        <a:pt x="1066" y="418"/>
                      </a:lnTo>
                      <a:lnTo>
                        <a:pt x="1062" y="394"/>
                      </a:lnTo>
                      <a:lnTo>
                        <a:pt x="1059" y="371"/>
                      </a:lnTo>
                      <a:lnTo>
                        <a:pt x="1053" y="348"/>
                      </a:lnTo>
                      <a:lnTo>
                        <a:pt x="1046" y="325"/>
                      </a:lnTo>
                      <a:lnTo>
                        <a:pt x="1038" y="304"/>
                      </a:lnTo>
                      <a:lnTo>
                        <a:pt x="1028" y="284"/>
                      </a:lnTo>
                      <a:lnTo>
                        <a:pt x="1017" y="263"/>
                      </a:lnTo>
                      <a:lnTo>
                        <a:pt x="1005" y="243"/>
                      </a:lnTo>
                      <a:lnTo>
                        <a:pt x="992" y="225"/>
                      </a:lnTo>
                      <a:lnTo>
                        <a:pt x="978" y="208"/>
                      </a:lnTo>
                      <a:lnTo>
                        <a:pt x="963" y="191"/>
                      </a:lnTo>
                      <a:lnTo>
                        <a:pt x="947" y="173"/>
                      </a:lnTo>
                      <a:lnTo>
                        <a:pt x="930" y="158"/>
                      </a:lnTo>
                      <a:lnTo>
                        <a:pt x="913" y="143"/>
                      </a:lnTo>
                      <a:lnTo>
                        <a:pt x="894" y="129"/>
                      </a:lnTo>
                      <a:lnTo>
                        <a:pt x="875" y="116"/>
                      </a:lnTo>
                      <a:lnTo>
                        <a:pt x="855" y="103"/>
                      </a:lnTo>
                      <a:lnTo>
                        <a:pt x="835" y="91"/>
                      </a:lnTo>
                      <a:lnTo>
                        <a:pt x="814" y="80"/>
                      </a:lnTo>
                      <a:lnTo>
                        <a:pt x="792" y="69"/>
                      </a:lnTo>
                      <a:lnTo>
                        <a:pt x="770" y="60"/>
                      </a:lnTo>
                      <a:lnTo>
                        <a:pt x="749" y="50"/>
                      </a:lnTo>
                      <a:lnTo>
                        <a:pt x="726" y="42"/>
                      </a:lnTo>
                      <a:lnTo>
                        <a:pt x="703" y="34"/>
                      </a:lnTo>
                      <a:lnTo>
                        <a:pt x="679" y="27"/>
                      </a:lnTo>
                      <a:lnTo>
                        <a:pt x="656" y="22"/>
                      </a:lnTo>
                      <a:lnTo>
                        <a:pt x="631" y="16"/>
                      </a:lnTo>
                      <a:lnTo>
                        <a:pt x="607" y="11"/>
                      </a:lnTo>
                      <a:lnTo>
                        <a:pt x="583" y="8"/>
                      </a:lnTo>
                      <a:lnTo>
                        <a:pt x="558" y="4"/>
                      </a:lnTo>
                      <a:lnTo>
                        <a:pt x="534" y="2"/>
                      </a:lnTo>
                      <a:lnTo>
                        <a:pt x="510" y="1"/>
                      </a:lnTo>
                      <a:lnTo>
                        <a:pt x="486" y="0"/>
                      </a:lnTo>
                      <a:lnTo>
                        <a:pt x="462" y="0"/>
                      </a:lnTo>
                      <a:lnTo>
                        <a:pt x="437" y="1"/>
                      </a:lnTo>
                      <a:lnTo>
                        <a:pt x="413" y="2"/>
                      </a:lnTo>
                      <a:lnTo>
                        <a:pt x="389" y="4"/>
                      </a:lnTo>
                      <a:lnTo>
                        <a:pt x="366" y="8"/>
                      </a:lnTo>
                      <a:lnTo>
                        <a:pt x="342" y="12"/>
                      </a:lnTo>
                      <a:lnTo>
                        <a:pt x="319" y="17"/>
                      </a:lnTo>
                      <a:lnTo>
                        <a:pt x="297" y="23"/>
                      </a:lnTo>
                      <a:lnTo>
                        <a:pt x="275" y="29"/>
                      </a:lnTo>
                      <a:lnTo>
                        <a:pt x="254" y="37"/>
                      </a:lnTo>
                      <a:lnTo>
                        <a:pt x="233" y="45"/>
                      </a:lnTo>
                      <a:lnTo>
                        <a:pt x="212" y="54"/>
                      </a:lnTo>
                      <a:lnTo>
                        <a:pt x="192" y="63"/>
                      </a:lnTo>
                      <a:lnTo>
                        <a:pt x="172" y="75"/>
                      </a:lnTo>
                      <a:lnTo>
                        <a:pt x="154" y="86"/>
                      </a:lnTo>
                      <a:lnTo>
                        <a:pt x="137" y="99"/>
                      </a:lnTo>
                      <a:lnTo>
                        <a:pt x="119" y="112"/>
                      </a:lnTo>
                      <a:lnTo>
                        <a:pt x="103" y="127"/>
                      </a:lnTo>
                      <a:lnTo>
                        <a:pt x="88" y="142"/>
                      </a:lnTo>
                      <a:lnTo>
                        <a:pt x="73" y="160"/>
                      </a:lnTo>
                      <a:lnTo>
                        <a:pt x="61" y="177"/>
                      </a:lnTo>
                      <a:lnTo>
                        <a:pt x="48" y="195"/>
                      </a:lnTo>
                      <a:lnTo>
                        <a:pt x="38" y="215"/>
                      </a:lnTo>
                      <a:lnTo>
                        <a:pt x="27" y="235"/>
                      </a:lnTo>
                      <a:lnTo>
                        <a:pt x="19" y="257"/>
                      </a:lnTo>
                      <a:lnTo>
                        <a:pt x="12" y="279"/>
                      </a:lnTo>
                      <a:lnTo>
                        <a:pt x="7" y="303"/>
                      </a:lnTo>
                      <a:lnTo>
                        <a:pt x="3" y="327"/>
                      </a:lnTo>
                      <a:lnTo>
                        <a:pt x="1" y="351"/>
                      </a:lnTo>
                      <a:lnTo>
                        <a:pt x="0" y="378"/>
                      </a:lnTo>
                      <a:lnTo>
                        <a:pt x="0" y="404"/>
                      </a:lnTo>
                      <a:lnTo>
                        <a:pt x="55" y="401"/>
                      </a:lnTo>
                      <a:lnTo>
                        <a:pt x="55" y="378"/>
                      </a:lnTo>
                      <a:lnTo>
                        <a:pt x="55" y="356"/>
                      </a:lnTo>
                      <a:lnTo>
                        <a:pt x="57" y="335"/>
                      </a:lnTo>
                      <a:lnTo>
                        <a:pt x="61" y="315"/>
                      </a:lnTo>
                      <a:lnTo>
                        <a:pt x="65" y="295"/>
                      </a:lnTo>
                      <a:lnTo>
                        <a:pt x="71" y="277"/>
                      </a:lnTo>
                      <a:lnTo>
                        <a:pt x="78" y="259"/>
                      </a:lnTo>
                      <a:lnTo>
                        <a:pt x="86" y="243"/>
                      </a:lnTo>
                      <a:lnTo>
                        <a:pt x="94" y="227"/>
                      </a:lnTo>
                      <a:lnTo>
                        <a:pt x="104" y="211"/>
                      </a:lnTo>
                      <a:lnTo>
                        <a:pt x="115" y="197"/>
                      </a:lnTo>
                      <a:lnTo>
                        <a:pt x="127" y="184"/>
                      </a:lnTo>
                      <a:lnTo>
                        <a:pt x="140" y="170"/>
                      </a:lnTo>
                      <a:lnTo>
                        <a:pt x="154" y="158"/>
                      </a:lnTo>
                      <a:lnTo>
                        <a:pt x="168" y="146"/>
                      </a:lnTo>
                      <a:lnTo>
                        <a:pt x="184" y="135"/>
                      </a:lnTo>
                      <a:lnTo>
                        <a:pt x="200" y="125"/>
                      </a:lnTo>
                      <a:lnTo>
                        <a:pt x="216" y="116"/>
                      </a:lnTo>
                      <a:lnTo>
                        <a:pt x="234" y="107"/>
                      </a:lnTo>
                      <a:lnTo>
                        <a:pt x="253" y="99"/>
                      </a:lnTo>
                      <a:lnTo>
                        <a:pt x="271" y="92"/>
                      </a:lnTo>
                      <a:lnTo>
                        <a:pt x="290" y="85"/>
                      </a:lnTo>
                      <a:lnTo>
                        <a:pt x="311" y="79"/>
                      </a:lnTo>
                      <a:lnTo>
                        <a:pt x="332" y="73"/>
                      </a:lnTo>
                      <a:lnTo>
                        <a:pt x="352" y="70"/>
                      </a:lnTo>
                      <a:lnTo>
                        <a:pt x="373" y="65"/>
                      </a:lnTo>
                      <a:lnTo>
                        <a:pt x="395" y="63"/>
                      </a:lnTo>
                      <a:lnTo>
                        <a:pt x="417" y="61"/>
                      </a:lnTo>
                      <a:lnTo>
                        <a:pt x="440" y="60"/>
                      </a:lnTo>
                      <a:lnTo>
                        <a:pt x="462" y="58"/>
                      </a:lnTo>
                      <a:lnTo>
                        <a:pt x="484" y="58"/>
                      </a:lnTo>
                      <a:lnTo>
                        <a:pt x="507" y="60"/>
                      </a:lnTo>
                      <a:lnTo>
                        <a:pt x="530" y="61"/>
                      </a:lnTo>
                      <a:lnTo>
                        <a:pt x="553" y="63"/>
                      </a:lnTo>
                      <a:lnTo>
                        <a:pt x="575" y="65"/>
                      </a:lnTo>
                      <a:lnTo>
                        <a:pt x="598" y="69"/>
                      </a:lnTo>
                      <a:lnTo>
                        <a:pt x="621" y="73"/>
                      </a:lnTo>
                      <a:lnTo>
                        <a:pt x="643" y="78"/>
                      </a:lnTo>
                      <a:lnTo>
                        <a:pt x="665" y="84"/>
                      </a:lnTo>
                      <a:lnTo>
                        <a:pt x="687" y="91"/>
                      </a:lnTo>
                      <a:lnTo>
                        <a:pt x="708" y="97"/>
                      </a:lnTo>
                      <a:lnTo>
                        <a:pt x="730" y="106"/>
                      </a:lnTo>
                      <a:lnTo>
                        <a:pt x="751" y="114"/>
                      </a:lnTo>
                      <a:lnTo>
                        <a:pt x="770" y="123"/>
                      </a:lnTo>
                      <a:lnTo>
                        <a:pt x="790" y="132"/>
                      </a:lnTo>
                      <a:lnTo>
                        <a:pt x="809" y="142"/>
                      </a:lnTo>
                      <a:lnTo>
                        <a:pt x="828" y="154"/>
                      </a:lnTo>
                      <a:lnTo>
                        <a:pt x="846" y="165"/>
                      </a:lnTo>
                      <a:lnTo>
                        <a:pt x="863" y="177"/>
                      </a:lnTo>
                      <a:lnTo>
                        <a:pt x="880" y="189"/>
                      </a:lnTo>
                      <a:lnTo>
                        <a:pt x="896" y="203"/>
                      </a:lnTo>
                      <a:lnTo>
                        <a:pt x="911" y="217"/>
                      </a:lnTo>
                      <a:lnTo>
                        <a:pt x="924" y="231"/>
                      </a:lnTo>
                      <a:lnTo>
                        <a:pt x="937" y="246"/>
                      </a:lnTo>
                      <a:lnTo>
                        <a:pt x="950" y="261"/>
                      </a:lnTo>
                      <a:lnTo>
                        <a:pt x="960" y="277"/>
                      </a:lnTo>
                      <a:lnTo>
                        <a:pt x="970" y="294"/>
                      </a:lnTo>
                      <a:lnTo>
                        <a:pt x="979" y="310"/>
                      </a:lnTo>
                      <a:lnTo>
                        <a:pt x="987" y="328"/>
                      </a:lnTo>
                      <a:lnTo>
                        <a:pt x="994" y="346"/>
                      </a:lnTo>
                      <a:lnTo>
                        <a:pt x="1000" y="364"/>
                      </a:lnTo>
                      <a:lnTo>
                        <a:pt x="1005" y="384"/>
                      </a:lnTo>
                      <a:lnTo>
                        <a:pt x="1008" y="403"/>
                      </a:lnTo>
                      <a:lnTo>
                        <a:pt x="1010" y="423"/>
                      </a:lnTo>
                      <a:lnTo>
                        <a:pt x="1017" y="440"/>
                      </a:lnTo>
                      <a:lnTo>
                        <a:pt x="1010" y="423"/>
                      </a:lnTo>
                      <a:lnTo>
                        <a:pt x="1012" y="430"/>
                      </a:lnTo>
                      <a:lnTo>
                        <a:pt x="1014" y="435"/>
                      </a:lnTo>
                      <a:lnTo>
                        <a:pt x="1017" y="440"/>
                      </a:lnTo>
                      <a:lnTo>
                        <a:pt x="1021" y="444"/>
                      </a:lnTo>
                      <a:lnTo>
                        <a:pt x="1025" y="447"/>
                      </a:lnTo>
                      <a:lnTo>
                        <a:pt x="1030" y="449"/>
                      </a:lnTo>
                      <a:lnTo>
                        <a:pt x="1036" y="449"/>
                      </a:lnTo>
                      <a:lnTo>
                        <a:pt x="1040" y="449"/>
                      </a:lnTo>
                      <a:lnTo>
                        <a:pt x="1045" y="449"/>
                      </a:lnTo>
                      <a:lnTo>
                        <a:pt x="1051" y="447"/>
                      </a:lnTo>
                      <a:lnTo>
                        <a:pt x="1054" y="444"/>
                      </a:lnTo>
                      <a:lnTo>
                        <a:pt x="1059" y="441"/>
                      </a:lnTo>
                      <a:lnTo>
                        <a:pt x="1062" y="436"/>
                      </a:lnTo>
                      <a:lnTo>
                        <a:pt x="1064" y="431"/>
                      </a:lnTo>
                      <a:lnTo>
                        <a:pt x="1066" y="425"/>
                      </a:lnTo>
                      <a:lnTo>
                        <a:pt x="1066" y="418"/>
                      </a:lnTo>
                      <a:lnTo>
                        <a:pt x="1059" y="402"/>
                      </a:lnTo>
                      <a:close/>
                    </a:path>
                  </a:pathLst>
                </a:custGeom>
                <a:solidFill>
                  <a:srgbClr val="000000"/>
                </a:solidFill>
                <a:ln w="0">
                  <a:noFill/>
                </a:ln>
              </p:spPr>
              <p:style>
                <a:lnRef idx="0"/>
                <a:fillRef idx="0"/>
                <a:effectRef idx="0"/>
                <a:fontRef idx="minor"/>
              </p:style>
              <p:txBody>
                <a:bodyPr wrap="none" lIns="93240" rIns="93240" tIns="38160" bIns="38160" anchor="t">
                  <a:spAutoFit/>
                </a:bodyPr>
                <a:p>
                  <a:endParaRPr b="0" lang="en-US" sz="2400" spc="-1" strike="noStrike">
                    <a:solidFill>
                      <a:srgbClr val="ffffff"/>
                    </a:solidFill>
                    <a:latin typeface="Times New Roman"/>
                  </a:endParaRPr>
                </a:p>
              </p:txBody>
            </p:sp>
            <p:sp>
              <p:nvSpPr>
                <p:cNvPr id="495" name=""/>
                <p:cNvSpPr/>
                <p:nvPr/>
              </p:nvSpPr>
              <p:spPr>
                <a:xfrm>
                  <a:off x="4248360" y="4763520"/>
                  <a:ext cx="80640" cy="35280"/>
                </a:xfrm>
                <a:custGeom>
                  <a:avLst/>
                  <a:gdLst/>
                  <a:ahLst/>
                  <a:rect l="l" t="t" r="r" b="b"/>
                  <a:pathLst>
                    <a:path w="400" h="187">
                      <a:moveTo>
                        <a:pt x="375" y="0"/>
                      </a:moveTo>
                      <a:lnTo>
                        <a:pt x="348" y="14"/>
                      </a:lnTo>
                      <a:lnTo>
                        <a:pt x="340" y="28"/>
                      </a:lnTo>
                      <a:lnTo>
                        <a:pt x="329" y="43"/>
                      </a:lnTo>
                      <a:lnTo>
                        <a:pt x="314" y="58"/>
                      </a:lnTo>
                      <a:lnTo>
                        <a:pt x="298" y="73"/>
                      </a:lnTo>
                      <a:lnTo>
                        <a:pt x="278" y="87"/>
                      </a:lnTo>
                      <a:lnTo>
                        <a:pt x="259" y="100"/>
                      </a:lnTo>
                      <a:lnTo>
                        <a:pt x="237" y="110"/>
                      </a:lnTo>
                      <a:lnTo>
                        <a:pt x="214" y="119"/>
                      </a:lnTo>
                      <a:lnTo>
                        <a:pt x="202" y="122"/>
                      </a:lnTo>
                      <a:lnTo>
                        <a:pt x="191" y="125"/>
                      </a:lnTo>
                      <a:lnTo>
                        <a:pt x="179" y="127"/>
                      </a:lnTo>
                      <a:lnTo>
                        <a:pt x="168" y="128"/>
                      </a:lnTo>
                      <a:lnTo>
                        <a:pt x="157" y="128"/>
                      </a:lnTo>
                      <a:lnTo>
                        <a:pt x="145" y="128"/>
                      </a:lnTo>
                      <a:lnTo>
                        <a:pt x="135" y="127"/>
                      </a:lnTo>
                      <a:lnTo>
                        <a:pt x="123" y="125"/>
                      </a:lnTo>
                      <a:lnTo>
                        <a:pt x="113" y="122"/>
                      </a:lnTo>
                      <a:lnTo>
                        <a:pt x="101" y="118"/>
                      </a:lnTo>
                      <a:lnTo>
                        <a:pt x="91" y="113"/>
                      </a:lnTo>
                      <a:lnTo>
                        <a:pt x="81" y="108"/>
                      </a:lnTo>
                      <a:lnTo>
                        <a:pt x="72" y="101"/>
                      </a:lnTo>
                      <a:lnTo>
                        <a:pt x="61" y="91"/>
                      </a:lnTo>
                      <a:lnTo>
                        <a:pt x="51" y="82"/>
                      </a:lnTo>
                      <a:lnTo>
                        <a:pt x="42" y="72"/>
                      </a:lnTo>
                      <a:lnTo>
                        <a:pt x="0" y="110"/>
                      </a:lnTo>
                      <a:lnTo>
                        <a:pt x="13" y="124"/>
                      </a:lnTo>
                      <a:lnTo>
                        <a:pt x="26" y="136"/>
                      </a:lnTo>
                      <a:lnTo>
                        <a:pt x="39" y="148"/>
                      </a:lnTo>
                      <a:lnTo>
                        <a:pt x="53" y="157"/>
                      </a:lnTo>
                      <a:lnTo>
                        <a:pt x="68" y="166"/>
                      </a:lnTo>
                      <a:lnTo>
                        <a:pt x="82" y="173"/>
                      </a:lnTo>
                      <a:lnTo>
                        <a:pt x="97" y="178"/>
                      </a:lnTo>
                      <a:lnTo>
                        <a:pt x="112" y="182"/>
                      </a:lnTo>
                      <a:lnTo>
                        <a:pt x="127" y="185"/>
                      </a:lnTo>
                      <a:lnTo>
                        <a:pt x="143" y="187"/>
                      </a:lnTo>
                      <a:lnTo>
                        <a:pt x="158" y="187"/>
                      </a:lnTo>
                      <a:lnTo>
                        <a:pt x="173" y="186"/>
                      </a:lnTo>
                      <a:lnTo>
                        <a:pt x="188" y="185"/>
                      </a:lnTo>
                      <a:lnTo>
                        <a:pt x="201" y="182"/>
                      </a:lnTo>
                      <a:lnTo>
                        <a:pt x="216" y="179"/>
                      </a:lnTo>
                      <a:lnTo>
                        <a:pt x="231" y="174"/>
                      </a:lnTo>
                      <a:lnTo>
                        <a:pt x="258" y="164"/>
                      </a:lnTo>
                      <a:lnTo>
                        <a:pt x="284" y="151"/>
                      </a:lnTo>
                      <a:lnTo>
                        <a:pt x="308" y="136"/>
                      </a:lnTo>
                      <a:lnTo>
                        <a:pt x="330" y="119"/>
                      </a:lnTo>
                      <a:lnTo>
                        <a:pt x="351" y="102"/>
                      </a:lnTo>
                      <a:lnTo>
                        <a:pt x="369" y="82"/>
                      </a:lnTo>
                      <a:lnTo>
                        <a:pt x="384" y="63"/>
                      </a:lnTo>
                      <a:lnTo>
                        <a:pt x="397" y="43"/>
                      </a:lnTo>
                      <a:lnTo>
                        <a:pt x="370" y="58"/>
                      </a:lnTo>
                      <a:lnTo>
                        <a:pt x="397" y="43"/>
                      </a:lnTo>
                      <a:lnTo>
                        <a:pt x="399" y="36"/>
                      </a:lnTo>
                      <a:lnTo>
                        <a:pt x="400" y="31"/>
                      </a:lnTo>
                      <a:lnTo>
                        <a:pt x="400" y="25"/>
                      </a:lnTo>
                      <a:lnTo>
                        <a:pt x="399" y="19"/>
                      </a:lnTo>
                      <a:lnTo>
                        <a:pt x="397" y="14"/>
                      </a:lnTo>
                      <a:lnTo>
                        <a:pt x="394" y="10"/>
                      </a:lnTo>
                      <a:lnTo>
                        <a:pt x="390" y="6"/>
                      </a:lnTo>
                      <a:lnTo>
                        <a:pt x="386" y="3"/>
                      </a:lnTo>
                      <a:lnTo>
                        <a:pt x="382" y="1"/>
                      </a:lnTo>
                      <a:lnTo>
                        <a:pt x="376" y="0"/>
                      </a:lnTo>
                      <a:lnTo>
                        <a:pt x="371" y="0"/>
                      </a:lnTo>
                      <a:lnTo>
                        <a:pt x="366" y="0"/>
                      </a:lnTo>
                      <a:lnTo>
                        <a:pt x="361" y="2"/>
                      </a:lnTo>
                      <a:lnTo>
                        <a:pt x="356" y="5"/>
                      </a:lnTo>
                      <a:lnTo>
                        <a:pt x="352" y="9"/>
                      </a:lnTo>
                      <a:lnTo>
                        <a:pt x="348" y="14"/>
                      </a:lnTo>
                      <a:lnTo>
                        <a:pt x="375" y="0"/>
                      </a:lnTo>
                      <a:close/>
                    </a:path>
                  </a:pathLst>
                </a:custGeom>
                <a:solidFill>
                  <a:srgbClr val="000000"/>
                </a:solidFill>
                <a:ln w="0">
                  <a:noFill/>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496" name=""/>
                <p:cNvSpPr/>
                <p:nvPr/>
              </p:nvSpPr>
              <p:spPr>
                <a:xfrm>
                  <a:off x="4323600" y="4763520"/>
                  <a:ext cx="80640" cy="130680"/>
                </a:xfrm>
                <a:custGeom>
                  <a:avLst/>
                  <a:gdLst/>
                  <a:ahLst/>
                  <a:rect l="l" t="t" r="r" b="b"/>
                  <a:pathLst>
                    <a:path w="402" h="691">
                      <a:moveTo>
                        <a:pt x="395" y="662"/>
                      </a:moveTo>
                      <a:lnTo>
                        <a:pt x="395" y="667"/>
                      </a:lnTo>
                      <a:lnTo>
                        <a:pt x="399" y="639"/>
                      </a:lnTo>
                      <a:lnTo>
                        <a:pt x="402" y="612"/>
                      </a:lnTo>
                      <a:lnTo>
                        <a:pt x="402" y="584"/>
                      </a:lnTo>
                      <a:lnTo>
                        <a:pt x="402" y="557"/>
                      </a:lnTo>
                      <a:lnTo>
                        <a:pt x="400" y="528"/>
                      </a:lnTo>
                      <a:lnTo>
                        <a:pt x="396" y="500"/>
                      </a:lnTo>
                      <a:lnTo>
                        <a:pt x="393" y="472"/>
                      </a:lnTo>
                      <a:lnTo>
                        <a:pt x="387" y="444"/>
                      </a:lnTo>
                      <a:lnTo>
                        <a:pt x="380" y="417"/>
                      </a:lnTo>
                      <a:lnTo>
                        <a:pt x="372" y="389"/>
                      </a:lnTo>
                      <a:lnTo>
                        <a:pt x="363" y="363"/>
                      </a:lnTo>
                      <a:lnTo>
                        <a:pt x="353" y="336"/>
                      </a:lnTo>
                      <a:lnTo>
                        <a:pt x="342" y="310"/>
                      </a:lnTo>
                      <a:lnTo>
                        <a:pt x="330" y="284"/>
                      </a:lnTo>
                      <a:lnTo>
                        <a:pt x="317" y="259"/>
                      </a:lnTo>
                      <a:lnTo>
                        <a:pt x="304" y="235"/>
                      </a:lnTo>
                      <a:lnTo>
                        <a:pt x="290" y="211"/>
                      </a:lnTo>
                      <a:lnTo>
                        <a:pt x="275" y="189"/>
                      </a:lnTo>
                      <a:lnTo>
                        <a:pt x="258" y="167"/>
                      </a:lnTo>
                      <a:lnTo>
                        <a:pt x="242" y="147"/>
                      </a:lnTo>
                      <a:lnTo>
                        <a:pt x="225" y="126"/>
                      </a:lnTo>
                      <a:lnTo>
                        <a:pt x="207" y="108"/>
                      </a:lnTo>
                      <a:lnTo>
                        <a:pt x="190" y="90"/>
                      </a:lnTo>
                      <a:lnTo>
                        <a:pt x="170" y="74"/>
                      </a:lnTo>
                      <a:lnTo>
                        <a:pt x="151" y="59"/>
                      </a:lnTo>
                      <a:lnTo>
                        <a:pt x="131" y="46"/>
                      </a:lnTo>
                      <a:lnTo>
                        <a:pt x="112" y="34"/>
                      </a:lnTo>
                      <a:lnTo>
                        <a:pt x="91" y="24"/>
                      </a:lnTo>
                      <a:lnTo>
                        <a:pt x="69" y="14"/>
                      </a:lnTo>
                      <a:lnTo>
                        <a:pt x="48" y="8"/>
                      </a:lnTo>
                      <a:lnTo>
                        <a:pt x="27" y="3"/>
                      </a:lnTo>
                      <a:lnTo>
                        <a:pt x="5" y="0"/>
                      </a:lnTo>
                      <a:lnTo>
                        <a:pt x="0" y="58"/>
                      </a:lnTo>
                      <a:lnTo>
                        <a:pt x="17" y="60"/>
                      </a:lnTo>
                      <a:lnTo>
                        <a:pt x="35" y="64"/>
                      </a:lnTo>
                      <a:lnTo>
                        <a:pt x="52" y="70"/>
                      </a:lnTo>
                      <a:lnTo>
                        <a:pt x="69" y="77"/>
                      </a:lnTo>
                      <a:lnTo>
                        <a:pt x="86" y="86"/>
                      </a:lnTo>
                      <a:lnTo>
                        <a:pt x="103" y="96"/>
                      </a:lnTo>
                      <a:lnTo>
                        <a:pt x="121" y="108"/>
                      </a:lnTo>
                      <a:lnTo>
                        <a:pt x="137" y="120"/>
                      </a:lnTo>
                      <a:lnTo>
                        <a:pt x="154" y="134"/>
                      </a:lnTo>
                      <a:lnTo>
                        <a:pt x="170" y="150"/>
                      </a:lnTo>
                      <a:lnTo>
                        <a:pt x="186" y="167"/>
                      </a:lnTo>
                      <a:lnTo>
                        <a:pt x="201" y="185"/>
                      </a:lnTo>
                      <a:lnTo>
                        <a:pt x="216" y="203"/>
                      </a:lnTo>
                      <a:lnTo>
                        <a:pt x="231" y="224"/>
                      </a:lnTo>
                      <a:lnTo>
                        <a:pt x="245" y="244"/>
                      </a:lnTo>
                      <a:lnTo>
                        <a:pt x="257" y="266"/>
                      </a:lnTo>
                      <a:lnTo>
                        <a:pt x="270" y="288"/>
                      </a:lnTo>
                      <a:lnTo>
                        <a:pt x="281" y="311"/>
                      </a:lnTo>
                      <a:lnTo>
                        <a:pt x="293" y="334"/>
                      </a:lnTo>
                      <a:lnTo>
                        <a:pt x="302" y="358"/>
                      </a:lnTo>
                      <a:lnTo>
                        <a:pt x="311" y="383"/>
                      </a:lnTo>
                      <a:lnTo>
                        <a:pt x="321" y="407"/>
                      </a:lnTo>
                      <a:lnTo>
                        <a:pt x="327" y="433"/>
                      </a:lnTo>
                      <a:lnTo>
                        <a:pt x="333" y="458"/>
                      </a:lnTo>
                      <a:lnTo>
                        <a:pt x="339" y="483"/>
                      </a:lnTo>
                      <a:lnTo>
                        <a:pt x="342" y="509"/>
                      </a:lnTo>
                      <a:lnTo>
                        <a:pt x="346" y="534"/>
                      </a:lnTo>
                      <a:lnTo>
                        <a:pt x="347" y="559"/>
                      </a:lnTo>
                      <a:lnTo>
                        <a:pt x="348" y="584"/>
                      </a:lnTo>
                      <a:lnTo>
                        <a:pt x="347" y="608"/>
                      </a:lnTo>
                      <a:lnTo>
                        <a:pt x="345" y="633"/>
                      </a:lnTo>
                      <a:lnTo>
                        <a:pt x="341" y="657"/>
                      </a:lnTo>
                      <a:lnTo>
                        <a:pt x="341" y="662"/>
                      </a:lnTo>
                      <a:lnTo>
                        <a:pt x="341" y="657"/>
                      </a:lnTo>
                      <a:lnTo>
                        <a:pt x="341" y="664"/>
                      </a:lnTo>
                      <a:lnTo>
                        <a:pt x="341" y="671"/>
                      </a:lnTo>
                      <a:lnTo>
                        <a:pt x="343" y="675"/>
                      </a:lnTo>
                      <a:lnTo>
                        <a:pt x="346" y="680"/>
                      </a:lnTo>
                      <a:lnTo>
                        <a:pt x="349" y="684"/>
                      </a:lnTo>
                      <a:lnTo>
                        <a:pt x="354" y="687"/>
                      </a:lnTo>
                      <a:lnTo>
                        <a:pt x="358" y="689"/>
                      </a:lnTo>
                      <a:lnTo>
                        <a:pt x="363" y="691"/>
                      </a:lnTo>
                      <a:lnTo>
                        <a:pt x="369" y="691"/>
                      </a:lnTo>
                      <a:lnTo>
                        <a:pt x="373" y="691"/>
                      </a:lnTo>
                      <a:lnTo>
                        <a:pt x="378" y="690"/>
                      </a:lnTo>
                      <a:lnTo>
                        <a:pt x="383" y="688"/>
                      </a:lnTo>
                      <a:lnTo>
                        <a:pt x="387" y="684"/>
                      </a:lnTo>
                      <a:lnTo>
                        <a:pt x="391" y="680"/>
                      </a:lnTo>
                      <a:lnTo>
                        <a:pt x="393" y="674"/>
                      </a:lnTo>
                      <a:lnTo>
                        <a:pt x="395" y="667"/>
                      </a:lnTo>
                      <a:lnTo>
                        <a:pt x="395" y="66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7" name=""/>
                <p:cNvSpPr/>
                <p:nvPr/>
              </p:nvSpPr>
              <p:spPr>
                <a:xfrm>
                  <a:off x="4258080" y="4889520"/>
                  <a:ext cx="144720" cy="104400"/>
                </a:xfrm>
                <a:custGeom>
                  <a:avLst/>
                  <a:gdLst/>
                  <a:ahLst/>
                  <a:rect l="l" t="t" r="r" b="b"/>
                  <a:pathLst>
                    <a:path w="718" h="558">
                      <a:moveTo>
                        <a:pt x="6" y="548"/>
                      </a:moveTo>
                      <a:lnTo>
                        <a:pt x="28" y="558"/>
                      </a:lnTo>
                      <a:lnTo>
                        <a:pt x="42" y="557"/>
                      </a:lnTo>
                      <a:lnTo>
                        <a:pt x="57" y="551"/>
                      </a:lnTo>
                      <a:lnTo>
                        <a:pt x="72" y="545"/>
                      </a:lnTo>
                      <a:lnTo>
                        <a:pt x="90" y="535"/>
                      </a:lnTo>
                      <a:lnTo>
                        <a:pt x="129" y="512"/>
                      </a:lnTo>
                      <a:lnTo>
                        <a:pt x="176" y="483"/>
                      </a:lnTo>
                      <a:lnTo>
                        <a:pt x="229" y="447"/>
                      </a:lnTo>
                      <a:lnTo>
                        <a:pt x="285" y="407"/>
                      </a:lnTo>
                      <a:lnTo>
                        <a:pt x="344" y="363"/>
                      </a:lnTo>
                      <a:lnTo>
                        <a:pt x="402" y="317"/>
                      </a:lnTo>
                      <a:lnTo>
                        <a:pt x="461" y="271"/>
                      </a:lnTo>
                      <a:lnTo>
                        <a:pt x="517" y="225"/>
                      </a:lnTo>
                      <a:lnTo>
                        <a:pt x="570" y="180"/>
                      </a:lnTo>
                      <a:lnTo>
                        <a:pt x="616" y="138"/>
                      </a:lnTo>
                      <a:lnTo>
                        <a:pt x="637" y="118"/>
                      </a:lnTo>
                      <a:lnTo>
                        <a:pt x="655" y="100"/>
                      </a:lnTo>
                      <a:lnTo>
                        <a:pt x="672" y="83"/>
                      </a:lnTo>
                      <a:lnTo>
                        <a:pt x="686" y="67"/>
                      </a:lnTo>
                      <a:lnTo>
                        <a:pt x="699" y="51"/>
                      </a:lnTo>
                      <a:lnTo>
                        <a:pt x="708" y="37"/>
                      </a:lnTo>
                      <a:lnTo>
                        <a:pt x="715" y="22"/>
                      </a:lnTo>
                      <a:lnTo>
                        <a:pt x="718" y="3"/>
                      </a:lnTo>
                      <a:lnTo>
                        <a:pt x="664" y="3"/>
                      </a:lnTo>
                      <a:lnTo>
                        <a:pt x="664" y="0"/>
                      </a:lnTo>
                      <a:lnTo>
                        <a:pt x="662" y="6"/>
                      </a:lnTo>
                      <a:lnTo>
                        <a:pt x="655" y="15"/>
                      </a:lnTo>
                      <a:lnTo>
                        <a:pt x="646" y="28"/>
                      </a:lnTo>
                      <a:lnTo>
                        <a:pt x="633" y="41"/>
                      </a:lnTo>
                      <a:lnTo>
                        <a:pt x="617" y="57"/>
                      </a:lnTo>
                      <a:lnTo>
                        <a:pt x="600" y="76"/>
                      </a:lnTo>
                      <a:lnTo>
                        <a:pt x="580" y="94"/>
                      </a:lnTo>
                      <a:lnTo>
                        <a:pt x="534" y="136"/>
                      </a:lnTo>
                      <a:lnTo>
                        <a:pt x="484" y="179"/>
                      </a:lnTo>
                      <a:lnTo>
                        <a:pt x="429" y="224"/>
                      </a:lnTo>
                      <a:lnTo>
                        <a:pt x="370" y="270"/>
                      </a:lnTo>
                      <a:lnTo>
                        <a:pt x="312" y="316"/>
                      </a:lnTo>
                      <a:lnTo>
                        <a:pt x="254" y="358"/>
                      </a:lnTo>
                      <a:lnTo>
                        <a:pt x="199" y="398"/>
                      </a:lnTo>
                      <a:lnTo>
                        <a:pt x="147" y="433"/>
                      </a:lnTo>
                      <a:lnTo>
                        <a:pt x="103" y="462"/>
                      </a:lnTo>
                      <a:lnTo>
                        <a:pt x="65" y="485"/>
                      </a:lnTo>
                      <a:lnTo>
                        <a:pt x="50" y="492"/>
                      </a:lnTo>
                      <a:lnTo>
                        <a:pt x="37" y="497"/>
                      </a:lnTo>
                      <a:lnTo>
                        <a:pt x="29" y="500"/>
                      </a:lnTo>
                      <a:lnTo>
                        <a:pt x="28" y="501"/>
                      </a:lnTo>
                      <a:lnTo>
                        <a:pt x="49" y="511"/>
                      </a:lnTo>
                      <a:lnTo>
                        <a:pt x="28" y="501"/>
                      </a:lnTo>
                      <a:lnTo>
                        <a:pt x="21" y="501"/>
                      </a:lnTo>
                      <a:lnTo>
                        <a:pt x="15" y="503"/>
                      </a:lnTo>
                      <a:lnTo>
                        <a:pt x="11" y="506"/>
                      </a:lnTo>
                      <a:lnTo>
                        <a:pt x="7" y="510"/>
                      </a:lnTo>
                      <a:lnTo>
                        <a:pt x="4" y="514"/>
                      </a:lnTo>
                      <a:lnTo>
                        <a:pt x="2" y="519"/>
                      </a:lnTo>
                      <a:lnTo>
                        <a:pt x="0" y="524"/>
                      </a:lnTo>
                      <a:lnTo>
                        <a:pt x="0" y="530"/>
                      </a:lnTo>
                      <a:lnTo>
                        <a:pt x="0" y="535"/>
                      </a:lnTo>
                      <a:lnTo>
                        <a:pt x="2" y="540"/>
                      </a:lnTo>
                      <a:lnTo>
                        <a:pt x="4" y="546"/>
                      </a:lnTo>
                      <a:lnTo>
                        <a:pt x="7" y="550"/>
                      </a:lnTo>
                      <a:lnTo>
                        <a:pt x="11" y="554"/>
                      </a:lnTo>
                      <a:lnTo>
                        <a:pt x="15" y="556"/>
                      </a:lnTo>
                      <a:lnTo>
                        <a:pt x="21" y="558"/>
                      </a:lnTo>
                      <a:lnTo>
                        <a:pt x="28" y="558"/>
                      </a:lnTo>
                      <a:lnTo>
                        <a:pt x="6" y="54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8" name=""/>
                <p:cNvSpPr/>
                <p:nvPr/>
              </p:nvSpPr>
              <p:spPr>
                <a:xfrm>
                  <a:off x="3963960" y="4876200"/>
                  <a:ext cx="303840" cy="115920"/>
                </a:xfrm>
                <a:custGeom>
                  <a:avLst/>
                  <a:gdLst/>
                  <a:ahLst/>
                  <a:rect l="l" t="t" r="r" b="b"/>
                  <a:pathLst>
                    <a:path w="1500" h="616">
                      <a:moveTo>
                        <a:pt x="7" y="144"/>
                      </a:moveTo>
                      <a:lnTo>
                        <a:pt x="39" y="190"/>
                      </a:lnTo>
                      <a:lnTo>
                        <a:pt x="97" y="163"/>
                      </a:lnTo>
                      <a:lnTo>
                        <a:pt x="155" y="140"/>
                      </a:lnTo>
                      <a:lnTo>
                        <a:pt x="211" y="121"/>
                      </a:lnTo>
                      <a:lnTo>
                        <a:pt x="266" y="104"/>
                      </a:lnTo>
                      <a:lnTo>
                        <a:pt x="293" y="96"/>
                      </a:lnTo>
                      <a:lnTo>
                        <a:pt x="319" y="89"/>
                      </a:lnTo>
                      <a:lnTo>
                        <a:pt x="346" y="83"/>
                      </a:lnTo>
                      <a:lnTo>
                        <a:pt x="372" y="77"/>
                      </a:lnTo>
                      <a:lnTo>
                        <a:pt x="398" y="73"/>
                      </a:lnTo>
                      <a:lnTo>
                        <a:pt x="424" y="68"/>
                      </a:lnTo>
                      <a:lnTo>
                        <a:pt x="449" y="66"/>
                      </a:lnTo>
                      <a:lnTo>
                        <a:pt x="474" y="62"/>
                      </a:lnTo>
                      <a:lnTo>
                        <a:pt x="498" y="60"/>
                      </a:lnTo>
                      <a:lnTo>
                        <a:pt x="524" y="59"/>
                      </a:lnTo>
                      <a:lnTo>
                        <a:pt x="548" y="59"/>
                      </a:lnTo>
                      <a:lnTo>
                        <a:pt x="572" y="59"/>
                      </a:lnTo>
                      <a:lnTo>
                        <a:pt x="595" y="59"/>
                      </a:lnTo>
                      <a:lnTo>
                        <a:pt x="619" y="60"/>
                      </a:lnTo>
                      <a:lnTo>
                        <a:pt x="642" y="62"/>
                      </a:lnTo>
                      <a:lnTo>
                        <a:pt x="665" y="65"/>
                      </a:lnTo>
                      <a:lnTo>
                        <a:pt x="688" y="68"/>
                      </a:lnTo>
                      <a:lnTo>
                        <a:pt x="711" y="71"/>
                      </a:lnTo>
                      <a:lnTo>
                        <a:pt x="733" y="76"/>
                      </a:lnTo>
                      <a:lnTo>
                        <a:pt x="755" y="81"/>
                      </a:lnTo>
                      <a:lnTo>
                        <a:pt x="799" y="92"/>
                      </a:lnTo>
                      <a:lnTo>
                        <a:pt x="843" y="106"/>
                      </a:lnTo>
                      <a:lnTo>
                        <a:pt x="884" y="123"/>
                      </a:lnTo>
                      <a:lnTo>
                        <a:pt x="927" y="142"/>
                      </a:lnTo>
                      <a:lnTo>
                        <a:pt x="968" y="162"/>
                      </a:lnTo>
                      <a:lnTo>
                        <a:pt x="1008" y="185"/>
                      </a:lnTo>
                      <a:lnTo>
                        <a:pt x="1048" y="210"/>
                      </a:lnTo>
                      <a:lnTo>
                        <a:pt x="1087" y="237"/>
                      </a:lnTo>
                      <a:lnTo>
                        <a:pt x="1126" y="267"/>
                      </a:lnTo>
                      <a:lnTo>
                        <a:pt x="1164" y="298"/>
                      </a:lnTo>
                      <a:lnTo>
                        <a:pt x="1202" y="331"/>
                      </a:lnTo>
                      <a:lnTo>
                        <a:pt x="1240" y="367"/>
                      </a:lnTo>
                      <a:lnTo>
                        <a:pt x="1277" y="403"/>
                      </a:lnTo>
                      <a:lnTo>
                        <a:pt x="1314" y="443"/>
                      </a:lnTo>
                      <a:lnTo>
                        <a:pt x="1350" y="483"/>
                      </a:lnTo>
                      <a:lnTo>
                        <a:pt x="1386" y="525"/>
                      </a:lnTo>
                      <a:lnTo>
                        <a:pt x="1422" y="570"/>
                      </a:lnTo>
                      <a:lnTo>
                        <a:pt x="1457" y="616"/>
                      </a:lnTo>
                      <a:lnTo>
                        <a:pt x="1500" y="579"/>
                      </a:lnTo>
                      <a:lnTo>
                        <a:pt x="1464" y="532"/>
                      </a:lnTo>
                      <a:lnTo>
                        <a:pt x="1427" y="487"/>
                      </a:lnTo>
                      <a:lnTo>
                        <a:pt x="1391" y="444"/>
                      </a:lnTo>
                      <a:lnTo>
                        <a:pt x="1353" y="402"/>
                      </a:lnTo>
                      <a:lnTo>
                        <a:pt x="1315" y="362"/>
                      </a:lnTo>
                      <a:lnTo>
                        <a:pt x="1277" y="323"/>
                      </a:lnTo>
                      <a:lnTo>
                        <a:pt x="1238" y="286"/>
                      </a:lnTo>
                      <a:lnTo>
                        <a:pt x="1199" y="252"/>
                      </a:lnTo>
                      <a:lnTo>
                        <a:pt x="1159" y="220"/>
                      </a:lnTo>
                      <a:lnTo>
                        <a:pt x="1118" y="189"/>
                      </a:lnTo>
                      <a:lnTo>
                        <a:pt x="1077" y="161"/>
                      </a:lnTo>
                      <a:lnTo>
                        <a:pt x="1035" y="135"/>
                      </a:lnTo>
                      <a:lnTo>
                        <a:pt x="992" y="111"/>
                      </a:lnTo>
                      <a:lnTo>
                        <a:pt x="948" y="88"/>
                      </a:lnTo>
                      <a:lnTo>
                        <a:pt x="905" y="68"/>
                      </a:lnTo>
                      <a:lnTo>
                        <a:pt x="859" y="51"/>
                      </a:lnTo>
                      <a:lnTo>
                        <a:pt x="814" y="36"/>
                      </a:lnTo>
                      <a:lnTo>
                        <a:pt x="767" y="24"/>
                      </a:lnTo>
                      <a:lnTo>
                        <a:pt x="743" y="19"/>
                      </a:lnTo>
                      <a:lnTo>
                        <a:pt x="720" y="14"/>
                      </a:lnTo>
                      <a:lnTo>
                        <a:pt x="696" y="11"/>
                      </a:lnTo>
                      <a:lnTo>
                        <a:pt x="672" y="7"/>
                      </a:lnTo>
                      <a:lnTo>
                        <a:pt x="646" y="4"/>
                      </a:lnTo>
                      <a:lnTo>
                        <a:pt x="622" y="3"/>
                      </a:lnTo>
                      <a:lnTo>
                        <a:pt x="597" y="1"/>
                      </a:lnTo>
                      <a:lnTo>
                        <a:pt x="572" y="0"/>
                      </a:lnTo>
                      <a:lnTo>
                        <a:pt x="546" y="0"/>
                      </a:lnTo>
                      <a:lnTo>
                        <a:pt x="521" y="1"/>
                      </a:lnTo>
                      <a:lnTo>
                        <a:pt x="495" y="3"/>
                      </a:lnTo>
                      <a:lnTo>
                        <a:pt x="470" y="5"/>
                      </a:lnTo>
                      <a:lnTo>
                        <a:pt x="443" y="7"/>
                      </a:lnTo>
                      <a:lnTo>
                        <a:pt x="416" y="11"/>
                      </a:lnTo>
                      <a:lnTo>
                        <a:pt x="389" y="15"/>
                      </a:lnTo>
                      <a:lnTo>
                        <a:pt x="362" y="20"/>
                      </a:lnTo>
                      <a:lnTo>
                        <a:pt x="335" y="26"/>
                      </a:lnTo>
                      <a:lnTo>
                        <a:pt x="308" y="32"/>
                      </a:lnTo>
                      <a:lnTo>
                        <a:pt x="279" y="39"/>
                      </a:lnTo>
                      <a:lnTo>
                        <a:pt x="251" y="47"/>
                      </a:lnTo>
                      <a:lnTo>
                        <a:pt x="194" y="65"/>
                      </a:lnTo>
                      <a:lnTo>
                        <a:pt x="137" y="86"/>
                      </a:lnTo>
                      <a:lnTo>
                        <a:pt x="77" y="109"/>
                      </a:lnTo>
                      <a:lnTo>
                        <a:pt x="17" y="137"/>
                      </a:lnTo>
                      <a:lnTo>
                        <a:pt x="48" y="183"/>
                      </a:lnTo>
                      <a:lnTo>
                        <a:pt x="17" y="137"/>
                      </a:lnTo>
                      <a:lnTo>
                        <a:pt x="11" y="140"/>
                      </a:lnTo>
                      <a:lnTo>
                        <a:pt x="7" y="144"/>
                      </a:lnTo>
                      <a:lnTo>
                        <a:pt x="3" y="150"/>
                      </a:lnTo>
                      <a:lnTo>
                        <a:pt x="1" y="154"/>
                      </a:lnTo>
                      <a:lnTo>
                        <a:pt x="0" y="160"/>
                      </a:lnTo>
                      <a:lnTo>
                        <a:pt x="0" y="165"/>
                      </a:lnTo>
                      <a:lnTo>
                        <a:pt x="1" y="170"/>
                      </a:lnTo>
                      <a:lnTo>
                        <a:pt x="2" y="175"/>
                      </a:lnTo>
                      <a:lnTo>
                        <a:pt x="6" y="181"/>
                      </a:lnTo>
                      <a:lnTo>
                        <a:pt x="8" y="184"/>
                      </a:lnTo>
                      <a:lnTo>
                        <a:pt x="12" y="187"/>
                      </a:lnTo>
                      <a:lnTo>
                        <a:pt x="16" y="191"/>
                      </a:lnTo>
                      <a:lnTo>
                        <a:pt x="22" y="192"/>
                      </a:lnTo>
                      <a:lnTo>
                        <a:pt x="26" y="193"/>
                      </a:lnTo>
                      <a:lnTo>
                        <a:pt x="33" y="192"/>
                      </a:lnTo>
                      <a:lnTo>
                        <a:pt x="39" y="190"/>
                      </a:lnTo>
                      <a:lnTo>
                        <a:pt x="7" y="14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499" name=""/>
                <p:cNvSpPr/>
                <p:nvPr/>
              </p:nvSpPr>
              <p:spPr>
                <a:xfrm>
                  <a:off x="3396600" y="4851360"/>
                  <a:ext cx="1020240" cy="226080"/>
                </a:xfrm>
                <a:custGeom>
                  <a:avLst/>
                  <a:gdLst/>
                  <a:ahLst/>
                  <a:rect l="l" t="t" r="r" b="b"/>
                  <a:pathLst>
                    <a:path w="5046" h="1196">
                      <a:moveTo>
                        <a:pt x="45" y="604"/>
                      </a:moveTo>
                      <a:lnTo>
                        <a:pt x="36" y="617"/>
                      </a:lnTo>
                      <a:lnTo>
                        <a:pt x="28" y="631"/>
                      </a:lnTo>
                      <a:lnTo>
                        <a:pt x="21" y="644"/>
                      </a:lnTo>
                      <a:lnTo>
                        <a:pt x="14" y="659"/>
                      </a:lnTo>
                      <a:lnTo>
                        <a:pt x="9" y="674"/>
                      </a:lnTo>
                      <a:lnTo>
                        <a:pt x="5" y="690"/>
                      </a:lnTo>
                      <a:lnTo>
                        <a:pt x="2" y="707"/>
                      </a:lnTo>
                      <a:lnTo>
                        <a:pt x="0" y="723"/>
                      </a:lnTo>
                      <a:lnTo>
                        <a:pt x="0" y="740"/>
                      </a:lnTo>
                      <a:lnTo>
                        <a:pt x="2" y="756"/>
                      </a:lnTo>
                      <a:lnTo>
                        <a:pt x="5" y="773"/>
                      </a:lnTo>
                      <a:lnTo>
                        <a:pt x="10" y="789"/>
                      </a:lnTo>
                      <a:lnTo>
                        <a:pt x="17" y="806"/>
                      </a:lnTo>
                      <a:lnTo>
                        <a:pt x="25" y="824"/>
                      </a:lnTo>
                      <a:lnTo>
                        <a:pt x="37" y="840"/>
                      </a:lnTo>
                      <a:lnTo>
                        <a:pt x="49" y="856"/>
                      </a:lnTo>
                      <a:lnTo>
                        <a:pt x="110" y="887"/>
                      </a:lnTo>
                      <a:lnTo>
                        <a:pt x="172" y="918"/>
                      </a:lnTo>
                      <a:lnTo>
                        <a:pt x="234" y="945"/>
                      </a:lnTo>
                      <a:lnTo>
                        <a:pt x="296" y="972"/>
                      </a:lnTo>
                      <a:lnTo>
                        <a:pt x="359" y="996"/>
                      </a:lnTo>
                      <a:lnTo>
                        <a:pt x="421" y="1018"/>
                      </a:lnTo>
                      <a:lnTo>
                        <a:pt x="484" y="1039"/>
                      </a:lnTo>
                      <a:lnTo>
                        <a:pt x="546" y="1057"/>
                      </a:lnTo>
                      <a:lnTo>
                        <a:pt x="608" y="1073"/>
                      </a:lnTo>
                      <a:lnTo>
                        <a:pt x="670" y="1087"/>
                      </a:lnTo>
                      <a:lnTo>
                        <a:pt x="732" y="1099"/>
                      </a:lnTo>
                      <a:lnTo>
                        <a:pt x="792" y="1110"/>
                      </a:lnTo>
                      <a:lnTo>
                        <a:pt x="854" y="1118"/>
                      </a:lnTo>
                      <a:lnTo>
                        <a:pt x="914" y="1124"/>
                      </a:lnTo>
                      <a:lnTo>
                        <a:pt x="974" y="1128"/>
                      </a:lnTo>
                      <a:lnTo>
                        <a:pt x="1034" y="1130"/>
                      </a:lnTo>
                      <a:lnTo>
                        <a:pt x="1092" y="1130"/>
                      </a:lnTo>
                      <a:lnTo>
                        <a:pt x="1151" y="1128"/>
                      </a:lnTo>
                      <a:lnTo>
                        <a:pt x="1208" y="1125"/>
                      </a:lnTo>
                      <a:lnTo>
                        <a:pt x="1264" y="1118"/>
                      </a:lnTo>
                      <a:lnTo>
                        <a:pt x="1320" y="1110"/>
                      </a:lnTo>
                      <a:lnTo>
                        <a:pt x="1375" y="1099"/>
                      </a:lnTo>
                      <a:lnTo>
                        <a:pt x="1429" y="1088"/>
                      </a:lnTo>
                      <a:lnTo>
                        <a:pt x="1480" y="1073"/>
                      </a:lnTo>
                      <a:lnTo>
                        <a:pt x="1532" y="1057"/>
                      </a:lnTo>
                      <a:lnTo>
                        <a:pt x="1583" y="1037"/>
                      </a:lnTo>
                      <a:lnTo>
                        <a:pt x="1631" y="1017"/>
                      </a:lnTo>
                      <a:lnTo>
                        <a:pt x="1679" y="994"/>
                      </a:lnTo>
                      <a:lnTo>
                        <a:pt x="1725" y="970"/>
                      </a:lnTo>
                      <a:lnTo>
                        <a:pt x="1770" y="942"/>
                      </a:lnTo>
                      <a:lnTo>
                        <a:pt x="1813" y="913"/>
                      </a:lnTo>
                      <a:lnTo>
                        <a:pt x="1855" y="881"/>
                      </a:lnTo>
                      <a:lnTo>
                        <a:pt x="1858" y="879"/>
                      </a:lnTo>
                      <a:lnTo>
                        <a:pt x="1863" y="874"/>
                      </a:lnTo>
                      <a:lnTo>
                        <a:pt x="1866" y="870"/>
                      </a:lnTo>
                      <a:lnTo>
                        <a:pt x="1870" y="864"/>
                      </a:lnTo>
                      <a:lnTo>
                        <a:pt x="1875" y="850"/>
                      </a:lnTo>
                      <a:lnTo>
                        <a:pt x="1881" y="834"/>
                      </a:lnTo>
                      <a:lnTo>
                        <a:pt x="1886" y="816"/>
                      </a:lnTo>
                      <a:lnTo>
                        <a:pt x="1889" y="795"/>
                      </a:lnTo>
                      <a:lnTo>
                        <a:pt x="1891" y="774"/>
                      </a:lnTo>
                      <a:lnTo>
                        <a:pt x="1893" y="752"/>
                      </a:lnTo>
                      <a:lnTo>
                        <a:pt x="1893" y="731"/>
                      </a:lnTo>
                      <a:lnTo>
                        <a:pt x="1890" y="709"/>
                      </a:lnTo>
                      <a:lnTo>
                        <a:pt x="1887" y="688"/>
                      </a:lnTo>
                      <a:lnTo>
                        <a:pt x="1882" y="669"/>
                      </a:lnTo>
                      <a:lnTo>
                        <a:pt x="1879" y="659"/>
                      </a:lnTo>
                      <a:lnTo>
                        <a:pt x="1875" y="651"/>
                      </a:lnTo>
                      <a:lnTo>
                        <a:pt x="1871" y="643"/>
                      </a:lnTo>
                      <a:lnTo>
                        <a:pt x="1866" y="636"/>
                      </a:lnTo>
                      <a:lnTo>
                        <a:pt x="1862" y="630"/>
                      </a:lnTo>
                      <a:lnTo>
                        <a:pt x="1856" y="624"/>
                      </a:lnTo>
                      <a:lnTo>
                        <a:pt x="1850" y="619"/>
                      </a:lnTo>
                      <a:lnTo>
                        <a:pt x="1843" y="616"/>
                      </a:lnTo>
                      <a:lnTo>
                        <a:pt x="1786" y="647"/>
                      </a:lnTo>
                      <a:lnTo>
                        <a:pt x="1727" y="674"/>
                      </a:lnTo>
                      <a:lnTo>
                        <a:pt x="1670" y="701"/>
                      </a:lnTo>
                      <a:lnTo>
                        <a:pt x="1611" y="724"/>
                      </a:lnTo>
                      <a:lnTo>
                        <a:pt x="1553" y="744"/>
                      </a:lnTo>
                      <a:lnTo>
                        <a:pt x="1494" y="762"/>
                      </a:lnTo>
                      <a:lnTo>
                        <a:pt x="1436" y="778"/>
                      </a:lnTo>
                      <a:lnTo>
                        <a:pt x="1377" y="792"/>
                      </a:lnTo>
                      <a:lnTo>
                        <a:pt x="1318" y="803"/>
                      </a:lnTo>
                      <a:lnTo>
                        <a:pt x="1260" y="812"/>
                      </a:lnTo>
                      <a:lnTo>
                        <a:pt x="1202" y="819"/>
                      </a:lnTo>
                      <a:lnTo>
                        <a:pt x="1144" y="825"/>
                      </a:lnTo>
                      <a:lnTo>
                        <a:pt x="1085" y="828"/>
                      </a:lnTo>
                      <a:lnTo>
                        <a:pt x="1027" y="829"/>
                      </a:lnTo>
                      <a:lnTo>
                        <a:pt x="969" y="828"/>
                      </a:lnTo>
                      <a:lnTo>
                        <a:pt x="912" y="826"/>
                      </a:lnTo>
                      <a:lnTo>
                        <a:pt x="854" y="823"/>
                      </a:lnTo>
                      <a:lnTo>
                        <a:pt x="797" y="817"/>
                      </a:lnTo>
                      <a:lnTo>
                        <a:pt x="740" y="810"/>
                      </a:lnTo>
                      <a:lnTo>
                        <a:pt x="683" y="801"/>
                      </a:lnTo>
                      <a:lnTo>
                        <a:pt x="627" y="792"/>
                      </a:lnTo>
                      <a:lnTo>
                        <a:pt x="572" y="780"/>
                      </a:lnTo>
                      <a:lnTo>
                        <a:pt x="517" y="766"/>
                      </a:lnTo>
                      <a:lnTo>
                        <a:pt x="462" y="752"/>
                      </a:lnTo>
                      <a:lnTo>
                        <a:pt x="408" y="738"/>
                      </a:lnTo>
                      <a:lnTo>
                        <a:pt x="354" y="721"/>
                      </a:lnTo>
                      <a:lnTo>
                        <a:pt x="301" y="704"/>
                      </a:lnTo>
                      <a:lnTo>
                        <a:pt x="248" y="686"/>
                      </a:lnTo>
                      <a:lnTo>
                        <a:pt x="196" y="666"/>
                      </a:lnTo>
                      <a:lnTo>
                        <a:pt x="145" y="647"/>
                      </a:lnTo>
                      <a:lnTo>
                        <a:pt x="94" y="626"/>
                      </a:lnTo>
                      <a:lnTo>
                        <a:pt x="45" y="604"/>
                      </a:lnTo>
                      <a:close/>
                      <a:moveTo>
                        <a:pt x="2613" y="785"/>
                      </a:moveTo>
                      <a:lnTo>
                        <a:pt x="2601" y="798"/>
                      </a:lnTo>
                      <a:lnTo>
                        <a:pt x="2591" y="813"/>
                      </a:lnTo>
                      <a:lnTo>
                        <a:pt x="2582" y="831"/>
                      </a:lnTo>
                      <a:lnTo>
                        <a:pt x="2575" y="849"/>
                      </a:lnTo>
                      <a:lnTo>
                        <a:pt x="2568" y="867"/>
                      </a:lnTo>
                      <a:lnTo>
                        <a:pt x="2563" y="887"/>
                      </a:lnTo>
                      <a:lnTo>
                        <a:pt x="2560" y="906"/>
                      </a:lnTo>
                      <a:lnTo>
                        <a:pt x="2559" y="927"/>
                      </a:lnTo>
                      <a:lnTo>
                        <a:pt x="2558" y="948"/>
                      </a:lnTo>
                      <a:lnTo>
                        <a:pt x="2559" y="967"/>
                      </a:lnTo>
                      <a:lnTo>
                        <a:pt x="2561" y="988"/>
                      </a:lnTo>
                      <a:lnTo>
                        <a:pt x="2564" y="1008"/>
                      </a:lnTo>
                      <a:lnTo>
                        <a:pt x="2569" y="1026"/>
                      </a:lnTo>
                      <a:lnTo>
                        <a:pt x="2576" y="1044"/>
                      </a:lnTo>
                      <a:lnTo>
                        <a:pt x="2584" y="1062"/>
                      </a:lnTo>
                      <a:lnTo>
                        <a:pt x="2593" y="1078"/>
                      </a:lnTo>
                      <a:lnTo>
                        <a:pt x="2618" y="1087"/>
                      </a:lnTo>
                      <a:lnTo>
                        <a:pt x="2646" y="1097"/>
                      </a:lnTo>
                      <a:lnTo>
                        <a:pt x="2675" y="1106"/>
                      </a:lnTo>
                      <a:lnTo>
                        <a:pt x="2706" y="1116"/>
                      </a:lnTo>
                      <a:lnTo>
                        <a:pt x="2738" y="1124"/>
                      </a:lnTo>
                      <a:lnTo>
                        <a:pt x="2771" y="1132"/>
                      </a:lnTo>
                      <a:lnTo>
                        <a:pt x="2807" y="1140"/>
                      </a:lnTo>
                      <a:lnTo>
                        <a:pt x="2843" y="1148"/>
                      </a:lnTo>
                      <a:lnTo>
                        <a:pt x="2881" y="1155"/>
                      </a:lnTo>
                      <a:lnTo>
                        <a:pt x="2920" y="1161"/>
                      </a:lnTo>
                      <a:lnTo>
                        <a:pt x="2962" y="1167"/>
                      </a:lnTo>
                      <a:lnTo>
                        <a:pt x="3003" y="1173"/>
                      </a:lnTo>
                      <a:lnTo>
                        <a:pt x="3044" y="1178"/>
                      </a:lnTo>
                      <a:lnTo>
                        <a:pt x="3088" y="1182"/>
                      </a:lnTo>
                      <a:lnTo>
                        <a:pt x="3132" y="1186"/>
                      </a:lnTo>
                      <a:lnTo>
                        <a:pt x="3176" y="1189"/>
                      </a:lnTo>
                      <a:lnTo>
                        <a:pt x="3222" y="1191"/>
                      </a:lnTo>
                      <a:lnTo>
                        <a:pt x="3267" y="1194"/>
                      </a:lnTo>
                      <a:lnTo>
                        <a:pt x="3314" y="1195"/>
                      </a:lnTo>
                      <a:lnTo>
                        <a:pt x="3360" y="1196"/>
                      </a:lnTo>
                      <a:lnTo>
                        <a:pt x="3407" y="1196"/>
                      </a:lnTo>
                      <a:lnTo>
                        <a:pt x="3454" y="1195"/>
                      </a:lnTo>
                      <a:lnTo>
                        <a:pt x="3501" y="1194"/>
                      </a:lnTo>
                      <a:lnTo>
                        <a:pt x="3549" y="1191"/>
                      </a:lnTo>
                      <a:lnTo>
                        <a:pt x="3596" y="1188"/>
                      </a:lnTo>
                      <a:lnTo>
                        <a:pt x="3643" y="1183"/>
                      </a:lnTo>
                      <a:lnTo>
                        <a:pt x="3690" y="1179"/>
                      </a:lnTo>
                      <a:lnTo>
                        <a:pt x="3736" y="1173"/>
                      </a:lnTo>
                      <a:lnTo>
                        <a:pt x="3783" y="1166"/>
                      </a:lnTo>
                      <a:lnTo>
                        <a:pt x="3828" y="1159"/>
                      </a:lnTo>
                      <a:lnTo>
                        <a:pt x="3872" y="1150"/>
                      </a:lnTo>
                      <a:lnTo>
                        <a:pt x="3917" y="1141"/>
                      </a:lnTo>
                      <a:lnTo>
                        <a:pt x="3939" y="1135"/>
                      </a:lnTo>
                      <a:lnTo>
                        <a:pt x="3964" y="1127"/>
                      </a:lnTo>
                      <a:lnTo>
                        <a:pt x="3993" y="1116"/>
                      </a:lnTo>
                      <a:lnTo>
                        <a:pt x="4023" y="1103"/>
                      </a:lnTo>
                      <a:lnTo>
                        <a:pt x="4056" y="1088"/>
                      </a:lnTo>
                      <a:lnTo>
                        <a:pt x="4092" y="1071"/>
                      </a:lnTo>
                      <a:lnTo>
                        <a:pt x="4128" y="1051"/>
                      </a:lnTo>
                      <a:lnTo>
                        <a:pt x="4168" y="1031"/>
                      </a:lnTo>
                      <a:lnTo>
                        <a:pt x="4250" y="985"/>
                      </a:lnTo>
                      <a:lnTo>
                        <a:pt x="4338" y="935"/>
                      </a:lnTo>
                      <a:lnTo>
                        <a:pt x="4426" y="881"/>
                      </a:lnTo>
                      <a:lnTo>
                        <a:pt x="4516" y="825"/>
                      </a:lnTo>
                      <a:lnTo>
                        <a:pt x="4603" y="769"/>
                      </a:lnTo>
                      <a:lnTo>
                        <a:pt x="4687" y="712"/>
                      </a:lnTo>
                      <a:lnTo>
                        <a:pt x="4766" y="657"/>
                      </a:lnTo>
                      <a:lnTo>
                        <a:pt x="4838" y="605"/>
                      </a:lnTo>
                      <a:lnTo>
                        <a:pt x="4900" y="558"/>
                      </a:lnTo>
                      <a:lnTo>
                        <a:pt x="4953" y="517"/>
                      </a:lnTo>
                      <a:lnTo>
                        <a:pt x="4974" y="500"/>
                      </a:lnTo>
                      <a:lnTo>
                        <a:pt x="4992" y="484"/>
                      </a:lnTo>
                      <a:lnTo>
                        <a:pt x="5006" y="469"/>
                      </a:lnTo>
                      <a:lnTo>
                        <a:pt x="5016" y="457"/>
                      </a:lnTo>
                      <a:lnTo>
                        <a:pt x="5022" y="451"/>
                      </a:lnTo>
                      <a:lnTo>
                        <a:pt x="5028" y="445"/>
                      </a:lnTo>
                      <a:lnTo>
                        <a:pt x="5032" y="438"/>
                      </a:lnTo>
                      <a:lnTo>
                        <a:pt x="5036" y="431"/>
                      </a:lnTo>
                      <a:lnTo>
                        <a:pt x="5041" y="415"/>
                      </a:lnTo>
                      <a:lnTo>
                        <a:pt x="5045" y="399"/>
                      </a:lnTo>
                      <a:lnTo>
                        <a:pt x="5046" y="381"/>
                      </a:lnTo>
                      <a:lnTo>
                        <a:pt x="5045" y="364"/>
                      </a:lnTo>
                      <a:lnTo>
                        <a:pt x="5043" y="346"/>
                      </a:lnTo>
                      <a:lnTo>
                        <a:pt x="5038" y="329"/>
                      </a:lnTo>
                      <a:lnTo>
                        <a:pt x="5032" y="311"/>
                      </a:lnTo>
                      <a:lnTo>
                        <a:pt x="5025" y="295"/>
                      </a:lnTo>
                      <a:lnTo>
                        <a:pt x="5016" y="279"/>
                      </a:lnTo>
                      <a:lnTo>
                        <a:pt x="5007" y="265"/>
                      </a:lnTo>
                      <a:lnTo>
                        <a:pt x="4997" y="253"/>
                      </a:lnTo>
                      <a:lnTo>
                        <a:pt x="4986" y="241"/>
                      </a:lnTo>
                      <a:lnTo>
                        <a:pt x="4975" y="233"/>
                      </a:lnTo>
                      <a:lnTo>
                        <a:pt x="4963" y="227"/>
                      </a:lnTo>
                      <a:lnTo>
                        <a:pt x="4935" y="255"/>
                      </a:lnTo>
                      <a:lnTo>
                        <a:pt x="4900" y="287"/>
                      </a:lnTo>
                      <a:lnTo>
                        <a:pt x="4861" y="322"/>
                      </a:lnTo>
                      <a:lnTo>
                        <a:pt x="4819" y="357"/>
                      </a:lnTo>
                      <a:lnTo>
                        <a:pt x="4772" y="395"/>
                      </a:lnTo>
                      <a:lnTo>
                        <a:pt x="4722" y="434"/>
                      </a:lnTo>
                      <a:lnTo>
                        <a:pt x="4672" y="473"/>
                      </a:lnTo>
                      <a:lnTo>
                        <a:pt x="4620" y="511"/>
                      </a:lnTo>
                      <a:lnTo>
                        <a:pt x="4567" y="549"/>
                      </a:lnTo>
                      <a:lnTo>
                        <a:pt x="4517" y="585"/>
                      </a:lnTo>
                      <a:lnTo>
                        <a:pt x="4466" y="618"/>
                      </a:lnTo>
                      <a:lnTo>
                        <a:pt x="4419" y="649"/>
                      </a:lnTo>
                      <a:lnTo>
                        <a:pt x="4374" y="677"/>
                      </a:lnTo>
                      <a:lnTo>
                        <a:pt x="4334" y="700"/>
                      </a:lnTo>
                      <a:lnTo>
                        <a:pt x="4298" y="718"/>
                      </a:lnTo>
                      <a:lnTo>
                        <a:pt x="4269" y="731"/>
                      </a:lnTo>
                      <a:lnTo>
                        <a:pt x="4258" y="742"/>
                      </a:lnTo>
                      <a:lnTo>
                        <a:pt x="4246" y="754"/>
                      </a:lnTo>
                      <a:lnTo>
                        <a:pt x="4233" y="764"/>
                      </a:lnTo>
                      <a:lnTo>
                        <a:pt x="4219" y="774"/>
                      </a:lnTo>
                      <a:lnTo>
                        <a:pt x="4204" y="785"/>
                      </a:lnTo>
                      <a:lnTo>
                        <a:pt x="4189" y="794"/>
                      </a:lnTo>
                      <a:lnTo>
                        <a:pt x="4172" y="803"/>
                      </a:lnTo>
                      <a:lnTo>
                        <a:pt x="4155" y="811"/>
                      </a:lnTo>
                      <a:lnTo>
                        <a:pt x="4117" y="828"/>
                      </a:lnTo>
                      <a:lnTo>
                        <a:pt x="4077" y="843"/>
                      </a:lnTo>
                      <a:lnTo>
                        <a:pt x="4033" y="856"/>
                      </a:lnTo>
                      <a:lnTo>
                        <a:pt x="3987" y="869"/>
                      </a:lnTo>
                      <a:lnTo>
                        <a:pt x="3940" y="879"/>
                      </a:lnTo>
                      <a:lnTo>
                        <a:pt x="3890" y="888"/>
                      </a:lnTo>
                      <a:lnTo>
                        <a:pt x="3838" y="896"/>
                      </a:lnTo>
                      <a:lnTo>
                        <a:pt x="3785" y="903"/>
                      </a:lnTo>
                      <a:lnTo>
                        <a:pt x="3731" y="909"/>
                      </a:lnTo>
                      <a:lnTo>
                        <a:pt x="3677" y="913"/>
                      </a:lnTo>
                      <a:lnTo>
                        <a:pt x="3621" y="917"/>
                      </a:lnTo>
                      <a:lnTo>
                        <a:pt x="3566" y="919"/>
                      </a:lnTo>
                      <a:lnTo>
                        <a:pt x="3487" y="901"/>
                      </a:lnTo>
                      <a:lnTo>
                        <a:pt x="3390" y="879"/>
                      </a:lnTo>
                      <a:lnTo>
                        <a:pt x="3335" y="866"/>
                      </a:lnTo>
                      <a:lnTo>
                        <a:pt x="3278" y="855"/>
                      </a:lnTo>
                      <a:lnTo>
                        <a:pt x="3218" y="842"/>
                      </a:lnTo>
                      <a:lnTo>
                        <a:pt x="3155" y="831"/>
                      </a:lnTo>
                      <a:lnTo>
                        <a:pt x="3090" y="819"/>
                      </a:lnTo>
                      <a:lnTo>
                        <a:pt x="3024" y="809"/>
                      </a:lnTo>
                      <a:lnTo>
                        <a:pt x="2956" y="800"/>
                      </a:lnTo>
                      <a:lnTo>
                        <a:pt x="2887" y="793"/>
                      </a:lnTo>
                      <a:lnTo>
                        <a:pt x="2818" y="787"/>
                      </a:lnTo>
                      <a:lnTo>
                        <a:pt x="2749" y="783"/>
                      </a:lnTo>
                      <a:lnTo>
                        <a:pt x="2715" y="782"/>
                      </a:lnTo>
                      <a:lnTo>
                        <a:pt x="2680" y="782"/>
                      </a:lnTo>
                      <a:lnTo>
                        <a:pt x="2646" y="782"/>
                      </a:lnTo>
                      <a:lnTo>
                        <a:pt x="2613" y="785"/>
                      </a:lnTo>
                      <a:close/>
                      <a:moveTo>
                        <a:pt x="2601" y="785"/>
                      </a:moveTo>
                      <a:lnTo>
                        <a:pt x="2660" y="785"/>
                      </a:lnTo>
                      <a:lnTo>
                        <a:pt x="2718" y="786"/>
                      </a:lnTo>
                      <a:lnTo>
                        <a:pt x="2776" y="788"/>
                      </a:lnTo>
                      <a:lnTo>
                        <a:pt x="2834" y="792"/>
                      </a:lnTo>
                      <a:lnTo>
                        <a:pt x="2892" y="795"/>
                      </a:lnTo>
                      <a:lnTo>
                        <a:pt x="2950" y="801"/>
                      </a:lnTo>
                      <a:lnTo>
                        <a:pt x="3008" y="806"/>
                      </a:lnTo>
                      <a:lnTo>
                        <a:pt x="3065" y="815"/>
                      </a:lnTo>
                      <a:lnTo>
                        <a:pt x="3123" y="823"/>
                      </a:lnTo>
                      <a:lnTo>
                        <a:pt x="3180" y="833"/>
                      </a:lnTo>
                      <a:lnTo>
                        <a:pt x="3237" y="843"/>
                      </a:lnTo>
                      <a:lnTo>
                        <a:pt x="3296" y="856"/>
                      </a:lnTo>
                      <a:lnTo>
                        <a:pt x="3353" y="870"/>
                      </a:lnTo>
                      <a:lnTo>
                        <a:pt x="3412" y="885"/>
                      </a:lnTo>
                      <a:lnTo>
                        <a:pt x="3470" y="901"/>
                      </a:lnTo>
                      <a:lnTo>
                        <a:pt x="3529" y="919"/>
                      </a:lnTo>
                      <a:lnTo>
                        <a:pt x="3586" y="918"/>
                      </a:lnTo>
                      <a:lnTo>
                        <a:pt x="3644" y="917"/>
                      </a:lnTo>
                      <a:lnTo>
                        <a:pt x="3698" y="913"/>
                      </a:lnTo>
                      <a:lnTo>
                        <a:pt x="3751" y="909"/>
                      </a:lnTo>
                      <a:lnTo>
                        <a:pt x="3802" y="903"/>
                      </a:lnTo>
                      <a:lnTo>
                        <a:pt x="3853" y="896"/>
                      </a:lnTo>
                      <a:lnTo>
                        <a:pt x="3901" y="888"/>
                      </a:lnTo>
                      <a:lnTo>
                        <a:pt x="3948" y="877"/>
                      </a:lnTo>
                      <a:lnTo>
                        <a:pt x="3994" y="865"/>
                      </a:lnTo>
                      <a:lnTo>
                        <a:pt x="4039" y="851"/>
                      </a:lnTo>
                      <a:lnTo>
                        <a:pt x="4083" y="835"/>
                      </a:lnTo>
                      <a:lnTo>
                        <a:pt x="4125" y="817"/>
                      </a:lnTo>
                      <a:lnTo>
                        <a:pt x="4166" y="796"/>
                      </a:lnTo>
                      <a:lnTo>
                        <a:pt x="4208" y="774"/>
                      </a:lnTo>
                      <a:lnTo>
                        <a:pt x="4247" y="750"/>
                      </a:lnTo>
                      <a:lnTo>
                        <a:pt x="4287" y="723"/>
                      </a:lnTo>
                      <a:lnTo>
                        <a:pt x="4240" y="676"/>
                      </a:lnTo>
                      <a:lnTo>
                        <a:pt x="4196" y="627"/>
                      </a:lnTo>
                      <a:lnTo>
                        <a:pt x="4154" y="580"/>
                      </a:lnTo>
                      <a:lnTo>
                        <a:pt x="4114" y="534"/>
                      </a:lnTo>
                      <a:lnTo>
                        <a:pt x="4073" y="489"/>
                      </a:lnTo>
                      <a:lnTo>
                        <a:pt x="4032" y="446"/>
                      </a:lnTo>
                      <a:lnTo>
                        <a:pt x="4011" y="424"/>
                      </a:lnTo>
                      <a:lnTo>
                        <a:pt x="3990" y="403"/>
                      </a:lnTo>
                      <a:lnTo>
                        <a:pt x="3968" y="384"/>
                      </a:lnTo>
                      <a:lnTo>
                        <a:pt x="3945" y="364"/>
                      </a:lnTo>
                      <a:lnTo>
                        <a:pt x="3921" y="345"/>
                      </a:lnTo>
                      <a:lnTo>
                        <a:pt x="3897" y="326"/>
                      </a:lnTo>
                      <a:lnTo>
                        <a:pt x="3870" y="309"/>
                      </a:lnTo>
                      <a:lnTo>
                        <a:pt x="3844" y="292"/>
                      </a:lnTo>
                      <a:lnTo>
                        <a:pt x="3815" y="276"/>
                      </a:lnTo>
                      <a:lnTo>
                        <a:pt x="3785" y="260"/>
                      </a:lnTo>
                      <a:lnTo>
                        <a:pt x="3754" y="245"/>
                      </a:lnTo>
                      <a:lnTo>
                        <a:pt x="3721" y="231"/>
                      </a:lnTo>
                      <a:lnTo>
                        <a:pt x="3686" y="218"/>
                      </a:lnTo>
                      <a:lnTo>
                        <a:pt x="3650" y="206"/>
                      </a:lnTo>
                      <a:lnTo>
                        <a:pt x="3612" y="195"/>
                      </a:lnTo>
                      <a:lnTo>
                        <a:pt x="3570" y="185"/>
                      </a:lnTo>
                      <a:lnTo>
                        <a:pt x="3528" y="176"/>
                      </a:lnTo>
                      <a:lnTo>
                        <a:pt x="3483" y="168"/>
                      </a:lnTo>
                      <a:lnTo>
                        <a:pt x="3435" y="161"/>
                      </a:lnTo>
                      <a:lnTo>
                        <a:pt x="3384" y="156"/>
                      </a:lnTo>
                      <a:lnTo>
                        <a:pt x="3327" y="156"/>
                      </a:lnTo>
                      <a:lnTo>
                        <a:pt x="3273" y="160"/>
                      </a:lnTo>
                      <a:lnTo>
                        <a:pt x="3222" y="163"/>
                      </a:lnTo>
                      <a:lnTo>
                        <a:pt x="3174" y="169"/>
                      </a:lnTo>
                      <a:lnTo>
                        <a:pt x="3129" y="177"/>
                      </a:lnTo>
                      <a:lnTo>
                        <a:pt x="3087" y="186"/>
                      </a:lnTo>
                      <a:lnTo>
                        <a:pt x="3048" y="196"/>
                      </a:lnTo>
                      <a:lnTo>
                        <a:pt x="3010" y="208"/>
                      </a:lnTo>
                      <a:lnTo>
                        <a:pt x="2976" y="221"/>
                      </a:lnTo>
                      <a:lnTo>
                        <a:pt x="2943" y="235"/>
                      </a:lnTo>
                      <a:lnTo>
                        <a:pt x="2914" y="252"/>
                      </a:lnTo>
                      <a:lnTo>
                        <a:pt x="2886" y="269"/>
                      </a:lnTo>
                      <a:lnTo>
                        <a:pt x="2861" y="286"/>
                      </a:lnTo>
                      <a:lnTo>
                        <a:pt x="2837" y="306"/>
                      </a:lnTo>
                      <a:lnTo>
                        <a:pt x="2815" y="326"/>
                      </a:lnTo>
                      <a:lnTo>
                        <a:pt x="2794" y="347"/>
                      </a:lnTo>
                      <a:lnTo>
                        <a:pt x="2776" y="370"/>
                      </a:lnTo>
                      <a:lnTo>
                        <a:pt x="2758" y="393"/>
                      </a:lnTo>
                      <a:lnTo>
                        <a:pt x="2741" y="417"/>
                      </a:lnTo>
                      <a:lnTo>
                        <a:pt x="2727" y="441"/>
                      </a:lnTo>
                      <a:lnTo>
                        <a:pt x="2713" y="468"/>
                      </a:lnTo>
                      <a:lnTo>
                        <a:pt x="2700" y="494"/>
                      </a:lnTo>
                      <a:lnTo>
                        <a:pt x="2688" y="520"/>
                      </a:lnTo>
                      <a:lnTo>
                        <a:pt x="2677" y="548"/>
                      </a:lnTo>
                      <a:lnTo>
                        <a:pt x="2656" y="604"/>
                      </a:lnTo>
                      <a:lnTo>
                        <a:pt x="2638" y="663"/>
                      </a:lnTo>
                      <a:lnTo>
                        <a:pt x="2620" y="724"/>
                      </a:lnTo>
                      <a:lnTo>
                        <a:pt x="2601" y="785"/>
                      </a:lnTo>
                      <a:close/>
                      <a:moveTo>
                        <a:pt x="39" y="608"/>
                      </a:moveTo>
                      <a:lnTo>
                        <a:pt x="100" y="633"/>
                      </a:lnTo>
                      <a:lnTo>
                        <a:pt x="161" y="656"/>
                      </a:lnTo>
                      <a:lnTo>
                        <a:pt x="222" y="678"/>
                      </a:lnTo>
                      <a:lnTo>
                        <a:pt x="283" y="698"/>
                      </a:lnTo>
                      <a:lnTo>
                        <a:pt x="343" y="718"/>
                      </a:lnTo>
                      <a:lnTo>
                        <a:pt x="404" y="735"/>
                      </a:lnTo>
                      <a:lnTo>
                        <a:pt x="464" y="751"/>
                      </a:lnTo>
                      <a:lnTo>
                        <a:pt x="524" y="766"/>
                      </a:lnTo>
                      <a:lnTo>
                        <a:pt x="585" y="779"/>
                      </a:lnTo>
                      <a:lnTo>
                        <a:pt x="643" y="790"/>
                      </a:lnTo>
                      <a:lnTo>
                        <a:pt x="703" y="801"/>
                      </a:lnTo>
                      <a:lnTo>
                        <a:pt x="763" y="809"/>
                      </a:lnTo>
                      <a:lnTo>
                        <a:pt x="821" y="816"/>
                      </a:lnTo>
                      <a:lnTo>
                        <a:pt x="880" y="820"/>
                      </a:lnTo>
                      <a:lnTo>
                        <a:pt x="938" y="824"/>
                      </a:lnTo>
                      <a:lnTo>
                        <a:pt x="996" y="825"/>
                      </a:lnTo>
                      <a:lnTo>
                        <a:pt x="1053" y="825"/>
                      </a:lnTo>
                      <a:lnTo>
                        <a:pt x="1111" y="824"/>
                      </a:lnTo>
                      <a:lnTo>
                        <a:pt x="1168" y="819"/>
                      </a:lnTo>
                      <a:lnTo>
                        <a:pt x="1224" y="815"/>
                      </a:lnTo>
                      <a:lnTo>
                        <a:pt x="1279" y="808"/>
                      </a:lnTo>
                      <a:lnTo>
                        <a:pt x="1336" y="798"/>
                      </a:lnTo>
                      <a:lnTo>
                        <a:pt x="1391" y="788"/>
                      </a:lnTo>
                      <a:lnTo>
                        <a:pt x="1445" y="775"/>
                      </a:lnTo>
                      <a:lnTo>
                        <a:pt x="1500" y="761"/>
                      </a:lnTo>
                      <a:lnTo>
                        <a:pt x="1553" y="744"/>
                      </a:lnTo>
                      <a:lnTo>
                        <a:pt x="1605" y="727"/>
                      </a:lnTo>
                      <a:lnTo>
                        <a:pt x="1658" y="707"/>
                      </a:lnTo>
                      <a:lnTo>
                        <a:pt x="1710" y="685"/>
                      </a:lnTo>
                      <a:lnTo>
                        <a:pt x="1762" y="661"/>
                      </a:lnTo>
                      <a:lnTo>
                        <a:pt x="1812" y="635"/>
                      </a:lnTo>
                      <a:lnTo>
                        <a:pt x="1863" y="608"/>
                      </a:lnTo>
                      <a:lnTo>
                        <a:pt x="1862" y="578"/>
                      </a:lnTo>
                      <a:lnTo>
                        <a:pt x="1858" y="549"/>
                      </a:lnTo>
                      <a:lnTo>
                        <a:pt x="1852" y="520"/>
                      </a:lnTo>
                      <a:lnTo>
                        <a:pt x="1846" y="493"/>
                      </a:lnTo>
                      <a:lnTo>
                        <a:pt x="1837" y="465"/>
                      </a:lnTo>
                      <a:lnTo>
                        <a:pt x="1826" y="439"/>
                      </a:lnTo>
                      <a:lnTo>
                        <a:pt x="1814" y="412"/>
                      </a:lnTo>
                      <a:lnTo>
                        <a:pt x="1801" y="386"/>
                      </a:lnTo>
                      <a:lnTo>
                        <a:pt x="1785" y="361"/>
                      </a:lnTo>
                      <a:lnTo>
                        <a:pt x="1767" y="337"/>
                      </a:lnTo>
                      <a:lnTo>
                        <a:pt x="1748" y="312"/>
                      </a:lnTo>
                      <a:lnTo>
                        <a:pt x="1727" y="289"/>
                      </a:lnTo>
                      <a:lnTo>
                        <a:pt x="1704" y="268"/>
                      </a:lnTo>
                      <a:lnTo>
                        <a:pt x="1680" y="246"/>
                      </a:lnTo>
                      <a:lnTo>
                        <a:pt x="1654" y="224"/>
                      </a:lnTo>
                      <a:lnTo>
                        <a:pt x="1626" y="204"/>
                      </a:lnTo>
                      <a:lnTo>
                        <a:pt x="1596" y="185"/>
                      </a:lnTo>
                      <a:lnTo>
                        <a:pt x="1565" y="167"/>
                      </a:lnTo>
                      <a:lnTo>
                        <a:pt x="1533" y="148"/>
                      </a:lnTo>
                      <a:lnTo>
                        <a:pt x="1499" y="132"/>
                      </a:lnTo>
                      <a:lnTo>
                        <a:pt x="1462" y="116"/>
                      </a:lnTo>
                      <a:lnTo>
                        <a:pt x="1425" y="101"/>
                      </a:lnTo>
                      <a:lnTo>
                        <a:pt x="1385" y="86"/>
                      </a:lnTo>
                      <a:lnTo>
                        <a:pt x="1345" y="73"/>
                      </a:lnTo>
                      <a:lnTo>
                        <a:pt x="1302" y="61"/>
                      </a:lnTo>
                      <a:lnTo>
                        <a:pt x="1258" y="49"/>
                      </a:lnTo>
                      <a:lnTo>
                        <a:pt x="1213" y="40"/>
                      </a:lnTo>
                      <a:lnTo>
                        <a:pt x="1166" y="31"/>
                      </a:lnTo>
                      <a:lnTo>
                        <a:pt x="1116" y="23"/>
                      </a:lnTo>
                      <a:lnTo>
                        <a:pt x="1066" y="16"/>
                      </a:lnTo>
                      <a:lnTo>
                        <a:pt x="1014" y="9"/>
                      </a:lnTo>
                      <a:lnTo>
                        <a:pt x="961" y="5"/>
                      </a:lnTo>
                      <a:lnTo>
                        <a:pt x="922" y="1"/>
                      </a:lnTo>
                      <a:lnTo>
                        <a:pt x="883" y="0"/>
                      </a:lnTo>
                      <a:lnTo>
                        <a:pt x="843" y="1"/>
                      </a:lnTo>
                      <a:lnTo>
                        <a:pt x="804" y="3"/>
                      </a:lnTo>
                      <a:lnTo>
                        <a:pt x="765" y="9"/>
                      </a:lnTo>
                      <a:lnTo>
                        <a:pt x="727" y="16"/>
                      </a:lnTo>
                      <a:lnTo>
                        <a:pt x="688" y="24"/>
                      </a:lnTo>
                      <a:lnTo>
                        <a:pt x="650" y="36"/>
                      </a:lnTo>
                      <a:lnTo>
                        <a:pt x="612" y="48"/>
                      </a:lnTo>
                      <a:lnTo>
                        <a:pt x="574" y="62"/>
                      </a:lnTo>
                      <a:lnTo>
                        <a:pt x="537" y="78"/>
                      </a:lnTo>
                      <a:lnTo>
                        <a:pt x="502" y="95"/>
                      </a:lnTo>
                      <a:lnTo>
                        <a:pt x="466" y="114"/>
                      </a:lnTo>
                      <a:lnTo>
                        <a:pt x="432" y="133"/>
                      </a:lnTo>
                      <a:lnTo>
                        <a:pt x="397" y="154"/>
                      </a:lnTo>
                      <a:lnTo>
                        <a:pt x="365" y="177"/>
                      </a:lnTo>
                      <a:lnTo>
                        <a:pt x="333" y="200"/>
                      </a:lnTo>
                      <a:lnTo>
                        <a:pt x="303" y="224"/>
                      </a:lnTo>
                      <a:lnTo>
                        <a:pt x="273" y="248"/>
                      </a:lnTo>
                      <a:lnTo>
                        <a:pt x="246" y="275"/>
                      </a:lnTo>
                      <a:lnTo>
                        <a:pt x="219" y="300"/>
                      </a:lnTo>
                      <a:lnTo>
                        <a:pt x="194" y="327"/>
                      </a:lnTo>
                      <a:lnTo>
                        <a:pt x="170" y="355"/>
                      </a:lnTo>
                      <a:lnTo>
                        <a:pt x="148" y="383"/>
                      </a:lnTo>
                      <a:lnTo>
                        <a:pt x="128" y="410"/>
                      </a:lnTo>
                      <a:lnTo>
                        <a:pt x="109" y="439"/>
                      </a:lnTo>
                      <a:lnTo>
                        <a:pt x="93" y="466"/>
                      </a:lnTo>
                      <a:lnTo>
                        <a:pt x="78" y="495"/>
                      </a:lnTo>
                      <a:lnTo>
                        <a:pt x="65" y="524"/>
                      </a:lnTo>
                      <a:lnTo>
                        <a:pt x="54" y="551"/>
                      </a:lnTo>
                      <a:lnTo>
                        <a:pt x="46" y="580"/>
                      </a:lnTo>
                      <a:lnTo>
                        <a:pt x="39" y="608"/>
                      </a:lnTo>
                      <a:close/>
                    </a:path>
                  </a:pathLst>
                </a:custGeom>
                <a:solidFill>
                  <a:srgbClr val="9999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0" name=""/>
                <p:cNvSpPr/>
                <p:nvPr/>
              </p:nvSpPr>
              <p:spPr>
                <a:xfrm>
                  <a:off x="3391200" y="4961160"/>
                  <a:ext cx="21960" cy="57240"/>
                </a:xfrm>
                <a:custGeom>
                  <a:avLst/>
                  <a:gdLst/>
                  <a:ahLst/>
                  <a:rect l="l" t="t" r="r" b="b"/>
                  <a:pathLst>
                    <a:path w="114" h="303">
                      <a:moveTo>
                        <a:pt x="96" y="242"/>
                      </a:moveTo>
                      <a:lnTo>
                        <a:pt x="106" y="249"/>
                      </a:lnTo>
                      <a:lnTo>
                        <a:pt x="94" y="235"/>
                      </a:lnTo>
                      <a:lnTo>
                        <a:pt x="85" y="221"/>
                      </a:lnTo>
                      <a:lnTo>
                        <a:pt x="78" y="208"/>
                      </a:lnTo>
                      <a:lnTo>
                        <a:pt x="72" y="194"/>
                      </a:lnTo>
                      <a:lnTo>
                        <a:pt x="69" y="180"/>
                      </a:lnTo>
                      <a:lnTo>
                        <a:pt x="66" y="166"/>
                      </a:lnTo>
                      <a:lnTo>
                        <a:pt x="65" y="153"/>
                      </a:lnTo>
                      <a:lnTo>
                        <a:pt x="65" y="139"/>
                      </a:lnTo>
                      <a:lnTo>
                        <a:pt x="66" y="125"/>
                      </a:lnTo>
                      <a:lnTo>
                        <a:pt x="69" y="112"/>
                      </a:lnTo>
                      <a:lnTo>
                        <a:pt x="72" y="99"/>
                      </a:lnTo>
                      <a:lnTo>
                        <a:pt x="77" y="86"/>
                      </a:lnTo>
                      <a:lnTo>
                        <a:pt x="81" y="73"/>
                      </a:lnTo>
                      <a:lnTo>
                        <a:pt x="87" y="61"/>
                      </a:lnTo>
                      <a:lnTo>
                        <a:pt x="94" y="49"/>
                      </a:lnTo>
                      <a:lnTo>
                        <a:pt x="102" y="39"/>
                      </a:lnTo>
                      <a:lnTo>
                        <a:pt x="50" y="0"/>
                      </a:lnTo>
                      <a:lnTo>
                        <a:pt x="40" y="15"/>
                      </a:lnTo>
                      <a:lnTo>
                        <a:pt x="31" y="30"/>
                      </a:lnTo>
                      <a:lnTo>
                        <a:pt x="23" y="46"/>
                      </a:lnTo>
                      <a:lnTo>
                        <a:pt x="16" y="63"/>
                      </a:lnTo>
                      <a:lnTo>
                        <a:pt x="10" y="80"/>
                      </a:lnTo>
                      <a:lnTo>
                        <a:pt x="6" y="99"/>
                      </a:lnTo>
                      <a:lnTo>
                        <a:pt x="2" y="117"/>
                      </a:lnTo>
                      <a:lnTo>
                        <a:pt x="0" y="136"/>
                      </a:lnTo>
                      <a:lnTo>
                        <a:pt x="0" y="156"/>
                      </a:lnTo>
                      <a:lnTo>
                        <a:pt x="2" y="176"/>
                      </a:lnTo>
                      <a:lnTo>
                        <a:pt x="6" y="195"/>
                      </a:lnTo>
                      <a:lnTo>
                        <a:pt x="11" y="216"/>
                      </a:lnTo>
                      <a:lnTo>
                        <a:pt x="19" y="235"/>
                      </a:lnTo>
                      <a:lnTo>
                        <a:pt x="30" y="255"/>
                      </a:lnTo>
                      <a:lnTo>
                        <a:pt x="42" y="273"/>
                      </a:lnTo>
                      <a:lnTo>
                        <a:pt x="57" y="292"/>
                      </a:lnTo>
                      <a:lnTo>
                        <a:pt x="65" y="298"/>
                      </a:lnTo>
                      <a:lnTo>
                        <a:pt x="57" y="292"/>
                      </a:lnTo>
                      <a:lnTo>
                        <a:pt x="63" y="297"/>
                      </a:lnTo>
                      <a:lnTo>
                        <a:pt x="69" y="301"/>
                      </a:lnTo>
                      <a:lnTo>
                        <a:pt x="75" y="303"/>
                      </a:lnTo>
                      <a:lnTo>
                        <a:pt x="80" y="303"/>
                      </a:lnTo>
                      <a:lnTo>
                        <a:pt x="86" y="303"/>
                      </a:lnTo>
                      <a:lnTo>
                        <a:pt x="92" y="301"/>
                      </a:lnTo>
                      <a:lnTo>
                        <a:pt x="97" y="298"/>
                      </a:lnTo>
                      <a:lnTo>
                        <a:pt x="102" y="295"/>
                      </a:lnTo>
                      <a:lnTo>
                        <a:pt x="107" y="290"/>
                      </a:lnTo>
                      <a:lnTo>
                        <a:pt x="110" y="286"/>
                      </a:lnTo>
                      <a:lnTo>
                        <a:pt x="112" y="280"/>
                      </a:lnTo>
                      <a:lnTo>
                        <a:pt x="114" y="274"/>
                      </a:lnTo>
                      <a:lnTo>
                        <a:pt x="114" y="267"/>
                      </a:lnTo>
                      <a:lnTo>
                        <a:pt x="112" y="262"/>
                      </a:lnTo>
                      <a:lnTo>
                        <a:pt x="110" y="255"/>
                      </a:lnTo>
                      <a:lnTo>
                        <a:pt x="106" y="249"/>
                      </a:lnTo>
                      <a:lnTo>
                        <a:pt x="96" y="242"/>
                      </a:lnTo>
                      <a:close/>
                    </a:path>
                  </a:pathLst>
                </a:custGeom>
                <a:solidFill>
                  <a:srgbClr val="000000"/>
                </a:solidFill>
                <a:ln w="0">
                  <a:noFill/>
                </a:ln>
              </p:spPr>
              <p:style>
                <a:lnRef idx="0"/>
                <a:fillRef idx="0"/>
                <a:effectRef idx="0"/>
                <a:fontRef idx="minor"/>
              </p:style>
              <p:txBody>
                <a:bodyPr wrap="none" lIns="93240" rIns="93240" tIns="10800" bIns="10800" anchor="t">
                  <a:spAutoFit/>
                </a:bodyPr>
                <a:p>
                  <a:endParaRPr b="0" lang="en-US" sz="2400" spc="-1" strike="noStrike">
                    <a:solidFill>
                      <a:srgbClr val="ffffff"/>
                    </a:solidFill>
                    <a:latin typeface="Times New Roman"/>
                  </a:endParaRPr>
                </a:p>
              </p:txBody>
            </p:sp>
            <p:sp>
              <p:nvSpPr>
                <p:cNvPr id="501" name=""/>
                <p:cNvSpPr/>
                <p:nvPr/>
              </p:nvSpPr>
              <p:spPr>
                <a:xfrm>
                  <a:off x="3403800" y="5007240"/>
                  <a:ext cx="374760" cy="63720"/>
                </a:xfrm>
                <a:custGeom>
                  <a:avLst/>
                  <a:gdLst/>
                  <a:ahLst/>
                  <a:rect l="l" t="t" r="r" b="b"/>
                  <a:pathLst>
                    <a:path w="1854" h="336">
                      <a:moveTo>
                        <a:pt x="1806" y="27"/>
                      </a:moveTo>
                      <a:lnTo>
                        <a:pt x="1801" y="29"/>
                      </a:lnTo>
                      <a:lnTo>
                        <a:pt x="1781" y="45"/>
                      </a:lnTo>
                      <a:lnTo>
                        <a:pt x="1761" y="60"/>
                      </a:lnTo>
                      <a:lnTo>
                        <a:pt x="1740" y="74"/>
                      </a:lnTo>
                      <a:lnTo>
                        <a:pt x="1719" y="87"/>
                      </a:lnTo>
                      <a:lnTo>
                        <a:pt x="1676" y="114"/>
                      </a:lnTo>
                      <a:lnTo>
                        <a:pt x="1631" y="138"/>
                      </a:lnTo>
                      <a:lnTo>
                        <a:pt x="1585" y="161"/>
                      </a:lnTo>
                      <a:lnTo>
                        <a:pt x="1537" y="181"/>
                      </a:lnTo>
                      <a:lnTo>
                        <a:pt x="1489" y="199"/>
                      </a:lnTo>
                      <a:lnTo>
                        <a:pt x="1438" y="215"/>
                      </a:lnTo>
                      <a:lnTo>
                        <a:pt x="1388" y="229"/>
                      </a:lnTo>
                      <a:lnTo>
                        <a:pt x="1335" y="241"/>
                      </a:lnTo>
                      <a:lnTo>
                        <a:pt x="1282" y="251"/>
                      </a:lnTo>
                      <a:lnTo>
                        <a:pt x="1227" y="259"/>
                      </a:lnTo>
                      <a:lnTo>
                        <a:pt x="1172" y="266"/>
                      </a:lnTo>
                      <a:lnTo>
                        <a:pt x="1115" y="269"/>
                      </a:lnTo>
                      <a:lnTo>
                        <a:pt x="1059" y="271"/>
                      </a:lnTo>
                      <a:lnTo>
                        <a:pt x="1002" y="271"/>
                      </a:lnTo>
                      <a:lnTo>
                        <a:pt x="943" y="269"/>
                      </a:lnTo>
                      <a:lnTo>
                        <a:pt x="885" y="264"/>
                      </a:lnTo>
                      <a:lnTo>
                        <a:pt x="825" y="259"/>
                      </a:lnTo>
                      <a:lnTo>
                        <a:pt x="765" y="251"/>
                      </a:lnTo>
                      <a:lnTo>
                        <a:pt x="704" y="240"/>
                      </a:lnTo>
                      <a:lnTo>
                        <a:pt x="643" y="229"/>
                      </a:lnTo>
                      <a:lnTo>
                        <a:pt x="583" y="215"/>
                      </a:lnTo>
                      <a:lnTo>
                        <a:pt x="522" y="199"/>
                      </a:lnTo>
                      <a:lnTo>
                        <a:pt x="460" y="181"/>
                      </a:lnTo>
                      <a:lnTo>
                        <a:pt x="399" y="161"/>
                      </a:lnTo>
                      <a:lnTo>
                        <a:pt x="337" y="139"/>
                      </a:lnTo>
                      <a:lnTo>
                        <a:pt x="276" y="115"/>
                      </a:lnTo>
                      <a:lnTo>
                        <a:pt x="214" y="89"/>
                      </a:lnTo>
                      <a:lnTo>
                        <a:pt x="153" y="61"/>
                      </a:lnTo>
                      <a:lnTo>
                        <a:pt x="92" y="31"/>
                      </a:lnTo>
                      <a:lnTo>
                        <a:pt x="31" y="0"/>
                      </a:lnTo>
                      <a:lnTo>
                        <a:pt x="0" y="56"/>
                      </a:lnTo>
                      <a:lnTo>
                        <a:pt x="64" y="90"/>
                      </a:lnTo>
                      <a:lnTo>
                        <a:pt x="126" y="120"/>
                      </a:lnTo>
                      <a:lnTo>
                        <a:pt x="189" y="148"/>
                      </a:lnTo>
                      <a:lnTo>
                        <a:pt x="252" y="175"/>
                      </a:lnTo>
                      <a:lnTo>
                        <a:pt x="315" y="199"/>
                      </a:lnTo>
                      <a:lnTo>
                        <a:pt x="378" y="222"/>
                      </a:lnTo>
                      <a:lnTo>
                        <a:pt x="441" y="243"/>
                      </a:lnTo>
                      <a:lnTo>
                        <a:pt x="504" y="261"/>
                      </a:lnTo>
                      <a:lnTo>
                        <a:pt x="568" y="277"/>
                      </a:lnTo>
                      <a:lnTo>
                        <a:pt x="631" y="292"/>
                      </a:lnTo>
                      <a:lnTo>
                        <a:pt x="693" y="305"/>
                      </a:lnTo>
                      <a:lnTo>
                        <a:pt x="755" y="315"/>
                      </a:lnTo>
                      <a:lnTo>
                        <a:pt x="817" y="323"/>
                      </a:lnTo>
                      <a:lnTo>
                        <a:pt x="879" y="329"/>
                      </a:lnTo>
                      <a:lnTo>
                        <a:pt x="940" y="333"/>
                      </a:lnTo>
                      <a:lnTo>
                        <a:pt x="1001" y="336"/>
                      </a:lnTo>
                      <a:lnTo>
                        <a:pt x="1060" y="336"/>
                      </a:lnTo>
                      <a:lnTo>
                        <a:pt x="1119" y="333"/>
                      </a:lnTo>
                      <a:lnTo>
                        <a:pt x="1177" y="330"/>
                      </a:lnTo>
                      <a:lnTo>
                        <a:pt x="1235" y="323"/>
                      </a:lnTo>
                      <a:lnTo>
                        <a:pt x="1292" y="315"/>
                      </a:lnTo>
                      <a:lnTo>
                        <a:pt x="1349" y="305"/>
                      </a:lnTo>
                      <a:lnTo>
                        <a:pt x="1403" y="292"/>
                      </a:lnTo>
                      <a:lnTo>
                        <a:pt x="1457" y="277"/>
                      </a:lnTo>
                      <a:lnTo>
                        <a:pt x="1509" y="260"/>
                      </a:lnTo>
                      <a:lnTo>
                        <a:pt x="1561" y="240"/>
                      </a:lnTo>
                      <a:lnTo>
                        <a:pt x="1612" y="220"/>
                      </a:lnTo>
                      <a:lnTo>
                        <a:pt x="1661" y="197"/>
                      </a:lnTo>
                      <a:lnTo>
                        <a:pt x="1708" y="170"/>
                      </a:lnTo>
                      <a:lnTo>
                        <a:pt x="1754" y="143"/>
                      </a:lnTo>
                      <a:lnTo>
                        <a:pt x="1777" y="128"/>
                      </a:lnTo>
                      <a:lnTo>
                        <a:pt x="1799" y="112"/>
                      </a:lnTo>
                      <a:lnTo>
                        <a:pt x="1821" y="97"/>
                      </a:lnTo>
                      <a:lnTo>
                        <a:pt x="1841" y="79"/>
                      </a:lnTo>
                      <a:lnTo>
                        <a:pt x="1838" y="82"/>
                      </a:lnTo>
                      <a:lnTo>
                        <a:pt x="1841" y="79"/>
                      </a:lnTo>
                      <a:lnTo>
                        <a:pt x="1847" y="75"/>
                      </a:lnTo>
                      <a:lnTo>
                        <a:pt x="1850" y="69"/>
                      </a:lnTo>
                      <a:lnTo>
                        <a:pt x="1854" y="62"/>
                      </a:lnTo>
                      <a:lnTo>
                        <a:pt x="1854" y="56"/>
                      </a:lnTo>
                      <a:lnTo>
                        <a:pt x="1854" y="51"/>
                      </a:lnTo>
                      <a:lnTo>
                        <a:pt x="1853" y="45"/>
                      </a:lnTo>
                      <a:lnTo>
                        <a:pt x="1850" y="39"/>
                      </a:lnTo>
                      <a:lnTo>
                        <a:pt x="1847" y="35"/>
                      </a:lnTo>
                      <a:lnTo>
                        <a:pt x="1842" y="30"/>
                      </a:lnTo>
                      <a:lnTo>
                        <a:pt x="1838" y="27"/>
                      </a:lnTo>
                      <a:lnTo>
                        <a:pt x="1832" y="23"/>
                      </a:lnTo>
                      <a:lnTo>
                        <a:pt x="1826" y="22"/>
                      </a:lnTo>
                      <a:lnTo>
                        <a:pt x="1821" y="22"/>
                      </a:lnTo>
                      <a:lnTo>
                        <a:pt x="1814" y="22"/>
                      </a:lnTo>
                      <a:lnTo>
                        <a:pt x="1808" y="25"/>
                      </a:lnTo>
                      <a:lnTo>
                        <a:pt x="1801" y="29"/>
                      </a:lnTo>
                      <a:lnTo>
                        <a:pt x="1806" y="27"/>
                      </a:lnTo>
                      <a:close/>
                    </a:path>
                  </a:pathLst>
                </a:custGeom>
                <a:solidFill>
                  <a:srgbClr val="000000"/>
                </a:solidFill>
                <a:ln w="0">
                  <a:noFill/>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02" name=""/>
                <p:cNvSpPr/>
                <p:nvPr/>
              </p:nvSpPr>
              <p:spPr>
                <a:xfrm>
                  <a:off x="3763080" y="4961160"/>
                  <a:ext cx="22320" cy="61560"/>
                </a:xfrm>
                <a:custGeom>
                  <a:avLst/>
                  <a:gdLst/>
                  <a:ahLst/>
                  <a:rect l="l" t="t" r="r" b="b"/>
                  <a:pathLst>
                    <a:path w="114" h="325">
                      <a:moveTo>
                        <a:pt x="48" y="60"/>
                      </a:moveTo>
                      <a:lnTo>
                        <a:pt x="18" y="60"/>
                      </a:lnTo>
                      <a:lnTo>
                        <a:pt x="21" y="63"/>
                      </a:lnTo>
                      <a:lnTo>
                        <a:pt x="23" y="64"/>
                      </a:lnTo>
                      <a:lnTo>
                        <a:pt x="26" y="67"/>
                      </a:lnTo>
                      <a:lnTo>
                        <a:pt x="29" y="71"/>
                      </a:lnTo>
                      <a:lnTo>
                        <a:pt x="32" y="75"/>
                      </a:lnTo>
                      <a:lnTo>
                        <a:pt x="35" y="81"/>
                      </a:lnTo>
                      <a:lnTo>
                        <a:pt x="38" y="87"/>
                      </a:lnTo>
                      <a:lnTo>
                        <a:pt x="40" y="94"/>
                      </a:lnTo>
                      <a:lnTo>
                        <a:pt x="44" y="111"/>
                      </a:lnTo>
                      <a:lnTo>
                        <a:pt x="47" y="128"/>
                      </a:lnTo>
                      <a:lnTo>
                        <a:pt x="49" y="148"/>
                      </a:lnTo>
                      <a:lnTo>
                        <a:pt x="49" y="167"/>
                      </a:lnTo>
                      <a:lnTo>
                        <a:pt x="48" y="188"/>
                      </a:lnTo>
                      <a:lnTo>
                        <a:pt x="46" y="208"/>
                      </a:lnTo>
                      <a:lnTo>
                        <a:pt x="44" y="225"/>
                      </a:lnTo>
                      <a:lnTo>
                        <a:pt x="39" y="241"/>
                      </a:lnTo>
                      <a:lnTo>
                        <a:pt x="35" y="255"/>
                      </a:lnTo>
                      <a:lnTo>
                        <a:pt x="30" y="265"/>
                      </a:lnTo>
                      <a:lnTo>
                        <a:pt x="29" y="267"/>
                      </a:lnTo>
                      <a:lnTo>
                        <a:pt x="26" y="270"/>
                      </a:lnTo>
                      <a:lnTo>
                        <a:pt x="28" y="270"/>
                      </a:lnTo>
                      <a:lnTo>
                        <a:pt x="60" y="325"/>
                      </a:lnTo>
                      <a:lnTo>
                        <a:pt x="69" y="319"/>
                      </a:lnTo>
                      <a:lnTo>
                        <a:pt x="76" y="312"/>
                      </a:lnTo>
                      <a:lnTo>
                        <a:pt x="82" y="304"/>
                      </a:lnTo>
                      <a:lnTo>
                        <a:pt x="87" y="295"/>
                      </a:lnTo>
                      <a:lnTo>
                        <a:pt x="95" y="279"/>
                      </a:lnTo>
                      <a:lnTo>
                        <a:pt x="101" y="259"/>
                      </a:lnTo>
                      <a:lnTo>
                        <a:pt x="107" y="237"/>
                      </a:lnTo>
                      <a:lnTo>
                        <a:pt x="110" y="216"/>
                      </a:lnTo>
                      <a:lnTo>
                        <a:pt x="113" y="193"/>
                      </a:lnTo>
                      <a:lnTo>
                        <a:pt x="114" y="168"/>
                      </a:lnTo>
                      <a:lnTo>
                        <a:pt x="114" y="144"/>
                      </a:lnTo>
                      <a:lnTo>
                        <a:pt x="111" y="120"/>
                      </a:lnTo>
                      <a:lnTo>
                        <a:pt x="108" y="97"/>
                      </a:lnTo>
                      <a:lnTo>
                        <a:pt x="102" y="75"/>
                      </a:lnTo>
                      <a:lnTo>
                        <a:pt x="98" y="64"/>
                      </a:lnTo>
                      <a:lnTo>
                        <a:pt x="93" y="54"/>
                      </a:lnTo>
                      <a:lnTo>
                        <a:pt x="87" y="43"/>
                      </a:lnTo>
                      <a:lnTo>
                        <a:pt x="82" y="34"/>
                      </a:lnTo>
                      <a:lnTo>
                        <a:pt x="75" y="25"/>
                      </a:lnTo>
                      <a:lnTo>
                        <a:pt x="67" y="16"/>
                      </a:lnTo>
                      <a:lnTo>
                        <a:pt x="57" y="9"/>
                      </a:lnTo>
                      <a:lnTo>
                        <a:pt x="46" y="3"/>
                      </a:lnTo>
                      <a:lnTo>
                        <a:pt x="16" y="3"/>
                      </a:lnTo>
                      <a:lnTo>
                        <a:pt x="46" y="3"/>
                      </a:lnTo>
                      <a:lnTo>
                        <a:pt x="39" y="0"/>
                      </a:lnTo>
                      <a:lnTo>
                        <a:pt x="32" y="0"/>
                      </a:lnTo>
                      <a:lnTo>
                        <a:pt x="26" y="0"/>
                      </a:lnTo>
                      <a:lnTo>
                        <a:pt x="21" y="1"/>
                      </a:lnTo>
                      <a:lnTo>
                        <a:pt x="15" y="4"/>
                      </a:lnTo>
                      <a:lnTo>
                        <a:pt x="10" y="8"/>
                      </a:lnTo>
                      <a:lnTo>
                        <a:pt x="6" y="12"/>
                      </a:lnTo>
                      <a:lnTo>
                        <a:pt x="3" y="18"/>
                      </a:lnTo>
                      <a:lnTo>
                        <a:pt x="1" y="24"/>
                      </a:lnTo>
                      <a:lnTo>
                        <a:pt x="0" y="29"/>
                      </a:lnTo>
                      <a:lnTo>
                        <a:pt x="0" y="35"/>
                      </a:lnTo>
                      <a:lnTo>
                        <a:pt x="1" y="41"/>
                      </a:lnTo>
                      <a:lnTo>
                        <a:pt x="3" y="47"/>
                      </a:lnTo>
                      <a:lnTo>
                        <a:pt x="7" y="52"/>
                      </a:lnTo>
                      <a:lnTo>
                        <a:pt x="12" y="57"/>
                      </a:lnTo>
                      <a:lnTo>
                        <a:pt x="18" y="60"/>
                      </a:lnTo>
                      <a:lnTo>
                        <a:pt x="48" y="60"/>
                      </a:lnTo>
                      <a:close/>
                    </a:path>
                  </a:pathLst>
                </a:custGeom>
                <a:solidFill>
                  <a:srgbClr val="000000"/>
                </a:solidFill>
                <a:ln w="0">
                  <a:noFill/>
                </a:ln>
              </p:spPr>
              <p:style>
                <a:lnRef idx="0"/>
                <a:fillRef idx="0"/>
                <a:effectRef idx="0"/>
                <a:fontRef idx="minor"/>
              </p:style>
              <p:txBody>
                <a:bodyPr wrap="none" lIns="93240" rIns="93240" tIns="15120" bIns="15120" anchor="t">
                  <a:spAutoFit/>
                </a:bodyPr>
                <a:p>
                  <a:endParaRPr b="0" lang="en-US" sz="2400" spc="-1" strike="noStrike">
                    <a:solidFill>
                      <a:srgbClr val="ffffff"/>
                    </a:solidFill>
                    <a:latin typeface="Times New Roman"/>
                  </a:endParaRPr>
                </a:p>
              </p:txBody>
            </p:sp>
            <p:sp>
              <p:nvSpPr>
                <p:cNvPr id="503" name=""/>
                <p:cNvSpPr/>
                <p:nvPr/>
              </p:nvSpPr>
              <p:spPr>
                <a:xfrm>
                  <a:off x="3399480" y="4960080"/>
                  <a:ext cx="373320" cy="53640"/>
                </a:xfrm>
                <a:custGeom>
                  <a:avLst/>
                  <a:gdLst/>
                  <a:ahLst/>
                  <a:rect l="l" t="t" r="r" b="b"/>
                  <a:pathLst>
                    <a:path w="1847" h="290">
                      <a:moveTo>
                        <a:pt x="58" y="52"/>
                      </a:moveTo>
                      <a:lnTo>
                        <a:pt x="19" y="62"/>
                      </a:lnTo>
                      <a:lnTo>
                        <a:pt x="70" y="84"/>
                      </a:lnTo>
                      <a:lnTo>
                        <a:pt x="121" y="105"/>
                      </a:lnTo>
                      <a:lnTo>
                        <a:pt x="173" y="125"/>
                      </a:lnTo>
                      <a:lnTo>
                        <a:pt x="225" y="145"/>
                      </a:lnTo>
                      <a:lnTo>
                        <a:pt x="279" y="163"/>
                      </a:lnTo>
                      <a:lnTo>
                        <a:pt x="333" y="180"/>
                      </a:lnTo>
                      <a:lnTo>
                        <a:pt x="387" y="197"/>
                      </a:lnTo>
                      <a:lnTo>
                        <a:pt x="442" y="213"/>
                      </a:lnTo>
                      <a:lnTo>
                        <a:pt x="497" y="226"/>
                      </a:lnTo>
                      <a:lnTo>
                        <a:pt x="553" y="239"/>
                      </a:lnTo>
                      <a:lnTo>
                        <a:pt x="609" y="251"/>
                      </a:lnTo>
                      <a:lnTo>
                        <a:pt x="667" y="261"/>
                      </a:lnTo>
                      <a:lnTo>
                        <a:pt x="724" y="270"/>
                      </a:lnTo>
                      <a:lnTo>
                        <a:pt x="782" y="277"/>
                      </a:lnTo>
                      <a:lnTo>
                        <a:pt x="839" y="283"/>
                      </a:lnTo>
                      <a:lnTo>
                        <a:pt x="898" y="286"/>
                      </a:lnTo>
                      <a:lnTo>
                        <a:pt x="956" y="288"/>
                      </a:lnTo>
                      <a:lnTo>
                        <a:pt x="1015" y="290"/>
                      </a:lnTo>
                      <a:lnTo>
                        <a:pt x="1074" y="288"/>
                      </a:lnTo>
                      <a:lnTo>
                        <a:pt x="1134" y="285"/>
                      </a:lnTo>
                      <a:lnTo>
                        <a:pt x="1193" y="279"/>
                      </a:lnTo>
                      <a:lnTo>
                        <a:pt x="1252" y="272"/>
                      </a:lnTo>
                      <a:lnTo>
                        <a:pt x="1312" y="263"/>
                      </a:lnTo>
                      <a:lnTo>
                        <a:pt x="1372" y="252"/>
                      </a:lnTo>
                      <a:lnTo>
                        <a:pt x="1432" y="238"/>
                      </a:lnTo>
                      <a:lnTo>
                        <a:pt x="1491" y="221"/>
                      </a:lnTo>
                      <a:lnTo>
                        <a:pt x="1551" y="202"/>
                      </a:lnTo>
                      <a:lnTo>
                        <a:pt x="1611" y="182"/>
                      </a:lnTo>
                      <a:lnTo>
                        <a:pt x="1670" y="159"/>
                      </a:lnTo>
                      <a:lnTo>
                        <a:pt x="1729" y="132"/>
                      </a:lnTo>
                      <a:lnTo>
                        <a:pt x="1789" y="104"/>
                      </a:lnTo>
                      <a:lnTo>
                        <a:pt x="1847" y="72"/>
                      </a:lnTo>
                      <a:lnTo>
                        <a:pt x="1815" y="15"/>
                      </a:lnTo>
                      <a:lnTo>
                        <a:pt x="1759" y="46"/>
                      </a:lnTo>
                      <a:lnTo>
                        <a:pt x="1703" y="74"/>
                      </a:lnTo>
                      <a:lnTo>
                        <a:pt x="1645" y="99"/>
                      </a:lnTo>
                      <a:lnTo>
                        <a:pt x="1588" y="121"/>
                      </a:lnTo>
                      <a:lnTo>
                        <a:pt x="1530" y="141"/>
                      </a:lnTo>
                      <a:lnTo>
                        <a:pt x="1474" y="159"/>
                      </a:lnTo>
                      <a:lnTo>
                        <a:pt x="1417" y="175"/>
                      </a:lnTo>
                      <a:lnTo>
                        <a:pt x="1359" y="189"/>
                      </a:lnTo>
                      <a:lnTo>
                        <a:pt x="1302" y="199"/>
                      </a:lnTo>
                      <a:lnTo>
                        <a:pt x="1244" y="208"/>
                      </a:lnTo>
                      <a:lnTo>
                        <a:pt x="1187" y="215"/>
                      </a:lnTo>
                      <a:lnTo>
                        <a:pt x="1130" y="221"/>
                      </a:lnTo>
                      <a:lnTo>
                        <a:pt x="1072" y="223"/>
                      </a:lnTo>
                      <a:lnTo>
                        <a:pt x="1015" y="224"/>
                      </a:lnTo>
                      <a:lnTo>
                        <a:pt x="958" y="224"/>
                      </a:lnTo>
                      <a:lnTo>
                        <a:pt x="901" y="222"/>
                      </a:lnTo>
                      <a:lnTo>
                        <a:pt x="845" y="218"/>
                      </a:lnTo>
                      <a:lnTo>
                        <a:pt x="788" y="213"/>
                      </a:lnTo>
                      <a:lnTo>
                        <a:pt x="732" y="206"/>
                      </a:lnTo>
                      <a:lnTo>
                        <a:pt x="677" y="198"/>
                      </a:lnTo>
                      <a:lnTo>
                        <a:pt x="622" y="187"/>
                      </a:lnTo>
                      <a:lnTo>
                        <a:pt x="567" y="176"/>
                      </a:lnTo>
                      <a:lnTo>
                        <a:pt x="512" y="163"/>
                      </a:lnTo>
                      <a:lnTo>
                        <a:pt x="458" y="149"/>
                      </a:lnTo>
                      <a:lnTo>
                        <a:pt x="405" y="135"/>
                      </a:lnTo>
                      <a:lnTo>
                        <a:pt x="351" y="118"/>
                      </a:lnTo>
                      <a:lnTo>
                        <a:pt x="299" y="101"/>
                      </a:lnTo>
                      <a:lnTo>
                        <a:pt x="246" y="84"/>
                      </a:lnTo>
                      <a:lnTo>
                        <a:pt x="196" y="64"/>
                      </a:lnTo>
                      <a:lnTo>
                        <a:pt x="144" y="45"/>
                      </a:lnTo>
                      <a:lnTo>
                        <a:pt x="95" y="24"/>
                      </a:lnTo>
                      <a:lnTo>
                        <a:pt x="45" y="2"/>
                      </a:lnTo>
                      <a:lnTo>
                        <a:pt x="6" y="13"/>
                      </a:lnTo>
                      <a:lnTo>
                        <a:pt x="45" y="2"/>
                      </a:lnTo>
                      <a:lnTo>
                        <a:pt x="39" y="0"/>
                      </a:lnTo>
                      <a:lnTo>
                        <a:pt x="32" y="0"/>
                      </a:lnTo>
                      <a:lnTo>
                        <a:pt x="25" y="0"/>
                      </a:lnTo>
                      <a:lnTo>
                        <a:pt x="19" y="2"/>
                      </a:lnTo>
                      <a:lnTo>
                        <a:pt x="13" y="6"/>
                      </a:lnTo>
                      <a:lnTo>
                        <a:pt x="9" y="9"/>
                      </a:lnTo>
                      <a:lnTo>
                        <a:pt x="5" y="14"/>
                      </a:lnTo>
                      <a:lnTo>
                        <a:pt x="3" y="20"/>
                      </a:lnTo>
                      <a:lnTo>
                        <a:pt x="1" y="25"/>
                      </a:lnTo>
                      <a:lnTo>
                        <a:pt x="0" y="31"/>
                      </a:lnTo>
                      <a:lnTo>
                        <a:pt x="0" y="37"/>
                      </a:lnTo>
                      <a:lnTo>
                        <a:pt x="1" y="43"/>
                      </a:lnTo>
                      <a:lnTo>
                        <a:pt x="4" y="48"/>
                      </a:lnTo>
                      <a:lnTo>
                        <a:pt x="8" y="54"/>
                      </a:lnTo>
                      <a:lnTo>
                        <a:pt x="12" y="59"/>
                      </a:lnTo>
                      <a:lnTo>
                        <a:pt x="19" y="62"/>
                      </a:lnTo>
                      <a:lnTo>
                        <a:pt x="58" y="52"/>
                      </a:lnTo>
                      <a:close/>
                    </a:path>
                  </a:pathLst>
                </a:custGeom>
                <a:solidFill>
                  <a:srgbClr val="000000"/>
                </a:solidFill>
                <a:ln w="0">
                  <a:noFill/>
                </a:ln>
              </p:spPr>
              <p:style>
                <a:lnRef idx="0"/>
                <a:fillRef idx="0"/>
                <a:effectRef idx="0"/>
                <a:fontRef idx="minor"/>
              </p:style>
              <p:txBody>
                <a:bodyPr wrap="none" lIns="93240" rIns="93240" tIns="7200" bIns="7200" anchor="t">
                  <a:spAutoFit/>
                </a:bodyPr>
                <a:p>
                  <a:endParaRPr b="0" lang="en-US" sz="2400" spc="-1" strike="noStrike">
                    <a:solidFill>
                      <a:srgbClr val="ffffff"/>
                    </a:solidFill>
                    <a:latin typeface="Times New Roman"/>
                  </a:endParaRPr>
                </a:p>
              </p:txBody>
            </p:sp>
            <p:sp>
              <p:nvSpPr>
                <p:cNvPr id="504" name=""/>
                <p:cNvSpPr/>
                <p:nvPr/>
              </p:nvSpPr>
              <p:spPr>
                <a:xfrm>
                  <a:off x="3908160" y="4995360"/>
                  <a:ext cx="21960" cy="65160"/>
                </a:xfrm>
                <a:custGeom>
                  <a:avLst/>
                  <a:gdLst/>
                  <a:ahLst/>
                  <a:rect l="l" t="t" r="r" b="b"/>
                  <a:pathLst>
                    <a:path w="112" h="347">
                      <a:moveTo>
                        <a:pt x="80" y="285"/>
                      </a:moveTo>
                      <a:lnTo>
                        <a:pt x="95" y="296"/>
                      </a:lnTo>
                      <a:lnTo>
                        <a:pt x="88" y="284"/>
                      </a:lnTo>
                      <a:lnTo>
                        <a:pt x="81" y="270"/>
                      </a:lnTo>
                      <a:lnTo>
                        <a:pt x="75" y="254"/>
                      </a:lnTo>
                      <a:lnTo>
                        <a:pt x="70" y="238"/>
                      </a:lnTo>
                      <a:lnTo>
                        <a:pt x="68" y="220"/>
                      </a:lnTo>
                      <a:lnTo>
                        <a:pt x="66" y="202"/>
                      </a:lnTo>
                      <a:lnTo>
                        <a:pt x="65" y="185"/>
                      </a:lnTo>
                      <a:lnTo>
                        <a:pt x="66" y="166"/>
                      </a:lnTo>
                      <a:lnTo>
                        <a:pt x="67" y="148"/>
                      </a:lnTo>
                      <a:lnTo>
                        <a:pt x="70" y="131"/>
                      </a:lnTo>
                      <a:lnTo>
                        <a:pt x="74" y="114"/>
                      </a:lnTo>
                      <a:lnTo>
                        <a:pt x="80" y="96"/>
                      </a:lnTo>
                      <a:lnTo>
                        <a:pt x="86" y="81"/>
                      </a:lnTo>
                      <a:lnTo>
                        <a:pt x="93" y="68"/>
                      </a:lnTo>
                      <a:lnTo>
                        <a:pt x="101" y="54"/>
                      </a:lnTo>
                      <a:lnTo>
                        <a:pt x="112" y="43"/>
                      </a:lnTo>
                      <a:lnTo>
                        <a:pt x="64" y="0"/>
                      </a:lnTo>
                      <a:lnTo>
                        <a:pt x="50" y="16"/>
                      </a:lnTo>
                      <a:lnTo>
                        <a:pt x="38" y="34"/>
                      </a:lnTo>
                      <a:lnTo>
                        <a:pt x="28" y="54"/>
                      </a:lnTo>
                      <a:lnTo>
                        <a:pt x="19" y="74"/>
                      </a:lnTo>
                      <a:lnTo>
                        <a:pt x="12" y="95"/>
                      </a:lnTo>
                      <a:lnTo>
                        <a:pt x="7" y="117"/>
                      </a:lnTo>
                      <a:lnTo>
                        <a:pt x="3" y="140"/>
                      </a:lnTo>
                      <a:lnTo>
                        <a:pt x="1" y="162"/>
                      </a:lnTo>
                      <a:lnTo>
                        <a:pt x="0" y="185"/>
                      </a:lnTo>
                      <a:lnTo>
                        <a:pt x="1" y="207"/>
                      </a:lnTo>
                      <a:lnTo>
                        <a:pt x="4" y="230"/>
                      </a:lnTo>
                      <a:lnTo>
                        <a:pt x="7" y="251"/>
                      </a:lnTo>
                      <a:lnTo>
                        <a:pt x="13" y="273"/>
                      </a:lnTo>
                      <a:lnTo>
                        <a:pt x="21" y="294"/>
                      </a:lnTo>
                      <a:lnTo>
                        <a:pt x="30" y="313"/>
                      </a:lnTo>
                      <a:lnTo>
                        <a:pt x="41" y="332"/>
                      </a:lnTo>
                      <a:lnTo>
                        <a:pt x="55" y="344"/>
                      </a:lnTo>
                      <a:lnTo>
                        <a:pt x="41" y="332"/>
                      </a:lnTo>
                      <a:lnTo>
                        <a:pt x="45" y="338"/>
                      </a:lnTo>
                      <a:lnTo>
                        <a:pt x="51" y="342"/>
                      </a:lnTo>
                      <a:lnTo>
                        <a:pt x="57" y="346"/>
                      </a:lnTo>
                      <a:lnTo>
                        <a:pt x="62" y="347"/>
                      </a:lnTo>
                      <a:lnTo>
                        <a:pt x="69" y="347"/>
                      </a:lnTo>
                      <a:lnTo>
                        <a:pt x="75" y="347"/>
                      </a:lnTo>
                      <a:lnTo>
                        <a:pt x="81" y="344"/>
                      </a:lnTo>
                      <a:lnTo>
                        <a:pt x="85" y="341"/>
                      </a:lnTo>
                      <a:lnTo>
                        <a:pt x="90" y="338"/>
                      </a:lnTo>
                      <a:lnTo>
                        <a:pt x="95" y="333"/>
                      </a:lnTo>
                      <a:lnTo>
                        <a:pt x="98" y="328"/>
                      </a:lnTo>
                      <a:lnTo>
                        <a:pt x="100" y="323"/>
                      </a:lnTo>
                      <a:lnTo>
                        <a:pt x="100" y="316"/>
                      </a:lnTo>
                      <a:lnTo>
                        <a:pt x="100" y="310"/>
                      </a:lnTo>
                      <a:lnTo>
                        <a:pt x="98" y="303"/>
                      </a:lnTo>
                      <a:lnTo>
                        <a:pt x="95" y="296"/>
                      </a:lnTo>
                      <a:lnTo>
                        <a:pt x="80" y="285"/>
                      </a:lnTo>
                      <a:close/>
                    </a:path>
                  </a:pathLst>
                </a:custGeom>
                <a:solidFill>
                  <a:srgbClr val="000000"/>
                </a:solidFill>
                <a:ln w="0">
                  <a:noFill/>
                </a:ln>
              </p:spPr>
              <p:style>
                <a:lnRef idx="0"/>
                <a:fillRef idx="0"/>
                <a:effectRef idx="0"/>
                <a:fontRef idx="minor"/>
              </p:style>
              <p:txBody>
                <a:bodyPr wrap="none" lIns="93240" rIns="93240" tIns="18720" bIns="18720" anchor="t">
                  <a:spAutoFit/>
                </a:bodyPr>
                <a:p>
                  <a:endParaRPr b="0" lang="en-US" sz="2400" spc="-1" strike="noStrike">
                    <a:solidFill>
                      <a:srgbClr val="ffffff"/>
                    </a:solidFill>
                    <a:latin typeface="Times New Roman"/>
                  </a:endParaRPr>
                </a:p>
              </p:txBody>
            </p:sp>
            <p:sp>
              <p:nvSpPr>
                <p:cNvPr id="505" name=""/>
                <p:cNvSpPr/>
                <p:nvPr/>
              </p:nvSpPr>
              <p:spPr>
                <a:xfrm>
                  <a:off x="3919320" y="5050080"/>
                  <a:ext cx="275760" cy="32400"/>
                </a:xfrm>
                <a:custGeom>
                  <a:avLst/>
                  <a:gdLst/>
                  <a:ahLst/>
                  <a:rect l="l" t="t" r="r" b="b"/>
                  <a:pathLst>
                    <a:path w="1369" h="180">
                      <a:moveTo>
                        <a:pt x="1330" y="61"/>
                      </a:moveTo>
                      <a:lnTo>
                        <a:pt x="1287" y="71"/>
                      </a:lnTo>
                      <a:lnTo>
                        <a:pt x="1242" y="79"/>
                      </a:lnTo>
                      <a:lnTo>
                        <a:pt x="1197" y="86"/>
                      </a:lnTo>
                      <a:lnTo>
                        <a:pt x="1152" y="93"/>
                      </a:lnTo>
                      <a:lnTo>
                        <a:pt x="1106" y="99"/>
                      </a:lnTo>
                      <a:lnTo>
                        <a:pt x="1060" y="103"/>
                      </a:lnTo>
                      <a:lnTo>
                        <a:pt x="1013" y="108"/>
                      </a:lnTo>
                      <a:lnTo>
                        <a:pt x="967" y="110"/>
                      </a:lnTo>
                      <a:lnTo>
                        <a:pt x="920" y="113"/>
                      </a:lnTo>
                      <a:lnTo>
                        <a:pt x="873" y="115"/>
                      </a:lnTo>
                      <a:lnTo>
                        <a:pt x="827" y="116"/>
                      </a:lnTo>
                      <a:lnTo>
                        <a:pt x="780" y="116"/>
                      </a:lnTo>
                      <a:lnTo>
                        <a:pt x="734" y="115"/>
                      </a:lnTo>
                      <a:lnTo>
                        <a:pt x="688" y="113"/>
                      </a:lnTo>
                      <a:lnTo>
                        <a:pt x="644" y="111"/>
                      </a:lnTo>
                      <a:lnTo>
                        <a:pt x="599" y="109"/>
                      </a:lnTo>
                      <a:lnTo>
                        <a:pt x="555" y="105"/>
                      </a:lnTo>
                      <a:lnTo>
                        <a:pt x="512" y="102"/>
                      </a:lnTo>
                      <a:lnTo>
                        <a:pt x="469" y="97"/>
                      </a:lnTo>
                      <a:lnTo>
                        <a:pt x="427" y="93"/>
                      </a:lnTo>
                      <a:lnTo>
                        <a:pt x="385" y="87"/>
                      </a:lnTo>
                      <a:lnTo>
                        <a:pt x="346" y="81"/>
                      </a:lnTo>
                      <a:lnTo>
                        <a:pt x="307" y="74"/>
                      </a:lnTo>
                      <a:lnTo>
                        <a:pt x="270" y="68"/>
                      </a:lnTo>
                      <a:lnTo>
                        <a:pt x="234" y="61"/>
                      </a:lnTo>
                      <a:lnTo>
                        <a:pt x="199" y="53"/>
                      </a:lnTo>
                      <a:lnTo>
                        <a:pt x="166" y="45"/>
                      </a:lnTo>
                      <a:lnTo>
                        <a:pt x="134" y="37"/>
                      </a:lnTo>
                      <a:lnTo>
                        <a:pt x="104" y="27"/>
                      </a:lnTo>
                      <a:lnTo>
                        <a:pt x="76" y="18"/>
                      </a:lnTo>
                      <a:lnTo>
                        <a:pt x="50" y="9"/>
                      </a:lnTo>
                      <a:lnTo>
                        <a:pt x="25" y="0"/>
                      </a:lnTo>
                      <a:lnTo>
                        <a:pt x="0" y="59"/>
                      </a:lnTo>
                      <a:lnTo>
                        <a:pt x="27" y="70"/>
                      </a:lnTo>
                      <a:lnTo>
                        <a:pt x="56" y="79"/>
                      </a:lnTo>
                      <a:lnTo>
                        <a:pt x="85" y="89"/>
                      </a:lnTo>
                      <a:lnTo>
                        <a:pt x="116" y="99"/>
                      </a:lnTo>
                      <a:lnTo>
                        <a:pt x="150" y="108"/>
                      </a:lnTo>
                      <a:lnTo>
                        <a:pt x="184" y="116"/>
                      </a:lnTo>
                      <a:lnTo>
                        <a:pt x="220" y="124"/>
                      </a:lnTo>
                      <a:lnTo>
                        <a:pt x="258" y="131"/>
                      </a:lnTo>
                      <a:lnTo>
                        <a:pt x="296" y="139"/>
                      </a:lnTo>
                      <a:lnTo>
                        <a:pt x="336" y="144"/>
                      </a:lnTo>
                      <a:lnTo>
                        <a:pt x="377" y="151"/>
                      </a:lnTo>
                      <a:lnTo>
                        <a:pt x="418" y="157"/>
                      </a:lnTo>
                      <a:lnTo>
                        <a:pt x="461" y="162"/>
                      </a:lnTo>
                      <a:lnTo>
                        <a:pt x="505" y="166"/>
                      </a:lnTo>
                      <a:lnTo>
                        <a:pt x="549" y="170"/>
                      </a:lnTo>
                      <a:lnTo>
                        <a:pt x="594" y="173"/>
                      </a:lnTo>
                      <a:lnTo>
                        <a:pt x="640" y="176"/>
                      </a:lnTo>
                      <a:lnTo>
                        <a:pt x="687" y="178"/>
                      </a:lnTo>
                      <a:lnTo>
                        <a:pt x="733" y="179"/>
                      </a:lnTo>
                      <a:lnTo>
                        <a:pt x="780" y="180"/>
                      </a:lnTo>
                      <a:lnTo>
                        <a:pt x="827" y="180"/>
                      </a:lnTo>
                      <a:lnTo>
                        <a:pt x="876" y="179"/>
                      </a:lnTo>
                      <a:lnTo>
                        <a:pt x="923" y="178"/>
                      </a:lnTo>
                      <a:lnTo>
                        <a:pt x="971" y="176"/>
                      </a:lnTo>
                      <a:lnTo>
                        <a:pt x="1018" y="172"/>
                      </a:lnTo>
                      <a:lnTo>
                        <a:pt x="1066" y="167"/>
                      </a:lnTo>
                      <a:lnTo>
                        <a:pt x="1113" y="163"/>
                      </a:lnTo>
                      <a:lnTo>
                        <a:pt x="1160" y="157"/>
                      </a:lnTo>
                      <a:lnTo>
                        <a:pt x="1207" y="150"/>
                      </a:lnTo>
                      <a:lnTo>
                        <a:pt x="1253" y="142"/>
                      </a:lnTo>
                      <a:lnTo>
                        <a:pt x="1299" y="134"/>
                      </a:lnTo>
                      <a:lnTo>
                        <a:pt x="1344" y="124"/>
                      </a:lnTo>
                      <a:lnTo>
                        <a:pt x="1352" y="122"/>
                      </a:lnTo>
                      <a:lnTo>
                        <a:pt x="1358" y="118"/>
                      </a:lnTo>
                      <a:lnTo>
                        <a:pt x="1362" y="113"/>
                      </a:lnTo>
                      <a:lnTo>
                        <a:pt x="1366" y="109"/>
                      </a:lnTo>
                      <a:lnTo>
                        <a:pt x="1368" y="103"/>
                      </a:lnTo>
                      <a:lnTo>
                        <a:pt x="1369" y="97"/>
                      </a:lnTo>
                      <a:lnTo>
                        <a:pt x="1369" y="92"/>
                      </a:lnTo>
                      <a:lnTo>
                        <a:pt x="1369" y="86"/>
                      </a:lnTo>
                      <a:lnTo>
                        <a:pt x="1367" y="80"/>
                      </a:lnTo>
                      <a:lnTo>
                        <a:pt x="1365" y="74"/>
                      </a:lnTo>
                      <a:lnTo>
                        <a:pt x="1360" y="70"/>
                      </a:lnTo>
                      <a:lnTo>
                        <a:pt x="1356" y="65"/>
                      </a:lnTo>
                      <a:lnTo>
                        <a:pt x="1351" y="63"/>
                      </a:lnTo>
                      <a:lnTo>
                        <a:pt x="1344" y="61"/>
                      </a:lnTo>
                      <a:lnTo>
                        <a:pt x="1337" y="61"/>
                      </a:lnTo>
                      <a:lnTo>
                        <a:pt x="1330" y="61"/>
                      </a:lnTo>
                      <a:close/>
                    </a:path>
                  </a:pathLst>
                </a:custGeom>
                <a:solidFill>
                  <a:srgbClr val="000000"/>
                </a:solidFill>
                <a:ln w="0">
                  <a:noFill/>
                </a:ln>
              </p:spPr>
              <p:style>
                <a:lnRef idx="0"/>
                <a:fillRef idx="0"/>
                <a:effectRef idx="0"/>
                <a:fontRef idx="minor"/>
              </p:style>
              <p:txBody>
                <a:bodyPr wrap="none" lIns="93240" rIns="93240" tIns="-14040" bIns="-14040" anchor="t">
                  <a:spAutoFit/>
                </a:bodyPr>
                <a:p>
                  <a:endParaRPr b="0" lang="en-US" sz="2400" spc="-1" strike="noStrike">
                    <a:solidFill>
                      <a:srgbClr val="ffffff"/>
                    </a:solidFill>
                    <a:latin typeface="Times New Roman"/>
                  </a:endParaRPr>
                </a:p>
              </p:txBody>
            </p:sp>
            <p:sp>
              <p:nvSpPr>
                <p:cNvPr id="506" name=""/>
                <p:cNvSpPr/>
                <p:nvPr/>
              </p:nvSpPr>
              <p:spPr>
                <a:xfrm>
                  <a:off x="4188240" y="4929840"/>
                  <a:ext cx="230040" cy="142560"/>
                </a:xfrm>
                <a:custGeom>
                  <a:avLst/>
                  <a:gdLst/>
                  <a:ahLst/>
                  <a:rect l="l" t="t" r="r" b="b"/>
                  <a:pathLst>
                    <a:path w="1140" h="748">
                      <a:moveTo>
                        <a:pt x="1084" y="9"/>
                      </a:moveTo>
                      <a:lnTo>
                        <a:pt x="1081" y="14"/>
                      </a:lnTo>
                      <a:lnTo>
                        <a:pt x="1073" y="23"/>
                      </a:lnTo>
                      <a:lnTo>
                        <a:pt x="1060" y="36"/>
                      </a:lnTo>
                      <a:lnTo>
                        <a:pt x="1043" y="52"/>
                      </a:lnTo>
                      <a:lnTo>
                        <a:pt x="1022" y="69"/>
                      </a:lnTo>
                      <a:lnTo>
                        <a:pt x="971" y="109"/>
                      </a:lnTo>
                      <a:lnTo>
                        <a:pt x="909" y="156"/>
                      </a:lnTo>
                      <a:lnTo>
                        <a:pt x="837" y="207"/>
                      </a:lnTo>
                      <a:lnTo>
                        <a:pt x="759" y="261"/>
                      </a:lnTo>
                      <a:lnTo>
                        <a:pt x="674" y="317"/>
                      </a:lnTo>
                      <a:lnTo>
                        <a:pt x="587" y="373"/>
                      </a:lnTo>
                      <a:lnTo>
                        <a:pt x="499" y="430"/>
                      </a:lnTo>
                      <a:lnTo>
                        <a:pt x="410" y="482"/>
                      </a:lnTo>
                      <a:lnTo>
                        <a:pt x="324" y="533"/>
                      </a:lnTo>
                      <a:lnTo>
                        <a:pt x="243" y="579"/>
                      </a:lnTo>
                      <a:lnTo>
                        <a:pt x="204" y="598"/>
                      </a:lnTo>
                      <a:lnTo>
                        <a:pt x="167" y="618"/>
                      </a:lnTo>
                      <a:lnTo>
                        <a:pt x="132" y="634"/>
                      </a:lnTo>
                      <a:lnTo>
                        <a:pt x="100" y="649"/>
                      </a:lnTo>
                      <a:lnTo>
                        <a:pt x="70" y="662"/>
                      </a:lnTo>
                      <a:lnTo>
                        <a:pt x="44" y="672"/>
                      </a:lnTo>
                      <a:lnTo>
                        <a:pt x="20" y="680"/>
                      </a:lnTo>
                      <a:lnTo>
                        <a:pt x="0" y="685"/>
                      </a:lnTo>
                      <a:lnTo>
                        <a:pt x="14" y="748"/>
                      </a:lnTo>
                      <a:lnTo>
                        <a:pt x="38" y="742"/>
                      </a:lnTo>
                      <a:lnTo>
                        <a:pt x="66" y="733"/>
                      </a:lnTo>
                      <a:lnTo>
                        <a:pt x="94" y="721"/>
                      </a:lnTo>
                      <a:lnTo>
                        <a:pt x="127" y="709"/>
                      </a:lnTo>
                      <a:lnTo>
                        <a:pt x="160" y="693"/>
                      </a:lnTo>
                      <a:lnTo>
                        <a:pt x="197" y="675"/>
                      </a:lnTo>
                      <a:lnTo>
                        <a:pt x="233" y="656"/>
                      </a:lnTo>
                      <a:lnTo>
                        <a:pt x="274" y="635"/>
                      </a:lnTo>
                      <a:lnTo>
                        <a:pt x="356" y="589"/>
                      </a:lnTo>
                      <a:lnTo>
                        <a:pt x="444" y="539"/>
                      </a:lnTo>
                      <a:lnTo>
                        <a:pt x="533" y="485"/>
                      </a:lnTo>
                      <a:lnTo>
                        <a:pt x="623" y="428"/>
                      </a:lnTo>
                      <a:lnTo>
                        <a:pt x="710" y="371"/>
                      </a:lnTo>
                      <a:lnTo>
                        <a:pt x="795" y="315"/>
                      </a:lnTo>
                      <a:lnTo>
                        <a:pt x="874" y="260"/>
                      </a:lnTo>
                      <a:lnTo>
                        <a:pt x="947" y="208"/>
                      </a:lnTo>
                      <a:lnTo>
                        <a:pt x="1011" y="161"/>
                      </a:lnTo>
                      <a:lnTo>
                        <a:pt x="1064" y="118"/>
                      </a:lnTo>
                      <a:lnTo>
                        <a:pt x="1086" y="100"/>
                      </a:lnTo>
                      <a:lnTo>
                        <a:pt x="1104" y="83"/>
                      </a:lnTo>
                      <a:lnTo>
                        <a:pt x="1120" y="67"/>
                      </a:lnTo>
                      <a:lnTo>
                        <a:pt x="1133" y="53"/>
                      </a:lnTo>
                      <a:lnTo>
                        <a:pt x="1129" y="56"/>
                      </a:lnTo>
                      <a:lnTo>
                        <a:pt x="1133" y="53"/>
                      </a:lnTo>
                      <a:lnTo>
                        <a:pt x="1136" y="46"/>
                      </a:lnTo>
                      <a:lnTo>
                        <a:pt x="1138" y="40"/>
                      </a:lnTo>
                      <a:lnTo>
                        <a:pt x="1140" y="33"/>
                      </a:lnTo>
                      <a:lnTo>
                        <a:pt x="1140" y="27"/>
                      </a:lnTo>
                      <a:lnTo>
                        <a:pt x="1137" y="22"/>
                      </a:lnTo>
                      <a:lnTo>
                        <a:pt x="1135" y="16"/>
                      </a:lnTo>
                      <a:lnTo>
                        <a:pt x="1130" y="11"/>
                      </a:lnTo>
                      <a:lnTo>
                        <a:pt x="1127" y="8"/>
                      </a:lnTo>
                      <a:lnTo>
                        <a:pt x="1121" y="4"/>
                      </a:lnTo>
                      <a:lnTo>
                        <a:pt x="1115" y="2"/>
                      </a:lnTo>
                      <a:lnTo>
                        <a:pt x="1110" y="0"/>
                      </a:lnTo>
                      <a:lnTo>
                        <a:pt x="1104" y="0"/>
                      </a:lnTo>
                      <a:lnTo>
                        <a:pt x="1098" y="1"/>
                      </a:lnTo>
                      <a:lnTo>
                        <a:pt x="1092" y="3"/>
                      </a:lnTo>
                      <a:lnTo>
                        <a:pt x="1087" y="8"/>
                      </a:lnTo>
                      <a:lnTo>
                        <a:pt x="1081" y="14"/>
                      </a:lnTo>
                      <a:lnTo>
                        <a:pt x="1084" y="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7" name=""/>
                <p:cNvSpPr/>
                <p:nvPr/>
              </p:nvSpPr>
              <p:spPr>
                <a:xfrm>
                  <a:off x="4394880" y="4887720"/>
                  <a:ext cx="28800" cy="53640"/>
                </a:xfrm>
                <a:custGeom>
                  <a:avLst/>
                  <a:gdLst/>
                  <a:ahLst/>
                  <a:rect l="l" t="t" r="r" b="b"/>
                  <a:pathLst>
                    <a:path w="147" h="286">
                      <a:moveTo>
                        <a:pt x="55" y="55"/>
                      </a:moveTo>
                      <a:lnTo>
                        <a:pt x="20" y="63"/>
                      </a:lnTo>
                      <a:lnTo>
                        <a:pt x="27" y="67"/>
                      </a:lnTo>
                      <a:lnTo>
                        <a:pt x="35" y="73"/>
                      </a:lnTo>
                      <a:lnTo>
                        <a:pt x="43" y="81"/>
                      </a:lnTo>
                      <a:lnTo>
                        <a:pt x="51" y="90"/>
                      </a:lnTo>
                      <a:lnTo>
                        <a:pt x="58" y="102"/>
                      </a:lnTo>
                      <a:lnTo>
                        <a:pt x="65" y="115"/>
                      </a:lnTo>
                      <a:lnTo>
                        <a:pt x="71" y="129"/>
                      </a:lnTo>
                      <a:lnTo>
                        <a:pt x="76" y="144"/>
                      </a:lnTo>
                      <a:lnTo>
                        <a:pt x="79" y="159"/>
                      </a:lnTo>
                      <a:lnTo>
                        <a:pt x="82" y="174"/>
                      </a:lnTo>
                      <a:lnTo>
                        <a:pt x="83" y="187"/>
                      </a:lnTo>
                      <a:lnTo>
                        <a:pt x="82" y="200"/>
                      </a:lnTo>
                      <a:lnTo>
                        <a:pt x="79" y="213"/>
                      </a:lnTo>
                      <a:lnTo>
                        <a:pt x="75" y="224"/>
                      </a:lnTo>
                      <a:lnTo>
                        <a:pt x="73" y="228"/>
                      </a:lnTo>
                      <a:lnTo>
                        <a:pt x="70" y="232"/>
                      </a:lnTo>
                      <a:lnTo>
                        <a:pt x="67" y="236"/>
                      </a:lnTo>
                      <a:lnTo>
                        <a:pt x="63" y="239"/>
                      </a:lnTo>
                      <a:lnTo>
                        <a:pt x="108" y="286"/>
                      </a:lnTo>
                      <a:lnTo>
                        <a:pt x="116" y="278"/>
                      </a:lnTo>
                      <a:lnTo>
                        <a:pt x="123" y="269"/>
                      </a:lnTo>
                      <a:lnTo>
                        <a:pt x="129" y="260"/>
                      </a:lnTo>
                      <a:lnTo>
                        <a:pt x="135" y="249"/>
                      </a:lnTo>
                      <a:lnTo>
                        <a:pt x="141" y="230"/>
                      </a:lnTo>
                      <a:lnTo>
                        <a:pt x="146" y="209"/>
                      </a:lnTo>
                      <a:lnTo>
                        <a:pt x="147" y="187"/>
                      </a:lnTo>
                      <a:lnTo>
                        <a:pt x="146" y="167"/>
                      </a:lnTo>
                      <a:lnTo>
                        <a:pt x="143" y="146"/>
                      </a:lnTo>
                      <a:lnTo>
                        <a:pt x="138" y="125"/>
                      </a:lnTo>
                      <a:lnTo>
                        <a:pt x="131" y="106"/>
                      </a:lnTo>
                      <a:lnTo>
                        <a:pt x="123" y="86"/>
                      </a:lnTo>
                      <a:lnTo>
                        <a:pt x="114" y="69"/>
                      </a:lnTo>
                      <a:lnTo>
                        <a:pt x="102" y="52"/>
                      </a:lnTo>
                      <a:lnTo>
                        <a:pt x="90" y="37"/>
                      </a:lnTo>
                      <a:lnTo>
                        <a:pt x="77" y="23"/>
                      </a:lnTo>
                      <a:lnTo>
                        <a:pt x="61" y="12"/>
                      </a:lnTo>
                      <a:lnTo>
                        <a:pt x="45" y="4"/>
                      </a:lnTo>
                      <a:lnTo>
                        <a:pt x="9" y="10"/>
                      </a:lnTo>
                      <a:lnTo>
                        <a:pt x="45" y="4"/>
                      </a:lnTo>
                      <a:lnTo>
                        <a:pt x="37" y="1"/>
                      </a:lnTo>
                      <a:lnTo>
                        <a:pt x="30" y="0"/>
                      </a:lnTo>
                      <a:lnTo>
                        <a:pt x="24" y="1"/>
                      </a:lnTo>
                      <a:lnTo>
                        <a:pt x="19" y="4"/>
                      </a:lnTo>
                      <a:lnTo>
                        <a:pt x="13" y="6"/>
                      </a:lnTo>
                      <a:lnTo>
                        <a:pt x="8" y="10"/>
                      </a:lnTo>
                      <a:lnTo>
                        <a:pt x="5" y="15"/>
                      </a:lnTo>
                      <a:lnTo>
                        <a:pt x="3" y="21"/>
                      </a:lnTo>
                      <a:lnTo>
                        <a:pt x="0" y="27"/>
                      </a:lnTo>
                      <a:lnTo>
                        <a:pt x="0" y="32"/>
                      </a:lnTo>
                      <a:lnTo>
                        <a:pt x="0" y="38"/>
                      </a:lnTo>
                      <a:lnTo>
                        <a:pt x="1" y="44"/>
                      </a:lnTo>
                      <a:lnTo>
                        <a:pt x="4" y="50"/>
                      </a:lnTo>
                      <a:lnTo>
                        <a:pt x="8" y="55"/>
                      </a:lnTo>
                      <a:lnTo>
                        <a:pt x="13" y="59"/>
                      </a:lnTo>
                      <a:lnTo>
                        <a:pt x="20" y="63"/>
                      </a:lnTo>
                      <a:lnTo>
                        <a:pt x="55" y="55"/>
                      </a:lnTo>
                      <a:close/>
                    </a:path>
                  </a:pathLst>
                </a:custGeom>
                <a:solidFill>
                  <a:srgbClr val="000000"/>
                </a:solidFill>
                <a:ln w="0">
                  <a:noFill/>
                </a:ln>
              </p:spPr>
              <p:style>
                <a:lnRef idx="0"/>
                <a:fillRef idx="0"/>
                <a:effectRef idx="0"/>
                <a:fontRef idx="minor"/>
              </p:style>
              <p:txBody>
                <a:bodyPr wrap="none" lIns="93240" rIns="93240" tIns="7200" bIns="7200" anchor="t">
                  <a:spAutoFit/>
                </a:bodyPr>
                <a:p>
                  <a:endParaRPr b="0" lang="en-US" sz="2400" spc="-1" strike="noStrike">
                    <a:solidFill>
                      <a:srgbClr val="ffffff"/>
                    </a:solidFill>
                    <a:latin typeface="Times New Roman"/>
                  </a:endParaRPr>
                </a:p>
              </p:txBody>
            </p:sp>
            <p:sp>
              <p:nvSpPr>
                <p:cNvPr id="508" name=""/>
                <p:cNvSpPr/>
                <p:nvPr/>
              </p:nvSpPr>
              <p:spPr>
                <a:xfrm>
                  <a:off x="4252680" y="4889520"/>
                  <a:ext cx="151920" cy="105840"/>
                </a:xfrm>
                <a:custGeom>
                  <a:avLst/>
                  <a:gdLst/>
                  <a:ahLst/>
                  <a:rect l="l" t="t" r="r" b="b"/>
                  <a:pathLst>
                    <a:path w="750" h="560">
                      <a:moveTo>
                        <a:pt x="57" y="548"/>
                      </a:moveTo>
                      <a:lnTo>
                        <a:pt x="44" y="558"/>
                      </a:lnTo>
                      <a:lnTo>
                        <a:pt x="76" y="543"/>
                      </a:lnTo>
                      <a:lnTo>
                        <a:pt x="114" y="524"/>
                      </a:lnTo>
                      <a:lnTo>
                        <a:pt x="155" y="500"/>
                      </a:lnTo>
                      <a:lnTo>
                        <a:pt x="200" y="473"/>
                      </a:lnTo>
                      <a:lnTo>
                        <a:pt x="248" y="442"/>
                      </a:lnTo>
                      <a:lnTo>
                        <a:pt x="299" y="407"/>
                      </a:lnTo>
                      <a:lnTo>
                        <a:pt x="351" y="372"/>
                      </a:lnTo>
                      <a:lnTo>
                        <a:pt x="402" y="334"/>
                      </a:lnTo>
                      <a:lnTo>
                        <a:pt x="455" y="295"/>
                      </a:lnTo>
                      <a:lnTo>
                        <a:pt x="506" y="256"/>
                      </a:lnTo>
                      <a:lnTo>
                        <a:pt x="556" y="216"/>
                      </a:lnTo>
                      <a:lnTo>
                        <a:pt x="603" y="179"/>
                      </a:lnTo>
                      <a:lnTo>
                        <a:pt x="647" y="142"/>
                      </a:lnTo>
                      <a:lnTo>
                        <a:pt x="686" y="107"/>
                      </a:lnTo>
                      <a:lnTo>
                        <a:pt x="722" y="74"/>
                      </a:lnTo>
                      <a:lnTo>
                        <a:pt x="750" y="45"/>
                      </a:lnTo>
                      <a:lnTo>
                        <a:pt x="704" y="0"/>
                      </a:lnTo>
                      <a:lnTo>
                        <a:pt x="677" y="28"/>
                      </a:lnTo>
                      <a:lnTo>
                        <a:pt x="644" y="59"/>
                      </a:lnTo>
                      <a:lnTo>
                        <a:pt x="604" y="92"/>
                      </a:lnTo>
                      <a:lnTo>
                        <a:pt x="562" y="129"/>
                      </a:lnTo>
                      <a:lnTo>
                        <a:pt x="516" y="166"/>
                      </a:lnTo>
                      <a:lnTo>
                        <a:pt x="467" y="205"/>
                      </a:lnTo>
                      <a:lnTo>
                        <a:pt x="416" y="243"/>
                      </a:lnTo>
                      <a:lnTo>
                        <a:pt x="364" y="282"/>
                      </a:lnTo>
                      <a:lnTo>
                        <a:pt x="313" y="319"/>
                      </a:lnTo>
                      <a:lnTo>
                        <a:pt x="262" y="354"/>
                      </a:lnTo>
                      <a:lnTo>
                        <a:pt x="213" y="388"/>
                      </a:lnTo>
                      <a:lnTo>
                        <a:pt x="166" y="418"/>
                      </a:lnTo>
                      <a:lnTo>
                        <a:pt x="122" y="445"/>
                      </a:lnTo>
                      <a:lnTo>
                        <a:pt x="83" y="467"/>
                      </a:lnTo>
                      <a:lnTo>
                        <a:pt x="49" y="484"/>
                      </a:lnTo>
                      <a:lnTo>
                        <a:pt x="21" y="497"/>
                      </a:lnTo>
                      <a:lnTo>
                        <a:pt x="8" y="506"/>
                      </a:lnTo>
                      <a:lnTo>
                        <a:pt x="21" y="497"/>
                      </a:lnTo>
                      <a:lnTo>
                        <a:pt x="14" y="500"/>
                      </a:lnTo>
                      <a:lnTo>
                        <a:pt x="10" y="504"/>
                      </a:lnTo>
                      <a:lnTo>
                        <a:pt x="5" y="509"/>
                      </a:lnTo>
                      <a:lnTo>
                        <a:pt x="2" y="514"/>
                      </a:lnTo>
                      <a:lnTo>
                        <a:pt x="0" y="520"/>
                      </a:lnTo>
                      <a:lnTo>
                        <a:pt x="0" y="527"/>
                      </a:lnTo>
                      <a:lnTo>
                        <a:pt x="0" y="532"/>
                      </a:lnTo>
                      <a:lnTo>
                        <a:pt x="3" y="538"/>
                      </a:lnTo>
                      <a:lnTo>
                        <a:pt x="5" y="544"/>
                      </a:lnTo>
                      <a:lnTo>
                        <a:pt x="8" y="548"/>
                      </a:lnTo>
                      <a:lnTo>
                        <a:pt x="13" y="553"/>
                      </a:lnTo>
                      <a:lnTo>
                        <a:pt x="18" y="557"/>
                      </a:lnTo>
                      <a:lnTo>
                        <a:pt x="23" y="559"/>
                      </a:lnTo>
                      <a:lnTo>
                        <a:pt x="29" y="560"/>
                      </a:lnTo>
                      <a:lnTo>
                        <a:pt x="36" y="559"/>
                      </a:lnTo>
                      <a:lnTo>
                        <a:pt x="44" y="558"/>
                      </a:lnTo>
                      <a:lnTo>
                        <a:pt x="57" y="54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09" name=""/>
                <p:cNvSpPr/>
                <p:nvPr/>
              </p:nvSpPr>
              <p:spPr>
                <a:xfrm>
                  <a:off x="4111920" y="4984920"/>
                  <a:ext cx="151560" cy="45360"/>
                </a:xfrm>
                <a:custGeom>
                  <a:avLst/>
                  <a:gdLst/>
                  <a:ahLst/>
                  <a:rect l="l" t="t" r="r" b="b"/>
                  <a:pathLst>
                    <a:path w="759" h="241">
                      <a:moveTo>
                        <a:pt x="25" y="240"/>
                      </a:moveTo>
                      <a:lnTo>
                        <a:pt x="33" y="241"/>
                      </a:lnTo>
                      <a:lnTo>
                        <a:pt x="89" y="239"/>
                      </a:lnTo>
                      <a:lnTo>
                        <a:pt x="144" y="235"/>
                      </a:lnTo>
                      <a:lnTo>
                        <a:pt x="201" y="231"/>
                      </a:lnTo>
                      <a:lnTo>
                        <a:pt x="256" y="225"/>
                      </a:lnTo>
                      <a:lnTo>
                        <a:pt x="309" y="218"/>
                      </a:lnTo>
                      <a:lnTo>
                        <a:pt x="361" y="210"/>
                      </a:lnTo>
                      <a:lnTo>
                        <a:pt x="412" y="201"/>
                      </a:lnTo>
                      <a:lnTo>
                        <a:pt x="461" y="190"/>
                      </a:lnTo>
                      <a:lnTo>
                        <a:pt x="508" y="178"/>
                      </a:lnTo>
                      <a:lnTo>
                        <a:pt x="553" y="163"/>
                      </a:lnTo>
                      <a:lnTo>
                        <a:pt x="596" y="148"/>
                      </a:lnTo>
                      <a:lnTo>
                        <a:pt x="635" y="131"/>
                      </a:lnTo>
                      <a:lnTo>
                        <a:pt x="653" y="122"/>
                      </a:lnTo>
                      <a:lnTo>
                        <a:pt x="671" y="111"/>
                      </a:lnTo>
                      <a:lnTo>
                        <a:pt x="688" y="101"/>
                      </a:lnTo>
                      <a:lnTo>
                        <a:pt x="704" y="91"/>
                      </a:lnTo>
                      <a:lnTo>
                        <a:pt x="720" y="79"/>
                      </a:lnTo>
                      <a:lnTo>
                        <a:pt x="733" y="68"/>
                      </a:lnTo>
                      <a:lnTo>
                        <a:pt x="747" y="55"/>
                      </a:lnTo>
                      <a:lnTo>
                        <a:pt x="759" y="42"/>
                      </a:lnTo>
                      <a:lnTo>
                        <a:pt x="710" y="0"/>
                      </a:lnTo>
                      <a:lnTo>
                        <a:pt x="701" y="9"/>
                      </a:lnTo>
                      <a:lnTo>
                        <a:pt x="691" y="19"/>
                      </a:lnTo>
                      <a:lnTo>
                        <a:pt x="679" y="29"/>
                      </a:lnTo>
                      <a:lnTo>
                        <a:pt x="667" y="38"/>
                      </a:lnTo>
                      <a:lnTo>
                        <a:pt x="653" y="47"/>
                      </a:lnTo>
                      <a:lnTo>
                        <a:pt x="639" y="56"/>
                      </a:lnTo>
                      <a:lnTo>
                        <a:pt x="623" y="64"/>
                      </a:lnTo>
                      <a:lnTo>
                        <a:pt x="607" y="72"/>
                      </a:lnTo>
                      <a:lnTo>
                        <a:pt x="572" y="88"/>
                      </a:lnTo>
                      <a:lnTo>
                        <a:pt x="532" y="102"/>
                      </a:lnTo>
                      <a:lnTo>
                        <a:pt x="491" y="115"/>
                      </a:lnTo>
                      <a:lnTo>
                        <a:pt x="446" y="127"/>
                      </a:lnTo>
                      <a:lnTo>
                        <a:pt x="399" y="138"/>
                      </a:lnTo>
                      <a:lnTo>
                        <a:pt x="350" y="147"/>
                      </a:lnTo>
                      <a:lnTo>
                        <a:pt x="299" y="155"/>
                      </a:lnTo>
                      <a:lnTo>
                        <a:pt x="248" y="161"/>
                      </a:lnTo>
                      <a:lnTo>
                        <a:pt x="195" y="167"/>
                      </a:lnTo>
                      <a:lnTo>
                        <a:pt x="141" y="171"/>
                      </a:lnTo>
                      <a:lnTo>
                        <a:pt x="86" y="175"/>
                      </a:lnTo>
                      <a:lnTo>
                        <a:pt x="31" y="176"/>
                      </a:lnTo>
                      <a:lnTo>
                        <a:pt x="39" y="177"/>
                      </a:lnTo>
                      <a:lnTo>
                        <a:pt x="31" y="177"/>
                      </a:lnTo>
                      <a:lnTo>
                        <a:pt x="24" y="177"/>
                      </a:lnTo>
                      <a:lnTo>
                        <a:pt x="17" y="179"/>
                      </a:lnTo>
                      <a:lnTo>
                        <a:pt x="11" y="183"/>
                      </a:lnTo>
                      <a:lnTo>
                        <a:pt x="8" y="187"/>
                      </a:lnTo>
                      <a:lnTo>
                        <a:pt x="4" y="192"/>
                      </a:lnTo>
                      <a:lnTo>
                        <a:pt x="2" y="198"/>
                      </a:lnTo>
                      <a:lnTo>
                        <a:pt x="0" y="203"/>
                      </a:lnTo>
                      <a:lnTo>
                        <a:pt x="0" y="209"/>
                      </a:lnTo>
                      <a:lnTo>
                        <a:pt x="1" y="216"/>
                      </a:lnTo>
                      <a:lnTo>
                        <a:pt x="2" y="222"/>
                      </a:lnTo>
                      <a:lnTo>
                        <a:pt x="4" y="226"/>
                      </a:lnTo>
                      <a:lnTo>
                        <a:pt x="9" y="231"/>
                      </a:lnTo>
                      <a:lnTo>
                        <a:pt x="13" y="235"/>
                      </a:lnTo>
                      <a:lnTo>
                        <a:pt x="18" y="239"/>
                      </a:lnTo>
                      <a:lnTo>
                        <a:pt x="25" y="240"/>
                      </a:lnTo>
                      <a:lnTo>
                        <a:pt x="33" y="241"/>
                      </a:lnTo>
                      <a:lnTo>
                        <a:pt x="25" y="240"/>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510" name=""/>
                <p:cNvSpPr/>
                <p:nvPr/>
              </p:nvSpPr>
              <p:spPr>
                <a:xfrm>
                  <a:off x="3919320" y="4992480"/>
                  <a:ext cx="200520" cy="37800"/>
                </a:xfrm>
                <a:custGeom>
                  <a:avLst/>
                  <a:gdLst/>
                  <a:ahLst/>
                  <a:rect l="l" t="t" r="r" b="b"/>
                  <a:pathLst>
                    <a:path w="993" h="200">
                      <a:moveTo>
                        <a:pt x="57" y="56"/>
                      </a:moveTo>
                      <a:lnTo>
                        <a:pt x="34" y="67"/>
                      </a:lnTo>
                      <a:lnTo>
                        <a:pt x="67" y="66"/>
                      </a:lnTo>
                      <a:lnTo>
                        <a:pt x="100" y="65"/>
                      </a:lnTo>
                      <a:lnTo>
                        <a:pt x="134" y="65"/>
                      </a:lnTo>
                      <a:lnTo>
                        <a:pt x="168" y="66"/>
                      </a:lnTo>
                      <a:lnTo>
                        <a:pt x="236" y="69"/>
                      </a:lnTo>
                      <a:lnTo>
                        <a:pt x="304" y="75"/>
                      </a:lnTo>
                      <a:lnTo>
                        <a:pt x="371" y="82"/>
                      </a:lnTo>
                      <a:lnTo>
                        <a:pt x="439" y="91"/>
                      </a:lnTo>
                      <a:lnTo>
                        <a:pt x="505" y="101"/>
                      </a:lnTo>
                      <a:lnTo>
                        <a:pt x="569" y="112"/>
                      </a:lnTo>
                      <a:lnTo>
                        <a:pt x="631" y="124"/>
                      </a:lnTo>
                      <a:lnTo>
                        <a:pt x="692" y="136"/>
                      </a:lnTo>
                      <a:lnTo>
                        <a:pt x="748" y="148"/>
                      </a:lnTo>
                      <a:lnTo>
                        <a:pt x="802" y="160"/>
                      </a:lnTo>
                      <a:lnTo>
                        <a:pt x="900" y="183"/>
                      </a:lnTo>
                      <a:lnTo>
                        <a:pt x="979" y="200"/>
                      </a:lnTo>
                      <a:lnTo>
                        <a:pt x="993" y="137"/>
                      </a:lnTo>
                      <a:lnTo>
                        <a:pt x="913" y="120"/>
                      </a:lnTo>
                      <a:lnTo>
                        <a:pt x="817" y="97"/>
                      </a:lnTo>
                      <a:lnTo>
                        <a:pt x="762" y="85"/>
                      </a:lnTo>
                      <a:lnTo>
                        <a:pt x="704" y="73"/>
                      </a:lnTo>
                      <a:lnTo>
                        <a:pt x="644" y="60"/>
                      </a:lnTo>
                      <a:lnTo>
                        <a:pt x="580" y="48"/>
                      </a:lnTo>
                      <a:lnTo>
                        <a:pt x="515" y="37"/>
                      </a:lnTo>
                      <a:lnTo>
                        <a:pt x="448" y="27"/>
                      </a:lnTo>
                      <a:lnTo>
                        <a:pt x="379" y="17"/>
                      </a:lnTo>
                      <a:lnTo>
                        <a:pt x="311" y="11"/>
                      </a:lnTo>
                      <a:lnTo>
                        <a:pt x="240" y="5"/>
                      </a:lnTo>
                      <a:lnTo>
                        <a:pt x="170" y="1"/>
                      </a:lnTo>
                      <a:lnTo>
                        <a:pt x="135" y="0"/>
                      </a:lnTo>
                      <a:lnTo>
                        <a:pt x="100" y="0"/>
                      </a:lnTo>
                      <a:lnTo>
                        <a:pt x="65" y="0"/>
                      </a:lnTo>
                      <a:lnTo>
                        <a:pt x="30" y="1"/>
                      </a:lnTo>
                      <a:lnTo>
                        <a:pt x="9" y="13"/>
                      </a:lnTo>
                      <a:lnTo>
                        <a:pt x="30" y="2"/>
                      </a:lnTo>
                      <a:lnTo>
                        <a:pt x="23" y="2"/>
                      </a:lnTo>
                      <a:lnTo>
                        <a:pt x="17" y="6"/>
                      </a:lnTo>
                      <a:lnTo>
                        <a:pt x="11" y="9"/>
                      </a:lnTo>
                      <a:lnTo>
                        <a:pt x="7" y="13"/>
                      </a:lnTo>
                      <a:lnTo>
                        <a:pt x="4" y="19"/>
                      </a:lnTo>
                      <a:lnTo>
                        <a:pt x="2" y="24"/>
                      </a:lnTo>
                      <a:lnTo>
                        <a:pt x="0" y="30"/>
                      </a:lnTo>
                      <a:lnTo>
                        <a:pt x="0" y="36"/>
                      </a:lnTo>
                      <a:lnTo>
                        <a:pt x="0" y="42"/>
                      </a:lnTo>
                      <a:lnTo>
                        <a:pt x="3" y="47"/>
                      </a:lnTo>
                      <a:lnTo>
                        <a:pt x="5" y="53"/>
                      </a:lnTo>
                      <a:lnTo>
                        <a:pt x="10" y="58"/>
                      </a:lnTo>
                      <a:lnTo>
                        <a:pt x="14" y="61"/>
                      </a:lnTo>
                      <a:lnTo>
                        <a:pt x="20" y="65"/>
                      </a:lnTo>
                      <a:lnTo>
                        <a:pt x="26" y="66"/>
                      </a:lnTo>
                      <a:lnTo>
                        <a:pt x="34" y="67"/>
                      </a:lnTo>
                      <a:lnTo>
                        <a:pt x="57" y="56"/>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11" name=""/>
                <p:cNvSpPr/>
                <p:nvPr/>
              </p:nvSpPr>
              <p:spPr>
                <a:xfrm>
                  <a:off x="3923640" y="4992480"/>
                  <a:ext cx="193680" cy="37800"/>
                </a:xfrm>
                <a:custGeom>
                  <a:avLst/>
                  <a:gdLst/>
                  <a:ahLst/>
                  <a:rect l="l" t="t" r="r" b="b"/>
                  <a:pathLst>
                    <a:path w="960" h="200">
                      <a:moveTo>
                        <a:pt x="928" y="135"/>
                      </a:moveTo>
                      <a:lnTo>
                        <a:pt x="937" y="137"/>
                      </a:lnTo>
                      <a:lnTo>
                        <a:pt x="878" y="119"/>
                      </a:lnTo>
                      <a:lnTo>
                        <a:pt x="819" y="103"/>
                      </a:lnTo>
                      <a:lnTo>
                        <a:pt x="760" y="88"/>
                      </a:lnTo>
                      <a:lnTo>
                        <a:pt x="702" y="74"/>
                      </a:lnTo>
                      <a:lnTo>
                        <a:pt x="643" y="61"/>
                      </a:lnTo>
                      <a:lnTo>
                        <a:pt x="585" y="50"/>
                      </a:lnTo>
                      <a:lnTo>
                        <a:pt x="526" y="41"/>
                      </a:lnTo>
                      <a:lnTo>
                        <a:pt x="469" y="31"/>
                      </a:lnTo>
                      <a:lnTo>
                        <a:pt x="410" y="23"/>
                      </a:lnTo>
                      <a:lnTo>
                        <a:pt x="352" y="18"/>
                      </a:lnTo>
                      <a:lnTo>
                        <a:pt x="293" y="12"/>
                      </a:lnTo>
                      <a:lnTo>
                        <a:pt x="236" y="8"/>
                      </a:lnTo>
                      <a:lnTo>
                        <a:pt x="177" y="5"/>
                      </a:lnTo>
                      <a:lnTo>
                        <a:pt x="118" y="3"/>
                      </a:lnTo>
                      <a:lnTo>
                        <a:pt x="59" y="1"/>
                      </a:lnTo>
                      <a:lnTo>
                        <a:pt x="0" y="0"/>
                      </a:lnTo>
                      <a:lnTo>
                        <a:pt x="0" y="66"/>
                      </a:lnTo>
                      <a:lnTo>
                        <a:pt x="59" y="66"/>
                      </a:lnTo>
                      <a:lnTo>
                        <a:pt x="116" y="67"/>
                      </a:lnTo>
                      <a:lnTo>
                        <a:pt x="174" y="69"/>
                      </a:lnTo>
                      <a:lnTo>
                        <a:pt x="231" y="73"/>
                      </a:lnTo>
                      <a:lnTo>
                        <a:pt x="288" y="77"/>
                      </a:lnTo>
                      <a:lnTo>
                        <a:pt x="346" y="82"/>
                      </a:lnTo>
                      <a:lnTo>
                        <a:pt x="402" y="88"/>
                      </a:lnTo>
                      <a:lnTo>
                        <a:pt x="459" y="96"/>
                      </a:lnTo>
                      <a:lnTo>
                        <a:pt x="516" y="104"/>
                      </a:lnTo>
                      <a:lnTo>
                        <a:pt x="573" y="113"/>
                      </a:lnTo>
                      <a:lnTo>
                        <a:pt x="631" y="124"/>
                      </a:lnTo>
                      <a:lnTo>
                        <a:pt x="687" y="136"/>
                      </a:lnTo>
                      <a:lnTo>
                        <a:pt x="744" y="150"/>
                      </a:lnTo>
                      <a:lnTo>
                        <a:pt x="802" y="165"/>
                      </a:lnTo>
                      <a:lnTo>
                        <a:pt x="860" y="181"/>
                      </a:lnTo>
                      <a:lnTo>
                        <a:pt x="918" y="199"/>
                      </a:lnTo>
                      <a:lnTo>
                        <a:pt x="928" y="200"/>
                      </a:lnTo>
                      <a:lnTo>
                        <a:pt x="918" y="199"/>
                      </a:lnTo>
                      <a:lnTo>
                        <a:pt x="926" y="200"/>
                      </a:lnTo>
                      <a:lnTo>
                        <a:pt x="933" y="200"/>
                      </a:lnTo>
                      <a:lnTo>
                        <a:pt x="938" y="199"/>
                      </a:lnTo>
                      <a:lnTo>
                        <a:pt x="944" y="196"/>
                      </a:lnTo>
                      <a:lnTo>
                        <a:pt x="949" y="192"/>
                      </a:lnTo>
                      <a:lnTo>
                        <a:pt x="953" y="188"/>
                      </a:lnTo>
                      <a:lnTo>
                        <a:pt x="957" y="183"/>
                      </a:lnTo>
                      <a:lnTo>
                        <a:pt x="959" y="177"/>
                      </a:lnTo>
                      <a:lnTo>
                        <a:pt x="960" y="172"/>
                      </a:lnTo>
                      <a:lnTo>
                        <a:pt x="960" y="166"/>
                      </a:lnTo>
                      <a:lnTo>
                        <a:pt x="959" y="159"/>
                      </a:lnTo>
                      <a:lnTo>
                        <a:pt x="958" y="153"/>
                      </a:lnTo>
                      <a:lnTo>
                        <a:pt x="954" y="149"/>
                      </a:lnTo>
                      <a:lnTo>
                        <a:pt x="950" y="144"/>
                      </a:lnTo>
                      <a:lnTo>
                        <a:pt x="944" y="139"/>
                      </a:lnTo>
                      <a:lnTo>
                        <a:pt x="937" y="137"/>
                      </a:lnTo>
                      <a:lnTo>
                        <a:pt x="928" y="135"/>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12" name=""/>
                <p:cNvSpPr/>
                <p:nvPr/>
              </p:nvSpPr>
              <p:spPr>
                <a:xfrm>
                  <a:off x="4110480" y="4980600"/>
                  <a:ext cx="158760" cy="49680"/>
                </a:xfrm>
                <a:custGeom>
                  <a:avLst/>
                  <a:gdLst/>
                  <a:ahLst/>
                  <a:rect l="l" t="t" r="r" b="b"/>
                  <a:pathLst>
                    <a:path w="790" h="262">
                      <a:moveTo>
                        <a:pt x="735" y="57"/>
                      </a:moveTo>
                      <a:lnTo>
                        <a:pt x="738" y="7"/>
                      </a:lnTo>
                      <a:lnTo>
                        <a:pt x="701" y="34"/>
                      </a:lnTo>
                      <a:lnTo>
                        <a:pt x="663" y="58"/>
                      </a:lnTo>
                      <a:lnTo>
                        <a:pt x="622" y="78"/>
                      </a:lnTo>
                      <a:lnTo>
                        <a:pt x="582" y="98"/>
                      </a:lnTo>
                      <a:lnTo>
                        <a:pt x="542" y="115"/>
                      </a:lnTo>
                      <a:lnTo>
                        <a:pt x="500" y="131"/>
                      </a:lnTo>
                      <a:lnTo>
                        <a:pt x="456" y="145"/>
                      </a:lnTo>
                      <a:lnTo>
                        <a:pt x="411" y="157"/>
                      </a:lnTo>
                      <a:lnTo>
                        <a:pt x="365" y="167"/>
                      </a:lnTo>
                      <a:lnTo>
                        <a:pt x="318" y="175"/>
                      </a:lnTo>
                      <a:lnTo>
                        <a:pt x="270" y="183"/>
                      </a:lnTo>
                      <a:lnTo>
                        <a:pt x="219" y="188"/>
                      </a:lnTo>
                      <a:lnTo>
                        <a:pt x="167" y="192"/>
                      </a:lnTo>
                      <a:lnTo>
                        <a:pt x="113" y="196"/>
                      </a:lnTo>
                      <a:lnTo>
                        <a:pt x="57" y="197"/>
                      </a:lnTo>
                      <a:lnTo>
                        <a:pt x="0" y="197"/>
                      </a:lnTo>
                      <a:lnTo>
                        <a:pt x="0" y="262"/>
                      </a:lnTo>
                      <a:lnTo>
                        <a:pt x="59" y="261"/>
                      </a:lnTo>
                      <a:lnTo>
                        <a:pt x="116" y="260"/>
                      </a:lnTo>
                      <a:lnTo>
                        <a:pt x="171" y="256"/>
                      </a:lnTo>
                      <a:lnTo>
                        <a:pt x="225" y="252"/>
                      </a:lnTo>
                      <a:lnTo>
                        <a:pt x="278" y="246"/>
                      </a:lnTo>
                      <a:lnTo>
                        <a:pt x="328" y="239"/>
                      </a:lnTo>
                      <a:lnTo>
                        <a:pt x="378" y="230"/>
                      </a:lnTo>
                      <a:lnTo>
                        <a:pt x="427" y="220"/>
                      </a:lnTo>
                      <a:lnTo>
                        <a:pt x="474" y="207"/>
                      </a:lnTo>
                      <a:lnTo>
                        <a:pt x="520" y="192"/>
                      </a:lnTo>
                      <a:lnTo>
                        <a:pt x="565" y="176"/>
                      </a:lnTo>
                      <a:lnTo>
                        <a:pt x="610" y="158"/>
                      </a:lnTo>
                      <a:lnTo>
                        <a:pt x="652" y="136"/>
                      </a:lnTo>
                      <a:lnTo>
                        <a:pt x="695" y="113"/>
                      </a:lnTo>
                      <a:lnTo>
                        <a:pt x="736" y="88"/>
                      </a:lnTo>
                      <a:lnTo>
                        <a:pt x="776" y="60"/>
                      </a:lnTo>
                      <a:lnTo>
                        <a:pt x="780" y="11"/>
                      </a:lnTo>
                      <a:lnTo>
                        <a:pt x="776" y="60"/>
                      </a:lnTo>
                      <a:lnTo>
                        <a:pt x="782" y="54"/>
                      </a:lnTo>
                      <a:lnTo>
                        <a:pt x="787" y="50"/>
                      </a:lnTo>
                      <a:lnTo>
                        <a:pt x="789" y="44"/>
                      </a:lnTo>
                      <a:lnTo>
                        <a:pt x="790" y="37"/>
                      </a:lnTo>
                      <a:lnTo>
                        <a:pt x="790" y="31"/>
                      </a:lnTo>
                      <a:lnTo>
                        <a:pt x="789" y="26"/>
                      </a:lnTo>
                      <a:lnTo>
                        <a:pt x="787" y="20"/>
                      </a:lnTo>
                      <a:lnTo>
                        <a:pt x="783" y="15"/>
                      </a:lnTo>
                      <a:lnTo>
                        <a:pt x="780" y="11"/>
                      </a:lnTo>
                      <a:lnTo>
                        <a:pt x="775" y="6"/>
                      </a:lnTo>
                      <a:lnTo>
                        <a:pt x="769" y="4"/>
                      </a:lnTo>
                      <a:lnTo>
                        <a:pt x="764" y="1"/>
                      </a:lnTo>
                      <a:lnTo>
                        <a:pt x="758" y="0"/>
                      </a:lnTo>
                      <a:lnTo>
                        <a:pt x="751" y="1"/>
                      </a:lnTo>
                      <a:lnTo>
                        <a:pt x="745" y="4"/>
                      </a:lnTo>
                      <a:lnTo>
                        <a:pt x="738" y="7"/>
                      </a:lnTo>
                      <a:lnTo>
                        <a:pt x="735" y="57"/>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13" name=""/>
                <p:cNvSpPr/>
                <p:nvPr/>
              </p:nvSpPr>
              <p:spPr>
                <a:xfrm>
                  <a:off x="4074120" y="4873680"/>
                  <a:ext cx="193680" cy="117720"/>
                </a:xfrm>
                <a:custGeom>
                  <a:avLst/>
                  <a:gdLst/>
                  <a:ahLst/>
                  <a:rect l="l" t="t" r="r" b="b"/>
                  <a:pathLst>
                    <a:path w="957" h="623">
                      <a:moveTo>
                        <a:pt x="32" y="65"/>
                      </a:moveTo>
                      <a:lnTo>
                        <a:pt x="30" y="65"/>
                      </a:lnTo>
                      <a:lnTo>
                        <a:pt x="78" y="70"/>
                      </a:lnTo>
                      <a:lnTo>
                        <a:pt x="125" y="77"/>
                      </a:lnTo>
                      <a:lnTo>
                        <a:pt x="170" y="85"/>
                      </a:lnTo>
                      <a:lnTo>
                        <a:pt x="211" y="93"/>
                      </a:lnTo>
                      <a:lnTo>
                        <a:pt x="252" y="103"/>
                      </a:lnTo>
                      <a:lnTo>
                        <a:pt x="288" y="114"/>
                      </a:lnTo>
                      <a:lnTo>
                        <a:pt x="324" y="125"/>
                      </a:lnTo>
                      <a:lnTo>
                        <a:pt x="357" y="138"/>
                      </a:lnTo>
                      <a:lnTo>
                        <a:pt x="389" y="152"/>
                      </a:lnTo>
                      <a:lnTo>
                        <a:pt x="419" y="165"/>
                      </a:lnTo>
                      <a:lnTo>
                        <a:pt x="448" y="180"/>
                      </a:lnTo>
                      <a:lnTo>
                        <a:pt x="474" y="196"/>
                      </a:lnTo>
                      <a:lnTo>
                        <a:pt x="501" y="212"/>
                      </a:lnTo>
                      <a:lnTo>
                        <a:pt x="525" y="230"/>
                      </a:lnTo>
                      <a:lnTo>
                        <a:pt x="549" y="247"/>
                      </a:lnTo>
                      <a:lnTo>
                        <a:pt x="572" y="265"/>
                      </a:lnTo>
                      <a:lnTo>
                        <a:pt x="594" y="285"/>
                      </a:lnTo>
                      <a:lnTo>
                        <a:pt x="616" y="304"/>
                      </a:lnTo>
                      <a:lnTo>
                        <a:pt x="636" y="324"/>
                      </a:lnTo>
                      <a:lnTo>
                        <a:pt x="657" y="345"/>
                      </a:lnTo>
                      <a:lnTo>
                        <a:pt x="697" y="388"/>
                      </a:lnTo>
                      <a:lnTo>
                        <a:pt x="737" y="433"/>
                      </a:lnTo>
                      <a:lnTo>
                        <a:pt x="778" y="479"/>
                      </a:lnTo>
                      <a:lnTo>
                        <a:pt x="820" y="526"/>
                      </a:lnTo>
                      <a:lnTo>
                        <a:pt x="864" y="574"/>
                      </a:lnTo>
                      <a:lnTo>
                        <a:pt x="912" y="623"/>
                      </a:lnTo>
                      <a:lnTo>
                        <a:pt x="957" y="577"/>
                      </a:lnTo>
                      <a:lnTo>
                        <a:pt x="911" y="530"/>
                      </a:lnTo>
                      <a:lnTo>
                        <a:pt x="868" y="482"/>
                      </a:lnTo>
                      <a:lnTo>
                        <a:pt x="826" y="436"/>
                      </a:lnTo>
                      <a:lnTo>
                        <a:pt x="786" y="389"/>
                      </a:lnTo>
                      <a:lnTo>
                        <a:pt x="745" y="345"/>
                      </a:lnTo>
                      <a:lnTo>
                        <a:pt x="704" y="300"/>
                      </a:lnTo>
                      <a:lnTo>
                        <a:pt x="682" y="278"/>
                      </a:lnTo>
                      <a:lnTo>
                        <a:pt x="659" y="257"/>
                      </a:lnTo>
                      <a:lnTo>
                        <a:pt x="638" y="237"/>
                      </a:lnTo>
                      <a:lnTo>
                        <a:pt x="613" y="216"/>
                      </a:lnTo>
                      <a:lnTo>
                        <a:pt x="589" y="196"/>
                      </a:lnTo>
                      <a:lnTo>
                        <a:pt x="563" y="177"/>
                      </a:lnTo>
                      <a:lnTo>
                        <a:pt x="536" y="158"/>
                      </a:lnTo>
                      <a:lnTo>
                        <a:pt x="508" y="141"/>
                      </a:lnTo>
                      <a:lnTo>
                        <a:pt x="479" y="124"/>
                      </a:lnTo>
                      <a:lnTo>
                        <a:pt x="448" y="108"/>
                      </a:lnTo>
                      <a:lnTo>
                        <a:pt x="416" y="93"/>
                      </a:lnTo>
                      <a:lnTo>
                        <a:pt x="381" y="78"/>
                      </a:lnTo>
                      <a:lnTo>
                        <a:pt x="345" y="64"/>
                      </a:lnTo>
                      <a:lnTo>
                        <a:pt x="308" y="53"/>
                      </a:lnTo>
                      <a:lnTo>
                        <a:pt x="268" y="41"/>
                      </a:lnTo>
                      <a:lnTo>
                        <a:pt x="226" y="31"/>
                      </a:lnTo>
                      <a:lnTo>
                        <a:pt x="182" y="22"/>
                      </a:lnTo>
                      <a:lnTo>
                        <a:pt x="136" y="14"/>
                      </a:lnTo>
                      <a:lnTo>
                        <a:pt x="87" y="7"/>
                      </a:lnTo>
                      <a:lnTo>
                        <a:pt x="36" y="1"/>
                      </a:lnTo>
                      <a:lnTo>
                        <a:pt x="32" y="0"/>
                      </a:lnTo>
                      <a:lnTo>
                        <a:pt x="36" y="1"/>
                      </a:lnTo>
                      <a:lnTo>
                        <a:pt x="28" y="1"/>
                      </a:lnTo>
                      <a:lnTo>
                        <a:pt x="21" y="2"/>
                      </a:lnTo>
                      <a:lnTo>
                        <a:pt x="15" y="4"/>
                      </a:lnTo>
                      <a:lnTo>
                        <a:pt x="11" y="8"/>
                      </a:lnTo>
                      <a:lnTo>
                        <a:pt x="7" y="13"/>
                      </a:lnTo>
                      <a:lnTo>
                        <a:pt x="4" y="18"/>
                      </a:lnTo>
                      <a:lnTo>
                        <a:pt x="1" y="24"/>
                      </a:lnTo>
                      <a:lnTo>
                        <a:pt x="0" y="30"/>
                      </a:lnTo>
                      <a:lnTo>
                        <a:pt x="0" y="36"/>
                      </a:lnTo>
                      <a:lnTo>
                        <a:pt x="1" y="41"/>
                      </a:lnTo>
                      <a:lnTo>
                        <a:pt x="4" y="47"/>
                      </a:lnTo>
                      <a:lnTo>
                        <a:pt x="6" y="53"/>
                      </a:lnTo>
                      <a:lnTo>
                        <a:pt x="11" y="57"/>
                      </a:lnTo>
                      <a:lnTo>
                        <a:pt x="16" y="61"/>
                      </a:lnTo>
                      <a:lnTo>
                        <a:pt x="22" y="63"/>
                      </a:lnTo>
                      <a:lnTo>
                        <a:pt x="30" y="65"/>
                      </a:lnTo>
                      <a:lnTo>
                        <a:pt x="32"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4" name=""/>
                <p:cNvSpPr/>
                <p:nvPr/>
              </p:nvSpPr>
              <p:spPr>
                <a:xfrm>
                  <a:off x="3916440" y="4873680"/>
                  <a:ext cx="164520" cy="131760"/>
                </a:xfrm>
                <a:custGeom>
                  <a:avLst/>
                  <a:gdLst/>
                  <a:ahLst/>
                  <a:rect l="l" t="t" r="r" b="b"/>
                  <a:pathLst>
                    <a:path w="815" h="694">
                      <a:moveTo>
                        <a:pt x="32" y="628"/>
                      </a:moveTo>
                      <a:lnTo>
                        <a:pt x="63" y="671"/>
                      </a:lnTo>
                      <a:lnTo>
                        <a:pt x="82" y="610"/>
                      </a:lnTo>
                      <a:lnTo>
                        <a:pt x="100" y="550"/>
                      </a:lnTo>
                      <a:lnTo>
                        <a:pt x="118" y="493"/>
                      </a:lnTo>
                      <a:lnTo>
                        <a:pt x="139" y="436"/>
                      </a:lnTo>
                      <a:lnTo>
                        <a:pt x="149" y="410"/>
                      </a:lnTo>
                      <a:lnTo>
                        <a:pt x="161" y="384"/>
                      </a:lnTo>
                      <a:lnTo>
                        <a:pt x="173" y="358"/>
                      </a:lnTo>
                      <a:lnTo>
                        <a:pt x="186" y="334"/>
                      </a:lnTo>
                      <a:lnTo>
                        <a:pt x="200" y="311"/>
                      </a:lnTo>
                      <a:lnTo>
                        <a:pt x="215" y="288"/>
                      </a:lnTo>
                      <a:lnTo>
                        <a:pt x="232" y="266"/>
                      </a:lnTo>
                      <a:lnTo>
                        <a:pt x="249" y="246"/>
                      </a:lnTo>
                      <a:lnTo>
                        <a:pt x="269" y="226"/>
                      </a:lnTo>
                      <a:lnTo>
                        <a:pt x="288" y="207"/>
                      </a:lnTo>
                      <a:lnTo>
                        <a:pt x="311" y="189"/>
                      </a:lnTo>
                      <a:lnTo>
                        <a:pt x="335" y="172"/>
                      </a:lnTo>
                      <a:lnTo>
                        <a:pt x="361" y="156"/>
                      </a:lnTo>
                      <a:lnTo>
                        <a:pt x="389" y="141"/>
                      </a:lnTo>
                      <a:lnTo>
                        <a:pt x="419" y="127"/>
                      </a:lnTo>
                      <a:lnTo>
                        <a:pt x="452" y="116"/>
                      </a:lnTo>
                      <a:lnTo>
                        <a:pt x="487" y="104"/>
                      </a:lnTo>
                      <a:lnTo>
                        <a:pt x="525" y="94"/>
                      </a:lnTo>
                      <a:lnTo>
                        <a:pt x="566" y="85"/>
                      </a:lnTo>
                      <a:lnTo>
                        <a:pt x="610" y="78"/>
                      </a:lnTo>
                      <a:lnTo>
                        <a:pt x="657" y="72"/>
                      </a:lnTo>
                      <a:lnTo>
                        <a:pt x="706" y="69"/>
                      </a:lnTo>
                      <a:lnTo>
                        <a:pt x="759" y="65"/>
                      </a:lnTo>
                      <a:lnTo>
                        <a:pt x="815" y="65"/>
                      </a:lnTo>
                      <a:lnTo>
                        <a:pt x="815" y="0"/>
                      </a:lnTo>
                      <a:lnTo>
                        <a:pt x="757" y="1"/>
                      </a:lnTo>
                      <a:lnTo>
                        <a:pt x="702" y="3"/>
                      </a:lnTo>
                      <a:lnTo>
                        <a:pt x="650" y="8"/>
                      </a:lnTo>
                      <a:lnTo>
                        <a:pt x="601" y="14"/>
                      </a:lnTo>
                      <a:lnTo>
                        <a:pt x="555" y="22"/>
                      </a:lnTo>
                      <a:lnTo>
                        <a:pt x="511" y="31"/>
                      </a:lnTo>
                      <a:lnTo>
                        <a:pt x="470" y="42"/>
                      </a:lnTo>
                      <a:lnTo>
                        <a:pt x="431" y="54"/>
                      </a:lnTo>
                      <a:lnTo>
                        <a:pt x="395" y="68"/>
                      </a:lnTo>
                      <a:lnTo>
                        <a:pt x="361" y="84"/>
                      </a:lnTo>
                      <a:lnTo>
                        <a:pt x="330" y="100"/>
                      </a:lnTo>
                      <a:lnTo>
                        <a:pt x="300" y="118"/>
                      </a:lnTo>
                      <a:lnTo>
                        <a:pt x="272" y="138"/>
                      </a:lnTo>
                      <a:lnTo>
                        <a:pt x="247" y="158"/>
                      </a:lnTo>
                      <a:lnTo>
                        <a:pt x="223" y="180"/>
                      </a:lnTo>
                      <a:lnTo>
                        <a:pt x="201" y="202"/>
                      </a:lnTo>
                      <a:lnTo>
                        <a:pt x="181" y="226"/>
                      </a:lnTo>
                      <a:lnTo>
                        <a:pt x="163" y="251"/>
                      </a:lnTo>
                      <a:lnTo>
                        <a:pt x="146" y="277"/>
                      </a:lnTo>
                      <a:lnTo>
                        <a:pt x="130" y="302"/>
                      </a:lnTo>
                      <a:lnTo>
                        <a:pt x="115" y="330"/>
                      </a:lnTo>
                      <a:lnTo>
                        <a:pt x="102" y="357"/>
                      </a:lnTo>
                      <a:lnTo>
                        <a:pt x="90" y="385"/>
                      </a:lnTo>
                      <a:lnTo>
                        <a:pt x="78" y="413"/>
                      </a:lnTo>
                      <a:lnTo>
                        <a:pt x="57" y="471"/>
                      </a:lnTo>
                      <a:lnTo>
                        <a:pt x="38" y="531"/>
                      </a:lnTo>
                      <a:lnTo>
                        <a:pt x="20" y="590"/>
                      </a:lnTo>
                      <a:lnTo>
                        <a:pt x="1" y="651"/>
                      </a:lnTo>
                      <a:lnTo>
                        <a:pt x="32" y="694"/>
                      </a:lnTo>
                      <a:lnTo>
                        <a:pt x="1" y="651"/>
                      </a:lnTo>
                      <a:lnTo>
                        <a:pt x="0" y="659"/>
                      </a:lnTo>
                      <a:lnTo>
                        <a:pt x="0" y="666"/>
                      </a:lnTo>
                      <a:lnTo>
                        <a:pt x="1" y="672"/>
                      </a:lnTo>
                      <a:lnTo>
                        <a:pt x="3" y="678"/>
                      </a:lnTo>
                      <a:lnTo>
                        <a:pt x="7" y="682"/>
                      </a:lnTo>
                      <a:lnTo>
                        <a:pt x="11" y="687"/>
                      </a:lnTo>
                      <a:lnTo>
                        <a:pt x="17" y="690"/>
                      </a:lnTo>
                      <a:lnTo>
                        <a:pt x="23" y="692"/>
                      </a:lnTo>
                      <a:lnTo>
                        <a:pt x="29" y="694"/>
                      </a:lnTo>
                      <a:lnTo>
                        <a:pt x="34" y="694"/>
                      </a:lnTo>
                      <a:lnTo>
                        <a:pt x="40" y="693"/>
                      </a:lnTo>
                      <a:lnTo>
                        <a:pt x="46" y="690"/>
                      </a:lnTo>
                      <a:lnTo>
                        <a:pt x="52" y="688"/>
                      </a:lnTo>
                      <a:lnTo>
                        <a:pt x="56" y="683"/>
                      </a:lnTo>
                      <a:lnTo>
                        <a:pt x="60" y="678"/>
                      </a:lnTo>
                      <a:lnTo>
                        <a:pt x="63" y="671"/>
                      </a:lnTo>
                      <a:lnTo>
                        <a:pt x="32" y="628"/>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5" name=""/>
                <p:cNvSpPr/>
                <p:nvPr/>
              </p:nvSpPr>
              <p:spPr>
                <a:xfrm>
                  <a:off x="3402360" y="4960080"/>
                  <a:ext cx="377640" cy="52200"/>
                </a:xfrm>
                <a:custGeom>
                  <a:avLst/>
                  <a:gdLst/>
                  <a:ahLst/>
                  <a:rect l="l" t="t" r="r" b="b"/>
                  <a:pathLst>
                    <a:path w="1869" h="281">
                      <a:moveTo>
                        <a:pt x="1805" y="32"/>
                      </a:moveTo>
                      <a:lnTo>
                        <a:pt x="1821" y="4"/>
                      </a:lnTo>
                      <a:lnTo>
                        <a:pt x="1771" y="31"/>
                      </a:lnTo>
                      <a:lnTo>
                        <a:pt x="1722" y="56"/>
                      </a:lnTo>
                      <a:lnTo>
                        <a:pt x="1671" y="79"/>
                      </a:lnTo>
                      <a:lnTo>
                        <a:pt x="1621" y="101"/>
                      </a:lnTo>
                      <a:lnTo>
                        <a:pt x="1569" y="120"/>
                      </a:lnTo>
                      <a:lnTo>
                        <a:pt x="1517" y="139"/>
                      </a:lnTo>
                      <a:lnTo>
                        <a:pt x="1465" y="153"/>
                      </a:lnTo>
                      <a:lnTo>
                        <a:pt x="1412" y="168"/>
                      </a:lnTo>
                      <a:lnTo>
                        <a:pt x="1358" y="180"/>
                      </a:lnTo>
                      <a:lnTo>
                        <a:pt x="1304" y="190"/>
                      </a:lnTo>
                      <a:lnTo>
                        <a:pt x="1250" y="199"/>
                      </a:lnTo>
                      <a:lnTo>
                        <a:pt x="1195" y="206"/>
                      </a:lnTo>
                      <a:lnTo>
                        <a:pt x="1140" y="211"/>
                      </a:lnTo>
                      <a:lnTo>
                        <a:pt x="1083" y="214"/>
                      </a:lnTo>
                      <a:lnTo>
                        <a:pt x="1027" y="217"/>
                      </a:lnTo>
                      <a:lnTo>
                        <a:pt x="971" y="217"/>
                      </a:lnTo>
                      <a:lnTo>
                        <a:pt x="913" y="216"/>
                      </a:lnTo>
                      <a:lnTo>
                        <a:pt x="856" y="212"/>
                      </a:lnTo>
                      <a:lnTo>
                        <a:pt x="799" y="207"/>
                      </a:lnTo>
                      <a:lnTo>
                        <a:pt x="740" y="201"/>
                      </a:lnTo>
                      <a:lnTo>
                        <a:pt x="681" y="193"/>
                      </a:lnTo>
                      <a:lnTo>
                        <a:pt x="623" y="182"/>
                      </a:lnTo>
                      <a:lnTo>
                        <a:pt x="564" y="172"/>
                      </a:lnTo>
                      <a:lnTo>
                        <a:pt x="506" y="158"/>
                      </a:lnTo>
                      <a:lnTo>
                        <a:pt x="446" y="144"/>
                      </a:lnTo>
                      <a:lnTo>
                        <a:pt x="386" y="128"/>
                      </a:lnTo>
                      <a:lnTo>
                        <a:pt x="327" y="111"/>
                      </a:lnTo>
                      <a:lnTo>
                        <a:pt x="267" y="91"/>
                      </a:lnTo>
                      <a:lnTo>
                        <a:pt x="207" y="72"/>
                      </a:lnTo>
                      <a:lnTo>
                        <a:pt x="146" y="50"/>
                      </a:lnTo>
                      <a:lnTo>
                        <a:pt x="87" y="27"/>
                      </a:lnTo>
                      <a:lnTo>
                        <a:pt x="26" y="2"/>
                      </a:lnTo>
                      <a:lnTo>
                        <a:pt x="0" y="62"/>
                      </a:lnTo>
                      <a:lnTo>
                        <a:pt x="62" y="87"/>
                      </a:lnTo>
                      <a:lnTo>
                        <a:pt x="124" y="110"/>
                      </a:lnTo>
                      <a:lnTo>
                        <a:pt x="185" y="133"/>
                      </a:lnTo>
                      <a:lnTo>
                        <a:pt x="247" y="153"/>
                      </a:lnTo>
                      <a:lnTo>
                        <a:pt x="308" y="173"/>
                      </a:lnTo>
                      <a:lnTo>
                        <a:pt x="369" y="190"/>
                      </a:lnTo>
                      <a:lnTo>
                        <a:pt x="430" y="207"/>
                      </a:lnTo>
                      <a:lnTo>
                        <a:pt x="491" y="221"/>
                      </a:lnTo>
                      <a:lnTo>
                        <a:pt x="552" y="235"/>
                      </a:lnTo>
                      <a:lnTo>
                        <a:pt x="613" y="247"/>
                      </a:lnTo>
                      <a:lnTo>
                        <a:pt x="672" y="257"/>
                      </a:lnTo>
                      <a:lnTo>
                        <a:pt x="732" y="265"/>
                      </a:lnTo>
                      <a:lnTo>
                        <a:pt x="792" y="272"/>
                      </a:lnTo>
                      <a:lnTo>
                        <a:pt x="851" y="276"/>
                      </a:lnTo>
                      <a:lnTo>
                        <a:pt x="911" y="280"/>
                      </a:lnTo>
                      <a:lnTo>
                        <a:pt x="970" y="281"/>
                      </a:lnTo>
                      <a:lnTo>
                        <a:pt x="1028" y="281"/>
                      </a:lnTo>
                      <a:lnTo>
                        <a:pt x="1086" y="280"/>
                      </a:lnTo>
                      <a:lnTo>
                        <a:pt x="1144" y="276"/>
                      </a:lnTo>
                      <a:lnTo>
                        <a:pt x="1202" y="271"/>
                      </a:lnTo>
                      <a:lnTo>
                        <a:pt x="1258" y="264"/>
                      </a:lnTo>
                      <a:lnTo>
                        <a:pt x="1315" y="255"/>
                      </a:lnTo>
                      <a:lnTo>
                        <a:pt x="1372" y="243"/>
                      </a:lnTo>
                      <a:lnTo>
                        <a:pt x="1427" y="230"/>
                      </a:lnTo>
                      <a:lnTo>
                        <a:pt x="1482" y="216"/>
                      </a:lnTo>
                      <a:lnTo>
                        <a:pt x="1537" y="199"/>
                      </a:lnTo>
                      <a:lnTo>
                        <a:pt x="1591" y="181"/>
                      </a:lnTo>
                      <a:lnTo>
                        <a:pt x="1645" y="160"/>
                      </a:lnTo>
                      <a:lnTo>
                        <a:pt x="1698" y="139"/>
                      </a:lnTo>
                      <a:lnTo>
                        <a:pt x="1749" y="114"/>
                      </a:lnTo>
                      <a:lnTo>
                        <a:pt x="1801" y="88"/>
                      </a:lnTo>
                      <a:lnTo>
                        <a:pt x="1853" y="59"/>
                      </a:lnTo>
                      <a:lnTo>
                        <a:pt x="1869" y="31"/>
                      </a:lnTo>
                      <a:lnTo>
                        <a:pt x="1853" y="59"/>
                      </a:lnTo>
                      <a:lnTo>
                        <a:pt x="1859" y="55"/>
                      </a:lnTo>
                      <a:lnTo>
                        <a:pt x="1863" y="50"/>
                      </a:lnTo>
                      <a:lnTo>
                        <a:pt x="1867" y="44"/>
                      </a:lnTo>
                      <a:lnTo>
                        <a:pt x="1869" y="39"/>
                      </a:lnTo>
                      <a:lnTo>
                        <a:pt x="1869" y="33"/>
                      </a:lnTo>
                      <a:lnTo>
                        <a:pt x="1869" y="27"/>
                      </a:lnTo>
                      <a:lnTo>
                        <a:pt x="1867" y="21"/>
                      </a:lnTo>
                      <a:lnTo>
                        <a:pt x="1864" y="16"/>
                      </a:lnTo>
                      <a:lnTo>
                        <a:pt x="1861" y="11"/>
                      </a:lnTo>
                      <a:lnTo>
                        <a:pt x="1857" y="6"/>
                      </a:lnTo>
                      <a:lnTo>
                        <a:pt x="1852" y="3"/>
                      </a:lnTo>
                      <a:lnTo>
                        <a:pt x="1847" y="1"/>
                      </a:lnTo>
                      <a:lnTo>
                        <a:pt x="1840" y="0"/>
                      </a:lnTo>
                      <a:lnTo>
                        <a:pt x="1834" y="0"/>
                      </a:lnTo>
                      <a:lnTo>
                        <a:pt x="1828" y="1"/>
                      </a:lnTo>
                      <a:lnTo>
                        <a:pt x="1821" y="4"/>
                      </a:lnTo>
                      <a:lnTo>
                        <a:pt x="1805" y="32"/>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16" name=""/>
                <p:cNvSpPr/>
                <p:nvPr/>
              </p:nvSpPr>
              <p:spPr>
                <a:xfrm>
                  <a:off x="3584880" y="4845960"/>
                  <a:ext cx="194760" cy="120240"/>
                </a:xfrm>
                <a:custGeom>
                  <a:avLst/>
                  <a:gdLst/>
                  <a:ahLst/>
                  <a:rect l="l" t="t" r="r" b="b"/>
                  <a:pathLst>
                    <a:path w="967" h="636">
                      <a:moveTo>
                        <a:pt x="29" y="65"/>
                      </a:moveTo>
                      <a:lnTo>
                        <a:pt x="30" y="65"/>
                      </a:lnTo>
                      <a:lnTo>
                        <a:pt x="83" y="69"/>
                      </a:lnTo>
                      <a:lnTo>
                        <a:pt x="134" y="76"/>
                      </a:lnTo>
                      <a:lnTo>
                        <a:pt x="184" y="82"/>
                      </a:lnTo>
                      <a:lnTo>
                        <a:pt x="232" y="90"/>
                      </a:lnTo>
                      <a:lnTo>
                        <a:pt x="278" y="99"/>
                      </a:lnTo>
                      <a:lnTo>
                        <a:pt x="323" y="110"/>
                      </a:lnTo>
                      <a:lnTo>
                        <a:pt x="366" y="120"/>
                      </a:lnTo>
                      <a:lnTo>
                        <a:pt x="408" y="133"/>
                      </a:lnTo>
                      <a:lnTo>
                        <a:pt x="447" y="145"/>
                      </a:lnTo>
                      <a:lnTo>
                        <a:pt x="486" y="159"/>
                      </a:lnTo>
                      <a:lnTo>
                        <a:pt x="521" y="174"/>
                      </a:lnTo>
                      <a:lnTo>
                        <a:pt x="557" y="189"/>
                      </a:lnTo>
                      <a:lnTo>
                        <a:pt x="590" y="205"/>
                      </a:lnTo>
                      <a:lnTo>
                        <a:pt x="621" y="222"/>
                      </a:lnTo>
                      <a:lnTo>
                        <a:pt x="651" y="241"/>
                      </a:lnTo>
                      <a:lnTo>
                        <a:pt x="680" y="259"/>
                      </a:lnTo>
                      <a:lnTo>
                        <a:pt x="706" y="278"/>
                      </a:lnTo>
                      <a:lnTo>
                        <a:pt x="730" y="298"/>
                      </a:lnTo>
                      <a:lnTo>
                        <a:pt x="754" y="319"/>
                      </a:lnTo>
                      <a:lnTo>
                        <a:pt x="775" y="340"/>
                      </a:lnTo>
                      <a:lnTo>
                        <a:pt x="795" y="362"/>
                      </a:lnTo>
                      <a:lnTo>
                        <a:pt x="813" y="384"/>
                      </a:lnTo>
                      <a:lnTo>
                        <a:pt x="829" y="407"/>
                      </a:lnTo>
                      <a:lnTo>
                        <a:pt x="844" y="431"/>
                      </a:lnTo>
                      <a:lnTo>
                        <a:pt x="858" y="454"/>
                      </a:lnTo>
                      <a:lnTo>
                        <a:pt x="869" y="479"/>
                      </a:lnTo>
                      <a:lnTo>
                        <a:pt x="878" y="504"/>
                      </a:lnTo>
                      <a:lnTo>
                        <a:pt x="886" y="530"/>
                      </a:lnTo>
                      <a:lnTo>
                        <a:pt x="893" y="555"/>
                      </a:lnTo>
                      <a:lnTo>
                        <a:pt x="898" y="582"/>
                      </a:lnTo>
                      <a:lnTo>
                        <a:pt x="900" y="609"/>
                      </a:lnTo>
                      <a:lnTo>
                        <a:pt x="903" y="636"/>
                      </a:lnTo>
                      <a:lnTo>
                        <a:pt x="967" y="635"/>
                      </a:lnTo>
                      <a:lnTo>
                        <a:pt x="966" y="604"/>
                      </a:lnTo>
                      <a:lnTo>
                        <a:pt x="962" y="573"/>
                      </a:lnTo>
                      <a:lnTo>
                        <a:pt x="957" y="543"/>
                      </a:lnTo>
                      <a:lnTo>
                        <a:pt x="949" y="512"/>
                      </a:lnTo>
                      <a:lnTo>
                        <a:pt x="939" y="483"/>
                      </a:lnTo>
                      <a:lnTo>
                        <a:pt x="928" y="454"/>
                      </a:lnTo>
                      <a:lnTo>
                        <a:pt x="915" y="425"/>
                      </a:lnTo>
                      <a:lnTo>
                        <a:pt x="900" y="398"/>
                      </a:lnTo>
                      <a:lnTo>
                        <a:pt x="883" y="371"/>
                      </a:lnTo>
                      <a:lnTo>
                        <a:pt x="865" y="345"/>
                      </a:lnTo>
                      <a:lnTo>
                        <a:pt x="844" y="320"/>
                      </a:lnTo>
                      <a:lnTo>
                        <a:pt x="822" y="296"/>
                      </a:lnTo>
                      <a:lnTo>
                        <a:pt x="798" y="272"/>
                      </a:lnTo>
                      <a:lnTo>
                        <a:pt x="773" y="249"/>
                      </a:lnTo>
                      <a:lnTo>
                        <a:pt x="745" y="227"/>
                      </a:lnTo>
                      <a:lnTo>
                        <a:pt x="717" y="206"/>
                      </a:lnTo>
                      <a:lnTo>
                        <a:pt x="686" y="185"/>
                      </a:lnTo>
                      <a:lnTo>
                        <a:pt x="653" y="166"/>
                      </a:lnTo>
                      <a:lnTo>
                        <a:pt x="620" y="147"/>
                      </a:lnTo>
                      <a:lnTo>
                        <a:pt x="584" y="130"/>
                      </a:lnTo>
                      <a:lnTo>
                        <a:pt x="547" y="114"/>
                      </a:lnTo>
                      <a:lnTo>
                        <a:pt x="508" y="98"/>
                      </a:lnTo>
                      <a:lnTo>
                        <a:pt x="467" y="84"/>
                      </a:lnTo>
                      <a:lnTo>
                        <a:pt x="426" y="70"/>
                      </a:lnTo>
                      <a:lnTo>
                        <a:pt x="382" y="58"/>
                      </a:lnTo>
                      <a:lnTo>
                        <a:pt x="338" y="46"/>
                      </a:lnTo>
                      <a:lnTo>
                        <a:pt x="290" y="36"/>
                      </a:lnTo>
                      <a:lnTo>
                        <a:pt x="243" y="27"/>
                      </a:lnTo>
                      <a:lnTo>
                        <a:pt x="193" y="19"/>
                      </a:lnTo>
                      <a:lnTo>
                        <a:pt x="142" y="12"/>
                      </a:lnTo>
                      <a:lnTo>
                        <a:pt x="90" y="6"/>
                      </a:lnTo>
                      <a:lnTo>
                        <a:pt x="36" y="0"/>
                      </a:lnTo>
                      <a:lnTo>
                        <a:pt x="37" y="0"/>
                      </a:lnTo>
                      <a:lnTo>
                        <a:pt x="36" y="0"/>
                      </a:lnTo>
                      <a:lnTo>
                        <a:pt x="27" y="0"/>
                      </a:lnTo>
                      <a:lnTo>
                        <a:pt x="21" y="3"/>
                      </a:lnTo>
                      <a:lnTo>
                        <a:pt x="15" y="5"/>
                      </a:lnTo>
                      <a:lnTo>
                        <a:pt x="10" y="10"/>
                      </a:lnTo>
                      <a:lnTo>
                        <a:pt x="7" y="14"/>
                      </a:lnTo>
                      <a:lnTo>
                        <a:pt x="3" y="19"/>
                      </a:lnTo>
                      <a:lnTo>
                        <a:pt x="1" y="25"/>
                      </a:lnTo>
                      <a:lnTo>
                        <a:pt x="0" y="30"/>
                      </a:lnTo>
                      <a:lnTo>
                        <a:pt x="0" y="37"/>
                      </a:lnTo>
                      <a:lnTo>
                        <a:pt x="1" y="43"/>
                      </a:lnTo>
                      <a:lnTo>
                        <a:pt x="3" y="49"/>
                      </a:lnTo>
                      <a:lnTo>
                        <a:pt x="7" y="53"/>
                      </a:lnTo>
                      <a:lnTo>
                        <a:pt x="11" y="58"/>
                      </a:lnTo>
                      <a:lnTo>
                        <a:pt x="16" y="61"/>
                      </a:lnTo>
                      <a:lnTo>
                        <a:pt x="23" y="64"/>
                      </a:lnTo>
                      <a:lnTo>
                        <a:pt x="30" y="65"/>
                      </a:lnTo>
                      <a:lnTo>
                        <a:pt x="29"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7" name=""/>
                <p:cNvSpPr/>
                <p:nvPr/>
              </p:nvSpPr>
              <p:spPr>
                <a:xfrm>
                  <a:off x="3398040" y="4844880"/>
                  <a:ext cx="193680" cy="126720"/>
                </a:xfrm>
                <a:custGeom>
                  <a:avLst/>
                  <a:gdLst/>
                  <a:ahLst/>
                  <a:rect l="l" t="t" r="r" b="b"/>
                  <a:pathLst>
                    <a:path w="958" h="672">
                      <a:moveTo>
                        <a:pt x="45" y="610"/>
                      </a:moveTo>
                      <a:lnTo>
                        <a:pt x="64" y="645"/>
                      </a:lnTo>
                      <a:lnTo>
                        <a:pt x="70" y="620"/>
                      </a:lnTo>
                      <a:lnTo>
                        <a:pt x="78" y="595"/>
                      </a:lnTo>
                      <a:lnTo>
                        <a:pt x="88" y="568"/>
                      </a:lnTo>
                      <a:lnTo>
                        <a:pt x="100" y="541"/>
                      </a:lnTo>
                      <a:lnTo>
                        <a:pt x="114" y="514"/>
                      </a:lnTo>
                      <a:lnTo>
                        <a:pt x="130" y="488"/>
                      </a:lnTo>
                      <a:lnTo>
                        <a:pt x="147" y="460"/>
                      </a:lnTo>
                      <a:lnTo>
                        <a:pt x="166" y="434"/>
                      </a:lnTo>
                      <a:lnTo>
                        <a:pt x="188" y="408"/>
                      </a:lnTo>
                      <a:lnTo>
                        <a:pt x="211" y="381"/>
                      </a:lnTo>
                      <a:lnTo>
                        <a:pt x="235" y="355"/>
                      </a:lnTo>
                      <a:lnTo>
                        <a:pt x="261" y="330"/>
                      </a:lnTo>
                      <a:lnTo>
                        <a:pt x="288" y="304"/>
                      </a:lnTo>
                      <a:lnTo>
                        <a:pt x="317" y="280"/>
                      </a:lnTo>
                      <a:lnTo>
                        <a:pt x="346" y="257"/>
                      </a:lnTo>
                      <a:lnTo>
                        <a:pt x="377" y="235"/>
                      </a:lnTo>
                      <a:lnTo>
                        <a:pt x="409" y="213"/>
                      </a:lnTo>
                      <a:lnTo>
                        <a:pt x="441" y="193"/>
                      </a:lnTo>
                      <a:lnTo>
                        <a:pt x="474" y="173"/>
                      </a:lnTo>
                      <a:lnTo>
                        <a:pt x="509" y="156"/>
                      </a:lnTo>
                      <a:lnTo>
                        <a:pt x="544" y="139"/>
                      </a:lnTo>
                      <a:lnTo>
                        <a:pt x="580" y="124"/>
                      </a:lnTo>
                      <a:lnTo>
                        <a:pt x="615" y="110"/>
                      </a:lnTo>
                      <a:lnTo>
                        <a:pt x="652" y="99"/>
                      </a:lnTo>
                      <a:lnTo>
                        <a:pt x="689" y="88"/>
                      </a:lnTo>
                      <a:lnTo>
                        <a:pt x="726" y="79"/>
                      </a:lnTo>
                      <a:lnTo>
                        <a:pt x="764" y="72"/>
                      </a:lnTo>
                      <a:lnTo>
                        <a:pt x="800" y="68"/>
                      </a:lnTo>
                      <a:lnTo>
                        <a:pt x="838" y="65"/>
                      </a:lnTo>
                      <a:lnTo>
                        <a:pt x="875" y="64"/>
                      </a:lnTo>
                      <a:lnTo>
                        <a:pt x="913" y="65"/>
                      </a:lnTo>
                      <a:lnTo>
                        <a:pt x="950" y="69"/>
                      </a:lnTo>
                      <a:lnTo>
                        <a:pt x="958" y="4"/>
                      </a:lnTo>
                      <a:lnTo>
                        <a:pt x="916" y="1"/>
                      </a:lnTo>
                      <a:lnTo>
                        <a:pt x="876" y="0"/>
                      </a:lnTo>
                      <a:lnTo>
                        <a:pt x="835" y="0"/>
                      </a:lnTo>
                      <a:lnTo>
                        <a:pt x="795" y="3"/>
                      </a:lnTo>
                      <a:lnTo>
                        <a:pt x="753" y="9"/>
                      </a:lnTo>
                      <a:lnTo>
                        <a:pt x="713" y="16"/>
                      </a:lnTo>
                      <a:lnTo>
                        <a:pt x="673" y="25"/>
                      </a:lnTo>
                      <a:lnTo>
                        <a:pt x="633" y="37"/>
                      </a:lnTo>
                      <a:lnTo>
                        <a:pt x="594" y="49"/>
                      </a:lnTo>
                      <a:lnTo>
                        <a:pt x="556" y="64"/>
                      </a:lnTo>
                      <a:lnTo>
                        <a:pt x="518" y="80"/>
                      </a:lnTo>
                      <a:lnTo>
                        <a:pt x="480" y="97"/>
                      </a:lnTo>
                      <a:lnTo>
                        <a:pt x="443" y="117"/>
                      </a:lnTo>
                      <a:lnTo>
                        <a:pt x="408" y="138"/>
                      </a:lnTo>
                      <a:lnTo>
                        <a:pt x="373" y="159"/>
                      </a:lnTo>
                      <a:lnTo>
                        <a:pt x="340" y="181"/>
                      </a:lnTo>
                      <a:lnTo>
                        <a:pt x="308" y="205"/>
                      </a:lnTo>
                      <a:lnTo>
                        <a:pt x="276" y="231"/>
                      </a:lnTo>
                      <a:lnTo>
                        <a:pt x="246" y="256"/>
                      </a:lnTo>
                      <a:lnTo>
                        <a:pt x="217" y="282"/>
                      </a:lnTo>
                      <a:lnTo>
                        <a:pt x="189" y="310"/>
                      </a:lnTo>
                      <a:lnTo>
                        <a:pt x="163" y="338"/>
                      </a:lnTo>
                      <a:lnTo>
                        <a:pt x="139" y="366"/>
                      </a:lnTo>
                      <a:lnTo>
                        <a:pt x="116" y="395"/>
                      </a:lnTo>
                      <a:lnTo>
                        <a:pt x="94" y="424"/>
                      </a:lnTo>
                      <a:lnTo>
                        <a:pt x="75" y="454"/>
                      </a:lnTo>
                      <a:lnTo>
                        <a:pt x="57" y="483"/>
                      </a:lnTo>
                      <a:lnTo>
                        <a:pt x="41" y="513"/>
                      </a:lnTo>
                      <a:lnTo>
                        <a:pt x="29" y="543"/>
                      </a:lnTo>
                      <a:lnTo>
                        <a:pt x="17" y="573"/>
                      </a:lnTo>
                      <a:lnTo>
                        <a:pt x="8" y="604"/>
                      </a:lnTo>
                      <a:lnTo>
                        <a:pt x="1" y="634"/>
                      </a:lnTo>
                      <a:lnTo>
                        <a:pt x="19" y="670"/>
                      </a:lnTo>
                      <a:lnTo>
                        <a:pt x="1" y="634"/>
                      </a:lnTo>
                      <a:lnTo>
                        <a:pt x="0" y="641"/>
                      </a:lnTo>
                      <a:lnTo>
                        <a:pt x="1" y="648"/>
                      </a:lnTo>
                      <a:lnTo>
                        <a:pt x="3" y="655"/>
                      </a:lnTo>
                      <a:lnTo>
                        <a:pt x="6" y="659"/>
                      </a:lnTo>
                      <a:lnTo>
                        <a:pt x="10" y="664"/>
                      </a:lnTo>
                      <a:lnTo>
                        <a:pt x="15" y="667"/>
                      </a:lnTo>
                      <a:lnTo>
                        <a:pt x="21" y="670"/>
                      </a:lnTo>
                      <a:lnTo>
                        <a:pt x="26" y="672"/>
                      </a:lnTo>
                      <a:lnTo>
                        <a:pt x="32" y="672"/>
                      </a:lnTo>
                      <a:lnTo>
                        <a:pt x="39" y="672"/>
                      </a:lnTo>
                      <a:lnTo>
                        <a:pt x="45" y="670"/>
                      </a:lnTo>
                      <a:lnTo>
                        <a:pt x="49" y="667"/>
                      </a:lnTo>
                      <a:lnTo>
                        <a:pt x="55" y="664"/>
                      </a:lnTo>
                      <a:lnTo>
                        <a:pt x="58" y="659"/>
                      </a:lnTo>
                      <a:lnTo>
                        <a:pt x="62" y="652"/>
                      </a:lnTo>
                      <a:lnTo>
                        <a:pt x="64" y="645"/>
                      </a:lnTo>
                      <a:lnTo>
                        <a:pt x="45" y="61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18" name=""/>
                <p:cNvSpPr/>
                <p:nvPr/>
              </p:nvSpPr>
              <p:spPr>
                <a:xfrm>
                  <a:off x="3140280" y="2450160"/>
                  <a:ext cx="1190160" cy="1299960"/>
                </a:xfrm>
                <a:custGeom>
                  <a:avLst/>
                  <a:gdLst/>
                  <a:ahLst/>
                  <a:rect l="l" t="t" r="r" b="b"/>
                  <a:pathLst>
                    <a:path w="5891" h="6865">
                      <a:moveTo>
                        <a:pt x="4164" y="1175"/>
                      </a:moveTo>
                      <a:lnTo>
                        <a:pt x="4141" y="1280"/>
                      </a:lnTo>
                      <a:lnTo>
                        <a:pt x="4117" y="1393"/>
                      </a:lnTo>
                      <a:lnTo>
                        <a:pt x="4092" y="1513"/>
                      </a:lnTo>
                      <a:lnTo>
                        <a:pt x="4068" y="1641"/>
                      </a:lnTo>
                      <a:lnTo>
                        <a:pt x="4044" y="1776"/>
                      </a:lnTo>
                      <a:lnTo>
                        <a:pt x="4019" y="1916"/>
                      </a:lnTo>
                      <a:lnTo>
                        <a:pt x="3994" y="2065"/>
                      </a:lnTo>
                      <a:lnTo>
                        <a:pt x="3968" y="2216"/>
                      </a:lnTo>
                      <a:lnTo>
                        <a:pt x="3943" y="2374"/>
                      </a:lnTo>
                      <a:lnTo>
                        <a:pt x="3919" y="2536"/>
                      </a:lnTo>
                      <a:lnTo>
                        <a:pt x="3895" y="2701"/>
                      </a:lnTo>
                      <a:lnTo>
                        <a:pt x="3871" y="2870"/>
                      </a:lnTo>
                      <a:lnTo>
                        <a:pt x="3848" y="3041"/>
                      </a:lnTo>
                      <a:lnTo>
                        <a:pt x="3825" y="3215"/>
                      </a:lnTo>
                      <a:lnTo>
                        <a:pt x="3803" y="3390"/>
                      </a:lnTo>
                      <a:lnTo>
                        <a:pt x="3782" y="3566"/>
                      </a:lnTo>
                      <a:lnTo>
                        <a:pt x="3762" y="3744"/>
                      </a:lnTo>
                      <a:lnTo>
                        <a:pt x="3743" y="3921"/>
                      </a:lnTo>
                      <a:lnTo>
                        <a:pt x="3726" y="4098"/>
                      </a:lnTo>
                      <a:lnTo>
                        <a:pt x="3710" y="4275"/>
                      </a:lnTo>
                      <a:lnTo>
                        <a:pt x="3695" y="4450"/>
                      </a:lnTo>
                      <a:lnTo>
                        <a:pt x="3681" y="4623"/>
                      </a:lnTo>
                      <a:lnTo>
                        <a:pt x="3670" y="4793"/>
                      </a:lnTo>
                      <a:lnTo>
                        <a:pt x="3661" y="4961"/>
                      </a:lnTo>
                      <a:lnTo>
                        <a:pt x="3653" y="5125"/>
                      </a:lnTo>
                      <a:lnTo>
                        <a:pt x="3647" y="5285"/>
                      </a:lnTo>
                      <a:lnTo>
                        <a:pt x="3642" y="5441"/>
                      </a:lnTo>
                      <a:lnTo>
                        <a:pt x="3641" y="5592"/>
                      </a:lnTo>
                      <a:lnTo>
                        <a:pt x="3642" y="5736"/>
                      </a:lnTo>
                      <a:lnTo>
                        <a:pt x="3646" y="5875"/>
                      </a:lnTo>
                      <a:lnTo>
                        <a:pt x="3652" y="6009"/>
                      </a:lnTo>
                      <a:lnTo>
                        <a:pt x="3660" y="6134"/>
                      </a:lnTo>
                      <a:lnTo>
                        <a:pt x="3693" y="6145"/>
                      </a:lnTo>
                      <a:lnTo>
                        <a:pt x="3726" y="6160"/>
                      </a:lnTo>
                      <a:lnTo>
                        <a:pt x="3759" y="6178"/>
                      </a:lnTo>
                      <a:lnTo>
                        <a:pt x="3793" y="6198"/>
                      </a:lnTo>
                      <a:lnTo>
                        <a:pt x="3827" y="6221"/>
                      </a:lnTo>
                      <a:lnTo>
                        <a:pt x="3863" y="6245"/>
                      </a:lnTo>
                      <a:lnTo>
                        <a:pt x="3898" y="6272"/>
                      </a:lnTo>
                      <a:lnTo>
                        <a:pt x="3934" y="6301"/>
                      </a:lnTo>
                      <a:lnTo>
                        <a:pt x="4083" y="6426"/>
                      </a:lnTo>
                      <a:lnTo>
                        <a:pt x="4243" y="6559"/>
                      </a:lnTo>
                      <a:lnTo>
                        <a:pt x="4285" y="6591"/>
                      </a:lnTo>
                      <a:lnTo>
                        <a:pt x="4328" y="6623"/>
                      </a:lnTo>
                      <a:lnTo>
                        <a:pt x="4370" y="6654"/>
                      </a:lnTo>
                      <a:lnTo>
                        <a:pt x="4415" y="6684"/>
                      </a:lnTo>
                      <a:lnTo>
                        <a:pt x="4460" y="6712"/>
                      </a:lnTo>
                      <a:lnTo>
                        <a:pt x="4506" y="6738"/>
                      </a:lnTo>
                      <a:lnTo>
                        <a:pt x="4553" y="6764"/>
                      </a:lnTo>
                      <a:lnTo>
                        <a:pt x="4601" y="6787"/>
                      </a:lnTo>
                      <a:lnTo>
                        <a:pt x="4649" y="6806"/>
                      </a:lnTo>
                      <a:lnTo>
                        <a:pt x="4699" y="6824"/>
                      </a:lnTo>
                      <a:lnTo>
                        <a:pt x="4749" y="6838"/>
                      </a:lnTo>
                      <a:lnTo>
                        <a:pt x="4802" y="6851"/>
                      </a:lnTo>
                      <a:lnTo>
                        <a:pt x="4855" y="6859"/>
                      </a:lnTo>
                      <a:lnTo>
                        <a:pt x="4909" y="6864"/>
                      </a:lnTo>
                      <a:lnTo>
                        <a:pt x="4964" y="6865"/>
                      </a:lnTo>
                      <a:lnTo>
                        <a:pt x="5019" y="6861"/>
                      </a:lnTo>
                      <a:lnTo>
                        <a:pt x="5018" y="6777"/>
                      </a:lnTo>
                      <a:lnTo>
                        <a:pt x="5015" y="6638"/>
                      </a:lnTo>
                      <a:lnTo>
                        <a:pt x="5009" y="6455"/>
                      </a:lnTo>
                      <a:lnTo>
                        <a:pt x="5001" y="6232"/>
                      </a:lnTo>
                      <a:lnTo>
                        <a:pt x="4979" y="5704"/>
                      </a:lnTo>
                      <a:lnTo>
                        <a:pt x="4955" y="5121"/>
                      </a:lnTo>
                      <a:lnTo>
                        <a:pt x="4929" y="4542"/>
                      </a:lnTo>
                      <a:lnTo>
                        <a:pt x="4904" y="4032"/>
                      </a:lnTo>
                      <a:lnTo>
                        <a:pt x="4894" y="3822"/>
                      </a:lnTo>
                      <a:lnTo>
                        <a:pt x="4886" y="3654"/>
                      </a:lnTo>
                      <a:lnTo>
                        <a:pt x="4878" y="3533"/>
                      </a:lnTo>
                      <a:lnTo>
                        <a:pt x="4873" y="3470"/>
                      </a:lnTo>
                      <a:lnTo>
                        <a:pt x="4883" y="3436"/>
                      </a:lnTo>
                      <a:lnTo>
                        <a:pt x="4889" y="3402"/>
                      </a:lnTo>
                      <a:lnTo>
                        <a:pt x="4895" y="3365"/>
                      </a:lnTo>
                      <a:lnTo>
                        <a:pt x="4900" y="3327"/>
                      </a:lnTo>
                      <a:lnTo>
                        <a:pt x="4901" y="3288"/>
                      </a:lnTo>
                      <a:lnTo>
                        <a:pt x="4902" y="3248"/>
                      </a:lnTo>
                      <a:lnTo>
                        <a:pt x="4900" y="3209"/>
                      </a:lnTo>
                      <a:lnTo>
                        <a:pt x="4895" y="3169"/>
                      </a:lnTo>
                      <a:lnTo>
                        <a:pt x="4889" y="3131"/>
                      </a:lnTo>
                      <a:lnTo>
                        <a:pt x="4881" y="3093"/>
                      </a:lnTo>
                      <a:lnTo>
                        <a:pt x="4876" y="3075"/>
                      </a:lnTo>
                      <a:lnTo>
                        <a:pt x="4870" y="3057"/>
                      </a:lnTo>
                      <a:lnTo>
                        <a:pt x="4864" y="3040"/>
                      </a:lnTo>
                      <a:lnTo>
                        <a:pt x="4857" y="3024"/>
                      </a:lnTo>
                      <a:lnTo>
                        <a:pt x="4849" y="3008"/>
                      </a:lnTo>
                      <a:lnTo>
                        <a:pt x="4841" y="2993"/>
                      </a:lnTo>
                      <a:lnTo>
                        <a:pt x="4832" y="2978"/>
                      </a:lnTo>
                      <a:lnTo>
                        <a:pt x="4823" y="2964"/>
                      </a:lnTo>
                      <a:lnTo>
                        <a:pt x="4813" y="2952"/>
                      </a:lnTo>
                      <a:lnTo>
                        <a:pt x="4801" y="2939"/>
                      </a:lnTo>
                      <a:lnTo>
                        <a:pt x="4790" y="2927"/>
                      </a:lnTo>
                      <a:lnTo>
                        <a:pt x="4777" y="2918"/>
                      </a:lnTo>
                      <a:lnTo>
                        <a:pt x="4785" y="2882"/>
                      </a:lnTo>
                      <a:lnTo>
                        <a:pt x="4791" y="2842"/>
                      </a:lnTo>
                      <a:lnTo>
                        <a:pt x="4795" y="2802"/>
                      </a:lnTo>
                      <a:lnTo>
                        <a:pt x="4799" y="2760"/>
                      </a:lnTo>
                      <a:lnTo>
                        <a:pt x="4801" y="2716"/>
                      </a:lnTo>
                      <a:lnTo>
                        <a:pt x="4802" y="2671"/>
                      </a:lnTo>
                      <a:lnTo>
                        <a:pt x="4803" y="2625"/>
                      </a:lnTo>
                      <a:lnTo>
                        <a:pt x="4802" y="2579"/>
                      </a:lnTo>
                      <a:lnTo>
                        <a:pt x="4800" y="2484"/>
                      </a:lnTo>
                      <a:lnTo>
                        <a:pt x="4795" y="2387"/>
                      </a:lnTo>
                      <a:lnTo>
                        <a:pt x="4790" y="2292"/>
                      </a:lnTo>
                      <a:lnTo>
                        <a:pt x="4785" y="2198"/>
                      </a:lnTo>
                      <a:lnTo>
                        <a:pt x="4780" y="2107"/>
                      </a:lnTo>
                      <a:lnTo>
                        <a:pt x="4779" y="2022"/>
                      </a:lnTo>
                      <a:lnTo>
                        <a:pt x="4779" y="1982"/>
                      </a:lnTo>
                      <a:lnTo>
                        <a:pt x="4782" y="1943"/>
                      </a:lnTo>
                      <a:lnTo>
                        <a:pt x="4784" y="1906"/>
                      </a:lnTo>
                      <a:lnTo>
                        <a:pt x="4787" y="1872"/>
                      </a:lnTo>
                      <a:lnTo>
                        <a:pt x="4792" y="1839"/>
                      </a:lnTo>
                      <a:lnTo>
                        <a:pt x="4799" y="1811"/>
                      </a:lnTo>
                      <a:lnTo>
                        <a:pt x="4807" y="1783"/>
                      </a:lnTo>
                      <a:lnTo>
                        <a:pt x="4816" y="1759"/>
                      </a:lnTo>
                      <a:lnTo>
                        <a:pt x="4827" y="1738"/>
                      </a:lnTo>
                      <a:lnTo>
                        <a:pt x="4840" y="1721"/>
                      </a:lnTo>
                      <a:lnTo>
                        <a:pt x="4856" y="1707"/>
                      </a:lnTo>
                      <a:lnTo>
                        <a:pt x="4873" y="1697"/>
                      </a:lnTo>
                      <a:lnTo>
                        <a:pt x="4895" y="1717"/>
                      </a:lnTo>
                      <a:lnTo>
                        <a:pt x="4915" y="1742"/>
                      </a:lnTo>
                      <a:lnTo>
                        <a:pt x="4931" y="1772"/>
                      </a:lnTo>
                      <a:lnTo>
                        <a:pt x="4943" y="1807"/>
                      </a:lnTo>
                      <a:lnTo>
                        <a:pt x="4955" y="1848"/>
                      </a:lnTo>
                      <a:lnTo>
                        <a:pt x="4964" y="1891"/>
                      </a:lnTo>
                      <a:lnTo>
                        <a:pt x="4971" y="1938"/>
                      </a:lnTo>
                      <a:lnTo>
                        <a:pt x="4976" y="1990"/>
                      </a:lnTo>
                      <a:lnTo>
                        <a:pt x="4979" y="2045"/>
                      </a:lnTo>
                      <a:lnTo>
                        <a:pt x="4981" y="2103"/>
                      </a:lnTo>
                      <a:lnTo>
                        <a:pt x="4982" y="2162"/>
                      </a:lnTo>
                      <a:lnTo>
                        <a:pt x="4981" y="2225"/>
                      </a:lnTo>
                      <a:lnTo>
                        <a:pt x="4979" y="2356"/>
                      </a:lnTo>
                      <a:lnTo>
                        <a:pt x="4974" y="2492"/>
                      </a:lnTo>
                      <a:lnTo>
                        <a:pt x="4970" y="2632"/>
                      </a:lnTo>
                      <a:lnTo>
                        <a:pt x="4966" y="2772"/>
                      </a:lnTo>
                      <a:lnTo>
                        <a:pt x="4965" y="2842"/>
                      </a:lnTo>
                      <a:lnTo>
                        <a:pt x="4966" y="2911"/>
                      </a:lnTo>
                      <a:lnTo>
                        <a:pt x="4968" y="2978"/>
                      </a:lnTo>
                      <a:lnTo>
                        <a:pt x="4970" y="3045"/>
                      </a:lnTo>
                      <a:lnTo>
                        <a:pt x="4974" y="3109"/>
                      </a:lnTo>
                      <a:lnTo>
                        <a:pt x="4980" y="3172"/>
                      </a:lnTo>
                      <a:lnTo>
                        <a:pt x="4987" y="3232"/>
                      </a:lnTo>
                      <a:lnTo>
                        <a:pt x="4997" y="3289"/>
                      </a:lnTo>
                      <a:lnTo>
                        <a:pt x="5009" y="3345"/>
                      </a:lnTo>
                      <a:lnTo>
                        <a:pt x="5024" y="3395"/>
                      </a:lnTo>
                      <a:lnTo>
                        <a:pt x="5041" y="3443"/>
                      </a:lnTo>
                      <a:lnTo>
                        <a:pt x="5062" y="3487"/>
                      </a:lnTo>
                      <a:lnTo>
                        <a:pt x="5039" y="3582"/>
                      </a:lnTo>
                      <a:lnTo>
                        <a:pt x="5016" y="3680"/>
                      </a:lnTo>
                      <a:lnTo>
                        <a:pt x="4993" y="3781"/>
                      </a:lnTo>
                      <a:lnTo>
                        <a:pt x="4972" y="3882"/>
                      </a:lnTo>
                      <a:lnTo>
                        <a:pt x="4951" y="3984"/>
                      </a:lnTo>
                      <a:lnTo>
                        <a:pt x="4934" y="4084"/>
                      </a:lnTo>
                      <a:lnTo>
                        <a:pt x="4926" y="4133"/>
                      </a:lnTo>
                      <a:lnTo>
                        <a:pt x="4919" y="4181"/>
                      </a:lnTo>
                      <a:lnTo>
                        <a:pt x="4912" y="4228"/>
                      </a:lnTo>
                      <a:lnTo>
                        <a:pt x="4907" y="4274"/>
                      </a:lnTo>
                      <a:lnTo>
                        <a:pt x="4903" y="4319"/>
                      </a:lnTo>
                      <a:lnTo>
                        <a:pt x="4899" y="4362"/>
                      </a:lnTo>
                      <a:lnTo>
                        <a:pt x="4896" y="4404"/>
                      </a:lnTo>
                      <a:lnTo>
                        <a:pt x="4895" y="4444"/>
                      </a:lnTo>
                      <a:lnTo>
                        <a:pt x="4895" y="4482"/>
                      </a:lnTo>
                      <a:lnTo>
                        <a:pt x="4896" y="4518"/>
                      </a:lnTo>
                      <a:lnTo>
                        <a:pt x="4900" y="4551"/>
                      </a:lnTo>
                      <a:lnTo>
                        <a:pt x="4903" y="4583"/>
                      </a:lnTo>
                      <a:lnTo>
                        <a:pt x="4909" y="4611"/>
                      </a:lnTo>
                      <a:lnTo>
                        <a:pt x="4916" y="4637"/>
                      </a:lnTo>
                      <a:lnTo>
                        <a:pt x="4925" y="4660"/>
                      </a:lnTo>
                      <a:lnTo>
                        <a:pt x="4935" y="4681"/>
                      </a:lnTo>
                      <a:lnTo>
                        <a:pt x="4948" y="4697"/>
                      </a:lnTo>
                      <a:lnTo>
                        <a:pt x="4962" y="4711"/>
                      </a:lnTo>
                      <a:lnTo>
                        <a:pt x="4978" y="4721"/>
                      </a:lnTo>
                      <a:lnTo>
                        <a:pt x="4996" y="4727"/>
                      </a:lnTo>
                      <a:lnTo>
                        <a:pt x="4986" y="4766"/>
                      </a:lnTo>
                      <a:lnTo>
                        <a:pt x="4978" y="4807"/>
                      </a:lnTo>
                      <a:lnTo>
                        <a:pt x="4971" y="4850"/>
                      </a:lnTo>
                      <a:lnTo>
                        <a:pt x="4965" y="4893"/>
                      </a:lnTo>
                      <a:lnTo>
                        <a:pt x="4961" y="4938"/>
                      </a:lnTo>
                      <a:lnTo>
                        <a:pt x="4956" y="4983"/>
                      </a:lnTo>
                      <a:lnTo>
                        <a:pt x="4953" y="5030"/>
                      </a:lnTo>
                      <a:lnTo>
                        <a:pt x="4951" y="5076"/>
                      </a:lnTo>
                      <a:lnTo>
                        <a:pt x="4949" y="5123"/>
                      </a:lnTo>
                      <a:lnTo>
                        <a:pt x="4949" y="5170"/>
                      </a:lnTo>
                      <a:lnTo>
                        <a:pt x="4949" y="5217"/>
                      </a:lnTo>
                      <a:lnTo>
                        <a:pt x="4949" y="5263"/>
                      </a:lnTo>
                      <a:lnTo>
                        <a:pt x="4953" y="5353"/>
                      </a:lnTo>
                      <a:lnTo>
                        <a:pt x="4957" y="5437"/>
                      </a:lnTo>
                      <a:lnTo>
                        <a:pt x="4963" y="5515"/>
                      </a:lnTo>
                      <a:lnTo>
                        <a:pt x="4970" y="5585"/>
                      </a:lnTo>
                      <a:lnTo>
                        <a:pt x="4977" y="5645"/>
                      </a:lnTo>
                      <a:lnTo>
                        <a:pt x="4984" y="5692"/>
                      </a:lnTo>
                      <a:lnTo>
                        <a:pt x="4991" y="5725"/>
                      </a:lnTo>
                      <a:lnTo>
                        <a:pt x="4995" y="5742"/>
                      </a:lnTo>
                      <a:lnTo>
                        <a:pt x="4997" y="5745"/>
                      </a:lnTo>
                      <a:lnTo>
                        <a:pt x="4999" y="5742"/>
                      </a:lnTo>
                      <a:lnTo>
                        <a:pt x="5000" y="5735"/>
                      </a:lnTo>
                      <a:lnTo>
                        <a:pt x="5000" y="5723"/>
                      </a:lnTo>
                      <a:lnTo>
                        <a:pt x="4997" y="5699"/>
                      </a:lnTo>
                      <a:lnTo>
                        <a:pt x="5000" y="5665"/>
                      </a:lnTo>
                      <a:lnTo>
                        <a:pt x="5009" y="5623"/>
                      </a:lnTo>
                      <a:lnTo>
                        <a:pt x="5023" y="5571"/>
                      </a:lnTo>
                      <a:lnTo>
                        <a:pt x="5041" y="5510"/>
                      </a:lnTo>
                      <a:lnTo>
                        <a:pt x="5064" y="5441"/>
                      </a:lnTo>
                      <a:lnTo>
                        <a:pt x="5092" y="5365"/>
                      </a:lnTo>
                      <a:lnTo>
                        <a:pt x="5121" y="5282"/>
                      </a:lnTo>
                      <a:lnTo>
                        <a:pt x="5193" y="5094"/>
                      </a:lnTo>
                      <a:lnTo>
                        <a:pt x="5273" y="4885"/>
                      </a:lnTo>
                      <a:lnTo>
                        <a:pt x="5359" y="4657"/>
                      </a:lnTo>
                      <a:lnTo>
                        <a:pt x="5449" y="4412"/>
                      </a:lnTo>
                      <a:lnTo>
                        <a:pt x="5494" y="4285"/>
                      </a:lnTo>
                      <a:lnTo>
                        <a:pt x="5538" y="4157"/>
                      </a:lnTo>
                      <a:lnTo>
                        <a:pt x="5582" y="4026"/>
                      </a:lnTo>
                      <a:lnTo>
                        <a:pt x="5624" y="3894"/>
                      </a:lnTo>
                      <a:lnTo>
                        <a:pt x="5665" y="3760"/>
                      </a:lnTo>
                      <a:lnTo>
                        <a:pt x="5704" y="3626"/>
                      </a:lnTo>
                      <a:lnTo>
                        <a:pt x="5739" y="3493"/>
                      </a:lnTo>
                      <a:lnTo>
                        <a:pt x="5773" y="3359"/>
                      </a:lnTo>
                      <a:lnTo>
                        <a:pt x="5804" y="3227"/>
                      </a:lnTo>
                      <a:lnTo>
                        <a:pt x="5829" y="3096"/>
                      </a:lnTo>
                      <a:lnTo>
                        <a:pt x="5852" y="2967"/>
                      </a:lnTo>
                      <a:lnTo>
                        <a:pt x="5869" y="2840"/>
                      </a:lnTo>
                      <a:lnTo>
                        <a:pt x="5882" y="2716"/>
                      </a:lnTo>
                      <a:lnTo>
                        <a:pt x="5890" y="2595"/>
                      </a:lnTo>
                      <a:lnTo>
                        <a:pt x="5891" y="2479"/>
                      </a:lnTo>
                      <a:lnTo>
                        <a:pt x="5886" y="2367"/>
                      </a:lnTo>
                      <a:lnTo>
                        <a:pt x="5875" y="2321"/>
                      </a:lnTo>
                      <a:lnTo>
                        <a:pt x="5862" y="2271"/>
                      </a:lnTo>
                      <a:lnTo>
                        <a:pt x="5851" y="2221"/>
                      </a:lnTo>
                      <a:lnTo>
                        <a:pt x="5839" y="2169"/>
                      </a:lnTo>
                      <a:lnTo>
                        <a:pt x="5816" y="2060"/>
                      </a:lnTo>
                      <a:lnTo>
                        <a:pt x="5794" y="1947"/>
                      </a:lnTo>
                      <a:lnTo>
                        <a:pt x="5771" y="1834"/>
                      </a:lnTo>
                      <a:lnTo>
                        <a:pt x="5748" y="1719"/>
                      </a:lnTo>
                      <a:lnTo>
                        <a:pt x="5724" y="1606"/>
                      </a:lnTo>
                      <a:lnTo>
                        <a:pt x="5699" y="1497"/>
                      </a:lnTo>
                      <a:lnTo>
                        <a:pt x="5685" y="1444"/>
                      </a:lnTo>
                      <a:lnTo>
                        <a:pt x="5673" y="1394"/>
                      </a:lnTo>
                      <a:lnTo>
                        <a:pt x="5658" y="1344"/>
                      </a:lnTo>
                      <a:lnTo>
                        <a:pt x="5644" y="1297"/>
                      </a:lnTo>
                      <a:lnTo>
                        <a:pt x="5628" y="1254"/>
                      </a:lnTo>
                      <a:lnTo>
                        <a:pt x="5613" y="1211"/>
                      </a:lnTo>
                      <a:lnTo>
                        <a:pt x="5596" y="1172"/>
                      </a:lnTo>
                      <a:lnTo>
                        <a:pt x="5578" y="1136"/>
                      </a:lnTo>
                      <a:lnTo>
                        <a:pt x="5561" y="1104"/>
                      </a:lnTo>
                      <a:lnTo>
                        <a:pt x="5542" y="1075"/>
                      </a:lnTo>
                      <a:lnTo>
                        <a:pt x="5522" y="1050"/>
                      </a:lnTo>
                      <a:lnTo>
                        <a:pt x="5503" y="1030"/>
                      </a:lnTo>
                      <a:lnTo>
                        <a:pt x="5481" y="1012"/>
                      </a:lnTo>
                      <a:lnTo>
                        <a:pt x="5459" y="1001"/>
                      </a:lnTo>
                      <a:lnTo>
                        <a:pt x="5435" y="993"/>
                      </a:lnTo>
                      <a:lnTo>
                        <a:pt x="5411" y="990"/>
                      </a:lnTo>
                      <a:lnTo>
                        <a:pt x="5409" y="982"/>
                      </a:lnTo>
                      <a:lnTo>
                        <a:pt x="5405" y="973"/>
                      </a:lnTo>
                      <a:lnTo>
                        <a:pt x="5402" y="965"/>
                      </a:lnTo>
                      <a:lnTo>
                        <a:pt x="5397" y="956"/>
                      </a:lnTo>
                      <a:lnTo>
                        <a:pt x="5386" y="940"/>
                      </a:lnTo>
                      <a:lnTo>
                        <a:pt x="5372" y="924"/>
                      </a:lnTo>
                      <a:lnTo>
                        <a:pt x="5357" y="909"/>
                      </a:lnTo>
                      <a:lnTo>
                        <a:pt x="5338" y="895"/>
                      </a:lnTo>
                      <a:lnTo>
                        <a:pt x="5320" y="884"/>
                      </a:lnTo>
                      <a:lnTo>
                        <a:pt x="5301" y="873"/>
                      </a:lnTo>
                      <a:lnTo>
                        <a:pt x="5290" y="870"/>
                      </a:lnTo>
                      <a:lnTo>
                        <a:pt x="5280" y="868"/>
                      </a:lnTo>
                      <a:lnTo>
                        <a:pt x="5270" y="865"/>
                      </a:lnTo>
                      <a:lnTo>
                        <a:pt x="5258" y="863"/>
                      </a:lnTo>
                      <a:lnTo>
                        <a:pt x="5248" y="863"/>
                      </a:lnTo>
                      <a:lnTo>
                        <a:pt x="5237" y="863"/>
                      </a:lnTo>
                      <a:lnTo>
                        <a:pt x="5227" y="864"/>
                      </a:lnTo>
                      <a:lnTo>
                        <a:pt x="5217" y="866"/>
                      </a:lnTo>
                      <a:lnTo>
                        <a:pt x="5206" y="869"/>
                      </a:lnTo>
                      <a:lnTo>
                        <a:pt x="5196" y="873"/>
                      </a:lnTo>
                      <a:lnTo>
                        <a:pt x="5186" y="879"/>
                      </a:lnTo>
                      <a:lnTo>
                        <a:pt x="5177" y="886"/>
                      </a:lnTo>
                      <a:lnTo>
                        <a:pt x="5166" y="893"/>
                      </a:lnTo>
                      <a:lnTo>
                        <a:pt x="5158" y="902"/>
                      </a:lnTo>
                      <a:lnTo>
                        <a:pt x="5149" y="912"/>
                      </a:lnTo>
                      <a:lnTo>
                        <a:pt x="5141" y="925"/>
                      </a:lnTo>
                      <a:lnTo>
                        <a:pt x="5140" y="907"/>
                      </a:lnTo>
                      <a:lnTo>
                        <a:pt x="5139" y="889"/>
                      </a:lnTo>
                      <a:lnTo>
                        <a:pt x="5136" y="872"/>
                      </a:lnTo>
                      <a:lnTo>
                        <a:pt x="5133" y="855"/>
                      </a:lnTo>
                      <a:lnTo>
                        <a:pt x="5129" y="838"/>
                      </a:lnTo>
                      <a:lnTo>
                        <a:pt x="5125" y="822"/>
                      </a:lnTo>
                      <a:lnTo>
                        <a:pt x="5119" y="805"/>
                      </a:lnTo>
                      <a:lnTo>
                        <a:pt x="5113" y="789"/>
                      </a:lnTo>
                      <a:lnTo>
                        <a:pt x="5107" y="774"/>
                      </a:lnTo>
                      <a:lnTo>
                        <a:pt x="5098" y="760"/>
                      </a:lnTo>
                      <a:lnTo>
                        <a:pt x="5090" y="745"/>
                      </a:lnTo>
                      <a:lnTo>
                        <a:pt x="5081" y="731"/>
                      </a:lnTo>
                      <a:lnTo>
                        <a:pt x="5072" y="717"/>
                      </a:lnTo>
                      <a:lnTo>
                        <a:pt x="5062" y="703"/>
                      </a:lnTo>
                      <a:lnTo>
                        <a:pt x="5051" y="691"/>
                      </a:lnTo>
                      <a:lnTo>
                        <a:pt x="5040" y="678"/>
                      </a:lnTo>
                      <a:lnTo>
                        <a:pt x="5025" y="677"/>
                      </a:lnTo>
                      <a:lnTo>
                        <a:pt x="5004" y="672"/>
                      </a:lnTo>
                      <a:lnTo>
                        <a:pt x="4981" y="665"/>
                      </a:lnTo>
                      <a:lnTo>
                        <a:pt x="4956" y="655"/>
                      </a:lnTo>
                      <a:lnTo>
                        <a:pt x="4926" y="643"/>
                      </a:lnTo>
                      <a:lnTo>
                        <a:pt x="4894" y="629"/>
                      </a:lnTo>
                      <a:lnTo>
                        <a:pt x="4861" y="612"/>
                      </a:lnTo>
                      <a:lnTo>
                        <a:pt x="4824" y="595"/>
                      </a:lnTo>
                      <a:lnTo>
                        <a:pt x="4745" y="555"/>
                      </a:lnTo>
                      <a:lnTo>
                        <a:pt x="4661" y="510"/>
                      </a:lnTo>
                      <a:lnTo>
                        <a:pt x="4573" y="463"/>
                      </a:lnTo>
                      <a:lnTo>
                        <a:pt x="4482" y="415"/>
                      </a:lnTo>
                      <a:lnTo>
                        <a:pt x="4391" y="367"/>
                      </a:lnTo>
                      <a:lnTo>
                        <a:pt x="4303" y="321"/>
                      </a:lnTo>
                      <a:lnTo>
                        <a:pt x="4218" y="278"/>
                      </a:lnTo>
                      <a:lnTo>
                        <a:pt x="4140" y="240"/>
                      </a:lnTo>
                      <a:lnTo>
                        <a:pt x="4103" y="224"/>
                      </a:lnTo>
                      <a:lnTo>
                        <a:pt x="4068" y="209"/>
                      </a:lnTo>
                      <a:lnTo>
                        <a:pt x="4037" y="198"/>
                      </a:lnTo>
                      <a:lnTo>
                        <a:pt x="4008" y="187"/>
                      </a:lnTo>
                      <a:lnTo>
                        <a:pt x="3982" y="181"/>
                      </a:lnTo>
                      <a:lnTo>
                        <a:pt x="3959" y="176"/>
                      </a:lnTo>
                      <a:lnTo>
                        <a:pt x="3940" y="174"/>
                      </a:lnTo>
                      <a:lnTo>
                        <a:pt x="3924" y="176"/>
                      </a:lnTo>
                      <a:lnTo>
                        <a:pt x="3916" y="191"/>
                      </a:lnTo>
                      <a:lnTo>
                        <a:pt x="3911" y="210"/>
                      </a:lnTo>
                      <a:lnTo>
                        <a:pt x="3910" y="232"/>
                      </a:lnTo>
                      <a:lnTo>
                        <a:pt x="3912" y="257"/>
                      </a:lnTo>
                      <a:lnTo>
                        <a:pt x="3916" y="285"/>
                      </a:lnTo>
                      <a:lnTo>
                        <a:pt x="3923" y="315"/>
                      </a:lnTo>
                      <a:lnTo>
                        <a:pt x="3932" y="347"/>
                      </a:lnTo>
                      <a:lnTo>
                        <a:pt x="3943" y="380"/>
                      </a:lnTo>
                      <a:lnTo>
                        <a:pt x="3956" y="416"/>
                      </a:lnTo>
                      <a:lnTo>
                        <a:pt x="3970" y="454"/>
                      </a:lnTo>
                      <a:lnTo>
                        <a:pt x="3985" y="492"/>
                      </a:lnTo>
                      <a:lnTo>
                        <a:pt x="4002" y="532"/>
                      </a:lnTo>
                      <a:lnTo>
                        <a:pt x="4036" y="612"/>
                      </a:lnTo>
                      <a:lnTo>
                        <a:pt x="4072" y="695"/>
                      </a:lnTo>
                      <a:lnTo>
                        <a:pt x="4107" y="777"/>
                      </a:lnTo>
                      <a:lnTo>
                        <a:pt x="4140" y="856"/>
                      </a:lnTo>
                      <a:lnTo>
                        <a:pt x="4153" y="894"/>
                      </a:lnTo>
                      <a:lnTo>
                        <a:pt x="4166" y="931"/>
                      </a:lnTo>
                      <a:lnTo>
                        <a:pt x="4177" y="965"/>
                      </a:lnTo>
                      <a:lnTo>
                        <a:pt x="4187" y="1000"/>
                      </a:lnTo>
                      <a:lnTo>
                        <a:pt x="4195" y="1031"/>
                      </a:lnTo>
                      <a:lnTo>
                        <a:pt x="4199" y="1059"/>
                      </a:lnTo>
                      <a:lnTo>
                        <a:pt x="4202" y="1087"/>
                      </a:lnTo>
                      <a:lnTo>
                        <a:pt x="4200" y="1111"/>
                      </a:lnTo>
                      <a:lnTo>
                        <a:pt x="4197" y="1132"/>
                      </a:lnTo>
                      <a:lnTo>
                        <a:pt x="4189" y="1150"/>
                      </a:lnTo>
                      <a:lnTo>
                        <a:pt x="4179" y="1165"/>
                      </a:lnTo>
                      <a:lnTo>
                        <a:pt x="4164" y="1175"/>
                      </a:lnTo>
                      <a:close/>
                      <a:moveTo>
                        <a:pt x="1959" y="764"/>
                      </a:moveTo>
                      <a:lnTo>
                        <a:pt x="1973" y="838"/>
                      </a:lnTo>
                      <a:lnTo>
                        <a:pt x="1983" y="912"/>
                      </a:lnTo>
                      <a:lnTo>
                        <a:pt x="1989" y="989"/>
                      </a:lnTo>
                      <a:lnTo>
                        <a:pt x="1992" y="1067"/>
                      </a:lnTo>
                      <a:lnTo>
                        <a:pt x="1992" y="1148"/>
                      </a:lnTo>
                      <a:lnTo>
                        <a:pt x="1989" y="1228"/>
                      </a:lnTo>
                      <a:lnTo>
                        <a:pt x="1983" y="1311"/>
                      </a:lnTo>
                      <a:lnTo>
                        <a:pt x="1974" y="1394"/>
                      </a:lnTo>
                      <a:lnTo>
                        <a:pt x="1963" y="1479"/>
                      </a:lnTo>
                      <a:lnTo>
                        <a:pt x="1950" y="1564"/>
                      </a:lnTo>
                      <a:lnTo>
                        <a:pt x="1935" y="1649"/>
                      </a:lnTo>
                      <a:lnTo>
                        <a:pt x="1917" y="1735"/>
                      </a:lnTo>
                      <a:lnTo>
                        <a:pt x="1899" y="1821"/>
                      </a:lnTo>
                      <a:lnTo>
                        <a:pt x="1880" y="1907"/>
                      </a:lnTo>
                      <a:lnTo>
                        <a:pt x="1859" y="1993"/>
                      </a:lnTo>
                      <a:lnTo>
                        <a:pt x="1837" y="2080"/>
                      </a:lnTo>
                      <a:lnTo>
                        <a:pt x="1790" y="2251"/>
                      </a:lnTo>
                      <a:lnTo>
                        <a:pt x="1743" y="2419"/>
                      </a:lnTo>
                      <a:lnTo>
                        <a:pt x="1695" y="2584"/>
                      </a:lnTo>
                      <a:lnTo>
                        <a:pt x="1649" y="2744"/>
                      </a:lnTo>
                      <a:lnTo>
                        <a:pt x="1627" y="2821"/>
                      </a:lnTo>
                      <a:lnTo>
                        <a:pt x="1606" y="2896"/>
                      </a:lnTo>
                      <a:lnTo>
                        <a:pt x="1587" y="2971"/>
                      </a:lnTo>
                      <a:lnTo>
                        <a:pt x="1568" y="3043"/>
                      </a:lnTo>
                      <a:lnTo>
                        <a:pt x="1552" y="3114"/>
                      </a:lnTo>
                      <a:lnTo>
                        <a:pt x="1537" y="3181"/>
                      </a:lnTo>
                      <a:lnTo>
                        <a:pt x="1525" y="3246"/>
                      </a:lnTo>
                      <a:lnTo>
                        <a:pt x="1514" y="3309"/>
                      </a:lnTo>
                      <a:lnTo>
                        <a:pt x="1493" y="3313"/>
                      </a:lnTo>
                      <a:lnTo>
                        <a:pt x="1473" y="3330"/>
                      </a:lnTo>
                      <a:lnTo>
                        <a:pt x="1456" y="3356"/>
                      </a:lnTo>
                      <a:lnTo>
                        <a:pt x="1440" y="3390"/>
                      </a:lnTo>
                      <a:lnTo>
                        <a:pt x="1425" y="3435"/>
                      </a:lnTo>
                      <a:lnTo>
                        <a:pt x="1412" y="3487"/>
                      </a:lnTo>
                      <a:lnTo>
                        <a:pt x="1401" y="3546"/>
                      </a:lnTo>
                      <a:lnTo>
                        <a:pt x="1390" y="3611"/>
                      </a:lnTo>
                      <a:lnTo>
                        <a:pt x="1381" y="3683"/>
                      </a:lnTo>
                      <a:lnTo>
                        <a:pt x="1374" y="3760"/>
                      </a:lnTo>
                      <a:lnTo>
                        <a:pt x="1367" y="3842"/>
                      </a:lnTo>
                      <a:lnTo>
                        <a:pt x="1363" y="3927"/>
                      </a:lnTo>
                      <a:lnTo>
                        <a:pt x="1358" y="4015"/>
                      </a:lnTo>
                      <a:lnTo>
                        <a:pt x="1355" y="4107"/>
                      </a:lnTo>
                      <a:lnTo>
                        <a:pt x="1354" y="4200"/>
                      </a:lnTo>
                      <a:lnTo>
                        <a:pt x="1352" y="4295"/>
                      </a:lnTo>
                      <a:lnTo>
                        <a:pt x="1351" y="4389"/>
                      </a:lnTo>
                      <a:lnTo>
                        <a:pt x="1352" y="4483"/>
                      </a:lnTo>
                      <a:lnTo>
                        <a:pt x="1354" y="4577"/>
                      </a:lnTo>
                      <a:lnTo>
                        <a:pt x="1356" y="4669"/>
                      </a:lnTo>
                      <a:lnTo>
                        <a:pt x="1359" y="4759"/>
                      </a:lnTo>
                      <a:lnTo>
                        <a:pt x="1363" y="4846"/>
                      </a:lnTo>
                      <a:lnTo>
                        <a:pt x="1367" y="4930"/>
                      </a:lnTo>
                      <a:lnTo>
                        <a:pt x="1372" y="5008"/>
                      </a:lnTo>
                      <a:lnTo>
                        <a:pt x="1377" y="5083"/>
                      </a:lnTo>
                      <a:lnTo>
                        <a:pt x="1382" y="5152"/>
                      </a:lnTo>
                      <a:lnTo>
                        <a:pt x="1388" y="5214"/>
                      </a:lnTo>
                      <a:lnTo>
                        <a:pt x="1395" y="5269"/>
                      </a:lnTo>
                      <a:lnTo>
                        <a:pt x="1402" y="5316"/>
                      </a:lnTo>
                      <a:lnTo>
                        <a:pt x="1408" y="5355"/>
                      </a:lnTo>
                      <a:lnTo>
                        <a:pt x="1416" y="5385"/>
                      </a:lnTo>
                      <a:lnTo>
                        <a:pt x="1422" y="5406"/>
                      </a:lnTo>
                      <a:lnTo>
                        <a:pt x="1499" y="5402"/>
                      </a:lnTo>
                      <a:lnTo>
                        <a:pt x="1573" y="5402"/>
                      </a:lnTo>
                      <a:lnTo>
                        <a:pt x="1643" y="5407"/>
                      </a:lnTo>
                      <a:lnTo>
                        <a:pt x="1708" y="5415"/>
                      </a:lnTo>
                      <a:lnTo>
                        <a:pt x="1770" y="5425"/>
                      </a:lnTo>
                      <a:lnTo>
                        <a:pt x="1830" y="5440"/>
                      </a:lnTo>
                      <a:lnTo>
                        <a:pt x="1886" y="5457"/>
                      </a:lnTo>
                      <a:lnTo>
                        <a:pt x="1939" y="5477"/>
                      </a:lnTo>
                      <a:lnTo>
                        <a:pt x="1991" y="5500"/>
                      </a:lnTo>
                      <a:lnTo>
                        <a:pt x="2039" y="5524"/>
                      </a:lnTo>
                      <a:lnTo>
                        <a:pt x="2086" y="5551"/>
                      </a:lnTo>
                      <a:lnTo>
                        <a:pt x="2132" y="5580"/>
                      </a:lnTo>
                      <a:lnTo>
                        <a:pt x="2176" y="5610"/>
                      </a:lnTo>
                      <a:lnTo>
                        <a:pt x="2219" y="5641"/>
                      </a:lnTo>
                      <a:lnTo>
                        <a:pt x="2262" y="5673"/>
                      </a:lnTo>
                      <a:lnTo>
                        <a:pt x="2303" y="5707"/>
                      </a:lnTo>
                      <a:lnTo>
                        <a:pt x="2386" y="5776"/>
                      </a:lnTo>
                      <a:lnTo>
                        <a:pt x="2469" y="5843"/>
                      </a:lnTo>
                      <a:lnTo>
                        <a:pt x="2511" y="5878"/>
                      </a:lnTo>
                      <a:lnTo>
                        <a:pt x="2555" y="5911"/>
                      </a:lnTo>
                      <a:lnTo>
                        <a:pt x="2600" y="5943"/>
                      </a:lnTo>
                      <a:lnTo>
                        <a:pt x="2647" y="5975"/>
                      </a:lnTo>
                      <a:lnTo>
                        <a:pt x="2695" y="6005"/>
                      </a:lnTo>
                      <a:lnTo>
                        <a:pt x="2744" y="6034"/>
                      </a:lnTo>
                      <a:lnTo>
                        <a:pt x="2797" y="6062"/>
                      </a:lnTo>
                      <a:lnTo>
                        <a:pt x="2852" y="6087"/>
                      </a:lnTo>
                      <a:lnTo>
                        <a:pt x="2910" y="6109"/>
                      </a:lnTo>
                      <a:lnTo>
                        <a:pt x="2971" y="6129"/>
                      </a:lnTo>
                      <a:lnTo>
                        <a:pt x="3035" y="6148"/>
                      </a:lnTo>
                      <a:lnTo>
                        <a:pt x="3103" y="6163"/>
                      </a:lnTo>
                      <a:lnTo>
                        <a:pt x="3119" y="6127"/>
                      </a:lnTo>
                      <a:lnTo>
                        <a:pt x="3132" y="6071"/>
                      </a:lnTo>
                      <a:lnTo>
                        <a:pt x="3146" y="5995"/>
                      </a:lnTo>
                      <a:lnTo>
                        <a:pt x="3157" y="5900"/>
                      </a:lnTo>
                      <a:lnTo>
                        <a:pt x="3167" y="5788"/>
                      </a:lnTo>
                      <a:lnTo>
                        <a:pt x="3175" y="5659"/>
                      </a:lnTo>
                      <a:lnTo>
                        <a:pt x="3182" y="5516"/>
                      </a:lnTo>
                      <a:lnTo>
                        <a:pt x="3188" y="5360"/>
                      </a:lnTo>
                      <a:lnTo>
                        <a:pt x="3192" y="5191"/>
                      </a:lnTo>
                      <a:lnTo>
                        <a:pt x="3194" y="5013"/>
                      </a:lnTo>
                      <a:lnTo>
                        <a:pt x="3197" y="4823"/>
                      </a:lnTo>
                      <a:lnTo>
                        <a:pt x="3198" y="4627"/>
                      </a:lnTo>
                      <a:lnTo>
                        <a:pt x="3198" y="4424"/>
                      </a:lnTo>
                      <a:lnTo>
                        <a:pt x="3197" y="4215"/>
                      </a:lnTo>
                      <a:lnTo>
                        <a:pt x="3196" y="4004"/>
                      </a:lnTo>
                      <a:lnTo>
                        <a:pt x="3193" y="3788"/>
                      </a:lnTo>
                      <a:lnTo>
                        <a:pt x="3188" y="3356"/>
                      </a:lnTo>
                      <a:lnTo>
                        <a:pt x="3178" y="2929"/>
                      </a:lnTo>
                      <a:lnTo>
                        <a:pt x="3169" y="2518"/>
                      </a:lnTo>
                      <a:lnTo>
                        <a:pt x="3158" y="2135"/>
                      </a:lnTo>
                      <a:lnTo>
                        <a:pt x="3147" y="1789"/>
                      </a:lnTo>
                      <a:lnTo>
                        <a:pt x="3136" y="1493"/>
                      </a:lnTo>
                      <a:lnTo>
                        <a:pt x="3127" y="1255"/>
                      </a:lnTo>
                      <a:lnTo>
                        <a:pt x="3119" y="1087"/>
                      </a:lnTo>
                      <a:lnTo>
                        <a:pt x="3101" y="1066"/>
                      </a:lnTo>
                      <a:lnTo>
                        <a:pt x="3086" y="1043"/>
                      </a:lnTo>
                      <a:lnTo>
                        <a:pt x="3073" y="1020"/>
                      </a:lnTo>
                      <a:lnTo>
                        <a:pt x="3062" y="995"/>
                      </a:lnTo>
                      <a:lnTo>
                        <a:pt x="3052" y="967"/>
                      </a:lnTo>
                      <a:lnTo>
                        <a:pt x="3044" y="940"/>
                      </a:lnTo>
                      <a:lnTo>
                        <a:pt x="3038" y="910"/>
                      </a:lnTo>
                      <a:lnTo>
                        <a:pt x="3033" y="880"/>
                      </a:lnTo>
                      <a:lnTo>
                        <a:pt x="3029" y="849"/>
                      </a:lnTo>
                      <a:lnTo>
                        <a:pt x="3027" y="817"/>
                      </a:lnTo>
                      <a:lnTo>
                        <a:pt x="3024" y="784"/>
                      </a:lnTo>
                      <a:lnTo>
                        <a:pt x="3023" y="749"/>
                      </a:lnTo>
                      <a:lnTo>
                        <a:pt x="3024" y="680"/>
                      </a:lnTo>
                      <a:lnTo>
                        <a:pt x="3028" y="610"/>
                      </a:lnTo>
                      <a:lnTo>
                        <a:pt x="3036" y="469"/>
                      </a:lnTo>
                      <a:lnTo>
                        <a:pt x="3043" y="331"/>
                      </a:lnTo>
                      <a:lnTo>
                        <a:pt x="3044" y="298"/>
                      </a:lnTo>
                      <a:lnTo>
                        <a:pt x="3043" y="266"/>
                      </a:lnTo>
                      <a:lnTo>
                        <a:pt x="3042" y="233"/>
                      </a:lnTo>
                      <a:lnTo>
                        <a:pt x="3041" y="203"/>
                      </a:lnTo>
                      <a:lnTo>
                        <a:pt x="3037" y="175"/>
                      </a:lnTo>
                      <a:lnTo>
                        <a:pt x="3033" y="146"/>
                      </a:lnTo>
                      <a:lnTo>
                        <a:pt x="3027" y="120"/>
                      </a:lnTo>
                      <a:lnTo>
                        <a:pt x="3020" y="94"/>
                      </a:lnTo>
                      <a:lnTo>
                        <a:pt x="3018" y="85"/>
                      </a:lnTo>
                      <a:lnTo>
                        <a:pt x="3012" y="76"/>
                      </a:lnTo>
                      <a:lnTo>
                        <a:pt x="3003" y="68"/>
                      </a:lnTo>
                      <a:lnTo>
                        <a:pt x="2992" y="61"/>
                      </a:lnTo>
                      <a:lnTo>
                        <a:pt x="2980" y="53"/>
                      </a:lnTo>
                      <a:lnTo>
                        <a:pt x="2964" y="46"/>
                      </a:lnTo>
                      <a:lnTo>
                        <a:pt x="2946" y="40"/>
                      </a:lnTo>
                      <a:lnTo>
                        <a:pt x="2928" y="35"/>
                      </a:lnTo>
                      <a:lnTo>
                        <a:pt x="2907" y="29"/>
                      </a:lnTo>
                      <a:lnTo>
                        <a:pt x="2886" y="24"/>
                      </a:lnTo>
                      <a:lnTo>
                        <a:pt x="2863" y="20"/>
                      </a:lnTo>
                      <a:lnTo>
                        <a:pt x="2838" y="15"/>
                      </a:lnTo>
                      <a:lnTo>
                        <a:pt x="2788" y="9"/>
                      </a:lnTo>
                      <a:lnTo>
                        <a:pt x="2735" y="4"/>
                      </a:lnTo>
                      <a:lnTo>
                        <a:pt x="2682" y="1"/>
                      </a:lnTo>
                      <a:lnTo>
                        <a:pt x="2629" y="0"/>
                      </a:lnTo>
                      <a:lnTo>
                        <a:pt x="2579" y="1"/>
                      </a:lnTo>
                      <a:lnTo>
                        <a:pt x="2532" y="5"/>
                      </a:lnTo>
                      <a:lnTo>
                        <a:pt x="2510" y="7"/>
                      </a:lnTo>
                      <a:lnTo>
                        <a:pt x="2489" y="9"/>
                      </a:lnTo>
                      <a:lnTo>
                        <a:pt x="2471" y="13"/>
                      </a:lnTo>
                      <a:lnTo>
                        <a:pt x="2454" y="16"/>
                      </a:lnTo>
                      <a:lnTo>
                        <a:pt x="2439" y="21"/>
                      </a:lnTo>
                      <a:lnTo>
                        <a:pt x="2425" y="25"/>
                      </a:lnTo>
                      <a:lnTo>
                        <a:pt x="2415" y="31"/>
                      </a:lnTo>
                      <a:lnTo>
                        <a:pt x="2405" y="37"/>
                      </a:lnTo>
                      <a:lnTo>
                        <a:pt x="2361" y="37"/>
                      </a:lnTo>
                      <a:lnTo>
                        <a:pt x="2316" y="39"/>
                      </a:lnTo>
                      <a:lnTo>
                        <a:pt x="2272" y="41"/>
                      </a:lnTo>
                      <a:lnTo>
                        <a:pt x="2230" y="45"/>
                      </a:lnTo>
                      <a:lnTo>
                        <a:pt x="2187" y="50"/>
                      </a:lnTo>
                      <a:lnTo>
                        <a:pt x="2146" y="55"/>
                      </a:lnTo>
                      <a:lnTo>
                        <a:pt x="2106" y="61"/>
                      </a:lnTo>
                      <a:lnTo>
                        <a:pt x="2067" y="68"/>
                      </a:lnTo>
                      <a:lnTo>
                        <a:pt x="2029" y="76"/>
                      </a:lnTo>
                      <a:lnTo>
                        <a:pt x="1991" y="84"/>
                      </a:lnTo>
                      <a:lnTo>
                        <a:pt x="1954" y="93"/>
                      </a:lnTo>
                      <a:lnTo>
                        <a:pt x="1919" y="104"/>
                      </a:lnTo>
                      <a:lnTo>
                        <a:pt x="1883" y="114"/>
                      </a:lnTo>
                      <a:lnTo>
                        <a:pt x="1849" y="125"/>
                      </a:lnTo>
                      <a:lnTo>
                        <a:pt x="1815" y="137"/>
                      </a:lnTo>
                      <a:lnTo>
                        <a:pt x="1782" y="149"/>
                      </a:lnTo>
                      <a:lnTo>
                        <a:pt x="1751" y="162"/>
                      </a:lnTo>
                      <a:lnTo>
                        <a:pt x="1719" y="176"/>
                      </a:lnTo>
                      <a:lnTo>
                        <a:pt x="1689" y="190"/>
                      </a:lnTo>
                      <a:lnTo>
                        <a:pt x="1659" y="205"/>
                      </a:lnTo>
                      <a:lnTo>
                        <a:pt x="1630" y="220"/>
                      </a:lnTo>
                      <a:lnTo>
                        <a:pt x="1602" y="234"/>
                      </a:lnTo>
                      <a:lnTo>
                        <a:pt x="1574" y="251"/>
                      </a:lnTo>
                      <a:lnTo>
                        <a:pt x="1548" y="267"/>
                      </a:lnTo>
                      <a:lnTo>
                        <a:pt x="1496" y="300"/>
                      </a:lnTo>
                      <a:lnTo>
                        <a:pt x="1448" y="334"/>
                      </a:lnTo>
                      <a:lnTo>
                        <a:pt x="1402" y="369"/>
                      </a:lnTo>
                      <a:lnTo>
                        <a:pt x="1358" y="405"/>
                      </a:lnTo>
                      <a:lnTo>
                        <a:pt x="1343" y="417"/>
                      </a:lnTo>
                      <a:lnTo>
                        <a:pt x="1331" y="429"/>
                      </a:lnTo>
                      <a:lnTo>
                        <a:pt x="1319" y="439"/>
                      </a:lnTo>
                      <a:lnTo>
                        <a:pt x="1310" y="449"/>
                      </a:lnTo>
                      <a:lnTo>
                        <a:pt x="1303" y="460"/>
                      </a:lnTo>
                      <a:lnTo>
                        <a:pt x="1297" y="469"/>
                      </a:lnTo>
                      <a:lnTo>
                        <a:pt x="1293" y="479"/>
                      </a:lnTo>
                      <a:lnTo>
                        <a:pt x="1288" y="488"/>
                      </a:lnTo>
                      <a:lnTo>
                        <a:pt x="1286" y="499"/>
                      </a:lnTo>
                      <a:lnTo>
                        <a:pt x="1284" y="509"/>
                      </a:lnTo>
                      <a:lnTo>
                        <a:pt x="1282" y="519"/>
                      </a:lnTo>
                      <a:lnTo>
                        <a:pt x="1281" y="531"/>
                      </a:lnTo>
                      <a:lnTo>
                        <a:pt x="1280" y="555"/>
                      </a:lnTo>
                      <a:lnTo>
                        <a:pt x="1278" y="584"/>
                      </a:lnTo>
                      <a:lnTo>
                        <a:pt x="1274" y="616"/>
                      </a:lnTo>
                      <a:lnTo>
                        <a:pt x="1269" y="654"/>
                      </a:lnTo>
                      <a:lnTo>
                        <a:pt x="1264" y="676"/>
                      </a:lnTo>
                      <a:lnTo>
                        <a:pt x="1258" y="699"/>
                      </a:lnTo>
                      <a:lnTo>
                        <a:pt x="1250" y="724"/>
                      </a:lnTo>
                      <a:lnTo>
                        <a:pt x="1241" y="751"/>
                      </a:lnTo>
                      <a:lnTo>
                        <a:pt x="1231" y="780"/>
                      </a:lnTo>
                      <a:lnTo>
                        <a:pt x="1218" y="811"/>
                      </a:lnTo>
                      <a:lnTo>
                        <a:pt x="1203" y="846"/>
                      </a:lnTo>
                      <a:lnTo>
                        <a:pt x="1187" y="881"/>
                      </a:lnTo>
                      <a:lnTo>
                        <a:pt x="1168" y="920"/>
                      </a:lnTo>
                      <a:lnTo>
                        <a:pt x="1146" y="962"/>
                      </a:lnTo>
                      <a:lnTo>
                        <a:pt x="1120" y="1007"/>
                      </a:lnTo>
                      <a:lnTo>
                        <a:pt x="1093" y="1054"/>
                      </a:lnTo>
                      <a:lnTo>
                        <a:pt x="1063" y="1078"/>
                      </a:lnTo>
                      <a:lnTo>
                        <a:pt x="1037" y="1102"/>
                      </a:lnTo>
                      <a:lnTo>
                        <a:pt x="1010" y="1127"/>
                      </a:lnTo>
                      <a:lnTo>
                        <a:pt x="986" y="1152"/>
                      </a:lnTo>
                      <a:lnTo>
                        <a:pt x="964" y="1179"/>
                      </a:lnTo>
                      <a:lnTo>
                        <a:pt x="942" y="1206"/>
                      </a:lnTo>
                      <a:lnTo>
                        <a:pt x="923" y="1234"/>
                      </a:lnTo>
                      <a:lnTo>
                        <a:pt x="906" y="1262"/>
                      </a:lnTo>
                      <a:lnTo>
                        <a:pt x="888" y="1290"/>
                      </a:lnTo>
                      <a:lnTo>
                        <a:pt x="872" y="1320"/>
                      </a:lnTo>
                      <a:lnTo>
                        <a:pt x="859" y="1349"/>
                      </a:lnTo>
                      <a:lnTo>
                        <a:pt x="845" y="1379"/>
                      </a:lnTo>
                      <a:lnTo>
                        <a:pt x="832" y="1410"/>
                      </a:lnTo>
                      <a:lnTo>
                        <a:pt x="821" y="1441"/>
                      </a:lnTo>
                      <a:lnTo>
                        <a:pt x="810" y="1471"/>
                      </a:lnTo>
                      <a:lnTo>
                        <a:pt x="800" y="1503"/>
                      </a:lnTo>
                      <a:lnTo>
                        <a:pt x="783" y="1565"/>
                      </a:lnTo>
                      <a:lnTo>
                        <a:pt x="767" y="1629"/>
                      </a:lnTo>
                      <a:lnTo>
                        <a:pt x="753" y="1692"/>
                      </a:lnTo>
                      <a:lnTo>
                        <a:pt x="740" y="1757"/>
                      </a:lnTo>
                      <a:lnTo>
                        <a:pt x="728" y="1820"/>
                      </a:lnTo>
                      <a:lnTo>
                        <a:pt x="715" y="1883"/>
                      </a:lnTo>
                      <a:lnTo>
                        <a:pt x="701" y="1945"/>
                      </a:lnTo>
                      <a:lnTo>
                        <a:pt x="686" y="2006"/>
                      </a:lnTo>
                      <a:lnTo>
                        <a:pt x="667" y="2108"/>
                      </a:lnTo>
                      <a:lnTo>
                        <a:pt x="646" y="2209"/>
                      </a:lnTo>
                      <a:lnTo>
                        <a:pt x="623" y="2309"/>
                      </a:lnTo>
                      <a:lnTo>
                        <a:pt x="599" y="2410"/>
                      </a:lnTo>
                      <a:lnTo>
                        <a:pt x="574" y="2510"/>
                      </a:lnTo>
                      <a:lnTo>
                        <a:pt x="547" y="2609"/>
                      </a:lnTo>
                      <a:lnTo>
                        <a:pt x="519" y="2708"/>
                      </a:lnTo>
                      <a:lnTo>
                        <a:pt x="491" y="2806"/>
                      </a:lnTo>
                      <a:lnTo>
                        <a:pt x="461" y="2901"/>
                      </a:lnTo>
                      <a:lnTo>
                        <a:pt x="431" y="2996"/>
                      </a:lnTo>
                      <a:lnTo>
                        <a:pt x="402" y="3091"/>
                      </a:lnTo>
                      <a:lnTo>
                        <a:pt x="371" y="3184"/>
                      </a:lnTo>
                      <a:lnTo>
                        <a:pt x="311" y="3364"/>
                      </a:lnTo>
                      <a:lnTo>
                        <a:pt x="252" y="3538"/>
                      </a:lnTo>
                      <a:lnTo>
                        <a:pt x="196" y="3702"/>
                      </a:lnTo>
                      <a:lnTo>
                        <a:pt x="144" y="3858"/>
                      </a:lnTo>
                      <a:lnTo>
                        <a:pt x="120" y="3932"/>
                      </a:lnTo>
                      <a:lnTo>
                        <a:pt x="98" y="4003"/>
                      </a:lnTo>
                      <a:lnTo>
                        <a:pt x="78" y="4072"/>
                      </a:lnTo>
                      <a:lnTo>
                        <a:pt x="59" y="4137"/>
                      </a:lnTo>
                      <a:lnTo>
                        <a:pt x="43" y="4200"/>
                      </a:lnTo>
                      <a:lnTo>
                        <a:pt x="29" y="4259"/>
                      </a:lnTo>
                      <a:lnTo>
                        <a:pt x="18" y="4315"/>
                      </a:lnTo>
                      <a:lnTo>
                        <a:pt x="9" y="4368"/>
                      </a:lnTo>
                      <a:lnTo>
                        <a:pt x="3" y="4418"/>
                      </a:lnTo>
                      <a:lnTo>
                        <a:pt x="0" y="4462"/>
                      </a:lnTo>
                      <a:lnTo>
                        <a:pt x="0" y="4504"/>
                      </a:lnTo>
                      <a:lnTo>
                        <a:pt x="3" y="4542"/>
                      </a:lnTo>
                      <a:lnTo>
                        <a:pt x="35" y="4566"/>
                      </a:lnTo>
                      <a:lnTo>
                        <a:pt x="66" y="4588"/>
                      </a:lnTo>
                      <a:lnTo>
                        <a:pt x="97" y="4607"/>
                      </a:lnTo>
                      <a:lnTo>
                        <a:pt x="128" y="4624"/>
                      </a:lnTo>
                      <a:lnTo>
                        <a:pt x="159" y="4642"/>
                      </a:lnTo>
                      <a:lnTo>
                        <a:pt x="189" y="4655"/>
                      </a:lnTo>
                      <a:lnTo>
                        <a:pt x="219" y="4669"/>
                      </a:lnTo>
                      <a:lnTo>
                        <a:pt x="249" y="4681"/>
                      </a:lnTo>
                      <a:lnTo>
                        <a:pt x="279" y="4691"/>
                      </a:lnTo>
                      <a:lnTo>
                        <a:pt x="307" y="4700"/>
                      </a:lnTo>
                      <a:lnTo>
                        <a:pt x="336" y="4708"/>
                      </a:lnTo>
                      <a:lnTo>
                        <a:pt x="365" y="4714"/>
                      </a:lnTo>
                      <a:lnTo>
                        <a:pt x="392" y="4720"/>
                      </a:lnTo>
                      <a:lnTo>
                        <a:pt x="420" y="4724"/>
                      </a:lnTo>
                      <a:lnTo>
                        <a:pt x="447" y="4729"/>
                      </a:lnTo>
                      <a:lnTo>
                        <a:pt x="475" y="4731"/>
                      </a:lnTo>
                      <a:lnTo>
                        <a:pt x="529" y="4736"/>
                      </a:lnTo>
                      <a:lnTo>
                        <a:pt x="581" y="4738"/>
                      </a:lnTo>
                      <a:lnTo>
                        <a:pt x="632" y="4739"/>
                      </a:lnTo>
                      <a:lnTo>
                        <a:pt x="683" y="4740"/>
                      </a:lnTo>
                      <a:lnTo>
                        <a:pt x="732" y="4740"/>
                      </a:lnTo>
                      <a:lnTo>
                        <a:pt x="781" y="4743"/>
                      </a:lnTo>
                      <a:lnTo>
                        <a:pt x="828" y="4745"/>
                      </a:lnTo>
                      <a:lnTo>
                        <a:pt x="875" y="4751"/>
                      </a:lnTo>
                      <a:lnTo>
                        <a:pt x="901" y="4705"/>
                      </a:lnTo>
                      <a:lnTo>
                        <a:pt x="928" y="4655"/>
                      </a:lnTo>
                      <a:lnTo>
                        <a:pt x="955" y="4600"/>
                      </a:lnTo>
                      <a:lnTo>
                        <a:pt x="981" y="4540"/>
                      </a:lnTo>
                      <a:lnTo>
                        <a:pt x="1008" y="4477"/>
                      </a:lnTo>
                      <a:lnTo>
                        <a:pt x="1034" y="4411"/>
                      </a:lnTo>
                      <a:lnTo>
                        <a:pt x="1061" y="4341"/>
                      </a:lnTo>
                      <a:lnTo>
                        <a:pt x="1087" y="4267"/>
                      </a:lnTo>
                      <a:lnTo>
                        <a:pt x="1112" y="4191"/>
                      </a:lnTo>
                      <a:lnTo>
                        <a:pt x="1138" y="4113"/>
                      </a:lnTo>
                      <a:lnTo>
                        <a:pt x="1163" y="4033"/>
                      </a:lnTo>
                      <a:lnTo>
                        <a:pt x="1188" y="3950"/>
                      </a:lnTo>
                      <a:lnTo>
                        <a:pt x="1212" y="3866"/>
                      </a:lnTo>
                      <a:lnTo>
                        <a:pt x="1235" y="3782"/>
                      </a:lnTo>
                      <a:lnTo>
                        <a:pt x="1258" y="3696"/>
                      </a:lnTo>
                      <a:lnTo>
                        <a:pt x="1281" y="3610"/>
                      </a:lnTo>
                      <a:lnTo>
                        <a:pt x="1303" y="3524"/>
                      </a:lnTo>
                      <a:lnTo>
                        <a:pt x="1324" y="3438"/>
                      </a:lnTo>
                      <a:lnTo>
                        <a:pt x="1343" y="3353"/>
                      </a:lnTo>
                      <a:lnTo>
                        <a:pt x="1363" y="3268"/>
                      </a:lnTo>
                      <a:lnTo>
                        <a:pt x="1400" y="3101"/>
                      </a:lnTo>
                      <a:lnTo>
                        <a:pt x="1432" y="2942"/>
                      </a:lnTo>
                      <a:lnTo>
                        <a:pt x="1459" y="2793"/>
                      </a:lnTo>
                      <a:lnTo>
                        <a:pt x="1482" y="2656"/>
                      </a:lnTo>
                      <a:lnTo>
                        <a:pt x="1493" y="2593"/>
                      </a:lnTo>
                      <a:lnTo>
                        <a:pt x="1501" y="2535"/>
                      </a:lnTo>
                      <a:lnTo>
                        <a:pt x="1509" y="2479"/>
                      </a:lnTo>
                      <a:lnTo>
                        <a:pt x="1514" y="2429"/>
                      </a:lnTo>
                      <a:lnTo>
                        <a:pt x="1573" y="2331"/>
                      </a:lnTo>
                      <a:lnTo>
                        <a:pt x="1629" y="2237"/>
                      </a:lnTo>
                      <a:lnTo>
                        <a:pt x="1681" y="2145"/>
                      </a:lnTo>
                      <a:lnTo>
                        <a:pt x="1730" y="2054"/>
                      </a:lnTo>
                      <a:lnTo>
                        <a:pt x="1753" y="2010"/>
                      </a:lnTo>
                      <a:lnTo>
                        <a:pt x="1775" y="1966"/>
                      </a:lnTo>
                      <a:lnTo>
                        <a:pt x="1796" y="1921"/>
                      </a:lnTo>
                      <a:lnTo>
                        <a:pt x="1815" y="1876"/>
                      </a:lnTo>
                      <a:lnTo>
                        <a:pt x="1835" y="1830"/>
                      </a:lnTo>
                      <a:lnTo>
                        <a:pt x="1852" y="1785"/>
                      </a:lnTo>
                      <a:lnTo>
                        <a:pt x="1869" y="1740"/>
                      </a:lnTo>
                      <a:lnTo>
                        <a:pt x="1884" y="1692"/>
                      </a:lnTo>
                      <a:lnTo>
                        <a:pt x="1899" y="1645"/>
                      </a:lnTo>
                      <a:lnTo>
                        <a:pt x="1912" y="1597"/>
                      </a:lnTo>
                      <a:lnTo>
                        <a:pt x="1924" y="1548"/>
                      </a:lnTo>
                      <a:lnTo>
                        <a:pt x="1935" y="1497"/>
                      </a:lnTo>
                      <a:lnTo>
                        <a:pt x="1944" y="1445"/>
                      </a:lnTo>
                      <a:lnTo>
                        <a:pt x="1953" y="1393"/>
                      </a:lnTo>
                      <a:lnTo>
                        <a:pt x="1960" y="1339"/>
                      </a:lnTo>
                      <a:lnTo>
                        <a:pt x="1965" y="1282"/>
                      </a:lnTo>
                      <a:lnTo>
                        <a:pt x="1969" y="1225"/>
                      </a:lnTo>
                      <a:lnTo>
                        <a:pt x="1973" y="1165"/>
                      </a:lnTo>
                      <a:lnTo>
                        <a:pt x="1974" y="1104"/>
                      </a:lnTo>
                      <a:lnTo>
                        <a:pt x="1974" y="1041"/>
                      </a:lnTo>
                      <a:lnTo>
                        <a:pt x="1973" y="976"/>
                      </a:lnTo>
                      <a:lnTo>
                        <a:pt x="1969" y="908"/>
                      </a:lnTo>
                      <a:lnTo>
                        <a:pt x="1965" y="837"/>
                      </a:lnTo>
                      <a:lnTo>
                        <a:pt x="1959" y="764"/>
                      </a:lnTo>
                      <a:close/>
                    </a:path>
                  </a:pathLst>
                </a:custGeom>
                <a:solidFill>
                  <a:srgbClr val="336666"/>
                </a:solidFill>
                <a:ln w="0">
                  <a:noFill/>
                </a:ln>
              </p:spPr>
              <p:style>
                <a:lnRef idx="0"/>
                <a:fillRef idx="0"/>
                <a:effectRef idx="0"/>
                <a:fontRef idx="minor"/>
              </p:style>
              <p:txBody>
                <a:bodyPr lIns="93240" rIns="93240" tIns="46440" bIns="46440" anchor="t">
                  <a:spAutoFit/>
                </a:bodyPr>
                <a:p>
                  <a:endParaRPr b="0" lang="en-US" sz="2400" spc="-1" strike="noStrike">
                    <a:solidFill>
                      <a:srgbClr val="ffffff"/>
                    </a:solidFill>
                    <a:latin typeface="Times New Roman"/>
                  </a:endParaRPr>
                </a:p>
              </p:txBody>
            </p:sp>
            <p:sp>
              <p:nvSpPr>
                <p:cNvPr id="519" name=""/>
                <p:cNvSpPr/>
                <p:nvPr/>
              </p:nvSpPr>
              <p:spPr>
                <a:xfrm>
                  <a:off x="3869280" y="2672280"/>
                  <a:ext cx="118440" cy="945720"/>
                </a:xfrm>
                <a:custGeom>
                  <a:avLst/>
                  <a:gdLst/>
                  <a:ahLst/>
                  <a:rect l="l" t="t" r="r" b="b"/>
                  <a:pathLst>
                    <a:path w="590" h="4996">
                      <a:moveTo>
                        <a:pt x="64" y="4934"/>
                      </a:moveTo>
                      <a:lnTo>
                        <a:pt x="87" y="4962"/>
                      </a:lnTo>
                      <a:lnTo>
                        <a:pt x="82" y="4901"/>
                      </a:lnTo>
                      <a:lnTo>
                        <a:pt x="79" y="4836"/>
                      </a:lnTo>
                      <a:lnTo>
                        <a:pt x="76" y="4772"/>
                      </a:lnTo>
                      <a:lnTo>
                        <a:pt x="73" y="4705"/>
                      </a:lnTo>
                      <a:lnTo>
                        <a:pt x="71" y="4637"/>
                      </a:lnTo>
                      <a:lnTo>
                        <a:pt x="70" y="4566"/>
                      </a:lnTo>
                      <a:lnTo>
                        <a:pt x="69" y="4495"/>
                      </a:lnTo>
                      <a:lnTo>
                        <a:pt x="69" y="4422"/>
                      </a:lnTo>
                      <a:lnTo>
                        <a:pt x="71" y="4271"/>
                      </a:lnTo>
                      <a:lnTo>
                        <a:pt x="74" y="4116"/>
                      </a:lnTo>
                      <a:lnTo>
                        <a:pt x="80" y="3956"/>
                      </a:lnTo>
                      <a:lnTo>
                        <a:pt x="88" y="3792"/>
                      </a:lnTo>
                      <a:lnTo>
                        <a:pt x="97" y="3626"/>
                      </a:lnTo>
                      <a:lnTo>
                        <a:pt x="109" y="3454"/>
                      </a:lnTo>
                      <a:lnTo>
                        <a:pt x="123" y="3282"/>
                      </a:lnTo>
                      <a:lnTo>
                        <a:pt x="138" y="3107"/>
                      </a:lnTo>
                      <a:lnTo>
                        <a:pt x="154" y="2932"/>
                      </a:lnTo>
                      <a:lnTo>
                        <a:pt x="171" y="2755"/>
                      </a:lnTo>
                      <a:lnTo>
                        <a:pt x="189" y="2577"/>
                      </a:lnTo>
                      <a:lnTo>
                        <a:pt x="210" y="2400"/>
                      </a:lnTo>
                      <a:lnTo>
                        <a:pt x="231" y="2224"/>
                      </a:lnTo>
                      <a:lnTo>
                        <a:pt x="252" y="2048"/>
                      </a:lnTo>
                      <a:lnTo>
                        <a:pt x="275" y="1875"/>
                      </a:lnTo>
                      <a:lnTo>
                        <a:pt x="298" y="1703"/>
                      </a:lnTo>
                      <a:lnTo>
                        <a:pt x="322" y="1535"/>
                      </a:lnTo>
                      <a:lnTo>
                        <a:pt x="347" y="1370"/>
                      </a:lnTo>
                      <a:lnTo>
                        <a:pt x="371" y="1208"/>
                      </a:lnTo>
                      <a:lnTo>
                        <a:pt x="396" y="1051"/>
                      </a:lnTo>
                      <a:lnTo>
                        <a:pt x="421" y="899"/>
                      </a:lnTo>
                      <a:lnTo>
                        <a:pt x="446" y="752"/>
                      </a:lnTo>
                      <a:lnTo>
                        <a:pt x="471" y="611"/>
                      </a:lnTo>
                      <a:lnTo>
                        <a:pt x="496" y="476"/>
                      </a:lnTo>
                      <a:lnTo>
                        <a:pt x="520" y="349"/>
                      </a:lnTo>
                      <a:lnTo>
                        <a:pt x="544" y="228"/>
                      </a:lnTo>
                      <a:lnTo>
                        <a:pt x="568" y="116"/>
                      </a:lnTo>
                      <a:lnTo>
                        <a:pt x="590" y="12"/>
                      </a:lnTo>
                      <a:lnTo>
                        <a:pt x="522" y="0"/>
                      </a:lnTo>
                      <a:lnTo>
                        <a:pt x="499" y="103"/>
                      </a:lnTo>
                      <a:lnTo>
                        <a:pt x="476" y="217"/>
                      </a:lnTo>
                      <a:lnTo>
                        <a:pt x="452" y="337"/>
                      </a:lnTo>
                      <a:lnTo>
                        <a:pt x="427" y="465"/>
                      </a:lnTo>
                      <a:lnTo>
                        <a:pt x="403" y="601"/>
                      </a:lnTo>
                      <a:lnTo>
                        <a:pt x="378" y="742"/>
                      </a:lnTo>
                      <a:lnTo>
                        <a:pt x="352" y="889"/>
                      </a:lnTo>
                      <a:lnTo>
                        <a:pt x="327" y="1042"/>
                      </a:lnTo>
                      <a:lnTo>
                        <a:pt x="303" y="1199"/>
                      </a:lnTo>
                      <a:lnTo>
                        <a:pt x="278" y="1361"/>
                      </a:lnTo>
                      <a:lnTo>
                        <a:pt x="254" y="1527"/>
                      </a:lnTo>
                      <a:lnTo>
                        <a:pt x="229" y="1695"/>
                      </a:lnTo>
                      <a:lnTo>
                        <a:pt x="206" y="1867"/>
                      </a:lnTo>
                      <a:lnTo>
                        <a:pt x="183" y="2041"/>
                      </a:lnTo>
                      <a:lnTo>
                        <a:pt x="162" y="2217"/>
                      </a:lnTo>
                      <a:lnTo>
                        <a:pt x="141" y="2393"/>
                      </a:lnTo>
                      <a:lnTo>
                        <a:pt x="120" y="2571"/>
                      </a:lnTo>
                      <a:lnTo>
                        <a:pt x="102" y="2749"/>
                      </a:lnTo>
                      <a:lnTo>
                        <a:pt x="84" y="2926"/>
                      </a:lnTo>
                      <a:lnTo>
                        <a:pt x="67" y="3103"/>
                      </a:lnTo>
                      <a:lnTo>
                        <a:pt x="53" y="3277"/>
                      </a:lnTo>
                      <a:lnTo>
                        <a:pt x="40" y="3451"/>
                      </a:lnTo>
                      <a:lnTo>
                        <a:pt x="28" y="3622"/>
                      </a:lnTo>
                      <a:lnTo>
                        <a:pt x="18" y="3790"/>
                      </a:lnTo>
                      <a:lnTo>
                        <a:pt x="11" y="3954"/>
                      </a:lnTo>
                      <a:lnTo>
                        <a:pt x="4" y="4115"/>
                      </a:lnTo>
                      <a:lnTo>
                        <a:pt x="1" y="4270"/>
                      </a:lnTo>
                      <a:lnTo>
                        <a:pt x="0" y="4422"/>
                      </a:lnTo>
                      <a:lnTo>
                        <a:pt x="0" y="4495"/>
                      </a:lnTo>
                      <a:lnTo>
                        <a:pt x="1" y="4568"/>
                      </a:lnTo>
                      <a:lnTo>
                        <a:pt x="2" y="4638"/>
                      </a:lnTo>
                      <a:lnTo>
                        <a:pt x="3" y="4707"/>
                      </a:lnTo>
                      <a:lnTo>
                        <a:pt x="7" y="4774"/>
                      </a:lnTo>
                      <a:lnTo>
                        <a:pt x="9" y="4840"/>
                      </a:lnTo>
                      <a:lnTo>
                        <a:pt x="13" y="4904"/>
                      </a:lnTo>
                      <a:lnTo>
                        <a:pt x="18" y="4966"/>
                      </a:lnTo>
                      <a:lnTo>
                        <a:pt x="41" y="4995"/>
                      </a:lnTo>
                      <a:lnTo>
                        <a:pt x="18" y="4966"/>
                      </a:lnTo>
                      <a:lnTo>
                        <a:pt x="19" y="4974"/>
                      </a:lnTo>
                      <a:lnTo>
                        <a:pt x="22" y="4980"/>
                      </a:lnTo>
                      <a:lnTo>
                        <a:pt x="26" y="4986"/>
                      </a:lnTo>
                      <a:lnTo>
                        <a:pt x="31" y="4989"/>
                      </a:lnTo>
                      <a:lnTo>
                        <a:pt x="36" y="4993"/>
                      </a:lnTo>
                      <a:lnTo>
                        <a:pt x="42" y="4995"/>
                      </a:lnTo>
                      <a:lnTo>
                        <a:pt x="49" y="4996"/>
                      </a:lnTo>
                      <a:lnTo>
                        <a:pt x="55" y="4996"/>
                      </a:lnTo>
                      <a:lnTo>
                        <a:pt x="62" y="4995"/>
                      </a:lnTo>
                      <a:lnTo>
                        <a:pt x="67" y="4993"/>
                      </a:lnTo>
                      <a:lnTo>
                        <a:pt x="73" y="4990"/>
                      </a:lnTo>
                      <a:lnTo>
                        <a:pt x="78" y="4987"/>
                      </a:lnTo>
                      <a:lnTo>
                        <a:pt x="82" y="4981"/>
                      </a:lnTo>
                      <a:lnTo>
                        <a:pt x="86" y="4975"/>
                      </a:lnTo>
                      <a:lnTo>
                        <a:pt x="87" y="4970"/>
                      </a:lnTo>
                      <a:lnTo>
                        <a:pt x="87" y="4962"/>
                      </a:lnTo>
                      <a:lnTo>
                        <a:pt x="64" y="493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0" name=""/>
                <p:cNvSpPr/>
                <p:nvPr/>
              </p:nvSpPr>
              <p:spPr>
                <a:xfrm>
                  <a:off x="3877560" y="3606120"/>
                  <a:ext cx="284040" cy="150120"/>
                </a:xfrm>
                <a:custGeom>
                  <a:avLst/>
                  <a:gdLst/>
                  <a:ahLst/>
                  <a:rect l="l" t="t" r="r" b="b"/>
                  <a:pathLst>
                    <a:path w="1407" h="793">
                      <a:moveTo>
                        <a:pt x="1337" y="757"/>
                      </a:moveTo>
                      <a:lnTo>
                        <a:pt x="1369" y="726"/>
                      </a:lnTo>
                      <a:lnTo>
                        <a:pt x="1341" y="727"/>
                      </a:lnTo>
                      <a:lnTo>
                        <a:pt x="1315" y="728"/>
                      </a:lnTo>
                      <a:lnTo>
                        <a:pt x="1289" y="728"/>
                      </a:lnTo>
                      <a:lnTo>
                        <a:pt x="1262" y="727"/>
                      </a:lnTo>
                      <a:lnTo>
                        <a:pt x="1237" y="726"/>
                      </a:lnTo>
                      <a:lnTo>
                        <a:pt x="1212" y="723"/>
                      </a:lnTo>
                      <a:lnTo>
                        <a:pt x="1186" y="719"/>
                      </a:lnTo>
                      <a:lnTo>
                        <a:pt x="1161" y="715"/>
                      </a:lnTo>
                      <a:lnTo>
                        <a:pt x="1136" y="710"/>
                      </a:lnTo>
                      <a:lnTo>
                        <a:pt x="1112" y="704"/>
                      </a:lnTo>
                      <a:lnTo>
                        <a:pt x="1086" y="697"/>
                      </a:lnTo>
                      <a:lnTo>
                        <a:pt x="1062" y="689"/>
                      </a:lnTo>
                      <a:lnTo>
                        <a:pt x="1038" y="681"/>
                      </a:lnTo>
                      <a:lnTo>
                        <a:pt x="1015" y="673"/>
                      </a:lnTo>
                      <a:lnTo>
                        <a:pt x="991" y="663"/>
                      </a:lnTo>
                      <a:lnTo>
                        <a:pt x="968" y="654"/>
                      </a:lnTo>
                      <a:lnTo>
                        <a:pt x="921" y="632"/>
                      </a:lnTo>
                      <a:lnTo>
                        <a:pt x="876" y="608"/>
                      </a:lnTo>
                      <a:lnTo>
                        <a:pt x="831" y="581"/>
                      </a:lnTo>
                      <a:lnTo>
                        <a:pt x="787" y="554"/>
                      </a:lnTo>
                      <a:lnTo>
                        <a:pt x="744" y="524"/>
                      </a:lnTo>
                      <a:lnTo>
                        <a:pt x="701" y="494"/>
                      </a:lnTo>
                      <a:lnTo>
                        <a:pt x="659" y="463"/>
                      </a:lnTo>
                      <a:lnTo>
                        <a:pt x="618" y="431"/>
                      </a:lnTo>
                      <a:lnTo>
                        <a:pt x="458" y="298"/>
                      </a:lnTo>
                      <a:lnTo>
                        <a:pt x="309" y="172"/>
                      </a:lnTo>
                      <a:lnTo>
                        <a:pt x="272" y="144"/>
                      </a:lnTo>
                      <a:lnTo>
                        <a:pt x="237" y="116"/>
                      </a:lnTo>
                      <a:lnTo>
                        <a:pt x="200" y="91"/>
                      </a:lnTo>
                      <a:lnTo>
                        <a:pt x="164" y="68"/>
                      </a:lnTo>
                      <a:lnTo>
                        <a:pt x="129" y="47"/>
                      </a:lnTo>
                      <a:lnTo>
                        <a:pt x="94" y="29"/>
                      </a:lnTo>
                      <a:lnTo>
                        <a:pt x="76" y="20"/>
                      </a:lnTo>
                      <a:lnTo>
                        <a:pt x="59" y="13"/>
                      </a:lnTo>
                      <a:lnTo>
                        <a:pt x="40" y="6"/>
                      </a:lnTo>
                      <a:lnTo>
                        <a:pt x="23" y="0"/>
                      </a:lnTo>
                      <a:lnTo>
                        <a:pt x="0" y="61"/>
                      </a:lnTo>
                      <a:lnTo>
                        <a:pt x="15" y="66"/>
                      </a:lnTo>
                      <a:lnTo>
                        <a:pt x="31" y="71"/>
                      </a:lnTo>
                      <a:lnTo>
                        <a:pt x="46" y="77"/>
                      </a:lnTo>
                      <a:lnTo>
                        <a:pt x="61" y="84"/>
                      </a:lnTo>
                      <a:lnTo>
                        <a:pt x="93" y="101"/>
                      </a:lnTo>
                      <a:lnTo>
                        <a:pt x="125" y="121"/>
                      </a:lnTo>
                      <a:lnTo>
                        <a:pt x="159" y="143"/>
                      </a:lnTo>
                      <a:lnTo>
                        <a:pt x="193" y="167"/>
                      </a:lnTo>
                      <a:lnTo>
                        <a:pt x="227" y="193"/>
                      </a:lnTo>
                      <a:lnTo>
                        <a:pt x="263" y="221"/>
                      </a:lnTo>
                      <a:lnTo>
                        <a:pt x="412" y="346"/>
                      </a:lnTo>
                      <a:lnTo>
                        <a:pt x="572" y="478"/>
                      </a:lnTo>
                      <a:lnTo>
                        <a:pt x="614" y="511"/>
                      </a:lnTo>
                      <a:lnTo>
                        <a:pt x="658" y="545"/>
                      </a:lnTo>
                      <a:lnTo>
                        <a:pt x="702" y="576"/>
                      </a:lnTo>
                      <a:lnTo>
                        <a:pt x="747" y="606"/>
                      </a:lnTo>
                      <a:lnTo>
                        <a:pt x="794" y="634"/>
                      </a:lnTo>
                      <a:lnTo>
                        <a:pt x="841" y="662"/>
                      </a:lnTo>
                      <a:lnTo>
                        <a:pt x="888" y="687"/>
                      </a:lnTo>
                      <a:lnTo>
                        <a:pt x="937" y="711"/>
                      </a:lnTo>
                      <a:lnTo>
                        <a:pt x="962" y="722"/>
                      </a:lnTo>
                      <a:lnTo>
                        <a:pt x="988" y="732"/>
                      </a:lnTo>
                      <a:lnTo>
                        <a:pt x="1014" y="741"/>
                      </a:lnTo>
                      <a:lnTo>
                        <a:pt x="1039" y="750"/>
                      </a:lnTo>
                      <a:lnTo>
                        <a:pt x="1066" y="758"/>
                      </a:lnTo>
                      <a:lnTo>
                        <a:pt x="1092" y="765"/>
                      </a:lnTo>
                      <a:lnTo>
                        <a:pt x="1120" y="772"/>
                      </a:lnTo>
                      <a:lnTo>
                        <a:pt x="1146" y="778"/>
                      </a:lnTo>
                      <a:lnTo>
                        <a:pt x="1174" y="782"/>
                      </a:lnTo>
                      <a:lnTo>
                        <a:pt x="1202" y="787"/>
                      </a:lnTo>
                      <a:lnTo>
                        <a:pt x="1230" y="789"/>
                      </a:lnTo>
                      <a:lnTo>
                        <a:pt x="1259" y="792"/>
                      </a:lnTo>
                      <a:lnTo>
                        <a:pt x="1287" y="793"/>
                      </a:lnTo>
                      <a:lnTo>
                        <a:pt x="1316" y="793"/>
                      </a:lnTo>
                      <a:lnTo>
                        <a:pt x="1346" y="792"/>
                      </a:lnTo>
                      <a:lnTo>
                        <a:pt x="1375" y="789"/>
                      </a:lnTo>
                      <a:lnTo>
                        <a:pt x="1407" y="757"/>
                      </a:lnTo>
                      <a:lnTo>
                        <a:pt x="1375" y="789"/>
                      </a:lnTo>
                      <a:lnTo>
                        <a:pt x="1383" y="788"/>
                      </a:lnTo>
                      <a:lnTo>
                        <a:pt x="1390" y="785"/>
                      </a:lnTo>
                      <a:lnTo>
                        <a:pt x="1395" y="781"/>
                      </a:lnTo>
                      <a:lnTo>
                        <a:pt x="1400" y="777"/>
                      </a:lnTo>
                      <a:lnTo>
                        <a:pt x="1403" y="772"/>
                      </a:lnTo>
                      <a:lnTo>
                        <a:pt x="1406" y="766"/>
                      </a:lnTo>
                      <a:lnTo>
                        <a:pt x="1407" y="761"/>
                      </a:lnTo>
                      <a:lnTo>
                        <a:pt x="1407" y="755"/>
                      </a:lnTo>
                      <a:lnTo>
                        <a:pt x="1406" y="748"/>
                      </a:lnTo>
                      <a:lnTo>
                        <a:pt x="1403" y="743"/>
                      </a:lnTo>
                      <a:lnTo>
                        <a:pt x="1400" y="738"/>
                      </a:lnTo>
                      <a:lnTo>
                        <a:pt x="1395" y="733"/>
                      </a:lnTo>
                      <a:lnTo>
                        <a:pt x="1390" y="730"/>
                      </a:lnTo>
                      <a:lnTo>
                        <a:pt x="1384" y="727"/>
                      </a:lnTo>
                      <a:lnTo>
                        <a:pt x="1377" y="726"/>
                      </a:lnTo>
                      <a:lnTo>
                        <a:pt x="1369" y="726"/>
                      </a:lnTo>
                      <a:lnTo>
                        <a:pt x="1337" y="75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1" name=""/>
                <p:cNvSpPr/>
                <p:nvPr/>
              </p:nvSpPr>
              <p:spPr>
                <a:xfrm>
                  <a:off x="4118760" y="3101400"/>
                  <a:ext cx="42840" cy="648360"/>
                </a:xfrm>
                <a:custGeom>
                  <a:avLst/>
                  <a:gdLst/>
                  <a:ahLst/>
                  <a:rect l="l" t="t" r="r" b="b"/>
                  <a:pathLst>
                    <a:path w="216" h="3423">
                      <a:moveTo>
                        <a:pt x="1" y="23"/>
                      </a:moveTo>
                      <a:lnTo>
                        <a:pt x="0" y="34"/>
                      </a:lnTo>
                      <a:lnTo>
                        <a:pt x="5" y="97"/>
                      </a:lnTo>
                      <a:lnTo>
                        <a:pt x="11" y="217"/>
                      </a:lnTo>
                      <a:lnTo>
                        <a:pt x="21" y="386"/>
                      </a:lnTo>
                      <a:lnTo>
                        <a:pt x="31" y="595"/>
                      </a:lnTo>
                      <a:lnTo>
                        <a:pt x="55" y="1105"/>
                      </a:lnTo>
                      <a:lnTo>
                        <a:pt x="80" y="1684"/>
                      </a:lnTo>
                      <a:lnTo>
                        <a:pt x="106" y="2267"/>
                      </a:lnTo>
                      <a:lnTo>
                        <a:pt x="126" y="2795"/>
                      </a:lnTo>
                      <a:lnTo>
                        <a:pt x="134" y="3017"/>
                      </a:lnTo>
                      <a:lnTo>
                        <a:pt x="141" y="3201"/>
                      </a:lnTo>
                      <a:lnTo>
                        <a:pt x="145" y="3339"/>
                      </a:lnTo>
                      <a:lnTo>
                        <a:pt x="146" y="3423"/>
                      </a:lnTo>
                      <a:lnTo>
                        <a:pt x="216" y="3423"/>
                      </a:lnTo>
                      <a:lnTo>
                        <a:pt x="215" y="3338"/>
                      </a:lnTo>
                      <a:lnTo>
                        <a:pt x="210" y="3199"/>
                      </a:lnTo>
                      <a:lnTo>
                        <a:pt x="204" y="3015"/>
                      </a:lnTo>
                      <a:lnTo>
                        <a:pt x="196" y="2792"/>
                      </a:lnTo>
                      <a:lnTo>
                        <a:pt x="174" y="2265"/>
                      </a:lnTo>
                      <a:lnTo>
                        <a:pt x="150" y="1682"/>
                      </a:lnTo>
                      <a:lnTo>
                        <a:pt x="124" y="1102"/>
                      </a:lnTo>
                      <a:lnTo>
                        <a:pt x="101" y="592"/>
                      </a:lnTo>
                      <a:lnTo>
                        <a:pt x="90" y="382"/>
                      </a:lnTo>
                      <a:lnTo>
                        <a:pt x="81" y="213"/>
                      </a:lnTo>
                      <a:lnTo>
                        <a:pt x="75" y="93"/>
                      </a:lnTo>
                      <a:lnTo>
                        <a:pt x="69" y="28"/>
                      </a:lnTo>
                      <a:lnTo>
                        <a:pt x="68" y="40"/>
                      </a:lnTo>
                      <a:lnTo>
                        <a:pt x="69" y="28"/>
                      </a:lnTo>
                      <a:lnTo>
                        <a:pt x="68" y="20"/>
                      </a:lnTo>
                      <a:lnTo>
                        <a:pt x="64" y="14"/>
                      </a:lnTo>
                      <a:lnTo>
                        <a:pt x="61" y="9"/>
                      </a:lnTo>
                      <a:lnTo>
                        <a:pt x="56" y="5"/>
                      </a:lnTo>
                      <a:lnTo>
                        <a:pt x="50" y="2"/>
                      </a:lnTo>
                      <a:lnTo>
                        <a:pt x="44" y="1"/>
                      </a:lnTo>
                      <a:lnTo>
                        <a:pt x="38" y="0"/>
                      </a:lnTo>
                      <a:lnTo>
                        <a:pt x="31" y="0"/>
                      </a:lnTo>
                      <a:lnTo>
                        <a:pt x="25" y="1"/>
                      </a:lnTo>
                      <a:lnTo>
                        <a:pt x="18" y="3"/>
                      </a:lnTo>
                      <a:lnTo>
                        <a:pt x="13" y="5"/>
                      </a:lnTo>
                      <a:lnTo>
                        <a:pt x="8" y="10"/>
                      </a:lnTo>
                      <a:lnTo>
                        <a:pt x="5" y="14"/>
                      </a:lnTo>
                      <a:lnTo>
                        <a:pt x="1" y="20"/>
                      </a:lnTo>
                      <a:lnTo>
                        <a:pt x="0" y="27"/>
                      </a:lnTo>
                      <a:lnTo>
                        <a:pt x="0" y="34"/>
                      </a:lnTo>
                      <a:lnTo>
                        <a:pt x="1" y="2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2" name=""/>
                <p:cNvSpPr/>
                <p:nvPr/>
              </p:nvSpPr>
              <p:spPr>
                <a:xfrm>
                  <a:off x="4099320" y="2996640"/>
                  <a:ext cx="38880" cy="112320"/>
                </a:xfrm>
                <a:custGeom>
                  <a:avLst/>
                  <a:gdLst/>
                  <a:ahLst/>
                  <a:rect l="l" t="t" r="r" b="b"/>
                  <a:pathLst>
                    <a:path w="196" h="593">
                      <a:moveTo>
                        <a:pt x="3" y="26"/>
                      </a:moveTo>
                      <a:lnTo>
                        <a:pt x="14" y="57"/>
                      </a:lnTo>
                      <a:lnTo>
                        <a:pt x="24" y="67"/>
                      </a:lnTo>
                      <a:lnTo>
                        <a:pt x="35" y="76"/>
                      </a:lnTo>
                      <a:lnTo>
                        <a:pt x="44" y="86"/>
                      </a:lnTo>
                      <a:lnTo>
                        <a:pt x="53" y="98"/>
                      </a:lnTo>
                      <a:lnTo>
                        <a:pt x="61" y="109"/>
                      </a:lnTo>
                      <a:lnTo>
                        <a:pt x="69" y="122"/>
                      </a:lnTo>
                      <a:lnTo>
                        <a:pt x="77" y="137"/>
                      </a:lnTo>
                      <a:lnTo>
                        <a:pt x="84" y="150"/>
                      </a:lnTo>
                      <a:lnTo>
                        <a:pt x="90" y="167"/>
                      </a:lnTo>
                      <a:lnTo>
                        <a:pt x="96" y="181"/>
                      </a:lnTo>
                      <a:lnTo>
                        <a:pt x="101" y="199"/>
                      </a:lnTo>
                      <a:lnTo>
                        <a:pt x="106" y="215"/>
                      </a:lnTo>
                      <a:lnTo>
                        <a:pt x="114" y="252"/>
                      </a:lnTo>
                      <a:lnTo>
                        <a:pt x="120" y="288"/>
                      </a:lnTo>
                      <a:lnTo>
                        <a:pt x="124" y="326"/>
                      </a:lnTo>
                      <a:lnTo>
                        <a:pt x="125" y="364"/>
                      </a:lnTo>
                      <a:lnTo>
                        <a:pt x="125" y="402"/>
                      </a:lnTo>
                      <a:lnTo>
                        <a:pt x="124" y="440"/>
                      </a:lnTo>
                      <a:lnTo>
                        <a:pt x="120" y="477"/>
                      </a:lnTo>
                      <a:lnTo>
                        <a:pt x="115" y="511"/>
                      </a:lnTo>
                      <a:lnTo>
                        <a:pt x="107" y="545"/>
                      </a:lnTo>
                      <a:lnTo>
                        <a:pt x="99" y="576"/>
                      </a:lnTo>
                      <a:lnTo>
                        <a:pt x="166" y="593"/>
                      </a:lnTo>
                      <a:lnTo>
                        <a:pt x="175" y="558"/>
                      </a:lnTo>
                      <a:lnTo>
                        <a:pt x="183" y="522"/>
                      </a:lnTo>
                      <a:lnTo>
                        <a:pt x="189" y="484"/>
                      </a:lnTo>
                      <a:lnTo>
                        <a:pt x="193" y="445"/>
                      </a:lnTo>
                      <a:lnTo>
                        <a:pt x="196" y="403"/>
                      </a:lnTo>
                      <a:lnTo>
                        <a:pt x="196" y="363"/>
                      </a:lnTo>
                      <a:lnTo>
                        <a:pt x="193" y="322"/>
                      </a:lnTo>
                      <a:lnTo>
                        <a:pt x="190" y="280"/>
                      </a:lnTo>
                      <a:lnTo>
                        <a:pt x="183" y="240"/>
                      </a:lnTo>
                      <a:lnTo>
                        <a:pt x="174" y="201"/>
                      </a:lnTo>
                      <a:lnTo>
                        <a:pt x="168" y="181"/>
                      </a:lnTo>
                      <a:lnTo>
                        <a:pt x="162" y="163"/>
                      </a:lnTo>
                      <a:lnTo>
                        <a:pt x="155" y="145"/>
                      </a:lnTo>
                      <a:lnTo>
                        <a:pt x="148" y="126"/>
                      </a:lnTo>
                      <a:lnTo>
                        <a:pt x="139" y="109"/>
                      </a:lnTo>
                      <a:lnTo>
                        <a:pt x="130" y="93"/>
                      </a:lnTo>
                      <a:lnTo>
                        <a:pt x="121" y="76"/>
                      </a:lnTo>
                      <a:lnTo>
                        <a:pt x="111" y="61"/>
                      </a:lnTo>
                      <a:lnTo>
                        <a:pt x="98" y="47"/>
                      </a:lnTo>
                      <a:lnTo>
                        <a:pt x="86" y="32"/>
                      </a:lnTo>
                      <a:lnTo>
                        <a:pt x="73" y="19"/>
                      </a:lnTo>
                      <a:lnTo>
                        <a:pt x="58" y="8"/>
                      </a:lnTo>
                      <a:lnTo>
                        <a:pt x="70" y="40"/>
                      </a:lnTo>
                      <a:lnTo>
                        <a:pt x="58" y="8"/>
                      </a:lnTo>
                      <a:lnTo>
                        <a:pt x="51" y="3"/>
                      </a:lnTo>
                      <a:lnTo>
                        <a:pt x="44" y="1"/>
                      </a:lnTo>
                      <a:lnTo>
                        <a:pt x="37" y="0"/>
                      </a:lnTo>
                      <a:lnTo>
                        <a:pt x="31" y="1"/>
                      </a:lnTo>
                      <a:lnTo>
                        <a:pt x="24" y="2"/>
                      </a:lnTo>
                      <a:lnTo>
                        <a:pt x="19" y="5"/>
                      </a:lnTo>
                      <a:lnTo>
                        <a:pt x="14" y="8"/>
                      </a:lnTo>
                      <a:lnTo>
                        <a:pt x="10" y="13"/>
                      </a:lnTo>
                      <a:lnTo>
                        <a:pt x="5" y="17"/>
                      </a:lnTo>
                      <a:lnTo>
                        <a:pt x="3" y="23"/>
                      </a:lnTo>
                      <a:lnTo>
                        <a:pt x="1" y="29"/>
                      </a:lnTo>
                      <a:lnTo>
                        <a:pt x="0" y="34"/>
                      </a:lnTo>
                      <a:lnTo>
                        <a:pt x="1" y="41"/>
                      </a:lnTo>
                      <a:lnTo>
                        <a:pt x="4" y="47"/>
                      </a:lnTo>
                      <a:lnTo>
                        <a:pt x="8" y="53"/>
                      </a:lnTo>
                      <a:lnTo>
                        <a:pt x="14" y="57"/>
                      </a:lnTo>
                      <a:lnTo>
                        <a:pt x="3" y="2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3" name=""/>
                <p:cNvSpPr/>
                <p:nvPr/>
              </p:nvSpPr>
              <p:spPr>
                <a:xfrm>
                  <a:off x="4099320" y="2766600"/>
                  <a:ext cx="33480" cy="237600"/>
                </a:xfrm>
                <a:custGeom>
                  <a:avLst/>
                  <a:gdLst/>
                  <a:ahLst/>
                  <a:rect l="l" t="t" r="r" b="b"/>
                  <a:pathLst>
                    <a:path w="165" h="1260">
                      <a:moveTo>
                        <a:pt x="151" y="7"/>
                      </a:moveTo>
                      <a:lnTo>
                        <a:pt x="114" y="3"/>
                      </a:lnTo>
                      <a:lnTo>
                        <a:pt x="102" y="10"/>
                      </a:lnTo>
                      <a:lnTo>
                        <a:pt x="90" y="17"/>
                      </a:lnTo>
                      <a:lnTo>
                        <a:pt x="80" y="26"/>
                      </a:lnTo>
                      <a:lnTo>
                        <a:pt x="70" y="35"/>
                      </a:lnTo>
                      <a:lnTo>
                        <a:pt x="62" y="46"/>
                      </a:lnTo>
                      <a:lnTo>
                        <a:pt x="54" y="57"/>
                      </a:lnTo>
                      <a:lnTo>
                        <a:pt x="47" y="70"/>
                      </a:lnTo>
                      <a:lnTo>
                        <a:pt x="40" y="83"/>
                      </a:lnTo>
                      <a:lnTo>
                        <a:pt x="29" y="109"/>
                      </a:lnTo>
                      <a:lnTo>
                        <a:pt x="20" y="138"/>
                      </a:lnTo>
                      <a:lnTo>
                        <a:pt x="13" y="170"/>
                      </a:lnTo>
                      <a:lnTo>
                        <a:pt x="9" y="203"/>
                      </a:lnTo>
                      <a:lnTo>
                        <a:pt x="5" y="239"/>
                      </a:lnTo>
                      <a:lnTo>
                        <a:pt x="2" y="277"/>
                      </a:lnTo>
                      <a:lnTo>
                        <a:pt x="1" y="316"/>
                      </a:lnTo>
                      <a:lnTo>
                        <a:pt x="1" y="357"/>
                      </a:lnTo>
                      <a:lnTo>
                        <a:pt x="2" y="443"/>
                      </a:lnTo>
                      <a:lnTo>
                        <a:pt x="5" y="534"/>
                      </a:lnTo>
                      <a:lnTo>
                        <a:pt x="11" y="628"/>
                      </a:lnTo>
                      <a:lnTo>
                        <a:pt x="16" y="724"/>
                      </a:lnTo>
                      <a:lnTo>
                        <a:pt x="20" y="820"/>
                      </a:lnTo>
                      <a:lnTo>
                        <a:pt x="24" y="914"/>
                      </a:lnTo>
                      <a:lnTo>
                        <a:pt x="24" y="960"/>
                      </a:lnTo>
                      <a:lnTo>
                        <a:pt x="24" y="1006"/>
                      </a:lnTo>
                      <a:lnTo>
                        <a:pt x="23" y="1050"/>
                      </a:lnTo>
                      <a:lnTo>
                        <a:pt x="20" y="1092"/>
                      </a:lnTo>
                      <a:lnTo>
                        <a:pt x="17" y="1134"/>
                      </a:lnTo>
                      <a:lnTo>
                        <a:pt x="12" y="1174"/>
                      </a:lnTo>
                      <a:lnTo>
                        <a:pt x="7" y="1211"/>
                      </a:lnTo>
                      <a:lnTo>
                        <a:pt x="0" y="1246"/>
                      </a:lnTo>
                      <a:lnTo>
                        <a:pt x="67" y="1260"/>
                      </a:lnTo>
                      <a:lnTo>
                        <a:pt x="75" y="1221"/>
                      </a:lnTo>
                      <a:lnTo>
                        <a:pt x="81" y="1181"/>
                      </a:lnTo>
                      <a:lnTo>
                        <a:pt x="86" y="1140"/>
                      </a:lnTo>
                      <a:lnTo>
                        <a:pt x="89" y="1097"/>
                      </a:lnTo>
                      <a:lnTo>
                        <a:pt x="91" y="1052"/>
                      </a:lnTo>
                      <a:lnTo>
                        <a:pt x="93" y="1006"/>
                      </a:lnTo>
                      <a:lnTo>
                        <a:pt x="94" y="960"/>
                      </a:lnTo>
                      <a:lnTo>
                        <a:pt x="93" y="913"/>
                      </a:lnTo>
                      <a:lnTo>
                        <a:pt x="90" y="818"/>
                      </a:lnTo>
                      <a:lnTo>
                        <a:pt x="86" y="721"/>
                      </a:lnTo>
                      <a:lnTo>
                        <a:pt x="80" y="625"/>
                      </a:lnTo>
                      <a:lnTo>
                        <a:pt x="75" y="532"/>
                      </a:lnTo>
                      <a:lnTo>
                        <a:pt x="72" y="442"/>
                      </a:lnTo>
                      <a:lnTo>
                        <a:pt x="70" y="357"/>
                      </a:lnTo>
                      <a:lnTo>
                        <a:pt x="71" y="317"/>
                      </a:lnTo>
                      <a:lnTo>
                        <a:pt x="72" y="279"/>
                      </a:lnTo>
                      <a:lnTo>
                        <a:pt x="74" y="243"/>
                      </a:lnTo>
                      <a:lnTo>
                        <a:pt x="78" y="210"/>
                      </a:lnTo>
                      <a:lnTo>
                        <a:pt x="82" y="180"/>
                      </a:lnTo>
                      <a:lnTo>
                        <a:pt x="88" y="153"/>
                      </a:lnTo>
                      <a:lnTo>
                        <a:pt x="95" y="129"/>
                      </a:lnTo>
                      <a:lnTo>
                        <a:pt x="104" y="107"/>
                      </a:lnTo>
                      <a:lnTo>
                        <a:pt x="109" y="99"/>
                      </a:lnTo>
                      <a:lnTo>
                        <a:pt x="113" y="91"/>
                      </a:lnTo>
                      <a:lnTo>
                        <a:pt x="118" y="83"/>
                      </a:lnTo>
                      <a:lnTo>
                        <a:pt x="124" y="77"/>
                      </a:lnTo>
                      <a:lnTo>
                        <a:pt x="128" y="72"/>
                      </a:lnTo>
                      <a:lnTo>
                        <a:pt x="134" y="68"/>
                      </a:lnTo>
                      <a:lnTo>
                        <a:pt x="139" y="64"/>
                      </a:lnTo>
                      <a:lnTo>
                        <a:pt x="144" y="61"/>
                      </a:lnTo>
                      <a:lnTo>
                        <a:pt x="108" y="57"/>
                      </a:lnTo>
                      <a:lnTo>
                        <a:pt x="144" y="61"/>
                      </a:lnTo>
                      <a:lnTo>
                        <a:pt x="151" y="57"/>
                      </a:lnTo>
                      <a:lnTo>
                        <a:pt x="157" y="53"/>
                      </a:lnTo>
                      <a:lnTo>
                        <a:pt x="160" y="47"/>
                      </a:lnTo>
                      <a:lnTo>
                        <a:pt x="164" y="41"/>
                      </a:lnTo>
                      <a:lnTo>
                        <a:pt x="165" y="35"/>
                      </a:lnTo>
                      <a:lnTo>
                        <a:pt x="165" y="30"/>
                      </a:lnTo>
                      <a:lnTo>
                        <a:pt x="163" y="24"/>
                      </a:lnTo>
                      <a:lnTo>
                        <a:pt x="160" y="18"/>
                      </a:lnTo>
                      <a:lnTo>
                        <a:pt x="157" y="14"/>
                      </a:lnTo>
                      <a:lnTo>
                        <a:pt x="154" y="9"/>
                      </a:lnTo>
                      <a:lnTo>
                        <a:pt x="148" y="4"/>
                      </a:lnTo>
                      <a:lnTo>
                        <a:pt x="143" y="2"/>
                      </a:lnTo>
                      <a:lnTo>
                        <a:pt x="136" y="0"/>
                      </a:lnTo>
                      <a:lnTo>
                        <a:pt x="129" y="0"/>
                      </a:lnTo>
                      <a:lnTo>
                        <a:pt x="122" y="1"/>
                      </a:lnTo>
                      <a:lnTo>
                        <a:pt x="114" y="3"/>
                      </a:lnTo>
                      <a:lnTo>
                        <a:pt x="151" y="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4" name=""/>
                <p:cNvSpPr/>
                <p:nvPr/>
              </p:nvSpPr>
              <p:spPr>
                <a:xfrm>
                  <a:off x="4121640" y="2767680"/>
                  <a:ext cx="46800" cy="347760"/>
                </a:xfrm>
                <a:custGeom>
                  <a:avLst/>
                  <a:gdLst/>
                  <a:ahLst/>
                  <a:rect l="l" t="t" r="r" b="b"/>
                  <a:pathLst>
                    <a:path w="244" h="1847">
                      <a:moveTo>
                        <a:pt x="243" y="1822"/>
                      </a:moveTo>
                      <a:lnTo>
                        <a:pt x="241" y="1801"/>
                      </a:lnTo>
                      <a:lnTo>
                        <a:pt x="230" y="1782"/>
                      </a:lnTo>
                      <a:lnTo>
                        <a:pt x="221" y="1760"/>
                      </a:lnTo>
                      <a:lnTo>
                        <a:pt x="213" y="1738"/>
                      </a:lnTo>
                      <a:lnTo>
                        <a:pt x="205" y="1715"/>
                      </a:lnTo>
                      <a:lnTo>
                        <a:pt x="198" y="1691"/>
                      </a:lnTo>
                      <a:lnTo>
                        <a:pt x="191" y="1666"/>
                      </a:lnTo>
                      <a:lnTo>
                        <a:pt x="186" y="1639"/>
                      </a:lnTo>
                      <a:lnTo>
                        <a:pt x="180" y="1612"/>
                      </a:lnTo>
                      <a:lnTo>
                        <a:pt x="174" y="1584"/>
                      </a:lnTo>
                      <a:lnTo>
                        <a:pt x="170" y="1556"/>
                      </a:lnTo>
                      <a:lnTo>
                        <a:pt x="166" y="1527"/>
                      </a:lnTo>
                      <a:lnTo>
                        <a:pt x="163" y="1497"/>
                      </a:lnTo>
                      <a:lnTo>
                        <a:pt x="157" y="1435"/>
                      </a:lnTo>
                      <a:lnTo>
                        <a:pt x="152" y="1371"/>
                      </a:lnTo>
                      <a:lnTo>
                        <a:pt x="150" y="1306"/>
                      </a:lnTo>
                      <a:lnTo>
                        <a:pt x="149" y="1238"/>
                      </a:lnTo>
                      <a:lnTo>
                        <a:pt x="149" y="1170"/>
                      </a:lnTo>
                      <a:lnTo>
                        <a:pt x="149" y="1102"/>
                      </a:lnTo>
                      <a:lnTo>
                        <a:pt x="152" y="961"/>
                      </a:lnTo>
                      <a:lnTo>
                        <a:pt x="157" y="821"/>
                      </a:lnTo>
                      <a:lnTo>
                        <a:pt x="161" y="684"/>
                      </a:lnTo>
                      <a:lnTo>
                        <a:pt x="165" y="553"/>
                      </a:lnTo>
                      <a:lnTo>
                        <a:pt x="165" y="490"/>
                      </a:lnTo>
                      <a:lnTo>
                        <a:pt x="164" y="429"/>
                      </a:lnTo>
                      <a:lnTo>
                        <a:pt x="161" y="371"/>
                      </a:lnTo>
                      <a:lnTo>
                        <a:pt x="158" y="316"/>
                      </a:lnTo>
                      <a:lnTo>
                        <a:pt x="153" y="263"/>
                      </a:lnTo>
                      <a:lnTo>
                        <a:pt x="147" y="215"/>
                      </a:lnTo>
                      <a:lnTo>
                        <a:pt x="142" y="190"/>
                      </a:lnTo>
                      <a:lnTo>
                        <a:pt x="137" y="169"/>
                      </a:lnTo>
                      <a:lnTo>
                        <a:pt x="132" y="147"/>
                      </a:lnTo>
                      <a:lnTo>
                        <a:pt x="125" y="126"/>
                      </a:lnTo>
                      <a:lnTo>
                        <a:pt x="118" y="107"/>
                      </a:lnTo>
                      <a:lnTo>
                        <a:pt x="110" y="88"/>
                      </a:lnTo>
                      <a:lnTo>
                        <a:pt x="102" y="71"/>
                      </a:lnTo>
                      <a:lnTo>
                        <a:pt x="93" y="54"/>
                      </a:lnTo>
                      <a:lnTo>
                        <a:pt x="82" y="39"/>
                      </a:lnTo>
                      <a:lnTo>
                        <a:pt x="70" y="24"/>
                      </a:lnTo>
                      <a:lnTo>
                        <a:pt x="57" y="11"/>
                      </a:lnTo>
                      <a:lnTo>
                        <a:pt x="43" y="0"/>
                      </a:lnTo>
                      <a:lnTo>
                        <a:pt x="0" y="50"/>
                      </a:lnTo>
                      <a:lnTo>
                        <a:pt x="9" y="57"/>
                      </a:lnTo>
                      <a:lnTo>
                        <a:pt x="17" y="65"/>
                      </a:lnTo>
                      <a:lnTo>
                        <a:pt x="25" y="74"/>
                      </a:lnTo>
                      <a:lnTo>
                        <a:pt x="32" y="86"/>
                      </a:lnTo>
                      <a:lnTo>
                        <a:pt x="40" y="99"/>
                      </a:lnTo>
                      <a:lnTo>
                        <a:pt x="47" y="112"/>
                      </a:lnTo>
                      <a:lnTo>
                        <a:pt x="52" y="128"/>
                      </a:lnTo>
                      <a:lnTo>
                        <a:pt x="58" y="144"/>
                      </a:lnTo>
                      <a:lnTo>
                        <a:pt x="64" y="163"/>
                      </a:lnTo>
                      <a:lnTo>
                        <a:pt x="68" y="181"/>
                      </a:lnTo>
                      <a:lnTo>
                        <a:pt x="73" y="202"/>
                      </a:lnTo>
                      <a:lnTo>
                        <a:pt x="78" y="224"/>
                      </a:lnTo>
                      <a:lnTo>
                        <a:pt x="85" y="270"/>
                      </a:lnTo>
                      <a:lnTo>
                        <a:pt x="89" y="320"/>
                      </a:lnTo>
                      <a:lnTo>
                        <a:pt x="93" y="374"/>
                      </a:lnTo>
                      <a:lnTo>
                        <a:pt x="95" y="431"/>
                      </a:lnTo>
                      <a:lnTo>
                        <a:pt x="95" y="490"/>
                      </a:lnTo>
                      <a:lnTo>
                        <a:pt x="95" y="552"/>
                      </a:lnTo>
                      <a:lnTo>
                        <a:pt x="93" y="683"/>
                      </a:lnTo>
                      <a:lnTo>
                        <a:pt x="88" y="820"/>
                      </a:lnTo>
                      <a:lnTo>
                        <a:pt x="83" y="959"/>
                      </a:lnTo>
                      <a:lnTo>
                        <a:pt x="80" y="1100"/>
                      </a:lnTo>
                      <a:lnTo>
                        <a:pt x="79" y="1170"/>
                      </a:lnTo>
                      <a:lnTo>
                        <a:pt x="79" y="1239"/>
                      </a:lnTo>
                      <a:lnTo>
                        <a:pt x="81" y="1307"/>
                      </a:lnTo>
                      <a:lnTo>
                        <a:pt x="83" y="1374"/>
                      </a:lnTo>
                      <a:lnTo>
                        <a:pt x="87" y="1439"/>
                      </a:lnTo>
                      <a:lnTo>
                        <a:pt x="94" y="1502"/>
                      </a:lnTo>
                      <a:lnTo>
                        <a:pt x="97" y="1533"/>
                      </a:lnTo>
                      <a:lnTo>
                        <a:pt x="101" y="1565"/>
                      </a:lnTo>
                      <a:lnTo>
                        <a:pt x="106" y="1594"/>
                      </a:lnTo>
                      <a:lnTo>
                        <a:pt x="111" y="1623"/>
                      </a:lnTo>
                      <a:lnTo>
                        <a:pt x="117" y="1652"/>
                      </a:lnTo>
                      <a:lnTo>
                        <a:pt x="124" y="1679"/>
                      </a:lnTo>
                      <a:lnTo>
                        <a:pt x="130" y="1706"/>
                      </a:lnTo>
                      <a:lnTo>
                        <a:pt x="139" y="1732"/>
                      </a:lnTo>
                      <a:lnTo>
                        <a:pt x="148" y="1758"/>
                      </a:lnTo>
                      <a:lnTo>
                        <a:pt x="157" y="1783"/>
                      </a:lnTo>
                      <a:lnTo>
                        <a:pt x="167" y="1806"/>
                      </a:lnTo>
                      <a:lnTo>
                        <a:pt x="178" y="1829"/>
                      </a:lnTo>
                      <a:lnTo>
                        <a:pt x="175" y="1808"/>
                      </a:lnTo>
                      <a:lnTo>
                        <a:pt x="178" y="1829"/>
                      </a:lnTo>
                      <a:lnTo>
                        <a:pt x="182" y="1836"/>
                      </a:lnTo>
                      <a:lnTo>
                        <a:pt x="187" y="1840"/>
                      </a:lnTo>
                      <a:lnTo>
                        <a:pt x="192" y="1844"/>
                      </a:lnTo>
                      <a:lnTo>
                        <a:pt x="198" y="1846"/>
                      </a:lnTo>
                      <a:lnTo>
                        <a:pt x="205" y="1847"/>
                      </a:lnTo>
                      <a:lnTo>
                        <a:pt x="212" y="1847"/>
                      </a:lnTo>
                      <a:lnTo>
                        <a:pt x="218" y="1846"/>
                      </a:lnTo>
                      <a:lnTo>
                        <a:pt x="224" y="1844"/>
                      </a:lnTo>
                      <a:lnTo>
                        <a:pt x="229" y="1841"/>
                      </a:lnTo>
                      <a:lnTo>
                        <a:pt x="235" y="1837"/>
                      </a:lnTo>
                      <a:lnTo>
                        <a:pt x="238" y="1832"/>
                      </a:lnTo>
                      <a:lnTo>
                        <a:pt x="242" y="1828"/>
                      </a:lnTo>
                      <a:lnTo>
                        <a:pt x="244" y="1822"/>
                      </a:lnTo>
                      <a:lnTo>
                        <a:pt x="244" y="1815"/>
                      </a:lnTo>
                      <a:lnTo>
                        <a:pt x="243" y="1808"/>
                      </a:lnTo>
                      <a:lnTo>
                        <a:pt x="241" y="1801"/>
                      </a:lnTo>
                      <a:lnTo>
                        <a:pt x="243" y="182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5" name=""/>
                <p:cNvSpPr/>
                <p:nvPr/>
              </p:nvSpPr>
              <p:spPr>
                <a:xfrm>
                  <a:off x="4123080" y="3109320"/>
                  <a:ext cx="45720" cy="243000"/>
                </a:xfrm>
                <a:custGeom>
                  <a:avLst/>
                  <a:gdLst/>
                  <a:ahLst/>
                  <a:rect l="l" t="t" r="r" b="b"/>
                  <a:pathLst>
                    <a:path w="234" h="1279">
                      <a:moveTo>
                        <a:pt x="169" y="1255"/>
                      </a:moveTo>
                      <a:lnTo>
                        <a:pt x="143" y="1216"/>
                      </a:lnTo>
                      <a:lnTo>
                        <a:pt x="138" y="1214"/>
                      </a:lnTo>
                      <a:lnTo>
                        <a:pt x="133" y="1212"/>
                      </a:lnTo>
                      <a:lnTo>
                        <a:pt x="128" y="1210"/>
                      </a:lnTo>
                      <a:lnTo>
                        <a:pt x="123" y="1206"/>
                      </a:lnTo>
                      <a:lnTo>
                        <a:pt x="118" y="1202"/>
                      </a:lnTo>
                      <a:lnTo>
                        <a:pt x="113" y="1197"/>
                      </a:lnTo>
                      <a:lnTo>
                        <a:pt x="109" y="1191"/>
                      </a:lnTo>
                      <a:lnTo>
                        <a:pt x="104" y="1185"/>
                      </a:lnTo>
                      <a:lnTo>
                        <a:pt x="100" y="1177"/>
                      </a:lnTo>
                      <a:lnTo>
                        <a:pt x="96" y="1168"/>
                      </a:lnTo>
                      <a:lnTo>
                        <a:pt x="92" y="1158"/>
                      </a:lnTo>
                      <a:lnTo>
                        <a:pt x="88" y="1149"/>
                      </a:lnTo>
                      <a:lnTo>
                        <a:pt x="82" y="1125"/>
                      </a:lnTo>
                      <a:lnTo>
                        <a:pt x="77" y="1097"/>
                      </a:lnTo>
                      <a:lnTo>
                        <a:pt x="73" y="1069"/>
                      </a:lnTo>
                      <a:lnTo>
                        <a:pt x="71" y="1036"/>
                      </a:lnTo>
                      <a:lnTo>
                        <a:pt x="69" y="1002"/>
                      </a:lnTo>
                      <a:lnTo>
                        <a:pt x="69" y="964"/>
                      </a:lnTo>
                      <a:lnTo>
                        <a:pt x="71" y="925"/>
                      </a:lnTo>
                      <a:lnTo>
                        <a:pt x="73" y="885"/>
                      </a:lnTo>
                      <a:lnTo>
                        <a:pt x="77" y="842"/>
                      </a:lnTo>
                      <a:lnTo>
                        <a:pt x="81" y="797"/>
                      </a:lnTo>
                      <a:lnTo>
                        <a:pt x="86" y="753"/>
                      </a:lnTo>
                      <a:lnTo>
                        <a:pt x="93" y="705"/>
                      </a:lnTo>
                      <a:lnTo>
                        <a:pt x="100" y="657"/>
                      </a:lnTo>
                      <a:lnTo>
                        <a:pt x="108" y="609"/>
                      </a:lnTo>
                      <a:lnTo>
                        <a:pt x="125" y="509"/>
                      </a:lnTo>
                      <a:lnTo>
                        <a:pt x="144" y="409"/>
                      </a:lnTo>
                      <a:lnTo>
                        <a:pt x="166" y="307"/>
                      </a:lnTo>
                      <a:lnTo>
                        <a:pt x="188" y="207"/>
                      </a:lnTo>
                      <a:lnTo>
                        <a:pt x="211" y="109"/>
                      </a:lnTo>
                      <a:lnTo>
                        <a:pt x="234" y="14"/>
                      </a:lnTo>
                      <a:lnTo>
                        <a:pt x="166" y="0"/>
                      </a:lnTo>
                      <a:lnTo>
                        <a:pt x="143" y="95"/>
                      </a:lnTo>
                      <a:lnTo>
                        <a:pt x="120" y="194"/>
                      </a:lnTo>
                      <a:lnTo>
                        <a:pt x="97" y="295"/>
                      </a:lnTo>
                      <a:lnTo>
                        <a:pt x="77" y="396"/>
                      </a:lnTo>
                      <a:lnTo>
                        <a:pt x="56" y="499"/>
                      </a:lnTo>
                      <a:lnTo>
                        <a:pt x="39" y="599"/>
                      </a:lnTo>
                      <a:lnTo>
                        <a:pt x="31" y="648"/>
                      </a:lnTo>
                      <a:lnTo>
                        <a:pt x="24" y="697"/>
                      </a:lnTo>
                      <a:lnTo>
                        <a:pt x="17" y="745"/>
                      </a:lnTo>
                      <a:lnTo>
                        <a:pt x="11" y="792"/>
                      </a:lnTo>
                      <a:lnTo>
                        <a:pt x="7" y="836"/>
                      </a:lnTo>
                      <a:lnTo>
                        <a:pt x="3" y="880"/>
                      </a:lnTo>
                      <a:lnTo>
                        <a:pt x="1" y="923"/>
                      </a:lnTo>
                      <a:lnTo>
                        <a:pt x="0" y="964"/>
                      </a:lnTo>
                      <a:lnTo>
                        <a:pt x="0" y="1002"/>
                      </a:lnTo>
                      <a:lnTo>
                        <a:pt x="1" y="1040"/>
                      </a:lnTo>
                      <a:lnTo>
                        <a:pt x="4" y="1074"/>
                      </a:lnTo>
                      <a:lnTo>
                        <a:pt x="8" y="1108"/>
                      </a:lnTo>
                      <a:lnTo>
                        <a:pt x="14" y="1137"/>
                      </a:lnTo>
                      <a:lnTo>
                        <a:pt x="22" y="1165"/>
                      </a:lnTo>
                      <a:lnTo>
                        <a:pt x="26" y="1180"/>
                      </a:lnTo>
                      <a:lnTo>
                        <a:pt x="32" y="1193"/>
                      </a:lnTo>
                      <a:lnTo>
                        <a:pt x="38" y="1204"/>
                      </a:lnTo>
                      <a:lnTo>
                        <a:pt x="45" y="1216"/>
                      </a:lnTo>
                      <a:lnTo>
                        <a:pt x="51" y="1227"/>
                      </a:lnTo>
                      <a:lnTo>
                        <a:pt x="59" y="1237"/>
                      </a:lnTo>
                      <a:lnTo>
                        <a:pt x="69" y="1247"/>
                      </a:lnTo>
                      <a:lnTo>
                        <a:pt x="78" y="1255"/>
                      </a:lnTo>
                      <a:lnTo>
                        <a:pt x="89" y="1263"/>
                      </a:lnTo>
                      <a:lnTo>
                        <a:pt x="101" y="1268"/>
                      </a:lnTo>
                      <a:lnTo>
                        <a:pt x="113" y="1274"/>
                      </a:lnTo>
                      <a:lnTo>
                        <a:pt x="126" y="1278"/>
                      </a:lnTo>
                      <a:lnTo>
                        <a:pt x="101" y="1240"/>
                      </a:lnTo>
                      <a:lnTo>
                        <a:pt x="126" y="1278"/>
                      </a:lnTo>
                      <a:lnTo>
                        <a:pt x="134" y="1279"/>
                      </a:lnTo>
                      <a:lnTo>
                        <a:pt x="142" y="1279"/>
                      </a:lnTo>
                      <a:lnTo>
                        <a:pt x="148" y="1276"/>
                      </a:lnTo>
                      <a:lnTo>
                        <a:pt x="154" y="1274"/>
                      </a:lnTo>
                      <a:lnTo>
                        <a:pt x="159" y="1271"/>
                      </a:lnTo>
                      <a:lnTo>
                        <a:pt x="163" y="1266"/>
                      </a:lnTo>
                      <a:lnTo>
                        <a:pt x="166" y="1260"/>
                      </a:lnTo>
                      <a:lnTo>
                        <a:pt x="169" y="1255"/>
                      </a:lnTo>
                      <a:lnTo>
                        <a:pt x="170" y="1249"/>
                      </a:lnTo>
                      <a:lnTo>
                        <a:pt x="170" y="1243"/>
                      </a:lnTo>
                      <a:lnTo>
                        <a:pt x="169" y="1237"/>
                      </a:lnTo>
                      <a:lnTo>
                        <a:pt x="166" y="1232"/>
                      </a:lnTo>
                      <a:lnTo>
                        <a:pt x="163" y="1226"/>
                      </a:lnTo>
                      <a:lnTo>
                        <a:pt x="157" y="1222"/>
                      </a:lnTo>
                      <a:lnTo>
                        <a:pt x="151" y="1219"/>
                      </a:lnTo>
                      <a:lnTo>
                        <a:pt x="143" y="1216"/>
                      </a:lnTo>
                      <a:lnTo>
                        <a:pt x="169" y="125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6" name=""/>
                <p:cNvSpPr/>
                <p:nvPr/>
              </p:nvSpPr>
              <p:spPr>
                <a:xfrm>
                  <a:off x="4133880" y="3343320"/>
                  <a:ext cx="23400" cy="200160"/>
                </a:xfrm>
                <a:custGeom>
                  <a:avLst/>
                  <a:gdLst/>
                  <a:ahLst/>
                  <a:rect l="l" t="t" r="r" b="b"/>
                  <a:pathLst>
                    <a:path w="120" h="1057">
                      <a:moveTo>
                        <a:pt x="51" y="1012"/>
                      </a:moveTo>
                      <a:lnTo>
                        <a:pt x="50" y="1003"/>
                      </a:lnTo>
                      <a:lnTo>
                        <a:pt x="50" y="1013"/>
                      </a:lnTo>
                      <a:lnTo>
                        <a:pt x="49" y="1018"/>
                      </a:lnTo>
                      <a:lnTo>
                        <a:pt x="53" y="1008"/>
                      </a:lnTo>
                      <a:lnTo>
                        <a:pt x="80" y="992"/>
                      </a:lnTo>
                      <a:lnTo>
                        <a:pt x="109" y="1004"/>
                      </a:lnTo>
                      <a:lnTo>
                        <a:pt x="113" y="1013"/>
                      </a:lnTo>
                      <a:lnTo>
                        <a:pt x="109" y="998"/>
                      </a:lnTo>
                      <a:lnTo>
                        <a:pt x="103" y="967"/>
                      </a:lnTo>
                      <a:lnTo>
                        <a:pt x="97" y="921"/>
                      </a:lnTo>
                      <a:lnTo>
                        <a:pt x="89" y="861"/>
                      </a:lnTo>
                      <a:lnTo>
                        <a:pt x="84" y="792"/>
                      </a:lnTo>
                      <a:lnTo>
                        <a:pt x="77" y="715"/>
                      </a:lnTo>
                      <a:lnTo>
                        <a:pt x="72" y="632"/>
                      </a:lnTo>
                      <a:lnTo>
                        <a:pt x="70" y="542"/>
                      </a:lnTo>
                      <a:lnTo>
                        <a:pt x="69" y="496"/>
                      </a:lnTo>
                      <a:lnTo>
                        <a:pt x="69" y="450"/>
                      </a:lnTo>
                      <a:lnTo>
                        <a:pt x="70" y="404"/>
                      </a:lnTo>
                      <a:lnTo>
                        <a:pt x="71" y="357"/>
                      </a:lnTo>
                      <a:lnTo>
                        <a:pt x="73" y="311"/>
                      </a:lnTo>
                      <a:lnTo>
                        <a:pt x="76" y="265"/>
                      </a:lnTo>
                      <a:lnTo>
                        <a:pt x="80" y="220"/>
                      </a:lnTo>
                      <a:lnTo>
                        <a:pt x="85" y="177"/>
                      </a:lnTo>
                      <a:lnTo>
                        <a:pt x="90" y="134"/>
                      </a:lnTo>
                      <a:lnTo>
                        <a:pt x="97" y="92"/>
                      </a:lnTo>
                      <a:lnTo>
                        <a:pt x="105" y="53"/>
                      </a:lnTo>
                      <a:lnTo>
                        <a:pt x="115" y="15"/>
                      </a:lnTo>
                      <a:lnTo>
                        <a:pt x="47" y="0"/>
                      </a:lnTo>
                      <a:lnTo>
                        <a:pt x="38" y="40"/>
                      </a:lnTo>
                      <a:lnTo>
                        <a:pt x="28" y="81"/>
                      </a:lnTo>
                      <a:lnTo>
                        <a:pt x="22" y="125"/>
                      </a:lnTo>
                      <a:lnTo>
                        <a:pt x="16" y="170"/>
                      </a:lnTo>
                      <a:lnTo>
                        <a:pt x="10" y="215"/>
                      </a:lnTo>
                      <a:lnTo>
                        <a:pt x="7" y="262"/>
                      </a:lnTo>
                      <a:lnTo>
                        <a:pt x="3" y="308"/>
                      </a:lnTo>
                      <a:lnTo>
                        <a:pt x="1" y="356"/>
                      </a:lnTo>
                      <a:lnTo>
                        <a:pt x="0" y="403"/>
                      </a:lnTo>
                      <a:lnTo>
                        <a:pt x="0" y="450"/>
                      </a:lnTo>
                      <a:lnTo>
                        <a:pt x="0" y="497"/>
                      </a:lnTo>
                      <a:lnTo>
                        <a:pt x="0" y="543"/>
                      </a:lnTo>
                      <a:lnTo>
                        <a:pt x="3" y="634"/>
                      </a:lnTo>
                      <a:lnTo>
                        <a:pt x="8" y="719"/>
                      </a:lnTo>
                      <a:lnTo>
                        <a:pt x="14" y="798"/>
                      </a:lnTo>
                      <a:lnTo>
                        <a:pt x="20" y="868"/>
                      </a:lnTo>
                      <a:lnTo>
                        <a:pt x="27" y="928"/>
                      </a:lnTo>
                      <a:lnTo>
                        <a:pt x="34" y="976"/>
                      </a:lnTo>
                      <a:lnTo>
                        <a:pt x="41" y="1011"/>
                      </a:lnTo>
                      <a:lnTo>
                        <a:pt x="47" y="1031"/>
                      </a:lnTo>
                      <a:lnTo>
                        <a:pt x="54" y="1044"/>
                      </a:lnTo>
                      <a:lnTo>
                        <a:pt x="84" y="1057"/>
                      </a:lnTo>
                      <a:lnTo>
                        <a:pt x="113" y="1039"/>
                      </a:lnTo>
                      <a:lnTo>
                        <a:pt x="118" y="1027"/>
                      </a:lnTo>
                      <a:lnTo>
                        <a:pt x="119" y="1016"/>
                      </a:lnTo>
                      <a:lnTo>
                        <a:pt x="120" y="1003"/>
                      </a:lnTo>
                      <a:lnTo>
                        <a:pt x="118" y="992"/>
                      </a:lnTo>
                      <a:lnTo>
                        <a:pt x="120" y="1003"/>
                      </a:lnTo>
                      <a:lnTo>
                        <a:pt x="119" y="995"/>
                      </a:lnTo>
                      <a:lnTo>
                        <a:pt x="117" y="989"/>
                      </a:lnTo>
                      <a:lnTo>
                        <a:pt x="113" y="983"/>
                      </a:lnTo>
                      <a:lnTo>
                        <a:pt x="109" y="979"/>
                      </a:lnTo>
                      <a:lnTo>
                        <a:pt x="103" y="975"/>
                      </a:lnTo>
                      <a:lnTo>
                        <a:pt x="97" y="973"/>
                      </a:lnTo>
                      <a:lnTo>
                        <a:pt x="92" y="971"/>
                      </a:lnTo>
                      <a:lnTo>
                        <a:pt x="85" y="971"/>
                      </a:lnTo>
                      <a:lnTo>
                        <a:pt x="79" y="971"/>
                      </a:lnTo>
                      <a:lnTo>
                        <a:pt x="72" y="973"/>
                      </a:lnTo>
                      <a:lnTo>
                        <a:pt x="66" y="975"/>
                      </a:lnTo>
                      <a:lnTo>
                        <a:pt x="61" y="979"/>
                      </a:lnTo>
                      <a:lnTo>
                        <a:pt x="56" y="983"/>
                      </a:lnTo>
                      <a:lnTo>
                        <a:pt x="54" y="989"/>
                      </a:lnTo>
                      <a:lnTo>
                        <a:pt x="51" y="995"/>
                      </a:lnTo>
                      <a:lnTo>
                        <a:pt x="50" y="1003"/>
                      </a:lnTo>
                      <a:lnTo>
                        <a:pt x="51" y="101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7" name=""/>
                <p:cNvSpPr/>
                <p:nvPr/>
              </p:nvSpPr>
              <p:spPr>
                <a:xfrm>
                  <a:off x="4142520" y="2891880"/>
                  <a:ext cx="194760" cy="643320"/>
                </a:xfrm>
                <a:custGeom>
                  <a:avLst/>
                  <a:gdLst/>
                  <a:ahLst/>
                  <a:rect l="l" t="t" r="r" b="b"/>
                  <a:pathLst>
                    <a:path w="963" h="3397">
                      <a:moveTo>
                        <a:pt x="891" y="40"/>
                      </a:moveTo>
                      <a:lnTo>
                        <a:pt x="890" y="34"/>
                      </a:lnTo>
                      <a:lnTo>
                        <a:pt x="893" y="88"/>
                      </a:lnTo>
                      <a:lnTo>
                        <a:pt x="894" y="144"/>
                      </a:lnTo>
                      <a:lnTo>
                        <a:pt x="894" y="202"/>
                      </a:lnTo>
                      <a:lnTo>
                        <a:pt x="893" y="259"/>
                      </a:lnTo>
                      <a:lnTo>
                        <a:pt x="890" y="319"/>
                      </a:lnTo>
                      <a:lnTo>
                        <a:pt x="885" y="379"/>
                      </a:lnTo>
                      <a:lnTo>
                        <a:pt x="879" y="440"/>
                      </a:lnTo>
                      <a:lnTo>
                        <a:pt x="873" y="502"/>
                      </a:lnTo>
                      <a:lnTo>
                        <a:pt x="865" y="565"/>
                      </a:lnTo>
                      <a:lnTo>
                        <a:pt x="855" y="628"/>
                      </a:lnTo>
                      <a:lnTo>
                        <a:pt x="845" y="691"/>
                      </a:lnTo>
                      <a:lnTo>
                        <a:pt x="834" y="756"/>
                      </a:lnTo>
                      <a:lnTo>
                        <a:pt x="821" y="821"/>
                      </a:lnTo>
                      <a:lnTo>
                        <a:pt x="807" y="885"/>
                      </a:lnTo>
                      <a:lnTo>
                        <a:pt x="792" y="952"/>
                      </a:lnTo>
                      <a:lnTo>
                        <a:pt x="777" y="1018"/>
                      </a:lnTo>
                      <a:lnTo>
                        <a:pt x="761" y="1084"/>
                      </a:lnTo>
                      <a:lnTo>
                        <a:pt x="744" y="1151"/>
                      </a:lnTo>
                      <a:lnTo>
                        <a:pt x="727" y="1217"/>
                      </a:lnTo>
                      <a:lnTo>
                        <a:pt x="708" y="1283"/>
                      </a:lnTo>
                      <a:lnTo>
                        <a:pt x="669" y="1417"/>
                      </a:lnTo>
                      <a:lnTo>
                        <a:pt x="629" y="1549"/>
                      </a:lnTo>
                      <a:lnTo>
                        <a:pt x="587" y="1682"/>
                      </a:lnTo>
                      <a:lnTo>
                        <a:pt x="543" y="1813"/>
                      </a:lnTo>
                      <a:lnTo>
                        <a:pt x="499" y="1941"/>
                      </a:lnTo>
                      <a:lnTo>
                        <a:pt x="455" y="2068"/>
                      </a:lnTo>
                      <a:lnTo>
                        <a:pt x="364" y="2311"/>
                      </a:lnTo>
                      <a:lnTo>
                        <a:pt x="278" y="2540"/>
                      </a:lnTo>
                      <a:lnTo>
                        <a:pt x="197" y="2749"/>
                      </a:lnTo>
                      <a:lnTo>
                        <a:pt x="127" y="2936"/>
                      </a:lnTo>
                      <a:lnTo>
                        <a:pt x="96" y="3020"/>
                      </a:lnTo>
                      <a:lnTo>
                        <a:pt x="69" y="3097"/>
                      </a:lnTo>
                      <a:lnTo>
                        <a:pt x="46" y="3166"/>
                      </a:lnTo>
                      <a:lnTo>
                        <a:pt x="27" y="3227"/>
                      </a:lnTo>
                      <a:lnTo>
                        <a:pt x="19" y="3256"/>
                      </a:lnTo>
                      <a:lnTo>
                        <a:pt x="12" y="3281"/>
                      </a:lnTo>
                      <a:lnTo>
                        <a:pt x="8" y="3305"/>
                      </a:lnTo>
                      <a:lnTo>
                        <a:pt x="3" y="3326"/>
                      </a:lnTo>
                      <a:lnTo>
                        <a:pt x="1" y="3346"/>
                      </a:lnTo>
                      <a:lnTo>
                        <a:pt x="0" y="3364"/>
                      </a:lnTo>
                      <a:lnTo>
                        <a:pt x="1" y="3381"/>
                      </a:lnTo>
                      <a:lnTo>
                        <a:pt x="4" y="3397"/>
                      </a:lnTo>
                      <a:lnTo>
                        <a:pt x="71" y="3377"/>
                      </a:lnTo>
                      <a:lnTo>
                        <a:pt x="70" y="3373"/>
                      </a:lnTo>
                      <a:lnTo>
                        <a:pt x="70" y="3364"/>
                      </a:lnTo>
                      <a:lnTo>
                        <a:pt x="70" y="3351"/>
                      </a:lnTo>
                      <a:lnTo>
                        <a:pt x="72" y="3335"/>
                      </a:lnTo>
                      <a:lnTo>
                        <a:pt x="76" y="3316"/>
                      </a:lnTo>
                      <a:lnTo>
                        <a:pt x="80" y="3295"/>
                      </a:lnTo>
                      <a:lnTo>
                        <a:pt x="86" y="3270"/>
                      </a:lnTo>
                      <a:lnTo>
                        <a:pt x="94" y="3244"/>
                      </a:lnTo>
                      <a:lnTo>
                        <a:pt x="112" y="3184"/>
                      </a:lnTo>
                      <a:lnTo>
                        <a:pt x="135" y="3115"/>
                      </a:lnTo>
                      <a:lnTo>
                        <a:pt x="162" y="3040"/>
                      </a:lnTo>
                      <a:lnTo>
                        <a:pt x="193" y="2957"/>
                      </a:lnTo>
                      <a:lnTo>
                        <a:pt x="263" y="2770"/>
                      </a:lnTo>
                      <a:lnTo>
                        <a:pt x="343" y="2560"/>
                      </a:lnTo>
                      <a:lnTo>
                        <a:pt x="430" y="2332"/>
                      </a:lnTo>
                      <a:lnTo>
                        <a:pt x="520" y="2087"/>
                      </a:lnTo>
                      <a:lnTo>
                        <a:pt x="565" y="1961"/>
                      </a:lnTo>
                      <a:lnTo>
                        <a:pt x="610" y="1831"/>
                      </a:lnTo>
                      <a:lnTo>
                        <a:pt x="653" y="1700"/>
                      </a:lnTo>
                      <a:lnTo>
                        <a:pt x="696" y="1568"/>
                      </a:lnTo>
                      <a:lnTo>
                        <a:pt x="737" y="1433"/>
                      </a:lnTo>
                      <a:lnTo>
                        <a:pt x="775" y="1299"/>
                      </a:lnTo>
                      <a:lnTo>
                        <a:pt x="793" y="1232"/>
                      </a:lnTo>
                      <a:lnTo>
                        <a:pt x="812" y="1165"/>
                      </a:lnTo>
                      <a:lnTo>
                        <a:pt x="829" y="1098"/>
                      </a:lnTo>
                      <a:lnTo>
                        <a:pt x="845" y="1031"/>
                      </a:lnTo>
                      <a:lnTo>
                        <a:pt x="861" y="965"/>
                      </a:lnTo>
                      <a:lnTo>
                        <a:pt x="875" y="898"/>
                      </a:lnTo>
                      <a:lnTo>
                        <a:pt x="889" y="833"/>
                      </a:lnTo>
                      <a:lnTo>
                        <a:pt x="901" y="766"/>
                      </a:lnTo>
                      <a:lnTo>
                        <a:pt x="913" y="702"/>
                      </a:lnTo>
                      <a:lnTo>
                        <a:pt x="924" y="636"/>
                      </a:lnTo>
                      <a:lnTo>
                        <a:pt x="933" y="572"/>
                      </a:lnTo>
                      <a:lnTo>
                        <a:pt x="941" y="509"/>
                      </a:lnTo>
                      <a:lnTo>
                        <a:pt x="948" y="447"/>
                      </a:lnTo>
                      <a:lnTo>
                        <a:pt x="954" y="383"/>
                      </a:lnTo>
                      <a:lnTo>
                        <a:pt x="959" y="322"/>
                      </a:lnTo>
                      <a:lnTo>
                        <a:pt x="962" y="262"/>
                      </a:lnTo>
                      <a:lnTo>
                        <a:pt x="963" y="203"/>
                      </a:lnTo>
                      <a:lnTo>
                        <a:pt x="963" y="144"/>
                      </a:lnTo>
                      <a:lnTo>
                        <a:pt x="962" y="86"/>
                      </a:lnTo>
                      <a:lnTo>
                        <a:pt x="960" y="30"/>
                      </a:lnTo>
                      <a:lnTo>
                        <a:pt x="959" y="24"/>
                      </a:lnTo>
                      <a:lnTo>
                        <a:pt x="960" y="30"/>
                      </a:lnTo>
                      <a:lnTo>
                        <a:pt x="958" y="23"/>
                      </a:lnTo>
                      <a:lnTo>
                        <a:pt x="955" y="16"/>
                      </a:lnTo>
                      <a:lnTo>
                        <a:pt x="952" y="11"/>
                      </a:lnTo>
                      <a:lnTo>
                        <a:pt x="947" y="7"/>
                      </a:lnTo>
                      <a:lnTo>
                        <a:pt x="941" y="3"/>
                      </a:lnTo>
                      <a:lnTo>
                        <a:pt x="936" y="1"/>
                      </a:lnTo>
                      <a:lnTo>
                        <a:pt x="929" y="0"/>
                      </a:lnTo>
                      <a:lnTo>
                        <a:pt x="923" y="0"/>
                      </a:lnTo>
                      <a:lnTo>
                        <a:pt x="916" y="1"/>
                      </a:lnTo>
                      <a:lnTo>
                        <a:pt x="910" y="3"/>
                      </a:lnTo>
                      <a:lnTo>
                        <a:pt x="905" y="5"/>
                      </a:lnTo>
                      <a:lnTo>
                        <a:pt x="899" y="9"/>
                      </a:lnTo>
                      <a:lnTo>
                        <a:pt x="896" y="13"/>
                      </a:lnTo>
                      <a:lnTo>
                        <a:pt x="892" y="19"/>
                      </a:lnTo>
                      <a:lnTo>
                        <a:pt x="890" y="26"/>
                      </a:lnTo>
                      <a:lnTo>
                        <a:pt x="890" y="34"/>
                      </a:lnTo>
                      <a:lnTo>
                        <a:pt x="891" y="4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8" name=""/>
                <p:cNvSpPr/>
                <p:nvPr/>
              </p:nvSpPr>
              <p:spPr>
                <a:xfrm>
                  <a:off x="4226040" y="2631960"/>
                  <a:ext cx="110160" cy="267840"/>
                </a:xfrm>
                <a:custGeom>
                  <a:avLst/>
                  <a:gdLst/>
                  <a:ahLst/>
                  <a:rect l="l" t="t" r="r" b="b"/>
                  <a:pathLst>
                    <a:path w="545" h="1417">
                      <a:moveTo>
                        <a:pt x="2" y="39"/>
                      </a:moveTo>
                      <a:lnTo>
                        <a:pt x="36" y="65"/>
                      </a:lnTo>
                      <a:lnTo>
                        <a:pt x="44" y="65"/>
                      </a:lnTo>
                      <a:lnTo>
                        <a:pt x="52" y="66"/>
                      </a:lnTo>
                      <a:lnTo>
                        <a:pt x="60" y="68"/>
                      </a:lnTo>
                      <a:lnTo>
                        <a:pt x="68" y="72"/>
                      </a:lnTo>
                      <a:lnTo>
                        <a:pt x="76" y="75"/>
                      </a:lnTo>
                      <a:lnTo>
                        <a:pt x="85" y="81"/>
                      </a:lnTo>
                      <a:lnTo>
                        <a:pt x="93" y="86"/>
                      </a:lnTo>
                      <a:lnTo>
                        <a:pt x="103" y="94"/>
                      </a:lnTo>
                      <a:lnTo>
                        <a:pt x="111" y="103"/>
                      </a:lnTo>
                      <a:lnTo>
                        <a:pt x="120" y="112"/>
                      </a:lnTo>
                      <a:lnTo>
                        <a:pt x="128" y="123"/>
                      </a:lnTo>
                      <a:lnTo>
                        <a:pt x="137" y="135"/>
                      </a:lnTo>
                      <a:lnTo>
                        <a:pt x="154" y="161"/>
                      </a:lnTo>
                      <a:lnTo>
                        <a:pt x="171" y="192"/>
                      </a:lnTo>
                      <a:lnTo>
                        <a:pt x="188" y="227"/>
                      </a:lnTo>
                      <a:lnTo>
                        <a:pt x="204" y="265"/>
                      </a:lnTo>
                      <a:lnTo>
                        <a:pt x="220" y="305"/>
                      </a:lnTo>
                      <a:lnTo>
                        <a:pt x="235" y="348"/>
                      </a:lnTo>
                      <a:lnTo>
                        <a:pt x="248" y="394"/>
                      </a:lnTo>
                      <a:lnTo>
                        <a:pt x="262" y="444"/>
                      </a:lnTo>
                      <a:lnTo>
                        <a:pt x="276" y="493"/>
                      </a:lnTo>
                      <a:lnTo>
                        <a:pt x="289" y="546"/>
                      </a:lnTo>
                      <a:lnTo>
                        <a:pt x="314" y="654"/>
                      </a:lnTo>
                      <a:lnTo>
                        <a:pt x="338" y="767"/>
                      </a:lnTo>
                      <a:lnTo>
                        <a:pt x="361" y="881"/>
                      </a:lnTo>
                      <a:lnTo>
                        <a:pt x="384" y="995"/>
                      </a:lnTo>
                      <a:lnTo>
                        <a:pt x="407" y="1108"/>
                      </a:lnTo>
                      <a:lnTo>
                        <a:pt x="429" y="1217"/>
                      </a:lnTo>
                      <a:lnTo>
                        <a:pt x="441" y="1270"/>
                      </a:lnTo>
                      <a:lnTo>
                        <a:pt x="453" y="1320"/>
                      </a:lnTo>
                      <a:lnTo>
                        <a:pt x="464" y="1370"/>
                      </a:lnTo>
                      <a:lnTo>
                        <a:pt x="477" y="1417"/>
                      </a:lnTo>
                      <a:lnTo>
                        <a:pt x="545" y="1401"/>
                      </a:lnTo>
                      <a:lnTo>
                        <a:pt x="532" y="1355"/>
                      </a:lnTo>
                      <a:lnTo>
                        <a:pt x="521" y="1307"/>
                      </a:lnTo>
                      <a:lnTo>
                        <a:pt x="509" y="1257"/>
                      </a:lnTo>
                      <a:lnTo>
                        <a:pt x="498" y="1205"/>
                      </a:lnTo>
                      <a:lnTo>
                        <a:pt x="475" y="1096"/>
                      </a:lnTo>
                      <a:lnTo>
                        <a:pt x="452" y="984"/>
                      </a:lnTo>
                      <a:lnTo>
                        <a:pt x="430" y="870"/>
                      </a:lnTo>
                      <a:lnTo>
                        <a:pt x="407" y="755"/>
                      </a:lnTo>
                      <a:lnTo>
                        <a:pt x="382" y="641"/>
                      </a:lnTo>
                      <a:lnTo>
                        <a:pt x="358" y="532"/>
                      </a:lnTo>
                      <a:lnTo>
                        <a:pt x="344" y="478"/>
                      </a:lnTo>
                      <a:lnTo>
                        <a:pt x="330" y="428"/>
                      </a:lnTo>
                      <a:lnTo>
                        <a:pt x="315" y="378"/>
                      </a:lnTo>
                      <a:lnTo>
                        <a:pt x="301" y="330"/>
                      </a:lnTo>
                      <a:lnTo>
                        <a:pt x="285" y="285"/>
                      </a:lnTo>
                      <a:lnTo>
                        <a:pt x="269" y="243"/>
                      </a:lnTo>
                      <a:lnTo>
                        <a:pt x="252" y="202"/>
                      </a:lnTo>
                      <a:lnTo>
                        <a:pt x="235" y="165"/>
                      </a:lnTo>
                      <a:lnTo>
                        <a:pt x="215" y="131"/>
                      </a:lnTo>
                      <a:lnTo>
                        <a:pt x="196" y="100"/>
                      </a:lnTo>
                      <a:lnTo>
                        <a:pt x="185" y="85"/>
                      </a:lnTo>
                      <a:lnTo>
                        <a:pt x="174" y="73"/>
                      </a:lnTo>
                      <a:lnTo>
                        <a:pt x="162" y="60"/>
                      </a:lnTo>
                      <a:lnTo>
                        <a:pt x="151" y="49"/>
                      </a:lnTo>
                      <a:lnTo>
                        <a:pt x="138" y="38"/>
                      </a:lnTo>
                      <a:lnTo>
                        <a:pt x="126" y="29"/>
                      </a:lnTo>
                      <a:lnTo>
                        <a:pt x="112" y="21"/>
                      </a:lnTo>
                      <a:lnTo>
                        <a:pt x="97" y="13"/>
                      </a:lnTo>
                      <a:lnTo>
                        <a:pt x="82" y="8"/>
                      </a:lnTo>
                      <a:lnTo>
                        <a:pt x="67" y="4"/>
                      </a:lnTo>
                      <a:lnTo>
                        <a:pt x="51" y="1"/>
                      </a:lnTo>
                      <a:lnTo>
                        <a:pt x="35" y="0"/>
                      </a:lnTo>
                      <a:lnTo>
                        <a:pt x="69" y="27"/>
                      </a:lnTo>
                      <a:lnTo>
                        <a:pt x="35" y="1"/>
                      </a:lnTo>
                      <a:lnTo>
                        <a:pt x="27" y="1"/>
                      </a:lnTo>
                      <a:lnTo>
                        <a:pt x="20" y="4"/>
                      </a:lnTo>
                      <a:lnTo>
                        <a:pt x="14" y="7"/>
                      </a:lnTo>
                      <a:lnTo>
                        <a:pt x="8" y="11"/>
                      </a:lnTo>
                      <a:lnTo>
                        <a:pt x="5" y="16"/>
                      </a:lnTo>
                      <a:lnTo>
                        <a:pt x="3" y="21"/>
                      </a:lnTo>
                      <a:lnTo>
                        <a:pt x="0" y="27"/>
                      </a:lnTo>
                      <a:lnTo>
                        <a:pt x="0" y="34"/>
                      </a:lnTo>
                      <a:lnTo>
                        <a:pt x="2" y="39"/>
                      </a:lnTo>
                      <a:lnTo>
                        <a:pt x="3" y="45"/>
                      </a:lnTo>
                      <a:lnTo>
                        <a:pt x="5" y="51"/>
                      </a:lnTo>
                      <a:lnTo>
                        <a:pt x="10" y="55"/>
                      </a:lnTo>
                      <a:lnTo>
                        <a:pt x="14" y="59"/>
                      </a:lnTo>
                      <a:lnTo>
                        <a:pt x="20" y="62"/>
                      </a:lnTo>
                      <a:lnTo>
                        <a:pt x="28" y="65"/>
                      </a:lnTo>
                      <a:lnTo>
                        <a:pt x="36" y="65"/>
                      </a:lnTo>
                      <a:lnTo>
                        <a:pt x="2" y="3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29" name=""/>
                <p:cNvSpPr/>
                <p:nvPr/>
              </p:nvSpPr>
              <p:spPr>
                <a:xfrm>
                  <a:off x="4171680" y="2607120"/>
                  <a:ext cx="68040" cy="31320"/>
                </a:xfrm>
                <a:custGeom>
                  <a:avLst/>
                  <a:gdLst/>
                  <a:ahLst/>
                  <a:rect l="l" t="t" r="r" b="b"/>
                  <a:pathLst>
                    <a:path w="340" h="166">
                      <a:moveTo>
                        <a:pt x="0" y="94"/>
                      </a:moveTo>
                      <a:lnTo>
                        <a:pt x="66" y="110"/>
                      </a:lnTo>
                      <a:lnTo>
                        <a:pt x="73" y="100"/>
                      </a:lnTo>
                      <a:lnTo>
                        <a:pt x="80" y="92"/>
                      </a:lnTo>
                      <a:lnTo>
                        <a:pt x="86" y="85"/>
                      </a:lnTo>
                      <a:lnTo>
                        <a:pt x="93" y="79"/>
                      </a:lnTo>
                      <a:lnTo>
                        <a:pt x="100" y="74"/>
                      </a:lnTo>
                      <a:lnTo>
                        <a:pt x="107" y="71"/>
                      </a:lnTo>
                      <a:lnTo>
                        <a:pt x="114" y="68"/>
                      </a:lnTo>
                      <a:lnTo>
                        <a:pt x="121" y="65"/>
                      </a:lnTo>
                      <a:lnTo>
                        <a:pt x="128" y="64"/>
                      </a:lnTo>
                      <a:lnTo>
                        <a:pt x="135" y="64"/>
                      </a:lnTo>
                      <a:lnTo>
                        <a:pt x="142" y="64"/>
                      </a:lnTo>
                      <a:lnTo>
                        <a:pt x="150" y="64"/>
                      </a:lnTo>
                      <a:lnTo>
                        <a:pt x="158" y="65"/>
                      </a:lnTo>
                      <a:lnTo>
                        <a:pt x="166" y="66"/>
                      </a:lnTo>
                      <a:lnTo>
                        <a:pt x="174" y="69"/>
                      </a:lnTo>
                      <a:lnTo>
                        <a:pt x="181" y="72"/>
                      </a:lnTo>
                      <a:lnTo>
                        <a:pt x="198" y="80"/>
                      </a:lnTo>
                      <a:lnTo>
                        <a:pt x="213" y="89"/>
                      </a:lnTo>
                      <a:lnTo>
                        <a:pt x="228" y="101"/>
                      </a:lnTo>
                      <a:lnTo>
                        <a:pt x="240" y="114"/>
                      </a:lnTo>
                      <a:lnTo>
                        <a:pt x="252" y="127"/>
                      </a:lnTo>
                      <a:lnTo>
                        <a:pt x="262" y="141"/>
                      </a:lnTo>
                      <a:lnTo>
                        <a:pt x="266" y="147"/>
                      </a:lnTo>
                      <a:lnTo>
                        <a:pt x="268" y="154"/>
                      </a:lnTo>
                      <a:lnTo>
                        <a:pt x="270" y="161"/>
                      </a:lnTo>
                      <a:lnTo>
                        <a:pt x="273" y="166"/>
                      </a:lnTo>
                      <a:lnTo>
                        <a:pt x="340" y="154"/>
                      </a:lnTo>
                      <a:lnTo>
                        <a:pt x="337" y="142"/>
                      </a:lnTo>
                      <a:lnTo>
                        <a:pt x="333" y="132"/>
                      </a:lnTo>
                      <a:lnTo>
                        <a:pt x="328" y="120"/>
                      </a:lnTo>
                      <a:lnTo>
                        <a:pt x="322" y="110"/>
                      </a:lnTo>
                      <a:lnTo>
                        <a:pt x="309" y="91"/>
                      </a:lnTo>
                      <a:lnTo>
                        <a:pt x="293" y="72"/>
                      </a:lnTo>
                      <a:lnTo>
                        <a:pt x="275" y="54"/>
                      </a:lnTo>
                      <a:lnTo>
                        <a:pt x="255" y="39"/>
                      </a:lnTo>
                      <a:lnTo>
                        <a:pt x="232" y="25"/>
                      </a:lnTo>
                      <a:lnTo>
                        <a:pt x="211" y="14"/>
                      </a:lnTo>
                      <a:lnTo>
                        <a:pt x="197" y="9"/>
                      </a:lnTo>
                      <a:lnTo>
                        <a:pt x="184" y="6"/>
                      </a:lnTo>
                      <a:lnTo>
                        <a:pt x="170" y="2"/>
                      </a:lnTo>
                      <a:lnTo>
                        <a:pt x="158" y="1"/>
                      </a:lnTo>
                      <a:lnTo>
                        <a:pt x="144" y="0"/>
                      </a:lnTo>
                      <a:lnTo>
                        <a:pt x="130" y="0"/>
                      </a:lnTo>
                      <a:lnTo>
                        <a:pt x="116" y="1"/>
                      </a:lnTo>
                      <a:lnTo>
                        <a:pt x="101" y="4"/>
                      </a:lnTo>
                      <a:lnTo>
                        <a:pt x="88" y="9"/>
                      </a:lnTo>
                      <a:lnTo>
                        <a:pt x="75" y="15"/>
                      </a:lnTo>
                      <a:lnTo>
                        <a:pt x="61" y="22"/>
                      </a:lnTo>
                      <a:lnTo>
                        <a:pt x="49" y="30"/>
                      </a:lnTo>
                      <a:lnTo>
                        <a:pt x="37" y="40"/>
                      </a:lnTo>
                      <a:lnTo>
                        <a:pt x="26" y="50"/>
                      </a:lnTo>
                      <a:lnTo>
                        <a:pt x="15" y="63"/>
                      </a:lnTo>
                      <a:lnTo>
                        <a:pt x="6" y="77"/>
                      </a:lnTo>
                      <a:lnTo>
                        <a:pt x="70" y="94"/>
                      </a:lnTo>
                      <a:lnTo>
                        <a:pt x="6" y="77"/>
                      </a:lnTo>
                      <a:lnTo>
                        <a:pt x="3" y="84"/>
                      </a:lnTo>
                      <a:lnTo>
                        <a:pt x="0" y="91"/>
                      </a:lnTo>
                      <a:lnTo>
                        <a:pt x="0" y="97"/>
                      </a:lnTo>
                      <a:lnTo>
                        <a:pt x="2" y="103"/>
                      </a:lnTo>
                      <a:lnTo>
                        <a:pt x="5" y="109"/>
                      </a:lnTo>
                      <a:lnTo>
                        <a:pt x="8" y="114"/>
                      </a:lnTo>
                      <a:lnTo>
                        <a:pt x="13" y="117"/>
                      </a:lnTo>
                      <a:lnTo>
                        <a:pt x="18" y="120"/>
                      </a:lnTo>
                      <a:lnTo>
                        <a:pt x="23" y="124"/>
                      </a:lnTo>
                      <a:lnTo>
                        <a:pt x="30" y="125"/>
                      </a:lnTo>
                      <a:lnTo>
                        <a:pt x="37" y="126"/>
                      </a:lnTo>
                      <a:lnTo>
                        <a:pt x="43" y="125"/>
                      </a:lnTo>
                      <a:lnTo>
                        <a:pt x="50" y="124"/>
                      </a:lnTo>
                      <a:lnTo>
                        <a:pt x="55" y="120"/>
                      </a:lnTo>
                      <a:lnTo>
                        <a:pt x="61" y="116"/>
                      </a:lnTo>
                      <a:lnTo>
                        <a:pt x="66" y="110"/>
                      </a:lnTo>
                      <a:lnTo>
                        <a:pt x="0" y="94"/>
                      </a:lnTo>
                      <a:close/>
                    </a:path>
                  </a:pathLst>
                </a:custGeom>
                <a:solidFill>
                  <a:srgbClr val="000000"/>
                </a:solidFill>
                <a:ln w="0">
                  <a:noFill/>
                </a:ln>
              </p:spPr>
              <p:style>
                <a:lnRef idx="0"/>
                <a:fillRef idx="0"/>
                <a:effectRef idx="0"/>
                <a:fontRef idx="minor"/>
              </p:style>
              <p:txBody>
                <a:bodyPr wrap="none" lIns="93240" rIns="93240" tIns="-15120" bIns="-15120" anchor="t">
                  <a:spAutoFit/>
                </a:bodyPr>
                <a:p>
                  <a:endParaRPr b="0" lang="en-US" sz="2400" spc="-1" strike="noStrike">
                    <a:solidFill>
                      <a:srgbClr val="ffffff"/>
                    </a:solidFill>
                    <a:latin typeface="Times New Roman"/>
                  </a:endParaRPr>
                </a:p>
              </p:txBody>
            </p:sp>
            <p:sp>
              <p:nvSpPr>
                <p:cNvPr id="530" name=""/>
                <p:cNvSpPr/>
                <p:nvPr/>
              </p:nvSpPr>
              <p:spPr>
                <a:xfrm>
                  <a:off x="4150800" y="2572920"/>
                  <a:ext cx="36000" cy="52200"/>
                </a:xfrm>
                <a:custGeom>
                  <a:avLst/>
                  <a:gdLst/>
                  <a:ahLst/>
                  <a:rect l="l" t="t" r="r" b="b"/>
                  <a:pathLst>
                    <a:path w="170" h="279">
                      <a:moveTo>
                        <a:pt x="35" y="64"/>
                      </a:moveTo>
                      <a:lnTo>
                        <a:pt x="8" y="53"/>
                      </a:lnTo>
                      <a:lnTo>
                        <a:pt x="19" y="64"/>
                      </a:lnTo>
                      <a:lnTo>
                        <a:pt x="29" y="76"/>
                      </a:lnTo>
                      <a:lnTo>
                        <a:pt x="38" y="88"/>
                      </a:lnTo>
                      <a:lnTo>
                        <a:pt x="46" y="101"/>
                      </a:lnTo>
                      <a:lnTo>
                        <a:pt x="54" y="114"/>
                      </a:lnTo>
                      <a:lnTo>
                        <a:pt x="62" y="127"/>
                      </a:lnTo>
                      <a:lnTo>
                        <a:pt x="69" y="141"/>
                      </a:lnTo>
                      <a:lnTo>
                        <a:pt x="75" y="155"/>
                      </a:lnTo>
                      <a:lnTo>
                        <a:pt x="81" y="170"/>
                      </a:lnTo>
                      <a:lnTo>
                        <a:pt x="87" y="185"/>
                      </a:lnTo>
                      <a:lnTo>
                        <a:pt x="91" y="200"/>
                      </a:lnTo>
                      <a:lnTo>
                        <a:pt x="95" y="215"/>
                      </a:lnTo>
                      <a:lnTo>
                        <a:pt x="97" y="231"/>
                      </a:lnTo>
                      <a:lnTo>
                        <a:pt x="99" y="246"/>
                      </a:lnTo>
                      <a:lnTo>
                        <a:pt x="100" y="262"/>
                      </a:lnTo>
                      <a:lnTo>
                        <a:pt x="100" y="279"/>
                      </a:lnTo>
                      <a:lnTo>
                        <a:pt x="170" y="279"/>
                      </a:lnTo>
                      <a:lnTo>
                        <a:pt x="170" y="259"/>
                      </a:lnTo>
                      <a:lnTo>
                        <a:pt x="168" y="240"/>
                      </a:lnTo>
                      <a:lnTo>
                        <a:pt x="166" y="222"/>
                      </a:lnTo>
                      <a:lnTo>
                        <a:pt x="162" y="203"/>
                      </a:lnTo>
                      <a:lnTo>
                        <a:pt x="158" y="185"/>
                      </a:lnTo>
                      <a:lnTo>
                        <a:pt x="153" y="166"/>
                      </a:lnTo>
                      <a:lnTo>
                        <a:pt x="147" y="149"/>
                      </a:lnTo>
                      <a:lnTo>
                        <a:pt x="141" y="132"/>
                      </a:lnTo>
                      <a:lnTo>
                        <a:pt x="133" y="116"/>
                      </a:lnTo>
                      <a:lnTo>
                        <a:pt x="124" y="100"/>
                      </a:lnTo>
                      <a:lnTo>
                        <a:pt x="115" y="84"/>
                      </a:lnTo>
                      <a:lnTo>
                        <a:pt x="106" y="68"/>
                      </a:lnTo>
                      <a:lnTo>
                        <a:pt x="96" y="53"/>
                      </a:lnTo>
                      <a:lnTo>
                        <a:pt x="85" y="39"/>
                      </a:lnTo>
                      <a:lnTo>
                        <a:pt x="74" y="25"/>
                      </a:lnTo>
                      <a:lnTo>
                        <a:pt x="61" y="11"/>
                      </a:lnTo>
                      <a:lnTo>
                        <a:pt x="35" y="0"/>
                      </a:lnTo>
                      <a:lnTo>
                        <a:pt x="61" y="11"/>
                      </a:lnTo>
                      <a:lnTo>
                        <a:pt x="56" y="7"/>
                      </a:lnTo>
                      <a:lnTo>
                        <a:pt x="50" y="3"/>
                      </a:lnTo>
                      <a:lnTo>
                        <a:pt x="43" y="1"/>
                      </a:lnTo>
                      <a:lnTo>
                        <a:pt x="37" y="0"/>
                      </a:lnTo>
                      <a:lnTo>
                        <a:pt x="30" y="0"/>
                      </a:lnTo>
                      <a:lnTo>
                        <a:pt x="23" y="2"/>
                      </a:lnTo>
                      <a:lnTo>
                        <a:pt x="18" y="4"/>
                      </a:lnTo>
                      <a:lnTo>
                        <a:pt x="13" y="8"/>
                      </a:lnTo>
                      <a:lnTo>
                        <a:pt x="8" y="12"/>
                      </a:lnTo>
                      <a:lnTo>
                        <a:pt x="5" y="17"/>
                      </a:lnTo>
                      <a:lnTo>
                        <a:pt x="2" y="23"/>
                      </a:lnTo>
                      <a:lnTo>
                        <a:pt x="0" y="29"/>
                      </a:lnTo>
                      <a:lnTo>
                        <a:pt x="0" y="34"/>
                      </a:lnTo>
                      <a:lnTo>
                        <a:pt x="2" y="40"/>
                      </a:lnTo>
                      <a:lnTo>
                        <a:pt x="4" y="47"/>
                      </a:lnTo>
                      <a:lnTo>
                        <a:pt x="8" y="53"/>
                      </a:lnTo>
                      <a:lnTo>
                        <a:pt x="35" y="64"/>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31" name=""/>
                <p:cNvSpPr/>
                <p:nvPr/>
              </p:nvSpPr>
              <p:spPr>
                <a:xfrm>
                  <a:off x="3926160" y="2477520"/>
                  <a:ext cx="231120" cy="107280"/>
                </a:xfrm>
                <a:custGeom>
                  <a:avLst/>
                  <a:gdLst/>
                  <a:ahLst/>
                  <a:rect l="l" t="t" r="r" b="b"/>
                  <a:pathLst>
                    <a:path w="1151" h="569">
                      <a:moveTo>
                        <a:pt x="65" y="51"/>
                      </a:moveTo>
                      <a:lnTo>
                        <a:pt x="43" y="66"/>
                      </a:lnTo>
                      <a:lnTo>
                        <a:pt x="45" y="65"/>
                      </a:lnTo>
                      <a:lnTo>
                        <a:pt x="51" y="65"/>
                      </a:lnTo>
                      <a:lnTo>
                        <a:pt x="56" y="65"/>
                      </a:lnTo>
                      <a:lnTo>
                        <a:pt x="63" y="66"/>
                      </a:lnTo>
                      <a:lnTo>
                        <a:pt x="84" y="71"/>
                      </a:lnTo>
                      <a:lnTo>
                        <a:pt x="108" y="77"/>
                      </a:lnTo>
                      <a:lnTo>
                        <a:pt x="136" y="87"/>
                      </a:lnTo>
                      <a:lnTo>
                        <a:pt x="166" y="98"/>
                      </a:lnTo>
                      <a:lnTo>
                        <a:pt x="199" y="112"/>
                      </a:lnTo>
                      <a:lnTo>
                        <a:pt x="234" y="128"/>
                      </a:lnTo>
                      <a:lnTo>
                        <a:pt x="313" y="165"/>
                      </a:lnTo>
                      <a:lnTo>
                        <a:pt x="396" y="207"/>
                      </a:lnTo>
                      <a:lnTo>
                        <a:pt x="485" y="253"/>
                      </a:lnTo>
                      <a:lnTo>
                        <a:pt x="576" y="301"/>
                      </a:lnTo>
                      <a:lnTo>
                        <a:pt x="665" y="350"/>
                      </a:lnTo>
                      <a:lnTo>
                        <a:pt x="755" y="397"/>
                      </a:lnTo>
                      <a:lnTo>
                        <a:pt x="839" y="442"/>
                      </a:lnTo>
                      <a:lnTo>
                        <a:pt x="918" y="482"/>
                      </a:lnTo>
                      <a:lnTo>
                        <a:pt x="956" y="500"/>
                      </a:lnTo>
                      <a:lnTo>
                        <a:pt x="990" y="516"/>
                      </a:lnTo>
                      <a:lnTo>
                        <a:pt x="1022" y="531"/>
                      </a:lnTo>
                      <a:lnTo>
                        <a:pt x="1053" y="544"/>
                      </a:lnTo>
                      <a:lnTo>
                        <a:pt x="1081" y="554"/>
                      </a:lnTo>
                      <a:lnTo>
                        <a:pt x="1106" y="562"/>
                      </a:lnTo>
                      <a:lnTo>
                        <a:pt x="1129" y="567"/>
                      </a:lnTo>
                      <a:lnTo>
                        <a:pt x="1151" y="569"/>
                      </a:lnTo>
                      <a:lnTo>
                        <a:pt x="1151" y="505"/>
                      </a:lnTo>
                      <a:lnTo>
                        <a:pt x="1142" y="505"/>
                      </a:lnTo>
                      <a:lnTo>
                        <a:pt x="1126" y="500"/>
                      </a:lnTo>
                      <a:lnTo>
                        <a:pt x="1105" y="494"/>
                      </a:lnTo>
                      <a:lnTo>
                        <a:pt x="1080" y="485"/>
                      </a:lnTo>
                      <a:lnTo>
                        <a:pt x="1052" y="474"/>
                      </a:lnTo>
                      <a:lnTo>
                        <a:pt x="1021" y="459"/>
                      </a:lnTo>
                      <a:lnTo>
                        <a:pt x="988" y="444"/>
                      </a:lnTo>
                      <a:lnTo>
                        <a:pt x="951" y="426"/>
                      </a:lnTo>
                      <a:lnTo>
                        <a:pt x="873" y="386"/>
                      </a:lnTo>
                      <a:lnTo>
                        <a:pt x="789" y="342"/>
                      </a:lnTo>
                      <a:lnTo>
                        <a:pt x="701" y="295"/>
                      </a:lnTo>
                      <a:lnTo>
                        <a:pt x="610" y="246"/>
                      </a:lnTo>
                      <a:lnTo>
                        <a:pt x="519" y="198"/>
                      </a:lnTo>
                      <a:lnTo>
                        <a:pt x="431" y="151"/>
                      </a:lnTo>
                      <a:lnTo>
                        <a:pt x="346" y="108"/>
                      </a:lnTo>
                      <a:lnTo>
                        <a:pt x="267" y="71"/>
                      </a:lnTo>
                      <a:lnTo>
                        <a:pt x="229" y="54"/>
                      </a:lnTo>
                      <a:lnTo>
                        <a:pt x="193" y="40"/>
                      </a:lnTo>
                      <a:lnTo>
                        <a:pt x="161" y="27"/>
                      </a:lnTo>
                      <a:lnTo>
                        <a:pt x="130" y="17"/>
                      </a:lnTo>
                      <a:lnTo>
                        <a:pt x="101" y="8"/>
                      </a:lnTo>
                      <a:lnTo>
                        <a:pt x="76" y="3"/>
                      </a:lnTo>
                      <a:lnTo>
                        <a:pt x="63" y="2"/>
                      </a:lnTo>
                      <a:lnTo>
                        <a:pt x="51" y="0"/>
                      </a:lnTo>
                      <a:lnTo>
                        <a:pt x="39" y="2"/>
                      </a:lnTo>
                      <a:lnTo>
                        <a:pt x="27" y="3"/>
                      </a:lnTo>
                      <a:lnTo>
                        <a:pt x="6" y="18"/>
                      </a:lnTo>
                      <a:lnTo>
                        <a:pt x="27" y="3"/>
                      </a:lnTo>
                      <a:lnTo>
                        <a:pt x="19" y="6"/>
                      </a:lnTo>
                      <a:lnTo>
                        <a:pt x="13" y="10"/>
                      </a:lnTo>
                      <a:lnTo>
                        <a:pt x="8" y="13"/>
                      </a:lnTo>
                      <a:lnTo>
                        <a:pt x="4" y="19"/>
                      </a:lnTo>
                      <a:lnTo>
                        <a:pt x="1" y="25"/>
                      </a:lnTo>
                      <a:lnTo>
                        <a:pt x="0" y="30"/>
                      </a:lnTo>
                      <a:lnTo>
                        <a:pt x="0" y="36"/>
                      </a:lnTo>
                      <a:lnTo>
                        <a:pt x="1" y="42"/>
                      </a:lnTo>
                      <a:lnTo>
                        <a:pt x="4" y="48"/>
                      </a:lnTo>
                      <a:lnTo>
                        <a:pt x="6" y="52"/>
                      </a:lnTo>
                      <a:lnTo>
                        <a:pt x="11" y="58"/>
                      </a:lnTo>
                      <a:lnTo>
                        <a:pt x="15" y="61"/>
                      </a:lnTo>
                      <a:lnTo>
                        <a:pt x="21" y="64"/>
                      </a:lnTo>
                      <a:lnTo>
                        <a:pt x="28" y="66"/>
                      </a:lnTo>
                      <a:lnTo>
                        <a:pt x="35" y="66"/>
                      </a:lnTo>
                      <a:lnTo>
                        <a:pt x="43" y="66"/>
                      </a:lnTo>
                      <a:lnTo>
                        <a:pt x="65" y="5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2" name=""/>
                <p:cNvSpPr/>
                <p:nvPr/>
              </p:nvSpPr>
              <p:spPr>
                <a:xfrm>
                  <a:off x="3923640" y="2480040"/>
                  <a:ext cx="73800" cy="198720"/>
                </a:xfrm>
                <a:custGeom>
                  <a:avLst/>
                  <a:gdLst/>
                  <a:ahLst/>
                  <a:rect l="l" t="t" r="r" b="b"/>
                  <a:pathLst>
                    <a:path w="361" h="1049">
                      <a:moveTo>
                        <a:pt x="322" y="1023"/>
                      </a:moveTo>
                      <a:lnTo>
                        <a:pt x="306" y="1044"/>
                      </a:lnTo>
                      <a:lnTo>
                        <a:pt x="319" y="1036"/>
                      </a:lnTo>
                      <a:lnTo>
                        <a:pt x="329" y="1027"/>
                      </a:lnTo>
                      <a:lnTo>
                        <a:pt x="338" y="1016"/>
                      </a:lnTo>
                      <a:lnTo>
                        <a:pt x="345" y="1005"/>
                      </a:lnTo>
                      <a:lnTo>
                        <a:pt x="351" y="993"/>
                      </a:lnTo>
                      <a:lnTo>
                        <a:pt x="355" y="981"/>
                      </a:lnTo>
                      <a:lnTo>
                        <a:pt x="358" y="968"/>
                      </a:lnTo>
                      <a:lnTo>
                        <a:pt x="360" y="954"/>
                      </a:lnTo>
                      <a:lnTo>
                        <a:pt x="361" y="941"/>
                      </a:lnTo>
                      <a:lnTo>
                        <a:pt x="361" y="927"/>
                      </a:lnTo>
                      <a:lnTo>
                        <a:pt x="360" y="912"/>
                      </a:lnTo>
                      <a:lnTo>
                        <a:pt x="359" y="897"/>
                      </a:lnTo>
                      <a:lnTo>
                        <a:pt x="353" y="866"/>
                      </a:lnTo>
                      <a:lnTo>
                        <a:pt x="346" y="833"/>
                      </a:lnTo>
                      <a:lnTo>
                        <a:pt x="336" y="798"/>
                      </a:lnTo>
                      <a:lnTo>
                        <a:pt x="324" y="763"/>
                      </a:lnTo>
                      <a:lnTo>
                        <a:pt x="312" y="725"/>
                      </a:lnTo>
                      <a:lnTo>
                        <a:pt x="297" y="686"/>
                      </a:lnTo>
                      <a:lnTo>
                        <a:pt x="265" y="606"/>
                      </a:lnTo>
                      <a:lnTo>
                        <a:pt x="229" y="524"/>
                      </a:lnTo>
                      <a:lnTo>
                        <a:pt x="193" y="442"/>
                      </a:lnTo>
                      <a:lnTo>
                        <a:pt x="159" y="362"/>
                      </a:lnTo>
                      <a:lnTo>
                        <a:pt x="143" y="323"/>
                      </a:lnTo>
                      <a:lnTo>
                        <a:pt x="127" y="285"/>
                      </a:lnTo>
                      <a:lnTo>
                        <a:pt x="113" y="248"/>
                      </a:lnTo>
                      <a:lnTo>
                        <a:pt x="101" y="212"/>
                      </a:lnTo>
                      <a:lnTo>
                        <a:pt x="90" y="179"/>
                      </a:lnTo>
                      <a:lnTo>
                        <a:pt x="82" y="148"/>
                      </a:lnTo>
                      <a:lnTo>
                        <a:pt x="75" y="120"/>
                      </a:lnTo>
                      <a:lnTo>
                        <a:pt x="72" y="94"/>
                      </a:lnTo>
                      <a:lnTo>
                        <a:pt x="70" y="84"/>
                      </a:lnTo>
                      <a:lnTo>
                        <a:pt x="70" y="73"/>
                      </a:lnTo>
                      <a:lnTo>
                        <a:pt x="70" y="63"/>
                      </a:lnTo>
                      <a:lnTo>
                        <a:pt x="70" y="55"/>
                      </a:lnTo>
                      <a:lnTo>
                        <a:pt x="73" y="48"/>
                      </a:lnTo>
                      <a:lnTo>
                        <a:pt x="74" y="42"/>
                      </a:lnTo>
                      <a:lnTo>
                        <a:pt x="76" y="38"/>
                      </a:lnTo>
                      <a:lnTo>
                        <a:pt x="79" y="33"/>
                      </a:lnTo>
                      <a:lnTo>
                        <a:pt x="20" y="0"/>
                      </a:lnTo>
                      <a:lnTo>
                        <a:pt x="13" y="10"/>
                      </a:lnTo>
                      <a:lnTo>
                        <a:pt x="7" y="23"/>
                      </a:lnTo>
                      <a:lnTo>
                        <a:pt x="4" y="34"/>
                      </a:lnTo>
                      <a:lnTo>
                        <a:pt x="2" y="47"/>
                      </a:lnTo>
                      <a:lnTo>
                        <a:pt x="0" y="61"/>
                      </a:lnTo>
                      <a:lnTo>
                        <a:pt x="0" y="73"/>
                      </a:lnTo>
                      <a:lnTo>
                        <a:pt x="0" y="87"/>
                      </a:lnTo>
                      <a:lnTo>
                        <a:pt x="3" y="102"/>
                      </a:lnTo>
                      <a:lnTo>
                        <a:pt x="7" y="131"/>
                      </a:lnTo>
                      <a:lnTo>
                        <a:pt x="14" y="163"/>
                      </a:lnTo>
                      <a:lnTo>
                        <a:pt x="23" y="196"/>
                      </a:lnTo>
                      <a:lnTo>
                        <a:pt x="35" y="232"/>
                      </a:lnTo>
                      <a:lnTo>
                        <a:pt x="48" y="267"/>
                      </a:lnTo>
                      <a:lnTo>
                        <a:pt x="62" y="305"/>
                      </a:lnTo>
                      <a:lnTo>
                        <a:pt x="77" y="344"/>
                      </a:lnTo>
                      <a:lnTo>
                        <a:pt x="95" y="385"/>
                      </a:lnTo>
                      <a:lnTo>
                        <a:pt x="129" y="465"/>
                      </a:lnTo>
                      <a:lnTo>
                        <a:pt x="165" y="548"/>
                      </a:lnTo>
                      <a:lnTo>
                        <a:pt x="200" y="629"/>
                      </a:lnTo>
                      <a:lnTo>
                        <a:pt x="231" y="707"/>
                      </a:lnTo>
                      <a:lnTo>
                        <a:pt x="246" y="745"/>
                      </a:lnTo>
                      <a:lnTo>
                        <a:pt x="259" y="781"/>
                      </a:lnTo>
                      <a:lnTo>
                        <a:pt x="269" y="815"/>
                      </a:lnTo>
                      <a:lnTo>
                        <a:pt x="278" y="848"/>
                      </a:lnTo>
                      <a:lnTo>
                        <a:pt x="285" y="877"/>
                      </a:lnTo>
                      <a:lnTo>
                        <a:pt x="290" y="905"/>
                      </a:lnTo>
                      <a:lnTo>
                        <a:pt x="291" y="916"/>
                      </a:lnTo>
                      <a:lnTo>
                        <a:pt x="291" y="928"/>
                      </a:lnTo>
                      <a:lnTo>
                        <a:pt x="291" y="939"/>
                      </a:lnTo>
                      <a:lnTo>
                        <a:pt x="291" y="949"/>
                      </a:lnTo>
                      <a:lnTo>
                        <a:pt x="290" y="958"/>
                      </a:lnTo>
                      <a:lnTo>
                        <a:pt x="288" y="965"/>
                      </a:lnTo>
                      <a:lnTo>
                        <a:pt x="285" y="972"/>
                      </a:lnTo>
                      <a:lnTo>
                        <a:pt x="283" y="976"/>
                      </a:lnTo>
                      <a:lnTo>
                        <a:pt x="281" y="981"/>
                      </a:lnTo>
                      <a:lnTo>
                        <a:pt x="277" y="984"/>
                      </a:lnTo>
                      <a:lnTo>
                        <a:pt x="275" y="987"/>
                      </a:lnTo>
                      <a:lnTo>
                        <a:pt x="270" y="989"/>
                      </a:lnTo>
                      <a:lnTo>
                        <a:pt x="254" y="1011"/>
                      </a:lnTo>
                      <a:lnTo>
                        <a:pt x="270" y="989"/>
                      </a:lnTo>
                      <a:lnTo>
                        <a:pt x="265" y="993"/>
                      </a:lnTo>
                      <a:lnTo>
                        <a:pt x="259" y="998"/>
                      </a:lnTo>
                      <a:lnTo>
                        <a:pt x="255" y="1004"/>
                      </a:lnTo>
                      <a:lnTo>
                        <a:pt x="254" y="1010"/>
                      </a:lnTo>
                      <a:lnTo>
                        <a:pt x="253" y="1015"/>
                      </a:lnTo>
                      <a:lnTo>
                        <a:pt x="254" y="1021"/>
                      </a:lnTo>
                      <a:lnTo>
                        <a:pt x="255" y="1027"/>
                      </a:lnTo>
                      <a:lnTo>
                        <a:pt x="259" y="1033"/>
                      </a:lnTo>
                      <a:lnTo>
                        <a:pt x="262" y="1037"/>
                      </a:lnTo>
                      <a:lnTo>
                        <a:pt x="267" y="1042"/>
                      </a:lnTo>
                      <a:lnTo>
                        <a:pt x="271" y="1045"/>
                      </a:lnTo>
                      <a:lnTo>
                        <a:pt x="278" y="1047"/>
                      </a:lnTo>
                      <a:lnTo>
                        <a:pt x="284" y="1049"/>
                      </a:lnTo>
                      <a:lnTo>
                        <a:pt x="291" y="1049"/>
                      </a:lnTo>
                      <a:lnTo>
                        <a:pt x="299" y="1047"/>
                      </a:lnTo>
                      <a:lnTo>
                        <a:pt x="306" y="1044"/>
                      </a:lnTo>
                      <a:lnTo>
                        <a:pt x="322" y="102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3" name=""/>
                <p:cNvSpPr/>
                <p:nvPr/>
              </p:nvSpPr>
              <p:spPr>
                <a:xfrm>
                  <a:off x="3439800" y="2593800"/>
                  <a:ext cx="110160" cy="488880"/>
                </a:xfrm>
                <a:custGeom>
                  <a:avLst/>
                  <a:gdLst/>
                  <a:ahLst/>
                  <a:rect l="l" t="t" r="r" b="b"/>
                  <a:pathLst>
                    <a:path w="548" h="2583">
                      <a:moveTo>
                        <a:pt x="34" y="2583"/>
                      </a:moveTo>
                      <a:lnTo>
                        <a:pt x="69" y="2555"/>
                      </a:lnTo>
                      <a:lnTo>
                        <a:pt x="80" y="2493"/>
                      </a:lnTo>
                      <a:lnTo>
                        <a:pt x="93" y="2429"/>
                      </a:lnTo>
                      <a:lnTo>
                        <a:pt x="107" y="2361"/>
                      </a:lnTo>
                      <a:lnTo>
                        <a:pt x="124" y="2292"/>
                      </a:lnTo>
                      <a:lnTo>
                        <a:pt x="142" y="2220"/>
                      </a:lnTo>
                      <a:lnTo>
                        <a:pt x="162" y="2146"/>
                      </a:lnTo>
                      <a:lnTo>
                        <a:pt x="182" y="2071"/>
                      </a:lnTo>
                      <a:lnTo>
                        <a:pt x="204" y="1994"/>
                      </a:lnTo>
                      <a:lnTo>
                        <a:pt x="250" y="1834"/>
                      </a:lnTo>
                      <a:lnTo>
                        <a:pt x="297" y="1669"/>
                      </a:lnTo>
                      <a:lnTo>
                        <a:pt x="345" y="1501"/>
                      </a:lnTo>
                      <a:lnTo>
                        <a:pt x="391" y="1330"/>
                      </a:lnTo>
                      <a:lnTo>
                        <a:pt x="413" y="1242"/>
                      </a:lnTo>
                      <a:lnTo>
                        <a:pt x="435" y="1156"/>
                      </a:lnTo>
                      <a:lnTo>
                        <a:pt x="455" y="1069"/>
                      </a:lnTo>
                      <a:lnTo>
                        <a:pt x="473" y="983"/>
                      </a:lnTo>
                      <a:lnTo>
                        <a:pt x="490" y="897"/>
                      </a:lnTo>
                      <a:lnTo>
                        <a:pt x="505" y="810"/>
                      </a:lnTo>
                      <a:lnTo>
                        <a:pt x="519" y="724"/>
                      </a:lnTo>
                      <a:lnTo>
                        <a:pt x="529" y="640"/>
                      </a:lnTo>
                      <a:lnTo>
                        <a:pt x="534" y="598"/>
                      </a:lnTo>
                      <a:lnTo>
                        <a:pt x="538" y="555"/>
                      </a:lnTo>
                      <a:lnTo>
                        <a:pt x="542" y="514"/>
                      </a:lnTo>
                      <a:lnTo>
                        <a:pt x="544" y="473"/>
                      </a:lnTo>
                      <a:lnTo>
                        <a:pt x="546" y="431"/>
                      </a:lnTo>
                      <a:lnTo>
                        <a:pt x="548" y="390"/>
                      </a:lnTo>
                      <a:lnTo>
                        <a:pt x="548" y="350"/>
                      </a:lnTo>
                      <a:lnTo>
                        <a:pt x="548" y="309"/>
                      </a:lnTo>
                      <a:lnTo>
                        <a:pt x="546" y="269"/>
                      </a:lnTo>
                      <a:lnTo>
                        <a:pt x="544" y="229"/>
                      </a:lnTo>
                      <a:lnTo>
                        <a:pt x="542" y="190"/>
                      </a:lnTo>
                      <a:lnTo>
                        <a:pt x="538" y="151"/>
                      </a:lnTo>
                      <a:lnTo>
                        <a:pt x="534" y="113"/>
                      </a:lnTo>
                      <a:lnTo>
                        <a:pt x="528" y="75"/>
                      </a:lnTo>
                      <a:lnTo>
                        <a:pt x="521" y="37"/>
                      </a:lnTo>
                      <a:lnTo>
                        <a:pt x="514" y="0"/>
                      </a:lnTo>
                      <a:lnTo>
                        <a:pt x="446" y="12"/>
                      </a:lnTo>
                      <a:lnTo>
                        <a:pt x="453" y="47"/>
                      </a:lnTo>
                      <a:lnTo>
                        <a:pt x="459" y="84"/>
                      </a:lnTo>
                      <a:lnTo>
                        <a:pt x="465" y="120"/>
                      </a:lnTo>
                      <a:lnTo>
                        <a:pt x="469" y="158"/>
                      </a:lnTo>
                      <a:lnTo>
                        <a:pt x="473" y="195"/>
                      </a:lnTo>
                      <a:lnTo>
                        <a:pt x="475" y="232"/>
                      </a:lnTo>
                      <a:lnTo>
                        <a:pt x="477" y="272"/>
                      </a:lnTo>
                      <a:lnTo>
                        <a:pt x="479" y="309"/>
                      </a:lnTo>
                      <a:lnTo>
                        <a:pt x="479" y="350"/>
                      </a:lnTo>
                      <a:lnTo>
                        <a:pt x="477" y="389"/>
                      </a:lnTo>
                      <a:lnTo>
                        <a:pt x="476" y="429"/>
                      </a:lnTo>
                      <a:lnTo>
                        <a:pt x="475" y="469"/>
                      </a:lnTo>
                      <a:lnTo>
                        <a:pt x="472" y="509"/>
                      </a:lnTo>
                      <a:lnTo>
                        <a:pt x="468" y="551"/>
                      </a:lnTo>
                      <a:lnTo>
                        <a:pt x="465" y="591"/>
                      </a:lnTo>
                      <a:lnTo>
                        <a:pt x="460" y="632"/>
                      </a:lnTo>
                      <a:lnTo>
                        <a:pt x="450" y="716"/>
                      </a:lnTo>
                      <a:lnTo>
                        <a:pt x="436" y="801"/>
                      </a:lnTo>
                      <a:lnTo>
                        <a:pt x="421" y="885"/>
                      </a:lnTo>
                      <a:lnTo>
                        <a:pt x="405" y="971"/>
                      </a:lnTo>
                      <a:lnTo>
                        <a:pt x="387" y="1056"/>
                      </a:lnTo>
                      <a:lnTo>
                        <a:pt x="366" y="1142"/>
                      </a:lnTo>
                      <a:lnTo>
                        <a:pt x="345" y="1229"/>
                      </a:lnTo>
                      <a:lnTo>
                        <a:pt x="324" y="1314"/>
                      </a:lnTo>
                      <a:lnTo>
                        <a:pt x="278" y="1485"/>
                      </a:lnTo>
                      <a:lnTo>
                        <a:pt x="231" y="1652"/>
                      </a:lnTo>
                      <a:lnTo>
                        <a:pt x="182" y="1818"/>
                      </a:lnTo>
                      <a:lnTo>
                        <a:pt x="136" y="1978"/>
                      </a:lnTo>
                      <a:lnTo>
                        <a:pt x="115" y="2055"/>
                      </a:lnTo>
                      <a:lnTo>
                        <a:pt x="94" y="2132"/>
                      </a:lnTo>
                      <a:lnTo>
                        <a:pt x="74" y="2206"/>
                      </a:lnTo>
                      <a:lnTo>
                        <a:pt x="56" y="2279"/>
                      </a:lnTo>
                      <a:lnTo>
                        <a:pt x="39" y="2349"/>
                      </a:lnTo>
                      <a:lnTo>
                        <a:pt x="24" y="2416"/>
                      </a:lnTo>
                      <a:lnTo>
                        <a:pt x="11" y="2483"/>
                      </a:lnTo>
                      <a:lnTo>
                        <a:pt x="1" y="2546"/>
                      </a:lnTo>
                      <a:lnTo>
                        <a:pt x="35" y="2519"/>
                      </a:lnTo>
                      <a:lnTo>
                        <a:pt x="1" y="2546"/>
                      </a:lnTo>
                      <a:lnTo>
                        <a:pt x="0" y="2554"/>
                      </a:lnTo>
                      <a:lnTo>
                        <a:pt x="1" y="2561"/>
                      </a:lnTo>
                      <a:lnTo>
                        <a:pt x="4" y="2567"/>
                      </a:lnTo>
                      <a:lnTo>
                        <a:pt x="8" y="2572"/>
                      </a:lnTo>
                      <a:lnTo>
                        <a:pt x="12" y="2576"/>
                      </a:lnTo>
                      <a:lnTo>
                        <a:pt x="18" y="2578"/>
                      </a:lnTo>
                      <a:lnTo>
                        <a:pt x="24" y="2581"/>
                      </a:lnTo>
                      <a:lnTo>
                        <a:pt x="30" y="2583"/>
                      </a:lnTo>
                      <a:lnTo>
                        <a:pt x="36" y="2583"/>
                      </a:lnTo>
                      <a:lnTo>
                        <a:pt x="43" y="2582"/>
                      </a:lnTo>
                      <a:lnTo>
                        <a:pt x="49" y="2581"/>
                      </a:lnTo>
                      <a:lnTo>
                        <a:pt x="55" y="2577"/>
                      </a:lnTo>
                      <a:lnTo>
                        <a:pt x="59" y="2574"/>
                      </a:lnTo>
                      <a:lnTo>
                        <a:pt x="64" y="2569"/>
                      </a:lnTo>
                      <a:lnTo>
                        <a:pt x="68" y="2562"/>
                      </a:lnTo>
                      <a:lnTo>
                        <a:pt x="69" y="2555"/>
                      </a:lnTo>
                      <a:lnTo>
                        <a:pt x="34" y="258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4" name=""/>
                <p:cNvSpPr/>
                <p:nvPr/>
              </p:nvSpPr>
              <p:spPr>
                <a:xfrm>
                  <a:off x="3406320" y="3071160"/>
                  <a:ext cx="40320" cy="409320"/>
                </a:xfrm>
                <a:custGeom>
                  <a:avLst/>
                  <a:gdLst/>
                  <a:ahLst/>
                  <a:rect l="l" t="t" r="r" b="b"/>
                  <a:pathLst>
                    <a:path w="197" h="2161">
                      <a:moveTo>
                        <a:pt x="102" y="2096"/>
                      </a:moveTo>
                      <a:lnTo>
                        <a:pt x="138" y="2116"/>
                      </a:lnTo>
                      <a:lnTo>
                        <a:pt x="134" y="2110"/>
                      </a:lnTo>
                      <a:lnTo>
                        <a:pt x="132" y="2101"/>
                      </a:lnTo>
                      <a:lnTo>
                        <a:pt x="128" y="2088"/>
                      </a:lnTo>
                      <a:lnTo>
                        <a:pt x="125" y="2073"/>
                      </a:lnTo>
                      <a:lnTo>
                        <a:pt x="118" y="2034"/>
                      </a:lnTo>
                      <a:lnTo>
                        <a:pt x="112" y="1988"/>
                      </a:lnTo>
                      <a:lnTo>
                        <a:pt x="105" y="1933"/>
                      </a:lnTo>
                      <a:lnTo>
                        <a:pt x="100" y="1871"/>
                      </a:lnTo>
                      <a:lnTo>
                        <a:pt x="94" y="1803"/>
                      </a:lnTo>
                      <a:lnTo>
                        <a:pt x="89" y="1730"/>
                      </a:lnTo>
                      <a:lnTo>
                        <a:pt x="85" y="1651"/>
                      </a:lnTo>
                      <a:lnTo>
                        <a:pt x="80" y="1568"/>
                      </a:lnTo>
                      <a:lnTo>
                        <a:pt x="77" y="1481"/>
                      </a:lnTo>
                      <a:lnTo>
                        <a:pt x="74" y="1391"/>
                      </a:lnTo>
                      <a:lnTo>
                        <a:pt x="72" y="1299"/>
                      </a:lnTo>
                      <a:lnTo>
                        <a:pt x="70" y="1206"/>
                      </a:lnTo>
                      <a:lnTo>
                        <a:pt x="70" y="1112"/>
                      </a:lnTo>
                      <a:lnTo>
                        <a:pt x="70" y="1018"/>
                      </a:lnTo>
                      <a:lnTo>
                        <a:pt x="71" y="923"/>
                      </a:lnTo>
                      <a:lnTo>
                        <a:pt x="73" y="830"/>
                      </a:lnTo>
                      <a:lnTo>
                        <a:pt x="76" y="740"/>
                      </a:lnTo>
                      <a:lnTo>
                        <a:pt x="80" y="651"/>
                      </a:lnTo>
                      <a:lnTo>
                        <a:pt x="85" y="567"/>
                      </a:lnTo>
                      <a:lnTo>
                        <a:pt x="92" y="486"/>
                      </a:lnTo>
                      <a:lnTo>
                        <a:pt x="99" y="410"/>
                      </a:lnTo>
                      <a:lnTo>
                        <a:pt x="108" y="339"/>
                      </a:lnTo>
                      <a:lnTo>
                        <a:pt x="112" y="305"/>
                      </a:lnTo>
                      <a:lnTo>
                        <a:pt x="118" y="274"/>
                      </a:lnTo>
                      <a:lnTo>
                        <a:pt x="124" y="244"/>
                      </a:lnTo>
                      <a:lnTo>
                        <a:pt x="130" y="216"/>
                      </a:lnTo>
                      <a:lnTo>
                        <a:pt x="135" y="189"/>
                      </a:lnTo>
                      <a:lnTo>
                        <a:pt x="142" y="166"/>
                      </a:lnTo>
                      <a:lnTo>
                        <a:pt x="148" y="144"/>
                      </a:lnTo>
                      <a:lnTo>
                        <a:pt x="156" y="125"/>
                      </a:lnTo>
                      <a:lnTo>
                        <a:pt x="163" y="108"/>
                      </a:lnTo>
                      <a:lnTo>
                        <a:pt x="170" y="93"/>
                      </a:lnTo>
                      <a:lnTo>
                        <a:pt x="177" y="81"/>
                      </a:lnTo>
                      <a:lnTo>
                        <a:pt x="184" y="73"/>
                      </a:lnTo>
                      <a:lnTo>
                        <a:pt x="189" y="68"/>
                      </a:lnTo>
                      <a:lnTo>
                        <a:pt x="195" y="64"/>
                      </a:lnTo>
                      <a:lnTo>
                        <a:pt x="194" y="64"/>
                      </a:lnTo>
                      <a:lnTo>
                        <a:pt x="195" y="64"/>
                      </a:lnTo>
                      <a:lnTo>
                        <a:pt x="196" y="64"/>
                      </a:lnTo>
                      <a:lnTo>
                        <a:pt x="197" y="0"/>
                      </a:lnTo>
                      <a:lnTo>
                        <a:pt x="187" y="1"/>
                      </a:lnTo>
                      <a:lnTo>
                        <a:pt x="177" y="2"/>
                      </a:lnTo>
                      <a:lnTo>
                        <a:pt x="167" y="5"/>
                      </a:lnTo>
                      <a:lnTo>
                        <a:pt x="157" y="10"/>
                      </a:lnTo>
                      <a:lnTo>
                        <a:pt x="143" y="19"/>
                      </a:lnTo>
                      <a:lnTo>
                        <a:pt x="130" y="33"/>
                      </a:lnTo>
                      <a:lnTo>
                        <a:pt x="118" y="48"/>
                      </a:lnTo>
                      <a:lnTo>
                        <a:pt x="108" y="64"/>
                      </a:lnTo>
                      <a:lnTo>
                        <a:pt x="99" y="82"/>
                      </a:lnTo>
                      <a:lnTo>
                        <a:pt x="91" y="103"/>
                      </a:lnTo>
                      <a:lnTo>
                        <a:pt x="83" y="125"/>
                      </a:lnTo>
                      <a:lnTo>
                        <a:pt x="74" y="149"/>
                      </a:lnTo>
                      <a:lnTo>
                        <a:pt x="68" y="175"/>
                      </a:lnTo>
                      <a:lnTo>
                        <a:pt x="61" y="203"/>
                      </a:lnTo>
                      <a:lnTo>
                        <a:pt x="55" y="233"/>
                      </a:lnTo>
                      <a:lnTo>
                        <a:pt x="49" y="264"/>
                      </a:lnTo>
                      <a:lnTo>
                        <a:pt x="43" y="296"/>
                      </a:lnTo>
                      <a:lnTo>
                        <a:pt x="39" y="331"/>
                      </a:lnTo>
                      <a:lnTo>
                        <a:pt x="30" y="403"/>
                      </a:lnTo>
                      <a:lnTo>
                        <a:pt x="22" y="481"/>
                      </a:lnTo>
                      <a:lnTo>
                        <a:pt x="16" y="563"/>
                      </a:lnTo>
                      <a:lnTo>
                        <a:pt x="10" y="649"/>
                      </a:lnTo>
                      <a:lnTo>
                        <a:pt x="7" y="737"/>
                      </a:lnTo>
                      <a:lnTo>
                        <a:pt x="3" y="829"/>
                      </a:lnTo>
                      <a:lnTo>
                        <a:pt x="1" y="922"/>
                      </a:lnTo>
                      <a:lnTo>
                        <a:pt x="0" y="1018"/>
                      </a:lnTo>
                      <a:lnTo>
                        <a:pt x="0" y="1112"/>
                      </a:lnTo>
                      <a:lnTo>
                        <a:pt x="1" y="1207"/>
                      </a:lnTo>
                      <a:lnTo>
                        <a:pt x="2" y="1300"/>
                      </a:lnTo>
                      <a:lnTo>
                        <a:pt x="4" y="1393"/>
                      </a:lnTo>
                      <a:lnTo>
                        <a:pt x="8" y="1483"/>
                      </a:lnTo>
                      <a:lnTo>
                        <a:pt x="11" y="1570"/>
                      </a:lnTo>
                      <a:lnTo>
                        <a:pt x="15" y="1654"/>
                      </a:lnTo>
                      <a:lnTo>
                        <a:pt x="19" y="1733"/>
                      </a:lnTo>
                      <a:lnTo>
                        <a:pt x="25" y="1808"/>
                      </a:lnTo>
                      <a:lnTo>
                        <a:pt x="31" y="1877"/>
                      </a:lnTo>
                      <a:lnTo>
                        <a:pt x="37" y="1939"/>
                      </a:lnTo>
                      <a:lnTo>
                        <a:pt x="43" y="1995"/>
                      </a:lnTo>
                      <a:lnTo>
                        <a:pt x="50" y="2044"/>
                      </a:lnTo>
                      <a:lnTo>
                        <a:pt x="57" y="2084"/>
                      </a:lnTo>
                      <a:lnTo>
                        <a:pt x="61" y="2101"/>
                      </a:lnTo>
                      <a:lnTo>
                        <a:pt x="64" y="2116"/>
                      </a:lnTo>
                      <a:lnTo>
                        <a:pt x="69" y="2130"/>
                      </a:lnTo>
                      <a:lnTo>
                        <a:pt x="73" y="2141"/>
                      </a:lnTo>
                      <a:lnTo>
                        <a:pt x="108" y="2161"/>
                      </a:lnTo>
                      <a:lnTo>
                        <a:pt x="73" y="2141"/>
                      </a:lnTo>
                      <a:lnTo>
                        <a:pt x="77" y="2148"/>
                      </a:lnTo>
                      <a:lnTo>
                        <a:pt x="81" y="2153"/>
                      </a:lnTo>
                      <a:lnTo>
                        <a:pt x="87" y="2157"/>
                      </a:lnTo>
                      <a:lnTo>
                        <a:pt x="93" y="2160"/>
                      </a:lnTo>
                      <a:lnTo>
                        <a:pt x="100" y="2161"/>
                      </a:lnTo>
                      <a:lnTo>
                        <a:pt x="107" y="2161"/>
                      </a:lnTo>
                      <a:lnTo>
                        <a:pt x="112" y="2161"/>
                      </a:lnTo>
                      <a:lnTo>
                        <a:pt x="119" y="2158"/>
                      </a:lnTo>
                      <a:lnTo>
                        <a:pt x="125" y="2155"/>
                      </a:lnTo>
                      <a:lnTo>
                        <a:pt x="130" y="2152"/>
                      </a:lnTo>
                      <a:lnTo>
                        <a:pt x="134" y="2147"/>
                      </a:lnTo>
                      <a:lnTo>
                        <a:pt x="138" y="2142"/>
                      </a:lnTo>
                      <a:lnTo>
                        <a:pt x="140" y="2137"/>
                      </a:lnTo>
                      <a:lnTo>
                        <a:pt x="140" y="2131"/>
                      </a:lnTo>
                      <a:lnTo>
                        <a:pt x="140" y="2124"/>
                      </a:lnTo>
                      <a:lnTo>
                        <a:pt x="138" y="2116"/>
                      </a:lnTo>
                      <a:lnTo>
                        <a:pt x="102" y="209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5" name=""/>
                <p:cNvSpPr/>
                <p:nvPr/>
              </p:nvSpPr>
              <p:spPr>
                <a:xfrm>
                  <a:off x="3427200" y="3467520"/>
                  <a:ext cx="347040" cy="155520"/>
                </a:xfrm>
                <a:custGeom>
                  <a:avLst/>
                  <a:gdLst/>
                  <a:ahLst/>
                  <a:rect l="l" t="t" r="r" b="b"/>
                  <a:pathLst>
                    <a:path w="1718" h="825">
                      <a:moveTo>
                        <a:pt x="1654" y="774"/>
                      </a:moveTo>
                      <a:lnTo>
                        <a:pt x="1690" y="761"/>
                      </a:lnTo>
                      <a:lnTo>
                        <a:pt x="1657" y="754"/>
                      </a:lnTo>
                      <a:lnTo>
                        <a:pt x="1624" y="747"/>
                      </a:lnTo>
                      <a:lnTo>
                        <a:pt x="1593" y="739"/>
                      </a:lnTo>
                      <a:lnTo>
                        <a:pt x="1562" y="730"/>
                      </a:lnTo>
                      <a:lnTo>
                        <a:pt x="1532" y="720"/>
                      </a:lnTo>
                      <a:lnTo>
                        <a:pt x="1503" y="710"/>
                      </a:lnTo>
                      <a:lnTo>
                        <a:pt x="1475" y="698"/>
                      </a:lnTo>
                      <a:lnTo>
                        <a:pt x="1447" y="687"/>
                      </a:lnTo>
                      <a:lnTo>
                        <a:pt x="1421" y="676"/>
                      </a:lnTo>
                      <a:lnTo>
                        <a:pt x="1394" y="663"/>
                      </a:lnTo>
                      <a:lnTo>
                        <a:pt x="1369" y="650"/>
                      </a:lnTo>
                      <a:lnTo>
                        <a:pt x="1344" y="636"/>
                      </a:lnTo>
                      <a:lnTo>
                        <a:pt x="1294" y="609"/>
                      </a:lnTo>
                      <a:lnTo>
                        <a:pt x="1247" y="579"/>
                      </a:lnTo>
                      <a:lnTo>
                        <a:pt x="1202" y="548"/>
                      </a:lnTo>
                      <a:lnTo>
                        <a:pt x="1158" y="516"/>
                      </a:lnTo>
                      <a:lnTo>
                        <a:pt x="1115" y="484"/>
                      </a:lnTo>
                      <a:lnTo>
                        <a:pt x="1073" y="449"/>
                      </a:lnTo>
                      <a:lnTo>
                        <a:pt x="990" y="381"/>
                      </a:lnTo>
                      <a:lnTo>
                        <a:pt x="907" y="312"/>
                      </a:lnTo>
                      <a:lnTo>
                        <a:pt x="865" y="279"/>
                      </a:lnTo>
                      <a:lnTo>
                        <a:pt x="822" y="246"/>
                      </a:lnTo>
                      <a:lnTo>
                        <a:pt x="779" y="215"/>
                      </a:lnTo>
                      <a:lnTo>
                        <a:pt x="734" y="184"/>
                      </a:lnTo>
                      <a:lnTo>
                        <a:pt x="687" y="154"/>
                      </a:lnTo>
                      <a:lnTo>
                        <a:pt x="639" y="127"/>
                      </a:lnTo>
                      <a:lnTo>
                        <a:pt x="613" y="114"/>
                      </a:lnTo>
                      <a:lnTo>
                        <a:pt x="588" y="101"/>
                      </a:lnTo>
                      <a:lnTo>
                        <a:pt x="562" y="90"/>
                      </a:lnTo>
                      <a:lnTo>
                        <a:pt x="534" y="78"/>
                      </a:lnTo>
                      <a:lnTo>
                        <a:pt x="508" y="68"/>
                      </a:lnTo>
                      <a:lnTo>
                        <a:pt x="479" y="57"/>
                      </a:lnTo>
                      <a:lnTo>
                        <a:pt x="450" y="48"/>
                      </a:lnTo>
                      <a:lnTo>
                        <a:pt x="420" y="39"/>
                      </a:lnTo>
                      <a:lnTo>
                        <a:pt x="390" y="31"/>
                      </a:lnTo>
                      <a:lnTo>
                        <a:pt x="359" y="24"/>
                      </a:lnTo>
                      <a:lnTo>
                        <a:pt x="327" y="18"/>
                      </a:lnTo>
                      <a:lnTo>
                        <a:pt x="295" y="13"/>
                      </a:lnTo>
                      <a:lnTo>
                        <a:pt x="262" y="8"/>
                      </a:lnTo>
                      <a:lnTo>
                        <a:pt x="227" y="5"/>
                      </a:lnTo>
                      <a:lnTo>
                        <a:pt x="192" y="2"/>
                      </a:lnTo>
                      <a:lnTo>
                        <a:pt x="155" y="0"/>
                      </a:lnTo>
                      <a:lnTo>
                        <a:pt x="118" y="0"/>
                      </a:lnTo>
                      <a:lnTo>
                        <a:pt x="80" y="0"/>
                      </a:lnTo>
                      <a:lnTo>
                        <a:pt x="40" y="1"/>
                      </a:lnTo>
                      <a:lnTo>
                        <a:pt x="0" y="3"/>
                      </a:lnTo>
                      <a:lnTo>
                        <a:pt x="6" y="68"/>
                      </a:lnTo>
                      <a:lnTo>
                        <a:pt x="45" y="65"/>
                      </a:lnTo>
                      <a:lnTo>
                        <a:pt x="82" y="64"/>
                      </a:lnTo>
                      <a:lnTo>
                        <a:pt x="118" y="64"/>
                      </a:lnTo>
                      <a:lnTo>
                        <a:pt x="153" y="64"/>
                      </a:lnTo>
                      <a:lnTo>
                        <a:pt x="187" y="65"/>
                      </a:lnTo>
                      <a:lnTo>
                        <a:pt x="221" y="68"/>
                      </a:lnTo>
                      <a:lnTo>
                        <a:pt x="253" y="71"/>
                      </a:lnTo>
                      <a:lnTo>
                        <a:pt x="284" y="76"/>
                      </a:lnTo>
                      <a:lnTo>
                        <a:pt x="315" y="80"/>
                      </a:lnTo>
                      <a:lnTo>
                        <a:pt x="343" y="86"/>
                      </a:lnTo>
                      <a:lnTo>
                        <a:pt x="373" y="93"/>
                      </a:lnTo>
                      <a:lnTo>
                        <a:pt x="401" y="101"/>
                      </a:lnTo>
                      <a:lnTo>
                        <a:pt x="428" y="108"/>
                      </a:lnTo>
                      <a:lnTo>
                        <a:pt x="455" y="117"/>
                      </a:lnTo>
                      <a:lnTo>
                        <a:pt x="481" y="126"/>
                      </a:lnTo>
                      <a:lnTo>
                        <a:pt x="506" y="137"/>
                      </a:lnTo>
                      <a:lnTo>
                        <a:pt x="532" y="147"/>
                      </a:lnTo>
                      <a:lnTo>
                        <a:pt x="556" y="159"/>
                      </a:lnTo>
                      <a:lnTo>
                        <a:pt x="580" y="170"/>
                      </a:lnTo>
                      <a:lnTo>
                        <a:pt x="603" y="181"/>
                      </a:lnTo>
                      <a:lnTo>
                        <a:pt x="649" y="208"/>
                      </a:lnTo>
                      <a:lnTo>
                        <a:pt x="694" y="235"/>
                      </a:lnTo>
                      <a:lnTo>
                        <a:pt x="736" y="265"/>
                      </a:lnTo>
                      <a:lnTo>
                        <a:pt x="779" y="296"/>
                      </a:lnTo>
                      <a:lnTo>
                        <a:pt x="820" y="327"/>
                      </a:lnTo>
                      <a:lnTo>
                        <a:pt x="861" y="361"/>
                      </a:lnTo>
                      <a:lnTo>
                        <a:pt x="944" y="428"/>
                      </a:lnTo>
                      <a:lnTo>
                        <a:pt x="1027" y="497"/>
                      </a:lnTo>
                      <a:lnTo>
                        <a:pt x="1070" y="532"/>
                      </a:lnTo>
                      <a:lnTo>
                        <a:pt x="1114" y="565"/>
                      </a:lnTo>
                      <a:lnTo>
                        <a:pt x="1160" y="599"/>
                      </a:lnTo>
                      <a:lnTo>
                        <a:pt x="1207" y="631"/>
                      </a:lnTo>
                      <a:lnTo>
                        <a:pt x="1256" y="662"/>
                      </a:lnTo>
                      <a:lnTo>
                        <a:pt x="1307" y="692"/>
                      </a:lnTo>
                      <a:lnTo>
                        <a:pt x="1334" y="705"/>
                      </a:lnTo>
                      <a:lnTo>
                        <a:pt x="1362" y="719"/>
                      </a:lnTo>
                      <a:lnTo>
                        <a:pt x="1390" y="733"/>
                      </a:lnTo>
                      <a:lnTo>
                        <a:pt x="1418" y="746"/>
                      </a:lnTo>
                      <a:lnTo>
                        <a:pt x="1447" y="757"/>
                      </a:lnTo>
                      <a:lnTo>
                        <a:pt x="1478" y="769"/>
                      </a:lnTo>
                      <a:lnTo>
                        <a:pt x="1509" y="780"/>
                      </a:lnTo>
                      <a:lnTo>
                        <a:pt x="1540" y="790"/>
                      </a:lnTo>
                      <a:lnTo>
                        <a:pt x="1573" y="800"/>
                      </a:lnTo>
                      <a:lnTo>
                        <a:pt x="1607" y="809"/>
                      </a:lnTo>
                      <a:lnTo>
                        <a:pt x="1641" y="817"/>
                      </a:lnTo>
                      <a:lnTo>
                        <a:pt x="1676" y="824"/>
                      </a:lnTo>
                      <a:lnTo>
                        <a:pt x="1712" y="810"/>
                      </a:lnTo>
                      <a:lnTo>
                        <a:pt x="1676" y="824"/>
                      </a:lnTo>
                      <a:lnTo>
                        <a:pt x="1685" y="825"/>
                      </a:lnTo>
                      <a:lnTo>
                        <a:pt x="1692" y="824"/>
                      </a:lnTo>
                      <a:lnTo>
                        <a:pt x="1699" y="821"/>
                      </a:lnTo>
                      <a:lnTo>
                        <a:pt x="1704" y="819"/>
                      </a:lnTo>
                      <a:lnTo>
                        <a:pt x="1709" y="815"/>
                      </a:lnTo>
                      <a:lnTo>
                        <a:pt x="1712" y="810"/>
                      </a:lnTo>
                      <a:lnTo>
                        <a:pt x="1716" y="804"/>
                      </a:lnTo>
                      <a:lnTo>
                        <a:pt x="1717" y="798"/>
                      </a:lnTo>
                      <a:lnTo>
                        <a:pt x="1718" y="793"/>
                      </a:lnTo>
                      <a:lnTo>
                        <a:pt x="1718" y="787"/>
                      </a:lnTo>
                      <a:lnTo>
                        <a:pt x="1716" y="781"/>
                      </a:lnTo>
                      <a:lnTo>
                        <a:pt x="1713" y="775"/>
                      </a:lnTo>
                      <a:lnTo>
                        <a:pt x="1710" y="771"/>
                      </a:lnTo>
                      <a:lnTo>
                        <a:pt x="1704" y="766"/>
                      </a:lnTo>
                      <a:lnTo>
                        <a:pt x="1699" y="763"/>
                      </a:lnTo>
                      <a:lnTo>
                        <a:pt x="1690" y="761"/>
                      </a:lnTo>
                      <a:lnTo>
                        <a:pt x="1654" y="774"/>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6" name=""/>
                <p:cNvSpPr/>
                <p:nvPr/>
              </p:nvSpPr>
              <p:spPr>
                <a:xfrm>
                  <a:off x="3760200" y="2648880"/>
                  <a:ext cx="32040" cy="971640"/>
                </a:xfrm>
                <a:custGeom>
                  <a:avLst/>
                  <a:gdLst/>
                  <a:ahLst/>
                  <a:rect l="l" t="t" r="r" b="b"/>
                  <a:pathLst>
                    <a:path w="159" h="5125">
                      <a:moveTo>
                        <a:pt x="19" y="53"/>
                      </a:moveTo>
                      <a:lnTo>
                        <a:pt x="10" y="33"/>
                      </a:lnTo>
                      <a:lnTo>
                        <a:pt x="19" y="201"/>
                      </a:lnTo>
                      <a:lnTo>
                        <a:pt x="28" y="439"/>
                      </a:lnTo>
                      <a:lnTo>
                        <a:pt x="39" y="735"/>
                      </a:lnTo>
                      <a:lnTo>
                        <a:pt x="50" y="1081"/>
                      </a:lnTo>
                      <a:lnTo>
                        <a:pt x="61" y="1465"/>
                      </a:lnTo>
                      <a:lnTo>
                        <a:pt x="71" y="1875"/>
                      </a:lnTo>
                      <a:lnTo>
                        <a:pt x="79" y="2301"/>
                      </a:lnTo>
                      <a:lnTo>
                        <a:pt x="86" y="2734"/>
                      </a:lnTo>
                      <a:lnTo>
                        <a:pt x="88" y="2949"/>
                      </a:lnTo>
                      <a:lnTo>
                        <a:pt x="89" y="3160"/>
                      </a:lnTo>
                      <a:lnTo>
                        <a:pt x="90" y="3369"/>
                      </a:lnTo>
                      <a:lnTo>
                        <a:pt x="90" y="3572"/>
                      </a:lnTo>
                      <a:lnTo>
                        <a:pt x="89" y="3768"/>
                      </a:lnTo>
                      <a:lnTo>
                        <a:pt x="87" y="3957"/>
                      </a:lnTo>
                      <a:lnTo>
                        <a:pt x="84" y="4136"/>
                      </a:lnTo>
                      <a:lnTo>
                        <a:pt x="80" y="4303"/>
                      </a:lnTo>
                      <a:lnTo>
                        <a:pt x="74" y="4460"/>
                      </a:lnTo>
                      <a:lnTo>
                        <a:pt x="67" y="4602"/>
                      </a:lnTo>
                      <a:lnTo>
                        <a:pt x="63" y="4669"/>
                      </a:lnTo>
                      <a:lnTo>
                        <a:pt x="59" y="4731"/>
                      </a:lnTo>
                      <a:lnTo>
                        <a:pt x="55" y="4788"/>
                      </a:lnTo>
                      <a:lnTo>
                        <a:pt x="49" y="4842"/>
                      </a:lnTo>
                      <a:lnTo>
                        <a:pt x="45" y="4892"/>
                      </a:lnTo>
                      <a:lnTo>
                        <a:pt x="39" y="4937"/>
                      </a:lnTo>
                      <a:lnTo>
                        <a:pt x="32" y="4976"/>
                      </a:lnTo>
                      <a:lnTo>
                        <a:pt x="26" y="5010"/>
                      </a:lnTo>
                      <a:lnTo>
                        <a:pt x="19" y="5040"/>
                      </a:lnTo>
                      <a:lnTo>
                        <a:pt x="12" y="5064"/>
                      </a:lnTo>
                      <a:lnTo>
                        <a:pt x="9" y="5072"/>
                      </a:lnTo>
                      <a:lnTo>
                        <a:pt x="5" y="5080"/>
                      </a:lnTo>
                      <a:lnTo>
                        <a:pt x="3" y="5086"/>
                      </a:lnTo>
                      <a:lnTo>
                        <a:pt x="0" y="5089"/>
                      </a:lnTo>
                      <a:lnTo>
                        <a:pt x="58" y="5125"/>
                      </a:lnTo>
                      <a:lnTo>
                        <a:pt x="64" y="5116"/>
                      </a:lnTo>
                      <a:lnTo>
                        <a:pt x="70" y="5105"/>
                      </a:lnTo>
                      <a:lnTo>
                        <a:pt x="74" y="5094"/>
                      </a:lnTo>
                      <a:lnTo>
                        <a:pt x="79" y="5081"/>
                      </a:lnTo>
                      <a:lnTo>
                        <a:pt x="87" y="5055"/>
                      </a:lnTo>
                      <a:lnTo>
                        <a:pt x="94" y="5023"/>
                      </a:lnTo>
                      <a:lnTo>
                        <a:pt x="101" y="4986"/>
                      </a:lnTo>
                      <a:lnTo>
                        <a:pt x="108" y="4945"/>
                      </a:lnTo>
                      <a:lnTo>
                        <a:pt x="113" y="4899"/>
                      </a:lnTo>
                      <a:lnTo>
                        <a:pt x="118" y="4848"/>
                      </a:lnTo>
                      <a:lnTo>
                        <a:pt x="124" y="4793"/>
                      </a:lnTo>
                      <a:lnTo>
                        <a:pt x="128" y="4734"/>
                      </a:lnTo>
                      <a:lnTo>
                        <a:pt x="133" y="4672"/>
                      </a:lnTo>
                      <a:lnTo>
                        <a:pt x="136" y="4606"/>
                      </a:lnTo>
                      <a:lnTo>
                        <a:pt x="143" y="4462"/>
                      </a:lnTo>
                      <a:lnTo>
                        <a:pt x="149" y="4306"/>
                      </a:lnTo>
                      <a:lnTo>
                        <a:pt x="154" y="4137"/>
                      </a:lnTo>
                      <a:lnTo>
                        <a:pt x="157" y="3958"/>
                      </a:lnTo>
                      <a:lnTo>
                        <a:pt x="158" y="3769"/>
                      </a:lnTo>
                      <a:lnTo>
                        <a:pt x="159" y="3572"/>
                      </a:lnTo>
                      <a:lnTo>
                        <a:pt x="159" y="3369"/>
                      </a:lnTo>
                      <a:lnTo>
                        <a:pt x="159" y="3160"/>
                      </a:lnTo>
                      <a:lnTo>
                        <a:pt x="157" y="2948"/>
                      </a:lnTo>
                      <a:lnTo>
                        <a:pt x="155" y="2733"/>
                      </a:lnTo>
                      <a:lnTo>
                        <a:pt x="149" y="2301"/>
                      </a:lnTo>
                      <a:lnTo>
                        <a:pt x="140" y="1874"/>
                      </a:lnTo>
                      <a:lnTo>
                        <a:pt x="131" y="1462"/>
                      </a:lnTo>
                      <a:lnTo>
                        <a:pt x="119" y="1080"/>
                      </a:lnTo>
                      <a:lnTo>
                        <a:pt x="109" y="734"/>
                      </a:lnTo>
                      <a:lnTo>
                        <a:pt x="98" y="436"/>
                      </a:lnTo>
                      <a:lnTo>
                        <a:pt x="88" y="199"/>
                      </a:lnTo>
                      <a:lnTo>
                        <a:pt x="80" y="30"/>
                      </a:lnTo>
                      <a:lnTo>
                        <a:pt x="72" y="10"/>
                      </a:lnTo>
                      <a:lnTo>
                        <a:pt x="80" y="30"/>
                      </a:lnTo>
                      <a:lnTo>
                        <a:pt x="79" y="23"/>
                      </a:lnTo>
                      <a:lnTo>
                        <a:pt x="77" y="16"/>
                      </a:lnTo>
                      <a:lnTo>
                        <a:pt x="72" y="10"/>
                      </a:lnTo>
                      <a:lnTo>
                        <a:pt x="67" y="7"/>
                      </a:lnTo>
                      <a:lnTo>
                        <a:pt x="63" y="3"/>
                      </a:lnTo>
                      <a:lnTo>
                        <a:pt x="56" y="1"/>
                      </a:lnTo>
                      <a:lnTo>
                        <a:pt x="50" y="0"/>
                      </a:lnTo>
                      <a:lnTo>
                        <a:pt x="43" y="0"/>
                      </a:lnTo>
                      <a:lnTo>
                        <a:pt x="38" y="0"/>
                      </a:lnTo>
                      <a:lnTo>
                        <a:pt x="31" y="2"/>
                      </a:lnTo>
                      <a:lnTo>
                        <a:pt x="25" y="4"/>
                      </a:lnTo>
                      <a:lnTo>
                        <a:pt x="20" y="9"/>
                      </a:lnTo>
                      <a:lnTo>
                        <a:pt x="16" y="14"/>
                      </a:lnTo>
                      <a:lnTo>
                        <a:pt x="12" y="19"/>
                      </a:lnTo>
                      <a:lnTo>
                        <a:pt x="11" y="25"/>
                      </a:lnTo>
                      <a:lnTo>
                        <a:pt x="11" y="33"/>
                      </a:lnTo>
                      <a:lnTo>
                        <a:pt x="19" y="53"/>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7" name=""/>
                <p:cNvSpPr/>
                <p:nvPr/>
              </p:nvSpPr>
              <p:spPr>
                <a:xfrm>
                  <a:off x="3743640" y="2463120"/>
                  <a:ext cx="32040" cy="197280"/>
                </a:xfrm>
                <a:custGeom>
                  <a:avLst/>
                  <a:gdLst/>
                  <a:ahLst/>
                  <a:rect l="l" t="t" r="r" b="b"/>
                  <a:pathLst>
                    <a:path w="160" h="1046">
                      <a:moveTo>
                        <a:pt x="0" y="37"/>
                      </a:moveTo>
                      <a:lnTo>
                        <a:pt x="2" y="40"/>
                      </a:lnTo>
                      <a:lnTo>
                        <a:pt x="8" y="65"/>
                      </a:lnTo>
                      <a:lnTo>
                        <a:pt x="13" y="90"/>
                      </a:lnTo>
                      <a:lnTo>
                        <a:pt x="18" y="116"/>
                      </a:lnTo>
                      <a:lnTo>
                        <a:pt x="20" y="144"/>
                      </a:lnTo>
                      <a:lnTo>
                        <a:pt x="22" y="174"/>
                      </a:lnTo>
                      <a:lnTo>
                        <a:pt x="23" y="204"/>
                      </a:lnTo>
                      <a:lnTo>
                        <a:pt x="23" y="236"/>
                      </a:lnTo>
                      <a:lnTo>
                        <a:pt x="23" y="268"/>
                      </a:lnTo>
                      <a:lnTo>
                        <a:pt x="17" y="405"/>
                      </a:lnTo>
                      <a:lnTo>
                        <a:pt x="7" y="547"/>
                      </a:lnTo>
                      <a:lnTo>
                        <a:pt x="5" y="618"/>
                      </a:lnTo>
                      <a:lnTo>
                        <a:pt x="4" y="687"/>
                      </a:lnTo>
                      <a:lnTo>
                        <a:pt x="5" y="723"/>
                      </a:lnTo>
                      <a:lnTo>
                        <a:pt x="6" y="756"/>
                      </a:lnTo>
                      <a:lnTo>
                        <a:pt x="10" y="789"/>
                      </a:lnTo>
                      <a:lnTo>
                        <a:pt x="13" y="822"/>
                      </a:lnTo>
                      <a:lnTo>
                        <a:pt x="19" y="854"/>
                      </a:lnTo>
                      <a:lnTo>
                        <a:pt x="26" y="885"/>
                      </a:lnTo>
                      <a:lnTo>
                        <a:pt x="34" y="915"/>
                      </a:lnTo>
                      <a:lnTo>
                        <a:pt x="44" y="943"/>
                      </a:lnTo>
                      <a:lnTo>
                        <a:pt x="57" y="971"/>
                      </a:lnTo>
                      <a:lnTo>
                        <a:pt x="70" y="996"/>
                      </a:lnTo>
                      <a:lnTo>
                        <a:pt x="79" y="1010"/>
                      </a:lnTo>
                      <a:lnTo>
                        <a:pt x="88" y="1022"/>
                      </a:lnTo>
                      <a:lnTo>
                        <a:pt x="97" y="1034"/>
                      </a:lnTo>
                      <a:lnTo>
                        <a:pt x="107" y="1046"/>
                      </a:lnTo>
                      <a:lnTo>
                        <a:pt x="160" y="1003"/>
                      </a:lnTo>
                      <a:lnTo>
                        <a:pt x="152" y="995"/>
                      </a:lnTo>
                      <a:lnTo>
                        <a:pt x="145" y="986"/>
                      </a:lnTo>
                      <a:lnTo>
                        <a:pt x="138" y="976"/>
                      </a:lnTo>
                      <a:lnTo>
                        <a:pt x="131" y="966"/>
                      </a:lnTo>
                      <a:lnTo>
                        <a:pt x="120" y="945"/>
                      </a:lnTo>
                      <a:lnTo>
                        <a:pt x="110" y="922"/>
                      </a:lnTo>
                      <a:lnTo>
                        <a:pt x="100" y="896"/>
                      </a:lnTo>
                      <a:lnTo>
                        <a:pt x="93" y="871"/>
                      </a:lnTo>
                      <a:lnTo>
                        <a:pt x="88" y="843"/>
                      </a:lnTo>
                      <a:lnTo>
                        <a:pt x="82" y="814"/>
                      </a:lnTo>
                      <a:lnTo>
                        <a:pt x="79" y="784"/>
                      </a:lnTo>
                      <a:lnTo>
                        <a:pt x="76" y="753"/>
                      </a:lnTo>
                      <a:lnTo>
                        <a:pt x="74" y="721"/>
                      </a:lnTo>
                      <a:lnTo>
                        <a:pt x="74" y="687"/>
                      </a:lnTo>
                      <a:lnTo>
                        <a:pt x="74" y="619"/>
                      </a:lnTo>
                      <a:lnTo>
                        <a:pt x="77" y="550"/>
                      </a:lnTo>
                      <a:lnTo>
                        <a:pt x="87" y="408"/>
                      </a:lnTo>
                      <a:lnTo>
                        <a:pt x="92" y="270"/>
                      </a:lnTo>
                      <a:lnTo>
                        <a:pt x="93" y="236"/>
                      </a:lnTo>
                      <a:lnTo>
                        <a:pt x="93" y="202"/>
                      </a:lnTo>
                      <a:lnTo>
                        <a:pt x="92" y="170"/>
                      </a:lnTo>
                      <a:lnTo>
                        <a:pt x="90" y="139"/>
                      </a:lnTo>
                      <a:lnTo>
                        <a:pt x="87" y="108"/>
                      </a:lnTo>
                      <a:lnTo>
                        <a:pt x="82" y="79"/>
                      </a:lnTo>
                      <a:lnTo>
                        <a:pt x="76" y="51"/>
                      </a:lnTo>
                      <a:lnTo>
                        <a:pt x="68" y="23"/>
                      </a:lnTo>
                      <a:lnTo>
                        <a:pt x="69" y="28"/>
                      </a:lnTo>
                      <a:lnTo>
                        <a:pt x="68" y="23"/>
                      </a:lnTo>
                      <a:lnTo>
                        <a:pt x="66" y="16"/>
                      </a:lnTo>
                      <a:lnTo>
                        <a:pt x="61" y="11"/>
                      </a:lnTo>
                      <a:lnTo>
                        <a:pt x="57" y="6"/>
                      </a:lnTo>
                      <a:lnTo>
                        <a:pt x="51" y="2"/>
                      </a:lnTo>
                      <a:lnTo>
                        <a:pt x="45" y="1"/>
                      </a:lnTo>
                      <a:lnTo>
                        <a:pt x="38" y="0"/>
                      </a:lnTo>
                      <a:lnTo>
                        <a:pt x="31" y="0"/>
                      </a:lnTo>
                      <a:lnTo>
                        <a:pt x="26" y="1"/>
                      </a:lnTo>
                      <a:lnTo>
                        <a:pt x="20" y="4"/>
                      </a:lnTo>
                      <a:lnTo>
                        <a:pt x="14" y="7"/>
                      </a:lnTo>
                      <a:lnTo>
                        <a:pt x="8" y="11"/>
                      </a:lnTo>
                      <a:lnTo>
                        <a:pt x="5" y="15"/>
                      </a:lnTo>
                      <a:lnTo>
                        <a:pt x="2" y="21"/>
                      </a:lnTo>
                      <a:lnTo>
                        <a:pt x="0" y="27"/>
                      </a:lnTo>
                      <a:lnTo>
                        <a:pt x="0" y="33"/>
                      </a:lnTo>
                      <a:lnTo>
                        <a:pt x="2" y="40"/>
                      </a:lnTo>
                      <a:lnTo>
                        <a:pt x="0" y="3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38" name=""/>
                <p:cNvSpPr/>
                <p:nvPr/>
              </p:nvSpPr>
              <p:spPr>
                <a:xfrm>
                  <a:off x="3619800" y="2443680"/>
                  <a:ext cx="137880" cy="25920"/>
                </a:xfrm>
                <a:custGeom>
                  <a:avLst/>
                  <a:gdLst/>
                  <a:ahLst/>
                  <a:rect l="l" t="t" r="r" b="b"/>
                  <a:pathLst>
                    <a:path w="683" h="131">
                      <a:moveTo>
                        <a:pt x="34" y="101"/>
                      </a:moveTo>
                      <a:lnTo>
                        <a:pt x="59" y="92"/>
                      </a:lnTo>
                      <a:lnTo>
                        <a:pt x="62" y="90"/>
                      </a:lnTo>
                      <a:lnTo>
                        <a:pt x="69" y="86"/>
                      </a:lnTo>
                      <a:lnTo>
                        <a:pt x="79" y="83"/>
                      </a:lnTo>
                      <a:lnTo>
                        <a:pt x="92" y="79"/>
                      </a:lnTo>
                      <a:lnTo>
                        <a:pt x="107" y="76"/>
                      </a:lnTo>
                      <a:lnTo>
                        <a:pt x="124" y="73"/>
                      </a:lnTo>
                      <a:lnTo>
                        <a:pt x="144" y="70"/>
                      </a:lnTo>
                      <a:lnTo>
                        <a:pt x="163" y="69"/>
                      </a:lnTo>
                      <a:lnTo>
                        <a:pt x="209" y="65"/>
                      </a:lnTo>
                      <a:lnTo>
                        <a:pt x="258" y="64"/>
                      </a:lnTo>
                      <a:lnTo>
                        <a:pt x="310" y="65"/>
                      </a:lnTo>
                      <a:lnTo>
                        <a:pt x="362" y="68"/>
                      </a:lnTo>
                      <a:lnTo>
                        <a:pt x="413" y="72"/>
                      </a:lnTo>
                      <a:lnTo>
                        <a:pt x="463" y="79"/>
                      </a:lnTo>
                      <a:lnTo>
                        <a:pt x="485" y="83"/>
                      </a:lnTo>
                      <a:lnTo>
                        <a:pt x="508" y="87"/>
                      </a:lnTo>
                      <a:lnTo>
                        <a:pt x="528" y="92"/>
                      </a:lnTo>
                      <a:lnTo>
                        <a:pt x="547" y="96"/>
                      </a:lnTo>
                      <a:lnTo>
                        <a:pt x="564" y="102"/>
                      </a:lnTo>
                      <a:lnTo>
                        <a:pt x="579" y="108"/>
                      </a:lnTo>
                      <a:lnTo>
                        <a:pt x="591" y="114"/>
                      </a:lnTo>
                      <a:lnTo>
                        <a:pt x="602" y="119"/>
                      </a:lnTo>
                      <a:lnTo>
                        <a:pt x="609" y="124"/>
                      </a:lnTo>
                      <a:lnTo>
                        <a:pt x="614" y="129"/>
                      </a:lnTo>
                      <a:lnTo>
                        <a:pt x="614" y="130"/>
                      </a:lnTo>
                      <a:lnTo>
                        <a:pt x="614" y="131"/>
                      </a:lnTo>
                      <a:lnTo>
                        <a:pt x="683" y="122"/>
                      </a:lnTo>
                      <a:lnTo>
                        <a:pt x="681" y="113"/>
                      </a:lnTo>
                      <a:lnTo>
                        <a:pt x="678" y="103"/>
                      </a:lnTo>
                      <a:lnTo>
                        <a:pt x="673" y="95"/>
                      </a:lnTo>
                      <a:lnTo>
                        <a:pt x="667" y="87"/>
                      </a:lnTo>
                      <a:lnTo>
                        <a:pt x="655" y="77"/>
                      </a:lnTo>
                      <a:lnTo>
                        <a:pt x="641" y="67"/>
                      </a:lnTo>
                      <a:lnTo>
                        <a:pt x="625" y="57"/>
                      </a:lnTo>
                      <a:lnTo>
                        <a:pt x="606" y="49"/>
                      </a:lnTo>
                      <a:lnTo>
                        <a:pt x="588" y="42"/>
                      </a:lnTo>
                      <a:lnTo>
                        <a:pt x="567" y="36"/>
                      </a:lnTo>
                      <a:lnTo>
                        <a:pt x="546" y="30"/>
                      </a:lnTo>
                      <a:lnTo>
                        <a:pt x="523" y="25"/>
                      </a:lnTo>
                      <a:lnTo>
                        <a:pt x="498" y="19"/>
                      </a:lnTo>
                      <a:lnTo>
                        <a:pt x="473" y="16"/>
                      </a:lnTo>
                      <a:lnTo>
                        <a:pt x="422" y="9"/>
                      </a:lnTo>
                      <a:lnTo>
                        <a:pt x="368" y="5"/>
                      </a:lnTo>
                      <a:lnTo>
                        <a:pt x="312" y="1"/>
                      </a:lnTo>
                      <a:lnTo>
                        <a:pt x="258" y="0"/>
                      </a:lnTo>
                      <a:lnTo>
                        <a:pt x="207" y="1"/>
                      </a:lnTo>
                      <a:lnTo>
                        <a:pt x="157" y="5"/>
                      </a:lnTo>
                      <a:lnTo>
                        <a:pt x="134" y="7"/>
                      </a:lnTo>
                      <a:lnTo>
                        <a:pt x="113" y="10"/>
                      </a:lnTo>
                      <a:lnTo>
                        <a:pt x="92" y="14"/>
                      </a:lnTo>
                      <a:lnTo>
                        <a:pt x="74" y="17"/>
                      </a:lnTo>
                      <a:lnTo>
                        <a:pt x="56" y="23"/>
                      </a:lnTo>
                      <a:lnTo>
                        <a:pt x="40" y="29"/>
                      </a:lnTo>
                      <a:lnTo>
                        <a:pt x="25" y="36"/>
                      </a:lnTo>
                      <a:lnTo>
                        <a:pt x="12" y="45"/>
                      </a:lnTo>
                      <a:lnTo>
                        <a:pt x="34" y="37"/>
                      </a:lnTo>
                      <a:lnTo>
                        <a:pt x="12" y="45"/>
                      </a:lnTo>
                      <a:lnTo>
                        <a:pt x="6" y="51"/>
                      </a:lnTo>
                      <a:lnTo>
                        <a:pt x="2" y="56"/>
                      </a:lnTo>
                      <a:lnTo>
                        <a:pt x="0" y="63"/>
                      </a:lnTo>
                      <a:lnTo>
                        <a:pt x="0" y="69"/>
                      </a:lnTo>
                      <a:lnTo>
                        <a:pt x="0" y="75"/>
                      </a:lnTo>
                      <a:lnTo>
                        <a:pt x="2" y="80"/>
                      </a:lnTo>
                      <a:lnTo>
                        <a:pt x="6" y="86"/>
                      </a:lnTo>
                      <a:lnTo>
                        <a:pt x="9" y="91"/>
                      </a:lnTo>
                      <a:lnTo>
                        <a:pt x="14" y="94"/>
                      </a:lnTo>
                      <a:lnTo>
                        <a:pt x="20" y="98"/>
                      </a:lnTo>
                      <a:lnTo>
                        <a:pt x="25" y="100"/>
                      </a:lnTo>
                      <a:lnTo>
                        <a:pt x="32" y="101"/>
                      </a:lnTo>
                      <a:lnTo>
                        <a:pt x="39" y="101"/>
                      </a:lnTo>
                      <a:lnTo>
                        <a:pt x="45" y="100"/>
                      </a:lnTo>
                      <a:lnTo>
                        <a:pt x="52" y="96"/>
                      </a:lnTo>
                      <a:lnTo>
                        <a:pt x="59" y="92"/>
                      </a:lnTo>
                      <a:lnTo>
                        <a:pt x="34" y="101"/>
                      </a:lnTo>
                      <a:close/>
                    </a:path>
                  </a:pathLst>
                </a:custGeom>
                <a:solidFill>
                  <a:srgbClr val="000000"/>
                </a:solidFill>
                <a:ln w="0">
                  <a:noFill/>
                </a:ln>
              </p:spPr>
              <p:style>
                <a:lnRef idx="0"/>
                <a:fillRef idx="0"/>
                <a:effectRef idx="0"/>
                <a:fontRef idx="minor"/>
              </p:style>
              <p:txBody>
                <a:bodyPr wrap="none" lIns="93240" rIns="93240" tIns="-20520" bIns="-20520" anchor="t">
                  <a:spAutoFit/>
                </a:bodyPr>
                <a:p>
                  <a:endParaRPr b="0" lang="en-US" sz="2400" spc="-1" strike="noStrike">
                    <a:solidFill>
                      <a:srgbClr val="ffffff"/>
                    </a:solidFill>
                    <a:latin typeface="Times New Roman"/>
                  </a:endParaRPr>
                </a:p>
              </p:txBody>
            </p:sp>
            <p:sp>
              <p:nvSpPr>
                <p:cNvPr id="539" name=""/>
                <p:cNvSpPr/>
                <p:nvPr/>
              </p:nvSpPr>
              <p:spPr>
                <a:xfrm>
                  <a:off x="3406320" y="2450160"/>
                  <a:ext cx="220320" cy="82080"/>
                </a:xfrm>
                <a:custGeom>
                  <a:avLst/>
                  <a:gdLst/>
                  <a:ahLst/>
                  <a:rect l="l" t="t" r="r" b="b"/>
                  <a:pathLst>
                    <a:path w="1082" h="432">
                      <a:moveTo>
                        <a:pt x="57" y="424"/>
                      </a:moveTo>
                      <a:lnTo>
                        <a:pt x="58" y="424"/>
                      </a:lnTo>
                      <a:lnTo>
                        <a:pt x="101" y="388"/>
                      </a:lnTo>
                      <a:lnTo>
                        <a:pt x="147" y="354"/>
                      </a:lnTo>
                      <a:lnTo>
                        <a:pt x="194" y="320"/>
                      </a:lnTo>
                      <a:lnTo>
                        <a:pt x="244" y="288"/>
                      </a:lnTo>
                      <a:lnTo>
                        <a:pt x="269" y="272"/>
                      </a:lnTo>
                      <a:lnTo>
                        <a:pt x="297" y="257"/>
                      </a:lnTo>
                      <a:lnTo>
                        <a:pt x="325" y="242"/>
                      </a:lnTo>
                      <a:lnTo>
                        <a:pt x="352" y="227"/>
                      </a:lnTo>
                      <a:lnTo>
                        <a:pt x="382" y="213"/>
                      </a:lnTo>
                      <a:lnTo>
                        <a:pt x="411" y="200"/>
                      </a:lnTo>
                      <a:lnTo>
                        <a:pt x="442" y="187"/>
                      </a:lnTo>
                      <a:lnTo>
                        <a:pt x="473" y="174"/>
                      </a:lnTo>
                      <a:lnTo>
                        <a:pt x="505" y="162"/>
                      </a:lnTo>
                      <a:lnTo>
                        <a:pt x="537" y="150"/>
                      </a:lnTo>
                      <a:lnTo>
                        <a:pt x="571" y="140"/>
                      </a:lnTo>
                      <a:lnTo>
                        <a:pt x="606" y="130"/>
                      </a:lnTo>
                      <a:lnTo>
                        <a:pt x="640" y="119"/>
                      </a:lnTo>
                      <a:lnTo>
                        <a:pt x="676" y="110"/>
                      </a:lnTo>
                      <a:lnTo>
                        <a:pt x="713" y="102"/>
                      </a:lnTo>
                      <a:lnTo>
                        <a:pt x="751" y="94"/>
                      </a:lnTo>
                      <a:lnTo>
                        <a:pt x="790" y="87"/>
                      </a:lnTo>
                      <a:lnTo>
                        <a:pt x="829" y="81"/>
                      </a:lnTo>
                      <a:lnTo>
                        <a:pt x="869" y="77"/>
                      </a:lnTo>
                      <a:lnTo>
                        <a:pt x="910" y="72"/>
                      </a:lnTo>
                      <a:lnTo>
                        <a:pt x="952" y="69"/>
                      </a:lnTo>
                      <a:lnTo>
                        <a:pt x="994" y="66"/>
                      </a:lnTo>
                      <a:lnTo>
                        <a:pt x="1039" y="64"/>
                      </a:lnTo>
                      <a:lnTo>
                        <a:pt x="1082" y="64"/>
                      </a:lnTo>
                      <a:lnTo>
                        <a:pt x="1082" y="0"/>
                      </a:lnTo>
                      <a:lnTo>
                        <a:pt x="1037" y="1"/>
                      </a:lnTo>
                      <a:lnTo>
                        <a:pt x="991" y="2"/>
                      </a:lnTo>
                      <a:lnTo>
                        <a:pt x="947" y="4"/>
                      </a:lnTo>
                      <a:lnTo>
                        <a:pt x="902" y="9"/>
                      </a:lnTo>
                      <a:lnTo>
                        <a:pt x="860" y="14"/>
                      </a:lnTo>
                      <a:lnTo>
                        <a:pt x="818" y="18"/>
                      </a:lnTo>
                      <a:lnTo>
                        <a:pt x="777" y="25"/>
                      </a:lnTo>
                      <a:lnTo>
                        <a:pt x="737" y="32"/>
                      </a:lnTo>
                      <a:lnTo>
                        <a:pt x="698" y="40"/>
                      </a:lnTo>
                      <a:lnTo>
                        <a:pt x="659" y="48"/>
                      </a:lnTo>
                      <a:lnTo>
                        <a:pt x="622" y="58"/>
                      </a:lnTo>
                      <a:lnTo>
                        <a:pt x="585" y="68"/>
                      </a:lnTo>
                      <a:lnTo>
                        <a:pt x="548" y="79"/>
                      </a:lnTo>
                      <a:lnTo>
                        <a:pt x="514" y="90"/>
                      </a:lnTo>
                      <a:lnTo>
                        <a:pt x="480" y="102"/>
                      </a:lnTo>
                      <a:lnTo>
                        <a:pt x="446" y="116"/>
                      </a:lnTo>
                      <a:lnTo>
                        <a:pt x="413" y="128"/>
                      </a:lnTo>
                      <a:lnTo>
                        <a:pt x="381" y="142"/>
                      </a:lnTo>
                      <a:lnTo>
                        <a:pt x="350" y="157"/>
                      </a:lnTo>
                      <a:lnTo>
                        <a:pt x="320" y="172"/>
                      </a:lnTo>
                      <a:lnTo>
                        <a:pt x="290" y="187"/>
                      </a:lnTo>
                      <a:lnTo>
                        <a:pt x="261" y="203"/>
                      </a:lnTo>
                      <a:lnTo>
                        <a:pt x="233" y="219"/>
                      </a:lnTo>
                      <a:lnTo>
                        <a:pt x="205" y="235"/>
                      </a:lnTo>
                      <a:lnTo>
                        <a:pt x="152" y="269"/>
                      </a:lnTo>
                      <a:lnTo>
                        <a:pt x="103" y="304"/>
                      </a:lnTo>
                      <a:lnTo>
                        <a:pt x="56" y="340"/>
                      </a:lnTo>
                      <a:lnTo>
                        <a:pt x="11" y="377"/>
                      </a:lnTo>
                      <a:lnTo>
                        <a:pt x="12" y="375"/>
                      </a:lnTo>
                      <a:lnTo>
                        <a:pt x="11" y="377"/>
                      </a:lnTo>
                      <a:lnTo>
                        <a:pt x="6" y="381"/>
                      </a:lnTo>
                      <a:lnTo>
                        <a:pt x="2" y="388"/>
                      </a:lnTo>
                      <a:lnTo>
                        <a:pt x="0" y="394"/>
                      </a:lnTo>
                      <a:lnTo>
                        <a:pt x="0" y="400"/>
                      </a:lnTo>
                      <a:lnTo>
                        <a:pt x="1" y="405"/>
                      </a:lnTo>
                      <a:lnTo>
                        <a:pt x="2" y="411"/>
                      </a:lnTo>
                      <a:lnTo>
                        <a:pt x="5" y="417"/>
                      </a:lnTo>
                      <a:lnTo>
                        <a:pt x="9" y="421"/>
                      </a:lnTo>
                      <a:lnTo>
                        <a:pt x="14" y="425"/>
                      </a:lnTo>
                      <a:lnTo>
                        <a:pt x="19" y="428"/>
                      </a:lnTo>
                      <a:lnTo>
                        <a:pt x="26" y="431"/>
                      </a:lnTo>
                      <a:lnTo>
                        <a:pt x="32" y="432"/>
                      </a:lnTo>
                      <a:lnTo>
                        <a:pt x="39" y="432"/>
                      </a:lnTo>
                      <a:lnTo>
                        <a:pt x="46" y="431"/>
                      </a:lnTo>
                      <a:lnTo>
                        <a:pt x="52" y="428"/>
                      </a:lnTo>
                      <a:lnTo>
                        <a:pt x="58" y="424"/>
                      </a:lnTo>
                      <a:lnTo>
                        <a:pt x="57" y="424"/>
                      </a:lnTo>
                      <a:close/>
                    </a:path>
                  </a:pathLst>
                </a:custGeom>
                <a:solidFill>
                  <a:srgbClr val="000000"/>
                </a:solidFill>
                <a:ln w="0">
                  <a:noFill/>
                </a:ln>
              </p:spPr>
              <p:style>
                <a:lnRef idx="0"/>
                <a:fillRef idx="0"/>
                <a:effectRef idx="0"/>
                <a:fontRef idx="minor"/>
              </p:style>
              <p:txBody>
                <a:bodyPr wrap="none" lIns="93240" rIns="93240" tIns="35640" bIns="35640" anchor="t">
                  <a:spAutoFit/>
                </a:bodyPr>
                <a:p>
                  <a:endParaRPr b="0" lang="en-US" sz="2400" spc="-1" strike="noStrike">
                    <a:solidFill>
                      <a:srgbClr val="ffffff"/>
                    </a:solidFill>
                    <a:latin typeface="Times New Roman"/>
                  </a:endParaRPr>
                </a:p>
              </p:txBody>
            </p:sp>
            <p:sp>
              <p:nvSpPr>
                <p:cNvPr id="540" name=""/>
                <p:cNvSpPr/>
                <p:nvPr/>
              </p:nvSpPr>
              <p:spPr>
                <a:xfrm>
                  <a:off x="3353400" y="2521800"/>
                  <a:ext cx="66600" cy="134640"/>
                </a:xfrm>
                <a:custGeom>
                  <a:avLst/>
                  <a:gdLst/>
                  <a:ahLst/>
                  <a:rect l="l" t="t" r="r" b="b"/>
                  <a:pathLst>
                    <a:path w="323" h="706">
                      <a:moveTo>
                        <a:pt x="58" y="699"/>
                      </a:moveTo>
                      <a:lnTo>
                        <a:pt x="66" y="690"/>
                      </a:lnTo>
                      <a:lnTo>
                        <a:pt x="94" y="641"/>
                      </a:lnTo>
                      <a:lnTo>
                        <a:pt x="120" y="597"/>
                      </a:lnTo>
                      <a:lnTo>
                        <a:pt x="142" y="554"/>
                      </a:lnTo>
                      <a:lnTo>
                        <a:pt x="161" y="515"/>
                      </a:lnTo>
                      <a:lnTo>
                        <a:pt x="178" y="478"/>
                      </a:lnTo>
                      <a:lnTo>
                        <a:pt x="193" y="444"/>
                      </a:lnTo>
                      <a:lnTo>
                        <a:pt x="207" y="411"/>
                      </a:lnTo>
                      <a:lnTo>
                        <a:pt x="217" y="381"/>
                      </a:lnTo>
                      <a:lnTo>
                        <a:pt x="227" y="353"/>
                      </a:lnTo>
                      <a:lnTo>
                        <a:pt x="235" y="327"/>
                      </a:lnTo>
                      <a:lnTo>
                        <a:pt x="240" y="303"/>
                      </a:lnTo>
                      <a:lnTo>
                        <a:pt x="246" y="280"/>
                      </a:lnTo>
                      <a:lnTo>
                        <a:pt x="252" y="241"/>
                      </a:lnTo>
                      <a:lnTo>
                        <a:pt x="256" y="206"/>
                      </a:lnTo>
                      <a:lnTo>
                        <a:pt x="258" y="177"/>
                      </a:lnTo>
                      <a:lnTo>
                        <a:pt x="259" y="153"/>
                      </a:lnTo>
                      <a:lnTo>
                        <a:pt x="260" y="143"/>
                      </a:lnTo>
                      <a:lnTo>
                        <a:pt x="261" y="134"/>
                      </a:lnTo>
                      <a:lnTo>
                        <a:pt x="262" y="126"/>
                      </a:lnTo>
                      <a:lnTo>
                        <a:pt x="264" y="118"/>
                      </a:lnTo>
                      <a:lnTo>
                        <a:pt x="268" y="111"/>
                      </a:lnTo>
                      <a:lnTo>
                        <a:pt x="271" y="104"/>
                      </a:lnTo>
                      <a:lnTo>
                        <a:pt x="276" y="96"/>
                      </a:lnTo>
                      <a:lnTo>
                        <a:pt x="282" y="89"/>
                      </a:lnTo>
                      <a:lnTo>
                        <a:pt x="289" y="80"/>
                      </a:lnTo>
                      <a:lnTo>
                        <a:pt x="298" y="70"/>
                      </a:lnTo>
                      <a:lnTo>
                        <a:pt x="309" y="60"/>
                      </a:lnTo>
                      <a:lnTo>
                        <a:pt x="323" y="49"/>
                      </a:lnTo>
                      <a:lnTo>
                        <a:pt x="278" y="0"/>
                      </a:lnTo>
                      <a:lnTo>
                        <a:pt x="262" y="13"/>
                      </a:lnTo>
                      <a:lnTo>
                        <a:pt x="248" y="26"/>
                      </a:lnTo>
                      <a:lnTo>
                        <a:pt x="236" y="38"/>
                      </a:lnTo>
                      <a:lnTo>
                        <a:pt x="225" y="50"/>
                      </a:lnTo>
                      <a:lnTo>
                        <a:pt x="216" y="62"/>
                      </a:lnTo>
                      <a:lnTo>
                        <a:pt x="209" y="75"/>
                      </a:lnTo>
                      <a:lnTo>
                        <a:pt x="202" y="88"/>
                      </a:lnTo>
                      <a:lnTo>
                        <a:pt x="198" y="99"/>
                      </a:lnTo>
                      <a:lnTo>
                        <a:pt x="194" y="112"/>
                      </a:lnTo>
                      <a:lnTo>
                        <a:pt x="192" y="124"/>
                      </a:lnTo>
                      <a:lnTo>
                        <a:pt x="191" y="137"/>
                      </a:lnTo>
                      <a:lnTo>
                        <a:pt x="190" y="149"/>
                      </a:lnTo>
                      <a:lnTo>
                        <a:pt x="189" y="174"/>
                      </a:lnTo>
                      <a:lnTo>
                        <a:pt x="186" y="201"/>
                      </a:lnTo>
                      <a:lnTo>
                        <a:pt x="183" y="232"/>
                      </a:lnTo>
                      <a:lnTo>
                        <a:pt x="177" y="269"/>
                      </a:lnTo>
                      <a:lnTo>
                        <a:pt x="173" y="289"/>
                      </a:lnTo>
                      <a:lnTo>
                        <a:pt x="167" y="311"/>
                      </a:lnTo>
                      <a:lnTo>
                        <a:pt x="160" y="336"/>
                      </a:lnTo>
                      <a:lnTo>
                        <a:pt x="152" y="361"/>
                      </a:lnTo>
                      <a:lnTo>
                        <a:pt x="142" y="390"/>
                      </a:lnTo>
                      <a:lnTo>
                        <a:pt x="129" y="420"/>
                      </a:lnTo>
                      <a:lnTo>
                        <a:pt x="114" y="453"/>
                      </a:lnTo>
                      <a:lnTo>
                        <a:pt x="98" y="489"/>
                      </a:lnTo>
                      <a:lnTo>
                        <a:pt x="78" y="527"/>
                      </a:lnTo>
                      <a:lnTo>
                        <a:pt x="57" y="568"/>
                      </a:lnTo>
                      <a:lnTo>
                        <a:pt x="32" y="612"/>
                      </a:lnTo>
                      <a:lnTo>
                        <a:pt x="5" y="659"/>
                      </a:lnTo>
                      <a:lnTo>
                        <a:pt x="14" y="650"/>
                      </a:lnTo>
                      <a:lnTo>
                        <a:pt x="5" y="659"/>
                      </a:lnTo>
                      <a:lnTo>
                        <a:pt x="3" y="666"/>
                      </a:lnTo>
                      <a:lnTo>
                        <a:pt x="0" y="672"/>
                      </a:lnTo>
                      <a:lnTo>
                        <a:pt x="0" y="678"/>
                      </a:lnTo>
                      <a:lnTo>
                        <a:pt x="3" y="684"/>
                      </a:lnTo>
                      <a:lnTo>
                        <a:pt x="5" y="690"/>
                      </a:lnTo>
                      <a:lnTo>
                        <a:pt x="9" y="694"/>
                      </a:lnTo>
                      <a:lnTo>
                        <a:pt x="14" y="699"/>
                      </a:lnTo>
                      <a:lnTo>
                        <a:pt x="19" y="702"/>
                      </a:lnTo>
                      <a:lnTo>
                        <a:pt x="26" y="705"/>
                      </a:lnTo>
                      <a:lnTo>
                        <a:pt x="31" y="706"/>
                      </a:lnTo>
                      <a:lnTo>
                        <a:pt x="38" y="706"/>
                      </a:lnTo>
                      <a:lnTo>
                        <a:pt x="44" y="706"/>
                      </a:lnTo>
                      <a:lnTo>
                        <a:pt x="51" y="704"/>
                      </a:lnTo>
                      <a:lnTo>
                        <a:pt x="57" y="700"/>
                      </a:lnTo>
                      <a:lnTo>
                        <a:pt x="61" y="695"/>
                      </a:lnTo>
                      <a:lnTo>
                        <a:pt x="66" y="690"/>
                      </a:lnTo>
                      <a:lnTo>
                        <a:pt x="58" y="69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1" name=""/>
                <p:cNvSpPr/>
                <p:nvPr/>
              </p:nvSpPr>
              <p:spPr>
                <a:xfrm>
                  <a:off x="3272760" y="2644920"/>
                  <a:ext cx="93240" cy="190800"/>
                </a:xfrm>
                <a:custGeom>
                  <a:avLst/>
                  <a:gdLst/>
                  <a:ahLst/>
                  <a:rect l="l" t="t" r="r" b="b"/>
                  <a:pathLst>
                    <a:path w="463" h="1008">
                      <a:moveTo>
                        <a:pt x="69" y="982"/>
                      </a:moveTo>
                      <a:lnTo>
                        <a:pt x="69" y="984"/>
                      </a:lnTo>
                      <a:lnTo>
                        <a:pt x="84" y="922"/>
                      </a:lnTo>
                      <a:lnTo>
                        <a:pt x="98" y="859"/>
                      </a:lnTo>
                      <a:lnTo>
                        <a:pt x="110" y="796"/>
                      </a:lnTo>
                      <a:lnTo>
                        <a:pt x="123" y="733"/>
                      </a:lnTo>
                      <a:lnTo>
                        <a:pt x="135" y="668"/>
                      </a:lnTo>
                      <a:lnTo>
                        <a:pt x="149" y="605"/>
                      </a:lnTo>
                      <a:lnTo>
                        <a:pt x="164" y="543"/>
                      </a:lnTo>
                      <a:lnTo>
                        <a:pt x="183" y="481"/>
                      </a:lnTo>
                      <a:lnTo>
                        <a:pt x="192" y="450"/>
                      </a:lnTo>
                      <a:lnTo>
                        <a:pt x="202" y="420"/>
                      </a:lnTo>
                      <a:lnTo>
                        <a:pt x="214" y="390"/>
                      </a:lnTo>
                      <a:lnTo>
                        <a:pt x="225" y="361"/>
                      </a:lnTo>
                      <a:lnTo>
                        <a:pt x="238" y="332"/>
                      </a:lnTo>
                      <a:lnTo>
                        <a:pt x="253" y="304"/>
                      </a:lnTo>
                      <a:lnTo>
                        <a:pt x="267" y="275"/>
                      </a:lnTo>
                      <a:lnTo>
                        <a:pt x="284" y="248"/>
                      </a:lnTo>
                      <a:lnTo>
                        <a:pt x="301" y="221"/>
                      </a:lnTo>
                      <a:lnTo>
                        <a:pt x="319" y="195"/>
                      </a:lnTo>
                      <a:lnTo>
                        <a:pt x="340" y="168"/>
                      </a:lnTo>
                      <a:lnTo>
                        <a:pt x="362" y="143"/>
                      </a:lnTo>
                      <a:lnTo>
                        <a:pt x="385" y="119"/>
                      </a:lnTo>
                      <a:lnTo>
                        <a:pt x="409" y="95"/>
                      </a:lnTo>
                      <a:lnTo>
                        <a:pt x="435" y="71"/>
                      </a:lnTo>
                      <a:lnTo>
                        <a:pt x="463" y="49"/>
                      </a:lnTo>
                      <a:lnTo>
                        <a:pt x="419" y="0"/>
                      </a:lnTo>
                      <a:lnTo>
                        <a:pt x="388" y="24"/>
                      </a:lnTo>
                      <a:lnTo>
                        <a:pt x="359" y="49"/>
                      </a:lnTo>
                      <a:lnTo>
                        <a:pt x="333" y="75"/>
                      </a:lnTo>
                      <a:lnTo>
                        <a:pt x="308" y="103"/>
                      </a:lnTo>
                      <a:lnTo>
                        <a:pt x="284" y="130"/>
                      </a:lnTo>
                      <a:lnTo>
                        <a:pt x="262" y="158"/>
                      </a:lnTo>
                      <a:lnTo>
                        <a:pt x="242" y="187"/>
                      </a:lnTo>
                      <a:lnTo>
                        <a:pt x="223" y="217"/>
                      </a:lnTo>
                      <a:lnTo>
                        <a:pt x="205" y="247"/>
                      </a:lnTo>
                      <a:lnTo>
                        <a:pt x="189" y="276"/>
                      </a:lnTo>
                      <a:lnTo>
                        <a:pt x="174" y="306"/>
                      </a:lnTo>
                      <a:lnTo>
                        <a:pt x="161" y="337"/>
                      </a:lnTo>
                      <a:lnTo>
                        <a:pt x="148" y="368"/>
                      </a:lnTo>
                      <a:lnTo>
                        <a:pt x="135" y="400"/>
                      </a:lnTo>
                      <a:lnTo>
                        <a:pt x="125" y="431"/>
                      </a:lnTo>
                      <a:lnTo>
                        <a:pt x="115" y="464"/>
                      </a:lnTo>
                      <a:lnTo>
                        <a:pt x="96" y="528"/>
                      </a:lnTo>
                      <a:lnTo>
                        <a:pt x="81" y="592"/>
                      </a:lnTo>
                      <a:lnTo>
                        <a:pt x="67" y="657"/>
                      </a:lnTo>
                      <a:lnTo>
                        <a:pt x="54" y="721"/>
                      </a:lnTo>
                      <a:lnTo>
                        <a:pt x="41" y="784"/>
                      </a:lnTo>
                      <a:lnTo>
                        <a:pt x="29" y="847"/>
                      </a:lnTo>
                      <a:lnTo>
                        <a:pt x="15" y="908"/>
                      </a:lnTo>
                      <a:lnTo>
                        <a:pt x="1" y="969"/>
                      </a:lnTo>
                      <a:lnTo>
                        <a:pt x="0" y="971"/>
                      </a:lnTo>
                      <a:lnTo>
                        <a:pt x="1" y="969"/>
                      </a:lnTo>
                      <a:lnTo>
                        <a:pt x="0" y="976"/>
                      </a:lnTo>
                      <a:lnTo>
                        <a:pt x="0" y="983"/>
                      </a:lnTo>
                      <a:lnTo>
                        <a:pt x="2" y="990"/>
                      </a:lnTo>
                      <a:lnTo>
                        <a:pt x="6" y="994"/>
                      </a:lnTo>
                      <a:lnTo>
                        <a:pt x="9" y="999"/>
                      </a:lnTo>
                      <a:lnTo>
                        <a:pt x="15" y="1002"/>
                      </a:lnTo>
                      <a:lnTo>
                        <a:pt x="21" y="1006"/>
                      </a:lnTo>
                      <a:lnTo>
                        <a:pt x="26" y="1007"/>
                      </a:lnTo>
                      <a:lnTo>
                        <a:pt x="33" y="1008"/>
                      </a:lnTo>
                      <a:lnTo>
                        <a:pt x="39" y="1008"/>
                      </a:lnTo>
                      <a:lnTo>
                        <a:pt x="46" y="1007"/>
                      </a:lnTo>
                      <a:lnTo>
                        <a:pt x="52" y="1005"/>
                      </a:lnTo>
                      <a:lnTo>
                        <a:pt x="57" y="1001"/>
                      </a:lnTo>
                      <a:lnTo>
                        <a:pt x="62" y="997"/>
                      </a:lnTo>
                      <a:lnTo>
                        <a:pt x="65" y="991"/>
                      </a:lnTo>
                      <a:lnTo>
                        <a:pt x="68" y="984"/>
                      </a:lnTo>
                      <a:lnTo>
                        <a:pt x="69" y="98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2" name=""/>
                <p:cNvSpPr/>
                <p:nvPr/>
              </p:nvSpPr>
              <p:spPr>
                <a:xfrm>
                  <a:off x="3133080" y="2829240"/>
                  <a:ext cx="151920" cy="486360"/>
                </a:xfrm>
                <a:custGeom>
                  <a:avLst/>
                  <a:gdLst/>
                  <a:ahLst/>
                  <a:rect l="l" t="t" r="r" b="b"/>
                  <a:pathLst>
                    <a:path w="757" h="2573">
                      <a:moveTo>
                        <a:pt x="61" y="2517"/>
                      </a:moveTo>
                      <a:lnTo>
                        <a:pt x="74" y="2536"/>
                      </a:lnTo>
                      <a:lnTo>
                        <a:pt x="71" y="2520"/>
                      </a:lnTo>
                      <a:lnTo>
                        <a:pt x="70" y="2502"/>
                      </a:lnTo>
                      <a:lnTo>
                        <a:pt x="70" y="2483"/>
                      </a:lnTo>
                      <a:lnTo>
                        <a:pt x="70" y="2463"/>
                      </a:lnTo>
                      <a:lnTo>
                        <a:pt x="71" y="2441"/>
                      </a:lnTo>
                      <a:lnTo>
                        <a:pt x="74" y="2419"/>
                      </a:lnTo>
                      <a:lnTo>
                        <a:pt x="76" y="2396"/>
                      </a:lnTo>
                      <a:lnTo>
                        <a:pt x="79" y="2372"/>
                      </a:lnTo>
                      <a:lnTo>
                        <a:pt x="88" y="2320"/>
                      </a:lnTo>
                      <a:lnTo>
                        <a:pt x="99" y="2265"/>
                      </a:lnTo>
                      <a:lnTo>
                        <a:pt x="113" y="2206"/>
                      </a:lnTo>
                      <a:lnTo>
                        <a:pt x="130" y="2144"/>
                      </a:lnTo>
                      <a:lnTo>
                        <a:pt x="147" y="2079"/>
                      </a:lnTo>
                      <a:lnTo>
                        <a:pt x="168" y="2011"/>
                      </a:lnTo>
                      <a:lnTo>
                        <a:pt x="190" y="1940"/>
                      </a:lnTo>
                      <a:lnTo>
                        <a:pt x="214" y="1866"/>
                      </a:lnTo>
                      <a:lnTo>
                        <a:pt x="265" y="1710"/>
                      </a:lnTo>
                      <a:lnTo>
                        <a:pt x="322" y="1546"/>
                      </a:lnTo>
                      <a:lnTo>
                        <a:pt x="380" y="1372"/>
                      </a:lnTo>
                      <a:lnTo>
                        <a:pt x="440" y="1192"/>
                      </a:lnTo>
                      <a:lnTo>
                        <a:pt x="471" y="1099"/>
                      </a:lnTo>
                      <a:lnTo>
                        <a:pt x="501" y="1005"/>
                      </a:lnTo>
                      <a:lnTo>
                        <a:pt x="531" y="909"/>
                      </a:lnTo>
                      <a:lnTo>
                        <a:pt x="560" y="813"/>
                      </a:lnTo>
                      <a:lnTo>
                        <a:pt x="589" y="715"/>
                      </a:lnTo>
                      <a:lnTo>
                        <a:pt x="617" y="616"/>
                      </a:lnTo>
                      <a:lnTo>
                        <a:pt x="643" y="516"/>
                      </a:lnTo>
                      <a:lnTo>
                        <a:pt x="670" y="416"/>
                      </a:lnTo>
                      <a:lnTo>
                        <a:pt x="694" y="315"/>
                      </a:lnTo>
                      <a:lnTo>
                        <a:pt x="717" y="214"/>
                      </a:lnTo>
                      <a:lnTo>
                        <a:pt x="737" y="112"/>
                      </a:lnTo>
                      <a:lnTo>
                        <a:pt x="757" y="11"/>
                      </a:lnTo>
                      <a:lnTo>
                        <a:pt x="688" y="0"/>
                      </a:lnTo>
                      <a:lnTo>
                        <a:pt x="670" y="102"/>
                      </a:lnTo>
                      <a:lnTo>
                        <a:pt x="648" y="202"/>
                      </a:lnTo>
                      <a:lnTo>
                        <a:pt x="626" y="303"/>
                      </a:lnTo>
                      <a:lnTo>
                        <a:pt x="602" y="401"/>
                      </a:lnTo>
                      <a:lnTo>
                        <a:pt x="577" y="501"/>
                      </a:lnTo>
                      <a:lnTo>
                        <a:pt x="549" y="600"/>
                      </a:lnTo>
                      <a:lnTo>
                        <a:pt x="521" y="699"/>
                      </a:lnTo>
                      <a:lnTo>
                        <a:pt x="493" y="795"/>
                      </a:lnTo>
                      <a:lnTo>
                        <a:pt x="464" y="892"/>
                      </a:lnTo>
                      <a:lnTo>
                        <a:pt x="434" y="987"/>
                      </a:lnTo>
                      <a:lnTo>
                        <a:pt x="404" y="1080"/>
                      </a:lnTo>
                      <a:lnTo>
                        <a:pt x="373" y="1173"/>
                      </a:lnTo>
                      <a:lnTo>
                        <a:pt x="314" y="1354"/>
                      </a:lnTo>
                      <a:lnTo>
                        <a:pt x="255" y="1526"/>
                      </a:lnTo>
                      <a:lnTo>
                        <a:pt x="199" y="1692"/>
                      </a:lnTo>
                      <a:lnTo>
                        <a:pt x="147" y="1848"/>
                      </a:lnTo>
                      <a:lnTo>
                        <a:pt x="123" y="1923"/>
                      </a:lnTo>
                      <a:lnTo>
                        <a:pt x="101" y="1994"/>
                      </a:lnTo>
                      <a:lnTo>
                        <a:pt x="80" y="2063"/>
                      </a:lnTo>
                      <a:lnTo>
                        <a:pt x="62" y="2129"/>
                      </a:lnTo>
                      <a:lnTo>
                        <a:pt x="45" y="2193"/>
                      </a:lnTo>
                      <a:lnTo>
                        <a:pt x="31" y="2252"/>
                      </a:lnTo>
                      <a:lnTo>
                        <a:pt x="20" y="2310"/>
                      </a:lnTo>
                      <a:lnTo>
                        <a:pt x="10" y="2363"/>
                      </a:lnTo>
                      <a:lnTo>
                        <a:pt x="7" y="2389"/>
                      </a:lnTo>
                      <a:lnTo>
                        <a:pt x="5" y="2413"/>
                      </a:lnTo>
                      <a:lnTo>
                        <a:pt x="2" y="2437"/>
                      </a:lnTo>
                      <a:lnTo>
                        <a:pt x="1" y="2460"/>
                      </a:lnTo>
                      <a:lnTo>
                        <a:pt x="0" y="2483"/>
                      </a:lnTo>
                      <a:lnTo>
                        <a:pt x="1" y="2504"/>
                      </a:lnTo>
                      <a:lnTo>
                        <a:pt x="2" y="2525"/>
                      </a:lnTo>
                      <a:lnTo>
                        <a:pt x="5" y="2545"/>
                      </a:lnTo>
                      <a:lnTo>
                        <a:pt x="17" y="2565"/>
                      </a:lnTo>
                      <a:lnTo>
                        <a:pt x="5" y="2545"/>
                      </a:lnTo>
                      <a:lnTo>
                        <a:pt x="7" y="2552"/>
                      </a:lnTo>
                      <a:lnTo>
                        <a:pt x="9" y="2558"/>
                      </a:lnTo>
                      <a:lnTo>
                        <a:pt x="14" y="2564"/>
                      </a:lnTo>
                      <a:lnTo>
                        <a:pt x="18" y="2567"/>
                      </a:lnTo>
                      <a:lnTo>
                        <a:pt x="24" y="2571"/>
                      </a:lnTo>
                      <a:lnTo>
                        <a:pt x="31" y="2572"/>
                      </a:lnTo>
                      <a:lnTo>
                        <a:pt x="37" y="2573"/>
                      </a:lnTo>
                      <a:lnTo>
                        <a:pt x="44" y="2573"/>
                      </a:lnTo>
                      <a:lnTo>
                        <a:pt x="49" y="2571"/>
                      </a:lnTo>
                      <a:lnTo>
                        <a:pt x="56" y="2568"/>
                      </a:lnTo>
                      <a:lnTo>
                        <a:pt x="61" y="2566"/>
                      </a:lnTo>
                      <a:lnTo>
                        <a:pt x="67" y="2561"/>
                      </a:lnTo>
                      <a:lnTo>
                        <a:pt x="70" y="2557"/>
                      </a:lnTo>
                      <a:lnTo>
                        <a:pt x="72" y="2551"/>
                      </a:lnTo>
                      <a:lnTo>
                        <a:pt x="74" y="2544"/>
                      </a:lnTo>
                      <a:lnTo>
                        <a:pt x="74" y="2536"/>
                      </a:lnTo>
                      <a:lnTo>
                        <a:pt x="61" y="2517"/>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3" name=""/>
                <p:cNvSpPr/>
                <p:nvPr/>
              </p:nvSpPr>
              <p:spPr>
                <a:xfrm>
                  <a:off x="3137400" y="3305520"/>
                  <a:ext cx="186480" cy="50760"/>
                </a:xfrm>
                <a:custGeom>
                  <a:avLst/>
                  <a:gdLst/>
                  <a:ahLst/>
                  <a:rect l="l" t="t" r="r" b="b"/>
                  <a:pathLst>
                    <a:path w="928" h="265">
                      <a:moveTo>
                        <a:pt x="863" y="217"/>
                      </a:moveTo>
                      <a:lnTo>
                        <a:pt x="898" y="201"/>
                      </a:lnTo>
                      <a:lnTo>
                        <a:pt x="850" y="196"/>
                      </a:lnTo>
                      <a:lnTo>
                        <a:pt x="802" y="193"/>
                      </a:lnTo>
                      <a:lnTo>
                        <a:pt x="752" y="190"/>
                      </a:lnTo>
                      <a:lnTo>
                        <a:pt x="702" y="190"/>
                      </a:lnTo>
                      <a:lnTo>
                        <a:pt x="653" y="189"/>
                      </a:lnTo>
                      <a:lnTo>
                        <a:pt x="602" y="188"/>
                      </a:lnTo>
                      <a:lnTo>
                        <a:pt x="550" y="186"/>
                      </a:lnTo>
                      <a:lnTo>
                        <a:pt x="498" y="182"/>
                      </a:lnTo>
                      <a:lnTo>
                        <a:pt x="471" y="179"/>
                      </a:lnTo>
                      <a:lnTo>
                        <a:pt x="445" y="175"/>
                      </a:lnTo>
                      <a:lnTo>
                        <a:pt x="418" y="171"/>
                      </a:lnTo>
                      <a:lnTo>
                        <a:pt x="392" y="165"/>
                      </a:lnTo>
                      <a:lnTo>
                        <a:pt x="364" y="159"/>
                      </a:lnTo>
                      <a:lnTo>
                        <a:pt x="337" y="151"/>
                      </a:lnTo>
                      <a:lnTo>
                        <a:pt x="309" y="143"/>
                      </a:lnTo>
                      <a:lnTo>
                        <a:pt x="280" y="133"/>
                      </a:lnTo>
                      <a:lnTo>
                        <a:pt x="253" y="121"/>
                      </a:lnTo>
                      <a:lnTo>
                        <a:pt x="224" y="110"/>
                      </a:lnTo>
                      <a:lnTo>
                        <a:pt x="194" y="95"/>
                      </a:lnTo>
                      <a:lnTo>
                        <a:pt x="166" y="80"/>
                      </a:lnTo>
                      <a:lnTo>
                        <a:pt x="136" y="63"/>
                      </a:lnTo>
                      <a:lnTo>
                        <a:pt x="106" y="43"/>
                      </a:lnTo>
                      <a:lnTo>
                        <a:pt x="75" y="22"/>
                      </a:lnTo>
                      <a:lnTo>
                        <a:pt x="44" y="0"/>
                      </a:lnTo>
                      <a:lnTo>
                        <a:pt x="0" y="48"/>
                      </a:lnTo>
                      <a:lnTo>
                        <a:pt x="32" y="73"/>
                      </a:lnTo>
                      <a:lnTo>
                        <a:pt x="66" y="95"/>
                      </a:lnTo>
                      <a:lnTo>
                        <a:pt x="98" y="116"/>
                      </a:lnTo>
                      <a:lnTo>
                        <a:pt x="130" y="134"/>
                      </a:lnTo>
                      <a:lnTo>
                        <a:pt x="161" y="151"/>
                      </a:lnTo>
                      <a:lnTo>
                        <a:pt x="193" y="166"/>
                      </a:lnTo>
                      <a:lnTo>
                        <a:pt x="224" y="180"/>
                      </a:lnTo>
                      <a:lnTo>
                        <a:pt x="255" y="193"/>
                      </a:lnTo>
                      <a:lnTo>
                        <a:pt x="285" y="203"/>
                      </a:lnTo>
                      <a:lnTo>
                        <a:pt x="316" y="212"/>
                      </a:lnTo>
                      <a:lnTo>
                        <a:pt x="346" y="220"/>
                      </a:lnTo>
                      <a:lnTo>
                        <a:pt x="376" y="227"/>
                      </a:lnTo>
                      <a:lnTo>
                        <a:pt x="404" y="233"/>
                      </a:lnTo>
                      <a:lnTo>
                        <a:pt x="433" y="238"/>
                      </a:lnTo>
                      <a:lnTo>
                        <a:pt x="462" y="242"/>
                      </a:lnTo>
                      <a:lnTo>
                        <a:pt x="491" y="245"/>
                      </a:lnTo>
                      <a:lnTo>
                        <a:pt x="546" y="250"/>
                      </a:lnTo>
                      <a:lnTo>
                        <a:pt x="599" y="252"/>
                      </a:lnTo>
                      <a:lnTo>
                        <a:pt x="651" y="253"/>
                      </a:lnTo>
                      <a:lnTo>
                        <a:pt x="702" y="253"/>
                      </a:lnTo>
                      <a:lnTo>
                        <a:pt x="750" y="255"/>
                      </a:lnTo>
                      <a:lnTo>
                        <a:pt x="798" y="256"/>
                      </a:lnTo>
                      <a:lnTo>
                        <a:pt x="843" y="259"/>
                      </a:lnTo>
                      <a:lnTo>
                        <a:pt x="888" y="264"/>
                      </a:lnTo>
                      <a:lnTo>
                        <a:pt x="924" y="249"/>
                      </a:lnTo>
                      <a:lnTo>
                        <a:pt x="888" y="264"/>
                      </a:lnTo>
                      <a:lnTo>
                        <a:pt x="896" y="265"/>
                      </a:lnTo>
                      <a:lnTo>
                        <a:pt x="903" y="264"/>
                      </a:lnTo>
                      <a:lnTo>
                        <a:pt x="910" y="261"/>
                      </a:lnTo>
                      <a:lnTo>
                        <a:pt x="916" y="258"/>
                      </a:lnTo>
                      <a:lnTo>
                        <a:pt x="920" y="253"/>
                      </a:lnTo>
                      <a:lnTo>
                        <a:pt x="924" y="249"/>
                      </a:lnTo>
                      <a:lnTo>
                        <a:pt x="926" y="243"/>
                      </a:lnTo>
                      <a:lnTo>
                        <a:pt x="927" y="237"/>
                      </a:lnTo>
                      <a:lnTo>
                        <a:pt x="928" y="232"/>
                      </a:lnTo>
                      <a:lnTo>
                        <a:pt x="927" y="226"/>
                      </a:lnTo>
                      <a:lnTo>
                        <a:pt x="926" y="220"/>
                      </a:lnTo>
                      <a:lnTo>
                        <a:pt x="922" y="214"/>
                      </a:lnTo>
                      <a:lnTo>
                        <a:pt x="919" y="210"/>
                      </a:lnTo>
                      <a:lnTo>
                        <a:pt x="913" y="206"/>
                      </a:lnTo>
                      <a:lnTo>
                        <a:pt x="906" y="203"/>
                      </a:lnTo>
                      <a:lnTo>
                        <a:pt x="898" y="201"/>
                      </a:lnTo>
                      <a:lnTo>
                        <a:pt x="863" y="217"/>
                      </a:lnTo>
                      <a:close/>
                    </a:path>
                  </a:pathLst>
                </a:custGeom>
                <a:solidFill>
                  <a:srgbClr val="000000"/>
                </a:solidFill>
                <a:ln w="0">
                  <a:noFill/>
                </a:ln>
              </p:spPr>
              <p:style>
                <a:lnRef idx="0"/>
                <a:fillRef idx="0"/>
                <a:effectRef idx="0"/>
                <a:fontRef idx="minor"/>
              </p:style>
              <p:txBody>
                <a:bodyPr wrap="none" lIns="93240" rIns="93240" tIns="4320" bIns="4320" anchor="t">
                  <a:spAutoFit/>
                </a:bodyPr>
                <a:p>
                  <a:endParaRPr b="0" lang="en-US" sz="2400" spc="-1" strike="noStrike">
                    <a:solidFill>
                      <a:srgbClr val="ffffff"/>
                    </a:solidFill>
                    <a:latin typeface="Times New Roman"/>
                  </a:endParaRPr>
                </a:p>
              </p:txBody>
            </p:sp>
            <p:sp>
              <p:nvSpPr>
                <p:cNvPr id="544" name=""/>
                <p:cNvSpPr/>
                <p:nvPr/>
              </p:nvSpPr>
              <p:spPr>
                <a:xfrm>
                  <a:off x="3310200" y="2903760"/>
                  <a:ext cx="143280" cy="449640"/>
                </a:xfrm>
                <a:custGeom>
                  <a:avLst/>
                  <a:gdLst/>
                  <a:ahLst/>
                  <a:rect l="l" t="t" r="r" b="b"/>
                  <a:pathLst>
                    <a:path w="705" h="2369">
                      <a:moveTo>
                        <a:pt x="639" y="16"/>
                      </a:moveTo>
                      <a:lnTo>
                        <a:pt x="635" y="29"/>
                      </a:lnTo>
                      <a:lnTo>
                        <a:pt x="629" y="78"/>
                      </a:lnTo>
                      <a:lnTo>
                        <a:pt x="622" y="132"/>
                      </a:lnTo>
                      <a:lnTo>
                        <a:pt x="614" y="191"/>
                      </a:lnTo>
                      <a:lnTo>
                        <a:pt x="604" y="254"/>
                      </a:lnTo>
                      <a:lnTo>
                        <a:pt x="581" y="390"/>
                      </a:lnTo>
                      <a:lnTo>
                        <a:pt x="553" y="539"/>
                      </a:lnTo>
                      <a:lnTo>
                        <a:pt x="521" y="697"/>
                      </a:lnTo>
                      <a:lnTo>
                        <a:pt x="485" y="863"/>
                      </a:lnTo>
                      <a:lnTo>
                        <a:pt x="466" y="948"/>
                      </a:lnTo>
                      <a:lnTo>
                        <a:pt x="445" y="1033"/>
                      </a:lnTo>
                      <a:lnTo>
                        <a:pt x="425" y="1119"/>
                      </a:lnTo>
                      <a:lnTo>
                        <a:pt x="403" y="1205"/>
                      </a:lnTo>
                      <a:lnTo>
                        <a:pt x="381" y="1290"/>
                      </a:lnTo>
                      <a:lnTo>
                        <a:pt x="358" y="1376"/>
                      </a:lnTo>
                      <a:lnTo>
                        <a:pt x="334" y="1460"/>
                      </a:lnTo>
                      <a:lnTo>
                        <a:pt x="310" y="1544"/>
                      </a:lnTo>
                      <a:lnTo>
                        <a:pt x="286" y="1625"/>
                      </a:lnTo>
                      <a:lnTo>
                        <a:pt x="260" y="1706"/>
                      </a:lnTo>
                      <a:lnTo>
                        <a:pt x="235" y="1784"/>
                      </a:lnTo>
                      <a:lnTo>
                        <a:pt x="210" y="1860"/>
                      </a:lnTo>
                      <a:lnTo>
                        <a:pt x="183" y="1932"/>
                      </a:lnTo>
                      <a:lnTo>
                        <a:pt x="158" y="2002"/>
                      </a:lnTo>
                      <a:lnTo>
                        <a:pt x="132" y="2069"/>
                      </a:lnTo>
                      <a:lnTo>
                        <a:pt x="105" y="2131"/>
                      </a:lnTo>
                      <a:lnTo>
                        <a:pt x="79" y="2190"/>
                      </a:lnTo>
                      <a:lnTo>
                        <a:pt x="53" y="2244"/>
                      </a:lnTo>
                      <a:lnTo>
                        <a:pt x="26" y="2293"/>
                      </a:lnTo>
                      <a:lnTo>
                        <a:pt x="0" y="2337"/>
                      </a:lnTo>
                      <a:lnTo>
                        <a:pt x="61" y="2369"/>
                      </a:lnTo>
                      <a:lnTo>
                        <a:pt x="88" y="2322"/>
                      </a:lnTo>
                      <a:lnTo>
                        <a:pt x="116" y="2270"/>
                      </a:lnTo>
                      <a:lnTo>
                        <a:pt x="142" y="2215"/>
                      </a:lnTo>
                      <a:lnTo>
                        <a:pt x="170" y="2155"/>
                      </a:lnTo>
                      <a:lnTo>
                        <a:pt x="196" y="2091"/>
                      </a:lnTo>
                      <a:lnTo>
                        <a:pt x="224" y="2023"/>
                      </a:lnTo>
                      <a:lnTo>
                        <a:pt x="250" y="1953"/>
                      </a:lnTo>
                      <a:lnTo>
                        <a:pt x="276" y="1879"/>
                      </a:lnTo>
                      <a:lnTo>
                        <a:pt x="302" y="1802"/>
                      </a:lnTo>
                      <a:lnTo>
                        <a:pt x="327" y="1724"/>
                      </a:lnTo>
                      <a:lnTo>
                        <a:pt x="352" y="1643"/>
                      </a:lnTo>
                      <a:lnTo>
                        <a:pt x="378" y="1560"/>
                      </a:lnTo>
                      <a:lnTo>
                        <a:pt x="402" y="1476"/>
                      </a:lnTo>
                      <a:lnTo>
                        <a:pt x="425" y="1391"/>
                      </a:lnTo>
                      <a:lnTo>
                        <a:pt x="449" y="1306"/>
                      </a:lnTo>
                      <a:lnTo>
                        <a:pt x="471" y="1219"/>
                      </a:lnTo>
                      <a:lnTo>
                        <a:pt x="492" y="1133"/>
                      </a:lnTo>
                      <a:lnTo>
                        <a:pt x="513" y="1046"/>
                      </a:lnTo>
                      <a:lnTo>
                        <a:pt x="534" y="960"/>
                      </a:lnTo>
                      <a:lnTo>
                        <a:pt x="553" y="875"/>
                      </a:lnTo>
                      <a:lnTo>
                        <a:pt x="589" y="710"/>
                      </a:lnTo>
                      <a:lnTo>
                        <a:pt x="621" y="550"/>
                      </a:lnTo>
                      <a:lnTo>
                        <a:pt x="650" y="401"/>
                      </a:lnTo>
                      <a:lnTo>
                        <a:pt x="673" y="263"/>
                      </a:lnTo>
                      <a:lnTo>
                        <a:pt x="683" y="200"/>
                      </a:lnTo>
                      <a:lnTo>
                        <a:pt x="691" y="140"/>
                      </a:lnTo>
                      <a:lnTo>
                        <a:pt x="699" y="85"/>
                      </a:lnTo>
                      <a:lnTo>
                        <a:pt x="705" y="34"/>
                      </a:lnTo>
                      <a:lnTo>
                        <a:pt x="700" y="47"/>
                      </a:lnTo>
                      <a:lnTo>
                        <a:pt x="705" y="34"/>
                      </a:lnTo>
                      <a:lnTo>
                        <a:pt x="705" y="26"/>
                      </a:lnTo>
                      <a:lnTo>
                        <a:pt x="703" y="21"/>
                      </a:lnTo>
                      <a:lnTo>
                        <a:pt x="700" y="15"/>
                      </a:lnTo>
                      <a:lnTo>
                        <a:pt x="696" y="9"/>
                      </a:lnTo>
                      <a:lnTo>
                        <a:pt x="691" y="6"/>
                      </a:lnTo>
                      <a:lnTo>
                        <a:pt x="685" y="2"/>
                      </a:lnTo>
                      <a:lnTo>
                        <a:pt x="680" y="1"/>
                      </a:lnTo>
                      <a:lnTo>
                        <a:pt x="673" y="0"/>
                      </a:lnTo>
                      <a:lnTo>
                        <a:pt x="667" y="0"/>
                      </a:lnTo>
                      <a:lnTo>
                        <a:pt x="660" y="0"/>
                      </a:lnTo>
                      <a:lnTo>
                        <a:pt x="654" y="2"/>
                      </a:lnTo>
                      <a:lnTo>
                        <a:pt x="649" y="6"/>
                      </a:lnTo>
                      <a:lnTo>
                        <a:pt x="644" y="9"/>
                      </a:lnTo>
                      <a:lnTo>
                        <a:pt x="639" y="15"/>
                      </a:lnTo>
                      <a:lnTo>
                        <a:pt x="637" y="21"/>
                      </a:lnTo>
                      <a:lnTo>
                        <a:pt x="635" y="29"/>
                      </a:lnTo>
                      <a:lnTo>
                        <a:pt x="639" y="1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5" name=""/>
                <p:cNvSpPr/>
                <p:nvPr/>
              </p:nvSpPr>
              <p:spPr>
                <a:xfrm>
                  <a:off x="3439800" y="2588760"/>
                  <a:ext cx="105840" cy="324360"/>
                </a:xfrm>
                <a:custGeom>
                  <a:avLst/>
                  <a:gdLst/>
                  <a:ahLst/>
                  <a:rect l="l" t="t" r="r" b="b"/>
                  <a:pathLst>
                    <a:path w="525" h="1713">
                      <a:moveTo>
                        <a:pt x="510" y="26"/>
                      </a:moveTo>
                      <a:lnTo>
                        <a:pt x="441" y="34"/>
                      </a:lnTo>
                      <a:lnTo>
                        <a:pt x="447" y="107"/>
                      </a:lnTo>
                      <a:lnTo>
                        <a:pt x="452" y="177"/>
                      </a:lnTo>
                      <a:lnTo>
                        <a:pt x="455" y="244"/>
                      </a:lnTo>
                      <a:lnTo>
                        <a:pt x="456" y="309"/>
                      </a:lnTo>
                      <a:lnTo>
                        <a:pt x="456" y="372"/>
                      </a:lnTo>
                      <a:lnTo>
                        <a:pt x="454" y="432"/>
                      </a:lnTo>
                      <a:lnTo>
                        <a:pt x="452" y="492"/>
                      </a:lnTo>
                      <a:lnTo>
                        <a:pt x="447" y="548"/>
                      </a:lnTo>
                      <a:lnTo>
                        <a:pt x="442" y="603"/>
                      </a:lnTo>
                      <a:lnTo>
                        <a:pt x="436" y="657"/>
                      </a:lnTo>
                      <a:lnTo>
                        <a:pt x="428" y="709"/>
                      </a:lnTo>
                      <a:lnTo>
                        <a:pt x="417" y="759"/>
                      </a:lnTo>
                      <a:lnTo>
                        <a:pt x="407" y="809"/>
                      </a:lnTo>
                      <a:lnTo>
                        <a:pt x="395" y="858"/>
                      </a:lnTo>
                      <a:lnTo>
                        <a:pt x="383" y="905"/>
                      </a:lnTo>
                      <a:lnTo>
                        <a:pt x="368" y="951"/>
                      </a:lnTo>
                      <a:lnTo>
                        <a:pt x="353" y="997"/>
                      </a:lnTo>
                      <a:lnTo>
                        <a:pt x="337" y="1043"/>
                      </a:lnTo>
                      <a:lnTo>
                        <a:pt x="320" y="1088"/>
                      </a:lnTo>
                      <a:lnTo>
                        <a:pt x="300" y="1132"/>
                      </a:lnTo>
                      <a:lnTo>
                        <a:pt x="281" y="1176"/>
                      </a:lnTo>
                      <a:lnTo>
                        <a:pt x="260" y="1220"/>
                      </a:lnTo>
                      <a:lnTo>
                        <a:pt x="238" y="1265"/>
                      </a:lnTo>
                      <a:lnTo>
                        <a:pt x="216" y="1309"/>
                      </a:lnTo>
                      <a:lnTo>
                        <a:pt x="167" y="1398"/>
                      </a:lnTo>
                      <a:lnTo>
                        <a:pt x="115" y="1490"/>
                      </a:lnTo>
                      <a:lnTo>
                        <a:pt x="59" y="1584"/>
                      </a:lnTo>
                      <a:lnTo>
                        <a:pt x="0" y="1682"/>
                      </a:lnTo>
                      <a:lnTo>
                        <a:pt x="61" y="1713"/>
                      </a:lnTo>
                      <a:lnTo>
                        <a:pt x="121" y="1614"/>
                      </a:lnTo>
                      <a:lnTo>
                        <a:pt x="176" y="1520"/>
                      </a:lnTo>
                      <a:lnTo>
                        <a:pt x="229" y="1427"/>
                      </a:lnTo>
                      <a:lnTo>
                        <a:pt x="278" y="1337"/>
                      </a:lnTo>
                      <a:lnTo>
                        <a:pt x="301" y="1291"/>
                      </a:lnTo>
                      <a:lnTo>
                        <a:pt x="324" y="1246"/>
                      </a:lnTo>
                      <a:lnTo>
                        <a:pt x="345" y="1202"/>
                      </a:lnTo>
                      <a:lnTo>
                        <a:pt x="366" y="1156"/>
                      </a:lnTo>
                      <a:lnTo>
                        <a:pt x="384" y="1110"/>
                      </a:lnTo>
                      <a:lnTo>
                        <a:pt x="402" y="1064"/>
                      </a:lnTo>
                      <a:lnTo>
                        <a:pt x="420" y="1017"/>
                      </a:lnTo>
                      <a:lnTo>
                        <a:pt x="434" y="970"/>
                      </a:lnTo>
                      <a:lnTo>
                        <a:pt x="449" y="921"/>
                      </a:lnTo>
                      <a:lnTo>
                        <a:pt x="463" y="872"/>
                      </a:lnTo>
                      <a:lnTo>
                        <a:pt x="475" y="823"/>
                      </a:lnTo>
                      <a:lnTo>
                        <a:pt x="486" y="771"/>
                      </a:lnTo>
                      <a:lnTo>
                        <a:pt x="495" y="719"/>
                      </a:lnTo>
                      <a:lnTo>
                        <a:pt x="504" y="665"/>
                      </a:lnTo>
                      <a:lnTo>
                        <a:pt x="511" y="610"/>
                      </a:lnTo>
                      <a:lnTo>
                        <a:pt x="517" y="553"/>
                      </a:lnTo>
                      <a:lnTo>
                        <a:pt x="521" y="495"/>
                      </a:lnTo>
                      <a:lnTo>
                        <a:pt x="524" y="434"/>
                      </a:lnTo>
                      <a:lnTo>
                        <a:pt x="525" y="372"/>
                      </a:lnTo>
                      <a:lnTo>
                        <a:pt x="525" y="308"/>
                      </a:lnTo>
                      <a:lnTo>
                        <a:pt x="524" y="242"/>
                      </a:lnTo>
                      <a:lnTo>
                        <a:pt x="521" y="173"/>
                      </a:lnTo>
                      <a:lnTo>
                        <a:pt x="517" y="103"/>
                      </a:lnTo>
                      <a:lnTo>
                        <a:pt x="510" y="30"/>
                      </a:lnTo>
                      <a:lnTo>
                        <a:pt x="442" y="38"/>
                      </a:lnTo>
                      <a:lnTo>
                        <a:pt x="510" y="30"/>
                      </a:lnTo>
                      <a:lnTo>
                        <a:pt x="509" y="22"/>
                      </a:lnTo>
                      <a:lnTo>
                        <a:pt x="507" y="16"/>
                      </a:lnTo>
                      <a:lnTo>
                        <a:pt x="502" y="10"/>
                      </a:lnTo>
                      <a:lnTo>
                        <a:pt x="498" y="7"/>
                      </a:lnTo>
                      <a:lnTo>
                        <a:pt x="492" y="3"/>
                      </a:lnTo>
                      <a:lnTo>
                        <a:pt x="486" y="1"/>
                      </a:lnTo>
                      <a:lnTo>
                        <a:pt x="479" y="0"/>
                      </a:lnTo>
                      <a:lnTo>
                        <a:pt x="473" y="0"/>
                      </a:lnTo>
                      <a:lnTo>
                        <a:pt x="467" y="1"/>
                      </a:lnTo>
                      <a:lnTo>
                        <a:pt x="461" y="3"/>
                      </a:lnTo>
                      <a:lnTo>
                        <a:pt x="455" y="6"/>
                      </a:lnTo>
                      <a:lnTo>
                        <a:pt x="451" y="10"/>
                      </a:lnTo>
                      <a:lnTo>
                        <a:pt x="446" y="15"/>
                      </a:lnTo>
                      <a:lnTo>
                        <a:pt x="444" y="21"/>
                      </a:lnTo>
                      <a:lnTo>
                        <a:pt x="441" y="28"/>
                      </a:lnTo>
                      <a:lnTo>
                        <a:pt x="441" y="34"/>
                      </a:lnTo>
                      <a:lnTo>
                        <a:pt x="510" y="26"/>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6" name=""/>
                <p:cNvSpPr/>
                <p:nvPr/>
              </p:nvSpPr>
              <p:spPr>
                <a:xfrm>
                  <a:off x="3770280" y="2656440"/>
                  <a:ext cx="204840" cy="750960"/>
                </a:xfrm>
                <a:custGeom>
                  <a:avLst/>
                  <a:gdLst/>
                  <a:ahLst/>
                  <a:rect l="l" t="t" r="r" b="b"/>
                  <a:pathLst>
                    <a:path w="1018" h="3968">
                      <a:moveTo>
                        <a:pt x="634" y="3683"/>
                      </a:moveTo>
                      <a:lnTo>
                        <a:pt x="635" y="3478"/>
                      </a:lnTo>
                      <a:lnTo>
                        <a:pt x="637" y="3282"/>
                      </a:lnTo>
                      <a:lnTo>
                        <a:pt x="640" y="3095"/>
                      </a:lnTo>
                      <a:lnTo>
                        <a:pt x="646" y="2918"/>
                      </a:lnTo>
                      <a:lnTo>
                        <a:pt x="652" y="2749"/>
                      </a:lnTo>
                      <a:lnTo>
                        <a:pt x="660" y="2589"/>
                      </a:lnTo>
                      <a:lnTo>
                        <a:pt x="668" y="2436"/>
                      </a:lnTo>
                      <a:lnTo>
                        <a:pt x="678" y="2290"/>
                      </a:lnTo>
                      <a:lnTo>
                        <a:pt x="689" y="2151"/>
                      </a:lnTo>
                      <a:lnTo>
                        <a:pt x="700" y="2020"/>
                      </a:lnTo>
                      <a:lnTo>
                        <a:pt x="713" y="1895"/>
                      </a:lnTo>
                      <a:lnTo>
                        <a:pt x="725" y="1775"/>
                      </a:lnTo>
                      <a:lnTo>
                        <a:pt x="739" y="1661"/>
                      </a:lnTo>
                      <a:lnTo>
                        <a:pt x="753" y="1553"/>
                      </a:lnTo>
                      <a:lnTo>
                        <a:pt x="768" y="1450"/>
                      </a:lnTo>
                      <a:lnTo>
                        <a:pt x="784" y="1350"/>
                      </a:lnTo>
                      <a:lnTo>
                        <a:pt x="799" y="1256"/>
                      </a:lnTo>
                      <a:lnTo>
                        <a:pt x="815" y="1165"/>
                      </a:lnTo>
                      <a:lnTo>
                        <a:pt x="831" y="1078"/>
                      </a:lnTo>
                      <a:lnTo>
                        <a:pt x="847" y="993"/>
                      </a:lnTo>
                      <a:lnTo>
                        <a:pt x="878" y="832"/>
                      </a:lnTo>
                      <a:lnTo>
                        <a:pt x="910" y="679"/>
                      </a:lnTo>
                      <a:lnTo>
                        <a:pt x="940" y="532"/>
                      </a:lnTo>
                      <a:lnTo>
                        <a:pt x="969" y="386"/>
                      </a:lnTo>
                      <a:lnTo>
                        <a:pt x="983" y="313"/>
                      </a:lnTo>
                      <a:lnTo>
                        <a:pt x="995" y="239"/>
                      </a:lnTo>
                      <a:lnTo>
                        <a:pt x="1007" y="164"/>
                      </a:lnTo>
                      <a:lnTo>
                        <a:pt x="1018" y="89"/>
                      </a:lnTo>
                      <a:lnTo>
                        <a:pt x="991" y="101"/>
                      </a:lnTo>
                      <a:lnTo>
                        <a:pt x="963" y="112"/>
                      </a:lnTo>
                      <a:lnTo>
                        <a:pt x="936" y="122"/>
                      </a:lnTo>
                      <a:lnTo>
                        <a:pt x="908" y="131"/>
                      </a:lnTo>
                      <a:lnTo>
                        <a:pt x="879" y="139"/>
                      </a:lnTo>
                      <a:lnTo>
                        <a:pt x="851" y="147"/>
                      </a:lnTo>
                      <a:lnTo>
                        <a:pt x="821" y="154"/>
                      </a:lnTo>
                      <a:lnTo>
                        <a:pt x="792" y="161"/>
                      </a:lnTo>
                      <a:lnTo>
                        <a:pt x="762" y="166"/>
                      </a:lnTo>
                      <a:lnTo>
                        <a:pt x="732" y="170"/>
                      </a:lnTo>
                      <a:lnTo>
                        <a:pt x="701" y="174"/>
                      </a:lnTo>
                      <a:lnTo>
                        <a:pt x="670" y="177"/>
                      </a:lnTo>
                      <a:lnTo>
                        <a:pt x="639" y="178"/>
                      </a:lnTo>
                      <a:lnTo>
                        <a:pt x="608" y="179"/>
                      </a:lnTo>
                      <a:lnTo>
                        <a:pt x="577" y="179"/>
                      </a:lnTo>
                      <a:lnTo>
                        <a:pt x="545" y="177"/>
                      </a:lnTo>
                      <a:lnTo>
                        <a:pt x="513" y="175"/>
                      </a:lnTo>
                      <a:lnTo>
                        <a:pt x="481" y="172"/>
                      </a:lnTo>
                      <a:lnTo>
                        <a:pt x="448" y="168"/>
                      </a:lnTo>
                      <a:lnTo>
                        <a:pt x="414" y="162"/>
                      </a:lnTo>
                      <a:lnTo>
                        <a:pt x="381" y="155"/>
                      </a:lnTo>
                      <a:lnTo>
                        <a:pt x="348" y="147"/>
                      </a:lnTo>
                      <a:lnTo>
                        <a:pt x="314" y="138"/>
                      </a:lnTo>
                      <a:lnTo>
                        <a:pt x="280" y="128"/>
                      </a:lnTo>
                      <a:lnTo>
                        <a:pt x="245" y="116"/>
                      </a:lnTo>
                      <a:lnTo>
                        <a:pt x="211" y="104"/>
                      </a:lnTo>
                      <a:lnTo>
                        <a:pt x="177" y="90"/>
                      </a:lnTo>
                      <a:lnTo>
                        <a:pt x="142" y="75"/>
                      </a:lnTo>
                      <a:lnTo>
                        <a:pt x="106" y="58"/>
                      </a:lnTo>
                      <a:lnTo>
                        <a:pt x="71" y="40"/>
                      </a:lnTo>
                      <a:lnTo>
                        <a:pt x="35" y="21"/>
                      </a:lnTo>
                      <a:lnTo>
                        <a:pt x="0" y="0"/>
                      </a:lnTo>
                      <a:lnTo>
                        <a:pt x="0" y="108"/>
                      </a:lnTo>
                      <a:lnTo>
                        <a:pt x="1" y="218"/>
                      </a:lnTo>
                      <a:lnTo>
                        <a:pt x="3" y="331"/>
                      </a:lnTo>
                      <a:lnTo>
                        <a:pt x="8" y="446"/>
                      </a:lnTo>
                      <a:lnTo>
                        <a:pt x="11" y="563"/>
                      </a:lnTo>
                      <a:lnTo>
                        <a:pt x="17" y="683"/>
                      </a:lnTo>
                      <a:lnTo>
                        <a:pt x="23" y="803"/>
                      </a:lnTo>
                      <a:lnTo>
                        <a:pt x="30" y="926"/>
                      </a:lnTo>
                      <a:lnTo>
                        <a:pt x="58" y="1427"/>
                      </a:lnTo>
                      <a:lnTo>
                        <a:pt x="88" y="1938"/>
                      </a:lnTo>
                      <a:lnTo>
                        <a:pt x="95" y="2066"/>
                      </a:lnTo>
                      <a:lnTo>
                        <a:pt x="101" y="2193"/>
                      </a:lnTo>
                      <a:lnTo>
                        <a:pt x="105" y="2321"/>
                      </a:lnTo>
                      <a:lnTo>
                        <a:pt x="110" y="2447"/>
                      </a:lnTo>
                      <a:lnTo>
                        <a:pt x="113" y="2574"/>
                      </a:lnTo>
                      <a:lnTo>
                        <a:pt x="117" y="2698"/>
                      </a:lnTo>
                      <a:lnTo>
                        <a:pt x="118" y="2821"/>
                      </a:lnTo>
                      <a:lnTo>
                        <a:pt x="118" y="2942"/>
                      </a:lnTo>
                      <a:lnTo>
                        <a:pt x="118" y="3063"/>
                      </a:lnTo>
                      <a:lnTo>
                        <a:pt x="114" y="3181"/>
                      </a:lnTo>
                      <a:lnTo>
                        <a:pt x="111" y="3299"/>
                      </a:lnTo>
                      <a:lnTo>
                        <a:pt x="105" y="3412"/>
                      </a:lnTo>
                      <a:lnTo>
                        <a:pt x="97" y="3525"/>
                      </a:lnTo>
                      <a:lnTo>
                        <a:pt x="88" y="3634"/>
                      </a:lnTo>
                      <a:lnTo>
                        <a:pt x="77" y="3741"/>
                      </a:lnTo>
                      <a:lnTo>
                        <a:pt x="64" y="3844"/>
                      </a:lnTo>
                      <a:lnTo>
                        <a:pt x="102" y="3868"/>
                      </a:lnTo>
                      <a:lnTo>
                        <a:pt x="142" y="3891"/>
                      </a:lnTo>
                      <a:lnTo>
                        <a:pt x="164" y="3903"/>
                      </a:lnTo>
                      <a:lnTo>
                        <a:pt x="186" y="3913"/>
                      </a:lnTo>
                      <a:lnTo>
                        <a:pt x="208" y="3922"/>
                      </a:lnTo>
                      <a:lnTo>
                        <a:pt x="230" y="3932"/>
                      </a:lnTo>
                      <a:lnTo>
                        <a:pt x="252" y="3941"/>
                      </a:lnTo>
                      <a:lnTo>
                        <a:pt x="275" y="3948"/>
                      </a:lnTo>
                      <a:lnTo>
                        <a:pt x="298" y="3955"/>
                      </a:lnTo>
                      <a:lnTo>
                        <a:pt x="320" y="3960"/>
                      </a:lnTo>
                      <a:lnTo>
                        <a:pt x="343" y="3964"/>
                      </a:lnTo>
                      <a:lnTo>
                        <a:pt x="365" y="3967"/>
                      </a:lnTo>
                      <a:lnTo>
                        <a:pt x="387" y="3968"/>
                      </a:lnTo>
                      <a:lnTo>
                        <a:pt x="408" y="3968"/>
                      </a:lnTo>
                      <a:lnTo>
                        <a:pt x="429" y="3967"/>
                      </a:lnTo>
                      <a:lnTo>
                        <a:pt x="450" y="3964"/>
                      </a:lnTo>
                      <a:lnTo>
                        <a:pt x="470" y="3959"/>
                      </a:lnTo>
                      <a:lnTo>
                        <a:pt x="489" y="3952"/>
                      </a:lnTo>
                      <a:lnTo>
                        <a:pt x="507" y="3943"/>
                      </a:lnTo>
                      <a:lnTo>
                        <a:pt x="526" y="3933"/>
                      </a:lnTo>
                      <a:lnTo>
                        <a:pt x="542" y="3919"/>
                      </a:lnTo>
                      <a:lnTo>
                        <a:pt x="558" y="3904"/>
                      </a:lnTo>
                      <a:lnTo>
                        <a:pt x="572" y="3886"/>
                      </a:lnTo>
                      <a:lnTo>
                        <a:pt x="585" y="3865"/>
                      </a:lnTo>
                      <a:lnTo>
                        <a:pt x="597" y="3842"/>
                      </a:lnTo>
                      <a:lnTo>
                        <a:pt x="607" y="3817"/>
                      </a:lnTo>
                      <a:lnTo>
                        <a:pt x="616" y="3788"/>
                      </a:lnTo>
                      <a:lnTo>
                        <a:pt x="624" y="3756"/>
                      </a:lnTo>
                      <a:lnTo>
                        <a:pt x="630" y="3721"/>
                      </a:lnTo>
                      <a:lnTo>
                        <a:pt x="634" y="3683"/>
                      </a:lnTo>
                      <a:close/>
                    </a:path>
                  </a:pathLst>
                </a:custGeom>
                <a:solidFill>
                  <a:srgbClr val="b2b2b2"/>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7" name=""/>
                <p:cNvSpPr/>
                <p:nvPr/>
              </p:nvSpPr>
              <p:spPr>
                <a:xfrm>
                  <a:off x="3891600" y="2667240"/>
                  <a:ext cx="90720" cy="686520"/>
                </a:xfrm>
                <a:custGeom>
                  <a:avLst/>
                  <a:gdLst/>
                  <a:ahLst/>
                  <a:rect l="l" t="t" r="r" b="b"/>
                  <a:pathLst>
                    <a:path w="454" h="3625">
                      <a:moveTo>
                        <a:pt x="434" y="60"/>
                      </a:moveTo>
                      <a:lnTo>
                        <a:pt x="385" y="27"/>
                      </a:lnTo>
                      <a:lnTo>
                        <a:pt x="373" y="103"/>
                      </a:lnTo>
                      <a:lnTo>
                        <a:pt x="362" y="176"/>
                      </a:lnTo>
                      <a:lnTo>
                        <a:pt x="349" y="250"/>
                      </a:lnTo>
                      <a:lnTo>
                        <a:pt x="335" y="322"/>
                      </a:lnTo>
                      <a:lnTo>
                        <a:pt x="307" y="468"/>
                      </a:lnTo>
                      <a:lnTo>
                        <a:pt x="277" y="615"/>
                      </a:lnTo>
                      <a:lnTo>
                        <a:pt x="246" y="768"/>
                      </a:lnTo>
                      <a:lnTo>
                        <a:pt x="214" y="930"/>
                      </a:lnTo>
                      <a:lnTo>
                        <a:pt x="198" y="1014"/>
                      </a:lnTo>
                      <a:lnTo>
                        <a:pt x="182" y="1101"/>
                      </a:lnTo>
                      <a:lnTo>
                        <a:pt x="165" y="1193"/>
                      </a:lnTo>
                      <a:lnTo>
                        <a:pt x="151" y="1289"/>
                      </a:lnTo>
                      <a:lnTo>
                        <a:pt x="134" y="1387"/>
                      </a:lnTo>
                      <a:lnTo>
                        <a:pt x="121" y="1491"/>
                      </a:lnTo>
                      <a:lnTo>
                        <a:pt x="106" y="1600"/>
                      </a:lnTo>
                      <a:lnTo>
                        <a:pt x="92" y="1714"/>
                      </a:lnTo>
                      <a:lnTo>
                        <a:pt x="79" y="1833"/>
                      </a:lnTo>
                      <a:lnTo>
                        <a:pt x="67" y="1958"/>
                      </a:lnTo>
                      <a:lnTo>
                        <a:pt x="55" y="2091"/>
                      </a:lnTo>
                      <a:lnTo>
                        <a:pt x="45" y="2230"/>
                      </a:lnTo>
                      <a:lnTo>
                        <a:pt x="35" y="2375"/>
                      </a:lnTo>
                      <a:lnTo>
                        <a:pt x="27" y="2528"/>
                      </a:lnTo>
                      <a:lnTo>
                        <a:pt x="18" y="2690"/>
                      </a:lnTo>
                      <a:lnTo>
                        <a:pt x="13" y="2859"/>
                      </a:lnTo>
                      <a:lnTo>
                        <a:pt x="7" y="3037"/>
                      </a:lnTo>
                      <a:lnTo>
                        <a:pt x="4" y="3223"/>
                      </a:lnTo>
                      <a:lnTo>
                        <a:pt x="1" y="3420"/>
                      </a:lnTo>
                      <a:lnTo>
                        <a:pt x="0" y="3625"/>
                      </a:lnTo>
                      <a:lnTo>
                        <a:pt x="70" y="3625"/>
                      </a:lnTo>
                      <a:lnTo>
                        <a:pt x="70" y="3420"/>
                      </a:lnTo>
                      <a:lnTo>
                        <a:pt x="72" y="3224"/>
                      </a:lnTo>
                      <a:lnTo>
                        <a:pt x="77" y="3038"/>
                      </a:lnTo>
                      <a:lnTo>
                        <a:pt x="82" y="2861"/>
                      </a:lnTo>
                      <a:lnTo>
                        <a:pt x="87" y="2693"/>
                      </a:lnTo>
                      <a:lnTo>
                        <a:pt x="95" y="2532"/>
                      </a:lnTo>
                      <a:lnTo>
                        <a:pt x="105" y="2379"/>
                      </a:lnTo>
                      <a:lnTo>
                        <a:pt x="114" y="2234"/>
                      </a:lnTo>
                      <a:lnTo>
                        <a:pt x="124" y="2095"/>
                      </a:lnTo>
                      <a:lnTo>
                        <a:pt x="136" y="1964"/>
                      </a:lnTo>
                      <a:lnTo>
                        <a:pt x="148" y="1839"/>
                      </a:lnTo>
                      <a:lnTo>
                        <a:pt x="161" y="1721"/>
                      </a:lnTo>
                      <a:lnTo>
                        <a:pt x="175" y="1607"/>
                      </a:lnTo>
                      <a:lnTo>
                        <a:pt x="188" y="1499"/>
                      </a:lnTo>
                      <a:lnTo>
                        <a:pt x="203" y="1395"/>
                      </a:lnTo>
                      <a:lnTo>
                        <a:pt x="218" y="1297"/>
                      </a:lnTo>
                      <a:lnTo>
                        <a:pt x="234" y="1202"/>
                      </a:lnTo>
                      <a:lnTo>
                        <a:pt x="250" y="1112"/>
                      </a:lnTo>
                      <a:lnTo>
                        <a:pt x="265" y="1026"/>
                      </a:lnTo>
                      <a:lnTo>
                        <a:pt x="281" y="940"/>
                      </a:lnTo>
                      <a:lnTo>
                        <a:pt x="314" y="780"/>
                      </a:lnTo>
                      <a:lnTo>
                        <a:pt x="345" y="627"/>
                      </a:lnTo>
                      <a:lnTo>
                        <a:pt x="376" y="480"/>
                      </a:lnTo>
                      <a:lnTo>
                        <a:pt x="404" y="334"/>
                      </a:lnTo>
                      <a:lnTo>
                        <a:pt x="417" y="260"/>
                      </a:lnTo>
                      <a:lnTo>
                        <a:pt x="431" y="186"/>
                      </a:lnTo>
                      <a:lnTo>
                        <a:pt x="442" y="111"/>
                      </a:lnTo>
                      <a:lnTo>
                        <a:pt x="454" y="35"/>
                      </a:lnTo>
                      <a:lnTo>
                        <a:pt x="404" y="2"/>
                      </a:lnTo>
                      <a:lnTo>
                        <a:pt x="454" y="35"/>
                      </a:lnTo>
                      <a:lnTo>
                        <a:pt x="454" y="27"/>
                      </a:lnTo>
                      <a:lnTo>
                        <a:pt x="453" y="21"/>
                      </a:lnTo>
                      <a:lnTo>
                        <a:pt x="449" y="16"/>
                      </a:lnTo>
                      <a:lnTo>
                        <a:pt x="446" y="10"/>
                      </a:lnTo>
                      <a:lnTo>
                        <a:pt x="441" y="6"/>
                      </a:lnTo>
                      <a:lnTo>
                        <a:pt x="435" y="3"/>
                      </a:lnTo>
                      <a:lnTo>
                        <a:pt x="430" y="1"/>
                      </a:lnTo>
                      <a:lnTo>
                        <a:pt x="423" y="0"/>
                      </a:lnTo>
                      <a:lnTo>
                        <a:pt x="417" y="0"/>
                      </a:lnTo>
                      <a:lnTo>
                        <a:pt x="410" y="0"/>
                      </a:lnTo>
                      <a:lnTo>
                        <a:pt x="404" y="2"/>
                      </a:lnTo>
                      <a:lnTo>
                        <a:pt x="399" y="4"/>
                      </a:lnTo>
                      <a:lnTo>
                        <a:pt x="393" y="9"/>
                      </a:lnTo>
                      <a:lnTo>
                        <a:pt x="389" y="13"/>
                      </a:lnTo>
                      <a:lnTo>
                        <a:pt x="386" y="20"/>
                      </a:lnTo>
                      <a:lnTo>
                        <a:pt x="385" y="27"/>
                      </a:lnTo>
                      <a:lnTo>
                        <a:pt x="434" y="6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48" name=""/>
                <p:cNvSpPr/>
                <p:nvPr/>
              </p:nvSpPr>
              <p:spPr>
                <a:xfrm>
                  <a:off x="3763080" y="2649960"/>
                  <a:ext cx="216000" cy="45720"/>
                </a:xfrm>
                <a:custGeom>
                  <a:avLst/>
                  <a:gdLst/>
                  <a:ahLst/>
                  <a:rect l="l" t="t" r="r" b="b"/>
                  <a:pathLst>
                    <a:path w="1069" h="244">
                      <a:moveTo>
                        <a:pt x="70" y="32"/>
                      </a:moveTo>
                      <a:lnTo>
                        <a:pt x="16" y="59"/>
                      </a:lnTo>
                      <a:lnTo>
                        <a:pt x="53" y="80"/>
                      </a:lnTo>
                      <a:lnTo>
                        <a:pt x="90" y="100"/>
                      </a:lnTo>
                      <a:lnTo>
                        <a:pt x="126" y="118"/>
                      </a:lnTo>
                      <a:lnTo>
                        <a:pt x="162" y="136"/>
                      </a:lnTo>
                      <a:lnTo>
                        <a:pt x="198" y="150"/>
                      </a:lnTo>
                      <a:lnTo>
                        <a:pt x="234" y="165"/>
                      </a:lnTo>
                      <a:lnTo>
                        <a:pt x="270" y="178"/>
                      </a:lnTo>
                      <a:lnTo>
                        <a:pt x="304" y="191"/>
                      </a:lnTo>
                      <a:lnTo>
                        <a:pt x="340" y="201"/>
                      </a:lnTo>
                      <a:lnTo>
                        <a:pt x="374" y="210"/>
                      </a:lnTo>
                      <a:lnTo>
                        <a:pt x="410" y="218"/>
                      </a:lnTo>
                      <a:lnTo>
                        <a:pt x="443" y="225"/>
                      </a:lnTo>
                      <a:lnTo>
                        <a:pt x="478" y="231"/>
                      </a:lnTo>
                      <a:lnTo>
                        <a:pt x="512" y="235"/>
                      </a:lnTo>
                      <a:lnTo>
                        <a:pt x="546" y="239"/>
                      </a:lnTo>
                      <a:lnTo>
                        <a:pt x="579" y="241"/>
                      </a:lnTo>
                      <a:lnTo>
                        <a:pt x="612" y="242"/>
                      </a:lnTo>
                      <a:lnTo>
                        <a:pt x="644" y="244"/>
                      </a:lnTo>
                      <a:lnTo>
                        <a:pt x="678" y="242"/>
                      </a:lnTo>
                      <a:lnTo>
                        <a:pt x="710" y="240"/>
                      </a:lnTo>
                      <a:lnTo>
                        <a:pt x="741" y="238"/>
                      </a:lnTo>
                      <a:lnTo>
                        <a:pt x="773" y="234"/>
                      </a:lnTo>
                      <a:lnTo>
                        <a:pt x="804" y="230"/>
                      </a:lnTo>
                      <a:lnTo>
                        <a:pt x="835" y="224"/>
                      </a:lnTo>
                      <a:lnTo>
                        <a:pt x="866" y="217"/>
                      </a:lnTo>
                      <a:lnTo>
                        <a:pt x="896" y="210"/>
                      </a:lnTo>
                      <a:lnTo>
                        <a:pt x="926" y="202"/>
                      </a:lnTo>
                      <a:lnTo>
                        <a:pt x="954" y="193"/>
                      </a:lnTo>
                      <a:lnTo>
                        <a:pt x="984" y="184"/>
                      </a:lnTo>
                      <a:lnTo>
                        <a:pt x="1013" y="173"/>
                      </a:lnTo>
                      <a:lnTo>
                        <a:pt x="1040" y="162"/>
                      </a:lnTo>
                      <a:lnTo>
                        <a:pt x="1069" y="150"/>
                      </a:lnTo>
                      <a:lnTo>
                        <a:pt x="1039" y="92"/>
                      </a:lnTo>
                      <a:lnTo>
                        <a:pt x="1013" y="103"/>
                      </a:lnTo>
                      <a:lnTo>
                        <a:pt x="987" y="114"/>
                      </a:lnTo>
                      <a:lnTo>
                        <a:pt x="959" y="124"/>
                      </a:lnTo>
                      <a:lnTo>
                        <a:pt x="933" y="133"/>
                      </a:lnTo>
                      <a:lnTo>
                        <a:pt x="905" y="141"/>
                      </a:lnTo>
                      <a:lnTo>
                        <a:pt x="877" y="148"/>
                      </a:lnTo>
                      <a:lnTo>
                        <a:pt x="849" y="155"/>
                      </a:lnTo>
                      <a:lnTo>
                        <a:pt x="820" y="161"/>
                      </a:lnTo>
                      <a:lnTo>
                        <a:pt x="791" y="167"/>
                      </a:lnTo>
                      <a:lnTo>
                        <a:pt x="763" y="171"/>
                      </a:lnTo>
                      <a:lnTo>
                        <a:pt x="734" y="175"/>
                      </a:lnTo>
                      <a:lnTo>
                        <a:pt x="704" y="177"/>
                      </a:lnTo>
                      <a:lnTo>
                        <a:pt x="674" y="178"/>
                      </a:lnTo>
                      <a:lnTo>
                        <a:pt x="644" y="179"/>
                      </a:lnTo>
                      <a:lnTo>
                        <a:pt x="613" y="179"/>
                      </a:lnTo>
                      <a:lnTo>
                        <a:pt x="583" y="178"/>
                      </a:lnTo>
                      <a:lnTo>
                        <a:pt x="552" y="176"/>
                      </a:lnTo>
                      <a:lnTo>
                        <a:pt x="521" y="172"/>
                      </a:lnTo>
                      <a:lnTo>
                        <a:pt x="489" y="168"/>
                      </a:lnTo>
                      <a:lnTo>
                        <a:pt x="457" y="163"/>
                      </a:lnTo>
                      <a:lnTo>
                        <a:pt x="425" y="156"/>
                      </a:lnTo>
                      <a:lnTo>
                        <a:pt x="393" y="148"/>
                      </a:lnTo>
                      <a:lnTo>
                        <a:pt x="361" y="140"/>
                      </a:lnTo>
                      <a:lnTo>
                        <a:pt x="327" y="130"/>
                      </a:lnTo>
                      <a:lnTo>
                        <a:pt x="294" y="118"/>
                      </a:lnTo>
                      <a:lnTo>
                        <a:pt x="261" y="107"/>
                      </a:lnTo>
                      <a:lnTo>
                        <a:pt x="227" y="93"/>
                      </a:lnTo>
                      <a:lnTo>
                        <a:pt x="193" y="78"/>
                      </a:lnTo>
                      <a:lnTo>
                        <a:pt x="159" y="62"/>
                      </a:lnTo>
                      <a:lnTo>
                        <a:pt x="124" y="45"/>
                      </a:lnTo>
                      <a:lnTo>
                        <a:pt x="90" y="25"/>
                      </a:lnTo>
                      <a:lnTo>
                        <a:pt x="54" y="6"/>
                      </a:lnTo>
                      <a:lnTo>
                        <a:pt x="0" y="32"/>
                      </a:lnTo>
                      <a:lnTo>
                        <a:pt x="54" y="6"/>
                      </a:lnTo>
                      <a:lnTo>
                        <a:pt x="47" y="2"/>
                      </a:lnTo>
                      <a:lnTo>
                        <a:pt x="40" y="0"/>
                      </a:lnTo>
                      <a:lnTo>
                        <a:pt x="33" y="0"/>
                      </a:lnTo>
                      <a:lnTo>
                        <a:pt x="26" y="1"/>
                      </a:lnTo>
                      <a:lnTo>
                        <a:pt x="21" y="2"/>
                      </a:lnTo>
                      <a:lnTo>
                        <a:pt x="15" y="6"/>
                      </a:lnTo>
                      <a:lnTo>
                        <a:pt x="10" y="10"/>
                      </a:lnTo>
                      <a:lnTo>
                        <a:pt x="6" y="15"/>
                      </a:lnTo>
                      <a:lnTo>
                        <a:pt x="3" y="19"/>
                      </a:lnTo>
                      <a:lnTo>
                        <a:pt x="1" y="25"/>
                      </a:lnTo>
                      <a:lnTo>
                        <a:pt x="0" y="31"/>
                      </a:lnTo>
                      <a:lnTo>
                        <a:pt x="0" y="38"/>
                      </a:lnTo>
                      <a:lnTo>
                        <a:pt x="2" y="44"/>
                      </a:lnTo>
                      <a:lnTo>
                        <a:pt x="6" y="49"/>
                      </a:lnTo>
                      <a:lnTo>
                        <a:pt x="10" y="54"/>
                      </a:lnTo>
                      <a:lnTo>
                        <a:pt x="16" y="59"/>
                      </a:lnTo>
                      <a:lnTo>
                        <a:pt x="70" y="32"/>
                      </a:lnTo>
                      <a:close/>
                    </a:path>
                  </a:pathLst>
                </a:custGeom>
                <a:solidFill>
                  <a:srgbClr val="000000"/>
                </a:solidFill>
                <a:ln w="0">
                  <a:noFill/>
                </a:ln>
              </p:spPr>
              <p:style>
                <a:lnRef idx="0"/>
                <a:fillRef idx="0"/>
                <a:effectRef idx="0"/>
                <a:fontRef idx="minor"/>
              </p:style>
              <p:txBody>
                <a:bodyPr wrap="none" lIns="93240" rIns="93240" tIns="-720" bIns="-720" anchor="t">
                  <a:spAutoFit/>
                </a:bodyPr>
                <a:p>
                  <a:endParaRPr b="0" lang="en-US" sz="2400" spc="-1" strike="noStrike">
                    <a:solidFill>
                      <a:srgbClr val="ffffff"/>
                    </a:solidFill>
                    <a:latin typeface="Times New Roman"/>
                  </a:endParaRPr>
                </a:p>
              </p:txBody>
            </p:sp>
            <p:sp>
              <p:nvSpPr>
                <p:cNvPr id="549" name=""/>
                <p:cNvSpPr/>
                <p:nvPr/>
              </p:nvSpPr>
              <p:spPr>
                <a:xfrm>
                  <a:off x="3763080" y="2656440"/>
                  <a:ext cx="37440" cy="733680"/>
                </a:xfrm>
                <a:custGeom>
                  <a:avLst/>
                  <a:gdLst/>
                  <a:ahLst/>
                  <a:rect l="l" t="t" r="r" b="b"/>
                  <a:pathLst>
                    <a:path w="190" h="3876">
                      <a:moveTo>
                        <a:pt x="119" y="3819"/>
                      </a:moveTo>
                      <a:lnTo>
                        <a:pt x="134" y="3849"/>
                      </a:lnTo>
                      <a:lnTo>
                        <a:pt x="147" y="3744"/>
                      </a:lnTo>
                      <a:lnTo>
                        <a:pt x="159" y="3637"/>
                      </a:lnTo>
                      <a:lnTo>
                        <a:pt x="169" y="3527"/>
                      </a:lnTo>
                      <a:lnTo>
                        <a:pt x="176" y="3415"/>
                      </a:lnTo>
                      <a:lnTo>
                        <a:pt x="181" y="3300"/>
                      </a:lnTo>
                      <a:lnTo>
                        <a:pt x="186" y="3182"/>
                      </a:lnTo>
                      <a:lnTo>
                        <a:pt x="188" y="3064"/>
                      </a:lnTo>
                      <a:lnTo>
                        <a:pt x="190" y="2942"/>
                      </a:lnTo>
                      <a:lnTo>
                        <a:pt x="188" y="2821"/>
                      </a:lnTo>
                      <a:lnTo>
                        <a:pt x="187" y="2698"/>
                      </a:lnTo>
                      <a:lnTo>
                        <a:pt x="185" y="2572"/>
                      </a:lnTo>
                      <a:lnTo>
                        <a:pt x="181" y="2446"/>
                      </a:lnTo>
                      <a:lnTo>
                        <a:pt x="177" y="2320"/>
                      </a:lnTo>
                      <a:lnTo>
                        <a:pt x="171" y="2192"/>
                      </a:lnTo>
                      <a:lnTo>
                        <a:pt x="165" y="2065"/>
                      </a:lnTo>
                      <a:lnTo>
                        <a:pt x="159" y="1937"/>
                      </a:lnTo>
                      <a:lnTo>
                        <a:pt x="129" y="1426"/>
                      </a:lnTo>
                      <a:lnTo>
                        <a:pt x="100" y="924"/>
                      </a:lnTo>
                      <a:lnTo>
                        <a:pt x="93" y="802"/>
                      </a:lnTo>
                      <a:lnTo>
                        <a:pt x="87" y="681"/>
                      </a:lnTo>
                      <a:lnTo>
                        <a:pt x="83" y="562"/>
                      </a:lnTo>
                      <a:lnTo>
                        <a:pt x="78" y="445"/>
                      </a:lnTo>
                      <a:lnTo>
                        <a:pt x="75" y="330"/>
                      </a:lnTo>
                      <a:lnTo>
                        <a:pt x="71" y="217"/>
                      </a:lnTo>
                      <a:lnTo>
                        <a:pt x="70" y="108"/>
                      </a:lnTo>
                      <a:lnTo>
                        <a:pt x="70" y="0"/>
                      </a:lnTo>
                      <a:lnTo>
                        <a:pt x="0" y="0"/>
                      </a:lnTo>
                      <a:lnTo>
                        <a:pt x="1" y="108"/>
                      </a:lnTo>
                      <a:lnTo>
                        <a:pt x="2" y="218"/>
                      </a:lnTo>
                      <a:lnTo>
                        <a:pt x="5" y="332"/>
                      </a:lnTo>
                      <a:lnTo>
                        <a:pt x="8" y="447"/>
                      </a:lnTo>
                      <a:lnTo>
                        <a:pt x="13" y="564"/>
                      </a:lnTo>
                      <a:lnTo>
                        <a:pt x="18" y="684"/>
                      </a:lnTo>
                      <a:lnTo>
                        <a:pt x="24" y="804"/>
                      </a:lnTo>
                      <a:lnTo>
                        <a:pt x="31" y="927"/>
                      </a:lnTo>
                      <a:lnTo>
                        <a:pt x="60" y="1428"/>
                      </a:lnTo>
                      <a:lnTo>
                        <a:pt x="90" y="1939"/>
                      </a:lnTo>
                      <a:lnTo>
                        <a:pt x="95" y="2068"/>
                      </a:lnTo>
                      <a:lnTo>
                        <a:pt x="102" y="2196"/>
                      </a:lnTo>
                      <a:lnTo>
                        <a:pt x="107" y="2322"/>
                      </a:lnTo>
                      <a:lnTo>
                        <a:pt x="111" y="2448"/>
                      </a:lnTo>
                      <a:lnTo>
                        <a:pt x="115" y="2574"/>
                      </a:lnTo>
                      <a:lnTo>
                        <a:pt x="118" y="2698"/>
                      </a:lnTo>
                      <a:lnTo>
                        <a:pt x="119" y="2821"/>
                      </a:lnTo>
                      <a:lnTo>
                        <a:pt x="119" y="2942"/>
                      </a:lnTo>
                      <a:lnTo>
                        <a:pt x="118" y="3063"/>
                      </a:lnTo>
                      <a:lnTo>
                        <a:pt x="116" y="3181"/>
                      </a:lnTo>
                      <a:lnTo>
                        <a:pt x="113" y="3297"/>
                      </a:lnTo>
                      <a:lnTo>
                        <a:pt x="107" y="3411"/>
                      </a:lnTo>
                      <a:lnTo>
                        <a:pt x="99" y="3523"/>
                      </a:lnTo>
                      <a:lnTo>
                        <a:pt x="90" y="3632"/>
                      </a:lnTo>
                      <a:lnTo>
                        <a:pt x="78" y="3737"/>
                      </a:lnTo>
                      <a:lnTo>
                        <a:pt x="66" y="3841"/>
                      </a:lnTo>
                      <a:lnTo>
                        <a:pt x="79" y="3871"/>
                      </a:lnTo>
                      <a:lnTo>
                        <a:pt x="66" y="3841"/>
                      </a:lnTo>
                      <a:lnTo>
                        <a:pt x="64" y="3848"/>
                      </a:lnTo>
                      <a:lnTo>
                        <a:pt x="67" y="3855"/>
                      </a:lnTo>
                      <a:lnTo>
                        <a:pt x="69" y="3860"/>
                      </a:lnTo>
                      <a:lnTo>
                        <a:pt x="72" y="3866"/>
                      </a:lnTo>
                      <a:lnTo>
                        <a:pt x="77" y="3870"/>
                      </a:lnTo>
                      <a:lnTo>
                        <a:pt x="83" y="3873"/>
                      </a:lnTo>
                      <a:lnTo>
                        <a:pt x="88" y="3875"/>
                      </a:lnTo>
                      <a:lnTo>
                        <a:pt x="95" y="3876"/>
                      </a:lnTo>
                      <a:lnTo>
                        <a:pt x="101" y="3876"/>
                      </a:lnTo>
                      <a:lnTo>
                        <a:pt x="108" y="3876"/>
                      </a:lnTo>
                      <a:lnTo>
                        <a:pt x="114" y="3874"/>
                      </a:lnTo>
                      <a:lnTo>
                        <a:pt x="119" y="3872"/>
                      </a:lnTo>
                      <a:lnTo>
                        <a:pt x="125" y="3867"/>
                      </a:lnTo>
                      <a:lnTo>
                        <a:pt x="129" y="3863"/>
                      </a:lnTo>
                      <a:lnTo>
                        <a:pt x="132" y="3856"/>
                      </a:lnTo>
                      <a:lnTo>
                        <a:pt x="134" y="3849"/>
                      </a:lnTo>
                      <a:lnTo>
                        <a:pt x="119" y="38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0" name=""/>
                <p:cNvSpPr/>
                <p:nvPr/>
              </p:nvSpPr>
              <p:spPr>
                <a:xfrm>
                  <a:off x="3778560" y="3347280"/>
                  <a:ext cx="127800" cy="66600"/>
                </a:xfrm>
                <a:custGeom>
                  <a:avLst/>
                  <a:gdLst/>
                  <a:ahLst/>
                  <a:rect l="l" t="t" r="r" b="b"/>
                  <a:pathLst>
                    <a:path w="626" h="349">
                      <a:moveTo>
                        <a:pt x="556" y="32"/>
                      </a:moveTo>
                      <a:lnTo>
                        <a:pt x="556" y="30"/>
                      </a:lnTo>
                      <a:lnTo>
                        <a:pt x="553" y="67"/>
                      </a:lnTo>
                      <a:lnTo>
                        <a:pt x="547" y="99"/>
                      </a:lnTo>
                      <a:lnTo>
                        <a:pt x="540" y="129"/>
                      </a:lnTo>
                      <a:lnTo>
                        <a:pt x="531" y="155"/>
                      </a:lnTo>
                      <a:lnTo>
                        <a:pt x="522" y="178"/>
                      </a:lnTo>
                      <a:lnTo>
                        <a:pt x="511" y="199"/>
                      </a:lnTo>
                      <a:lnTo>
                        <a:pt x="500" y="217"/>
                      </a:lnTo>
                      <a:lnTo>
                        <a:pt x="487" y="232"/>
                      </a:lnTo>
                      <a:lnTo>
                        <a:pt x="475" y="245"/>
                      </a:lnTo>
                      <a:lnTo>
                        <a:pt x="461" y="256"/>
                      </a:lnTo>
                      <a:lnTo>
                        <a:pt x="447" y="264"/>
                      </a:lnTo>
                      <a:lnTo>
                        <a:pt x="432" y="273"/>
                      </a:lnTo>
                      <a:lnTo>
                        <a:pt x="416" y="278"/>
                      </a:lnTo>
                      <a:lnTo>
                        <a:pt x="400" y="282"/>
                      </a:lnTo>
                      <a:lnTo>
                        <a:pt x="383" y="284"/>
                      </a:lnTo>
                      <a:lnTo>
                        <a:pt x="364" y="286"/>
                      </a:lnTo>
                      <a:lnTo>
                        <a:pt x="345" y="286"/>
                      </a:lnTo>
                      <a:lnTo>
                        <a:pt x="326" y="284"/>
                      </a:lnTo>
                      <a:lnTo>
                        <a:pt x="306" y="282"/>
                      </a:lnTo>
                      <a:lnTo>
                        <a:pt x="285" y="278"/>
                      </a:lnTo>
                      <a:lnTo>
                        <a:pt x="264" y="273"/>
                      </a:lnTo>
                      <a:lnTo>
                        <a:pt x="244" y="267"/>
                      </a:lnTo>
                      <a:lnTo>
                        <a:pt x="222" y="260"/>
                      </a:lnTo>
                      <a:lnTo>
                        <a:pt x="200" y="252"/>
                      </a:lnTo>
                      <a:lnTo>
                        <a:pt x="179" y="243"/>
                      </a:lnTo>
                      <a:lnTo>
                        <a:pt x="158" y="233"/>
                      </a:lnTo>
                      <a:lnTo>
                        <a:pt x="137" y="223"/>
                      </a:lnTo>
                      <a:lnTo>
                        <a:pt x="117" y="213"/>
                      </a:lnTo>
                      <a:lnTo>
                        <a:pt x="77" y="191"/>
                      </a:lnTo>
                      <a:lnTo>
                        <a:pt x="40" y="168"/>
                      </a:lnTo>
                      <a:lnTo>
                        <a:pt x="0" y="220"/>
                      </a:lnTo>
                      <a:lnTo>
                        <a:pt x="40" y="244"/>
                      </a:lnTo>
                      <a:lnTo>
                        <a:pt x="82" y="268"/>
                      </a:lnTo>
                      <a:lnTo>
                        <a:pt x="105" y="279"/>
                      </a:lnTo>
                      <a:lnTo>
                        <a:pt x="127" y="290"/>
                      </a:lnTo>
                      <a:lnTo>
                        <a:pt x="150" y="300"/>
                      </a:lnTo>
                      <a:lnTo>
                        <a:pt x="174" y="310"/>
                      </a:lnTo>
                      <a:lnTo>
                        <a:pt x="197" y="320"/>
                      </a:lnTo>
                      <a:lnTo>
                        <a:pt x="221" y="328"/>
                      </a:lnTo>
                      <a:lnTo>
                        <a:pt x="245" y="335"/>
                      </a:lnTo>
                      <a:lnTo>
                        <a:pt x="269" y="340"/>
                      </a:lnTo>
                      <a:lnTo>
                        <a:pt x="294" y="345"/>
                      </a:lnTo>
                      <a:lnTo>
                        <a:pt x="318" y="348"/>
                      </a:lnTo>
                      <a:lnTo>
                        <a:pt x="343" y="349"/>
                      </a:lnTo>
                      <a:lnTo>
                        <a:pt x="367" y="349"/>
                      </a:lnTo>
                      <a:lnTo>
                        <a:pt x="391" y="348"/>
                      </a:lnTo>
                      <a:lnTo>
                        <a:pt x="415" y="345"/>
                      </a:lnTo>
                      <a:lnTo>
                        <a:pt x="438" y="338"/>
                      </a:lnTo>
                      <a:lnTo>
                        <a:pt x="461" y="330"/>
                      </a:lnTo>
                      <a:lnTo>
                        <a:pt x="483" y="320"/>
                      </a:lnTo>
                      <a:lnTo>
                        <a:pt x="503" y="307"/>
                      </a:lnTo>
                      <a:lnTo>
                        <a:pt x="523" y="291"/>
                      </a:lnTo>
                      <a:lnTo>
                        <a:pt x="541" y="273"/>
                      </a:lnTo>
                      <a:lnTo>
                        <a:pt x="557" y="252"/>
                      </a:lnTo>
                      <a:lnTo>
                        <a:pt x="572" y="229"/>
                      </a:lnTo>
                      <a:lnTo>
                        <a:pt x="586" y="204"/>
                      </a:lnTo>
                      <a:lnTo>
                        <a:pt x="597" y="175"/>
                      </a:lnTo>
                      <a:lnTo>
                        <a:pt x="607" y="144"/>
                      </a:lnTo>
                      <a:lnTo>
                        <a:pt x="615" y="111"/>
                      </a:lnTo>
                      <a:lnTo>
                        <a:pt x="622" y="75"/>
                      </a:lnTo>
                      <a:lnTo>
                        <a:pt x="626" y="35"/>
                      </a:lnTo>
                      <a:lnTo>
                        <a:pt x="626" y="32"/>
                      </a:lnTo>
                      <a:lnTo>
                        <a:pt x="626" y="35"/>
                      </a:lnTo>
                      <a:lnTo>
                        <a:pt x="626" y="28"/>
                      </a:lnTo>
                      <a:lnTo>
                        <a:pt x="624" y="21"/>
                      </a:lnTo>
                      <a:lnTo>
                        <a:pt x="620" y="15"/>
                      </a:lnTo>
                      <a:lnTo>
                        <a:pt x="617" y="11"/>
                      </a:lnTo>
                      <a:lnTo>
                        <a:pt x="612" y="6"/>
                      </a:lnTo>
                      <a:lnTo>
                        <a:pt x="607" y="4"/>
                      </a:lnTo>
                      <a:lnTo>
                        <a:pt x="600" y="1"/>
                      </a:lnTo>
                      <a:lnTo>
                        <a:pt x="594" y="0"/>
                      </a:lnTo>
                      <a:lnTo>
                        <a:pt x="587" y="0"/>
                      </a:lnTo>
                      <a:lnTo>
                        <a:pt x="580" y="1"/>
                      </a:lnTo>
                      <a:lnTo>
                        <a:pt x="574" y="4"/>
                      </a:lnTo>
                      <a:lnTo>
                        <a:pt x="569" y="7"/>
                      </a:lnTo>
                      <a:lnTo>
                        <a:pt x="564" y="12"/>
                      </a:lnTo>
                      <a:lnTo>
                        <a:pt x="561" y="16"/>
                      </a:lnTo>
                      <a:lnTo>
                        <a:pt x="557" y="23"/>
                      </a:lnTo>
                      <a:lnTo>
                        <a:pt x="556" y="30"/>
                      </a:lnTo>
                      <a:lnTo>
                        <a:pt x="556" y="32"/>
                      </a:lnTo>
                      <a:close/>
                    </a:path>
                  </a:pathLst>
                </a:custGeom>
                <a:solidFill>
                  <a:srgbClr val="000000"/>
                </a:solidFill>
                <a:ln w="0">
                  <a:noFill/>
                </a:ln>
              </p:spPr>
              <p:style>
                <a:lnRef idx="0"/>
                <a:fillRef idx="0"/>
                <a:effectRef idx="0"/>
                <a:fontRef idx="minor"/>
              </p:style>
              <p:txBody>
                <a:bodyPr wrap="none" lIns="93240" rIns="93240" tIns="20160" bIns="20160" anchor="t">
                  <a:spAutoFit/>
                </a:bodyPr>
                <a:p>
                  <a:endParaRPr b="0" lang="en-US" sz="2400" spc="-1" strike="noStrike">
                    <a:solidFill>
                      <a:srgbClr val="ffffff"/>
                    </a:solidFill>
                    <a:latin typeface="Times New Roman"/>
                  </a:endParaRPr>
                </a:p>
              </p:txBody>
            </p:sp>
            <p:sp>
              <p:nvSpPr>
                <p:cNvPr id="551" name=""/>
                <p:cNvSpPr/>
                <p:nvPr/>
              </p:nvSpPr>
              <p:spPr>
                <a:xfrm>
                  <a:off x="3127680" y="3332880"/>
                  <a:ext cx="1204200" cy="1460880"/>
                </a:xfrm>
                <a:custGeom>
                  <a:avLst/>
                  <a:gdLst/>
                  <a:ahLst/>
                  <a:rect l="l" t="t" r="r" b="b"/>
                  <a:pathLst>
                    <a:path w="5958" h="7718">
                      <a:moveTo>
                        <a:pt x="146" y="0"/>
                      </a:moveTo>
                      <a:lnTo>
                        <a:pt x="148" y="35"/>
                      </a:lnTo>
                      <a:lnTo>
                        <a:pt x="152" y="72"/>
                      </a:lnTo>
                      <a:lnTo>
                        <a:pt x="154" y="114"/>
                      </a:lnTo>
                      <a:lnTo>
                        <a:pt x="155" y="160"/>
                      </a:lnTo>
                      <a:lnTo>
                        <a:pt x="155" y="209"/>
                      </a:lnTo>
                      <a:lnTo>
                        <a:pt x="154" y="264"/>
                      </a:lnTo>
                      <a:lnTo>
                        <a:pt x="152" y="323"/>
                      </a:lnTo>
                      <a:lnTo>
                        <a:pt x="147" y="387"/>
                      </a:lnTo>
                      <a:lnTo>
                        <a:pt x="140" y="456"/>
                      </a:lnTo>
                      <a:lnTo>
                        <a:pt x="131" y="531"/>
                      </a:lnTo>
                      <a:lnTo>
                        <a:pt x="119" y="610"/>
                      </a:lnTo>
                      <a:lnTo>
                        <a:pt x="103" y="695"/>
                      </a:lnTo>
                      <a:lnTo>
                        <a:pt x="84" y="786"/>
                      </a:lnTo>
                      <a:lnTo>
                        <a:pt x="62" y="882"/>
                      </a:lnTo>
                      <a:lnTo>
                        <a:pt x="36" y="985"/>
                      </a:lnTo>
                      <a:lnTo>
                        <a:pt x="5" y="1094"/>
                      </a:lnTo>
                      <a:lnTo>
                        <a:pt x="2" y="1127"/>
                      </a:lnTo>
                      <a:lnTo>
                        <a:pt x="0" y="1160"/>
                      </a:lnTo>
                      <a:lnTo>
                        <a:pt x="3" y="1191"/>
                      </a:lnTo>
                      <a:lnTo>
                        <a:pt x="7" y="1221"/>
                      </a:lnTo>
                      <a:lnTo>
                        <a:pt x="14" y="1250"/>
                      </a:lnTo>
                      <a:lnTo>
                        <a:pt x="23" y="1278"/>
                      </a:lnTo>
                      <a:lnTo>
                        <a:pt x="35" y="1305"/>
                      </a:lnTo>
                      <a:lnTo>
                        <a:pt x="49" y="1331"/>
                      </a:lnTo>
                      <a:lnTo>
                        <a:pt x="65" y="1355"/>
                      </a:lnTo>
                      <a:lnTo>
                        <a:pt x="83" y="1379"/>
                      </a:lnTo>
                      <a:lnTo>
                        <a:pt x="103" y="1401"/>
                      </a:lnTo>
                      <a:lnTo>
                        <a:pt x="124" y="1422"/>
                      </a:lnTo>
                      <a:lnTo>
                        <a:pt x="148" y="1443"/>
                      </a:lnTo>
                      <a:lnTo>
                        <a:pt x="173" y="1463"/>
                      </a:lnTo>
                      <a:lnTo>
                        <a:pt x="199" y="1482"/>
                      </a:lnTo>
                      <a:lnTo>
                        <a:pt x="228" y="1499"/>
                      </a:lnTo>
                      <a:lnTo>
                        <a:pt x="256" y="1517"/>
                      </a:lnTo>
                      <a:lnTo>
                        <a:pt x="286" y="1533"/>
                      </a:lnTo>
                      <a:lnTo>
                        <a:pt x="317" y="1549"/>
                      </a:lnTo>
                      <a:lnTo>
                        <a:pt x="351" y="1564"/>
                      </a:lnTo>
                      <a:lnTo>
                        <a:pt x="383" y="1578"/>
                      </a:lnTo>
                      <a:lnTo>
                        <a:pt x="417" y="1591"/>
                      </a:lnTo>
                      <a:lnTo>
                        <a:pt x="452" y="1604"/>
                      </a:lnTo>
                      <a:lnTo>
                        <a:pt x="486" y="1615"/>
                      </a:lnTo>
                      <a:lnTo>
                        <a:pt x="557" y="1637"/>
                      </a:lnTo>
                      <a:lnTo>
                        <a:pt x="630" y="1658"/>
                      </a:lnTo>
                      <a:lnTo>
                        <a:pt x="701" y="1675"/>
                      </a:lnTo>
                      <a:lnTo>
                        <a:pt x="772" y="1691"/>
                      </a:lnTo>
                      <a:lnTo>
                        <a:pt x="781" y="1694"/>
                      </a:lnTo>
                      <a:lnTo>
                        <a:pt x="790" y="1695"/>
                      </a:lnTo>
                      <a:lnTo>
                        <a:pt x="800" y="1695"/>
                      </a:lnTo>
                      <a:lnTo>
                        <a:pt x="808" y="1695"/>
                      </a:lnTo>
                      <a:lnTo>
                        <a:pt x="816" y="1694"/>
                      </a:lnTo>
                      <a:lnTo>
                        <a:pt x="824" y="1692"/>
                      </a:lnTo>
                      <a:lnTo>
                        <a:pt x="832" y="1690"/>
                      </a:lnTo>
                      <a:lnTo>
                        <a:pt x="839" y="1688"/>
                      </a:lnTo>
                      <a:lnTo>
                        <a:pt x="846" y="1684"/>
                      </a:lnTo>
                      <a:lnTo>
                        <a:pt x="852" y="1680"/>
                      </a:lnTo>
                      <a:lnTo>
                        <a:pt x="858" y="1675"/>
                      </a:lnTo>
                      <a:lnTo>
                        <a:pt x="864" y="1671"/>
                      </a:lnTo>
                      <a:lnTo>
                        <a:pt x="869" y="1665"/>
                      </a:lnTo>
                      <a:lnTo>
                        <a:pt x="873" y="1659"/>
                      </a:lnTo>
                      <a:lnTo>
                        <a:pt x="878" y="1652"/>
                      </a:lnTo>
                      <a:lnTo>
                        <a:pt x="881" y="1645"/>
                      </a:lnTo>
                      <a:lnTo>
                        <a:pt x="883" y="1637"/>
                      </a:lnTo>
                      <a:lnTo>
                        <a:pt x="887" y="1630"/>
                      </a:lnTo>
                      <a:lnTo>
                        <a:pt x="888" y="1621"/>
                      </a:lnTo>
                      <a:lnTo>
                        <a:pt x="889" y="1613"/>
                      </a:lnTo>
                      <a:lnTo>
                        <a:pt x="889" y="1604"/>
                      </a:lnTo>
                      <a:lnTo>
                        <a:pt x="889" y="1595"/>
                      </a:lnTo>
                      <a:lnTo>
                        <a:pt x="888" y="1584"/>
                      </a:lnTo>
                      <a:lnTo>
                        <a:pt x="887" y="1575"/>
                      </a:lnTo>
                      <a:lnTo>
                        <a:pt x="885" y="1565"/>
                      </a:lnTo>
                      <a:lnTo>
                        <a:pt x="881" y="1553"/>
                      </a:lnTo>
                      <a:lnTo>
                        <a:pt x="877" y="1543"/>
                      </a:lnTo>
                      <a:lnTo>
                        <a:pt x="872" y="1532"/>
                      </a:lnTo>
                      <a:lnTo>
                        <a:pt x="866" y="1521"/>
                      </a:lnTo>
                      <a:lnTo>
                        <a:pt x="859" y="1510"/>
                      </a:lnTo>
                      <a:lnTo>
                        <a:pt x="852" y="1497"/>
                      </a:lnTo>
                      <a:lnTo>
                        <a:pt x="843" y="1486"/>
                      </a:lnTo>
                      <a:lnTo>
                        <a:pt x="834" y="1472"/>
                      </a:lnTo>
                      <a:lnTo>
                        <a:pt x="824" y="1460"/>
                      </a:lnTo>
                      <a:lnTo>
                        <a:pt x="812" y="1451"/>
                      </a:lnTo>
                      <a:lnTo>
                        <a:pt x="800" y="1443"/>
                      </a:lnTo>
                      <a:lnTo>
                        <a:pt x="787" y="1437"/>
                      </a:lnTo>
                      <a:lnTo>
                        <a:pt x="773" y="1432"/>
                      </a:lnTo>
                      <a:lnTo>
                        <a:pt x="759" y="1427"/>
                      </a:lnTo>
                      <a:lnTo>
                        <a:pt x="746" y="1424"/>
                      </a:lnTo>
                      <a:lnTo>
                        <a:pt x="718" y="1418"/>
                      </a:lnTo>
                      <a:lnTo>
                        <a:pt x="691" y="1411"/>
                      </a:lnTo>
                      <a:lnTo>
                        <a:pt x="678" y="1406"/>
                      </a:lnTo>
                      <a:lnTo>
                        <a:pt x="666" y="1401"/>
                      </a:lnTo>
                      <a:lnTo>
                        <a:pt x="655" y="1395"/>
                      </a:lnTo>
                      <a:lnTo>
                        <a:pt x="645" y="1387"/>
                      </a:lnTo>
                      <a:lnTo>
                        <a:pt x="651" y="1376"/>
                      </a:lnTo>
                      <a:lnTo>
                        <a:pt x="657" y="1366"/>
                      </a:lnTo>
                      <a:lnTo>
                        <a:pt x="662" y="1356"/>
                      </a:lnTo>
                      <a:lnTo>
                        <a:pt x="665" y="1345"/>
                      </a:lnTo>
                      <a:lnTo>
                        <a:pt x="668" y="1336"/>
                      </a:lnTo>
                      <a:lnTo>
                        <a:pt x="670" y="1327"/>
                      </a:lnTo>
                      <a:lnTo>
                        <a:pt x="670" y="1318"/>
                      </a:lnTo>
                      <a:lnTo>
                        <a:pt x="670" y="1310"/>
                      </a:lnTo>
                      <a:lnTo>
                        <a:pt x="666" y="1294"/>
                      </a:lnTo>
                      <a:lnTo>
                        <a:pt x="661" y="1279"/>
                      </a:lnTo>
                      <a:lnTo>
                        <a:pt x="654" y="1264"/>
                      </a:lnTo>
                      <a:lnTo>
                        <a:pt x="646" y="1250"/>
                      </a:lnTo>
                      <a:lnTo>
                        <a:pt x="630" y="1225"/>
                      </a:lnTo>
                      <a:lnTo>
                        <a:pt x="616" y="1202"/>
                      </a:lnTo>
                      <a:lnTo>
                        <a:pt x="614" y="1196"/>
                      </a:lnTo>
                      <a:lnTo>
                        <a:pt x="612" y="1190"/>
                      </a:lnTo>
                      <a:lnTo>
                        <a:pt x="612" y="1185"/>
                      </a:lnTo>
                      <a:lnTo>
                        <a:pt x="612" y="1179"/>
                      </a:lnTo>
                      <a:lnTo>
                        <a:pt x="612" y="1173"/>
                      </a:lnTo>
                      <a:lnTo>
                        <a:pt x="615" y="1167"/>
                      </a:lnTo>
                      <a:lnTo>
                        <a:pt x="618" y="1162"/>
                      </a:lnTo>
                      <a:lnTo>
                        <a:pt x="622" y="1156"/>
                      </a:lnTo>
                      <a:lnTo>
                        <a:pt x="626" y="1163"/>
                      </a:lnTo>
                      <a:lnTo>
                        <a:pt x="631" y="1171"/>
                      </a:lnTo>
                      <a:lnTo>
                        <a:pt x="635" y="1178"/>
                      </a:lnTo>
                      <a:lnTo>
                        <a:pt x="642" y="1183"/>
                      </a:lnTo>
                      <a:lnTo>
                        <a:pt x="649" y="1190"/>
                      </a:lnTo>
                      <a:lnTo>
                        <a:pt x="656" y="1195"/>
                      </a:lnTo>
                      <a:lnTo>
                        <a:pt x="664" y="1201"/>
                      </a:lnTo>
                      <a:lnTo>
                        <a:pt x="673" y="1205"/>
                      </a:lnTo>
                      <a:lnTo>
                        <a:pt x="692" y="1212"/>
                      </a:lnTo>
                      <a:lnTo>
                        <a:pt x="711" y="1218"/>
                      </a:lnTo>
                      <a:lnTo>
                        <a:pt x="732" y="1223"/>
                      </a:lnTo>
                      <a:lnTo>
                        <a:pt x="754" y="1224"/>
                      </a:lnTo>
                      <a:lnTo>
                        <a:pt x="774" y="1224"/>
                      </a:lnTo>
                      <a:lnTo>
                        <a:pt x="795" y="1221"/>
                      </a:lnTo>
                      <a:lnTo>
                        <a:pt x="816" y="1217"/>
                      </a:lnTo>
                      <a:lnTo>
                        <a:pt x="834" y="1210"/>
                      </a:lnTo>
                      <a:lnTo>
                        <a:pt x="842" y="1205"/>
                      </a:lnTo>
                      <a:lnTo>
                        <a:pt x="851" y="1201"/>
                      </a:lnTo>
                      <a:lnTo>
                        <a:pt x="858" y="1196"/>
                      </a:lnTo>
                      <a:lnTo>
                        <a:pt x="865" y="1190"/>
                      </a:lnTo>
                      <a:lnTo>
                        <a:pt x="872" y="1183"/>
                      </a:lnTo>
                      <a:lnTo>
                        <a:pt x="878" y="1178"/>
                      </a:lnTo>
                      <a:lnTo>
                        <a:pt x="882" y="1170"/>
                      </a:lnTo>
                      <a:lnTo>
                        <a:pt x="886" y="1162"/>
                      </a:lnTo>
                      <a:lnTo>
                        <a:pt x="898" y="1102"/>
                      </a:lnTo>
                      <a:lnTo>
                        <a:pt x="909" y="1043"/>
                      </a:lnTo>
                      <a:lnTo>
                        <a:pt x="912" y="1015"/>
                      </a:lnTo>
                      <a:lnTo>
                        <a:pt x="914" y="987"/>
                      </a:lnTo>
                      <a:lnTo>
                        <a:pt x="917" y="959"/>
                      </a:lnTo>
                      <a:lnTo>
                        <a:pt x="918" y="933"/>
                      </a:lnTo>
                      <a:lnTo>
                        <a:pt x="917" y="907"/>
                      </a:lnTo>
                      <a:lnTo>
                        <a:pt x="914" y="880"/>
                      </a:lnTo>
                      <a:lnTo>
                        <a:pt x="911" y="855"/>
                      </a:lnTo>
                      <a:lnTo>
                        <a:pt x="906" y="831"/>
                      </a:lnTo>
                      <a:lnTo>
                        <a:pt x="898" y="807"/>
                      </a:lnTo>
                      <a:lnTo>
                        <a:pt x="890" y="782"/>
                      </a:lnTo>
                      <a:lnTo>
                        <a:pt x="879" y="760"/>
                      </a:lnTo>
                      <a:lnTo>
                        <a:pt x="866" y="738"/>
                      </a:lnTo>
                      <a:lnTo>
                        <a:pt x="877" y="691"/>
                      </a:lnTo>
                      <a:lnTo>
                        <a:pt x="885" y="640"/>
                      </a:lnTo>
                      <a:lnTo>
                        <a:pt x="892" y="588"/>
                      </a:lnTo>
                      <a:lnTo>
                        <a:pt x="896" y="535"/>
                      </a:lnTo>
                      <a:lnTo>
                        <a:pt x="897" y="509"/>
                      </a:lnTo>
                      <a:lnTo>
                        <a:pt x="897" y="483"/>
                      </a:lnTo>
                      <a:lnTo>
                        <a:pt x="897" y="455"/>
                      </a:lnTo>
                      <a:lnTo>
                        <a:pt x="896" y="429"/>
                      </a:lnTo>
                      <a:lnTo>
                        <a:pt x="895" y="402"/>
                      </a:lnTo>
                      <a:lnTo>
                        <a:pt x="892" y="376"/>
                      </a:lnTo>
                      <a:lnTo>
                        <a:pt x="888" y="351"/>
                      </a:lnTo>
                      <a:lnTo>
                        <a:pt x="883" y="325"/>
                      </a:lnTo>
                      <a:lnTo>
                        <a:pt x="877" y="300"/>
                      </a:lnTo>
                      <a:lnTo>
                        <a:pt x="870" y="276"/>
                      </a:lnTo>
                      <a:lnTo>
                        <a:pt x="862" y="252"/>
                      </a:lnTo>
                      <a:lnTo>
                        <a:pt x="851" y="229"/>
                      </a:lnTo>
                      <a:lnTo>
                        <a:pt x="840" y="207"/>
                      </a:lnTo>
                      <a:lnTo>
                        <a:pt x="828" y="186"/>
                      </a:lnTo>
                      <a:lnTo>
                        <a:pt x="813" y="166"/>
                      </a:lnTo>
                      <a:lnTo>
                        <a:pt x="798" y="147"/>
                      </a:lnTo>
                      <a:lnTo>
                        <a:pt x="781" y="129"/>
                      </a:lnTo>
                      <a:lnTo>
                        <a:pt x="762" y="113"/>
                      </a:lnTo>
                      <a:lnTo>
                        <a:pt x="741" y="97"/>
                      </a:lnTo>
                      <a:lnTo>
                        <a:pt x="719" y="83"/>
                      </a:lnTo>
                      <a:lnTo>
                        <a:pt x="695" y="70"/>
                      </a:lnTo>
                      <a:lnTo>
                        <a:pt x="669" y="60"/>
                      </a:lnTo>
                      <a:lnTo>
                        <a:pt x="641" y="51"/>
                      </a:lnTo>
                      <a:lnTo>
                        <a:pt x="610" y="43"/>
                      </a:lnTo>
                      <a:lnTo>
                        <a:pt x="556" y="48"/>
                      </a:lnTo>
                      <a:lnTo>
                        <a:pt x="499" y="54"/>
                      </a:lnTo>
                      <a:lnTo>
                        <a:pt x="470" y="55"/>
                      </a:lnTo>
                      <a:lnTo>
                        <a:pt x="440" y="56"/>
                      </a:lnTo>
                      <a:lnTo>
                        <a:pt x="410" y="56"/>
                      </a:lnTo>
                      <a:lnTo>
                        <a:pt x="380" y="55"/>
                      </a:lnTo>
                      <a:lnTo>
                        <a:pt x="351" y="54"/>
                      </a:lnTo>
                      <a:lnTo>
                        <a:pt x="321" y="51"/>
                      </a:lnTo>
                      <a:lnTo>
                        <a:pt x="291" y="46"/>
                      </a:lnTo>
                      <a:lnTo>
                        <a:pt x="261" y="40"/>
                      </a:lnTo>
                      <a:lnTo>
                        <a:pt x="232" y="33"/>
                      </a:lnTo>
                      <a:lnTo>
                        <a:pt x="202" y="24"/>
                      </a:lnTo>
                      <a:lnTo>
                        <a:pt x="174" y="13"/>
                      </a:lnTo>
                      <a:lnTo>
                        <a:pt x="146" y="0"/>
                      </a:lnTo>
                      <a:close/>
                      <a:moveTo>
                        <a:pt x="5076" y="7047"/>
                      </a:moveTo>
                      <a:lnTo>
                        <a:pt x="5073" y="7059"/>
                      </a:lnTo>
                      <a:lnTo>
                        <a:pt x="5069" y="7071"/>
                      </a:lnTo>
                      <a:lnTo>
                        <a:pt x="5068" y="7084"/>
                      </a:lnTo>
                      <a:lnTo>
                        <a:pt x="5066" y="7097"/>
                      </a:lnTo>
                      <a:lnTo>
                        <a:pt x="5065" y="7122"/>
                      </a:lnTo>
                      <a:lnTo>
                        <a:pt x="5065" y="7148"/>
                      </a:lnTo>
                      <a:lnTo>
                        <a:pt x="5066" y="7175"/>
                      </a:lnTo>
                      <a:lnTo>
                        <a:pt x="5069" y="7201"/>
                      </a:lnTo>
                      <a:lnTo>
                        <a:pt x="5073" y="7229"/>
                      </a:lnTo>
                      <a:lnTo>
                        <a:pt x="5076" y="7258"/>
                      </a:lnTo>
                      <a:lnTo>
                        <a:pt x="5103" y="7262"/>
                      </a:lnTo>
                      <a:lnTo>
                        <a:pt x="5128" y="7267"/>
                      </a:lnTo>
                      <a:lnTo>
                        <a:pt x="5153" y="7272"/>
                      </a:lnTo>
                      <a:lnTo>
                        <a:pt x="5177" y="7278"/>
                      </a:lnTo>
                      <a:lnTo>
                        <a:pt x="5201" y="7285"/>
                      </a:lnTo>
                      <a:lnTo>
                        <a:pt x="5224" y="7292"/>
                      </a:lnTo>
                      <a:lnTo>
                        <a:pt x="5247" y="7300"/>
                      </a:lnTo>
                      <a:lnTo>
                        <a:pt x="5269" y="7309"/>
                      </a:lnTo>
                      <a:lnTo>
                        <a:pt x="5290" y="7318"/>
                      </a:lnTo>
                      <a:lnTo>
                        <a:pt x="5311" y="7328"/>
                      </a:lnTo>
                      <a:lnTo>
                        <a:pt x="5331" y="7338"/>
                      </a:lnTo>
                      <a:lnTo>
                        <a:pt x="5351" y="7348"/>
                      </a:lnTo>
                      <a:lnTo>
                        <a:pt x="5369" y="7360"/>
                      </a:lnTo>
                      <a:lnTo>
                        <a:pt x="5386" y="7371"/>
                      </a:lnTo>
                      <a:lnTo>
                        <a:pt x="5404" y="7384"/>
                      </a:lnTo>
                      <a:lnTo>
                        <a:pt x="5421" y="7397"/>
                      </a:lnTo>
                      <a:lnTo>
                        <a:pt x="5436" y="7409"/>
                      </a:lnTo>
                      <a:lnTo>
                        <a:pt x="5451" y="7423"/>
                      </a:lnTo>
                      <a:lnTo>
                        <a:pt x="5464" y="7437"/>
                      </a:lnTo>
                      <a:lnTo>
                        <a:pt x="5478" y="7452"/>
                      </a:lnTo>
                      <a:lnTo>
                        <a:pt x="5491" y="7466"/>
                      </a:lnTo>
                      <a:lnTo>
                        <a:pt x="5502" y="7482"/>
                      </a:lnTo>
                      <a:lnTo>
                        <a:pt x="5513" y="7497"/>
                      </a:lnTo>
                      <a:lnTo>
                        <a:pt x="5522" y="7513"/>
                      </a:lnTo>
                      <a:lnTo>
                        <a:pt x="5531" y="7529"/>
                      </a:lnTo>
                      <a:lnTo>
                        <a:pt x="5539" y="7546"/>
                      </a:lnTo>
                      <a:lnTo>
                        <a:pt x="5546" y="7563"/>
                      </a:lnTo>
                      <a:lnTo>
                        <a:pt x="5552" y="7580"/>
                      </a:lnTo>
                      <a:lnTo>
                        <a:pt x="5556" y="7598"/>
                      </a:lnTo>
                      <a:lnTo>
                        <a:pt x="5561" y="7616"/>
                      </a:lnTo>
                      <a:lnTo>
                        <a:pt x="5563" y="7634"/>
                      </a:lnTo>
                      <a:lnTo>
                        <a:pt x="5565" y="7653"/>
                      </a:lnTo>
                      <a:lnTo>
                        <a:pt x="5577" y="7665"/>
                      </a:lnTo>
                      <a:lnTo>
                        <a:pt x="5590" y="7676"/>
                      </a:lnTo>
                      <a:lnTo>
                        <a:pt x="5602" y="7686"/>
                      </a:lnTo>
                      <a:lnTo>
                        <a:pt x="5615" y="7694"/>
                      </a:lnTo>
                      <a:lnTo>
                        <a:pt x="5627" y="7701"/>
                      </a:lnTo>
                      <a:lnTo>
                        <a:pt x="5640" y="7707"/>
                      </a:lnTo>
                      <a:lnTo>
                        <a:pt x="5654" y="7711"/>
                      </a:lnTo>
                      <a:lnTo>
                        <a:pt x="5667" y="7715"/>
                      </a:lnTo>
                      <a:lnTo>
                        <a:pt x="5679" y="7717"/>
                      </a:lnTo>
                      <a:lnTo>
                        <a:pt x="5693" y="7718"/>
                      </a:lnTo>
                      <a:lnTo>
                        <a:pt x="5706" y="7718"/>
                      </a:lnTo>
                      <a:lnTo>
                        <a:pt x="5718" y="7717"/>
                      </a:lnTo>
                      <a:lnTo>
                        <a:pt x="5731" y="7716"/>
                      </a:lnTo>
                      <a:lnTo>
                        <a:pt x="5743" y="7714"/>
                      </a:lnTo>
                      <a:lnTo>
                        <a:pt x="5756" y="7710"/>
                      </a:lnTo>
                      <a:lnTo>
                        <a:pt x="5769" y="7707"/>
                      </a:lnTo>
                      <a:lnTo>
                        <a:pt x="5793" y="7696"/>
                      </a:lnTo>
                      <a:lnTo>
                        <a:pt x="5816" y="7685"/>
                      </a:lnTo>
                      <a:lnTo>
                        <a:pt x="5836" y="7671"/>
                      </a:lnTo>
                      <a:lnTo>
                        <a:pt x="5856" y="7655"/>
                      </a:lnTo>
                      <a:lnTo>
                        <a:pt x="5874" y="7639"/>
                      </a:lnTo>
                      <a:lnTo>
                        <a:pt x="5890" y="7622"/>
                      </a:lnTo>
                      <a:lnTo>
                        <a:pt x="5904" y="7605"/>
                      </a:lnTo>
                      <a:lnTo>
                        <a:pt x="5915" y="7588"/>
                      </a:lnTo>
                      <a:lnTo>
                        <a:pt x="5913" y="7561"/>
                      </a:lnTo>
                      <a:lnTo>
                        <a:pt x="5913" y="7536"/>
                      </a:lnTo>
                      <a:lnTo>
                        <a:pt x="5915" y="7511"/>
                      </a:lnTo>
                      <a:lnTo>
                        <a:pt x="5917" y="7487"/>
                      </a:lnTo>
                      <a:lnTo>
                        <a:pt x="5921" y="7464"/>
                      </a:lnTo>
                      <a:lnTo>
                        <a:pt x="5926" y="7443"/>
                      </a:lnTo>
                      <a:lnTo>
                        <a:pt x="5931" y="7422"/>
                      </a:lnTo>
                      <a:lnTo>
                        <a:pt x="5936" y="7401"/>
                      </a:lnTo>
                      <a:lnTo>
                        <a:pt x="5947" y="7362"/>
                      </a:lnTo>
                      <a:lnTo>
                        <a:pt x="5955" y="7325"/>
                      </a:lnTo>
                      <a:lnTo>
                        <a:pt x="5957" y="7308"/>
                      </a:lnTo>
                      <a:lnTo>
                        <a:pt x="5958" y="7290"/>
                      </a:lnTo>
                      <a:lnTo>
                        <a:pt x="5958" y="7272"/>
                      </a:lnTo>
                      <a:lnTo>
                        <a:pt x="5956" y="7255"/>
                      </a:lnTo>
                      <a:lnTo>
                        <a:pt x="5956" y="7239"/>
                      </a:lnTo>
                      <a:lnTo>
                        <a:pt x="5954" y="7222"/>
                      </a:lnTo>
                      <a:lnTo>
                        <a:pt x="5950" y="7206"/>
                      </a:lnTo>
                      <a:lnTo>
                        <a:pt x="5944" y="7191"/>
                      </a:lnTo>
                      <a:lnTo>
                        <a:pt x="5936" y="7176"/>
                      </a:lnTo>
                      <a:lnTo>
                        <a:pt x="5927" y="7161"/>
                      </a:lnTo>
                      <a:lnTo>
                        <a:pt x="5917" y="7147"/>
                      </a:lnTo>
                      <a:lnTo>
                        <a:pt x="5905" y="7133"/>
                      </a:lnTo>
                      <a:lnTo>
                        <a:pt x="5880" y="7106"/>
                      </a:lnTo>
                      <a:lnTo>
                        <a:pt x="5853" y="7081"/>
                      </a:lnTo>
                      <a:lnTo>
                        <a:pt x="5825" y="7055"/>
                      </a:lnTo>
                      <a:lnTo>
                        <a:pt x="5796" y="7031"/>
                      </a:lnTo>
                      <a:lnTo>
                        <a:pt x="5792" y="7022"/>
                      </a:lnTo>
                      <a:lnTo>
                        <a:pt x="5787" y="7013"/>
                      </a:lnTo>
                      <a:lnTo>
                        <a:pt x="5784" y="7004"/>
                      </a:lnTo>
                      <a:lnTo>
                        <a:pt x="5780" y="6994"/>
                      </a:lnTo>
                      <a:lnTo>
                        <a:pt x="5774" y="6974"/>
                      </a:lnTo>
                      <a:lnTo>
                        <a:pt x="5771" y="6953"/>
                      </a:lnTo>
                      <a:lnTo>
                        <a:pt x="5769" y="6931"/>
                      </a:lnTo>
                      <a:lnTo>
                        <a:pt x="5768" y="6909"/>
                      </a:lnTo>
                      <a:lnTo>
                        <a:pt x="5768" y="6889"/>
                      </a:lnTo>
                      <a:lnTo>
                        <a:pt x="5768" y="6869"/>
                      </a:lnTo>
                      <a:lnTo>
                        <a:pt x="5729" y="6889"/>
                      </a:lnTo>
                      <a:lnTo>
                        <a:pt x="5688" y="6906"/>
                      </a:lnTo>
                      <a:lnTo>
                        <a:pt x="5648" y="6923"/>
                      </a:lnTo>
                      <a:lnTo>
                        <a:pt x="5607" y="6938"/>
                      </a:lnTo>
                      <a:lnTo>
                        <a:pt x="5565" y="6952"/>
                      </a:lnTo>
                      <a:lnTo>
                        <a:pt x="5524" y="6965"/>
                      </a:lnTo>
                      <a:lnTo>
                        <a:pt x="5482" y="6976"/>
                      </a:lnTo>
                      <a:lnTo>
                        <a:pt x="5439" y="6986"/>
                      </a:lnTo>
                      <a:lnTo>
                        <a:pt x="5395" y="6997"/>
                      </a:lnTo>
                      <a:lnTo>
                        <a:pt x="5352" y="7006"/>
                      </a:lnTo>
                      <a:lnTo>
                        <a:pt x="5307" y="7014"/>
                      </a:lnTo>
                      <a:lnTo>
                        <a:pt x="5262" y="7021"/>
                      </a:lnTo>
                      <a:lnTo>
                        <a:pt x="5170" y="7035"/>
                      </a:lnTo>
                      <a:lnTo>
                        <a:pt x="5076" y="7047"/>
                      </a:lnTo>
                      <a:close/>
                      <a:moveTo>
                        <a:pt x="1749" y="7020"/>
                      </a:moveTo>
                      <a:lnTo>
                        <a:pt x="1754" y="7037"/>
                      </a:lnTo>
                      <a:lnTo>
                        <a:pt x="1759" y="7053"/>
                      </a:lnTo>
                      <a:lnTo>
                        <a:pt x="1762" y="7070"/>
                      </a:lnTo>
                      <a:lnTo>
                        <a:pt x="1765" y="7086"/>
                      </a:lnTo>
                      <a:lnTo>
                        <a:pt x="1767" y="7102"/>
                      </a:lnTo>
                      <a:lnTo>
                        <a:pt x="1768" y="7119"/>
                      </a:lnTo>
                      <a:lnTo>
                        <a:pt x="1769" y="7133"/>
                      </a:lnTo>
                      <a:lnTo>
                        <a:pt x="1769" y="7150"/>
                      </a:lnTo>
                      <a:lnTo>
                        <a:pt x="1767" y="7179"/>
                      </a:lnTo>
                      <a:lnTo>
                        <a:pt x="1764" y="7209"/>
                      </a:lnTo>
                      <a:lnTo>
                        <a:pt x="1760" y="7239"/>
                      </a:lnTo>
                      <a:lnTo>
                        <a:pt x="1755" y="7269"/>
                      </a:lnTo>
                      <a:lnTo>
                        <a:pt x="1749" y="7299"/>
                      </a:lnTo>
                      <a:lnTo>
                        <a:pt x="1745" y="7330"/>
                      </a:lnTo>
                      <a:lnTo>
                        <a:pt x="1741" y="7361"/>
                      </a:lnTo>
                      <a:lnTo>
                        <a:pt x="1739" y="7393"/>
                      </a:lnTo>
                      <a:lnTo>
                        <a:pt x="1739" y="7410"/>
                      </a:lnTo>
                      <a:lnTo>
                        <a:pt x="1739" y="7426"/>
                      </a:lnTo>
                      <a:lnTo>
                        <a:pt x="1740" y="7444"/>
                      </a:lnTo>
                      <a:lnTo>
                        <a:pt x="1741" y="7462"/>
                      </a:lnTo>
                      <a:lnTo>
                        <a:pt x="1744" y="7479"/>
                      </a:lnTo>
                      <a:lnTo>
                        <a:pt x="1747" y="7498"/>
                      </a:lnTo>
                      <a:lnTo>
                        <a:pt x="1750" y="7517"/>
                      </a:lnTo>
                      <a:lnTo>
                        <a:pt x="1755" y="7536"/>
                      </a:lnTo>
                      <a:lnTo>
                        <a:pt x="1767" y="7502"/>
                      </a:lnTo>
                      <a:lnTo>
                        <a:pt x="1782" y="7471"/>
                      </a:lnTo>
                      <a:lnTo>
                        <a:pt x="1800" y="7444"/>
                      </a:lnTo>
                      <a:lnTo>
                        <a:pt x="1821" y="7417"/>
                      </a:lnTo>
                      <a:lnTo>
                        <a:pt x="1846" y="7395"/>
                      </a:lnTo>
                      <a:lnTo>
                        <a:pt x="1873" y="7375"/>
                      </a:lnTo>
                      <a:lnTo>
                        <a:pt x="1903" y="7356"/>
                      </a:lnTo>
                      <a:lnTo>
                        <a:pt x="1935" y="7340"/>
                      </a:lnTo>
                      <a:lnTo>
                        <a:pt x="1969" y="7328"/>
                      </a:lnTo>
                      <a:lnTo>
                        <a:pt x="2005" y="7316"/>
                      </a:lnTo>
                      <a:lnTo>
                        <a:pt x="2042" y="7306"/>
                      </a:lnTo>
                      <a:lnTo>
                        <a:pt x="2081" y="7299"/>
                      </a:lnTo>
                      <a:lnTo>
                        <a:pt x="2121" y="7293"/>
                      </a:lnTo>
                      <a:lnTo>
                        <a:pt x="2162" y="7289"/>
                      </a:lnTo>
                      <a:lnTo>
                        <a:pt x="2202" y="7286"/>
                      </a:lnTo>
                      <a:lnTo>
                        <a:pt x="2243" y="7286"/>
                      </a:lnTo>
                      <a:lnTo>
                        <a:pt x="2284" y="7286"/>
                      </a:lnTo>
                      <a:lnTo>
                        <a:pt x="2326" y="7289"/>
                      </a:lnTo>
                      <a:lnTo>
                        <a:pt x="2366" y="7291"/>
                      </a:lnTo>
                      <a:lnTo>
                        <a:pt x="2405" y="7295"/>
                      </a:lnTo>
                      <a:lnTo>
                        <a:pt x="2444" y="7301"/>
                      </a:lnTo>
                      <a:lnTo>
                        <a:pt x="2481" y="7307"/>
                      </a:lnTo>
                      <a:lnTo>
                        <a:pt x="2516" y="7314"/>
                      </a:lnTo>
                      <a:lnTo>
                        <a:pt x="2551" y="7322"/>
                      </a:lnTo>
                      <a:lnTo>
                        <a:pt x="2583" y="7330"/>
                      </a:lnTo>
                      <a:lnTo>
                        <a:pt x="2612" y="7339"/>
                      </a:lnTo>
                      <a:lnTo>
                        <a:pt x="2639" y="7349"/>
                      </a:lnTo>
                      <a:lnTo>
                        <a:pt x="2663" y="7359"/>
                      </a:lnTo>
                      <a:lnTo>
                        <a:pt x="2684" y="7369"/>
                      </a:lnTo>
                      <a:lnTo>
                        <a:pt x="2703" y="7379"/>
                      </a:lnTo>
                      <a:lnTo>
                        <a:pt x="2716" y="7390"/>
                      </a:lnTo>
                      <a:lnTo>
                        <a:pt x="2727" y="7400"/>
                      </a:lnTo>
                      <a:lnTo>
                        <a:pt x="2730" y="7382"/>
                      </a:lnTo>
                      <a:lnTo>
                        <a:pt x="2730" y="7364"/>
                      </a:lnTo>
                      <a:lnTo>
                        <a:pt x="2730" y="7346"/>
                      </a:lnTo>
                      <a:lnTo>
                        <a:pt x="2728" y="7329"/>
                      </a:lnTo>
                      <a:lnTo>
                        <a:pt x="2720" y="7293"/>
                      </a:lnTo>
                      <a:lnTo>
                        <a:pt x="2709" y="7256"/>
                      </a:lnTo>
                      <a:lnTo>
                        <a:pt x="2704" y="7237"/>
                      </a:lnTo>
                      <a:lnTo>
                        <a:pt x="2698" y="7217"/>
                      </a:lnTo>
                      <a:lnTo>
                        <a:pt x="2693" y="7197"/>
                      </a:lnTo>
                      <a:lnTo>
                        <a:pt x="2690" y="7175"/>
                      </a:lnTo>
                      <a:lnTo>
                        <a:pt x="2686" y="7153"/>
                      </a:lnTo>
                      <a:lnTo>
                        <a:pt x="2685" y="7129"/>
                      </a:lnTo>
                      <a:lnTo>
                        <a:pt x="2684" y="7104"/>
                      </a:lnTo>
                      <a:lnTo>
                        <a:pt x="2686" y="7077"/>
                      </a:lnTo>
                      <a:lnTo>
                        <a:pt x="2636" y="7088"/>
                      </a:lnTo>
                      <a:lnTo>
                        <a:pt x="2583" y="7097"/>
                      </a:lnTo>
                      <a:lnTo>
                        <a:pt x="2529" y="7105"/>
                      </a:lnTo>
                      <a:lnTo>
                        <a:pt x="2473" y="7112"/>
                      </a:lnTo>
                      <a:lnTo>
                        <a:pt x="2414" y="7116"/>
                      </a:lnTo>
                      <a:lnTo>
                        <a:pt x="2356" y="7119"/>
                      </a:lnTo>
                      <a:lnTo>
                        <a:pt x="2296" y="7120"/>
                      </a:lnTo>
                      <a:lnTo>
                        <a:pt x="2235" y="7119"/>
                      </a:lnTo>
                      <a:lnTo>
                        <a:pt x="2173" y="7115"/>
                      </a:lnTo>
                      <a:lnTo>
                        <a:pt x="2111" y="7109"/>
                      </a:lnTo>
                      <a:lnTo>
                        <a:pt x="2081" y="7106"/>
                      </a:lnTo>
                      <a:lnTo>
                        <a:pt x="2050" y="7101"/>
                      </a:lnTo>
                      <a:lnTo>
                        <a:pt x="2019" y="7097"/>
                      </a:lnTo>
                      <a:lnTo>
                        <a:pt x="1988" y="7091"/>
                      </a:lnTo>
                      <a:lnTo>
                        <a:pt x="1957" y="7084"/>
                      </a:lnTo>
                      <a:lnTo>
                        <a:pt x="1927" y="7077"/>
                      </a:lnTo>
                      <a:lnTo>
                        <a:pt x="1896" y="7069"/>
                      </a:lnTo>
                      <a:lnTo>
                        <a:pt x="1866" y="7061"/>
                      </a:lnTo>
                      <a:lnTo>
                        <a:pt x="1837" y="7052"/>
                      </a:lnTo>
                      <a:lnTo>
                        <a:pt x="1807" y="7042"/>
                      </a:lnTo>
                      <a:lnTo>
                        <a:pt x="1778" y="7031"/>
                      </a:lnTo>
                      <a:lnTo>
                        <a:pt x="1749" y="7020"/>
                      </a:lnTo>
                      <a:close/>
                    </a:path>
                  </a:pathLst>
                </a:custGeom>
                <a:solidFill>
                  <a:srgbClr val="ffbf8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2" name=""/>
                <p:cNvSpPr/>
                <p:nvPr/>
              </p:nvSpPr>
              <p:spPr>
                <a:xfrm>
                  <a:off x="3122280" y="3331440"/>
                  <a:ext cx="44280" cy="213120"/>
                </a:xfrm>
                <a:custGeom>
                  <a:avLst/>
                  <a:gdLst/>
                  <a:ahLst/>
                  <a:rect l="l" t="t" r="r" b="b"/>
                  <a:pathLst>
                    <a:path w="215" h="1128">
                      <a:moveTo>
                        <a:pt x="64" y="1100"/>
                      </a:moveTo>
                      <a:lnTo>
                        <a:pt x="63" y="1105"/>
                      </a:lnTo>
                      <a:lnTo>
                        <a:pt x="94" y="996"/>
                      </a:lnTo>
                      <a:lnTo>
                        <a:pt x="120" y="891"/>
                      </a:lnTo>
                      <a:lnTo>
                        <a:pt x="143" y="795"/>
                      </a:lnTo>
                      <a:lnTo>
                        <a:pt x="162" y="703"/>
                      </a:lnTo>
                      <a:lnTo>
                        <a:pt x="178" y="617"/>
                      </a:lnTo>
                      <a:lnTo>
                        <a:pt x="189" y="537"/>
                      </a:lnTo>
                      <a:lnTo>
                        <a:pt x="200" y="462"/>
                      </a:lnTo>
                      <a:lnTo>
                        <a:pt x="207" y="393"/>
                      </a:lnTo>
                      <a:lnTo>
                        <a:pt x="211" y="327"/>
                      </a:lnTo>
                      <a:lnTo>
                        <a:pt x="213" y="268"/>
                      </a:lnTo>
                      <a:lnTo>
                        <a:pt x="215" y="212"/>
                      </a:lnTo>
                      <a:lnTo>
                        <a:pt x="215" y="161"/>
                      </a:lnTo>
                      <a:lnTo>
                        <a:pt x="213" y="115"/>
                      </a:lnTo>
                      <a:lnTo>
                        <a:pt x="211" y="72"/>
                      </a:lnTo>
                      <a:lnTo>
                        <a:pt x="208" y="34"/>
                      </a:lnTo>
                      <a:lnTo>
                        <a:pt x="205" y="0"/>
                      </a:lnTo>
                      <a:lnTo>
                        <a:pt x="141" y="6"/>
                      </a:lnTo>
                      <a:lnTo>
                        <a:pt x="143" y="39"/>
                      </a:lnTo>
                      <a:lnTo>
                        <a:pt x="147" y="77"/>
                      </a:lnTo>
                      <a:lnTo>
                        <a:pt x="149" y="117"/>
                      </a:lnTo>
                      <a:lnTo>
                        <a:pt x="150" y="162"/>
                      </a:lnTo>
                      <a:lnTo>
                        <a:pt x="150" y="211"/>
                      </a:lnTo>
                      <a:lnTo>
                        <a:pt x="149" y="265"/>
                      </a:lnTo>
                      <a:lnTo>
                        <a:pt x="147" y="324"/>
                      </a:lnTo>
                      <a:lnTo>
                        <a:pt x="142" y="387"/>
                      </a:lnTo>
                      <a:lnTo>
                        <a:pt x="135" y="455"/>
                      </a:lnTo>
                      <a:lnTo>
                        <a:pt x="126" y="528"/>
                      </a:lnTo>
                      <a:lnTo>
                        <a:pt x="113" y="606"/>
                      </a:lnTo>
                      <a:lnTo>
                        <a:pt x="99" y="691"/>
                      </a:lnTo>
                      <a:lnTo>
                        <a:pt x="80" y="781"/>
                      </a:lnTo>
                      <a:lnTo>
                        <a:pt x="57" y="876"/>
                      </a:lnTo>
                      <a:lnTo>
                        <a:pt x="32" y="979"/>
                      </a:lnTo>
                      <a:lnTo>
                        <a:pt x="1" y="1087"/>
                      </a:lnTo>
                      <a:lnTo>
                        <a:pt x="0" y="1091"/>
                      </a:lnTo>
                      <a:lnTo>
                        <a:pt x="1" y="1087"/>
                      </a:lnTo>
                      <a:lnTo>
                        <a:pt x="0" y="1095"/>
                      </a:lnTo>
                      <a:lnTo>
                        <a:pt x="0" y="1102"/>
                      </a:lnTo>
                      <a:lnTo>
                        <a:pt x="1" y="1107"/>
                      </a:lnTo>
                      <a:lnTo>
                        <a:pt x="4" y="1113"/>
                      </a:lnTo>
                      <a:lnTo>
                        <a:pt x="8" y="1118"/>
                      </a:lnTo>
                      <a:lnTo>
                        <a:pt x="12" y="1121"/>
                      </a:lnTo>
                      <a:lnTo>
                        <a:pt x="17" y="1125"/>
                      </a:lnTo>
                      <a:lnTo>
                        <a:pt x="23" y="1127"/>
                      </a:lnTo>
                      <a:lnTo>
                        <a:pt x="29" y="1128"/>
                      </a:lnTo>
                      <a:lnTo>
                        <a:pt x="35" y="1128"/>
                      </a:lnTo>
                      <a:lnTo>
                        <a:pt x="41" y="1127"/>
                      </a:lnTo>
                      <a:lnTo>
                        <a:pt x="47" y="1126"/>
                      </a:lnTo>
                      <a:lnTo>
                        <a:pt x="51" y="1122"/>
                      </a:lnTo>
                      <a:lnTo>
                        <a:pt x="56" y="1118"/>
                      </a:lnTo>
                      <a:lnTo>
                        <a:pt x="61" y="1112"/>
                      </a:lnTo>
                      <a:lnTo>
                        <a:pt x="63" y="1105"/>
                      </a:lnTo>
                      <a:lnTo>
                        <a:pt x="64" y="110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3" name=""/>
                <p:cNvSpPr/>
                <p:nvPr/>
              </p:nvSpPr>
              <p:spPr>
                <a:xfrm>
                  <a:off x="3122280" y="3538440"/>
                  <a:ext cx="168480" cy="121320"/>
                </a:xfrm>
                <a:custGeom>
                  <a:avLst/>
                  <a:gdLst/>
                  <a:ahLst/>
                  <a:rect l="l" t="t" r="r" b="b"/>
                  <a:pathLst>
                    <a:path w="837" h="636">
                      <a:moveTo>
                        <a:pt x="812" y="571"/>
                      </a:moveTo>
                      <a:lnTo>
                        <a:pt x="811" y="571"/>
                      </a:lnTo>
                      <a:lnTo>
                        <a:pt x="741" y="555"/>
                      </a:lnTo>
                      <a:lnTo>
                        <a:pt x="670" y="538"/>
                      </a:lnTo>
                      <a:lnTo>
                        <a:pt x="599" y="517"/>
                      </a:lnTo>
                      <a:lnTo>
                        <a:pt x="528" y="495"/>
                      </a:lnTo>
                      <a:lnTo>
                        <a:pt x="494" y="484"/>
                      </a:lnTo>
                      <a:lnTo>
                        <a:pt x="461" y="471"/>
                      </a:lnTo>
                      <a:lnTo>
                        <a:pt x="427" y="459"/>
                      </a:lnTo>
                      <a:lnTo>
                        <a:pt x="395" y="445"/>
                      </a:lnTo>
                      <a:lnTo>
                        <a:pt x="364" y="430"/>
                      </a:lnTo>
                      <a:lnTo>
                        <a:pt x="333" y="415"/>
                      </a:lnTo>
                      <a:lnTo>
                        <a:pt x="305" y="400"/>
                      </a:lnTo>
                      <a:lnTo>
                        <a:pt x="276" y="383"/>
                      </a:lnTo>
                      <a:lnTo>
                        <a:pt x="249" y="366"/>
                      </a:lnTo>
                      <a:lnTo>
                        <a:pt x="224" y="348"/>
                      </a:lnTo>
                      <a:lnTo>
                        <a:pt x="201" y="329"/>
                      </a:lnTo>
                      <a:lnTo>
                        <a:pt x="178" y="309"/>
                      </a:lnTo>
                      <a:lnTo>
                        <a:pt x="159" y="290"/>
                      </a:lnTo>
                      <a:lnTo>
                        <a:pt x="140" y="269"/>
                      </a:lnTo>
                      <a:lnTo>
                        <a:pt x="123" y="247"/>
                      </a:lnTo>
                      <a:lnTo>
                        <a:pt x="108" y="224"/>
                      </a:lnTo>
                      <a:lnTo>
                        <a:pt x="96" y="201"/>
                      </a:lnTo>
                      <a:lnTo>
                        <a:pt x="85" y="177"/>
                      </a:lnTo>
                      <a:lnTo>
                        <a:pt x="81" y="165"/>
                      </a:lnTo>
                      <a:lnTo>
                        <a:pt x="77" y="152"/>
                      </a:lnTo>
                      <a:lnTo>
                        <a:pt x="74" y="139"/>
                      </a:lnTo>
                      <a:lnTo>
                        <a:pt x="70" y="127"/>
                      </a:lnTo>
                      <a:lnTo>
                        <a:pt x="68" y="113"/>
                      </a:lnTo>
                      <a:lnTo>
                        <a:pt x="67" y="99"/>
                      </a:lnTo>
                      <a:lnTo>
                        <a:pt x="66" y="85"/>
                      </a:lnTo>
                      <a:lnTo>
                        <a:pt x="65" y="70"/>
                      </a:lnTo>
                      <a:lnTo>
                        <a:pt x="65" y="55"/>
                      </a:lnTo>
                      <a:lnTo>
                        <a:pt x="66" y="40"/>
                      </a:lnTo>
                      <a:lnTo>
                        <a:pt x="67" y="26"/>
                      </a:lnTo>
                      <a:lnTo>
                        <a:pt x="69" y="9"/>
                      </a:lnTo>
                      <a:lnTo>
                        <a:pt x="5" y="0"/>
                      </a:lnTo>
                      <a:lnTo>
                        <a:pt x="2" y="19"/>
                      </a:lnTo>
                      <a:lnTo>
                        <a:pt x="1" y="36"/>
                      </a:lnTo>
                      <a:lnTo>
                        <a:pt x="0" y="54"/>
                      </a:lnTo>
                      <a:lnTo>
                        <a:pt x="0" y="71"/>
                      </a:lnTo>
                      <a:lnTo>
                        <a:pt x="1" y="89"/>
                      </a:lnTo>
                      <a:lnTo>
                        <a:pt x="2" y="106"/>
                      </a:lnTo>
                      <a:lnTo>
                        <a:pt x="5" y="122"/>
                      </a:lnTo>
                      <a:lnTo>
                        <a:pt x="7" y="138"/>
                      </a:lnTo>
                      <a:lnTo>
                        <a:pt x="11" y="154"/>
                      </a:lnTo>
                      <a:lnTo>
                        <a:pt x="15" y="170"/>
                      </a:lnTo>
                      <a:lnTo>
                        <a:pt x="20" y="185"/>
                      </a:lnTo>
                      <a:lnTo>
                        <a:pt x="25" y="201"/>
                      </a:lnTo>
                      <a:lnTo>
                        <a:pt x="38" y="230"/>
                      </a:lnTo>
                      <a:lnTo>
                        <a:pt x="53" y="258"/>
                      </a:lnTo>
                      <a:lnTo>
                        <a:pt x="70" y="285"/>
                      </a:lnTo>
                      <a:lnTo>
                        <a:pt x="90" y="310"/>
                      </a:lnTo>
                      <a:lnTo>
                        <a:pt x="112" y="335"/>
                      </a:lnTo>
                      <a:lnTo>
                        <a:pt x="135" y="358"/>
                      </a:lnTo>
                      <a:lnTo>
                        <a:pt x="160" y="379"/>
                      </a:lnTo>
                      <a:lnTo>
                        <a:pt x="186" y="400"/>
                      </a:lnTo>
                      <a:lnTo>
                        <a:pt x="214" y="420"/>
                      </a:lnTo>
                      <a:lnTo>
                        <a:pt x="243" y="438"/>
                      </a:lnTo>
                      <a:lnTo>
                        <a:pt x="272" y="456"/>
                      </a:lnTo>
                      <a:lnTo>
                        <a:pt x="303" y="472"/>
                      </a:lnTo>
                      <a:lnTo>
                        <a:pt x="336" y="489"/>
                      </a:lnTo>
                      <a:lnTo>
                        <a:pt x="369" y="505"/>
                      </a:lnTo>
                      <a:lnTo>
                        <a:pt x="403" y="518"/>
                      </a:lnTo>
                      <a:lnTo>
                        <a:pt x="438" y="532"/>
                      </a:lnTo>
                      <a:lnTo>
                        <a:pt x="472" y="545"/>
                      </a:lnTo>
                      <a:lnTo>
                        <a:pt x="509" y="557"/>
                      </a:lnTo>
                      <a:lnTo>
                        <a:pt x="580" y="579"/>
                      </a:lnTo>
                      <a:lnTo>
                        <a:pt x="654" y="600"/>
                      </a:lnTo>
                      <a:lnTo>
                        <a:pt x="726" y="618"/>
                      </a:lnTo>
                      <a:lnTo>
                        <a:pt x="798" y="634"/>
                      </a:lnTo>
                      <a:lnTo>
                        <a:pt x="797" y="634"/>
                      </a:lnTo>
                      <a:lnTo>
                        <a:pt x="798" y="634"/>
                      </a:lnTo>
                      <a:lnTo>
                        <a:pt x="805" y="636"/>
                      </a:lnTo>
                      <a:lnTo>
                        <a:pt x="812" y="634"/>
                      </a:lnTo>
                      <a:lnTo>
                        <a:pt x="818" y="632"/>
                      </a:lnTo>
                      <a:lnTo>
                        <a:pt x="824" y="630"/>
                      </a:lnTo>
                      <a:lnTo>
                        <a:pt x="828" y="625"/>
                      </a:lnTo>
                      <a:lnTo>
                        <a:pt x="832" y="621"/>
                      </a:lnTo>
                      <a:lnTo>
                        <a:pt x="834" y="615"/>
                      </a:lnTo>
                      <a:lnTo>
                        <a:pt x="836" y="609"/>
                      </a:lnTo>
                      <a:lnTo>
                        <a:pt x="837" y="603"/>
                      </a:lnTo>
                      <a:lnTo>
                        <a:pt x="836" y="598"/>
                      </a:lnTo>
                      <a:lnTo>
                        <a:pt x="835" y="592"/>
                      </a:lnTo>
                      <a:lnTo>
                        <a:pt x="833" y="586"/>
                      </a:lnTo>
                      <a:lnTo>
                        <a:pt x="829" y="580"/>
                      </a:lnTo>
                      <a:lnTo>
                        <a:pt x="825" y="577"/>
                      </a:lnTo>
                      <a:lnTo>
                        <a:pt x="819" y="574"/>
                      </a:lnTo>
                      <a:lnTo>
                        <a:pt x="811" y="571"/>
                      </a:lnTo>
                      <a:lnTo>
                        <a:pt x="812" y="571"/>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54" name=""/>
                <p:cNvSpPr/>
                <p:nvPr/>
              </p:nvSpPr>
              <p:spPr>
                <a:xfrm>
                  <a:off x="3283560" y="3607560"/>
                  <a:ext cx="30600" cy="52200"/>
                </a:xfrm>
                <a:custGeom>
                  <a:avLst/>
                  <a:gdLst/>
                  <a:ahLst/>
                  <a:rect l="l" t="t" r="r" b="b"/>
                  <a:pathLst>
                    <a:path w="158" h="275">
                      <a:moveTo>
                        <a:pt x="51" y="50"/>
                      </a:moveTo>
                      <a:lnTo>
                        <a:pt x="53" y="52"/>
                      </a:lnTo>
                      <a:lnTo>
                        <a:pt x="61" y="62"/>
                      </a:lnTo>
                      <a:lnTo>
                        <a:pt x="67" y="73"/>
                      </a:lnTo>
                      <a:lnTo>
                        <a:pt x="74" y="83"/>
                      </a:lnTo>
                      <a:lnTo>
                        <a:pt x="78" y="92"/>
                      </a:lnTo>
                      <a:lnTo>
                        <a:pt x="82" y="103"/>
                      </a:lnTo>
                      <a:lnTo>
                        <a:pt x="85" y="111"/>
                      </a:lnTo>
                      <a:lnTo>
                        <a:pt x="89" y="120"/>
                      </a:lnTo>
                      <a:lnTo>
                        <a:pt x="90" y="128"/>
                      </a:lnTo>
                      <a:lnTo>
                        <a:pt x="92" y="136"/>
                      </a:lnTo>
                      <a:lnTo>
                        <a:pt x="92" y="143"/>
                      </a:lnTo>
                      <a:lnTo>
                        <a:pt x="92" y="151"/>
                      </a:lnTo>
                      <a:lnTo>
                        <a:pt x="92" y="157"/>
                      </a:lnTo>
                      <a:lnTo>
                        <a:pt x="91" y="164"/>
                      </a:lnTo>
                      <a:lnTo>
                        <a:pt x="90" y="169"/>
                      </a:lnTo>
                      <a:lnTo>
                        <a:pt x="89" y="174"/>
                      </a:lnTo>
                      <a:lnTo>
                        <a:pt x="86" y="179"/>
                      </a:lnTo>
                      <a:lnTo>
                        <a:pt x="84" y="183"/>
                      </a:lnTo>
                      <a:lnTo>
                        <a:pt x="82" y="188"/>
                      </a:lnTo>
                      <a:lnTo>
                        <a:pt x="79" y="191"/>
                      </a:lnTo>
                      <a:lnTo>
                        <a:pt x="76" y="195"/>
                      </a:lnTo>
                      <a:lnTo>
                        <a:pt x="73" y="198"/>
                      </a:lnTo>
                      <a:lnTo>
                        <a:pt x="69" y="200"/>
                      </a:lnTo>
                      <a:lnTo>
                        <a:pt x="64" y="203"/>
                      </a:lnTo>
                      <a:lnTo>
                        <a:pt x="61" y="205"/>
                      </a:lnTo>
                      <a:lnTo>
                        <a:pt x="56" y="206"/>
                      </a:lnTo>
                      <a:lnTo>
                        <a:pt x="52" y="208"/>
                      </a:lnTo>
                      <a:lnTo>
                        <a:pt x="46" y="210"/>
                      </a:lnTo>
                      <a:lnTo>
                        <a:pt x="40" y="210"/>
                      </a:lnTo>
                      <a:lnTo>
                        <a:pt x="35" y="210"/>
                      </a:lnTo>
                      <a:lnTo>
                        <a:pt x="29" y="210"/>
                      </a:lnTo>
                      <a:lnTo>
                        <a:pt x="22" y="208"/>
                      </a:lnTo>
                      <a:lnTo>
                        <a:pt x="15" y="207"/>
                      </a:lnTo>
                      <a:lnTo>
                        <a:pt x="0" y="270"/>
                      </a:lnTo>
                      <a:lnTo>
                        <a:pt x="12" y="273"/>
                      </a:lnTo>
                      <a:lnTo>
                        <a:pt x="23" y="274"/>
                      </a:lnTo>
                      <a:lnTo>
                        <a:pt x="33" y="275"/>
                      </a:lnTo>
                      <a:lnTo>
                        <a:pt x="45" y="274"/>
                      </a:lnTo>
                      <a:lnTo>
                        <a:pt x="56" y="273"/>
                      </a:lnTo>
                      <a:lnTo>
                        <a:pt x="67" y="270"/>
                      </a:lnTo>
                      <a:lnTo>
                        <a:pt x="77" y="268"/>
                      </a:lnTo>
                      <a:lnTo>
                        <a:pt x="86" y="264"/>
                      </a:lnTo>
                      <a:lnTo>
                        <a:pt x="97" y="259"/>
                      </a:lnTo>
                      <a:lnTo>
                        <a:pt x="106" y="254"/>
                      </a:lnTo>
                      <a:lnTo>
                        <a:pt x="114" y="247"/>
                      </a:lnTo>
                      <a:lnTo>
                        <a:pt x="122" y="241"/>
                      </a:lnTo>
                      <a:lnTo>
                        <a:pt x="129" y="233"/>
                      </a:lnTo>
                      <a:lnTo>
                        <a:pt x="135" y="224"/>
                      </a:lnTo>
                      <a:lnTo>
                        <a:pt x="140" y="215"/>
                      </a:lnTo>
                      <a:lnTo>
                        <a:pt x="146" y="206"/>
                      </a:lnTo>
                      <a:lnTo>
                        <a:pt x="149" y="196"/>
                      </a:lnTo>
                      <a:lnTo>
                        <a:pt x="153" y="185"/>
                      </a:lnTo>
                      <a:lnTo>
                        <a:pt x="155" y="174"/>
                      </a:lnTo>
                      <a:lnTo>
                        <a:pt x="156" y="162"/>
                      </a:lnTo>
                      <a:lnTo>
                        <a:pt x="158" y="151"/>
                      </a:lnTo>
                      <a:lnTo>
                        <a:pt x="156" y="139"/>
                      </a:lnTo>
                      <a:lnTo>
                        <a:pt x="155" y="128"/>
                      </a:lnTo>
                      <a:lnTo>
                        <a:pt x="153" y="115"/>
                      </a:lnTo>
                      <a:lnTo>
                        <a:pt x="151" y="103"/>
                      </a:lnTo>
                      <a:lnTo>
                        <a:pt x="147" y="90"/>
                      </a:lnTo>
                      <a:lnTo>
                        <a:pt x="143" y="77"/>
                      </a:lnTo>
                      <a:lnTo>
                        <a:pt x="137" y="65"/>
                      </a:lnTo>
                      <a:lnTo>
                        <a:pt x="130" y="52"/>
                      </a:lnTo>
                      <a:lnTo>
                        <a:pt x="122" y="40"/>
                      </a:lnTo>
                      <a:lnTo>
                        <a:pt x="114" y="27"/>
                      </a:lnTo>
                      <a:lnTo>
                        <a:pt x="105" y="13"/>
                      </a:lnTo>
                      <a:lnTo>
                        <a:pt x="106" y="17"/>
                      </a:lnTo>
                      <a:lnTo>
                        <a:pt x="105" y="13"/>
                      </a:lnTo>
                      <a:lnTo>
                        <a:pt x="99" y="7"/>
                      </a:lnTo>
                      <a:lnTo>
                        <a:pt x="94" y="4"/>
                      </a:lnTo>
                      <a:lnTo>
                        <a:pt x="87" y="2"/>
                      </a:lnTo>
                      <a:lnTo>
                        <a:pt x="82" y="0"/>
                      </a:lnTo>
                      <a:lnTo>
                        <a:pt x="76" y="0"/>
                      </a:lnTo>
                      <a:lnTo>
                        <a:pt x="70" y="2"/>
                      </a:lnTo>
                      <a:lnTo>
                        <a:pt x="64" y="4"/>
                      </a:lnTo>
                      <a:lnTo>
                        <a:pt x="59" y="7"/>
                      </a:lnTo>
                      <a:lnTo>
                        <a:pt x="55" y="11"/>
                      </a:lnTo>
                      <a:lnTo>
                        <a:pt x="51" y="15"/>
                      </a:lnTo>
                      <a:lnTo>
                        <a:pt x="48" y="21"/>
                      </a:lnTo>
                      <a:lnTo>
                        <a:pt x="46" y="27"/>
                      </a:lnTo>
                      <a:lnTo>
                        <a:pt x="46" y="33"/>
                      </a:lnTo>
                      <a:lnTo>
                        <a:pt x="46" y="40"/>
                      </a:lnTo>
                      <a:lnTo>
                        <a:pt x="50" y="46"/>
                      </a:lnTo>
                      <a:lnTo>
                        <a:pt x="53" y="52"/>
                      </a:lnTo>
                      <a:lnTo>
                        <a:pt x="51" y="50"/>
                      </a:lnTo>
                      <a:close/>
                    </a:path>
                  </a:pathLst>
                </a:custGeom>
                <a:solidFill>
                  <a:srgbClr val="000000"/>
                </a:solidFill>
                <a:ln w="0">
                  <a:noFill/>
                </a:ln>
              </p:spPr>
              <p:style>
                <a:lnRef idx="0"/>
                <a:fillRef idx="0"/>
                <a:effectRef idx="0"/>
                <a:fontRef idx="minor"/>
              </p:style>
              <p:txBody>
                <a:bodyPr wrap="none" lIns="93240" rIns="93240" tIns="5760" bIns="5760" anchor="t">
                  <a:spAutoFit/>
                </a:bodyPr>
                <a:p>
                  <a:endParaRPr b="0" lang="en-US" sz="2400" spc="-1" strike="noStrike">
                    <a:solidFill>
                      <a:srgbClr val="ffffff"/>
                    </a:solidFill>
                    <a:latin typeface="Times New Roman"/>
                  </a:endParaRPr>
                </a:p>
              </p:txBody>
            </p:sp>
            <p:sp>
              <p:nvSpPr>
                <p:cNvPr id="555" name=""/>
                <p:cNvSpPr/>
                <p:nvPr/>
              </p:nvSpPr>
              <p:spPr>
                <a:xfrm>
                  <a:off x="3252960" y="3589200"/>
                  <a:ext cx="51480" cy="27000"/>
                </a:xfrm>
                <a:custGeom>
                  <a:avLst/>
                  <a:gdLst/>
                  <a:ahLst/>
                  <a:rect l="l" t="t" r="r" b="b"/>
                  <a:pathLst>
                    <a:path w="260" h="148">
                      <a:moveTo>
                        <a:pt x="7" y="13"/>
                      </a:moveTo>
                      <a:lnTo>
                        <a:pt x="13" y="56"/>
                      </a:lnTo>
                      <a:lnTo>
                        <a:pt x="27" y="67"/>
                      </a:lnTo>
                      <a:lnTo>
                        <a:pt x="40" y="75"/>
                      </a:lnTo>
                      <a:lnTo>
                        <a:pt x="55" y="81"/>
                      </a:lnTo>
                      <a:lnTo>
                        <a:pt x="71" y="87"/>
                      </a:lnTo>
                      <a:lnTo>
                        <a:pt x="99" y="94"/>
                      </a:lnTo>
                      <a:lnTo>
                        <a:pt x="127" y="100"/>
                      </a:lnTo>
                      <a:lnTo>
                        <a:pt x="139" y="103"/>
                      </a:lnTo>
                      <a:lnTo>
                        <a:pt x="152" y="108"/>
                      </a:lnTo>
                      <a:lnTo>
                        <a:pt x="162" y="111"/>
                      </a:lnTo>
                      <a:lnTo>
                        <a:pt x="173" y="117"/>
                      </a:lnTo>
                      <a:lnTo>
                        <a:pt x="182" y="123"/>
                      </a:lnTo>
                      <a:lnTo>
                        <a:pt x="190" y="129"/>
                      </a:lnTo>
                      <a:lnTo>
                        <a:pt x="198" y="138"/>
                      </a:lnTo>
                      <a:lnTo>
                        <a:pt x="205" y="148"/>
                      </a:lnTo>
                      <a:lnTo>
                        <a:pt x="260" y="115"/>
                      </a:lnTo>
                      <a:lnTo>
                        <a:pt x="248" y="97"/>
                      </a:lnTo>
                      <a:lnTo>
                        <a:pt x="235" y="82"/>
                      </a:lnTo>
                      <a:lnTo>
                        <a:pt x="220" y="70"/>
                      </a:lnTo>
                      <a:lnTo>
                        <a:pt x="205" y="61"/>
                      </a:lnTo>
                      <a:lnTo>
                        <a:pt x="189" y="52"/>
                      </a:lnTo>
                      <a:lnTo>
                        <a:pt x="173" y="47"/>
                      </a:lnTo>
                      <a:lnTo>
                        <a:pt x="158" y="41"/>
                      </a:lnTo>
                      <a:lnTo>
                        <a:pt x="142" y="38"/>
                      </a:lnTo>
                      <a:lnTo>
                        <a:pt x="114" y="31"/>
                      </a:lnTo>
                      <a:lnTo>
                        <a:pt x="89" y="25"/>
                      </a:lnTo>
                      <a:lnTo>
                        <a:pt x="78" y="21"/>
                      </a:lnTo>
                      <a:lnTo>
                        <a:pt x="69" y="17"/>
                      </a:lnTo>
                      <a:lnTo>
                        <a:pt x="61" y="12"/>
                      </a:lnTo>
                      <a:lnTo>
                        <a:pt x="55" y="8"/>
                      </a:lnTo>
                      <a:lnTo>
                        <a:pt x="60" y="51"/>
                      </a:lnTo>
                      <a:lnTo>
                        <a:pt x="55" y="8"/>
                      </a:lnTo>
                      <a:lnTo>
                        <a:pt x="49" y="3"/>
                      </a:lnTo>
                      <a:lnTo>
                        <a:pt x="43" y="1"/>
                      </a:lnTo>
                      <a:lnTo>
                        <a:pt x="36" y="0"/>
                      </a:lnTo>
                      <a:lnTo>
                        <a:pt x="30" y="0"/>
                      </a:lnTo>
                      <a:lnTo>
                        <a:pt x="24" y="1"/>
                      </a:lnTo>
                      <a:lnTo>
                        <a:pt x="19" y="3"/>
                      </a:lnTo>
                      <a:lnTo>
                        <a:pt x="14" y="7"/>
                      </a:lnTo>
                      <a:lnTo>
                        <a:pt x="9" y="11"/>
                      </a:lnTo>
                      <a:lnTo>
                        <a:pt x="6" y="16"/>
                      </a:lnTo>
                      <a:lnTo>
                        <a:pt x="3" y="21"/>
                      </a:lnTo>
                      <a:lnTo>
                        <a:pt x="1" y="27"/>
                      </a:lnTo>
                      <a:lnTo>
                        <a:pt x="0" y="33"/>
                      </a:lnTo>
                      <a:lnTo>
                        <a:pt x="1" y="39"/>
                      </a:lnTo>
                      <a:lnTo>
                        <a:pt x="4" y="44"/>
                      </a:lnTo>
                      <a:lnTo>
                        <a:pt x="7" y="51"/>
                      </a:lnTo>
                      <a:lnTo>
                        <a:pt x="13" y="56"/>
                      </a:lnTo>
                      <a:lnTo>
                        <a:pt x="7" y="13"/>
                      </a:lnTo>
                      <a:close/>
                    </a:path>
                  </a:pathLst>
                </a:custGeom>
                <a:solidFill>
                  <a:srgbClr val="000000"/>
                </a:solidFill>
                <a:ln w="0">
                  <a:noFill/>
                </a:ln>
              </p:spPr>
              <p:style>
                <a:lnRef idx="0"/>
                <a:fillRef idx="0"/>
                <a:effectRef idx="0"/>
                <a:fontRef idx="minor"/>
              </p:style>
              <p:txBody>
                <a:bodyPr wrap="none" lIns="93240" rIns="93240" tIns="-19440" bIns="-19440" anchor="t">
                  <a:spAutoFit/>
                </a:bodyPr>
                <a:p>
                  <a:endParaRPr b="0" lang="en-US" sz="2400" spc="-1" strike="noStrike">
                    <a:solidFill>
                      <a:srgbClr val="ffffff"/>
                    </a:solidFill>
                    <a:latin typeface="Times New Roman"/>
                  </a:endParaRPr>
                </a:p>
              </p:txBody>
            </p:sp>
            <p:sp>
              <p:nvSpPr>
                <p:cNvPr id="556" name=""/>
                <p:cNvSpPr/>
                <p:nvPr/>
              </p:nvSpPr>
              <p:spPr>
                <a:xfrm>
                  <a:off x="3246120" y="3544920"/>
                  <a:ext cx="25200" cy="53280"/>
                </a:xfrm>
                <a:custGeom>
                  <a:avLst/>
                  <a:gdLst/>
                  <a:ahLst/>
                  <a:rect l="l" t="t" r="r" b="b"/>
                  <a:pathLst>
                    <a:path w="123" h="283">
                      <a:moveTo>
                        <a:pt x="72" y="20"/>
                      </a:moveTo>
                      <a:lnTo>
                        <a:pt x="17" y="12"/>
                      </a:lnTo>
                      <a:lnTo>
                        <a:pt x="12" y="21"/>
                      </a:lnTo>
                      <a:lnTo>
                        <a:pt x="6" y="32"/>
                      </a:lnTo>
                      <a:lnTo>
                        <a:pt x="2" y="42"/>
                      </a:lnTo>
                      <a:lnTo>
                        <a:pt x="0" y="52"/>
                      </a:lnTo>
                      <a:lnTo>
                        <a:pt x="0" y="63"/>
                      </a:lnTo>
                      <a:lnTo>
                        <a:pt x="2" y="73"/>
                      </a:lnTo>
                      <a:lnTo>
                        <a:pt x="5" y="82"/>
                      </a:lnTo>
                      <a:lnTo>
                        <a:pt x="8" y="94"/>
                      </a:lnTo>
                      <a:lnTo>
                        <a:pt x="23" y="119"/>
                      </a:lnTo>
                      <a:lnTo>
                        <a:pt x="40" y="145"/>
                      </a:lnTo>
                      <a:lnTo>
                        <a:pt x="47" y="157"/>
                      </a:lnTo>
                      <a:lnTo>
                        <a:pt x="52" y="168"/>
                      </a:lnTo>
                      <a:lnTo>
                        <a:pt x="56" y="179"/>
                      </a:lnTo>
                      <a:lnTo>
                        <a:pt x="59" y="191"/>
                      </a:lnTo>
                      <a:lnTo>
                        <a:pt x="59" y="195"/>
                      </a:lnTo>
                      <a:lnTo>
                        <a:pt x="59" y="201"/>
                      </a:lnTo>
                      <a:lnTo>
                        <a:pt x="58" y="208"/>
                      </a:lnTo>
                      <a:lnTo>
                        <a:pt x="55" y="213"/>
                      </a:lnTo>
                      <a:lnTo>
                        <a:pt x="53" y="220"/>
                      </a:lnTo>
                      <a:lnTo>
                        <a:pt x="50" y="228"/>
                      </a:lnTo>
                      <a:lnTo>
                        <a:pt x="45" y="236"/>
                      </a:lnTo>
                      <a:lnTo>
                        <a:pt x="39" y="245"/>
                      </a:lnTo>
                      <a:lnTo>
                        <a:pt x="92" y="283"/>
                      </a:lnTo>
                      <a:lnTo>
                        <a:pt x="100" y="270"/>
                      </a:lnTo>
                      <a:lnTo>
                        <a:pt x="108" y="257"/>
                      </a:lnTo>
                      <a:lnTo>
                        <a:pt x="114" y="244"/>
                      </a:lnTo>
                      <a:lnTo>
                        <a:pt x="117" y="232"/>
                      </a:lnTo>
                      <a:lnTo>
                        <a:pt x="121" y="220"/>
                      </a:lnTo>
                      <a:lnTo>
                        <a:pt x="123" y="208"/>
                      </a:lnTo>
                      <a:lnTo>
                        <a:pt x="123" y="195"/>
                      </a:lnTo>
                      <a:lnTo>
                        <a:pt x="123" y="182"/>
                      </a:lnTo>
                      <a:lnTo>
                        <a:pt x="118" y="163"/>
                      </a:lnTo>
                      <a:lnTo>
                        <a:pt x="112" y="143"/>
                      </a:lnTo>
                      <a:lnTo>
                        <a:pt x="103" y="126"/>
                      </a:lnTo>
                      <a:lnTo>
                        <a:pt x="94" y="110"/>
                      </a:lnTo>
                      <a:lnTo>
                        <a:pt x="78" y="86"/>
                      </a:lnTo>
                      <a:lnTo>
                        <a:pt x="66" y="64"/>
                      </a:lnTo>
                      <a:lnTo>
                        <a:pt x="66" y="62"/>
                      </a:lnTo>
                      <a:lnTo>
                        <a:pt x="66" y="59"/>
                      </a:lnTo>
                      <a:lnTo>
                        <a:pt x="66" y="58"/>
                      </a:lnTo>
                      <a:lnTo>
                        <a:pt x="66" y="57"/>
                      </a:lnTo>
                      <a:lnTo>
                        <a:pt x="67" y="55"/>
                      </a:lnTo>
                      <a:lnTo>
                        <a:pt x="68" y="52"/>
                      </a:lnTo>
                      <a:lnTo>
                        <a:pt x="13" y="44"/>
                      </a:lnTo>
                      <a:lnTo>
                        <a:pt x="68" y="52"/>
                      </a:lnTo>
                      <a:lnTo>
                        <a:pt x="72" y="47"/>
                      </a:lnTo>
                      <a:lnTo>
                        <a:pt x="75" y="40"/>
                      </a:lnTo>
                      <a:lnTo>
                        <a:pt x="76" y="33"/>
                      </a:lnTo>
                      <a:lnTo>
                        <a:pt x="76" y="27"/>
                      </a:lnTo>
                      <a:lnTo>
                        <a:pt x="74" y="21"/>
                      </a:lnTo>
                      <a:lnTo>
                        <a:pt x="71" y="16"/>
                      </a:lnTo>
                      <a:lnTo>
                        <a:pt x="68" y="11"/>
                      </a:lnTo>
                      <a:lnTo>
                        <a:pt x="63" y="8"/>
                      </a:lnTo>
                      <a:lnTo>
                        <a:pt x="58" y="4"/>
                      </a:lnTo>
                      <a:lnTo>
                        <a:pt x="53" y="2"/>
                      </a:lnTo>
                      <a:lnTo>
                        <a:pt x="47" y="0"/>
                      </a:lnTo>
                      <a:lnTo>
                        <a:pt x="40" y="0"/>
                      </a:lnTo>
                      <a:lnTo>
                        <a:pt x="35" y="1"/>
                      </a:lnTo>
                      <a:lnTo>
                        <a:pt x="29" y="3"/>
                      </a:lnTo>
                      <a:lnTo>
                        <a:pt x="23" y="6"/>
                      </a:lnTo>
                      <a:lnTo>
                        <a:pt x="17" y="12"/>
                      </a:lnTo>
                      <a:lnTo>
                        <a:pt x="72" y="20"/>
                      </a:lnTo>
                      <a:close/>
                    </a:path>
                  </a:pathLst>
                </a:custGeom>
                <a:solidFill>
                  <a:srgbClr val="000000"/>
                </a:solidFill>
                <a:ln w="0">
                  <a:noFill/>
                </a:ln>
              </p:spPr>
              <p:style>
                <a:lnRef idx="0"/>
                <a:fillRef idx="0"/>
                <a:effectRef idx="0"/>
                <a:fontRef idx="minor"/>
              </p:style>
              <p:txBody>
                <a:bodyPr wrap="none" lIns="93240" rIns="93240" tIns="6840" bIns="6840" anchor="t">
                  <a:spAutoFit/>
                </a:bodyPr>
                <a:p>
                  <a:endParaRPr b="0" lang="en-US" sz="2400" spc="-1" strike="noStrike">
                    <a:solidFill>
                      <a:srgbClr val="ffffff"/>
                    </a:solidFill>
                    <a:latin typeface="Times New Roman"/>
                  </a:endParaRPr>
                </a:p>
              </p:txBody>
            </p:sp>
            <p:sp>
              <p:nvSpPr>
                <p:cNvPr id="557" name=""/>
                <p:cNvSpPr/>
                <p:nvPr/>
              </p:nvSpPr>
              <p:spPr>
                <a:xfrm>
                  <a:off x="3249000" y="3546000"/>
                  <a:ext cx="65160" cy="24840"/>
                </a:xfrm>
                <a:custGeom>
                  <a:avLst/>
                  <a:gdLst/>
                  <a:ahLst/>
                  <a:rect l="l" t="t" r="r" b="b"/>
                  <a:pathLst>
                    <a:path w="327" h="127">
                      <a:moveTo>
                        <a:pt x="263" y="26"/>
                      </a:moveTo>
                      <a:lnTo>
                        <a:pt x="264" y="20"/>
                      </a:lnTo>
                      <a:lnTo>
                        <a:pt x="262" y="25"/>
                      </a:lnTo>
                      <a:lnTo>
                        <a:pt x="259" y="29"/>
                      </a:lnTo>
                      <a:lnTo>
                        <a:pt x="256" y="34"/>
                      </a:lnTo>
                      <a:lnTo>
                        <a:pt x="251" y="37"/>
                      </a:lnTo>
                      <a:lnTo>
                        <a:pt x="247" y="41"/>
                      </a:lnTo>
                      <a:lnTo>
                        <a:pt x="242" y="45"/>
                      </a:lnTo>
                      <a:lnTo>
                        <a:pt x="236" y="48"/>
                      </a:lnTo>
                      <a:lnTo>
                        <a:pt x="231" y="51"/>
                      </a:lnTo>
                      <a:lnTo>
                        <a:pt x="215" y="57"/>
                      </a:lnTo>
                      <a:lnTo>
                        <a:pt x="198" y="60"/>
                      </a:lnTo>
                      <a:lnTo>
                        <a:pt x="180" y="62"/>
                      </a:lnTo>
                      <a:lnTo>
                        <a:pt x="163" y="62"/>
                      </a:lnTo>
                      <a:lnTo>
                        <a:pt x="144" y="61"/>
                      </a:lnTo>
                      <a:lnTo>
                        <a:pt x="126" y="58"/>
                      </a:lnTo>
                      <a:lnTo>
                        <a:pt x="110" y="53"/>
                      </a:lnTo>
                      <a:lnTo>
                        <a:pt x="94" y="46"/>
                      </a:lnTo>
                      <a:lnTo>
                        <a:pt x="88" y="43"/>
                      </a:lnTo>
                      <a:lnTo>
                        <a:pt x="82" y="40"/>
                      </a:lnTo>
                      <a:lnTo>
                        <a:pt x="77" y="36"/>
                      </a:lnTo>
                      <a:lnTo>
                        <a:pt x="72" y="31"/>
                      </a:lnTo>
                      <a:lnTo>
                        <a:pt x="69" y="27"/>
                      </a:lnTo>
                      <a:lnTo>
                        <a:pt x="65" y="23"/>
                      </a:lnTo>
                      <a:lnTo>
                        <a:pt x="62" y="19"/>
                      </a:lnTo>
                      <a:lnTo>
                        <a:pt x="59" y="14"/>
                      </a:lnTo>
                      <a:lnTo>
                        <a:pt x="0" y="38"/>
                      </a:lnTo>
                      <a:lnTo>
                        <a:pt x="6" y="50"/>
                      </a:lnTo>
                      <a:lnTo>
                        <a:pt x="12" y="60"/>
                      </a:lnTo>
                      <a:lnTo>
                        <a:pt x="19" y="69"/>
                      </a:lnTo>
                      <a:lnTo>
                        <a:pt x="27" y="79"/>
                      </a:lnTo>
                      <a:lnTo>
                        <a:pt x="37" y="87"/>
                      </a:lnTo>
                      <a:lnTo>
                        <a:pt x="46" y="94"/>
                      </a:lnTo>
                      <a:lnTo>
                        <a:pt x="56" y="99"/>
                      </a:lnTo>
                      <a:lnTo>
                        <a:pt x="68" y="105"/>
                      </a:lnTo>
                      <a:lnTo>
                        <a:pt x="89" y="114"/>
                      </a:lnTo>
                      <a:lnTo>
                        <a:pt x="112" y="121"/>
                      </a:lnTo>
                      <a:lnTo>
                        <a:pt x="136" y="125"/>
                      </a:lnTo>
                      <a:lnTo>
                        <a:pt x="161" y="127"/>
                      </a:lnTo>
                      <a:lnTo>
                        <a:pt x="185" y="127"/>
                      </a:lnTo>
                      <a:lnTo>
                        <a:pt x="209" y="123"/>
                      </a:lnTo>
                      <a:lnTo>
                        <a:pt x="232" y="119"/>
                      </a:lnTo>
                      <a:lnTo>
                        <a:pt x="254" y="111"/>
                      </a:lnTo>
                      <a:lnTo>
                        <a:pt x="265" y="105"/>
                      </a:lnTo>
                      <a:lnTo>
                        <a:pt x="275" y="99"/>
                      </a:lnTo>
                      <a:lnTo>
                        <a:pt x="286" y="92"/>
                      </a:lnTo>
                      <a:lnTo>
                        <a:pt x="295" y="85"/>
                      </a:lnTo>
                      <a:lnTo>
                        <a:pt x="303" y="76"/>
                      </a:lnTo>
                      <a:lnTo>
                        <a:pt x="311" y="67"/>
                      </a:lnTo>
                      <a:lnTo>
                        <a:pt x="318" y="57"/>
                      </a:lnTo>
                      <a:lnTo>
                        <a:pt x="324" y="45"/>
                      </a:lnTo>
                      <a:lnTo>
                        <a:pt x="326" y="40"/>
                      </a:lnTo>
                      <a:lnTo>
                        <a:pt x="324" y="45"/>
                      </a:lnTo>
                      <a:lnTo>
                        <a:pt x="326" y="38"/>
                      </a:lnTo>
                      <a:lnTo>
                        <a:pt x="327" y="31"/>
                      </a:lnTo>
                      <a:lnTo>
                        <a:pt x="326" y="25"/>
                      </a:lnTo>
                      <a:lnTo>
                        <a:pt x="324" y="19"/>
                      </a:lnTo>
                      <a:lnTo>
                        <a:pt x="320" y="14"/>
                      </a:lnTo>
                      <a:lnTo>
                        <a:pt x="317" y="10"/>
                      </a:lnTo>
                      <a:lnTo>
                        <a:pt x="312" y="6"/>
                      </a:lnTo>
                      <a:lnTo>
                        <a:pt x="306" y="3"/>
                      </a:lnTo>
                      <a:lnTo>
                        <a:pt x="301" y="2"/>
                      </a:lnTo>
                      <a:lnTo>
                        <a:pt x="295" y="0"/>
                      </a:lnTo>
                      <a:lnTo>
                        <a:pt x="289" y="0"/>
                      </a:lnTo>
                      <a:lnTo>
                        <a:pt x="283" y="2"/>
                      </a:lnTo>
                      <a:lnTo>
                        <a:pt x="278" y="4"/>
                      </a:lnTo>
                      <a:lnTo>
                        <a:pt x="272" y="8"/>
                      </a:lnTo>
                      <a:lnTo>
                        <a:pt x="267" y="13"/>
                      </a:lnTo>
                      <a:lnTo>
                        <a:pt x="264" y="20"/>
                      </a:lnTo>
                      <a:lnTo>
                        <a:pt x="263" y="26"/>
                      </a:lnTo>
                      <a:close/>
                    </a:path>
                  </a:pathLst>
                </a:custGeom>
                <a:solidFill>
                  <a:srgbClr val="000000"/>
                </a:solidFill>
                <a:ln w="0">
                  <a:noFill/>
                </a:ln>
              </p:spPr>
              <p:style>
                <a:lnRef idx="0"/>
                <a:fillRef idx="0"/>
                <a:effectRef idx="0"/>
                <a:fontRef idx="minor"/>
              </p:style>
              <p:txBody>
                <a:bodyPr wrap="none" lIns="93240" rIns="93240" tIns="-21600" bIns="-21600" anchor="t">
                  <a:spAutoFit/>
                </a:bodyPr>
                <a:p>
                  <a:endParaRPr b="0" lang="en-US" sz="2400" spc="-1" strike="noStrike">
                    <a:solidFill>
                      <a:srgbClr val="ffffff"/>
                    </a:solidFill>
                    <a:latin typeface="Times New Roman"/>
                  </a:endParaRPr>
                </a:p>
              </p:txBody>
            </p:sp>
            <p:sp>
              <p:nvSpPr>
                <p:cNvPr id="558" name=""/>
                <p:cNvSpPr/>
                <p:nvPr/>
              </p:nvSpPr>
              <p:spPr>
                <a:xfrm>
                  <a:off x="3296160" y="3466440"/>
                  <a:ext cx="23400" cy="88920"/>
                </a:xfrm>
                <a:custGeom>
                  <a:avLst/>
                  <a:gdLst/>
                  <a:ahLst/>
                  <a:rect l="l" t="t" r="r" b="b"/>
                  <a:pathLst>
                    <a:path w="116" h="465">
                      <a:moveTo>
                        <a:pt x="1" y="27"/>
                      </a:moveTo>
                      <a:lnTo>
                        <a:pt x="5" y="51"/>
                      </a:lnTo>
                      <a:lnTo>
                        <a:pt x="16" y="70"/>
                      </a:lnTo>
                      <a:lnTo>
                        <a:pt x="26" y="91"/>
                      </a:lnTo>
                      <a:lnTo>
                        <a:pt x="35" y="113"/>
                      </a:lnTo>
                      <a:lnTo>
                        <a:pt x="40" y="135"/>
                      </a:lnTo>
                      <a:lnTo>
                        <a:pt x="45" y="157"/>
                      </a:lnTo>
                      <a:lnTo>
                        <a:pt x="48" y="180"/>
                      </a:lnTo>
                      <a:lnTo>
                        <a:pt x="51" y="204"/>
                      </a:lnTo>
                      <a:lnTo>
                        <a:pt x="51" y="229"/>
                      </a:lnTo>
                      <a:lnTo>
                        <a:pt x="51" y="254"/>
                      </a:lnTo>
                      <a:lnTo>
                        <a:pt x="48" y="281"/>
                      </a:lnTo>
                      <a:lnTo>
                        <a:pt x="46" y="307"/>
                      </a:lnTo>
                      <a:lnTo>
                        <a:pt x="43" y="335"/>
                      </a:lnTo>
                      <a:lnTo>
                        <a:pt x="32" y="392"/>
                      </a:lnTo>
                      <a:lnTo>
                        <a:pt x="21" y="451"/>
                      </a:lnTo>
                      <a:lnTo>
                        <a:pt x="84" y="465"/>
                      </a:lnTo>
                      <a:lnTo>
                        <a:pt x="97" y="404"/>
                      </a:lnTo>
                      <a:lnTo>
                        <a:pt x="106" y="344"/>
                      </a:lnTo>
                      <a:lnTo>
                        <a:pt x="110" y="315"/>
                      </a:lnTo>
                      <a:lnTo>
                        <a:pt x="114" y="285"/>
                      </a:lnTo>
                      <a:lnTo>
                        <a:pt x="115" y="257"/>
                      </a:lnTo>
                      <a:lnTo>
                        <a:pt x="116" y="229"/>
                      </a:lnTo>
                      <a:lnTo>
                        <a:pt x="115" y="200"/>
                      </a:lnTo>
                      <a:lnTo>
                        <a:pt x="113" y="173"/>
                      </a:lnTo>
                      <a:lnTo>
                        <a:pt x="109" y="146"/>
                      </a:lnTo>
                      <a:lnTo>
                        <a:pt x="103" y="119"/>
                      </a:lnTo>
                      <a:lnTo>
                        <a:pt x="95" y="92"/>
                      </a:lnTo>
                      <a:lnTo>
                        <a:pt x="86" y="67"/>
                      </a:lnTo>
                      <a:lnTo>
                        <a:pt x="74" y="41"/>
                      </a:lnTo>
                      <a:lnTo>
                        <a:pt x="60" y="16"/>
                      </a:lnTo>
                      <a:lnTo>
                        <a:pt x="64" y="41"/>
                      </a:lnTo>
                      <a:lnTo>
                        <a:pt x="60" y="16"/>
                      </a:lnTo>
                      <a:lnTo>
                        <a:pt x="55" y="11"/>
                      </a:lnTo>
                      <a:lnTo>
                        <a:pt x="49" y="6"/>
                      </a:lnTo>
                      <a:lnTo>
                        <a:pt x="44" y="3"/>
                      </a:lnTo>
                      <a:lnTo>
                        <a:pt x="38" y="2"/>
                      </a:lnTo>
                      <a:lnTo>
                        <a:pt x="32" y="0"/>
                      </a:lnTo>
                      <a:lnTo>
                        <a:pt x="26" y="2"/>
                      </a:lnTo>
                      <a:lnTo>
                        <a:pt x="21" y="4"/>
                      </a:lnTo>
                      <a:lnTo>
                        <a:pt x="15" y="6"/>
                      </a:lnTo>
                      <a:lnTo>
                        <a:pt x="10" y="10"/>
                      </a:lnTo>
                      <a:lnTo>
                        <a:pt x="6" y="14"/>
                      </a:lnTo>
                      <a:lnTo>
                        <a:pt x="4" y="19"/>
                      </a:lnTo>
                      <a:lnTo>
                        <a:pt x="1" y="24"/>
                      </a:lnTo>
                      <a:lnTo>
                        <a:pt x="0" y="31"/>
                      </a:lnTo>
                      <a:lnTo>
                        <a:pt x="0" y="37"/>
                      </a:lnTo>
                      <a:lnTo>
                        <a:pt x="1" y="44"/>
                      </a:lnTo>
                      <a:lnTo>
                        <a:pt x="5" y="51"/>
                      </a:lnTo>
                      <a:lnTo>
                        <a:pt x="1" y="27"/>
                      </a:lnTo>
                      <a:close/>
                    </a:path>
                  </a:pathLst>
                </a:custGeom>
                <a:solidFill>
                  <a:srgbClr val="000000"/>
                </a:solidFill>
                <a:ln w="0">
                  <a:noFill/>
                </a:ln>
              </p:spPr>
              <p:style>
                <a:lnRef idx="0"/>
                <a:fillRef idx="0"/>
                <a:effectRef idx="0"/>
                <a:fontRef idx="minor"/>
              </p:style>
              <p:txBody>
                <a:bodyPr wrap="none" lIns="93240" rIns="93240" tIns="42480" bIns="42480" anchor="t">
                  <a:spAutoFit/>
                </a:bodyPr>
                <a:p>
                  <a:endParaRPr b="0" lang="en-US" sz="2400" spc="-1" strike="noStrike">
                    <a:solidFill>
                      <a:srgbClr val="ffffff"/>
                    </a:solidFill>
                    <a:latin typeface="Times New Roman"/>
                  </a:endParaRPr>
                </a:p>
              </p:txBody>
            </p:sp>
            <p:sp>
              <p:nvSpPr>
                <p:cNvPr id="559" name=""/>
                <p:cNvSpPr/>
                <p:nvPr/>
              </p:nvSpPr>
              <p:spPr>
                <a:xfrm>
                  <a:off x="3246120" y="3334320"/>
                  <a:ext cx="69840" cy="139680"/>
                </a:xfrm>
                <a:custGeom>
                  <a:avLst/>
                  <a:gdLst/>
                  <a:ahLst/>
                  <a:rect l="l" t="t" r="r" b="b"/>
                  <a:pathLst>
                    <a:path w="353" h="735">
                      <a:moveTo>
                        <a:pt x="37" y="65"/>
                      </a:moveTo>
                      <a:lnTo>
                        <a:pt x="26" y="64"/>
                      </a:lnTo>
                      <a:lnTo>
                        <a:pt x="54" y="72"/>
                      </a:lnTo>
                      <a:lnTo>
                        <a:pt x="79" y="80"/>
                      </a:lnTo>
                      <a:lnTo>
                        <a:pt x="103" y="90"/>
                      </a:lnTo>
                      <a:lnTo>
                        <a:pt x="125" y="100"/>
                      </a:lnTo>
                      <a:lnTo>
                        <a:pt x="145" y="113"/>
                      </a:lnTo>
                      <a:lnTo>
                        <a:pt x="164" y="127"/>
                      </a:lnTo>
                      <a:lnTo>
                        <a:pt x="180" y="142"/>
                      </a:lnTo>
                      <a:lnTo>
                        <a:pt x="196" y="158"/>
                      </a:lnTo>
                      <a:lnTo>
                        <a:pt x="210" y="175"/>
                      </a:lnTo>
                      <a:lnTo>
                        <a:pt x="223" y="193"/>
                      </a:lnTo>
                      <a:lnTo>
                        <a:pt x="234" y="213"/>
                      </a:lnTo>
                      <a:lnTo>
                        <a:pt x="245" y="233"/>
                      </a:lnTo>
                      <a:lnTo>
                        <a:pt x="253" y="254"/>
                      </a:lnTo>
                      <a:lnTo>
                        <a:pt x="261" y="276"/>
                      </a:lnTo>
                      <a:lnTo>
                        <a:pt x="268" y="298"/>
                      </a:lnTo>
                      <a:lnTo>
                        <a:pt x="273" y="322"/>
                      </a:lnTo>
                      <a:lnTo>
                        <a:pt x="278" y="346"/>
                      </a:lnTo>
                      <a:lnTo>
                        <a:pt x="281" y="370"/>
                      </a:lnTo>
                      <a:lnTo>
                        <a:pt x="285" y="396"/>
                      </a:lnTo>
                      <a:lnTo>
                        <a:pt x="286" y="421"/>
                      </a:lnTo>
                      <a:lnTo>
                        <a:pt x="287" y="446"/>
                      </a:lnTo>
                      <a:lnTo>
                        <a:pt x="287" y="471"/>
                      </a:lnTo>
                      <a:lnTo>
                        <a:pt x="287" y="498"/>
                      </a:lnTo>
                      <a:lnTo>
                        <a:pt x="286" y="523"/>
                      </a:lnTo>
                      <a:lnTo>
                        <a:pt x="281" y="575"/>
                      </a:lnTo>
                      <a:lnTo>
                        <a:pt x="274" y="625"/>
                      </a:lnTo>
                      <a:lnTo>
                        <a:pt x="266" y="675"/>
                      </a:lnTo>
                      <a:lnTo>
                        <a:pt x="257" y="721"/>
                      </a:lnTo>
                      <a:lnTo>
                        <a:pt x="320" y="735"/>
                      </a:lnTo>
                      <a:lnTo>
                        <a:pt x="330" y="686"/>
                      </a:lnTo>
                      <a:lnTo>
                        <a:pt x="339" y="635"/>
                      </a:lnTo>
                      <a:lnTo>
                        <a:pt x="346" y="582"/>
                      </a:lnTo>
                      <a:lnTo>
                        <a:pt x="350" y="528"/>
                      </a:lnTo>
                      <a:lnTo>
                        <a:pt x="351" y="500"/>
                      </a:lnTo>
                      <a:lnTo>
                        <a:pt x="353" y="473"/>
                      </a:lnTo>
                      <a:lnTo>
                        <a:pt x="351" y="445"/>
                      </a:lnTo>
                      <a:lnTo>
                        <a:pt x="350" y="417"/>
                      </a:lnTo>
                      <a:lnTo>
                        <a:pt x="349" y="390"/>
                      </a:lnTo>
                      <a:lnTo>
                        <a:pt x="346" y="362"/>
                      </a:lnTo>
                      <a:lnTo>
                        <a:pt x="342" y="335"/>
                      </a:lnTo>
                      <a:lnTo>
                        <a:pt x="336" y="308"/>
                      </a:lnTo>
                      <a:lnTo>
                        <a:pt x="331" y="282"/>
                      </a:lnTo>
                      <a:lnTo>
                        <a:pt x="323" y="256"/>
                      </a:lnTo>
                      <a:lnTo>
                        <a:pt x="314" y="230"/>
                      </a:lnTo>
                      <a:lnTo>
                        <a:pt x="303" y="206"/>
                      </a:lnTo>
                      <a:lnTo>
                        <a:pt x="291" y="182"/>
                      </a:lnTo>
                      <a:lnTo>
                        <a:pt x="277" y="159"/>
                      </a:lnTo>
                      <a:lnTo>
                        <a:pt x="262" y="136"/>
                      </a:lnTo>
                      <a:lnTo>
                        <a:pt x="245" y="115"/>
                      </a:lnTo>
                      <a:lnTo>
                        <a:pt x="225" y="96"/>
                      </a:lnTo>
                      <a:lnTo>
                        <a:pt x="204" y="77"/>
                      </a:lnTo>
                      <a:lnTo>
                        <a:pt x="181" y="60"/>
                      </a:lnTo>
                      <a:lnTo>
                        <a:pt x="157" y="45"/>
                      </a:lnTo>
                      <a:lnTo>
                        <a:pt x="131" y="31"/>
                      </a:lnTo>
                      <a:lnTo>
                        <a:pt x="102" y="19"/>
                      </a:lnTo>
                      <a:lnTo>
                        <a:pt x="71" y="10"/>
                      </a:lnTo>
                      <a:lnTo>
                        <a:pt x="39" y="0"/>
                      </a:lnTo>
                      <a:lnTo>
                        <a:pt x="29" y="0"/>
                      </a:lnTo>
                      <a:lnTo>
                        <a:pt x="39" y="0"/>
                      </a:lnTo>
                      <a:lnTo>
                        <a:pt x="32" y="0"/>
                      </a:lnTo>
                      <a:lnTo>
                        <a:pt x="25" y="0"/>
                      </a:lnTo>
                      <a:lnTo>
                        <a:pt x="18" y="3"/>
                      </a:lnTo>
                      <a:lnTo>
                        <a:pt x="14" y="6"/>
                      </a:lnTo>
                      <a:lnTo>
                        <a:pt x="9" y="10"/>
                      </a:lnTo>
                      <a:lnTo>
                        <a:pt x="6" y="14"/>
                      </a:lnTo>
                      <a:lnTo>
                        <a:pt x="2" y="20"/>
                      </a:lnTo>
                      <a:lnTo>
                        <a:pt x="1" y="26"/>
                      </a:lnTo>
                      <a:lnTo>
                        <a:pt x="0" y="31"/>
                      </a:lnTo>
                      <a:lnTo>
                        <a:pt x="0" y="38"/>
                      </a:lnTo>
                      <a:lnTo>
                        <a:pt x="2" y="44"/>
                      </a:lnTo>
                      <a:lnTo>
                        <a:pt x="5" y="50"/>
                      </a:lnTo>
                      <a:lnTo>
                        <a:pt x="8" y="54"/>
                      </a:lnTo>
                      <a:lnTo>
                        <a:pt x="13" y="59"/>
                      </a:lnTo>
                      <a:lnTo>
                        <a:pt x="18" y="62"/>
                      </a:lnTo>
                      <a:lnTo>
                        <a:pt x="26" y="64"/>
                      </a:lnTo>
                      <a:lnTo>
                        <a:pt x="37" y="6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60" name=""/>
                <p:cNvSpPr/>
                <p:nvPr/>
              </p:nvSpPr>
              <p:spPr>
                <a:xfrm>
                  <a:off x="3151080" y="3326400"/>
                  <a:ext cx="101520" cy="23400"/>
                </a:xfrm>
                <a:custGeom>
                  <a:avLst/>
                  <a:gdLst/>
                  <a:ahLst/>
                  <a:rect l="l" t="t" r="r" b="b"/>
                  <a:pathLst>
                    <a:path w="502" h="121">
                      <a:moveTo>
                        <a:pt x="65" y="30"/>
                      </a:moveTo>
                      <a:lnTo>
                        <a:pt x="18" y="62"/>
                      </a:lnTo>
                      <a:lnTo>
                        <a:pt x="49" y="75"/>
                      </a:lnTo>
                      <a:lnTo>
                        <a:pt x="79" y="86"/>
                      </a:lnTo>
                      <a:lnTo>
                        <a:pt x="110" y="96"/>
                      </a:lnTo>
                      <a:lnTo>
                        <a:pt x="141" y="103"/>
                      </a:lnTo>
                      <a:lnTo>
                        <a:pt x="172" y="110"/>
                      </a:lnTo>
                      <a:lnTo>
                        <a:pt x="204" y="115"/>
                      </a:lnTo>
                      <a:lnTo>
                        <a:pt x="235" y="118"/>
                      </a:lnTo>
                      <a:lnTo>
                        <a:pt x="266" y="119"/>
                      </a:lnTo>
                      <a:lnTo>
                        <a:pt x="297" y="121"/>
                      </a:lnTo>
                      <a:lnTo>
                        <a:pt x="327" y="121"/>
                      </a:lnTo>
                      <a:lnTo>
                        <a:pt x="358" y="119"/>
                      </a:lnTo>
                      <a:lnTo>
                        <a:pt x="388" y="118"/>
                      </a:lnTo>
                      <a:lnTo>
                        <a:pt x="445" y="113"/>
                      </a:lnTo>
                      <a:lnTo>
                        <a:pt x="502" y="107"/>
                      </a:lnTo>
                      <a:lnTo>
                        <a:pt x="494" y="42"/>
                      </a:lnTo>
                      <a:lnTo>
                        <a:pt x="440" y="48"/>
                      </a:lnTo>
                      <a:lnTo>
                        <a:pt x="383" y="54"/>
                      </a:lnTo>
                      <a:lnTo>
                        <a:pt x="355" y="55"/>
                      </a:lnTo>
                      <a:lnTo>
                        <a:pt x="327" y="56"/>
                      </a:lnTo>
                      <a:lnTo>
                        <a:pt x="298" y="56"/>
                      </a:lnTo>
                      <a:lnTo>
                        <a:pt x="269" y="55"/>
                      </a:lnTo>
                      <a:lnTo>
                        <a:pt x="240" y="53"/>
                      </a:lnTo>
                      <a:lnTo>
                        <a:pt x="211" y="50"/>
                      </a:lnTo>
                      <a:lnTo>
                        <a:pt x="184" y="46"/>
                      </a:lnTo>
                      <a:lnTo>
                        <a:pt x="155" y="41"/>
                      </a:lnTo>
                      <a:lnTo>
                        <a:pt x="127" y="33"/>
                      </a:lnTo>
                      <a:lnTo>
                        <a:pt x="100" y="25"/>
                      </a:lnTo>
                      <a:lnTo>
                        <a:pt x="73" y="15"/>
                      </a:lnTo>
                      <a:lnTo>
                        <a:pt x="47" y="3"/>
                      </a:lnTo>
                      <a:lnTo>
                        <a:pt x="1" y="36"/>
                      </a:lnTo>
                      <a:lnTo>
                        <a:pt x="47" y="3"/>
                      </a:lnTo>
                      <a:lnTo>
                        <a:pt x="40" y="1"/>
                      </a:lnTo>
                      <a:lnTo>
                        <a:pt x="33" y="0"/>
                      </a:lnTo>
                      <a:lnTo>
                        <a:pt x="26" y="0"/>
                      </a:lnTo>
                      <a:lnTo>
                        <a:pt x="21" y="2"/>
                      </a:lnTo>
                      <a:lnTo>
                        <a:pt x="16" y="5"/>
                      </a:lnTo>
                      <a:lnTo>
                        <a:pt x="11" y="8"/>
                      </a:lnTo>
                      <a:lnTo>
                        <a:pt x="7" y="13"/>
                      </a:lnTo>
                      <a:lnTo>
                        <a:pt x="4" y="18"/>
                      </a:lnTo>
                      <a:lnTo>
                        <a:pt x="2" y="24"/>
                      </a:lnTo>
                      <a:lnTo>
                        <a:pt x="1" y="30"/>
                      </a:lnTo>
                      <a:lnTo>
                        <a:pt x="0" y="36"/>
                      </a:lnTo>
                      <a:lnTo>
                        <a:pt x="1" y="41"/>
                      </a:lnTo>
                      <a:lnTo>
                        <a:pt x="3" y="47"/>
                      </a:lnTo>
                      <a:lnTo>
                        <a:pt x="7" y="53"/>
                      </a:lnTo>
                      <a:lnTo>
                        <a:pt x="13" y="57"/>
                      </a:lnTo>
                      <a:lnTo>
                        <a:pt x="18" y="62"/>
                      </a:lnTo>
                      <a:lnTo>
                        <a:pt x="65" y="30"/>
                      </a:lnTo>
                      <a:close/>
                    </a:path>
                  </a:pathLst>
                </a:custGeom>
                <a:solidFill>
                  <a:srgbClr val="000000"/>
                </a:solidFill>
                <a:ln w="0">
                  <a:noFill/>
                </a:ln>
              </p:spPr>
              <p:style>
                <a:lnRef idx="0"/>
                <a:fillRef idx="0"/>
                <a:effectRef idx="0"/>
                <a:fontRef idx="minor"/>
              </p:style>
              <p:txBody>
                <a:bodyPr wrap="none" lIns="93240" rIns="93240" tIns="-23040" bIns="-23040" anchor="t">
                  <a:spAutoFit/>
                </a:bodyPr>
                <a:p>
                  <a:endParaRPr b="0" lang="en-US" sz="2400" spc="-1" strike="noStrike">
                    <a:solidFill>
                      <a:srgbClr val="ffffff"/>
                    </a:solidFill>
                    <a:latin typeface="Times New Roman"/>
                  </a:endParaRPr>
                </a:p>
              </p:txBody>
            </p:sp>
            <p:sp>
              <p:nvSpPr>
                <p:cNvPr id="561" name=""/>
                <p:cNvSpPr/>
                <p:nvPr/>
              </p:nvSpPr>
              <p:spPr>
                <a:xfrm>
                  <a:off x="4145040" y="4665600"/>
                  <a:ext cx="15480" cy="46800"/>
                </a:xfrm>
                <a:custGeom>
                  <a:avLst/>
                  <a:gdLst/>
                  <a:ahLst/>
                  <a:rect l="l" t="t" r="r" b="b"/>
                  <a:pathLst>
                    <a:path w="75" h="253">
                      <a:moveTo>
                        <a:pt x="48" y="188"/>
                      </a:moveTo>
                      <a:lnTo>
                        <a:pt x="75" y="216"/>
                      </a:lnTo>
                      <a:lnTo>
                        <a:pt x="72" y="188"/>
                      </a:lnTo>
                      <a:lnTo>
                        <a:pt x="68" y="161"/>
                      </a:lnTo>
                      <a:lnTo>
                        <a:pt x="66" y="134"/>
                      </a:lnTo>
                      <a:lnTo>
                        <a:pt x="64" y="110"/>
                      </a:lnTo>
                      <a:lnTo>
                        <a:pt x="64" y="86"/>
                      </a:lnTo>
                      <a:lnTo>
                        <a:pt x="65" y="62"/>
                      </a:lnTo>
                      <a:lnTo>
                        <a:pt x="66" y="52"/>
                      </a:lnTo>
                      <a:lnTo>
                        <a:pt x="68" y="41"/>
                      </a:lnTo>
                      <a:lnTo>
                        <a:pt x="71" y="30"/>
                      </a:lnTo>
                      <a:lnTo>
                        <a:pt x="74" y="20"/>
                      </a:lnTo>
                      <a:lnTo>
                        <a:pt x="12" y="0"/>
                      </a:lnTo>
                      <a:lnTo>
                        <a:pt x="9" y="14"/>
                      </a:lnTo>
                      <a:lnTo>
                        <a:pt x="5" y="28"/>
                      </a:lnTo>
                      <a:lnTo>
                        <a:pt x="3" y="42"/>
                      </a:lnTo>
                      <a:lnTo>
                        <a:pt x="1" y="56"/>
                      </a:lnTo>
                      <a:lnTo>
                        <a:pt x="0" y="84"/>
                      </a:lnTo>
                      <a:lnTo>
                        <a:pt x="0" y="113"/>
                      </a:lnTo>
                      <a:lnTo>
                        <a:pt x="1" y="140"/>
                      </a:lnTo>
                      <a:lnTo>
                        <a:pt x="4" y="168"/>
                      </a:lnTo>
                      <a:lnTo>
                        <a:pt x="8" y="196"/>
                      </a:lnTo>
                      <a:lnTo>
                        <a:pt x="11" y="224"/>
                      </a:lnTo>
                      <a:lnTo>
                        <a:pt x="39" y="253"/>
                      </a:lnTo>
                      <a:lnTo>
                        <a:pt x="11" y="224"/>
                      </a:lnTo>
                      <a:lnTo>
                        <a:pt x="13" y="232"/>
                      </a:lnTo>
                      <a:lnTo>
                        <a:pt x="16" y="238"/>
                      </a:lnTo>
                      <a:lnTo>
                        <a:pt x="19" y="244"/>
                      </a:lnTo>
                      <a:lnTo>
                        <a:pt x="25" y="247"/>
                      </a:lnTo>
                      <a:lnTo>
                        <a:pt x="29" y="250"/>
                      </a:lnTo>
                      <a:lnTo>
                        <a:pt x="35" y="252"/>
                      </a:lnTo>
                      <a:lnTo>
                        <a:pt x="41" y="253"/>
                      </a:lnTo>
                      <a:lnTo>
                        <a:pt x="48" y="253"/>
                      </a:lnTo>
                      <a:lnTo>
                        <a:pt x="54" y="252"/>
                      </a:lnTo>
                      <a:lnTo>
                        <a:pt x="59" y="249"/>
                      </a:lnTo>
                      <a:lnTo>
                        <a:pt x="64" y="246"/>
                      </a:lnTo>
                      <a:lnTo>
                        <a:pt x="68" y="241"/>
                      </a:lnTo>
                      <a:lnTo>
                        <a:pt x="72" y="237"/>
                      </a:lnTo>
                      <a:lnTo>
                        <a:pt x="74" y="231"/>
                      </a:lnTo>
                      <a:lnTo>
                        <a:pt x="75" y="224"/>
                      </a:lnTo>
                      <a:lnTo>
                        <a:pt x="75" y="216"/>
                      </a:lnTo>
                      <a:lnTo>
                        <a:pt x="48" y="188"/>
                      </a:lnTo>
                      <a:close/>
                    </a:path>
                  </a:pathLst>
                </a:custGeom>
                <a:solidFill>
                  <a:srgbClr val="000000"/>
                </a:solidFill>
                <a:ln w="0">
                  <a:noFill/>
                </a:ln>
              </p:spPr>
              <p:style>
                <a:lnRef idx="0"/>
                <a:fillRef idx="0"/>
                <a:effectRef idx="0"/>
                <a:fontRef idx="minor"/>
              </p:style>
              <p:txBody>
                <a:bodyPr wrap="none" lIns="93240" rIns="93240" tIns="360" bIns="360" anchor="t">
                  <a:spAutoFit/>
                </a:bodyPr>
                <a:p>
                  <a:endParaRPr b="0" lang="en-US" sz="2400" spc="-1" strike="noStrike">
                    <a:solidFill>
                      <a:srgbClr val="ffffff"/>
                    </a:solidFill>
                    <a:latin typeface="Times New Roman"/>
                  </a:endParaRPr>
                </a:p>
              </p:txBody>
            </p:sp>
            <p:sp>
              <p:nvSpPr>
                <p:cNvPr id="562" name=""/>
                <p:cNvSpPr/>
                <p:nvPr/>
              </p:nvSpPr>
              <p:spPr>
                <a:xfrm>
                  <a:off x="4153680" y="4700880"/>
                  <a:ext cx="105840" cy="86040"/>
                </a:xfrm>
                <a:custGeom>
                  <a:avLst/>
                  <a:gdLst/>
                  <a:ahLst/>
                  <a:rect l="l" t="t" r="r" b="b"/>
                  <a:pathLst>
                    <a:path w="526" h="460">
                      <a:moveTo>
                        <a:pt x="518" y="406"/>
                      </a:moveTo>
                      <a:lnTo>
                        <a:pt x="526" y="425"/>
                      </a:lnTo>
                      <a:lnTo>
                        <a:pt x="523" y="405"/>
                      </a:lnTo>
                      <a:lnTo>
                        <a:pt x="520" y="385"/>
                      </a:lnTo>
                      <a:lnTo>
                        <a:pt x="516" y="366"/>
                      </a:lnTo>
                      <a:lnTo>
                        <a:pt x="511" y="346"/>
                      </a:lnTo>
                      <a:lnTo>
                        <a:pt x="504" y="327"/>
                      </a:lnTo>
                      <a:lnTo>
                        <a:pt x="497" y="308"/>
                      </a:lnTo>
                      <a:lnTo>
                        <a:pt x="488" y="290"/>
                      </a:lnTo>
                      <a:lnTo>
                        <a:pt x="479" y="272"/>
                      </a:lnTo>
                      <a:lnTo>
                        <a:pt x="467" y="254"/>
                      </a:lnTo>
                      <a:lnTo>
                        <a:pt x="456" y="237"/>
                      </a:lnTo>
                      <a:lnTo>
                        <a:pt x="444" y="221"/>
                      </a:lnTo>
                      <a:lnTo>
                        <a:pt x="430" y="205"/>
                      </a:lnTo>
                      <a:lnTo>
                        <a:pt x="417" y="190"/>
                      </a:lnTo>
                      <a:lnTo>
                        <a:pt x="402" y="174"/>
                      </a:lnTo>
                      <a:lnTo>
                        <a:pt x="385" y="160"/>
                      </a:lnTo>
                      <a:lnTo>
                        <a:pt x="368" y="146"/>
                      </a:lnTo>
                      <a:lnTo>
                        <a:pt x="351" y="133"/>
                      </a:lnTo>
                      <a:lnTo>
                        <a:pt x="333" y="120"/>
                      </a:lnTo>
                      <a:lnTo>
                        <a:pt x="314" y="107"/>
                      </a:lnTo>
                      <a:lnTo>
                        <a:pt x="295" y="96"/>
                      </a:lnTo>
                      <a:lnTo>
                        <a:pt x="274" y="84"/>
                      </a:lnTo>
                      <a:lnTo>
                        <a:pt x="253" y="74"/>
                      </a:lnTo>
                      <a:lnTo>
                        <a:pt x="232" y="64"/>
                      </a:lnTo>
                      <a:lnTo>
                        <a:pt x="209" y="54"/>
                      </a:lnTo>
                      <a:lnTo>
                        <a:pt x="186" y="45"/>
                      </a:lnTo>
                      <a:lnTo>
                        <a:pt x="163" y="37"/>
                      </a:lnTo>
                      <a:lnTo>
                        <a:pt x="139" y="29"/>
                      </a:lnTo>
                      <a:lnTo>
                        <a:pt x="113" y="22"/>
                      </a:lnTo>
                      <a:lnTo>
                        <a:pt x="88" y="15"/>
                      </a:lnTo>
                      <a:lnTo>
                        <a:pt x="63" y="10"/>
                      </a:lnTo>
                      <a:lnTo>
                        <a:pt x="36" y="5"/>
                      </a:lnTo>
                      <a:lnTo>
                        <a:pt x="9" y="0"/>
                      </a:lnTo>
                      <a:lnTo>
                        <a:pt x="0" y="65"/>
                      </a:lnTo>
                      <a:lnTo>
                        <a:pt x="25" y="68"/>
                      </a:lnTo>
                      <a:lnTo>
                        <a:pt x="49" y="73"/>
                      </a:lnTo>
                      <a:lnTo>
                        <a:pt x="73" y="79"/>
                      </a:lnTo>
                      <a:lnTo>
                        <a:pt x="97" y="84"/>
                      </a:lnTo>
                      <a:lnTo>
                        <a:pt x="120" y="91"/>
                      </a:lnTo>
                      <a:lnTo>
                        <a:pt x="142" y="98"/>
                      </a:lnTo>
                      <a:lnTo>
                        <a:pt x="164" y="106"/>
                      </a:lnTo>
                      <a:lnTo>
                        <a:pt x="185" y="114"/>
                      </a:lnTo>
                      <a:lnTo>
                        <a:pt x="205" y="122"/>
                      </a:lnTo>
                      <a:lnTo>
                        <a:pt x="225" y="131"/>
                      </a:lnTo>
                      <a:lnTo>
                        <a:pt x="244" y="142"/>
                      </a:lnTo>
                      <a:lnTo>
                        <a:pt x="263" y="152"/>
                      </a:lnTo>
                      <a:lnTo>
                        <a:pt x="280" y="162"/>
                      </a:lnTo>
                      <a:lnTo>
                        <a:pt x="297" y="173"/>
                      </a:lnTo>
                      <a:lnTo>
                        <a:pt x="313" y="184"/>
                      </a:lnTo>
                      <a:lnTo>
                        <a:pt x="328" y="197"/>
                      </a:lnTo>
                      <a:lnTo>
                        <a:pt x="343" y="208"/>
                      </a:lnTo>
                      <a:lnTo>
                        <a:pt x="357" y="221"/>
                      </a:lnTo>
                      <a:lnTo>
                        <a:pt x="369" y="235"/>
                      </a:lnTo>
                      <a:lnTo>
                        <a:pt x="382" y="247"/>
                      </a:lnTo>
                      <a:lnTo>
                        <a:pt x="394" y="261"/>
                      </a:lnTo>
                      <a:lnTo>
                        <a:pt x="404" y="275"/>
                      </a:lnTo>
                      <a:lnTo>
                        <a:pt x="413" y="289"/>
                      </a:lnTo>
                      <a:lnTo>
                        <a:pt x="422" y="304"/>
                      </a:lnTo>
                      <a:lnTo>
                        <a:pt x="430" y="319"/>
                      </a:lnTo>
                      <a:lnTo>
                        <a:pt x="437" y="334"/>
                      </a:lnTo>
                      <a:lnTo>
                        <a:pt x="443" y="350"/>
                      </a:lnTo>
                      <a:lnTo>
                        <a:pt x="449" y="365"/>
                      </a:lnTo>
                      <a:lnTo>
                        <a:pt x="453" y="381"/>
                      </a:lnTo>
                      <a:lnTo>
                        <a:pt x="457" y="397"/>
                      </a:lnTo>
                      <a:lnTo>
                        <a:pt x="459" y="413"/>
                      </a:lnTo>
                      <a:lnTo>
                        <a:pt x="461" y="430"/>
                      </a:lnTo>
                      <a:lnTo>
                        <a:pt x="469" y="450"/>
                      </a:lnTo>
                      <a:lnTo>
                        <a:pt x="461" y="430"/>
                      </a:lnTo>
                      <a:lnTo>
                        <a:pt x="462" y="437"/>
                      </a:lnTo>
                      <a:lnTo>
                        <a:pt x="465" y="444"/>
                      </a:lnTo>
                      <a:lnTo>
                        <a:pt x="468" y="450"/>
                      </a:lnTo>
                      <a:lnTo>
                        <a:pt x="473" y="453"/>
                      </a:lnTo>
                      <a:lnTo>
                        <a:pt x="477" y="456"/>
                      </a:lnTo>
                      <a:lnTo>
                        <a:pt x="483" y="459"/>
                      </a:lnTo>
                      <a:lnTo>
                        <a:pt x="490" y="460"/>
                      </a:lnTo>
                      <a:lnTo>
                        <a:pt x="496" y="460"/>
                      </a:lnTo>
                      <a:lnTo>
                        <a:pt x="501" y="459"/>
                      </a:lnTo>
                      <a:lnTo>
                        <a:pt x="507" y="458"/>
                      </a:lnTo>
                      <a:lnTo>
                        <a:pt x="513" y="454"/>
                      </a:lnTo>
                      <a:lnTo>
                        <a:pt x="518" y="451"/>
                      </a:lnTo>
                      <a:lnTo>
                        <a:pt x="521" y="445"/>
                      </a:lnTo>
                      <a:lnTo>
                        <a:pt x="523" y="439"/>
                      </a:lnTo>
                      <a:lnTo>
                        <a:pt x="526" y="434"/>
                      </a:lnTo>
                      <a:lnTo>
                        <a:pt x="526" y="425"/>
                      </a:lnTo>
                      <a:lnTo>
                        <a:pt x="518" y="406"/>
                      </a:lnTo>
                      <a:close/>
                    </a:path>
                  </a:pathLst>
                </a:custGeom>
                <a:solidFill>
                  <a:srgbClr val="000000"/>
                </a:solidFill>
                <a:ln w="0">
                  <a:noFill/>
                </a:ln>
              </p:spPr>
              <p:style>
                <a:lnRef idx="0"/>
                <a:fillRef idx="0"/>
                <a:effectRef idx="0"/>
                <a:fontRef idx="minor"/>
              </p:style>
              <p:txBody>
                <a:bodyPr wrap="none" lIns="93240" rIns="93240" tIns="39600" bIns="39600" anchor="t">
                  <a:spAutoFit/>
                </a:bodyPr>
                <a:p>
                  <a:endParaRPr b="0" lang="en-US" sz="2400" spc="-1" strike="noStrike">
                    <a:solidFill>
                      <a:srgbClr val="ffffff"/>
                    </a:solidFill>
                    <a:latin typeface="Times New Roman"/>
                  </a:endParaRPr>
                </a:p>
              </p:txBody>
            </p:sp>
            <p:sp>
              <p:nvSpPr>
                <p:cNvPr id="563" name=""/>
                <p:cNvSpPr/>
                <p:nvPr/>
              </p:nvSpPr>
              <p:spPr>
                <a:xfrm>
                  <a:off x="4248360" y="4763520"/>
                  <a:ext cx="82080" cy="36720"/>
                </a:xfrm>
                <a:custGeom>
                  <a:avLst/>
                  <a:gdLst/>
                  <a:ahLst/>
                  <a:rect l="l" t="t" r="r" b="b"/>
                  <a:pathLst>
                    <a:path w="407" h="195">
                      <a:moveTo>
                        <a:pt x="341" y="37"/>
                      </a:moveTo>
                      <a:lnTo>
                        <a:pt x="346" y="16"/>
                      </a:lnTo>
                      <a:lnTo>
                        <a:pt x="337" y="31"/>
                      </a:lnTo>
                      <a:lnTo>
                        <a:pt x="325" y="46"/>
                      </a:lnTo>
                      <a:lnTo>
                        <a:pt x="310" y="61"/>
                      </a:lnTo>
                      <a:lnTo>
                        <a:pt x="294" y="76"/>
                      </a:lnTo>
                      <a:lnTo>
                        <a:pt x="277" y="90"/>
                      </a:lnTo>
                      <a:lnTo>
                        <a:pt x="258" y="102"/>
                      </a:lnTo>
                      <a:lnTo>
                        <a:pt x="238" y="113"/>
                      </a:lnTo>
                      <a:lnTo>
                        <a:pt x="216" y="121"/>
                      </a:lnTo>
                      <a:lnTo>
                        <a:pt x="207" y="124"/>
                      </a:lnTo>
                      <a:lnTo>
                        <a:pt x="196" y="128"/>
                      </a:lnTo>
                      <a:lnTo>
                        <a:pt x="185" y="129"/>
                      </a:lnTo>
                      <a:lnTo>
                        <a:pt x="175" y="130"/>
                      </a:lnTo>
                      <a:lnTo>
                        <a:pt x="165" y="131"/>
                      </a:lnTo>
                      <a:lnTo>
                        <a:pt x="153" y="131"/>
                      </a:lnTo>
                      <a:lnTo>
                        <a:pt x="143" y="130"/>
                      </a:lnTo>
                      <a:lnTo>
                        <a:pt x="132" y="128"/>
                      </a:lnTo>
                      <a:lnTo>
                        <a:pt x="122" y="125"/>
                      </a:lnTo>
                      <a:lnTo>
                        <a:pt x="112" y="122"/>
                      </a:lnTo>
                      <a:lnTo>
                        <a:pt x="101" y="117"/>
                      </a:lnTo>
                      <a:lnTo>
                        <a:pt x="90" y="112"/>
                      </a:lnTo>
                      <a:lnTo>
                        <a:pt x="80" y="105"/>
                      </a:lnTo>
                      <a:lnTo>
                        <a:pt x="69" y="97"/>
                      </a:lnTo>
                      <a:lnTo>
                        <a:pt x="59" y="87"/>
                      </a:lnTo>
                      <a:lnTo>
                        <a:pt x="49" y="76"/>
                      </a:lnTo>
                      <a:lnTo>
                        <a:pt x="0" y="120"/>
                      </a:lnTo>
                      <a:lnTo>
                        <a:pt x="14" y="133"/>
                      </a:lnTo>
                      <a:lnTo>
                        <a:pt x="28" y="146"/>
                      </a:lnTo>
                      <a:lnTo>
                        <a:pt x="43" y="158"/>
                      </a:lnTo>
                      <a:lnTo>
                        <a:pt x="58" y="167"/>
                      </a:lnTo>
                      <a:lnTo>
                        <a:pt x="73" y="175"/>
                      </a:lnTo>
                      <a:lnTo>
                        <a:pt x="88" y="182"/>
                      </a:lnTo>
                      <a:lnTo>
                        <a:pt x="104" y="187"/>
                      </a:lnTo>
                      <a:lnTo>
                        <a:pt x="119" y="191"/>
                      </a:lnTo>
                      <a:lnTo>
                        <a:pt x="135" y="194"/>
                      </a:lnTo>
                      <a:lnTo>
                        <a:pt x="150" y="195"/>
                      </a:lnTo>
                      <a:lnTo>
                        <a:pt x="165" y="195"/>
                      </a:lnTo>
                      <a:lnTo>
                        <a:pt x="181" y="195"/>
                      </a:lnTo>
                      <a:lnTo>
                        <a:pt x="196" y="193"/>
                      </a:lnTo>
                      <a:lnTo>
                        <a:pt x="209" y="190"/>
                      </a:lnTo>
                      <a:lnTo>
                        <a:pt x="224" y="186"/>
                      </a:lnTo>
                      <a:lnTo>
                        <a:pt x="239" y="182"/>
                      </a:lnTo>
                      <a:lnTo>
                        <a:pt x="266" y="171"/>
                      </a:lnTo>
                      <a:lnTo>
                        <a:pt x="291" y="158"/>
                      </a:lnTo>
                      <a:lnTo>
                        <a:pt x="314" y="143"/>
                      </a:lnTo>
                      <a:lnTo>
                        <a:pt x="336" y="125"/>
                      </a:lnTo>
                      <a:lnTo>
                        <a:pt x="356" y="107"/>
                      </a:lnTo>
                      <a:lnTo>
                        <a:pt x="374" y="89"/>
                      </a:lnTo>
                      <a:lnTo>
                        <a:pt x="390" y="69"/>
                      </a:lnTo>
                      <a:lnTo>
                        <a:pt x="402" y="50"/>
                      </a:lnTo>
                      <a:lnTo>
                        <a:pt x="406" y="29"/>
                      </a:lnTo>
                      <a:lnTo>
                        <a:pt x="402" y="50"/>
                      </a:lnTo>
                      <a:lnTo>
                        <a:pt x="405" y="43"/>
                      </a:lnTo>
                      <a:lnTo>
                        <a:pt x="407" y="36"/>
                      </a:lnTo>
                      <a:lnTo>
                        <a:pt x="407" y="29"/>
                      </a:lnTo>
                      <a:lnTo>
                        <a:pt x="406" y="23"/>
                      </a:lnTo>
                      <a:lnTo>
                        <a:pt x="403" y="17"/>
                      </a:lnTo>
                      <a:lnTo>
                        <a:pt x="400" y="13"/>
                      </a:lnTo>
                      <a:lnTo>
                        <a:pt x="395" y="8"/>
                      </a:lnTo>
                      <a:lnTo>
                        <a:pt x="390" y="5"/>
                      </a:lnTo>
                      <a:lnTo>
                        <a:pt x="385" y="2"/>
                      </a:lnTo>
                      <a:lnTo>
                        <a:pt x="379" y="1"/>
                      </a:lnTo>
                      <a:lnTo>
                        <a:pt x="372" y="0"/>
                      </a:lnTo>
                      <a:lnTo>
                        <a:pt x="367" y="1"/>
                      </a:lnTo>
                      <a:lnTo>
                        <a:pt x="361" y="2"/>
                      </a:lnTo>
                      <a:lnTo>
                        <a:pt x="355" y="6"/>
                      </a:lnTo>
                      <a:lnTo>
                        <a:pt x="351" y="10"/>
                      </a:lnTo>
                      <a:lnTo>
                        <a:pt x="346" y="16"/>
                      </a:lnTo>
                      <a:lnTo>
                        <a:pt x="341" y="37"/>
                      </a:lnTo>
                      <a:close/>
                    </a:path>
                  </a:pathLst>
                </a:custGeom>
                <a:solidFill>
                  <a:srgbClr val="000000"/>
                </a:solidFill>
                <a:ln w="0">
                  <a:noFill/>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64" name=""/>
                <p:cNvSpPr/>
                <p:nvPr/>
              </p:nvSpPr>
              <p:spPr>
                <a:xfrm>
                  <a:off x="4316760" y="4699440"/>
                  <a:ext cx="21960" cy="70560"/>
                </a:xfrm>
                <a:custGeom>
                  <a:avLst/>
                  <a:gdLst/>
                  <a:ahLst/>
                  <a:rect l="l" t="t" r="r" b="b"/>
                  <a:pathLst>
                    <a:path w="111" h="369">
                      <a:moveTo>
                        <a:pt x="44" y="30"/>
                      </a:moveTo>
                      <a:lnTo>
                        <a:pt x="44" y="39"/>
                      </a:lnTo>
                      <a:lnTo>
                        <a:pt x="46" y="53"/>
                      </a:lnTo>
                      <a:lnTo>
                        <a:pt x="46" y="67"/>
                      </a:lnTo>
                      <a:lnTo>
                        <a:pt x="45" y="82"/>
                      </a:lnTo>
                      <a:lnTo>
                        <a:pt x="44" y="97"/>
                      </a:lnTo>
                      <a:lnTo>
                        <a:pt x="36" y="131"/>
                      </a:lnTo>
                      <a:lnTo>
                        <a:pt x="25" y="170"/>
                      </a:lnTo>
                      <a:lnTo>
                        <a:pt x="20" y="191"/>
                      </a:lnTo>
                      <a:lnTo>
                        <a:pt x="14" y="213"/>
                      </a:lnTo>
                      <a:lnTo>
                        <a:pt x="9" y="236"/>
                      </a:lnTo>
                      <a:lnTo>
                        <a:pt x="5" y="260"/>
                      </a:lnTo>
                      <a:lnTo>
                        <a:pt x="2" y="285"/>
                      </a:lnTo>
                      <a:lnTo>
                        <a:pt x="0" y="311"/>
                      </a:lnTo>
                      <a:lnTo>
                        <a:pt x="1" y="339"/>
                      </a:lnTo>
                      <a:lnTo>
                        <a:pt x="2" y="369"/>
                      </a:lnTo>
                      <a:lnTo>
                        <a:pt x="67" y="361"/>
                      </a:lnTo>
                      <a:lnTo>
                        <a:pt x="66" y="337"/>
                      </a:lnTo>
                      <a:lnTo>
                        <a:pt x="66" y="314"/>
                      </a:lnTo>
                      <a:lnTo>
                        <a:pt x="67" y="291"/>
                      </a:lnTo>
                      <a:lnTo>
                        <a:pt x="69" y="269"/>
                      </a:lnTo>
                      <a:lnTo>
                        <a:pt x="72" y="247"/>
                      </a:lnTo>
                      <a:lnTo>
                        <a:pt x="77" y="226"/>
                      </a:lnTo>
                      <a:lnTo>
                        <a:pt x="83" y="207"/>
                      </a:lnTo>
                      <a:lnTo>
                        <a:pt x="87" y="186"/>
                      </a:lnTo>
                      <a:lnTo>
                        <a:pt x="99" y="147"/>
                      </a:lnTo>
                      <a:lnTo>
                        <a:pt x="107" y="108"/>
                      </a:lnTo>
                      <a:lnTo>
                        <a:pt x="109" y="87"/>
                      </a:lnTo>
                      <a:lnTo>
                        <a:pt x="111" y="68"/>
                      </a:lnTo>
                      <a:lnTo>
                        <a:pt x="110" y="47"/>
                      </a:lnTo>
                      <a:lnTo>
                        <a:pt x="107" y="27"/>
                      </a:lnTo>
                      <a:lnTo>
                        <a:pt x="108" y="36"/>
                      </a:lnTo>
                      <a:lnTo>
                        <a:pt x="107" y="27"/>
                      </a:lnTo>
                      <a:lnTo>
                        <a:pt x="105" y="18"/>
                      </a:lnTo>
                      <a:lnTo>
                        <a:pt x="101" y="13"/>
                      </a:lnTo>
                      <a:lnTo>
                        <a:pt x="98" y="8"/>
                      </a:lnTo>
                      <a:lnTo>
                        <a:pt x="92" y="5"/>
                      </a:lnTo>
                      <a:lnTo>
                        <a:pt x="86" y="2"/>
                      </a:lnTo>
                      <a:lnTo>
                        <a:pt x="80" y="1"/>
                      </a:lnTo>
                      <a:lnTo>
                        <a:pt x="75" y="0"/>
                      </a:lnTo>
                      <a:lnTo>
                        <a:pt x="69" y="1"/>
                      </a:lnTo>
                      <a:lnTo>
                        <a:pt x="63" y="2"/>
                      </a:lnTo>
                      <a:lnTo>
                        <a:pt x="58" y="6"/>
                      </a:lnTo>
                      <a:lnTo>
                        <a:pt x="53" y="9"/>
                      </a:lnTo>
                      <a:lnTo>
                        <a:pt x="48" y="14"/>
                      </a:lnTo>
                      <a:lnTo>
                        <a:pt x="46" y="18"/>
                      </a:lnTo>
                      <a:lnTo>
                        <a:pt x="44" y="25"/>
                      </a:lnTo>
                      <a:lnTo>
                        <a:pt x="43" y="32"/>
                      </a:lnTo>
                      <a:lnTo>
                        <a:pt x="44" y="39"/>
                      </a:lnTo>
                      <a:lnTo>
                        <a:pt x="44" y="30"/>
                      </a:lnTo>
                      <a:close/>
                    </a:path>
                  </a:pathLst>
                </a:custGeom>
                <a:solidFill>
                  <a:srgbClr val="000000"/>
                </a:solidFill>
                <a:ln w="0">
                  <a:noFill/>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65" name=""/>
                <p:cNvSpPr/>
                <p:nvPr/>
              </p:nvSpPr>
              <p:spPr>
                <a:xfrm>
                  <a:off x="4294440" y="4657680"/>
                  <a:ext cx="44280" cy="49680"/>
                </a:xfrm>
                <a:custGeom>
                  <a:avLst/>
                  <a:gdLst/>
                  <a:ahLst/>
                  <a:rect l="l" t="t" r="r" b="b"/>
                  <a:pathLst>
                    <a:path w="224" h="261">
                      <a:moveTo>
                        <a:pt x="6" y="50"/>
                      </a:moveTo>
                      <a:lnTo>
                        <a:pt x="12" y="56"/>
                      </a:lnTo>
                      <a:lnTo>
                        <a:pt x="39" y="81"/>
                      </a:lnTo>
                      <a:lnTo>
                        <a:pt x="67" y="106"/>
                      </a:lnTo>
                      <a:lnTo>
                        <a:pt x="93" y="131"/>
                      </a:lnTo>
                      <a:lnTo>
                        <a:pt x="118" y="156"/>
                      </a:lnTo>
                      <a:lnTo>
                        <a:pt x="128" y="169"/>
                      </a:lnTo>
                      <a:lnTo>
                        <a:pt x="137" y="181"/>
                      </a:lnTo>
                      <a:lnTo>
                        <a:pt x="145" y="193"/>
                      </a:lnTo>
                      <a:lnTo>
                        <a:pt x="151" y="206"/>
                      </a:lnTo>
                      <a:lnTo>
                        <a:pt x="155" y="218"/>
                      </a:lnTo>
                      <a:lnTo>
                        <a:pt x="159" y="230"/>
                      </a:lnTo>
                      <a:lnTo>
                        <a:pt x="160" y="242"/>
                      </a:lnTo>
                      <a:lnTo>
                        <a:pt x="160" y="255"/>
                      </a:lnTo>
                      <a:lnTo>
                        <a:pt x="224" y="261"/>
                      </a:lnTo>
                      <a:lnTo>
                        <a:pt x="224" y="239"/>
                      </a:lnTo>
                      <a:lnTo>
                        <a:pt x="222" y="218"/>
                      </a:lnTo>
                      <a:lnTo>
                        <a:pt x="217" y="199"/>
                      </a:lnTo>
                      <a:lnTo>
                        <a:pt x="210" y="180"/>
                      </a:lnTo>
                      <a:lnTo>
                        <a:pt x="201" y="162"/>
                      </a:lnTo>
                      <a:lnTo>
                        <a:pt x="191" y="145"/>
                      </a:lnTo>
                      <a:lnTo>
                        <a:pt x="179" y="129"/>
                      </a:lnTo>
                      <a:lnTo>
                        <a:pt x="165" y="114"/>
                      </a:lnTo>
                      <a:lnTo>
                        <a:pt x="139" y="85"/>
                      </a:lnTo>
                      <a:lnTo>
                        <a:pt x="110" y="59"/>
                      </a:lnTo>
                      <a:lnTo>
                        <a:pt x="82" y="33"/>
                      </a:lnTo>
                      <a:lnTo>
                        <a:pt x="54" y="9"/>
                      </a:lnTo>
                      <a:lnTo>
                        <a:pt x="60" y="15"/>
                      </a:lnTo>
                      <a:lnTo>
                        <a:pt x="54" y="9"/>
                      </a:lnTo>
                      <a:lnTo>
                        <a:pt x="48" y="5"/>
                      </a:lnTo>
                      <a:lnTo>
                        <a:pt x="43" y="1"/>
                      </a:lnTo>
                      <a:lnTo>
                        <a:pt x="36" y="0"/>
                      </a:lnTo>
                      <a:lnTo>
                        <a:pt x="30" y="0"/>
                      </a:lnTo>
                      <a:lnTo>
                        <a:pt x="24" y="1"/>
                      </a:lnTo>
                      <a:lnTo>
                        <a:pt x="18" y="3"/>
                      </a:lnTo>
                      <a:lnTo>
                        <a:pt x="14" y="7"/>
                      </a:lnTo>
                      <a:lnTo>
                        <a:pt x="9" y="11"/>
                      </a:lnTo>
                      <a:lnTo>
                        <a:pt x="5" y="16"/>
                      </a:lnTo>
                      <a:lnTo>
                        <a:pt x="2" y="21"/>
                      </a:lnTo>
                      <a:lnTo>
                        <a:pt x="0" y="26"/>
                      </a:lnTo>
                      <a:lnTo>
                        <a:pt x="0" y="33"/>
                      </a:lnTo>
                      <a:lnTo>
                        <a:pt x="0" y="39"/>
                      </a:lnTo>
                      <a:lnTo>
                        <a:pt x="2" y="45"/>
                      </a:lnTo>
                      <a:lnTo>
                        <a:pt x="6" y="50"/>
                      </a:lnTo>
                      <a:lnTo>
                        <a:pt x="12" y="56"/>
                      </a:lnTo>
                      <a:lnTo>
                        <a:pt x="6" y="50"/>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66" name=""/>
                <p:cNvSpPr/>
                <p:nvPr/>
              </p:nvSpPr>
              <p:spPr>
                <a:xfrm>
                  <a:off x="4289040" y="4626360"/>
                  <a:ext cx="16560" cy="40320"/>
                </a:xfrm>
                <a:custGeom>
                  <a:avLst/>
                  <a:gdLst/>
                  <a:ahLst/>
                  <a:rect l="l" t="t" r="r" b="b"/>
                  <a:pathLst>
                    <a:path w="89" h="212">
                      <a:moveTo>
                        <a:pt x="47" y="62"/>
                      </a:moveTo>
                      <a:lnTo>
                        <a:pt x="0" y="33"/>
                      </a:lnTo>
                      <a:lnTo>
                        <a:pt x="0" y="53"/>
                      </a:lnTo>
                      <a:lnTo>
                        <a:pt x="0" y="75"/>
                      </a:lnTo>
                      <a:lnTo>
                        <a:pt x="2" y="98"/>
                      </a:lnTo>
                      <a:lnTo>
                        <a:pt x="4" y="121"/>
                      </a:lnTo>
                      <a:lnTo>
                        <a:pt x="8" y="145"/>
                      </a:lnTo>
                      <a:lnTo>
                        <a:pt x="14" y="167"/>
                      </a:lnTo>
                      <a:lnTo>
                        <a:pt x="18" y="179"/>
                      </a:lnTo>
                      <a:lnTo>
                        <a:pt x="23" y="191"/>
                      </a:lnTo>
                      <a:lnTo>
                        <a:pt x="28" y="202"/>
                      </a:lnTo>
                      <a:lnTo>
                        <a:pt x="35" y="212"/>
                      </a:lnTo>
                      <a:lnTo>
                        <a:pt x="89" y="177"/>
                      </a:lnTo>
                      <a:lnTo>
                        <a:pt x="85" y="170"/>
                      </a:lnTo>
                      <a:lnTo>
                        <a:pt x="82" y="164"/>
                      </a:lnTo>
                      <a:lnTo>
                        <a:pt x="78" y="156"/>
                      </a:lnTo>
                      <a:lnTo>
                        <a:pt x="76" y="149"/>
                      </a:lnTo>
                      <a:lnTo>
                        <a:pt x="72" y="131"/>
                      </a:lnTo>
                      <a:lnTo>
                        <a:pt x="68" y="113"/>
                      </a:lnTo>
                      <a:lnTo>
                        <a:pt x="67" y="93"/>
                      </a:lnTo>
                      <a:lnTo>
                        <a:pt x="66" y="72"/>
                      </a:lnTo>
                      <a:lnTo>
                        <a:pt x="65" y="53"/>
                      </a:lnTo>
                      <a:lnTo>
                        <a:pt x="65" y="33"/>
                      </a:lnTo>
                      <a:lnTo>
                        <a:pt x="18" y="5"/>
                      </a:lnTo>
                      <a:lnTo>
                        <a:pt x="65" y="33"/>
                      </a:lnTo>
                      <a:lnTo>
                        <a:pt x="65" y="25"/>
                      </a:lnTo>
                      <a:lnTo>
                        <a:pt x="62" y="18"/>
                      </a:lnTo>
                      <a:lnTo>
                        <a:pt x="59" y="13"/>
                      </a:lnTo>
                      <a:lnTo>
                        <a:pt x="54" y="8"/>
                      </a:lnTo>
                      <a:lnTo>
                        <a:pt x="50" y="5"/>
                      </a:lnTo>
                      <a:lnTo>
                        <a:pt x="44" y="2"/>
                      </a:lnTo>
                      <a:lnTo>
                        <a:pt x="38" y="1"/>
                      </a:lnTo>
                      <a:lnTo>
                        <a:pt x="33" y="0"/>
                      </a:lnTo>
                      <a:lnTo>
                        <a:pt x="27" y="1"/>
                      </a:lnTo>
                      <a:lnTo>
                        <a:pt x="21" y="2"/>
                      </a:lnTo>
                      <a:lnTo>
                        <a:pt x="15" y="5"/>
                      </a:lnTo>
                      <a:lnTo>
                        <a:pt x="11" y="8"/>
                      </a:lnTo>
                      <a:lnTo>
                        <a:pt x="6" y="13"/>
                      </a:lnTo>
                      <a:lnTo>
                        <a:pt x="3" y="18"/>
                      </a:lnTo>
                      <a:lnTo>
                        <a:pt x="2" y="25"/>
                      </a:lnTo>
                      <a:lnTo>
                        <a:pt x="0" y="33"/>
                      </a:lnTo>
                      <a:lnTo>
                        <a:pt x="47" y="62"/>
                      </a:lnTo>
                      <a:close/>
                    </a:path>
                  </a:pathLst>
                </a:custGeom>
                <a:solidFill>
                  <a:srgbClr val="000000"/>
                </a:solidFill>
                <a:ln w="0">
                  <a:noFill/>
                </a:ln>
              </p:spPr>
              <p:style>
                <a:lnRef idx="0"/>
                <a:fillRef idx="0"/>
                <a:effectRef idx="0"/>
                <a:fontRef idx="minor"/>
              </p:style>
              <p:txBody>
                <a:bodyPr wrap="none" lIns="93240" rIns="93240" tIns="-6120" bIns="-6120" anchor="t">
                  <a:spAutoFit/>
                </a:bodyPr>
                <a:p>
                  <a:endParaRPr b="0" lang="en-US" sz="2400" spc="-1" strike="noStrike">
                    <a:solidFill>
                      <a:srgbClr val="ffffff"/>
                    </a:solidFill>
                    <a:latin typeface="Times New Roman"/>
                  </a:endParaRPr>
                </a:p>
              </p:txBody>
            </p:sp>
            <p:sp>
              <p:nvSpPr>
                <p:cNvPr id="567" name=""/>
                <p:cNvSpPr/>
                <p:nvPr/>
              </p:nvSpPr>
              <p:spPr>
                <a:xfrm>
                  <a:off x="4147920" y="4627800"/>
                  <a:ext cx="149040" cy="45360"/>
                </a:xfrm>
                <a:custGeom>
                  <a:avLst/>
                  <a:gdLst/>
                  <a:ahLst/>
                  <a:rect l="l" t="t" r="r" b="b"/>
                  <a:pathLst>
                    <a:path w="738" h="238">
                      <a:moveTo>
                        <a:pt x="63" y="216"/>
                      </a:moveTo>
                      <a:lnTo>
                        <a:pt x="36" y="238"/>
                      </a:lnTo>
                      <a:lnTo>
                        <a:pt x="131" y="226"/>
                      </a:lnTo>
                      <a:lnTo>
                        <a:pt x="223" y="212"/>
                      </a:lnTo>
                      <a:lnTo>
                        <a:pt x="269" y="205"/>
                      </a:lnTo>
                      <a:lnTo>
                        <a:pt x="314" y="196"/>
                      </a:lnTo>
                      <a:lnTo>
                        <a:pt x="358" y="187"/>
                      </a:lnTo>
                      <a:lnTo>
                        <a:pt x="402" y="178"/>
                      </a:lnTo>
                      <a:lnTo>
                        <a:pt x="446" y="166"/>
                      </a:lnTo>
                      <a:lnTo>
                        <a:pt x="489" y="155"/>
                      </a:lnTo>
                      <a:lnTo>
                        <a:pt x="532" y="142"/>
                      </a:lnTo>
                      <a:lnTo>
                        <a:pt x="574" y="127"/>
                      </a:lnTo>
                      <a:lnTo>
                        <a:pt x="616" y="112"/>
                      </a:lnTo>
                      <a:lnTo>
                        <a:pt x="657" y="95"/>
                      </a:lnTo>
                      <a:lnTo>
                        <a:pt x="698" y="76"/>
                      </a:lnTo>
                      <a:lnTo>
                        <a:pt x="738" y="57"/>
                      </a:lnTo>
                      <a:lnTo>
                        <a:pt x="709" y="0"/>
                      </a:lnTo>
                      <a:lnTo>
                        <a:pt x="671" y="18"/>
                      </a:lnTo>
                      <a:lnTo>
                        <a:pt x="632" y="35"/>
                      </a:lnTo>
                      <a:lnTo>
                        <a:pt x="593" y="51"/>
                      </a:lnTo>
                      <a:lnTo>
                        <a:pt x="552" y="66"/>
                      </a:lnTo>
                      <a:lnTo>
                        <a:pt x="512" y="80"/>
                      </a:lnTo>
                      <a:lnTo>
                        <a:pt x="471" y="93"/>
                      </a:lnTo>
                      <a:lnTo>
                        <a:pt x="430" y="104"/>
                      </a:lnTo>
                      <a:lnTo>
                        <a:pt x="387" y="114"/>
                      </a:lnTo>
                      <a:lnTo>
                        <a:pt x="345" y="124"/>
                      </a:lnTo>
                      <a:lnTo>
                        <a:pt x="302" y="133"/>
                      </a:lnTo>
                      <a:lnTo>
                        <a:pt x="257" y="141"/>
                      </a:lnTo>
                      <a:lnTo>
                        <a:pt x="214" y="148"/>
                      </a:lnTo>
                      <a:lnTo>
                        <a:pt x="122" y="162"/>
                      </a:lnTo>
                      <a:lnTo>
                        <a:pt x="29" y="174"/>
                      </a:lnTo>
                      <a:lnTo>
                        <a:pt x="1" y="196"/>
                      </a:lnTo>
                      <a:lnTo>
                        <a:pt x="29" y="174"/>
                      </a:lnTo>
                      <a:lnTo>
                        <a:pt x="21" y="175"/>
                      </a:lnTo>
                      <a:lnTo>
                        <a:pt x="15" y="178"/>
                      </a:lnTo>
                      <a:lnTo>
                        <a:pt x="9" y="182"/>
                      </a:lnTo>
                      <a:lnTo>
                        <a:pt x="6" y="187"/>
                      </a:lnTo>
                      <a:lnTo>
                        <a:pt x="2" y="191"/>
                      </a:lnTo>
                      <a:lnTo>
                        <a:pt x="1" y="197"/>
                      </a:lnTo>
                      <a:lnTo>
                        <a:pt x="0" y="204"/>
                      </a:lnTo>
                      <a:lnTo>
                        <a:pt x="0" y="210"/>
                      </a:lnTo>
                      <a:lnTo>
                        <a:pt x="1" y="216"/>
                      </a:lnTo>
                      <a:lnTo>
                        <a:pt x="4" y="221"/>
                      </a:lnTo>
                      <a:lnTo>
                        <a:pt x="7" y="226"/>
                      </a:lnTo>
                      <a:lnTo>
                        <a:pt x="10" y="230"/>
                      </a:lnTo>
                      <a:lnTo>
                        <a:pt x="16" y="234"/>
                      </a:lnTo>
                      <a:lnTo>
                        <a:pt x="22" y="237"/>
                      </a:lnTo>
                      <a:lnTo>
                        <a:pt x="29" y="238"/>
                      </a:lnTo>
                      <a:lnTo>
                        <a:pt x="36" y="238"/>
                      </a:lnTo>
                      <a:lnTo>
                        <a:pt x="63" y="216"/>
                      </a:lnTo>
                      <a:close/>
                    </a:path>
                  </a:pathLst>
                </a:custGeom>
                <a:solidFill>
                  <a:srgbClr val="000000"/>
                </a:solidFill>
                <a:ln w="0">
                  <a:noFill/>
                </a:ln>
              </p:spPr>
              <p:style>
                <a:lnRef idx="0"/>
                <a:fillRef idx="0"/>
                <a:effectRef idx="0"/>
                <a:fontRef idx="minor"/>
              </p:style>
              <p:txBody>
                <a:bodyPr wrap="none" lIns="93240" rIns="93240" tIns="-1080" bIns="-1080" anchor="t">
                  <a:spAutoFit/>
                </a:bodyPr>
                <a:p>
                  <a:endParaRPr b="0" lang="en-US" sz="2400" spc="-1" strike="noStrike">
                    <a:solidFill>
                      <a:srgbClr val="ffffff"/>
                    </a:solidFill>
                    <a:latin typeface="Times New Roman"/>
                  </a:endParaRPr>
                </a:p>
              </p:txBody>
            </p:sp>
            <p:sp>
              <p:nvSpPr>
                <p:cNvPr id="568" name=""/>
                <p:cNvSpPr/>
                <p:nvPr/>
              </p:nvSpPr>
              <p:spPr>
                <a:xfrm>
                  <a:off x="3473280" y="4660200"/>
                  <a:ext cx="19440" cy="105840"/>
                </a:xfrm>
                <a:custGeom>
                  <a:avLst/>
                  <a:gdLst/>
                  <a:ahLst/>
                  <a:rect l="l" t="t" r="r" b="b"/>
                  <a:pathLst>
                    <a:path w="94" h="560">
                      <a:moveTo>
                        <a:pt x="17" y="519"/>
                      </a:moveTo>
                      <a:lnTo>
                        <a:pt x="79" y="519"/>
                      </a:lnTo>
                      <a:lnTo>
                        <a:pt x="75" y="500"/>
                      </a:lnTo>
                      <a:lnTo>
                        <a:pt x="71" y="483"/>
                      </a:lnTo>
                      <a:lnTo>
                        <a:pt x="69" y="466"/>
                      </a:lnTo>
                      <a:lnTo>
                        <a:pt x="66" y="450"/>
                      </a:lnTo>
                      <a:lnTo>
                        <a:pt x="65" y="432"/>
                      </a:lnTo>
                      <a:lnTo>
                        <a:pt x="64" y="417"/>
                      </a:lnTo>
                      <a:lnTo>
                        <a:pt x="64" y="401"/>
                      </a:lnTo>
                      <a:lnTo>
                        <a:pt x="64" y="386"/>
                      </a:lnTo>
                      <a:lnTo>
                        <a:pt x="66" y="355"/>
                      </a:lnTo>
                      <a:lnTo>
                        <a:pt x="70" y="326"/>
                      </a:lnTo>
                      <a:lnTo>
                        <a:pt x="75" y="296"/>
                      </a:lnTo>
                      <a:lnTo>
                        <a:pt x="79" y="266"/>
                      </a:lnTo>
                      <a:lnTo>
                        <a:pt x="85" y="235"/>
                      </a:lnTo>
                      <a:lnTo>
                        <a:pt x="88" y="205"/>
                      </a:lnTo>
                      <a:lnTo>
                        <a:pt x="92" y="173"/>
                      </a:lnTo>
                      <a:lnTo>
                        <a:pt x="94" y="142"/>
                      </a:lnTo>
                      <a:lnTo>
                        <a:pt x="94" y="124"/>
                      </a:lnTo>
                      <a:lnTo>
                        <a:pt x="93" y="107"/>
                      </a:lnTo>
                      <a:lnTo>
                        <a:pt x="92" y="90"/>
                      </a:lnTo>
                      <a:lnTo>
                        <a:pt x="89" y="73"/>
                      </a:lnTo>
                      <a:lnTo>
                        <a:pt x="87" y="56"/>
                      </a:lnTo>
                      <a:lnTo>
                        <a:pt x="84" y="37"/>
                      </a:lnTo>
                      <a:lnTo>
                        <a:pt x="78" y="19"/>
                      </a:lnTo>
                      <a:lnTo>
                        <a:pt x="72" y="0"/>
                      </a:lnTo>
                      <a:lnTo>
                        <a:pt x="11" y="21"/>
                      </a:lnTo>
                      <a:lnTo>
                        <a:pt x="16" y="36"/>
                      </a:lnTo>
                      <a:lnTo>
                        <a:pt x="21" y="52"/>
                      </a:lnTo>
                      <a:lnTo>
                        <a:pt x="24" y="67"/>
                      </a:lnTo>
                      <a:lnTo>
                        <a:pt x="26" y="82"/>
                      </a:lnTo>
                      <a:lnTo>
                        <a:pt x="27" y="97"/>
                      </a:lnTo>
                      <a:lnTo>
                        <a:pt x="29" y="111"/>
                      </a:lnTo>
                      <a:lnTo>
                        <a:pt x="30" y="126"/>
                      </a:lnTo>
                      <a:lnTo>
                        <a:pt x="30" y="139"/>
                      </a:lnTo>
                      <a:lnTo>
                        <a:pt x="27" y="168"/>
                      </a:lnTo>
                      <a:lnTo>
                        <a:pt x="25" y="197"/>
                      </a:lnTo>
                      <a:lnTo>
                        <a:pt x="21" y="226"/>
                      </a:lnTo>
                      <a:lnTo>
                        <a:pt x="16" y="255"/>
                      </a:lnTo>
                      <a:lnTo>
                        <a:pt x="10" y="285"/>
                      </a:lnTo>
                      <a:lnTo>
                        <a:pt x="6" y="316"/>
                      </a:lnTo>
                      <a:lnTo>
                        <a:pt x="2" y="350"/>
                      </a:lnTo>
                      <a:lnTo>
                        <a:pt x="0" y="383"/>
                      </a:lnTo>
                      <a:lnTo>
                        <a:pt x="0" y="401"/>
                      </a:lnTo>
                      <a:lnTo>
                        <a:pt x="0" y="419"/>
                      </a:lnTo>
                      <a:lnTo>
                        <a:pt x="1" y="437"/>
                      </a:lnTo>
                      <a:lnTo>
                        <a:pt x="2" y="455"/>
                      </a:lnTo>
                      <a:lnTo>
                        <a:pt x="4" y="475"/>
                      </a:lnTo>
                      <a:lnTo>
                        <a:pt x="8" y="494"/>
                      </a:lnTo>
                      <a:lnTo>
                        <a:pt x="12" y="515"/>
                      </a:lnTo>
                      <a:lnTo>
                        <a:pt x="17" y="536"/>
                      </a:lnTo>
                      <a:lnTo>
                        <a:pt x="80" y="535"/>
                      </a:lnTo>
                      <a:lnTo>
                        <a:pt x="17" y="536"/>
                      </a:lnTo>
                      <a:lnTo>
                        <a:pt x="19" y="543"/>
                      </a:lnTo>
                      <a:lnTo>
                        <a:pt x="24" y="548"/>
                      </a:lnTo>
                      <a:lnTo>
                        <a:pt x="29" y="553"/>
                      </a:lnTo>
                      <a:lnTo>
                        <a:pt x="33" y="556"/>
                      </a:lnTo>
                      <a:lnTo>
                        <a:pt x="39" y="559"/>
                      </a:lnTo>
                      <a:lnTo>
                        <a:pt x="45" y="560"/>
                      </a:lnTo>
                      <a:lnTo>
                        <a:pt x="50" y="560"/>
                      </a:lnTo>
                      <a:lnTo>
                        <a:pt x="57" y="559"/>
                      </a:lnTo>
                      <a:lnTo>
                        <a:pt x="63" y="556"/>
                      </a:lnTo>
                      <a:lnTo>
                        <a:pt x="68" y="553"/>
                      </a:lnTo>
                      <a:lnTo>
                        <a:pt x="72" y="550"/>
                      </a:lnTo>
                      <a:lnTo>
                        <a:pt x="76" y="545"/>
                      </a:lnTo>
                      <a:lnTo>
                        <a:pt x="79" y="539"/>
                      </a:lnTo>
                      <a:lnTo>
                        <a:pt x="80" y="533"/>
                      </a:lnTo>
                      <a:lnTo>
                        <a:pt x="81" y="527"/>
                      </a:lnTo>
                      <a:lnTo>
                        <a:pt x="79" y="519"/>
                      </a:lnTo>
                      <a:lnTo>
                        <a:pt x="17" y="519"/>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69" name=""/>
                <p:cNvSpPr/>
                <p:nvPr/>
              </p:nvSpPr>
              <p:spPr>
                <a:xfrm>
                  <a:off x="3477600" y="4705920"/>
                  <a:ext cx="209160" cy="55080"/>
                </a:xfrm>
                <a:custGeom>
                  <a:avLst/>
                  <a:gdLst/>
                  <a:ahLst/>
                  <a:rect l="l" t="t" r="r" b="b"/>
                  <a:pathLst>
                    <a:path w="1036" h="291">
                      <a:moveTo>
                        <a:pt x="972" y="140"/>
                      </a:moveTo>
                      <a:lnTo>
                        <a:pt x="1028" y="126"/>
                      </a:lnTo>
                      <a:lnTo>
                        <a:pt x="1013" y="111"/>
                      </a:lnTo>
                      <a:lnTo>
                        <a:pt x="996" y="99"/>
                      </a:lnTo>
                      <a:lnTo>
                        <a:pt x="975" y="87"/>
                      </a:lnTo>
                      <a:lnTo>
                        <a:pt x="952" y="76"/>
                      </a:lnTo>
                      <a:lnTo>
                        <a:pt x="927" y="65"/>
                      </a:lnTo>
                      <a:lnTo>
                        <a:pt x="898" y="56"/>
                      </a:lnTo>
                      <a:lnTo>
                        <a:pt x="867" y="46"/>
                      </a:lnTo>
                      <a:lnTo>
                        <a:pt x="835" y="38"/>
                      </a:lnTo>
                      <a:lnTo>
                        <a:pt x="799" y="30"/>
                      </a:lnTo>
                      <a:lnTo>
                        <a:pt x="763" y="22"/>
                      </a:lnTo>
                      <a:lnTo>
                        <a:pt x="725" y="16"/>
                      </a:lnTo>
                      <a:lnTo>
                        <a:pt x="686" y="10"/>
                      </a:lnTo>
                      <a:lnTo>
                        <a:pt x="644" y="6"/>
                      </a:lnTo>
                      <a:lnTo>
                        <a:pt x="603" y="3"/>
                      </a:lnTo>
                      <a:lnTo>
                        <a:pt x="562" y="1"/>
                      </a:lnTo>
                      <a:lnTo>
                        <a:pt x="519" y="0"/>
                      </a:lnTo>
                      <a:lnTo>
                        <a:pt x="477" y="1"/>
                      </a:lnTo>
                      <a:lnTo>
                        <a:pt x="435" y="3"/>
                      </a:lnTo>
                      <a:lnTo>
                        <a:pt x="393" y="8"/>
                      </a:lnTo>
                      <a:lnTo>
                        <a:pt x="351" y="14"/>
                      </a:lnTo>
                      <a:lnTo>
                        <a:pt x="311" y="22"/>
                      </a:lnTo>
                      <a:lnTo>
                        <a:pt x="272" y="32"/>
                      </a:lnTo>
                      <a:lnTo>
                        <a:pt x="234" y="44"/>
                      </a:lnTo>
                      <a:lnTo>
                        <a:pt x="199" y="57"/>
                      </a:lnTo>
                      <a:lnTo>
                        <a:pt x="180" y="67"/>
                      </a:lnTo>
                      <a:lnTo>
                        <a:pt x="163" y="75"/>
                      </a:lnTo>
                      <a:lnTo>
                        <a:pt x="147" y="85"/>
                      </a:lnTo>
                      <a:lnTo>
                        <a:pt x="131" y="94"/>
                      </a:lnTo>
                      <a:lnTo>
                        <a:pt x="116" y="106"/>
                      </a:lnTo>
                      <a:lnTo>
                        <a:pt x="101" y="117"/>
                      </a:lnTo>
                      <a:lnTo>
                        <a:pt x="87" y="130"/>
                      </a:lnTo>
                      <a:lnTo>
                        <a:pt x="74" y="142"/>
                      </a:lnTo>
                      <a:lnTo>
                        <a:pt x="61" y="156"/>
                      </a:lnTo>
                      <a:lnTo>
                        <a:pt x="49" y="171"/>
                      </a:lnTo>
                      <a:lnTo>
                        <a:pt x="39" y="186"/>
                      </a:lnTo>
                      <a:lnTo>
                        <a:pt x="29" y="202"/>
                      </a:lnTo>
                      <a:lnTo>
                        <a:pt x="20" y="219"/>
                      </a:lnTo>
                      <a:lnTo>
                        <a:pt x="13" y="238"/>
                      </a:lnTo>
                      <a:lnTo>
                        <a:pt x="6" y="256"/>
                      </a:lnTo>
                      <a:lnTo>
                        <a:pt x="0" y="275"/>
                      </a:lnTo>
                      <a:lnTo>
                        <a:pt x="63" y="291"/>
                      </a:lnTo>
                      <a:lnTo>
                        <a:pt x="67" y="276"/>
                      </a:lnTo>
                      <a:lnTo>
                        <a:pt x="72" y="261"/>
                      </a:lnTo>
                      <a:lnTo>
                        <a:pt x="78" y="247"/>
                      </a:lnTo>
                      <a:lnTo>
                        <a:pt x="85" y="234"/>
                      </a:lnTo>
                      <a:lnTo>
                        <a:pt x="93" y="222"/>
                      </a:lnTo>
                      <a:lnTo>
                        <a:pt x="101" y="210"/>
                      </a:lnTo>
                      <a:lnTo>
                        <a:pt x="110" y="198"/>
                      </a:lnTo>
                      <a:lnTo>
                        <a:pt x="121" y="187"/>
                      </a:lnTo>
                      <a:lnTo>
                        <a:pt x="131" y="177"/>
                      </a:lnTo>
                      <a:lnTo>
                        <a:pt x="142" y="167"/>
                      </a:lnTo>
                      <a:lnTo>
                        <a:pt x="154" y="157"/>
                      </a:lnTo>
                      <a:lnTo>
                        <a:pt x="167" y="148"/>
                      </a:lnTo>
                      <a:lnTo>
                        <a:pt x="180" y="140"/>
                      </a:lnTo>
                      <a:lnTo>
                        <a:pt x="194" y="132"/>
                      </a:lnTo>
                      <a:lnTo>
                        <a:pt x="209" y="124"/>
                      </a:lnTo>
                      <a:lnTo>
                        <a:pt x="223" y="117"/>
                      </a:lnTo>
                      <a:lnTo>
                        <a:pt x="256" y="105"/>
                      </a:lnTo>
                      <a:lnTo>
                        <a:pt x="289" y="94"/>
                      </a:lnTo>
                      <a:lnTo>
                        <a:pt x="325" y="85"/>
                      </a:lnTo>
                      <a:lnTo>
                        <a:pt x="363" y="78"/>
                      </a:lnTo>
                      <a:lnTo>
                        <a:pt x="401" y="72"/>
                      </a:lnTo>
                      <a:lnTo>
                        <a:pt x="440" y="69"/>
                      </a:lnTo>
                      <a:lnTo>
                        <a:pt x="480" y="65"/>
                      </a:lnTo>
                      <a:lnTo>
                        <a:pt x="519" y="65"/>
                      </a:lnTo>
                      <a:lnTo>
                        <a:pt x="559" y="65"/>
                      </a:lnTo>
                      <a:lnTo>
                        <a:pt x="600" y="68"/>
                      </a:lnTo>
                      <a:lnTo>
                        <a:pt x="639" y="70"/>
                      </a:lnTo>
                      <a:lnTo>
                        <a:pt x="678" y="75"/>
                      </a:lnTo>
                      <a:lnTo>
                        <a:pt x="716" y="80"/>
                      </a:lnTo>
                      <a:lnTo>
                        <a:pt x="751" y="86"/>
                      </a:lnTo>
                      <a:lnTo>
                        <a:pt x="787" y="93"/>
                      </a:lnTo>
                      <a:lnTo>
                        <a:pt x="819" y="100"/>
                      </a:lnTo>
                      <a:lnTo>
                        <a:pt x="850" y="109"/>
                      </a:lnTo>
                      <a:lnTo>
                        <a:pt x="879" y="117"/>
                      </a:lnTo>
                      <a:lnTo>
                        <a:pt x="904" y="126"/>
                      </a:lnTo>
                      <a:lnTo>
                        <a:pt x="927" y="136"/>
                      </a:lnTo>
                      <a:lnTo>
                        <a:pt x="945" y="145"/>
                      </a:lnTo>
                      <a:lnTo>
                        <a:pt x="961" y="154"/>
                      </a:lnTo>
                      <a:lnTo>
                        <a:pt x="972" y="161"/>
                      </a:lnTo>
                      <a:lnTo>
                        <a:pt x="977" y="168"/>
                      </a:lnTo>
                      <a:lnTo>
                        <a:pt x="1035" y="154"/>
                      </a:lnTo>
                      <a:lnTo>
                        <a:pt x="977" y="168"/>
                      </a:lnTo>
                      <a:lnTo>
                        <a:pt x="983" y="172"/>
                      </a:lnTo>
                      <a:lnTo>
                        <a:pt x="989" y="177"/>
                      </a:lnTo>
                      <a:lnTo>
                        <a:pt x="995" y="179"/>
                      </a:lnTo>
                      <a:lnTo>
                        <a:pt x="1000" y="180"/>
                      </a:lnTo>
                      <a:lnTo>
                        <a:pt x="1007" y="179"/>
                      </a:lnTo>
                      <a:lnTo>
                        <a:pt x="1013" y="178"/>
                      </a:lnTo>
                      <a:lnTo>
                        <a:pt x="1018" y="176"/>
                      </a:lnTo>
                      <a:lnTo>
                        <a:pt x="1023" y="172"/>
                      </a:lnTo>
                      <a:lnTo>
                        <a:pt x="1028" y="168"/>
                      </a:lnTo>
                      <a:lnTo>
                        <a:pt x="1031" y="163"/>
                      </a:lnTo>
                      <a:lnTo>
                        <a:pt x="1034" y="157"/>
                      </a:lnTo>
                      <a:lnTo>
                        <a:pt x="1035" y="152"/>
                      </a:lnTo>
                      <a:lnTo>
                        <a:pt x="1036" y="146"/>
                      </a:lnTo>
                      <a:lnTo>
                        <a:pt x="1035" y="139"/>
                      </a:lnTo>
                      <a:lnTo>
                        <a:pt x="1032" y="133"/>
                      </a:lnTo>
                      <a:lnTo>
                        <a:pt x="1028" y="126"/>
                      </a:lnTo>
                      <a:lnTo>
                        <a:pt x="972" y="140"/>
                      </a:lnTo>
                      <a:close/>
                    </a:path>
                  </a:pathLst>
                </a:custGeom>
                <a:solidFill>
                  <a:srgbClr val="000000"/>
                </a:solidFill>
                <a:ln w="0">
                  <a:noFill/>
                </a:ln>
              </p:spPr>
              <p:style>
                <a:lnRef idx="0"/>
                <a:fillRef idx="0"/>
                <a:effectRef idx="0"/>
                <a:fontRef idx="minor"/>
              </p:style>
              <p:txBody>
                <a:bodyPr wrap="none" lIns="93240" rIns="93240" tIns="8640" bIns="8640" anchor="t">
                  <a:spAutoFit/>
                </a:bodyPr>
                <a:p>
                  <a:endParaRPr b="0" lang="en-US" sz="2400" spc="-1" strike="noStrike">
                    <a:solidFill>
                      <a:srgbClr val="ffffff"/>
                    </a:solidFill>
                    <a:latin typeface="Times New Roman"/>
                  </a:endParaRPr>
                </a:p>
              </p:txBody>
            </p:sp>
            <p:sp>
              <p:nvSpPr>
                <p:cNvPr id="570" name=""/>
                <p:cNvSpPr/>
                <p:nvPr/>
              </p:nvSpPr>
              <p:spPr>
                <a:xfrm>
                  <a:off x="3664440" y="4667040"/>
                  <a:ext cx="22320" cy="67680"/>
                </a:xfrm>
                <a:custGeom>
                  <a:avLst/>
                  <a:gdLst/>
                  <a:ahLst/>
                  <a:rect l="l" t="t" r="r" b="b"/>
                  <a:pathLst>
                    <a:path w="111" h="362">
                      <a:moveTo>
                        <a:pt x="41" y="64"/>
                      </a:moveTo>
                      <a:lnTo>
                        <a:pt x="2" y="30"/>
                      </a:lnTo>
                      <a:lnTo>
                        <a:pt x="0" y="59"/>
                      </a:lnTo>
                      <a:lnTo>
                        <a:pt x="0" y="85"/>
                      </a:lnTo>
                      <a:lnTo>
                        <a:pt x="2" y="111"/>
                      </a:lnTo>
                      <a:lnTo>
                        <a:pt x="6" y="136"/>
                      </a:lnTo>
                      <a:lnTo>
                        <a:pt x="10" y="159"/>
                      </a:lnTo>
                      <a:lnTo>
                        <a:pt x="15" y="180"/>
                      </a:lnTo>
                      <a:lnTo>
                        <a:pt x="21" y="201"/>
                      </a:lnTo>
                      <a:lnTo>
                        <a:pt x="26" y="221"/>
                      </a:lnTo>
                      <a:lnTo>
                        <a:pt x="36" y="256"/>
                      </a:lnTo>
                      <a:lnTo>
                        <a:pt x="44" y="290"/>
                      </a:lnTo>
                      <a:lnTo>
                        <a:pt x="46" y="304"/>
                      </a:lnTo>
                      <a:lnTo>
                        <a:pt x="46" y="319"/>
                      </a:lnTo>
                      <a:lnTo>
                        <a:pt x="46" y="333"/>
                      </a:lnTo>
                      <a:lnTo>
                        <a:pt x="44" y="348"/>
                      </a:lnTo>
                      <a:lnTo>
                        <a:pt x="107" y="362"/>
                      </a:lnTo>
                      <a:lnTo>
                        <a:pt x="110" y="340"/>
                      </a:lnTo>
                      <a:lnTo>
                        <a:pt x="111" y="319"/>
                      </a:lnTo>
                      <a:lnTo>
                        <a:pt x="110" y="299"/>
                      </a:lnTo>
                      <a:lnTo>
                        <a:pt x="107" y="278"/>
                      </a:lnTo>
                      <a:lnTo>
                        <a:pt x="99" y="240"/>
                      </a:lnTo>
                      <a:lnTo>
                        <a:pt x="88" y="202"/>
                      </a:lnTo>
                      <a:lnTo>
                        <a:pt x="83" y="184"/>
                      </a:lnTo>
                      <a:lnTo>
                        <a:pt x="78" y="164"/>
                      </a:lnTo>
                      <a:lnTo>
                        <a:pt x="73" y="145"/>
                      </a:lnTo>
                      <a:lnTo>
                        <a:pt x="69" y="125"/>
                      </a:lnTo>
                      <a:lnTo>
                        <a:pt x="67" y="105"/>
                      </a:lnTo>
                      <a:lnTo>
                        <a:pt x="65" y="83"/>
                      </a:lnTo>
                      <a:lnTo>
                        <a:pt x="65" y="60"/>
                      </a:lnTo>
                      <a:lnTo>
                        <a:pt x="67" y="36"/>
                      </a:lnTo>
                      <a:lnTo>
                        <a:pt x="28" y="1"/>
                      </a:lnTo>
                      <a:lnTo>
                        <a:pt x="67" y="36"/>
                      </a:lnTo>
                      <a:lnTo>
                        <a:pt x="67" y="29"/>
                      </a:lnTo>
                      <a:lnTo>
                        <a:pt x="65" y="22"/>
                      </a:lnTo>
                      <a:lnTo>
                        <a:pt x="62" y="16"/>
                      </a:lnTo>
                      <a:lnTo>
                        <a:pt x="59" y="10"/>
                      </a:lnTo>
                      <a:lnTo>
                        <a:pt x="54" y="7"/>
                      </a:lnTo>
                      <a:lnTo>
                        <a:pt x="49" y="3"/>
                      </a:lnTo>
                      <a:lnTo>
                        <a:pt x="44" y="1"/>
                      </a:lnTo>
                      <a:lnTo>
                        <a:pt x="38" y="0"/>
                      </a:lnTo>
                      <a:lnTo>
                        <a:pt x="31" y="0"/>
                      </a:lnTo>
                      <a:lnTo>
                        <a:pt x="25" y="1"/>
                      </a:lnTo>
                      <a:lnTo>
                        <a:pt x="20" y="3"/>
                      </a:lnTo>
                      <a:lnTo>
                        <a:pt x="15" y="7"/>
                      </a:lnTo>
                      <a:lnTo>
                        <a:pt x="10" y="10"/>
                      </a:lnTo>
                      <a:lnTo>
                        <a:pt x="7" y="16"/>
                      </a:lnTo>
                      <a:lnTo>
                        <a:pt x="3" y="22"/>
                      </a:lnTo>
                      <a:lnTo>
                        <a:pt x="2" y="30"/>
                      </a:lnTo>
                      <a:lnTo>
                        <a:pt x="41" y="64"/>
                      </a:lnTo>
                      <a:close/>
                    </a:path>
                  </a:pathLst>
                </a:custGeom>
                <a:solidFill>
                  <a:srgbClr val="000000"/>
                </a:solidFill>
                <a:ln w="0">
                  <a:noFill/>
                </a:ln>
              </p:spPr>
              <p:style>
                <a:lnRef idx="0"/>
                <a:fillRef idx="0"/>
                <a:effectRef idx="0"/>
                <a:fontRef idx="minor"/>
              </p:style>
              <p:txBody>
                <a:bodyPr wrap="none" lIns="93240" rIns="93240" tIns="21240" bIns="21240" anchor="t">
                  <a:spAutoFit/>
                </a:bodyPr>
                <a:p>
                  <a:endParaRPr b="0" lang="en-US" sz="2400" spc="-1" strike="noStrike">
                    <a:solidFill>
                      <a:srgbClr val="ffffff"/>
                    </a:solidFill>
                    <a:latin typeface="Times New Roman"/>
                  </a:endParaRPr>
                </a:p>
              </p:txBody>
            </p:sp>
            <p:sp>
              <p:nvSpPr>
                <p:cNvPr id="571" name=""/>
                <p:cNvSpPr/>
                <p:nvPr/>
              </p:nvSpPr>
              <p:spPr>
                <a:xfrm>
                  <a:off x="3474720" y="4656600"/>
                  <a:ext cx="198000" cy="29880"/>
                </a:xfrm>
                <a:custGeom>
                  <a:avLst/>
                  <a:gdLst/>
                  <a:ahLst/>
                  <a:rect l="l" t="t" r="r" b="b"/>
                  <a:pathLst>
                    <a:path w="977" h="166">
                      <a:moveTo>
                        <a:pt x="63" y="23"/>
                      </a:moveTo>
                      <a:lnTo>
                        <a:pt x="21" y="64"/>
                      </a:lnTo>
                      <a:lnTo>
                        <a:pt x="51" y="75"/>
                      </a:lnTo>
                      <a:lnTo>
                        <a:pt x="80" y="87"/>
                      </a:lnTo>
                      <a:lnTo>
                        <a:pt x="111" y="97"/>
                      </a:lnTo>
                      <a:lnTo>
                        <a:pt x="141" y="106"/>
                      </a:lnTo>
                      <a:lnTo>
                        <a:pt x="172" y="115"/>
                      </a:lnTo>
                      <a:lnTo>
                        <a:pt x="203" y="122"/>
                      </a:lnTo>
                      <a:lnTo>
                        <a:pt x="234" y="130"/>
                      </a:lnTo>
                      <a:lnTo>
                        <a:pt x="266" y="136"/>
                      </a:lnTo>
                      <a:lnTo>
                        <a:pt x="297" y="142"/>
                      </a:lnTo>
                      <a:lnTo>
                        <a:pt x="328" y="147"/>
                      </a:lnTo>
                      <a:lnTo>
                        <a:pt x="361" y="152"/>
                      </a:lnTo>
                      <a:lnTo>
                        <a:pt x="393" y="156"/>
                      </a:lnTo>
                      <a:lnTo>
                        <a:pt x="455" y="161"/>
                      </a:lnTo>
                      <a:lnTo>
                        <a:pt x="518" y="165"/>
                      </a:lnTo>
                      <a:lnTo>
                        <a:pt x="580" y="166"/>
                      </a:lnTo>
                      <a:lnTo>
                        <a:pt x="641" y="165"/>
                      </a:lnTo>
                      <a:lnTo>
                        <a:pt x="701" y="162"/>
                      </a:lnTo>
                      <a:lnTo>
                        <a:pt x="759" y="158"/>
                      </a:lnTo>
                      <a:lnTo>
                        <a:pt x="817" y="151"/>
                      </a:lnTo>
                      <a:lnTo>
                        <a:pt x="873" y="143"/>
                      </a:lnTo>
                      <a:lnTo>
                        <a:pt x="926" y="134"/>
                      </a:lnTo>
                      <a:lnTo>
                        <a:pt x="977" y="123"/>
                      </a:lnTo>
                      <a:lnTo>
                        <a:pt x="964" y="60"/>
                      </a:lnTo>
                      <a:lnTo>
                        <a:pt x="914" y="71"/>
                      </a:lnTo>
                      <a:lnTo>
                        <a:pt x="862" y="80"/>
                      </a:lnTo>
                      <a:lnTo>
                        <a:pt x="809" y="87"/>
                      </a:lnTo>
                      <a:lnTo>
                        <a:pt x="753" y="93"/>
                      </a:lnTo>
                      <a:lnTo>
                        <a:pt x="697" y="97"/>
                      </a:lnTo>
                      <a:lnTo>
                        <a:pt x="639" y="100"/>
                      </a:lnTo>
                      <a:lnTo>
                        <a:pt x="580" y="102"/>
                      </a:lnTo>
                      <a:lnTo>
                        <a:pt x="520" y="100"/>
                      </a:lnTo>
                      <a:lnTo>
                        <a:pt x="459" y="97"/>
                      </a:lnTo>
                      <a:lnTo>
                        <a:pt x="399" y="91"/>
                      </a:lnTo>
                      <a:lnTo>
                        <a:pt x="369" y="88"/>
                      </a:lnTo>
                      <a:lnTo>
                        <a:pt x="339" y="83"/>
                      </a:lnTo>
                      <a:lnTo>
                        <a:pt x="309" y="79"/>
                      </a:lnTo>
                      <a:lnTo>
                        <a:pt x="278" y="73"/>
                      </a:lnTo>
                      <a:lnTo>
                        <a:pt x="248" y="67"/>
                      </a:lnTo>
                      <a:lnTo>
                        <a:pt x="218" y="60"/>
                      </a:lnTo>
                      <a:lnTo>
                        <a:pt x="190" y="52"/>
                      </a:lnTo>
                      <a:lnTo>
                        <a:pt x="160" y="44"/>
                      </a:lnTo>
                      <a:lnTo>
                        <a:pt x="131" y="35"/>
                      </a:lnTo>
                      <a:lnTo>
                        <a:pt x="102" y="26"/>
                      </a:lnTo>
                      <a:lnTo>
                        <a:pt x="74" y="14"/>
                      </a:lnTo>
                      <a:lnTo>
                        <a:pt x="45" y="4"/>
                      </a:lnTo>
                      <a:lnTo>
                        <a:pt x="2" y="44"/>
                      </a:lnTo>
                      <a:lnTo>
                        <a:pt x="45" y="4"/>
                      </a:lnTo>
                      <a:lnTo>
                        <a:pt x="38" y="2"/>
                      </a:lnTo>
                      <a:lnTo>
                        <a:pt x="31" y="0"/>
                      </a:lnTo>
                      <a:lnTo>
                        <a:pt x="25" y="2"/>
                      </a:lnTo>
                      <a:lnTo>
                        <a:pt x="20" y="4"/>
                      </a:lnTo>
                      <a:lnTo>
                        <a:pt x="14" y="6"/>
                      </a:lnTo>
                      <a:lnTo>
                        <a:pt x="9" y="11"/>
                      </a:lnTo>
                      <a:lnTo>
                        <a:pt x="6" y="15"/>
                      </a:lnTo>
                      <a:lnTo>
                        <a:pt x="3" y="21"/>
                      </a:lnTo>
                      <a:lnTo>
                        <a:pt x="1" y="27"/>
                      </a:lnTo>
                      <a:lnTo>
                        <a:pt x="0" y="33"/>
                      </a:lnTo>
                      <a:lnTo>
                        <a:pt x="0" y="38"/>
                      </a:lnTo>
                      <a:lnTo>
                        <a:pt x="2" y="44"/>
                      </a:lnTo>
                      <a:lnTo>
                        <a:pt x="5" y="50"/>
                      </a:lnTo>
                      <a:lnTo>
                        <a:pt x="8" y="56"/>
                      </a:lnTo>
                      <a:lnTo>
                        <a:pt x="14" y="60"/>
                      </a:lnTo>
                      <a:lnTo>
                        <a:pt x="21" y="64"/>
                      </a:lnTo>
                      <a:lnTo>
                        <a:pt x="63" y="23"/>
                      </a:lnTo>
                      <a:close/>
                    </a:path>
                  </a:pathLst>
                </a:custGeom>
                <a:solidFill>
                  <a:srgbClr val="000000"/>
                </a:solidFill>
                <a:ln w="0">
                  <a:noFill/>
                </a:ln>
              </p:spPr>
              <p:style>
                <a:lnRef idx="0"/>
                <a:fillRef idx="0"/>
                <a:effectRef idx="0"/>
                <a:fontRef idx="minor"/>
              </p:style>
              <p:txBody>
                <a:bodyPr wrap="none" lIns="93240" rIns="93240" tIns="-16560" bIns="-16560" anchor="t">
                  <a:spAutoFit/>
                </a:bodyPr>
                <a:p>
                  <a:endParaRPr b="0" lang="en-US" sz="2400" spc="-1" strike="noStrike">
                    <a:solidFill>
                      <a:srgbClr val="ffffff"/>
                    </a:solidFill>
                    <a:latin typeface="Times New Roman"/>
                  </a:endParaRPr>
                </a:p>
              </p:txBody>
            </p:sp>
            <p:sp>
              <p:nvSpPr>
                <p:cNvPr id="572" name=""/>
                <p:cNvSpPr/>
                <p:nvPr/>
              </p:nvSpPr>
              <p:spPr>
                <a:xfrm>
                  <a:off x="3542760" y="1932120"/>
                  <a:ext cx="103320" cy="108360"/>
                </a:xfrm>
                <a:custGeom>
                  <a:avLst/>
                  <a:gdLst/>
                  <a:ahLst/>
                  <a:rect l="l" t="t" r="r" b="b"/>
                  <a:pathLst>
                    <a:path w="514" h="573">
                      <a:moveTo>
                        <a:pt x="259" y="573"/>
                      </a:moveTo>
                      <a:lnTo>
                        <a:pt x="272" y="573"/>
                      </a:lnTo>
                      <a:lnTo>
                        <a:pt x="284" y="572"/>
                      </a:lnTo>
                      <a:lnTo>
                        <a:pt x="297" y="570"/>
                      </a:lnTo>
                      <a:lnTo>
                        <a:pt x="310" y="568"/>
                      </a:lnTo>
                      <a:lnTo>
                        <a:pt x="322" y="564"/>
                      </a:lnTo>
                      <a:lnTo>
                        <a:pt x="334" y="561"/>
                      </a:lnTo>
                      <a:lnTo>
                        <a:pt x="346" y="556"/>
                      </a:lnTo>
                      <a:lnTo>
                        <a:pt x="358" y="550"/>
                      </a:lnTo>
                      <a:lnTo>
                        <a:pt x="368" y="545"/>
                      </a:lnTo>
                      <a:lnTo>
                        <a:pt x="380" y="539"/>
                      </a:lnTo>
                      <a:lnTo>
                        <a:pt x="390" y="532"/>
                      </a:lnTo>
                      <a:lnTo>
                        <a:pt x="400" y="524"/>
                      </a:lnTo>
                      <a:lnTo>
                        <a:pt x="420" y="508"/>
                      </a:lnTo>
                      <a:lnTo>
                        <a:pt x="438" y="488"/>
                      </a:lnTo>
                      <a:lnTo>
                        <a:pt x="456" y="469"/>
                      </a:lnTo>
                      <a:lnTo>
                        <a:pt x="470" y="446"/>
                      </a:lnTo>
                      <a:lnTo>
                        <a:pt x="483" y="423"/>
                      </a:lnTo>
                      <a:lnTo>
                        <a:pt x="493" y="398"/>
                      </a:lnTo>
                      <a:lnTo>
                        <a:pt x="503" y="371"/>
                      </a:lnTo>
                      <a:lnTo>
                        <a:pt x="508" y="344"/>
                      </a:lnTo>
                      <a:lnTo>
                        <a:pt x="511" y="329"/>
                      </a:lnTo>
                      <a:lnTo>
                        <a:pt x="513" y="315"/>
                      </a:lnTo>
                      <a:lnTo>
                        <a:pt x="514" y="300"/>
                      </a:lnTo>
                      <a:lnTo>
                        <a:pt x="514" y="286"/>
                      </a:lnTo>
                      <a:lnTo>
                        <a:pt x="514" y="271"/>
                      </a:lnTo>
                      <a:lnTo>
                        <a:pt x="513" y="256"/>
                      </a:lnTo>
                      <a:lnTo>
                        <a:pt x="511" y="241"/>
                      </a:lnTo>
                      <a:lnTo>
                        <a:pt x="508" y="228"/>
                      </a:lnTo>
                      <a:lnTo>
                        <a:pt x="503" y="200"/>
                      </a:lnTo>
                      <a:lnTo>
                        <a:pt x="493" y="174"/>
                      </a:lnTo>
                      <a:lnTo>
                        <a:pt x="483" y="148"/>
                      </a:lnTo>
                      <a:lnTo>
                        <a:pt x="470" y="125"/>
                      </a:lnTo>
                      <a:lnTo>
                        <a:pt x="456" y="102"/>
                      </a:lnTo>
                      <a:lnTo>
                        <a:pt x="438" y="83"/>
                      </a:lnTo>
                      <a:lnTo>
                        <a:pt x="420" y="64"/>
                      </a:lnTo>
                      <a:lnTo>
                        <a:pt x="400" y="48"/>
                      </a:lnTo>
                      <a:lnTo>
                        <a:pt x="380" y="35"/>
                      </a:lnTo>
                      <a:lnTo>
                        <a:pt x="358" y="22"/>
                      </a:lnTo>
                      <a:lnTo>
                        <a:pt x="346" y="17"/>
                      </a:lnTo>
                      <a:lnTo>
                        <a:pt x="334" y="13"/>
                      </a:lnTo>
                      <a:lnTo>
                        <a:pt x="322" y="9"/>
                      </a:lnTo>
                      <a:lnTo>
                        <a:pt x="310" y="6"/>
                      </a:lnTo>
                      <a:lnTo>
                        <a:pt x="297" y="4"/>
                      </a:lnTo>
                      <a:lnTo>
                        <a:pt x="284" y="1"/>
                      </a:lnTo>
                      <a:lnTo>
                        <a:pt x="272" y="0"/>
                      </a:lnTo>
                      <a:lnTo>
                        <a:pt x="259" y="0"/>
                      </a:lnTo>
                      <a:lnTo>
                        <a:pt x="245" y="0"/>
                      </a:lnTo>
                      <a:lnTo>
                        <a:pt x="233" y="1"/>
                      </a:lnTo>
                      <a:lnTo>
                        <a:pt x="219" y="4"/>
                      </a:lnTo>
                      <a:lnTo>
                        <a:pt x="206" y="6"/>
                      </a:lnTo>
                      <a:lnTo>
                        <a:pt x="194" y="9"/>
                      </a:lnTo>
                      <a:lnTo>
                        <a:pt x="181" y="13"/>
                      </a:lnTo>
                      <a:lnTo>
                        <a:pt x="168" y="17"/>
                      </a:lnTo>
                      <a:lnTo>
                        <a:pt x="157" y="22"/>
                      </a:lnTo>
                      <a:lnTo>
                        <a:pt x="145" y="28"/>
                      </a:lnTo>
                      <a:lnTo>
                        <a:pt x="134" y="35"/>
                      </a:lnTo>
                      <a:lnTo>
                        <a:pt x="124" y="40"/>
                      </a:lnTo>
                      <a:lnTo>
                        <a:pt x="112" y="48"/>
                      </a:lnTo>
                      <a:lnTo>
                        <a:pt x="103" y="56"/>
                      </a:lnTo>
                      <a:lnTo>
                        <a:pt x="93" y="64"/>
                      </a:lnTo>
                      <a:lnTo>
                        <a:pt x="83" y="74"/>
                      </a:lnTo>
                      <a:lnTo>
                        <a:pt x="74" y="83"/>
                      </a:lnTo>
                      <a:lnTo>
                        <a:pt x="58" y="102"/>
                      </a:lnTo>
                      <a:lnTo>
                        <a:pt x="43" y="125"/>
                      </a:lnTo>
                      <a:lnTo>
                        <a:pt x="29" y="148"/>
                      </a:lnTo>
                      <a:lnTo>
                        <a:pt x="19" y="174"/>
                      </a:lnTo>
                      <a:lnTo>
                        <a:pt x="15" y="186"/>
                      </a:lnTo>
                      <a:lnTo>
                        <a:pt x="11" y="200"/>
                      </a:lnTo>
                      <a:lnTo>
                        <a:pt x="8" y="214"/>
                      </a:lnTo>
                      <a:lnTo>
                        <a:pt x="4" y="228"/>
                      </a:lnTo>
                      <a:lnTo>
                        <a:pt x="2" y="241"/>
                      </a:lnTo>
                      <a:lnTo>
                        <a:pt x="1" y="256"/>
                      </a:lnTo>
                      <a:lnTo>
                        <a:pt x="0" y="271"/>
                      </a:lnTo>
                      <a:lnTo>
                        <a:pt x="0" y="286"/>
                      </a:lnTo>
                      <a:lnTo>
                        <a:pt x="0" y="300"/>
                      </a:lnTo>
                      <a:lnTo>
                        <a:pt x="1" y="315"/>
                      </a:lnTo>
                      <a:lnTo>
                        <a:pt x="2" y="329"/>
                      </a:lnTo>
                      <a:lnTo>
                        <a:pt x="4" y="344"/>
                      </a:lnTo>
                      <a:lnTo>
                        <a:pt x="11" y="371"/>
                      </a:lnTo>
                      <a:lnTo>
                        <a:pt x="19" y="398"/>
                      </a:lnTo>
                      <a:lnTo>
                        <a:pt x="29" y="423"/>
                      </a:lnTo>
                      <a:lnTo>
                        <a:pt x="43" y="446"/>
                      </a:lnTo>
                      <a:lnTo>
                        <a:pt x="58" y="469"/>
                      </a:lnTo>
                      <a:lnTo>
                        <a:pt x="74" y="488"/>
                      </a:lnTo>
                      <a:lnTo>
                        <a:pt x="83" y="499"/>
                      </a:lnTo>
                      <a:lnTo>
                        <a:pt x="93" y="508"/>
                      </a:lnTo>
                      <a:lnTo>
                        <a:pt x="103" y="516"/>
                      </a:lnTo>
                      <a:lnTo>
                        <a:pt x="112" y="524"/>
                      </a:lnTo>
                      <a:lnTo>
                        <a:pt x="124" y="532"/>
                      </a:lnTo>
                      <a:lnTo>
                        <a:pt x="134" y="539"/>
                      </a:lnTo>
                      <a:lnTo>
                        <a:pt x="145" y="545"/>
                      </a:lnTo>
                      <a:lnTo>
                        <a:pt x="157" y="550"/>
                      </a:lnTo>
                      <a:lnTo>
                        <a:pt x="168" y="556"/>
                      </a:lnTo>
                      <a:lnTo>
                        <a:pt x="181" y="561"/>
                      </a:lnTo>
                      <a:lnTo>
                        <a:pt x="194" y="564"/>
                      </a:lnTo>
                      <a:lnTo>
                        <a:pt x="206" y="568"/>
                      </a:lnTo>
                      <a:lnTo>
                        <a:pt x="219" y="570"/>
                      </a:lnTo>
                      <a:lnTo>
                        <a:pt x="233" y="572"/>
                      </a:lnTo>
                      <a:lnTo>
                        <a:pt x="245" y="573"/>
                      </a:lnTo>
                      <a:lnTo>
                        <a:pt x="259" y="57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3" name=""/>
                <p:cNvSpPr/>
                <p:nvPr/>
              </p:nvSpPr>
              <p:spPr>
                <a:xfrm>
                  <a:off x="3542760" y="1932120"/>
                  <a:ext cx="103320" cy="108360"/>
                </a:xfrm>
                <a:custGeom>
                  <a:avLst/>
                  <a:gdLst/>
                  <a:ahLst/>
                  <a:rect l="l" t="t" r="r" b="b"/>
                  <a:pathLst>
                    <a:path w="514" h="573">
                      <a:moveTo>
                        <a:pt x="259" y="573"/>
                      </a:moveTo>
                      <a:lnTo>
                        <a:pt x="272" y="573"/>
                      </a:lnTo>
                      <a:lnTo>
                        <a:pt x="284" y="572"/>
                      </a:lnTo>
                      <a:lnTo>
                        <a:pt x="297" y="570"/>
                      </a:lnTo>
                      <a:lnTo>
                        <a:pt x="310" y="568"/>
                      </a:lnTo>
                      <a:lnTo>
                        <a:pt x="322" y="564"/>
                      </a:lnTo>
                      <a:lnTo>
                        <a:pt x="334" y="561"/>
                      </a:lnTo>
                      <a:lnTo>
                        <a:pt x="346" y="556"/>
                      </a:lnTo>
                      <a:lnTo>
                        <a:pt x="358" y="550"/>
                      </a:lnTo>
                      <a:lnTo>
                        <a:pt x="368" y="545"/>
                      </a:lnTo>
                      <a:lnTo>
                        <a:pt x="380" y="539"/>
                      </a:lnTo>
                      <a:lnTo>
                        <a:pt x="390" y="532"/>
                      </a:lnTo>
                      <a:lnTo>
                        <a:pt x="400" y="524"/>
                      </a:lnTo>
                      <a:lnTo>
                        <a:pt x="420" y="508"/>
                      </a:lnTo>
                      <a:lnTo>
                        <a:pt x="438" y="488"/>
                      </a:lnTo>
                      <a:lnTo>
                        <a:pt x="456" y="469"/>
                      </a:lnTo>
                      <a:lnTo>
                        <a:pt x="470" y="446"/>
                      </a:lnTo>
                      <a:lnTo>
                        <a:pt x="483" y="423"/>
                      </a:lnTo>
                      <a:lnTo>
                        <a:pt x="493" y="398"/>
                      </a:lnTo>
                      <a:lnTo>
                        <a:pt x="503" y="371"/>
                      </a:lnTo>
                      <a:lnTo>
                        <a:pt x="508" y="344"/>
                      </a:lnTo>
                      <a:lnTo>
                        <a:pt x="511" y="329"/>
                      </a:lnTo>
                      <a:lnTo>
                        <a:pt x="513" y="315"/>
                      </a:lnTo>
                      <a:lnTo>
                        <a:pt x="514" y="300"/>
                      </a:lnTo>
                      <a:lnTo>
                        <a:pt x="514" y="286"/>
                      </a:lnTo>
                      <a:lnTo>
                        <a:pt x="514" y="271"/>
                      </a:lnTo>
                      <a:lnTo>
                        <a:pt x="513" y="256"/>
                      </a:lnTo>
                      <a:lnTo>
                        <a:pt x="511" y="241"/>
                      </a:lnTo>
                      <a:lnTo>
                        <a:pt x="508" y="228"/>
                      </a:lnTo>
                      <a:lnTo>
                        <a:pt x="503" y="200"/>
                      </a:lnTo>
                      <a:lnTo>
                        <a:pt x="493" y="174"/>
                      </a:lnTo>
                      <a:lnTo>
                        <a:pt x="483" y="148"/>
                      </a:lnTo>
                      <a:lnTo>
                        <a:pt x="470" y="125"/>
                      </a:lnTo>
                      <a:lnTo>
                        <a:pt x="456" y="102"/>
                      </a:lnTo>
                      <a:lnTo>
                        <a:pt x="438" y="83"/>
                      </a:lnTo>
                      <a:lnTo>
                        <a:pt x="420" y="64"/>
                      </a:lnTo>
                      <a:lnTo>
                        <a:pt x="400" y="48"/>
                      </a:lnTo>
                      <a:lnTo>
                        <a:pt x="380" y="35"/>
                      </a:lnTo>
                      <a:lnTo>
                        <a:pt x="358" y="22"/>
                      </a:lnTo>
                      <a:lnTo>
                        <a:pt x="346" y="17"/>
                      </a:lnTo>
                      <a:lnTo>
                        <a:pt x="334" y="13"/>
                      </a:lnTo>
                      <a:lnTo>
                        <a:pt x="322" y="9"/>
                      </a:lnTo>
                      <a:lnTo>
                        <a:pt x="310" y="6"/>
                      </a:lnTo>
                      <a:lnTo>
                        <a:pt x="297" y="4"/>
                      </a:lnTo>
                      <a:lnTo>
                        <a:pt x="284" y="1"/>
                      </a:lnTo>
                      <a:lnTo>
                        <a:pt x="272" y="0"/>
                      </a:lnTo>
                      <a:lnTo>
                        <a:pt x="259" y="0"/>
                      </a:lnTo>
                      <a:lnTo>
                        <a:pt x="245" y="0"/>
                      </a:lnTo>
                      <a:lnTo>
                        <a:pt x="233" y="1"/>
                      </a:lnTo>
                      <a:lnTo>
                        <a:pt x="219" y="4"/>
                      </a:lnTo>
                      <a:lnTo>
                        <a:pt x="206" y="6"/>
                      </a:lnTo>
                      <a:lnTo>
                        <a:pt x="194" y="9"/>
                      </a:lnTo>
                      <a:lnTo>
                        <a:pt x="181" y="13"/>
                      </a:lnTo>
                      <a:lnTo>
                        <a:pt x="168" y="17"/>
                      </a:lnTo>
                      <a:lnTo>
                        <a:pt x="157" y="22"/>
                      </a:lnTo>
                      <a:lnTo>
                        <a:pt x="145" y="28"/>
                      </a:lnTo>
                      <a:lnTo>
                        <a:pt x="134" y="35"/>
                      </a:lnTo>
                      <a:lnTo>
                        <a:pt x="124" y="40"/>
                      </a:lnTo>
                      <a:lnTo>
                        <a:pt x="112" y="48"/>
                      </a:lnTo>
                      <a:lnTo>
                        <a:pt x="103" y="56"/>
                      </a:lnTo>
                      <a:lnTo>
                        <a:pt x="93" y="64"/>
                      </a:lnTo>
                      <a:lnTo>
                        <a:pt x="83" y="74"/>
                      </a:lnTo>
                      <a:lnTo>
                        <a:pt x="74" y="83"/>
                      </a:lnTo>
                      <a:lnTo>
                        <a:pt x="58" y="102"/>
                      </a:lnTo>
                      <a:lnTo>
                        <a:pt x="43" y="125"/>
                      </a:lnTo>
                      <a:lnTo>
                        <a:pt x="29" y="148"/>
                      </a:lnTo>
                      <a:lnTo>
                        <a:pt x="19" y="174"/>
                      </a:lnTo>
                      <a:lnTo>
                        <a:pt x="15" y="186"/>
                      </a:lnTo>
                      <a:lnTo>
                        <a:pt x="11" y="200"/>
                      </a:lnTo>
                      <a:lnTo>
                        <a:pt x="8" y="214"/>
                      </a:lnTo>
                      <a:lnTo>
                        <a:pt x="4" y="228"/>
                      </a:lnTo>
                      <a:lnTo>
                        <a:pt x="2" y="241"/>
                      </a:lnTo>
                      <a:lnTo>
                        <a:pt x="1" y="256"/>
                      </a:lnTo>
                      <a:lnTo>
                        <a:pt x="0" y="271"/>
                      </a:lnTo>
                      <a:lnTo>
                        <a:pt x="0" y="286"/>
                      </a:lnTo>
                      <a:lnTo>
                        <a:pt x="0" y="300"/>
                      </a:lnTo>
                      <a:lnTo>
                        <a:pt x="1" y="315"/>
                      </a:lnTo>
                      <a:lnTo>
                        <a:pt x="2" y="329"/>
                      </a:lnTo>
                      <a:lnTo>
                        <a:pt x="4" y="344"/>
                      </a:lnTo>
                      <a:lnTo>
                        <a:pt x="11" y="371"/>
                      </a:lnTo>
                      <a:lnTo>
                        <a:pt x="19" y="398"/>
                      </a:lnTo>
                      <a:lnTo>
                        <a:pt x="29" y="423"/>
                      </a:lnTo>
                      <a:lnTo>
                        <a:pt x="43" y="446"/>
                      </a:lnTo>
                      <a:lnTo>
                        <a:pt x="58" y="469"/>
                      </a:lnTo>
                      <a:lnTo>
                        <a:pt x="74" y="488"/>
                      </a:lnTo>
                      <a:lnTo>
                        <a:pt x="83" y="499"/>
                      </a:lnTo>
                      <a:lnTo>
                        <a:pt x="93" y="508"/>
                      </a:lnTo>
                      <a:lnTo>
                        <a:pt x="103" y="516"/>
                      </a:lnTo>
                      <a:lnTo>
                        <a:pt x="112" y="524"/>
                      </a:lnTo>
                      <a:lnTo>
                        <a:pt x="124" y="532"/>
                      </a:lnTo>
                      <a:lnTo>
                        <a:pt x="134" y="539"/>
                      </a:lnTo>
                      <a:lnTo>
                        <a:pt x="145" y="545"/>
                      </a:lnTo>
                      <a:lnTo>
                        <a:pt x="157" y="550"/>
                      </a:lnTo>
                      <a:lnTo>
                        <a:pt x="168" y="556"/>
                      </a:lnTo>
                      <a:lnTo>
                        <a:pt x="181" y="561"/>
                      </a:lnTo>
                      <a:lnTo>
                        <a:pt x="194" y="564"/>
                      </a:lnTo>
                      <a:lnTo>
                        <a:pt x="206" y="568"/>
                      </a:lnTo>
                      <a:lnTo>
                        <a:pt x="219" y="570"/>
                      </a:lnTo>
                      <a:lnTo>
                        <a:pt x="233" y="572"/>
                      </a:lnTo>
                      <a:lnTo>
                        <a:pt x="245" y="573"/>
                      </a:lnTo>
                      <a:lnTo>
                        <a:pt x="259" y="57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4" name=""/>
                <p:cNvSpPr/>
                <p:nvPr/>
              </p:nvSpPr>
              <p:spPr>
                <a:xfrm>
                  <a:off x="4003200" y="1909800"/>
                  <a:ext cx="102960" cy="108360"/>
                </a:xfrm>
                <a:custGeom>
                  <a:avLst/>
                  <a:gdLst/>
                  <a:ahLst/>
                  <a:rect l="l" t="t" r="r" b="b"/>
                  <a:pathLst>
                    <a:path w="514" h="575">
                      <a:moveTo>
                        <a:pt x="257" y="575"/>
                      </a:moveTo>
                      <a:lnTo>
                        <a:pt x="271" y="574"/>
                      </a:lnTo>
                      <a:lnTo>
                        <a:pt x="285" y="573"/>
                      </a:lnTo>
                      <a:lnTo>
                        <a:pt x="297" y="571"/>
                      </a:lnTo>
                      <a:lnTo>
                        <a:pt x="310" y="568"/>
                      </a:lnTo>
                      <a:lnTo>
                        <a:pt x="322" y="566"/>
                      </a:lnTo>
                      <a:lnTo>
                        <a:pt x="335" y="561"/>
                      </a:lnTo>
                      <a:lnTo>
                        <a:pt x="348" y="557"/>
                      </a:lnTo>
                      <a:lnTo>
                        <a:pt x="359" y="552"/>
                      </a:lnTo>
                      <a:lnTo>
                        <a:pt x="371" y="546"/>
                      </a:lnTo>
                      <a:lnTo>
                        <a:pt x="382" y="539"/>
                      </a:lnTo>
                      <a:lnTo>
                        <a:pt x="392" y="532"/>
                      </a:lnTo>
                      <a:lnTo>
                        <a:pt x="403" y="526"/>
                      </a:lnTo>
                      <a:lnTo>
                        <a:pt x="413" y="517"/>
                      </a:lnTo>
                      <a:lnTo>
                        <a:pt x="422" y="508"/>
                      </a:lnTo>
                      <a:lnTo>
                        <a:pt x="432" y="499"/>
                      </a:lnTo>
                      <a:lnTo>
                        <a:pt x="441" y="490"/>
                      </a:lnTo>
                      <a:lnTo>
                        <a:pt x="457" y="469"/>
                      </a:lnTo>
                      <a:lnTo>
                        <a:pt x="472" y="447"/>
                      </a:lnTo>
                      <a:lnTo>
                        <a:pt x="484" y="424"/>
                      </a:lnTo>
                      <a:lnTo>
                        <a:pt x="495" y="399"/>
                      </a:lnTo>
                      <a:lnTo>
                        <a:pt x="504" y="373"/>
                      </a:lnTo>
                      <a:lnTo>
                        <a:pt x="510" y="346"/>
                      </a:lnTo>
                      <a:lnTo>
                        <a:pt x="512" y="331"/>
                      </a:lnTo>
                      <a:lnTo>
                        <a:pt x="513" y="318"/>
                      </a:lnTo>
                      <a:lnTo>
                        <a:pt x="514" y="304"/>
                      </a:lnTo>
                      <a:lnTo>
                        <a:pt x="514" y="289"/>
                      </a:lnTo>
                      <a:lnTo>
                        <a:pt x="514" y="274"/>
                      </a:lnTo>
                      <a:lnTo>
                        <a:pt x="513" y="260"/>
                      </a:lnTo>
                      <a:lnTo>
                        <a:pt x="512" y="245"/>
                      </a:lnTo>
                      <a:lnTo>
                        <a:pt x="510" y="231"/>
                      </a:lnTo>
                      <a:lnTo>
                        <a:pt x="504" y="204"/>
                      </a:lnTo>
                      <a:lnTo>
                        <a:pt x="495" y="177"/>
                      </a:lnTo>
                      <a:lnTo>
                        <a:pt x="484" y="152"/>
                      </a:lnTo>
                      <a:lnTo>
                        <a:pt x="472" y="128"/>
                      </a:lnTo>
                      <a:lnTo>
                        <a:pt x="457" y="106"/>
                      </a:lnTo>
                      <a:lnTo>
                        <a:pt x="441" y="85"/>
                      </a:lnTo>
                      <a:lnTo>
                        <a:pt x="432" y="76"/>
                      </a:lnTo>
                      <a:lnTo>
                        <a:pt x="422" y="67"/>
                      </a:lnTo>
                      <a:lnTo>
                        <a:pt x="413" y="58"/>
                      </a:lnTo>
                      <a:lnTo>
                        <a:pt x="403" y="50"/>
                      </a:lnTo>
                      <a:lnTo>
                        <a:pt x="392" y="43"/>
                      </a:lnTo>
                      <a:lnTo>
                        <a:pt x="382" y="36"/>
                      </a:lnTo>
                      <a:lnTo>
                        <a:pt x="371" y="29"/>
                      </a:lnTo>
                      <a:lnTo>
                        <a:pt x="359" y="23"/>
                      </a:lnTo>
                      <a:lnTo>
                        <a:pt x="348" y="19"/>
                      </a:lnTo>
                      <a:lnTo>
                        <a:pt x="335" y="14"/>
                      </a:lnTo>
                      <a:lnTo>
                        <a:pt x="322" y="10"/>
                      </a:lnTo>
                      <a:lnTo>
                        <a:pt x="310" y="6"/>
                      </a:lnTo>
                      <a:lnTo>
                        <a:pt x="297" y="4"/>
                      </a:lnTo>
                      <a:lnTo>
                        <a:pt x="285" y="3"/>
                      </a:lnTo>
                      <a:lnTo>
                        <a:pt x="271" y="2"/>
                      </a:lnTo>
                      <a:lnTo>
                        <a:pt x="257" y="0"/>
                      </a:lnTo>
                      <a:lnTo>
                        <a:pt x="243" y="2"/>
                      </a:lnTo>
                      <a:lnTo>
                        <a:pt x="231" y="3"/>
                      </a:lnTo>
                      <a:lnTo>
                        <a:pt x="218" y="4"/>
                      </a:lnTo>
                      <a:lnTo>
                        <a:pt x="205" y="6"/>
                      </a:lnTo>
                      <a:lnTo>
                        <a:pt x="193" y="10"/>
                      </a:lnTo>
                      <a:lnTo>
                        <a:pt x="180" y="14"/>
                      </a:lnTo>
                      <a:lnTo>
                        <a:pt x="167" y="19"/>
                      </a:lnTo>
                      <a:lnTo>
                        <a:pt x="156" y="23"/>
                      </a:lnTo>
                      <a:lnTo>
                        <a:pt x="144" y="29"/>
                      </a:lnTo>
                      <a:lnTo>
                        <a:pt x="134" y="36"/>
                      </a:lnTo>
                      <a:lnTo>
                        <a:pt x="123" y="43"/>
                      </a:lnTo>
                      <a:lnTo>
                        <a:pt x="112" y="50"/>
                      </a:lnTo>
                      <a:lnTo>
                        <a:pt x="102" y="58"/>
                      </a:lnTo>
                      <a:lnTo>
                        <a:pt x="93" y="67"/>
                      </a:lnTo>
                      <a:lnTo>
                        <a:pt x="84" y="76"/>
                      </a:lnTo>
                      <a:lnTo>
                        <a:pt x="74" y="85"/>
                      </a:lnTo>
                      <a:lnTo>
                        <a:pt x="58" y="106"/>
                      </a:lnTo>
                      <a:lnTo>
                        <a:pt x="43" y="128"/>
                      </a:lnTo>
                      <a:lnTo>
                        <a:pt x="31" y="152"/>
                      </a:lnTo>
                      <a:lnTo>
                        <a:pt x="19" y="177"/>
                      </a:lnTo>
                      <a:lnTo>
                        <a:pt x="11" y="204"/>
                      </a:lnTo>
                      <a:lnTo>
                        <a:pt x="4" y="231"/>
                      </a:lnTo>
                      <a:lnTo>
                        <a:pt x="2" y="245"/>
                      </a:lnTo>
                      <a:lnTo>
                        <a:pt x="1" y="260"/>
                      </a:lnTo>
                      <a:lnTo>
                        <a:pt x="0" y="274"/>
                      </a:lnTo>
                      <a:lnTo>
                        <a:pt x="0" y="289"/>
                      </a:lnTo>
                      <a:lnTo>
                        <a:pt x="0" y="304"/>
                      </a:lnTo>
                      <a:lnTo>
                        <a:pt x="1" y="318"/>
                      </a:lnTo>
                      <a:lnTo>
                        <a:pt x="2" y="331"/>
                      </a:lnTo>
                      <a:lnTo>
                        <a:pt x="4" y="346"/>
                      </a:lnTo>
                      <a:lnTo>
                        <a:pt x="11" y="373"/>
                      </a:lnTo>
                      <a:lnTo>
                        <a:pt x="19" y="399"/>
                      </a:lnTo>
                      <a:lnTo>
                        <a:pt x="31" y="424"/>
                      </a:lnTo>
                      <a:lnTo>
                        <a:pt x="43" y="447"/>
                      </a:lnTo>
                      <a:lnTo>
                        <a:pt x="58" y="469"/>
                      </a:lnTo>
                      <a:lnTo>
                        <a:pt x="74" y="490"/>
                      </a:lnTo>
                      <a:lnTo>
                        <a:pt x="84" y="499"/>
                      </a:lnTo>
                      <a:lnTo>
                        <a:pt x="93" y="508"/>
                      </a:lnTo>
                      <a:lnTo>
                        <a:pt x="102" y="517"/>
                      </a:lnTo>
                      <a:lnTo>
                        <a:pt x="112" y="526"/>
                      </a:lnTo>
                      <a:lnTo>
                        <a:pt x="123" y="532"/>
                      </a:lnTo>
                      <a:lnTo>
                        <a:pt x="134" y="539"/>
                      </a:lnTo>
                      <a:lnTo>
                        <a:pt x="144" y="546"/>
                      </a:lnTo>
                      <a:lnTo>
                        <a:pt x="156" y="552"/>
                      </a:lnTo>
                      <a:lnTo>
                        <a:pt x="167" y="557"/>
                      </a:lnTo>
                      <a:lnTo>
                        <a:pt x="180" y="561"/>
                      </a:lnTo>
                      <a:lnTo>
                        <a:pt x="193" y="566"/>
                      </a:lnTo>
                      <a:lnTo>
                        <a:pt x="205" y="568"/>
                      </a:lnTo>
                      <a:lnTo>
                        <a:pt x="218" y="571"/>
                      </a:lnTo>
                      <a:lnTo>
                        <a:pt x="231" y="573"/>
                      </a:lnTo>
                      <a:lnTo>
                        <a:pt x="243" y="574"/>
                      </a:lnTo>
                      <a:lnTo>
                        <a:pt x="257" y="575"/>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5" name=""/>
                <p:cNvSpPr/>
                <p:nvPr/>
              </p:nvSpPr>
              <p:spPr>
                <a:xfrm>
                  <a:off x="4003200" y="1909800"/>
                  <a:ext cx="102960" cy="108360"/>
                </a:xfrm>
                <a:custGeom>
                  <a:avLst/>
                  <a:gdLst/>
                  <a:ahLst/>
                  <a:rect l="l" t="t" r="r" b="b"/>
                  <a:pathLst>
                    <a:path w="514" h="575">
                      <a:moveTo>
                        <a:pt x="257" y="575"/>
                      </a:moveTo>
                      <a:lnTo>
                        <a:pt x="271" y="574"/>
                      </a:lnTo>
                      <a:lnTo>
                        <a:pt x="285" y="573"/>
                      </a:lnTo>
                      <a:lnTo>
                        <a:pt x="297" y="571"/>
                      </a:lnTo>
                      <a:lnTo>
                        <a:pt x="310" y="568"/>
                      </a:lnTo>
                      <a:lnTo>
                        <a:pt x="322" y="566"/>
                      </a:lnTo>
                      <a:lnTo>
                        <a:pt x="335" y="561"/>
                      </a:lnTo>
                      <a:lnTo>
                        <a:pt x="348" y="557"/>
                      </a:lnTo>
                      <a:lnTo>
                        <a:pt x="359" y="552"/>
                      </a:lnTo>
                      <a:lnTo>
                        <a:pt x="371" y="546"/>
                      </a:lnTo>
                      <a:lnTo>
                        <a:pt x="382" y="539"/>
                      </a:lnTo>
                      <a:lnTo>
                        <a:pt x="392" y="532"/>
                      </a:lnTo>
                      <a:lnTo>
                        <a:pt x="403" y="526"/>
                      </a:lnTo>
                      <a:lnTo>
                        <a:pt x="413" y="517"/>
                      </a:lnTo>
                      <a:lnTo>
                        <a:pt x="422" y="508"/>
                      </a:lnTo>
                      <a:lnTo>
                        <a:pt x="432" y="499"/>
                      </a:lnTo>
                      <a:lnTo>
                        <a:pt x="441" y="490"/>
                      </a:lnTo>
                      <a:lnTo>
                        <a:pt x="457" y="469"/>
                      </a:lnTo>
                      <a:lnTo>
                        <a:pt x="472" y="447"/>
                      </a:lnTo>
                      <a:lnTo>
                        <a:pt x="484" y="424"/>
                      </a:lnTo>
                      <a:lnTo>
                        <a:pt x="495" y="399"/>
                      </a:lnTo>
                      <a:lnTo>
                        <a:pt x="504" y="373"/>
                      </a:lnTo>
                      <a:lnTo>
                        <a:pt x="510" y="346"/>
                      </a:lnTo>
                      <a:lnTo>
                        <a:pt x="512" y="331"/>
                      </a:lnTo>
                      <a:lnTo>
                        <a:pt x="513" y="318"/>
                      </a:lnTo>
                      <a:lnTo>
                        <a:pt x="514" y="304"/>
                      </a:lnTo>
                      <a:lnTo>
                        <a:pt x="514" y="289"/>
                      </a:lnTo>
                      <a:lnTo>
                        <a:pt x="514" y="274"/>
                      </a:lnTo>
                      <a:lnTo>
                        <a:pt x="513" y="260"/>
                      </a:lnTo>
                      <a:lnTo>
                        <a:pt x="512" y="245"/>
                      </a:lnTo>
                      <a:lnTo>
                        <a:pt x="510" y="231"/>
                      </a:lnTo>
                      <a:lnTo>
                        <a:pt x="504" y="204"/>
                      </a:lnTo>
                      <a:lnTo>
                        <a:pt x="495" y="177"/>
                      </a:lnTo>
                      <a:lnTo>
                        <a:pt x="484" y="152"/>
                      </a:lnTo>
                      <a:lnTo>
                        <a:pt x="472" y="128"/>
                      </a:lnTo>
                      <a:lnTo>
                        <a:pt x="457" y="106"/>
                      </a:lnTo>
                      <a:lnTo>
                        <a:pt x="441" y="85"/>
                      </a:lnTo>
                      <a:lnTo>
                        <a:pt x="432" y="76"/>
                      </a:lnTo>
                      <a:lnTo>
                        <a:pt x="422" y="67"/>
                      </a:lnTo>
                      <a:lnTo>
                        <a:pt x="413" y="58"/>
                      </a:lnTo>
                      <a:lnTo>
                        <a:pt x="403" y="50"/>
                      </a:lnTo>
                      <a:lnTo>
                        <a:pt x="392" y="43"/>
                      </a:lnTo>
                      <a:lnTo>
                        <a:pt x="382" y="36"/>
                      </a:lnTo>
                      <a:lnTo>
                        <a:pt x="371" y="29"/>
                      </a:lnTo>
                      <a:lnTo>
                        <a:pt x="359" y="23"/>
                      </a:lnTo>
                      <a:lnTo>
                        <a:pt x="348" y="19"/>
                      </a:lnTo>
                      <a:lnTo>
                        <a:pt x="335" y="14"/>
                      </a:lnTo>
                      <a:lnTo>
                        <a:pt x="322" y="10"/>
                      </a:lnTo>
                      <a:lnTo>
                        <a:pt x="310" y="6"/>
                      </a:lnTo>
                      <a:lnTo>
                        <a:pt x="297" y="4"/>
                      </a:lnTo>
                      <a:lnTo>
                        <a:pt x="285" y="3"/>
                      </a:lnTo>
                      <a:lnTo>
                        <a:pt x="271" y="2"/>
                      </a:lnTo>
                      <a:lnTo>
                        <a:pt x="257" y="0"/>
                      </a:lnTo>
                      <a:lnTo>
                        <a:pt x="243" y="2"/>
                      </a:lnTo>
                      <a:lnTo>
                        <a:pt x="231" y="3"/>
                      </a:lnTo>
                      <a:lnTo>
                        <a:pt x="218" y="4"/>
                      </a:lnTo>
                      <a:lnTo>
                        <a:pt x="205" y="6"/>
                      </a:lnTo>
                      <a:lnTo>
                        <a:pt x="193" y="10"/>
                      </a:lnTo>
                      <a:lnTo>
                        <a:pt x="180" y="14"/>
                      </a:lnTo>
                      <a:lnTo>
                        <a:pt x="167" y="19"/>
                      </a:lnTo>
                      <a:lnTo>
                        <a:pt x="156" y="23"/>
                      </a:lnTo>
                      <a:lnTo>
                        <a:pt x="144" y="29"/>
                      </a:lnTo>
                      <a:lnTo>
                        <a:pt x="134" y="36"/>
                      </a:lnTo>
                      <a:lnTo>
                        <a:pt x="123" y="43"/>
                      </a:lnTo>
                      <a:lnTo>
                        <a:pt x="112" y="50"/>
                      </a:lnTo>
                      <a:lnTo>
                        <a:pt x="102" y="58"/>
                      </a:lnTo>
                      <a:lnTo>
                        <a:pt x="93" y="67"/>
                      </a:lnTo>
                      <a:lnTo>
                        <a:pt x="84" y="76"/>
                      </a:lnTo>
                      <a:lnTo>
                        <a:pt x="74" y="85"/>
                      </a:lnTo>
                      <a:lnTo>
                        <a:pt x="58" y="106"/>
                      </a:lnTo>
                      <a:lnTo>
                        <a:pt x="43" y="128"/>
                      </a:lnTo>
                      <a:lnTo>
                        <a:pt x="31" y="152"/>
                      </a:lnTo>
                      <a:lnTo>
                        <a:pt x="19" y="177"/>
                      </a:lnTo>
                      <a:lnTo>
                        <a:pt x="11" y="204"/>
                      </a:lnTo>
                      <a:lnTo>
                        <a:pt x="4" y="231"/>
                      </a:lnTo>
                      <a:lnTo>
                        <a:pt x="2" y="245"/>
                      </a:lnTo>
                      <a:lnTo>
                        <a:pt x="1" y="260"/>
                      </a:lnTo>
                      <a:lnTo>
                        <a:pt x="0" y="274"/>
                      </a:lnTo>
                      <a:lnTo>
                        <a:pt x="0" y="289"/>
                      </a:lnTo>
                      <a:lnTo>
                        <a:pt x="0" y="304"/>
                      </a:lnTo>
                      <a:lnTo>
                        <a:pt x="1" y="318"/>
                      </a:lnTo>
                      <a:lnTo>
                        <a:pt x="2" y="331"/>
                      </a:lnTo>
                      <a:lnTo>
                        <a:pt x="4" y="346"/>
                      </a:lnTo>
                      <a:lnTo>
                        <a:pt x="11" y="373"/>
                      </a:lnTo>
                      <a:lnTo>
                        <a:pt x="19" y="399"/>
                      </a:lnTo>
                      <a:lnTo>
                        <a:pt x="31" y="424"/>
                      </a:lnTo>
                      <a:lnTo>
                        <a:pt x="43" y="447"/>
                      </a:lnTo>
                      <a:lnTo>
                        <a:pt x="58" y="469"/>
                      </a:lnTo>
                      <a:lnTo>
                        <a:pt x="74" y="490"/>
                      </a:lnTo>
                      <a:lnTo>
                        <a:pt x="84" y="499"/>
                      </a:lnTo>
                      <a:lnTo>
                        <a:pt x="93" y="508"/>
                      </a:lnTo>
                      <a:lnTo>
                        <a:pt x="102" y="517"/>
                      </a:lnTo>
                      <a:lnTo>
                        <a:pt x="112" y="526"/>
                      </a:lnTo>
                      <a:lnTo>
                        <a:pt x="123" y="532"/>
                      </a:lnTo>
                      <a:lnTo>
                        <a:pt x="134" y="539"/>
                      </a:lnTo>
                      <a:lnTo>
                        <a:pt x="144" y="546"/>
                      </a:lnTo>
                      <a:lnTo>
                        <a:pt x="156" y="552"/>
                      </a:lnTo>
                      <a:lnTo>
                        <a:pt x="167" y="557"/>
                      </a:lnTo>
                      <a:lnTo>
                        <a:pt x="180" y="561"/>
                      </a:lnTo>
                      <a:lnTo>
                        <a:pt x="193" y="566"/>
                      </a:lnTo>
                      <a:lnTo>
                        <a:pt x="205" y="568"/>
                      </a:lnTo>
                      <a:lnTo>
                        <a:pt x="218" y="571"/>
                      </a:lnTo>
                      <a:lnTo>
                        <a:pt x="231" y="573"/>
                      </a:lnTo>
                      <a:lnTo>
                        <a:pt x="243" y="574"/>
                      </a:lnTo>
                      <a:lnTo>
                        <a:pt x="257" y="575"/>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6" name=""/>
                <p:cNvSpPr/>
                <p:nvPr/>
              </p:nvSpPr>
              <p:spPr>
                <a:xfrm>
                  <a:off x="3512160" y="1738440"/>
                  <a:ext cx="637200" cy="949320"/>
                </a:xfrm>
                <a:custGeom>
                  <a:avLst/>
                  <a:gdLst/>
                  <a:ahLst/>
                  <a:rect l="l" t="t" r="r" b="b"/>
                  <a:pathLst>
                    <a:path w="3151" h="5006">
                      <a:moveTo>
                        <a:pt x="611" y="1443"/>
                      </a:moveTo>
                      <a:lnTo>
                        <a:pt x="603" y="1440"/>
                      </a:lnTo>
                      <a:lnTo>
                        <a:pt x="579" y="1433"/>
                      </a:lnTo>
                      <a:lnTo>
                        <a:pt x="543" y="1424"/>
                      </a:lnTo>
                      <a:lnTo>
                        <a:pt x="496" y="1414"/>
                      </a:lnTo>
                      <a:lnTo>
                        <a:pt x="468" y="1409"/>
                      </a:lnTo>
                      <a:lnTo>
                        <a:pt x="441" y="1405"/>
                      </a:lnTo>
                      <a:lnTo>
                        <a:pt x="411" y="1401"/>
                      </a:lnTo>
                      <a:lnTo>
                        <a:pt x="380" y="1398"/>
                      </a:lnTo>
                      <a:lnTo>
                        <a:pt x="349" y="1395"/>
                      </a:lnTo>
                      <a:lnTo>
                        <a:pt x="317" y="1394"/>
                      </a:lnTo>
                      <a:lnTo>
                        <a:pt x="286" y="1395"/>
                      </a:lnTo>
                      <a:lnTo>
                        <a:pt x="254" y="1398"/>
                      </a:lnTo>
                      <a:lnTo>
                        <a:pt x="223" y="1402"/>
                      </a:lnTo>
                      <a:lnTo>
                        <a:pt x="192" y="1408"/>
                      </a:lnTo>
                      <a:lnTo>
                        <a:pt x="163" y="1416"/>
                      </a:lnTo>
                      <a:lnTo>
                        <a:pt x="135" y="1428"/>
                      </a:lnTo>
                      <a:lnTo>
                        <a:pt x="109" y="1441"/>
                      </a:lnTo>
                      <a:lnTo>
                        <a:pt x="85" y="1458"/>
                      </a:lnTo>
                      <a:lnTo>
                        <a:pt x="63" y="1477"/>
                      </a:lnTo>
                      <a:lnTo>
                        <a:pt x="45" y="1500"/>
                      </a:lnTo>
                      <a:lnTo>
                        <a:pt x="28" y="1526"/>
                      </a:lnTo>
                      <a:lnTo>
                        <a:pt x="16" y="1556"/>
                      </a:lnTo>
                      <a:lnTo>
                        <a:pt x="7" y="1591"/>
                      </a:lnTo>
                      <a:lnTo>
                        <a:pt x="1" y="1629"/>
                      </a:lnTo>
                      <a:lnTo>
                        <a:pt x="0" y="1671"/>
                      </a:lnTo>
                      <a:lnTo>
                        <a:pt x="4" y="1718"/>
                      </a:lnTo>
                      <a:lnTo>
                        <a:pt x="12" y="1770"/>
                      </a:lnTo>
                      <a:lnTo>
                        <a:pt x="26" y="1826"/>
                      </a:lnTo>
                      <a:lnTo>
                        <a:pt x="42" y="1884"/>
                      </a:lnTo>
                      <a:lnTo>
                        <a:pt x="61" y="1940"/>
                      </a:lnTo>
                      <a:lnTo>
                        <a:pt x="79" y="1993"/>
                      </a:lnTo>
                      <a:lnTo>
                        <a:pt x="99" y="2045"/>
                      </a:lnTo>
                      <a:lnTo>
                        <a:pt x="119" y="2093"/>
                      </a:lnTo>
                      <a:lnTo>
                        <a:pt x="141" y="2140"/>
                      </a:lnTo>
                      <a:lnTo>
                        <a:pt x="163" y="2186"/>
                      </a:lnTo>
                      <a:lnTo>
                        <a:pt x="187" y="2230"/>
                      </a:lnTo>
                      <a:lnTo>
                        <a:pt x="211" y="2271"/>
                      </a:lnTo>
                      <a:lnTo>
                        <a:pt x="235" y="2312"/>
                      </a:lnTo>
                      <a:lnTo>
                        <a:pt x="260" y="2351"/>
                      </a:lnTo>
                      <a:lnTo>
                        <a:pt x="287" y="2389"/>
                      </a:lnTo>
                      <a:lnTo>
                        <a:pt x="313" y="2426"/>
                      </a:lnTo>
                      <a:lnTo>
                        <a:pt x="341" y="2462"/>
                      </a:lnTo>
                      <a:lnTo>
                        <a:pt x="368" y="2497"/>
                      </a:lnTo>
                      <a:lnTo>
                        <a:pt x="397" y="2531"/>
                      </a:lnTo>
                      <a:lnTo>
                        <a:pt x="455" y="2597"/>
                      </a:lnTo>
                      <a:lnTo>
                        <a:pt x="514" y="2663"/>
                      </a:lnTo>
                      <a:lnTo>
                        <a:pt x="574" y="2726"/>
                      </a:lnTo>
                      <a:lnTo>
                        <a:pt x="635" y="2790"/>
                      </a:lnTo>
                      <a:lnTo>
                        <a:pt x="696" y="2856"/>
                      </a:lnTo>
                      <a:lnTo>
                        <a:pt x="757" y="2922"/>
                      </a:lnTo>
                      <a:lnTo>
                        <a:pt x="788" y="2957"/>
                      </a:lnTo>
                      <a:lnTo>
                        <a:pt x="817" y="2992"/>
                      </a:lnTo>
                      <a:lnTo>
                        <a:pt x="847" y="3029"/>
                      </a:lnTo>
                      <a:lnTo>
                        <a:pt x="877" y="3066"/>
                      </a:lnTo>
                      <a:lnTo>
                        <a:pt x="906" y="3106"/>
                      </a:lnTo>
                      <a:lnTo>
                        <a:pt x="932" y="3150"/>
                      </a:lnTo>
                      <a:lnTo>
                        <a:pt x="958" y="3197"/>
                      </a:lnTo>
                      <a:lnTo>
                        <a:pt x="981" y="3247"/>
                      </a:lnTo>
                      <a:lnTo>
                        <a:pt x="1002" y="3301"/>
                      </a:lnTo>
                      <a:lnTo>
                        <a:pt x="1022" y="3357"/>
                      </a:lnTo>
                      <a:lnTo>
                        <a:pt x="1040" y="3415"/>
                      </a:lnTo>
                      <a:lnTo>
                        <a:pt x="1057" y="3475"/>
                      </a:lnTo>
                      <a:lnTo>
                        <a:pt x="1072" y="3536"/>
                      </a:lnTo>
                      <a:lnTo>
                        <a:pt x="1086" y="3598"/>
                      </a:lnTo>
                      <a:lnTo>
                        <a:pt x="1099" y="3661"/>
                      </a:lnTo>
                      <a:lnTo>
                        <a:pt x="1110" y="3724"/>
                      </a:lnTo>
                      <a:lnTo>
                        <a:pt x="1121" y="3789"/>
                      </a:lnTo>
                      <a:lnTo>
                        <a:pt x="1130" y="3852"/>
                      </a:lnTo>
                      <a:lnTo>
                        <a:pt x="1138" y="3915"/>
                      </a:lnTo>
                      <a:lnTo>
                        <a:pt x="1145" y="3977"/>
                      </a:lnTo>
                      <a:lnTo>
                        <a:pt x="1152" y="4038"/>
                      </a:lnTo>
                      <a:lnTo>
                        <a:pt x="1156" y="4098"/>
                      </a:lnTo>
                      <a:lnTo>
                        <a:pt x="1161" y="4155"/>
                      </a:lnTo>
                      <a:lnTo>
                        <a:pt x="1165" y="4210"/>
                      </a:lnTo>
                      <a:lnTo>
                        <a:pt x="1171" y="4312"/>
                      </a:lnTo>
                      <a:lnTo>
                        <a:pt x="1175" y="4403"/>
                      </a:lnTo>
                      <a:lnTo>
                        <a:pt x="1177" y="4534"/>
                      </a:lnTo>
                      <a:lnTo>
                        <a:pt x="1177" y="4582"/>
                      </a:lnTo>
                      <a:lnTo>
                        <a:pt x="1169" y="4605"/>
                      </a:lnTo>
                      <a:lnTo>
                        <a:pt x="1168" y="4630"/>
                      </a:lnTo>
                      <a:lnTo>
                        <a:pt x="1173" y="4654"/>
                      </a:lnTo>
                      <a:lnTo>
                        <a:pt x="1185" y="4679"/>
                      </a:lnTo>
                      <a:lnTo>
                        <a:pt x="1202" y="4704"/>
                      </a:lnTo>
                      <a:lnTo>
                        <a:pt x="1224" y="4730"/>
                      </a:lnTo>
                      <a:lnTo>
                        <a:pt x="1252" y="4754"/>
                      </a:lnTo>
                      <a:lnTo>
                        <a:pt x="1283" y="4779"/>
                      </a:lnTo>
                      <a:lnTo>
                        <a:pt x="1318" y="4803"/>
                      </a:lnTo>
                      <a:lnTo>
                        <a:pt x="1357" y="4827"/>
                      </a:lnTo>
                      <a:lnTo>
                        <a:pt x="1399" y="4850"/>
                      </a:lnTo>
                      <a:lnTo>
                        <a:pt x="1443" y="4872"/>
                      </a:lnTo>
                      <a:lnTo>
                        <a:pt x="1490" y="4894"/>
                      </a:lnTo>
                      <a:lnTo>
                        <a:pt x="1540" y="4913"/>
                      </a:lnTo>
                      <a:lnTo>
                        <a:pt x="1590" y="4932"/>
                      </a:lnTo>
                      <a:lnTo>
                        <a:pt x="1642" y="4949"/>
                      </a:lnTo>
                      <a:lnTo>
                        <a:pt x="1695" y="4964"/>
                      </a:lnTo>
                      <a:lnTo>
                        <a:pt x="1748" y="4977"/>
                      </a:lnTo>
                      <a:lnTo>
                        <a:pt x="1800" y="4987"/>
                      </a:lnTo>
                      <a:lnTo>
                        <a:pt x="1852" y="4996"/>
                      </a:lnTo>
                      <a:lnTo>
                        <a:pt x="1904" y="5002"/>
                      </a:lnTo>
                      <a:lnTo>
                        <a:pt x="1954" y="5005"/>
                      </a:lnTo>
                      <a:lnTo>
                        <a:pt x="2003" y="5006"/>
                      </a:lnTo>
                      <a:lnTo>
                        <a:pt x="2049" y="5004"/>
                      </a:lnTo>
                      <a:lnTo>
                        <a:pt x="2092" y="4998"/>
                      </a:lnTo>
                      <a:lnTo>
                        <a:pt x="2133" y="4989"/>
                      </a:lnTo>
                      <a:lnTo>
                        <a:pt x="2170" y="4978"/>
                      </a:lnTo>
                      <a:lnTo>
                        <a:pt x="2205" y="4962"/>
                      </a:lnTo>
                      <a:lnTo>
                        <a:pt x="2235" y="4942"/>
                      </a:lnTo>
                      <a:lnTo>
                        <a:pt x="2259" y="4918"/>
                      </a:lnTo>
                      <a:lnTo>
                        <a:pt x="2279" y="4890"/>
                      </a:lnTo>
                      <a:lnTo>
                        <a:pt x="2294" y="4857"/>
                      </a:lnTo>
                      <a:lnTo>
                        <a:pt x="2297" y="4844"/>
                      </a:lnTo>
                      <a:lnTo>
                        <a:pt x="2297" y="4823"/>
                      </a:lnTo>
                      <a:lnTo>
                        <a:pt x="2295" y="4795"/>
                      </a:lnTo>
                      <a:lnTo>
                        <a:pt x="2292" y="4762"/>
                      </a:lnTo>
                      <a:lnTo>
                        <a:pt x="2280" y="4677"/>
                      </a:lnTo>
                      <a:lnTo>
                        <a:pt x="2266" y="4572"/>
                      </a:lnTo>
                      <a:lnTo>
                        <a:pt x="2248" y="4451"/>
                      </a:lnTo>
                      <a:lnTo>
                        <a:pt x="2231" y="4316"/>
                      </a:lnTo>
                      <a:lnTo>
                        <a:pt x="2222" y="4245"/>
                      </a:lnTo>
                      <a:lnTo>
                        <a:pt x="2214" y="4171"/>
                      </a:lnTo>
                      <a:lnTo>
                        <a:pt x="2206" y="4096"/>
                      </a:lnTo>
                      <a:lnTo>
                        <a:pt x="2199" y="4021"/>
                      </a:lnTo>
                      <a:lnTo>
                        <a:pt x="2193" y="3944"/>
                      </a:lnTo>
                      <a:lnTo>
                        <a:pt x="2190" y="3866"/>
                      </a:lnTo>
                      <a:lnTo>
                        <a:pt x="2186" y="3789"/>
                      </a:lnTo>
                      <a:lnTo>
                        <a:pt x="2185" y="3712"/>
                      </a:lnTo>
                      <a:lnTo>
                        <a:pt x="2186" y="3636"/>
                      </a:lnTo>
                      <a:lnTo>
                        <a:pt x="2190" y="3561"/>
                      </a:lnTo>
                      <a:lnTo>
                        <a:pt x="2196" y="3488"/>
                      </a:lnTo>
                      <a:lnTo>
                        <a:pt x="2204" y="3416"/>
                      </a:lnTo>
                      <a:lnTo>
                        <a:pt x="2215" y="3349"/>
                      </a:lnTo>
                      <a:lnTo>
                        <a:pt x="2229" y="3283"/>
                      </a:lnTo>
                      <a:lnTo>
                        <a:pt x="2246" y="3221"/>
                      </a:lnTo>
                      <a:lnTo>
                        <a:pt x="2267" y="3162"/>
                      </a:lnTo>
                      <a:lnTo>
                        <a:pt x="2291" y="3108"/>
                      </a:lnTo>
                      <a:lnTo>
                        <a:pt x="2320" y="3059"/>
                      </a:lnTo>
                      <a:lnTo>
                        <a:pt x="2353" y="3014"/>
                      </a:lnTo>
                      <a:lnTo>
                        <a:pt x="2390" y="2976"/>
                      </a:lnTo>
                      <a:lnTo>
                        <a:pt x="2427" y="2938"/>
                      </a:lnTo>
                      <a:lnTo>
                        <a:pt x="2467" y="2901"/>
                      </a:lnTo>
                      <a:lnTo>
                        <a:pt x="2506" y="2859"/>
                      </a:lnTo>
                      <a:lnTo>
                        <a:pt x="2543" y="2817"/>
                      </a:lnTo>
                      <a:lnTo>
                        <a:pt x="2581" y="2773"/>
                      </a:lnTo>
                      <a:lnTo>
                        <a:pt x="2619" y="2728"/>
                      </a:lnTo>
                      <a:lnTo>
                        <a:pt x="2656" y="2682"/>
                      </a:lnTo>
                      <a:lnTo>
                        <a:pt x="2693" y="2635"/>
                      </a:lnTo>
                      <a:lnTo>
                        <a:pt x="2728" y="2587"/>
                      </a:lnTo>
                      <a:lnTo>
                        <a:pt x="2763" y="2537"/>
                      </a:lnTo>
                      <a:lnTo>
                        <a:pt x="2797" y="2489"/>
                      </a:lnTo>
                      <a:lnTo>
                        <a:pt x="2831" y="2439"/>
                      </a:lnTo>
                      <a:lnTo>
                        <a:pt x="2862" y="2389"/>
                      </a:lnTo>
                      <a:lnTo>
                        <a:pt x="2893" y="2340"/>
                      </a:lnTo>
                      <a:lnTo>
                        <a:pt x="2922" y="2290"/>
                      </a:lnTo>
                      <a:lnTo>
                        <a:pt x="2950" y="2241"/>
                      </a:lnTo>
                      <a:lnTo>
                        <a:pt x="2976" y="2192"/>
                      </a:lnTo>
                      <a:lnTo>
                        <a:pt x="3002" y="2143"/>
                      </a:lnTo>
                      <a:lnTo>
                        <a:pt x="3025" y="2096"/>
                      </a:lnTo>
                      <a:lnTo>
                        <a:pt x="3046" y="2049"/>
                      </a:lnTo>
                      <a:lnTo>
                        <a:pt x="3067" y="2004"/>
                      </a:lnTo>
                      <a:lnTo>
                        <a:pt x="3086" y="1960"/>
                      </a:lnTo>
                      <a:lnTo>
                        <a:pt x="3102" y="1917"/>
                      </a:lnTo>
                      <a:lnTo>
                        <a:pt x="3115" y="1876"/>
                      </a:lnTo>
                      <a:lnTo>
                        <a:pt x="3127" y="1837"/>
                      </a:lnTo>
                      <a:lnTo>
                        <a:pt x="3137" y="1799"/>
                      </a:lnTo>
                      <a:lnTo>
                        <a:pt x="3144" y="1763"/>
                      </a:lnTo>
                      <a:lnTo>
                        <a:pt x="3149" y="1731"/>
                      </a:lnTo>
                      <a:lnTo>
                        <a:pt x="3151" y="1700"/>
                      </a:lnTo>
                      <a:lnTo>
                        <a:pt x="3151" y="1671"/>
                      </a:lnTo>
                      <a:lnTo>
                        <a:pt x="3149" y="1646"/>
                      </a:lnTo>
                      <a:lnTo>
                        <a:pt x="3143" y="1623"/>
                      </a:lnTo>
                      <a:lnTo>
                        <a:pt x="3135" y="1602"/>
                      </a:lnTo>
                      <a:lnTo>
                        <a:pt x="3127" y="1580"/>
                      </a:lnTo>
                      <a:lnTo>
                        <a:pt x="3117" y="1559"/>
                      </a:lnTo>
                      <a:lnTo>
                        <a:pt x="3106" y="1537"/>
                      </a:lnTo>
                      <a:lnTo>
                        <a:pt x="3095" y="1515"/>
                      </a:lnTo>
                      <a:lnTo>
                        <a:pt x="3083" y="1493"/>
                      </a:lnTo>
                      <a:lnTo>
                        <a:pt x="3069" y="1471"/>
                      </a:lnTo>
                      <a:lnTo>
                        <a:pt x="3056" y="1449"/>
                      </a:lnTo>
                      <a:lnTo>
                        <a:pt x="3041" y="1428"/>
                      </a:lnTo>
                      <a:lnTo>
                        <a:pt x="3026" y="1407"/>
                      </a:lnTo>
                      <a:lnTo>
                        <a:pt x="3010" y="1386"/>
                      </a:lnTo>
                      <a:lnTo>
                        <a:pt x="2992" y="1367"/>
                      </a:lnTo>
                      <a:lnTo>
                        <a:pt x="2975" y="1347"/>
                      </a:lnTo>
                      <a:lnTo>
                        <a:pt x="2958" y="1329"/>
                      </a:lnTo>
                      <a:lnTo>
                        <a:pt x="2940" y="1312"/>
                      </a:lnTo>
                      <a:lnTo>
                        <a:pt x="2921" y="1294"/>
                      </a:lnTo>
                      <a:lnTo>
                        <a:pt x="2902" y="1278"/>
                      </a:lnTo>
                      <a:lnTo>
                        <a:pt x="2882" y="1263"/>
                      </a:lnTo>
                      <a:lnTo>
                        <a:pt x="2863" y="1251"/>
                      </a:lnTo>
                      <a:lnTo>
                        <a:pt x="2843" y="1238"/>
                      </a:lnTo>
                      <a:lnTo>
                        <a:pt x="2824" y="1227"/>
                      </a:lnTo>
                      <a:lnTo>
                        <a:pt x="2803" y="1217"/>
                      </a:lnTo>
                      <a:lnTo>
                        <a:pt x="2783" y="1209"/>
                      </a:lnTo>
                      <a:lnTo>
                        <a:pt x="2763" y="1202"/>
                      </a:lnTo>
                      <a:lnTo>
                        <a:pt x="2743" y="1198"/>
                      </a:lnTo>
                      <a:lnTo>
                        <a:pt x="2723" y="1194"/>
                      </a:lnTo>
                      <a:lnTo>
                        <a:pt x="2703" y="1193"/>
                      </a:lnTo>
                      <a:lnTo>
                        <a:pt x="2682" y="1194"/>
                      </a:lnTo>
                      <a:lnTo>
                        <a:pt x="2663" y="1197"/>
                      </a:lnTo>
                      <a:lnTo>
                        <a:pt x="2643" y="1201"/>
                      </a:lnTo>
                      <a:lnTo>
                        <a:pt x="2625" y="1208"/>
                      </a:lnTo>
                      <a:lnTo>
                        <a:pt x="2605" y="1217"/>
                      </a:lnTo>
                      <a:lnTo>
                        <a:pt x="2589" y="1224"/>
                      </a:lnTo>
                      <a:lnTo>
                        <a:pt x="2577" y="1222"/>
                      </a:lnTo>
                      <a:lnTo>
                        <a:pt x="2568" y="1213"/>
                      </a:lnTo>
                      <a:lnTo>
                        <a:pt x="2560" y="1197"/>
                      </a:lnTo>
                      <a:lnTo>
                        <a:pt x="2555" y="1174"/>
                      </a:lnTo>
                      <a:lnTo>
                        <a:pt x="2553" y="1145"/>
                      </a:lnTo>
                      <a:lnTo>
                        <a:pt x="2550" y="1111"/>
                      </a:lnTo>
                      <a:lnTo>
                        <a:pt x="2550" y="1072"/>
                      </a:lnTo>
                      <a:lnTo>
                        <a:pt x="2549" y="981"/>
                      </a:lnTo>
                      <a:lnTo>
                        <a:pt x="2547" y="876"/>
                      </a:lnTo>
                      <a:lnTo>
                        <a:pt x="2545" y="820"/>
                      </a:lnTo>
                      <a:lnTo>
                        <a:pt x="2540" y="761"/>
                      </a:lnTo>
                      <a:lnTo>
                        <a:pt x="2533" y="703"/>
                      </a:lnTo>
                      <a:lnTo>
                        <a:pt x="2524" y="643"/>
                      </a:lnTo>
                      <a:lnTo>
                        <a:pt x="2511" y="582"/>
                      </a:lnTo>
                      <a:lnTo>
                        <a:pt x="2495" y="522"/>
                      </a:lnTo>
                      <a:lnTo>
                        <a:pt x="2476" y="463"/>
                      </a:lnTo>
                      <a:lnTo>
                        <a:pt x="2450" y="405"/>
                      </a:lnTo>
                      <a:lnTo>
                        <a:pt x="2422" y="349"/>
                      </a:lnTo>
                      <a:lnTo>
                        <a:pt x="2387" y="295"/>
                      </a:lnTo>
                      <a:lnTo>
                        <a:pt x="2347" y="244"/>
                      </a:lnTo>
                      <a:lnTo>
                        <a:pt x="2301" y="196"/>
                      </a:lnTo>
                      <a:lnTo>
                        <a:pt x="2247" y="152"/>
                      </a:lnTo>
                      <a:lnTo>
                        <a:pt x="2187" y="113"/>
                      </a:lnTo>
                      <a:lnTo>
                        <a:pt x="2120" y="79"/>
                      </a:lnTo>
                      <a:lnTo>
                        <a:pt x="2045" y="50"/>
                      </a:lnTo>
                      <a:lnTo>
                        <a:pt x="1961" y="27"/>
                      </a:lnTo>
                      <a:lnTo>
                        <a:pt x="1868" y="11"/>
                      </a:lnTo>
                      <a:lnTo>
                        <a:pt x="1766" y="2"/>
                      </a:lnTo>
                      <a:lnTo>
                        <a:pt x="1655" y="0"/>
                      </a:lnTo>
                      <a:lnTo>
                        <a:pt x="1542" y="3"/>
                      </a:lnTo>
                      <a:lnTo>
                        <a:pt x="1436" y="9"/>
                      </a:lnTo>
                      <a:lnTo>
                        <a:pt x="1338" y="17"/>
                      </a:lnTo>
                      <a:lnTo>
                        <a:pt x="1246" y="28"/>
                      </a:lnTo>
                      <a:lnTo>
                        <a:pt x="1161" y="41"/>
                      </a:lnTo>
                      <a:lnTo>
                        <a:pt x="1083" y="57"/>
                      </a:lnTo>
                      <a:lnTo>
                        <a:pt x="1010" y="74"/>
                      </a:lnTo>
                      <a:lnTo>
                        <a:pt x="944" y="95"/>
                      </a:lnTo>
                      <a:lnTo>
                        <a:pt x="883" y="119"/>
                      </a:lnTo>
                      <a:lnTo>
                        <a:pt x="828" y="144"/>
                      </a:lnTo>
                      <a:lnTo>
                        <a:pt x="778" y="173"/>
                      </a:lnTo>
                      <a:lnTo>
                        <a:pt x="734" y="205"/>
                      </a:lnTo>
                      <a:lnTo>
                        <a:pt x="693" y="239"/>
                      </a:lnTo>
                      <a:lnTo>
                        <a:pt x="659" y="275"/>
                      </a:lnTo>
                      <a:lnTo>
                        <a:pt x="628" y="316"/>
                      </a:lnTo>
                      <a:lnTo>
                        <a:pt x="603" y="358"/>
                      </a:lnTo>
                      <a:lnTo>
                        <a:pt x="581" y="403"/>
                      </a:lnTo>
                      <a:lnTo>
                        <a:pt x="562" y="451"/>
                      </a:lnTo>
                      <a:lnTo>
                        <a:pt x="549" y="503"/>
                      </a:lnTo>
                      <a:lnTo>
                        <a:pt x="538" y="557"/>
                      </a:lnTo>
                      <a:lnTo>
                        <a:pt x="530" y="613"/>
                      </a:lnTo>
                      <a:lnTo>
                        <a:pt x="527" y="673"/>
                      </a:lnTo>
                      <a:lnTo>
                        <a:pt x="525" y="736"/>
                      </a:lnTo>
                      <a:lnTo>
                        <a:pt x="527" y="803"/>
                      </a:lnTo>
                      <a:lnTo>
                        <a:pt x="530" y="872"/>
                      </a:lnTo>
                      <a:lnTo>
                        <a:pt x="537" y="943"/>
                      </a:lnTo>
                      <a:lnTo>
                        <a:pt x="545" y="1019"/>
                      </a:lnTo>
                      <a:lnTo>
                        <a:pt x="556" y="1097"/>
                      </a:lnTo>
                      <a:lnTo>
                        <a:pt x="567" y="1178"/>
                      </a:lnTo>
                      <a:lnTo>
                        <a:pt x="581" y="1263"/>
                      </a:lnTo>
                      <a:lnTo>
                        <a:pt x="596" y="1352"/>
                      </a:lnTo>
                      <a:lnTo>
                        <a:pt x="611" y="144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7" name=""/>
                <p:cNvSpPr/>
                <p:nvPr/>
              </p:nvSpPr>
              <p:spPr>
                <a:xfrm>
                  <a:off x="3512160" y="1738440"/>
                  <a:ext cx="637200" cy="949320"/>
                </a:xfrm>
                <a:custGeom>
                  <a:avLst/>
                  <a:gdLst/>
                  <a:ahLst/>
                  <a:rect l="l" t="t" r="r" b="b"/>
                  <a:pathLst>
                    <a:path w="3151" h="5006">
                      <a:moveTo>
                        <a:pt x="611" y="1443"/>
                      </a:moveTo>
                      <a:lnTo>
                        <a:pt x="603" y="1440"/>
                      </a:lnTo>
                      <a:lnTo>
                        <a:pt x="579" y="1433"/>
                      </a:lnTo>
                      <a:lnTo>
                        <a:pt x="543" y="1424"/>
                      </a:lnTo>
                      <a:lnTo>
                        <a:pt x="496" y="1414"/>
                      </a:lnTo>
                      <a:lnTo>
                        <a:pt x="468" y="1409"/>
                      </a:lnTo>
                      <a:lnTo>
                        <a:pt x="441" y="1405"/>
                      </a:lnTo>
                      <a:lnTo>
                        <a:pt x="411" y="1401"/>
                      </a:lnTo>
                      <a:lnTo>
                        <a:pt x="380" y="1398"/>
                      </a:lnTo>
                      <a:lnTo>
                        <a:pt x="349" y="1395"/>
                      </a:lnTo>
                      <a:lnTo>
                        <a:pt x="317" y="1394"/>
                      </a:lnTo>
                      <a:lnTo>
                        <a:pt x="286" y="1395"/>
                      </a:lnTo>
                      <a:lnTo>
                        <a:pt x="254" y="1398"/>
                      </a:lnTo>
                      <a:lnTo>
                        <a:pt x="223" y="1402"/>
                      </a:lnTo>
                      <a:lnTo>
                        <a:pt x="192" y="1408"/>
                      </a:lnTo>
                      <a:lnTo>
                        <a:pt x="163" y="1416"/>
                      </a:lnTo>
                      <a:lnTo>
                        <a:pt x="135" y="1428"/>
                      </a:lnTo>
                      <a:lnTo>
                        <a:pt x="109" y="1441"/>
                      </a:lnTo>
                      <a:lnTo>
                        <a:pt x="85" y="1458"/>
                      </a:lnTo>
                      <a:lnTo>
                        <a:pt x="63" y="1477"/>
                      </a:lnTo>
                      <a:lnTo>
                        <a:pt x="45" y="1500"/>
                      </a:lnTo>
                      <a:lnTo>
                        <a:pt x="28" y="1526"/>
                      </a:lnTo>
                      <a:lnTo>
                        <a:pt x="16" y="1556"/>
                      </a:lnTo>
                      <a:lnTo>
                        <a:pt x="7" y="1591"/>
                      </a:lnTo>
                      <a:lnTo>
                        <a:pt x="1" y="1629"/>
                      </a:lnTo>
                      <a:lnTo>
                        <a:pt x="0" y="1671"/>
                      </a:lnTo>
                      <a:lnTo>
                        <a:pt x="4" y="1718"/>
                      </a:lnTo>
                      <a:lnTo>
                        <a:pt x="12" y="1770"/>
                      </a:lnTo>
                      <a:lnTo>
                        <a:pt x="26" y="1826"/>
                      </a:lnTo>
                      <a:lnTo>
                        <a:pt x="42" y="1884"/>
                      </a:lnTo>
                      <a:lnTo>
                        <a:pt x="61" y="1940"/>
                      </a:lnTo>
                      <a:lnTo>
                        <a:pt x="79" y="1993"/>
                      </a:lnTo>
                      <a:lnTo>
                        <a:pt x="99" y="2045"/>
                      </a:lnTo>
                      <a:lnTo>
                        <a:pt x="119" y="2093"/>
                      </a:lnTo>
                      <a:lnTo>
                        <a:pt x="141" y="2140"/>
                      </a:lnTo>
                      <a:lnTo>
                        <a:pt x="163" y="2186"/>
                      </a:lnTo>
                      <a:lnTo>
                        <a:pt x="187" y="2230"/>
                      </a:lnTo>
                      <a:lnTo>
                        <a:pt x="211" y="2271"/>
                      </a:lnTo>
                      <a:lnTo>
                        <a:pt x="235" y="2312"/>
                      </a:lnTo>
                      <a:lnTo>
                        <a:pt x="260" y="2351"/>
                      </a:lnTo>
                      <a:lnTo>
                        <a:pt x="287" y="2389"/>
                      </a:lnTo>
                      <a:lnTo>
                        <a:pt x="313" y="2426"/>
                      </a:lnTo>
                      <a:lnTo>
                        <a:pt x="341" y="2462"/>
                      </a:lnTo>
                      <a:lnTo>
                        <a:pt x="368" y="2497"/>
                      </a:lnTo>
                      <a:lnTo>
                        <a:pt x="397" y="2531"/>
                      </a:lnTo>
                      <a:lnTo>
                        <a:pt x="455" y="2597"/>
                      </a:lnTo>
                      <a:lnTo>
                        <a:pt x="514" y="2663"/>
                      </a:lnTo>
                      <a:lnTo>
                        <a:pt x="574" y="2726"/>
                      </a:lnTo>
                      <a:lnTo>
                        <a:pt x="635" y="2790"/>
                      </a:lnTo>
                      <a:lnTo>
                        <a:pt x="696" y="2856"/>
                      </a:lnTo>
                      <a:lnTo>
                        <a:pt x="757" y="2922"/>
                      </a:lnTo>
                      <a:lnTo>
                        <a:pt x="788" y="2957"/>
                      </a:lnTo>
                      <a:lnTo>
                        <a:pt x="817" y="2992"/>
                      </a:lnTo>
                      <a:lnTo>
                        <a:pt x="847" y="3029"/>
                      </a:lnTo>
                      <a:lnTo>
                        <a:pt x="877" y="3066"/>
                      </a:lnTo>
                      <a:lnTo>
                        <a:pt x="906" y="3106"/>
                      </a:lnTo>
                      <a:lnTo>
                        <a:pt x="932" y="3150"/>
                      </a:lnTo>
                      <a:lnTo>
                        <a:pt x="958" y="3197"/>
                      </a:lnTo>
                      <a:lnTo>
                        <a:pt x="981" y="3247"/>
                      </a:lnTo>
                      <a:lnTo>
                        <a:pt x="1002" y="3301"/>
                      </a:lnTo>
                      <a:lnTo>
                        <a:pt x="1022" y="3357"/>
                      </a:lnTo>
                      <a:lnTo>
                        <a:pt x="1040" y="3415"/>
                      </a:lnTo>
                      <a:lnTo>
                        <a:pt x="1057" y="3475"/>
                      </a:lnTo>
                      <a:lnTo>
                        <a:pt x="1072" y="3536"/>
                      </a:lnTo>
                      <a:lnTo>
                        <a:pt x="1086" y="3598"/>
                      </a:lnTo>
                      <a:lnTo>
                        <a:pt x="1099" y="3661"/>
                      </a:lnTo>
                      <a:lnTo>
                        <a:pt x="1110" y="3724"/>
                      </a:lnTo>
                      <a:lnTo>
                        <a:pt x="1121" y="3789"/>
                      </a:lnTo>
                      <a:lnTo>
                        <a:pt x="1130" y="3852"/>
                      </a:lnTo>
                      <a:lnTo>
                        <a:pt x="1138" y="3915"/>
                      </a:lnTo>
                      <a:lnTo>
                        <a:pt x="1145" y="3977"/>
                      </a:lnTo>
                      <a:lnTo>
                        <a:pt x="1152" y="4038"/>
                      </a:lnTo>
                      <a:lnTo>
                        <a:pt x="1156" y="4098"/>
                      </a:lnTo>
                      <a:lnTo>
                        <a:pt x="1161" y="4155"/>
                      </a:lnTo>
                      <a:lnTo>
                        <a:pt x="1165" y="4210"/>
                      </a:lnTo>
                      <a:lnTo>
                        <a:pt x="1171" y="4312"/>
                      </a:lnTo>
                      <a:lnTo>
                        <a:pt x="1175" y="4403"/>
                      </a:lnTo>
                      <a:lnTo>
                        <a:pt x="1177" y="4534"/>
                      </a:lnTo>
                      <a:lnTo>
                        <a:pt x="1177" y="4582"/>
                      </a:lnTo>
                      <a:lnTo>
                        <a:pt x="1169" y="4605"/>
                      </a:lnTo>
                      <a:lnTo>
                        <a:pt x="1168" y="4630"/>
                      </a:lnTo>
                      <a:lnTo>
                        <a:pt x="1173" y="4654"/>
                      </a:lnTo>
                      <a:lnTo>
                        <a:pt x="1185" y="4679"/>
                      </a:lnTo>
                      <a:lnTo>
                        <a:pt x="1202" y="4704"/>
                      </a:lnTo>
                      <a:lnTo>
                        <a:pt x="1224" y="4730"/>
                      </a:lnTo>
                      <a:lnTo>
                        <a:pt x="1252" y="4754"/>
                      </a:lnTo>
                      <a:lnTo>
                        <a:pt x="1283" y="4779"/>
                      </a:lnTo>
                      <a:lnTo>
                        <a:pt x="1318" y="4803"/>
                      </a:lnTo>
                      <a:lnTo>
                        <a:pt x="1357" y="4827"/>
                      </a:lnTo>
                      <a:lnTo>
                        <a:pt x="1399" y="4850"/>
                      </a:lnTo>
                      <a:lnTo>
                        <a:pt x="1443" y="4872"/>
                      </a:lnTo>
                      <a:lnTo>
                        <a:pt x="1490" y="4894"/>
                      </a:lnTo>
                      <a:lnTo>
                        <a:pt x="1540" y="4913"/>
                      </a:lnTo>
                      <a:lnTo>
                        <a:pt x="1590" y="4932"/>
                      </a:lnTo>
                      <a:lnTo>
                        <a:pt x="1642" y="4949"/>
                      </a:lnTo>
                      <a:lnTo>
                        <a:pt x="1695" y="4964"/>
                      </a:lnTo>
                      <a:lnTo>
                        <a:pt x="1748" y="4977"/>
                      </a:lnTo>
                      <a:lnTo>
                        <a:pt x="1800" y="4987"/>
                      </a:lnTo>
                      <a:lnTo>
                        <a:pt x="1852" y="4996"/>
                      </a:lnTo>
                      <a:lnTo>
                        <a:pt x="1904" y="5002"/>
                      </a:lnTo>
                      <a:lnTo>
                        <a:pt x="1954" y="5005"/>
                      </a:lnTo>
                      <a:lnTo>
                        <a:pt x="2003" y="5006"/>
                      </a:lnTo>
                      <a:lnTo>
                        <a:pt x="2049" y="5004"/>
                      </a:lnTo>
                      <a:lnTo>
                        <a:pt x="2092" y="4998"/>
                      </a:lnTo>
                      <a:lnTo>
                        <a:pt x="2133" y="4989"/>
                      </a:lnTo>
                      <a:lnTo>
                        <a:pt x="2170" y="4978"/>
                      </a:lnTo>
                      <a:lnTo>
                        <a:pt x="2205" y="4962"/>
                      </a:lnTo>
                      <a:lnTo>
                        <a:pt x="2235" y="4942"/>
                      </a:lnTo>
                      <a:lnTo>
                        <a:pt x="2259" y="4918"/>
                      </a:lnTo>
                      <a:lnTo>
                        <a:pt x="2279" y="4890"/>
                      </a:lnTo>
                      <a:lnTo>
                        <a:pt x="2294" y="4857"/>
                      </a:lnTo>
                      <a:lnTo>
                        <a:pt x="2297" y="4844"/>
                      </a:lnTo>
                      <a:lnTo>
                        <a:pt x="2297" y="4823"/>
                      </a:lnTo>
                      <a:lnTo>
                        <a:pt x="2295" y="4795"/>
                      </a:lnTo>
                      <a:lnTo>
                        <a:pt x="2292" y="4762"/>
                      </a:lnTo>
                      <a:lnTo>
                        <a:pt x="2280" y="4677"/>
                      </a:lnTo>
                      <a:lnTo>
                        <a:pt x="2266" y="4572"/>
                      </a:lnTo>
                      <a:lnTo>
                        <a:pt x="2248" y="4451"/>
                      </a:lnTo>
                      <a:lnTo>
                        <a:pt x="2231" y="4316"/>
                      </a:lnTo>
                      <a:lnTo>
                        <a:pt x="2222" y="4245"/>
                      </a:lnTo>
                      <a:lnTo>
                        <a:pt x="2214" y="4171"/>
                      </a:lnTo>
                      <a:lnTo>
                        <a:pt x="2206" y="4096"/>
                      </a:lnTo>
                      <a:lnTo>
                        <a:pt x="2199" y="4021"/>
                      </a:lnTo>
                      <a:lnTo>
                        <a:pt x="2193" y="3944"/>
                      </a:lnTo>
                      <a:lnTo>
                        <a:pt x="2190" y="3866"/>
                      </a:lnTo>
                      <a:lnTo>
                        <a:pt x="2186" y="3789"/>
                      </a:lnTo>
                      <a:lnTo>
                        <a:pt x="2185" y="3712"/>
                      </a:lnTo>
                      <a:lnTo>
                        <a:pt x="2186" y="3636"/>
                      </a:lnTo>
                      <a:lnTo>
                        <a:pt x="2190" y="3561"/>
                      </a:lnTo>
                      <a:lnTo>
                        <a:pt x="2196" y="3488"/>
                      </a:lnTo>
                      <a:lnTo>
                        <a:pt x="2204" y="3416"/>
                      </a:lnTo>
                      <a:lnTo>
                        <a:pt x="2215" y="3349"/>
                      </a:lnTo>
                      <a:lnTo>
                        <a:pt x="2229" y="3283"/>
                      </a:lnTo>
                      <a:lnTo>
                        <a:pt x="2246" y="3221"/>
                      </a:lnTo>
                      <a:lnTo>
                        <a:pt x="2267" y="3162"/>
                      </a:lnTo>
                      <a:lnTo>
                        <a:pt x="2291" y="3108"/>
                      </a:lnTo>
                      <a:lnTo>
                        <a:pt x="2320" y="3059"/>
                      </a:lnTo>
                      <a:lnTo>
                        <a:pt x="2353" y="3014"/>
                      </a:lnTo>
                      <a:lnTo>
                        <a:pt x="2390" y="2976"/>
                      </a:lnTo>
                      <a:lnTo>
                        <a:pt x="2427" y="2938"/>
                      </a:lnTo>
                      <a:lnTo>
                        <a:pt x="2467" y="2901"/>
                      </a:lnTo>
                      <a:lnTo>
                        <a:pt x="2506" y="2859"/>
                      </a:lnTo>
                      <a:lnTo>
                        <a:pt x="2543" y="2817"/>
                      </a:lnTo>
                      <a:lnTo>
                        <a:pt x="2581" y="2773"/>
                      </a:lnTo>
                      <a:lnTo>
                        <a:pt x="2619" y="2728"/>
                      </a:lnTo>
                      <a:lnTo>
                        <a:pt x="2656" y="2682"/>
                      </a:lnTo>
                      <a:lnTo>
                        <a:pt x="2693" y="2635"/>
                      </a:lnTo>
                      <a:lnTo>
                        <a:pt x="2728" y="2587"/>
                      </a:lnTo>
                      <a:lnTo>
                        <a:pt x="2763" y="2537"/>
                      </a:lnTo>
                      <a:lnTo>
                        <a:pt x="2797" y="2489"/>
                      </a:lnTo>
                      <a:lnTo>
                        <a:pt x="2831" y="2439"/>
                      </a:lnTo>
                      <a:lnTo>
                        <a:pt x="2862" y="2389"/>
                      </a:lnTo>
                      <a:lnTo>
                        <a:pt x="2893" y="2340"/>
                      </a:lnTo>
                      <a:lnTo>
                        <a:pt x="2922" y="2290"/>
                      </a:lnTo>
                      <a:lnTo>
                        <a:pt x="2950" y="2241"/>
                      </a:lnTo>
                      <a:lnTo>
                        <a:pt x="2976" y="2192"/>
                      </a:lnTo>
                      <a:lnTo>
                        <a:pt x="3002" y="2143"/>
                      </a:lnTo>
                      <a:lnTo>
                        <a:pt x="3025" y="2096"/>
                      </a:lnTo>
                      <a:lnTo>
                        <a:pt x="3046" y="2049"/>
                      </a:lnTo>
                      <a:lnTo>
                        <a:pt x="3067" y="2004"/>
                      </a:lnTo>
                      <a:lnTo>
                        <a:pt x="3086" y="1960"/>
                      </a:lnTo>
                      <a:lnTo>
                        <a:pt x="3102" y="1917"/>
                      </a:lnTo>
                      <a:lnTo>
                        <a:pt x="3115" y="1876"/>
                      </a:lnTo>
                      <a:lnTo>
                        <a:pt x="3127" y="1837"/>
                      </a:lnTo>
                      <a:lnTo>
                        <a:pt x="3137" y="1799"/>
                      </a:lnTo>
                      <a:lnTo>
                        <a:pt x="3144" y="1763"/>
                      </a:lnTo>
                      <a:lnTo>
                        <a:pt x="3149" y="1731"/>
                      </a:lnTo>
                      <a:lnTo>
                        <a:pt x="3151" y="1700"/>
                      </a:lnTo>
                      <a:lnTo>
                        <a:pt x="3151" y="1671"/>
                      </a:lnTo>
                      <a:lnTo>
                        <a:pt x="3149" y="1646"/>
                      </a:lnTo>
                      <a:lnTo>
                        <a:pt x="3143" y="1623"/>
                      </a:lnTo>
                      <a:lnTo>
                        <a:pt x="3135" y="1602"/>
                      </a:lnTo>
                      <a:lnTo>
                        <a:pt x="3127" y="1580"/>
                      </a:lnTo>
                      <a:lnTo>
                        <a:pt x="3117" y="1559"/>
                      </a:lnTo>
                      <a:lnTo>
                        <a:pt x="3106" y="1537"/>
                      </a:lnTo>
                      <a:lnTo>
                        <a:pt x="3095" y="1515"/>
                      </a:lnTo>
                      <a:lnTo>
                        <a:pt x="3083" y="1493"/>
                      </a:lnTo>
                      <a:lnTo>
                        <a:pt x="3069" y="1471"/>
                      </a:lnTo>
                      <a:lnTo>
                        <a:pt x="3056" y="1449"/>
                      </a:lnTo>
                      <a:lnTo>
                        <a:pt x="3041" y="1428"/>
                      </a:lnTo>
                      <a:lnTo>
                        <a:pt x="3026" y="1407"/>
                      </a:lnTo>
                      <a:lnTo>
                        <a:pt x="3010" y="1386"/>
                      </a:lnTo>
                      <a:lnTo>
                        <a:pt x="2992" y="1367"/>
                      </a:lnTo>
                      <a:lnTo>
                        <a:pt x="2975" y="1347"/>
                      </a:lnTo>
                      <a:lnTo>
                        <a:pt x="2958" y="1329"/>
                      </a:lnTo>
                      <a:lnTo>
                        <a:pt x="2940" y="1312"/>
                      </a:lnTo>
                      <a:lnTo>
                        <a:pt x="2921" y="1294"/>
                      </a:lnTo>
                      <a:lnTo>
                        <a:pt x="2902" y="1278"/>
                      </a:lnTo>
                      <a:lnTo>
                        <a:pt x="2882" y="1263"/>
                      </a:lnTo>
                      <a:lnTo>
                        <a:pt x="2863" y="1251"/>
                      </a:lnTo>
                      <a:lnTo>
                        <a:pt x="2843" y="1238"/>
                      </a:lnTo>
                      <a:lnTo>
                        <a:pt x="2824" y="1227"/>
                      </a:lnTo>
                      <a:lnTo>
                        <a:pt x="2803" y="1217"/>
                      </a:lnTo>
                      <a:lnTo>
                        <a:pt x="2783" y="1209"/>
                      </a:lnTo>
                      <a:lnTo>
                        <a:pt x="2763" y="1202"/>
                      </a:lnTo>
                      <a:lnTo>
                        <a:pt x="2743" y="1198"/>
                      </a:lnTo>
                      <a:lnTo>
                        <a:pt x="2723" y="1194"/>
                      </a:lnTo>
                      <a:lnTo>
                        <a:pt x="2703" y="1193"/>
                      </a:lnTo>
                      <a:lnTo>
                        <a:pt x="2682" y="1194"/>
                      </a:lnTo>
                      <a:lnTo>
                        <a:pt x="2663" y="1197"/>
                      </a:lnTo>
                      <a:lnTo>
                        <a:pt x="2643" y="1201"/>
                      </a:lnTo>
                      <a:lnTo>
                        <a:pt x="2625" y="1208"/>
                      </a:lnTo>
                      <a:lnTo>
                        <a:pt x="2605" y="1217"/>
                      </a:lnTo>
                      <a:lnTo>
                        <a:pt x="2589" y="1224"/>
                      </a:lnTo>
                      <a:lnTo>
                        <a:pt x="2577" y="1222"/>
                      </a:lnTo>
                      <a:lnTo>
                        <a:pt x="2568" y="1213"/>
                      </a:lnTo>
                      <a:lnTo>
                        <a:pt x="2560" y="1197"/>
                      </a:lnTo>
                      <a:lnTo>
                        <a:pt x="2555" y="1174"/>
                      </a:lnTo>
                      <a:lnTo>
                        <a:pt x="2553" y="1145"/>
                      </a:lnTo>
                      <a:lnTo>
                        <a:pt x="2550" y="1111"/>
                      </a:lnTo>
                      <a:lnTo>
                        <a:pt x="2550" y="1072"/>
                      </a:lnTo>
                      <a:lnTo>
                        <a:pt x="2549" y="981"/>
                      </a:lnTo>
                      <a:lnTo>
                        <a:pt x="2547" y="876"/>
                      </a:lnTo>
                      <a:lnTo>
                        <a:pt x="2545" y="820"/>
                      </a:lnTo>
                      <a:lnTo>
                        <a:pt x="2540" y="761"/>
                      </a:lnTo>
                      <a:lnTo>
                        <a:pt x="2533" y="703"/>
                      </a:lnTo>
                      <a:lnTo>
                        <a:pt x="2524" y="643"/>
                      </a:lnTo>
                      <a:lnTo>
                        <a:pt x="2511" y="582"/>
                      </a:lnTo>
                      <a:lnTo>
                        <a:pt x="2495" y="522"/>
                      </a:lnTo>
                      <a:lnTo>
                        <a:pt x="2476" y="463"/>
                      </a:lnTo>
                      <a:lnTo>
                        <a:pt x="2450" y="405"/>
                      </a:lnTo>
                      <a:lnTo>
                        <a:pt x="2422" y="349"/>
                      </a:lnTo>
                      <a:lnTo>
                        <a:pt x="2387" y="295"/>
                      </a:lnTo>
                      <a:lnTo>
                        <a:pt x="2347" y="244"/>
                      </a:lnTo>
                      <a:lnTo>
                        <a:pt x="2301" y="196"/>
                      </a:lnTo>
                      <a:lnTo>
                        <a:pt x="2247" y="152"/>
                      </a:lnTo>
                      <a:lnTo>
                        <a:pt x="2187" y="113"/>
                      </a:lnTo>
                      <a:lnTo>
                        <a:pt x="2120" y="79"/>
                      </a:lnTo>
                      <a:lnTo>
                        <a:pt x="2045" y="50"/>
                      </a:lnTo>
                      <a:lnTo>
                        <a:pt x="1961" y="27"/>
                      </a:lnTo>
                      <a:lnTo>
                        <a:pt x="1868" y="11"/>
                      </a:lnTo>
                      <a:lnTo>
                        <a:pt x="1766" y="2"/>
                      </a:lnTo>
                      <a:lnTo>
                        <a:pt x="1655" y="0"/>
                      </a:lnTo>
                      <a:lnTo>
                        <a:pt x="1542" y="3"/>
                      </a:lnTo>
                      <a:lnTo>
                        <a:pt x="1436" y="9"/>
                      </a:lnTo>
                      <a:lnTo>
                        <a:pt x="1338" y="17"/>
                      </a:lnTo>
                      <a:lnTo>
                        <a:pt x="1246" y="28"/>
                      </a:lnTo>
                      <a:lnTo>
                        <a:pt x="1161" y="41"/>
                      </a:lnTo>
                      <a:lnTo>
                        <a:pt x="1083" y="57"/>
                      </a:lnTo>
                      <a:lnTo>
                        <a:pt x="1010" y="74"/>
                      </a:lnTo>
                      <a:lnTo>
                        <a:pt x="944" y="95"/>
                      </a:lnTo>
                      <a:lnTo>
                        <a:pt x="883" y="119"/>
                      </a:lnTo>
                      <a:lnTo>
                        <a:pt x="828" y="144"/>
                      </a:lnTo>
                      <a:lnTo>
                        <a:pt x="778" y="173"/>
                      </a:lnTo>
                      <a:lnTo>
                        <a:pt x="734" y="205"/>
                      </a:lnTo>
                      <a:lnTo>
                        <a:pt x="693" y="239"/>
                      </a:lnTo>
                      <a:lnTo>
                        <a:pt x="659" y="275"/>
                      </a:lnTo>
                      <a:lnTo>
                        <a:pt x="628" y="316"/>
                      </a:lnTo>
                      <a:lnTo>
                        <a:pt x="603" y="358"/>
                      </a:lnTo>
                      <a:lnTo>
                        <a:pt x="581" y="403"/>
                      </a:lnTo>
                      <a:lnTo>
                        <a:pt x="562" y="451"/>
                      </a:lnTo>
                      <a:lnTo>
                        <a:pt x="549" y="503"/>
                      </a:lnTo>
                      <a:lnTo>
                        <a:pt x="538" y="557"/>
                      </a:lnTo>
                      <a:lnTo>
                        <a:pt x="530" y="613"/>
                      </a:lnTo>
                      <a:lnTo>
                        <a:pt x="527" y="673"/>
                      </a:lnTo>
                      <a:lnTo>
                        <a:pt x="525" y="736"/>
                      </a:lnTo>
                      <a:lnTo>
                        <a:pt x="527" y="803"/>
                      </a:lnTo>
                      <a:lnTo>
                        <a:pt x="530" y="872"/>
                      </a:lnTo>
                      <a:lnTo>
                        <a:pt x="537" y="943"/>
                      </a:lnTo>
                      <a:lnTo>
                        <a:pt x="545" y="1019"/>
                      </a:lnTo>
                      <a:lnTo>
                        <a:pt x="556" y="1097"/>
                      </a:lnTo>
                      <a:lnTo>
                        <a:pt x="567" y="1178"/>
                      </a:lnTo>
                      <a:lnTo>
                        <a:pt x="581" y="1263"/>
                      </a:lnTo>
                      <a:lnTo>
                        <a:pt x="596" y="1352"/>
                      </a:lnTo>
                      <a:lnTo>
                        <a:pt x="611" y="144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78" name=""/>
                <p:cNvSpPr/>
                <p:nvPr/>
              </p:nvSpPr>
              <p:spPr>
                <a:xfrm>
                  <a:off x="3813480" y="2196360"/>
                  <a:ext cx="1080" cy="58680"/>
                </a:xfrm>
                <a:prstGeom prst="line">
                  <a:avLst/>
                </a:prstGeom>
                <a:ln w="3240">
                  <a:solidFill>
                    <a:srgbClr val="000000"/>
                  </a:solidFill>
                  <a:miter/>
                </a:ln>
              </p:spPr>
              <p:style>
                <a:lnRef idx="0"/>
                <a:fillRef idx="0"/>
                <a:effectRef idx="0"/>
                <a:fontRef idx="minor"/>
              </p:style>
              <p:txBody>
                <a:bodyPr lIns="93240" rIns="93240" tIns="12240" bIns="12240" anchor="t">
                  <a:noAutofit/>
                </a:bodyPr>
                <a:p>
                  <a:endParaRPr b="0" lang="en-US" sz="2400" spc="-1" strike="noStrike">
                    <a:solidFill>
                      <a:srgbClr val="ffffff"/>
                    </a:solidFill>
                    <a:latin typeface="Times New Roman"/>
                  </a:endParaRPr>
                </a:p>
              </p:txBody>
            </p:sp>
            <p:sp>
              <p:nvSpPr>
                <p:cNvPr id="579" name=""/>
                <p:cNvSpPr/>
                <p:nvPr/>
              </p:nvSpPr>
              <p:spPr>
                <a:xfrm flipH="1">
                  <a:off x="3832560" y="2199960"/>
                  <a:ext cx="3960" cy="65520"/>
                </a:xfrm>
                <a:prstGeom prst="line">
                  <a:avLst/>
                </a:prstGeom>
                <a:ln w="3240">
                  <a:solidFill>
                    <a:srgbClr val="000000"/>
                  </a:solidFill>
                  <a:miter/>
                </a:ln>
              </p:spPr>
              <p:style>
                <a:lnRef idx="0"/>
                <a:fillRef idx="0"/>
                <a:effectRef idx="0"/>
                <a:fontRef idx="minor"/>
              </p:style>
              <p:txBody>
                <a:bodyPr lIns="93240" rIns="93240" tIns="19080" bIns="19080" anchor="t">
                  <a:noAutofit/>
                </a:bodyPr>
                <a:p>
                  <a:endParaRPr b="0" lang="en-US" sz="2400" spc="-1" strike="noStrike">
                    <a:solidFill>
                      <a:srgbClr val="ffffff"/>
                    </a:solidFill>
                    <a:latin typeface="Times New Roman"/>
                  </a:endParaRPr>
                </a:p>
              </p:txBody>
            </p:sp>
            <p:sp>
              <p:nvSpPr>
                <p:cNvPr id="580" name=""/>
                <p:cNvSpPr/>
                <p:nvPr/>
              </p:nvSpPr>
              <p:spPr>
                <a:xfrm>
                  <a:off x="3544560" y="2045880"/>
                  <a:ext cx="55440" cy="38880"/>
                </a:xfrm>
                <a:custGeom>
                  <a:avLst/>
                  <a:gdLst/>
                  <a:ahLst/>
                  <a:rect l="l" t="t" r="r" b="b"/>
                  <a:pathLst>
                    <a:path w="281" h="203">
                      <a:moveTo>
                        <a:pt x="281" y="0"/>
                      </a:moveTo>
                      <a:lnTo>
                        <a:pt x="266" y="1"/>
                      </a:lnTo>
                      <a:lnTo>
                        <a:pt x="226" y="3"/>
                      </a:lnTo>
                      <a:lnTo>
                        <a:pt x="201" y="7"/>
                      </a:lnTo>
                      <a:lnTo>
                        <a:pt x="172" y="11"/>
                      </a:lnTo>
                      <a:lnTo>
                        <a:pt x="142" y="17"/>
                      </a:lnTo>
                      <a:lnTo>
                        <a:pt x="113" y="25"/>
                      </a:lnTo>
                      <a:lnTo>
                        <a:pt x="98" y="31"/>
                      </a:lnTo>
                      <a:lnTo>
                        <a:pt x="84" y="37"/>
                      </a:lnTo>
                      <a:lnTo>
                        <a:pt x="70" y="42"/>
                      </a:lnTo>
                      <a:lnTo>
                        <a:pt x="57" y="49"/>
                      </a:lnTo>
                      <a:lnTo>
                        <a:pt x="46" y="57"/>
                      </a:lnTo>
                      <a:lnTo>
                        <a:pt x="34" y="67"/>
                      </a:lnTo>
                      <a:lnTo>
                        <a:pt x="25" y="76"/>
                      </a:lnTo>
                      <a:lnTo>
                        <a:pt x="16" y="86"/>
                      </a:lnTo>
                      <a:lnTo>
                        <a:pt x="10" y="96"/>
                      </a:lnTo>
                      <a:lnTo>
                        <a:pt x="5" y="109"/>
                      </a:lnTo>
                      <a:lnTo>
                        <a:pt x="1" y="122"/>
                      </a:lnTo>
                      <a:lnTo>
                        <a:pt x="0" y="137"/>
                      </a:lnTo>
                      <a:lnTo>
                        <a:pt x="0" y="152"/>
                      </a:lnTo>
                      <a:lnTo>
                        <a:pt x="3" y="168"/>
                      </a:lnTo>
                      <a:lnTo>
                        <a:pt x="8" y="185"/>
                      </a:lnTo>
                      <a:lnTo>
                        <a:pt x="16" y="203"/>
                      </a:lnTo>
                    </a:path>
                  </a:pathLst>
                </a:custGeom>
                <a:noFill/>
                <a:ln w="3240">
                  <a:solidFill>
                    <a:srgbClr val="000000"/>
                  </a:solidFill>
                  <a:round/>
                </a:ln>
              </p:spPr>
              <p:style>
                <a:lnRef idx="0"/>
                <a:fillRef idx="0"/>
                <a:effectRef idx="0"/>
                <a:fontRef idx="minor"/>
              </p:style>
              <p:txBody>
                <a:bodyPr wrap="none" lIns="93240" rIns="93240" tIns="-7560" bIns="-7560" anchor="t">
                  <a:spAutoFit/>
                </a:bodyPr>
                <a:p>
                  <a:endParaRPr b="0" lang="en-US" sz="2400" spc="-1" strike="noStrike">
                    <a:solidFill>
                      <a:srgbClr val="ffffff"/>
                    </a:solidFill>
                    <a:latin typeface="Times New Roman"/>
                  </a:endParaRPr>
                </a:p>
              </p:txBody>
            </p:sp>
            <p:sp>
              <p:nvSpPr>
                <p:cNvPr id="581" name=""/>
                <p:cNvSpPr/>
                <p:nvPr/>
              </p:nvSpPr>
              <p:spPr>
                <a:xfrm>
                  <a:off x="4048920" y="2011680"/>
                  <a:ext cx="56880" cy="43200"/>
                </a:xfrm>
                <a:custGeom>
                  <a:avLst/>
                  <a:gdLst/>
                  <a:ahLst/>
                  <a:rect l="l" t="t" r="r" b="b"/>
                  <a:pathLst>
                    <a:path w="278" h="228">
                      <a:moveTo>
                        <a:pt x="0" y="3"/>
                      </a:moveTo>
                      <a:lnTo>
                        <a:pt x="15" y="1"/>
                      </a:lnTo>
                      <a:lnTo>
                        <a:pt x="52" y="0"/>
                      </a:lnTo>
                      <a:lnTo>
                        <a:pt x="77" y="0"/>
                      </a:lnTo>
                      <a:lnTo>
                        <a:pt x="104" y="3"/>
                      </a:lnTo>
                      <a:lnTo>
                        <a:pt x="118" y="5"/>
                      </a:lnTo>
                      <a:lnTo>
                        <a:pt x="132" y="7"/>
                      </a:lnTo>
                      <a:lnTo>
                        <a:pt x="147" y="11"/>
                      </a:lnTo>
                      <a:lnTo>
                        <a:pt x="162" y="14"/>
                      </a:lnTo>
                      <a:lnTo>
                        <a:pt x="176" y="19"/>
                      </a:lnTo>
                      <a:lnTo>
                        <a:pt x="189" y="24"/>
                      </a:lnTo>
                      <a:lnTo>
                        <a:pt x="203" y="30"/>
                      </a:lnTo>
                      <a:lnTo>
                        <a:pt x="216" y="38"/>
                      </a:lnTo>
                      <a:lnTo>
                        <a:pt x="227" y="46"/>
                      </a:lnTo>
                      <a:lnTo>
                        <a:pt x="239" y="57"/>
                      </a:lnTo>
                      <a:lnTo>
                        <a:pt x="248" y="67"/>
                      </a:lnTo>
                      <a:lnTo>
                        <a:pt x="257" y="78"/>
                      </a:lnTo>
                      <a:lnTo>
                        <a:pt x="264" y="92"/>
                      </a:lnTo>
                      <a:lnTo>
                        <a:pt x="271" y="107"/>
                      </a:lnTo>
                      <a:lnTo>
                        <a:pt x="274" y="123"/>
                      </a:lnTo>
                      <a:lnTo>
                        <a:pt x="278" y="140"/>
                      </a:lnTo>
                      <a:lnTo>
                        <a:pt x="278" y="160"/>
                      </a:lnTo>
                      <a:lnTo>
                        <a:pt x="277" y="181"/>
                      </a:lnTo>
                      <a:lnTo>
                        <a:pt x="273" y="204"/>
                      </a:lnTo>
                      <a:lnTo>
                        <a:pt x="267" y="228"/>
                      </a:lnTo>
                    </a:path>
                  </a:pathLst>
                </a:custGeom>
                <a:noFill/>
                <a:ln w="324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582" name=""/>
                <p:cNvSpPr/>
                <p:nvPr/>
              </p:nvSpPr>
              <p:spPr>
                <a:xfrm>
                  <a:off x="3856680" y="2418840"/>
                  <a:ext cx="16560" cy="60120"/>
                </a:xfrm>
                <a:custGeom>
                  <a:avLst/>
                  <a:gdLst/>
                  <a:ahLst/>
                  <a:rect l="l" t="t" r="r" b="b"/>
                  <a:pathLst>
                    <a:path w="84" h="312">
                      <a:moveTo>
                        <a:pt x="0" y="0"/>
                      </a:moveTo>
                      <a:lnTo>
                        <a:pt x="7" y="6"/>
                      </a:lnTo>
                      <a:lnTo>
                        <a:pt x="24" y="26"/>
                      </a:lnTo>
                      <a:lnTo>
                        <a:pt x="36" y="40"/>
                      </a:lnTo>
                      <a:lnTo>
                        <a:pt x="46" y="57"/>
                      </a:lnTo>
                      <a:lnTo>
                        <a:pt x="57" y="75"/>
                      </a:lnTo>
                      <a:lnTo>
                        <a:pt x="68" y="96"/>
                      </a:lnTo>
                      <a:lnTo>
                        <a:pt x="72" y="108"/>
                      </a:lnTo>
                      <a:lnTo>
                        <a:pt x="76" y="119"/>
                      </a:lnTo>
                      <a:lnTo>
                        <a:pt x="79" y="132"/>
                      </a:lnTo>
                      <a:lnTo>
                        <a:pt x="82" y="144"/>
                      </a:lnTo>
                      <a:lnTo>
                        <a:pt x="84" y="157"/>
                      </a:lnTo>
                      <a:lnTo>
                        <a:pt x="84" y="170"/>
                      </a:lnTo>
                      <a:lnTo>
                        <a:pt x="84" y="183"/>
                      </a:lnTo>
                      <a:lnTo>
                        <a:pt x="83" y="197"/>
                      </a:lnTo>
                      <a:lnTo>
                        <a:pt x="80" y="211"/>
                      </a:lnTo>
                      <a:lnTo>
                        <a:pt x="77" y="225"/>
                      </a:lnTo>
                      <a:lnTo>
                        <a:pt x="72" y="239"/>
                      </a:lnTo>
                      <a:lnTo>
                        <a:pt x="65" y="253"/>
                      </a:lnTo>
                      <a:lnTo>
                        <a:pt x="57" y="268"/>
                      </a:lnTo>
                      <a:lnTo>
                        <a:pt x="48" y="282"/>
                      </a:lnTo>
                      <a:lnTo>
                        <a:pt x="37" y="297"/>
                      </a:lnTo>
                      <a:lnTo>
                        <a:pt x="24" y="312"/>
                      </a:lnTo>
                    </a:path>
                  </a:pathLst>
                </a:custGeom>
                <a:noFill/>
                <a:ln w="3240">
                  <a:solidFill>
                    <a:srgbClr val="000000"/>
                  </a:solidFill>
                  <a:round/>
                </a:ln>
              </p:spPr>
              <p:style>
                <a:lnRef idx="0"/>
                <a:fillRef idx="0"/>
                <a:effectRef idx="0"/>
                <a:fontRef idx="minor"/>
              </p:style>
              <p:txBody>
                <a:bodyPr wrap="none" lIns="93240" rIns="93240" tIns="13680" bIns="13680" anchor="t">
                  <a:spAutoFit/>
                </a:bodyPr>
                <a:p>
                  <a:endParaRPr b="0" lang="en-US" sz="2400" spc="-1" strike="noStrike">
                    <a:solidFill>
                      <a:srgbClr val="ffffff"/>
                    </a:solidFill>
                    <a:latin typeface="Times New Roman"/>
                  </a:endParaRPr>
                </a:p>
              </p:txBody>
            </p:sp>
            <p:sp>
              <p:nvSpPr>
                <p:cNvPr id="583" name=""/>
                <p:cNvSpPr/>
                <p:nvPr/>
              </p:nvSpPr>
              <p:spPr>
                <a:xfrm>
                  <a:off x="3701880" y="1890000"/>
                  <a:ext cx="238320" cy="160920"/>
                </a:xfrm>
                <a:custGeom>
                  <a:avLst/>
                  <a:gdLst/>
                  <a:ahLst/>
                  <a:rect l="l" t="t" r="r" b="b"/>
                  <a:pathLst>
                    <a:path w="1177" h="851">
                      <a:moveTo>
                        <a:pt x="669" y="129"/>
                      </a:moveTo>
                      <a:lnTo>
                        <a:pt x="664" y="121"/>
                      </a:lnTo>
                      <a:lnTo>
                        <a:pt x="649" y="104"/>
                      </a:lnTo>
                      <a:lnTo>
                        <a:pt x="637" y="94"/>
                      </a:lnTo>
                      <a:lnTo>
                        <a:pt x="622" y="85"/>
                      </a:lnTo>
                      <a:lnTo>
                        <a:pt x="613" y="81"/>
                      </a:lnTo>
                      <a:lnTo>
                        <a:pt x="604" y="78"/>
                      </a:lnTo>
                      <a:lnTo>
                        <a:pt x="594" y="75"/>
                      </a:lnTo>
                      <a:lnTo>
                        <a:pt x="582" y="74"/>
                      </a:lnTo>
                      <a:lnTo>
                        <a:pt x="569" y="74"/>
                      </a:lnTo>
                      <a:lnTo>
                        <a:pt x="556" y="74"/>
                      </a:lnTo>
                      <a:lnTo>
                        <a:pt x="542" y="77"/>
                      </a:lnTo>
                      <a:lnTo>
                        <a:pt x="527" y="80"/>
                      </a:lnTo>
                      <a:lnTo>
                        <a:pt x="510" y="86"/>
                      </a:lnTo>
                      <a:lnTo>
                        <a:pt x="493" y="93"/>
                      </a:lnTo>
                      <a:lnTo>
                        <a:pt x="474" y="102"/>
                      </a:lnTo>
                      <a:lnTo>
                        <a:pt x="455" y="112"/>
                      </a:lnTo>
                      <a:lnTo>
                        <a:pt x="434" y="126"/>
                      </a:lnTo>
                      <a:lnTo>
                        <a:pt x="412" y="141"/>
                      </a:lnTo>
                      <a:lnTo>
                        <a:pt x="390" y="159"/>
                      </a:lnTo>
                      <a:lnTo>
                        <a:pt x="366" y="179"/>
                      </a:lnTo>
                      <a:lnTo>
                        <a:pt x="341" y="203"/>
                      </a:lnTo>
                      <a:lnTo>
                        <a:pt x="313" y="228"/>
                      </a:lnTo>
                      <a:lnTo>
                        <a:pt x="286" y="257"/>
                      </a:lnTo>
                      <a:lnTo>
                        <a:pt x="257" y="289"/>
                      </a:lnTo>
                      <a:lnTo>
                        <a:pt x="228" y="322"/>
                      </a:lnTo>
                      <a:lnTo>
                        <a:pt x="201" y="355"/>
                      </a:lnTo>
                      <a:lnTo>
                        <a:pt x="176" y="387"/>
                      </a:lnTo>
                      <a:lnTo>
                        <a:pt x="151" y="417"/>
                      </a:lnTo>
                      <a:lnTo>
                        <a:pt x="130" y="447"/>
                      </a:lnTo>
                      <a:lnTo>
                        <a:pt x="109" y="474"/>
                      </a:lnTo>
                      <a:lnTo>
                        <a:pt x="91" y="502"/>
                      </a:lnTo>
                      <a:lnTo>
                        <a:pt x="75" y="528"/>
                      </a:lnTo>
                      <a:lnTo>
                        <a:pt x="58" y="555"/>
                      </a:lnTo>
                      <a:lnTo>
                        <a:pt x="46" y="579"/>
                      </a:lnTo>
                      <a:lnTo>
                        <a:pt x="33" y="602"/>
                      </a:lnTo>
                      <a:lnTo>
                        <a:pt x="24" y="625"/>
                      </a:lnTo>
                      <a:lnTo>
                        <a:pt x="16" y="646"/>
                      </a:lnTo>
                      <a:lnTo>
                        <a:pt x="9" y="667"/>
                      </a:lnTo>
                      <a:lnTo>
                        <a:pt x="4" y="687"/>
                      </a:lnTo>
                      <a:lnTo>
                        <a:pt x="1" y="705"/>
                      </a:lnTo>
                      <a:lnTo>
                        <a:pt x="0" y="722"/>
                      </a:lnTo>
                      <a:lnTo>
                        <a:pt x="0" y="738"/>
                      </a:lnTo>
                      <a:lnTo>
                        <a:pt x="2" y="753"/>
                      </a:lnTo>
                      <a:lnTo>
                        <a:pt x="6" y="768"/>
                      </a:lnTo>
                      <a:lnTo>
                        <a:pt x="11" y="781"/>
                      </a:lnTo>
                      <a:lnTo>
                        <a:pt x="18" y="792"/>
                      </a:lnTo>
                      <a:lnTo>
                        <a:pt x="26" y="804"/>
                      </a:lnTo>
                      <a:lnTo>
                        <a:pt x="38" y="813"/>
                      </a:lnTo>
                      <a:lnTo>
                        <a:pt x="49" y="822"/>
                      </a:lnTo>
                      <a:lnTo>
                        <a:pt x="64" y="830"/>
                      </a:lnTo>
                      <a:lnTo>
                        <a:pt x="79" y="836"/>
                      </a:lnTo>
                      <a:lnTo>
                        <a:pt x="96" y="842"/>
                      </a:lnTo>
                      <a:lnTo>
                        <a:pt x="116" y="845"/>
                      </a:lnTo>
                      <a:lnTo>
                        <a:pt x="137" y="849"/>
                      </a:lnTo>
                      <a:lnTo>
                        <a:pt x="160" y="850"/>
                      </a:lnTo>
                      <a:lnTo>
                        <a:pt x="184" y="851"/>
                      </a:lnTo>
                      <a:lnTo>
                        <a:pt x="209" y="850"/>
                      </a:lnTo>
                      <a:lnTo>
                        <a:pt x="234" y="849"/>
                      </a:lnTo>
                      <a:lnTo>
                        <a:pt x="258" y="846"/>
                      </a:lnTo>
                      <a:lnTo>
                        <a:pt x="281" y="842"/>
                      </a:lnTo>
                      <a:lnTo>
                        <a:pt x="304" y="837"/>
                      </a:lnTo>
                      <a:lnTo>
                        <a:pt x="327" y="833"/>
                      </a:lnTo>
                      <a:lnTo>
                        <a:pt x="349" y="826"/>
                      </a:lnTo>
                      <a:lnTo>
                        <a:pt x="370" y="819"/>
                      </a:lnTo>
                      <a:lnTo>
                        <a:pt x="390" y="812"/>
                      </a:lnTo>
                      <a:lnTo>
                        <a:pt x="411" y="804"/>
                      </a:lnTo>
                      <a:lnTo>
                        <a:pt x="431" y="796"/>
                      </a:lnTo>
                      <a:lnTo>
                        <a:pt x="449" y="787"/>
                      </a:lnTo>
                      <a:lnTo>
                        <a:pt x="483" y="768"/>
                      </a:lnTo>
                      <a:lnTo>
                        <a:pt x="516" y="750"/>
                      </a:lnTo>
                      <a:lnTo>
                        <a:pt x="544" y="730"/>
                      </a:lnTo>
                      <a:lnTo>
                        <a:pt x="571" y="712"/>
                      </a:lnTo>
                      <a:lnTo>
                        <a:pt x="592" y="695"/>
                      </a:lnTo>
                      <a:lnTo>
                        <a:pt x="611" y="680"/>
                      </a:lnTo>
                      <a:lnTo>
                        <a:pt x="636" y="657"/>
                      </a:lnTo>
                      <a:lnTo>
                        <a:pt x="644" y="648"/>
                      </a:lnTo>
                      <a:lnTo>
                        <a:pt x="657" y="657"/>
                      </a:lnTo>
                      <a:lnTo>
                        <a:pt x="689" y="680"/>
                      </a:lnTo>
                      <a:lnTo>
                        <a:pt x="713" y="695"/>
                      </a:lnTo>
                      <a:lnTo>
                        <a:pt x="739" y="711"/>
                      </a:lnTo>
                      <a:lnTo>
                        <a:pt x="769" y="728"/>
                      </a:lnTo>
                      <a:lnTo>
                        <a:pt x="801" y="746"/>
                      </a:lnTo>
                      <a:lnTo>
                        <a:pt x="835" y="765"/>
                      </a:lnTo>
                      <a:lnTo>
                        <a:pt x="870" y="781"/>
                      </a:lnTo>
                      <a:lnTo>
                        <a:pt x="907" y="797"/>
                      </a:lnTo>
                      <a:lnTo>
                        <a:pt x="944" y="810"/>
                      </a:lnTo>
                      <a:lnTo>
                        <a:pt x="962" y="815"/>
                      </a:lnTo>
                      <a:lnTo>
                        <a:pt x="981" y="820"/>
                      </a:lnTo>
                      <a:lnTo>
                        <a:pt x="999" y="823"/>
                      </a:lnTo>
                      <a:lnTo>
                        <a:pt x="1016" y="827"/>
                      </a:lnTo>
                      <a:lnTo>
                        <a:pt x="1033" y="829"/>
                      </a:lnTo>
                      <a:lnTo>
                        <a:pt x="1051" y="830"/>
                      </a:lnTo>
                      <a:lnTo>
                        <a:pt x="1068" y="830"/>
                      </a:lnTo>
                      <a:lnTo>
                        <a:pt x="1084" y="828"/>
                      </a:lnTo>
                      <a:lnTo>
                        <a:pt x="1099" y="825"/>
                      </a:lnTo>
                      <a:lnTo>
                        <a:pt x="1113" y="820"/>
                      </a:lnTo>
                      <a:lnTo>
                        <a:pt x="1124" y="813"/>
                      </a:lnTo>
                      <a:lnTo>
                        <a:pt x="1136" y="804"/>
                      </a:lnTo>
                      <a:lnTo>
                        <a:pt x="1145" y="793"/>
                      </a:lnTo>
                      <a:lnTo>
                        <a:pt x="1153" y="781"/>
                      </a:lnTo>
                      <a:lnTo>
                        <a:pt x="1160" y="768"/>
                      </a:lnTo>
                      <a:lnTo>
                        <a:pt x="1165" y="753"/>
                      </a:lnTo>
                      <a:lnTo>
                        <a:pt x="1170" y="737"/>
                      </a:lnTo>
                      <a:lnTo>
                        <a:pt x="1174" y="719"/>
                      </a:lnTo>
                      <a:lnTo>
                        <a:pt x="1176" y="700"/>
                      </a:lnTo>
                      <a:lnTo>
                        <a:pt x="1177" y="682"/>
                      </a:lnTo>
                      <a:lnTo>
                        <a:pt x="1177" y="661"/>
                      </a:lnTo>
                      <a:lnTo>
                        <a:pt x="1176" y="641"/>
                      </a:lnTo>
                      <a:lnTo>
                        <a:pt x="1175" y="619"/>
                      </a:lnTo>
                      <a:lnTo>
                        <a:pt x="1172" y="597"/>
                      </a:lnTo>
                      <a:lnTo>
                        <a:pt x="1169" y="575"/>
                      </a:lnTo>
                      <a:lnTo>
                        <a:pt x="1164" y="552"/>
                      </a:lnTo>
                      <a:lnTo>
                        <a:pt x="1160" y="529"/>
                      </a:lnTo>
                      <a:lnTo>
                        <a:pt x="1155" y="506"/>
                      </a:lnTo>
                      <a:lnTo>
                        <a:pt x="1143" y="460"/>
                      </a:lnTo>
                      <a:lnTo>
                        <a:pt x="1128" y="417"/>
                      </a:lnTo>
                      <a:lnTo>
                        <a:pt x="1113" y="373"/>
                      </a:lnTo>
                      <a:lnTo>
                        <a:pt x="1095" y="333"/>
                      </a:lnTo>
                      <a:lnTo>
                        <a:pt x="1077" y="297"/>
                      </a:lnTo>
                      <a:lnTo>
                        <a:pt x="1059" y="265"/>
                      </a:lnTo>
                      <a:lnTo>
                        <a:pt x="1021" y="202"/>
                      </a:lnTo>
                      <a:lnTo>
                        <a:pt x="978" y="135"/>
                      </a:lnTo>
                      <a:lnTo>
                        <a:pt x="956" y="104"/>
                      </a:lnTo>
                      <a:lnTo>
                        <a:pt x="932" y="75"/>
                      </a:lnTo>
                      <a:lnTo>
                        <a:pt x="921" y="62"/>
                      </a:lnTo>
                      <a:lnTo>
                        <a:pt x="908" y="49"/>
                      </a:lnTo>
                      <a:lnTo>
                        <a:pt x="896" y="38"/>
                      </a:lnTo>
                      <a:lnTo>
                        <a:pt x="883" y="28"/>
                      </a:lnTo>
                      <a:lnTo>
                        <a:pt x="870" y="19"/>
                      </a:lnTo>
                      <a:lnTo>
                        <a:pt x="858" y="12"/>
                      </a:lnTo>
                      <a:lnTo>
                        <a:pt x="845" y="5"/>
                      </a:lnTo>
                      <a:lnTo>
                        <a:pt x="831" y="2"/>
                      </a:lnTo>
                      <a:lnTo>
                        <a:pt x="819" y="0"/>
                      </a:lnTo>
                      <a:lnTo>
                        <a:pt x="805" y="0"/>
                      </a:lnTo>
                      <a:lnTo>
                        <a:pt x="792" y="1"/>
                      </a:lnTo>
                      <a:lnTo>
                        <a:pt x="778" y="4"/>
                      </a:lnTo>
                      <a:lnTo>
                        <a:pt x="765" y="11"/>
                      </a:lnTo>
                      <a:lnTo>
                        <a:pt x="751" y="19"/>
                      </a:lnTo>
                      <a:lnTo>
                        <a:pt x="737" y="31"/>
                      </a:lnTo>
                      <a:lnTo>
                        <a:pt x="723" y="44"/>
                      </a:lnTo>
                      <a:lnTo>
                        <a:pt x="710" y="62"/>
                      </a:lnTo>
                      <a:lnTo>
                        <a:pt x="696" y="81"/>
                      </a:lnTo>
                      <a:lnTo>
                        <a:pt x="683" y="103"/>
                      </a:lnTo>
                      <a:lnTo>
                        <a:pt x="669" y="129"/>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84" name=""/>
                <p:cNvSpPr/>
                <p:nvPr/>
              </p:nvSpPr>
              <p:spPr>
                <a:xfrm>
                  <a:off x="3701880" y="1890000"/>
                  <a:ext cx="238320" cy="160920"/>
                </a:xfrm>
                <a:custGeom>
                  <a:avLst/>
                  <a:gdLst/>
                  <a:ahLst/>
                  <a:rect l="l" t="t" r="r" b="b"/>
                  <a:pathLst>
                    <a:path w="1177" h="851">
                      <a:moveTo>
                        <a:pt x="669" y="129"/>
                      </a:moveTo>
                      <a:lnTo>
                        <a:pt x="664" y="121"/>
                      </a:lnTo>
                      <a:lnTo>
                        <a:pt x="649" y="104"/>
                      </a:lnTo>
                      <a:lnTo>
                        <a:pt x="637" y="94"/>
                      </a:lnTo>
                      <a:lnTo>
                        <a:pt x="622" y="85"/>
                      </a:lnTo>
                      <a:lnTo>
                        <a:pt x="613" y="81"/>
                      </a:lnTo>
                      <a:lnTo>
                        <a:pt x="604" y="78"/>
                      </a:lnTo>
                      <a:lnTo>
                        <a:pt x="594" y="75"/>
                      </a:lnTo>
                      <a:lnTo>
                        <a:pt x="582" y="74"/>
                      </a:lnTo>
                      <a:lnTo>
                        <a:pt x="569" y="74"/>
                      </a:lnTo>
                      <a:lnTo>
                        <a:pt x="556" y="74"/>
                      </a:lnTo>
                      <a:lnTo>
                        <a:pt x="542" y="77"/>
                      </a:lnTo>
                      <a:lnTo>
                        <a:pt x="527" y="80"/>
                      </a:lnTo>
                      <a:lnTo>
                        <a:pt x="510" y="86"/>
                      </a:lnTo>
                      <a:lnTo>
                        <a:pt x="493" y="93"/>
                      </a:lnTo>
                      <a:lnTo>
                        <a:pt x="474" y="102"/>
                      </a:lnTo>
                      <a:lnTo>
                        <a:pt x="455" y="112"/>
                      </a:lnTo>
                      <a:lnTo>
                        <a:pt x="434" y="126"/>
                      </a:lnTo>
                      <a:lnTo>
                        <a:pt x="412" y="141"/>
                      </a:lnTo>
                      <a:lnTo>
                        <a:pt x="390" y="159"/>
                      </a:lnTo>
                      <a:lnTo>
                        <a:pt x="366" y="179"/>
                      </a:lnTo>
                      <a:lnTo>
                        <a:pt x="341" y="203"/>
                      </a:lnTo>
                      <a:lnTo>
                        <a:pt x="313" y="228"/>
                      </a:lnTo>
                      <a:lnTo>
                        <a:pt x="286" y="257"/>
                      </a:lnTo>
                      <a:lnTo>
                        <a:pt x="257" y="289"/>
                      </a:lnTo>
                      <a:lnTo>
                        <a:pt x="228" y="322"/>
                      </a:lnTo>
                      <a:lnTo>
                        <a:pt x="201" y="355"/>
                      </a:lnTo>
                      <a:lnTo>
                        <a:pt x="176" y="387"/>
                      </a:lnTo>
                      <a:lnTo>
                        <a:pt x="151" y="417"/>
                      </a:lnTo>
                      <a:lnTo>
                        <a:pt x="130" y="447"/>
                      </a:lnTo>
                      <a:lnTo>
                        <a:pt x="109" y="474"/>
                      </a:lnTo>
                      <a:lnTo>
                        <a:pt x="91" y="502"/>
                      </a:lnTo>
                      <a:lnTo>
                        <a:pt x="75" y="528"/>
                      </a:lnTo>
                      <a:lnTo>
                        <a:pt x="58" y="555"/>
                      </a:lnTo>
                      <a:lnTo>
                        <a:pt x="46" y="579"/>
                      </a:lnTo>
                      <a:lnTo>
                        <a:pt x="33" y="602"/>
                      </a:lnTo>
                      <a:lnTo>
                        <a:pt x="24" y="625"/>
                      </a:lnTo>
                      <a:lnTo>
                        <a:pt x="16" y="646"/>
                      </a:lnTo>
                      <a:lnTo>
                        <a:pt x="9" y="667"/>
                      </a:lnTo>
                      <a:lnTo>
                        <a:pt x="4" y="687"/>
                      </a:lnTo>
                      <a:lnTo>
                        <a:pt x="1" y="705"/>
                      </a:lnTo>
                      <a:lnTo>
                        <a:pt x="0" y="722"/>
                      </a:lnTo>
                      <a:lnTo>
                        <a:pt x="0" y="738"/>
                      </a:lnTo>
                      <a:lnTo>
                        <a:pt x="2" y="753"/>
                      </a:lnTo>
                      <a:lnTo>
                        <a:pt x="6" y="768"/>
                      </a:lnTo>
                      <a:lnTo>
                        <a:pt x="11" y="781"/>
                      </a:lnTo>
                      <a:lnTo>
                        <a:pt x="18" y="792"/>
                      </a:lnTo>
                      <a:lnTo>
                        <a:pt x="26" y="804"/>
                      </a:lnTo>
                      <a:lnTo>
                        <a:pt x="38" y="813"/>
                      </a:lnTo>
                      <a:lnTo>
                        <a:pt x="49" y="822"/>
                      </a:lnTo>
                      <a:lnTo>
                        <a:pt x="64" y="830"/>
                      </a:lnTo>
                      <a:lnTo>
                        <a:pt x="79" y="836"/>
                      </a:lnTo>
                      <a:lnTo>
                        <a:pt x="96" y="842"/>
                      </a:lnTo>
                      <a:lnTo>
                        <a:pt x="116" y="845"/>
                      </a:lnTo>
                      <a:lnTo>
                        <a:pt x="137" y="849"/>
                      </a:lnTo>
                      <a:lnTo>
                        <a:pt x="160" y="850"/>
                      </a:lnTo>
                      <a:lnTo>
                        <a:pt x="184" y="851"/>
                      </a:lnTo>
                      <a:lnTo>
                        <a:pt x="209" y="850"/>
                      </a:lnTo>
                      <a:lnTo>
                        <a:pt x="234" y="849"/>
                      </a:lnTo>
                      <a:lnTo>
                        <a:pt x="258" y="846"/>
                      </a:lnTo>
                      <a:lnTo>
                        <a:pt x="281" y="842"/>
                      </a:lnTo>
                      <a:lnTo>
                        <a:pt x="304" y="837"/>
                      </a:lnTo>
                      <a:lnTo>
                        <a:pt x="327" y="833"/>
                      </a:lnTo>
                      <a:lnTo>
                        <a:pt x="349" y="826"/>
                      </a:lnTo>
                      <a:lnTo>
                        <a:pt x="370" y="819"/>
                      </a:lnTo>
                      <a:lnTo>
                        <a:pt x="390" y="812"/>
                      </a:lnTo>
                      <a:lnTo>
                        <a:pt x="411" y="804"/>
                      </a:lnTo>
                      <a:lnTo>
                        <a:pt x="431" y="796"/>
                      </a:lnTo>
                      <a:lnTo>
                        <a:pt x="449" y="787"/>
                      </a:lnTo>
                      <a:lnTo>
                        <a:pt x="483" y="768"/>
                      </a:lnTo>
                      <a:lnTo>
                        <a:pt x="516" y="750"/>
                      </a:lnTo>
                      <a:lnTo>
                        <a:pt x="544" y="730"/>
                      </a:lnTo>
                      <a:lnTo>
                        <a:pt x="571" y="712"/>
                      </a:lnTo>
                      <a:lnTo>
                        <a:pt x="592" y="695"/>
                      </a:lnTo>
                      <a:lnTo>
                        <a:pt x="611" y="680"/>
                      </a:lnTo>
                      <a:lnTo>
                        <a:pt x="636" y="657"/>
                      </a:lnTo>
                      <a:lnTo>
                        <a:pt x="644" y="648"/>
                      </a:lnTo>
                      <a:lnTo>
                        <a:pt x="657" y="657"/>
                      </a:lnTo>
                      <a:lnTo>
                        <a:pt x="689" y="680"/>
                      </a:lnTo>
                      <a:lnTo>
                        <a:pt x="713" y="695"/>
                      </a:lnTo>
                      <a:lnTo>
                        <a:pt x="739" y="711"/>
                      </a:lnTo>
                      <a:lnTo>
                        <a:pt x="769" y="728"/>
                      </a:lnTo>
                      <a:lnTo>
                        <a:pt x="801" y="746"/>
                      </a:lnTo>
                      <a:lnTo>
                        <a:pt x="835" y="765"/>
                      </a:lnTo>
                      <a:lnTo>
                        <a:pt x="870" y="781"/>
                      </a:lnTo>
                      <a:lnTo>
                        <a:pt x="907" y="797"/>
                      </a:lnTo>
                      <a:lnTo>
                        <a:pt x="944" y="810"/>
                      </a:lnTo>
                      <a:lnTo>
                        <a:pt x="962" y="815"/>
                      </a:lnTo>
                      <a:lnTo>
                        <a:pt x="981" y="820"/>
                      </a:lnTo>
                      <a:lnTo>
                        <a:pt x="999" y="823"/>
                      </a:lnTo>
                      <a:lnTo>
                        <a:pt x="1016" y="827"/>
                      </a:lnTo>
                      <a:lnTo>
                        <a:pt x="1033" y="829"/>
                      </a:lnTo>
                      <a:lnTo>
                        <a:pt x="1051" y="830"/>
                      </a:lnTo>
                      <a:lnTo>
                        <a:pt x="1068" y="830"/>
                      </a:lnTo>
                      <a:lnTo>
                        <a:pt x="1084" y="828"/>
                      </a:lnTo>
                      <a:lnTo>
                        <a:pt x="1099" y="825"/>
                      </a:lnTo>
                      <a:lnTo>
                        <a:pt x="1113" y="820"/>
                      </a:lnTo>
                      <a:lnTo>
                        <a:pt x="1124" y="813"/>
                      </a:lnTo>
                      <a:lnTo>
                        <a:pt x="1136" y="804"/>
                      </a:lnTo>
                      <a:lnTo>
                        <a:pt x="1145" y="793"/>
                      </a:lnTo>
                      <a:lnTo>
                        <a:pt x="1153" y="781"/>
                      </a:lnTo>
                      <a:lnTo>
                        <a:pt x="1160" y="768"/>
                      </a:lnTo>
                      <a:lnTo>
                        <a:pt x="1165" y="753"/>
                      </a:lnTo>
                      <a:lnTo>
                        <a:pt x="1170" y="737"/>
                      </a:lnTo>
                      <a:lnTo>
                        <a:pt x="1174" y="719"/>
                      </a:lnTo>
                      <a:lnTo>
                        <a:pt x="1176" y="700"/>
                      </a:lnTo>
                      <a:lnTo>
                        <a:pt x="1177" y="682"/>
                      </a:lnTo>
                      <a:lnTo>
                        <a:pt x="1177" y="661"/>
                      </a:lnTo>
                      <a:lnTo>
                        <a:pt x="1176" y="641"/>
                      </a:lnTo>
                      <a:lnTo>
                        <a:pt x="1175" y="619"/>
                      </a:lnTo>
                      <a:lnTo>
                        <a:pt x="1172" y="597"/>
                      </a:lnTo>
                      <a:lnTo>
                        <a:pt x="1169" y="575"/>
                      </a:lnTo>
                      <a:lnTo>
                        <a:pt x="1164" y="552"/>
                      </a:lnTo>
                      <a:lnTo>
                        <a:pt x="1160" y="529"/>
                      </a:lnTo>
                      <a:lnTo>
                        <a:pt x="1155" y="506"/>
                      </a:lnTo>
                      <a:lnTo>
                        <a:pt x="1143" y="460"/>
                      </a:lnTo>
                      <a:lnTo>
                        <a:pt x="1128" y="417"/>
                      </a:lnTo>
                      <a:lnTo>
                        <a:pt x="1113" y="373"/>
                      </a:lnTo>
                      <a:lnTo>
                        <a:pt x="1095" y="333"/>
                      </a:lnTo>
                      <a:lnTo>
                        <a:pt x="1077" y="297"/>
                      </a:lnTo>
                      <a:lnTo>
                        <a:pt x="1059" y="265"/>
                      </a:lnTo>
                      <a:lnTo>
                        <a:pt x="1021" y="202"/>
                      </a:lnTo>
                      <a:lnTo>
                        <a:pt x="978" y="135"/>
                      </a:lnTo>
                      <a:lnTo>
                        <a:pt x="956" y="104"/>
                      </a:lnTo>
                      <a:lnTo>
                        <a:pt x="932" y="75"/>
                      </a:lnTo>
                      <a:lnTo>
                        <a:pt x="921" y="62"/>
                      </a:lnTo>
                      <a:lnTo>
                        <a:pt x="908" y="49"/>
                      </a:lnTo>
                      <a:lnTo>
                        <a:pt x="896" y="38"/>
                      </a:lnTo>
                      <a:lnTo>
                        <a:pt x="883" y="28"/>
                      </a:lnTo>
                      <a:lnTo>
                        <a:pt x="870" y="19"/>
                      </a:lnTo>
                      <a:lnTo>
                        <a:pt x="858" y="12"/>
                      </a:lnTo>
                      <a:lnTo>
                        <a:pt x="845" y="5"/>
                      </a:lnTo>
                      <a:lnTo>
                        <a:pt x="831" y="2"/>
                      </a:lnTo>
                      <a:lnTo>
                        <a:pt x="819" y="0"/>
                      </a:lnTo>
                      <a:lnTo>
                        <a:pt x="805" y="0"/>
                      </a:lnTo>
                      <a:lnTo>
                        <a:pt x="792" y="1"/>
                      </a:lnTo>
                      <a:lnTo>
                        <a:pt x="778" y="4"/>
                      </a:lnTo>
                      <a:lnTo>
                        <a:pt x="765" y="11"/>
                      </a:lnTo>
                      <a:lnTo>
                        <a:pt x="751" y="19"/>
                      </a:lnTo>
                      <a:lnTo>
                        <a:pt x="737" y="31"/>
                      </a:lnTo>
                      <a:lnTo>
                        <a:pt x="723" y="44"/>
                      </a:lnTo>
                      <a:lnTo>
                        <a:pt x="710" y="62"/>
                      </a:lnTo>
                      <a:lnTo>
                        <a:pt x="696" y="81"/>
                      </a:lnTo>
                      <a:lnTo>
                        <a:pt x="683" y="103"/>
                      </a:lnTo>
                      <a:lnTo>
                        <a:pt x="669" y="129"/>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85" name=""/>
                <p:cNvSpPr/>
                <p:nvPr/>
              </p:nvSpPr>
              <p:spPr>
                <a:xfrm>
                  <a:off x="3749400" y="1945080"/>
                  <a:ext cx="22320" cy="36720"/>
                </a:xfrm>
                <a:custGeom>
                  <a:avLst/>
                  <a:gdLst/>
                  <a:ahLst/>
                  <a:rect l="l" t="t" r="r" b="b"/>
                  <a:pathLst>
                    <a:path w="111" h="189">
                      <a:moveTo>
                        <a:pt x="33" y="188"/>
                      </a:moveTo>
                      <a:lnTo>
                        <a:pt x="37" y="189"/>
                      </a:lnTo>
                      <a:lnTo>
                        <a:pt x="43" y="189"/>
                      </a:lnTo>
                      <a:lnTo>
                        <a:pt x="48" y="188"/>
                      </a:lnTo>
                      <a:lnTo>
                        <a:pt x="53" y="186"/>
                      </a:lnTo>
                      <a:lnTo>
                        <a:pt x="59" y="182"/>
                      </a:lnTo>
                      <a:lnTo>
                        <a:pt x="65" y="179"/>
                      </a:lnTo>
                      <a:lnTo>
                        <a:pt x="69" y="174"/>
                      </a:lnTo>
                      <a:lnTo>
                        <a:pt x="75" y="168"/>
                      </a:lnTo>
                      <a:lnTo>
                        <a:pt x="84" y="156"/>
                      </a:lnTo>
                      <a:lnTo>
                        <a:pt x="93" y="141"/>
                      </a:lnTo>
                      <a:lnTo>
                        <a:pt x="100" y="124"/>
                      </a:lnTo>
                      <a:lnTo>
                        <a:pt x="105" y="105"/>
                      </a:lnTo>
                      <a:lnTo>
                        <a:pt x="110" y="86"/>
                      </a:lnTo>
                      <a:lnTo>
                        <a:pt x="111" y="67"/>
                      </a:lnTo>
                      <a:lnTo>
                        <a:pt x="111" y="51"/>
                      </a:lnTo>
                      <a:lnTo>
                        <a:pt x="108" y="36"/>
                      </a:lnTo>
                      <a:lnTo>
                        <a:pt x="106" y="29"/>
                      </a:lnTo>
                      <a:lnTo>
                        <a:pt x="104" y="23"/>
                      </a:lnTo>
                      <a:lnTo>
                        <a:pt x="102" y="18"/>
                      </a:lnTo>
                      <a:lnTo>
                        <a:pt x="98" y="12"/>
                      </a:lnTo>
                      <a:lnTo>
                        <a:pt x="95" y="9"/>
                      </a:lnTo>
                      <a:lnTo>
                        <a:pt x="90" y="5"/>
                      </a:lnTo>
                      <a:lnTo>
                        <a:pt x="85" y="2"/>
                      </a:lnTo>
                      <a:lnTo>
                        <a:pt x="81" y="1"/>
                      </a:lnTo>
                      <a:lnTo>
                        <a:pt x="75" y="0"/>
                      </a:lnTo>
                      <a:lnTo>
                        <a:pt x="69" y="1"/>
                      </a:lnTo>
                      <a:lnTo>
                        <a:pt x="64" y="2"/>
                      </a:lnTo>
                      <a:lnTo>
                        <a:pt x="58" y="4"/>
                      </a:lnTo>
                      <a:lnTo>
                        <a:pt x="52" y="8"/>
                      </a:lnTo>
                      <a:lnTo>
                        <a:pt x="46" y="11"/>
                      </a:lnTo>
                      <a:lnTo>
                        <a:pt x="42" y="16"/>
                      </a:lnTo>
                      <a:lnTo>
                        <a:pt x="36" y="21"/>
                      </a:lnTo>
                      <a:lnTo>
                        <a:pt x="27" y="34"/>
                      </a:lnTo>
                      <a:lnTo>
                        <a:pt x="19" y="49"/>
                      </a:lnTo>
                      <a:lnTo>
                        <a:pt x="15" y="58"/>
                      </a:lnTo>
                      <a:lnTo>
                        <a:pt x="12" y="66"/>
                      </a:lnTo>
                      <a:lnTo>
                        <a:pt x="10" y="75"/>
                      </a:lnTo>
                      <a:lnTo>
                        <a:pt x="7" y="86"/>
                      </a:lnTo>
                      <a:lnTo>
                        <a:pt x="3" y="105"/>
                      </a:lnTo>
                      <a:lnTo>
                        <a:pt x="0" y="123"/>
                      </a:lnTo>
                      <a:lnTo>
                        <a:pt x="0" y="140"/>
                      </a:lnTo>
                      <a:lnTo>
                        <a:pt x="3" y="155"/>
                      </a:lnTo>
                      <a:lnTo>
                        <a:pt x="5" y="162"/>
                      </a:lnTo>
                      <a:lnTo>
                        <a:pt x="7" y="167"/>
                      </a:lnTo>
                      <a:lnTo>
                        <a:pt x="10" y="173"/>
                      </a:lnTo>
                      <a:lnTo>
                        <a:pt x="13" y="178"/>
                      </a:lnTo>
                      <a:lnTo>
                        <a:pt x="18" y="181"/>
                      </a:lnTo>
                      <a:lnTo>
                        <a:pt x="22" y="185"/>
                      </a:lnTo>
                      <a:lnTo>
                        <a:pt x="27" y="187"/>
                      </a:lnTo>
                      <a:lnTo>
                        <a:pt x="33" y="188"/>
                      </a:lnTo>
                      <a:close/>
                    </a:path>
                  </a:pathLst>
                </a:custGeom>
                <a:solidFill>
                  <a:srgbClr val="000000"/>
                </a:solidFill>
                <a:ln w="0">
                  <a:noFill/>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86" name=""/>
                <p:cNvSpPr/>
                <p:nvPr/>
              </p:nvSpPr>
              <p:spPr>
                <a:xfrm>
                  <a:off x="3749400" y="1945080"/>
                  <a:ext cx="22320" cy="36720"/>
                </a:xfrm>
                <a:custGeom>
                  <a:avLst/>
                  <a:gdLst/>
                  <a:ahLst/>
                  <a:rect l="l" t="t" r="r" b="b"/>
                  <a:pathLst>
                    <a:path w="111" h="189">
                      <a:moveTo>
                        <a:pt x="33" y="188"/>
                      </a:moveTo>
                      <a:lnTo>
                        <a:pt x="37" y="189"/>
                      </a:lnTo>
                      <a:lnTo>
                        <a:pt x="43" y="189"/>
                      </a:lnTo>
                      <a:lnTo>
                        <a:pt x="48" y="188"/>
                      </a:lnTo>
                      <a:lnTo>
                        <a:pt x="53" y="186"/>
                      </a:lnTo>
                      <a:lnTo>
                        <a:pt x="59" y="182"/>
                      </a:lnTo>
                      <a:lnTo>
                        <a:pt x="65" y="179"/>
                      </a:lnTo>
                      <a:lnTo>
                        <a:pt x="69" y="174"/>
                      </a:lnTo>
                      <a:lnTo>
                        <a:pt x="75" y="168"/>
                      </a:lnTo>
                      <a:lnTo>
                        <a:pt x="84" y="156"/>
                      </a:lnTo>
                      <a:lnTo>
                        <a:pt x="93" y="141"/>
                      </a:lnTo>
                      <a:lnTo>
                        <a:pt x="100" y="124"/>
                      </a:lnTo>
                      <a:lnTo>
                        <a:pt x="105" y="105"/>
                      </a:lnTo>
                      <a:lnTo>
                        <a:pt x="110" y="86"/>
                      </a:lnTo>
                      <a:lnTo>
                        <a:pt x="111" y="67"/>
                      </a:lnTo>
                      <a:lnTo>
                        <a:pt x="111" y="51"/>
                      </a:lnTo>
                      <a:lnTo>
                        <a:pt x="108" y="36"/>
                      </a:lnTo>
                      <a:lnTo>
                        <a:pt x="106" y="29"/>
                      </a:lnTo>
                      <a:lnTo>
                        <a:pt x="104" y="23"/>
                      </a:lnTo>
                      <a:lnTo>
                        <a:pt x="102" y="18"/>
                      </a:lnTo>
                      <a:lnTo>
                        <a:pt x="98" y="12"/>
                      </a:lnTo>
                      <a:lnTo>
                        <a:pt x="95" y="9"/>
                      </a:lnTo>
                      <a:lnTo>
                        <a:pt x="90" y="5"/>
                      </a:lnTo>
                      <a:lnTo>
                        <a:pt x="85" y="2"/>
                      </a:lnTo>
                      <a:lnTo>
                        <a:pt x="81" y="1"/>
                      </a:lnTo>
                      <a:lnTo>
                        <a:pt x="75" y="0"/>
                      </a:lnTo>
                      <a:lnTo>
                        <a:pt x="69" y="1"/>
                      </a:lnTo>
                      <a:lnTo>
                        <a:pt x="64" y="2"/>
                      </a:lnTo>
                      <a:lnTo>
                        <a:pt x="58" y="4"/>
                      </a:lnTo>
                      <a:lnTo>
                        <a:pt x="52" y="8"/>
                      </a:lnTo>
                      <a:lnTo>
                        <a:pt x="46" y="11"/>
                      </a:lnTo>
                      <a:lnTo>
                        <a:pt x="42" y="16"/>
                      </a:lnTo>
                      <a:lnTo>
                        <a:pt x="36" y="21"/>
                      </a:lnTo>
                      <a:lnTo>
                        <a:pt x="27" y="34"/>
                      </a:lnTo>
                      <a:lnTo>
                        <a:pt x="19" y="49"/>
                      </a:lnTo>
                      <a:lnTo>
                        <a:pt x="15" y="58"/>
                      </a:lnTo>
                      <a:lnTo>
                        <a:pt x="12" y="66"/>
                      </a:lnTo>
                      <a:lnTo>
                        <a:pt x="10" y="75"/>
                      </a:lnTo>
                      <a:lnTo>
                        <a:pt x="7" y="86"/>
                      </a:lnTo>
                      <a:lnTo>
                        <a:pt x="3" y="105"/>
                      </a:lnTo>
                      <a:lnTo>
                        <a:pt x="0" y="123"/>
                      </a:lnTo>
                      <a:lnTo>
                        <a:pt x="0" y="140"/>
                      </a:lnTo>
                      <a:lnTo>
                        <a:pt x="3" y="155"/>
                      </a:lnTo>
                      <a:lnTo>
                        <a:pt x="5" y="162"/>
                      </a:lnTo>
                      <a:lnTo>
                        <a:pt x="7" y="167"/>
                      </a:lnTo>
                      <a:lnTo>
                        <a:pt x="10" y="173"/>
                      </a:lnTo>
                      <a:lnTo>
                        <a:pt x="13" y="178"/>
                      </a:lnTo>
                      <a:lnTo>
                        <a:pt x="18" y="181"/>
                      </a:lnTo>
                      <a:lnTo>
                        <a:pt x="22" y="185"/>
                      </a:lnTo>
                      <a:lnTo>
                        <a:pt x="27" y="187"/>
                      </a:lnTo>
                      <a:lnTo>
                        <a:pt x="33" y="188"/>
                      </a:lnTo>
                    </a:path>
                  </a:pathLst>
                </a:custGeom>
                <a:noFill/>
                <a:ln w="3240">
                  <a:solidFill>
                    <a:srgbClr val="000000"/>
                  </a:solidFill>
                  <a:round/>
                </a:ln>
              </p:spPr>
              <p:style>
                <a:lnRef idx="0"/>
                <a:fillRef idx="0"/>
                <a:effectRef idx="0"/>
                <a:fontRef idx="minor"/>
              </p:style>
              <p:txBody>
                <a:bodyPr wrap="none" lIns="93240" rIns="93240" tIns="-9720" bIns="-9720" anchor="t">
                  <a:spAutoFit/>
                </a:bodyPr>
                <a:p>
                  <a:endParaRPr b="0" lang="en-US" sz="2400" spc="-1" strike="noStrike">
                    <a:solidFill>
                      <a:srgbClr val="ffffff"/>
                    </a:solidFill>
                    <a:latin typeface="Times New Roman"/>
                  </a:endParaRPr>
                </a:p>
              </p:txBody>
            </p:sp>
            <p:sp>
              <p:nvSpPr>
                <p:cNvPr id="587" name=""/>
                <p:cNvSpPr/>
                <p:nvPr/>
              </p:nvSpPr>
              <p:spPr>
                <a:xfrm>
                  <a:off x="3864960" y="1940040"/>
                  <a:ext cx="20520" cy="35280"/>
                </a:xfrm>
                <a:custGeom>
                  <a:avLst/>
                  <a:gdLst/>
                  <a:ahLst/>
                  <a:rect l="l" t="t" r="r" b="b"/>
                  <a:pathLst>
                    <a:path w="110" h="187">
                      <a:moveTo>
                        <a:pt x="79" y="186"/>
                      </a:moveTo>
                      <a:lnTo>
                        <a:pt x="85" y="185"/>
                      </a:lnTo>
                      <a:lnTo>
                        <a:pt x="89" y="181"/>
                      </a:lnTo>
                      <a:lnTo>
                        <a:pt x="94" y="178"/>
                      </a:lnTo>
                      <a:lnTo>
                        <a:pt x="98" y="173"/>
                      </a:lnTo>
                      <a:lnTo>
                        <a:pt x="101" y="169"/>
                      </a:lnTo>
                      <a:lnTo>
                        <a:pt x="103" y="163"/>
                      </a:lnTo>
                      <a:lnTo>
                        <a:pt x="106" y="157"/>
                      </a:lnTo>
                      <a:lnTo>
                        <a:pt x="108" y="150"/>
                      </a:lnTo>
                      <a:lnTo>
                        <a:pt x="110" y="135"/>
                      </a:lnTo>
                      <a:lnTo>
                        <a:pt x="110" y="118"/>
                      </a:lnTo>
                      <a:lnTo>
                        <a:pt x="108" y="100"/>
                      </a:lnTo>
                      <a:lnTo>
                        <a:pt x="103" y="81"/>
                      </a:lnTo>
                      <a:lnTo>
                        <a:pt x="98" y="62"/>
                      </a:lnTo>
                      <a:lnTo>
                        <a:pt x="91" y="45"/>
                      </a:lnTo>
                      <a:lnTo>
                        <a:pt x="81" y="31"/>
                      </a:lnTo>
                      <a:lnTo>
                        <a:pt x="72" y="18"/>
                      </a:lnTo>
                      <a:lnTo>
                        <a:pt x="67" y="14"/>
                      </a:lnTo>
                      <a:lnTo>
                        <a:pt x="62" y="9"/>
                      </a:lnTo>
                      <a:lnTo>
                        <a:pt x="56" y="5"/>
                      </a:lnTo>
                      <a:lnTo>
                        <a:pt x="52" y="2"/>
                      </a:lnTo>
                      <a:lnTo>
                        <a:pt x="46" y="1"/>
                      </a:lnTo>
                      <a:lnTo>
                        <a:pt x="41" y="0"/>
                      </a:lnTo>
                      <a:lnTo>
                        <a:pt x="35" y="0"/>
                      </a:lnTo>
                      <a:lnTo>
                        <a:pt x="31" y="1"/>
                      </a:lnTo>
                      <a:lnTo>
                        <a:pt x="25" y="2"/>
                      </a:lnTo>
                      <a:lnTo>
                        <a:pt x="21" y="4"/>
                      </a:lnTo>
                      <a:lnTo>
                        <a:pt x="17" y="8"/>
                      </a:lnTo>
                      <a:lnTo>
                        <a:pt x="14" y="11"/>
                      </a:lnTo>
                      <a:lnTo>
                        <a:pt x="10" y="17"/>
                      </a:lnTo>
                      <a:lnTo>
                        <a:pt x="7" y="22"/>
                      </a:lnTo>
                      <a:lnTo>
                        <a:pt x="4" y="28"/>
                      </a:lnTo>
                      <a:lnTo>
                        <a:pt x="3" y="35"/>
                      </a:lnTo>
                      <a:lnTo>
                        <a:pt x="1" y="50"/>
                      </a:lnTo>
                      <a:lnTo>
                        <a:pt x="0" y="66"/>
                      </a:lnTo>
                      <a:lnTo>
                        <a:pt x="2" y="85"/>
                      </a:lnTo>
                      <a:lnTo>
                        <a:pt x="6" y="103"/>
                      </a:lnTo>
                      <a:lnTo>
                        <a:pt x="11" y="123"/>
                      </a:lnTo>
                      <a:lnTo>
                        <a:pt x="19" y="139"/>
                      </a:lnTo>
                      <a:lnTo>
                        <a:pt x="27" y="154"/>
                      </a:lnTo>
                      <a:lnTo>
                        <a:pt x="38" y="166"/>
                      </a:lnTo>
                      <a:lnTo>
                        <a:pt x="42" y="171"/>
                      </a:lnTo>
                      <a:lnTo>
                        <a:pt x="48" y="175"/>
                      </a:lnTo>
                      <a:lnTo>
                        <a:pt x="53" y="180"/>
                      </a:lnTo>
                      <a:lnTo>
                        <a:pt x="58" y="182"/>
                      </a:lnTo>
                      <a:lnTo>
                        <a:pt x="63" y="185"/>
                      </a:lnTo>
                      <a:lnTo>
                        <a:pt x="69" y="186"/>
                      </a:lnTo>
                      <a:lnTo>
                        <a:pt x="75" y="187"/>
                      </a:lnTo>
                      <a:lnTo>
                        <a:pt x="79" y="186"/>
                      </a:lnTo>
                      <a:close/>
                    </a:path>
                  </a:pathLst>
                </a:custGeom>
                <a:solidFill>
                  <a:srgbClr val="000000"/>
                </a:solidFill>
                <a:ln w="0">
                  <a:noFill/>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588" name=""/>
                <p:cNvSpPr/>
                <p:nvPr/>
              </p:nvSpPr>
              <p:spPr>
                <a:xfrm>
                  <a:off x="3864960" y="1940040"/>
                  <a:ext cx="20520" cy="35280"/>
                </a:xfrm>
                <a:custGeom>
                  <a:avLst/>
                  <a:gdLst/>
                  <a:ahLst/>
                  <a:rect l="l" t="t" r="r" b="b"/>
                  <a:pathLst>
                    <a:path w="110" h="187">
                      <a:moveTo>
                        <a:pt x="79" y="186"/>
                      </a:moveTo>
                      <a:lnTo>
                        <a:pt x="85" y="185"/>
                      </a:lnTo>
                      <a:lnTo>
                        <a:pt x="89" y="181"/>
                      </a:lnTo>
                      <a:lnTo>
                        <a:pt x="94" y="178"/>
                      </a:lnTo>
                      <a:lnTo>
                        <a:pt x="98" y="173"/>
                      </a:lnTo>
                      <a:lnTo>
                        <a:pt x="101" y="169"/>
                      </a:lnTo>
                      <a:lnTo>
                        <a:pt x="103" y="163"/>
                      </a:lnTo>
                      <a:lnTo>
                        <a:pt x="106" y="157"/>
                      </a:lnTo>
                      <a:lnTo>
                        <a:pt x="108" y="150"/>
                      </a:lnTo>
                      <a:lnTo>
                        <a:pt x="110" y="135"/>
                      </a:lnTo>
                      <a:lnTo>
                        <a:pt x="110" y="118"/>
                      </a:lnTo>
                      <a:lnTo>
                        <a:pt x="108" y="100"/>
                      </a:lnTo>
                      <a:lnTo>
                        <a:pt x="103" y="81"/>
                      </a:lnTo>
                      <a:lnTo>
                        <a:pt x="98" y="62"/>
                      </a:lnTo>
                      <a:lnTo>
                        <a:pt x="91" y="45"/>
                      </a:lnTo>
                      <a:lnTo>
                        <a:pt x="81" y="31"/>
                      </a:lnTo>
                      <a:lnTo>
                        <a:pt x="72" y="18"/>
                      </a:lnTo>
                      <a:lnTo>
                        <a:pt x="67" y="14"/>
                      </a:lnTo>
                      <a:lnTo>
                        <a:pt x="62" y="9"/>
                      </a:lnTo>
                      <a:lnTo>
                        <a:pt x="56" y="5"/>
                      </a:lnTo>
                      <a:lnTo>
                        <a:pt x="52" y="2"/>
                      </a:lnTo>
                      <a:lnTo>
                        <a:pt x="46" y="1"/>
                      </a:lnTo>
                      <a:lnTo>
                        <a:pt x="41" y="0"/>
                      </a:lnTo>
                      <a:lnTo>
                        <a:pt x="35" y="0"/>
                      </a:lnTo>
                      <a:lnTo>
                        <a:pt x="31" y="1"/>
                      </a:lnTo>
                      <a:lnTo>
                        <a:pt x="25" y="2"/>
                      </a:lnTo>
                      <a:lnTo>
                        <a:pt x="21" y="4"/>
                      </a:lnTo>
                      <a:lnTo>
                        <a:pt x="17" y="8"/>
                      </a:lnTo>
                      <a:lnTo>
                        <a:pt x="14" y="11"/>
                      </a:lnTo>
                      <a:lnTo>
                        <a:pt x="10" y="17"/>
                      </a:lnTo>
                      <a:lnTo>
                        <a:pt x="7" y="22"/>
                      </a:lnTo>
                      <a:lnTo>
                        <a:pt x="4" y="28"/>
                      </a:lnTo>
                      <a:lnTo>
                        <a:pt x="3" y="35"/>
                      </a:lnTo>
                      <a:lnTo>
                        <a:pt x="1" y="50"/>
                      </a:lnTo>
                      <a:lnTo>
                        <a:pt x="0" y="66"/>
                      </a:lnTo>
                      <a:lnTo>
                        <a:pt x="2" y="85"/>
                      </a:lnTo>
                      <a:lnTo>
                        <a:pt x="6" y="103"/>
                      </a:lnTo>
                      <a:lnTo>
                        <a:pt x="11" y="123"/>
                      </a:lnTo>
                      <a:lnTo>
                        <a:pt x="19" y="139"/>
                      </a:lnTo>
                      <a:lnTo>
                        <a:pt x="27" y="154"/>
                      </a:lnTo>
                      <a:lnTo>
                        <a:pt x="38" y="166"/>
                      </a:lnTo>
                      <a:lnTo>
                        <a:pt x="42" y="171"/>
                      </a:lnTo>
                      <a:lnTo>
                        <a:pt x="48" y="175"/>
                      </a:lnTo>
                      <a:lnTo>
                        <a:pt x="53" y="180"/>
                      </a:lnTo>
                      <a:lnTo>
                        <a:pt x="58" y="182"/>
                      </a:lnTo>
                      <a:lnTo>
                        <a:pt x="63" y="185"/>
                      </a:lnTo>
                      <a:lnTo>
                        <a:pt x="69" y="186"/>
                      </a:lnTo>
                      <a:lnTo>
                        <a:pt x="75" y="187"/>
                      </a:lnTo>
                      <a:lnTo>
                        <a:pt x="79" y="186"/>
                      </a:lnTo>
                    </a:path>
                  </a:pathLst>
                </a:custGeom>
                <a:noFill/>
                <a:ln w="3240">
                  <a:solidFill>
                    <a:srgbClr val="000000"/>
                  </a:solidFill>
                  <a:round/>
                </a:ln>
              </p:spPr>
              <p:style>
                <a:lnRef idx="0"/>
                <a:fillRef idx="0"/>
                <a:effectRef idx="0"/>
                <a:fontRef idx="minor"/>
              </p:style>
              <p:txBody>
                <a:bodyPr wrap="none" lIns="93240" rIns="93240" tIns="-11160" bIns="-11160" anchor="t">
                  <a:spAutoFit/>
                </a:bodyPr>
                <a:p>
                  <a:endParaRPr b="0" lang="en-US" sz="2400" spc="-1" strike="noStrike">
                    <a:solidFill>
                      <a:srgbClr val="ffffff"/>
                    </a:solidFill>
                    <a:latin typeface="Times New Roman"/>
                  </a:endParaRPr>
                </a:p>
              </p:txBody>
            </p:sp>
            <p:sp>
              <p:nvSpPr>
                <p:cNvPr id="589" name=""/>
                <p:cNvSpPr/>
                <p:nvPr/>
              </p:nvSpPr>
              <p:spPr>
                <a:xfrm>
                  <a:off x="3650400" y="2004120"/>
                  <a:ext cx="334440" cy="133200"/>
                </a:xfrm>
                <a:custGeom>
                  <a:avLst/>
                  <a:gdLst/>
                  <a:ahLst/>
                  <a:rect l="l" t="t" r="r" b="b"/>
                  <a:pathLst>
                    <a:path w="1658" h="703">
                      <a:moveTo>
                        <a:pt x="949" y="0"/>
                      </a:moveTo>
                      <a:lnTo>
                        <a:pt x="978" y="8"/>
                      </a:lnTo>
                      <a:lnTo>
                        <a:pt x="1059" y="32"/>
                      </a:lnTo>
                      <a:lnTo>
                        <a:pt x="1113" y="49"/>
                      </a:lnTo>
                      <a:lnTo>
                        <a:pt x="1172" y="70"/>
                      </a:lnTo>
                      <a:lnTo>
                        <a:pt x="1237" y="93"/>
                      </a:lnTo>
                      <a:lnTo>
                        <a:pt x="1303" y="119"/>
                      </a:lnTo>
                      <a:lnTo>
                        <a:pt x="1337" y="133"/>
                      </a:lnTo>
                      <a:lnTo>
                        <a:pt x="1370" y="148"/>
                      </a:lnTo>
                      <a:lnTo>
                        <a:pt x="1402" y="163"/>
                      </a:lnTo>
                      <a:lnTo>
                        <a:pt x="1433" y="179"/>
                      </a:lnTo>
                      <a:lnTo>
                        <a:pt x="1464" y="196"/>
                      </a:lnTo>
                      <a:lnTo>
                        <a:pt x="1494" y="212"/>
                      </a:lnTo>
                      <a:lnTo>
                        <a:pt x="1522" y="231"/>
                      </a:lnTo>
                      <a:lnTo>
                        <a:pt x="1547" y="248"/>
                      </a:lnTo>
                      <a:lnTo>
                        <a:pt x="1571" y="266"/>
                      </a:lnTo>
                      <a:lnTo>
                        <a:pt x="1593" y="286"/>
                      </a:lnTo>
                      <a:lnTo>
                        <a:pt x="1612" y="304"/>
                      </a:lnTo>
                      <a:lnTo>
                        <a:pt x="1628" y="324"/>
                      </a:lnTo>
                      <a:lnTo>
                        <a:pt x="1641" y="344"/>
                      </a:lnTo>
                      <a:lnTo>
                        <a:pt x="1650" y="364"/>
                      </a:lnTo>
                      <a:lnTo>
                        <a:pt x="1656" y="385"/>
                      </a:lnTo>
                      <a:lnTo>
                        <a:pt x="1658" y="405"/>
                      </a:lnTo>
                      <a:lnTo>
                        <a:pt x="1658" y="426"/>
                      </a:lnTo>
                      <a:lnTo>
                        <a:pt x="1657" y="446"/>
                      </a:lnTo>
                      <a:lnTo>
                        <a:pt x="1656" y="465"/>
                      </a:lnTo>
                      <a:lnTo>
                        <a:pt x="1654" y="482"/>
                      </a:lnTo>
                      <a:lnTo>
                        <a:pt x="1651" y="500"/>
                      </a:lnTo>
                      <a:lnTo>
                        <a:pt x="1648" y="516"/>
                      </a:lnTo>
                      <a:lnTo>
                        <a:pt x="1643" y="532"/>
                      </a:lnTo>
                      <a:lnTo>
                        <a:pt x="1639" y="547"/>
                      </a:lnTo>
                      <a:lnTo>
                        <a:pt x="1634" y="560"/>
                      </a:lnTo>
                      <a:lnTo>
                        <a:pt x="1627" y="573"/>
                      </a:lnTo>
                      <a:lnTo>
                        <a:pt x="1621" y="585"/>
                      </a:lnTo>
                      <a:lnTo>
                        <a:pt x="1613" y="596"/>
                      </a:lnTo>
                      <a:lnTo>
                        <a:pt x="1605" y="606"/>
                      </a:lnTo>
                      <a:lnTo>
                        <a:pt x="1597" y="617"/>
                      </a:lnTo>
                      <a:lnTo>
                        <a:pt x="1588" y="626"/>
                      </a:lnTo>
                      <a:lnTo>
                        <a:pt x="1578" y="634"/>
                      </a:lnTo>
                      <a:lnTo>
                        <a:pt x="1567" y="641"/>
                      </a:lnTo>
                      <a:lnTo>
                        <a:pt x="1555" y="648"/>
                      </a:lnTo>
                      <a:lnTo>
                        <a:pt x="1543" y="655"/>
                      </a:lnTo>
                      <a:lnTo>
                        <a:pt x="1531" y="660"/>
                      </a:lnTo>
                      <a:lnTo>
                        <a:pt x="1517" y="665"/>
                      </a:lnTo>
                      <a:lnTo>
                        <a:pt x="1502" y="668"/>
                      </a:lnTo>
                      <a:lnTo>
                        <a:pt x="1487" y="672"/>
                      </a:lnTo>
                      <a:lnTo>
                        <a:pt x="1471" y="675"/>
                      </a:lnTo>
                      <a:lnTo>
                        <a:pt x="1454" y="678"/>
                      </a:lnTo>
                      <a:lnTo>
                        <a:pt x="1437" y="679"/>
                      </a:lnTo>
                      <a:lnTo>
                        <a:pt x="1418" y="680"/>
                      </a:lnTo>
                      <a:lnTo>
                        <a:pt x="1399" y="680"/>
                      </a:lnTo>
                      <a:lnTo>
                        <a:pt x="1358" y="679"/>
                      </a:lnTo>
                      <a:lnTo>
                        <a:pt x="1314" y="676"/>
                      </a:lnTo>
                      <a:lnTo>
                        <a:pt x="344" y="698"/>
                      </a:lnTo>
                      <a:lnTo>
                        <a:pt x="300" y="702"/>
                      </a:lnTo>
                      <a:lnTo>
                        <a:pt x="258" y="703"/>
                      </a:lnTo>
                      <a:lnTo>
                        <a:pt x="239" y="703"/>
                      </a:lnTo>
                      <a:lnTo>
                        <a:pt x="220" y="702"/>
                      </a:lnTo>
                      <a:lnTo>
                        <a:pt x="203" y="699"/>
                      </a:lnTo>
                      <a:lnTo>
                        <a:pt x="186" y="697"/>
                      </a:lnTo>
                      <a:lnTo>
                        <a:pt x="170" y="695"/>
                      </a:lnTo>
                      <a:lnTo>
                        <a:pt x="155" y="691"/>
                      </a:lnTo>
                      <a:lnTo>
                        <a:pt x="140" y="687"/>
                      </a:lnTo>
                      <a:lnTo>
                        <a:pt x="126" y="682"/>
                      </a:lnTo>
                      <a:lnTo>
                        <a:pt x="114" y="676"/>
                      </a:lnTo>
                      <a:lnTo>
                        <a:pt x="101" y="671"/>
                      </a:lnTo>
                      <a:lnTo>
                        <a:pt x="90" y="664"/>
                      </a:lnTo>
                      <a:lnTo>
                        <a:pt x="79" y="657"/>
                      </a:lnTo>
                      <a:lnTo>
                        <a:pt x="69" y="648"/>
                      </a:lnTo>
                      <a:lnTo>
                        <a:pt x="60" y="639"/>
                      </a:lnTo>
                      <a:lnTo>
                        <a:pt x="52" y="629"/>
                      </a:lnTo>
                      <a:lnTo>
                        <a:pt x="44" y="619"/>
                      </a:lnTo>
                      <a:lnTo>
                        <a:pt x="37" y="608"/>
                      </a:lnTo>
                      <a:lnTo>
                        <a:pt x="30" y="595"/>
                      </a:lnTo>
                      <a:lnTo>
                        <a:pt x="24" y="582"/>
                      </a:lnTo>
                      <a:lnTo>
                        <a:pt x="18" y="568"/>
                      </a:lnTo>
                      <a:lnTo>
                        <a:pt x="15" y="555"/>
                      </a:lnTo>
                      <a:lnTo>
                        <a:pt x="10" y="539"/>
                      </a:lnTo>
                      <a:lnTo>
                        <a:pt x="7" y="523"/>
                      </a:lnTo>
                      <a:lnTo>
                        <a:pt x="5" y="505"/>
                      </a:lnTo>
                      <a:lnTo>
                        <a:pt x="2" y="487"/>
                      </a:lnTo>
                      <a:lnTo>
                        <a:pt x="1" y="469"/>
                      </a:lnTo>
                      <a:lnTo>
                        <a:pt x="0" y="449"/>
                      </a:lnTo>
                      <a:lnTo>
                        <a:pt x="0" y="428"/>
                      </a:lnTo>
                      <a:lnTo>
                        <a:pt x="2" y="408"/>
                      </a:lnTo>
                      <a:lnTo>
                        <a:pt x="8" y="387"/>
                      </a:lnTo>
                      <a:lnTo>
                        <a:pt x="17" y="366"/>
                      </a:lnTo>
                      <a:lnTo>
                        <a:pt x="30" y="346"/>
                      </a:lnTo>
                      <a:lnTo>
                        <a:pt x="46" y="326"/>
                      </a:lnTo>
                      <a:lnTo>
                        <a:pt x="65" y="307"/>
                      </a:lnTo>
                      <a:lnTo>
                        <a:pt x="87" y="288"/>
                      </a:lnTo>
                      <a:lnTo>
                        <a:pt x="110" y="270"/>
                      </a:lnTo>
                      <a:lnTo>
                        <a:pt x="137" y="251"/>
                      </a:lnTo>
                      <a:lnTo>
                        <a:pt x="164" y="234"/>
                      </a:lnTo>
                      <a:lnTo>
                        <a:pt x="194" y="217"/>
                      </a:lnTo>
                      <a:lnTo>
                        <a:pt x="224" y="201"/>
                      </a:lnTo>
                      <a:lnTo>
                        <a:pt x="256" y="185"/>
                      </a:lnTo>
                      <a:lnTo>
                        <a:pt x="288" y="170"/>
                      </a:lnTo>
                      <a:lnTo>
                        <a:pt x="321" y="155"/>
                      </a:lnTo>
                      <a:lnTo>
                        <a:pt x="355" y="141"/>
                      </a:lnTo>
                      <a:lnTo>
                        <a:pt x="421" y="115"/>
                      </a:lnTo>
                      <a:lnTo>
                        <a:pt x="486" y="92"/>
                      </a:lnTo>
                      <a:lnTo>
                        <a:pt x="545" y="71"/>
                      </a:lnTo>
                      <a:lnTo>
                        <a:pt x="599" y="54"/>
                      </a:lnTo>
                      <a:lnTo>
                        <a:pt x="680" y="31"/>
                      </a:lnTo>
                      <a:lnTo>
                        <a:pt x="710" y="23"/>
                      </a:lnTo>
                      <a:lnTo>
                        <a:pt x="949"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0" name=""/>
                <p:cNvSpPr/>
                <p:nvPr/>
              </p:nvSpPr>
              <p:spPr>
                <a:xfrm>
                  <a:off x="3650400" y="2004120"/>
                  <a:ext cx="334440" cy="133200"/>
                </a:xfrm>
                <a:custGeom>
                  <a:avLst/>
                  <a:gdLst/>
                  <a:ahLst/>
                  <a:rect l="l" t="t" r="r" b="b"/>
                  <a:pathLst>
                    <a:path w="1658" h="703">
                      <a:moveTo>
                        <a:pt x="949" y="0"/>
                      </a:moveTo>
                      <a:lnTo>
                        <a:pt x="978" y="8"/>
                      </a:lnTo>
                      <a:lnTo>
                        <a:pt x="1059" y="32"/>
                      </a:lnTo>
                      <a:lnTo>
                        <a:pt x="1113" y="49"/>
                      </a:lnTo>
                      <a:lnTo>
                        <a:pt x="1172" y="70"/>
                      </a:lnTo>
                      <a:lnTo>
                        <a:pt x="1237" y="93"/>
                      </a:lnTo>
                      <a:lnTo>
                        <a:pt x="1303" y="119"/>
                      </a:lnTo>
                      <a:lnTo>
                        <a:pt x="1337" y="133"/>
                      </a:lnTo>
                      <a:lnTo>
                        <a:pt x="1370" y="148"/>
                      </a:lnTo>
                      <a:lnTo>
                        <a:pt x="1402" y="163"/>
                      </a:lnTo>
                      <a:lnTo>
                        <a:pt x="1433" y="179"/>
                      </a:lnTo>
                      <a:lnTo>
                        <a:pt x="1464" y="196"/>
                      </a:lnTo>
                      <a:lnTo>
                        <a:pt x="1494" y="212"/>
                      </a:lnTo>
                      <a:lnTo>
                        <a:pt x="1522" y="231"/>
                      </a:lnTo>
                      <a:lnTo>
                        <a:pt x="1547" y="248"/>
                      </a:lnTo>
                      <a:lnTo>
                        <a:pt x="1571" y="266"/>
                      </a:lnTo>
                      <a:lnTo>
                        <a:pt x="1593" y="286"/>
                      </a:lnTo>
                      <a:lnTo>
                        <a:pt x="1612" y="304"/>
                      </a:lnTo>
                      <a:lnTo>
                        <a:pt x="1628" y="324"/>
                      </a:lnTo>
                      <a:lnTo>
                        <a:pt x="1641" y="344"/>
                      </a:lnTo>
                      <a:lnTo>
                        <a:pt x="1650" y="364"/>
                      </a:lnTo>
                      <a:lnTo>
                        <a:pt x="1656" y="385"/>
                      </a:lnTo>
                      <a:lnTo>
                        <a:pt x="1658" y="405"/>
                      </a:lnTo>
                      <a:lnTo>
                        <a:pt x="1658" y="426"/>
                      </a:lnTo>
                      <a:lnTo>
                        <a:pt x="1657" y="446"/>
                      </a:lnTo>
                      <a:lnTo>
                        <a:pt x="1656" y="465"/>
                      </a:lnTo>
                      <a:lnTo>
                        <a:pt x="1654" y="482"/>
                      </a:lnTo>
                      <a:lnTo>
                        <a:pt x="1651" y="500"/>
                      </a:lnTo>
                      <a:lnTo>
                        <a:pt x="1648" y="516"/>
                      </a:lnTo>
                      <a:lnTo>
                        <a:pt x="1643" y="532"/>
                      </a:lnTo>
                      <a:lnTo>
                        <a:pt x="1639" y="547"/>
                      </a:lnTo>
                      <a:lnTo>
                        <a:pt x="1634" y="560"/>
                      </a:lnTo>
                      <a:lnTo>
                        <a:pt x="1627" y="573"/>
                      </a:lnTo>
                      <a:lnTo>
                        <a:pt x="1621" y="585"/>
                      </a:lnTo>
                      <a:lnTo>
                        <a:pt x="1613" y="596"/>
                      </a:lnTo>
                      <a:lnTo>
                        <a:pt x="1605" y="606"/>
                      </a:lnTo>
                      <a:lnTo>
                        <a:pt x="1597" y="617"/>
                      </a:lnTo>
                      <a:lnTo>
                        <a:pt x="1588" y="626"/>
                      </a:lnTo>
                      <a:lnTo>
                        <a:pt x="1578" y="634"/>
                      </a:lnTo>
                      <a:lnTo>
                        <a:pt x="1567" y="641"/>
                      </a:lnTo>
                      <a:lnTo>
                        <a:pt x="1555" y="648"/>
                      </a:lnTo>
                      <a:lnTo>
                        <a:pt x="1543" y="655"/>
                      </a:lnTo>
                      <a:lnTo>
                        <a:pt x="1531" y="660"/>
                      </a:lnTo>
                      <a:lnTo>
                        <a:pt x="1517" y="665"/>
                      </a:lnTo>
                      <a:lnTo>
                        <a:pt x="1502" y="668"/>
                      </a:lnTo>
                      <a:lnTo>
                        <a:pt x="1487" y="672"/>
                      </a:lnTo>
                      <a:lnTo>
                        <a:pt x="1471" y="675"/>
                      </a:lnTo>
                      <a:lnTo>
                        <a:pt x="1454" y="678"/>
                      </a:lnTo>
                      <a:lnTo>
                        <a:pt x="1437" y="679"/>
                      </a:lnTo>
                      <a:lnTo>
                        <a:pt x="1418" y="680"/>
                      </a:lnTo>
                      <a:lnTo>
                        <a:pt x="1399" y="680"/>
                      </a:lnTo>
                      <a:lnTo>
                        <a:pt x="1358" y="679"/>
                      </a:lnTo>
                      <a:lnTo>
                        <a:pt x="1314" y="676"/>
                      </a:lnTo>
                      <a:lnTo>
                        <a:pt x="344" y="698"/>
                      </a:lnTo>
                      <a:lnTo>
                        <a:pt x="300" y="702"/>
                      </a:lnTo>
                      <a:lnTo>
                        <a:pt x="258" y="703"/>
                      </a:lnTo>
                      <a:lnTo>
                        <a:pt x="239" y="703"/>
                      </a:lnTo>
                      <a:lnTo>
                        <a:pt x="220" y="702"/>
                      </a:lnTo>
                      <a:lnTo>
                        <a:pt x="203" y="699"/>
                      </a:lnTo>
                      <a:lnTo>
                        <a:pt x="186" y="697"/>
                      </a:lnTo>
                      <a:lnTo>
                        <a:pt x="170" y="695"/>
                      </a:lnTo>
                      <a:lnTo>
                        <a:pt x="155" y="691"/>
                      </a:lnTo>
                      <a:lnTo>
                        <a:pt x="140" y="687"/>
                      </a:lnTo>
                      <a:lnTo>
                        <a:pt x="126" y="682"/>
                      </a:lnTo>
                      <a:lnTo>
                        <a:pt x="114" y="676"/>
                      </a:lnTo>
                      <a:lnTo>
                        <a:pt x="101" y="671"/>
                      </a:lnTo>
                      <a:lnTo>
                        <a:pt x="90" y="664"/>
                      </a:lnTo>
                      <a:lnTo>
                        <a:pt x="79" y="657"/>
                      </a:lnTo>
                      <a:lnTo>
                        <a:pt x="69" y="648"/>
                      </a:lnTo>
                      <a:lnTo>
                        <a:pt x="60" y="639"/>
                      </a:lnTo>
                      <a:lnTo>
                        <a:pt x="52" y="629"/>
                      </a:lnTo>
                      <a:lnTo>
                        <a:pt x="44" y="619"/>
                      </a:lnTo>
                      <a:lnTo>
                        <a:pt x="37" y="608"/>
                      </a:lnTo>
                      <a:lnTo>
                        <a:pt x="30" y="595"/>
                      </a:lnTo>
                      <a:lnTo>
                        <a:pt x="24" y="582"/>
                      </a:lnTo>
                      <a:lnTo>
                        <a:pt x="18" y="568"/>
                      </a:lnTo>
                      <a:lnTo>
                        <a:pt x="15" y="555"/>
                      </a:lnTo>
                      <a:lnTo>
                        <a:pt x="10" y="539"/>
                      </a:lnTo>
                      <a:lnTo>
                        <a:pt x="7" y="523"/>
                      </a:lnTo>
                      <a:lnTo>
                        <a:pt x="5" y="505"/>
                      </a:lnTo>
                      <a:lnTo>
                        <a:pt x="2" y="487"/>
                      </a:lnTo>
                      <a:lnTo>
                        <a:pt x="1" y="469"/>
                      </a:lnTo>
                      <a:lnTo>
                        <a:pt x="0" y="449"/>
                      </a:lnTo>
                      <a:lnTo>
                        <a:pt x="0" y="428"/>
                      </a:lnTo>
                      <a:lnTo>
                        <a:pt x="2" y="408"/>
                      </a:lnTo>
                      <a:lnTo>
                        <a:pt x="8" y="387"/>
                      </a:lnTo>
                      <a:lnTo>
                        <a:pt x="17" y="366"/>
                      </a:lnTo>
                      <a:lnTo>
                        <a:pt x="30" y="346"/>
                      </a:lnTo>
                      <a:lnTo>
                        <a:pt x="46" y="326"/>
                      </a:lnTo>
                      <a:lnTo>
                        <a:pt x="65" y="307"/>
                      </a:lnTo>
                      <a:lnTo>
                        <a:pt x="87" y="288"/>
                      </a:lnTo>
                      <a:lnTo>
                        <a:pt x="110" y="270"/>
                      </a:lnTo>
                      <a:lnTo>
                        <a:pt x="137" y="251"/>
                      </a:lnTo>
                      <a:lnTo>
                        <a:pt x="164" y="234"/>
                      </a:lnTo>
                      <a:lnTo>
                        <a:pt x="194" y="217"/>
                      </a:lnTo>
                      <a:lnTo>
                        <a:pt x="224" y="201"/>
                      </a:lnTo>
                      <a:lnTo>
                        <a:pt x="256" y="185"/>
                      </a:lnTo>
                      <a:lnTo>
                        <a:pt x="288" y="170"/>
                      </a:lnTo>
                      <a:lnTo>
                        <a:pt x="321" y="155"/>
                      </a:lnTo>
                      <a:lnTo>
                        <a:pt x="355" y="141"/>
                      </a:lnTo>
                      <a:lnTo>
                        <a:pt x="421" y="115"/>
                      </a:lnTo>
                      <a:lnTo>
                        <a:pt x="486" y="92"/>
                      </a:lnTo>
                      <a:lnTo>
                        <a:pt x="545" y="71"/>
                      </a:lnTo>
                      <a:lnTo>
                        <a:pt x="599" y="54"/>
                      </a:lnTo>
                      <a:lnTo>
                        <a:pt x="680" y="31"/>
                      </a:lnTo>
                      <a:lnTo>
                        <a:pt x="710" y="23"/>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1" name=""/>
                <p:cNvSpPr/>
                <p:nvPr/>
              </p:nvSpPr>
              <p:spPr>
                <a:xfrm>
                  <a:off x="3665880" y="2104560"/>
                  <a:ext cx="304920" cy="79560"/>
                </a:xfrm>
                <a:custGeom>
                  <a:avLst/>
                  <a:gdLst/>
                  <a:ahLst/>
                  <a:rect l="l" t="t" r="r" b="b"/>
                  <a:pathLst>
                    <a:path w="1512" h="416">
                      <a:moveTo>
                        <a:pt x="1512" y="9"/>
                      </a:moveTo>
                      <a:lnTo>
                        <a:pt x="1499" y="7"/>
                      </a:lnTo>
                      <a:lnTo>
                        <a:pt x="1465" y="2"/>
                      </a:lnTo>
                      <a:lnTo>
                        <a:pt x="1441" y="1"/>
                      </a:lnTo>
                      <a:lnTo>
                        <a:pt x="1413" y="0"/>
                      </a:lnTo>
                      <a:lnTo>
                        <a:pt x="1382" y="1"/>
                      </a:lnTo>
                      <a:lnTo>
                        <a:pt x="1350" y="6"/>
                      </a:lnTo>
                      <a:lnTo>
                        <a:pt x="1333" y="8"/>
                      </a:lnTo>
                      <a:lnTo>
                        <a:pt x="1315" y="11"/>
                      </a:lnTo>
                      <a:lnTo>
                        <a:pt x="1298" y="16"/>
                      </a:lnTo>
                      <a:lnTo>
                        <a:pt x="1281" y="22"/>
                      </a:lnTo>
                      <a:lnTo>
                        <a:pt x="1264" y="29"/>
                      </a:lnTo>
                      <a:lnTo>
                        <a:pt x="1246" y="36"/>
                      </a:lnTo>
                      <a:lnTo>
                        <a:pt x="1229" y="45"/>
                      </a:lnTo>
                      <a:lnTo>
                        <a:pt x="1213" y="55"/>
                      </a:lnTo>
                      <a:lnTo>
                        <a:pt x="1196" y="67"/>
                      </a:lnTo>
                      <a:lnTo>
                        <a:pt x="1180" y="78"/>
                      </a:lnTo>
                      <a:lnTo>
                        <a:pt x="1165" y="93"/>
                      </a:lnTo>
                      <a:lnTo>
                        <a:pt x="1150" y="108"/>
                      </a:lnTo>
                      <a:lnTo>
                        <a:pt x="1135" y="125"/>
                      </a:lnTo>
                      <a:lnTo>
                        <a:pt x="1121" y="145"/>
                      </a:lnTo>
                      <a:lnTo>
                        <a:pt x="1109" y="165"/>
                      </a:lnTo>
                      <a:lnTo>
                        <a:pt x="1097" y="187"/>
                      </a:lnTo>
                      <a:lnTo>
                        <a:pt x="1074" y="231"/>
                      </a:lnTo>
                      <a:lnTo>
                        <a:pt x="1052" y="269"/>
                      </a:lnTo>
                      <a:lnTo>
                        <a:pt x="1041" y="286"/>
                      </a:lnTo>
                      <a:lnTo>
                        <a:pt x="1029" y="301"/>
                      </a:lnTo>
                      <a:lnTo>
                        <a:pt x="1019" y="316"/>
                      </a:lnTo>
                      <a:lnTo>
                        <a:pt x="1009" y="329"/>
                      </a:lnTo>
                      <a:lnTo>
                        <a:pt x="997" y="340"/>
                      </a:lnTo>
                      <a:lnTo>
                        <a:pt x="987" y="352"/>
                      </a:lnTo>
                      <a:lnTo>
                        <a:pt x="977" y="361"/>
                      </a:lnTo>
                      <a:lnTo>
                        <a:pt x="966" y="370"/>
                      </a:lnTo>
                      <a:lnTo>
                        <a:pt x="956" y="377"/>
                      </a:lnTo>
                      <a:lnTo>
                        <a:pt x="946" y="384"/>
                      </a:lnTo>
                      <a:lnTo>
                        <a:pt x="935" y="389"/>
                      </a:lnTo>
                      <a:lnTo>
                        <a:pt x="925" y="395"/>
                      </a:lnTo>
                      <a:lnTo>
                        <a:pt x="904" y="403"/>
                      </a:lnTo>
                      <a:lnTo>
                        <a:pt x="884" y="409"/>
                      </a:lnTo>
                      <a:lnTo>
                        <a:pt x="863" y="412"/>
                      </a:lnTo>
                      <a:lnTo>
                        <a:pt x="842" y="415"/>
                      </a:lnTo>
                      <a:lnTo>
                        <a:pt x="800" y="416"/>
                      </a:lnTo>
                      <a:lnTo>
                        <a:pt x="756" y="415"/>
                      </a:lnTo>
                      <a:lnTo>
                        <a:pt x="712" y="416"/>
                      </a:lnTo>
                      <a:lnTo>
                        <a:pt x="670" y="415"/>
                      </a:lnTo>
                      <a:lnTo>
                        <a:pt x="648" y="412"/>
                      </a:lnTo>
                      <a:lnTo>
                        <a:pt x="627" y="409"/>
                      </a:lnTo>
                      <a:lnTo>
                        <a:pt x="607" y="403"/>
                      </a:lnTo>
                      <a:lnTo>
                        <a:pt x="586" y="395"/>
                      </a:lnTo>
                      <a:lnTo>
                        <a:pt x="576" y="389"/>
                      </a:lnTo>
                      <a:lnTo>
                        <a:pt x="565" y="384"/>
                      </a:lnTo>
                      <a:lnTo>
                        <a:pt x="555" y="377"/>
                      </a:lnTo>
                      <a:lnTo>
                        <a:pt x="545" y="370"/>
                      </a:lnTo>
                      <a:lnTo>
                        <a:pt x="534" y="361"/>
                      </a:lnTo>
                      <a:lnTo>
                        <a:pt x="524" y="352"/>
                      </a:lnTo>
                      <a:lnTo>
                        <a:pt x="514" y="340"/>
                      </a:lnTo>
                      <a:lnTo>
                        <a:pt x="502" y="329"/>
                      </a:lnTo>
                      <a:lnTo>
                        <a:pt x="492" y="316"/>
                      </a:lnTo>
                      <a:lnTo>
                        <a:pt x="482" y="301"/>
                      </a:lnTo>
                      <a:lnTo>
                        <a:pt x="470" y="286"/>
                      </a:lnTo>
                      <a:lnTo>
                        <a:pt x="460" y="269"/>
                      </a:lnTo>
                      <a:lnTo>
                        <a:pt x="437" y="231"/>
                      </a:lnTo>
                      <a:lnTo>
                        <a:pt x="415" y="187"/>
                      </a:lnTo>
                      <a:lnTo>
                        <a:pt x="402" y="165"/>
                      </a:lnTo>
                      <a:lnTo>
                        <a:pt x="390" y="145"/>
                      </a:lnTo>
                      <a:lnTo>
                        <a:pt x="377" y="125"/>
                      </a:lnTo>
                      <a:lnTo>
                        <a:pt x="362" y="108"/>
                      </a:lnTo>
                      <a:lnTo>
                        <a:pt x="347" y="93"/>
                      </a:lnTo>
                      <a:lnTo>
                        <a:pt x="332" y="78"/>
                      </a:lnTo>
                      <a:lnTo>
                        <a:pt x="316" y="67"/>
                      </a:lnTo>
                      <a:lnTo>
                        <a:pt x="299" y="55"/>
                      </a:lnTo>
                      <a:lnTo>
                        <a:pt x="283" y="45"/>
                      </a:lnTo>
                      <a:lnTo>
                        <a:pt x="266" y="36"/>
                      </a:lnTo>
                      <a:lnTo>
                        <a:pt x="248" y="29"/>
                      </a:lnTo>
                      <a:lnTo>
                        <a:pt x="231" y="22"/>
                      </a:lnTo>
                      <a:lnTo>
                        <a:pt x="214" y="16"/>
                      </a:lnTo>
                      <a:lnTo>
                        <a:pt x="197" y="11"/>
                      </a:lnTo>
                      <a:lnTo>
                        <a:pt x="180" y="8"/>
                      </a:lnTo>
                      <a:lnTo>
                        <a:pt x="162" y="6"/>
                      </a:lnTo>
                      <a:lnTo>
                        <a:pt x="130" y="1"/>
                      </a:lnTo>
                      <a:lnTo>
                        <a:pt x="99" y="0"/>
                      </a:lnTo>
                      <a:lnTo>
                        <a:pt x="72" y="1"/>
                      </a:lnTo>
                      <a:lnTo>
                        <a:pt x="48" y="2"/>
                      </a:lnTo>
                      <a:lnTo>
                        <a:pt x="13" y="7"/>
                      </a:lnTo>
                      <a:lnTo>
                        <a:pt x="0" y="9"/>
                      </a:lnTo>
                      <a:lnTo>
                        <a:pt x="1512" y="9"/>
                      </a:lnTo>
                      <a:close/>
                    </a:path>
                  </a:pathLst>
                </a:custGeom>
                <a:solidFill>
                  <a:srgbClr val="ffcc99"/>
                </a:solidFill>
                <a:ln w="0">
                  <a:noFill/>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592" name=""/>
                <p:cNvSpPr/>
                <p:nvPr/>
              </p:nvSpPr>
              <p:spPr>
                <a:xfrm>
                  <a:off x="3665880" y="2104560"/>
                  <a:ext cx="304920" cy="79560"/>
                </a:xfrm>
                <a:custGeom>
                  <a:avLst/>
                  <a:gdLst/>
                  <a:ahLst/>
                  <a:rect l="l" t="t" r="r" b="b"/>
                  <a:pathLst>
                    <a:path w="1512" h="416">
                      <a:moveTo>
                        <a:pt x="1512" y="9"/>
                      </a:moveTo>
                      <a:lnTo>
                        <a:pt x="1499" y="7"/>
                      </a:lnTo>
                      <a:lnTo>
                        <a:pt x="1465" y="2"/>
                      </a:lnTo>
                      <a:lnTo>
                        <a:pt x="1441" y="1"/>
                      </a:lnTo>
                      <a:lnTo>
                        <a:pt x="1413" y="0"/>
                      </a:lnTo>
                      <a:lnTo>
                        <a:pt x="1382" y="1"/>
                      </a:lnTo>
                      <a:lnTo>
                        <a:pt x="1350" y="6"/>
                      </a:lnTo>
                      <a:lnTo>
                        <a:pt x="1333" y="8"/>
                      </a:lnTo>
                      <a:lnTo>
                        <a:pt x="1315" y="11"/>
                      </a:lnTo>
                      <a:lnTo>
                        <a:pt x="1298" y="16"/>
                      </a:lnTo>
                      <a:lnTo>
                        <a:pt x="1281" y="22"/>
                      </a:lnTo>
                      <a:lnTo>
                        <a:pt x="1264" y="29"/>
                      </a:lnTo>
                      <a:lnTo>
                        <a:pt x="1246" y="36"/>
                      </a:lnTo>
                      <a:lnTo>
                        <a:pt x="1229" y="45"/>
                      </a:lnTo>
                      <a:lnTo>
                        <a:pt x="1213" y="55"/>
                      </a:lnTo>
                      <a:lnTo>
                        <a:pt x="1196" y="67"/>
                      </a:lnTo>
                      <a:lnTo>
                        <a:pt x="1180" y="78"/>
                      </a:lnTo>
                      <a:lnTo>
                        <a:pt x="1165" y="93"/>
                      </a:lnTo>
                      <a:lnTo>
                        <a:pt x="1150" y="108"/>
                      </a:lnTo>
                      <a:lnTo>
                        <a:pt x="1135" y="125"/>
                      </a:lnTo>
                      <a:lnTo>
                        <a:pt x="1121" y="145"/>
                      </a:lnTo>
                      <a:lnTo>
                        <a:pt x="1109" y="165"/>
                      </a:lnTo>
                      <a:lnTo>
                        <a:pt x="1097" y="187"/>
                      </a:lnTo>
                      <a:lnTo>
                        <a:pt x="1074" y="231"/>
                      </a:lnTo>
                      <a:lnTo>
                        <a:pt x="1052" y="269"/>
                      </a:lnTo>
                      <a:lnTo>
                        <a:pt x="1041" y="286"/>
                      </a:lnTo>
                      <a:lnTo>
                        <a:pt x="1029" y="301"/>
                      </a:lnTo>
                      <a:lnTo>
                        <a:pt x="1019" y="316"/>
                      </a:lnTo>
                      <a:lnTo>
                        <a:pt x="1009" y="329"/>
                      </a:lnTo>
                      <a:lnTo>
                        <a:pt x="997" y="340"/>
                      </a:lnTo>
                      <a:lnTo>
                        <a:pt x="987" y="352"/>
                      </a:lnTo>
                      <a:lnTo>
                        <a:pt x="977" y="361"/>
                      </a:lnTo>
                      <a:lnTo>
                        <a:pt x="966" y="370"/>
                      </a:lnTo>
                      <a:lnTo>
                        <a:pt x="956" y="377"/>
                      </a:lnTo>
                      <a:lnTo>
                        <a:pt x="946" y="384"/>
                      </a:lnTo>
                      <a:lnTo>
                        <a:pt x="935" y="389"/>
                      </a:lnTo>
                      <a:lnTo>
                        <a:pt x="925" y="395"/>
                      </a:lnTo>
                      <a:lnTo>
                        <a:pt x="904" y="403"/>
                      </a:lnTo>
                      <a:lnTo>
                        <a:pt x="884" y="409"/>
                      </a:lnTo>
                      <a:lnTo>
                        <a:pt x="863" y="412"/>
                      </a:lnTo>
                      <a:lnTo>
                        <a:pt x="842" y="415"/>
                      </a:lnTo>
                      <a:lnTo>
                        <a:pt x="800" y="416"/>
                      </a:lnTo>
                      <a:lnTo>
                        <a:pt x="756" y="415"/>
                      </a:lnTo>
                      <a:lnTo>
                        <a:pt x="712" y="416"/>
                      </a:lnTo>
                      <a:lnTo>
                        <a:pt x="670" y="415"/>
                      </a:lnTo>
                      <a:lnTo>
                        <a:pt x="648" y="412"/>
                      </a:lnTo>
                      <a:lnTo>
                        <a:pt x="627" y="409"/>
                      </a:lnTo>
                      <a:lnTo>
                        <a:pt x="607" y="403"/>
                      </a:lnTo>
                      <a:lnTo>
                        <a:pt x="586" y="395"/>
                      </a:lnTo>
                      <a:lnTo>
                        <a:pt x="576" y="389"/>
                      </a:lnTo>
                      <a:lnTo>
                        <a:pt x="565" y="384"/>
                      </a:lnTo>
                      <a:lnTo>
                        <a:pt x="555" y="377"/>
                      </a:lnTo>
                      <a:lnTo>
                        <a:pt x="545" y="370"/>
                      </a:lnTo>
                      <a:lnTo>
                        <a:pt x="534" y="361"/>
                      </a:lnTo>
                      <a:lnTo>
                        <a:pt x="524" y="352"/>
                      </a:lnTo>
                      <a:lnTo>
                        <a:pt x="514" y="340"/>
                      </a:lnTo>
                      <a:lnTo>
                        <a:pt x="502" y="329"/>
                      </a:lnTo>
                      <a:lnTo>
                        <a:pt x="492" y="316"/>
                      </a:lnTo>
                      <a:lnTo>
                        <a:pt x="482" y="301"/>
                      </a:lnTo>
                      <a:lnTo>
                        <a:pt x="470" y="286"/>
                      </a:lnTo>
                      <a:lnTo>
                        <a:pt x="460" y="269"/>
                      </a:lnTo>
                      <a:lnTo>
                        <a:pt x="437" y="231"/>
                      </a:lnTo>
                      <a:lnTo>
                        <a:pt x="415" y="187"/>
                      </a:lnTo>
                      <a:lnTo>
                        <a:pt x="402" y="165"/>
                      </a:lnTo>
                      <a:lnTo>
                        <a:pt x="390" y="145"/>
                      </a:lnTo>
                      <a:lnTo>
                        <a:pt x="377" y="125"/>
                      </a:lnTo>
                      <a:lnTo>
                        <a:pt x="362" y="108"/>
                      </a:lnTo>
                      <a:lnTo>
                        <a:pt x="347" y="93"/>
                      </a:lnTo>
                      <a:lnTo>
                        <a:pt x="332" y="78"/>
                      </a:lnTo>
                      <a:lnTo>
                        <a:pt x="316" y="67"/>
                      </a:lnTo>
                      <a:lnTo>
                        <a:pt x="299" y="55"/>
                      </a:lnTo>
                      <a:lnTo>
                        <a:pt x="283" y="45"/>
                      </a:lnTo>
                      <a:lnTo>
                        <a:pt x="266" y="36"/>
                      </a:lnTo>
                      <a:lnTo>
                        <a:pt x="248" y="29"/>
                      </a:lnTo>
                      <a:lnTo>
                        <a:pt x="231" y="22"/>
                      </a:lnTo>
                      <a:lnTo>
                        <a:pt x="214" y="16"/>
                      </a:lnTo>
                      <a:lnTo>
                        <a:pt x="197" y="11"/>
                      </a:lnTo>
                      <a:lnTo>
                        <a:pt x="180" y="8"/>
                      </a:lnTo>
                      <a:lnTo>
                        <a:pt x="162" y="6"/>
                      </a:lnTo>
                      <a:lnTo>
                        <a:pt x="130" y="1"/>
                      </a:lnTo>
                      <a:lnTo>
                        <a:pt x="99" y="0"/>
                      </a:lnTo>
                      <a:lnTo>
                        <a:pt x="72" y="1"/>
                      </a:lnTo>
                      <a:lnTo>
                        <a:pt x="48" y="2"/>
                      </a:lnTo>
                      <a:lnTo>
                        <a:pt x="13" y="7"/>
                      </a:lnTo>
                      <a:lnTo>
                        <a:pt x="0" y="9"/>
                      </a:lnTo>
                    </a:path>
                  </a:pathLst>
                </a:custGeom>
                <a:noFill/>
                <a:ln w="3240">
                  <a:solidFill>
                    <a:srgbClr val="000000"/>
                  </a:solidFill>
                  <a:round/>
                </a:ln>
              </p:spPr>
              <p:style>
                <a:lnRef idx="0"/>
                <a:fillRef idx="0"/>
                <a:effectRef idx="0"/>
                <a:fontRef idx="minor"/>
              </p:style>
              <p:txBody>
                <a:bodyPr wrap="none" lIns="93240" rIns="93240" tIns="33120" bIns="33120" anchor="t">
                  <a:spAutoFit/>
                </a:bodyPr>
                <a:p>
                  <a:endParaRPr b="0" lang="en-US" sz="2400" spc="-1" strike="noStrike">
                    <a:solidFill>
                      <a:srgbClr val="ffffff"/>
                    </a:solidFill>
                    <a:latin typeface="Times New Roman"/>
                  </a:endParaRPr>
                </a:p>
              </p:txBody>
            </p:sp>
            <p:sp>
              <p:nvSpPr>
                <p:cNvPr id="593" name=""/>
                <p:cNvSpPr/>
                <p:nvPr/>
              </p:nvSpPr>
              <p:spPr>
                <a:xfrm>
                  <a:off x="3477600" y="1615680"/>
                  <a:ext cx="684360" cy="397440"/>
                </a:xfrm>
                <a:custGeom>
                  <a:avLst/>
                  <a:gdLst/>
                  <a:ahLst/>
                  <a:rect l="l" t="t" r="r" b="b"/>
                  <a:pathLst>
                    <a:path w="3388" h="2097">
                      <a:moveTo>
                        <a:pt x="3022" y="972"/>
                      </a:moveTo>
                      <a:lnTo>
                        <a:pt x="3028" y="979"/>
                      </a:lnTo>
                      <a:lnTo>
                        <a:pt x="3035" y="986"/>
                      </a:lnTo>
                      <a:lnTo>
                        <a:pt x="3043" y="990"/>
                      </a:lnTo>
                      <a:lnTo>
                        <a:pt x="3050" y="996"/>
                      </a:lnTo>
                      <a:lnTo>
                        <a:pt x="3059" y="999"/>
                      </a:lnTo>
                      <a:lnTo>
                        <a:pt x="3068" y="1003"/>
                      </a:lnTo>
                      <a:lnTo>
                        <a:pt x="3077" y="1006"/>
                      </a:lnTo>
                      <a:lnTo>
                        <a:pt x="3086" y="1009"/>
                      </a:lnTo>
                      <a:lnTo>
                        <a:pt x="3106" y="1012"/>
                      </a:lnTo>
                      <a:lnTo>
                        <a:pt x="3127" y="1013"/>
                      </a:lnTo>
                      <a:lnTo>
                        <a:pt x="3147" y="1013"/>
                      </a:lnTo>
                      <a:lnTo>
                        <a:pt x="3167" y="1012"/>
                      </a:lnTo>
                      <a:lnTo>
                        <a:pt x="3205" y="1009"/>
                      </a:lnTo>
                      <a:lnTo>
                        <a:pt x="3237" y="1002"/>
                      </a:lnTo>
                      <a:lnTo>
                        <a:pt x="3258" y="997"/>
                      </a:lnTo>
                      <a:lnTo>
                        <a:pt x="3266" y="995"/>
                      </a:lnTo>
                      <a:lnTo>
                        <a:pt x="3274" y="1004"/>
                      </a:lnTo>
                      <a:lnTo>
                        <a:pt x="3292" y="1030"/>
                      </a:lnTo>
                      <a:lnTo>
                        <a:pt x="3317" y="1066"/>
                      </a:lnTo>
                      <a:lnTo>
                        <a:pt x="3345" y="1109"/>
                      </a:lnTo>
                      <a:lnTo>
                        <a:pt x="3357" y="1132"/>
                      </a:lnTo>
                      <a:lnTo>
                        <a:pt x="3369" y="1152"/>
                      </a:lnTo>
                      <a:lnTo>
                        <a:pt x="3378" y="1173"/>
                      </a:lnTo>
                      <a:lnTo>
                        <a:pt x="3385" y="1192"/>
                      </a:lnTo>
                      <a:lnTo>
                        <a:pt x="3387" y="1202"/>
                      </a:lnTo>
                      <a:lnTo>
                        <a:pt x="3388" y="1210"/>
                      </a:lnTo>
                      <a:lnTo>
                        <a:pt x="3388" y="1217"/>
                      </a:lnTo>
                      <a:lnTo>
                        <a:pt x="3388" y="1223"/>
                      </a:lnTo>
                      <a:lnTo>
                        <a:pt x="3386" y="1229"/>
                      </a:lnTo>
                      <a:lnTo>
                        <a:pt x="3384" y="1234"/>
                      </a:lnTo>
                      <a:lnTo>
                        <a:pt x="3379" y="1237"/>
                      </a:lnTo>
                      <a:lnTo>
                        <a:pt x="3375" y="1241"/>
                      </a:lnTo>
                      <a:lnTo>
                        <a:pt x="3373" y="1249"/>
                      </a:lnTo>
                      <a:lnTo>
                        <a:pt x="3372" y="1273"/>
                      </a:lnTo>
                      <a:lnTo>
                        <a:pt x="3371" y="1310"/>
                      </a:lnTo>
                      <a:lnTo>
                        <a:pt x="3370" y="1353"/>
                      </a:lnTo>
                      <a:lnTo>
                        <a:pt x="3369" y="1400"/>
                      </a:lnTo>
                      <a:lnTo>
                        <a:pt x="3368" y="1450"/>
                      </a:lnTo>
                      <a:lnTo>
                        <a:pt x="3367" y="1495"/>
                      </a:lnTo>
                      <a:lnTo>
                        <a:pt x="3365" y="1534"/>
                      </a:lnTo>
                      <a:lnTo>
                        <a:pt x="3365" y="1541"/>
                      </a:lnTo>
                      <a:lnTo>
                        <a:pt x="3364" y="1546"/>
                      </a:lnTo>
                      <a:lnTo>
                        <a:pt x="3363" y="1551"/>
                      </a:lnTo>
                      <a:lnTo>
                        <a:pt x="3361" y="1553"/>
                      </a:lnTo>
                      <a:lnTo>
                        <a:pt x="3357" y="1555"/>
                      </a:lnTo>
                      <a:lnTo>
                        <a:pt x="3354" y="1555"/>
                      </a:lnTo>
                      <a:lnTo>
                        <a:pt x="3351" y="1554"/>
                      </a:lnTo>
                      <a:lnTo>
                        <a:pt x="3346" y="1552"/>
                      </a:lnTo>
                      <a:lnTo>
                        <a:pt x="3336" y="1544"/>
                      </a:lnTo>
                      <a:lnTo>
                        <a:pt x="3324" y="1535"/>
                      </a:lnTo>
                      <a:lnTo>
                        <a:pt x="3311" y="1522"/>
                      </a:lnTo>
                      <a:lnTo>
                        <a:pt x="3298" y="1508"/>
                      </a:lnTo>
                      <a:lnTo>
                        <a:pt x="3284" y="1496"/>
                      </a:lnTo>
                      <a:lnTo>
                        <a:pt x="3269" y="1482"/>
                      </a:lnTo>
                      <a:lnTo>
                        <a:pt x="3254" y="1470"/>
                      </a:lnTo>
                      <a:lnTo>
                        <a:pt x="3240" y="1461"/>
                      </a:lnTo>
                      <a:lnTo>
                        <a:pt x="3233" y="1458"/>
                      </a:lnTo>
                      <a:lnTo>
                        <a:pt x="3227" y="1456"/>
                      </a:lnTo>
                      <a:lnTo>
                        <a:pt x="3221" y="1454"/>
                      </a:lnTo>
                      <a:lnTo>
                        <a:pt x="3214" y="1453"/>
                      </a:lnTo>
                      <a:lnTo>
                        <a:pt x="3208" y="1454"/>
                      </a:lnTo>
                      <a:lnTo>
                        <a:pt x="3202" y="1457"/>
                      </a:lnTo>
                      <a:lnTo>
                        <a:pt x="3198" y="1460"/>
                      </a:lnTo>
                      <a:lnTo>
                        <a:pt x="3192" y="1466"/>
                      </a:lnTo>
                      <a:lnTo>
                        <a:pt x="3189" y="1473"/>
                      </a:lnTo>
                      <a:lnTo>
                        <a:pt x="3185" y="1480"/>
                      </a:lnTo>
                      <a:lnTo>
                        <a:pt x="3182" y="1487"/>
                      </a:lnTo>
                      <a:lnTo>
                        <a:pt x="3179" y="1495"/>
                      </a:lnTo>
                      <a:lnTo>
                        <a:pt x="3177" y="1512"/>
                      </a:lnTo>
                      <a:lnTo>
                        <a:pt x="3176" y="1529"/>
                      </a:lnTo>
                      <a:lnTo>
                        <a:pt x="3177" y="1547"/>
                      </a:lnTo>
                      <a:lnTo>
                        <a:pt x="3178" y="1567"/>
                      </a:lnTo>
                      <a:lnTo>
                        <a:pt x="3182" y="1585"/>
                      </a:lnTo>
                      <a:lnTo>
                        <a:pt x="3186" y="1604"/>
                      </a:lnTo>
                      <a:lnTo>
                        <a:pt x="3197" y="1637"/>
                      </a:lnTo>
                      <a:lnTo>
                        <a:pt x="3206" y="1666"/>
                      </a:lnTo>
                      <a:lnTo>
                        <a:pt x="3214" y="1684"/>
                      </a:lnTo>
                      <a:lnTo>
                        <a:pt x="3217" y="1691"/>
                      </a:lnTo>
                      <a:lnTo>
                        <a:pt x="3168" y="2007"/>
                      </a:lnTo>
                      <a:lnTo>
                        <a:pt x="3161" y="1985"/>
                      </a:lnTo>
                      <a:lnTo>
                        <a:pt x="3143" y="1930"/>
                      </a:lnTo>
                      <a:lnTo>
                        <a:pt x="3129" y="1893"/>
                      </a:lnTo>
                      <a:lnTo>
                        <a:pt x="3113" y="1852"/>
                      </a:lnTo>
                      <a:lnTo>
                        <a:pt x="3094" y="1808"/>
                      </a:lnTo>
                      <a:lnTo>
                        <a:pt x="3074" y="1765"/>
                      </a:lnTo>
                      <a:lnTo>
                        <a:pt x="3051" y="1721"/>
                      </a:lnTo>
                      <a:lnTo>
                        <a:pt x="3027" y="1678"/>
                      </a:lnTo>
                      <a:lnTo>
                        <a:pt x="3014" y="1659"/>
                      </a:lnTo>
                      <a:lnTo>
                        <a:pt x="3000" y="1640"/>
                      </a:lnTo>
                      <a:lnTo>
                        <a:pt x="2986" y="1623"/>
                      </a:lnTo>
                      <a:lnTo>
                        <a:pt x="2973" y="1607"/>
                      </a:lnTo>
                      <a:lnTo>
                        <a:pt x="2958" y="1593"/>
                      </a:lnTo>
                      <a:lnTo>
                        <a:pt x="2944" y="1581"/>
                      </a:lnTo>
                      <a:lnTo>
                        <a:pt x="2929" y="1570"/>
                      </a:lnTo>
                      <a:lnTo>
                        <a:pt x="2914" y="1562"/>
                      </a:lnTo>
                      <a:lnTo>
                        <a:pt x="2898" y="1557"/>
                      </a:lnTo>
                      <a:lnTo>
                        <a:pt x="2883" y="1553"/>
                      </a:lnTo>
                      <a:lnTo>
                        <a:pt x="2867" y="1553"/>
                      </a:lnTo>
                      <a:lnTo>
                        <a:pt x="2851" y="1555"/>
                      </a:lnTo>
                      <a:lnTo>
                        <a:pt x="2835" y="1561"/>
                      </a:lnTo>
                      <a:lnTo>
                        <a:pt x="2820" y="1567"/>
                      </a:lnTo>
                      <a:lnTo>
                        <a:pt x="2805" y="1575"/>
                      </a:lnTo>
                      <a:lnTo>
                        <a:pt x="2791" y="1584"/>
                      </a:lnTo>
                      <a:lnTo>
                        <a:pt x="2779" y="1595"/>
                      </a:lnTo>
                      <a:lnTo>
                        <a:pt x="2765" y="1606"/>
                      </a:lnTo>
                      <a:lnTo>
                        <a:pt x="2752" y="1619"/>
                      </a:lnTo>
                      <a:lnTo>
                        <a:pt x="2741" y="1631"/>
                      </a:lnTo>
                      <a:lnTo>
                        <a:pt x="2729" y="1645"/>
                      </a:lnTo>
                      <a:lnTo>
                        <a:pt x="2719" y="1660"/>
                      </a:lnTo>
                      <a:lnTo>
                        <a:pt x="2709" y="1675"/>
                      </a:lnTo>
                      <a:lnTo>
                        <a:pt x="2699" y="1690"/>
                      </a:lnTo>
                      <a:lnTo>
                        <a:pt x="2681" y="1721"/>
                      </a:lnTo>
                      <a:lnTo>
                        <a:pt x="2665" y="1753"/>
                      </a:lnTo>
                      <a:lnTo>
                        <a:pt x="2651" y="1784"/>
                      </a:lnTo>
                      <a:lnTo>
                        <a:pt x="2640" y="1814"/>
                      </a:lnTo>
                      <a:lnTo>
                        <a:pt x="2629" y="1842"/>
                      </a:lnTo>
                      <a:lnTo>
                        <a:pt x="2621" y="1867"/>
                      </a:lnTo>
                      <a:lnTo>
                        <a:pt x="2611" y="1902"/>
                      </a:lnTo>
                      <a:lnTo>
                        <a:pt x="2608" y="1916"/>
                      </a:lnTo>
                      <a:lnTo>
                        <a:pt x="2412" y="1871"/>
                      </a:lnTo>
                      <a:lnTo>
                        <a:pt x="2632" y="1195"/>
                      </a:lnTo>
                      <a:lnTo>
                        <a:pt x="2629" y="1182"/>
                      </a:lnTo>
                      <a:lnTo>
                        <a:pt x="2621" y="1148"/>
                      </a:lnTo>
                      <a:lnTo>
                        <a:pt x="2616" y="1123"/>
                      </a:lnTo>
                      <a:lnTo>
                        <a:pt x="2608" y="1096"/>
                      </a:lnTo>
                      <a:lnTo>
                        <a:pt x="2597" y="1065"/>
                      </a:lnTo>
                      <a:lnTo>
                        <a:pt x="2586" y="1033"/>
                      </a:lnTo>
                      <a:lnTo>
                        <a:pt x="2572" y="998"/>
                      </a:lnTo>
                      <a:lnTo>
                        <a:pt x="2557" y="963"/>
                      </a:lnTo>
                      <a:lnTo>
                        <a:pt x="2539" y="927"/>
                      </a:lnTo>
                      <a:lnTo>
                        <a:pt x="2518" y="891"/>
                      </a:lnTo>
                      <a:lnTo>
                        <a:pt x="2508" y="874"/>
                      </a:lnTo>
                      <a:lnTo>
                        <a:pt x="2496" y="857"/>
                      </a:lnTo>
                      <a:lnTo>
                        <a:pt x="2483" y="841"/>
                      </a:lnTo>
                      <a:lnTo>
                        <a:pt x="2471" y="825"/>
                      </a:lnTo>
                      <a:lnTo>
                        <a:pt x="2457" y="809"/>
                      </a:lnTo>
                      <a:lnTo>
                        <a:pt x="2442" y="794"/>
                      </a:lnTo>
                      <a:lnTo>
                        <a:pt x="2427" y="780"/>
                      </a:lnTo>
                      <a:lnTo>
                        <a:pt x="2412" y="766"/>
                      </a:lnTo>
                      <a:lnTo>
                        <a:pt x="2382" y="787"/>
                      </a:lnTo>
                      <a:lnTo>
                        <a:pt x="2302" y="842"/>
                      </a:lnTo>
                      <a:lnTo>
                        <a:pt x="2245" y="878"/>
                      </a:lnTo>
                      <a:lnTo>
                        <a:pt x="2178" y="919"/>
                      </a:lnTo>
                      <a:lnTo>
                        <a:pt x="2103" y="963"/>
                      </a:lnTo>
                      <a:lnTo>
                        <a:pt x="2022" y="1009"/>
                      </a:lnTo>
                      <a:lnTo>
                        <a:pt x="1979" y="1033"/>
                      </a:lnTo>
                      <a:lnTo>
                        <a:pt x="1935" y="1056"/>
                      </a:lnTo>
                      <a:lnTo>
                        <a:pt x="1890" y="1079"/>
                      </a:lnTo>
                      <a:lnTo>
                        <a:pt x="1844" y="1102"/>
                      </a:lnTo>
                      <a:lnTo>
                        <a:pt x="1797" y="1123"/>
                      </a:lnTo>
                      <a:lnTo>
                        <a:pt x="1749" y="1145"/>
                      </a:lnTo>
                      <a:lnTo>
                        <a:pt x="1700" y="1166"/>
                      </a:lnTo>
                      <a:lnTo>
                        <a:pt x="1652" y="1186"/>
                      </a:lnTo>
                      <a:lnTo>
                        <a:pt x="1603" y="1204"/>
                      </a:lnTo>
                      <a:lnTo>
                        <a:pt x="1554" y="1221"/>
                      </a:lnTo>
                      <a:lnTo>
                        <a:pt x="1505" y="1236"/>
                      </a:lnTo>
                      <a:lnTo>
                        <a:pt x="1457" y="1250"/>
                      </a:lnTo>
                      <a:lnTo>
                        <a:pt x="1409" y="1263"/>
                      </a:lnTo>
                      <a:lnTo>
                        <a:pt x="1362" y="1272"/>
                      </a:lnTo>
                      <a:lnTo>
                        <a:pt x="1314" y="1280"/>
                      </a:lnTo>
                      <a:lnTo>
                        <a:pt x="1269" y="1285"/>
                      </a:lnTo>
                      <a:lnTo>
                        <a:pt x="1286" y="1279"/>
                      </a:lnTo>
                      <a:lnTo>
                        <a:pt x="1334" y="1259"/>
                      </a:lnTo>
                      <a:lnTo>
                        <a:pt x="1365" y="1244"/>
                      </a:lnTo>
                      <a:lnTo>
                        <a:pt x="1401" y="1228"/>
                      </a:lnTo>
                      <a:lnTo>
                        <a:pt x="1438" y="1210"/>
                      </a:lnTo>
                      <a:lnTo>
                        <a:pt x="1479" y="1190"/>
                      </a:lnTo>
                      <a:lnTo>
                        <a:pt x="1518" y="1168"/>
                      </a:lnTo>
                      <a:lnTo>
                        <a:pt x="1557" y="1145"/>
                      </a:lnTo>
                      <a:lnTo>
                        <a:pt x="1593" y="1121"/>
                      </a:lnTo>
                      <a:lnTo>
                        <a:pt x="1628" y="1096"/>
                      </a:lnTo>
                      <a:lnTo>
                        <a:pt x="1643" y="1083"/>
                      </a:lnTo>
                      <a:lnTo>
                        <a:pt x="1657" y="1071"/>
                      </a:lnTo>
                      <a:lnTo>
                        <a:pt x="1669" y="1058"/>
                      </a:lnTo>
                      <a:lnTo>
                        <a:pt x="1680" y="1045"/>
                      </a:lnTo>
                      <a:lnTo>
                        <a:pt x="1689" y="1033"/>
                      </a:lnTo>
                      <a:lnTo>
                        <a:pt x="1696" y="1020"/>
                      </a:lnTo>
                      <a:lnTo>
                        <a:pt x="1701" y="1007"/>
                      </a:lnTo>
                      <a:lnTo>
                        <a:pt x="1705" y="995"/>
                      </a:lnTo>
                      <a:lnTo>
                        <a:pt x="1706" y="983"/>
                      </a:lnTo>
                      <a:lnTo>
                        <a:pt x="1707" y="974"/>
                      </a:lnTo>
                      <a:lnTo>
                        <a:pt x="1707" y="967"/>
                      </a:lnTo>
                      <a:lnTo>
                        <a:pt x="1705" y="962"/>
                      </a:lnTo>
                      <a:lnTo>
                        <a:pt x="1703" y="959"/>
                      </a:lnTo>
                      <a:lnTo>
                        <a:pt x="1699" y="958"/>
                      </a:lnTo>
                      <a:lnTo>
                        <a:pt x="1695" y="959"/>
                      </a:lnTo>
                      <a:lnTo>
                        <a:pt x="1689" y="962"/>
                      </a:lnTo>
                      <a:lnTo>
                        <a:pt x="1675" y="971"/>
                      </a:lnTo>
                      <a:lnTo>
                        <a:pt x="1657" y="984"/>
                      </a:lnTo>
                      <a:lnTo>
                        <a:pt x="1635" y="1003"/>
                      </a:lnTo>
                      <a:lnTo>
                        <a:pt x="1610" y="1024"/>
                      </a:lnTo>
                      <a:lnTo>
                        <a:pt x="1581" y="1047"/>
                      </a:lnTo>
                      <a:lnTo>
                        <a:pt x="1549" y="1071"/>
                      </a:lnTo>
                      <a:lnTo>
                        <a:pt x="1531" y="1082"/>
                      </a:lnTo>
                      <a:lnTo>
                        <a:pt x="1513" y="1094"/>
                      </a:lnTo>
                      <a:lnTo>
                        <a:pt x="1495" y="1105"/>
                      </a:lnTo>
                      <a:lnTo>
                        <a:pt x="1475" y="1115"/>
                      </a:lnTo>
                      <a:lnTo>
                        <a:pt x="1455" y="1126"/>
                      </a:lnTo>
                      <a:lnTo>
                        <a:pt x="1434" y="1136"/>
                      </a:lnTo>
                      <a:lnTo>
                        <a:pt x="1412" y="1145"/>
                      </a:lnTo>
                      <a:lnTo>
                        <a:pt x="1389" y="1153"/>
                      </a:lnTo>
                      <a:lnTo>
                        <a:pt x="1366" y="1160"/>
                      </a:lnTo>
                      <a:lnTo>
                        <a:pt x="1342" y="1165"/>
                      </a:lnTo>
                      <a:lnTo>
                        <a:pt x="1318" y="1169"/>
                      </a:lnTo>
                      <a:lnTo>
                        <a:pt x="1293" y="1173"/>
                      </a:lnTo>
                      <a:lnTo>
                        <a:pt x="1221" y="1179"/>
                      </a:lnTo>
                      <a:lnTo>
                        <a:pt x="1200" y="1179"/>
                      </a:lnTo>
                      <a:lnTo>
                        <a:pt x="1216" y="1172"/>
                      </a:lnTo>
                      <a:lnTo>
                        <a:pt x="1259" y="1156"/>
                      </a:lnTo>
                      <a:lnTo>
                        <a:pt x="1287" y="1144"/>
                      </a:lnTo>
                      <a:lnTo>
                        <a:pt x="1318" y="1129"/>
                      </a:lnTo>
                      <a:lnTo>
                        <a:pt x="1333" y="1121"/>
                      </a:lnTo>
                      <a:lnTo>
                        <a:pt x="1348" y="1112"/>
                      </a:lnTo>
                      <a:lnTo>
                        <a:pt x="1364" y="1102"/>
                      </a:lnTo>
                      <a:lnTo>
                        <a:pt x="1379" y="1091"/>
                      </a:lnTo>
                      <a:lnTo>
                        <a:pt x="1393" y="1080"/>
                      </a:lnTo>
                      <a:lnTo>
                        <a:pt x="1406" y="1067"/>
                      </a:lnTo>
                      <a:lnTo>
                        <a:pt x="1419" y="1053"/>
                      </a:lnTo>
                      <a:lnTo>
                        <a:pt x="1432" y="1040"/>
                      </a:lnTo>
                      <a:lnTo>
                        <a:pt x="1442" y="1024"/>
                      </a:lnTo>
                      <a:lnTo>
                        <a:pt x="1451" y="1007"/>
                      </a:lnTo>
                      <a:lnTo>
                        <a:pt x="1458" y="990"/>
                      </a:lnTo>
                      <a:lnTo>
                        <a:pt x="1464" y="972"/>
                      </a:lnTo>
                      <a:lnTo>
                        <a:pt x="1467" y="955"/>
                      </a:lnTo>
                      <a:lnTo>
                        <a:pt x="1471" y="939"/>
                      </a:lnTo>
                      <a:lnTo>
                        <a:pt x="1472" y="925"/>
                      </a:lnTo>
                      <a:lnTo>
                        <a:pt x="1472" y="912"/>
                      </a:lnTo>
                      <a:lnTo>
                        <a:pt x="1471" y="903"/>
                      </a:lnTo>
                      <a:lnTo>
                        <a:pt x="1469" y="895"/>
                      </a:lnTo>
                      <a:lnTo>
                        <a:pt x="1466" y="888"/>
                      </a:lnTo>
                      <a:lnTo>
                        <a:pt x="1461" y="885"/>
                      </a:lnTo>
                      <a:lnTo>
                        <a:pt x="1457" y="881"/>
                      </a:lnTo>
                      <a:lnTo>
                        <a:pt x="1450" y="880"/>
                      </a:lnTo>
                      <a:lnTo>
                        <a:pt x="1443" y="880"/>
                      </a:lnTo>
                      <a:lnTo>
                        <a:pt x="1435" y="882"/>
                      </a:lnTo>
                      <a:lnTo>
                        <a:pt x="1426" y="885"/>
                      </a:lnTo>
                      <a:lnTo>
                        <a:pt x="1415" y="889"/>
                      </a:lnTo>
                      <a:lnTo>
                        <a:pt x="1405" y="894"/>
                      </a:lnTo>
                      <a:lnTo>
                        <a:pt x="1394" y="901"/>
                      </a:lnTo>
                      <a:lnTo>
                        <a:pt x="1368" y="916"/>
                      </a:lnTo>
                      <a:lnTo>
                        <a:pt x="1340" y="935"/>
                      </a:lnTo>
                      <a:lnTo>
                        <a:pt x="1309" y="957"/>
                      </a:lnTo>
                      <a:lnTo>
                        <a:pt x="1277" y="980"/>
                      </a:lnTo>
                      <a:lnTo>
                        <a:pt x="1241" y="1005"/>
                      </a:lnTo>
                      <a:lnTo>
                        <a:pt x="1203" y="1032"/>
                      </a:lnTo>
                      <a:lnTo>
                        <a:pt x="1165" y="1057"/>
                      </a:lnTo>
                      <a:lnTo>
                        <a:pt x="1125" y="1082"/>
                      </a:lnTo>
                      <a:lnTo>
                        <a:pt x="1088" y="1105"/>
                      </a:lnTo>
                      <a:lnTo>
                        <a:pt x="1063" y="1122"/>
                      </a:lnTo>
                      <a:lnTo>
                        <a:pt x="1046" y="1135"/>
                      </a:lnTo>
                      <a:lnTo>
                        <a:pt x="1035" y="1143"/>
                      </a:lnTo>
                      <a:lnTo>
                        <a:pt x="1032" y="1148"/>
                      </a:lnTo>
                      <a:lnTo>
                        <a:pt x="1032" y="1149"/>
                      </a:lnTo>
                      <a:lnTo>
                        <a:pt x="1035" y="1148"/>
                      </a:lnTo>
                      <a:lnTo>
                        <a:pt x="1041" y="1144"/>
                      </a:lnTo>
                      <a:lnTo>
                        <a:pt x="1047" y="1140"/>
                      </a:lnTo>
                      <a:lnTo>
                        <a:pt x="1051" y="1134"/>
                      </a:lnTo>
                      <a:lnTo>
                        <a:pt x="1053" y="1127"/>
                      </a:lnTo>
                      <a:lnTo>
                        <a:pt x="1051" y="1120"/>
                      </a:lnTo>
                      <a:lnTo>
                        <a:pt x="1048" y="1118"/>
                      </a:lnTo>
                      <a:lnTo>
                        <a:pt x="1043" y="1114"/>
                      </a:lnTo>
                      <a:lnTo>
                        <a:pt x="1038" y="1112"/>
                      </a:lnTo>
                      <a:lnTo>
                        <a:pt x="1030" y="1110"/>
                      </a:lnTo>
                      <a:lnTo>
                        <a:pt x="1019" y="1107"/>
                      </a:lnTo>
                      <a:lnTo>
                        <a:pt x="1008" y="1106"/>
                      </a:lnTo>
                      <a:lnTo>
                        <a:pt x="993" y="1105"/>
                      </a:lnTo>
                      <a:lnTo>
                        <a:pt x="976" y="1105"/>
                      </a:lnTo>
                      <a:lnTo>
                        <a:pt x="940" y="1106"/>
                      </a:lnTo>
                      <a:lnTo>
                        <a:pt x="907" y="1109"/>
                      </a:lnTo>
                      <a:lnTo>
                        <a:pt x="876" y="1112"/>
                      </a:lnTo>
                      <a:lnTo>
                        <a:pt x="847" y="1118"/>
                      </a:lnTo>
                      <a:lnTo>
                        <a:pt x="822" y="1125"/>
                      </a:lnTo>
                      <a:lnTo>
                        <a:pt x="798" y="1134"/>
                      </a:lnTo>
                      <a:lnTo>
                        <a:pt x="787" y="1138"/>
                      </a:lnTo>
                      <a:lnTo>
                        <a:pt x="778" y="1144"/>
                      </a:lnTo>
                      <a:lnTo>
                        <a:pt x="769" y="1150"/>
                      </a:lnTo>
                      <a:lnTo>
                        <a:pt x="762" y="1156"/>
                      </a:lnTo>
                      <a:lnTo>
                        <a:pt x="755" y="1163"/>
                      </a:lnTo>
                      <a:lnTo>
                        <a:pt x="748" y="1169"/>
                      </a:lnTo>
                      <a:lnTo>
                        <a:pt x="744" y="1177"/>
                      </a:lnTo>
                      <a:lnTo>
                        <a:pt x="740" y="1184"/>
                      </a:lnTo>
                      <a:lnTo>
                        <a:pt x="737" y="1194"/>
                      </a:lnTo>
                      <a:lnTo>
                        <a:pt x="736" y="1202"/>
                      </a:lnTo>
                      <a:lnTo>
                        <a:pt x="734" y="1211"/>
                      </a:lnTo>
                      <a:lnTo>
                        <a:pt x="734" y="1220"/>
                      </a:lnTo>
                      <a:lnTo>
                        <a:pt x="737" y="1230"/>
                      </a:lnTo>
                      <a:lnTo>
                        <a:pt x="739" y="1241"/>
                      </a:lnTo>
                      <a:lnTo>
                        <a:pt x="744" y="1251"/>
                      </a:lnTo>
                      <a:lnTo>
                        <a:pt x="748" y="1263"/>
                      </a:lnTo>
                      <a:lnTo>
                        <a:pt x="755" y="1274"/>
                      </a:lnTo>
                      <a:lnTo>
                        <a:pt x="763" y="1285"/>
                      </a:lnTo>
                      <a:lnTo>
                        <a:pt x="772" y="1298"/>
                      </a:lnTo>
                      <a:lnTo>
                        <a:pt x="783" y="1311"/>
                      </a:lnTo>
                      <a:lnTo>
                        <a:pt x="805" y="1336"/>
                      </a:lnTo>
                      <a:lnTo>
                        <a:pt x="824" y="1362"/>
                      </a:lnTo>
                      <a:lnTo>
                        <a:pt x="841" y="1391"/>
                      </a:lnTo>
                      <a:lnTo>
                        <a:pt x="856" y="1419"/>
                      </a:lnTo>
                      <a:lnTo>
                        <a:pt x="870" y="1447"/>
                      </a:lnTo>
                      <a:lnTo>
                        <a:pt x="881" y="1475"/>
                      </a:lnTo>
                      <a:lnTo>
                        <a:pt x="891" y="1501"/>
                      </a:lnTo>
                      <a:lnTo>
                        <a:pt x="900" y="1528"/>
                      </a:lnTo>
                      <a:lnTo>
                        <a:pt x="913" y="1575"/>
                      </a:lnTo>
                      <a:lnTo>
                        <a:pt x="922" y="1612"/>
                      </a:lnTo>
                      <a:lnTo>
                        <a:pt x="925" y="1637"/>
                      </a:lnTo>
                      <a:lnTo>
                        <a:pt x="927" y="1646"/>
                      </a:lnTo>
                      <a:lnTo>
                        <a:pt x="917" y="1637"/>
                      </a:lnTo>
                      <a:lnTo>
                        <a:pt x="893" y="1616"/>
                      </a:lnTo>
                      <a:lnTo>
                        <a:pt x="877" y="1603"/>
                      </a:lnTo>
                      <a:lnTo>
                        <a:pt x="860" y="1589"/>
                      </a:lnTo>
                      <a:lnTo>
                        <a:pt x="841" y="1575"/>
                      </a:lnTo>
                      <a:lnTo>
                        <a:pt x="822" y="1561"/>
                      </a:lnTo>
                      <a:lnTo>
                        <a:pt x="802" y="1550"/>
                      </a:lnTo>
                      <a:lnTo>
                        <a:pt x="785" y="1541"/>
                      </a:lnTo>
                      <a:lnTo>
                        <a:pt x="776" y="1537"/>
                      </a:lnTo>
                      <a:lnTo>
                        <a:pt x="768" y="1534"/>
                      </a:lnTo>
                      <a:lnTo>
                        <a:pt x="761" y="1532"/>
                      </a:lnTo>
                      <a:lnTo>
                        <a:pt x="754" y="1531"/>
                      </a:lnTo>
                      <a:lnTo>
                        <a:pt x="748" y="1532"/>
                      </a:lnTo>
                      <a:lnTo>
                        <a:pt x="744" y="1535"/>
                      </a:lnTo>
                      <a:lnTo>
                        <a:pt x="739" y="1538"/>
                      </a:lnTo>
                      <a:lnTo>
                        <a:pt x="736" y="1543"/>
                      </a:lnTo>
                      <a:lnTo>
                        <a:pt x="733" y="1549"/>
                      </a:lnTo>
                      <a:lnTo>
                        <a:pt x="732" y="1557"/>
                      </a:lnTo>
                      <a:lnTo>
                        <a:pt x="733" y="1567"/>
                      </a:lnTo>
                      <a:lnTo>
                        <a:pt x="734" y="1578"/>
                      </a:lnTo>
                      <a:lnTo>
                        <a:pt x="738" y="1591"/>
                      </a:lnTo>
                      <a:lnTo>
                        <a:pt x="741" y="1606"/>
                      </a:lnTo>
                      <a:lnTo>
                        <a:pt x="747" y="1620"/>
                      </a:lnTo>
                      <a:lnTo>
                        <a:pt x="753" y="1636"/>
                      </a:lnTo>
                      <a:lnTo>
                        <a:pt x="768" y="1668"/>
                      </a:lnTo>
                      <a:lnTo>
                        <a:pt x="786" y="1703"/>
                      </a:lnTo>
                      <a:lnTo>
                        <a:pt x="807" y="1738"/>
                      </a:lnTo>
                      <a:lnTo>
                        <a:pt x="830" y="1774"/>
                      </a:lnTo>
                      <a:lnTo>
                        <a:pt x="853" y="1808"/>
                      </a:lnTo>
                      <a:lnTo>
                        <a:pt x="877" y="1843"/>
                      </a:lnTo>
                      <a:lnTo>
                        <a:pt x="923" y="1907"/>
                      </a:lnTo>
                      <a:lnTo>
                        <a:pt x="962" y="1959"/>
                      </a:lnTo>
                      <a:lnTo>
                        <a:pt x="989" y="1994"/>
                      </a:lnTo>
                      <a:lnTo>
                        <a:pt x="1000" y="2007"/>
                      </a:lnTo>
                      <a:lnTo>
                        <a:pt x="783" y="2097"/>
                      </a:lnTo>
                      <a:lnTo>
                        <a:pt x="780" y="2076"/>
                      </a:lnTo>
                      <a:lnTo>
                        <a:pt x="770" y="2022"/>
                      </a:lnTo>
                      <a:lnTo>
                        <a:pt x="762" y="1986"/>
                      </a:lnTo>
                      <a:lnTo>
                        <a:pt x="753" y="1947"/>
                      </a:lnTo>
                      <a:lnTo>
                        <a:pt x="743" y="1906"/>
                      </a:lnTo>
                      <a:lnTo>
                        <a:pt x="730" y="1863"/>
                      </a:lnTo>
                      <a:lnTo>
                        <a:pt x="716" y="1821"/>
                      </a:lnTo>
                      <a:lnTo>
                        <a:pt x="701" y="1782"/>
                      </a:lnTo>
                      <a:lnTo>
                        <a:pt x="692" y="1763"/>
                      </a:lnTo>
                      <a:lnTo>
                        <a:pt x="684" y="1746"/>
                      </a:lnTo>
                      <a:lnTo>
                        <a:pt x="675" y="1730"/>
                      </a:lnTo>
                      <a:lnTo>
                        <a:pt x="666" y="1715"/>
                      </a:lnTo>
                      <a:lnTo>
                        <a:pt x="655" y="1703"/>
                      </a:lnTo>
                      <a:lnTo>
                        <a:pt x="646" y="1692"/>
                      </a:lnTo>
                      <a:lnTo>
                        <a:pt x="635" y="1683"/>
                      </a:lnTo>
                      <a:lnTo>
                        <a:pt x="624" y="1676"/>
                      </a:lnTo>
                      <a:lnTo>
                        <a:pt x="613" y="1672"/>
                      </a:lnTo>
                      <a:lnTo>
                        <a:pt x="601" y="1670"/>
                      </a:lnTo>
                      <a:lnTo>
                        <a:pt x="590" y="1672"/>
                      </a:lnTo>
                      <a:lnTo>
                        <a:pt x="577" y="1676"/>
                      </a:lnTo>
                      <a:lnTo>
                        <a:pt x="565" y="1682"/>
                      </a:lnTo>
                      <a:lnTo>
                        <a:pt x="552" y="1690"/>
                      </a:lnTo>
                      <a:lnTo>
                        <a:pt x="539" y="1698"/>
                      </a:lnTo>
                      <a:lnTo>
                        <a:pt x="527" y="1706"/>
                      </a:lnTo>
                      <a:lnTo>
                        <a:pt x="503" y="1726"/>
                      </a:lnTo>
                      <a:lnTo>
                        <a:pt x="478" y="1747"/>
                      </a:lnTo>
                      <a:lnTo>
                        <a:pt x="455" y="1770"/>
                      </a:lnTo>
                      <a:lnTo>
                        <a:pt x="435" y="1794"/>
                      </a:lnTo>
                      <a:lnTo>
                        <a:pt x="414" y="1819"/>
                      </a:lnTo>
                      <a:lnTo>
                        <a:pt x="396" y="1843"/>
                      </a:lnTo>
                      <a:lnTo>
                        <a:pt x="364" y="1887"/>
                      </a:lnTo>
                      <a:lnTo>
                        <a:pt x="338" y="1925"/>
                      </a:lnTo>
                      <a:lnTo>
                        <a:pt x="322" y="1952"/>
                      </a:lnTo>
                      <a:lnTo>
                        <a:pt x="318" y="1962"/>
                      </a:lnTo>
                      <a:lnTo>
                        <a:pt x="198" y="1761"/>
                      </a:lnTo>
                      <a:lnTo>
                        <a:pt x="73" y="1668"/>
                      </a:lnTo>
                      <a:lnTo>
                        <a:pt x="222" y="1466"/>
                      </a:lnTo>
                      <a:lnTo>
                        <a:pt x="122" y="1400"/>
                      </a:lnTo>
                      <a:lnTo>
                        <a:pt x="258" y="1296"/>
                      </a:lnTo>
                      <a:lnTo>
                        <a:pt x="0" y="1186"/>
                      </a:lnTo>
                      <a:lnTo>
                        <a:pt x="222" y="1118"/>
                      </a:lnTo>
                      <a:lnTo>
                        <a:pt x="198" y="1060"/>
                      </a:lnTo>
                      <a:lnTo>
                        <a:pt x="271" y="1082"/>
                      </a:lnTo>
                      <a:lnTo>
                        <a:pt x="246" y="1005"/>
                      </a:lnTo>
                      <a:lnTo>
                        <a:pt x="320" y="1027"/>
                      </a:lnTo>
                      <a:lnTo>
                        <a:pt x="306" y="912"/>
                      </a:lnTo>
                      <a:lnTo>
                        <a:pt x="390" y="904"/>
                      </a:lnTo>
                      <a:lnTo>
                        <a:pt x="390" y="902"/>
                      </a:lnTo>
                      <a:lnTo>
                        <a:pt x="388" y="895"/>
                      </a:lnTo>
                      <a:lnTo>
                        <a:pt x="385" y="883"/>
                      </a:lnTo>
                      <a:lnTo>
                        <a:pt x="382" y="870"/>
                      </a:lnTo>
                      <a:lnTo>
                        <a:pt x="377" y="854"/>
                      </a:lnTo>
                      <a:lnTo>
                        <a:pt x="370" y="836"/>
                      </a:lnTo>
                      <a:lnTo>
                        <a:pt x="364" y="819"/>
                      </a:lnTo>
                      <a:lnTo>
                        <a:pt x="356" y="802"/>
                      </a:lnTo>
                      <a:lnTo>
                        <a:pt x="352" y="794"/>
                      </a:lnTo>
                      <a:lnTo>
                        <a:pt x="351" y="788"/>
                      </a:lnTo>
                      <a:lnTo>
                        <a:pt x="352" y="783"/>
                      </a:lnTo>
                      <a:lnTo>
                        <a:pt x="354" y="781"/>
                      </a:lnTo>
                      <a:lnTo>
                        <a:pt x="358" y="779"/>
                      </a:lnTo>
                      <a:lnTo>
                        <a:pt x="364" y="778"/>
                      </a:lnTo>
                      <a:lnTo>
                        <a:pt x="369" y="778"/>
                      </a:lnTo>
                      <a:lnTo>
                        <a:pt x="376" y="779"/>
                      </a:lnTo>
                      <a:lnTo>
                        <a:pt x="390" y="781"/>
                      </a:lnTo>
                      <a:lnTo>
                        <a:pt x="401" y="785"/>
                      </a:lnTo>
                      <a:lnTo>
                        <a:pt x="411" y="788"/>
                      </a:lnTo>
                      <a:lnTo>
                        <a:pt x="415" y="789"/>
                      </a:lnTo>
                      <a:lnTo>
                        <a:pt x="439" y="689"/>
                      </a:lnTo>
                      <a:lnTo>
                        <a:pt x="488" y="666"/>
                      </a:lnTo>
                      <a:lnTo>
                        <a:pt x="482" y="663"/>
                      </a:lnTo>
                      <a:lnTo>
                        <a:pt x="466" y="654"/>
                      </a:lnTo>
                      <a:lnTo>
                        <a:pt x="445" y="639"/>
                      </a:lnTo>
                      <a:lnTo>
                        <a:pt x="422" y="619"/>
                      </a:lnTo>
                      <a:lnTo>
                        <a:pt x="411" y="609"/>
                      </a:lnTo>
                      <a:lnTo>
                        <a:pt x="401" y="597"/>
                      </a:lnTo>
                      <a:lnTo>
                        <a:pt x="392" y="585"/>
                      </a:lnTo>
                      <a:lnTo>
                        <a:pt x="387" y="572"/>
                      </a:lnTo>
                      <a:lnTo>
                        <a:pt x="384" y="566"/>
                      </a:lnTo>
                      <a:lnTo>
                        <a:pt x="382" y="559"/>
                      </a:lnTo>
                      <a:lnTo>
                        <a:pt x="381" y="554"/>
                      </a:lnTo>
                      <a:lnTo>
                        <a:pt x="381" y="547"/>
                      </a:lnTo>
                      <a:lnTo>
                        <a:pt x="382" y="541"/>
                      </a:lnTo>
                      <a:lnTo>
                        <a:pt x="384" y="534"/>
                      </a:lnTo>
                      <a:lnTo>
                        <a:pt x="387" y="527"/>
                      </a:lnTo>
                      <a:lnTo>
                        <a:pt x="390" y="521"/>
                      </a:lnTo>
                      <a:lnTo>
                        <a:pt x="399" y="509"/>
                      </a:lnTo>
                      <a:lnTo>
                        <a:pt x="408" y="497"/>
                      </a:lnTo>
                      <a:lnTo>
                        <a:pt x="418" y="488"/>
                      </a:lnTo>
                      <a:lnTo>
                        <a:pt x="427" y="479"/>
                      </a:lnTo>
                      <a:lnTo>
                        <a:pt x="443" y="464"/>
                      </a:lnTo>
                      <a:lnTo>
                        <a:pt x="458" y="454"/>
                      </a:lnTo>
                      <a:lnTo>
                        <a:pt x="470" y="447"/>
                      </a:lnTo>
                      <a:lnTo>
                        <a:pt x="480" y="442"/>
                      </a:lnTo>
                      <a:lnTo>
                        <a:pt x="485" y="439"/>
                      </a:lnTo>
                      <a:lnTo>
                        <a:pt x="488" y="439"/>
                      </a:lnTo>
                      <a:lnTo>
                        <a:pt x="486" y="441"/>
                      </a:lnTo>
                      <a:lnTo>
                        <a:pt x="485" y="447"/>
                      </a:lnTo>
                      <a:lnTo>
                        <a:pt x="483" y="456"/>
                      </a:lnTo>
                      <a:lnTo>
                        <a:pt x="482" y="469"/>
                      </a:lnTo>
                      <a:lnTo>
                        <a:pt x="482" y="476"/>
                      </a:lnTo>
                      <a:lnTo>
                        <a:pt x="483" y="484"/>
                      </a:lnTo>
                      <a:lnTo>
                        <a:pt x="485" y="493"/>
                      </a:lnTo>
                      <a:lnTo>
                        <a:pt x="488" y="502"/>
                      </a:lnTo>
                      <a:lnTo>
                        <a:pt x="492" y="512"/>
                      </a:lnTo>
                      <a:lnTo>
                        <a:pt x="497" y="523"/>
                      </a:lnTo>
                      <a:lnTo>
                        <a:pt x="504" y="533"/>
                      </a:lnTo>
                      <a:lnTo>
                        <a:pt x="513" y="543"/>
                      </a:lnTo>
                      <a:lnTo>
                        <a:pt x="521" y="553"/>
                      </a:lnTo>
                      <a:lnTo>
                        <a:pt x="529" y="559"/>
                      </a:lnTo>
                      <a:lnTo>
                        <a:pt x="535" y="564"/>
                      </a:lnTo>
                      <a:lnTo>
                        <a:pt x="540" y="566"/>
                      </a:lnTo>
                      <a:lnTo>
                        <a:pt x="546" y="567"/>
                      </a:lnTo>
                      <a:lnTo>
                        <a:pt x="550" y="565"/>
                      </a:lnTo>
                      <a:lnTo>
                        <a:pt x="554" y="563"/>
                      </a:lnTo>
                      <a:lnTo>
                        <a:pt x="556" y="559"/>
                      </a:lnTo>
                      <a:lnTo>
                        <a:pt x="562" y="548"/>
                      </a:lnTo>
                      <a:lnTo>
                        <a:pt x="567" y="533"/>
                      </a:lnTo>
                      <a:lnTo>
                        <a:pt x="571" y="516"/>
                      </a:lnTo>
                      <a:lnTo>
                        <a:pt x="577" y="499"/>
                      </a:lnTo>
                      <a:lnTo>
                        <a:pt x="579" y="492"/>
                      </a:lnTo>
                      <a:lnTo>
                        <a:pt x="582" y="487"/>
                      </a:lnTo>
                      <a:lnTo>
                        <a:pt x="586" y="484"/>
                      </a:lnTo>
                      <a:lnTo>
                        <a:pt x="590" y="484"/>
                      </a:lnTo>
                      <a:lnTo>
                        <a:pt x="594" y="485"/>
                      </a:lnTo>
                      <a:lnTo>
                        <a:pt x="600" y="488"/>
                      </a:lnTo>
                      <a:lnTo>
                        <a:pt x="605" y="493"/>
                      </a:lnTo>
                      <a:lnTo>
                        <a:pt x="610" y="497"/>
                      </a:lnTo>
                      <a:lnTo>
                        <a:pt x="620" y="509"/>
                      </a:lnTo>
                      <a:lnTo>
                        <a:pt x="629" y="519"/>
                      </a:lnTo>
                      <a:lnTo>
                        <a:pt x="635" y="528"/>
                      </a:lnTo>
                      <a:lnTo>
                        <a:pt x="637" y="532"/>
                      </a:lnTo>
                      <a:lnTo>
                        <a:pt x="647" y="523"/>
                      </a:lnTo>
                      <a:lnTo>
                        <a:pt x="675" y="500"/>
                      </a:lnTo>
                      <a:lnTo>
                        <a:pt x="694" y="485"/>
                      </a:lnTo>
                      <a:lnTo>
                        <a:pt x="717" y="469"/>
                      </a:lnTo>
                      <a:lnTo>
                        <a:pt x="744" y="454"/>
                      </a:lnTo>
                      <a:lnTo>
                        <a:pt x="774" y="438"/>
                      </a:lnTo>
                      <a:lnTo>
                        <a:pt x="788" y="431"/>
                      </a:lnTo>
                      <a:lnTo>
                        <a:pt x="805" y="424"/>
                      </a:lnTo>
                      <a:lnTo>
                        <a:pt x="822" y="417"/>
                      </a:lnTo>
                      <a:lnTo>
                        <a:pt x="839" y="411"/>
                      </a:lnTo>
                      <a:lnTo>
                        <a:pt x="857" y="407"/>
                      </a:lnTo>
                      <a:lnTo>
                        <a:pt x="876" y="402"/>
                      </a:lnTo>
                      <a:lnTo>
                        <a:pt x="894" y="400"/>
                      </a:lnTo>
                      <a:lnTo>
                        <a:pt x="914" y="397"/>
                      </a:lnTo>
                      <a:lnTo>
                        <a:pt x="933" y="396"/>
                      </a:lnTo>
                      <a:lnTo>
                        <a:pt x="953" y="396"/>
                      </a:lnTo>
                      <a:lnTo>
                        <a:pt x="973" y="397"/>
                      </a:lnTo>
                      <a:lnTo>
                        <a:pt x="993" y="401"/>
                      </a:lnTo>
                      <a:lnTo>
                        <a:pt x="1014" y="405"/>
                      </a:lnTo>
                      <a:lnTo>
                        <a:pt x="1034" y="411"/>
                      </a:lnTo>
                      <a:lnTo>
                        <a:pt x="1055" y="419"/>
                      </a:lnTo>
                      <a:lnTo>
                        <a:pt x="1076" y="428"/>
                      </a:lnTo>
                      <a:lnTo>
                        <a:pt x="686" y="293"/>
                      </a:lnTo>
                      <a:lnTo>
                        <a:pt x="718" y="283"/>
                      </a:lnTo>
                      <a:lnTo>
                        <a:pt x="807" y="257"/>
                      </a:lnTo>
                      <a:lnTo>
                        <a:pt x="867" y="241"/>
                      </a:lnTo>
                      <a:lnTo>
                        <a:pt x="935" y="224"/>
                      </a:lnTo>
                      <a:lnTo>
                        <a:pt x="1012" y="208"/>
                      </a:lnTo>
                      <a:lnTo>
                        <a:pt x="1093" y="192"/>
                      </a:lnTo>
                      <a:lnTo>
                        <a:pt x="1135" y="185"/>
                      </a:lnTo>
                      <a:lnTo>
                        <a:pt x="1178" y="178"/>
                      </a:lnTo>
                      <a:lnTo>
                        <a:pt x="1221" y="172"/>
                      </a:lnTo>
                      <a:lnTo>
                        <a:pt x="1264" y="168"/>
                      </a:lnTo>
                      <a:lnTo>
                        <a:pt x="1308" y="164"/>
                      </a:lnTo>
                      <a:lnTo>
                        <a:pt x="1350" y="162"/>
                      </a:lnTo>
                      <a:lnTo>
                        <a:pt x="1393" y="161"/>
                      </a:lnTo>
                      <a:lnTo>
                        <a:pt x="1435" y="161"/>
                      </a:lnTo>
                      <a:lnTo>
                        <a:pt x="1475" y="162"/>
                      </a:lnTo>
                      <a:lnTo>
                        <a:pt x="1515" y="165"/>
                      </a:lnTo>
                      <a:lnTo>
                        <a:pt x="1553" y="170"/>
                      </a:lnTo>
                      <a:lnTo>
                        <a:pt x="1591" y="177"/>
                      </a:lnTo>
                      <a:lnTo>
                        <a:pt x="1626" y="186"/>
                      </a:lnTo>
                      <a:lnTo>
                        <a:pt x="1659" y="196"/>
                      </a:lnTo>
                      <a:lnTo>
                        <a:pt x="1690" y="210"/>
                      </a:lnTo>
                      <a:lnTo>
                        <a:pt x="1719" y="226"/>
                      </a:lnTo>
                      <a:lnTo>
                        <a:pt x="1697" y="215"/>
                      </a:lnTo>
                      <a:lnTo>
                        <a:pt x="1675" y="206"/>
                      </a:lnTo>
                      <a:lnTo>
                        <a:pt x="1652" y="199"/>
                      </a:lnTo>
                      <a:lnTo>
                        <a:pt x="1629" y="193"/>
                      </a:lnTo>
                      <a:lnTo>
                        <a:pt x="1605" y="189"/>
                      </a:lnTo>
                      <a:lnTo>
                        <a:pt x="1582" y="187"/>
                      </a:lnTo>
                      <a:lnTo>
                        <a:pt x="1560" y="186"/>
                      </a:lnTo>
                      <a:lnTo>
                        <a:pt x="1538" y="185"/>
                      </a:lnTo>
                      <a:lnTo>
                        <a:pt x="1499" y="186"/>
                      </a:lnTo>
                      <a:lnTo>
                        <a:pt x="1467" y="189"/>
                      </a:lnTo>
                      <a:lnTo>
                        <a:pt x="1447" y="192"/>
                      </a:lnTo>
                      <a:lnTo>
                        <a:pt x="1440" y="193"/>
                      </a:lnTo>
                      <a:lnTo>
                        <a:pt x="1293" y="0"/>
                      </a:lnTo>
                      <a:lnTo>
                        <a:pt x="1326" y="2"/>
                      </a:lnTo>
                      <a:lnTo>
                        <a:pt x="1415" y="10"/>
                      </a:lnTo>
                      <a:lnTo>
                        <a:pt x="1476" y="17"/>
                      </a:lnTo>
                      <a:lnTo>
                        <a:pt x="1546" y="25"/>
                      </a:lnTo>
                      <a:lnTo>
                        <a:pt x="1622" y="36"/>
                      </a:lnTo>
                      <a:lnTo>
                        <a:pt x="1704" y="48"/>
                      </a:lnTo>
                      <a:lnTo>
                        <a:pt x="1789" y="63"/>
                      </a:lnTo>
                      <a:lnTo>
                        <a:pt x="1875" y="80"/>
                      </a:lnTo>
                      <a:lnTo>
                        <a:pt x="1917" y="91"/>
                      </a:lnTo>
                      <a:lnTo>
                        <a:pt x="1960" y="101"/>
                      </a:lnTo>
                      <a:lnTo>
                        <a:pt x="2001" y="112"/>
                      </a:lnTo>
                      <a:lnTo>
                        <a:pt x="2043" y="124"/>
                      </a:lnTo>
                      <a:lnTo>
                        <a:pt x="2083" y="137"/>
                      </a:lnTo>
                      <a:lnTo>
                        <a:pt x="2122" y="150"/>
                      </a:lnTo>
                      <a:lnTo>
                        <a:pt x="2159" y="164"/>
                      </a:lnTo>
                      <a:lnTo>
                        <a:pt x="2194" y="179"/>
                      </a:lnTo>
                      <a:lnTo>
                        <a:pt x="2227" y="195"/>
                      </a:lnTo>
                      <a:lnTo>
                        <a:pt x="2260" y="212"/>
                      </a:lnTo>
                      <a:lnTo>
                        <a:pt x="2288" y="230"/>
                      </a:lnTo>
                      <a:lnTo>
                        <a:pt x="2315" y="248"/>
                      </a:lnTo>
                      <a:lnTo>
                        <a:pt x="2363" y="287"/>
                      </a:lnTo>
                      <a:lnTo>
                        <a:pt x="2408" y="324"/>
                      </a:lnTo>
                      <a:lnTo>
                        <a:pt x="2448" y="361"/>
                      </a:lnTo>
                      <a:lnTo>
                        <a:pt x="2483" y="396"/>
                      </a:lnTo>
                      <a:lnTo>
                        <a:pt x="2515" y="430"/>
                      </a:lnTo>
                      <a:lnTo>
                        <a:pt x="2543" y="461"/>
                      </a:lnTo>
                      <a:lnTo>
                        <a:pt x="2567" y="490"/>
                      </a:lnTo>
                      <a:lnTo>
                        <a:pt x="2588" y="518"/>
                      </a:lnTo>
                      <a:lnTo>
                        <a:pt x="2605" y="543"/>
                      </a:lnTo>
                      <a:lnTo>
                        <a:pt x="2620" y="565"/>
                      </a:lnTo>
                      <a:lnTo>
                        <a:pt x="2632" y="585"/>
                      </a:lnTo>
                      <a:lnTo>
                        <a:pt x="2641" y="601"/>
                      </a:lnTo>
                      <a:lnTo>
                        <a:pt x="2652" y="624"/>
                      </a:lnTo>
                      <a:lnTo>
                        <a:pt x="2656" y="632"/>
                      </a:lnTo>
                      <a:lnTo>
                        <a:pt x="2658" y="624"/>
                      </a:lnTo>
                      <a:lnTo>
                        <a:pt x="2666" y="601"/>
                      </a:lnTo>
                      <a:lnTo>
                        <a:pt x="2673" y="586"/>
                      </a:lnTo>
                      <a:lnTo>
                        <a:pt x="2681" y="570"/>
                      </a:lnTo>
                      <a:lnTo>
                        <a:pt x="2690" y="551"/>
                      </a:lnTo>
                      <a:lnTo>
                        <a:pt x="2702" y="532"/>
                      </a:lnTo>
                      <a:lnTo>
                        <a:pt x="2715" y="513"/>
                      </a:lnTo>
                      <a:lnTo>
                        <a:pt x="2732" y="494"/>
                      </a:lnTo>
                      <a:lnTo>
                        <a:pt x="2741" y="485"/>
                      </a:lnTo>
                      <a:lnTo>
                        <a:pt x="2750" y="476"/>
                      </a:lnTo>
                      <a:lnTo>
                        <a:pt x="2760" y="467"/>
                      </a:lnTo>
                      <a:lnTo>
                        <a:pt x="2771" y="459"/>
                      </a:lnTo>
                      <a:lnTo>
                        <a:pt x="2781" y="451"/>
                      </a:lnTo>
                      <a:lnTo>
                        <a:pt x="2794" y="445"/>
                      </a:lnTo>
                      <a:lnTo>
                        <a:pt x="2806" y="438"/>
                      </a:lnTo>
                      <a:lnTo>
                        <a:pt x="2819" y="432"/>
                      </a:lnTo>
                      <a:lnTo>
                        <a:pt x="2833" y="426"/>
                      </a:lnTo>
                      <a:lnTo>
                        <a:pt x="2848" y="423"/>
                      </a:lnTo>
                      <a:lnTo>
                        <a:pt x="2862" y="419"/>
                      </a:lnTo>
                      <a:lnTo>
                        <a:pt x="2879" y="416"/>
                      </a:lnTo>
                      <a:lnTo>
                        <a:pt x="2893" y="415"/>
                      </a:lnTo>
                      <a:lnTo>
                        <a:pt x="2908" y="415"/>
                      </a:lnTo>
                      <a:lnTo>
                        <a:pt x="2922" y="416"/>
                      </a:lnTo>
                      <a:lnTo>
                        <a:pt x="2936" y="419"/>
                      </a:lnTo>
                      <a:lnTo>
                        <a:pt x="2949" y="423"/>
                      </a:lnTo>
                      <a:lnTo>
                        <a:pt x="2960" y="426"/>
                      </a:lnTo>
                      <a:lnTo>
                        <a:pt x="2972" y="432"/>
                      </a:lnTo>
                      <a:lnTo>
                        <a:pt x="2983" y="438"/>
                      </a:lnTo>
                      <a:lnTo>
                        <a:pt x="2993" y="445"/>
                      </a:lnTo>
                      <a:lnTo>
                        <a:pt x="3003" y="453"/>
                      </a:lnTo>
                      <a:lnTo>
                        <a:pt x="3012" y="461"/>
                      </a:lnTo>
                      <a:lnTo>
                        <a:pt x="3021" y="469"/>
                      </a:lnTo>
                      <a:lnTo>
                        <a:pt x="3036" y="487"/>
                      </a:lnTo>
                      <a:lnTo>
                        <a:pt x="3050" y="507"/>
                      </a:lnTo>
                      <a:lnTo>
                        <a:pt x="3061" y="526"/>
                      </a:lnTo>
                      <a:lnTo>
                        <a:pt x="3070" y="544"/>
                      </a:lnTo>
                      <a:lnTo>
                        <a:pt x="3078" y="562"/>
                      </a:lnTo>
                      <a:lnTo>
                        <a:pt x="3085" y="578"/>
                      </a:lnTo>
                      <a:lnTo>
                        <a:pt x="3092" y="602"/>
                      </a:lnTo>
                      <a:lnTo>
                        <a:pt x="3094" y="611"/>
                      </a:lnTo>
                      <a:lnTo>
                        <a:pt x="3085" y="613"/>
                      </a:lnTo>
                      <a:lnTo>
                        <a:pt x="3060" y="623"/>
                      </a:lnTo>
                      <a:lnTo>
                        <a:pt x="3044" y="631"/>
                      </a:lnTo>
                      <a:lnTo>
                        <a:pt x="3027" y="642"/>
                      </a:lnTo>
                      <a:lnTo>
                        <a:pt x="3019" y="648"/>
                      </a:lnTo>
                      <a:lnTo>
                        <a:pt x="3011" y="656"/>
                      </a:lnTo>
                      <a:lnTo>
                        <a:pt x="3003" y="664"/>
                      </a:lnTo>
                      <a:lnTo>
                        <a:pt x="2995" y="672"/>
                      </a:lnTo>
                      <a:lnTo>
                        <a:pt x="2988" y="682"/>
                      </a:lnTo>
                      <a:lnTo>
                        <a:pt x="2981" y="694"/>
                      </a:lnTo>
                      <a:lnTo>
                        <a:pt x="2975" y="705"/>
                      </a:lnTo>
                      <a:lnTo>
                        <a:pt x="2970" y="718"/>
                      </a:lnTo>
                      <a:lnTo>
                        <a:pt x="2966" y="733"/>
                      </a:lnTo>
                      <a:lnTo>
                        <a:pt x="2964" y="748"/>
                      </a:lnTo>
                      <a:lnTo>
                        <a:pt x="2961" y="764"/>
                      </a:lnTo>
                      <a:lnTo>
                        <a:pt x="2961" y="781"/>
                      </a:lnTo>
                      <a:lnTo>
                        <a:pt x="2962" y="801"/>
                      </a:lnTo>
                      <a:lnTo>
                        <a:pt x="2965" y="820"/>
                      </a:lnTo>
                      <a:lnTo>
                        <a:pt x="2969" y="842"/>
                      </a:lnTo>
                      <a:lnTo>
                        <a:pt x="2976" y="865"/>
                      </a:lnTo>
                      <a:lnTo>
                        <a:pt x="2984" y="890"/>
                      </a:lnTo>
                      <a:lnTo>
                        <a:pt x="2995" y="916"/>
                      </a:lnTo>
                      <a:lnTo>
                        <a:pt x="3007" y="943"/>
                      </a:lnTo>
                      <a:lnTo>
                        <a:pt x="3022" y="972"/>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4" name=""/>
                <p:cNvSpPr/>
                <p:nvPr/>
              </p:nvSpPr>
              <p:spPr>
                <a:xfrm>
                  <a:off x="3477600" y="1615680"/>
                  <a:ext cx="684360" cy="397440"/>
                </a:xfrm>
                <a:custGeom>
                  <a:avLst/>
                  <a:gdLst/>
                  <a:ahLst/>
                  <a:rect l="l" t="t" r="r" b="b"/>
                  <a:pathLst>
                    <a:path w="3388" h="2097">
                      <a:moveTo>
                        <a:pt x="3022" y="972"/>
                      </a:moveTo>
                      <a:lnTo>
                        <a:pt x="3028" y="979"/>
                      </a:lnTo>
                      <a:lnTo>
                        <a:pt x="3035" y="986"/>
                      </a:lnTo>
                      <a:lnTo>
                        <a:pt x="3043" y="990"/>
                      </a:lnTo>
                      <a:lnTo>
                        <a:pt x="3050" y="996"/>
                      </a:lnTo>
                      <a:lnTo>
                        <a:pt x="3059" y="999"/>
                      </a:lnTo>
                      <a:lnTo>
                        <a:pt x="3068" y="1003"/>
                      </a:lnTo>
                      <a:lnTo>
                        <a:pt x="3077" y="1006"/>
                      </a:lnTo>
                      <a:lnTo>
                        <a:pt x="3086" y="1009"/>
                      </a:lnTo>
                      <a:lnTo>
                        <a:pt x="3106" y="1012"/>
                      </a:lnTo>
                      <a:lnTo>
                        <a:pt x="3127" y="1013"/>
                      </a:lnTo>
                      <a:lnTo>
                        <a:pt x="3147" y="1013"/>
                      </a:lnTo>
                      <a:lnTo>
                        <a:pt x="3167" y="1012"/>
                      </a:lnTo>
                      <a:lnTo>
                        <a:pt x="3205" y="1009"/>
                      </a:lnTo>
                      <a:lnTo>
                        <a:pt x="3237" y="1002"/>
                      </a:lnTo>
                      <a:lnTo>
                        <a:pt x="3258" y="997"/>
                      </a:lnTo>
                      <a:lnTo>
                        <a:pt x="3266" y="995"/>
                      </a:lnTo>
                      <a:lnTo>
                        <a:pt x="3274" y="1004"/>
                      </a:lnTo>
                      <a:lnTo>
                        <a:pt x="3292" y="1030"/>
                      </a:lnTo>
                      <a:lnTo>
                        <a:pt x="3317" y="1066"/>
                      </a:lnTo>
                      <a:lnTo>
                        <a:pt x="3345" y="1109"/>
                      </a:lnTo>
                      <a:lnTo>
                        <a:pt x="3357" y="1132"/>
                      </a:lnTo>
                      <a:lnTo>
                        <a:pt x="3369" y="1152"/>
                      </a:lnTo>
                      <a:lnTo>
                        <a:pt x="3378" y="1173"/>
                      </a:lnTo>
                      <a:lnTo>
                        <a:pt x="3385" y="1192"/>
                      </a:lnTo>
                      <a:lnTo>
                        <a:pt x="3387" y="1202"/>
                      </a:lnTo>
                      <a:lnTo>
                        <a:pt x="3388" y="1210"/>
                      </a:lnTo>
                      <a:lnTo>
                        <a:pt x="3388" y="1217"/>
                      </a:lnTo>
                      <a:lnTo>
                        <a:pt x="3388" y="1223"/>
                      </a:lnTo>
                      <a:lnTo>
                        <a:pt x="3386" y="1229"/>
                      </a:lnTo>
                      <a:lnTo>
                        <a:pt x="3384" y="1234"/>
                      </a:lnTo>
                      <a:lnTo>
                        <a:pt x="3379" y="1237"/>
                      </a:lnTo>
                      <a:lnTo>
                        <a:pt x="3375" y="1241"/>
                      </a:lnTo>
                      <a:lnTo>
                        <a:pt x="3373" y="1249"/>
                      </a:lnTo>
                      <a:lnTo>
                        <a:pt x="3372" y="1273"/>
                      </a:lnTo>
                      <a:lnTo>
                        <a:pt x="3371" y="1310"/>
                      </a:lnTo>
                      <a:lnTo>
                        <a:pt x="3370" y="1353"/>
                      </a:lnTo>
                      <a:lnTo>
                        <a:pt x="3369" y="1400"/>
                      </a:lnTo>
                      <a:lnTo>
                        <a:pt x="3368" y="1450"/>
                      </a:lnTo>
                      <a:lnTo>
                        <a:pt x="3367" y="1495"/>
                      </a:lnTo>
                      <a:lnTo>
                        <a:pt x="3365" y="1534"/>
                      </a:lnTo>
                      <a:lnTo>
                        <a:pt x="3365" y="1541"/>
                      </a:lnTo>
                      <a:lnTo>
                        <a:pt x="3364" y="1546"/>
                      </a:lnTo>
                      <a:lnTo>
                        <a:pt x="3363" y="1551"/>
                      </a:lnTo>
                      <a:lnTo>
                        <a:pt x="3361" y="1553"/>
                      </a:lnTo>
                      <a:lnTo>
                        <a:pt x="3357" y="1555"/>
                      </a:lnTo>
                      <a:lnTo>
                        <a:pt x="3354" y="1555"/>
                      </a:lnTo>
                      <a:lnTo>
                        <a:pt x="3351" y="1554"/>
                      </a:lnTo>
                      <a:lnTo>
                        <a:pt x="3346" y="1552"/>
                      </a:lnTo>
                      <a:lnTo>
                        <a:pt x="3336" y="1544"/>
                      </a:lnTo>
                      <a:lnTo>
                        <a:pt x="3324" y="1535"/>
                      </a:lnTo>
                      <a:lnTo>
                        <a:pt x="3311" y="1522"/>
                      </a:lnTo>
                      <a:lnTo>
                        <a:pt x="3298" y="1508"/>
                      </a:lnTo>
                      <a:lnTo>
                        <a:pt x="3284" y="1496"/>
                      </a:lnTo>
                      <a:lnTo>
                        <a:pt x="3269" y="1482"/>
                      </a:lnTo>
                      <a:lnTo>
                        <a:pt x="3254" y="1470"/>
                      </a:lnTo>
                      <a:lnTo>
                        <a:pt x="3240" y="1461"/>
                      </a:lnTo>
                      <a:lnTo>
                        <a:pt x="3233" y="1458"/>
                      </a:lnTo>
                      <a:lnTo>
                        <a:pt x="3227" y="1456"/>
                      </a:lnTo>
                      <a:lnTo>
                        <a:pt x="3221" y="1454"/>
                      </a:lnTo>
                      <a:lnTo>
                        <a:pt x="3214" y="1453"/>
                      </a:lnTo>
                      <a:lnTo>
                        <a:pt x="3208" y="1454"/>
                      </a:lnTo>
                      <a:lnTo>
                        <a:pt x="3202" y="1457"/>
                      </a:lnTo>
                      <a:lnTo>
                        <a:pt x="3198" y="1460"/>
                      </a:lnTo>
                      <a:lnTo>
                        <a:pt x="3192" y="1466"/>
                      </a:lnTo>
                      <a:lnTo>
                        <a:pt x="3189" y="1473"/>
                      </a:lnTo>
                      <a:lnTo>
                        <a:pt x="3185" y="1480"/>
                      </a:lnTo>
                      <a:lnTo>
                        <a:pt x="3182" y="1487"/>
                      </a:lnTo>
                      <a:lnTo>
                        <a:pt x="3179" y="1495"/>
                      </a:lnTo>
                      <a:lnTo>
                        <a:pt x="3177" y="1512"/>
                      </a:lnTo>
                      <a:lnTo>
                        <a:pt x="3176" y="1529"/>
                      </a:lnTo>
                      <a:lnTo>
                        <a:pt x="3177" y="1547"/>
                      </a:lnTo>
                      <a:lnTo>
                        <a:pt x="3178" y="1567"/>
                      </a:lnTo>
                      <a:lnTo>
                        <a:pt x="3182" y="1585"/>
                      </a:lnTo>
                      <a:lnTo>
                        <a:pt x="3186" y="1604"/>
                      </a:lnTo>
                      <a:lnTo>
                        <a:pt x="3197" y="1637"/>
                      </a:lnTo>
                      <a:lnTo>
                        <a:pt x="3206" y="1666"/>
                      </a:lnTo>
                      <a:lnTo>
                        <a:pt x="3214" y="1684"/>
                      </a:lnTo>
                      <a:lnTo>
                        <a:pt x="3217" y="1691"/>
                      </a:lnTo>
                      <a:lnTo>
                        <a:pt x="3168" y="2007"/>
                      </a:lnTo>
                      <a:lnTo>
                        <a:pt x="3161" y="1985"/>
                      </a:lnTo>
                      <a:lnTo>
                        <a:pt x="3143" y="1930"/>
                      </a:lnTo>
                      <a:lnTo>
                        <a:pt x="3129" y="1893"/>
                      </a:lnTo>
                      <a:lnTo>
                        <a:pt x="3113" y="1852"/>
                      </a:lnTo>
                      <a:lnTo>
                        <a:pt x="3094" y="1808"/>
                      </a:lnTo>
                      <a:lnTo>
                        <a:pt x="3074" y="1765"/>
                      </a:lnTo>
                      <a:lnTo>
                        <a:pt x="3051" y="1721"/>
                      </a:lnTo>
                      <a:lnTo>
                        <a:pt x="3027" y="1678"/>
                      </a:lnTo>
                      <a:lnTo>
                        <a:pt x="3014" y="1659"/>
                      </a:lnTo>
                      <a:lnTo>
                        <a:pt x="3000" y="1640"/>
                      </a:lnTo>
                      <a:lnTo>
                        <a:pt x="2986" y="1623"/>
                      </a:lnTo>
                      <a:lnTo>
                        <a:pt x="2973" y="1607"/>
                      </a:lnTo>
                      <a:lnTo>
                        <a:pt x="2958" y="1593"/>
                      </a:lnTo>
                      <a:lnTo>
                        <a:pt x="2944" y="1581"/>
                      </a:lnTo>
                      <a:lnTo>
                        <a:pt x="2929" y="1570"/>
                      </a:lnTo>
                      <a:lnTo>
                        <a:pt x="2914" y="1562"/>
                      </a:lnTo>
                      <a:lnTo>
                        <a:pt x="2898" y="1557"/>
                      </a:lnTo>
                      <a:lnTo>
                        <a:pt x="2883" y="1553"/>
                      </a:lnTo>
                      <a:lnTo>
                        <a:pt x="2867" y="1553"/>
                      </a:lnTo>
                      <a:lnTo>
                        <a:pt x="2851" y="1555"/>
                      </a:lnTo>
                      <a:lnTo>
                        <a:pt x="2835" y="1561"/>
                      </a:lnTo>
                      <a:lnTo>
                        <a:pt x="2820" y="1567"/>
                      </a:lnTo>
                      <a:lnTo>
                        <a:pt x="2805" y="1575"/>
                      </a:lnTo>
                      <a:lnTo>
                        <a:pt x="2791" y="1584"/>
                      </a:lnTo>
                      <a:lnTo>
                        <a:pt x="2779" y="1595"/>
                      </a:lnTo>
                      <a:lnTo>
                        <a:pt x="2765" y="1606"/>
                      </a:lnTo>
                      <a:lnTo>
                        <a:pt x="2752" y="1619"/>
                      </a:lnTo>
                      <a:lnTo>
                        <a:pt x="2741" y="1631"/>
                      </a:lnTo>
                      <a:lnTo>
                        <a:pt x="2729" y="1645"/>
                      </a:lnTo>
                      <a:lnTo>
                        <a:pt x="2719" y="1660"/>
                      </a:lnTo>
                      <a:lnTo>
                        <a:pt x="2709" y="1675"/>
                      </a:lnTo>
                      <a:lnTo>
                        <a:pt x="2699" y="1690"/>
                      </a:lnTo>
                      <a:lnTo>
                        <a:pt x="2681" y="1721"/>
                      </a:lnTo>
                      <a:lnTo>
                        <a:pt x="2665" y="1753"/>
                      </a:lnTo>
                      <a:lnTo>
                        <a:pt x="2651" y="1784"/>
                      </a:lnTo>
                      <a:lnTo>
                        <a:pt x="2640" y="1814"/>
                      </a:lnTo>
                      <a:lnTo>
                        <a:pt x="2629" y="1842"/>
                      </a:lnTo>
                      <a:lnTo>
                        <a:pt x="2621" y="1867"/>
                      </a:lnTo>
                      <a:lnTo>
                        <a:pt x="2611" y="1902"/>
                      </a:lnTo>
                      <a:lnTo>
                        <a:pt x="2608" y="1916"/>
                      </a:lnTo>
                      <a:lnTo>
                        <a:pt x="2412" y="1871"/>
                      </a:lnTo>
                      <a:lnTo>
                        <a:pt x="2632" y="1195"/>
                      </a:lnTo>
                      <a:lnTo>
                        <a:pt x="2629" y="1182"/>
                      </a:lnTo>
                      <a:lnTo>
                        <a:pt x="2621" y="1148"/>
                      </a:lnTo>
                      <a:lnTo>
                        <a:pt x="2616" y="1123"/>
                      </a:lnTo>
                      <a:lnTo>
                        <a:pt x="2608" y="1096"/>
                      </a:lnTo>
                      <a:lnTo>
                        <a:pt x="2597" y="1065"/>
                      </a:lnTo>
                      <a:lnTo>
                        <a:pt x="2586" y="1033"/>
                      </a:lnTo>
                      <a:lnTo>
                        <a:pt x="2572" y="998"/>
                      </a:lnTo>
                      <a:lnTo>
                        <a:pt x="2557" y="963"/>
                      </a:lnTo>
                      <a:lnTo>
                        <a:pt x="2539" y="927"/>
                      </a:lnTo>
                      <a:lnTo>
                        <a:pt x="2518" y="891"/>
                      </a:lnTo>
                      <a:lnTo>
                        <a:pt x="2508" y="874"/>
                      </a:lnTo>
                      <a:lnTo>
                        <a:pt x="2496" y="857"/>
                      </a:lnTo>
                      <a:lnTo>
                        <a:pt x="2483" y="841"/>
                      </a:lnTo>
                      <a:lnTo>
                        <a:pt x="2471" y="825"/>
                      </a:lnTo>
                      <a:lnTo>
                        <a:pt x="2457" y="809"/>
                      </a:lnTo>
                      <a:lnTo>
                        <a:pt x="2442" y="794"/>
                      </a:lnTo>
                      <a:lnTo>
                        <a:pt x="2427" y="780"/>
                      </a:lnTo>
                      <a:lnTo>
                        <a:pt x="2412" y="766"/>
                      </a:lnTo>
                      <a:lnTo>
                        <a:pt x="2382" y="787"/>
                      </a:lnTo>
                      <a:lnTo>
                        <a:pt x="2302" y="842"/>
                      </a:lnTo>
                      <a:lnTo>
                        <a:pt x="2245" y="878"/>
                      </a:lnTo>
                      <a:lnTo>
                        <a:pt x="2178" y="919"/>
                      </a:lnTo>
                      <a:lnTo>
                        <a:pt x="2103" y="963"/>
                      </a:lnTo>
                      <a:lnTo>
                        <a:pt x="2022" y="1009"/>
                      </a:lnTo>
                      <a:lnTo>
                        <a:pt x="1979" y="1033"/>
                      </a:lnTo>
                      <a:lnTo>
                        <a:pt x="1935" y="1056"/>
                      </a:lnTo>
                      <a:lnTo>
                        <a:pt x="1890" y="1079"/>
                      </a:lnTo>
                      <a:lnTo>
                        <a:pt x="1844" y="1102"/>
                      </a:lnTo>
                      <a:lnTo>
                        <a:pt x="1797" y="1123"/>
                      </a:lnTo>
                      <a:lnTo>
                        <a:pt x="1749" y="1145"/>
                      </a:lnTo>
                      <a:lnTo>
                        <a:pt x="1700" y="1166"/>
                      </a:lnTo>
                      <a:lnTo>
                        <a:pt x="1652" y="1186"/>
                      </a:lnTo>
                      <a:lnTo>
                        <a:pt x="1603" y="1204"/>
                      </a:lnTo>
                      <a:lnTo>
                        <a:pt x="1554" y="1221"/>
                      </a:lnTo>
                      <a:lnTo>
                        <a:pt x="1505" y="1236"/>
                      </a:lnTo>
                      <a:lnTo>
                        <a:pt x="1457" y="1250"/>
                      </a:lnTo>
                      <a:lnTo>
                        <a:pt x="1409" y="1263"/>
                      </a:lnTo>
                      <a:lnTo>
                        <a:pt x="1362" y="1272"/>
                      </a:lnTo>
                      <a:lnTo>
                        <a:pt x="1314" y="1280"/>
                      </a:lnTo>
                      <a:lnTo>
                        <a:pt x="1269" y="1285"/>
                      </a:lnTo>
                      <a:lnTo>
                        <a:pt x="1286" y="1279"/>
                      </a:lnTo>
                      <a:lnTo>
                        <a:pt x="1334" y="1259"/>
                      </a:lnTo>
                      <a:lnTo>
                        <a:pt x="1365" y="1244"/>
                      </a:lnTo>
                      <a:lnTo>
                        <a:pt x="1401" y="1228"/>
                      </a:lnTo>
                      <a:lnTo>
                        <a:pt x="1438" y="1210"/>
                      </a:lnTo>
                      <a:lnTo>
                        <a:pt x="1479" y="1190"/>
                      </a:lnTo>
                      <a:lnTo>
                        <a:pt x="1518" y="1168"/>
                      </a:lnTo>
                      <a:lnTo>
                        <a:pt x="1557" y="1145"/>
                      </a:lnTo>
                      <a:lnTo>
                        <a:pt x="1593" y="1121"/>
                      </a:lnTo>
                      <a:lnTo>
                        <a:pt x="1628" y="1096"/>
                      </a:lnTo>
                      <a:lnTo>
                        <a:pt x="1643" y="1083"/>
                      </a:lnTo>
                      <a:lnTo>
                        <a:pt x="1657" y="1071"/>
                      </a:lnTo>
                      <a:lnTo>
                        <a:pt x="1669" y="1058"/>
                      </a:lnTo>
                      <a:lnTo>
                        <a:pt x="1680" y="1045"/>
                      </a:lnTo>
                      <a:lnTo>
                        <a:pt x="1689" y="1033"/>
                      </a:lnTo>
                      <a:lnTo>
                        <a:pt x="1696" y="1020"/>
                      </a:lnTo>
                      <a:lnTo>
                        <a:pt x="1701" y="1007"/>
                      </a:lnTo>
                      <a:lnTo>
                        <a:pt x="1705" y="995"/>
                      </a:lnTo>
                      <a:lnTo>
                        <a:pt x="1706" y="983"/>
                      </a:lnTo>
                      <a:lnTo>
                        <a:pt x="1707" y="974"/>
                      </a:lnTo>
                      <a:lnTo>
                        <a:pt x="1707" y="967"/>
                      </a:lnTo>
                      <a:lnTo>
                        <a:pt x="1705" y="962"/>
                      </a:lnTo>
                      <a:lnTo>
                        <a:pt x="1703" y="959"/>
                      </a:lnTo>
                      <a:lnTo>
                        <a:pt x="1699" y="958"/>
                      </a:lnTo>
                      <a:lnTo>
                        <a:pt x="1695" y="959"/>
                      </a:lnTo>
                      <a:lnTo>
                        <a:pt x="1689" y="962"/>
                      </a:lnTo>
                      <a:lnTo>
                        <a:pt x="1675" y="971"/>
                      </a:lnTo>
                      <a:lnTo>
                        <a:pt x="1657" y="984"/>
                      </a:lnTo>
                      <a:lnTo>
                        <a:pt x="1635" y="1003"/>
                      </a:lnTo>
                      <a:lnTo>
                        <a:pt x="1610" y="1024"/>
                      </a:lnTo>
                      <a:lnTo>
                        <a:pt x="1581" y="1047"/>
                      </a:lnTo>
                      <a:lnTo>
                        <a:pt x="1549" y="1071"/>
                      </a:lnTo>
                      <a:lnTo>
                        <a:pt x="1531" y="1082"/>
                      </a:lnTo>
                      <a:lnTo>
                        <a:pt x="1513" y="1094"/>
                      </a:lnTo>
                      <a:lnTo>
                        <a:pt x="1495" y="1105"/>
                      </a:lnTo>
                      <a:lnTo>
                        <a:pt x="1475" y="1115"/>
                      </a:lnTo>
                      <a:lnTo>
                        <a:pt x="1455" y="1126"/>
                      </a:lnTo>
                      <a:lnTo>
                        <a:pt x="1434" y="1136"/>
                      </a:lnTo>
                      <a:lnTo>
                        <a:pt x="1412" y="1145"/>
                      </a:lnTo>
                      <a:lnTo>
                        <a:pt x="1389" y="1153"/>
                      </a:lnTo>
                      <a:lnTo>
                        <a:pt x="1366" y="1160"/>
                      </a:lnTo>
                      <a:lnTo>
                        <a:pt x="1342" y="1165"/>
                      </a:lnTo>
                      <a:lnTo>
                        <a:pt x="1318" y="1169"/>
                      </a:lnTo>
                      <a:lnTo>
                        <a:pt x="1293" y="1173"/>
                      </a:lnTo>
                      <a:lnTo>
                        <a:pt x="1221" y="1179"/>
                      </a:lnTo>
                      <a:lnTo>
                        <a:pt x="1200" y="1179"/>
                      </a:lnTo>
                      <a:lnTo>
                        <a:pt x="1216" y="1172"/>
                      </a:lnTo>
                      <a:lnTo>
                        <a:pt x="1259" y="1156"/>
                      </a:lnTo>
                      <a:lnTo>
                        <a:pt x="1287" y="1144"/>
                      </a:lnTo>
                      <a:lnTo>
                        <a:pt x="1318" y="1129"/>
                      </a:lnTo>
                      <a:lnTo>
                        <a:pt x="1333" y="1121"/>
                      </a:lnTo>
                      <a:lnTo>
                        <a:pt x="1348" y="1112"/>
                      </a:lnTo>
                      <a:lnTo>
                        <a:pt x="1364" y="1102"/>
                      </a:lnTo>
                      <a:lnTo>
                        <a:pt x="1379" y="1091"/>
                      </a:lnTo>
                      <a:lnTo>
                        <a:pt x="1393" y="1080"/>
                      </a:lnTo>
                      <a:lnTo>
                        <a:pt x="1406" y="1067"/>
                      </a:lnTo>
                      <a:lnTo>
                        <a:pt x="1419" y="1053"/>
                      </a:lnTo>
                      <a:lnTo>
                        <a:pt x="1432" y="1040"/>
                      </a:lnTo>
                      <a:lnTo>
                        <a:pt x="1442" y="1024"/>
                      </a:lnTo>
                      <a:lnTo>
                        <a:pt x="1451" y="1007"/>
                      </a:lnTo>
                      <a:lnTo>
                        <a:pt x="1458" y="990"/>
                      </a:lnTo>
                      <a:lnTo>
                        <a:pt x="1464" y="972"/>
                      </a:lnTo>
                      <a:lnTo>
                        <a:pt x="1467" y="955"/>
                      </a:lnTo>
                      <a:lnTo>
                        <a:pt x="1471" y="939"/>
                      </a:lnTo>
                      <a:lnTo>
                        <a:pt x="1472" y="925"/>
                      </a:lnTo>
                      <a:lnTo>
                        <a:pt x="1472" y="912"/>
                      </a:lnTo>
                      <a:lnTo>
                        <a:pt x="1471" y="903"/>
                      </a:lnTo>
                      <a:lnTo>
                        <a:pt x="1469" y="895"/>
                      </a:lnTo>
                      <a:lnTo>
                        <a:pt x="1466" y="888"/>
                      </a:lnTo>
                      <a:lnTo>
                        <a:pt x="1461" y="885"/>
                      </a:lnTo>
                      <a:lnTo>
                        <a:pt x="1457" y="881"/>
                      </a:lnTo>
                      <a:lnTo>
                        <a:pt x="1450" y="880"/>
                      </a:lnTo>
                      <a:lnTo>
                        <a:pt x="1443" y="880"/>
                      </a:lnTo>
                      <a:lnTo>
                        <a:pt x="1435" y="882"/>
                      </a:lnTo>
                      <a:lnTo>
                        <a:pt x="1426" y="885"/>
                      </a:lnTo>
                      <a:lnTo>
                        <a:pt x="1415" y="889"/>
                      </a:lnTo>
                      <a:lnTo>
                        <a:pt x="1405" y="894"/>
                      </a:lnTo>
                      <a:lnTo>
                        <a:pt x="1394" y="901"/>
                      </a:lnTo>
                      <a:lnTo>
                        <a:pt x="1368" y="916"/>
                      </a:lnTo>
                      <a:lnTo>
                        <a:pt x="1340" y="935"/>
                      </a:lnTo>
                      <a:lnTo>
                        <a:pt x="1309" y="957"/>
                      </a:lnTo>
                      <a:lnTo>
                        <a:pt x="1277" y="980"/>
                      </a:lnTo>
                      <a:lnTo>
                        <a:pt x="1241" y="1005"/>
                      </a:lnTo>
                      <a:lnTo>
                        <a:pt x="1203" y="1032"/>
                      </a:lnTo>
                      <a:lnTo>
                        <a:pt x="1165" y="1057"/>
                      </a:lnTo>
                      <a:lnTo>
                        <a:pt x="1125" y="1082"/>
                      </a:lnTo>
                      <a:lnTo>
                        <a:pt x="1088" y="1105"/>
                      </a:lnTo>
                      <a:lnTo>
                        <a:pt x="1063" y="1122"/>
                      </a:lnTo>
                      <a:lnTo>
                        <a:pt x="1046" y="1135"/>
                      </a:lnTo>
                      <a:lnTo>
                        <a:pt x="1035" y="1143"/>
                      </a:lnTo>
                      <a:lnTo>
                        <a:pt x="1032" y="1148"/>
                      </a:lnTo>
                      <a:lnTo>
                        <a:pt x="1032" y="1149"/>
                      </a:lnTo>
                      <a:lnTo>
                        <a:pt x="1035" y="1148"/>
                      </a:lnTo>
                      <a:lnTo>
                        <a:pt x="1041" y="1144"/>
                      </a:lnTo>
                      <a:lnTo>
                        <a:pt x="1047" y="1140"/>
                      </a:lnTo>
                      <a:lnTo>
                        <a:pt x="1051" y="1134"/>
                      </a:lnTo>
                      <a:lnTo>
                        <a:pt x="1053" y="1127"/>
                      </a:lnTo>
                      <a:lnTo>
                        <a:pt x="1051" y="1120"/>
                      </a:lnTo>
                      <a:lnTo>
                        <a:pt x="1048" y="1118"/>
                      </a:lnTo>
                      <a:lnTo>
                        <a:pt x="1043" y="1114"/>
                      </a:lnTo>
                      <a:lnTo>
                        <a:pt x="1038" y="1112"/>
                      </a:lnTo>
                      <a:lnTo>
                        <a:pt x="1030" y="1110"/>
                      </a:lnTo>
                      <a:lnTo>
                        <a:pt x="1019" y="1107"/>
                      </a:lnTo>
                      <a:lnTo>
                        <a:pt x="1008" y="1106"/>
                      </a:lnTo>
                      <a:lnTo>
                        <a:pt x="993" y="1105"/>
                      </a:lnTo>
                      <a:lnTo>
                        <a:pt x="976" y="1105"/>
                      </a:lnTo>
                      <a:lnTo>
                        <a:pt x="940" y="1106"/>
                      </a:lnTo>
                      <a:lnTo>
                        <a:pt x="907" y="1109"/>
                      </a:lnTo>
                      <a:lnTo>
                        <a:pt x="876" y="1112"/>
                      </a:lnTo>
                      <a:lnTo>
                        <a:pt x="847" y="1118"/>
                      </a:lnTo>
                      <a:lnTo>
                        <a:pt x="822" y="1125"/>
                      </a:lnTo>
                      <a:lnTo>
                        <a:pt x="798" y="1134"/>
                      </a:lnTo>
                      <a:lnTo>
                        <a:pt x="787" y="1138"/>
                      </a:lnTo>
                      <a:lnTo>
                        <a:pt x="778" y="1144"/>
                      </a:lnTo>
                      <a:lnTo>
                        <a:pt x="769" y="1150"/>
                      </a:lnTo>
                      <a:lnTo>
                        <a:pt x="762" y="1156"/>
                      </a:lnTo>
                      <a:lnTo>
                        <a:pt x="755" y="1163"/>
                      </a:lnTo>
                      <a:lnTo>
                        <a:pt x="748" y="1169"/>
                      </a:lnTo>
                      <a:lnTo>
                        <a:pt x="744" y="1177"/>
                      </a:lnTo>
                      <a:lnTo>
                        <a:pt x="740" y="1184"/>
                      </a:lnTo>
                      <a:lnTo>
                        <a:pt x="737" y="1194"/>
                      </a:lnTo>
                      <a:lnTo>
                        <a:pt x="736" y="1202"/>
                      </a:lnTo>
                      <a:lnTo>
                        <a:pt x="734" y="1211"/>
                      </a:lnTo>
                      <a:lnTo>
                        <a:pt x="734" y="1220"/>
                      </a:lnTo>
                      <a:lnTo>
                        <a:pt x="737" y="1230"/>
                      </a:lnTo>
                      <a:lnTo>
                        <a:pt x="739" y="1241"/>
                      </a:lnTo>
                      <a:lnTo>
                        <a:pt x="744" y="1251"/>
                      </a:lnTo>
                      <a:lnTo>
                        <a:pt x="748" y="1263"/>
                      </a:lnTo>
                      <a:lnTo>
                        <a:pt x="755" y="1274"/>
                      </a:lnTo>
                      <a:lnTo>
                        <a:pt x="763" y="1285"/>
                      </a:lnTo>
                      <a:lnTo>
                        <a:pt x="772" y="1298"/>
                      </a:lnTo>
                      <a:lnTo>
                        <a:pt x="783" y="1311"/>
                      </a:lnTo>
                      <a:lnTo>
                        <a:pt x="805" y="1336"/>
                      </a:lnTo>
                      <a:lnTo>
                        <a:pt x="824" y="1362"/>
                      </a:lnTo>
                      <a:lnTo>
                        <a:pt x="841" y="1391"/>
                      </a:lnTo>
                      <a:lnTo>
                        <a:pt x="856" y="1419"/>
                      </a:lnTo>
                      <a:lnTo>
                        <a:pt x="870" y="1447"/>
                      </a:lnTo>
                      <a:lnTo>
                        <a:pt x="881" y="1475"/>
                      </a:lnTo>
                      <a:lnTo>
                        <a:pt x="891" y="1501"/>
                      </a:lnTo>
                      <a:lnTo>
                        <a:pt x="900" y="1528"/>
                      </a:lnTo>
                      <a:lnTo>
                        <a:pt x="913" y="1575"/>
                      </a:lnTo>
                      <a:lnTo>
                        <a:pt x="922" y="1612"/>
                      </a:lnTo>
                      <a:lnTo>
                        <a:pt x="925" y="1637"/>
                      </a:lnTo>
                      <a:lnTo>
                        <a:pt x="927" y="1646"/>
                      </a:lnTo>
                      <a:lnTo>
                        <a:pt x="917" y="1637"/>
                      </a:lnTo>
                      <a:lnTo>
                        <a:pt x="893" y="1616"/>
                      </a:lnTo>
                      <a:lnTo>
                        <a:pt x="877" y="1603"/>
                      </a:lnTo>
                      <a:lnTo>
                        <a:pt x="860" y="1589"/>
                      </a:lnTo>
                      <a:lnTo>
                        <a:pt x="841" y="1575"/>
                      </a:lnTo>
                      <a:lnTo>
                        <a:pt x="822" y="1561"/>
                      </a:lnTo>
                      <a:lnTo>
                        <a:pt x="802" y="1550"/>
                      </a:lnTo>
                      <a:lnTo>
                        <a:pt x="785" y="1541"/>
                      </a:lnTo>
                      <a:lnTo>
                        <a:pt x="776" y="1537"/>
                      </a:lnTo>
                      <a:lnTo>
                        <a:pt x="768" y="1534"/>
                      </a:lnTo>
                      <a:lnTo>
                        <a:pt x="761" y="1532"/>
                      </a:lnTo>
                      <a:lnTo>
                        <a:pt x="754" y="1531"/>
                      </a:lnTo>
                      <a:lnTo>
                        <a:pt x="748" y="1532"/>
                      </a:lnTo>
                      <a:lnTo>
                        <a:pt x="744" y="1535"/>
                      </a:lnTo>
                      <a:lnTo>
                        <a:pt x="739" y="1538"/>
                      </a:lnTo>
                      <a:lnTo>
                        <a:pt x="736" y="1543"/>
                      </a:lnTo>
                      <a:lnTo>
                        <a:pt x="733" y="1549"/>
                      </a:lnTo>
                      <a:lnTo>
                        <a:pt x="732" y="1557"/>
                      </a:lnTo>
                      <a:lnTo>
                        <a:pt x="733" y="1567"/>
                      </a:lnTo>
                      <a:lnTo>
                        <a:pt x="734" y="1578"/>
                      </a:lnTo>
                      <a:lnTo>
                        <a:pt x="738" y="1591"/>
                      </a:lnTo>
                      <a:lnTo>
                        <a:pt x="741" y="1606"/>
                      </a:lnTo>
                      <a:lnTo>
                        <a:pt x="747" y="1620"/>
                      </a:lnTo>
                      <a:lnTo>
                        <a:pt x="753" y="1636"/>
                      </a:lnTo>
                      <a:lnTo>
                        <a:pt x="768" y="1668"/>
                      </a:lnTo>
                      <a:lnTo>
                        <a:pt x="786" y="1703"/>
                      </a:lnTo>
                      <a:lnTo>
                        <a:pt x="807" y="1738"/>
                      </a:lnTo>
                      <a:lnTo>
                        <a:pt x="830" y="1774"/>
                      </a:lnTo>
                      <a:lnTo>
                        <a:pt x="853" y="1808"/>
                      </a:lnTo>
                      <a:lnTo>
                        <a:pt x="877" y="1843"/>
                      </a:lnTo>
                      <a:lnTo>
                        <a:pt x="923" y="1907"/>
                      </a:lnTo>
                      <a:lnTo>
                        <a:pt x="962" y="1959"/>
                      </a:lnTo>
                      <a:lnTo>
                        <a:pt x="989" y="1994"/>
                      </a:lnTo>
                      <a:lnTo>
                        <a:pt x="1000" y="2007"/>
                      </a:lnTo>
                      <a:lnTo>
                        <a:pt x="783" y="2097"/>
                      </a:lnTo>
                      <a:lnTo>
                        <a:pt x="780" y="2076"/>
                      </a:lnTo>
                      <a:lnTo>
                        <a:pt x="770" y="2022"/>
                      </a:lnTo>
                      <a:lnTo>
                        <a:pt x="762" y="1986"/>
                      </a:lnTo>
                      <a:lnTo>
                        <a:pt x="753" y="1947"/>
                      </a:lnTo>
                      <a:lnTo>
                        <a:pt x="743" y="1906"/>
                      </a:lnTo>
                      <a:lnTo>
                        <a:pt x="730" y="1863"/>
                      </a:lnTo>
                      <a:lnTo>
                        <a:pt x="716" y="1821"/>
                      </a:lnTo>
                      <a:lnTo>
                        <a:pt x="701" y="1782"/>
                      </a:lnTo>
                      <a:lnTo>
                        <a:pt x="692" y="1763"/>
                      </a:lnTo>
                      <a:lnTo>
                        <a:pt x="684" y="1746"/>
                      </a:lnTo>
                      <a:lnTo>
                        <a:pt x="675" y="1730"/>
                      </a:lnTo>
                      <a:lnTo>
                        <a:pt x="666" y="1715"/>
                      </a:lnTo>
                      <a:lnTo>
                        <a:pt x="655" y="1703"/>
                      </a:lnTo>
                      <a:lnTo>
                        <a:pt x="646" y="1692"/>
                      </a:lnTo>
                      <a:lnTo>
                        <a:pt x="635" y="1683"/>
                      </a:lnTo>
                      <a:lnTo>
                        <a:pt x="624" y="1676"/>
                      </a:lnTo>
                      <a:lnTo>
                        <a:pt x="613" y="1672"/>
                      </a:lnTo>
                      <a:lnTo>
                        <a:pt x="601" y="1670"/>
                      </a:lnTo>
                      <a:lnTo>
                        <a:pt x="590" y="1672"/>
                      </a:lnTo>
                      <a:lnTo>
                        <a:pt x="577" y="1676"/>
                      </a:lnTo>
                      <a:lnTo>
                        <a:pt x="565" y="1682"/>
                      </a:lnTo>
                      <a:lnTo>
                        <a:pt x="552" y="1690"/>
                      </a:lnTo>
                      <a:lnTo>
                        <a:pt x="539" y="1698"/>
                      </a:lnTo>
                      <a:lnTo>
                        <a:pt x="527" y="1706"/>
                      </a:lnTo>
                      <a:lnTo>
                        <a:pt x="503" y="1726"/>
                      </a:lnTo>
                      <a:lnTo>
                        <a:pt x="478" y="1747"/>
                      </a:lnTo>
                      <a:lnTo>
                        <a:pt x="455" y="1770"/>
                      </a:lnTo>
                      <a:lnTo>
                        <a:pt x="435" y="1794"/>
                      </a:lnTo>
                      <a:lnTo>
                        <a:pt x="414" y="1819"/>
                      </a:lnTo>
                      <a:lnTo>
                        <a:pt x="396" y="1843"/>
                      </a:lnTo>
                      <a:lnTo>
                        <a:pt x="364" y="1887"/>
                      </a:lnTo>
                      <a:lnTo>
                        <a:pt x="338" y="1925"/>
                      </a:lnTo>
                      <a:lnTo>
                        <a:pt x="322" y="1952"/>
                      </a:lnTo>
                      <a:lnTo>
                        <a:pt x="318" y="1962"/>
                      </a:lnTo>
                      <a:lnTo>
                        <a:pt x="198" y="1761"/>
                      </a:lnTo>
                      <a:lnTo>
                        <a:pt x="73" y="1668"/>
                      </a:lnTo>
                      <a:lnTo>
                        <a:pt x="222" y="1466"/>
                      </a:lnTo>
                      <a:lnTo>
                        <a:pt x="122" y="1400"/>
                      </a:lnTo>
                      <a:lnTo>
                        <a:pt x="258" y="1296"/>
                      </a:lnTo>
                      <a:lnTo>
                        <a:pt x="0" y="1186"/>
                      </a:lnTo>
                      <a:lnTo>
                        <a:pt x="222" y="1118"/>
                      </a:lnTo>
                      <a:lnTo>
                        <a:pt x="198" y="1060"/>
                      </a:lnTo>
                      <a:lnTo>
                        <a:pt x="271" y="1082"/>
                      </a:lnTo>
                      <a:lnTo>
                        <a:pt x="246" y="1005"/>
                      </a:lnTo>
                      <a:lnTo>
                        <a:pt x="320" y="1027"/>
                      </a:lnTo>
                      <a:lnTo>
                        <a:pt x="306" y="912"/>
                      </a:lnTo>
                      <a:lnTo>
                        <a:pt x="390" y="904"/>
                      </a:lnTo>
                      <a:lnTo>
                        <a:pt x="390" y="902"/>
                      </a:lnTo>
                      <a:lnTo>
                        <a:pt x="388" y="895"/>
                      </a:lnTo>
                      <a:lnTo>
                        <a:pt x="385" y="883"/>
                      </a:lnTo>
                      <a:lnTo>
                        <a:pt x="382" y="870"/>
                      </a:lnTo>
                      <a:lnTo>
                        <a:pt x="377" y="854"/>
                      </a:lnTo>
                      <a:lnTo>
                        <a:pt x="370" y="836"/>
                      </a:lnTo>
                      <a:lnTo>
                        <a:pt x="364" y="819"/>
                      </a:lnTo>
                      <a:lnTo>
                        <a:pt x="356" y="802"/>
                      </a:lnTo>
                      <a:lnTo>
                        <a:pt x="352" y="794"/>
                      </a:lnTo>
                      <a:lnTo>
                        <a:pt x="351" y="788"/>
                      </a:lnTo>
                      <a:lnTo>
                        <a:pt x="352" y="783"/>
                      </a:lnTo>
                      <a:lnTo>
                        <a:pt x="354" y="781"/>
                      </a:lnTo>
                      <a:lnTo>
                        <a:pt x="358" y="779"/>
                      </a:lnTo>
                      <a:lnTo>
                        <a:pt x="364" y="778"/>
                      </a:lnTo>
                      <a:lnTo>
                        <a:pt x="369" y="778"/>
                      </a:lnTo>
                      <a:lnTo>
                        <a:pt x="376" y="779"/>
                      </a:lnTo>
                      <a:lnTo>
                        <a:pt x="390" y="781"/>
                      </a:lnTo>
                      <a:lnTo>
                        <a:pt x="401" y="785"/>
                      </a:lnTo>
                      <a:lnTo>
                        <a:pt x="411" y="788"/>
                      </a:lnTo>
                      <a:lnTo>
                        <a:pt x="415" y="789"/>
                      </a:lnTo>
                      <a:lnTo>
                        <a:pt x="439" y="689"/>
                      </a:lnTo>
                      <a:lnTo>
                        <a:pt x="488" y="666"/>
                      </a:lnTo>
                      <a:lnTo>
                        <a:pt x="482" y="663"/>
                      </a:lnTo>
                      <a:lnTo>
                        <a:pt x="466" y="654"/>
                      </a:lnTo>
                      <a:lnTo>
                        <a:pt x="445" y="639"/>
                      </a:lnTo>
                      <a:lnTo>
                        <a:pt x="422" y="619"/>
                      </a:lnTo>
                      <a:lnTo>
                        <a:pt x="411" y="609"/>
                      </a:lnTo>
                      <a:lnTo>
                        <a:pt x="401" y="597"/>
                      </a:lnTo>
                      <a:lnTo>
                        <a:pt x="392" y="585"/>
                      </a:lnTo>
                      <a:lnTo>
                        <a:pt x="387" y="572"/>
                      </a:lnTo>
                      <a:lnTo>
                        <a:pt x="384" y="566"/>
                      </a:lnTo>
                      <a:lnTo>
                        <a:pt x="382" y="559"/>
                      </a:lnTo>
                      <a:lnTo>
                        <a:pt x="381" y="554"/>
                      </a:lnTo>
                      <a:lnTo>
                        <a:pt x="381" y="547"/>
                      </a:lnTo>
                      <a:lnTo>
                        <a:pt x="382" y="541"/>
                      </a:lnTo>
                      <a:lnTo>
                        <a:pt x="384" y="534"/>
                      </a:lnTo>
                      <a:lnTo>
                        <a:pt x="387" y="527"/>
                      </a:lnTo>
                      <a:lnTo>
                        <a:pt x="390" y="521"/>
                      </a:lnTo>
                      <a:lnTo>
                        <a:pt x="399" y="509"/>
                      </a:lnTo>
                      <a:lnTo>
                        <a:pt x="408" y="497"/>
                      </a:lnTo>
                      <a:lnTo>
                        <a:pt x="418" y="488"/>
                      </a:lnTo>
                      <a:lnTo>
                        <a:pt x="427" y="479"/>
                      </a:lnTo>
                      <a:lnTo>
                        <a:pt x="443" y="464"/>
                      </a:lnTo>
                      <a:lnTo>
                        <a:pt x="458" y="454"/>
                      </a:lnTo>
                      <a:lnTo>
                        <a:pt x="470" y="447"/>
                      </a:lnTo>
                      <a:lnTo>
                        <a:pt x="480" y="442"/>
                      </a:lnTo>
                      <a:lnTo>
                        <a:pt x="485" y="439"/>
                      </a:lnTo>
                      <a:lnTo>
                        <a:pt x="488" y="439"/>
                      </a:lnTo>
                      <a:lnTo>
                        <a:pt x="486" y="441"/>
                      </a:lnTo>
                      <a:lnTo>
                        <a:pt x="485" y="447"/>
                      </a:lnTo>
                      <a:lnTo>
                        <a:pt x="483" y="456"/>
                      </a:lnTo>
                      <a:lnTo>
                        <a:pt x="482" y="469"/>
                      </a:lnTo>
                      <a:lnTo>
                        <a:pt x="482" y="476"/>
                      </a:lnTo>
                      <a:lnTo>
                        <a:pt x="483" y="484"/>
                      </a:lnTo>
                      <a:lnTo>
                        <a:pt x="485" y="493"/>
                      </a:lnTo>
                      <a:lnTo>
                        <a:pt x="488" y="502"/>
                      </a:lnTo>
                      <a:lnTo>
                        <a:pt x="492" y="512"/>
                      </a:lnTo>
                      <a:lnTo>
                        <a:pt x="497" y="523"/>
                      </a:lnTo>
                      <a:lnTo>
                        <a:pt x="504" y="533"/>
                      </a:lnTo>
                      <a:lnTo>
                        <a:pt x="513" y="543"/>
                      </a:lnTo>
                      <a:lnTo>
                        <a:pt x="521" y="553"/>
                      </a:lnTo>
                      <a:lnTo>
                        <a:pt x="529" y="559"/>
                      </a:lnTo>
                      <a:lnTo>
                        <a:pt x="535" y="564"/>
                      </a:lnTo>
                      <a:lnTo>
                        <a:pt x="540" y="566"/>
                      </a:lnTo>
                      <a:lnTo>
                        <a:pt x="546" y="567"/>
                      </a:lnTo>
                      <a:lnTo>
                        <a:pt x="550" y="565"/>
                      </a:lnTo>
                      <a:lnTo>
                        <a:pt x="554" y="563"/>
                      </a:lnTo>
                      <a:lnTo>
                        <a:pt x="556" y="559"/>
                      </a:lnTo>
                      <a:lnTo>
                        <a:pt x="562" y="548"/>
                      </a:lnTo>
                      <a:lnTo>
                        <a:pt x="567" y="533"/>
                      </a:lnTo>
                      <a:lnTo>
                        <a:pt x="571" y="516"/>
                      </a:lnTo>
                      <a:lnTo>
                        <a:pt x="577" y="499"/>
                      </a:lnTo>
                      <a:lnTo>
                        <a:pt x="579" y="492"/>
                      </a:lnTo>
                      <a:lnTo>
                        <a:pt x="582" y="487"/>
                      </a:lnTo>
                      <a:lnTo>
                        <a:pt x="586" y="484"/>
                      </a:lnTo>
                      <a:lnTo>
                        <a:pt x="590" y="484"/>
                      </a:lnTo>
                      <a:lnTo>
                        <a:pt x="594" y="485"/>
                      </a:lnTo>
                      <a:lnTo>
                        <a:pt x="600" y="488"/>
                      </a:lnTo>
                      <a:lnTo>
                        <a:pt x="605" y="493"/>
                      </a:lnTo>
                      <a:lnTo>
                        <a:pt x="610" y="497"/>
                      </a:lnTo>
                      <a:lnTo>
                        <a:pt x="620" y="509"/>
                      </a:lnTo>
                      <a:lnTo>
                        <a:pt x="629" y="519"/>
                      </a:lnTo>
                      <a:lnTo>
                        <a:pt x="635" y="528"/>
                      </a:lnTo>
                      <a:lnTo>
                        <a:pt x="637" y="532"/>
                      </a:lnTo>
                      <a:lnTo>
                        <a:pt x="647" y="523"/>
                      </a:lnTo>
                      <a:lnTo>
                        <a:pt x="675" y="500"/>
                      </a:lnTo>
                      <a:lnTo>
                        <a:pt x="694" y="485"/>
                      </a:lnTo>
                      <a:lnTo>
                        <a:pt x="717" y="469"/>
                      </a:lnTo>
                      <a:lnTo>
                        <a:pt x="744" y="454"/>
                      </a:lnTo>
                      <a:lnTo>
                        <a:pt x="774" y="438"/>
                      </a:lnTo>
                      <a:lnTo>
                        <a:pt x="788" y="431"/>
                      </a:lnTo>
                      <a:lnTo>
                        <a:pt x="805" y="424"/>
                      </a:lnTo>
                      <a:lnTo>
                        <a:pt x="822" y="417"/>
                      </a:lnTo>
                      <a:lnTo>
                        <a:pt x="839" y="411"/>
                      </a:lnTo>
                      <a:lnTo>
                        <a:pt x="857" y="407"/>
                      </a:lnTo>
                      <a:lnTo>
                        <a:pt x="876" y="402"/>
                      </a:lnTo>
                      <a:lnTo>
                        <a:pt x="894" y="400"/>
                      </a:lnTo>
                      <a:lnTo>
                        <a:pt x="914" y="397"/>
                      </a:lnTo>
                      <a:lnTo>
                        <a:pt x="933" y="396"/>
                      </a:lnTo>
                      <a:lnTo>
                        <a:pt x="953" y="396"/>
                      </a:lnTo>
                      <a:lnTo>
                        <a:pt x="973" y="397"/>
                      </a:lnTo>
                      <a:lnTo>
                        <a:pt x="993" y="401"/>
                      </a:lnTo>
                      <a:lnTo>
                        <a:pt x="1014" y="405"/>
                      </a:lnTo>
                      <a:lnTo>
                        <a:pt x="1034" y="411"/>
                      </a:lnTo>
                      <a:lnTo>
                        <a:pt x="1055" y="419"/>
                      </a:lnTo>
                      <a:lnTo>
                        <a:pt x="1076" y="428"/>
                      </a:lnTo>
                      <a:lnTo>
                        <a:pt x="686" y="293"/>
                      </a:lnTo>
                      <a:lnTo>
                        <a:pt x="718" y="283"/>
                      </a:lnTo>
                      <a:lnTo>
                        <a:pt x="807" y="257"/>
                      </a:lnTo>
                      <a:lnTo>
                        <a:pt x="867" y="241"/>
                      </a:lnTo>
                      <a:lnTo>
                        <a:pt x="935" y="224"/>
                      </a:lnTo>
                      <a:lnTo>
                        <a:pt x="1012" y="208"/>
                      </a:lnTo>
                      <a:lnTo>
                        <a:pt x="1093" y="192"/>
                      </a:lnTo>
                      <a:lnTo>
                        <a:pt x="1135" y="185"/>
                      </a:lnTo>
                      <a:lnTo>
                        <a:pt x="1178" y="178"/>
                      </a:lnTo>
                      <a:lnTo>
                        <a:pt x="1221" y="172"/>
                      </a:lnTo>
                      <a:lnTo>
                        <a:pt x="1264" y="168"/>
                      </a:lnTo>
                      <a:lnTo>
                        <a:pt x="1308" y="164"/>
                      </a:lnTo>
                      <a:lnTo>
                        <a:pt x="1350" y="162"/>
                      </a:lnTo>
                      <a:lnTo>
                        <a:pt x="1393" y="161"/>
                      </a:lnTo>
                      <a:lnTo>
                        <a:pt x="1435" y="161"/>
                      </a:lnTo>
                      <a:lnTo>
                        <a:pt x="1475" y="162"/>
                      </a:lnTo>
                      <a:lnTo>
                        <a:pt x="1515" y="165"/>
                      </a:lnTo>
                      <a:lnTo>
                        <a:pt x="1553" y="170"/>
                      </a:lnTo>
                      <a:lnTo>
                        <a:pt x="1591" y="177"/>
                      </a:lnTo>
                      <a:lnTo>
                        <a:pt x="1626" y="186"/>
                      </a:lnTo>
                      <a:lnTo>
                        <a:pt x="1659" y="196"/>
                      </a:lnTo>
                      <a:lnTo>
                        <a:pt x="1690" y="210"/>
                      </a:lnTo>
                      <a:lnTo>
                        <a:pt x="1719" y="226"/>
                      </a:lnTo>
                      <a:lnTo>
                        <a:pt x="1697" y="215"/>
                      </a:lnTo>
                      <a:lnTo>
                        <a:pt x="1675" y="206"/>
                      </a:lnTo>
                      <a:lnTo>
                        <a:pt x="1652" y="199"/>
                      </a:lnTo>
                      <a:lnTo>
                        <a:pt x="1629" y="193"/>
                      </a:lnTo>
                      <a:lnTo>
                        <a:pt x="1605" y="189"/>
                      </a:lnTo>
                      <a:lnTo>
                        <a:pt x="1582" y="187"/>
                      </a:lnTo>
                      <a:lnTo>
                        <a:pt x="1560" y="186"/>
                      </a:lnTo>
                      <a:lnTo>
                        <a:pt x="1538" y="185"/>
                      </a:lnTo>
                      <a:lnTo>
                        <a:pt x="1499" y="186"/>
                      </a:lnTo>
                      <a:lnTo>
                        <a:pt x="1467" y="189"/>
                      </a:lnTo>
                      <a:lnTo>
                        <a:pt x="1447" y="192"/>
                      </a:lnTo>
                      <a:lnTo>
                        <a:pt x="1440" y="193"/>
                      </a:lnTo>
                      <a:lnTo>
                        <a:pt x="1293" y="0"/>
                      </a:lnTo>
                      <a:lnTo>
                        <a:pt x="1326" y="2"/>
                      </a:lnTo>
                      <a:lnTo>
                        <a:pt x="1415" y="10"/>
                      </a:lnTo>
                      <a:lnTo>
                        <a:pt x="1476" y="17"/>
                      </a:lnTo>
                      <a:lnTo>
                        <a:pt x="1546" y="25"/>
                      </a:lnTo>
                      <a:lnTo>
                        <a:pt x="1622" y="36"/>
                      </a:lnTo>
                      <a:lnTo>
                        <a:pt x="1704" y="48"/>
                      </a:lnTo>
                      <a:lnTo>
                        <a:pt x="1789" y="63"/>
                      </a:lnTo>
                      <a:lnTo>
                        <a:pt x="1875" y="80"/>
                      </a:lnTo>
                      <a:lnTo>
                        <a:pt x="1917" y="91"/>
                      </a:lnTo>
                      <a:lnTo>
                        <a:pt x="1960" y="101"/>
                      </a:lnTo>
                      <a:lnTo>
                        <a:pt x="2001" y="112"/>
                      </a:lnTo>
                      <a:lnTo>
                        <a:pt x="2043" y="124"/>
                      </a:lnTo>
                      <a:lnTo>
                        <a:pt x="2083" y="137"/>
                      </a:lnTo>
                      <a:lnTo>
                        <a:pt x="2122" y="150"/>
                      </a:lnTo>
                      <a:lnTo>
                        <a:pt x="2159" y="164"/>
                      </a:lnTo>
                      <a:lnTo>
                        <a:pt x="2194" y="179"/>
                      </a:lnTo>
                      <a:lnTo>
                        <a:pt x="2227" y="195"/>
                      </a:lnTo>
                      <a:lnTo>
                        <a:pt x="2260" y="212"/>
                      </a:lnTo>
                      <a:lnTo>
                        <a:pt x="2288" y="230"/>
                      </a:lnTo>
                      <a:lnTo>
                        <a:pt x="2315" y="248"/>
                      </a:lnTo>
                      <a:lnTo>
                        <a:pt x="2363" y="287"/>
                      </a:lnTo>
                      <a:lnTo>
                        <a:pt x="2408" y="324"/>
                      </a:lnTo>
                      <a:lnTo>
                        <a:pt x="2448" y="361"/>
                      </a:lnTo>
                      <a:lnTo>
                        <a:pt x="2483" y="396"/>
                      </a:lnTo>
                      <a:lnTo>
                        <a:pt x="2515" y="430"/>
                      </a:lnTo>
                      <a:lnTo>
                        <a:pt x="2543" y="461"/>
                      </a:lnTo>
                      <a:lnTo>
                        <a:pt x="2567" y="490"/>
                      </a:lnTo>
                      <a:lnTo>
                        <a:pt x="2588" y="518"/>
                      </a:lnTo>
                      <a:lnTo>
                        <a:pt x="2605" y="543"/>
                      </a:lnTo>
                      <a:lnTo>
                        <a:pt x="2620" y="565"/>
                      </a:lnTo>
                      <a:lnTo>
                        <a:pt x="2632" y="585"/>
                      </a:lnTo>
                      <a:lnTo>
                        <a:pt x="2641" y="601"/>
                      </a:lnTo>
                      <a:lnTo>
                        <a:pt x="2652" y="624"/>
                      </a:lnTo>
                      <a:lnTo>
                        <a:pt x="2656" y="632"/>
                      </a:lnTo>
                      <a:lnTo>
                        <a:pt x="2658" y="624"/>
                      </a:lnTo>
                      <a:lnTo>
                        <a:pt x="2666" y="601"/>
                      </a:lnTo>
                      <a:lnTo>
                        <a:pt x="2673" y="586"/>
                      </a:lnTo>
                      <a:lnTo>
                        <a:pt x="2681" y="570"/>
                      </a:lnTo>
                      <a:lnTo>
                        <a:pt x="2690" y="551"/>
                      </a:lnTo>
                      <a:lnTo>
                        <a:pt x="2702" y="532"/>
                      </a:lnTo>
                      <a:lnTo>
                        <a:pt x="2715" y="513"/>
                      </a:lnTo>
                      <a:lnTo>
                        <a:pt x="2732" y="494"/>
                      </a:lnTo>
                      <a:lnTo>
                        <a:pt x="2741" y="485"/>
                      </a:lnTo>
                      <a:lnTo>
                        <a:pt x="2750" y="476"/>
                      </a:lnTo>
                      <a:lnTo>
                        <a:pt x="2760" y="467"/>
                      </a:lnTo>
                      <a:lnTo>
                        <a:pt x="2771" y="459"/>
                      </a:lnTo>
                      <a:lnTo>
                        <a:pt x="2781" y="451"/>
                      </a:lnTo>
                      <a:lnTo>
                        <a:pt x="2794" y="445"/>
                      </a:lnTo>
                      <a:lnTo>
                        <a:pt x="2806" y="438"/>
                      </a:lnTo>
                      <a:lnTo>
                        <a:pt x="2819" y="432"/>
                      </a:lnTo>
                      <a:lnTo>
                        <a:pt x="2833" y="426"/>
                      </a:lnTo>
                      <a:lnTo>
                        <a:pt x="2848" y="423"/>
                      </a:lnTo>
                      <a:lnTo>
                        <a:pt x="2862" y="419"/>
                      </a:lnTo>
                      <a:lnTo>
                        <a:pt x="2879" y="416"/>
                      </a:lnTo>
                      <a:lnTo>
                        <a:pt x="2893" y="415"/>
                      </a:lnTo>
                      <a:lnTo>
                        <a:pt x="2908" y="415"/>
                      </a:lnTo>
                      <a:lnTo>
                        <a:pt x="2922" y="416"/>
                      </a:lnTo>
                      <a:lnTo>
                        <a:pt x="2936" y="419"/>
                      </a:lnTo>
                      <a:lnTo>
                        <a:pt x="2949" y="423"/>
                      </a:lnTo>
                      <a:lnTo>
                        <a:pt x="2960" y="426"/>
                      </a:lnTo>
                      <a:lnTo>
                        <a:pt x="2972" y="432"/>
                      </a:lnTo>
                      <a:lnTo>
                        <a:pt x="2983" y="438"/>
                      </a:lnTo>
                      <a:lnTo>
                        <a:pt x="2993" y="445"/>
                      </a:lnTo>
                      <a:lnTo>
                        <a:pt x="3003" y="453"/>
                      </a:lnTo>
                      <a:lnTo>
                        <a:pt x="3012" y="461"/>
                      </a:lnTo>
                      <a:lnTo>
                        <a:pt x="3021" y="469"/>
                      </a:lnTo>
                      <a:lnTo>
                        <a:pt x="3036" y="487"/>
                      </a:lnTo>
                      <a:lnTo>
                        <a:pt x="3050" y="507"/>
                      </a:lnTo>
                      <a:lnTo>
                        <a:pt x="3061" y="526"/>
                      </a:lnTo>
                      <a:lnTo>
                        <a:pt x="3070" y="544"/>
                      </a:lnTo>
                      <a:lnTo>
                        <a:pt x="3078" y="562"/>
                      </a:lnTo>
                      <a:lnTo>
                        <a:pt x="3085" y="578"/>
                      </a:lnTo>
                      <a:lnTo>
                        <a:pt x="3092" y="602"/>
                      </a:lnTo>
                      <a:lnTo>
                        <a:pt x="3094" y="611"/>
                      </a:lnTo>
                      <a:lnTo>
                        <a:pt x="3085" y="613"/>
                      </a:lnTo>
                      <a:lnTo>
                        <a:pt x="3060" y="623"/>
                      </a:lnTo>
                      <a:lnTo>
                        <a:pt x="3044" y="631"/>
                      </a:lnTo>
                      <a:lnTo>
                        <a:pt x="3027" y="642"/>
                      </a:lnTo>
                      <a:lnTo>
                        <a:pt x="3019" y="648"/>
                      </a:lnTo>
                      <a:lnTo>
                        <a:pt x="3011" y="656"/>
                      </a:lnTo>
                      <a:lnTo>
                        <a:pt x="3003" y="664"/>
                      </a:lnTo>
                      <a:lnTo>
                        <a:pt x="2995" y="672"/>
                      </a:lnTo>
                      <a:lnTo>
                        <a:pt x="2988" y="682"/>
                      </a:lnTo>
                      <a:lnTo>
                        <a:pt x="2981" y="694"/>
                      </a:lnTo>
                      <a:lnTo>
                        <a:pt x="2975" y="705"/>
                      </a:lnTo>
                      <a:lnTo>
                        <a:pt x="2970" y="718"/>
                      </a:lnTo>
                      <a:lnTo>
                        <a:pt x="2966" y="733"/>
                      </a:lnTo>
                      <a:lnTo>
                        <a:pt x="2964" y="748"/>
                      </a:lnTo>
                      <a:lnTo>
                        <a:pt x="2961" y="764"/>
                      </a:lnTo>
                      <a:lnTo>
                        <a:pt x="2961" y="781"/>
                      </a:lnTo>
                      <a:lnTo>
                        <a:pt x="2962" y="801"/>
                      </a:lnTo>
                      <a:lnTo>
                        <a:pt x="2965" y="820"/>
                      </a:lnTo>
                      <a:lnTo>
                        <a:pt x="2969" y="842"/>
                      </a:lnTo>
                      <a:lnTo>
                        <a:pt x="2976" y="865"/>
                      </a:lnTo>
                      <a:lnTo>
                        <a:pt x="2984" y="890"/>
                      </a:lnTo>
                      <a:lnTo>
                        <a:pt x="2995" y="916"/>
                      </a:lnTo>
                      <a:lnTo>
                        <a:pt x="3007" y="943"/>
                      </a:lnTo>
                      <a:lnTo>
                        <a:pt x="3022" y="972"/>
                      </a:lnTo>
                    </a:path>
                  </a:pathLst>
                </a:custGeom>
                <a:noFill/>
                <a:ln w="32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595" name=""/>
                <p:cNvSpPr/>
                <p:nvPr/>
              </p:nvSpPr>
              <p:spPr>
                <a:xfrm>
                  <a:off x="3625560" y="1861200"/>
                  <a:ext cx="112680" cy="70560"/>
                </a:xfrm>
                <a:custGeom>
                  <a:avLst/>
                  <a:gdLst/>
                  <a:ahLst/>
                  <a:rect l="l" t="t" r="r" b="b"/>
                  <a:pathLst>
                    <a:path w="560" h="366">
                      <a:moveTo>
                        <a:pt x="560" y="29"/>
                      </a:moveTo>
                      <a:lnTo>
                        <a:pt x="546" y="24"/>
                      </a:lnTo>
                      <a:lnTo>
                        <a:pt x="509" y="15"/>
                      </a:lnTo>
                      <a:lnTo>
                        <a:pt x="483" y="10"/>
                      </a:lnTo>
                      <a:lnTo>
                        <a:pt x="454" y="6"/>
                      </a:lnTo>
                      <a:lnTo>
                        <a:pt x="421" y="2"/>
                      </a:lnTo>
                      <a:lnTo>
                        <a:pt x="385" y="0"/>
                      </a:lnTo>
                      <a:lnTo>
                        <a:pt x="367" y="0"/>
                      </a:lnTo>
                      <a:lnTo>
                        <a:pt x="348" y="0"/>
                      </a:lnTo>
                      <a:lnTo>
                        <a:pt x="329" y="2"/>
                      </a:lnTo>
                      <a:lnTo>
                        <a:pt x="310" y="3"/>
                      </a:lnTo>
                      <a:lnTo>
                        <a:pt x="290" y="7"/>
                      </a:lnTo>
                      <a:lnTo>
                        <a:pt x="269" y="10"/>
                      </a:lnTo>
                      <a:lnTo>
                        <a:pt x="250" y="15"/>
                      </a:lnTo>
                      <a:lnTo>
                        <a:pt x="230" y="21"/>
                      </a:lnTo>
                      <a:lnTo>
                        <a:pt x="211" y="29"/>
                      </a:lnTo>
                      <a:lnTo>
                        <a:pt x="191" y="37"/>
                      </a:lnTo>
                      <a:lnTo>
                        <a:pt x="173" y="46"/>
                      </a:lnTo>
                      <a:lnTo>
                        <a:pt x="153" y="57"/>
                      </a:lnTo>
                      <a:lnTo>
                        <a:pt x="136" y="70"/>
                      </a:lnTo>
                      <a:lnTo>
                        <a:pt x="118" y="84"/>
                      </a:lnTo>
                      <a:lnTo>
                        <a:pt x="102" y="99"/>
                      </a:lnTo>
                      <a:lnTo>
                        <a:pt x="86" y="116"/>
                      </a:lnTo>
                      <a:lnTo>
                        <a:pt x="35" y="174"/>
                      </a:lnTo>
                      <a:lnTo>
                        <a:pt x="9" y="207"/>
                      </a:lnTo>
                      <a:lnTo>
                        <a:pt x="2" y="216"/>
                      </a:lnTo>
                      <a:lnTo>
                        <a:pt x="0" y="219"/>
                      </a:lnTo>
                      <a:lnTo>
                        <a:pt x="0" y="219"/>
                      </a:lnTo>
                      <a:lnTo>
                        <a:pt x="3" y="217"/>
                      </a:lnTo>
                      <a:lnTo>
                        <a:pt x="16" y="206"/>
                      </a:lnTo>
                      <a:lnTo>
                        <a:pt x="29" y="191"/>
                      </a:lnTo>
                      <a:lnTo>
                        <a:pt x="42" y="177"/>
                      </a:lnTo>
                      <a:lnTo>
                        <a:pt x="48" y="171"/>
                      </a:lnTo>
                      <a:lnTo>
                        <a:pt x="142" y="366"/>
                      </a:lnTo>
                      <a:lnTo>
                        <a:pt x="147" y="354"/>
                      </a:lnTo>
                      <a:lnTo>
                        <a:pt x="163" y="319"/>
                      </a:lnTo>
                      <a:lnTo>
                        <a:pt x="174" y="296"/>
                      </a:lnTo>
                      <a:lnTo>
                        <a:pt x="189" y="271"/>
                      </a:lnTo>
                      <a:lnTo>
                        <a:pt x="207" y="243"/>
                      </a:lnTo>
                      <a:lnTo>
                        <a:pt x="230" y="214"/>
                      </a:lnTo>
                      <a:lnTo>
                        <a:pt x="243" y="199"/>
                      </a:lnTo>
                      <a:lnTo>
                        <a:pt x="256" y="184"/>
                      </a:lnTo>
                      <a:lnTo>
                        <a:pt x="271" y="169"/>
                      </a:lnTo>
                      <a:lnTo>
                        <a:pt x="286" y="154"/>
                      </a:lnTo>
                      <a:lnTo>
                        <a:pt x="303" y="140"/>
                      </a:lnTo>
                      <a:lnTo>
                        <a:pt x="320" y="126"/>
                      </a:lnTo>
                      <a:lnTo>
                        <a:pt x="338" y="112"/>
                      </a:lnTo>
                      <a:lnTo>
                        <a:pt x="358" y="100"/>
                      </a:lnTo>
                      <a:lnTo>
                        <a:pt x="380" y="87"/>
                      </a:lnTo>
                      <a:lnTo>
                        <a:pt x="402" y="76"/>
                      </a:lnTo>
                      <a:lnTo>
                        <a:pt x="425" y="65"/>
                      </a:lnTo>
                      <a:lnTo>
                        <a:pt x="449" y="55"/>
                      </a:lnTo>
                      <a:lnTo>
                        <a:pt x="475" y="47"/>
                      </a:lnTo>
                      <a:lnTo>
                        <a:pt x="501" y="39"/>
                      </a:lnTo>
                      <a:lnTo>
                        <a:pt x="530" y="33"/>
                      </a:lnTo>
                      <a:lnTo>
                        <a:pt x="560" y="29"/>
                      </a:lnTo>
                      <a:close/>
                    </a:path>
                  </a:pathLst>
                </a:custGeom>
                <a:solidFill>
                  <a:srgbClr val="000000"/>
                </a:solidFill>
                <a:ln w="0">
                  <a:noFill/>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96" name=""/>
                <p:cNvSpPr/>
                <p:nvPr/>
              </p:nvSpPr>
              <p:spPr>
                <a:xfrm>
                  <a:off x="3625560" y="1861200"/>
                  <a:ext cx="112680" cy="70560"/>
                </a:xfrm>
                <a:custGeom>
                  <a:avLst/>
                  <a:gdLst/>
                  <a:ahLst/>
                  <a:rect l="l" t="t" r="r" b="b"/>
                  <a:pathLst>
                    <a:path w="560" h="366">
                      <a:moveTo>
                        <a:pt x="560" y="29"/>
                      </a:moveTo>
                      <a:lnTo>
                        <a:pt x="546" y="24"/>
                      </a:lnTo>
                      <a:lnTo>
                        <a:pt x="509" y="15"/>
                      </a:lnTo>
                      <a:lnTo>
                        <a:pt x="483" y="10"/>
                      </a:lnTo>
                      <a:lnTo>
                        <a:pt x="454" y="6"/>
                      </a:lnTo>
                      <a:lnTo>
                        <a:pt x="421" y="2"/>
                      </a:lnTo>
                      <a:lnTo>
                        <a:pt x="385" y="0"/>
                      </a:lnTo>
                      <a:lnTo>
                        <a:pt x="367" y="0"/>
                      </a:lnTo>
                      <a:lnTo>
                        <a:pt x="348" y="0"/>
                      </a:lnTo>
                      <a:lnTo>
                        <a:pt x="329" y="2"/>
                      </a:lnTo>
                      <a:lnTo>
                        <a:pt x="310" y="3"/>
                      </a:lnTo>
                      <a:lnTo>
                        <a:pt x="290" y="7"/>
                      </a:lnTo>
                      <a:lnTo>
                        <a:pt x="269" y="10"/>
                      </a:lnTo>
                      <a:lnTo>
                        <a:pt x="250" y="15"/>
                      </a:lnTo>
                      <a:lnTo>
                        <a:pt x="230" y="21"/>
                      </a:lnTo>
                      <a:lnTo>
                        <a:pt x="211" y="29"/>
                      </a:lnTo>
                      <a:lnTo>
                        <a:pt x="191" y="37"/>
                      </a:lnTo>
                      <a:lnTo>
                        <a:pt x="173" y="46"/>
                      </a:lnTo>
                      <a:lnTo>
                        <a:pt x="153" y="57"/>
                      </a:lnTo>
                      <a:lnTo>
                        <a:pt x="136" y="70"/>
                      </a:lnTo>
                      <a:lnTo>
                        <a:pt x="118" y="84"/>
                      </a:lnTo>
                      <a:lnTo>
                        <a:pt x="102" y="99"/>
                      </a:lnTo>
                      <a:lnTo>
                        <a:pt x="86" y="116"/>
                      </a:lnTo>
                      <a:lnTo>
                        <a:pt x="35" y="174"/>
                      </a:lnTo>
                      <a:lnTo>
                        <a:pt x="9" y="207"/>
                      </a:lnTo>
                      <a:lnTo>
                        <a:pt x="2" y="216"/>
                      </a:lnTo>
                      <a:lnTo>
                        <a:pt x="0" y="219"/>
                      </a:lnTo>
                      <a:lnTo>
                        <a:pt x="0" y="219"/>
                      </a:lnTo>
                      <a:lnTo>
                        <a:pt x="3" y="217"/>
                      </a:lnTo>
                      <a:lnTo>
                        <a:pt x="16" y="206"/>
                      </a:lnTo>
                      <a:lnTo>
                        <a:pt x="29" y="191"/>
                      </a:lnTo>
                      <a:lnTo>
                        <a:pt x="42" y="177"/>
                      </a:lnTo>
                      <a:lnTo>
                        <a:pt x="48" y="171"/>
                      </a:lnTo>
                      <a:lnTo>
                        <a:pt x="142" y="366"/>
                      </a:lnTo>
                      <a:lnTo>
                        <a:pt x="147" y="354"/>
                      </a:lnTo>
                      <a:lnTo>
                        <a:pt x="163" y="319"/>
                      </a:lnTo>
                      <a:lnTo>
                        <a:pt x="174" y="296"/>
                      </a:lnTo>
                      <a:lnTo>
                        <a:pt x="189" y="271"/>
                      </a:lnTo>
                      <a:lnTo>
                        <a:pt x="207" y="243"/>
                      </a:lnTo>
                      <a:lnTo>
                        <a:pt x="230" y="214"/>
                      </a:lnTo>
                      <a:lnTo>
                        <a:pt x="243" y="199"/>
                      </a:lnTo>
                      <a:lnTo>
                        <a:pt x="256" y="184"/>
                      </a:lnTo>
                      <a:lnTo>
                        <a:pt x="271" y="169"/>
                      </a:lnTo>
                      <a:lnTo>
                        <a:pt x="286" y="154"/>
                      </a:lnTo>
                      <a:lnTo>
                        <a:pt x="303" y="140"/>
                      </a:lnTo>
                      <a:lnTo>
                        <a:pt x="320" y="126"/>
                      </a:lnTo>
                      <a:lnTo>
                        <a:pt x="338" y="112"/>
                      </a:lnTo>
                      <a:lnTo>
                        <a:pt x="358" y="100"/>
                      </a:lnTo>
                      <a:lnTo>
                        <a:pt x="380" y="87"/>
                      </a:lnTo>
                      <a:lnTo>
                        <a:pt x="402" y="76"/>
                      </a:lnTo>
                      <a:lnTo>
                        <a:pt x="425" y="65"/>
                      </a:lnTo>
                      <a:lnTo>
                        <a:pt x="449" y="55"/>
                      </a:lnTo>
                      <a:lnTo>
                        <a:pt x="475" y="47"/>
                      </a:lnTo>
                      <a:lnTo>
                        <a:pt x="501" y="39"/>
                      </a:lnTo>
                      <a:lnTo>
                        <a:pt x="530" y="33"/>
                      </a:lnTo>
                      <a:lnTo>
                        <a:pt x="560" y="29"/>
                      </a:lnTo>
                    </a:path>
                  </a:pathLst>
                </a:custGeom>
                <a:noFill/>
                <a:ln w="3240">
                  <a:solidFill>
                    <a:srgbClr val="000000"/>
                  </a:solidFill>
                  <a:round/>
                </a:ln>
              </p:spPr>
              <p:style>
                <a:lnRef idx="0"/>
                <a:fillRef idx="0"/>
                <a:effectRef idx="0"/>
                <a:fontRef idx="minor"/>
              </p:style>
              <p:txBody>
                <a:bodyPr wrap="none" lIns="93240" rIns="93240" tIns="24120" bIns="24120" anchor="t">
                  <a:spAutoFit/>
                </a:bodyPr>
                <a:p>
                  <a:endParaRPr b="0" lang="en-US" sz="2400" spc="-1" strike="noStrike">
                    <a:solidFill>
                      <a:srgbClr val="ffffff"/>
                    </a:solidFill>
                    <a:latin typeface="Times New Roman"/>
                  </a:endParaRPr>
                </a:p>
              </p:txBody>
            </p:sp>
            <p:sp>
              <p:nvSpPr>
                <p:cNvPr id="597" name=""/>
                <p:cNvSpPr/>
                <p:nvPr/>
              </p:nvSpPr>
              <p:spPr>
                <a:xfrm>
                  <a:off x="3913560" y="1841760"/>
                  <a:ext cx="82440" cy="63720"/>
                </a:xfrm>
                <a:custGeom>
                  <a:avLst/>
                  <a:gdLst/>
                  <a:ahLst/>
                  <a:rect l="l" t="t" r="r" b="b"/>
                  <a:pathLst>
                    <a:path w="404" h="341">
                      <a:moveTo>
                        <a:pt x="0" y="0"/>
                      </a:moveTo>
                      <a:lnTo>
                        <a:pt x="404" y="103"/>
                      </a:lnTo>
                      <a:lnTo>
                        <a:pt x="342" y="341"/>
                      </a:lnTo>
                      <a:lnTo>
                        <a:pt x="20" y="112"/>
                      </a:lnTo>
                      <a:lnTo>
                        <a:pt x="0" y="0"/>
                      </a:lnTo>
                      <a:close/>
                    </a:path>
                  </a:pathLst>
                </a:custGeom>
                <a:solidFill>
                  <a:srgbClr val="000000"/>
                </a:solidFill>
                <a:ln w="0">
                  <a:noFill/>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98" name=""/>
                <p:cNvSpPr/>
                <p:nvPr/>
              </p:nvSpPr>
              <p:spPr>
                <a:xfrm>
                  <a:off x="3913560" y="1841760"/>
                  <a:ext cx="82440" cy="63720"/>
                </a:xfrm>
                <a:custGeom>
                  <a:avLst/>
                  <a:gdLst/>
                  <a:ahLst/>
                  <a:rect l="l" t="t" r="r" b="b"/>
                  <a:pathLst>
                    <a:path w="404" h="341">
                      <a:moveTo>
                        <a:pt x="0" y="0"/>
                      </a:moveTo>
                      <a:lnTo>
                        <a:pt x="404" y="103"/>
                      </a:lnTo>
                      <a:lnTo>
                        <a:pt x="342" y="341"/>
                      </a:lnTo>
                      <a:lnTo>
                        <a:pt x="20" y="112"/>
                      </a:lnTo>
                      <a:lnTo>
                        <a:pt x="0" y="0"/>
                      </a:lnTo>
                    </a:path>
                  </a:pathLst>
                </a:custGeom>
                <a:noFill/>
                <a:ln w="3240">
                  <a:solidFill>
                    <a:srgbClr val="000000"/>
                  </a:solidFill>
                  <a:round/>
                </a:ln>
              </p:spPr>
              <p:style>
                <a:lnRef idx="0"/>
                <a:fillRef idx="0"/>
                <a:effectRef idx="0"/>
                <a:fontRef idx="minor"/>
              </p:style>
              <p:txBody>
                <a:bodyPr wrap="none" lIns="93240" rIns="93240" tIns="17280" bIns="17280" anchor="t">
                  <a:spAutoFit/>
                </a:bodyPr>
                <a:p>
                  <a:endParaRPr b="0" lang="en-US" sz="2400" spc="-1" strike="noStrike">
                    <a:solidFill>
                      <a:srgbClr val="ffffff"/>
                    </a:solidFill>
                    <a:latin typeface="Times New Roman"/>
                  </a:endParaRPr>
                </a:p>
              </p:txBody>
            </p:sp>
            <p:sp>
              <p:nvSpPr>
                <p:cNvPr id="599" name=""/>
                <p:cNvSpPr/>
                <p:nvPr/>
              </p:nvSpPr>
              <p:spPr>
                <a:xfrm>
                  <a:off x="3215520" y="3437640"/>
                  <a:ext cx="51480" cy="82440"/>
                </a:xfrm>
                <a:custGeom>
                  <a:avLst/>
                  <a:gdLst/>
                  <a:ahLst/>
                  <a:rect l="l" t="t" r="r" b="b"/>
                  <a:pathLst>
                    <a:path w="258" h="436">
                      <a:moveTo>
                        <a:pt x="244" y="436"/>
                      </a:moveTo>
                      <a:lnTo>
                        <a:pt x="250" y="425"/>
                      </a:lnTo>
                      <a:lnTo>
                        <a:pt x="255" y="414"/>
                      </a:lnTo>
                      <a:lnTo>
                        <a:pt x="257" y="402"/>
                      </a:lnTo>
                      <a:lnTo>
                        <a:pt x="258" y="390"/>
                      </a:lnTo>
                      <a:lnTo>
                        <a:pt x="257" y="378"/>
                      </a:lnTo>
                      <a:lnTo>
                        <a:pt x="253" y="368"/>
                      </a:lnTo>
                      <a:lnTo>
                        <a:pt x="250" y="358"/>
                      </a:lnTo>
                      <a:lnTo>
                        <a:pt x="245" y="346"/>
                      </a:lnTo>
                      <a:lnTo>
                        <a:pt x="234" y="327"/>
                      </a:lnTo>
                      <a:lnTo>
                        <a:pt x="220" y="306"/>
                      </a:lnTo>
                      <a:lnTo>
                        <a:pt x="205" y="285"/>
                      </a:lnTo>
                      <a:lnTo>
                        <a:pt x="188" y="262"/>
                      </a:lnTo>
                      <a:lnTo>
                        <a:pt x="170" y="238"/>
                      </a:lnTo>
                      <a:lnTo>
                        <a:pt x="151" y="212"/>
                      </a:lnTo>
                      <a:lnTo>
                        <a:pt x="133" y="183"/>
                      </a:lnTo>
                      <a:lnTo>
                        <a:pt x="115" y="152"/>
                      </a:lnTo>
                      <a:lnTo>
                        <a:pt x="97" y="119"/>
                      </a:lnTo>
                      <a:lnTo>
                        <a:pt x="81" y="82"/>
                      </a:lnTo>
                      <a:lnTo>
                        <a:pt x="74" y="64"/>
                      </a:lnTo>
                      <a:lnTo>
                        <a:pt x="67" y="43"/>
                      </a:lnTo>
                      <a:lnTo>
                        <a:pt x="61" y="22"/>
                      </a:lnTo>
                      <a:lnTo>
                        <a:pt x="55" y="0"/>
                      </a:lnTo>
                      <a:lnTo>
                        <a:pt x="0" y="14"/>
                      </a:lnTo>
                      <a:lnTo>
                        <a:pt x="5" y="38"/>
                      </a:lnTo>
                      <a:lnTo>
                        <a:pt x="12" y="61"/>
                      </a:lnTo>
                      <a:lnTo>
                        <a:pt x="20" y="83"/>
                      </a:lnTo>
                      <a:lnTo>
                        <a:pt x="28" y="105"/>
                      </a:lnTo>
                      <a:lnTo>
                        <a:pt x="46" y="144"/>
                      </a:lnTo>
                      <a:lnTo>
                        <a:pt x="65" y="181"/>
                      </a:lnTo>
                      <a:lnTo>
                        <a:pt x="85" y="214"/>
                      </a:lnTo>
                      <a:lnTo>
                        <a:pt x="104" y="244"/>
                      </a:lnTo>
                      <a:lnTo>
                        <a:pt x="124" y="271"/>
                      </a:lnTo>
                      <a:lnTo>
                        <a:pt x="142" y="297"/>
                      </a:lnTo>
                      <a:lnTo>
                        <a:pt x="159" y="319"/>
                      </a:lnTo>
                      <a:lnTo>
                        <a:pt x="173" y="339"/>
                      </a:lnTo>
                      <a:lnTo>
                        <a:pt x="186" y="356"/>
                      </a:lnTo>
                      <a:lnTo>
                        <a:pt x="194" y="373"/>
                      </a:lnTo>
                      <a:lnTo>
                        <a:pt x="197" y="378"/>
                      </a:lnTo>
                      <a:lnTo>
                        <a:pt x="198" y="384"/>
                      </a:lnTo>
                      <a:lnTo>
                        <a:pt x="200" y="389"/>
                      </a:lnTo>
                      <a:lnTo>
                        <a:pt x="201" y="392"/>
                      </a:lnTo>
                      <a:lnTo>
                        <a:pt x="200" y="396"/>
                      </a:lnTo>
                      <a:lnTo>
                        <a:pt x="200" y="398"/>
                      </a:lnTo>
                      <a:lnTo>
                        <a:pt x="198" y="400"/>
                      </a:lnTo>
                      <a:lnTo>
                        <a:pt x="197" y="404"/>
                      </a:lnTo>
                      <a:lnTo>
                        <a:pt x="244" y="436"/>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00" name=""/>
                <p:cNvSpPr/>
                <p:nvPr/>
              </p:nvSpPr>
              <p:spPr>
                <a:xfrm>
                  <a:off x="3238920" y="3514680"/>
                  <a:ext cx="25200" cy="236520"/>
                </a:xfrm>
                <a:custGeom>
                  <a:avLst/>
                  <a:gdLst/>
                  <a:ahLst/>
                  <a:rect l="l" t="t" r="r" b="b"/>
                  <a:pathLst>
                    <a:path w="131" h="1248">
                      <a:moveTo>
                        <a:pt x="108" y="1235"/>
                      </a:moveTo>
                      <a:lnTo>
                        <a:pt x="98" y="1191"/>
                      </a:lnTo>
                      <a:lnTo>
                        <a:pt x="89" y="1147"/>
                      </a:lnTo>
                      <a:lnTo>
                        <a:pt x="81" y="1101"/>
                      </a:lnTo>
                      <a:lnTo>
                        <a:pt x="75" y="1054"/>
                      </a:lnTo>
                      <a:lnTo>
                        <a:pt x="69" y="1006"/>
                      </a:lnTo>
                      <a:lnTo>
                        <a:pt x="66" y="958"/>
                      </a:lnTo>
                      <a:lnTo>
                        <a:pt x="62" y="908"/>
                      </a:lnTo>
                      <a:lnTo>
                        <a:pt x="60" y="859"/>
                      </a:lnTo>
                      <a:lnTo>
                        <a:pt x="59" y="808"/>
                      </a:lnTo>
                      <a:lnTo>
                        <a:pt x="58" y="759"/>
                      </a:lnTo>
                      <a:lnTo>
                        <a:pt x="59" y="710"/>
                      </a:lnTo>
                      <a:lnTo>
                        <a:pt x="59" y="660"/>
                      </a:lnTo>
                      <a:lnTo>
                        <a:pt x="64" y="564"/>
                      </a:lnTo>
                      <a:lnTo>
                        <a:pt x="69" y="469"/>
                      </a:lnTo>
                      <a:lnTo>
                        <a:pt x="77" y="382"/>
                      </a:lnTo>
                      <a:lnTo>
                        <a:pt x="87" y="299"/>
                      </a:lnTo>
                      <a:lnTo>
                        <a:pt x="96" y="226"/>
                      </a:lnTo>
                      <a:lnTo>
                        <a:pt x="105" y="160"/>
                      </a:lnTo>
                      <a:lnTo>
                        <a:pt x="114" y="106"/>
                      </a:lnTo>
                      <a:lnTo>
                        <a:pt x="123" y="65"/>
                      </a:lnTo>
                      <a:lnTo>
                        <a:pt x="129" y="37"/>
                      </a:lnTo>
                      <a:lnTo>
                        <a:pt x="131" y="32"/>
                      </a:lnTo>
                      <a:lnTo>
                        <a:pt x="84" y="0"/>
                      </a:lnTo>
                      <a:lnTo>
                        <a:pt x="74" y="21"/>
                      </a:lnTo>
                      <a:lnTo>
                        <a:pt x="67" y="52"/>
                      </a:lnTo>
                      <a:lnTo>
                        <a:pt x="58" y="96"/>
                      </a:lnTo>
                      <a:lnTo>
                        <a:pt x="49" y="152"/>
                      </a:lnTo>
                      <a:lnTo>
                        <a:pt x="38" y="218"/>
                      </a:lnTo>
                      <a:lnTo>
                        <a:pt x="29" y="294"/>
                      </a:lnTo>
                      <a:lnTo>
                        <a:pt x="20" y="376"/>
                      </a:lnTo>
                      <a:lnTo>
                        <a:pt x="12" y="466"/>
                      </a:lnTo>
                      <a:lnTo>
                        <a:pt x="6" y="560"/>
                      </a:lnTo>
                      <a:lnTo>
                        <a:pt x="2" y="658"/>
                      </a:lnTo>
                      <a:lnTo>
                        <a:pt x="2" y="708"/>
                      </a:lnTo>
                      <a:lnTo>
                        <a:pt x="0" y="759"/>
                      </a:lnTo>
                      <a:lnTo>
                        <a:pt x="2" y="810"/>
                      </a:lnTo>
                      <a:lnTo>
                        <a:pt x="3" y="861"/>
                      </a:lnTo>
                      <a:lnTo>
                        <a:pt x="5" y="912"/>
                      </a:lnTo>
                      <a:lnTo>
                        <a:pt x="8" y="962"/>
                      </a:lnTo>
                      <a:lnTo>
                        <a:pt x="12" y="1012"/>
                      </a:lnTo>
                      <a:lnTo>
                        <a:pt x="18" y="1061"/>
                      </a:lnTo>
                      <a:lnTo>
                        <a:pt x="25" y="1109"/>
                      </a:lnTo>
                      <a:lnTo>
                        <a:pt x="33" y="1158"/>
                      </a:lnTo>
                      <a:lnTo>
                        <a:pt x="42" y="1204"/>
                      </a:lnTo>
                      <a:lnTo>
                        <a:pt x="52" y="1248"/>
                      </a:lnTo>
                      <a:lnTo>
                        <a:pt x="108" y="1235"/>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1" name=""/>
                <p:cNvSpPr/>
                <p:nvPr/>
              </p:nvSpPr>
              <p:spPr>
                <a:xfrm>
                  <a:off x="3088800" y="3749040"/>
                  <a:ext cx="172800" cy="384120"/>
                </a:xfrm>
                <a:custGeom>
                  <a:avLst/>
                  <a:gdLst/>
                  <a:ahLst/>
                  <a:rect l="l" t="t" r="r" b="b"/>
                  <a:pathLst>
                    <a:path w="856" h="2035">
                      <a:moveTo>
                        <a:pt x="0" y="2032"/>
                      </a:moveTo>
                      <a:lnTo>
                        <a:pt x="9" y="2034"/>
                      </a:lnTo>
                      <a:lnTo>
                        <a:pt x="18" y="2035"/>
                      </a:lnTo>
                      <a:lnTo>
                        <a:pt x="26" y="2034"/>
                      </a:lnTo>
                      <a:lnTo>
                        <a:pt x="35" y="2031"/>
                      </a:lnTo>
                      <a:lnTo>
                        <a:pt x="47" y="2025"/>
                      </a:lnTo>
                      <a:lnTo>
                        <a:pt x="58" y="2017"/>
                      </a:lnTo>
                      <a:lnTo>
                        <a:pt x="68" y="2007"/>
                      </a:lnTo>
                      <a:lnTo>
                        <a:pt x="80" y="1994"/>
                      </a:lnTo>
                      <a:lnTo>
                        <a:pt x="91" y="1980"/>
                      </a:lnTo>
                      <a:lnTo>
                        <a:pt x="104" y="1964"/>
                      </a:lnTo>
                      <a:lnTo>
                        <a:pt x="130" y="1926"/>
                      </a:lnTo>
                      <a:lnTo>
                        <a:pt x="159" y="1883"/>
                      </a:lnTo>
                      <a:lnTo>
                        <a:pt x="189" y="1831"/>
                      </a:lnTo>
                      <a:lnTo>
                        <a:pt x="221" y="1773"/>
                      </a:lnTo>
                      <a:lnTo>
                        <a:pt x="256" y="1710"/>
                      </a:lnTo>
                      <a:lnTo>
                        <a:pt x="291" y="1643"/>
                      </a:lnTo>
                      <a:lnTo>
                        <a:pt x="327" y="1570"/>
                      </a:lnTo>
                      <a:lnTo>
                        <a:pt x="364" y="1493"/>
                      </a:lnTo>
                      <a:lnTo>
                        <a:pt x="401" y="1413"/>
                      </a:lnTo>
                      <a:lnTo>
                        <a:pt x="439" y="1330"/>
                      </a:lnTo>
                      <a:lnTo>
                        <a:pt x="477" y="1245"/>
                      </a:lnTo>
                      <a:lnTo>
                        <a:pt x="515" y="1159"/>
                      </a:lnTo>
                      <a:lnTo>
                        <a:pt x="553" y="1070"/>
                      </a:lnTo>
                      <a:lnTo>
                        <a:pt x="589" y="982"/>
                      </a:lnTo>
                      <a:lnTo>
                        <a:pt x="624" y="893"/>
                      </a:lnTo>
                      <a:lnTo>
                        <a:pt x="658" y="806"/>
                      </a:lnTo>
                      <a:lnTo>
                        <a:pt x="690" y="720"/>
                      </a:lnTo>
                      <a:lnTo>
                        <a:pt x="720" y="635"/>
                      </a:lnTo>
                      <a:lnTo>
                        <a:pt x="747" y="552"/>
                      </a:lnTo>
                      <a:lnTo>
                        <a:pt x="772" y="473"/>
                      </a:lnTo>
                      <a:lnTo>
                        <a:pt x="795" y="396"/>
                      </a:lnTo>
                      <a:lnTo>
                        <a:pt x="815" y="324"/>
                      </a:lnTo>
                      <a:lnTo>
                        <a:pt x="831" y="257"/>
                      </a:lnTo>
                      <a:lnTo>
                        <a:pt x="842" y="194"/>
                      </a:lnTo>
                      <a:lnTo>
                        <a:pt x="848" y="164"/>
                      </a:lnTo>
                      <a:lnTo>
                        <a:pt x="852" y="136"/>
                      </a:lnTo>
                      <a:lnTo>
                        <a:pt x="854" y="110"/>
                      </a:lnTo>
                      <a:lnTo>
                        <a:pt x="855" y="85"/>
                      </a:lnTo>
                      <a:lnTo>
                        <a:pt x="856" y="62"/>
                      </a:lnTo>
                      <a:lnTo>
                        <a:pt x="855" y="40"/>
                      </a:lnTo>
                      <a:lnTo>
                        <a:pt x="853" y="19"/>
                      </a:lnTo>
                      <a:lnTo>
                        <a:pt x="849" y="0"/>
                      </a:lnTo>
                      <a:lnTo>
                        <a:pt x="793" y="13"/>
                      </a:lnTo>
                      <a:lnTo>
                        <a:pt x="795" y="27"/>
                      </a:lnTo>
                      <a:lnTo>
                        <a:pt x="798" y="43"/>
                      </a:lnTo>
                      <a:lnTo>
                        <a:pt x="799" y="62"/>
                      </a:lnTo>
                      <a:lnTo>
                        <a:pt x="798" y="82"/>
                      </a:lnTo>
                      <a:lnTo>
                        <a:pt x="797" y="105"/>
                      </a:lnTo>
                      <a:lnTo>
                        <a:pt x="794" y="129"/>
                      </a:lnTo>
                      <a:lnTo>
                        <a:pt x="791" y="156"/>
                      </a:lnTo>
                      <a:lnTo>
                        <a:pt x="786" y="183"/>
                      </a:lnTo>
                      <a:lnTo>
                        <a:pt x="775" y="244"/>
                      </a:lnTo>
                      <a:lnTo>
                        <a:pt x="759" y="310"/>
                      </a:lnTo>
                      <a:lnTo>
                        <a:pt x="740" y="381"/>
                      </a:lnTo>
                      <a:lnTo>
                        <a:pt x="717" y="456"/>
                      </a:lnTo>
                      <a:lnTo>
                        <a:pt x="693" y="535"/>
                      </a:lnTo>
                      <a:lnTo>
                        <a:pt x="666" y="617"/>
                      </a:lnTo>
                      <a:lnTo>
                        <a:pt x="636" y="700"/>
                      </a:lnTo>
                      <a:lnTo>
                        <a:pt x="604" y="785"/>
                      </a:lnTo>
                      <a:lnTo>
                        <a:pt x="570" y="873"/>
                      </a:lnTo>
                      <a:lnTo>
                        <a:pt x="536" y="961"/>
                      </a:lnTo>
                      <a:lnTo>
                        <a:pt x="499" y="1049"/>
                      </a:lnTo>
                      <a:lnTo>
                        <a:pt x="462" y="1136"/>
                      </a:lnTo>
                      <a:lnTo>
                        <a:pt x="426" y="1222"/>
                      </a:lnTo>
                      <a:lnTo>
                        <a:pt x="388" y="1307"/>
                      </a:lnTo>
                      <a:lnTo>
                        <a:pt x="350" y="1389"/>
                      </a:lnTo>
                      <a:lnTo>
                        <a:pt x="312" y="1469"/>
                      </a:lnTo>
                      <a:lnTo>
                        <a:pt x="275" y="1545"/>
                      </a:lnTo>
                      <a:lnTo>
                        <a:pt x="240" y="1616"/>
                      </a:lnTo>
                      <a:lnTo>
                        <a:pt x="204" y="1684"/>
                      </a:lnTo>
                      <a:lnTo>
                        <a:pt x="171" y="1746"/>
                      </a:lnTo>
                      <a:lnTo>
                        <a:pt x="140" y="1802"/>
                      </a:lnTo>
                      <a:lnTo>
                        <a:pt x="110" y="1852"/>
                      </a:lnTo>
                      <a:lnTo>
                        <a:pt x="82" y="1895"/>
                      </a:lnTo>
                      <a:lnTo>
                        <a:pt x="58" y="1930"/>
                      </a:lnTo>
                      <a:lnTo>
                        <a:pt x="47" y="1944"/>
                      </a:lnTo>
                      <a:lnTo>
                        <a:pt x="37" y="1956"/>
                      </a:lnTo>
                      <a:lnTo>
                        <a:pt x="28" y="1965"/>
                      </a:lnTo>
                      <a:lnTo>
                        <a:pt x="20" y="1972"/>
                      </a:lnTo>
                      <a:lnTo>
                        <a:pt x="16" y="1977"/>
                      </a:lnTo>
                      <a:lnTo>
                        <a:pt x="11" y="1978"/>
                      </a:lnTo>
                      <a:lnTo>
                        <a:pt x="13" y="1978"/>
                      </a:lnTo>
                      <a:lnTo>
                        <a:pt x="16" y="1978"/>
                      </a:lnTo>
                      <a:lnTo>
                        <a:pt x="19" y="1978"/>
                      </a:lnTo>
                      <a:lnTo>
                        <a:pt x="23" y="1979"/>
                      </a:lnTo>
                      <a:lnTo>
                        <a:pt x="0" y="2032"/>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2" name=""/>
                <p:cNvSpPr/>
                <p:nvPr/>
              </p:nvSpPr>
              <p:spPr>
                <a:xfrm flipH="1" flipV="1">
                  <a:off x="3299040" y="3451680"/>
                  <a:ext cx="7920" cy="69120"/>
                </a:xfrm>
                <a:prstGeom prst="line">
                  <a:avLst/>
                </a:prstGeom>
                <a:ln w="1440">
                  <a:solidFill>
                    <a:srgbClr val="000000"/>
                  </a:solidFill>
                  <a:miter/>
                </a:ln>
              </p:spPr>
              <p:style>
                <a:lnRef idx="0"/>
                <a:fillRef idx="0"/>
                <a:effectRef idx="0"/>
                <a:fontRef idx="minor"/>
              </p:style>
              <p:txBody>
                <a:bodyPr lIns="93240" rIns="93240" tIns="22680" bIns="22680" anchor="t">
                  <a:noAutofit/>
                </a:bodyPr>
                <a:p>
                  <a:endParaRPr b="0" lang="en-US" sz="2400" spc="-1" strike="noStrike">
                    <a:solidFill>
                      <a:srgbClr val="ffffff"/>
                    </a:solidFill>
                    <a:latin typeface="Times New Roman"/>
                  </a:endParaRPr>
                </a:p>
              </p:txBody>
            </p:sp>
            <p:sp>
              <p:nvSpPr>
                <p:cNvPr id="603" name=""/>
                <p:cNvSpPr/>
                <p:nvPr/>
              </p:nvSpPr>
              <p:spPr>
                <a:xfrm>
                  <a:off x="3759120" y="2291760"/>
                  <a:ext cx="169920" cy="49680"/>
                </a:xfrm>
                <a:custGeom>
                  <a:avLst/>
                  <a:gdLst/>
                  <a:ahLst/>
                  <a:rect l="l" t="t" r="r" b="b"/>
                  <a:pathLst>
                    <a:path w="836" h="267">
                      <a:moveTo>
                        <a:pt x="0" y="221"/>
                      </a:moveTo>
                      <a:lnTo>
                        <a:pt x="6" y="208"/>
                      </a:lnTo>
                      <a:lnTo>
                        <a:pt x="25" y="179"/>
                      </a:lnTo>
                      <a:lnTo>
                        <a:pt x="40" y="158"/>
                      </a:lnTo>
                      <a:lnTo>
                        <a:pt x="58" y="136"/>
                      </a:lnTo>
                      <a:lnTo>
                        <a:pt x="79" y="113"/>
                      </a:lnTo>
                      <a:lnTo>
                        <a:pt x="104" y="90"/>
                      </a:lnTo>
                      <a:lnTo>
                        <a:pt x="117" y="79"/>
                      </a:lnTo>
                      <a:lnTo>
                        <a:pt x="132" y="67"/>
                      </a:lnTo>
                      <a:lnTo>
                        <a:pt x="147" y="57"/>
                      </a:lnTo>
                      <a:lnTo>
                        <a:pt x="163" y="46"/>
                      </a:lnTo>
                      <a:lnTo>
                        <a:pt x="179" y="37"/>
                      </a:lnTo>
                      <a:lnTo>
                        <a:pt x="197" y="29"/>
                      </a:lnTo>
                      <a:lnTo>
                        <a:pt x="216" y="21"/>
                      </a:lnTo>
                      <a:lnTo>
                        <a:pt x="234" y="14"/>
                      </a:lnTo>
                      <a:lnTo>
                        <a:pt x="255" y="10"/>
                      </a:lnTo>
                      <a:lnTo>
                        <a:pt x="275" y="5"/>
                      </a:lnTo>
                      <a:lnTo>
                        <a:pt x="297" y="2"/>
                      </a:lnTo>
                      <a:lnTo>
                        <a:pt x="319" y="0"/>
                      </a:lnTo>
                      <a:lnTo>
                        <a:pt x="343" y="0"/>
                      </a:lnTo>
                      <a:lnTo>
                        <a:pt x="367" y="3"/>
                      </a:lnTo>
                      <a:lnTo>
                        <a:pt x="391" y="6"/>
                      </a:lnTo>
                      <a:lnTo>
                        <a:pt x="418" y="11"/>
                      </a:lnTo>
                      <a:lnTo>
                        <a:pt x="443" y="18"/>
                      </a:lnTo>
                      <a:lnTo>
                        <a:pt x="468" y="26"/>
                      </a:lnTo>
                      <a:lnTo>
                        <a:pt x="492" y="34"/>
                      </a:lnTo>
                      <a:lnTo>
                        <a:pt x="515" y="42"/>
                      </a:lnTo>
                      <a:lnTo>
                        <a:pt x="538" y="51"/>
                      </a:lnTo>
                      <a:lnTo>
                        <a:pt x="560" y="61"/>
                      </a:lnTo>
                      <a:lnTo>
                        <a:pt x="581" y="71"/>
                      </a:lnTo>
                      <a:lnTo>
                        <a:pt x="600" y="81"/>
                      </a:lnTo>
                      <a:lnTo>
                        <a:pt x="638" y="102"/>
                      </a:lnTo>
                      <a:lnTo>
                        <a:pt x="673" y="123"/>
                      </a:lnTo>
                      <a:lnTo>
                        <a:pt x="704" y="144"/>
                      </a:lnTo>
                      <a:lnTo>
                        <a:pt x="731" y="166"/>
                      </a:lnTo>
                      <a:lnTo>
                        <a:pt x="755" y="185"/>
                      </a:lnTo>
                      <a:lnTo>
                        <a:pt x="777" y="205"/>
                      </a:lnTo>
                      <a:lnTo>
                        <a:pt x="795" y="222"/>
                      </a:lnTo>
                      <a:lnTo>
                        <a:pt x="809" y="237"/>
                      </a:lnTo>
                      <a:lnTo>
                        <a:pt x="829" y="259"/>
                      </a:lnTo>
                      <a:lnTo>
                        <a:pt x="836" y="267"/>
                      </a:lnTo>
                    </a:path>
                  </a:pathLst>
                </a:custGeom>
                <a:noFill/>
                <a:ln w="144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04" name=""/>
                <p:cNvSpPr/>
                <p:nvPr/>
              </p:nvSpPr>
              <p:spPr>
                <a:xfrm>
                  <a:off x="3602880" y="2147760"/>
                  <a:ext cx="94680" cy="109440"/>
                </a:xfrm>
                <a:custGeom>
                  <a:avLst/>
                  <a:gdLst/>
                  <a:ahLst/>
                  <a:rect l="l" t="t" r="r" b="b"/>
                  <a:pathLst>
                    <a:path w="466" h="582">
                      <a:moveTo>
                        <a:pt x="0" y="0"/>
                      </a:moveTo>
                      <a:lnTo>
                        <a:pt x="19" y="25"/>
                      </a:lnTo>
                      <a:lnTo>
                        <a:pt x="36" y="51"/>
                      </a:lnTo>
                      <a:lnTo>
                        <a:pt x="53" y="82"/>
                      </a:lnTo>
                      <a:lnTo>
                        <a:pt x="72" y="115"/>
                      </a:lnTo>
                      <a:lnTo>
                        <a:pt x="108" y="185"/>
                      </a:lnTo>
                      <a:lnTo>
                        <a:pt x="146" y="256"/>
                      </a:lnTo>
                      <a:lnTo>
                        <a:pt x="166" y="290"/>
                      </a:lnTo>
                      <a:lnTo>
                        <a:pt x="186" y="322"/>
                      </a:lnTo>
                      <a:lnTo>
                        <a:pt x="208" y="352"/>
                      </a:lnTo>
                      <a:lnTo>
                        <a:pt x="230" y="380"/>
                      </a:lnTo>
                      <a:lnTo>
                        <a:pt x="240" y="391"/>
                      </a:lnTo>
                      <a:lnTo>
                        <a:pt x="252" y="403"/>
                      </a:lnTo>
                      <a:lnTo>
                        <a:pt x="265" y="412"/>
                      </a:lnTo>
                      <a:lnTo>
                        <a:pt x="276" y="421"/>
                      </a:lnTo>
                      <a:lnTo>
                        <a:pt x="289" y="428"/>
                      </a:lnTo>
                      <a:lnTo>
                        <a:pt x="300" y="435"/>
                      </a:lnTo>
                      <a:lnTo>
                        <a:pt x="313" y="439"/>
                      </a:lnTo>
                      <a:lnTo>
                        <a:pt x="327" y="442"/>
                      </a:lnTo>
                      <a:lnTo>
                        <a:pt x="327" y="451"/>
                      </a:lnTo>
                      <a:lnTo>
                        <a:pt x="329" y="459"/>
                      </a:lnTo>
                      <a:lnTo>
                        <a:pt x="332" y="466"/>
                      </a:lnTo>
                      <a:lnTo>
                        <a:pt x="337" y="473"/>
                      </a:lnTo>
                      <a:lnTo>
                        <a:pt x="348" y="486"/>
                      </a:lnTo>
                      <a:lnTo>
                        <a:pt x="361" y="500"/>
                      </a:lnTo>
                      <a:lnTo>
                        <a:pt x="374" y="513"/>
                      </a:lnTo>
                      <a:lnTo>
                        <a:pt x="385" y="527"/>
                      </a:lnTo>
                      <a:lnTo>
                        <a:pt x="390" y="534"/>
                      </a:lnTo>
                      <a:lnTo>
                        <a:pt x="393" y="542"/>
                      </a:lnTo>
                      <a:lnTo>
                        <a:pt x="395" y="550"/>
                      </a:lnTo>
                      <a:lnTo>
                        <a:pt x="395" y="558"/>
                      </a:lnTo>
                      <a:lnTo>
                        <a:pt x="420" y="558"/>
                      </a:lnTo>
                      <a:lnTo>
                        <a:pt x="443" y="558"/>
                      </a:lnTo>
                      <a:lnTo>
                        <a:pt x="466" y="582"/>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5" name=""/>
                <p:cNvSpPr/>
                <p:nvPr/>
              </p:nvSpPr>
              <p:spPr>
                <a:xfrm>
                  <a:off x="3656160" y="2147760"/>
                  <a:ext cx="88920" cy="120240"/>
                </a:xfrm>
                <a:custGeom>
                  <a:avLst/>
                  <a:gdLst/>
                  <a:ahLst/>
                  <a:rect l="l" t="t" r="r" b="b"/>
                  <a:pathLst>
                    <a:path w="443" h="628">
                      <a:moveTo>
                        <a:pt x="0" y="0"/>
                      </a:moveTo>
                      <a:lnTo>
                        <a:pt x="26" y="60"/>
                      </a:lnTo>
                      <a:lnTo>
                        <a:pt x="63" y="148"/>
                      </a:lnTo>
                      <a:lnTo>
                        <a:pt x="87" y="197"/>
                      </a:lnTo>
                      <a:lnTo>
                        <a:pt x="112" y="250"/>
                      </a:lnTo>
                      <a:lnTo>
                        <a:pt x="139" y="304"/>
                      </a:lnTo>
                      <a:lnTo>
                        <a:pt x="169" y="358"/>
                      </a:lnTo>
                      <a:lnTo>
                        <a:pt x="184" y="384"/>
                      </a:lnTo>
                      <a:lnTo>
                        <a:pt x="200" y="411"/>
                      </a:lnTo>
                      <a:lnTo>
                        <a:pt x="216" y="436"/>
                      </a:lnTo>
                      <a:lnTo>
                        <a:pt x="232" y="460"/>
                      </a:lnTo>
                      <a:lnTo>
                        <a:pt x="250" y="483"/>
                      </a:lnTo>
                      <a:lnTo>
                        <a:pt x="267" y="506"/>
                      </a:lnTo>
                      <a:lnTo>
                        <a:pt x="284" y="527"/>
                      </a:lnTo>
                      <a:lnTo>
                        <a:pt x="301" y="546"/>
                      </a:lnTo>
                      <a:lnTo>
                        <a:pt x="319" y="563"/>
                      </a:lnTo>
                      <a:lnTo>
                        <a:pt x="336" y="580"/>
                      </a:lnTo>
                      <a:lnTo>
                        <a:pt x="354" y="593"/>
                      </a:lnTo>
                      <a:lnTo>
                        <a:pt x="371" y="606"/>
                      </a:lnTo>
                      <a:lnTo>
                        <a:pt x="390" y="615"/>
                      </a:lnTo>
                      <a:lnTo>
                        <a:pt x="407" y="622"/>
                      </a:lnTo>
                      <a:lnTo>
                        <a:pt x="424" y="627"/>
                      </a:lnTo>
                      <a:lnTo>
                        <a:pt x="443" y="628"/>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6" name=""/>
                <p:cNvSpPr/>
                <p:nvPr/>
              </p:nvSpPr>
              <p:spPr>
                <a:xfrm>
                  <a:off x="3929040" y="2134800"/>
                  <a:ext cx="74880" cy="96480"/>
                </a:xfrm>
                <a:custGeom>
                  <a:avLst/>
                  <a:gdLst/>
                  <a:ahLst/>
                  <a:rect l="l" t="t" r="r" b="b"/>
                  <a:pathLst>
                    <a:path w="371" h="512">
                      <a:moveTo>
                        <a:pt x="371" y="0"/>
                      </a:moveTo>
                      <a:lnTo>
                        <a:pt x="353" y="21"/>
                      </a:lnTo>
                      <a:lnTo>
                        <a:pt x="333" y="48"/>
                      </a:lnTo>
                      <a:lnTo>
                        <a:pt x="312" y="79"/>
                      </a:lnTo>
                      <a:lnTo>
                        <a:pt x="290" y="113"/>
                      </a:lnTo>
                      <a:lnTo>
                        <a:pt x="243" y="191"/>
                      </a:lnTo>
                      <a:lnTo>
                        <a:pt x="194" y="274"/>
                      </a:lnTo>
                      <a:lnTo>
                        <a:pt x="169" y="314"/>
                      </a:lnTo>
                      <a:lnTo>
                        <a:pt x="143" y="354"/>
                      </a:lnTo>
                      <a:lnTo>
                        <a:pt x="118" y="391"/>
                      </a:lnTo>
                      <a:lnTo>
                        <a:pt x="94" y="425"/>
                      </a:lnTo>
                      <a:lnTo>
                        <a:pt x="81" y="440"/>
                      </a:lnTo>
                      <a:lnTo>
                        <a:pt x="69" y="455"/>
                      </a:lnTo>
                      <a:lnTo>
                        <a:pt x="57" y="468"/>
                      </a:lnTo>
                      <a:lnTo>
                        <a:pt x="44" y="481"/>
                      </a:lnTo>
                      <a:lnTo>
                        <a:pt x="33" y="491"/>
                      </a:lnTo>
                      <a:lnTo>
                        <a:pt x="22" y="499"/>
                      </a:lnTo>
                      <a:lnTo>
                        <a:pt x="10" y="507"/>
                      </a:lnTo>
                      <a:lnTo>
                        <a:pt x="0" y="512"/>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07" name=""/>
                <p:cNvSpPr/>
                <p:nvPr/>
              </p:nvSpPr>
              <p:spPr>
                <a:xfrm>
                  <a:off x="3937320" y="2155680"/>
                  <a:ext cx="99000" cy="142560"/>
                </a:xfrm>
                <a:custGeom>
                  <a:avLst/>
                  <a:gdLst/>
                  <a:ahLst/>
                  <a:rect l="l" t="t" r="r" b="b"/>
                  <a:pathLst>
                    <a:path w="488" h="745">
                      <a:moveTo>
                        <a:pt x="488" y="0"/>
                      </a:moveTo>
                      <a:lnTo>
                        <a:pt x="479" y="22"/>
                      </a:lnTo>
                      <a:lnTo>
                        <a:pt x="467" y="44"/>
                      </a:lnTo>
                      <a:lnTo>
                        <a:pt x="454" y="67"/>
                      </a:lnTo>
                      <a:lnTo>
                        <a:pt x="441" y="89"/>
                      </a:lnTo>
                      <a:lnTo>
                        <a:pt x="425" y="111"/>
                      </a:lnTo>
                      <a:lnTo>
                        <a:pt x="408" y="134"/>
                      </a:lnTo>
                      <a:lnTo>
                        <a:pt x="391" y="157"/>
                      </a:lnTo>
                      <a:lnTo>
                        <a:pt x="373" y="179"/>
                      </a:lnTo>
                      <a:lnTo>
                        <a:pt x="292" y="270"/>
                      </a:lnTo>
                      <a:lnTo>
                        <a:pt x="209" y="363"/>
                      </a:lnTo>
                      <a:lnTo>
                        <a:pt x="168" y="411"/>
                      </a:lnTo>
                      <a:lnTo>
                        <a:pt x="129" y="458"/>
                      </a:lnTo>
                      <a:lnTo>
                        <a:pt x="111" y="482"/>
                      </a:lnTo>
                      <a:lnTo>
                        <a:pt x="94" y="506"/>
                      </a:lnTo>
                      <a:lnTo>
                        <a:pt x="78" y="529"/>
                      </a:lnTo>
                      <a:lnTo>
                        <a:pt x="63" y="553"/>
                      </a:lnTo>
                      <a:lnTo>
                        <a:pt x="49" y="577"/>
                      </a:lnTo>
                      <a:lnTo>
                        <a:pt x="36" y="601"/>
                      </a:lnTo>
                      <a:lnTo>
                        <a:pt x="26" y="624"/>
                      </a:lnTo>
                      <a:lnTo>
                        <a:pt x="17" y="648"/>
                      </a:lnTo>
                      <a:lnTo>
                        <a:pt x="10" y="673"/>
                      </a:lnTo>
                      <a:lnTo>
                        <a:pt x="4" y="697"/>
                      </a:lnTo>
                      <a:lnTo>
                        <a:pt x="1" y="721"/>
                      </a:lnTo>
                      <a:lnTo>
                        <a:pt x="0" y="745"/>
                      </a:lnTo>
                    </a:path>
                  </a:pathLst>
                </a:custGeom>
                <a:noFill/>
                <a:ln w="144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grpSp>
        </p:grpSp>
        <p:grpSp>
          <p:nvGrpSpPr>
            <p:cNvPr id="608" name=""/>
            <p:cNvGrpSpPr/>
            <p:nvPr/>
          </p:nvGrpSpPr>
          <p:grpSpPr>
            <a:xfrm>
              <a:off x="4621320" y="1615680"/>
              <a:ext cx="955080" cy="3338640"/>
              <a:chOff x="4621320" y="1615680"/>
              <a:chExt cx="955080" cy="3338640"/>
            </a:xfrm>
          </p:grpSpPr>
          <p:sp>
            <p:nvSpPr>
              <p:cNvPr id="609" name=""/>
              <p:cNvSpPr/>
              <p:nvPr/>
            </p:nvSpPr>
            <p:spPr>
              <a:xfrm>
                <a:off x="5313960" y="3412080"/>
                <a:ext cx="183960" cy="194040"/>
              </a:xfrm>
              <a:custGeom>
                <a:avLst/>
                <a:gdLst/>
                <a:ahLst/>
                <a:rect l="l" t="t" r="r" b="b"/>
                <a:pathLst>
                  <a:path w="830" h="1058">
                    <a:moveTo>
                      <a:pt x="236" y="266"/>
                    </a:moveTo>
                    <a:lnTo>
                      <a:pt x="0" y="738"/>
                    </a:lnTo>
                    <a:lnTo>
                      <a:pt x="588" y="1058"/>
                    </a:lnTo>
                    <a:lnTo>
                      <a:pt x="602" y="1042"/>
                    </a:lnTo>
                    <a:lnTo>
                      <a:pt x="640" y="995"/>
                    </a:lnTo>
                    <a:lnTo>
                      <a:pt x="665" y="961"/>
                    </a:lnTo>
                    <a:lnTo>
                      <a:pt x="692" y="921"/>
                    </a:lnTo>
                    <a:lnTo>
                      <a:pt x="705" y="898"/>
                    </a:lnTo>
                    <a:lnTo>
                      <a:pt x="719" y="874"/>
                    </a:lnTo>
                    <a:lnTo>
                      <a:pt x="733" y="848"/>
                    </a:lnTo>
                    <a:lnTo>
                      <a:pt x="746" y="821"/>
                    </a:lnTo>
                    <a:lnTo>
                      <a:pt x="759" y="791"/>
                    </a:lnTo>
                    <a:lnTo>
                      <a:pt x="771" y="761"/>
                    </a:lnTo>
                    <a:lnTo>
                      <a:pt x="782" y="729"/>
                    </a:lnTo>
                    <a:lnTo>
                      <a:pt x="794" y="696"/>
                    </a:lnTo>
                    <a:lnTo>
                      <a:pt x="803" y="662"/>
                    </a:lnTo>
                    <a:lnTo>
                      <a:pt x="812" y="627"/>
                    </a:lnTo>
                    <a:lnTo>
                      <a:pt x="819" y="589"/>
                    </a:lnTo>
                    <a:lnTo>
                      <a:pt x="824" y="552"/>
                    </a:lnTo>
                    <a:lnTo>
                      <a:pt x="828" y="512"/>
                    </a:lnTo>
                    <a:lnTo>
                      <a:pt x="830" y="471"/>
                    </a:lnTo>
                    <a:lnTo>
                      <a:pt x="830" y="430"/>
                    </a:lnTo>
                    <a:lnTo>
                      <a:pt x="829" y="387"/>
                    </a:lnTo>
                    <a:lnTo>
                      <a:pt x="824" y="344"/>
                    </a:lnTo>
                    <a:lnTo>
                      <a:pt x="818" y="300"/>
                    </a:lnTo>
                    <a:lnTo>
                      <a:pt x="807" y="254"/>
                    </a:lnTo>
                    <a:lnTo>
                      <a:pt x="796" y="208"/>
                    </a:lnTo>
                    <a:lnTo>
                      <a:pt x="781" y="164"/>
                    </a:lnTo>
                    <a:lnTo>
                      <a:pt x="765" y="126"/>
                    </a:lnTo>
                    <a:lnTo>
                      <a:pt x="747" y="94"/>
                    </a:lnTo>
                    <a:lnTo>
                      <a:pt x="729" y="67"/>
                    </a:lnTo>
                    <a:lnTo>
                      <a:pt x="710" y="44"/>
                    </a:lnTo>
                    <a:lnTo>
                      <a:pt x="690" y="27"/>
                    </a:lnTo>
                    <a:lnTo>
                      <a:pt x="668" y="15"/>
                    </a:lnTo>
                    <a:lnTo>
                      <a:pt x="645" y="6"/>
                    </a:lnTo>
                    <a:lnTo>
                      <a:pt x="624" y="1"/>
                    </a:lnTo>
                    <a:lnTo>
                      <a:pt x="600" y="0"/>
                    </a:lnTo>
                    <a:lnTo>
                      <a:pt x="577" y="1"/>
                    </a:lnTo>
                    <a:lnTo>
                      <a:pt x="554" y="7"/>
                    </a:lnTo>
                    <a:lnTo>
                      <a:pt x="530" y="14"/>
                    </a:lnTo>
                    <a:lnTo>
                      <a:pt x="507" y="24"/>
                    </a:lnTo>
                    <a:lnTo>
                      <a:pt x="483" y="35"/>
                    </a:lnTo>
                    <a:lnTo>
                      <a:pt x="461" y="49"/>
                    </a:lnTo>
                    <a:lnTo>
                      <a:pt x="438" y="65"/>
                    </a:lnTo>
                    <a:lnTo>
                      <a:pt x="416" y="81"/>
                    </a:lnTo>
                    <a:lnTo>
                      <a:pt x="395" y="98"/>
                    </a:lnTo>
                    <a:lnTo>
                      <a:pt x="374" y="116"/>
                    </a:lnTo>
                    <a:lnTo>
                      <a:pt x="355" y="133"/>
                    </a:lnTo>
                    <a:lnTo>
                      <a:pt x="336" y="151"/>
                    </a:lnTo>
                    <a:lnTo>
                      <a:pt x="319" y="169"/>
                    </a:lnTo>
                    <a:lnTo>
                      <a:pt x="303" y="186"/>
                    </a:lnTo>
                    <a:lnTo>
                      <a:pt x="254" y="242"/>
                    </a:lnTo>
                    <a:lnTo>
                      <a:pt x="236" y="266"/>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0" name=""/>
              <p:cNvSpPr/>
              <p:nvPr/>
            </p:nvSpPr>
            <p:spPr>
              <a:xfrm>
                <a:off x="5313960" y="3412080"/>
                <a:ext cx="183960" cy="194040"/>
              </a:xfrm>
              <a:custGeom>
                <a:avLst/>
                <a:gdLst/>
                <a:ahLst/>
                <a:rect l="l" t="t" r="r" b="b"/>
                <a:pathLst>
                  <a:path w="830" h="1058">
                    <a:moveTo>
                      <a:pt x="236" y="266"/>
                    </a:moveTo>
                    <a:lnTo>
                      <a:pt x="0" y="738"/>
                    </a:lnTo>
                    <a:lnTo>
                      <a:pt x="588" y="1058"/>
                    </a:lnTo>
                    <a:lnTo>
                      <a:pt x="602" y="1042"/>
                    </a:lnTo>
                    <a:lnTo>
                      <a:pt x="640" y="995"/>
                    </a:lnTo>
                    <a:lnTo>
                      <a:pt x="665" y="961"/>
                    </a:lnTo>
                    <a:lnTo>
                      <a:pt x="692" y="921"/>
                    </a:lnTo>
                    <a:lnTo>
                      <a:pt x="705" y="898"/>
                    </a:lnTo>
                    <a:lnTo>
                      <a:pt x="719" y="874"/>
                    </a:lnTo>
                    <a:lnTo>
                      <a:pt x="733" y="848"/>
                    </a:lnTo>
                    <a:lnTo>
                      <a:pt x="746" y="821"/>
                    </a:lnTo>
                    <a:lnTo>
                      <a:pt x="759" y="791"/>
                    </a:lnTo>
                    <a:lnTo>
                      <a:pt x="771" y="761"/>
                    </a:lnTo>
                    <a:lnTo>
                      <a:pt x="782" y="729"/>
                    </a:lnTo>
                    <a:lnTo>
                      <a:pt x="794" y="696"/>
                    </a:lnTo>
                    <a:lnTo>
                      <a:pt x="803" y="662"/>
                    </a:lnTo>
                    <a:lnTo>
                      <a:pt x="812" y="627"/>
                    </a:lnTo>
                    <a:lnTo>
                      <a:pt x="819" y="589"/>
                    </a:lnTo>
                    <a:lnTo>
                      <a:pt x="824" y="552"/>
                    </a:lnTo>
                    <a:lnTo>
                      <a:pt x="828" y="512"/>
                    </a:lnTo>
                    <a:lnTo>
                      <a:pt x="830" y="471"/>
                    </a:lnTo>
                    <a:lnTo>
                      <a:pt x="830" y="430"/>
                    </a:lnTo>
                    <a:lnTo>
                      <a:pt x="829" y="387"/>
                    </a:lnTo>
                    <a:lnTo>
                      <a:pt x="824" y="344"/>
                    </a:lnTo>
                    <a:lnTo>
                      <a:pt x="818" y="300"/>
                    </a:lnTo>
                    <a:lnTo>
                      <a:pt x="807" y="254"/>
                    </a:lnTo>
                    <a:lnTo>
                      <a:pt x="796" y="208"/>
                    </a:lnTo>
                    <a:lnTo>
                      <a:pt x="781" y="164"/>
                    </a:lnTo>
                    <a:lnTo>
                      <a:pt x="765" y="126"/>
                    </a:lnTo>
                    <a:lnTo>
                      <a:pt x="747" y="94"/>
                    </a:lnTo>
                    <a:lnTo>
                      <a:pt x="729" y="67"/>
                    </a:lnTo>
                    <a:lnTo>
                      <a:pt x="710" y="44"/>
                    </a:lnTo>
                    <a:lnTo>
                      <a:pt x="690" y="27"/>
                    </a:lnTo>
                    <a:lnTo>
                      <a:pt x="668" y="15"/>
                    </a:lnTo>
                    <a:lnTo>
                      <a:pt x="645" y="6"/>
                    </a:lnTo>
                    <a:lnTo>
                      <a:pt x="624" y="1"/>
                    </a:lnTo>
                    <a:lnTo>
                      <a:pt x="600" y="0"/>
                    </a:lnTo>
                    <a:lnTo>
                      <a:pt x="577" y="1"/>
                    </a:lnTo>
                    <a:lnTo>
                      <a:pt x="554" y="7"/>
                    </a:lnTo>
                    <a:lnTo>
                      <a:pt x="530" y="14"/>
                    </a:lnTo>
                    <a:lnTo>
                      <a:pt x="507" y="24"/>
                    </a:lnTo>
                    <a:lnTo>
                      <a:pt x="483" y="35"/>
                    </a:lnTo>
                    <a:lnTo>
                      <a:pt x="461" y="49"/>
                    </a:lnTo>
                    <a:lnTo>
                      <a:pt x="438" y="65"/>
                    </a:lnTo>
                    <a:lnTo>
                      <a:pt x="416" y="81"/>
                    </a:lnTo>
                    <a:lnTo>
                      <a:pt x="395" y="98"/>
                    </a:lnTo>
                    <a:lnTo>
                      <a:pt x="374" y="116"/>
                    </a:lnTo>
                    <a:lnTo>
                      <a:pt x="355" y="133"/>
                    </a:lnTo>
                    <a:lnTo>
                      <a:pt x="336" y="151"/>
                    </a:lnTo>
                    <a:lnTo>
                      <a:pt x="319" y="169"/>
                    </a:lnTo>
                    <a:lnTo>
                      <a:pt x="303" y="186"/>
                    </a:lnTo>
                    <a:lnTo>
                      <a:pt x="254" y="242"/>
                    </a:lnTo>
                    <a:lnTo>
                      <a:pt x="236" y="26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1" name=""/>
              <p:cNvSpPr/>
              <p:nvPr/>
            </p:nvSpPr>
            <p:spPr>
              <a:xfrm>
                <a:off x="4767120" y="3481920"/>
                <a:ext cx="176400" cy="207000"/>
              </a:xfrm>
              <a:custGeom>
                <a:avLst/>
                <a:gdLst/>
                <a:ahLst/>
                <a:rect l="l" t="t" r="r" b="b"/>
                <a:pathLst>
                  <a:path w="792" h="1124">
                    <a:moveTo>
                      <a:pt x="88" y="297"/>
                    </a:moveTo>
                    <a:lnTo>
                      <a:pt x="83" y="312"/>
                    </a:lnTo>
                    <a:lnTo>
                      <a:pt x="70" y="358"/>
                    </a:lnTo>
                    <a:lnTo>
                      <a:pt x="65" y="390"/>
                    </a:lnTo>
                    <a:lnTo>
                      <a:pt x="61" y="428"/>
                    </a:lnTo>
                    <a:lnTo>
                      <a:pt x="60" y="449"/>
                    </a:lnTo>
                    <a:lnTo>
                      <a:pt x="60" y="471"/>
                    </a:lnTo>
                    <a:lnTo>
                      <a:pt x="60" y="495"/>
                    </a:lnTo>
                    <a:lnTo>
                      <a:pt x="61" y="520"/>
                    </a:lnTo>
                    <a:lnTo>
                      <a:pt x="63" y="545"/>
                    </a:lnTo>
                    <a:lnTo>
                      <a:pt x="68" y="572"/>
                    </a:lnTo>
                    <a:lnTo>
                      <a:pt x="72" y="601"/>
                    </a:lnTo>
                    <a:lnTo>
                      <a:pt x="79" y="629"/>
                    </a:lnTo>
                    <a:lnTo>
                      <a:pt x="88" y="659"/>
                    </a:lnTo>
                    <a:lnTo>
                      <a:pt x="97" y="689"/>
                    </a:lnTo>
                    <a:lnTo>
                      <a:pt x="110" y="721"/>
                    </a:lnTo>
                    <a:lnTo>
                      <a:pt x="123" y="753"/>
                    </a:lnTo>
                    <a:lnTo>
                      <a:pt x="139" y="786"/>
                    </a:lnTo>
                    <a:lnTo>
                      <a:pt x="157" y="819"/>
                    </a:lnTo>
                    <a:lnTo>
                      <a:pt x="178" y="851"/>
                    </a:lnTo>
                    <a:lnTo>
                      <a:pt x="202" y="886"/>
                    </a:lnTo>
                    <a:lnTo>
                      <a:pt x="227" y="921"/>
                    </a:lnTo>
                    <a:lnTo>
                      <a:pt x="255" y="956"/>
                    </a:lnTo>
                    <a:lnTo>
                      <a:pt x="287" y="991"/>
                    </a:lnTo>
                    <a:lnTo>
                      <a:pt x="321" y="1026"/>
                    </a:lnTo>
                    <a:lnTo>
                      <a:pt x="356" y="1059"/>
                    </a:lnTo>
                    <a:lnTo>
                      <a:pt x="389" y="1084"/>
                    </a:lnTo>
                    <a:lnTo>
                      <a:pt x="420" y="1103"/>
                    </a:lnTo>
                    <a:lnTo>
                      <a:pt x="450" y="1116"/>
                    </a:lnTo>
                    <a:lnTo>
                      <a:pt x="478" y="1123"/>
                    </a:lnTo>
                    <a:lnTo>
                      <a:pt x="505" y="1124"/>
                    </a:lnTo>
                    <a:lnTo>
                      <a:pt x="530" y="1120"/>
                    </a:lnTo>
                    <a:lnTo>
                      <a:pt x="555" y="1111"/>
                    </a:lnTo>
                    <a:lnTo>
                      <a:pt x="578" y="1099"/>
                    </a:lnTo>
                    <a:lnTo>
                      <a:pt x="598" y="1083"/>
                    </a:lnTo>
                    <a:lnTo>
                      <a:pt x="619" y="1063"/>
                    </a:lnTo>
                    <a:lnTo>
                      <a:pt x="637" y="1039"/>
                    </a:lnTo>
                    <a:lnTo>
                      <a:pt x="654" y="1014"/>
                    </a:lnTo>
                    <a:lnTo>
                      <a:pt x="671" y="985"/>
                    </a:lnTo>
                    <a:lnTo>
                      <a:pt x="686" y="955"/>
                    </a:lnTo>
                    <a:lnTo>
                      <a:pt x="699" y="923"/>
                    </a:lnTo>
                    <a:lnTo>
                      <a:pt x="712" y="890"/>
                    </a:lnTo>
                    <a:lnTo>
                      <a:pt x="723" y="857"/>
                    </a:lnTo>
                    <a:lnTo>
                      <a:pt x="733" y="823"/>
                    </a:lnTo>
                    <a:lnTo>
                      <a:pt x="743" y="789"/>
                    </a:lnTo>
                    <a:lnTo>
                      <a:pt x="759" y="723"/>
                    </a:lnTo>
                    <a:lnTo>
                      <a:pt x="772" y="662"/>
                    </a:lnTo>
                    <a:lnTo>
                      <a:pt x="788" y="567"/>
                    </a:lnTo>
                    <a:lnTo>
                      <a:pt x="792" y="530"/>
                    </a:lnTo>
                    <a:lnTo>
                      <a:pt x="469" y="0"/>
                    </a:lnTo>
                    <a:lnTo>
                      <a:pt x="0" y="297"/>
                    </a:lnTo>
                    <a:lnTo>
                      <a:pt x="88" y="297"/>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2" name=""/>
              <p:cNvSpPr/>
              <p:nvPr/>
            </p:nvSpPr>
            <p:spPr>
              <a:xfrm>
                <a:off x="4767120" y="3481920"/>
                <a:ext cx="176400" cy="207000"/>
              </a:xfrm>
              <a:custGeom>
                <a:avLst/>
                <a:gdLst/>
                <a:ahLst/>
                <a:rect l="l" t="t" r="r" b="b"/>
                <a:pathLst>
                  <a:path w="792" h="1124">
                    <a:moveTo>
                      <a:pt x="88" y="297"/>
                    </a:moveTo>
                    <a:lnTo>
                      <a:pt x="83" y="312"/>
                    </a:lnTo>
                    <a:lnTo>
                      <a:pt x="70" y="358"/>
                    </a:lnTo>
                    <a:lnTo>
                      <a:pt x="65" y="390"/>
                    </a:lnTo>
                    <a:lnTo>
                      <a:pt x="61" y="428"/>
                    </a:lnTo>
                    <a:lnTo>
                      <a:pt x="60" y="449"/>
                    </a:lnTo>
                    <a:lnTo>
                      <a:pt x="60" y="471"/>
                    </a:lnTo>
                    <a:lnTo>
                      <a:pt x="60" y="495"/>
                    </a:lnTo>
                    <a:lnTo>
                      <a:pt x="61" y="520"/>
                    </a:lnTo>
                    <a:lnTo>
                      <a:pt x="63" y="545"/>
                    </a:lnTo>
                    <a:lnTo>
                      <a:pt x="68" y="572"/>
                    </a:lnTo>
                    <a:lnTo>
                      <a:pt x="72" y="601"/>
                    </a:lnTo>
                    <a:lnTo>
                      <a:pt x="79" y="629"/>
                    </a:lnTo>
                    <a:lnTo>
                      <a:pt x="88" y="659"/>
                    </a:lnTo>
                    <a:lnTo>
                      <a:pt x="97" y="689"/>
                    </a:lnTo>
                    <a:lnTo>
                      <a:pt x="110" y="721"/>
                    </a:lnTo>
                    <a:lnTo>
                      <a:pt x="123" y="753"/>
                    </a:lnTo>
                    <a:lnTo>
                      <a:pt x="139" y="786"/>
                    </a:lnTo>
                    <a:lnTo>
                      <a:pt x="157" y="819"/>
                    </a:lnTo>
                    <a:lnTo>
                      <a:pt x="178" y="851"/>
                    </a:lnTo>
                    <a:lnTo>
                      <a:pt x="202" y="886"/>
                    </a:lnTo>
                    <a:lnTo>
                      <a:pt x="227" y="921"/>
                    </a:lnTo>
                    <a:lnTo>
                      <a:pt x="255" y="956"/>
                    </a:lnTo>
                    <a:lnTo>
                      <a:pt x="287" y="991"/>
                    </a:lnTo>
                    <a:lnTo>
                      <a:pt x="321" y="1026"/>
                    </a:lnTo>
                    <a:lnTo>
                      <a:pt x="356" y="1059"/>
                    </a:lnTo>
                    <a:lnTo>
                      <a:pt x="389" y="1084"/>
                    </a:lnTo>
                    <a:lnTo>
                      <a:pt x="420" y="1103"/>
                    </a:lnTo>
                    <a:lnTo>
                      <a:pt x="450" y="1116"/>
                    </a:lnTo>
                    <a:lnTo>
                      <a:pt x="478" y="1123"/>
                    </a:lnTo>
                    <a:lnTo>
                      <a:pt x="505" y="1124"/>
                    </a:lnTo>
                    <a:lnTo>
                      <a:pt x="530" y="1120"/>
                    </a:lnTo>
                    <a:lnTo>
                      <a:pt x="555" y="1111"/>
                    </a:lnTo>
                    <a:lnTo>
                      <a:pt x="578" y="1099"/>
                    </a:lnTo>
                    <a:lnTo>
                      <a:pt x="598" y="1083"/>
                    </a:lnTo>
                    <a:lnTo>
                      <a:pt x="619" y="1063"/>
                    </a:lnTo>
                    <a:lnTo>
                      <a:pt x="637" y="1039"/>
                    </a:lnTo>
                    <a:lnTo>
                      <a:pt x="654" y="1014"/>
                    </a:lnTo>
                    <a:lnTo>
                      <a:pt x="671" y="985"/>
                    </a:lnTo>
                    <a:lnTo>
                      <a:pt x="686" y="955"/>
                    </a:lnTo>
                    <a:lnTo>
                      <a:pt x="699" y="923"/>
                    </a:lnTo>
                    <a:lnTo>
                      <a:pt x="712" y="890"/>
                    </a:lnTo>
                    <a:lnTo>
                      <a:pt x="723" y="857"/>
                    </a:lnTo>
                    <a:lnTo>
                      <a:pt x="733" y="823"/>
                    </a:lnTo>
                    <a:lnTo>
                      <a:pt x="743" y="789"/>
                    </a:lnTo>
                    <a:lnTo>
                      <a:pt x="759" y="723"/>
                    </a:lnTo>
                    <a:lnTo>
                      <a:pt x="772" y="662"/>
                    </a:lnTo>
                    <a:lnTo>
                      <a:pt x="788" y="567"/>
                    </a:lnTo>
                    <a:lnTo>
                      <a:pt x="792" y="530"/>
                    </a:lnTo>
                    <a:lnTo>
                      <a:pt x="469" y="0"/>
                    </a:lnTo>
                    <a:lnTo>
                      <a:pt x="0" y="297"/>
                    </a:lnTo>
                    <a:lnTo>
                      <a:pt x="88" y="297"/>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3" name=""/>
              <p:cNvSpPr/>
              <p:nvPr/>
            </p:nvSpPr>
            <p:spPr>
              <a:xfrm>
                <a:off x="4621320" y="4824720"/>
                <a:ext cx="393120" cy="129600"/>
              </a:xfrm>
              <a:custGeom>
                <a:avLst/>
                <a:gdLst/>
                <a:ahLst/>
                <a:rect l="l" t="t" r="r" b="b"/>
                <a:pathLst>
                  <a:path w="1768" h="707">
                    <a:moveTo>
                      <a:pt x="1324" y="4"/>
                    </a:moveTo>
                    <a:lnTo>
                      <a:pt x="1309" y="3"/>
                    </a:lnTo>
                    <a:lnTo>
                      <a:pt x="1269" y="1"/>
                    </a:lnTo>
                    <a:lnTo>
                      <a:pt x="1240" y="0"/>
                    </a:lnTo>
                    <a:lnTo>
                      <a:pt x="1206" y="0"/>
                    </a:lnTo>
                    <a:lnTo>
                      <a:pt x="1167" y="0"/>
                    </a:lnTo>
                    <a:lnTo>
                      <a:pt x="1124" y="0"/>
                    </a:lnTo>
                    <a:lnTo>
                      <a:pt x="1077" y="2"/>
                    </a:lnTo>
                    <a:lnTo>
                      <a:pt x="1027" y="4"/>
                    </a:lnTo>
                    <a:lnTo>
                      <a:pt x="974" y="9"/>
                    </a:lnTo>
                    <a:lnTo>
                      <a:pt x="918" y="15"/>
                    </a:lnTo>
                    <a:lnTo>
                      <a:pt x="861" y="22"/>
                    </a:lnTo>
                    <a:lnTo>
                      <a:pt x="803" y="33"/>
                    </a:lnTo>
                    <a:lnTo>
                      <a:pt x="744" y="44"/>
                    </a:lnTo>
                    <a:lnTo>
                      <a:pt x="684" y="59"/>
                    </a:lnTo>
                    <a:lnTo>
                      <a:pt x="621" y="76"/>
                    </a:lnTo>
                    <a:lnTo>
                      <a:pt x="558" y="95"/>
                    </a:lnTo>
                    <a:lnTo>
                      <a:pt x="494" y="114"/>
                    </a:lnTo>
                    <a:lnTo>
                      <a:pt x="432" y="136"/>
                    </a:lnTo>
                    <a:lnTo>
                      <a:pt x="370" y="159"/>
                    </a:lnTo>
                    <a:lnTo>
                      <a:pt x="310" y="184"/>
                    </a:lnTo>
                    <a:lnTo>
                      <a:pt x="281" y="196"/>
                    </a:lnTo>
                    <a:lnTo>
                      <a:pt x="253" y="209"/>
                    </a:lnTo>
                    <a:lnTo>
                      <a:pt x="226" y="222"/>
                    </a:lnTo>
                    <a:lnTo>
                      <a:pt x="200" y="236"/>
                    </a:lnTo>
                    <a:lnTo>
                      <a:pt x="175" y="249"/>
                    </a:lnTo>
                    <a:lnTo>
                      <a:pt x="151" y="264"/>
                    </a:lnTo>
                    <a:lnTo>
                      <a:pt x="129" y="279"/>
                    </a:lnTo>
                    <a:lnTo>
                      <a:pt x="108" y="295"/>
                    </a:lnTo>
                    <a:lnTo>
                      <a:pt x="89" y="310"/>
                    </a:lnTo>
                    <a:lnTo>
                      <a:pt x="70" y="325"/>
                    </a:lnTo>
                    <a:lnTo>
                      <a:pt x="55" y="341"/>
                    </a:lnTo>
                    <a:lnTo>
                      <a:pt x="41" y="358"/>
                    </a:lnTo>
                    <a:lnTo>
                      <a:pt x="29" y="375"/>
                    </a:lnTo>
                    <a:lnTo>
                      <a:pt x="18" y="392"/>
                    </a:lnTo>
                    <a:lnTo>
                      <a:pt x="10" y="411"/>
                    </a:lnTo>
                    <a:lnTo>
                      <a:pt x="5" y="429"/>
                    </a:lnTo>
                    <a:lnTo>
                      <a:pt x="1" y="447"/>
                    </a:lnTo>
                    <a:lnTo>
                      <a:pt x="0" y="465"/>
                    </a:lnTo>
                    <a:lnTo>
                      <a:pt x="2" y="484"/>
                    </a:lnTo>
                    <a:lnTo>
                      <a:pt x="7" y="504"/>
                    </a:lnTo>
                    <a:lnTo>
                      <a:pt x="13" y="522"/>
                    </a:lnTo>
                    <a:lnTo>
                      <a:pt x="19" y="539"/>
                    </a:lnTo>
                    <a:lnTo>
                      <a:pt x="29" y="556"/>
                    </a:lnTo>
                    <a:lnTo>
                      <a:pt x="38" y="571"/>
                    </a:lnTo>
                    <a:lnTo>
                      <a:pt x="49" y="584"/>
                    </a:lnTo>
                    <a:lnTo>
                      <a:pt x="60" y="598"/>
                    </a:lnTo>
                    <a:lnTo>
                      <a:pt x="73" y="610"/>
                    </a:lnTo>
                    <a:lnTo>
                      <a:pt x="85" y="621"/>
                    </a:lnTo>
                    <a:lnTo>
                      <a:pt x="99" y="631"/>
                    </a:lnTo>
                    <a:lnTo>
                      <a:pt x="114" y="641"/>
                    </a:lnTo>
                    <a:lnTo>
                      <a:pt x="128" y="649"/>
                    </a:lnTo>
                    <a:lnTo>
                      <a:pt x="143" y="657"/>
                    </a:lnTo>
                    <a:lnTo>
                      <a:pt x="172" y="670"/>
                    </a:lnTo>
                    <a:lnTo>
                      <a:pt x="203" y="681"/>
                    </a:lnTo>
                    <a:lnTo>
                      <a:pt x="233" y="690"/>
                    </a:lnTo>
                    <a:lnTo>
                      <a:pt x="261" y="695"/>
                    </a:lnTo>
                    <a:lnTo>
                      <a:pt x="287" y="700"/>
                    </a:lnTo>
                    <a:lnTo>
                      <a:pt x="311" y="703"/>
                    </a:lnTo>
                    <a:lnTo>
                      <a:pt x="345" y="706"/>
                    </a:lnTo>
                    <a:lnTo>
                      <a:pt x="357" y="707"/>
                    </a:lnTo>
                    <a:lnTo>
                      <a:pt x="943" y="676"/>
                    </a:lnTo>
                    <a:lnTo>
                      <a:pt x="1681" y="676"/>
                    </a:lnTo>
                    <a:lnTo>
                      <a:pt x="1768" y="35"/>
                    </a:lnTo>
                    <a:lnTo>
                      <a:pt x="1324" y="4"/>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4" name=""/>
              <p:cNvSpPr/>
              <p:nvPr/>
            </p:nvSpPr>
            <p:spPr>
              <a:xfrm>
                <a:off x="4621320" y="4824720"/>
                <a:ext cx="393120" cy="129600"/>
              </a:xfrm>
              <a:custGeom>
                <a:avLst/>
                <a:gdLst/>
                <a:ahLst/>
                <a:rect l="l" t="t" r="r" b="b"/>
                <a:pathLst>
                  <a:path w="1768" h="707">
                    <a:moveTo>
                      <a:pt x="1324" y="4"/>
                    </a:moveTo>
                    <a:lnTo>
                      <a:pt x="1309" y="3"/>
                    </a:lnTo>
                    <a:lnTo>
                      <a:pt x="1269" y="1"/>
                    </a:lnTo>
                    <a:lnTo>
                      <a:pt x="1240" y="0"/>
                    </a:lnTo>
                    <a:lnTo>
                      <a:pt x="1206" y="0"/>
                    </a:lnTo>
                    <a:lnTo>
                      <a:pt x="1167" y="0"/>
                    </a:lnTo>
                    <a:lnTo>
                      <a:pt x="1124" y="0"/>
                    </a:lnTo>
                    <a:lnTo>
                      <a:pt x="1077" y="2"/>
                    </a:lnTo>
                    <a:lnTo>
                      <a:pt x="1027" y="4"/>
                    </a:lnTo>
                    <a:lnTo>
                      <a:pt x="974" y="9"/>
                    </a:lnTo>
                    <a:lnTo>
                      <a:pt x="918" y="15"/>
                    </a:lnTo>
                    <a:lnTo>
                      <a:pt x="861" y="22"/>
                    </a:lnTo>
                    <a:lnTo>
                      <a:pt x="803" y="33"/>
                    </a:lnTo>
                    <a:lnTo>
                      <a:pt x="744" y="44"/>
                    </a:lnTo>
                    <a:lnTo>
                      <a:pt x="684" y="59"/>
                    </a:lnTo>
                    <a:lnTo>
                      <a:pt x="621" y="76"/>
                    </a:lnTo>
                    <a:lnTo>
                      <a:pt x="558" y="95"/>
                    </a:lnTo>
                    <a:lnTo>
                      <a:pt x="494" y="114"/>
                    </a:lnTo>
                    <a:lnTo>
                      <a:pt x="432" y="136"/>
                    </a:lnTo>
                    <a:lnTo>
                      <a:pt x="370" y="159"/>
                    </a:lnTo>
                    <a:lnTo>
                      <a:pt x="310" y="184"/>
                    </a:lnTo>
                    <a:lnTo>
                      <a:pt x="281" y="196"/>
                    </a:lnTo>
                    <a:lnTo>
                      <a:pt x="253" y="209"/>
                    </a:lnTo>
                    <a:lnTo>
                      <a:pt x="226" y="222"/>
                    </a:lnTo>
                    <a:lnTo>
                      <a:pt x="200" y="236"/>
                    </a:lnTo>
                    <a:lnTo>
                      <a:pt x="175" y="249"/>
                    </a:lnTo>
                    <a:lnTo>
                      <a:pt x="151" y="264"/>
                    </a:lnTo>
                    <a:lnTo>
                      <a:pt x="129" y="279"/>
                    </a:lnTo>
                    <a:lnTo>
                      <a:pt x="108" y="295"/>
                    </a:lnTo>
                    <a:lnTo>
                      <a:pt x="89" y="310"/>
                    </a:lnTo>
                    <a:lnTo>
                      <a:pt x="70" y="325"/>
                    </a:lnTo>
                    <a:lnTo>
                      <a:pt x="55" y="341"/>
                    </a:lnTo>
                    <a:lnTo>
                      <a:pt x="41" y="358"/>
                    </a:lnTo>
                    <a:lnTo>
                      <a:pt x="29" y="375"/>
                    </a:lnTo>
                    <a:lnTo>
                      <a:pt x="18" y="392"/>
                    </a:lnTo>
                    <a:lnTo>
                      <a:pt x="10" y="411"/>
                    </a:lnTo>
                    <a:lnTo>
                      <a:pt x="5" y="429"/>
                    </a:lnTo>
                    <a:lnTo>
                      <a:pt x="1" y="447"/>
                    </a:lnTo>
                    <a:lnTo>
                      <a:pt x="0" y="465"/>
                    </a:lnTo>
                    <a:lnTo>
                      <a:pt x="2" y="484"/>
                    </a:lnTo>
                    <a:lnTo>
                      <a:pt x="7" y="504"/>
                    </a:lnTo>
                    <a:lnTo>
                      <a:pt x="13" y="522"/>
                    </a:lnTo>
                    <a:lnTo>
                      <a:pt x="19" y="539"/>
                    </a:lnTo>
                    <a:lnTo>
                      <a:pt x="29" y="556"/>
                    </a:lnTo>
                    <a:lnTo>
                      <a:pt x="38" y="571"/>
                    </a:lnTo>
                    <a:lnTo>
                      <a:pt x="49" y="584"/>
                    </a:lnTo>
                    <a:lnTo>
                      <a:pt x="60" y="598"/>
                    </a:lnTo>
                    <a:lnTo>
                      <a:pt x="73" y="610"/>
                    </a:lnTo>
                    <a:lnTo>
                      <a:pt x="85" y="621"/>
                    </a:lnTo>
                    <a:lnTo>
                      <a:pt x="99" y="631"/>
                    </a:lnTo>
                    <a:lnTo>
                      <a:pt x="114" y="641"/>
                    </a:lnTo>
                    <a:lnTo>
                      <a:pt x="128" y="649"/>
                    </a:lnTo>
                    <a:lnTo>
                      <a:pt x="143" y="657"/>
                    </a:lnTo>
                    <a:lnTo>
                      <a:pt x="172" y="670"/>
                    </a:lnTo>
                    <a:lnTo>
                      <a:pt x="203" y="681"/>
                    </a:lnTo>
                    <a:lnTo>
                      <a:pt x="233" y="690"/>
                    </a:lnTo>
                    <a:lnTo>
                      <a:pt x="261" y="695"/>
                    </a:lnTo>
                    <a:lnTo>
                      <a:pt x="287" y="700"/>
                    </a:lnTo>
                    <a:lnTo>
                      <a:pt x="311" y="703"/>
                    </a:lnTo>
                    <a:lnTo>
                      <a:pt x="345" y="706"/>
                    </a:lnTo>
                    <a:lnTo>
                      <a:pt x="357" y="707"/>
                    </a:lnTo>
                    <a:lnTo>
                      <a:pt x="943" y="676"/>
                    </a:lnTo>
                    <a:lnTo>
                      <a:pt x="1681" y="676"/>
                    </a:lnTo>
                    <a:lnTo>
                      <a:pt x="1768" y="35"/>
                    </a:lnTo>
                    <a:lnTo>
                      <a:pt x="1324" y="4"/>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5" name=""/>
              <p:cNvSpPr/>
              <p:nvPr/>
            </p:nvSpPr>
            <p:spPr>
              <a:xfrm>
                <a:off x="4921920" y="4808160"/>
                <a:ext cx="462240" cy="139680"/>
              </a:xfrm>
              <a:custGeom>
                <a:avLst/>
                <a:gdLst/>
                <a:ahLst/>
                <a:rect l="l" t="t" r="r" b="b"/>
                <a:pathLst>
                  <a:path w="2086" h="757">
                    <a:moveTo>
                      <a:pt x="888" y="116"/>
                    </a:moveTo>
                    <a:lnTo>
                      <a:pt x="859" y="120"/>
                    </a:lnTo>
                    <a:lnTo>
                      <a:pt x="781" y="135"/>
                    </a:lnTo>
                    <a:lnTo>
                      <a:pt x="728" y="147"/>
                    </a:lnTo>
                    <a:lnTo>
                      <a:pt x="669" y="159"/>
                    </a:lnTo>
                    <a:lnTo>
                      <a:pt x="603" y="174"/>
                    </a:lnTo>
                    <a:lnTo>
                      <a:pt x="535" y="190"/>
                    </a:lnTo>
                    <a:lnTo>
                      <a:pt x="466" y="209"/>
                    </a:lnTo>
                    <a:lnTo>
                      <a:pt x="397" y="228"/>
                    </a:lnTo>
                    <a:lnTo>
                      <a:pt x="364" y="239"/>
                    </a:lnTo>
                    <a:lnTo>
                      <a:pt x="331" y="250"/>
                    </a:lnTo>
                    <a:lnTo>
                      <a:pt x="298" y="261"/>
                    </a:lnTo>
                    <a:lnTo>
                      <a:pt x="267" y="273"/>
                    </a:lnTo>
                    <a:lnTo>
                      <a:pt x="238" y="285"/>
                    </a:lnTo>
                    <a:lnTo>
                      <a:pt x="211" y="296"/>
                    </a:lnTo>
                    <a:lnTo>
                      <a:pt x="186" y="309"/>
                    </a:lnTo>
                    <a:lnTo>
                      <a:pt x="162" y="322"/>
                    </a:lnTo>
                    <a:lnTo>
                      <a:pt x="141" y="335"/>
                    </a:lnTo>
                    <a:lnTo>
                      <a:pt x="122" y="349"/>
                    </a:lnTo>
                    <a:lnTo>
                      <a:pt x="107" y="362"/>
                    </a:lnTo>
                    <a:lnTo>
                      <a:pt x="94" y="376"/>
                    </a:lnTo>
                    <a:lnTo>
                      <a:pt x="83" y="391"/>
                    </a:lnTo>
                    <a:lnTo>
                      <a:pt x="73" y="404"/>
                    </a:lnTo>
                    <a:lnTo>
                      <a:pt x="63" y="420"/>
                    </a:lnTo>
                    <a:lnTo>
                      <a:pt x="56" y="435"/>
                    </a:lnTo>
                    <a:lnTo>
                      <a:pt x="48" y="451"/>
                    </a:lnTo>
                    <a:lnTo>
                      <a:pt x="41" y="467"/>
                    </a:lnTo>
                    <a:lnTo>
                      <a:pt x="34" y="483"/>
                    </a:lnTo>
                    <a:lnTo>
                      <a:pt x="28" y="498"/>
                    </a:lnTo>
                    <a:lnTo>
                      <a:pt x="19" y="530"/>
                    </a:lnTo>
                    <a:lnTo>
                      <a:pt x="12" y="562"/>
                    </a:lnTo>
                    <a:lnTo>
                      <a:pt x="7" y="593"/>
                    </a:lnTo>
                    <a:lnTo>
                      <a:pt x="3" y="622"/>
                    </a:lnTo>
                    <a:lnTo>
                      <a:pt x="1" y="650"/>
                    </a:lnTo>
                    <a:lnTo>
                      <a:pt x="0" y="675"/>
                    </a:lnTo>
                    <a:lnTo>
                      <a:pt x="0" y="698"/>
                    </a:lnTo>
                    <a:lnTo>
                      <a:pt x="0" y="719"/>
                    </a:lnTo>
                    <a:lnTo>
                      <a:pt x="2" y="747"/>
                    </a:lnTo>
                    <a:lnTo>
                      <a:pt x="3" y="757"/>
                    </a:lnTo>
                    <a:lnTo>
                      <a:pt x="711" y="727"/>
                    </a:lnTo>
                    <a:lnTo>
                      <a:pt x="1502" y="585"/>
                    </a:lnTo>
                    <a:lnTo>
                      <a:pt x="1556" y="727"/>
                    </a:lnTo>
                    <a:lnTo>
                      <a:pt x="2085" y="699"/>
                    </a:lnTo>
                    <a:lnTo>
                      <a:pt x="2086" y="674"/>
                    </a:lnTo>
                    <a:lnTo>
                      <a:pt x="2086" y="607"/>
                    </a:lnTo>
                    <a:lnTo>
                      <a:pt x="2084" y="562"/>
                    </a:lnTo>
                    <a:lnTo>
                      <a:pt x="2081" y="510"/>
                    </a:lnTo>
                    <a:lnTo>
                      <a:pt x="2075" y="454"/>
                    </a:lnTo>
                    <a:lnTo>
                      <a:pt x="2067" y="396"/>
                    </a:lnTo>
                    <a:lnTo>
                      <a:pt x="2063" y="367"/>
                    </a:lnTo>
                    <a:lnTo>
                      <a:pt x="2057" y="337"/>
                    </a:lnTo>
                    <a:lnTo>
                      <a:pt x="2050" y="308"/>
                    </a:lnTo>
                    <a:lnTo>
                      <a:pt x="2042" y="278"/>
                    </a:lnTo>
                    <a:lnTo>
                      <a:pt x="2033" y="250"/>
                    </a:lnTo>
                    <a:lnTo>
                      <a:pt x="2023" y="221"/>
                    </a:lnTo>
                    <a:lnTo>
                      <a:pt x="2012" y="194"/>
                    </a:lnTo>
                    <a:lnTo>
                      <a:pt x="2000" y="168"/>
                    </a:lnTo>
                    <a:lnTo>
                      <a:pt x="1987" y="144"/>
                    </a:lnTo>
                    <a:lnTo>
                      <a:pt x="1972" y="120"/>
                    </a:lnTo>
                    <a:lnTo>
                      <a:pt x="1956" y="100"/>
                    </a:lnTo>
                    <a:lnTo>
                      <a:pt x="1938" y="80"/>
                    </a:lnTo>
                    <a:lnTo>
                      <a:pt x="1919" y="63"/>
                    </a:lnTo>
                    <a:lnTo>
                      <a:pt x="1898" y="48"/>
                    </a:lnTo>
                    <a:lnTo>
                      <a:pt x="1877" y="35"/>
                    </a:lnTo>
                    <a:lnTo>
                      <a:pt x="1853" y="25"/>
                    </a:lnTo>
                    <a:lnTo>
                      <a:pt x="1827" y="17"/>
                    </a:lnTo>
                    <a:lnTo>
                      <a:pt x="1800" y="12"/>
                    </a:lnTo>
                    <a:lnTo>
                      <a:pt x="1771" y="7"/>
                    </a:lnTo>
                    <a:lnTo>
                      <a:pt x="1741" y="4"/>
                    </a:lnTo>
                    <a:lnTo>
                      <a:pt x="1710" y="1"/>
                    </a:lnTo>
                    <a:lnTo>
                      <a:pt x="1678" y="0"/>
                    </a:lnTo>
                    <a:lnTo>
                      <a:pt x="1646" y="1"/>
                    </a:lnTo>
                    <a:lnTo>
                      <a:pt x="1612" y="2"/>
                    </a:lnTo>
                    <a:lnTo>
                      <a:pt x="1579" y="5"/>
                    </a:lnTo>
                    <a:lnTo>
                      <a:pt x="1545" y="7"/>
                    </a:lnTo>
                    <a:lnTo>
                      <a:pt x="1510" y="10"/>
                    </a:lnTo>
                    <a:lnTo>
                      <a:pt x="1476" y="15"/>
                    </a:lnTo>
                    <a:lnTo>
                      <a:pt x="1408" y="25"/>
                    </a:lnTo>
                    <a:lnTo>
                      <a:pt x="1342" y="38"/>
                    </a:lnTo>
                    <a:lnTo>
                      <a:pt x="1279" y="50"/>
                    </a:lnTo>
                    <a:lnTo>
                      <a:pt x="1221" y="64"/>
                    </a:lnTo>
                    <a:lnTo>
                      <a:pt x="1167" y="77"/>
                    </a:lnTo>
                    <a:lnTo>
                      <a:pt x="1122" y="89"/>
                    </a:lnTo>
                    <a:lnTo>
                      <a:pt x="1055" y="108"/>
                    </a:lnTo>
                    <a:lnTo>
                      <a:pt x="1030" y="116"/>
                    </a:lnTo>
                    <a:lnTo>
                      <a:pt x="888" y="116"/>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6" name=""/>
              <p:cNvSpPr/>
              <p:nvPr/>
            </p:nvSpPr>
            <p:spPr>
              <a:xfrm>
                <a:off x="4921920" y="4808160"/>
                <a:ext cx="462240" cy="139680"/>
              </a:xfrm>
              <a:custGeom>
                <a:avLst/>
                <a:gdLst/>
                <a:ahLst/>
                <a:rect l="l" t="t" r="r" b="b"/>
                <a:pathLst>
                  <a:path w="2086" h="757">
                    <a:moveTo>
                      <a:pt x="888" y="116"/>
                    </a:moveTo>
                    <a:lnTo>
                      <a:pt x="859" y="120"/>
                    </a:lnTo>
                    <a:lnTo>
                      <a:pt x="781" y="135"/>
                    </a:lnTo>
                    <a:lnTo>
                      <a:pt x="728" y="147"/>
                    </a:lnTo>
                    <a:lnTo>
                      <a:pt x="669" y="159"/>
                    </a:lnTo>
                    <a:lnTo>
                      <a:pt x="603" y="174"/>
                    </a:lnTo>
                    <a:lnTo>
                      <a:pt x="535" y="190"/>
                    </a:lnTo>
                    <a:lnTo>
                      <a:pt x="466" y="209"/>
                    </a:lnTo>
                    <a:lnTo>
                      <a:pt x="397" y="228"/>
                    </a:lnTo>
                    <a:lnTo>
                      <a:pt x="364" y="239"/>
                    </a:lnTo>
                    <a:lnTo>
                      <a:pt x="331" y="250"/>
                    </a:lnTo>
                    <a:lnTo>
                      <a:pt x="298" y="261"/>
                    </a:lnTo>
                    <a:lnTo>
                      <a:pt x="267" y="273"/>
                    </a:lnTo>
                    <a:lnTo>
                      <a:pt x="238" y="285"/>
                    </a:lnTo>
                    <a:lnTo>
                      <a:pt x="211" y="296"/>
                    </a:lnTo>
                    <a:lnTo>
                      <a:pt x="186" y="309"/>
                    </a:lnTo>
                    <a:lnTo>
                      <a:pt x="162" y="322"/>
                    </a:lnTo>
                    <a:lnTo>
                      <a:pt x="141" y="335"/>
                    </a:lnTo>
                    <a:lnTo>
                      <a:pt x="122" y="349"/>
                    </a:lnTo>
                    <a:lnTo>
                      <a:pt x="107" y="362"/>
                    </a:lnTo>
                    <a:lnTo>
                      <a:pt x="94" y="376"/>
                    </a:lnTo>
                    <a:lnTo>
                      <a:pt x="83" y="391"/>
                    </a:lnTo>
                    <a:lnTo>
                      <a:pt x="73" y="404"/>
                    </a:lnTo>
                    <a:lnTo>
                      <a:pt x="63" y="420"/>
                    </a:lnTo>
                    <a:lnTo>
                      <a:pt x="56" y="435"/>
                    </a:lnTo>
                    <a:lnTo>
                      <a:pt x="48" y="451"/>
                    </a:lnTo>
                    <a:lnTo>
                      <a:pt x="41" y="467"/>
                    </a:lnTo>
                    <a:lnTo>
                      <a:pt x="34" y="483"/>
                    </a:lnTo>
                    <a:lnTo>
                      <a:pt x="28" y="498"/>
                    </a:lnTo>
                    <a:lnTo>
                      <a:pt x="19" y="530"/>
                    </a:lnTo>
                    <a:lnTo>
                      <a:pt x="12" y="562"/>
                    </a:lnTo>
                    <a:lnTo>
                      <a:pt x="7" y="593"/>
                    </a:lnTo>
                    <a:lnTo>
                      <a:pt x="3" y="622"/>
                    </a:lnTo>
                    <a:lnTo>
                      <a:pt x="1" y="650"/>
                    </a:lnTo>
                    <a:lnTo>
                      <a:pt x="0" y="675"/>
                    </a:lnTo>
                    <a:lnTo>
                      <a:pt x="0" y="698"/>
                    </a:lnTo>
                    <a:lnTo>
                      <a:pt x="0" y="719"/>
                    </a:lnTo>
                    <a:lnTo>
                      <a:pt x="2" y="747"/>
                    </a:lnTo>
                    <a:lnTo>
                      <a:pt x="3" y="757"/>
                    </a:lnTo>
                    <a:lnTo>
                      <a:pt x="711" y="727"/>
                    </a:lnTo>
                    <a:lnTo>
                      <a:pt x="1502" y="585"/>
                    </a:lnTo>
                    <a:lnTo>
                      <a:pt x="1556" y="727"/>
                    </a:lnTo>
                    <a:lnTo>
                      <a:pt x="2085" y="699"/>
                    </a:lnTo>
                    <a:lnTo>
                      <a:pt x="2086" y="674"/>
                    </a:lnTo>
                    <a:lnTo>
                      <a:pt x="2086" y="607"/>
                    </a:lnTo>
                    <a:lnTo>
                      <a:pt x="2084" y="562"/>
                    </a:lnTo>
                    <a:lnTo>
                      <a:pt x="2081" y="510"/>
                    </a:lnTo>
                    <a:lnTo>
                      <a:pt x="2075" y="454"/>
                    </a:lnTo>
                    <a:lnTo>
                      <a:pt x="2067" y="396"/>
                    </a:lnTo>
                    <a:lnTo>
                      <a:pt x="2063" y="367"/>
                    </a:lnTo>
                    <a:lnTo>
                      <a:pt x="2057" y="337"/>
                    </a:lnTo>
                    <a:lnTo>
                      <a:pt x="2050" y="308"/>
                    </a:lnTo>
                    <a:lnTo>
                      <a:pt x="2042" y="278"/>
                    </a:lnTo>
                    <a:lnTo>
                      <a:pt x="2033" y="250"/>
                    </a:lnTo>
                    <a:lnTo>
                      <a:pt x="2023" y="221"/>
                    </a:lnTo>
                    <a:lnTo>
                      <a:pt x="2012" y="194"/>
                    </a:lnTo>
                    <a:lnTo>
                      <a:pt x="2000" y="168"/>
                    </a:lnTo>
                    <a:lnTo>
                      <a:pt x="1987" y="144"/>
                    </a:lnTo>
                    <a:lnTo>
                      <a:pt x="1972" y="120"/>
                    </a:lnTo>
                    <a:lnTo>
                      <a:pt x="1956" y="100"/>
                    </a:lnTo>
                    <a:lnTo>
                      <a:pt x="1938" y="80"/>
                    </a:lnTo>
                    <a:lnTo>
                      <a:pt x="1919" y="63"/>
                    </a:lnTo>
                    <a:lnTo>
                      <a:pt x="1898" y="48"/>
                    </a:lnTo>
                    <a:lnTo>
                      <a:pt x="1877" y="35"/>
                    </a:lnTo>
                    <a:lnTo>
                      <a:pt x="1853" y="25"/>
                    </a:lnTo>
                    <a:lnTo>
                      <a:pt x="1827" y="17"/>
                    </a:lnTo>
                    <a:lnTo>
                      <a:pt x="1800" y="12"/>
                    </a:lnTo>
                    <a:lnTo>
                      <a:pt x="1771" y="7"/>
                    </a:lnTo>
                    <a:lnTo>
                      <a:pt x="1741" y="4"/>
                    </a:lnTo>
                    <a:lnTo>
                      <a:pt x="1710" y="1"/>
                    </a:lnTo>
                    <a:lnTo>
                      <a:pt x="1678" y="0"/>
                    </a:lnTo>
                    <a:lnTo>
                      <a:pt x="1646" y="1"/>
                    </a:lnTo>
                    <a:lnTo>
                      <a:pt x="1612" y="2"/>
                    </a:lnTo>
                    <a:lnTo>
                      <a:pt x="1579" y="5"/>
                    </a:lnTo>
                    <a:lnTo>
                      <a:pt x="1545" y="7"/>
                    </a:lnTo>
                    <a:lnTo>
                      <a:pt x="1510" y="10"/>
                    </a:lnTo>
                    <a:lnTo>
                      <a:pt x="1476" y="15"/>
                    </a:lnTo>
                    <a:lnTo>
                      <a:pt x="1408" y="25"/>
                    </a:lnTo>
                    <a:lnTo>
                      <a:pt x="1342" y="38"/>
                    </a:lnTo>
                    <a:lnTo>
                      <a:pt x="1279" y="50"/>
                    </a:lnTo>
                    <a:lnTo>
                      <a:pt x="1221" y="64"/>
                    </a:lnTo>
                    <a:lnTo>
                      <a:pt x="1167" y="77"/>
                    </a:lnTo>
                    <a:lnTo>
                      <a:pt x="1122" y="89"/>
                    </a:lnTo>
                    <a:lnTo>
                      <a:pt x="1055" y="108"/>
                    </a:lnTo>
                    <a:lnTo>
                      <a:pt x="1030" y="116"/>
                    </a:lnTo>
                    <a:lnTo>
                      <a:pt x="888" y="11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7" name=""/>
              <p:cNvSpPr/>
              <p:nvPr/>
            </p:nvSpPr>
            <p:spPr>
              <a:xfrm>
                <a:off x="4779360" y="3452760"/>
                <a:ext cx="706680" cy="1403640"/>
              </a:xfrm>
              <a:custGeom>
                <a:avLst/>
                <a:gdLst/>
                <a:ahLst/>
                <a:rect l="l" t="t" r="r" b="b"/>
                <a:pathLst>
                  <a:path w="3181" h="7633">
                    <a:moveTo>
                      <a:pt x="674" y="340"/>
                    </a:moveTo>
                    <a:lnTo>
                      <a:pt x="659" y="370"/>
                    </a:lnTo>
                    <a:lnTo>
                      <a:pt x="617" y="447"/>
                    </a:lnTo>
                    <a:lnTo>
                      <a:pt x="588" y="499"/>
                    </a:lnTo>
                    <a:lnTo>
                      <a:pt x="554" y="557"/>
                    </a:lnTo>
                    <a:lnTo>
                      <a:pt x="513" y="620"/>
                    </a:lnTo>
                    <a:lnTo>
                      <a:pt x="469" y="685"/>
                    </a:lnTo>
                    <a:lnTo>
                      <a:pt x="445" y="718"/>
                    </a:lnTo>
                    <a:lnTo>
                      <a:pt x="420" y="751"/>
                    </a:lnTo>
                    <a:lnTo>
                      <a:pt x="395" y="784"/>
                    </a:lnTo>
                    <a:lnTo>
                      <a:pt x="368" y="816"/>
                    </a:lnTo>
                    <a:lnTo>
                      <a:pt x="341" y="848"/>
                    </a:lnTo>
                    <a:lnTo>
                      <a:pt x="313" y="877"/>
                    </a:lnTo>
                    <a:lnTo>
                      <a:pt x="283" y="907"/>
                    </a:lnTo>
                    <a:lnTo>
                      <a:pt x="254" y="934"/>
                    </a:lnTo>
                    <a:lnTo>
                      <a:pt x="224" y="960"/>
                    </a:lnTo>
                    <a:lnTo>
                      <a:pt x="194" y="984"/>
                    </a:lnTo>
                    <a:lnTo>
                      <a:pt x="162" y="1006"/>
                    </a:lnTo>
                    <a:lnTo>
                      <a:pt x="130" y="1025"/>
                    </a:lnTo>
                    <a:lnTo>
                      <a:pt x="98" y="1042"/>
                    </a:lnTo>
                    <a:lnTo>
                      <a:pt x="65" y="1055"/>
                    </a:lnTo>
                    <a:lnTo>
                      <a:pt x="33" y="1066"/>
                    </a:lnTo>
                    <a:lnTo>
                      <a:pt x="0" y="1072"/>
                    </a:lnTo>
                    <a:lnTo>
                      <a:pt x="3" y="1101"/>
                    </a:lnTo>
                    <a:lnTo>
                      <a:pt x="13" y="1177"/>
                    </a:lnTo>
                    <a:lnTo>
                      <a:pt x="22" y="1228"/>
                    </a:lnTo>
                    <a:lnTo>
                      <a:pt x="34" y="1286"/>
                    </a:lnTo>
                    <a:lnTo>
                      <a:pt x="47" y="1351"/>
                    </a:lnTo>
                    <a:lnTo>
                      <a:pt x="65" y="1417"/>
                    </a:lnTo>
                    <a:lnTo>
                      <a:pt x="76" y="1453"/>
                    </a:lnTo>
                    <a:lnTo>
                      <a:pt x="86" y="1487"/>
                    </a:lnTo>
                    <a:lnTo>
                      <a:pt x="98" y="1522"/>
                    </a:lnTo>
                    <a:lnTo>
                      <a:pt x="111" y="1557"/>
                    </a:lnTo>
                    <a:lnTo>
                      <a:pt x="126" y="1592"/>
                    </a:lnTo>
                    <a:lnTo>
                      <a:pt x="140" y="1626"/>
                    </a:lnTo>
                    <a:lnTo>
                      <a:pt x="156" y="1659"/>
                    </a:lnTo>
                    <a:lnTo>
                      <a:pt x="173" y="1692"/>
                    </a:lnTo>
                    <a:lnTo>
                      <a:pt x="191" y="1724"/>
                    </a:lnTo>
                    <a:lnTo>
                      <a:pt x="211" y="1753"/>
                    </a:lnTo>
                    <a:lnTo>
                      <a:pt x="231" y="1783"/>
                    </a:lnTo>
                    <a:lnTo>
                      <a:pt x="252" y="1809"/>
                    </a:lnTo>
                    <a:lnTo>
                      <a:pt x="276" y="1834"/>
                    </a:lnTo>
                    <a:lnTo>
                      <a:pt x="300" y="1858"/>
                    </a:lnTo>
                    <a:lnTo>
                      <a:pt x="326" y="1878"/>
                    </a:lnTo>
                    <a:lnTo>
                      <a:pt x="353" y="1896"/>
                    </a:lnTo>
                    <a:lnTo>
                      <a:pt x="379" y="1912"/>
                    </a:lnTo>
                    <a:lnTo>
                      <a:pt x="402" y="1928"/>
                    </a:lnTo>
                    <a:lnTo>
                      <a:pt x="421" y="1943"/>
                    </a:lnTo>
                    <a:lnTo>
                      <a:pt x="439" y="1957"/>
                    </a:lnTo>
                    <a:lnTo>
                      <a:pt x="454" y="1970"/>
                    </a:lnTo>
                    <a:lnTo>
                      <a:pt x="467" y="1983"/>
                    </a:lnTo>
                    <a:lnTo>
                      <a:pt x="477" y="1995"/>
                    </a:lnTo>
                    <a:lnTo>
                      <a:pt x="485" y="2006"/>
                    </a:lnTo>
                    <a:lnTo>
                      <a:pt x="492" y="2018"/>
                    </a:lnTo>
                    <a:lnTo>
                      <a:pt x="496" y="2029"/>
                    </a:lnTo>
                    <a:lnTo>
                      <a:pt x="498" y="2039"/>
                    </a:lnTo>
                    <a:lnTo>
                      <a:pt x="501" y="2050"/>
                    </a:lnTo>
                    <a:lnTo>
                      <a:pt x="501" y="2060"/>
                    </a:lnTo>
                    <a:lnTo>
                      <a:pt x="500" y="2070"/>
                    </a:lnTo>
                    <a:lnTo>
                      <a:pt x="497" y="2079"/>
                    </a:lnTo>
                    <a:lnTo>
                      <a:pt x="495" y="2089"/>
                    </a:lnTo>
                    <a:lnTo>
                      <a:pt x="476" y="2128"/>
                    </a:lnTo>
                    <a:lnTo>
                      <a:pt x="455" y="2170"/>
                    </a:lnTo>
                    <a:lnTo>
                      <a:pt x="451" y="2181"/>
                    </a:lnTo>
                    <a:lnTo>
                      <a:pt x="446" y="2194"/>
                    </a:lnTo>
                    <a:lnTo>
                      <a:pt x="443" y="2206"/>
                    </a:lnTo>
                    <a:lnTo>
                      <a:pt x="441" y="2219"/>
                    </a:lnTo>
                    <a:lnTo>
                      <a:pt x="438" y="2232"/>
                    </a:lnTo>
                    <a:lnTo>
                      <a:pt x="438" y="2247"/>
                    </a:lnTo>
                    <a:lnTo>
                      <a:pt x="438" y="2262"/>
                    </a:lnTo>
                    <a:lnTo>
                      <a:pt x="441" y="2278"/>
                    </a:lnTo>
                    <a:lnTo>
                      <a:pt x="452" y="2338"/>
                    </a:lnTo>
                    <a:lnTo>
                      <a:pt x="463" y="2387"/>
                    </a:lnTo>
                    <a:lnTo>
                      <a:pt x="475" y="2426"/>
                    </a:lnTo>
                    <a:lnTo>
                      <a:pt x="486" y="2459"/>
                    </a:lnTo>
                    <a:lnTo>
                      <a:pt x="497" y="2489"/>
                    </a:lnTo>
                    <a:lnTo>
                      <a:pt x="507" y="2516"/>
                    </a:lnTo>
                    <a:lnTo>
                      <a:pt x="518" y="2543"/>
                    </a:lnTo>
                    <a:lnTo>
                      <a:pt x="529" y="2574"/>
                    </a:lnTo>
                    <a:lnTo>
                      <a:pt x="536" y="2603"/>
                    </a:lnTo>
                    <a:lnTo>
                      <a:pt x="547" y="2659"/>
                    </a:lnTo>
                    <a:lnTo>
                      <a:pt x="561" y="2735"/>
                    </a:lnTo>
                    <a:lnTo>
                      <a:pt x="577" y="2829"/>
                    </a:lnTo>
                    <a:lnTo>
                      <a:pt x="594" y="2939"/>
                    </a:lnTo>
                    <a:lnTo>
                      <a:pt x="611" y="3060"/>
                    </a:lnTo>
                    <a:lnTo>
                      <a:pt x="629" y="3189"/>
                    </a:lnTo>
                    <a:lnTo>
                      <a:pt x="646" y="3323"/>
                    </a:lnTo>
                    <a:lnTo>
                      <a:pt x="660" y="3458"/>
                    </a:lnTo>
                    <a:lnTo>
                      <a:pt x="674" y="3591"/>
                    </a:lnTo>
                    <a:lnTo>
                      <a:pt x="680" y="3655"/>
                    </a:lnTo>
                    <a:lnTo>
                      <a:pt x="684" y="3719"/>
                    </a:lnTo>
                    <a:lnTo>
                      <a:pt x="689" y="3780"/>
                    </a:lnTo>
                    <a:lnTo>
                      <a:pt x="692" y="3838"/>
                    </a:lnTo>
                    <a:lnTo>
                      <a:pt x="694" y="3894"/>
                    </a:lnTo>
                    <a:lnTo>
                      <a:pt x="696" y="3946"/>
                    </a:lnTo>
                    <a:lnTo>
                      <a:pt x="696" y="3994"/>
                    </a:lnTo>
                    <a:lnTo>
                      <a:pt x="693" y="4038"/>
                    </a:lnTo>
                    <a:lnTo>
                      <a:pt x="691" y="4077"/>
                    </a:lnTo>
                    <a:lnTo>
                      <a:pt x="686" y="4111"/>
                    </a:lnTo>
                    <a:lnTo>
                      <a:pt x="681" y="4140"/>
                    </a:lnTo>
                    <a:lnTo>
                      <a:pt x="674" y="4163"/>
                    </a:lnTo>
                    <a:lnTo>
                      <a:pt x="657" y="4199"/>
                    </a:lnTo>
                    <a:lnTo>
                      <a:pt x="640" y="4234"/>
                    </a:lnTo>
                    <a:lnTo>
                      <a:pt x="623" y="4268"/>
                    </a:lnTo>
                    <a:lnTo>
                      <a:pt x="606" y="4301"/>
                    </a:lnTo>
                    <a:lnTo>
                      <a:pt x="590" y="4332"/>
                    </a:lnTo>
                    <a:lnTo>
                      <a:pt x="575" y="4362"/>
                    </a:lnTo>
                    <a:lnTo>
                      <a:pt x="562" y="4392"/>
                    </a:lnTo>
                    <a:lnTo>
                      <a:pt x="551" y="4422"/>
                    </a:lnTo>
                    <a:lnTo>
                      <a:pt x="540" y="4450"/>
                    </a:lnTo>
                    <a:lnTo>
                      <a:pt x="534" y="4478"/>
                    </a:lnTo>
                    <a:lnTo>
                      <a:pt x="531" y="4493"/>
                    </a:lnTo>
                    <a:lnTo>
                      <a:pt x="529" y="4508"/>
                    </a:lnTo>
                    <a:lnTo>
                      <a:pt x="528" y="4523"/>
                    </a:lnTo>
                    <a:lnTo>
                      <a:pt x="528" y="4537"/>
                    </a:lnTo>
                    <a:lnTo>
                      <a:pt x="528" y="4552"/>
                    </a:lnTo>
                    <a:lnTo>
                      <a:pt x="529" y="4567"/>
                    </a:lnTo>
                    <a:lnTo>
                      <a:pt x="531" y="4582"/>
                    </a:lnTo>
                    <a:lnTo>
                      <a:pt x="535" y="4597"/>
                    </a:lnTo>
                    <a:lnTo>
                      <a:pt x="539" y="4613"/>
                    </a:lnTo>
                    <a:lnTo>
                      <a:pt x="545" y="4629"/>
                    </a:lnTo>
                    <a:lnTo>
                      <a:pt x="551" y="4645"/>
                    </a:lnTo>
                    <a:lnTo>
                      <a:pt x="558" y="4662"/>
                    </a:lnTo>
                    <a:lnTo>
                      <a:pt x="566" y="4680"/>
                    </a:lnTo>
                    <a:lnTo>
                      <a:pt x="573" y="4701"/>
                    </a:lnTo>
                    <a:lnTo>
                      <a:pt x="580" y="4723"/>
                    </a:lnTo>
                    <a:lnTo>
                      <a:pt x="586" y="4749"/>
                    </a:lnTo>
                    <a:lnTo>
                      <a:pt x="590" y="4777"/>
                    </a:lnTo>
                    <a:lnTo>
                      <a:pt x="595" y="4806"/>
                    </a:lnTo>
                    <a:lnTo>
                      <a:pt x="599" y="4837"/>
                    </a:lnTo>
                    <a:lnTo>
                      <a:pt x="603" y="4870"/>
                    </a:lnTo>
                    <a:lnTo>
                      <a:pt x="608" y="4938"/>
                    </a:lnTo>
                    <a:lnTo>
                      <a:pt x="613" y="5009"/>
                    </a:lnTo>
                    <a:lnTo>
                      <a:pt x="616" y="5082"/>
                    </a:lnTo>
                    <a:lnTo>
                      <a:pt x="617" y="5154"/>
                    </a:lnTo>
                    <a:lnTo>
                      <a:pt x="618" y="5224"/>
                    </a:lnTo>
                    <a:lnTo>
                      <a:pt x="618" y="5290"/>
                    </a:lnTo>
                    <a:lnTo>
                      <a:pt x="617" y="5351"/>
                    </a:lnTo>
                    <a:lnTo>
                      <a:pt x="616" y="5404"/>
                    </a:lnTo>
                    <a:lnTo>
                      <a:pt x="614" y="5483"/>
                    </a:lnTo>
                    <a:lnTo>
                      <a:pt x="613" y="5512"/>
                    </a:lnTo>
                    <a:lnTo>
                      <a:pt x="529" y="6102"/>
                    </a:lnTo>
                    <a:lnTo>
                      <a:pt x="531" y="6118"/>
                    </a:lnTo>
                    <a:lnTo>
                      <a:pt x="537" y="6162"/>
                    </a:lnTo>
                    <a:lnTo>
                      <a:pt x="544" y="6227"/>
                    </a:lnTo>
                    <a:lnTo>
                      <a:pt x="551" y="6303"/>
                    </a:lnTo>
                    <a:lnTo>
                      <a:pt x="553" y="6344"/>
                    </a:lnTo>
                    <a:lnTo>
                      <a:pt x="554" y="6384"/>
                    </a:lnTo>
                    <a:lnTo>
                      <a:pt x="554" y="6423"/>
                    </a:lnTo>
                    <a:lnTo>
                      <a:pt x="553" y="6461"/>
                    </a:lnTo>
                    <a:lnTo>
                      <a:pt x="549" y="6495"/>
                    </a:lnTo>
                    <a:lnTo>
                      <a:pt x="545" y="6526"/>
                    </a:lnTo>
                    <a:lnTo>
                      <a:pt x="541" y="6539"/>
                    </a:lnTo>
                    <a:lnTo>
                      <a:pt x="538" y="6552"/>
                    </a:lnTo>
                    <a:lnTo>
                      <a:pt x="534" y="6562"/>
                    </a:lnTo>
                    <a:lnTo>
                      <a:pt x="529" y="6571"/>
                    </a:lnTo>
                    <a:lnTo>
                      <a:pt x="523" y="6581"/>
                    </a:lnTo>
                    <a:lnTo>
                      <a:pt x="519" y="6596"/>
                    </a:lnTo>
                    <a:lnTo>
                      <a:pt x="514" y="6614"/>
                    </a:lnTo>
                    <a:lnTo>
                      <a:pt x="511" y="6635"/>
                    </a:lnTo>
                    <a:lnTo>
                      <a:pt x="507" y="6659"/>
                    </a:lnTo>
                    <a:lnTo>
                      <a:pt x="504" y="6687"/>
                    </a:lnTo>
                    <a:lnTo>
                      <a:pt x="502" y="6716"/>
                    </a:lnTo>
                    <a:lnTo>
                      <a:pt x="500" y="6748"/>
                    </a:lnTo>
                    <a:lnTo>
                      <a:pt x="496" y="6817"/>
                    </a:lnTo>
                    <a:lnTo>
                      <a:pt x="495" y="6891"/>
                    </a:lnTo>
                    <a:lnTo>
                      <a:pt x="494" y="6969"/>
                    </a:lnTo>
                    <a:lnTo>
                      <a:pt x="494" y="7049"/>
                    </a:lnTo>
                    <a:lnTo>
                      <a:pt x="495" y="7201"/>
                    </a:lnTo>
                    <a:lnTo>
                      <a:pt x="497" y="7331"/>
                    </a:lnTo>
                    <a:lnTo>
                      <a:pt x="500" y="7423"/>
                    </a:lnTo>
                    <a:lnTo>
                      <a:pt x="502" y="7457"/>
                    </a:lnTo>
                    <a:lnTo>
                      <a:pt x="510" y="7466"/>
                    </a:lnTo>
                    <a:lnTo>
                      <a:pt x="532" y="7489"/>
                    </a:lnTo>
                    <a:lnTo>
                      <a:pt x="551" y="7504"/>
                    </a:lnTo>
                    <a:lnTo>
                      <a:pt x="571" y="7520"/>
                    </a:lnTo>
                    <a:lnTo>
                      <a:pt x="596" y="7538"/>
                    </a:lnTo>
                    <a:lnTo>
                      <a:pt x="624" y="7555"/>
                    </a:lnTo>
                    <a:lnTo>
                      <a:pt x="656" y="7572"/>
                    </a:lnTo>
                    <a:lnTo>
                      <a:pt x="691" y="7589"/>
                    </a:lnTo>
                    <a:lnTo>
                      <a:pt x="710" y="7596"/>
                    </a:lnTo>
                    <a:lnTo>
                      <a:pt x="730" y="7604"/>
                    </a:lnTo>
                    <a:lnTo>
                      <a:pt x="750" y="7609"/>
                    </a:lnTo>
                    <a:lnTo>
                      <a:pt x="771" y="7616"/>
                    </a:lnTo>
                    <a:lnTo>
                      <a:pt x="793" y="7621"/>
                    </a:lnTo>
                    <a:lnTo>
                      <a:pt x="817" y="7625"/>
                    </a:lnTo>
                    <a:lnTo>
                      <a:pt x="839" y="7629"/>
                    </a:lnTo>
                    <a:lnTo>
                      <a:pt x="864" y="7631"/>
                    </a:lnTo>
                    <a:lnTo>
                      <a:pt x="889" y="7633"/>
                    </a:lnTo>
                    <a:lnTo>
                      <a:pt x="915" y="7633"/>
                    </a:lnTo>
                    <a:lnTo>
                      <a:pt x="943" y="7632"/>
                    </a:lnTo>
                    <a:lnTo>
                      <a:pt x="970" y="7630"/>
                    </a:lnTo>
                    <a:lnTo>
                      <a:pt x="997" y="7626"/>
                    </a:lnTo>
                    <a:lnTo>
                      <a:pt x="1023" y="7622"/>
                    </a:lnTo>
                    <a:lnTo>
                      <a:pt x="1048" y="7616"/>
                    </a:lnTo>
                    <a:lnTo>
                      <a:pt x="1072" y="7609"/>
                    </a:lnTo>
                    <a:lnTo>
                      <a:pt x="1094" y="7603"/>
                    </a:lnTo>
                    <a:lnTo>
                      <a:pt x="1116" y="7595"/>
                    </a:lnTo>
                    <a:lnTo>
                      <a:pt x="1138" y="7586"/>
                    </a:lnTo>
                    <a:lnTo>
                      <a:pt x="1158" y="7576"/>
                    </a:lnTo>
                    <a:lnTo>
                      <a:pt x="1176" y="7566"/>
                    </a:lnTo>
                    <a:lnTo>
                      <a:pt x="1195" y="7556"/>
                    </a:lnTo>
                    <a:lnTo>
                      <a:pt x="1212" y="7545"/>
                    </a:lnTo>
                    <a:lnTo>
                      <a:pt x="1228" y="7533"/>
                    </a:lnTo>
                    <a:lnTo>
                      <a:pt x="1259" y="7511"/>
                    </a:lnTo>
                    <a:lnTo>
                      <a:pt x="1285" y="7487"/>
                    </a:lnTo>
                    <a:lnTo>
                      <a:pt x="1308" y="7464"/>
                    </a:lnTo>
                    <a:lnTo>
                      <a:pt x="1328" y="7443"/>
                    </a:lnTo>
                    <a:lnTo>
                      <a:pt x="1344" y="7422"/>
                    </a:lnTo>
                    <a:lnTo>
                      <a:pt x="1357" y="7404"/>
                    </a:lnTo>
                    <a:lnTo>
                      <a:pt x="1374" y="7377"/>
                    </a:lnTo>
                    <a:lnTo>
                      <a:pt x="1380" y="7367"/>
                    </a:lnTo>
                    <a:lnTo>
                      <a:pt x="1381" y="7377"/>
                    </a:lnTo>
                    <a:lnTo>
                      <a:pt x="1383" y="7403"/>
                    </a:lnTo>
                    <a:lnTo>
                      <a:pt x="1387" y="7421"/>
                    </a:lnTo>
                    <a:lnTo>
                      <a:pt x="1391" y="7440"/>
                    </a:lnTo>
                    <a:lnTo>
                      <a:pt x="1398" y="7462"/>
                    </a:lnTo>
                    <a:lnTo>
                      <a:pt x="1406" y="7483"/>
                    </a:lnTo>
                    <a:lnTo>
                      <a:pt x="1412" y="7494"/>
                    </a:lnTo>
                    <a:lnTo>
                      <a:pt x="1417" y="7505"/>
                    </a:lnTo>
                    <a:lnTo>
                      <a:pt x="1423" y="7515"/>
                    </a:lnTo>
                    <a:lnTo>
                      <a:pt x="1431" y="7525"/>
                    </a:lnTo>
                    <a:lnTo>
                      <a:pt x="1439" y="7536"/>
                    </a:lnTo>
                    <a:lnTo>
                      <a:pt x="1447" y="7546"/>
                    </a:lnTo>
                    <a:lnTo>
                      <a:pt x="1457" y="7555"/>
                    </a:lnTo>
                    <a:lnTo>
                      <a:pt x="1467" y="7563"/>
                    </a:lnTo>
                    <a:lnTo>
                      <a:pt x="1479" y="7571"/>
                    </a:lnTo>
                    <a:lnTo>
                      <a:pt x="1491" y="7578"/>
                    </a:lnTo>
                    <a:lnTo>
                      <a:pt x="1504" y="7584"/>
                    </a:lnTo>
                    <a:lnTo>
                      <a:pt x="1518" y="7590"/>
                    </a:lnTo>
                    <a:lnTo>
                      <a:pt x="1533" y="7593"/>
                    </a:lnTo>
                    <a:lnTo>
                      <a:pt x="1550" y="7597"/>
                    </a:lnTo>
                    <a:lnTo>
                      <a:pt x="1567" y="7599"/>
                    </a:lnTo>
                    <a:lnTo>
                      <a:pt x="1586" y="7599"/>
                    </a:lnTo>
                    <a:lnTo>
                      <a:pt x="1669" y="7598"/>
                    </a:lnTo>
                    <a:lnTo>
                      <a:pt x="1760" y="7596"/>
                    </a:lnTo>
                    <a:lnTo>
                      <a:pt x="1853" y="7591"/>
                    </a:lnTo>
                    <a:lnTo>
                      <a:pt x="1941" y="7586"/>
                    </a:lnTo>
                    <a:lnTo>
                      <a:pt x="2020" y="7581"/>
                    </a:lnTo>
                    <a:lnTo>
                      <a:pt x="2084" y="7576"/>
                    </a:lnTo>
                    <a:lnTo>
                      <a:pt x="2127" y="7573"/>
                    </a:lnTo>
                    <a:lnTo>
                      <a:pt x="2142" y="7572"/>
                    </a:lnTo>
                    <a:lnTo>
                      <a:pt x="2161" y="7567"/>
                    </a:lnTo>
                    <a:lnTo>
                      <a:pt x="2210" y="7551"/>
                    </a:lnTo>
                    <a:lnTo>
                      <a:pt x="2242" y="7539"/>
                    </a:lnTo>
                    <a:lnTo>
                      <a:pt x="2279" y="7525"/>
                    </a:lnTo>
                    <a:lnTo>
                      <a:pt x="2316" y="7508"/>
                    </a:lnTo>
                    <a:lnTo>
                      <a:pt x="2355" y="7489"/>
                    </a:lnTo>
                    <a:lnTo>
                      <a:pt x="2374" y="7478"/>
                    </a:lnTo>
                    <a:lnTo>
                      <a:pt x="2393" y="7468"/>
                    </a:lnTo>
                    <a:lnTo>
                      <a:pt x="2411" y="7455"/>
                    </a:lnTo>
                    <a:lnTo>
                      <a:pt x="2429" y="7443"/>
                    </a:lnTo>
                    <a:lnTo>
                      <a:pt x="2445" y="7430"/>
                    </a:lnTo>
                    <a:lnTo>
                      <a:pt x="2461" y="7416"/>
                    </a:lnTo>
                    <a:lnTo>
                      <a:pt x="2476" y="7402"/>
                    </a:lnTo>
                    <a:lnTo>
                      <a:pt x="2488" y="7387"/>
                    </a:lnTo>
                    <a:lnTo>
                      <a:pt x="2501" y="7372"/>
                    </a:lnTo>
                    <a:lnTo>
                      <a:pt x="2510" y="7356"/>
                    </a:lnTo>
                    <a:lnTo>
                      <a:pt x="2518" y="7339"/>
                    </a:lnTo>
                    <a:lnTo>
                      <a:pt x="2523" y="7322"/>
                    </a:lnTo>
                    <a:lnTo>
                      <a:pt x="2527" y="7305"/>
                    </a:lnTo>
                    <a:lnTo>
                      <a:pt x="2528" y="7287"/>
                    </a:lnTo>
                    <a:lnTo>
                      <a:pt x="2527" y="7268"/>
                    </a:lnTo>
                    <a:lnTo>
                      <a:pt x="2522" y="7248"/>
                    </a:lnTo>
                    <a:lnTo>
                      <a:pt x="2511" y="7211"/>
                    </a:lnTo>
                    <a:lnTo>
                      <a:pt x="2496" y="7177"/>
                    </a:lnTo>
                    <a:lnTo>
                      <a:pt x="2482" y="7145"/>
                    </a:lnTo>
                    <a:lnTo>
                      <a:pt x="2466" y="7115"/>
                    </a:lnTo>
                    <a:lnTo>
                      <a:pt x="2434" y="7061"/>
                    </a:lnTo>
                    <a:lnTo>
                      <a:pt x="2403" y="7015"/>
                    </a:lnTo>
                    <a:lnTo>
                      <a:pt x="2390" y="6994"/>
                    </a:lnTo>
                    <a:lnTo>
                      <a:pt x="2380" y="6974"/>
                    </a:lnTo>
                    <a:lnTo>
                      <a:pt x="2370" y="6955"/>
                    </a:lnTo>
                    <a:lnTo>
                      <a:pt x="2364" y="6936"/>
                    </a:lnTo>
                    <a:lnTo>
                      <a:pt x="2361" y="6927"/>
                    </a:lnTo>
                    <a:lnTo>
                      <a:pt x="2360" y="6918"/>
                    </a:lnTo>
                    <a:lnTo>
                      <a:pt x="2360" y="6910"/>
                    </a:lnTo>
                    <a:lnTo>
                      <a:pt x="2361" y="6901"/>
                    </a:lnTo>
                    <a:lnTo>
                      <a:pt x="2363" y="6893"/>
                    </a:lnTo>
                    <a:lnTo>
                      <a:pt x="2366" y="6884"/>
                    </a:lnTo>
                    <a:lnTo>
                      <a:pt x="2369" y="6876"/>
                    </a:lnTo>
                    <a:lnTo>
                      <a:pt x="2375" y="6867"/>
                    </a:lnTo>
                    <a:lnTo>
                      <a:pt x="2385" y="6849"/>
                    </a:lnTo>
                    <a:lnTo>
                      <a:pt x="2395" y="6827"/>
                    </a:lnTo>
                    <a:lnTo>
                      <a:pt x="2406" y="6802"/>
                    </a:lnTo>
                    <a:lnTo>
                      <a:pt x="2414" y="6775"/>
                    </a:lnTo>
                    <a:lnTo>
                      <a:pt x="2421" y="6747"/>
                    </a:lnTo>
                    <a:lnTo>
                      <a:pt x="2429" y="6717"/>
                    </a:lnTo>
                    <a:lnTo>
                      <a:pt x="2435" y="6687"/>
                    </a:lnTo>
                    <a:lnTo>
                      <a:pt x="2441" y="6657"/>
                    </a:lnTo>
                    <a:lnTo>
                      <a:pt x="2451" y="6603"/>
                    </a:lnTo>
                    <a:lnTo>
                      <a:pt x="2457" y="6556"/>
                    </a:lnTo>
                    <a:lnTo>
                      <a:pt x="2461" y="6526"/>
                    </a:lnTo>
                    <a:lnTo>
                      <a:pt x="2462" y="6513"/>
                    </a:lnTo>
                    <a:lnTo>
                      <a:pt x="2472" y="6381"/>
                    </a:lnTo>
                    <a:lnTo>
                      <a:pt x="2497" y="6033"/>
                    </a:lnTo>
                    <a:lnTo>
                      <a:pt x="2533" y="5539"/>
                    </a:lnTo>
                    <a:lnTo>
                      <a:pt x="2572" y="4970"/>
                    </a:lnTo>
                    <a:lnTo>
                      <a:pt x="2590" y="4678"/>
                    </a:lnTo>
                    <a:lnTo>
                      <a:pt x="2608" y="4393"/>
                    </a:lnTo>
                    <a:lnTo>
                      <a:pt x="2623" y="4125"/>
                    </a:lnTo>
                    <a:lnTo>
                      <a:pt x="2636" y="3882"/>
                    </a:lnTo>
                    <a:lnTo>
                      <a:pt x="2640" y="3773"/>
                    </a:lnTo>
                    <a:lnTo>
                      <a:pt x="2645" y="3674"/>
                    </a:lnTo>
                    <a:lnTo>
                      <a:pt x="2647" y="3584"/>
                    </a:lnTo>
                    <a:lnTo>
                      <a:pt x="2648" y="3507"/>
                    </a:lnTo>
                    <a:lnTo>
                      <a:pt x="2649" y="3442"/>
                    </a:lnTo>
                    <a:lnTo>
                      <a:pt x="2648" y="3391"/>
                    </a:lnTo>
                    <a:lnTo>
                      <a:pt x="2645" y="3356"/>
                    </a:lnTo>
                    <a:lnTo>
                      <a:pt x="2640" y="3337"/>
                    </a:lnTo>
                    <a:lnTo>
                      <a:pt x="2630" y="3315"/>
                    </a:lnTo>
                    <a:lnTo>
                      <a:pt x="2621" y="3293"/>
                    </a:lnTo>
                    <a:lnTo>
                      <a:pt x="2612" y="3272"/>
                    </a:lnTo>
                    <a:lnTo>
                      <a:pt x="2604" y="3250"/>
                    </a:lnTo>
                    <a:lnTo>
                      <a:pt x="2597" y="3230"/>
                    </a:lnTo>
                    <a:lnTo>
                      <a:pt x="2593" y="3208"/>
                    </a:lnTo>
                    <a:lnTo>
                      <a:pt x="2588" y="3189"/>
                    </a:lnTo>
                    <a:lnTo>
                      <a:pt x="2586" y="3169"/>
                    </a:lnTo>
                    <a:lnTo>
                      <a:pt x="2586" y="3150"/>
                    </a:lnTo>
                    <a:lnTo>
                      <a:pt x="2587" y="3132"/>
                    </a:lnTo>
                    <a:lnTo>
                      <a:pt x="2590" y="3114"/>
                    </a:lnTo>
                    <a:lnTo>
                      <a:pt x="2596" y="3098"/>
                    </a:lnTo>
                    <a:lnTo>
                      <a:pt x="2599" y="3090"/>
                    </a:lnTo>
                    <a:lnTo>
                      <a:pt x="2603" y="3082"/>
                    </a:lnTo>
                    <a:lnTo>
                      <a:pt x="2607" y="3076"/>
                    </a:lnTo>
                    <a:lnTo>
                      <a:pt x="2613" y="3068"/>
                    </a:lnTo>
                    <a:lnTo>
                      <a:pt x="2619" y="3061"/>
                    </a:lnTo>
                    <a:lnTo>
                      <a:pt x="2625" y="3055"/>
                    </a:lnTo>
                    <a:lnTo>
                      <a:pt x="2632" y="3048"/>
                    </a:lnTo>
                    <a:lnTo>
                      <a:pt x="2640" y="3043"/>
                    </a:lnTo>
                    <a:lnTo>
                      <a:pt x="2648" y="3037"/>
                    </a:lnTo>
                    <a:lnTo>
                      <a:pt x="2655" y="3030"/>
                    </a:lnTo>
                    <a:lnTo>
                      <a:pt x="2662" y="3023"/>
                    </a:lnTo>
                    <a:lnTo>
                      <a:pt x="2667" y="3017"/>
                    </a:lnTo>
                    <a:lnTo>
                      <a:pt x="2672" y="3007"/>
                    </a:lnTo>
                    <a:lnTo>
                      <a:pt x="2678" y="3000"/>
                    </a:lnTo>
                    <a:lnTo>
                      <a:pt x="2681" y="2990"/>
                    </a:lnTo>
                    <a:lnTo>
                      <a:pt x="2684" y="2980"/>
                    </a:lnTo>
                    <a:lnTo>
                      <a:pt x="2691" y="2960"/>
                    </a:lnTo>
                    <a:lnTo>
                      <a:pt x="2695" y="2938"/>
                    </a:lnTo>
                    <a:lnTo>
                      <a:pt x="2698" y="2916"/>
                    </a:lnTo>
                    <a:lnTo>
                      <a:pt x="2699" y="2893"/>
                    </a:lnTo>
                    <a:lnTo>
                      <a:pt x="2700" y="2845"/>
                    </a:lnTo>
                    <a:lnTo>
                      <a:pt x="2698" y="2800"/>
                    </a:lnTo>
                    <a:lnTo>
                      <a:pt x="2696" y="2758"/>
                    </a:lnTo>
                    <a:lnTo>
                      <a:pt x="2695" y="2723"/>
                    </a:lnTo>
                    <a:lnTo>
                      <a:pt x="2697" y="2699"/>
                    </a:lnTo>
                    <a:lnTo>
                      <a:pt x="2701" y="2666"/>
                    </a:lnTo>
                    <a:lnTo>
                      <a:pt x="2708" y="2623"/>
                    </a:lnTo>
                    <a:lnTo>
                      <a:pt x="2718" y="2573"/>
                    </a:lnTo>
                    <a:lnTo>
                      <a:pt x="2742" y="2458"/>
                    </a:lnTo>
                    <a:lnTo>
                      <a:pt x="2769" y="2334"/>
                    </a:lnTo>
                    <a:lnTo>
                      <a:pt x="2797" y="2214"/>
                    </a:lnTo>
                    <a:lnTo>
                      <a:pt x="2820" y="2112"/>
                    </a:lnTo>
                    <a:lnTo>
                      <a:pt x="2836" y="2041"/>
                    </a:lnTo>
                    <a:lnTo>
                      <a:pt x="2843" y="2014"/>
                    </a:lnTo>
                    <a:lnTo>
                      <a:pt x="2848" y="2009"/>
                    </a:lnTo>
                    <a:lnTo>
                      <a:pt x="2860" y="1995"/>
                    </a:lnTo>
                    <a:lnTo>
                      <a:pt x="2880" y="1970"/>
                    </a:lnTo>
                    <a:lnTo>
                      <a:pt x="2907" y="1936"/>
                    </a:lnTo>
                    <a:lnTo>
                      <a:pt x="2920" y="1915"/>
                    </a:lnTo>
                    <a:lnTo>
                      <a:pt x="2936" y="1892"/>
                    </a:lnTo>
                    <a:lnTo>
                      <a:pt x="2952" y="1866"/>
                    </a:lnTo>
                    <a:lnTo>
                      <a:pt x="2969" y="1837"/>
                    </a:lnTo>
                    <a:lnTo>
                      <a:pt x="2986" y="1807"/>
                    </a:lnTo>
                    <a:lnTo>
                      <a:pt x="3003" y="1773"/>
                    </a:lnTo>
                    <a:lnTo>
                      <a:pt x="3021" y="1736"/>
                    </a:lnTo>
                    <a:lnTo>
                      <a:pt x="3038" y="1698"/>
                    </a:lnTo>
                    <a:lnTo>
                      <a:pt x="3055" y="1657"/>
                    </a:lnTo>
                    <a:lnTo>
                      <a:pt x="3072" y="1613"/>
                    </a:lnTo>
                    <a:lnTo>
                      <a:pt x="3088" y="1567"/>
                    </a:lnTo>
                    <a:lnTo>
                      <a:pt x="3104" y="1517"/>
                    </a:lnTo>
                    <a:lnTo>
                      <a:pt x="3117" y="1466"/>
                    </a:lnTo>
                    <a:lnTo>
                      <a:pt x="3131" y="1412"/>
                    </a:lnTo>
                    <a:lnTo>
                      <a:pt x="3143" y="1355"/>
                    </a:lnTo>
                    <a:lnTo>
                      <a:pt x="3155" y="1295"/>
                    </a:lnTo>
                    <a:lnTo>
                      <a:pt x="3164" y="1234"/>
                    </a:lnTo>
                    <a:lnTo>
                      <a:pt x="3171" y="1168"/>
                    </a:lnTo>
                    <a:lnTo>
                      <a:pt x="3176" y="1101"/>
                    </a:lnTo>
                    <a:lnTo>
                      <a:pt x="3180" y="1031"/>
                    </a:lnTo>
                    <a:lnTo>
                      <a:pt x="3181" y="958"/>
                    </a:lnTo>
                    <a:lnTo>
                      <a:pt x="3180" y="882"/>
                    </a:lnTo>
                    <a:lnTo>
                      <a:pt x="3176" y="804"/>
                    </a:lnTo>
                    <a:lnTo>
                      <a:pt x="3169" y="722"/>
                    </a:lnTo>
                    <a:lnTo>
                      <a:pt x="3163" y="723"/>
                    </a:lnTo>
                    <a:lnTo>
                      <a:pt x="3141" y="723"/>
                    </a:lnTo>
                    <a:lnTo>
                      <a:pt x="3109" y="724"/>
                    </a:lnTo>
                    <a:lnTo>
                      <a:pt x="3067" y="723"/>
                    </a:lnTo>
                    <a:lnTo>
                      <a:pt x="3044" y="722"/>
                    </a:lnTo>
                    <a:lnTo>
                      <a:pt x="3019" y="721"/>
                    </a:lnTo>
                    <a:lnTo>
                      <a:pt x="2992" y="717"/>
                    </a:lnTo>
                    <a:lnTo>
                      <a:pt x="2963" y="714"/>
                    </a:lnTo>
                    <a:lnTo>
                      <a:pt x="2934" y="709"/>
                    </a:lnTo>
                    <a:lnTo>
                      <a:pt x="2904" y="704"/>
                    </a:lnTo>
                    <a:lnTo>
                      <a:pt x="2874" y="697"/>
                    </a:lnTo>
                    <a:lnTo>
                      <a:pt x="2842" y="689"/>
                    </a:lnTo>
                    <a:lnTo>
                      <a:pt x="2811" y="679"/>
                    </a:lnTo>
                    <a:lnTo>
                      <a:pt x="2781" y="667"/>
                    </a:lnTo>
                    <a:lnTo>
                      <a:pt x="2750" y="654"/>
                    </a:lnTo>
                    <a:lnTo>
                      <a:pt x="2720" y="639"/>
                    </a:lnTo>
                    <a:lnTo>
                      <a:pt x="2691" y="623"/>
                    </a:lnTo>
                    <a:lnTo>
                      <a:pt x="2663" y="604"/>
                    </a:lnTo>
                    <a:lnTo>
                      <a:pt x="2636" y="583"/>
                    </a:lnTo>
                    <a:lnTo>
                      <a:pt x="2611" y="560"/>
                    </a:lnTo>
                    <a:lnTo>
                      <a:pt x="2588" y="535"/>
                    </a:lnTo>
                    <a:lnTo>
                      <a:pt x="2567" y="506"/>
                    </a:lnTo>
                    <a:lnTo>
                      <a:pt x="2547" y="476"/>
                    </a:lnTo>
                    <a:lnTo>
                      <a:pt x="2530" y="443"/>
                    </a:lnTo>
                    <a:lnTo>
                      <a:pt x="2517" y="406"/>
                    </a:lnTo>
                    <a:lnTo>
                      <a:pt x="2505" y="368"/>
                    </a:lnTo>
                    <a:lnTo>
                      <a:pt x="2497" y="326"/>
                    </a:lnTo>
                    <a:lnTo>
                      <a:pt x="2493" y="280"/>
                    </a:lnTo>
                    <a:lnTo>
                      <a:pt x="2488" y="236"/>
                    </a:lnTo>
                    <a:lnTo>
                      <a:pt x="2482" y="196"/>
                    </a:lnTo>
                    <a:lnTo>
                      <a:pt x="2474" y="160"/>
                    </a:lnTo>
                    <a:lnTo>
                      <a:pt x="2462" y="129"/>
                    </a:lnTo>
                    <a:lnTo>
                      <a:pt x="2450" y="102"/>
                    </a:lnTo>
                    <a:lnTo>
                      <a:pt x="2435" y="78"/>
                    </a:lnTo>
                    <a:lnTo>
                      <a:pt x="2419" y="58"/>
                    </a:lnTo>
                    <a:lnTo>
                      <a:pt x="2402" y="42"/>
                    </a:lnTo>
                    <a:lnTo>
                      <a:pt x="2384" y="28"/>
                    </a:lnTo>
                    <a:lnTo>
                      <a:pt x="2364" y="18"/>
                    </a:lnTo>
                    <a:lnTo>
                      <a:pt x="2343" y="10"/>
                    </a:lnTo>
                    <a:lnTo>
                      <a:pt x="2323" y="5"/>
                    </a:lnTo>
                    <a:lnTo>
                      <a:pt x="2300" y="1"/>
                    </a:lnTo>
                    <a:lnTo>
                      <a:pt x="2279" y="0"/>
                    </a:lnTo>
                    <a:lnTo>
                      <a:pt x="2256" y="1"/>
                    </a:lnTo>
                    <a:lnTo>
                      <a:pt x="2233" y="3"/>
                    </a:lnTo>
                    <a:lnTo>
                      <a:pt x="2211" y="8"/>
                    </a:lnTo>
                    <a:lnTo>
                      <a:pt x="2189" y="14"/>
                    </a:lnTo>
                    <a:lnTo>
                      <a:pt x="2167" y="19"/>
                    </a:lnTo>
                    <a:lnTo>
                      <a:pt x="2146" y="26"/>
                    </a:lnTo>
                    <a:lnTo>
                      <a:pt x="2105" y="42"/>
                    </a:lnTo>
                    <a:lnTo>
                      <a:pt x="2070" y="59"/>
                    </a:lnTo>
                    <a:lnTo>
                      <a:pt x="2017" y="89"/>
                    </a:lnTo>
                    <a:lnTo>
                      <a:pt x="1997" y="102"/>
                    </a:lnTo>
                    <a:lnTo>
                      <a:pt x="1559" y="280"/>
                    </a:lnTo>
                    <a:lnTo>
                      <a:pt x="674" y="340"/>
                    </a:lnTo>
                    <a:close/>
                  </a:path>
                </a:pathLst>
              </a:custGeom>
              <a:solidFill>
                <a:srgbClr val="336666"/>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8" name=""/>
              <p:cNvSpPr/>
              <p:nvPr/>
            </p:nvSpPr>
            <p:spPr>
              <a:xfrm>
                <a:off x="4779360" y="3452760"/>
                <a:ext cx="706680" cy="1403640"/>
              </a:xfrm>
              <a:custGeom>
                <a:avLst/>
                <a:gdLst/>
                <a:ahLst/>
                <a:rect l="l" t="t" r="r" b="b"/>
                <a:pathLst>
                  <a:path w="3181" h="7633">
                    <a:moveTo>
                      <a:pt x="674" y="340"/>
                    </a:moveTo>
                    <a:lnTo>
                      <a:pt x="659" y="370"/>
                    </a:lnTo>
                    <a:lnTo>
                      <a:pt x="617" y="447"/>
                    </a:lnTo>
                    <a:lnTo>
                      <a:pt x="588" y="499"/>
                    </a:lnTo>
                    <a:lnTo>
                      <a:pt x="554" y="557"/>
                    </a:lnTo>
                    <a:lnTo>
                      <a:pt x="513" y="620"/>
                    </a:lnTo>
                    <a:lnTo>
                      <a:pt x="469" y="685"/>
                    </a:lnTo>
                    <a:lnTo>
                      <a:pt x="445" y="718"/>
                    </a:lnTo>
                    <a:lnTo>
                      <a:pt x="420" y="751"/>
                    </a:lnTo>
                    <a:lnTo>
                      <a:pt x="395" y="784"/>
                    </a:lnTo>
                    <a:lnTo>
                      <a:pt x="368" y="816"/>
                    </a:lnTo>
                    <a:lnTo>
                      <a:pt x="341" y="848"/>
                    </a:lnTo>
                    <a:lnTo>
                      <a:pt x="313" y="877"/>
                    </a:lnTo>
                    <a:lnTo>
                      <a:pt x="283" y="907"/>
                    </a:lnTo>
                    <a:lnTo>
                      <a:pt x="254" y="934"/>
                    </a:lnTo>
                    <a:lnTo>
                      <a:pt x="224" y="960"/>
                    </a:lnTo>
                    <a:lnTo>
                      <a:pt x="194" y="984"/>
                    </a:lnTo>
                    <a:lnTo>
                      <a:pt x="162" y="1006"/>
                    </a:lnTo>
                    <a:lnTo>
                      <a:pt x="130" y="1025"/>
                    </a:lnTo>
                    <a:lnTo>
                      <a:pt x="98" y="1042"/>
                    </a:lnTo>
                    <a:lnTo>
                      <a:pt x="65" y="1055"/>
                    </a:lnTo>
                    <a:lnTo>
                      <a:pt x="33" y="1066"/>
                    </a:lnTo>
                    <a:lnTo>
                      <a:pt x="0" y="1072"/>
                    </a:lnTo>
                    <a:lnTo>
                      <a:pt x="3" y="1101"/>
                    </a:lnTo>
                    <a:lnTo>
                      <a:pt x="13" y="1177"/>
                    </a:lnTo>
                    <a:lnTo>
                      <a:pt x="22" y="1228"/>
                    </a:lnTo>
                    <a:lnTo>
                      <a:pt x="34" y="1286"/>
                    </a:lnTo>
                    <a:lnTo>
                      <a:pt x="47" y="1351"/>
                    </a:lnTo>
                    <a:lnTo>
                      <a:pt x="65" y="1417"/>
                    </a:lnTo>
                    <a:lnTo>
                      <a:pt x="76" y="1453"/>
                    </a:lnTo>
                    <a:lnTo>
                      <a:pt x="86" y="1487"/>
                    </a:lnTo>
                    <a:lnTo>
                      <a:pt x="98" y="1522"/>
                    </a:lnTo>
                    <a:lnTo>
                      <a:pt x="111" y="1557"/>
                    </a:lnTo>
                    <a:lnTo>
                      <a:pt x="126" y="1592"/>
                    </a:lnTo>
                    <a:lnTo>
                      <a:pt x="140" y="1626"/>
                    </a:lnTo>
                    <a:lnTo>
                      <a:pt x="156" y="1659"/>
                    </a:lnTo>
                    <a:lnTo>
                      <a:pt x="173" y="1692"/>
                    </a:lnTo>
                    <a:lnTo>
                      <a:pt x="191" y="1724"/>
                    </a:lnTo>
                    <a:lnTo>
                      <a:pt x="211" y="1753"/>
                    </a:lnTo>
                    <a:lnTo>
                      <a:pt x="231" y="1783"/>
                    </a:lnTo>
                    <a:lnTo>
                      <a:pt x="252" y="1809"/>
                    </a:lnTo>
                    <a:lnTo>
                      <a:pt x="276" y="1834"/>
                    </a:lnTo>
                    <a:lnTo>
                      <a:pt x="300" y="1858"/>
                    </a:lnTo>
                    <a:lnTo>
                      <a:pt x="326" y="1878"/>
                    </a:lnTo>
                    <a:lnTo>
                      <a:pt x="353" y="1896"/>
                    </a:lnTo>
                    <a:lnTo>
                      <a:pt x="379" y="1912"/>
                    </a:lnTo>
                    <a:lnTo>
                      <a:pt x="402" y="1928"/>
                    </a:lnTo>
                    <a:lnTo>
                      <a:pt x="421" y="1943"/>
                    </a:lnTo>
                    <a:lnTo>
                      <a:pt x="439" y="1957"/>
                    </a:lnTo>
                    <a:lnTo>
                      <a:pt x="454" y="1970"/>
                    </a:lnTo>
                    <a:lnTo>
                      <a:pt x="467" y="1983"/>
                    </a:lnTo>
                    <a:lnTo>
                      <a:pt x="477" y="1995"/>
                    </a:lnTo>
                    <a:lnTo>
                      <a:pt x="485" y="2006"/>
                    </a:lnTo>
                    <a:lnTo>
                      <a:pt x="492" y="2018"/>
                    </a:lnTo>
                    <a:lnTo>
                      <a:pt x="496" y="2029"/>
                    </a:lnTo>
                    <a:lnTo>
                      <a:pt x="498" y="2039"/>
                    </a:lnTo>
                    <a:lnTo>
                      <a:pt x="501" y="2050"/>
                    </a:lnTo>
                    <a:lnTo>
                      <a:pt x="501" y="2060"/>
                    </a:lnTo>
                    <a:lnTo>
                      <a:pt x="500" y="2070"/>
                    </a:lnTo>
                    <a:lnTo>
                      <a:pt x="497" y="2079"/>
                    </a:lnTo>
                    <a:lnTo>
                      <a:pt x="495" y="2089"/>
                    </a:lnTo>
                    <a:lnTo>
                      <a:pt x="476" y="2128"/>
                    </a:lnTo>
                    <a:lnTo>
                      <a:pt x="455" y="2170"/>
                    </a:lnTo>
                    <a:lnTo>
                      <a:pt x="451" y="2181"/>
                    </a:lnTo>
                    <a:lnTo>
                      <a:pt x="446" y="2194"/>
                    </a:lnTo>
                    <a:lnTo>
                      <a:pt x="443" y="2206"/>
                    </a:lnTo>
                    <a:lnTo>
                      <a:pt x="441" y="2219"/>
                    </a:lnTo>
                    <a:lnTo>
                      <a:pt x="438" y="2232"/>
                    </a:lnTo>
                    <a:lnTo>
                      <a:pt x="438" y="2247"/>
                    </a:lnTo>
                    <a:lnTo>
                      <a:pt x="438" y="2262"/>
                    </a:lnTo>
                    <a:lnTo>
                      <a:pt x="441" y="2278"/>
                    </a:lnTo>
                    <a:lnTo>
                      <a:pt x="452" y="2338"/>
                    </a:lnTo>
                    <a:lnTo>
                      <a:pt x="463" y="2387"/>
                    </a:lnTo>
                    <a:lnTo>
                      <a:pt x="475" y="2426"/>
                    </a:lnTo>
                    <a:lnTo>
                      <a:pt x="486" y="2459"/>
                    </a:lnTo>
                    <a:lnTo>
                      <a:pt x="497" y="2489"/>
                    </a:lnTo>
                    <a:lnTo>
                      <a:pt x="507" y="2516"/>
                    </a:lnTo>
                    <a:lnTo>
                      <a:pt x="518" y="2543"/>
                    </a:lnTo>
                    <a:lnTo>
                      <a:pt x="529" y="2574"/>
                    </a:lnTo>
                    <a:lnTo>
                      <a:pt x="536" y="2603"/>
                    </a:lnTo>
                    <a:lnTo>
                      <a:pt x="547" y="2659"/>
                    </a:lnTo>
                    <a:lnTo>
                      <a:pt x="561" y="2735"/>
                    </a:lnTo>
                    <a:lnTo>
                      <a:pt x="577" y="2829"/>
                    </a:lnTo>
                    <a:lnTo>
                      <a:pt x="594" y="2939"/>
                    </a:lnTo>
                    <a:lnTo>
                      <a:pt x="611" y="3060"/>
                    </a:lnTo>
                    <a:lnTo>
                      <a:pt x="629" y="3189"/>
                    </a:lnTo>
                    <a:lnTo>
                      <a:pt x="646" y="3323"/>
                    </a:lnTo>
                    <a:lnTo>
                      <a:pt x="660" y="3458"/>
                    </a:lnTo>
                    <a:lnTo>
                      <a:pt x="674" y="3591"/>
                    </a:lnTo>
                    <a:lnTo>
                      <a:pt x="680" y="3655"/>
                    </a:lnTo>
                    <a:lnTo>
                      <a:pt x="684" y="3719"/>
                    </a:lnTo>
                    <a:lnTo>
                      <a:pt x="689" y="3780"/>
                    </a:lnTo>
                    <a:lnTo>
                      <a:pt x="692" y="3838"/>
                    </a:lnTo>
                    <a:lnTo>
                      <a:pt x="694" y="3894"/>
                    </a:lnTo>
                    <a:lnTo>
                      <a:pt x="696" y="3946"/>
                    </a:lnTo>
                    <a:lnTo>
                      <a:pt x="696" y="3994"/>
                    </a:lnTo>
                    <a:lnTo>
                      <a:pt x="693" y="4038"/>
                    </a:lnTo>
                    <a:lnTo>
                      <a:pt x="691" y="4077"/>
                    </a:lnTo>
                    <a:lnTo>
                      <a:pt x="686" y="4111"/>
                    </a:lnTo>
                    <a:lnTo>
                      <a:pt x="681" y="4140"/>
                    </a:lnTo>
                    <a:lnTo>
                      <a:pt x="674" y="4163"/>
                    </a:lnTo>
                    <a:lnTo>
                      <a:pt x="657" y="4199"/>
                    </a:lnTo>
                    <a:lnTo>
                      <a:pt x="640" y="4234"/>
                    </a:lnTo>
                    <a:lnTo>
                      <a:pt x="623" y="4268"/>
                    </a:lnTo>
                    <a:lnTo>
                      <a:pt x="606" y="4301"/>
                    </a:lnTo>
                    <a:lnTo>
                      <a:pt x="590" y="4332"/>
                    </a:lnTo>
                    <a:lnTo>
                      <a:pt x="575" y="4362"/>
                    </a:lnTo>
                    <a:lnTo>
                      <a:pt x="562" y="4392"/>
                    </a:lnTo>
                    <a:lnTo>
                      <a:pt x="551" y="4422"/>
                    </a:lnTo>
                    <a:lnTo>
                      <a:pt x="540" y="4450"/>
                    </a:lnTo>
                    <a:lnTo>
                      <a:pt x="534" y="4478"/>
                    </a:lnTo>
                    <a:lnTo>
                      <a:pt x="531" y="4493"/>
                    </a:lnTo>
                    <a:lnTo>
                      <a:pt x="529" y="4508"/>
                    </a:lnTo>
                    <a:lnTo>
                      <a:pt x="528" y="4523"/>
                    </a:lnTo>
                    <a:lnTo>
                      <a:pt x="528" y="4537"/>
                    </a:lnTo>
                    <a:lnTo>
                      <a:pt x="528" y="4552"/>
                    </a:lnTo>
                    <a:lnTo>
                      <a:pt x="529" y="4567"/>
                    </a:lnTo>
                    <a:lnTo>
                      <a:pt x="531" y="4582"/>
                    </a:lnTo>
                    <a:lnTo>
                      <a:pt x="535" y="4597"/>
                    </a:lnTo>
                    <a:lnTo>
                      <a:pt x="539" y="4613"/>
                    </a:lnTo>
                    <a:lnTo>
                      <a:pt x="545" y="4629"/>
                    </a:lnTo>
                    <a:lnTo>
                      <a:pt x="551" y="4645"/>
                    </a:lnTo>
                    <a:lnTo>
                      <a:pt x="558" y="4662"/>
                    </a:lnTo>
                    <a:lnTo>
                      <a:pt x="566" y="4680"/>
                    </a:lnTo>
                    <a:lnTo>
                      <a:pt x="573" y="4701"/>
                    </a:lnTo>
                    <a:lnTo>
                      <a:pt x="580" y="4723"/>
                    </a:lnTo>
                    <a:lnTo>
                      <a:pt x="586" y="4749"/>
                    </a:lnTo>
                    <a:lnTo>
                      <a:pt x="590" y="4777"/>
                    </a:lnTo>
                    <a:lnTo>
                      <a:pt x="595" y="4806"/>
                    </a:lnTo>
                    <a:lnTo>
                      <a:pt x="599" y="4837"/>
                    </a:lnTo>
                    <a:lnTo>
                      <a:pt x="603" y="4870"/>
                    </a:lnTo>
                    <a:lnTo>
                      <a:pt x="608" y="4938"/>
                    </a:lnTo>
                    <a:lnTo>
                      <a:pt x="613" y="5009"/>
                    </a:lnTo>
                    <a:lnTo>
                      <a:pt x="616" y="5082"/>
                    </a:lnTo>
                    <a:lnTo>
                      <a:pt x="617" y="5154"/>
                    </a:lnTo>
                    <a:lnTo>
                      <a:pt x="618" y="5224"/>
                    </a:lnTo>
                    <a:lnTo>
                      <a:pt x="618" y="5290"/>
                    </a:lnTo>
                    <a:lnTo>
                      <a:pt x="617" y="5351"/>
                    </a:lnTo>
                    <a:lnTo>
                      <a:pt x="616" y="5404"/>
                    </a:lnTo>
                    <a:lnTo>
                      <a:pt x="614" y="5483"/>
                    </a:lnTo>
                    <a:lnTo>
                      <a:pt x="613" y="5512"/>
                    </a:lnTo>
                    <a:lnTo>
                      <a:pt x="529" y="6102"/>
                    </a:lnTo>
                    <a:lnTo>
                      <a:pt x="531" y="6118"/>
                    </a:lnTo>
                    <a:lnTo>
                      <a:pt x="537" y="6162"/>
                    </a:lnTo>
                    <a:lnTo>
                      <a:pt x="544" y="6227"/>
                    </a:lnTo>
                    <a:lnTo>
                      <a:pt x="551" y="6303"/>
                    </a:lnTo>
                    <a:lnTo>
                      <a:pt x="553" y="6344"/>
                    </a:lnTo>
                    <a:lnTo>
                      <a:pt x="554" y="6384"/>
                    </a:lnTo>
                    <a:lnTo>
                      <a:pt x="554" y="6423"/>
                    </a:lnTo>
                    <a:lnTo>
                      <a:pt x="553" y="6461"/>
                    </a:lnTo>
                    <a:lnTo>
                      <a:pt x="549" y="6495"/>
                    </a:lnTo>
                    <a:lnTo>
                      <a:pt x="545" y="6526"/>
                    </a:lnTo>
                    <a:lnTo>
                      <a:pt x="541" y="6539"/>
                    </a:lnTo>
                    <a:lnTo>
                      <a:pt x="538" y="6552"/>
                    </a:lnTo>
                    <a:lnTo>
                      <a:pt x="534" y="6562"/>
                    </a:lnTo>
                    <a:lnTo>
                      <a:pt x="529" y="6571"/>
                    </a:lnTo>
                    <a:lnTo>
                      <a:pt x="523" y="6581"/>
                    </a:lnTo>
                    <a:lnTo>
                      <a:pt x="519" y="6596"/>
                    </a:lnTo>
                    <a:lnTo>
                      <a:pt x="514" y="6614"/>
                    </a:lnTo>
                    <a:lnTo>
                      <a:pt x="511" y="6635"/>
                    </a:lnTo>
                    <a:lnTo>
                      <a:pt x="507" y="6659"/>
                    </a:lnTo>
                    <a:lnTo>
                      <a:pt x="504" y="6687"/>
                    </a:lnTo>
                    <a:lnTo>
                      <a:pt x="502" y="6716"/>
                    </a:lnTo>
                    <a:lnTo>
                      <a:pt x="500" y="6748"/>
                    </a:lnTo>
                    <a:lnTo>
                      <a:pt x="496" y="6817"/>
                    </a:lnTo>
                    <a:lnTo>
                      <a:pt x="495" y="6891"/>
                    </a:lnTo>
                    <a:lnTo>
                      <a:pt x="494" y="6969"/>
                    </a:lnTo>
                    <a:lnTo>
                      <a:pt x="494" y="7049"/>
                    </a:lnTo>
                    <a:lnTo>
                      <a:pt x="495" y="7201"/>
                    </a:lnTo>
                    <a:lnTo>
                      <a:pt x="497" y="7331"/>
                    </a:lnTo>
                    <a:lnTo>
                      <a:pt x="500" y="7423"/>
                    </a:lnTo>
                    <a:lnTo>
                      <a:pt x="502" y="7457"/>
                    </a:lnTo>
                    <a:lnTo>
                      <a:pt x="510" y="7466"/>
                    </a:lnTo>
                    <a:lnTo>
                      <a:pt x="532" y="7489"/>
                    </a:lnTo>
                    <a:lnTo>
                      <a:pt x="551" y="7504"/>
                    </a:lnTo>
                    <a:lnTo>
                      <a:pt x="571" y="7520"/>
                    </a:lnTo>
                    <a:lnTo>
                      <a:pt x="596" y="7538"/>
                    </a:lnTo>
                    <a:lnTo>
                      <a:pt x="624" y="7555"/>
                    </a:lnTo>
                    <a:lnTo>
                      <a:pt x="656" y="7572"/>
                    </a:lnTo>
                    <a:lnTo>
                      <a:pt x="691" y="7589"/>
                    </a:lnTo>
                    <a:lnTo>
                      <a:pt x="710" y="7596"/>
                    </a:lnTo>
                    <a:lnTo>
                      <a:pt x="730" y="7604"/>
                    </a:lnTo>
                    <a:lnTo>
                      <a:pt x="750" y="7609"/>
                    </a:lnTo>
                    <a:lnTo>
                      <a:pt x="771" y="7616"/>
                    </a:lnTo>
                    <a:lnTo>
                      <a:pt x="793" y="7621"/>
                    </a:lnTo>
                    <a:lnTo>
                      <a:pt x="817" y="7625"/>
                    </a:lnTo>
                    <a:lnTo>
                      <a:pt x="839" y="7629"/>
                    </a:lnTo>
                    <a:lnTo>
                      <a:pt x="864" y="7631"/>
                    </a:lnTo>
                    <a:lnTo>
                      <a:pt x="889" y="7633"/>
                    </a:lnTo>
                    <a:lnTo>
                      <a:pt x="915" y="7633"/>
                    </a:lnTo>
                    <a:lnTo>
                      <a:pt x="943" y="7632"/>
                    </a:lnTo>
                    <a:lnTo>
                      <a:pt x="970" y="7630"/>
                    </a:lnTo>
                    <a:lnTo>
                      <a:pt x="997" y="7626"/>
                    </a:lnTo>
                    <a:lnTo>
                      <a:pt x="1023" y="7622"/>
                    </a:lnTo>
                    <a:lnTo>
                      <a:pt x="1048" y="7616"/>
                    </a:lnTo>
                    <a:lnTo>
                      <a:pt x="1072" y="7609"/>
                    </a:lnTo>
                    <a:lnTo>
                      <a:pt x="1094" y="7603"/>
                    </a:lnTo>
                    <a:lnTo>
                      <a:pt x="1116" y="7595"/>
                    </a:lnTo>
                    <a:lnTo>
                      <a:pt x="1138" y="7586"/>
                    </a:lnTo>
                    <a:lnTo>
                      <a:pt x="1158" y="7576"/>
                    </a:lnTo>
                    <a:lnTo>
                      <a:pt x="1176" y="7566"/>
                    </a:lnTo>
                    <a:lnTo>
                      <a:pt x="1195" y="7556"/>
                    </a:lnTo>
                    <a:lnTo>
                      <a:pt x="1212" y="7545"/>
                    </a:lnTo>
                    <a:lnTo>
                      <a:pt x="1228" y="7533"/>
                    </a:lnTo>
                    <a:lnTo>
                      <a:pt x="1259" y="7511"/>
                    </a:lnTo>
                    <a:lnTo>
                      <a:pt x="1285" y="7487"/>
                    </a:lnTo>
                    <a:lnTo>
                      <a:pt x="1308" y="7464"/>
                    </a:lnTo>
                    <a:lnTo>
                      <a:pt x="1328" y="7443"/>
                    </a:lnTo>
                    <a:lnTo>
                      <a:pt x="1344" y="7422"/>
                    </a:lnTo>
                    <a:lnTo>
                      <a:pt x="1357" y="7404"/>
                    </a:lnTo>
                    <a:lnTo>
                      <a:pt x="1374" y="7377"/>
                    </a:lnTo>
                    <a:lnTo>
                      <a:pt x="1380" y="7367"/>
                    </a:lnTo>
                    <a:lnTo>
                      <a:pt x="1381" y="7377"/>
                    </a:lnTo>
                    <a:lnTo>
                      <a:pt x="1383" y="7403"/>
                    </a:lnTo>
                    <a:lnTo>
                      <a:pt x="1387" y="7421"/>
                    </a:lnTo>
                    <a:lnTo>
                      <a:pt x="1391" y="7440"/>
                    </a:lnTo>
                    <a:lnTo>
                      <a:pt x="1398" y="7462"/>
                    </a:lnTo>
                    <a:lnTo>
                      <a:pt x="1406" y="7483"/>
                    </a:lnTo>
                    <a:lnTo>
                      <a:pt x="1412" y="7494"/>
                    </a:lnTo>
                    <a:lnTo>
                      <a:pt x="1417" y="7505"/>
                    </a:lnTo>
                    <a:lnTo>
                      <a:pt x="1423" y="7515"/>
                    </a:lnTo>
                    <a:lnTo>
                      <a:pt x="1431" y="7525"/>
                    </a:lnTo>
                    <a:lnTo>
                      <a:pt x="1439" y="7536"/>
                    </a:lnTo>
                    <a:lnTo>
                      <a:pt x="1447" y="7546"/>
                    </a:lnTo>
                    <a:lnTo>
                      <a:pt x="1457" y="7555"/>
                    </a:lnTo>
                    <a:lnTo>
                      <a:pt x="1467" y="7563"/>
                    </a:lnTo>
                    <a:lnTo>
                      <a:pt x="1479" y="7571"/>
                    </a:lnTo>
                    <a:lnTo>
                      <a:pt x="1491" y="7578"/>
                    </a:lnTo>
                    <a:lnTo>
                      <a:pt x="1504" y="7584"/>
                    </a:lnTo>
                    <a:lnTo>
                      <a:pt x="1518" y="7590"/>
                    </a:lnTo>
                    <a:lnTo>
                      <a:pt x="1533" y="7593"/>
                    </a:lnTo>
                    <a:lnTo>
                      <a:pt x="1550" y="7597"/>
                    </a:lnTo>
                    <a:lnTo>
                      <a:pt x="1567" y="7599"/>
                    </a:lnTo>
                    <a:lnTo>
                      <a:pt x="1586" y="7599"/>
                    </a:lnTo>
                    <a:lnTo>
                      <a:pt x="1669" y="7598"/>
                    </a:lnTo>
                    <a:lnTo>
                      <a:pt x="1760" y="7596"/>
                    </a:lnTo>
                    <a:lnTo>
                      <a:pt x="1853" y="7591"/>
                    </a:lnTo>
                    <a:lnTo>
                      <a:pt x="1941" y="7586"/>
                    </a:lnTo>
                    <a:lnTo>
                      <a:pt x="2020" y="7581"/>
                    </a:lnTo>
                    <a:lnTo>
                      <a:pt x="2084" y="7576"/>
                    </a:lnTo>
                    <a:lnTo>
                      <a:pt x="2127" y="7573"/>
                    </a:lnTo>
                    <a:lnTo>
                      <a:pt x="2142" y="7572"/>
                    </a:lnTo>
                    <a:lnTo>
                      <a:pt x="2161" y="7567"/>
                    </a:lnTo>
                    <a:lnTo>
                      <a:pt x="2210" y="7551"/>
                    </a:lnTo>
                    <a:lnTo>
                      <a:pt x="2242" y="7539"/>
                    </a:lnTo>
                    <a:lnTo>
                      <a:pt x="2279" y="7525"/>
                    </a:lnTo>
                    <a:lnTo>
                      <a:pt x="2316" y="7508"/>
                    </a:lnTo>
                    <a:lnTo>
                      <a:pt x="2355" y="7489"/>
                    </a:lnTo>
                    <a:lnTo>
                      <a:pt x="2374" y="7478"/>
                    </a:lnTo>
                    <a:lnTo>
                      <a:pt x="2393" y="7468"/>
                    </a:lnTo>
                    <a:lnTo>
                      <a:pt x="2411" y="7455"/>
                    </a:lnTo>
                    <a:lnTo>
                      <a:pt x="2429" y="7443"/>
                    </a:lnTo>
                    <a:lnTo>
                      <a:pt x="2445" y="7430"/>
                    </a:lnTo>
                    <a:lnTo>
                      <a:pt x="2461" y="7416"/>
                    </a:lnTo>
                    <a:lnTo>
                      <a:pt x="2476" y="7402"/>
                    </a:lnTo>
                    <a:lnTo>
                      <a:pt x="2488" y="7387"/>
                    </a:lnTo>
                    <a:lnTo>
                      <a:pt x="2501" y="7372"/>
                    </a:lnTo>
                    <a:lnTo>
                      <a:pt x="2510" y="7356"/>
                    </a:lnTo>
                    <a:lnTo>
                      <a:pt x="2518" y="7339"/>
                    </a:lnTo>
                    <a:lnTo>
                      <a:pt x="2523" y="7322"/>
                    </a:lnTo>
                    <a:lnTo>
                      <a:pt x="2527" y="7305"/>
                    </a:lnTo>
                    <a:lnTo>
                      <a:pt x="2528" y="7287"/>
                    </a:lnTo>
                    <a:lnTo>
                      <a:pt x="2527" y="7268"/>
                    </a:lnTo>
                    <a:lnTo>
                      <a:pt x="2522" y="7248"/>
                    </a:lnTo>
                    <a:lnTo>
                      <a:pt x="2511" y="7211"/>
                    </a:lnTo>
                    <a:lnTo>
                      <a:pt x="2496" y="7177"/>
                    </a:lnTo>
                    <a:lnTo>
                      <a:pt x="2482" y="7145"/>
                    </a:lnTo>
                    <a:lnTo>
                      <a:pt x="2466" y="7115"/>
                    </a:lnTo>
                    <a:lnTo>
                      <a:pt x="2434" y="7061"/>
                    </a:lnTo>
                    <a:lnTo>
                      <a:pt x="2403" y="7015"/>
                    </a:lnTo>
                    <a:lnTo>
                      <a:pt x="2390" y="6994"/>
                    </a:lnTo>
                    <a:lnTo>
                      <a:pt x="2380" y="6974"/>
                    </a:lnTo>
                    <a:lnTo>
                      <a:pt x="2370" y="6955"/>
                    </a:lnTo>
                    <a:lnTo>
                      <a:pt x="2364" y="6936"/>
                    </a:lnTo>
                    <a:lnTo>
                      <a:pt x="2361" y="6927"/>
                    </a:lnTo>
                    <a:lnTo>
                      <a:pt x="2360" y="6918"/>
                    </a:lnTo>
                    <a:lnTo>
                      <a:pt x="2360" y="6910"/>
                    </a:lnTo>
                    <a:lnTo>
                      <a:pt x="2361" y="6901"/>
                    </a:lnTo>
                    <a:lnTo>
                      <a:pt x="2363" y="6893"/>
                    </a:lnTo>
                    <a:lnTo>
                      <a:pt x="2366" y="6884"/>
                    </a:lnTo>
                    <a:lnTo>
                      <a:pt x="2369" y="6876"/>
                    </a:lnTo>
                    <a:lnTo>
                      <a:pt x="2375" y="6867"/>
                    </a:lnTo>
                    <a:lnTo>
                      <a:pt x="2385" y="6849"/>
                    </a:lnTo>
                    <a:lnTo>
                      <a:pt x="2395" y="6827"/>
                    </a:lnTo>
                    <a:lnTo>
                      <a:pt x="2406" y="6802"/>
                    </a:lnTo>
                    <a:lnTo>
                      <a:pt x="2414" y="6775"/>
                    </a:lnTo>
                    <a:lnTo>
                      <a:pt x="2421" y="6747"/>
                    </a:lnTo>
                    <a:lnTo>
                      <a:pt x="2429" y="6717"/>
                    </a:lnTo>
                    <a:lnTo>
                      <a:pt x="2435" y="6687"/>
                    </a:lnTo>
                    <a:lnTo>
                      <a:pt x="2441" y="6657"/>
                    </a:lnTo>
                    <a:lnTo>
                      <a:pt x="2451" y="6603"/>
                    </a:lnTo>
                    <a:lnTo>
                      <a:pt x="2457" y="6556"/>
                    </a:lnTo>
                    <a:lnTo>
                      <a:pt x="2461" y="6526"/>
                    </a:lnTo>
                    <a:lnTo>
                      <a:pt x="2462" y="6513"/>
                    </a:lnTo>
                    <a:lnTo>
                      <a:pt x="2472" y="6381"/>
                    </a:lnTo>
                    <a:lnTo>
                      <a:pt x="2497" y="6033"/>
                    </a:lnTo>
                    <a:lnTo>
                      <a:pt x="2533" y="5539"/>
                    </a:lnTo>
                    <a:lnTo>
                      <a:pt x="2572" y="4970"/>
                    </a:lnTo>
                    <a:lnTo>
                      <a:pt x="2590" y="4678"/>
                    </a:lnTo>
                    <a:lnTo>
                      <a:pt x="2608" y="4393"/>
                    </a:lnTo>
                    <a:lnTo>
                      <a:pt x="2623" y="4125"/>
                    </a:lnTo>
                    <a:lnTo>
                      <a:pt x="2636" y="3882"/>
                    </a:lnTo>
                    <a:lnTo>
                      <a:pt x="2640" y="3773"/>
                    </a:lnTo>
                    <a:lnTo>
                      <a:pt x="2645" y="3674"/>
                    </a:lnTo>
                    <a:lnTo>
                      <a:pt x="2647" y="3584"/>
                    </a:lnTo>
                    <a:lnTo>
                      <a:pt x="2648" y="3507"/>
                    </a:lnTo>
                    <a:lnTo>
                      <a:pt x="2649" y="3442"/>
                    </a:lnTo>
                    <a:lnTo>
                      <a:pt x="2648" y="3391"/>
                    </a:lnTo>
                    <a:lnTo>
                      <a:pt x="2645" y="3356"/>
                    </a:lnTo>
                    <a:lnTo>
                      <a:pt x="2640" y="3337"/>
                    </a:lnTo>
                    <a:lnTo>
                      <a:pt x="2630" y="3315"/>
                    </a:lnTo>
                    <a:lnTo>
                      <a:pt x="2621" y="3293"/>
                    </a:lnTo>
                    <a:lnTo>
                      <a:pt x="2612" y="3272"/>
                    </a:lnTo>
                    <a:lnTo>
                      <a:pt x="2604" y="3250"/>
                    </a:lnTo>
                    <a:lnTo>
                      <a:pt x="2597" y="3230"/>
                    </a:lnTo>
                    <a:lnTo>
                      <a:pt x="2593" y="3208"/>
                    </a:lnTo>
                    <a:lnTo>
                      <a:pt x="2588" y="3189"/>
                    </a:lnTo>
                    <a:lnTo>
                      <a:pt x="2586" y="3169"/>
                    </a:lnTo>
                    <a:lnTo>
                      <a:pt x="2586" y="3150"/>
                    </a:lnTo>
                    <a:lnTo>
                      <a:pt x="2587" y="3132"/>
                    </a:lnTo>
                    <a:lnTo>
                      <a:pt x="2590" y="3114"/>
                    </a:lnTo>
                    <a:lnTo>
                      <a:pt x="2596" y="3098"/>
                    </a:lnTo>
                    <a:lnTo>
                      <a:pt x="2599" y="3090"/>
                    </a:lnTo>
                    <a:lnTo>
                      <a:pt x="2603" y="3082"/>
                    </a:lnTo>
                    <a:lnTo>
                      <a:pt x="2607" y="3076"/>
                    </a:lnTo>
                    <a:lnTo>
                      <a:pt x="2613" y="3068"/>
                    </a:lnTo>
                    <a:lnTo>
                      <a:pt x="2619" y="3061"/>
                    </a:lnTo>
                    <a:lnTo>
                      <a:pt x="2625" y="3055"/>
                    </a:lnTo>
                    <a:lnTo>
                      <a:pt x="2632" y="3048"/>
                    </a:lnTo>
                    <a:lnTo>
                      <a:pt x="2640" y="3043"/>
                    </a:lnTo>
                    <a:lnTo>
                      <a:pt x="2648" y="3037"/>
                    </a:lnTo>
                    <a:lnTo>
                      <a:pt x="2655" y="3030"/>
                    </a:lnTo>
                    <a:lnTo>
                      <a:pt x="2662" y="3023"/>
                    </a:lnTo>
                    <a:lnTo>
                      <a:pt x="2667" y="3017"/>
                    </a:lnTo>
                    <a:lnTo>
                      <a:pt x="2672" y="3007"/>
                    </a:lnTo>
                    <a:lnTo>
                      <a:pt x="2678" y="3000"/>
                    </a:lnTo>
                    <a:lnTo>
                      <a:pt x="2681" y="2990"/>
                    </a:lnTo>
                    <a:lnTo>
                      <a:pt x="2684" y="2980"/>
                    </a:lnTo>
                    <a:lnTo>
                      <a:pt x="2691" y="2960"/>
                    </a:lnTo>
                    <a:lnTo>
                      <a:pt x="2695" y="2938"/>
                    </a:lnTo>
                    <a:lnTo>
                      <a:pt x="2698" y="2916"/>
                    </a:lnTo>
                    <a:lnTo>
                      <a:pt x="2699" y="2893"/>
                    </a:lnTo>
                    <a:lnTo>
                      <a:pt x="2700" y="2845"/>
                    </a:lnTo>
                    <a:lnTo>
                      <a:pt x="2698" y="2800"/>
                    </a:lnTo>
                    <a:lnTo>
                      <a:pt x="2696" y="2758"/>
                    </a:lnTo>
                    <a:lnTo>
                      <a:pt x="2695" y="2723"/>
                    </a:lnTo>
                    <a:lnTo>
                      <a:pt x="2697" y="2699"/>
                    </a:lnTo>
                    <a:lnTo>
                      <a:pt x="2701" y="2666"/>
                    </a:lnTo>
                    <a:lnTo>
                      <a:pt x="2708" y="2623"/>
                    </a:lnTo>
                    <a:lnTo>
                      <a:pt x="2718" y="2573"/>
                    </a:lnTo>
                    <a:lnTo>
                      <a:pt x="2742" y="2458"/>
                    </a:lnTo>
                    <a:lnTo>
                      <a:pt x="2769" y="2334"/>
                    </a:lnTo>
                    <a:lnTo>
                      <a:pt x="2797" y="2214"/>
                    </a:lnTo>
                    <a:lnTo>
                      <a:pt x="2820" y="2112"/>
                    </a:lnTo>
                    <a:lnTo>
                      <a:pt x="2836" y="2041"/>
                    </a:lnTo>
                    <a:lnTo>
                      <a:pt x="2843" y="2014"/>
                    </a:lnTo>
                    <a:lnTo>
                      <a:pt x="2848" y="2009"/>
                    </a:lnTo>
                    <a:lnTo>
                      <a:pt x="2860" y="1995"/>
                    </a:lnTo>
                    <a:lnTo>
                      <a:pt x="2880" y="1970"/>
                    </a:lnTo>
                    <a:lnTo>
                      <a:pt x="2907" y="1936"/>
                    </a:lnTo>
                    <a:lnTo>
                      <a:pt x="2920" y="1915"/>
                    </a:lnTo>
                    <a:lnTo>
                      <a:pt x="2936" y="1892"/>
                    </a:lnTo>
                    <a:lnTo>
                      <a:pt x="2952" y="1866"/>
                    </a:lnTo>
                    <a:lnTo>
                      <a:pt x="2969" y="1837"/>
                    </a:lnTo>
                    <a:lnTo>
                      <a:pt x="2986" y="1807"/>
                    </a:lnTo>
                    <a:lnTo>
                      <a:pt x="3003" y="1773"/>
                    </a:lnTo>
                    <a:lnTo>
                      <a:pt x="3021" y="1736"/>
                    </a:lnTo>
                    <a:lnTo>
                      <a:pt x="3038" y="1698"/>
                    </a:lnTo>
                    <a:lnTo>
                      <a:pt x="3055" y="1657"/>
                    </a:lnTo>
                    <a:lnTo>
                      <a:pt x="3072" y="1613"/>
                    </a:lnTo>
                    <a:lnTo>
                      <a:pt x="3088" y="1567"/>
                    </a:lnTo>
                    <a:lnTo>
                      <a:pt x="3104" y="1517"/>
                    </a:lnTo>
                    <a:lnTo>
                      <a:pt x="3117" y="1466"/>
                    </a:lnTo>
                    <a:lnTo>
                      <a:pt x="3131" y="1412"/>
                    </a:lnTo>
                    <a:lnTo>
                      <a:pt x="3143" y="1355"/>
                    </a:lnTo>
                    <a:lnTo>
                      <a:pt x="3155" y="1295"/>
                    </a:lnTo>
                    <a:lnTo>
                      <a:pt x="3164" y="1234"/>
                    </a:lnTo>
                    <a:lnTo>
                      <a:pt x="3171" y="1168"/>
                    </a:lnTo>
                    <a:lnTo>
                      <a:pt x="3176" y="1101"/>
                    </a:lnTo>
                    <a:lnTo>
                      <a:pt x="3180" y="1031"/>
                    </a:lnTo>
                    <a:lnTo>
                      <a:pt x="3181" y="958"/>
                    </a:lnTo>
                    <a:lnTo>
                      <a:pt x="3180" y="882"/>
                    </a:lnTo>
                    <a:lnTo>
                      <a:pt x="3176" y="804"/>
                    </a:lnTo>
                    <a:lnTo>
                      <a:pt x="3169" y="722"/>
                    </a:lnTo>
                    <a:lnTo>
                      <a:pt x="3163" y="723"/>
                    </a:lnTo>
                    <a:lnTo>
                      <a:pt x="3141" y="723"/>
                    </a:lnTo>
                    <a:lnTo>
                      <a:pt x="3109" y="724"/>
                    </a:lnTo>
                    <a:lnTo>
                      <a:pt x="3067" y="723"/>
                    </a:lnTo>
                    <a:lnTo>
                      <a:pt x="3044" y="722"/>
                    </a:lnTo>
                    <a:lnTo>
                      <a:pt x="3019" y="721"/>
                    </a:lnTo>
                    <a:lnTo>
                      <a:pt x="2992" y="717"/>
                    </a:lnTo>
                    <a:lnTo>
                      <a:pt x="2963" y="714"/>
                    </a:lnTo>
                    <a:lnTo>
                      <a:pt x="2934" y="709"/>
                    </a:lnTo>
                    <a:lnTo>
                      <a:pt x="2904" y="704"/>
                    </a:lnTo>
                    <a:lnTo>
                      <a:pt x="2874" y="697"/>
                    </a:lnTo>
                    <a:lnTo>
                      <a:pt x="2842" y="689"/>
                    </a:lnTo>
                    <a:lnTo>
                      <a:pt x="2811" y="679"/>
                    </a:lnTo>
                    <a:lnTo>
                      <a:pt x="2781" y="667"/>
                    </a:lnTo>
                    <a:lnTo>
                      <a:pt x="2750" y="654"/>
                    </a:lnTo>
                    <a:lnTo>
                      <a:pt x="2720" y="639"/>
                    </a:lnTo>
                    <a:lnTo>
                      <a:pt x="2691" y="623"/>
                    </a:lnTo>
                    <a:lnTo>
                      <a:pt x="2663" y="604"/>
                    </a:lnTo>
                    <a:lnTo>
                      <a:pt x="2636" y="583"/>
                    </a:lnTo>
                    <a:lnTo>
                      <a:pt x="2611" y="560"/>
                    </a:lnTo>
                    <a:lnTo>
                      <a:pt x="2588" y="535"/>
                    </a:lnTo>
                    <a:lnTo>
                      <a:pt x="2567" y="506"/>
                    </a:lnTo>
                    <a:lnTo>
                      <a:pt x="2547" y="476"/>
                    </a:lnTo>
                    <a:lnTo>
                      <a:pt x="2530" y="443"/>
                    </a:lnTo>
                    <a:lnTo>
                      <a:pt x="2517" y="406"/>
                    </a:lnTo>
                    <a:lnTo>
                      <a:pt x="2505" y="368"/>
                    </a:lnTo>
                    <a:lnTo>
                      <a:pt x="2497" y="326"/>
                    </a:lnTo>
                    <a:lnTo>
                      <a:pt x="2493" y="280"/>
                    </a:lnTo>
                    <a:lnTo>
                      <a:pt x="2488" y="236"/>
                    </a:lnTo>
                    <a:lnTo>
                      <a:pt x="2482" y="196"/>
                    </a:lnTo>
                    <a:lnTo>
                      <a:pt x="2474" y="160"/>
                    </a:lnTo>
                    <a:lnTo>
                      <a:pt x="2462" y="129"/>
                    </a:lnTo>
                    <a:lnTo>
                      <a:pt x="2450" y="102"/>
                    </a:lnTo>
                    <a:lnTo>
                      <a:pt x="2435" y="78"/>
                    </a:lnTo>
                    <a:lnTo>
                      <a:pt x="2419" y="58"/>
                    </a:lnTo>
                    <a:lnTo>
                      <a:pt x="2402" y="42"/>
                    </a:lnTo>
                    <a:lnTo>
                      <a:pt x="2384" y="28"/>
                    </a:lnTo>
                    <a:lnTo>
                      <a:pt x="2364" y="18"/>
                    </a:lnTo>
                    <a:lnTo>
                      <a:pt x="2343" y="10"/>
                    </a:lnTo>
                    <a:lnTo>
                      <a:pt x="2323" y="5"/>
                    </a:lnTo>
                    <a:lnTo>
                      <a:pt x="2300" y="1"/>
                    </a:lnTo>
                    <a:lnTo>
                      <a:pt x="2279" y="0"/>
                    </a:lnTo>
                    <a:lnTo>
                      <a:pt x="2256" y="1"/>
                    </a:lnTo>
                    <a:lnTo>
                      <a:pt x="2233" y="3"/>
                    </a:lnTo>
                    <a:lnTo>
                      <a:pt x="2211" y="8"/>
                    </a:lnTo>
                    <a:lnTo>
                      <a:pt x="2189" y="14"/>
                    </a:lnTo>
                    <a:lnTo>
                      <a:pt x="2167" y="19"/>
                    </a:lnTo>
                    <a:lnTo>
                      <a:pt x="2146" y="26"/>
                    </a:lnTo>
                    <a:lnTo>
                      <a:pt x="2105" y="42"/>
                    </a:lnTo>
                    <a:lnTo>
                      <a:pt x="2070" y="59"/>
                    </a:lnTo>
                    <a:lnTo>
                      <a:pt x="2017" y="89"/>
                    </a:lnTo>
                    <a:lnTo>
                      <a:pt x="1997" y="102"/>
                    </a:lnTo>
                    <a:lnTo>
                      <a:pt x="1559" y="280"/>
                    </a:lnTo>
                    <a:lnTo>
                      <a:pt x="674" y="34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19" name=""/>
              <p:cNvSpPr/>
              <p:nvPr/>
            </p:nvSpPr>
            <p:spPr>
              <a:xfrm>
                <a:off x="5048280" y="3676320"/>
                <a:ext cx="116640" cy="28800"/>
              </a:xfrm>
              <a:custGeom>
                <a:avLst/>
                <a:gdLst/>
                <a:ahLst/>
                <a:rect l="l" t="t" r="r" b="b"/>
                <a:pathLst>
                  <a:path w="529" h="155">
                    <a:moveTo>
                      <a:pt x="0" y="0"/>
                    </a:moveTo>
                    <a:lnTo>
                      <a:pt x="9" y="13"/>
                    </a:lnTo>
                    <a:lnTo>
                      <a:pt x="34" y="46"/>
                    </a:lnTo>
                    <a:lnTo>
                      <a:pt x="42" y="56"/>
                    </a:lnTo>
                    <a:lnTo>
                      <a:pt x="52" y="67"/>
                    </a:lnTo>
                    <a:lnTo>
                      <a:pt x="64" y="78"/>
                    </a:lnTo>
                    <a:lnTo>
                      <a:pt x="75" y="88"/>
                    </a:lnTo>
                    <a:lnTo>
                      <a:pt x="89" y="98"/>
                    </a:lnTo>
                    <a:lnTo>
                      <a:pt x="102" y="109"/>
                    </a:lnTo>
                    <a:lnTo>
                      <a:pt x="117" y="118"/>
                    </a:lnTo>
                    <a:lnTo>
                      <a:pt x="133" y="127"/>
                    </a:lnTo>
                    <a:lnTo>
                      <a:pt x="151" y="135"/>
                    </a:lnTo>
                    <a:lnTo>
                      <a:pt x="169" y="142"/>
                    </a:lnTo>
                    <a:lnTo>
                      <a:pt x="187" y="147"/>
                    </a:lnTo>
                    <a:lnTo>
                      <a:pt x="208" y="151"/>
                    </a:lnTo>
                    <a:lnTo>
                      <a:pt x="229" y="154"/>
                    </a:lnTo>
                    <a:lnTo>
                      <a:pt x="251" y="155"/>
                    </a:lnTo>
                    <a:lnTo>
                      <a:pt x="274" y="154"/>
                    </a:lnTo>
                    <a:lnTo>
                      <a:pt x="298" y="151"/>
                    </a:lnTo>
                    <a:lnTo>
                      <a:pt x="324" y="145"/>
                    </a:lnTo>
                    <a:lnTo>
                      <a:pt x="350" y="138"/>
                    </a:lnTo>
                    <a:lnTo>
                      <a:pt x="377" y="128"/>
                    </a:lnTo>
                    <a:lnTo>
                      <a:pt x="406" y="114"/>
                    </a:lnTo>
                    <a:lnTo>
                      <a:pt x="435" y="98"/>
                    </a:lnTo>
                    <a:lnTo>
                      <a:pt x="466" y="79"/>
                    </a:lnTo>
                    <a:lnTo>
                      <a:pt x="496" y="56"/>
                    </a:lnTo>
                    <a:lnTo>
                      <a:pt x="529" y="30"/>
                    </a:lnTo>
                    <a:lnTo>
                      <a:pt x="0" y="0"/>
                    </a:lnTo>
                    <a:close/>
                  </a:path>
                </a:pathLst>
              </a:custGeom>
              <a:solidFill>
                <a:srgbClr val="000000"/>
              </a:solidFill>
              <a:ln w="0">
                <a:noFill/>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620" name=""/>
              <p:cNvSpPr/>
              <p:nvPr/>
            </p:nvSpPr>
            <p:spPr>
              <a:xfrm>
                <a:off x="5048280" y="3676320"/>
                <a:ext cx="116640" cy="28800"/>
              </a:xfrm>
              <a:custGeom>
                <a:avLst/>
                <a:gdLst/>
                <a:ahLst/>
                <a:rect l="l" t="t" r="r" b="b"/>
                <a:pathLst>
                  <a:path w="529" h="155">
                    <a:moveTo>
                      <a:pt x="0" y="0"/>
                    </a:moveTo>
                    <a:lnTo>
                      <a:pt x="9" y="13"/>
                    </a:lnTo>
                    <a:lnTo>
                      <a:pt x="34" y="46"/>
                    </a:lnTo>
                    <a:lnTo>
                      <a:pt x="42" y="56"/>
                    </a:lnTo>
                    <a:lnTo>
                      <a:pt x="52" y="67"/>
                    </a:lnTo>
                    <a:lnTo>
                      <a:pt x="64" y="78"/>
                    </a:lnTo>
                    <a:lnTo>
                      <a:pt x="75" y="88"/>
                    </a:lnTo>
                    <a:lnTo>
                      <a:pt x="89" y="98"/>
                    </a:lnTo>
                    <a:lnTo>
                      <a:pt x="102" y="109"/>
                    </a:lnTo>
                    <a:lnTo>
                      <a:pt x="117" y="118"/>
                    </a:lnTo>
                    <a:lnTo>
                      <a:pt x="133" y="127"/>
                    </a:lnTo>
                    <a:lnTo>
                      <a:pt x="151" y="135"/>
                    </a:lnTo>
                    <a:lnTo>
                      <a:pt x="169" y="142"/>
                    </a:lnTo>
                    <a:lnTo>
                      <a:pt x="187" y="147"/>
                    </a:lnTo>
                    <a:lnTo>
                      <a:pt x="208" y="151"/>
                    </a:lnTo>
                    <a:lnTo>
                      <a:pt x="229" y="154"/>
                    </a:lnTo>
                    <a:lnTo>
                      <a:pt x="251" y="155"/>
                    </a:lnTo>
                    <a:lnTo>
                      <a:pt x="274" y="154"/>
                    </a:lnTo>
                    <a:lnTo>
                      <a:pt x="298" y="151"/>
                    </a:lnTo>
                    <a:lnTo>
                      <a:pt x="324" y="145"/>
                    </a:lnTo>
                    <a:lnTo>
                      <a:pt x="350" y="138"/>
                    </a:lnTo>
                    <a:lnTo>
                      <a:pt x="377" y="128"/>
                    </a:lnTo>
                    <a:lnTo>
                      <a:pt x="406" y="114"/>
                    </a:lnTo>
                    <a:lnTo>
                      <a:pt x="435" y="98"/>
                    </a:lnTo>
                    <a:lnTo>
                      <a:pt x="466" y="79"/>
                    </a:lnTo>
                    <a:lnTo>
                      <a:pt x="496" y="56"/>
                    </a:lnTo>
                    <a:lnTo>
                      <a:pt x="529" y="30"/>
                    </a:lnTo>
                  </a:path>
                </a:pathLst>
              </a:custGeom>
              <a:noFill/>
              <a:ln w="4680">
                <a:solidFill>
                  <a:srgbClr val="000000"/>
                </a:solidFill>
                <a:round/>
              </a:ln>
            </p:spPr>
            <p:style>
              <a:lnRef idx="0"/>
              <a:fillRef idx="0"/>
              <a:effectRef idx="0"/>
              <a:fontRef idx="minor"/>
            </p:style>
            <p:txBody>
              <a:bodyPr wrap="none" lIns="93240" rIns="93240" tIns="-17640" bIns="-17640" anchor="t">
                <a:spAutoFit/>
              </a:bodyPr>
              <a:p>
                <a:endParaRPr b="0" lang="en-US" sz="2400" spc="-1" strike="noStrike">
                  <a:solidFill>
                    <a:srgbClr val="ffffff"/>
                  </a:solidFill>
                  <a:latin typeface="Times New Roman"/>
                </a:endParaRPr>
              </a:p>
            </p:txBody>
          </p:sp>
          <p:sp>
            <p:nvSpPr>
              <p:cNvPr id="621" name=""/>
              <p:cNvSpPr/>
              <p:nvPr/>
            </p:nvSpPr>
            <p:spPr>
              <a:xfrm>
                <a:off x="5068080" y="3704040"/>
                <a:ext cx="46080" cy="1102680"/>
              </a:xfrm>
              <a:custGeom>
                <a:avLst/>
                <a:gdLst/>
                <a:ahLst/>
                <a:rect l="l" t="t" r="r" b="b"/>
                <a:pathLst>
                  <a:path w="215" h="6001">
                    <a:moveTo>
                      <a:pt x="175" y="0"/>
                    </a:moveTo>
                    <a:lnTo>
                      <a:pt x="179" y="44"/>
                    </a:lnTo>
                    <a:lnTo>
                      <a:pt x="188" y="160"/>
                    </a:lnTo>
                    <a:lnTo>
                      <a:pt x="194" y="240"/>
                    </a:lnTo>
                    <a:lnTo>
                      <a:pt x="199" y="331"/>
                    </a:lnTo>
                    <a:lnTo>
                      <a:pt x="205" y="429"/>
                    </a:lnTo>
                    <a:lnTo>
                      <a:pt x="209" y="533"/>
                    </a:lnTo>
                    <a:lnTo>
                      <a:pt x="213" y="640"/>
                    </a:lnTo>
                    <a:lnTo>
                      <a:pt x="215" y="748"/>
                    </a:lnTo>
                    <a:lnTo>
                      <a:pt x="215" y="854"/>
                    </a:lnTo>
                    <a:lnTo>
                      <a:pt x="214" y="955"/>
                    </a:lnTo>
                    <a:lnTo>
                      <a:pt x="212" y="1004"/>
                    </a:lnTo>
                    <a:lnTo>
                      <a:pt x="208" y="1050"/>
                    </a:lnTo>
                    <a:lnTo>
                      <a:pt x="205" y="1093"/>
                    </a:lnTo>
                    <a:lnTo>
                      <a:pt x="201" y="1134"/>
                    </a:lnTo>
                    <a:lnTo>
                      <a:pt x="196" y="1173"/>
                    </a:lnTo>
                    <a:lnTo>
                      <a:pt x="190" y="1207"/>
                    </a:lnTo>
                    <a:lnTo>
                      <a:pt x="183" y="1239"/>
                    </a:lnTo>
                    <a:lnTo>
                      <a:pt x="175" y="1266"/>
                    </a:lnTo>
                    <a:lnTo>
                      <a:pt x="161" y="1313"/>
                    </a:lnTo>
                    <a:lnTo>
                      <a:pt x="148" y="1360"/>
                    </a:lnTo>
                    <a:lnTo>
                      <a:pt x="140" y="1404"/>
                    </a:lnTo>
                    <a:lnTo>
                      <a:pt x="134" y="1446"/>
                    </a:lnTo>
                    <a:lnTo>
                      <a:pt x="129" y="1487"/>
                    </a:lnTo>
                    <a:lnTo>
                      <a:pt x="127" y="1526"/>
                    </a:lnTo>
                    <a:lnTo>
                      <a:pt x="127" y="1562"/>
                    </a:lnTo>
                    <a:lnTo>
                      <a:pt x="127" y="1596"/>
                    </a:lnTo>
                    <a:lnTo>
                      <a:pt x="129" y="1628"/>
                    </a:lnTo>
                    <a:lnTo>
                      <a:pt x="131" y="1658"/>
                    </a:lnTo>
                    <a:lnTo>
                      <a:pt x="135" y="1686"/>
                    </a:lnTo>
                    <a:lnTo>
                      <a:pt x="137" y="1712"/>
                    </a:lnTo>
                    <a:lnTo>
                      <a:pt x="143" y="1757"/>
                    </a:lnTo>
                    <a:lnTo>
                      <a:pt x="145" y="1795"/>
                    </a:lnTo>
                    <a:lnTo>
                      <a:pt x="145" y="1814"/>
                    </a:lnTo>
                    <a:lnTo>
                      <a:pt x="143" y="1838"/>
                    </a:lnTo>
                    <a:lnTo>
                      <a:pt x="139" y="1864"/>
                    </a:lnTo>
                    <a:lnTo>
                      <a:pt x="136" y="1892"/>
                    </a:lnTo>
                    <a:lnTo>
                      <a:pt x="127" y="1956"/>
                    </a:lnTo>
                    <a:lnTo>
                      <a:pt x="117" y="2019"/>
                    </a:lnTo>
                    <a:lnTo>
                      <a:pt x="105" y="2080"/>
                    </a:lnTo>
                    <a:lnTo>
                      <a:pt x="96" y="2129"/>
                    </a:lnTo>
                    <a:lnTo>
                      <a:pt x="90" y="2163"/>
                    </a:lnTo>
                    <a:lnTo>
                      <a:pt x="87" y="2176"/>
                    </a:lnTo>
                    <a:lnTo>
                      <a:pt x="81" y="2201"/>
                    </a:lnTo>
                    <a:lnTo>
                      <a:pt x="66" y="2267"/>
                    </a:lnTo>
                    <a:lnTo>
                      <a:pt x="56" y="2311"/>
                    </a:lnTo>
                    <a:lnTo>
                      <a:pt x="45" y="2362"/>
                    </a:lnTo>
                    <a:lnTo>
                      <a:pt x="35" y="2419"/>
                    </a:lnTo>
                    <a:lnTo>
                      <a:pt x="25" y="2478"/>
                    </a:lnTo>
                    <a:lnTo>
                      <a:pt x="16" y="2540"/>
                    </a:lnTo>
                    <a:lnTo>
                      <a:pt x="8" y="2603"/>
                    </a:lnTo>
                    <a:lnTo>
                      <a:pt x="4" y="2633"/>
                    </a:lnTo>
                    <a:lnTo>
                      <a:pt x="2" y="2664"/>
                    </a:lnTo>
                    <a:lnTo>
                      <a:pt x="1" y="2695"/>
                    </a:lnTo>
                    <a:lnTo>
                      <a:pt x="0" y="2724"/>
                    </a:lnTo>
                    <a:lnTo>
                      <a:pt x="0" y="2752"/>
                    </a:lnTo>
                    <a:lnTo>
                      <a:pt x="0" y="2780"/>
                    </a:lnTo>
                    <a:lnTo>
                      <a:pt x="2" y="2806"/>
                    </a:lnTo>
                    <a:lnTo>
                      <a:pt x="4" y="2832"/>
                    </a:lnTo>
                    <a:lnTo>
                      <a:pt x="9" y="2855"/>
                    </a:lnTo>
                    <a:lnTo>
                      <a:pt x="13" y="2876"/>
                    </a:lnTo>
                    <a:lnTo>
                      <a:pt x="19" y="2897"/>
                    </a:lnTo>
                    <a:lnTo>
                      <a:pt x="27" y="2915"/>
                    </a:lnTo>
                    <a:lnTo>
                      <a:pt x="43" y="2948"/>
                    </a:lnTo>
                    <a:lnTo>
                      <a:pt x="58" y="2982"/>
                    </a:lnTo>
                    <a:lnTo>
                      <a:pt x="69" y="3017"/>
                    </a:lnTo>
                    <a:lnTo>
                      <a:pt x="79" y="3051"/>
                    </a:lnTo>
                    <a:lnTo>
                      <a:pt x="88" y="3086"/>
                    </a:lnTo>
                    <a:lnTo>
                      <a:pt x="96" y="3120"/>
                    </a:lnTo>
                    <a:lnTo>
                      <a:pt x="102" y="3153"/>
                    </a:lnTo>
                    <a:lnTo>
                      <a:pt x="106" y="3185"/>
                    </a:lnTo>
                    <a:lnTo>
                      <a:pt x="113" y="3242"/>
                    </a:lnTo>
                    <a:lnTo>
                      <a:pt x="117" y="3286"/>
                    </a:lnTo>
                    <a:lnTo>
                      <a:pt x="118" y="3315"/>
                    </a:lnTo>
                    <a:lnTo>
                      <a:pt x="118" y="3326"/>
                    </a:lnTo>
                    <a:lnTo>
                      <a:pt x="113" y="3337"/>
                    </a:lnTo>
                    <a:lnTo>
                      <a:pt x="100" y="3369"/>
                    </a:lnTo>
                    <a:lnTo>
                      <a:pt x="81" y="3415"/>
                    </a:lnTo>
                    <a:lnTo>
                      <a:pt x="61" y="3472"/>
                    </a:lnTo>
                    <a:lnTo>
                      <a:pt x="52" y="3503"/>
                    </a:lnTo>
                    <a:lnTo>
                      <a:pt x="43" y="3534"/>
                    </a:lnTo>
                    <a:lnTo>
                      <a:pt x="35" y="3566"/>
                    </a:lnTo>
                    <a:lnTo>
                      <a:pt x="28" y="3598"/>
                    </a:lnTo>
                    <a:lnTo>
                      <a:pt x="25" y="3629"/>
                    </a:lnTo>
                    <a:lnTo>
                      <a:pt x="22" y="3657"/>
                    </a:lnTo>
                    <a:lnTo>
                      <a:pt x="22" y="3671"/>
                    </a:lnTo>
                    <a:lnTo>
                      <a:pt x="24" y="3683"/>
                    </a:lnTo>
                    <a:lnTo>
                      <a:pt x="25" y="3696"/>
                    </a:lnTo>
                    <a:lnTo>
                      <a:pt x="27" y="3707"/>
                    </a:lnTo>
                    <a:lnTo>
                      <a:pt x="33" y="3734"/>
                    </a:lnTo>
                    <a:lnTo>
                      <a:pt x="39" y="3770"/>
                    </a:lnTo>
                    <a:lnTo>
                      <a:pt x="46" y="3814"/>
                    </a:lnTo>
                    <a:lnTo>
                      <a:pt x="54" y="3862"/>
                    </a:lnTo>
                    <a:lnTo>
                      <a:pt x="69" y="3974"/>
                    </a:lnTo>
                    <a:lnTo>
                      <a:pt x="84" y="4091"/>
                    </a:lnTo>
                    <a:lnTo>
                      <a:pt x="97" y="4202"/>
                    </a:lnTo>
                    <a:lnTo>
                      <a:pt x="107" y="4296"/>
                    </a:lnTo>
                    <a:lnTo>
                      <a:pt x="115" y="4361"/>
                    </a:lnTo>
                    <a:lnTo>
                      <a:pt x="118" y="4384"/>
                    </a:lnTo>
                    <a:lnTo>
                      <a:pt x="58" y="4736"/>
                    </a:lnTo>
                    <a:lnTo>
                      <a:pt x="87" y="6001"/>
                    </a:lnTo>
                    <a:lnTo>
                      <a:pt x="175"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2" name=""/>
              <p:cNvSpPr/>
              <p:nvPr/>
            </p:nvSpPr>
            <p:spPr>
              <a:xfrm>
                <a:off x="5068080" y="3704040"/>
                <a:ext cx="46080" cy="1102680"/>
              </a:xfrm>
              <a:custGeom>
                <a:avLst/>
                <a:gdLst/>
                <a:ahLst/>
                <a:rect l="l" t="t" r="r" b="b"/>
                <a:pathLst>
                  <a:path w="215" h="6001">
                    <a:moveTo>
                      <a:pt x="175" y="0"/>
                    </a:moveTo>
                    <a:lnTo>
                      <a:pt x="179" y="44"/>
                    </a:lnTo>
                    <a:lnTo>
                      <a:pt x="188" y="160"/>
                    </a:lnTo>
                    <a:lnTo>
                      <a:pt x="194" y="240"/>
                    </a:lnTo>
                    <a:lnTo>
                      <a:pt x="199" y="331"/>
                    </a:lnTo>
                    <a:lnTo>
                      <a:pt x="205" y="429"/>
                    </a:lnTo>
                    <a:lnTo>
                      <a:pt x="209" y="533"/>
                    </a:lnTo>
                    <a:lnTo>
                      <a:pt x="213" y="640"/>
                    </a:lnTo>
                    <a:lnTo>
                      <a:pt x="215" y="748"/>
                    </a:lnTo>
                    <a:lnTo>
                      <a:pt x="215" y="854"/>
                    </a:lnTo>
                    <a:lnTo>
                      <a:pt x="214" y="955"/>
                    </a:lnTo>
                    <a:lnTo>
                      <a:pt x="212" y="1004"/>
                    </a:lnTo>
                    <a:lnTo>
                      <a:pt x="208" y="1050"/>
                    </a:lnTo>
                    <a:lnTo>
                      <a:pt x="205" y="1093"/>
                    </a:lnTo>
                    <a:lnTo>
                      <a:pt x="201" y="1134"/>
                    </a:lnTo>
                    <a:lnTo>
                      <a:pt x="196" y="1173"/>
                    </a:lnTo>
                    <a:lnTo>
                      <a:pt x="190" y="1207"/>
                    </a:lnTo>
                    <a:lnTo>
                      <a:pt x="183" y="1239"/>
                    </a:lnTo>
                    <a:lnTo>
                      <a:pt x="175" y="1266"/>
                    </a:lnTo>
                    <a:lnTo>
                      <a:pt x="161" y="1313"/>
                    </a:lnTo>
                    <a:lnTo>
                      <a:pt x="148" y="1360"/>
                    </a:lnTo>
                    <a:lnTo>
                      <a:pt x="140" y="1404"/>
                    </a:lnTo>
                    <a:lnTo>
                      <a:pt x="134" y="1446"/>
                    </a:lnTo>
                    <a:lnTo>
                      <a:pt x="129" y="1487"/>
                    </a:lnTo>
                    <a:lnTo>
                      <a:pt x="127" y="1526"/>
                    </a:lnTo>
                    <a:lnTo>
                      <a:pt x="127" y="1562"/>
                    </a:lnTo>
                    <a:lnTo>
                      <a:pt x="127" y="1596"/>
                    </a:lnTo>
                    <a:lnTo>
                      <a:pt x="129" y="1628"/>
                    </a:lnTo>
                    <a:lnTo>
                      <a:pt x="131" y="1658"/>
                    </a:lnTo>
                    <a:lnTo>
                      <a:pt x="135" y="1686"/>
                    </a:lnTo>
                    <a:lnTo>
                      <a:pt x="137" y="1712"/>
                    </a:lnTo>
                    <a:lnTo>
                      <a:pt x="143" y="1757"/>
                    </a:lnTo>
                    <a:lnTo>
                      <a:pt x="145" y="1795"/>
                    </a:lnTo>
                    <a:lnTo>
                      <a:pt x="145" y="1814"/>
                    </a:lnTo>
                    <a:lnTo>
                      <a:pt x="143" y="1838"/>
                    </a:lnTo>
                    <a:lnTo>
                      <a:pt x="139" y="1864"/>
                    </a:lnTo>
                    <a:lnTo>
                      <a:pt x="136" y="1892"/>
                    </a:lnTo>
                    <a:lnTo>
                      <a:pt x="127" y="1956"/>
                    </a:lnTo>
                    <a:lnTo>
                      <a:pt x="117" y="2019"/>
                    </a:lnTo>
                    <a:lnTo>
                      <a:pt x="105" y="2080"/>
                    </a:lnTo>
                    <a:lnTo>
                      <a:pt x="96" y="2129"/>
                    </a:lnTo>
                    <a:lnTo>
                      <a:pt x="90" y="2163"/>
                    </a:lnTo>
                    <a:lnTo>
                      <a:pt x="87" y="2176"/>
                    </a:lnTo>
                    <a:lnTo>
                      <a:pt x="81" y="2201"/>
                    </a:lnTo>
                    <a:lnTo>
                      <a:pt x="66" y="2267"/>
                    </a:lnTo>
                    <a:lnTo>
                      <a:pt x="56" y="2311"/>
                    </a:lnTo>
                    <a:lnTo>
                      <a:pt x="45" y="2362"/>
                    </a:lnTo>
                    <a:lnTo>
                      <a:pt x="35" y="2419"/>
                    </a:lnTo>
                    <a:lnTo>
                      <a:pt x="25" y="2478"/>
                    </a:lnTo>
                    <a:lnTo>
                      <a:pt x="16" y="2540"/>
                    </a:lnTo>
                    <a:lnTo>
                      <a:pt x="8" y="2603"/>
                    </a:lnTo>
                    <a:lnTo>
                      <a:pt x="4" y="2633"/>
                    </a:lnTo>
                    <a:lnTo>
                      <a:pt x="2" y="2664"/>
                    </a:lnTo>
                    <a:lnTo>
                      <a:pt x="1" y="2695"/>
                    </a:lnTo>
                    <a:lnTo>
                      <a:pt x="0" y="2724"/>
                    </a:lnTo>
                    <a:lnTo>
                      <a:pt x="0" y="2752"/>
                    </a:lnTo>
                    <a:lnTo>
                      <a:pt x="0" y="2780"/>
                    </a:lnTo>
                    <a:lnTo>
                      <a:pt x="2" y="2806"/>
                    </a:lnTo>
                    <a:lnTo>
                      <a:pt x="4" y="2832"/>
                    </a:lnTo>
                    <a:lnTo>
                      <a:pt x="9" y="2855"/>
                    </a:lnTo>
                    <a:lnTo>
                      <a:pt x="13" y="2876"/>
                    </a:lnTo>
                    <a:lnTo>
                      <a:pt x="19" y="2897"/>
                    </a:lnTo>
                    <a:lnTo>
                      <a:pt x="27" y="2915"/>
                    </a:lnTo>
                    <a:lnTo>
                      <a:pt x="43" y="2948"/>
                    </a:lnTo>
                    <a:lnTo>
                      <a:pt x="58" y="2982"/>
                    </a:lnTo>
                    <a:lnTo>
                      <a:pt x="69" y="3017"/>
                    </a:lnTo>
                    <a:lnTo>
                      <a:pt x="79" y="3051"/>
                    </a:lnTo>
                    <a:lnTo>
                      <a:pt x="88" y="3086"/>
                    </a:lnTo>
                    <a:lnTo>
                      <a:pt x="96" y="3120"/>
                    </a:lnTo>
                    <a:lnTo>
                      <a:pt x="102" y="3153"/>
                    </a:lnTo>
                    <a:lnTo>
                      <a:pt x="106" y="3185"/>
                    </a:lnTo>
                    <a:lnTo>
                      <a:pt x="113" y="3242"/>
                    </a:lnTo>
                    <a:lnTo>
                      <a:pt x="117" y="3286"/>
                    </a:lnTo>
                    <a:lnTo>
                      <a:pt x="118" y="3315"/>
                    </a:lnTo>
                    <a:lnTo>
                      <a:pt x="118" y="3326"/>
                    </a:lnTo>
                    <a:lnTo>
                      <a:pt x="113" y="3337"/>
                    </a:lnTo>
                    <a:lnTo>
                      <a:pt x="100" y="3369"/>
                    </a:lnTo>
                    <a:lnTo>
                      <a:pt x="81" y="3415"/>
                    </a:lnTo>
                    <a:lnTo>
                      <a:pt x="61" y="3472"/>
                    </a:lnTo>
                    <a:lnTo>
                      <a:pt x="52" y="3503"/>
                    </a:lnTo>
                    <a:lnTo>
                      <a:pt x="43" y="3534"/>
                    </a:lnTo>
                    <a:lnTo>
                      <a:pt x="35" y="3566"/>
                    </a:lnTo>
                    <a:lnTo>
                      <a:pt x="28" y="3598"/>
                    </a:lnTo>
                    <a:lnTo>
                      <a:pt x="25" y="3629"/>
                    </a:lnTo>
                    <a:lnTo>
                      <a:pt x="22" y="3657"/>
                    </a:lnTo>
                    <a:lnTo>
                      <a:pt x="22" y="3671"/>
                    </a:lnTo>
                    <a:lnTo>
                      <a:pt x="24" y="3683"/>
                    </a:lnTo>
                    <a:lnTo>
                      <a:pt x="25" y="3696"/>
                    </a:lnTo>
                    <a:lnTo>
                      <a:pt x="27" y="3707"/>
                    </a:lnTo>
                    <a:lnTo>
                      <a:pt x="33" y="3734"/>
                    </a:lnTo>
                    <a:lnTo>
                      <a:pt x="39" y="3770"/>
                    </a:lnTo>
                    <a:lnTo>
                      <a:pt x="46" y="3814"/>
                    </a:lnTo>
                    <a:lnTo>
                      <a:pt x="54" y="3862"/>
                    </a:lnTo>
                    <a:lnTo>
                      <a:pt x="69" y="3974"/>
                    </a:lnTo>
                    <a:lnTo>
                      <a:pt x="84" y="4091"/>
                    </a:lnTo>
                    <a:lnTo>
                      <a:pt x="97" y="4202"/>
                    </a:lnTo>
                    <a:lnTo>
                      <a:pt x="107" y="4296"/>
                    </a:lnTo>
                    <a:lnTo>
                      <a:pt x="115" y="4361"/>
                    </a:lnTo>
                    <a:lnTo>
                      <a:pt x="118" y="4384"/>
                    </a:lnTo>
                    <a:lnTo>
                      <a:pt x="58" y="4736"/>
                    </a:lnTo>
                    <a:lnTo>
                      <a:pt x="87" y="6001"/>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3" name=""/>
              <p:cNvSpPr/>
              <p:nvPr/>
            </p:nvSpPr>
            <p:spPr>
              <a:xfrm>
                <a:off x="4833360" y="2762640"/>
                <a:ext cx="514440" cy="790200"/>
              </a:xfrm>
              <a:custGeom>
                <a:avLst/>
                <a:gdLst/>
                <a:ahLst/>
                <a:rect l="l" t="t" r="r" b="b"/>
                <a:pathLst>
                  <a:path w="2321" h="4294">
                    <a:moveTo>
                      <a:pt x="557" y="350"/>
                    </a:moveTo>
                    <a:lnTo>
                      <a:pt x="544" y="374"/>
                    </a:lnTo>
                    <a:lnTo>
                      <a:pt x="514" y="442"/>
                    </a:lnTo>
                    <a:lnTo>
                      <a:pt x="491" y="491"/>
                    </a:lnTo>
                    <a:lnTo>
                      <a:pt x="466" y="550"/>
                    </a:lnTo>
                    <a:lnTo>
                      <a:pt x="438" y="618"/>
                    </a:lnTo>
                    <a:lnTo>
                      <a:pt x="407" y="695"/>
                    </a:lnTo>
                    <a:lnTo>
                      <a:pt x="374" y="779"/>
                    </a:lnTo>
                    <a:lnTo>
                      <a:pt x="340" y="872"/>
                    </a:lnTo>
                    <a:lnTo>
                      <a:pt x="305" y="971"/>
                    </a:lnTo>
                    <a:lnTo>
                      <a:pt x="270" y="1078"/>
                    </a:lnTo>
                    <a:lnTo>
                      <a:pt x="235" y="1189"/>
                    </a:lnTo>
                    <a:lnTo>
                      <a:pt x="200" y="1307"/>
                    </a:lnTo>
                    <a:lnTo>
                      <a:pt x="167" y="1431"/>
                    </a:lnTo>
                    <a:lnTo>
                      <a:pt x="135" y="1558"/>
                    </a:lnTo>
                    <a:lnTo>
                      <a:pt x="105" y="1690"/>
                    </a:lnTo>
                    <a:lnTo>
                      <a:pt x="78" y="1825"/>
                    </a:lnTo>
                    <a:lnTo>
                      <a:pt x="54" y="1963"/>
                    </a:lnTo>
                    <a:lnTo>
                      <a:pt x="34" y="2105"/>
                    </a:lnTo>
                    <a:lnTo>
                      <a:pt x="17" y="2248"/>
                    </a:lnTo>
                    <a:lnTo>
                      <a:pt x="7" y="2393"/>
                    </a:lnTo>
                    <a:lnTo>
                      <a:pt x="0" y="2538"/>
                    </a:lnTo>
                    <a:lnTo>
                      <a:pt x="0" y="2686"/>
                    </a:lnTo>
                    <a:lnTo>
                      <a:pt x="6" y="2832"/>
                    </a:lnTo>
                    <a:lnTo>
                      <a:pt x="20" y="2979"/>
                    </a:lnTo>
                    <a:lnTo>
                      <a:pt x="39" y="3125"/>
                    </a:lnTo>
                    <a:lnTo>
                      <a:pt x="67" y="3269"/>
                    </a:lnTo>
                    <a:lnTo>
                      <a:pt x="104" y="3412"/>
                    </a:lnTo>
                    <a:lnTo>
                      <a:pt x="148" y="3553"/>
                    </a:lnTo>
                    <a:lnTo>
                      <a:pt x="202" y="3690"/>
                    </a:lnTo>
                    <a:lnTo>
                      <a:pt x="267" y="3824"/>
                    </a:lnTo>
                    <a:lnTo>
                      <a:pt x="336" y="3958"/>
                    </a:lnTo>
                    <a:lnTo>
                      <a:pt x="391" y="4063"/>
                    </a:lnTo>
                    <a:lnTo>
                      <a:pt x="433" y="4139"/>
                    </a:lnTo>
                    <a:lnTo>
                      <a:pt x="463" y="4190"/>
                    </a:lnTo>
                    <a:lnTo>
                      <a:pt x="474" y="4208"/>
                    </a:lnTo>
                    <a:lnTo>
                      <a:pt x="482" y="4220"/>
                    </a:lnTo>
                    <a:lnTo>
                      <a:pt x="489" y="4228"/>
                    </a:lnTo>
                    <a:lnTo>
                      <a:pt x="493" y="4232"/>
                    </a:lnTo>
                    <a:lnTo>
                      <a:pt x="496" y="4232"/>
                    </a:lnTo>
                    <a:lnTo>
                      <a:pt x="496" y="4228"/>
                    </a:lnTo>
                    <a:lnTo>
                      <a:pt x="495" y="4221"/>
                    </a:lnTo>
                    <a:lnTo>
                      <a:pt x="492" y="4211"/>
                    </a:lnTo>
                    <a:lnTo>
                      <a:pt x="484" y="4186"/>
                    </a:lnTo>
                    <a:lnTo>
                      <a:pt x="473" y="4153"/>
                    </a:lnTo>
                    <a:lnTo>
                      <a:pt x="458" y="4118"/>
                    </a:lnTo>
                    <a:lnTo>
                      <a:pt x="445" y="4083"/>
                    </a:lnTo>
                    <a:lnTo>
                      <a:pt x="419" y="4023"/>
                    </a:lnTo>
                    <a:lnTo>
                      <a:pt x="408" y="3997"/>
                    </a:lnTo>
                    <a:lnTo>
                      <a:pt x="412" y="4005"/>
                    </a:lnTo>
                    <a:lnTo>
                      <a:pt x="422" y="4026"/>
                    </a:lnTo>
                    <a:lnTo>
                      <a:pt x="430" y="4040"/>
                    </a:lnTo>
                    <a:lnTo>
                      <a:pt x="440" y="4057"/>
                    </a:lnTo>
                    <a:lnTo>
                      <a:pt x="453" y="4075"/>
                    </a:lnTo>
                    <a:lnTo>
                      <a:pt x="467" y="4095"/>
                    </a:lnTo>
                    <a:lnTo>
                      <a:pt x="483" y="4116"/>
                    </a:lnTo>
                    <a:lnTo>
                      <a:pt x="504" y="4137"/>
                    </a:lnTo>
                    <a:lnTo>
                      <a:pt x="525" y="4159"/>
                    </a:lnTo>
                    <a:lnTo>
                      <a:pt x="550" y="4179"/>
                    </a:lnTo>
                    <a:lnTo>
                      <a:pt x="577" y="4200"/>
                    </a:lnTo>
                    <a:lnTo>
                      <a:pt x="608" y="4220"/>
                    </a:lnTo>
                    <a:lnTo>
                      <a:pt x="641" y="4238"/>
                    </a:lnTo>
                    <a:lnTo>
                      <a:pt x="677" y="4254"/>
                    </a:lnTo>
                    <a:lnTo>
                      <a:pt x="717" y="4268"/>
                    </a:lnTo>
                    <a:lnTo>
                      <a:pt x="760" y="4279"/>
                    </a:lnTo>
                    <a:lnTo>
                      <a:pt x="806" y="4288"/>
                    </a:lnTo>
                    <a:lnTo>
                      <a:pt x="856" y="4293"/>
                    </a:lnTo>
                    <a:lnTo>
                      <a:pt x="909" y="4294"/>
                    </a:lnTo>
                    <a:lnTo>
                      <a:pt x="966" y="4291"/>
                    </a:lnTo>
                    <a:lnTo>
                      <a:pt x="1027" y="4283"/>
                    </a:lnTo>
                    <a:lnTo>
                      <a:pt x="1092" y="4270"/>
                    </a:lnTo>
                    <a:lnTo>
                      <a:pt x="1160" y="4252"/>
                    </a:lnTo>
                    <a:lnTo>
                      <a:pt x="1233" y="4228"/>
                    </a:lnTo>
                    <a:lnTo>
                      <a:pt x="1310" y="4198"/>
                    </a:lnTo>
                    <a:lnTo>
                      <a:pt x="1391" y="4161"/>
                    </a:lnTo>
                    <a:lnTo>
                      <a:pt x="1477" y="4117"/>
                    </a:lnTo>
                    <a:lnTo>
                      <a:pt x="1568" y="4066"/>
                    </a:lnTo>
                    <a:lnTo>
                      <a:pt x="1663" y="4007"/>
                    </a:lnTo>
                    <a:lnTo>
                      <a:pt x="1762" y="3940"/>
                    </a:lnTo>
                    <a:lnTo>
                      <a:pt x="1858" y="3871"/>
                    </a:lnTo>
                    <a:lnTo>
                      <a:pt x="1944" y="3807"/>
                    </a:lnTo>
                    <a:lnTo>
                      <a:pt x="2019" y="3749"/>
                    </a:lnTo>
                    <a:lnTo>
                      <a:pt x="2084" y="3697"/>
                    </a:lnTo>
                    <a:lnTo>
                      <a:pt x="2141" y="3648"/>
                    </a:lnTo>
                    <a:lnTo>
                      <a:pt x="2189" y="3605"/>
                    </a:lnTo>
                    <a:lnTo>
                      <a:pt x="2228" y="3565"/>
                    </a:lnTo>
                    <a:lnTo>
                      <a:pt x="2260" y="3530"/>
                    </a:lnTo>
                    <a:lnTo>
                      <a:pt x="2285" y="3500"/>
                    </a:lnTo>
                    <a:lnTo>
                      <a:pt x="2303" y="3471"/>
                    </a:lnTo>
                    <a:lnTo>
                      <a:pt x="2315" y="3447"/>
                    </a:lnTo>
                    <a:lnTo>
                      <a:pt x="2321" y="3427"/>
                    </a:lnTo>
                    <a:lnTo>
                      <a:pt x="2321" y="3410"/>
                    </a:lnTo>
                    <a:lnTo>
                      <a:pt x="2318" y="3395"/>
                    </a:lnTo>
                    <a:lnTo>
                      <a:pt x="2310" y="3383"/>
                    </a:lnTo>
                    <a:lnTo>
                      <a:pt x="2299" y="3374"/>
                    </a:lnTo>
                    <a:lnTo>
                      <a:pt x="2284" y="3367"/>
                    </a:lnTo>
                    <a:lnTo>
                      <a:pt x="2267" y="3361"/>
                    </a:lnTo>
                    <a:lnTo>
                      <a:pt x="2247" y="3358"/>
                    </a:lnTo>
                    <a:lnTo>
                      <a:pt x="2226" y="3356"/>
                    </a:lnTo>
                    <a:lnTo>
                      <a:pt x="2203" y="3356"/>
                    </a:lnTo>
                    <a:lnTo>
                      <a:pt x="2180" y="3356"/>
                    </a:lnTo>
                    <a:lnTo>
                      <a:pt x="2157" y="3358"/>
                    </a:lnTo>
                    <a:lnTo>
                      <a:pt x="2134" y="3360"/>
                    </a:lnTo>
                    <a:lnTo>
                      <a:pt x="2091" y="3366"/>
                    </a:lnTo>
                    <a:lnTo>
                      <a:pt x="2055" y="3373"/>
                    </a:lnTo>
                    <a:lnTo>
                      <a:pt x="2031" y="3378"/>
                    </a:lnTo>
                    <a:lnTo>
                      <a:pt x="2022" y="3379"/>
                    </a:lnTo>
                    <a:lnTo>
                      <a:pt x="2169" y="2351"/>
                    </a:lnTo>
                    <a:lnTo>
                      <a:pt x="2318" y="1120"/>
                    </a:lnTo>
                    <a:lnTo>
                      <a:pt x="2258" y="0"/>
                    </a:lnTo>
                    <a:lnTo>
                      <a:pt x="1819" y="762"/>
                    </a:lnTo>
                    <a:lnTo>
                      <a:pt x="1351" y="1262"/>
                    </a:lnTo>
                    <a:lnTo>
                      <a:pt x="1027" y="940"/>
                    </a:lnTo>
                    <a:lnTo>
                      <a:pt x="557" y="350"/>
                    </a:lnTo>
                    <a:close/>
                  </a:path>
                </a:pathLst>
              </a:custGeom>
              <a:solidFill>
                <a:srgbClr val="99cccc"/>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4" name=""/>
              <p:cNvSpPr/>
              <p:nvPr/>
            </p:nvSpPr>
            <p:spPr>
              <a:xfrm>
                <a:off x="4833360" y="2762640"/>
                <a:ext cx="514440" cy="790200"/>
              </a:xfrm>
              <a:custGeom>
                <a:avLst/>
                <a:gdLst/>
                <a:ahLst/>
                <a:rect l="l" t="t" r="r" b="b"/>
                <a:pathLst>
                  <a:path w="2321" h="4294">
                    <a:moveTo>
                      <a:pt x="557" y="350"/>
                    </a:moveTo>
                    <a:lnTo>
                      <a:pt x="544" y="374"/>
                    </a:lnTo>
                    <a:lnTo>
                      <a:pt x="514" y="442"/>
                    </a:lnTo>
                    <a:lnTo>
                      <a:pt x="491" y="491"/>
                    </a:lnTo>
                    <a:lnTo>
                      <a:pt x="466" y="550"/>
                    </a:lnTo>
                    <a:lnTo>
                      <a:pt x="438" y="618"/>
                    </a:lnTo>
                    <a:lnTo>
                      <a:pt x="407" y="695"/>
                    </a:lnTo>
                    <a:lnTo>
                      <a:pt x="374" y="779"/>
                    </a:lnTo>
                    <a:lnTo>
                      <a:pt x="340" y="872"/>
                    </a:lnTo>
                    <a:lnTo>
                      <a:pt x="305" y="971"/>
                    </a:lnTo>
                    <a:lnTo>
                      <a:pt x="270" y="1078"/>
                    </a:lnTo>
                    <a:lnTo>
                      <a:pt x="235" y="1189"/>
                    </a:lnTo>
                    <a:lnTo>
                      <a:pt x="200" y="1307"/>
                    </a:lnTo>
                    <a:lnTo>
                      <a:pt x="167" y="1431"/>
                    </a:lnTo>
                    <a:lnTo>
                      <a:pt x="135" y="1558"/>
                    </a:lnTo>
                    <a:lnTo>
                      <a:pt x="105" y="1690"/>
                    </a:lnTo>
                    <a:lnTo>
                      <a:pt x="78" y="1825"/>
                    </a:lnTo>
                    <a:lnTo>
                      <a:pt x="54" y="1963"/>
                    </a:lnTo>
                    <a:lnTo>
                      <a:pt x="34" y="2105"/>
                    </a:lnTo>
                    <a:lnTo>
                      <a:pt x="17" y="2248"/>
                    </a:lnTo>
                    <a:lnTo>
                      <a:pt x="7" y="2393"/>
                    </a:lnTo>
                    <a:lnTo>
                      <a:pt x="0" y="2538"/>
                    </a:lnTo>
                    <a:lnTo>
                      <a:pt x="0" y="2686"/>
                    </a:lnTo>
                    <a:lnTo>
                      <a:pt x="6" y="2832"/>
                    </a:lnTo>
                    <a:lnTo>
                      <a:pt x="20" y="2979"/>
                    </a:lnTo>
                    <a:lnTo>
                      <a:pt x="39" y="3125"/>
                    </a:lnTo>
                    <a:lnTo>
                      <a:pt x="67" y="3269"/>
                    </a:lnTo>
                    <a:lnTo>
                      <a:pt x="104" y="3412"/>
                    </a:lnTo>
                    <a:lnTo>
                      <a:pt x="148" y="3553"/>
                    </a:lnTo>
                    <a:lnTo>
                      <a:pt x="202" y="3690"/>
                    </a:lnTo>
                    <a:lnTo>
                      <a:pt x="267" y="3824"/>
                    </a:lnTo>
                    <a:lnTo>
                      <a:pt x="336" y="3958"/>
                    </a:lnTo>
                    <a:lnTo>
                      <a:pt x="391" y="4063"/>
                    </a:lnTo>
                    <a:lnTo>
                      <a:pt x="433" y="4139"/>
                    </a:lnTo>
                    <a:lnTo>
                      <a:pt x="463" y="4190"/>
                    </a:lnTo>
                    <a:lnTo>
                      <a:pt x="474" y="4208"/>
                    </a:lnTo>
                    <a:lnTo>
                      <a:pt x="482" y="4220"/>
                    </a:lnTo>
                    <a:lnTo>
                      <a:pt x="489" y="4228"/>
                    </a:lnTo>
                    <a:lnTo>
                      <a:pt x="493" y="4232"/>
                    </a:lnTo>
                    <a:lnTo>
                      <a:pt x="496" y="4232"/>
                    </a:lnTo>
                    <a:lnTo>
                      <a:pt x="496" y="4228"/>
                    </a:lnTo>
                    <a:lnTo>
                      <a:pt x="495" y="4221"/>
                    </a:lnTo>
                    <a:lnTo>
                      <a:pt x="492" y="4211"/>
                    </a:lnTo>
                    <a:lnTo>
                      <a:pt x="484" y="4186"/>
                    </a:lnTo>
                    <a:lnTo>
                      <a:pt x="473" y="4153"/>
                    </a:lnTo>
                    <a:lnTo>
                      <a:pt x="458" y="4118"/>
                    </a:lnTo>
                    <a:lnTo>
                      <a:pt x="445" y="4083"/>
                    </a:lnTo>
                    <a:lnTo>
                      <a:pt x="419" y="4023"/>
                    </a:lnTo>
                    <a:lnTo>
                      <a:pt x="408" y="3997"/>
                    </a:lnTo>
                    <a:lnTo>
                      <a:pt x="412" y="4005"/>
                    </a:lnTo>
                    <a:lnTo>
                      <a:pt x="422" y="4026"/>
                    </a:lnTo>
                    <a:lnTo>
                      <a:pt x="430" y="4040"/>
                    </a:lnTo>
                    <a:lnTo>
                      <a:pt x="440" y="4057"/>
                    </a:lnTo>
                    <a:lnTo>
                      <a:pt x="453" y="4075"/>
                    </a:lnTo>
                    <a:lnTo>
                      <a:pt x="467" y="4095"/>
                    </a:lnTo>
                    <a:lnTo>
                      <a:pt x="483" y="4116"/>
                    </a:lnTo>
                    <a:lnTo>
                      <a:pt x="504" y="4137"/>
                    </a:lnTo>
                    <a:lnTo>
                      <a:pt x="525" y="4159"/>
                    </a:lnTo>
                    <a:lnTo>
                      <a:pt x="550" y="4179"/>
                    </a:lnTo>
                    <a:lnTo>
                      <a:pt x="577" y="4200"/>
                    </a:lnTo>
                    <a:lnTo>
                      <a:pt x="608" y="4220"/>
                    </a:lnTo>
                    <a:lnTo>
                      <a:pt x="641" y="4238"/>
                    </a:lnTo>
                    <a:lnTo>
                      <a:pt x="677" y="4254"/>
                    </a:lnTo>
                    <a:lnTo>
                      <a:pt x="717" y="4268"/>
                    </a:lnTo>
                    <a:lnTo>
                      <a:pt x="760" y="4279"/>
                    </a:lnTo>
                    <a:lnTo>
                      <a:pt x="806" y="4288"/>
                    </a:lnTo>
                    <a:lnTo>
                      <a:pt x="856" y="4293"/>
                    </a:lnTo>
                    <a:lnTo>
                      <a:pt x="909" y="4294"/>
                    </a:lnTo>
                    <a:lnTo>
                      <a:pt x="966" y="4291"/>
                    </a:lnTo>
                    <a:lnTo>
                      <a:pt x="1027" y="4283"/>
                    </a:lnTo>
                    <a:lnTo>
                      <a:pt x="1092" y="4270"/>
                    </a:lnTo>
                    <a:lnTo>
                      <a:pt x="1160" y="4252"/>
                    </a:lnTo>
                    <a:lnTo>
                      <a:pt x="1233" y="4228"/>
                    </a:lnTo>
                    <a:lnTo>
                      <a:pt x="1310" y="4198"/>
                    </a:lnTo>
                    <a:lnTo>
                      <a:pt x="1391" y="4161"/>
                    </a:lnTo>
                    <a:lnTo>
                      <a:pt x="1477" y="4117"/>
                    </a:lnTo>
                    <a:lnTo>
                      <a:pt x="1568" y="4066"/>
                    </a:lnTo>
                    <a:lnTo>
                      <a:pt x="1663" y="4007"/>
                    </a:lnTo>
                    <a:lnTo>
                      <a:pt x="1762" y="3940"/>
                    </a:lnTo>
                    <a:lnTo>
                      <a:pt x="1858" y="3871"/>
                    </a:lnTo>
                    <a:lnTo>
                      <a:pt x="1944" y="3807"/>
                    </a:lnTo>
                    <a:lnTo>
                      <a:pt x="2019" y="3749"/>
                    </a:lnTo>
                    <a:lnTo>
                      <a:pt x="2084" y="3697"/>
                    </a:lnTo>
                    <a:lnTo>
                      <a:pt x="2141" y="3648"/>
                    </a:lnTo>
                    <a:lnTo>
                      <a:pt x="2189" y="3605"/>
                    </a:lnTo>
                    <a:lnTo>
                      <a:pt x="2228" y="3565"/>
                    </a:lnTo>
                    <a:lnTo>
                      <a:pt x="2260" y="3530"/>
                    </a:lnTo>
                    <a:lnTo>
                      <a:pt x="2285" y="3500"/>
                    </a:lnTo>
                    <a:lnTo>
                      <a:pt x="2303" y="3471"/>
                    </a:lnTo>
                    <a:lnTo>
                      <a:pt x="2315" y="3447"/>
                    </a:lnTo>
                    <a:lnTo>
                      <a:pt x="2321" y="3427"/>
                    </a:lnTo>
                    <a:lnTo>
                      <a:pt x="2321" y="3410"/>
                    </a:lnTo>
                    <a:lnTo>
                      <a:pt x="2318" y="3395"/>
                    </a:lnTo>
                    <a:lnTo>
                      <a:pt x="2310" y="3383"/>
                    </a:lnTo>
                    <a:lnTo>
                      <a:pt x="2299" y="3374"/>
                    </a:lnTo>
                    <a:lnTo>
                      <a:pt x="2284" y="3367"/>
                    </a:lnTo>
                    <a:lnTo>
                      <a:pt x="2267" y="3361"/>
                    </a:lnTo>
                    <a:lnTo>
                      <a:pt x="2247" y="3358"/>
                    </a:lnTo>
                    <a:lnTo>
                      <a:pt x="2226" y="3356"/>
                    </a:lnTo>
                    <a:lnTo>
                      <a:pt x="2203" y="3356"/>
                    </a:lnTo>
                    <a:lnTo>
                      <a:pt x="2180" y="3356"/>
                    </a:lnTo>
                    <a:lnTo>
                      <a:pt x="2157" y="3358"/>
                    </a:lnTo>
                    <a:lnTo>
                      <a:pt x="2134" y="3360"/>
                    </a:lnTo>
                    <a:lnTo>
                      <a:pt x="2091" y="3366"/>
                    </a:lnTo>
                    <a:lnTo>
                      <a:pt x="2055" y="3373"/>
                    </a:lnTo>
                    <a:lnTo>
                      <a:pt x="2031" y="3378"/>
                    </a:lnTo>
                    <a:lnTo>
                      <a:pt x="2022" y="3379"/>
                    </a:lnTo>
                    <a:lnTo>
                      <a:pt x="2169" y="2351"/>
                    </a:lnTo>
                    <a:lnTo>
                      <a:pt x="2318" y="1120"/>
                    </a:lnTo>
                    <a:lnTo>
                      <a:pt x="2258" y="0"/>
                    </a:lnTo>
                    <a:lnTo>
                      <a:pt x="1819" y="762"/>
                    </a:lnTo>
                    <a:lnTo>
                      <a:pt x="1351" y="1262"/>
                    </a:lnTo>
                    <a:lnTo>
                      <a:pt x="1027" y="940"/>
                    </a:lnTo>
                    <a:lnTo>
                      <a:pt x="557" y="35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5" name=""/>
              <p:cNvSpPr/>
              <p:nvPr/>
            </p:nvSpPr>
            <p:spPr>
              <a:xfrm>
                <a:off x="4982040" y="2779560"/>
                <a:ext cx="339480" cy="242280"/>
              </a:xfrm>
              <a:custGeom>
                <a:avLst/>
                <a:gdLst/>
                <a:ahLst/>
                <a:rect l="l" t="t" r="r" b="b"/>
                <a:pathLst>
                  <a:path w="1525" h="1320">
                    <a:moveTo>
                      <a:pt x="120" y="173"/>
                    </a:moveTo>
                    <a:lnTo>
                      <a:pt x="126" y="197"/>
                    </a:lnTo>
                    <a:lnTo>
                      <a:pt x="144" y="261"/>
                    </a:lnTo>
                    <a:lnTo>
                      <a:pt x="158" y="307"/>
                    </a:lnTo>
                    <a:lnTo>
                      <a:pt x="178" y="359"/>
                    </a:lnTo>
                    <a:lnTo>
                      <a:pt x="200" y="418"/>
                    </a:lnTo>
                    <a:lnTo>
                      <a:pt x="228" y="482"/>
                    </a:lnTo>
                    <a:lnTo>
                      <a:pt x="243" y="516"/>
                    </a:lnTo>
                    <a:lnTo>
                      <a:pt x="260" y="551"/>
                    </a:lnTo>
                    <a:lnTo>
                      <a:pt x="279" y="586"/>
                    </a:lnTo>
                    <a:lnTo>
                      <a:pt x="298" y="621"/>
                    </a:lnTo>
                    <a:lnTo>
                      <a:pt x="319" y="658"/>
                    </a:lnTo>
                    <a:lnTo>
                      <a:pt x="341" y="695"/>
                    </a:lnTo>
                    <a:lnTo>
                      <a:pt x="365" y="732"/>
                    </a:lnTo>
                    <a:lnTo>
                      <a:pt x="391" y="769"/>
                    </a:lnTo>
                    <a:lnTo>
                      <a:pt x="417" y="806"/>
                    </a:lnTo>
                    <a:lnTo>
                      <a:pt x="445" y="844"/>
                    </a:lnTo>
                    <a:lnTo>
                      <a:pt x="475" y="881"/>
                    </a:lnTo>
                    <a:lnTo>
                      <a:pt x="506" y="917"/>
                    </a:lnTo>
                    <a:lnTo>
                      <a:pt x="539" y="953"/>
                    </a:lnTo>
                    <a:lnTo>
                      <a:pt x="574" y="989"/>
                    </a:lnTo>
                    <a:lnTo>
                      <a:pt x="611" y="1023"/>
                    </a:lnTo>
                    <a:lnTo>
                      <a:pt x="649" y="1057"/>
                    </a:lnTo>
                    <a:lnTo>
                      <a:pt x="679" y="1034"/>
                    </a:lnTo>
                    <a:lnTo>
                      <a:pt x="758" y="970"/>
                    </a:lnTo>
                    <a:lnTo>
                      <a:pt x="811" y="924"/>
                    </a:lnTo>
                    <a:lnTo>
                      <a:pt x="870" y="870"/>
                    </a:lnTo>
                    <a:lnTo>
                      <a:pt x="901" y="839"/>
                    </a:lnTo>
                    <a:lnTo>
                      <a:pt x="932" y="807"/>
                    </a:lnTo>
                    <a:lnTo>
                      <a:pt x="965" y="773"/>
                    </a:lnTo>
                    <a:lnTo>
                      <a:pt x="998" y="737"/>
                    </a:lnTo>
                    <a:lnTo>
                      <a:pt x="1031" y="701"/>
                    </a:lnTo>
                    <a:lnTo>
                      <a:pt x="1063" y="661"/>
                    </a:lnTo>
                    <a:lnTo>
                      <a:pt x="1094" y="621"/>
                    </a:lnTo>
                    <a:lnTo>
                      <a:pt x="1126" y="579"/>
                    </a:lnTo>
                    <a:lnTo>
                      <a:pt x="1156" y="536"/>
                    </a:lnTo>
                    <a:lnTo>
                      <a:pt x="1185" y="492"/>
                    </a:lnTo>
                    <a:lnTo>
                      <a:pt x="1212" y="446"/>
                    </a:lnTo>
                    <a:lnTo>
                      <a:pt x="1237" y="401"/>
                    </a:lnTo>
                    <a:lnTo>
                      <a:pt x="1261" y="353"/>
                    </a:lnTo>
                    <a:lnTo>
                      <a:pt x="1283" y="305"/>
                    </a:lnTo>
                    <a:lnTo>
                      <a:pt x="1301" y="256"/>
                    </a:lnTo>
                    <a:lnTo>
                      <a:pt x="1317" y="206"/>
                    </a:lnTo>
                    <a:lnTo>
                      <a:pt x="1330" y="156"/>
                    </a:lnTo>
                    <a:lnTo>
                      <a:pt x="1339" y="105"/>
                    </a:lnTo>
                    <a:lnTo>
                      <a:pt x="1345" y="53"/>
                    </a:lnTo>
                    <a:lnTo>
                      <a:pt x="1347" y="0"/>
                    </a:lnTo>
                    <a:lnTo>
                      <a:pt x="1525" y="86"/>
                    </a:lnTo>
                    <a:lnTo>
                      <a:pt x="1510" y="129"/>
                    </a:lnTo>
                    <a:lnTo>
                      <a:pt x="1467" y="246"/>
                    </a:lnTo>
                    <a:lnTo>
                      <a:pt x="1436" y="325"/>
                    </a:lnTo>
                    <a:lnTo>
                      <a:pt x="1397" y="415"/>
                    </a:lnTo>
                    <a:lnTo>
                      <a:pt x="1376" y="462"/>
                    </a:lnTo>
                    <a:lnTo>
                      <a:pt x="1352" y="512"/>
                    </a:lnTo>
                    <a:lnTo>
                      <a:pt x="1328" y="563"/>
                    </a:lnTo>
                    <a:lnTo>
                      <a:pt x="1302" y="616"/>
                    </a:lnTo>
                    <a:lnTo>
                      <a:pt x="1274" y="668"/>
                    </a:lnTo>
                    <a:lnTo>
                      <a:pt x="1245" y="721"/>
                    </a:lnTo>
                    <a:lnTo>
                      <a:pt x="1215" y="774"/>
                    </a:lnTo>
                    <a:lnTo>
                      <a:pt x="1183" y="827"/>
                    </a:lnTo>
                    <a:lnTo>
                      <a:pt x="1150" y="879"/>
                    </a:lnTo>
                    <a:lnTo>
                      <a:pt x="1116" y="930"/>
                    </a:lnTo>
                    <a:lnTo>
                      <a:pt x="1080" y="980"/>
                    </a:lnTo>
                    <a:lnTo>
                      <a:pt x="1043" y="1029"/>
                    </a:lnTo>
                    <a:lnTo>
                      <a:pt x="1005" y="1075"/>
                    </a:lnTo>
                    <a:lnTo>
                      <a:pt x="966" y="1119"/>
                    </a:lnTo>
                    <a:lnTo>
                      <a:pt x="926" y="1161"/>
                    </a:lnTo>
                    <a:lnTo>
                      <a:pt x="884" y="1200"/>
                    </a:lnTo>
                    <a:lnTo>
                      <a:pt x="841" y="1235"/>
                    </a:lnTo>
                    <a:lnTo>
                      <a:pt x="798" y="1268"/>
                    </a:lnTo>
                    <a:lnTo>
                      <a:pt x="752" y="1295"/>
                    </a:lnTo>
                    <a:lnTo>
                      <a:pt x="706" y="1320"/>
                    </a:lnTo>
                    <a:lnTo>
                      <a:pt x="681" y="1303"/>
                    </a:lnTo>
                    <a:lnTo>
                      <a:pt x="613" y="1256"/>
                    </a:lnTo>
                    <a:lnTo>
                      <a:pt x="566" y="1220"/>
                    </a:lnTo>
                    <a:lnTo>
                      <a:pt x="514" y="1178"/>
                    </a:lnTo>
                    <a:lnTo>
                      <a:pt x="487" y="1154"/>
                    </a:lnTo>
                    <a:lnTo>
                      <a:pt x="458" y="1129"/>
                    </a:lnTo>
                    <a:lnTo>
                      <a:pt x="428" y="1100"/>
                    </a:lnTo>
                    <a:lnTo>
                      <a:pt x="398" y="1071"/>
                    </a:lnTo>
                    <a:lnTo>
                      <a:pt x="368" y="1040"/>
                    </a:lnTo>
                    <a:lnTo>
                      <a:pt x="337" y="1007"/>
                    </a:lnTo>
                    <a:lnTo>
                      <a:pt x="307" y="973"/>
                    </a:lnTo>
                    <a:lnTo>
                      <a:pt x="276" y="937"/>
                    </a:lnTo>
                    <a:lnTo>
                      <a:pt x="246" y="899"/>
                    </a:lnTo>
                    <a:lnTo>
                      <a:pt x="216" y="860"/>
                    </a:lnTo>
                    <a:lnTo>
                      <a:pt x="188" y="819"/>
                    </a:lnTo>
                    <a:lnTo>
                      <a:pt x="161" y="776"/>
                    </a:lnTo>
                    <a:lnTo>
                      <a:pt x="135" y="732"/>
                    </a:lnTo>
                    <a:lnTo>
                      <a:pt x="110" y="686"/>
                    </a:lnTo>
                    <a:lnTo>
                      <a:pt x="86" y="639"/>
                    </a:lnTo>
                    <a:lnTo>
                      <a:pt x="64" y="591"/>
                    </a:lnTo>
                    <a:lnTo>
                      <a:pt x="45" y="541"/>
                    </a:lnTo>
                    <a:lnTo>
                      <a:pt x="27" y="490"/>
                    </a:lnTo>
                    <a:lnTo>
                      <a:pt x="12" y="436"/>
                    </a:lnTo>
                    <a:lnTo>
                      <a:pt x="0" y="382"/>
                    </a:lnTo>
                    <a:lnTo>
                      <a:pt x="120" y="173"/>
                    </a:lnTo>
                    <a:close/>
                  </a:path>
                </a:pathLst>
              </a:custGeom>
              <a:solidFill>
                <a:srgbClr val="6699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6" name=""/>
              <p:cNvSpPr/>
              <p:nvPr/>
            </p:nvSpPr>
            <p:spPr>
              <a:xfrm>
                <a:off x="4982040" y="2779560"/>
                <a:ext cx="339480" cy="242280"/>
              </a:xfrm>
              <a:custGeom>
                <a:avLst/>
                <a:gdLst/>
                <a:ahLst/>
                <a:rect l="l" t="t" r="r" b="b"/>
                <a:pathLst>
                  <a:path w="1525" h="1320">
                    <a:moveTo>
                      <a:pt x="120" y="173"/>
                    </a:moveTo>
                    <a:lnTo>
                      <a:pt x="126" y="197"/>
                    </a:lnTo>
                    <a:lnTo>
                      <a:pt x="144" y="261"/>
                    </a:lnTo>
                    <a:lnTo>
                      <a:pt x="158" y="307"/>
                    </a:lnTo>
                    <a:lnTo>
                      <a:pt x="178" y="359"/>
                    </a:lnTo>
                    <a:lnTo>
                      <a:pt x="200" y="418"/>
                    </a:lnTo>
                    <a:lnTo>
                      <a:pt x="228" y="482"/>
                    </a:lnTo>
                    <a:lnTo>
                      <a:pt x="243" y="516"/>
                    </a:lnTo>
                    <a:lnTo>
                      <a:pt x="260" y="551"/>
                    </a:lnTo>
                    <a:lnTo>
                      <a:pt x="279" y="586"/>
                    </a:lnTo>
                    <a:lnTo>
                      <a:pt x="298" y="621"/>
                    </a:lnTo>
                    <a:lnTo>
                      <a:pt x="319" y="658"/>
                    </a:lnTo>
                    <a:lnTo>
                      <a:pt x="341" y="695"/>
                    </a:lnTo>
                    <a:lnTo>
                      <a:pt x="365" y="732"/>
                    </a:lnTo>
                    <a:lnTo>
                      <a:pt x="391" y="769"/>
                    </a:lnTo>
                    <a:lnTo>
                      <a:pt x="417" y="806"/>
                    </a:lnTo>
                    <a:lnTo>
                      <a:pt x="445" y="844"/>
                    </a:lnTo>
                    <a:lnTo>
                      <a:pt x="475" y="881"/>
                    </a:lnTo>
                    <a:lnTo>
                      <a:pt x="506" y="917"/>
                    </a:lnTo>
                    <a:lnTo>
                      <a:pt x="539" y="953"/>
                    </a:lnTo>
                    <a:lnTo>
                      <a:pt x="574" y="989"/>
                    </a:lnTo>
                    <a:lnTo>
                      <a:pt x="611" y="1023"/>
                    </a:lnTo>
                    <a:lnTo>
                      <a:pt x="649" y="1057"/>
                    </a:lnTo>
                    <a:lnTo>
                      <a:pt x="679" y="1034"/>
                    </a:lnTo>
                    <a:lnTo>
                      <a:pt x="758" y="970"/>
                    </a:lnTo>
                    <a:lnTo>
                      <a:pt x="811" y="924"/>
                    </a:lnTo>
                    <a:lnTo>
                      <a:pt x="870" y="870"/>
                    </a:lnTo>
                    <a:lnTo>
                      <a:pt x="901" y="839"/>
                    </a:lnTo>
                    <a:lnTo>
                      <a:pt x="932" y="807"/>
                    </a:lnTo>
                    <a:lnTo>
                      <a:pt x="965" y="773"/>
                    </a:lnTo>
                    <a:lnTo>
                      <a:pt x="998" y="737"/>
                    </a:lnTo>
                    <a:lnTo>
                      <a:pt x="1031" y="701"/>
                    </a:lnTo>
                    <a:lnTo>
                      <a:pt x="1063" y="661"/>
                    </a:lnTo>
                    <a:lnTo>
                      <a:pt x="1094" y="621"/>
                    </a:lnTo>
                    <a:lnTo>
                      <a:pt x="1126" y="579"/>
                    </a:lnTo>
                    <a:lnTo>
                      <a:pt x="1156" y="536"/>
                    </a:lnTo>
                    <a:lnTo>
                      <a:pt x="1185" y="492"/>
                    </a:lnTo>
                    <a:lnTo>
                      <a:pt x="1212" y="446"/>
                    </a:lnTo>
                    <a:lnTo>
                      <a:pt x="1237" y="401"/>
                    </a:lnTo>
                    <a:lnTo>
                      <a:pt x="1261" y="353"/>
                    </a:lnTo>
                    <a:lnTo>
                      <a:pt x="1283" y="305"/>
                    </a:lnTo>
                    <a:lnTo>
                      <a:pt x="1301" y="256"/>
                    </a:lnTo>
                    <a:lnTo>
                      <a:pt x="1317" y="206"/>
                    </a:lnTo>
                    <a:lnTo>
                      <a:pt x="1330" y="156"/>
                    </a:lnTo>
                    <a:lnTo>
                      <a:pt x="1339" y="105"/>
                    </a:lnTo>
                    <a:lnTo>
                      <a:pt x="1345" y="53"/>
                    </a:lnTo>
                    <a:lnTo>
                      <a:pt x="1347" y="0"/>
                    </a:lnTo>
                    <a:lnTo>
                      <a:pt x="1525" y="86"/>
                    </a:lnTo>
                    <a:lnTo>
                      <a:pt x="1510" y="129"/>
                    </a:lnTo>
                    <a:lnTo>
                      <a:pt x="1467" y="246"/>
                    </a:lnTo>
                    <a:lnTo>
                      <a:pt x="1436" y="325"/>
                    </a:lnTo>
                    <a:lnTo>
                      <a:pt x="1397" y="415"/>
                    </a:lnTo>
                    <a:lnTo>
                      <a:pt x="1376" y="462"/>
                    </a:lnTo>
                    <a:lnTo>
                      <a:pt x="1352" y="512"/>
                    </a:lnTo>
                    <a:lnTo>
                      <a:pt x="1328" y="563"/>
                    </a:lnTo>
                    <a:lnTo>
                      <a:pt x="1302" y="616"/>
                    </a:lnTo>
                    <a:lnTo>
                      <a:pt x="1274" y="668"/>
                    </a:lnTo>
                    <a:lnTo>
                      <a:pt x="1245" y="721"/>
                    </a:lnTo>
                    <a:lnTo>
                      <a:pt x="1215" y="774"/>
                    </a:lnTo>
                    <a:lnTo>
                      <a:pt x="1183" y="827"/>
                    </a:lnTo>
                    <a:lnTo>
                      <a:pt x="1150" y="879"/>
                    </a:lnTo>
                    <a:lnTo>
                      <a:pt x="1116" y="930"/>
                    </a:lnTo>
                    <a:lnTo>
                      <a:pt x="1080" y="980"/>
                    </a:lnTo>
                    <a:lnTo>
                      <a:pt x="1043" y="1029"/>
                    </a:lnTo>
                    <a:lnTo>
                      <a:pt x="1005" y="1075"/>
                    </a:lnTo>
                    <a:lnTo>
                      <a:pt x="966" y="1119"/>
                    </a:lnTo>
                    <a:lnTo>
                      <a:pt x="926" y="1161"/>
                    </a:lnTo>
                    <a:lnTo>
                      <a:pt x="884" y="1200"/>
                    </a:lnTo>
                    <a:lnTo>
                      <a:pt x="841" y="1235"/>
                    </a:lnTo>
                    <a:lnTo>
                      <a:pt x="798" y="1268"/>
                    </a:lnTo>
                    <a:lnTo>
                      <a:pt x="752" y="1295"/>
                    </a:lnTo>
                    <a:lnTo>
                      <a:pt x="706" y="1320"/>
                    </a:lnTo>
                    <a:lnTo>
                      <a:pt x="681" y="1303"/>
                    </a:lnTo>
                    <a:lnTo>
                      <a:pt x="613" y="1256"/>
                    </a:lnTo>
                    <a:lnTo>
                      <a:pt x="566" y="1220"/>
                    </a:lnTo>
                    <a:lnTo>
                      <a:pt x="514" y="1178"/>
                    </a:lnTo>
                    <a:lnTo>
                      <a:pt x="487" y="1154"/>
                    </a:lnTo>
                    <a:lnTo>
                      <a:pt x="458" y="1129"/>
                    </a:lnTo>
                    <a:lnTo>
                      <a:pt x="428" y="1100"/>
                    </a:lnTo>
                    <a:lnTo>
                      <a:pt x="398" y="1071"/>
                    </a:lnTo>
                    <a:lnTo>
                      <a:pt x="368" y="1040"/>
                    </a:lnTo>
                    <a:lnTo>
                      <a:pt x="337" y="1007"/>
                    </a:lnTo>
                    <a:lnTo>
                      <a:pt x="307" y="973"/>
                    </a:lnTo>
                    <a:lnTo>
                      <a:pt x="276" y="937"/>
                    </a:lnTo>
                    <a:lnTo>
                      <a:pt x="246" y="899"/>
                    </a:lnTo>
                    <a:lnTo>
                      <a:pt x="216" y="860"/>
                    </a:lnTo>
                    <a:lnTo>
                      <a:pt x="188" y="819"/>
                    </a:lnTo>
                    <a:lnTo>
                      <a:pt x="161" y="776"/>
                    </a:lnTo>
                    <a:lnTo>
                      <a:pt x="135" y="732"/>
                    </a:lnTo>
                    <a:lnTo>
                      <a:pt x="110" y="686"/>
                    </a:lnTo>
                    <a:lnTo>
                      <a:pt x="86" y="639"/>
                    </a:lnTo>
                    <a:lnTo>
                      <a:pt x="64" y="591"/>
                    </a:lnTo>
                    <a:lnTo>
                      <a:pt x="45" y="541"/>
                    </a:lnTo>
                    <a:lnTo>
                      <a:pt x="27" y="490"/>
                    </a:lnTo>
                    <a:lnTo>
                      <a:pt x="12" y="436"/>
                    </a:lnTo>
                    <a:lnTo>
                      <a:pt x="0" y="382"/>
                    </a:lnTo>
                    <a:lnTo>
                      <a:pt x="120" y="173"/>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7" name=""/>
              <p:cNvSpPr/>
              <p:nvPr/>
            </p:nvSpPr>
            <p:spPr>
              <a:xfrm>
                <a:off x="4721040" y="2667600"/>
                <a:ext cx="855360" cy="890280"/>
              </a:xfrm>
              <a:custGeom>
                <a:avLst/>
                <a:gdLst/>
                <a:ahLst/>
                <a:rect l="l" t="t" r="r" b="b"/>
                <a:pathLst>
                  <a:path w="3850" h="4838">
                    <a:moveTo>
                      <a:pt x="1680" y="76"/>
                    </a:moveTo>
                    <a:lnTo>
                      <a:pt x="1673" y="76"/>
                    </a:lnTo>
                    <a:lnTo>
                      <a:pt x="1651" y="78"/>
                    </a:lnTo>
                    <a:lnTo>
                      <a:pt x="1617" y="82"/>
                    </a:lnTo>
                    <a:lnTo>
                      <a:pt x="1572" y="92"/>
                    </a:lnTo>
                    <a:lnTo>
                      <a:pt x="1545" y="98"/>
                    </a:lnTo>
                    <a:lnTo>
                      <a:pt x="1515" y="106"/>
                    </a:lnTo>
                    <a:lnTo>
                      <a:pt x="1485" y="115"/>
                    </a:lnTo>
                    <a:lnTo>
                      <a:pt x="1451" y="126"/>
                    </a:lnTo>
                    <a:lnTo>
                      <a:pt x="1416" y="138"/>
                    </a:lnTo>
                    <a:lnTo>
                      <a:pt x="1379" y="153"/>
                    </a:lnTo>
                    <a:lnTo>
                      <a:pt x="1340" y="169"/>
                    </a:lnTo>
                    <a:lnTo>
                      <a:pt x="1300" y="188"/>
                    </a:lnTo>
                    <a:lnTo>
                      <a:pt x="1259" y="208"/>
                    </a:lnTo>
                    <a:lnTo>
                      <a:pt x="1216" y="232"/>
                    </a:lnTo>
                    <a:lnTo>
                      <a:pt x="1173" y="258"/>
                    </a:lnTo>
                    <a:lnTo>
                      <a:pt x="1129" y="288"/>
                    </a:lnTo>
                    <a:lnTo>
                      <a:pt x="1084" y="320"/>
                    </a:lnTo>
                    <a:lnTo>
                      <a:pt x="1038" y="354"/>
                    </a:lnTo>
                    <a:lnTo>
                      <a:pt x="993" y="391"/>
                    </a:lnTo>
                    <a:lnTo>
                      <a:pt x="946" y="433"/>
                    </a:lnTo>
                    <a:lnTo>
                      <a:pt x="901" y="477"/>
                    </a:lnTo>
                    <a:lnTo>
                      <a:pt x="855" y="525"/>
                    </a:lnTo>
                    <a:lnTo>
                      <a:pt x="809" y="577"/>
                    </a:lnTo>
                    <a:lnTo>
                      <a:pt x="764" y="633"/>
                    </a:lnTo>
                    <a:lnTo>
                      <a:pt x="720" y="692"/>
                    </a:lnTo>
                    <a:lnTo>
                      <a:pt x="677" y="755"/>
                    </a:lnTo>
                    <a:lnTo>
                      <a:pt x="634" y="823"/>
                    </a:lnTo>
                    <a:lnTo>
                      <a:pt x="592" y="895"/>
                    </a:lnTo>
                    <a:lnTo>
                      <a:pt x="512" y="1038"/>
                    </a:lnTo>
                    <a:lnTo>
                      <a:pt x="441" y="1169"/>
                    </a:lnTo>
                    <a:lnTo>
                      <a:pt x="376" y="1288"/>
                    </a:lnTo>
                    <a:lnTo>
                      <a:pt x="317" y="1399"/>
                    </a:lnTo>
                    <a:lnTo>
                      <a:pt x="291" y="1452"/>
                    </a:lnTo>
                    <a:lnTo>
                      <a:pt x="265" y="1503"/>
                    </a:lnTo>
                    <a:lnTo>
                      <a:pt x="242" y="1553"/>
                    </a:lnTo>
                    <a:lnTo>
                      <a:pt x="220" y="1601"/>
                    </a:lnTo>
                    <a:lnTo>
                      <a:pt x="198" y="1650"/>
                    </a:lnTo>
                    <a:lnTo>
                      <a:pt x="179" y="1696"/>
                    </a:lnTo>
                    <a:lnTo>
                      <a:pt x="160" y="1743"/>
                    </a:lnTo>
                    <a:lnTo>
                      <a:pt x="143" y="1789"/>
                    </a:lnTo>
                    <a:lnTo>
                      <a:pt x="127" y="1835"/>
                    </a:lnTo>
                    <a:lnTo>
                      <a:pt x="112" y="1881"/>
                    </a:lnTo>
                    <a:lnTo>
                      <a:pt x="99" y="1928"/>
                    </a:lnTo>
                    <a:lnTo>
                      <a:pt x="86" y="1975"/>
                    </a:lnTo>
                    <a:lnTo>
                      <a:pt x="75" y="2023"/>
                    </a:lnTo>
                    <a:lnTo>
                      <a:pt x="64" y="2072"/>
                    </a:lnTo>
                    <a:lnTo>
                      <a:pt x="55" y="2122"/>
                    </a:lnTo>
                    <a:lnTo>
                      <a:pt x="45" y="2174"/>
                    </a:lnTo>
                    <a:lnTo>
                      <a:pt x="38" y="2227"/>
                    </a:lnTo>
                    <a:lnTo>
                      <a:pt x="31" y="2282"/>
                    </a:lnTo>
                    <a:lnTo>
                      <a:pt x="24" y="2339"/>
                    </a:lnTo>
                    <a:lnTo>
                      <a:pt x="18" y="2399"/>
                    </a:lnTo>
                    <a:lnTo>
                      <a:pt x="14" y="2460"/>
                    </a:lnTo>
                    <a:lnTo>
                      <a:pt x="9" y="2525"/>
                    </a:lnTo>
                    <a:lnTo>
                      <a:pt x="6" y="2592"/>
                    </a:lnTo>
                    <a:lnTo>
                      <a:pt x="2" y="2662"/>
                    </a:lnTo>
                    <a:lnTo>
                      <a:pt x="0" y="2736"/>
                    </a:lnTo>
                    <a:lnTo>
                      <a:pt x="0" y="2812"/>
                    </a:lnTo>
                    <a:lnTo>
                      <a:pt x="0" y="2891"/>
                    </a:lnTo>
                    <a:lnTo>
                      <a:pt x="1" y="2973"/>
                    </a:lnTo>
                    <a:lnTo>
                      <a:pt x="5" y="3057"/>
                    </a:lnTo>
                    <a:lnTo>
                      <a:pt x="8" y="3143"/>
                    </a:lnTo>
                    <a:lnTo>
                      <a:pt x="13" y="3231"/>
                    </a:lnTo>
                    <a:lnTo>
                      <a:pt x="18" y="3319"/>
                    </a:lnTo>
                    <a:lnTo>
                      <a:pt x="31" y="3497"/>
                    </a:lnTo>
                    <a:lnTo>
                      <a:pt x="45" y="3677"/>
                    </a:lnTo>
                    <a:lnTo>
                      <a:pt x="62" y="3851"/>
                    </a:lnTo>
                    <a:lnTo>
                      <a:pt x="81" y="4020"/>
                    </a:lnTo>
                    <a:lnTo>
                      <a:pt x="99" y="4182"/>
                    </a:lnTo>
                    <a:lnTo>
                      <a:pt x="117" y="4330"/>
                    </a:lnTo>
                    <a:lnTo>
                      <a:pt x="134" y="4463"/>
                    </a:lnTo>
                    <a:lnTo>
                      <a:pt x="149" y="4580"/>
                    </a:lnTo>
                    <a:lnTo>
                      <a:pt x="172" y="4747"/>
                    </a:lnTo>
                    <a:lnTo>
                      <a:pt x="181" y="4808"/>
                    </a:lnTo>
                    <a:lnTo>
                      <a:pt x="912" y="4511"/>
                    </a:lnTo>
                    <a:lnTo>
                      <a:pt x="911" y="4478"/>
                    </a:lnTo>
                    <a:lnTo>
                      <a:pt x="909" y="4385"/>
                    </a:lnTo>
                    <a:lnTo>
                      <a:pt x="906" y="4245"/>
                    </a:lnTo>
                    <a:lnTo>
                      <a:pt x="900" y="4068"/>
                    </a:lnTo>
                    <a:lnTo>
                      <a:pt x="894" y="3867"/>
                    </a:lnTo>
                    <a:lnTo>
                      <a:pt x="886" y="3653"/>
                    </a:lnTo>
                    <a:lnTo>
                      <a:pt x="877" y="3436"/>
                    </a:lnTo>
                    <a:lnTo>
                      <a:pt x="866" y="3229"/>
                    </a:lnTo>
                    <a:lnTo>
                      <a:pt x="864" y="3177"/>
                    </a:lnTo>
                    <a:lnTo>
                      <a:pt x="863" y="3119"/>
                    </a:lnTo>
                    <a:lnTo>
                      <a:pt x="863" y="3057"/>
                    </a:lnTo>
                    <a:lnTo>
                      <a:pt x="864" y="2991"/>
                    </a:lnTo>
                    <a:lnTo>
                      <a:pt x="866" y="2921"/>
                    </a:lnTo>
                    <a:lnTo>
                      <a:pt x="870" y="2846"/>
                    </a:lnTo>
                    <a:lnTo>
                      <a:pt x="875" y="2769"/>
                    </a:lnTo>
                    <a:lnTo>
                      <a:pt x="881" y="2688"/>
                    </a:lnTo>
                    <a:lnTo>
                      <a:pt x="887" y="2604"/>
                    </a:lnTo>
                    <a:lnTo>
                      <a:pt x="895" y="2518"/>
                    </a:lnTo>
                    <a:lnTo>
                      <a:pt x="906" y="2430"/>
                    </a:lnTo>
                    <a:lnTo>
                      <a:pt x="916" y="2341"/>
                    </a:lnTo>
                    <a:lnTo>
                      <a:pt x="928" y="2250"/>
                    </a:lnTo>
                    <a:lnTo>
                      <a:pt x="941" y="2158"/>
                    </a:lnTo>
                    <a:lnTo>
                      <a:pt x="955" y="2065"/>
                    </a:lnTo>
                    <a:lnTo>
                      <a:pt x="970" y="1973"/>
                    </a:lnTo>
                    <a:lnTo>
                      <a:pt x="987" y="1880"/>
                    </a:lnTo>
                    <a:lnTo>
                      <a:pt x="1005" y="1787"/>
                    </a:lnTo>
                    <a:lnTo>
                      <a:pt x="1023" y="1695"/>
                    </a:lnTo>
                    <a:lnTo>
                      <a:pt x="1044" y="1604"/>
                    </a:lnTo>
                    <a:lnTo>
                      <a:pt x="1065" y="1515"/>
                    </a:lnTo>
                    <a:lnTo>
                      <a:pt x="1088" y="1427"/>
                    </a:lnTo>
                    <a:lnTo>
                      <a:pt x="1112" y="1341"/>
                    </a:lnTo>
                    <a:lnTo>
                      <a:pt x="1138" y="1258"/>
                    </a:lnTo>
                    <a:lnTo>
                      <a:pt x="1164" y="1178"/>
                    </a:lnTo>
                    <a:lnTo>
                      <a:pt x="1191" y="1099"/>
                    </a:lnTo>
                    <a:lnTo>
                      <a:pt x="1221" y="1026"/>
                    </a:lnTo>
                    <a:lnTo>
                      <a:pt x="1250" y="955"/>
                    </a:lnTo>
                    <a:lnTo>
                      <a:pt x="1282" y="888"/>
                    </a:lnTo>
                    <a:lnTo>
                      <a:pt x="1315" y="826"/>
                    </a:lnTo>
                    <a:lnTo>
                      <a:pt x="1349" y="769"/>
                    </a:lnTo>
                    <a:lnTo>
                      <a:pt x="1384" y="717"/>
                    </a:lnTo>
                    <a:lnTo>
                      <a:pt x="1419" y="669"/>
                    </a:lnTo>
                    <a:lnTo>
                      <a:pt x="1453" y="626"/>
                    </a:lnTo>
                    <a:lnTo>
                      <a:pt x="1486" y="587"/>
                    </a:lnTo>
                    <a:lnTo>
                      <a:pt x="1518" y="553"/>
                    </a:lnTo>
                    <a:lnTo>
                      <a:pt x="1548" y="523"/>
                    </a:lnTo>
                    <a:lnTo>
                      <a:pt x="1578" y="496"/>
                    </a:lnTo>
                    <a:lnTo>
                      <a:pt x="1605" y="473"/>
                    </a:lnTo>
                    <a:lnTo>
                      <a:pt x="1632" y="452"/>
                    </a:lnTo>
                    <a:lnTo>
                      <a:pt x="1658" y="435"/>
                    </a:lnTo>
                    <a:lnTo>
                      <a:pt x="1682" y="422"/>
                    </a:lnTo>
                    <a:lnTo>
                      <a:pt x="1706" y="410"/>
                    </a:lnTo>
                    <a:lnTo>
                      <a:pt x="1727" y="401"/>
                    </a:lnTo>
                    <a:lnTo>
                      <a:pt x="1749" y="395"/>
                    </a:lnTo>
                    <a:lnTo>
                      <a:pt x="1769" y="391"/>
                    </a:lnTo>
                    <a:lnTo>
                      <a:pt x="1787" y="389"/>
                    </a:lnTo>
                    <a:lnTo>
                      <a:pt x="1805" y="388"/>
                    </a:lnTo>
                    <a:lnTo>
                      <a:pt x="1821" y="389"/>
                    </a:lnTo>
                    <a:lnTo>
                      <a:pt x="1837" y="391"/>
                    </a:lnTo>
                    <a:lnTo>
                      <a:pt x="1852" y="395"/>
                    </a:lnTo>
                    <a:lnTo>
                      <a:pt x="1864" y="399"/>
                    </a:lnTo>
                    <a:lnTo>
                      <a:pt x="1877" y="405"/>
                    </a:lnTo>
                    <a:lnTo>
                      <a:pt x="1888" y="410"/>
                    </a:lnTo>
                    <a:lnTo>
                      <a:pt x="1897" y="416"/>
                    </a:lnTo>
                    <a:lnTo>
                      <a:pt x="1906" y="423"/>
                    </a:lnTo>
                    <a:lnTo>
                      <a:pt x="1921" y="435"/>
                    </a:lnTo>
                    <a:lnTo>
                      <a:pt x="1931" y="446"/>
                    </a:lnTo>
                    <a:lnTo>
                      <a:pt x="1938" y="454"/>
                    </a:lnTo>
                    <a:lnTo>
                      <a:pt x="1939" y="457"/>
                    </a:lnTo>
                    <a:lnTo>
                      <a:pt x="2526" y="604"/>
                    </a:lnTo>
                    <a:lnTo>
                      <a:pt x="2527" y="610"/>
                    </a:lnTo>
                    <a:lnTo>
                      <a:pt x="2530" y="627"/>
                    </a:lnTo>
                    <a:lnTo>
                      <a:pt x="2534" y="656"/>
                    </a:lnTo>
                    <a:lnTo>
                      <a:pt x="2538" y="698"/>
                    </a:lnTo>
                    <a:lnTo>
                      <a:pt x="2539" y="724"/>
                    </a:lnTo>
                    <a:lnTo>
                      <a:pt x="2539" y="753"/>
                    </a:lnTo>
                    <a:lnTo>
                      <a:pt x="2540" y="787"/>
                    </a:lnTo>
                    <a:lnTo>
                      <a:pt x="2539" y="825"/>
                    </a:lnTo>
                    <a:lnTo>
                      <a:pt x="2538" y="865"/>
                    </a:lnTo>
                    <a:lnTo>
                      <a:pt x="2534" y="911"/>
                    </a:lnTo>
                    <a:lnTo>
                      <a:pt x="2531" y="960"/>
                    </a:lnTo>
                    <a:lnTo>
                      <a:pt x="2526" y="1013"/>
                    </a:lnTo>
                    <a:lnTo>
                      <a:pt x="2518" y="1073"/>
                    </a:lnTo>
                    <a:lnTo>
                      <a:pt x="2508" y="1144"/>
                    </a:lnTo>
                    <a:lnTo>
                      <a:pt x="2496" y="1222"/>
                    </a:lnTo>
                    <a:lnTo>
                      <a:pt x="2480" y="1308"/>
                    </a:lnTo>
                    <a:lnTo>
                      <a:pt x="2442" y="1503"/>
                    </a:lnTo>
                    <a:lnTo>
                      <a:pt x="2399" y="1722"/>
                    </a:lnTo>
                    <a:lnTo>
                      <a:pt x="2352" y="1960"/>
                    </a:lnTo>
                    <a:lnTo>
                      <a:pt x="2303" y="2208"/>
                    </a:lnTo>
                    <a:lnTo>
                      <a:pt x="2278" y="2335"/>
                    </a:lnTo>
                    <a:lnTo>
                      <a:pt x="2254" y="2463"/>
                    </a:lnTo>
                    <a:lnTo>
                      <a:pt x="2230" y="2592"/>
                    </a:lnTo>
                    <a:lnTo>
                      <a:pt x="2209" y="2720"/>
                    </a:lnTo>
                    <a:lnTo>
                      <a:pt x="2198" y="2785"/>
                    </a:lnTo>
                    <a:lnTo>
                      <a:pt x="2187" y="2852"/>
                    </a:lnTo>
                    <a:lnTo>
                      <a:pt x="2177" y="2921"/>
                    </a:lnTo>
                    <a:lnTo>
                      <a:pt x="2169" y="2992"/>
                    </a:lnTo>
                    <a:lnTo>
                      <a:pt x="2160" y="3065"/>
                    </a:lnTo>
                    <a:lnTo>
                      <a:pt x="2152" y="3140"/>
                    </a:lnTo>
                    <a:lnTo>
                      <a:pt x="2145" y="3215"/>
                    </a:lnTo>
                    <a:lnTo>
                      <a:pt x="2139" y="3292"/>
                    </a:lnTo>
                    <a:lnTo>
                      <a:pt x="2127" y="3446"/>
                    </a:lnTo>
                    <a:lnTo>
                      <a:pt x="2117" y="3602"/>
                    </a:lnTo>
                    <a:lnTo>
                      <a:pt x="2109" y="3756"/>
                    </a:lnTo>
                    <a:lnTo>
                      <a:pt x="2102" y="3906"/>
                    </a:lnTo>
                    <a:lnTo>
                      <a:pt x="2098" y="4050"/>
                    </a:lnTo>
                    <a:lnTo>
                      <a:pt x="2094" y="4186"/>
                    </a:lnTo>
                    <a:lnTo>
                      <a:pt x="2091" y="4313"/>
                    </a:lnTo>
                    <a:lnTo>
                      <a:pt x="2090" y="4427"/>
                    </a:lnTo>
                    <a:lnTo>
                      <a:pt x="2088" y="4611"/>
                    </a:lnTo>
                    <a:lnTo>
                      <a:pt x="2088" y="4720"/>
                    </a:lnTo>
                    <a:lnTo>
                      <a:pt x="2090" y="4735"/>
                    </a:lnTo>
                    <a:lnTo>
                      <a:pt x="2094" y="4750"/>
                    </a:lnTo>
                    <a:lnTo>
                      <a:pt x="2103" y="4763"/>
                    </a:lnTo>
                    <a:lnTo>
                      <a:pt x="2115" y="4775"/>
                    </a:lnTo>
                    <a:lnTo>
                      <a:pt x="2128" y="4786"/>
                    </a:lnTo>
                    <a:lnTo>
                      <a:pt x="2145" y="4797"/>
                    </a:lnTo>
                    <a:lnTo>
                      <a:pt x="2164" y="4805"/>
                    </a:lnTo>
                    <a:lnTo>
                      <a:pt x="2185" y="4813"/>
                    </a:lnTo>
                    <a:lnTo>
                      <a:pt x="2208" y="4819"/>
                    </a:lnTo>
                    <a:lnTo>
                      <a:pt x="2233" y="4825"/>
                    </a:lnTo>
                    <a:lnTo>
                      <a:pt x="2259" y="4830"/>
                    </a:lnTo>
                    <a:lnTo>
                      <a:pt x="2286" y="4833"/>
                    </a:lnTo>
                    <a:lnTo>
                      <a:pt x="2314" y="4835"/>
                    </a:lnTo>
                    <a:lnTo>
                      <a:pt x="2344" y="4836"/>
                    </a:lnTo>
                    <a:lnTo>
                      <a:pt x="2373" y="4838"/>
                    </a:lnTo>
                    <a:lnTo>
                      <a:pt x="2403" y="4836"/>
                    </a:lnTo>
                    <a:lnTo>
                      <a:pt x="2433" y="4834"/>
                    </a:lnTo>
                    <a:lnTo>
                      <a:pt x="2464" y="4832"/>
                    </a:lnTo>
                    <a:lnTo>
                      <a:pt x="2493" y="4827"/>
                    </a:lnTo>
                    <a:lnTo>
                      <a:pt x="2523" y="4823"/>
                    </a:lnTo>
                    <a:lnTo>
                      <a:pt x="2552" y="4817"/>
                    </a:lnTo>
                    <a:lnTo>
                      <a:pt x="2579" y="4810"/>
                    </a:lnTo>
                    <a:lnTo>
                      <a:pt x="2607" y="4802"/>
                    </a:lnTo>
                    <a:lnTo>
                      <a:pt x="2632" y="4793"/>
                    </a:lnTo>
                    <a:lnTo>
                      <a:pt x="2656" y="4784"/>
                    </a:lnTo>
                    <a:lnTo>
                      <a:pt x="2678" y="4773"/>
                    </a:lnTo>
                    <a:lnTo>
                      <a:pt x="2698" y="4762"/>
                    </a:lnTo>
                    <a:lnTo>
                      <a:pt x="2717" y="4749"/>
                    </a:lnTo>
                    <a:lnTo>
                      <a:pt x="2731" y="4735"/>
                    </a:lnTo>
                    <a:lnTo>
                      <a:pt x="2745" y="4721"/>
                    </a:lnTo>
                    <a:lnTo>
                      <a:pt x="2755" y="4706"/>
                    </a:lnTo>
                    <a:lnTo>
                      <a:pt x="2762" y="4690"/>
                    </a:lnTo>
                    <a:lnTo>
                      <a:pt x="2772" y="4657"/>
                    </a:lnTo>
                    <a:lnTo>
                      <a:pt x="2779" y="4628"/>
                    </a:lnTo>
                    <a:lnTo>
                      <a:pt x="2785" y="4601"/>
                    </a:lnTo>
                    <a:lnTo>
                      <a:pt x="2788" y="4577"/>
                    </a:lnTo>
                    <a:lnTo>
                      <a:pt x="2792" y="4533"/>
                    </a:lnTo>
                    <a:lnTo>
                      <a:pt x="2796" y="4497"/>
                    </a:lnTo>
                    <a:lnTo>
                      <a:pt x="2797" y="4481"/>
                    </a:lnTo>
                    <a:lnTo>
                      <a:pt x="2799" y="4466"/>
                    </a:lnTo>
                    <a:lnTo>
                      <a:pt x="2803" y="4453"/>
                    </a:lnTo>
                    <a:lnTo>
                      <a:pt x="2808" y="4439"/>
                    </a:lnTo>
                    <a:lnTo>
                      <a:pt x="2815" y="4428"/>
                    </a:lnTo>
                    <a:lnTo>
                      <a:pt x="2825" y="4415"/>
                    </a:lnTo>
                    <a:lnTo>
                      <a:pt x="2837" y="4404"/>
                    </a:lnTo>
                    <a:lnTo>
                      <a:pt x="2853" y="4393"/>
                    </a:lnTo>
                    <a:lnTo>
                      <a:pt x="2860" y="4388"/>
                    </a:lnTo>
                    <a:lnTo>
                      <a:pt x="2870" y="4385"/>
                    </a:lnTo>
                    <a:lnTo>
                      <a:pt x="2877" y="4381"/>
                    </a:lnTo>
                    <a:lnTo>
                      <a:pt x="2887" y="4380"/>
                    </a:lnTo>
                    <a:lnTo>
                      <a:pt x="2906" y="4378"/>
                    </a:lnTo>
                    <a:lnTo>
                      <a:pt x="2927" y="4378"/>
                    </a:lnTo>
                    <a:lnTo>
                      <a:pt x="2975" y="4382"/>
                    </a:lnTo>
                    <a:lnTo>
                      <a:pt x="3034" y="4388"/>
                    </a:lnTo>
                    <a:lnTo>
                      <a:pt x="3069" y="4390"/>
                    </a:lnTo>
                    <a:lnTo>
                      <a:pt x="3108" y="4392"/>
                    </a:lnTo>
                    <a:lnTo>
                      <a:pt x="3151" y="4392"/>
                    </a:lnTo>
                    <a:lnTo>
                      <a:pt x="3197" y="4388"/>
                    </a:lnTo>
                    <a:lnTo>
                      <a:pt x="3223" y="4385"/>
                    </a:lnTo>
                    <a:lnTo>
                      <a:pt x="3249" y="4381"/>
                    </a:lnTo>
                    <a:lnTo>
                      <a:pt x="3278" y="4377"/>
                    </a:lnTo>
                    <a:lnTo>
                      <a:pt x="3307" y="4371"/>
                    </a:lnTo>
                    <a:lnTo>
                      <a:pt x="3338" y="4365"/>
                    </a:lnTo>
                    <a:lnTo>
                      <a:pt x="3369" y="4357"/>
                    </a:lnTo>
                    <a:lnTo>
                      <a:pt x="3403" y="4348"/>
                    </a:lnTo>
                    <a:lnTo>
                      <a:pt x="3438" y="4338"/>
                    </a:lnTo>
                    <a:lnTo>
                      <a:pt x="3472" y="4326"/>
                    </a:lnTo>
                    <a:lnTo>
                      <a:pt x="3505" y="4309"/>
                    </a:lnTo>
                    <a:lnTo>
                      <a:pt x="3535" y="4289"/>
                    </a:lnTo>
                    <a:lnTo>
                      <a:pt x="3563" y="4266"/>
                    </a:lnTo>
                    <a:lnTo>
                      <a:pt x="3588" y="4239"/>
                    </a:lnTo>
                    <a:lnTo>
                      <a:pt x="3612" y="4211"/>
                    </a:lnTo>
                    <a:lnTo>
                      <a:pt x="3633" y="4179"/>
                    </a:lnTo>
                    <a:lnTo>
                      <a:pt x="3654" y="4145"/>
                    </a:lnTo>
                    <a:lnTo>
                      <a:pt x="3672" y="4109"/>
                    </a:lnTo>
                    <a:lnTo>
                      <a:pt x="3688" y="4070"/>
                    </a:lnTo>
                    <a:lnTo>
                      <a:pt x="3702" y="4031"/>
                    </a:lnTo>
                    <a:lnTo>
                      <a:pt x="3715" y="3989"/>
                    </a:lnTo>
                    <a:lnTo>
                      <a:pt x="3726" y="3946"/>
                    </a:lnTo>
                    <a:lnTo>
                      <a:pt x="3736" y="3900"/>
                    </a:lnTo>
                    <a:lnTo>
                      <a:pt x="3746" y="3855"/>
                    </a:lnTo>
                    <a:lnTo>
                      <a:pt x="3753" y="3808"/>
                    </a:lnTo>
                    <a:lnTo>
                      <a:pt x="3759" y="3761"/>
                    </a:lnTo>
                    <a:lnTo>
                      <a:pt x="3765" y="3713"/>
                    </a:lnTo>
                    <a:lnTo>
                      <a:pt x="3768" y="3665"/>
                    </a:lnTo>
                    <a:lnTo>
                      <a:pt x="3772" y="3618"/>
                    </a:lnTo>
                    <a:lnTo>
                      <a:pt x="3774" y="3569"/>
                    </a:lnTo>
                    <a:lnTo>
                      <a:pt x="3775" y="3521"/>
                    </a:lnTo>
                    <a:lnTo>
                      <a:pt x="3776" y="3473"/>
                    </a:lnTo>
                    <a:lnTo>
                      <a:pt x="3776" y="3427"/>
                    </a:lnTo>
                    <a:lnTo>
                      <a:pt x="3775" y="3336"/>
                    </a:lnTo>
                    <a:lnTo>
                      <a:pt x="3772" y="3251"/>
                    </a:lnTo>
                    <a:lnTo>
                      <a:pt x="3767" y="3172"/>
                    </a:lnTo>
                    <a:lnTo>
                      <a:pt x="3761" y="3101"/>
                    </a:lnTo>
                    <a:lnTo>
                      <a:pt x="3756" y="3037"/>
                    </a:lnTo>
                    <a:lnTo>
                      <a:pt x="3748" y="2976"/>
                    </a:lnTo>
                    <a:lnTo>
                      <a:pt x="3740" y="2918"/>
                    </a:lnTo>
                    <a:lnTo>
                      <a:pt x="3732" y="2863"/>
                    </a:lnTo>
                    <a:lnTo>
                      <a:pt x="3715" y="2761"/>
                    </a:lnTo>
                    <a:lnTo>
                      <a:pt x="3701" y="2669"/>
                    </a:lnTo>
                    <a:lnTo>
                      <a:pt x="3697" y="2626"/>
                    </a:lnTo>
                    <a:lnTo>
                      <a:pt x="3693" y="2585"/>
                    </a:lnTo>
                    <a:lnTo>
                      <a:pt x="3692" y="2564"/>
                    </a:lnTo>
                    <a:lnTo>
                      <a:pt x="3692" y="2545"/>
                    </a:lnTo>
                    <a:lnTo>
                      <a:pt x="3692" y="2526"/>
                    </a:lnTo>
                    <a:lnTo>
                      <a:pt x="3693" y="2507"/>
                    </a:lnTo>
                    <a:lnTo>
                      <a:pt x="3696" y="2488"/>
                    </a:lnTo>
                    <a:lnTo>
                      <a:pt x="3698" y="2470"/>
                    </a:lnTo>
                    <a:lnTo>
                      <a:pt x="3701" y="2452"/>
                    </a:lnTo>
                    <a:lnTo>
                      <a:pt x="3706" y="2434"/>
                    </a:lnTo>
                    <a:lnTo>
                      <a:pt x="3710" y="2417"/>
                    </a:lnTo>
                    <a:lnTo>
                      <a:pt x="3716" y="2400"/>
                    </a:lnTo>
                    <a:lnTo>
                      <a:pt x="3724" y="2383"/>
                    </a:lnTo>
                    <a:lnTo>
                      <a:pt x="3732" y="2366"/>
                    </a:lnTo>
                    <a:lnTo>
                      <a:pt x="3748" y="2333"/>
                    </a:lnTo>
                    <a:lnTo>
                      <a:pt x="3761" y="2302"/>
                    </a:lnTo>
                    <a:lnTo>
                      <a:pt x="3775" y="2272"/>
                    </a:lnTo>
                    <a:lnTo>
                      <a:pt x="3787" y="2242"/>
                    </a:lnTo>
                    <a:lnTo>
                      <a:pt x="3798" y="2211"/>
                    </a:lnTo>
                    <a:lnTo>
                      <a:pt x="3808" y="2182"/>
                    </a:lnTo>
                    <a:lnTo>
                      <a:pt x="3816" y="2151"/>
                    </a:lnTo>
                    <a:lnTo>
                      <a:pt x="3824" y="2120"/>
                    </a:lnTo>
                    <a:lnTo>
                      <a:pt x="3829" y="2088"/>
                    </a:lnTo>
                    <a:lnTo>
                      <a:pt x="3835" y="2054"/>
                    </a:lnTo>
                    <a:lnTo>
                      <a:pt x="3840" y="2019"/>
                    </a:lnTo>
                    <a:lnTo>
                      <a:pt x="3843" y="1981"/>
                    </a:lnTo>
                    <a:lnTo>
                      <a:pt x="3846" y="1941"/>
                    </a:lnTo>
                    <a:lnTo>
                      <a:pt x="3848" y="1899"/>
                    </a:lnTo>
                    <a:lnTo>
                      <a:pt x="3849" y="1854"/>
                    </a:lnTo>
                    <a:lnTo>
                      <a:pt x="3850" y="1806"/>
                    </a:lnTo>
                    <a:lnTo>
                      <a:pt x="3849" y="1778"/>
                    </a:lnTo>
                    <a:lnTo>
                      <a:pt x="3844" y="1744"/>
                    </a:lnTo>
                    <a:lnTo>
                      <a:pt x="3838" y="1704"/>
                    </a:lnTo>
                    <a:lnTo>
                      <a:pt x="3831" y="1660"/>
                    </a:lnTo>
                    <a:lnTo>
                      <a:pt x="3820" y="1610"/>
                    </a:lnTo>
                    <a:lnTo>
                      <a:pt x="3809" y="1555"/>
                    </a:lnTo>
                    <a:lnTo>
                      <a:pt x="3794" y="1498"/>
                    </a:lnTo>
                    <a:lnTo>
                      <a:pt x="3778" y="1436"/>
                    </a:lnTo>
                    <a:lnTo>
                      <a:pt x="3760" y="1372"/>
                    </a:lnTo>
                    <a:lnTo>
                      <a:pt x="3741" y="1304"/>
                    </a:lnTo>
                    <a:lnTo>
                      <a:pt x="3719" y="1234"/>
                    </a:lnTo>
                    <a:lnTo>
                      <a:pt x="3696" y="1163"/>
                    </a:lnTo>
                    <a:lnTo>
                      <a:pt x="3671" y="1091"/>
                    </a:lnTo>
                    <a:lnTo>
                      <a:pt x="3645" y="1018"/>
                    </a:lnTo>
                    <a:lnTo>
                      <a:pt x="3617" y="944"/>
                    </a:lnTo>
                    <a:lnTo>
                      <a:pt x="3588" y="870"/>
                    </a:lnTo>
                    <a:lnTo>
                      <a:pt x="3559" y="796"/>
                    </a:lnTo>
                    <a:lnTo>
                      <a:pt x="3527" y="724"/>
                    </a:lnTo>
                    <a:lnTo>
                      <a:pt x="3494" y="653"/>
                    </a:lnTo>
                    <a:lnTo>
                      <a:pt x="3460" y="583"/>
                    </a:lnTo>
                    <a:lnTo>
                      <a:pt x="3425" y="516"/>
                    </a:lnTo>
                    <a:lnTo>
                      <a:pt x="3390" y="451"/>
                    </a:lnTo>
                    <a:lnTo>
                      <a:pt x="3352" y="390"/>
                    </a:lnTo>
                    <a:lnTo>
                      <a:pt x="3315" y="332"/>
                    </a:lnTo>
                    <a:lnTo>
                      <a:pt x="3278" y="278"/>
                    </a:lnTo>
                    <a:lnTo>
                      <a:pt x="3238" y="228"/>
                    </a:lnTo>
                    <a:lnTo>
                      <a:pt x="3198" y="182"/>
                    </a:lnTo>
                    <a:lnTo>
                      <a:pt x="3159" y="143"/>
                    </a:lnTo>
                    <a:lnTo>
                      <a:pt x="3118" y="109"/>
                    </a:lnTo>
                    <a:lnTo>
                      <a:pt x="3077" y="81"/>
                    </a:lnTo>
                    <a:lnTo>
                      <a:pt x="3036" y="60"/>
                    </a:lnTo>
                    <a:lnTo>
                      <a:pt x="2994" y="45"/>
                    </a:lnTo>
                    <a:lnTo>
                      <a:pt x="2952" y="35"/>
                    </a:lnTo>
                    <a:lnTo>
                      <a:pt x="2907" y="26"/>
                    </a:lnTo>
                    <a:lnTo>
                      <a:pt x="2860" y="19"/>
                    </a:lnTo>
                    <a:lnTo>
                      <a:pt x="2812" y="12"/>
                    </a:lnTo>
                    <a:lnTo>
                      <a:pt x="2762" y="8"/>
                    </a:lnTo>
                    <a:lnTo>
                      <a:pt x="2710" y="4"/>
                    </a:lnTo>
                    <a:lnTo>
                      <a:pt x="2658" y="2"/>
                    </a:lnTo>
                    <a:lnTo>
                      <a:pt x="2604" y="0"/>
                    </a:lnTo>
                    <a:lnTo>
                      <a:pt x="2550" y="0"/>
                    </a:lnTo>
                    <a:lnTo>
                      <a:pt x="2496" y="0"/>
                    </a:lnTo>
                    <a:lnTo>
                      <a:pt x="2440" y="1"/>
                    </a:lnTo>
                    <a:lnTo>
                      <a:pt x="2386" y="3"/>
                    </a:lnTo>
                    <a:lnTo>
                      <a:pt x="2278" y="9"/>
                    </a:lnTo>
                    <a:lnTo>
                      <a:pt x="2173" y="15"/>
                    </a:lnTo>
                    <a:lnTo>
                      <a:pt x="2073" y="25"/>
                    </a:lnTo>
                    <a:lnTo>
                      <a:pt x="1980" y="35"/>
                    </a:lnTo>
                    <a:lnTo>
                      <a:pt x="1896" y="45"/>
                    </a:lnTo>
                    <a:lnTo>
                      <a:pt x="1824" y="54"/>
                    </a:lnTo>
                    <a:lnTo>
                      <a:pt x="1718" y="69"/>
                    </a:lnTo>
                    <a:lnTo>
                      <a:pt x="1680" y="76"/>
                    </a:lnTo>
                    <a:close/>
                  </a:path>
                </a:pathLst>
              </a:custGeom>
              <a:solidFill>
                <a:srgbClr val="3366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8" name=""/>
              <p:cNvSpPr/>
              <p:nvPr/>
            </p:nvSpPr>
            <p:spPr>
              <a:xfrm>
                <a:off x="4721040" y="2667600"/>
                <a:ext cx="855360" cy="890280"/>
              </a:xfrm>
              <a:custGeom>
                <a:avLst/>
                <a:gdLst/>
                <a:ahLst/>
                <a:rect l="l" t="t" r="r" b="b"/>
                <a:pathLst>
                  <a:path w="3850" h="4838">
                    <a:moveTo>
                      <a:pt x="1680" y="76"/>
                    </a:moveTo>
                    <a:lnTo>
                      <a:pt x="1673" y="76"/>
                    </a:lnTo>
                    <a:lnTo>
                      <a:pt x="1651" y="78"/>
                    </a:lnTo>
                    <a:lnTo>
                      <a:pt x="1617" y="82"/>
                    </a:lnTo>
                    <a:lnTo>
                      <a:pt x="1572" y="92"/>
                    </a:lnTo>
                    <a:lnTo>
                      <a:pt x="1545" y="98"/>
                    </a:lnTo>
                    <a:lnTo>
                      <a:pt x="1515" y="106"/>
                    </a:lnTo>
                    <a:lnTo>
                      <a:pt x="1485" y="115"/>
                    </a:lnTo>
                    <a:lnTo>
                      <a:pt x="1451" y="126"/>
                    </a:lnTo>
                    <a:lnTo>
                      <a:pt x="1416" y="138"/>
                    </a:lnTo>
                    <a:lnTo>
                      <a:pt x="1379" y="153"/>
                    </a:lnTo>
                    <a:lnTo>
                      <a:pt x="1340" y="169"/>
                    </a:lnTo>
                    <a:lnTo>
                      <a:pt x="1300" y="188"/>
                    </a:lnTo>
                    <a:lnTo>
                      <a:pt x="1259" y="208"/>
                    </a:lnTo>
                    <a:lnTo>
                      <a:pt x="1216" y="232"/>
                    </a:lnTo>
                    <a:lnTo>
                      <a:pt x="1173" y="258"/>
                    </a:lnTo>
                    <a:lnTo>
                      <a:pt x="1129" y="288"/>
                    </a:lnTo>
                    <a:lnTo>
                      <a:pt x="1084" y="320"/>
                    </a:lnTo>
                    <a:lnTo>
                      <a:pt x="1038" y="354"/>
                    </a:lnTo>
                    <a:lnTo>
                      <a:pt x="993" y="391"/>
                    </a:lnTo>
                    <a:lnTo>
                      <a:pt x="946" y="433"/>
                    </a:lnTo>
                    <a:lnTo>
                      <a:pt x="901" y="477"/>
                    </a:lnTo>
                    <a:lnTo>
                      <a:pt x="855" y="525"/>
                    </a:lnTo>
                    <a:lnTo>
                      <a:pt x="809" y="577"/>
                    </a:lnTo>
                    <a:lnTo>
                      <a:pt x="764" y="633"/>
                    </a:lnTo>
                    <a:lnTo>
                      <a:pt x="720" y="692"/>
                    </a:lnTo>
                    <a:lnTo>
                      <a:pt x="677" y="755"/>
                    </a:lnTo>
                    <a:lnTo>
                      <a:pt x="634" y="823"/>
                    </a:lnTo>
                    <a:lnTo>
                      <a:pt x="592" y="895"/>
                    </a:lnTo>
                    <a:lnTo>
                      <a:pt x="512" y="1038"/>
                    </a:lnTo>
                    <a:lnTo>
                      <a:pt x="441" y="1169"/>
                    </a:lnTo>
                    <a:lnTo>
                      <a:pt x="376" y="1288"/>
                    </a:lnTo>
                    <a:lnTo>
                      <a:pt x="317" y="1399"/>
                    </a:lnTo>
                    <a:lnTo>
                      <a:pt x="291" y="1452"/>
                    </a:lnTo>
                    <a:lnTo>
                      <a:pt x="265" y="1503"/>
                    </a:lnTo>
                    <a:lnTo>
                      <a:pt x="242" y="1553"/>
                    </a:lnTo>
                    <a:lnTo>
                      <a:pt x="220" y="1601"/>
                    </a:lnTo>
                    <a:lnTo>
                      <a:pt x="198" y="1650"/>
                    </a:lnTo>
                    <a:lnTo>
                      <a:pt x="179" y="1696"/>
                    </a:lnTo>
                    <a:lnTo>
                      <a:pt x="160" y="1743"/>
                    </a:lnTo>
                    <a:lnTo>
                      <a:pt x="143" y="1789"/>
                    </a:lnTo>
                    <a:lnTo>
                      <a:pt x="127" y="1835"/>
                    </a:lnTo>
                    <a:lnTo>
                      <a:pt x="112" y="1881"/>
                    </a:lnTo>
                    <a:lnTo>
                      <a:pt x="99" y="1928"/>
                    </a:lnTo>
                    <a:lnTo>
                      <a:pt x="86" y="1975"/>
                    </a:lnTo>
                    <a:lnTo>
                      <a:pt x="75" y="2023"/>
                    </a:lnTo>
                    <a:lnTo>
                      <a:pt x="64" y="2072"/>
                    </a:lnTo>
                    <a:lnTo>
                      <a:pt x="55" y="2122"/>
                    </a:lnTo>
                    <a:lnTo>
                      <a:pt x="45" y="2174"/>
                    </a:lnTo>
                    <a:lnTo>
                      <a:pt x="38" y="2227"/>
                    </a:lnTo>
                    <a:lnTo>
                      <a:pt x="31" y="2282"/>
                    </a:lnTo>
                    <a:lnTo>
                      <a:pt x="24" y="2339"/>
                    </a:lnTo>
                    <a:lnTo>
                      <a:pt x="18" y="2399"/>
                    </a:lnTo>
                    <a:lnTo>
                      <a:pt x="14" y="2460"/>
                    </a:lnTo>
                    <a:lnTo>
                      <a:pt x="9" y="2525"/>
                    </a:lnTo>
                    <a:lnTo>
                      <a:pt x="6" y="2592"/>
                    </a:lnTo>
                    <a:lnTo>
                      <a:pt x="2" y="2662"/>
                    </a:lnTo>
                    <a:lnTo>
                      <a:pt x="0" y="2736"/>
                    </a:lnTo>
                    <a:lnTo>
                      <a:pt x="0" y="2812"/>
                    </a:lnTo>
                    <a:lnTo>
                      <a:pt x="0" y="2891"/>
                    </a:lnTo>
                    <a:lnTo>
                      <a:pt x="1" y="2973"/>
                    </a:lnTo>
                    <a:lnTo>
                      <a:pt x="5" y="3057"/>
                    </a:lnTo>
                    <a:lnTo>
                      <a:pt x="8" y="3143"/>
                    </a:lnTo>
                    <a:lnTo>
                      <a:pt x="13" y="3231"/>
                    </a:lnTo>
                    <a:lnTo>
                      <a:pt x="18" y="3319"/>
                    </a:lnTo>
                    <a:lnTo>
                      <a:pt x="31" y="3497"/>
                    </a:lnTo>
                    <a:lnTo>
                      <a:pt x="45" y="3677"/>
                    </a:lnTo>
                    <a:lnTo>
                      <a:pt x="62" y="3851"/>
                    </a:lnTo>
                    <a:lnTo>
                      <a:pt x="81" y="4020"/>
                    </a:lnTo>
                    <a:lnTo>
                      <a:pt x="99" y="4182"/>
                    </a:lnTo>
                    <a:lnTo>
                      <a:pt x="117" y="4330"/>
                    </a:lnTo>
                    <a:lnTo>
                      <a:pt x="134" y="4463"/>
                    </a:lnTo>
                    <a:lnTo>
                      <a:pt x="149" y="4580"/>
                    </a:lnTo>
                    <a:lnTo>
                      <a:pt x="172" y="4747"/>
                    </a:lnTo>
                    <a:lnTo>
                      <a:pt x="181" y="4808"/>
                    </a:lnTo>
                    <a:lnTo>
                      <a:pt x="912" y="4511"/>
                    </a:lnTo>
                    <a:lnTo>
                      <a:pt x="911" y="4478"/>
                    </a:lnTo>
                    <a:lnTo>
                      <a:pt x="909" y="4385"/>
                    </a:lnTo>
                    <a:lnTo>
                      <a:pt x="906" y="4245"/>
                    </a:lnTo>
                    <a:lnTo>
                      <a:pt x="900" y="4068"/>
                    </a:lnTo>
                    <a:lnTo>
                      <a:pt x="894" y="3867"/>
                    </a:lnTo>
                    <a:lnTo>
                      <a:pt x="886" y="3653"/>
                    </a:lnTo>
                    <a:lnTo>
                      <a:pt x="877" y="3436"/>
                    </a:lnTo>
                    <a:lnTo>
                      <a:pt x="866" y="3229"/>
                    </a:lnTo>
                    <a:lnTo>
                      <a:pt x="864" y="3177"/>
                    </a:lnTo>
                    <a:lnTo>
                      <a:pt x="863" y="3119"/>
                    </a:lnTo>
                    <a:lnTo>
                      <a:pt x="863" y="3057"/>
                    </a:lnTo>
                    <a:lnTo>
                      <a:pt x="864" y="2991"/>
                    </a:lnTo>
                    <a:lnTo>
                      <a:pt x="866" y="2921"/>
                    </a:lnTo>
                    <a:lnTo>
                      <a:pt x="870" y="2846"/>
                    </a:lnTo>
                    <a:lnTo>
                      <a:pt x="875" y="2769"/>
                    </a:lnTo>
                    <a:lnTo>
                      <a:pt x="881" y="2688"/>
                    </a:lnTo>
                    <a:lnTo>
                      <a:pt x="887" y="2604"/>
                    </a:lnTo>
                    <a:lnTo>
                      <a:pt x="895" y="2518"/>
                    </a:lnTo>
                    <a:lnTo>
                      <a:pt x="906" y="2430"/>
                    </a:lnTo>
                    <a:lnTo>
                      <a:pt x="916" y="2341"/>
                    </a:lnTo>
                    <a:lnTo>
                      <a:pt x="928" y="2250"/>
                    </a:lnTo>
                    <a:lnTo>
                      <a:pt x="941" y="2158"/>
                    </a:lnTo>
                    <a:lnTo>
                      <a:pt x="955" y="2065"/>
                    </a:lnTo>
                    <a:lnTo>
                      <a:pt x="970" y="1973"/>
                    </a:lnTo>
                    <a:lnTo>
                      <a:pt x="987" y="1880"/>
                    </a:lnTo>
                    <a:lnTo>
                      <a:pt x="1005" y="1787"/>
                    </a:lnTo>
                    <a:lnTo>
                      <a:pt x="1023" y="1695"/>
                    </a:lnTo>
                    <a:lnTo>
                      <a:pt x="1044" y="1604"/>
                    </a:lnTo>
                    <a:lnTo>
                      <a:pt x="1065" y="1515"/>
                    </a:lnTo>
                    <a:lnTo>
                      <a:pt x="1088" y="1427"/>
                    </a:lnTo>
                    <a:lnTo>
                      <a:pt x="1112" y="1341"/>
                    </a:lnTo>
                    <a:lnTo>
                      <a:pt x="1138" y="1258"/>
                    </a:lnTo>
                    <a:lnTo>
                      <a:pt x="1164" y="1178"/>
                    </a:lnTo>
                    <a:lnTo>
                      <a:pt x="1191" y="1099"/>
                    </a:lnTo>
                    <a:lnTo>
                      <a:pt x="1221" y="1026"/>
                    </a:lnTo>
                    <a:lnTo>
                      <a:pt x="1250" y="955"/>
                    </a:lnTo>
                    <a:lnTo>
                      <a:pt x="1282" y="888"/>
                    </a:lnTo>
                    <a:lnTo>
                      <a:pt x="1315" y="826"/>
                    </a:lnTo>
                    <a:lnTo>
                      <a:pt x="1349" y="769"/>
                    </a:lnTo>
                    <a:lnTo>
                      <a:pt x="1384" y="717"/>
                    </a:lnTo>
                    <a:lnTo>
                      <a:pt x="1419" y="669"/>
                    </a:lnTo>
                    <a:lnTo>
                      <a:pt x="1453" y="626"/>
                    </a:lnTo>
                    <a:lnTo>
                      <a:pt x="1486" y="587"/>
                    </a:lnTo>
                    <a:lnTo>
                      <a:pt x="1518" y="553"/>
                    </a:lnTo>
                    <a:lnTo>
                      <a:pt x="1548" y="523"/>
                    </a:lnTo>
                    <a:lnTo>
                      <a:pt x="1578" y="496"/>
                    </a:lnTo>
                    <a:lnTo>
                      <a:pt x="1605" y="473"/>
                    </a:lnTo>
                    <a:lnTo>
                      <a:pt x="1632" y="452"/>
                    </a:lnTo>
                    <a:lnTo>
                      <a:pt x="1658" y="435"/>
                    </a:lnTo>
                    <a:lnTo>
                      <a:pt x="1682" y="422"/>
                    </a:lnTo>
                    <a:lnTo>
                      <a:pt x="1706" y="410"/>
                    </a:lnTo>
                    <a:lnTo>
                      <a:pt x="1727" y="401"/>
                    </a:lnTo>
                    <a:lnTo>
                      <a:pt x="1749" y="395"/>
                    </a:lnTo>
                    <a:lnTo>
                      <a:pt x="1769" y="391"/>
                    </a:lnTo>
                    <a:lnTo>
                      <a:pt x="1787" y="389"/>
                    </a:lnTo>
                    <a:lnTo>
                      <a:pt x="1805" y="388"/>
                    </a:lnTo>
                    <a:lnTo>
                      <a:pt x="1821" y="389"/>
                    </a:lnTo>
                    <a:lnTo>
                      <a:pt x="1837" y="391"/>
                    </a:lnTo>
                    <a:lnTo>
                      <a:pt x="1852" y="395"/>
                    </a:lnTo>
                    <a:lnTo>
                      <a:pt x="1864" y="399"/>
                    </a:lnTo>
                    <a:lnTo>
                      <a:pt x="1877" y="405"/>
                    </a:lnTo>
                    <a:lnTo>
                      <a:pt x="1888" y="410"/>
                    </a:lnTo>
                    <a:lnTo>
                      <a:pt x="1897" y="416"/>
                    </a:lnTo>
                    <a:lnTo>
                      <a:pt x="1906" y="423"/>
                    </a:lnTo>
                    <a:lnTo>
                      <a:pt x="1921" y="435"/>
                    </a:lnTo>
                    <a:lnTo>
                      <a:pt x="1931" y="446"/>
                    </a:lnTo>
                    <a:lnTo>
                      <a:pt x="1938" y="454"/>
                    </a:lnTo>
                    <a:lnTo>
                      <a:pt x="1939" y="457"/>
                    </a:lnTo>
                    <a:lnTo>
                      <a:pt x="2526" y="604"/>
                    </a:lnTo>
                    <a:lnTo>
                      <a:pt x="2527" y="610"/>
                    </a:lnTo>
                    <a:lnTo>
                      <a:pt x="2530" y="627"/>
                    </a:lnTo>
                    <a:lnTo>
                      <a:pt x="2534" y="656"/>
                    </a:lnTo>
                    <a:lnTo>
                      <a:pt x="2538" y="698"/>
                    </a:lnTo>
                    <a:lnTo>
                      <a:pt x="2539" y="724"/>
                    </a:lnTo>
                    <a:lnTo>
                      <a:pt x="2539" y="753"/>
                    </a:lnTo>
                    <a:lnTo>
                      <a:pt x="2540" y="787"/>
                    </a:lnTo>
                    <a:lnTo>
                      <a:pt x="2539" y="825"/>
                    </a:lnTo>
                    <a:lnTo>
                      <a:pt x="2538" y="865"/>
                    </a:lnTo>
                    <a:lnTo>
                      <a:pt x="2534" y="911"/>
                    </a:lnTo>
                    <a:lnTo>
                      <a:pt x="2531" y="960"/>
                    </a:lnTo>
                    <a:lnTo>
                      <a:pt x="2526" y="1013"/>
                    </a:lnTo>
                    <a:lnTo>
                      <a:pt x="2518" y="1073"/>
                    </a:lnTo>
                    <a:lnTo>
                      <a:pt x="2508" y="1144"/>
                    </a:lnTo>
                    <a:lnTo>
                      <a:pt x="2496" y="1222"/>
                    </a:lnTo>
                    <a:lnTo>
                      <a:pt x="2480" y="1308"/>
                    </a:lnTo>
                    <a:lnTo>
                      <a:pt x="2442" y="1503"/>
                    </a:lnTo>
                    <a:lnTo>
                      <a:pt x="2399" y="1722"/>
                    </a:lnTo>
                    <a:lnTo>
                      <a:pt x="2352" y="1960"/>
                    </a:lnTo>
                    <a:lnTo>
                      <a:pt x="2303" y="2208"/>
                    </a:lnTo>
                    <a:lnTo>
                      <a:pt x="2278" y="2335"/>
                    </a:lnTo>
                    <a:lnTo>
                      <a:pt x="2254" y="2463"/>
                    </a:lnTo>
                    <a:lnTo>
                      <a:pt x="2230" y="2592"/>
                    </a:lnTo>
                    <a:lnTo>
                      <a:pt x="2209" y="2720"/>
                    </a:lnTo>
                    <a:lnTo>
                      <a:pt x="2198" y="2785"/>
                    </a:lnTo>
                    <a:lnTo>
                      <a:pt x="2187" y="2852"/>
                    </a:lnTo>
                    <a:lnTo>
                      <a:pt x="2177" y="2921"/>
                    </a:lnTo>
                    <a:lnTo>
                      <a:pt x="2169" y="2992"/>
                    </a:lnTo>
                    <a:lnTo>
                      <a:pt x="2160" y="3065"/>
                    </a:lnTo>
                    <a:lnTo>
                      <a:pt x="2152" y="3140"/>
                    </a:lnTo>
                    <a:lnTo>
                      <a:pt x="2145" y="3215"/>
                    </a:lnTo>
                    <a:lnTo>
                      <a:pt x="2139" y="3292"/>
                    </a:lnTo>
                    <a:lnTo>
                      <a:pt x="2127" y="3446"/>
                    </a:lnTo>
                    <a:lnTo>
                      <a:pt x="2117" y="3602"/>
                    </a:lnTo>
                    <a:lnTo>
                      <a:pt x="2109" y="3756"/>
                    </a:lnTo>
                    <a:lnTo>
                      <a:pt x="2102" y="3906"/>
                    </a:lnTo>
                    <a:lnTo>
                      <a:pt x="2098" y="4050"/>
                    </a:lnTo>
                    <a:lnTo>
                      <a:pt x="2094" y="4186"/>
                    </a:lnTo>
                    <a:lnTo>
                      <a:pt x="2091" y="4313"/>
                    </a:lnTo>
                    <a:lnTo>
                      <a:pt x="2090" y="4427"/>
                    </a:lnTo>
                    <a:lnTo>
                      <a:pt x="2088" y="4611"/>
                    </a:lnTo>
                    <a:lnTo>
                      <a:pt x="2088" y="4720"/>
                    </a:lnTo>
                    <a:lnTo>
                      <a:pt x="2090" y="4735"/>
                    </a:lnTo>
                    <a:lnTo>
                      <a:pt x="2094" y="4750"/>
                    </a:lnTo>
                    <a:lnTo>
                      <a:pt x="2103" y="4763"/>
                    </a:lnTo>
                    <a:lnTo>
                      <a:pt x="2115" y="4775"/>
                    </a:lnTo>
                    <a:lnTo>
                      <a:pt x="2128" y="4786"/>
                    </a:lnTo>
                    <a:lnTo>
                      <a:pt x="2145" y="4797"/>
                    </a:lnTo>
                    <a:lnTo>
                      <a:pt x="2164" y="4805"/>
                    </a:lnTo>
                    <a:lnTo>
                      <a:pt x="2185" y="4813"/>
                    </a:lnTo>
                    <a:lnTo>
                      <a:pt x="2208" y="4819"/>
                    </a:lnTo>
                    <a:lnTo>
                      <a:pt x="2233" y="4825"/>
                    </a:lnTo>
                    <a:lnTo>
                      <a:pt x="2259" y="4830"/>
                    </a:lnTo>
                    <a:lnTo>
                      <a:pt x="2286" y="4833"/>
                    </a:lnTo>
                    <a:lnTo>
                      <a:pt x="2314" y="4835"/>
                    </a:lnTo>
                    <a:lnTo>
                      <a:pt x="2344" y="4836"/>
                    </a:lnTo>
                    <a:lnTo>
                      <a:pt x="2373" y="4838"/>
                    </a:lnTo>
                    <a:lnTo>
                      <a:pt x="2403" y="4836"/>
                    </a:lnTo>
                    <a:lnTo>
                      <a:pt x="2433" y="4834"/>
                    </a:lnTo>
                    <a:lnTo>
                      <a:pt x="2464" y="4832"/>
                    </a:lnTo>
                    <a:lnTo>
                      <a:pt x="2493" y="4827"/>
                    </a:lnTo>
                    <a:lnTo>
                      <a:pt x="2523" y="4823"/>
                    </a:lnTo>
                    <a:lnTo>
                      <a:pt x="2552" y="4817"/>
                    </a:lnTo>
                    <a:lnTo>
                      <a:pt x="2579" y="4810"/>
                    </a:lnTo>
                    <a:lnTo>
                      <a:pt x="2607" y="4802"/>
                    </a:lnTo>
                    <a:lnTo>
                      <a:pt x="2632" y="4793"/>
                    </a:lnTo>
                    <a:lnTo>
                      <a:pt x="2656" y="4784"/>
                    </a:lnTo>
                    <a:lnTo>
                      <a:pt x="2678" y="4773"/>
                    </a:lnTo>
                    <a:lnTo>
                      <a:pt x="2698" y="4762"/>
                    </a:lnTo>
                    <a:lnTo>
                      <a:pt x="2717" y="4749"/>
                    </a:lnTo>
                    <a:lnTo>
                      <a:pt x="2731" y="4735"/>
                    </a:lnTo>
                    <a:lnTo>
                      <a:pt x="2745" y="4721"/>
                    </a:lnTo>
                    <a:lnTo>
                      <a:pt x="2755" y="4706"/>
                    </a:lnTo>
                    <a:lnTo>
                      <a:pt x="2762" y="4690"/>
                    </a:lnTo>
                    <a:lnTo>
                      <a:pt x="2772" y="4657"/>
                    </a:lnTo>
                    <a:lnTo>
                      <a:pt x="2779" y="4628"/>
                    </a:lnTo>
                    <a:lnTo>
                      <a:pt x="2785" y="4601"/>
                    </a:lnTo>
                    <a:lnTo>
                      <a:pt x="2788" y="4577"/>
                    </a:lnTo>
                    <a:lnTo>
                      <a:pt x="2792" y="4533"/>
                    </a:lnTo>
                    <a:lnTo>
                      <a:pt x="2796" y="4497"/>
                    </a:lnTo>
                    <a:lnTo>
                      <a:pt x="2797" y="4481"/>
                    </a:lnTo>
                    <a:lnTo>
                      <a:pt x="2799" y="4466"/>
                    </a:lnTo>
                    <a:lnTo>
                      <a:pt x="2803" y="4453"/>
                    </a:lnTo>
                    <a:lnTo>
                      <a:pt x="2808" y="4439"/>
                    </a:lnTo>
                    <a:lnTo>
                      <a:pt x="2815" y="4428"/>
                    </a:lnTo>
                    <a:lnTo>
                      <a:pt x="2825" y="4415"/>
                    </a:lnTo>
                    <a:lnTo>
                      <a:pt x="2837" y="4404"/>
                    </a:lnTo>
                    <a:lnTo>
                      <a:pt x="2853" y="4393"/>
                    </a:lnTo>
                    <a:lnTo>
                      <a:pt x="2860" y="4388"/>
                    </a:lnTo>
                    <a:lnTo>
                      <a:pt x="2870" y="4385"/>
                    </a:lnTo>
                    <a:lnTo>
                      <a:pt x="2877" y="4381"/>
                    </a:lnTo>
                    <a:lnTo>
                      <a:pt x="2887" y="4380"/>
                    </a:lnTo>
                    <a:lnTo>
                      <a:pt x="2906" y="4378"/>
                    </a:lnTo>
                    <a:lnTo>
                      <a:pt x="2927" y="4378"/>
                    </a:lnTo>
                    <a:lnTo>
                      <a:pt x="2975" y="4382"/>
                    </a:lnTo>
                    <a:lnTo>
                      <a:pt x="3034" y="4388"/>
                    </a:lnTo>
                    <a:lnTo>
                      <a:pt x="3069" y="4390"/>
                    </a:lnTo>
                    <a:lnTo>
                      <a:pt x="3108" y="4392"/>
                    </a:lnTo>
                    <a:lnTo>
                      <a:pt x="3151" y="4392"/>
                    </a:lnTo>
                    <a:lnTo>
                      <a:pt x="3197" y="4388"/>
                    </a:lnTo>
                    <a:lnTo>
                      <a:pt x="3223" y="4385"/>
                    </a:lnTo>
                    <a:lnTo>
                      <a:pt x="3249" y="4381"/>
                    </a:lnTo>
                    <a:lnTo>
                      <a:pt x="3278" y="4377"/>
                    </a:lnTo>
                    <a:lnTo>
                      <a:pt x="3307" y="4371"/>
                    </a:lnTo>
                    <a:lnTo>
                      <a:pt x="3338" y="4365"/>
                    </a:lnTo>
                    <a:lnTo>
                      <a:pt x="3369" y="4357"/>
                    </a:lnTo>
                    <a:lnTo>
                      <a:pt x="3403" y="4348"/>
                    </a:lnTo>
                    <a:lnTo>
                      <a:pt x="3438" y="4338"/>
                    </a:lnTo>
                    <a:lnTo>
                      <a:pt x="3472" y="4326"/>
                    </a:lnTo>
                    <a:lnTo>
                      <a:pt x="3505" y="4309"/>
                    </a:lnTo>
                    <a:lnTo>
                      <a:pt x="3535" y="4289"/>
                    </a:lnTo>
                    <a:lnTo>
                      <a:pt x="3563" y="4266"/>
                    </a:lnTo>
                    <a:lnTo>
                      <a:pt x="3588" y="4239"/>
                    </a:lnTo>
                    <a:lnTo>
                      <a:pt x="3612" y="4211"/>
                    </a:lnTo>
                    <a:lnTo>
                      <a:pt x="3633" y="4179"/>
                    </a:lnTo>
                    <a:lnTo>
                      <a:pt x="3654" y="4145"/>
                    </a:lnTo>
                    <a:lnTo>
                      <a:pt x="3672" y="4109"/>
                    </a:lnTo>
                    <a:lnTo>
                      <a:pt x="3688" y="4070"/>
                    </a:lnTo>
                    <a:lnTo>
                      <a:pt x="3702" y="4031"/>
                    </a:lnTo>
                    <a:lnTo>
                      <a:pt x="3715" y="3989"/>
                    </a:lnTo>
                    <a:lnTo>
                      <a:pt x="3726" y="3946"/>
                    </a:lnTo>
                    <a:lnTo>
                      <a:pt x="3736" y="3900"/>
                    </a:lnTo>
                    <a:lnTo>
                      <a:pt x="3746" y="3855"/>
                    </a:lnTo>
                    <a:lnTo>
                      <a:pt x="3753" y="3808"/>
                    </a:lnTo>
                    <a:lnTo>
                      <a:pt x="3759" y="3761"/>
                    </a:lnTo>
                    <a:lnTo>
                      <a:pt x="3765" y="3713"/>
                    </a:lnTo>
                    <a:lnTo>
                      <a:pt x="3768" y="3665"/>
                    </a:lnTo>
                    <a:lnTo>
                      <a:pt x="3772" y="3618"/>
                    </a:lnTo>
                    <a:lnTo>
                      <a:pt x="3774" y="3569"/>
                    </a:lnTo>
                    <a:lnTo>
                      <a:pt x="3775" y="3521"/>
                    </a:lnTo>
                    <a:lnTo>
                      <a:pt x="3776" y="3473"/>
                    </a:lnTo>
                    <a:lnTo>
                      <a:pt x="3776" y="3427"/>
                    </a:lnTo>
                    <a:lnTo>
                      <a:pt x="3775" y="3336"/>
                    </a:lnTo>
                    <a:lnTo>
                      <a:pt x="3772" y="3251"/>
                    </a:lnTo>
                    <a:lnTo>
                      <a:pt x="3767" y="3172"/>
                    </a:lnTo>
                    <a:lnTo>
                      <a:pt x="3761" y="3101"/>
                    </a:lnTo>
                    <a:lnTo>
                      <a:pt x="3756" y="3037"/>
                    </a:lnTo>
                    <a:lnTo>
                      <a:pt x="3748" y="2976"/>
                    </a:lnTo>
                    <a:lnTo>
                      <a:pt x="3740" y="2918"/>
                    </a:lnTo>
                    <a:lnTo>
                      <a:pt x="3732" y="2863"/>
                    </a:lnTo>
                    <a:lnTo>
                      <a:pt x="3715" y="2761"/>
                    </a:lnTo>
                    <a:lnTo>
                      <a:pt x="3701" y="2669"/>
                    </a:lnTo>
                    <a:lnTo>
                      <a:pt x="3697" y="2626"/>
                    </a:lnTo>
                    <a:lnTo>
                      <a:pt x="3693" y="2585"/>
                    </a:lnTo>
                    <a:lnTo>
                      <a:pt x="3692" y="2564"/>
                    </a:lnTo>
                    <a:lnTo>
                      <a:pt x="3692" y="2545"/>
                    </a:lnTo>
                    <a:lnTo>
                      <a:pt x="3692" y="2526"/>
                    </a:lnTo>
                    <a:lnTo>
                      <a:pt x="3693" y="2507"/>
                    </a:lnTo>
                    <a:lnTo>
                      <a:pt x="3696" y="2488"/>
                    </a:lnTo>
                    <a:lnTo>
                      <a:pt x="3698" y="2470"/>
                    </a:lnTo>
                    <a:lnTo>
                      <a:pt x="3701" y="2452"/>
                    </a:lnTo>
                    <a:lnTo>
                      <a:pt x="3706" y="2434"/>
                    </a:lnTo>
                    <a:lnTo>
                      <a:pt x="3710" y="2417"/>
                    </a:lnTo>
                    <a:lnTo>
                      <a:pt x="3716" y="2400"/>
                    </a:lnTo>
                    <a:lnTo>
                      <a:pt x="3724" y="2383"/>
                    </a:lnTo>
                    <a:lnTo>
                      <a:pt x="3732" y="2366"/>
                    </a:lnTo>
                    <a:lnTo>
                      <a:pt x="3748" y="2333"/>
                    </a:lnTo>
                    <a:lnTo>
                      <a:pt x="3761" y="2302"/>
                    </a:lnTo>
                    <a:lnTo>
                      <a:pt x="3775" y="2272"/>
                    </a:lnTo>
                    <a:lnTo>
                      <a:pt x="3787" y="2242"/>
                    </a:lnTo>
                    <a:lnTo>
                      <a:pt x="3798" y="2211"/>
                    </a:lnTo>
                    <a:lnTo>
                      <a:pt x="3808" y="2182"/>
                    </a:lnTo>
                    <a:lnTo>
                      <a:pt x="3816" y="2151"/>
                    </a:lnTo>
                    <a:lnTo>
                      <a:pt x="3824" y="2120"/>
                    </a:lnTo>
                    <a:lnTo>
                      <a:pt x="3829" y="2088"/>
                    </a:lnTo>
                    <a:lnTo>
                      <a:pt x="3835" y="2054"/>
                    </a:lnTo>
                    <a:lnTo>
                      <a:pt x="3840" y="2019"/>
                    </a:lnTo>
                    <a:lnTo>
                      <a:pt x="3843" y="1981"/>
                    </a:lnTo>
                    <a:lnTo>
                      <a:pt x="3846" y="1941"/>
                    </a:lnTo>
                    <a:lnTo>
                      <a:pt x="3848" y="1899"/>
                    </a:lnTo>
                    <a:lnTo>
                      <a:pt x="3849" y="1854"/>
                    </a:lnTo>
                    <a:lnTo>
                      <a:pt x="3850" y="1806"/>
                    </a:lnTo>
                    <a:lnTo>
                      <a:pt x="3849" y="1778"/>
                    </a:lnTo>
                    <a:lnTo>
                      <a:pt x="3844" y="1744"/>
                    </a:lnTo>
                    <a:lnTo>
                      <a:pt x="3838" y="1704"/>
                    </a:lnTo>
                    <a:lnTo>
                      <a:pt x="3831" y="1660"/>
                    </a:lnTo>
                    <a:lnTo>
                      <a:pt x="3820" y="1610"/>
                    </a:lnTo>
                    <a:lnTo>
                      <a:pt x="3809" y="1555"/>
                    </a:lnTo>
                    <a:lnTo>
                      <a:pt x="3794" y="1498"/>
                    </a:lnTo>
                    <a:lnTo>
                      <a:pt x="3778" y="1436"/>
                    </a:lnTo>
                    <a:lnTo>
                      <a:pt x="3760" y="1372"/>
                    </a:lnTo>
                    <a:lnTo>
                      <a:pt x="3741" y="1304"/>
                    </a:lnTo>
                    <a:lnTo>
                      <a:pt x="3719" y="1234"/>
                    </a:lnTo>
                    <a:lnTo>
                      <a:pt x="3696" y="1163"/>
                    </a:lnTo>
                    <a:lnTo>
                      <a:pt x="3671" y="1091"/>
                    </a:lnTo>
                    <a:lnTo>
                      <a:pt x="3645" y="1018"/>
                    </a:lnTo>
                    <a:lnTo>
                      <a:pt x="3617" y="944"/>
                    </a:lnTo>
                    <a:lnTo>
                      <a:pt x="3588" y="870"/>
                    </a:lnTo>
                    <a:lnTo>
                      <a:pt x="3559" y="796"/>
                    </a:lnTo>
                    <a:lnTo>
                      <a:pt x="3527" y="724"/>
                    </a:lnTo>
                    <a:lnTo>
                      <a:pt x="3494" y="653"/>
                    </a:lnTo>
                    <a:lnTo>
                      <a:pt x="3460" y="583"/>
                    </a:lnTo>
                    <a:lnTo>
                      <a:pt x="3425" y="516"/>
                    </a:lnTo>
                    <a:lnTo>
                      <a:pt x="3390" y="451"/>
                    </a:lnTo>
                    <a:lnTo>
                      <a:pt x="3352" y="390"/>
                    </a:lnTo>
                    <a:lnTo>
                      <a:pt x="3315" y="332"/>
                    </a:lnTo>
                    <a:lnTo>
                      <a:pt x="3278" y="278"/>
                    </a:lnTo>
                    <a:lnTo>
                      <a:pt x="3238" y="228"/>
                    </a:lnTo>
                    <a:lnTo>
                      <a:pt x="3198" y="182"/>
                    </a:lnTo>
                    <a:lnTo>
                      <a:pt x="3159" y="143"/>
                    </a:lnTo>
                    <a:lnTo>
                      <a:pt x="3118" y="109"/>
                    </a:lnTo>
                    <a:lnTo>
                      <a:pt x="3077" y="81"/>
                    </a:lnTo>
                    <a:lnTo>
                      <a:pt x="3036" y="60"/>
                    </a:lnTo>
                    <a:lnTo>
                      <a:pt x="2994" y="45"/>
                    </a:lnTo>
                    <a:lnTo>
                      <a:pt x="2952" y="35"/>
                    </a:lnTo>
                    <a:lnTo>
                      <a:pt x="2907" y="26"/>
                    </a:lnTo>
                    <a:lnTo>
                      <a:pt x="2860" y="19"/>
                    </a:lnTo>
                    <a:lnTo>
                      <a:pt x="2812" y="12"/>
                    </a:lnTo>
                    <a:lnTo>
                      <a:pt x="2762" y="8"/>
                    </a:lnTo>
                    <a:lnTo>
                      <a:pt x="2710" y="4"/>
                    </a:lnTo>
                    <a:lnTo>
                      <a:pt x="2658" y="2"/>
                    </a:lnTo>
                    <a:lnTo>
                      <a:pt x="2604" y="0"/>
                    </a:lnTo>
                    <a:lnTo>
                      <a:pt x="2550" y="0"/>
                    </a:lnTo>
                    <a:lnTo>
                      <a:pt x="2496" y="0"/>
                    </a:lnTo>
                    <a:lnTo>
                      <a:pt x="2440" y="1"/>
                    </a:lnTo>
                    <a:lnTo>
                      <a:pt x="2386" y="3"/>
                    </a:lnTo>
                    <a:lnTo>
                      <a:pt x="2278" y="9"/>
                    </a:lnTo>
                    <a:lnTo>
                      <a:pt x="2173" y="15"/>
                    </a:lnTo>
                    <a:lnTo>
                      <a:pt x="2073" y="25"/>
                    </a:lnTo>
                    <a:lnTo>
                      <a:pt x="1980" y="35"/>
                    </a:lnTo>
                    <a:lnTo>
                      <a:pt x="1896" y="45"/>
                    </a:lnTo>
                    <a:lnTo>
                      <a:pt x="1824" y="54"/>
                    </a:lnTo>
                    <a:lnTo>
                      <a:pt x="1718" y="69"/>
                    </a:lnTo>
                    <a:lnTo>
                      <a:pt x="1680" y="76"/>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29" name=""/>
              <p:cNvSpPr/>
              <p:nvPr/>
            </p:nvSpPr>
            <p:spPr>
              <a:xfrm>
                <a:off x="5352120" y="2854440"/>
                <a:ext cx="39960" cy="622440"/>
              </a:xfrm>
              <a:custGeom>
                <a:avLst/>
                <a:gdLst/>
                <a:ahLst/>
                <a:rect l="l" t="t" r="r" b="b"/>
                <a:pathLst>
                  <a:path w="177" h="3380">
                    <a:moveTo>
                      <a:pt x="92" y="0"/>
                    </a:moveTo>
                    <a:lnTo>
                      <a:pt x="91" y="15"/>
                    </a:lnTo>
                    <a:lnTo>
                      <a:pt x="88" y="52"/>
                    </a:lnTo>
                    <a:lnTo>
                      <a:pt x="85" y="107"/>
                    </a:lnTo>
                    <a:lnTo>
                      <a:pt x="84" y="173"/>
                    </a:lnTo>
                    <a:lnTo>
                      <a:pt x="84" y="208"/>
                    </a:lnTo>
                    <a:lnTo>
                      <a:pt x="85" y="243"/>
                    </a:lnTo>
                    <a:lnTo>
                      <a:pt x="86" y="277"/>
                    </a:lnTo>
                    <a:lnTo>
                      <a:pt x="90" y="310"/>
                    </a:lnTo>
                    <a:lnTo>
                      <a:pt x="94" y="342"/>
                    </a:lnTo>
                    <a:lnTo>
                      <a:pt x="100" y="369"/>
                    </a:lnTo>
                    <a:lnTo>
                      <a:pt x="103" y="381"/>
                    </a:lnTo>
                    <a:lnTo>
                      <a:pt x="107" y="393"/>
                    </a:lnTo>
                    <a:lnTo>
                      <a:pt x="111" y="403"/>
                    </a:lnTo>
                    <a:lnTo>
                      <a:pt x="116" y="412"/>
                    </a:lnTo>
                    <a:lnTo>
                      <a:pt x="121" y="421"/>
                    </a:lnTo>
                    <a:lnTo>
                      <a:pt x="126" y="430"/>
                    </a:lnTo>
                    <a:lnTo>
                      <a:pt x="130" y="441"/>
                    </a:lnTo>
                    <a:lnTo>
                      <a:pt x="134" y="453"/>
                    </a:lnTo>
                    <a:lnTo>
                      <a:pt x="138" y="479"/>
                    </a:lnTo>
                    <a:lnTo>
                      <a:pt x="142" y="508"/>
                    </a:lnTo>
                    <a:lnTo>
                      <a:pt x="143" y="539"/>
                    </a:lnTo>
                    <a:lnTo>
                      <a:pt x="143" y="571"/>
                    </a:lnTo>
                    <a:lnTo>
                      <a:pt x="142" y="603"/>
                    </a:lnTo>
                    <a:lnTo>
                      <a:pt x="138" y="636"/>
                    </a:lnTo>
                    <a:lnTo>
                      <a:pt x="131" y="696"/>
                    </a:lnTo>
                    <a:lnTo>
                      <a:pt x="125" y="746"/>
                    </a:lnTo>
                    <a:lnTo>
                      <a:pt x="119" y="780"/>
                    </a:lnTo>
                    <a:lnTo>
                      <a:pt x="116" y="793"/>
                    </a:lnTo>
                    <a:lnTo>
                      <a:pt x="177" y="1090"/>
                    </a:lnTo>
                    <a:lnTo>
                      <a:pt x="172" y="1107"/>
                    </a:lnTo>
                    <a:lnTo>
                      <a:pt x="163" y="1153"/>
                    </a:lnTo>
                    <a:lnTo>
                      <a:pt x="150" y="1225"/>
                    </a:lnTo>
                    <a:lnTo>
                      <a:pt x="134" y="1313"/>
                    </a:lnTo>
                    <a:lnTo>
                      <a:pt x="126" y="1363"/>
                    </a:lnTo>
                    <a:lnTo>
                      <a:pt x="119" y="1415"/>
                    </a:lnTo>
                    <a:lnTo>
                      <a:pt x="111" y="1469"/>
                    </a:lnTo>
                    <a:lnTo>
                      <a:pt x="105" y="1523"/>
                    </a:lnTo>
                    <a:lnTo>
                      <a:pt x="100" y="1579"/>
                    </a:lnTo>
                    <a:lnTo>
                      <a:pt x="95" y="1633"/>
                    </a:lnTo>
                    <a:lnTo>
                      <a:pt x="93" y="1685"/>
                    </a:lnTo>
                    <a:lnTo>
                      <a:pt x="92" y="1738"/>
                    </a:lnTo>
                    <a:lnTo>
                      <a:pt x="91" y="1785"/>
                    </a:lnTo>
                    <a:lnTo>
                      <a:pt x="88" y="1833"/>
                    </a:lnTo>
                    <a:lnTo>
                      <a:pt x="84" y="1881"/>
                    </a:lnTo>
                    <a:lnTo>
                      <a:pt x="79" y="1926"/>
                    </a:lnTo>
                    <a:lnTo>
                      <a:pt x="67" y="2016"/>
                    </a:lnTo>
                    <a:lnTo>
                      <a:pt x="56" y="2104"/>
                    </a:lnTo>
                    <a:lnTo>
                      <a:pt x="50" y="2148"/>
                    </a:lnTo>
                    <a:lnTo>
                      <a:pt x="46" y="2193"/>
                    </a:lnTo>
                    <a:lnTo>
                      <a:pt x="43" y="2237"/>
                    </a:lnTo>
                    <a:lnTo>
                      <a:pt x="42" y="2282"/>
                    </a:lnTo>
                    <a:lnTo>
                      <a:pt x="42" y="2305"/>
                    </a:lnTo>
                    <a:lnTo>
                      <a:pt x="43" y="2328"/>
                    </a:lnTo>
                    <a:lnTo>
                      <a:pt x="44" y="2350"/>
                    </a:lnTo>
                    <a:lnTo>
                      <a:pt x="46" y="2374"/>
                    </a:lnTo>
                    <a:lnTo>
                      <a:pt x="49" y="2397"/>
                    </a:lnTo>
                    <a:lnTo>
                      <a:pt x="52" y="2421"/>
                    </a:lnTo>
                    <a:lnTo>
                      <a:pt x="57" y="2445"/>
                    </a:lnTo>
                    <a:lnTo>
                      <a:pt x="61" y="2470"/>
                    </a:lnTo>
                    <a:lnTo>
                      <a:pt x="66" y="2494"/>
                    </a:lnTo>
                    <a:lnTo>
                      <a:pt x="69" y="2522"/>
                    </a:lnTo>
                    <a:lnTo>
                      <a:pt x="73" y="2549"/>
                    </a:lnTo>
                    <a:lnTo>
                      <a:pt x="74" y="2577"/>
                    </a:lnTo>
                    <a:lnTo>
                      <a:pt x="74" y="2607"/>
                    </a:lnTo>
                    <a:lnTo>
                      <a:pt x="74" y="2636"/>
                    </a:lnTo>
                    <a:lnTo>
                      <a:pt x="73" y="2666"/>
                    </a:lnTo>
                    <a:lnTo>
                      <a:pt x="71" y="2696"/>
                    </a:lnTo>
                    <a:lnTo>
                      <a:pt x="67" y="2759"/>
                    </a:lnTo>
                    <a:lnTo>
                      <a:pt x="59" y="2822"/>
                    </a:lnTo>
                    <a:lnTo>
                      <a:pt x="51" y="2886"/>
                    </a:lnTo>
                    <a:lnTo>
                      <a:pt x="42" y="2950"/>
                    </a:lnTo>
                    <a:lnTo>
                      <a:pt x="24" y="3073"/>
                    </a:lnTo>
                    <a:lnTo>
                      <a:pt x="8" y="3190"/>
                    </a:lnTo>
                    <a:lnTo>
                      <a:pt x="3" y="3243"/>
                    </a:lnTo>
                    <a:lnTo>
                      <a:pt x="0" y="3293"/>
                    </a:lnTo>
                    <a:lnTo>
                      <a:pt x="0" y="3317"/>
                    </a:lnTo>
                    <a:lnTo>
                      <a:pt x="0" y="3339"/>
                    </a:lnTo>
                    <a:lnTo>
                      <a:pt x="2" y="3360"/>
                    </a:lnTo>
                    <a:lnTo>
                      <a:pt x="5" y="3380"/>
                    </a:lnTo>
                    <a:lnTo>
                      <a:pt x="92" y="0"/>
                    </a:lnTo>
                    <a:close/>
                  </a:path>
                </a:pathLst>
              </a:custGeom>
              <a:solidFill>
                <a:srgbClr val="000000"/>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0" name=""/>
              <p:cNvSpPr/>
              <p:nvPr/>
            </p:nvSpPr>
            <p:spPr>
              <a:xfrm>
                <a:off x="5352120" y="2854440"/>
                <a:ext cx="39960" cy="622440"/>
              </a:xfrm>
              <a:custGeom>
                <a:avLst/>
                <a:gdLst/>
                <a:ahLst/>
                <a:rect l="l" t="t" r="r" b="b"/>
                <a:pathLst>
                  <a:path w="177" h="3380">
                    <a:moveTo>
                      <a:pt x="92" y="0"/>
                    </a:moveTo>
                    <a:lnTo>
                      <a:pt x="91" y="15"/>
                    </a:lnTo>
                    <a:lnTo>
                      <a:pt x="88" y="52"/>
                    </a:lnTo>
                    <a:lnTo>
                      <a:pt x="85" y="107"/>
                    </a:lnTo>
                    <a:lnTo>
                      <a:pt x="84" y="173"/>
                    </a:lnTo>
                    <a:lnTo>
                      <a:pt x="84" y="208"/>
                    </a:lnTo>
                    <a:lnTo>
                      <a:pt x="85" y="243"/>
                    </a:lnTo>
                    <a:lnTo>
                      <a:pt x="86" y="277"/>
                    </a:lnTo>
                    <a:lnTo>
                      <a:pt x="90" y="310"/>
                    </a:lnTo>
                    <a:lnTo>
                      <a:pt x="94" y="342"/>
                    </a:lnTo>
                    <a:lnTo>
                      <a:pt x="100" y="369"/>
                    </a:lnTo>
                    <a:lnTo>
                      <a:pt x="103" y="381"/>
                    </a:lnTo>
                    <a:lnTo>
                      <a:pt x="107" y="393"/>
                    </a:lnTo>
                    <a:lnTo>
                      <a:pt x="111" y="403"/>
                    </a:lnTo>
                    <a:lnTo>
                      <a:pt x="116" y="412"/>
                    </a:lnTo>
                    <a:lnTo>
                      <a:pt x="121" y="421"/>
                    </a:lnTo>
                    <a:lnTo>
                      <a:pt x="126" y="430"/>
                    </a:lnTo>
                    <a:lnTo>
                      <a:pt x="130" y="441"/>
                    </a:lnTo>
                    <a:lnTo>
                      <a:pt x="134" y="453"/>
                    </a:lnTo>
                    <a:lnTo>
                      <a:pt x="138" y="479"/>
                    </a:lnTo>
                    <a:lnTo>
                      <a:pt x="142" y="508"/>
                    </a:lnTo>
                    <a:lnTo>
                      <a:pt x="143" y="539"/>
                    </a:lnTo>
                    <a:lnTo>
                      <a:pt x="143" y="571"/>
                    </a:lnTo>
                    <a:lnTo>
                      <a:pt x="142" y="603"/>
                    </a:lnTo>
                    <a:lnTo>
                      <a:pt x="138" y="636"/>
                    </a:lnTo>
                    <a:lnTo>
                      <a:pt x="131" y="696"/>
                    </a:lnTo>
                    <a:lnTo>
                      <a:pt x="125" y="746"/>
                    </a:lnTo>
                    <a:lnTo>
                      <a:pt x="119" y="780"/>
                    </a:lnTo>
                    <a:lnTo>
                      <a:pt x="116" y="793"/>
                    </a:lnTo>
                    <a:lnTo>
                      <a:pt x="177" y="1090"/>
                    </a:lnTo>
                    <a:lnTo>
                      <a:pt x="172" y="1107"/>
                    </a:lnTo>
                    <a:lnTo>
                      <a:pt x="163" y="1153"/>
                    </a:lnTo>
                    <a:lnTo>
                      <a:pt x="150" y="1225"/>
                    </a:lnTo>
                    <a:lnTo>
                      <a:pt x="134" y="1313"/>
                    </a:lnTo>
                    <a:lnTo>
                      <a:pt x="126" y="1363"/>
                    </a:lnTo>
                    <a:lnTo>
                      <a:pt x="119" y="1415"/>
                    </a:lnTo>
                    <a:lnTo>
                      <a:pt x="111" y="1469"/>
                    </a:lnTo>
                    <a:lnTo>
                      <a:pt x="105" y="1523"/>
                    </a:lnTo>
                    <a:lnTo>
                      <a:pt x="100" y="1579"/>
                    </a:lnTo>
                    <a:lnTo>
                      <a:pt x="95" y="1633"/>
                    </a:lnTo>
                    <a:lnTo>
                      <a:pt x="93" y="1685"/>
                    </a:lnTo>
                    <a:lnTo>
                      <a:pt x="92" y="1738"/>
                    </a:lnTo>
                    <a:lnTo>
                      <a:pt x="91" y="1785"/>
                    </a:lnTo>
                    <a:lnTo>
                      <a:pt x="88" y="1833"/>
                    </a:lnTo>
                    <a:lnTo>
                      <a:pt x="84" y="1881"/>
                    </a:lnTo>
                    <a:lnTo>
                      <a:pt x="79" y="1926"/>
                    </a:lnTo>
                    <a:lnTo>
                      <a:pt x="67" y="2016"/>
                    </a:lnTo>
                    <a:lnTo>
                      <a:pt x="56" y="2104"/>
                    </a:lnTo>
                    <a:lnTo>
                      <a:pt x="50" y="2148"/>
                    </a:lnTo>
                    <a:lnTo>
                      <a:pt x="46" y="2193"/>
                    </a:lnTo>
                    <a:lnTo>
                      <a:pt x="43" y="2237"/>
                    </a:lnTo>
                    <a:lnTo>
                      <a:pt x="42" y="2282"/>
                    </a:lnTo>
                    <a:lnTo>
                      <a:pt x="42" y="2305"/>
                    </a:lnTo>
                    <a:lnTo>
                      <a:pt x="43" y="2328"/>
                    </a:lnTo>
                    <a:lnTo>
                      <a:pt x="44" y="2350"/>
                    </a:lnTo>
                    <a:lnTo>
                      <a:pt x="46" y="2374"/>
                    </a:lnTo>
                    <a:lnTo>
                      <a:pt x="49" y="2397"/>
                    </a:lnTo>
                    <a:lnTo>
                      <a:pt x="52" y="2421"/>
                    </a:lnTo>
                    <a:lnTo>
                      <a:pt x="57" y="2445"/>
                    </a:lnTo>
                    <a:lnTo>
                      <a:pt x="61" y="2470"/>
                    </a:lnTo>
                    <a:lnTo>
                      <a:pt x="66" y="2494"/>
                    </a:lnTo>
                    <a:lnTo>
                      <a:pt x="69" y="2522"/>
                    </a:lnTo>
                    <a:lnTo>
                      <a:pt x="73" y="2549"/>
                    </a:lnTo>
                    <a:lnTo>
                      <a:pt x="74" y="2577"/>
                    </a:lnTo>
                    <a:lnTo>
                      <a:pt x="74" y="2607"/>
                    </a:lnTo>
                    <a:lnTo>
                      <a:pt x="74" y="2636"/>
                    </a:lnTo>
                    <a:lnTo>
                      <a:pt x="73" y="2666"/>
                    </a:lnTo>
                    <a:lnTo>
                      <a:pt x="71" y="2696"/>
                    </a:lnTo>
                    <a:lnTo>
                      <a:pt x="67" y="2759"/>
                    </a:lnTo>
                    <a:lnTo>
                      <a:pt x="59" y="2822"/>
                    </a:lnTo>
                    <a:lnTo>
                      <a:pt x="51" y="2886"/>
                    </a:lnTo>
                    <a:lnTo>
                      <a:pt x="42" y="2950"/>
                    </a:lnTo>
                    <a:lnTo>
                      <a:pt x="24" y="3073"/>
                    </a:lnTo>
                    <a:lnTo>
                      <a:pt x="8" y="3190"/>
                    </a:lnTo>
                    <a:lnTo>
                      <a:pt x="3" y="3243"/>
                    </a:lnTo>
                    <a:lnTo>
                      <a:pt x="0" y="3293"/>
                    </a:lnTo>
                    <a:lnTo>
                      <a:pt x="0" y="3317"/>
                    </a:lnTo>
                    <a:lnTo>
                      <a:pt x="0" y="3339"/>
                    </a:lnTo>
                    <a:lnTo>
                      <a:pt x="2" y="3360"/>
                    </a:lnTo>
                    <a:lnTo>
                      <a:pt x="5" y="3380"/>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1" name=""/>
              <p:cNvSpPr/>
              <p:nvPr/>
            </p:nvSpPr>
            <p:spPr>
              <a:xfrm>
                <a:off x="4822560" y="2644560"/>
                <a:ext cx="643320" cy="199440"/>
              </a:xfrm>
              <a:custGeom>
                <a:avLst/>
                <a:gdLst/>
                <a:ahLst/>
                <a:rect l="l" t="t" r="r" b="b"/>
                <a:pathLst>
                  <a:path w="2895" h="1085">
                    <a:moveTo>
                      <a:pt x="543" y="814"/>
                    </a:moveTo>
                    <a:lnTo>
                      <a:pt x="415" y="639"/>
                    </a:lnTo>
                    <a:lnTo>
                      <a:pt x="0" y="700"/>
                    </a:lnTo>
                    <a:lnTo>
                      <a:pt x="26" y="675"/>
                    </a:lnTo>
                    <a:lnTo>
                      <a:pt x="103" y="608"/>
                    </a:lnTo>
                    <a:lnTo>
                      <a:pt x="160" y="564"/>
                    </a:lnTo>
                    <a:lnTo>
                      <a:pt x="227" y="513"/>
                    </a:lnTo>
                    <a:lnTo>
                      <a:pt x="264" y="486"/>
                    </a:lnTo>
                    <a:lnTo>
                      <a:pt x="305" y="458"/>
                    </a:lnTo>
                    <a:lnTo>
                      <a:pt x="348" y="429"/>
                    </a:lnTo>
                    <a:lnTo>
                      <a:pt x="393" y="400"/>
                    </a:lnTo>
                    <a:lnTo>
                      <a:pt x="441" y="370"/>
                    </a:lnTo>
                    <a:lnTo>
                      <a:pt x="491" y="340"/>
                    </a:lnTo>
                    <a:lnTo>
                      <a:pt x="543" y="310"/>
                    </a:lnTo>
                    <a:lnTo>
                      <a:pt x="597" y="281"/>
                    </a:lnTo>
                    <a:lnTo>
                      <a:pt x="654" y="252"/>
                    </a:lnTo>
                    <a:lnTo>
                      <a:pt x="712" y="224"/>
                    </a:lnTo>
                    <a:lnTo>
                      <a:pt x="773" y="197"/>
                    </a:lnTo>
                    <a:lnTo>
                      <a:pt x="835" y="169"/>
                    </a:lnTo>
                    <a:lnTo>
                      <a:pt x="900" y="144"/>
                    </a:lnTo>
                    <a:lnTo>
                      <a:pt x="966" y="121"/>
                    </a:lnTo>
                    <a:lnTo>
                      <a:pt x="1035" y="99"/>
                    </a:lnTo>
                    <a:lnTo>
                      <a:pt x="1104" y="79"/>
                    </a:lnTo>
                    <a:lnTo>
                      <a:pt x="1175" y="59"/>
                    </a:lnTo>
                    <a:lnTo>
                      <a:pt x="1249" y="43"/>
                    </a:lnTo>
                    <a:lnTo>
                      <a:pt x="1323" y="30"/>
                    </a:lnTo>
                    <a:lnTo>
                      <a:pt x="1399" y="18"/>
                    </a:lnTo>
                    <a:lnTo>
                      <a:pt x="1483" y="8"/>
                    </a:lnTo>
                    <a:lnTo>
                      <a:pt x="1565" y="2"/>
                    </a:lnTo>
                    <a:lnTo>
                      <a:pt x="1645" y="0"/>
                    </a:lnTo>
                    <a:lnTo>
                      <a:pt x="1723" y="0"/>
                    </a:lnTo>
                    <a:lnTo>
                      <a:pt x="1799" y="2"/>
                    </a:lnTo>
                    <a:lnTo>
                      <a:pt x="1872" y="8"/>
                    </a:lnTo>
                    <a:lnTo>
                      <a:pt x="1944" y="16"/>
                    </a:lnTo>
                    <a:lnTo>
                      <a:pt x="2014" y="26"/>
                    </a:lnTo>
                    <a:lnTo>
                      <a:pt x="2081" y="38"/>
                    </a:lnTo>
                    <a:lnTo>
                      <a:pt x="2147" y="51"/>
                    </a:lnTo>
                    <a:lnTo>
                      <a:pt x="2209" y="67"/>
                    </a:lnTo>
                    <a:lnTo>
                      <a:pt x="2269" y="84"/>
                    </a:lnTo>
                    <a:lnTo>
                      <a:pt x="2327" y="101"/>
                    </a:lnTo>
                    <a:lnTo>
                      <a:pt x="2382" y="121"/>
                    </a:lnTo>
                    <a:lnTo>
                      <a:pt x="2436" y="140"/>
                    </a:lnTo>
                    <a:lnTo>
                      <a:pt x="2485" y="159"/>
                    </a:lnTo>
                    <a:lnTo>
                      <a:pt x="2533" y="180"/>
                    </a:lnTo>
                    <a:lnTo>
                      <a:pt x="2578" y="200"/>
                    </a:lnTo>
                    <a:lnTo>
                      <a:pt x="2620" y="220"/>
                    </a:lnTo>
                    <a:lnTo>
                      <a:pt x="2660" y="241"/>
                    </a:lnTo>
                    <a:lnTo>
                      <a:pt x="2696" y="261"/>
                    </a:lnTo>
                    <a:lnTo>
                      <a:pt x="2729" y="279"/>
                    </a:lnTo>
                    <a:lnTo>
                      <a:pt x="2760" y="298"/>
                    </a:lnTo>
                    <a:lnTo>
                      <a:pt x="2788" y="316"/>
                    </a:lnTo>
                    <a:lnTo>
                      <a:pt x="2833" y="345"/>
                    </a:lnTo>
                    <a:lnTo>
                      <a:pt x="2867" y="369"/>
                    </a:lnTo>
                    <a:lnTo>
                      <a:pt x="2888" y="385"/>
                    </a:lnTo>
                    <a:lnTo>
                      <a:pt x="2895" y="389"/>
                    </a:lnTo>
                    <a:lnTo>
                      <a:pt x="2635" y="349"/>
                    </a:lnTo>
                    <a:lnTo>
                      <a:pt x="2504" y="347"/>
                    </a:lnTo>
                    <a:lnTo>
                      <a:pt x="2066" y="1056"/>
                    </a:lnTo>
                    <a:lnTo>
                      <a:pt x="2123" y="438"/>
                    </a:lnTo>
                    <a:lnTo>
                      <a:pt x="2244" y="347"/>
                    </a:lnTo>
                    <a:lnTo>
                      <a:pt x="2096" y="347"/>
                    </a:lnTo>
                    <a:lnTo>
                      <a:pt x="1479" y="233"/>
                    </a:lnTo>
                    <a:lnTo>
                      <a:pt x="779" y="408"/>
                    </a:lnTo>
                    <a:lnTo>
                      <a:pt x="570" y="1085"/>
                    </a:lnTo>
                    <a:lnTo>
                      <a:pt x="543" y="814"/>
                    </a:lnTo>
                    <a:close/>
                  </a:path>
                </a:pathLst>
              </a:custGeom>
              <a:solidFill>
                <a:srgbClr val="3366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2" name=""/>
              <p:cNvSpPr/>
              <p:nvPr/>
            </p:nvSpPr>
            <p:spPr>
              <a:xfrm>
                <a:off x="4822560" y="2644560"/>
                <a:ext cx="643320" cy="199440"/>
              </a:xfrm>
              <a:custGeom>
                <a:avLst/>
                <a:gdLst/>
                <a:ahLst/>
                <a:rect l="l" t="t" r="r" b="b"/>
                <a:pathLst>
                  <a:path w="2895" h="1085">
                    <a:moveTo>
                      <a:pt x="543" y="814"/>
                    </a:moveTo>
                    <a:lnTo>
                      <a:pt x="415" y="639"/>
                    </a:lnTo>
                    <a:lnTo>
                      <a:pt x="0" y="700"/>
                    </a:lnTo>
                    <a:lnTo>
                      <a:pt x="26" y="675"/>
                    </a:lnTo>
                    <a:lnTo>
                      <a:pt x="103" y="608"/>
                    </a:lnTo>
                    <a:lnTo>
                      <a:pt x="160" y="564"/>
                    </a:lnTo>
                    <a:lnTo>
                      <a:pt x="227" y="513"/>
                    </a:lnTo>
                    <a:lnTo>
                      <a:pt x="264" y="486"/>
                    </a:lnTo>
                    <a:lnTo>
                      <a:pt x="305" y="458"/>
                    </a:lnTo>
                    <a:lnTo>
                      <a:pt x="348" y="429"/>
                    </a:lnTo>
                    <a:lnTo>
                      <a:pt x="393" y="400"/>
                    </a:lnTo>
                    <a:lnTo>
                      <a:pt x="441" y="370"/>
                    </a:lnTo>
                    <a:lnTo>
                      <a:pt x="491" y="340"/>
                    </a:lnTo>
                    <a:lnTo>
                      <a:pt x="543" y="310"/>
                    </a:lnTo>
                    <a:lnTo>
                      <a:pt x="597" y="281"/>
                    </a:lnTo>
                    <a:lnTo>
                      <a:pt x="654" y="252"/>
                    </a:lnTo>
                    <a:lnTo>
                      <a:pt x="712" y="224"/>
                    </a:lnTo>
                    <a:lnTo>
                      <a:pt x="773" y="197"/>
                    </a:lnTo>
                    <a:lnTo>
                      <a:pt x="835" y="169"/>
                    </a:lnTo>
                    <a:lnTo>
                      <a:pt x="900" y="144"/>
                    </a:lnTo>
                    <a:lnTo>
                      <a:pt x="966" y="121"/>
                    </a:lnTo>
                    <a:lnTo>
                      <a:pt x="1035" y="99"/>
                    </a:lnTo>
                    <a:lnTo>
                      <a:pt x="1104" y="79"/>
                    </a:lnTo>
                    <a:lnTo>
                      <a:pt x="1175" y="59"/>
                    </a:lnTo>
                    <a:lnTo>
                      <a:pt x="1249" y="43"/>
                    </a:lnTo>
                    <a:lnTo>
                      <a:pt x="1323" y="30"/>
                    </a:lnTo>
                    <a:lnTo>
                      <a:pt x="1399" y="18"/>
                    </a:lnTo>
                    <a:lnTo>
                      <a:pt x="1483" y="8"/>
                    </a:lnTo>
                    <a:lnTo>
                      <a:pt x="1565" y="2"/>
                    </a:lnTo>
                    <a:lnTo>
                      <a:pt x="1645" y="0"/>
                    </a:lnTo>
                    <a:lnTo>
                      <a:pt x="1723" y="0"/>
                    </a:lnTo>
                    <a:lnTo>
                      <a:pt x="1799" y="2"/>
                    </a:lnTo>
                    <a:lnTo>
                      <a:pt x="1872" y="8"/>
                    </a:lnTo>
                    <a:lnTo>
                      <a:pt x="1944" y="16"/>
                    </a:lnTo>
                    <a:lnTo>
                      <a:pt x="2014" y="26"/>
                    </a:lnTo>
                    <a:lnTo>
                      <a:pt x="2081" y="38"/>
                    </a:lnTo>
                    <a:lnTo>
                      <a:pt x="2147" y="51"/>
                    </a:lnTo>
                    <a:lnTo>
                      <a:pt x="2209" y="67"/>
                    </a:lnTo>
                    <a:lnTo>
                      <a:pt x="2269" y="84"/>
                    </a:lnTo>
                    <a:lnTo>
                      <a:pt x="2327" y="101"/>
                    </a:lnTo>
                    <a:lnTo>
                      <a:pt x="2382" y="121"/>
                    </a:lnTo>
                    <a:lnTo>
                      <a:pt x="2436" y="140"/>
                    </a:lnTo>
                    <a:lnTo>
                      <a:pt x="2485" y="159"/>
                    </a:lnTo>
                    <a:lnTo>
                      <a:pt x="2533" y="180"/>
                    </a:lnTo>
                    <a:lnTo>
                      <a:pt x="2578" y="200"/>
                    </a:lnTo>
                    <a:lnTo>
                      <a:pt x="2620" y="220"/>
                    </a:lnTo>
                    <a:lnTo>
                      <a:pt x="2660" y="241"/>
                    </a:lnTo>
                    <a:lnTo>
                      <a:pt x="2696" y="261"/>
                    </a:lnTo>
                    <a:lnTo>
                      <a:pt x="2729" y="279"/>
                    </a:lnTo>
                    <a:lnTo>
                      <a:pt x="2760" y="298"/>
                    </a:lnTo>
                    <a:lnTo>
                      <a:pt x="2788" y="316"/>
                    </a:lnTo>
                    <a:lnTo>
                      <a:pt x="2833" y="345"/>
                    </a:lnTo>
                    <a:lnTo>
                      <a:pt x="2867" y="369"/>
                    </a:lnTo>
                    <a:lnTo>
                      <a:pt x="2888" y="385"/>
                    </a:lnTo>
                    <a:lnTo>
                      <a:pt x="2895" y="389"/>
                    </a:lnTo>
                    <a:lnTo>
                      <a:pt x="2635" y="349"/>
                    </a:lnTo>
                    <a:lnTo>
                      <a:pt x="2504" y="347"/>
                    </a:lnTo>
                    <a:lnTo>
                      <a:pt x="2066" y="1056"/>
                    </a:lnTo>
                    <a:lnTo>
                      <a:pt x="2123" y="438"/>
                    </a:lnTo>
                    <a:lnTo>
                      <a:pt x="2244" y="347"/>
                    </a:lnTo>
                    <a:lnTo>
                      <a:pt x="2096" y="347"/>
                    </a:lnTo>
                    <a:lnTo>
                      <a:pt x="1479" y="233"/>
                    </a:lnTo>
                    <a:lnTo>
                      <a:pt x="779" y="408"/>
                    </a:lnTo>
                    <a:lnTo>
                      <a:pt x="570" y="1085"/>
                    </a:lnTo>
                    <a:lnTo>
                      <a:pt x="543" y="814"/>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3" name=""/>
              <p:cNvSpPr/>
              <p:nvPr/>
            </p:nvSpPr>
            <p:spPr>
              <a:xfrm>
                <a:off x="4747320" y="1995480"/>
                <a:ext cx="127440" cy="125280"/>
              </a:xfrm>
              <a:custGeom>
                <a:avLst/>
                <a:gdLst/>
                <a:ahLst/>
                <a:rect l="l" t="t" r="r" b="b"/>
                <a:pathLst>
                  <a:path w="573" h="692">
                    <a:moveTo>
                      <a:pt x="290" y="692"/>
                    </a:moveTo>
                    <a:lnTo>
                      <a:pt x="304" y="692"/>
                    </a:lnTo>
                    <a:lnTo>
                      <a:pt x="318" y="691"/>
                    </a:lnTo>
                    <a:lnTo>
                      <a:pt x="332" y="689"/>
                    </a:lnTo>
                    <a:lnTo>
                      <a:pt x="345" y="685"/>
                    </a:lnTo>
                    <a:lnTo>
                      <a:pt x="359" y="682"/>
                    </a:lnTo>
                    <a:lnTo>
                      <a:pt x="373" y="676"/>
                    </a:lnTo>
                    <a:lnTo>
                      <a:pt x="386" y="672"/>
                    </a:lnTo>
                    <a:lnTo>
                      <a:pt x="399" y="665"/>
                    </a:lnTo>
                    <a:lnTo>
                      <a:pt x="411" y="658"/>
                    </a:lnTo>
                    <a:lnTo>
                      <a:pt x="424" y="650"/>
                    </a:lnTo>
                    <a:lnTo>
                      <a:pt x="436" y="642"/>
                    </a:lnTo>
                    <a:lnTo>
                      <a:pt x="447" y="633"/>
                    </a:lnTo>
                    <a:lnTo>
                      <a:pt x="459" y="623"/>
                    </a:lnTo>
                    <a:lnTo>
                      <a:pt x="469" y="613"/>
                    </a:lnTo>
                    <a:lnTo>
                      <a:pt x="479" y="601"/>
                    </a:lnTo>
                    <a:lnTo>
                      <a:pt x="489" y="590"/>
                    </a:lnTo>
                    <a:lnTo>
                      <a:pt x="498" y="578"/>
                    </a:lnTo>
                    <a:lnTo>
                      <a:pt x="508" y="565"/>
                    </a:lnTo>
                    <a:lnTo>
                      <a:pt x="517" y="553"/>
                    </a:lnTo>
                    <a:lnTo>
                      <a:pt x="525" y="539"/>
                    </a:lnTo>
                    <a:lnTo>
                      <a:pt x="531" y="524"/>
                    </a:lnTo>
                    <a:lnTo>
                      <a:pt x="539" y="509"/>
                    </a:lnTo>
                    <a:lnTo>
                      <a:pt x="545" y="495"/>
                    </a:lnTo>
                    <a:lnTo>
                      <a:pt x="551" y="480"/>
                    </a:lnTo>
                    <a:lnTo>
                      <a:pt x="556" y="464"/>
                    </a:lnTo>
                    <a:lnTo>
                      <a:pt x="561" y="447"/>
                    </a:lnTo>
                    <a:lnTo>
                      <a:pt x="564" y="431"/>
                    </a:lnTo>
                    <a:lnTo>
                      <a:pt x="568" y="414"/>
                    </a:lnTo>
                    <a:lnTo>
                      <a:pt x="570" y="397"/>
                    </a:lnTo>
                    <a:lnTo>
                      <a:pt x="572" y="380"/>
                    </a:lnTo>
                    <a:lnTo>
                      <a:pt x="573" y="362"/>
                    </a:lnTo>
                    <a:lnTo>
                      <a:pt x="573" y="345"/>
                    </a:lnTo>
                    <a:lnTo>
                      <a:pt x="573" y="327"/>
                    </a:lnTo>
                    <a:lnTo>
                      <a:pt x="572" y="309"/>
                    </a:lnTo>
                    <a:lnTo>
                      <a:pt x="570" y="292"/>
                    </a:lnTo>
                    <a:lnTo>
                      <a:pt x="568" y="275"/>
                    </a:lnTo>
                    <a:lnTo>
                      <a:pt x="564" y="257"/>
                    </a:lnTo>
                    <a:lnTo>
                      <a:pt x="561" y="240"/>
                    </a:lnTo>
                    <a:lnTo>
                      <a:pt x="556" y="225"/>
                    </a:lnTo>
                    <a:lnTo>
                      <a:pt x="551" y="209"/>
                    </a:lnTo>
                    <a:lnTo>
                      <a:pt x="545" y="194"/>
                    </a:lnTo>
                    <a:lnTo>
                      <a:pt x="539" y="179"/>
                    </a:lnTo>
                    <a:lnTo>
                      <a:pt x="531" y="164"/>
                    </a:lnTo>
                    <a:lnTo>
                      <a:pt x="525" y="151"/>
                    </a:lnTo>
                    <a:lnTo>
                      <a:pt x="517" y="137"/>
                    </a:lnTo>
                    <a:lnTo>
                      <a:pt x="508" y="124"/>
                    </a:lnTo>
                    <a:lnTo>
                      <a:pt x="498" y="111"/>
                    </a:lnTo>
                    <a:lnTo>
                      <a:pt x="489" y="100"/>
                    </a:lnTo>
                    <a:lnTo>
                      <a:pt x="479" y="88"/>
                    </a:lnTo>
                    <a:lnTo>
                      <a:pt x="469" y="77"/>
                    </a:lnTo>
                    <a:lnTo>
                      <a:pt x="459" y="67"/>
                    </a:lnTo>
                    <a:lnTo>
                      <a:pt x="447" y="58"/>
                    </a:lnTo>
                    <a:lnTo>
                      <a:pt x="436" y="49"/>
                    </a:lnTo>
                    <a:lnTo>
                      <a:pt x="424" y="41"/>
                    </a:lnTo>
                    <a:lnTo>
                      <a:pt x="411" y="33"/>
                    </a:lnTo>
                    <a:lnTo>
                      <a:pt x="399" y="26"/>
                    </a:lnTo>
                    <a:lnTo>
                      <a:pt x="386" y="20"/>
                    </a:lnTo>
                    <a:lnTo>
                      <a:pt x="373" y="15"/>
                    </a:lnTo>
                    <a:lnTo>
                      <a:pt x="359" y="10"/>
                    </a:lnTo>
                    <a:lnTo>
                      <a:pt x="345" y="7"/>
                    </a:lnTo>
                    <a:lnTo>
                      <a:pt x="332" y="3"/>
                    </a:lnTo>
                    <a:lnTo>
                      <a:pt x="318" y="1"/>
                    </a:lnTo>
                    <a:lnTo>
                      <a:pt x="304" y="0"/>
                    </a:lnTo>
                    <a:lnTo>
                      <a:pt x="290" y="0"/>
                    </a:lnTo>
                    <a:lnTo>
                      <a:pt x="274" y="0"/>
                    </a:lnTo>
                    <a:lnTo>
                      <a:pt x="259" y="1"/>
                    </a:lnTo>
                    <a:lnTo>
                      <a:pt x="245" y="3"/>
                    </a:lnTo>
                    <a:lnTo>
                      <a:pt x="230" y="7"/>
                    </a:lnTo>
                    <a:lnTo>
                      <a:pt x="216" y="10"/>
                    </a:lnTo>
                    <a:lnTo>
                      <a:pt x="203" y="15"/>
                    </a:lnTo>
                    <a:lnTo>
                      <a:pt x="189" y="20"/>
                    </a:lnTo>
                    <a:lnTo>
                      <a:pt x="175" y="26"/>
                    </a:lnTo>
                    <a:lnTo>
                      <a:pt x="163" y="33"/>
                    </a:lnTo>
                    <a:lnTo>
                      <a:pt x="149" y="41"/>
                    </a:lnTo>
                    <a:lnTo>
                      <a:pt x="138" y="49"/>
                    </a:lnTo>
                    <a:lnTo>
                      <a:pt x="126" y="58"/>
                    </a:lnTo>
                    <a:lnTo>
                      <a:pt x="114" y="67"/>
                    </a:lnTo>
                    <a:lnTo>
                      <a:pt x="104" y="77"/>
                    </a:lnTo>
                    <a:lnTo>
                      <a:pt x="94" y="88"/>
                    </a:lnTo>
                    <a:lnTo>
                      <a:pt x="84" y="100"/>
                    </a:lnTo>
                    <a:lnTo>
                      <a:pt x="73" y="111"/>
                    </a:lnTo>
                    <a:lnTo>
                      <a:pt x="64" y="124"/>
                    </a:lnTo>
                    <a:lnTo>
                      <a:pt x="56" y="137"/>
                    </a:lnTo>
                    <a:lnTo>
                      <a:pt x="49" y="151"/>
                    </a:lnTo>
                    <a:lnTo>
                      <a:pt x="41" y="164"/>
                    </a:lnTo>
                    <a:lnTo>
                      <a:pt x="34" y="179"/>
                    </a:lnTo>
                    <a:lnTo>
                      <a:pt x="27" y="194"/>
                    </a:lnTo>
                    <a:lnTo>
                      <a:pt x="21" y="209"/>
                    </a:lnTo>
                    <a:lnTo>
                      <a:pt x="17" y="225"/>
                    </a:lnTo>
                    <a:lnTo>
                      <a:pt x="12" y="240"/>
                    </a:lnTo>
                    <a:lnTo>
                      <a:pt x="9" y="257"/>
                    </a:lnTo>
                    <a:lnTo>
                      <a:pt x="5" y="275"/>
                    </a:lnTo>
                    <a:lnTo>
                      <a:pt x="3" y="292"/>
                    </a:lnTo>
                    <a:lnTo>
                      <a:pt x="1" y="309"/>
                    </a:lnTo>
                    <a:lnTo>
                      <a:pt x="0" y="327"/>
                    </a:lnTo>
                    <a:lnTo>
                      <a:pt x="0" y="345"/>
                    </a:lnTo>
                    <a:lnTo>
                      <a:pt x="0" y="362"/>
                    </a:lnTo>
                    <a:lnTo>
                      <a:pt x="1" y="380"/>
                    </a:lnTo>
                    <a:lnTo>
                      <a:pt x="3" y="397"/>
                    </a:lnTo>
                    <a:lnTo>
                      <a:pt x="5" y="414"/>
                    </a:lnTo>
                    <a:lnTo>
                      <a:pt x="9" y="431"/>
                    </a:lnTo>
                    <a:lnTo>
                      <a:pt x="12" y="447"/>
                    </a:lnTo>
                    <a:lnTo>
                      <a:pt x="17" y="464"/>
                    </a:lnTo>
                    <a:lnTo>
                      <a:pt x="21" y="480"/>
                    </a:lnTo>
                    <a:lnTo>
                      <a:pt x="27" y="495"/>
                    </a:lnTo>
                    <a:lnTo>
                      <a:pt x="34" y="509"/>
                    </a:lnTo>
                    <a:lnTo>
                      <a:pt x="41" y="524"/>
                    </a:lnTo>
                    <a:lnTo>
                      <a:pt x="49" y="539"/>
                    </a:lnTo>
                    <a:lnTo>
                      <a:pt x="56" y="553"/>
                    </a:lnTo>
                    <a:lnTo>
                      <a:pt x="64" y="565"/>
                    </a:lnTo>
                    <a:lnTo>
                      <a:pt x="73" y="578"/>
                    </a:lnTo>
                    <a:lnTo>
                      <a:pt x="84" y="590"/>
                    </a:lnTo>
                    <a:lnTo>
                      <a:pt x="94" y="601"/>
                    </a:lnTo>
                    <a:lnTo>
                      <a:pt x="104" y="613"/>
                    </a:lnTo>
                    <a:lnTo>
                      <a:pt x="114" y="623"/>
                    </a:lnTo>
                    <a:lnTo>
                      <a:pt x="126" y="633"/>
                    </a:lnTo>
                    <a:lnTo>
                      <a:pt x="138" y="642"/>
                    </a:lnTo>
                    <a:lnTo>
                      <a:pt x="149" y="650"/>
                    </a:lnTo>
                    <a:lnTo>
                      <a:pt x="163" y="658"/>
                    </a:lnTo>
                    <a:lnTo>
                      <a:pt x="175" y="665"/>
                    </a:lnTo>
                    <a:lnTo>
                      <a:pt x="189" y="672"/>
                    </a:lnTo>
                    <a:lnTo>
                      <a:pt x="203" y="676"/>
                    </a:lnTo>
                    <a:lnTo>
                      <a:pt x="216" y="682"/>
                    </a:lnTo>
                    <a:lnTo>
                      <a:pt x="230" y="685"/>
                    </a:lnTo>
                    <a:lnTo>
                      <a:pt x="245" y="689"/>
                    </a:lnTo>
                    <a:lnTo>
                      <a:pt x="259" y="691"/>
                    </a:lnTo>
                    <a:lnTo>
                      <a:pt x="274" y="692"/>
                    </a:lnTo>
                    <a:lnTo>
                      <a:pt x="290" y="692"/>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4" name=""/>
              <p:cNvSpPr/>
              <p:nvPr/>
            </p:nvSpPr>
            <p:spPr>
              <a:xfrm>
                <a:off x="4747320" y="1995480"/>
                <a:ext cx="127440" cy="125280"/>
              </a:xfrm>
              <a:custGeom>
                <a:avLst/>
                <a:gdLst/>
                <a:ahLst/>
                <a:rect l="l" t="t" r="r" b="b"/>
                <a:pathLst>
                  <a:path w="573" h="692">
                    <a:moveTo>
                      <a:pt x="290" y="692"/>
                    </a:moveTo>
                    <a:lnTo>
                      <a:pt x="304" y="692"/>
                    </a:lnTo>
                    <a:lnTo>
                      <a:pt x="318" y="691"/>
                    </a:lnTo>
                    <a:lnTo>
                      <a:pt x="332" y="689"/>
                    </a:lnTo>
                    <a:lnTo>
                      <a:pt x="345" y="685"/>
                    </a:lnTo>
                    <a:lnTo>
                      <a:pt x="359" y="682"/>
                    </a:lnTo>
                    <a:lnTo>
                      <a:pt x="373" y="676"/>
                    </a:lnTo>
                    <a:lnTo>
                      <a:pt x="386" y="672"/>
                    </a:lnTo>
                    <a:lnTo>
                      <a:pt x="399" y="665"/>
                    </a:lnTo>
                    <a:lnTo>
                      <a:pt x="411" y="658"/>
                    </a:lnTo>
                    <a:lnTo>
                      <a:pt x="424" y="650"/>
                    </a:lnTo>
                    <a:lnTo>
                      <a:pt x="436" y="642"/>
                    </a:lnTo>
                    <a:lnTo>
                      <a:pt x="447" y="633"/>
                    </a:lnTo>
                    <a:lnTo>
                      <a:pt x="459" y="623"/>
                    </a:lnTo>
                    <a:lnTo>
                      <a:pt x="469" y="613"/>
                    </a:lnTo>
                    <a:lnTo>
                      <a:pt x="479" y="601"/>
                    </a:lnTo>
                    <a:lnTo>
                      <a:pt x="489" y="590"/>
                    </a:lnTo>
                    <a:lnTo>
                      <a:pt x="498" y="578"/>
                    </a:lnTo>
                    <a:lnTo>
                      <a:pt x="508" y="565"/>
                    </a:lnTo>
                    <a:lnTo>
                      <a:pt x="517" y="553"/>
                    </a:lnTo>
                    <a:lnTo>
                      <a:pt x="525" y="539"/>
                    </a:lnTo>
                    <a:lnTo>
                      <a:pt x="531" y="524"/>
                    </a:lnTo>
                    <a:lnTo>
                      <a:pt x="539" y="509"/>
                    </a:lnTo>
                    <a:lnTo>
                      <a:pt x="545" y="495"/>
                    </a:lnTo>
                    <a:lnTo>
                      <a:pt x="551" y="480"/>
                    </a:lnTo>
                    <a:lnTo>
                      <a:pt x="556" y="464"/>
                    </a:lnTo>
                    <a:lnTo>
                      <a:pt x="561" y="447"/>
                    </a:lnTo>
                    <a:lnTo>
                      <a:pt x="564" y="431"/>
                    </a:lnTo>
                    <a:lnTo>
                      <a:pt x="568" y="414"/>
                    </a:lnTo>
                    <a:lnTo>
                      <a:pt x="570" y="397"/>
                    </a:lnTo>
                    <a:lnTo>
                      <a:pt x="572" y="380"/>
                    </a:lnTo>
                    <a:lnTo>
                      <a:pt x="573" y="362"/>
                    </a:lnTo>
                    <a:lnTo>
                      <a:pt x="573" y="345"/>
                    </a:lnTo>
                    <a:lnTo>
                      <a:pt x="573" y="327"/>
                    </a:lnTo>
                    <a:lnTo>
                      <a:pt x="572" y="309"/>
                    </a:lnTo>
                    <a:lnTo>
                      <a:pt x="570" y="292"/>
                    </a:lnTo>
                    <a:lnTo>
                      <a:pt x="568" y="275"/>
                    </a:lnTo>
                    <a:lnTo>
                      <a:pt x="564" y="257"/>
                    </a:lnTo>
                    <a:lnTo>
                      <a:pt x="561" y="240"/>
                    </a:lnTo>
                    <a:lnTo>
                      <a:pt x="556" y="225"/>
                    </a:lnTo>
                    <a:lnTo>
                      <a:pt x="551" y="209"/>
                    </a:lnTo>
                    <a:lnTo>
                      <a:pt x="545" y="194"/>
                    </a:lnTo>
                    <a:lnTo>
                      <a:pt x="539" y="179"/>
                    </a:lnTo>
                    <a:lnTo>
                      <a:pt x="531" y="164"/>
                    </a:lnTo>
                    <a:lnTo>
                      <a:pt x="525" y="151"/>
                    </a:lnTo>
                    <a:lnTo>
                      <a:pt x="517" y="137"/>
                    </a:lnTo>
                    <a:lnTo>
                      <a:pt x="508" y="124"/>
                    </a:lnTo>
                    <a:lnTo>
                      <a:pt x="498" y="111"/>
                    </a:lnTo>
                    <a:lnTo>
                      <a:pt x="489" y="100"/>
                    </a:lnTo>
                    <a:lnTo>
                      <a:pt x="479" y="88"/>
                    </a:lnTo>
                    <a:lnTo>
                      <a:pt x="469" y="77"/>
                    </a:lnTo>
                    <a:lnTo>
                      <a:pt x="459" y="67"/>
                    </a:lnTo>
                    <a:lnTo>
                      <a:pt x="447" y="58"/>
                    </a:lnTo>
                    <a:lnTo>
                      <a:pt x="436" y="49"/>
                    </a:lnTo>
                    <a:lnTo>
                      <a:pt x="424" y="41"/>
                    </a:lnTo>
                    <a:lnTo>
                      <a:pt x="411" y="33"/>
                    </a:lnTo>
                    <a:lnTo>
                      <a:pt x="399" y="26"/>
                    </a:lnTo>
                    <a:lnTo>
                      <a:pt x="386" y="20"/>
                    </a:lnTo>
                    <a:lnTo>
                      <a:pt x="373" y="15"/>
                    </a:lnTo>
                    <a:lnTo>
                      <a:pt x="359" y="10"/>
                    </a:lnTo>
                    <a:lnTo>
                      <a:pt x="345" y="7"/>
                    </a:lnTo>
                    <a:lnTo>
                      <a:pt x="332" y="3"/>
                    </a:lnTo>
                    <a:lnTo>
                      <a:pt x="318" y="1"/>
                    </a:lnTo>
                    <a:lnTo>
                      <a:pt x="304" y="0"/>
                    </a:lnTo>
                    <a:lnTo>
                      <a:pt x="290" y="0"/>
                    </a:lnTo>
                    <a:lnTo>
                      <a:pt x="274" y="0"/>
                    </a:lnTo>
                    <a:lnTo>
                      <a:pt x="259" y="1"/>
                    </a:lnTo>
                    <a:lnTo>
                      <a:pt x="245" y="3"/>
                    </a:lnTo>
                    <a:lnTo>
                      <a:pt x="230" y="7"/>
                    </a:lnTo>
                    <a:lnTo>
                      <a:pt x="216" y="10"/>
                    </a:lnTo>
                    <a:lnTo>
                      <a:pt x="203" y="15"/>
                    </a:lnTo>
                    <a:lnTo>
                      <a:pt x="189" y="20"/>
                    </a:lnTo>
                    <a:lnTo>
                      <a:pt x="175" y="26"/>
                    </a:lnTo>
                    <a:lnTo>
                      <a:pt x="163" y="33"/>
                    </a:lnTo>
                    <a:lnTo>
                      <a:pt x="149" y="41"/>
                    </a:lnTo>
                    <a:lnTo>
                      <a:pt x="138" y="49"/>
                    </a:lnTo>
                    <a:lnTo>
                      <a:pt x="126" y="58"/>
                    </a:lnTo>
                    <a:lnTo>
                      <a:pt x="114" y="67"/>
                    </a:lnTo>
                    <a:lnTo>
                      <a:pt x="104" y="77"/>
                    </a:lnTo>
                    <a:lnTo>
                      <a:pt x="94" y="88"/>
                    </a:lnTo>
                    <a:lnTo>
                      <a:pt x="84" y="100"/>
                    </a:lnTo>
                    <a:lnTo>
                      <a:pt x="73" y="111"/>
                    </a:lnTo>
                    <a:lnTo>
                      <a:pt x="64" y="124"/>
                    </a:lnTo>
                    <a:lnTo>
                      <a:pt x="56" y="137"/>
                    </a:lnTo>
                    <a:lnTo>
                      <a:pt x="49" y="151"/>
                    </a:lnTo>
                    <a:lnTo>
                      <a:pt x="41" y="164"/>
                    </a:lnTo>
                    <a:lnTo>
                      <a:pt x="34" y="179"/>
                    </a:lnTo>
                    <a:lnTo>
                      <a:pt x="27" y="194"/>
                    </a:lnTo>
                    <a:lnTo>
                      <a:pt x="21" y="209"/>
                    </a:lnTo>
                    <a:lnTo>
                      <a:pt x="17" y="225"/>
                    </a:lnTo>
                    <a:lnTo>
                      <a:pt x="12" y="240"/>
                    </a:lnTo>
                    <a:lnTo>
                      <a:pt x="9" y="257"/>
                    </a:lnTo>
                    <a:lnTo>
                      <a:pt x="5" y="275"/>
                    </a:lnTo>
                    <a:lnTo>
                      <a:pt x="3" y="292"/>
                    </a:lnTo>
                    <a:lnTo>
                      <a:pt x="1" y="309"/>
                    </a:lnTo>
                    <a:lnTo>
                      <a:pt x="0" y="327"/>
                    </a:lnTo>
                    <a:lnTo>
                      <a:pt x="0" y="345"/>
                    </a:lnTo>
                    <a:lnTo>
                      <a:pt x="0" y="362"/>
                    </a:lnTo>
                    <a:lnTo>
                      <a:pt x="1" y="380"/>
                    </a:lnTo>
                    <a:lnTo>
                      <a:pt x="3" y="397"/>
                    </a:lnTo>
                    <a:lnTo>
                      <a:pt x="5" y="414"/>
                    </a:lnTo>
                    <a:lnTo>
                      <a:pt x="9" y="431"/>
                    </a:lnTo>
                    <a:lnTo>
                      <a:pt x="12" y="447"/>
                    </a:lnTo>
                    <a:lnTo>
                      <a:pt x="17" y="464"/>
                    </a:lnTo>
                    <a:lnTo>
                      <a:pt x="21" y="480"/>
                    </a:lnTo>
                    <a:lnTo>
                      <a:pt x="27" y="495"/>
                    </a:lnTo>
                    <a:lnTo>
                      <a:pt x="34" y="509"/>
                    </a:lnTo>
                    <a:lnTo>
                      <a:pt x="41" y="524"/>
                    </a:lnTo>
                    <a:lnTo>
                      <a:pt x="49" y="539"/>
                    </a:lnTo>
                    <a:lnTo>
                      <a:pt x="56" y="553"/>
                    </a:lnTo>
                    <a:lnTo>
                      <a:pt x="64" y="565"/>
                    </a:lnTo>
                    <a:lnTo>
                      <a:pt x="73" y="578"/>
                    </a:lnTo>
                    <a:lnTo>
                      <a:pt x="84" y="590"/>
                    </a:lnTo>
                    <a:lnTo>
                      <a:pt x="94" y="601"/>
                    </a:lnTo>
                    <a:lnTo>
                      <a:pt x="104" y="613"/>
                    </a:lnTo>
                    <a:lnTo>
                      <a:pt x="114" y="623"/>
                    </a:lnTo>
                    <a:lnTo>
                      <a:pt x="126" y="633"/>
                    </a:lnTo>
                    <a:lnTo>
                      <a:pt x="138" y="642"/>
                    </a:lnTo>
                    <a:lnTo>
                      <a:pt x="149" y="650"/>
                    </a:lnTo>
                    <a:lnTo>
                      <a:pt x="163" y="658"/>
                    </a:lnTo>
                    <a:lnTo>
                      <a:pt x="175" y="665"/>
                    </a:lnTo>
                    <a:lnTo>
                      <a:pt x="189" y="672"/>
                    </a:lnTo>
                    <a:lnTo>
                      <a:pt x="203" y="676"/>
                    </a:lnTo>
                    <a:lnTo>
                      <a:pt x="216" y="682"/>
                    </a:lnTo>
                    <a:lnTo>
                      <a:pt x="230" y="685"/>
                    </a:lnTo>
                    <a:lnTo>
                      <a:pt x="245" y="689"/>
                    </a:lnTo>
                    <a:lnTo>
                      <a:pt x="259" y="691"/>
                    </a:lnTo>
                    <a:lnTo>
                      <a:pt x="274" y="692"/>
                    </a:lnTo>
                    <a:lnTo>
                      <a:pt x="290" y="692"/>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5" name=""/>
              <p:cNvSpPr/>
              <p:nvPr/>
            </p:nvSpPr>
            <p:spPr>
              <a:xfrm>
                <a:off x="5312160" y="1968840"/>
                <a:ext cx="127440" cy="126720"/>
              </a:xfrm>
              <a:custGeom>
                <a:avLst/>
                <a:gdLst/>
                <a:ahLst/>
                <a:rect l="l" t="t" r="r" b="b"/>
                <a:pathLst>
                  <a:path w="574" h="692">
                    <a:moveTo>
                      <a:pt x="287" y="692"/>
                    </a:moveTo>
                    <a:lnTo>
                      <a:pt x="302" y="692"/>
                    </a:lnTo>
                    <a:lnTo>
                      <a:pt x="316" y="691"/>
                    </a:lnTo>
                    <a:lnTo>
                      <a:pt x="331" y="688"/>
                    </a:lnTo>
                    <a:lnTo>
                      <a:pt x="346" y="685"/>
                    </a:lnTo>
                    <a:lnTo>
                      <a:pt x="361" y="682"/>
                    </a:lnTo>
                    <a:lnTo>
                      <a:pt x="374" y="677"/>
                    </a:lnTo>
                    <a:lnTo>
                      <a:pt x="388" y="671"/>
                    </a:lnTo>
                    <a:lnTo>
                      <a:pt x="400" y="665"/>
                    </a:lnTo>
                    <a:lnTo>
                      <a:pt x="413" y="658"/>
                    </a:lnTo>
                    <a:lnTo>
                      <a:pt x="425" y="650"/>
                    </a:lnTo>
                    <a:lnTo>
                      <a:pt x="438" y="642"/>
                    </a:lnTo>
                    <a:lnTo>
                      <a:pt x="449" y="633"/>
                    </a:lnTo>
                    <a:lnTo>
                      <a:pt x="460" y="623"/>
                    </a:lnTo>
                    <a:lnTo>
                      <a:pt x="472" y="612"/>
                    </a:lnTo>
                    <a:lnTo>
                      <a:pt x="482" y="602"/>
                    </a:lnTo>
                    <a:lnTo>
                      <a:pt x="492" y="590"/>
                    </a:lnTo>
                    <a:lnTo>
                      <a:pt x="501" y="578"/>
                    </a:lnTo>
                    <a:lnTo>
                      <a:pt x="510" y="566"/>
                    </a:lnTo>
                    <a:lnTo>
                      <a:pt x="518" y="552"/>
                    </a:lnTo>
                    <a:lnTo>
                      <a:pt x="526" y="539"/>
                    </a:lnTo>
                    <a:lnTo>
                      <a:pt x="533" y="525"/>
                    </a:lnTo>
                    <a:lnTo>
                      <a:pt x="540" y="510"/>
                    </a:lnTo>
                    <a:lnTo>
                      <a:pt x="547" y="496"/>
                    </a:lnTo>
                    <a:lnTo>
                      <a:pt x="552" y="481"/>
                    </a:lnTo>
                    <a:lnTo>
                      <a:pt x="557" y="465"/>
                    </a:lnTo>
                    <a:lnTo>
                      <a:pt x="561" y="449"/>
                    </a:lnTo>
                    <a:lnTo>
                      <a:pt x="565" y="433"/>
                    </a:lnTo>
                    <a:lnTo>
                      <a:pt x="568" y="416"/>
                    </a:lnTo>
                    <a:lnTo>
                      <a:pt x="570" y="399"/>
                    </a:lnTo>
                    <a:lnTo>
                      <a:pt x="573" y="382"/>
                    </a:lnTo>
                    <a:lnTo>
                      <a:pt x="574" y="365"/>
                    </a:lnTo>
                    <a:lnTo>
                      <a:pt x="574" y="347"/>
                    </a:lnTo>
                    <a:lnTo>
                      <a:pt x="574" y="330"/>
                    </a:lnTo>
                    <a:lnTo>
                      <a:pt x="573" y="312"/>
                    </a:lnTo>
                    <a:lnTo>
                      <a:pt x="570" y="295"/>
                    </a:lnTo>
                    <a:lnTo>
                      <a:pt x="568" y="278"/>
                    </a:lnTo>
                    <a:lnTo>
                      <a:pt x="565" y="261"/>
                    </a:lnTo>
                    <a:lnTo>
                      <a:pt x="561" y="245"/>
                    </a:lnTo>
                    <a:lnTo>
                      <a:pt x="557" y="229"/>
                    </a:lnTo>
                    <a:lnTo>
                      <a:pt x="552" y="213"/>
                    </a:lnTo>
                    <a:lnTo>
                      <a:pt x="547" y="197"/>
                    </a:lnTo>
                    <a:lnTo>
                      <a:pt x="540" y="182"/>
                    </a:lnTo>
                    <a:lnTo>
                      <a:pt x="533" y="168"/>
                    </a:lnTo>
                    <a:lnTo>
                      <a:pt x="526" y="154"/>
                    </a:lnTo>
                    <a:lnTo>
                      <a:pt x="518" y="140"/>
                    </a:lnTo>
                    <a:lnTo>
                      <a:pt x="510" y="127"/>
                    </a:lnTo>
                    <a:lnTo>
                      <a:pt x="501" y="114"/>
                    </a:lnTo>
                    <a:lnTo>
                      <a:pt x="492" y="102"/>
                    </a:lnTo>
                    <a:lnTo>
                      <a:pt x="482" y="90"/>
                    </a:lnTo>
                    <a:lnTo>
                      <a:pt x="472" y="79"/>
                    </a:lnTo>
                    <a:lnTo>
                      <a:pt x="460" y="69"/>
                    </a:lnTo>
                    <a:lnTo>
                      <a:pt x="449" y="60"/>
                    </a:lnTo>
                    <a:lnTo>
                      <a:pt x="438" y="51"/>
                    </a:lnTo>
                    <a:lnTo>
                      <a:pt x="425" y="42"/>
                    </a:lnTo>
                    <a:lnTo>
                      <a:pt x="413" y="34"/>
                    </a:lnTo>
                    <a:lnTo>
                      <a:pt x="400" y="27"/>
                    </a:lnTo>
                    <a:lnTo>
                      <a:pt x="388" y="21"/>
                    </a:lnTo>
                    <a:lnTo>
                      <a:pt x="374" y="16"/>
                    </a:lnTo>
                    <a:lnTo>
                      <a:pt x="361" y="11"/>
                    </a:lnTo>
                    <a:lnTo>
                      <a:pt x="346" y="6"/>
                    </a:lnTo>
                    <a:lnTo>
                      <a:pt x="331" y="3"/>
                    </a:lnTo>
                    <a:lnTo>
                      <a:pt x="316" y="1"/>
                    </a:lnTo>
                    <a:lnTo>
                      <a:pt x="302" y="0"/>
                    </a:lnTo>
                    <a:lnTo>
                      <a:pt x="287" y="0"/>
                    </a:lnTo>
                    <a:lnTo>
                      <a:pt x="272" y="0"/>
                    </a:lnTo>
                    <a:lnTo>
                      <a:pt x="258" y="1"/>
                    </a:lnTo>
                    <a:lnTo>
                      <a:pt x="243" y="3"/>
                    </a:lnTo>
                    <a:lnTo>
                      <a:pt x="228" y="6"/>
                    </a:lnTo>
                    <a:lnTo>
                      <a:pt x="214" y="11"/>
                    </a:lnTo>
                    <a:lnTo>
                      <a:pt x="201" y="16"/>
                    </a:lnTo>
                    <a:lnTo>
                      <a:pt x="187" y="21"/>
                    </a:lnTo>
                    <a:lnTo>
                      <a:pt x="175" y="27"/>
                    </a:lnTo>
                    <a:lnTo>
                      <a:pt x="161" y="34"/>
                    </a:lnTo>
                    <a:lnTo>
                      <a:pt x="149" y="42"/>
                    </a:lnTo>
                    <a:lnTo>
                      <a:pt x="137" y="51"/>
                    </a:lnTo>
                    <a:lnTo>
                      <a:pt x="126" y="60"/>
                    </a:lnTo>
                    <a:lnTo>
                      <a:pt x="115" y="69"/>
                    </a:lnTo>
                    <a:lnTo>
                      <a:pt x="103" y="79"/>
                    </a:lnTo>
                    <a:lnTo>
                      <a:pt x="93" y="90"/>
                    </a:lnTo>
                    <a:lnTo>
                      <a:pt x="83" y="102"/>
                    </a:lnTo>
                    <a:lnTo>
                      <a:pt x="74" y="114"/>
                    </a:lnTo>
                    <a:lnTo>
                      <a:pt x="65" y="127"/>
                    </a:lnTo>
                    <a:lnTo>
                      <a:pt x="56" y="140"/>
                    </a:lnTo>
                    <a:lnTo>
                      <a:pt x="48" y="154"/>
                    </a:lnTo>
                    <a:lnTo>
                      <a:pt x="41" y="168"/>
                    </a:lnTo>
                    <a:lnTo>
                      <a:pt x="34" y="182"/>
                    </a:lnTo>
                    <a:lnTo>
                      <a:pt x="27" y="197"/>
                    </a:lnTo>
                    <a:lnTo>
                      <a:pt x="22" y="213"/>
                    </a:lnTo>
                    <a:lnTo>
                      <a:pt x="17" y="229"/>
                    </a:lnTo>
                    <a:lnTo>
                      <a:pt x="13" y="245"/>
                    </a:lnTo>
                    <a:lnTo>
                      <a:pt x="8" y="261"/>
                    </a:lnTo>
                    <a:lnTo>
                      <a:pt x="6" y="278"/>
                    </a:lnTo>
                    <a:lnTo>
                      <a:pt x="3" y="295"/>
                    </a:lnTo>
                    <a:lnTo>
                      <a:pt x="1" y="312"/>
                    </a:lnTo>
                    <a:lnTo>
                      <a:pt x="0" y="330"/>
                    </a:lnTo>
                    <a:lnTo>
                      <a:pt x="0" y="347"/>
                    </a:lnTo>
                    <a:lnTo>
                      <a:pt x="0" y="365"/>
                    </a:lnTo>
                    <a:lnTo>
                      <a:pt x="1" y="382"/>
                    </a:lnTo>
                    <a:lnTo>
                      <a:pt x="3" y="399"/>
                    </a:lnTo>
                    <a:lnTo>
                      <a:pt x="6" y="416"/>
                    </a:lnTo>
                    <a:lnTo>
                      <a:pt x="8" y="433"/>
                    </a:lnTo>
                    <a:lnTo>
                      <a:pt x="13" y="449"/>
                    </a:lnTo>
                    <a:lnTo>
                      <a:pt x="17" y="465"/>
                    </a:lnTo>
                    <a:lnTo>
                      <a:pt x="22" y="481"/>
                    </a:lnTo>
                    <a:lnTo>
                      <a:pt x="27" y="496"/>
                    </a:lnTo>
                    <a:lnTo>
                      <a:pt x="34" y="510"/>
                    </a:lnTo>
                    <a:lnTo>
                      <a:pt x="41" y="525"/>
                    </a:lnTo>
                    <a:lnTo>
                      <a:pt x="48" y="539"/>
                    </a:lnTo>
                    <a:lnTo>
                      <a:pt x="56" y="552"/>
                    </a:lnTo>
                    <a:lnTo>
                      <a:pt x="65" y="566"/>
                    </a:lnTo>
                    <a:lnTo>
                      <a:pt x="74" y="578"/>
                    </a:lnTo>
                    <a:lnTo>
                      <a:pt x="83" y="590"/>
                    </a:lnTo>
                    <a:lnTo>
                      <a:pt x="93" y="602"/>
                    </a:lnTo>
                    <a:lnTo>
                      <a:pt x="103" y="612"/>
                    </a:lnTo>
                    <a:lnTo>
                      <a:pt x="115" y="623"/>
                    </a:lnTo>
                    <a:lnTo>
                      <a:pt x="126" y="633"/>
                    </a:lnTo>
                    <a:lnTo>
                      <a:pt x="137" y="642"/>
                    </a:lnTo>
                    <a:lnTo>
                      <a:pt x="149" y="650"/>
                    </a:lnTo>
                    <a:lnTo>
                      <a:pt x="161" y="658"/>
                    </a:lnTo>
                    <a:lnTo>
                      <a:pt x="175" y="665"/>
                    </a:lnTo>
                    <a:lnTo>
                      <a:pt x="187" y="671"/>
                    </a:lnTo>
                    <a:lnTo>
                      <a:pt x="201" y="677"/>
                    </a:lnTo>
                    <a:lnTo>
                      <a:pt x="214" y="682"/>
                    </a:lnTo>
                    <a:lnTo>
                      <a:pt x="228" y="685"/>
                    </a:lnTo>
                    <a:lnTo>
                      <a:pt x="243" y="688"/>
                    </a:lnTo>
                    <a:lnTo>
                      <a:pt x="258" y="691"/>
                    </a:lnTo>
                    <a:lnTo>
                      <a:pt x="272" y="692"/>
                    </a:lnTo>
                    <a:lnTo>
                      <a:pt x="287" y="692"/>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6" name=""/>
              <p:cNvSpPr/>
              <p:nvPr/>
            </p:nvSpPr>
            <p:spPr>
              <a:xfrm>
                <a:off x="5312160" y="1968840"/>
                <a:ext cx="127440" cy="126720"/>
              </a:xfrm>
              <a:custGeom>
                <a:avLst/>
                <a:gdLst/>
                <a:ahLst/>
                <a:rect l="l" t="t" r="r" b="b"/>
                <a:pathLst>
                  <a:path w="574" h="692">
                    <a:moveTo>
                      <a:pt x="287" y="692"/>
                    </a:moveTo>
                    <a:lnTo>
                      <a:pt x="302" y="692"/>
                    </a:lnTo>
                    <a:lnTo>
                      <a:pt x="316" y="691"/>
                    </a:lnTo>
                    <a:lnTo>
                      <a:pt x="331" y="688"/>
                    </a:lnTo>
                    <a:lnTo>
                      <a:pt x="346" y="685"/>
                    </a:lnTo>
                    <a:lnTo>
                      <a:pt x="361" y="682"/>
                    </a:lnTo>
                    <a:lnTo>
                      <a:pt x="374" y="677"/>
                    </a:lnTo>
                    <a:lnTo>
                      <a:pt x="388" y="671"/>
                    </a:lnTo>
                    <a:lnTo>
                      <a:pt x="400" y="665"/>
                    </a:lnTo>
                    <a:lnTo>
                      <a:pt x="413" y="658"/>
                    </a:lnTo>
                    <a:lnTo>
                      <a:pt x="425" y="650"/>
                    </a:lnTo>
                    <a:lnTo>
                      <a:pt x="438" y="642"/>
                    </a:lnTo>
                    <a:lnTo>
                      <a:pt x="449" y="633"/>
                    </a:lnTo>
                    <a:lnTo>
                      <a:pt x="460" y="623"/>
                    </a:lnTo>
                    <a:lnTo>
                      <a:pt x="472" y="612"/>
                    </a:lnTo>
                    <a:lnTo>
                      <a:pt x="482" y="602"/>
                    </a:lnTo>
                    <a:lnTo>
                      <a:pt x="492" y="590"/>
                    </a:lnTo>
                    <a:lnTo>
                      <a:pt x="501" y="578"/>
                    </a:lnTo>
                    <a:lnTo>
                      <a:pt x="510" y="566"/>
                    </a:lnTo>
                    <a:lnTo>
                      <a:pt x="518" y="552"/>
                    </a:lnTo>
                    <a:lnTo>
                      <a:pt x="526" y="539"/>
                    </a:lnTo>
                    <a:lnTo>
                      <a:pt x="533" y="525"/>
                    </a:lnTo>
                    <a:lnTo>
                      <a:pt x="540" y="510"/>
                    </a:lnTo>
                    <a:lnTo>
                      <a:pt x="547" y="496"/>
                    </a:lnTo>
                    <a:lnTo>
                      <a:pt x="552" y="481"/>
                    </a:lnTo>
                    <a:lnTo>
                      <a:pt x="557" y="465"/>
                    </a:lnTo>
                    <a:lnTo>
                      <a:pt x="561" y="449"/>
                    </a:lnTo>
                    <a:lnTo>
                      <a:pt x="565" y="433"/>
                    </a:lnTo>
                    <a:lnTo>
                      <a:pt x="568" y="416"/>
                    </a:lnTo>
                    <a:lnTo>
                      <a:pt x="570" y="399"/>
                    </a:lnTo>
                    <a:lnTo>
                      <a:pt x="573" y="382"/>
                    </a:lnTo>
                    <a:lnTo>
                      <a:pt x="574" y="365"/>
                    </a:lnTo>
                    <a:lnTo>
                      <a:pt x="574" y="347"/>
                    </a:lnTo>
                    <a:lnTo>
                      <a:pt x="574" y="330"/>
                    </a:lnTo>
                    <a:lnTo>
                      <a:pt x="573" y="312"/>
                    </a:lnTo>
                    <a:lnTo>
                      <a:pt x="570" y="295"/>
                    </a:lnTo>
                    <a:lnTo>
                      <a:pt x="568" y="278"/>
                    </a:lnTo>
                    <a:lnTo>
                      <a:pt x="565" y="261"/>
                    </a:lnTo>
                    <a:lnTo>
                      <a:pt x="561" y="245"/>
                    </a:lnTo>
                    <a:lnTo>
                      <a:pt x="557" y="229"/>
                    </a:lnTo>
                    <a:lnTo>
                      <a:pt x="552" y="213"/>
                    </a:lnTo>
                    <a:lnTo>
                      <a:pt x="547" y="197"/>
                    </a:lnTo>
                    <a:lnTo>
                      <a:pt x="540" y="182"/>
                    </a:lnTo>
                    <a:lnTo>
                      <a:pt x="533" y="168"/>
                    </a:lnTo>
                    <a:lnTo>
                      <a:pt x="526" y="154"/>
                    </a:lnTo>
                    <a:lnTo>
                      <a:pt x="518" y="140"/>
                    </a:lnTo>
                    <a:lnTo>
                      <a:pt x="510" y="127"/>
                    </a:lnTo>
                    <a:lnTo>
                      <a:pt x="501" y="114"/>
                    </a:lnTo>
                    <a:lnTo>
                      <a:pt x="492" y="102"/>
                    </a:lnTo>
                    <a:lnTo>
                      <a:pt x="482" y="90"/>
                    </a:lnTo>
                    <a:lnTo>
                      <a:pt x="472" y="79"/>
                    </a:lnTo>
                    <a:lnTo>
                      <a:pt x="460" y="69"/>
                    </a:lnTo>
                    <a:lnTo>
                      <a:pt x="449" y="60"/>
                    </a:lnTo>
                    <a:lnTo>
                      <a:pt x="438" y="51"/>
                    </a:lnTo>
                    <a:lnTo>
                      <a:pt x="425" y="42"/>
                    </a:lnTo>
                    <a:lnTo>
                      <a:pt x="413" y="34"/>
                    </a:lnTo>
                    <a:lnTo>
                      <a:pt x="400" y="27"/>
                    </a:lnTo>
                    <a:lnTo>
                      <a:pt x="388" y="21"/>
                    </a:lnTo>
                    <a:lnTo>
                      <a:pt x="374" y="16"/>
                    </a:lnTo>
                    <a:lnTo>
                      <a:pt x="361" y="11"/>
                    </a:lnTo>
                    <a:lnTo>
                      <a:pt x="346" y="6"/>
                    </a:lnTo>
                    <a:lnTo>
                      <a:pt x="331" y="3"/>
                    </a:lnTo>
                    <a:lnTo>
                      <a:pt x="316" y="1"/>
                    </a:lnTo>
                    <a:lnTo>
                      <a:pt x="302" y="0"/>
                    </a:lnTo>
                    <a:lnTo>
                      <a:pt x="287" y="0"/>
                    </a:lnTo>
                    <a:lnTo>
                      <a:pt x="272" y="0"/>
                    </a:lnTo>
                    <a:lnTo>
                      <a:pt x="258" y="1"/>
                    </a:lnTo>
                    <a:lnTo>
                      <a:pt x="243" y="3"/>
                    </a:lnTo>
                    <a:lnTo>
                      <a:pt x="228" y="6"/>
                    </a:lnTo>
                    <a:lnTo>
                      <a:pt x="214" y="11"/>
                    </a:lnTo>
                    <a:lnTo>
                      <a:pt x="201" y="16"/>
                    </a:lnTo>
                    <a:lnTo>
                      <a:pt x="187" y="21"/>
                    </a:lnTo>
                    <a:lnTo>
                      <a:pt x="175" y="27"/>
                    </a:lnTo>
                    <a:lnTo>
                      <a:pt x="161" y="34"/>
                    </a:lnTo>
                    <a:lnTo>
                      <a:pt x="149" y="42"/>
                    </a:lnTo>
                    <a:lnTo>
                      <a:pt x="137" y="51"/>
                    </a:lnTo>
                    <a:lnTo>
                      <a:pt x="126" y="60"/>
                    </a:lnTo>
                    <a:lnTo>
                      <a:pt x="115" y="69"/>
                    </a:lnTo>
                    <a:lnTo>
                      <a:pt x="103" y="79"/>
                    </a:lnTo>
                    <a:lnTo>
                      <a:pt x="93" y="90"/>
                    </a:lnTo>
                    <a:lnTo>
                      <a:pt x="83" y="102"/>
                    </a:lnTo>
                    <a:lnTo>
                      <a:pt x="74" y="114"/>
                    </a:lnTo>
                    <a:lnTo>
                      <a:pt x="65" y="127"/>
                    </a:lnTo>
                    <a:lnTo>
                      <a:pt x="56" y="140"/>
                    </a:lnTo>
                    <a:lnTo>
                      <a:pt x="48" y="154"/>
                    </a:lnTo>
                    <a:lnTo>
                      <a:pt x="41" y="168"/>
                    </a:lnTo>
                    <a:lnTo>
                      <a:pt x="34" y="182"/>
                    </a:lnTo>
                    <a:lnTo>
                      <a:pt x="27" y="197"/>
                    </a:lnTo>
                    <a:lnTo>
                      <a:pt x="22" y="213"/>
                    </a:lnTo>
                    <a:lnTo>
                      <a:pt x="17" y="229"/>
                    </a:lnTo>
                    <a:lnTo>
                      <a:pt x="13" y="245"/>
                    </a:lnTo>
                    <a:lnTo>
                      <a:pt x="8" y="261"/>
                    </a:lnTo>
                    <a:lnTo>
                      <a:pt x="6" y="278"/>
                    </a:lnTo>
                    <a:lnTo>
                      <a:pt x="3" y="295"/>
                    </a:lnTo>
                    <a:lnTo>
                      <a:pt x="1" y="312"/>
                    </a:lnTo>
                    <a:lnTo>
                      <a:pt x="0" y="330"/>
                    </a:lnTo>
                    <a:lnTo>
                      <a:pt x="0" y="347"/>
                    </a:lnTo>
                    <a:lnTo>
                      <a:pt x="0" y="365"/>
                    </a:lnTo>
                    <a:lnTo>
                      <a:pt x="1" y="382"/>
                    </a:lnTo>
                    <a:lnTo>
                      <a:pt x="3" y="399"/>
                    </a:lnTo>
                    <a:lnTo>
                      <a:pt x="6" y="416"/>
                    </a:lnTo>
                    <a:lnTo>
                      <a:pt x="8" y="433"/>
                    </a:lnTo>
                    <a:lnTo>
                      <a:pt x="13" y="449"/>
                    </a:lnTo>
                    <a:lnTo>
                      <a:pt x="17" y="465"/>
                    </a:lnTo>
                    <a:lnTo>
                      <a:pt x="22" y="481"/>
                    </a:lnTo>
                    <a:lnTo>
                      <a:pt x="27" y="496"/>
                    </a:lnTo>
                    <a:lnTo>
                      <a:pt x="34" y="510"/>
                    </a:lnTo>
                    <a:lnTo>
                      <a:pt x="41" y="525"/>
                    </a:lnTo>
                    <a:lnTo>
                      <a:pt x="48" y="539"/>
                    </a:lnTo>
                    <a:lnTo>
                      <a:pt x="56" y="552"/>
                    </a:lnTo>
                    <a:lnTo>
                      <a:pt x="65" y="566"/>
                    </a:lnTo>
                    <a:lnTo>
                      <a:pt x="74" y="578"/>
                    </a:lnTo>
                    <a:lnTo>
                      <a:pt x="83" y="590"/>
                    </a:lnTo>
                    <a:lnTo>
                      <a:pt x="93" y="602"/>
                    </a:lnTo>
                    <a:lnTo>
                      <a:pt x="103" y="612"/>
                    </a:lnTo>
                    <a:lnTo>
                      <a:pt x="115" y="623"/>
                    </a:lnTo>
                    <a:lnTo>
                      <a:pt x="126" y="633"/>
                    </a:lnTo>
                    <a:lnTo>
                      <a:pt x="137" y="642"/>
                    </a:lnTo>
                    <a:lnTo>
                      <a:pt x="149" y="650"/>
                    </a:lnTo>
                    <a:lnTo>
                      <a:pt x="161" y="658"/>
                    </a:lnTo>
                    <a:lnTo>
                      <a:pt x="175" y="665"/>
                    </a:lnTo>
                    <a:lnTo>
                      <a:pt x="187" y="671"/>
                    </a:lnTo>
                    <a:lnTo>
                      <a:pt x="201" y="677"/>
                    </a:lnTo>
                    <a:lnTo>
                      <a:pt x="214" y="682"/>
                    </a:lnTo>
                    <a:lnTo>
                      <a:pt x="228" y="685"/>
                    </a:lnTo>
                    <a:lnTo>
                      <a:pt x="243" y="688"/>
                    </a:lnTo>
                    <a:lnTo>
                      <a:pt x="258" y="691"/>
                    </a:lnTo>
                    <a:lnTo>
                      <a:pt x="272" y="692"/>
                    </a:lnTo>
                    <a:lnTo>
                      <a:pt x="287" y="692"/>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7" name=""/>
              <p:cNvSpPr/>
              <p:nvPr/>
            </p:nvSpPr>
            <p:spPr>
              <a:xfrm>
                <a:off x="4762440" y="1798560"/>
                <a:ext cx="678600" cy="1017720"/>
              </a:xfrm>
              <a:custGeom>
                <a:avLst/>
                <a:gdLst/>
                <a:ahLst/>
                <a:rect l="l" t="t" r="r" b="b"/>
                <a:pathLst>
                  <a:path w="3051" h="5527">
                    <a:moveTo>
                      <a:pt x="453" y="1743"/>
                    </a:moveTo>
                    <a:lnTo>
                      <a:pt x="446" y="1741"/>
                    </a:lnTo>
                    <a:lnTo>
                      <a:pt x="428" y="1733"/>
                    </a:lnTo>
                    <a:lnTo>
                      <a:pt x="398" y="1724"/>
                    </a:lnTo>
                    <a:lnTo>
                      <a:pt x="361" y="1714"/>
                    </a:lnTo>
                    <a:lnTo>
                      <a:pt x="341" y="1709"/>
                    </a:lnTo>
                    <a:lnTo>
                      <a:pt x="318" y="1705"/>
                    </a:lnTo>
                    <a:lnTo>
                      <a:pt x="295" y="1701"/>
                    </a:lnTo>
                    <a:lnTo>
                      <a:pt x="272" y="1699"/>
                    </a:lnTo>
                    <a:lnTo>
                      <a:pt x="247" y="1698"/>
                    </a:lnTo>
                    <a:lnTo>
                      <a:pt x="222" y="1699"/>
                    </a:lnTo>
                    <a:lnTo>
                      <a:pt x="198" y="1701"/>
                    </a:lnTo>
                    <a:lnTo>
                      <a:pt x="173" y="1706"/>
                    </a:lnTo>
                    <a:lnTo>
                      <a:pt x="149" y="1713"/>
                    </a:lnTo>
                    <a:lnTo>
                      <a:pt x="126" y="1722"/>
                    </a:lnTo>
                    <a:lnTo>
                      <a:pt x="105" y="1733"/>
                    </a:lnTo>
                    <a:lnTo>
                      <a:pt x="85" y="1748"/>
                    </a:lnTo>
                    <a:lnTo>
                      <a:pt x="65" y="1766"/>
                    </a:lnTo>
                    <a:lnTo>
                      <a:pt x="48" y="1787"/>
                    </a:lnTo>
                    <a:lnTo>
                      <a:pt x="34" y="1811"/>
                    </a:lnTo>
                    <a:lnTo>
                      <a:pt x="21" y="1841"/>
                    </a:lnTo>
                    <a:lnTo>
                      <a:pt x="11" y="1874"/>
                    </a:lnTo>
                    <a:lnTo>
                      <a:pt x="4" y="1911"/>
                    </a:lnTo>
                    <a:lnTo>
                      <a:pt x="1" y="1953"/>
                    </a:lnTo>
                    <a:lnTo>
                      <a:pt x="0" y="2000"/>
                    </a:lnTo>
                    <a:lnTo>
                      <a:pt x="3" y="2052"/>
                    </a:lnTo>
                    <a:lnTo>
                      <a:pt x="10" y="2109"/>
                    </a:lnTo>
                    <a:lnTo>
                      <a:pt x="21" y="2171"/>
                    </a:lnTo>
                    <a:lnTo>
                      <a:pt x="37" y="2240"/>
                    </a:lnTo>
                    <a:lnTo>
                      <a:pt x="55" y="2310"/>
                    </a:lnTo>
                    <a:lnTo>
                      <a:pt x="73" y="2377"/>
                    </a:lnTo>
                    <a:lnTo>
                      <a:pt x="90" y="2440"/>
                    </a:lnTo>
                    <a:lnTo>
                      <a:pt x="108" y="2501"/>
                    </a:lnTo>
                    <a:lnTo>
                      <a:pt x="126" y="2561"/>
                    </a:lnTo>
                    <a:lnTo>
                      <a:pt x="145" y="2616"/>
                    </a:lnTo>
                    <a:lnTo>
                      <a:pt x="162" y="2671"/>
                    </a:lnTo>
                    <a:lnTo>
                      <a:pt x="180" y="2722"/>
                    </a:lnTo>
                    <a:lnTo>
                      <a:pt x="198" y="2772"/>
                    </a:lnTo>
                    <a:lnTo>
                      <a:pt x="217" y="2819"/>
                    </a:lnTo>
                    <a:lnTo>
                      <a:pt x="235" y="2865"/>
                    </a:lnTo>
                    <a:lnTo>
                      <a:pt x="255" y="2909"/>
                    </a:lnTo>
                    <a:lnTo>
                      <a:pt x="274" y="2952"/>
                    </a:lnTo>
                    <a:lnTo>
                      <a:pt x="293" y="2994"/>
                    </a:lnTo>
                    <a:lnTo>
                      <a:pt x="313" y="3035"/>
                    </a:lnTo>
                    <a:lnTo>
                      <a:pt x="334" y="3075"/>
                    </a:lnTo>
                    <a:lnTo>
                      <a:pt x="354" y="3113"/>
                    </a:lnTo>
                    <a:lnTo>
                      <a:pt x="376" y="3152"/>
                    </a:lnTo>
                    <a:lnTo>
                      <a:pt x="397" y="3189"/>
                    </a:lnTo>
                    <a:lnTo>
                      <a:pt x="420" y="3227"/>
                    </a:lnTo>
                    <a:lnTo>
                      <a:pt x="468" y="3302"/>
                    </a:lnTo>
                    <a:lnTo>
                      <a:pt x="516" y="3376"/>
                    </a:lnTo>
                    <a:lnTo>
                      <a:pt x="570" y="3453"/>
                    </a:lnTo>
                    <a:lnTo>
                      <a:pt x="626" y="3532"/>
                    </a:lnTo>
                    <a:lnTo>
                      <a:pt x="685" y="3615"/>
                    </a:lnTo>
                    <a:lnTo>
                      <a:pt x="750" y="3704"/>
                    </a:lnTo>
                    <a:lnTo>
                      <a:pt x="783" y="3752"/>
                    </a:lnTo>
                    <a:lnTo>
                      <a:pt x="815" y="3805"/>
                    </a:lnTo>
                    <a:lnTo>
                      <a:pt x="847" y="3862"/>
                    </a:lnTo>
                    <a:lnTo>
                      <a:pt x="880" y="3922"/>
                    </a:lnTo>
                    <a:lnTo>
                      <a:pt x="912" y="3986"/>
                    </a:lnTo>
                    <a:lnTo>
                      <a:pt x="942" y="4053"/>
                    </a:lnTo>
                    <a:lnTo>
                      <a:pt x="973" y="4121"/>
                    </a:lnTo>
                    <a:lnTo>
                      <a:pt x="1004" y="4192"/>
                    </a:lnTo>
                    <a:lnTo>
                      <a:pt x="1033" y="4265"/>
                    </a:lnTo>
                    <a:lnTo>
                      <a:pt x="1063" y="4339"/>
                    </a:lnTo>
                    <a:lnTo>
                      <a:pt x="1091" y="4414"/>
                    </a:lnTo>
                    <a:lnTo>
                      <a:pt x="1118" y="4489"/>
                    </a:lnTo>
                    <a:lnTo>
                      <a:pt x="1145" y="4565"/>
                    </a:lnTo>
                    <a:lnTo>
                      <a:pt x="1171" y="4640"/>
                    </a:lnTo>
                    <a:lnTo>
                      <a:pt x="1196" y="4715"/>
                    </a:lnTo>
                    <a:lnTo>
                      <a:pt x="1220" y="4788"/>
                    </a:lnTo>
                    <a:lnTo>
                      <a:pt x="1264" y="4930"/>
                    </a:lnTo>
                    <a:lnTo>
                      <a:pt x="1305" y="5064"/>
                    </a:lnTo>
                    <a:lnTo>
                      <a:pt x="1340" y="5185"/>
                    </a:lnTo>
                    <a:lnTo>
                      <a:pt x="1370" y="5291"/>
                    </a:lnTo>
                    <a:lnTo>
                      <a:pt x="1410" y="5446"/>
                    </a:lnTo>
                    <a:lnTo>
                      <a:pt x="1425" y="5503"/>
                    </a:lnTo>
                    <a:lnTo>
                      <a:pt x="1443" y="5507"/>
                    </a:lnTo>
                    <a:lnTo>
                      <a:pt x="1490" y="5513"/>
                    </a:lnTo>
                    <a:lnTo>
                      <a:pt x="1521" y="5518"/>
                    </a:lnTo>
                    <a:lnTo>
                      <a:pt x="1555" y="5521"/>
                    </a:lnTo>
                    <a:lnTo>
                      <a:pt x="1593" y="5525"/>
                    </a:lnTo>
                    <a:lnTo>
                      <a:pt x="1631" y="5526"/>
                    </a:lnTo>
                    <a:lnTo>
                      <a:pt x="1670" y="5527"/>
                    </a:lnTo>
                    <a:lnTo>
                      <a:pt x="1707" y="5525"/>
                    </a:lnTo>
                    <a:lnTo>
                      <a:pt x="1724" y="5523"/>
                    </a:lnTo>
                    <a:lnTo>
                      <a:pt x="1741" y="5520"/>
                    </a:lnTo>
                    <a:lnTo>
                      <a:pt x="1758" y="5517"/>
                    </a:lnTo>
                    <a:lnTo>
                      <a:pt x="1773" y="5513"/>
                    </a:lnTo>
                    <a:lnTo>
                      <a:pt x="1787" y="5509"/>
                    </a:lnTo>
                    <a:lnTo>
                      <a:pt x="1799" y="5503"/>
                    </a:lnTo>
                    <a:lnTo>
                      <a:pt x="1810" y="5496"/>
                    </a:lnTo>
                    <a:lnTo>
                      <a:pt x="1820" y="5488"/>
                    </a:lnTo>
                    <a:lnTo>
                      <a:pt x="1827" y="5479"/>
                    </a:lnTo>
                    <a:lnTo>
                      <a:pt x="1832" y="5470"/>
                    </a:lnTo>
                    <a:lnTo>
                      <a:pt x="1837" y="5459"/>
                    </a:lnTo>
                    <a:lnTo>
                      <a:pt x="1838" y="5446"/>
                    </a:lnTo>
                    <a:lnTo>
                      <a:pt x="1838" y="5432"/>
                    </a:lnTo>
                    <a:lnTo>
                      <a:pt x="1840" y="5410"/>
                    </a:lnTo>
                    <a:lnTo>
                      <a:pt x="1843" y="5383"/>
                    </a:lnTo>
                    <a:lnTo>
                      <a:pt x="1848" y="5350"/>
                    </a:lnTo>
                    <a:lnTo>
                      <a:pt x="1860" y="5272"/>
                    </a:lnTo>
                    <a:lnTo>
                      <a:pt x="1878" y="5176"/>
                    </a:lnTo>
                    <a:lnTo>
                      <a:pt x="1901" y="5066"/>
                    </a:lnTo>
                    <a:lnTo>
                      <a:pt x="1929" y="4944"/>
                    </a:lnTo>
                    <a:lnTo>
                      <a:pt x="1944" y="4879"/>
                    </a:lnTo>
                    <a:lnTo>
                      <a:pt x="1961" y="4812"/>
                    </a:lnTo>
                    <a:lnTo>
                      <a:pt x="1978" y="4744"/>
                    </a:lnTo>
                    <a:lnTo>
                      <a:pt x="1997" y="4674"/>
                    </a:lnTo>
                    <a:lnTo>
                      <a:pt x="2018" y="4602"/>
                    </a:lnTo>
                    <a:lnTo>
                      <a:pt x="2038" y="4530"/>
                    </a:lnTo>
                    <a:lnTo>
                      <a:pt x="2061" y="4457"/>
                    </a:lnTo>
                    <a:lnTo>
                      <a:pt x="2084" y="4383"/>
                    </a:lnTo>
                    <a:lnTo>
                      <a:pt x="2107" y="4310"/>
                    </a:lnTo>
                    <a:lnTo>
                      <a:pt x="2132" y="4238"/>
                    </a:lnTo>
                    <a:lnTo>
                      <a:pt x="2158" y="4165"/>
                    </a:lnTo>
                    <a:lnTo>
                      <a:pt x="2186" y="4094"/>
                    </a:lnTo>
                    <a:lnTo>
                      <a:pt x="2214" y="4024"/>
                    </a:lnTo>
                    <a:lnTo>
                      <a:pt x="2243" y="3955"/>
                    </a:lnTo>
                    <a:lnTo>
                      <a:pt x="2273" y="3889"/>
                    </a:lnTo>
                    <a:lnTo>
                      <a:pt x="2303" y="3825"/>
                    </a:lnTo>
                    <a:lnTo>
                      <a:pt x="2335" y="3763"/>
                    </a:lnTo>
                    <a:lnTo>
                      <a:pt x="2368" y="3703"/>
                    </a:lnTo>
                    <a:lnTo>
                      <a:pt x="2401" y="3648"/>
                    </a:lnTo>
                    <a:lnTo>
                      <a:pt x="2436" y="3596"/>
                    </a:lnTo>
                    <a:lnTo>
                      <a:pt x="2469" y="3544"/>
                    </a:lnTo>
                    <a:lnTo>
                      <a:pt x="2503" y="3493"/>
                    </a:lnTo>
                    <a:lnTo>
                      <a:pt x="2536" y="3440"/>
                    </a:lnTo>
                    <a:lnTo>
                      <a:pt x="2569" y="3386"/>
                    </a:lnTo>
                    <a:lnTo>
                      <a:pt x="2600" y="3330"/>
                    </a:lnTo>
                    <a:lnTo>
                      <a:pt x="2632" y="3274"/>
                    </a:lnTo>
                    <a:lnTo>
                      <a:pt x="2664" y="3218"/>
                    </a:lnTo>
                    <a:lnTo>
                      <a:pt x="2694" y="3160"/>
                    </a:lnTo>
                    <a:lnTo>
                      <a:pt x="2724" y="3102"/>
                    </a:lnTo>
                    <a:lnTo>
                      <a:pt x="2752" y="3044"/>
                    </a:lnTo>
                    <a:lnTo>
                      <a:pt x="2781" y="2986"/>
                    </a:lnTo>
                    <a:lnTo>
                      <a:pt x="2808" y="2928"/>
                    </a:lnTo>
                    <a:lnTo>
                      <a:pt x="2833" y="2870"/>
                    </a:lnTo>
                    <a:lnTo>
                      <a:pt x="2858" y="2812"/>
                    </a:lnTo>
                    <a:lnTo>
                      <a:pt x="2881" y="2756"/>
                    </a:lnTo>
                    <a:lnTo>
                      <a:pt x="2904" y="2699"/>
                    </a:lnTo>
                    <a:lnTo>
                      <a:pt x="2926" y="2643"/>
                    </a:lnTo>
                    <a:lnTo>
                      <a:pt x="2945" y="2588"/>
                    </a:lnTo>
                    <a:lnTo>
                      <a:pt x="2963" y="2534"/>
                    </a:lnTo>
                    <a:lnTo>
                      <a:pt x="2980" y="2481"/>
                    </a:lnTo>
                    <a:lnTo>
                      <a:pt x="2995" y="2430"/>
                    </a:lnTo>
                    <a:lnTo>
                      <a:pt x="3008" y="2380"/>
                    </a:lnTo>
                    <a:lnTo>
                      <a:pt x="3021" y="2332"/>
                    </a:lnTo>
                    <a:lnTo>
                      <a:pt x="3031" y="2286"/>
                    </a:lnTo>
                    <a:lnTo>
                      <a:pt x="3039" y="2242"/>
                    </a:lnTo>
                    <a:lnTo>
                      <a:pt x="3045" y="2198"/>
                    </a:lnTo>
                    <a:lnTo>
                      <a:pt x="3049" y="2159"/>
                    </a:lnTo>
                    <a:lnTo>
                      <a:pt x="3051" y="2120"/>
                    </a:lnTo>
                    <a:lnTo>
                      <a:pt x="3051" y="2085"/>
                    </a:lnTo>
                    <a:lnTo>
                      <a:pt x="3050" y="2052"/>
                    </a:lnTo>
                    <a:lnTo>
                      <a:pt x="3046" y="2023"/>
                    </a:lnTo>
                    <a:lnTo>
                      <a:pt x="3039" y="1995"/>
                    </a:lnTo>
                    <a:lnTo>
                      <a:pt x="3008" y="1889"/>
                    </a:lnTo>
                    <a:lnTo>
                      <a:pt x="2978" y="1780"/>
                    </a:lnTo>
                    <a:lnTo>
                      <a:pt x="2962" y="1726"/>
                    </a:lnTo>
                    <a:lnTo>
                      <a:pt x="2946" y="1674"/>
                    </a:lnTo>
                    <a:lnTo>
                      <a:pt x="2937" y="1649"/>
                    </a:lnTo>
                    <a:lnTo>
                      <a:pt x="2928" y="1625"/>
                    </a:lnTo>
                    <a:lnTo>
                      <a:pt x="2919" y="1603"/>
                    </a:lnTo>
                    <a:lnTo>
                      <a:pt x="2910" y="1580"/>
                    </a:lnTo>
                    <a:lnTo>
                      <a:pt x="2900" y="1560"/>
                    </a:lnTo>
                    <a:lnTo>
                      <a:pt x="2888" y="1540"/>
                    </a:lnTo>
                    <a:lnTo>
                      <a:pt x="2878" y="1522"/>
                    </a:lnTo>
                    <a:lnTo>
                      <a:pt x="2867" y="1506"/>
                    </a:lnTo>
                    <a:lnTo>
                      <a:pt x="2854" y="1491"/>
                    </a:lnTo>
                    <a:lnTo>
                      <a:pt x="2842" y="1478"/>
                    </a:lnTo>
                    <a:lnTo>
                      <a:pt x="2828" y="1466"/>
                    </a:lnTo>
                    <a:lnTo>
                      <a:pt x="2815" y="1457"/>
                    </a:lnTo>
                    <a:lnTo>
                      <a:pt x="2800" y="1451"/>
                    </a:lnTo>
                    <a:lnTo>
                      <a:pt x="2785" y="1446"/>
                    </a:lnTo>
                    <a:lnTo>
                      <a:pt x="2769" y="1444"/>
                    </a:lnTo>
                    <a:lnTo>
                      <a:pt x="2752" y="1444"/>
                    </a:lnTo>
                    <a:lnTo>
                      <a:pt x="2735" y="1446"/>
                    </a:lnTo>
                    <a:lnTo>
                      <a:pt x="2717" y="1452"/>
                    </a:lnTo>
                    <a:lnTo>
                      <a:pt x="2698" y="1460"/>
                    </a:lnTo>
                    <a:lnTo>
                      <a:pt x="2677" y="1471"/>
                    </a:lnTo>
                    <a:lnTo>
                      <a:pt x="2659" y="1479"/>
                    </a:lnTo>
                    <a:lnTo>
                      <a:pt x="2645" y="1477"/>
                    </a:lnTo>
                    <a:lnTo>
                      <a:pt x="2633" y="1465"/>
                    </a:lnTo>
                    <a:lnTo>
                      <a:pt x="2625" y="1445"/>
                    </a:lnTo>
                    <a:lnTo>
                      <a:pt x="2621" y="1418"/>
                    </a:lnTo>
                    <a:lnTo>
                      <a:pt x="2617" y="1383"/>
                    </a:lnTo>
                    <a:lnTo>
                      <a:pt x="2615" y="1342"/>
                    </a:lnTo>
                    <a:lnTo>
                      <a:pt x="2614" y="1294"/>
                    </a:lnTo>
                    <a:lnTo>
                      <a:pt x="2614" y="1184"/>
                    </a:lnTo>
                    <a:lnTo>
                      <a:pt x="2612" y="1058"/>
                    </a:lnTo>
                    <a:lnTo>
                      <a:pt x="2608" y="990"/>
                    </a:lnTo>
                    <a:lnTo>
                      <a:pt x="2603" y="919"/>
                    </a:lnTo>
                    <a:lnTo>
                      <a:pt x="2596" y="848"/>
                    </a:lnTo>
                    <a:lnTo>
                      <a:pt x="2586" y="776"/>
                    </a:lnTo>
                    <a:lnTo>
                      <a:pt x="2571" y="703"/>
                    </a:lnTo>
                    <a:lnTo>
                      <a:pt x="2554" y="631"/>
                    </a:lnTo>
                    <a:lnTo>
                      <a:pt x="2531" y="560"/>
                    </a:lnTo>
                    <a:lnTo>
                      <a:pt x="2504" y="489"/>
                    </a:lnTo>
                    <a:lnTo>
                      <a:pt x="2471" y="421"/>
                    </a:lnTo>
                    <a:lnTo>
                      <a:pt x="2433" y="357"/>
                    </a:lnTo>
                    <a:lnTo>
                      <a:pt x="2388" y="295"/>
                    </a:lnTo>
                    <a:lnTo>
                      <a:pt x="2336" y="237"/>
                    </a:lnTo>
                    <a:lnTo>
                      <a:pt x="2277" y="185"/>
                    </a:lnTo>
                    <a:lnTo>
                      <a:pt x="2211" y="138"/>
                    </a:lnTo>
                    <a:lnTo>
                      <a:pt x="2136" y="97"/>
                    </a:lnTo>
                    <a:lnTo>
                      <a:pt x="2052" y="62"/>
                    </a:lnTo>
                    <a:lnTo>
                      <a:pt x="1958" y="34"/>
                    </a:lnTo>
                    <a:lnTo>
                      <a:pt x="1855" y="14"/>
                    </a:lnTo>
                    <a:lnTo>
                      <a:pt x="1741" y="2"/>
                    </a:lnTo>
                    <a:lnTo>
                      <a:pt x="1617" y="0"/>
                    </a:lnTo>
                    <a:lnTo>
                      <a:pt x="1491" y="5"/>
                    </a:lnTo>
                    <a:lnTo>
                      <a:pt x="1373" y="12"/>
                    </a:lnTo>
                    <a:lnTo>
                      <a:pt x="1263" y="22"/>
                    </a:lnTo>
                    <a:lnTo>
                      <a:pt x="1161" y="34"/>
                    </a:lnTo>
                    <a:lnTo>
                      <a:pt x="1066" y="50"/>
                    </a:lnTo>
                    <a:lnTo>
                      <a:pt x="979" y="68"/>
                    </a:lnTo>
                    <a:lnTo>
                      <a:pt x="898" y="91"/>
                    </a:lnTo>
                    <a:lnTo>
                      <a:pt x="823" y="116"/>
                    </a:lnTo>
                    <a:lnTo>
                      <a:pt x="757" y="144"/>
                    </a:lnTo>
                    <a:lnTo>
                      <a:pt x="694" y="175"/>
                    </a:lnTo>
                    <a:lnTo>
                      <a:pt x="639" y="210"/>
                    </a:lnTo>
                    <a:lnTo>
                      <a:pt x="589" y="248"/>
                    </a:lnTo>
                    <a:lnTo>
                      <a:pt x="545" y="290"/>
                    </a:lnTo>
                    <a:lnTo>
                      <a:pt x="506" y="334"/>
                    </a:lnTo>
                    <a:lnTo>
                      <a:pt x="472" y="382"/>
                    </a:lnTo>
                    <a:lnTo>
                      <a:pt x="444" y="433"/>
                    </a:lnTo>
                    <a:lnTo>
                      <a:pt x="419" y="487"/>
                    </a:lnTo>
                    <a:lnTo>
                      <a:pt x="400" y="546"/>
                    </a:lnTo>
                    <a:lnTo>
                      <a:pt x="384" y="607"/>
                    </a:lnTo>
                    <a:lnTo>
                      <a:pt x="371" y="672"/>
                    </a:lnTo>
                    <a:lnTo>
                      <a:pt x="363" y="741"/>
                    </a:lnTo>
                    <a:lnTo>
                      <a:pt x="359" y="814"/>
                    </a:lnTo>
                    <a:lnTo>
                      <a:pt x="358" y="890"/>
                    </a:lnTo>
                    <a:lnTo>
                      <a:pt x="359" y="969"/>
                    </a:lnTo>
                    <a:lnTo>
                      <a:pt x="363" y="1052"/>
                    </a:lnTo>
                    <a:lnTo>
                      <a:pt x="370" y="1140"/>
                    </a:lnTo>
                    <a:lnTo>
                      <a:pt x="379" y="1230"/>
                    </a:lnTo>
                    <a:lnTo>
                      <a:pt x="391" y="1326"/>
                    </a:lnTo>
                    <a:lnTo>
                      <a:pt x="404" y="1424"/>
                    </a:lnTo>
                    <a:lnTo>
                      <a:pt x="419" y="1527"/>
                    </a:lnTo>
                    <a:lnTo>
                      <a:pt x="436" y="1633"/>
                    </a:lnTo>
                    <a:lnTo>
                      <a:pt x="453" y="1743"/>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8" name=""/>
              <p:cNvSpPr/>
              <p:nvPr/>
            </p:nvSpPr>
            <p:spPr>
              <a:xfrm>
                <a:off x="4762440" y="1798560"/>
                <a:ext cx="678600" cy="1017720"/>
              </a:xfrm>
              <a:custGeom>
                <a:avLst/>
                <a:gdLst/>
                <a:ahLst/>
                <a:rect l="l" t="t" r="r" b="b"/>
                <a:pathLst>
                  <a:path w="3051" h="5527">
                    <a:moveTo>
                      <a:pt x="453" y="1743"/>
                    </a:moveTo>
                    <a:lnTo>
                      <a:pt x="446" y="1741"/>
                    </a:lnTo>
                    <a:lnTo>
                      <a:pt x="428" y="1733"/>
                    </a:lnTo>
                    <a:lnTo>
                      <a:pt x="398" y="1724"/>
                    </a:lnTo>
                    <a:lnTo>
                      <a:pt x="361" y="1714"/>
                    </a:lnTo>
                    <a:lnTo>
                      <a:pt x="341" y="1709"/>
                    </a:lnTo>
                    <a:lnTo>
                      <a:pt x="318" y="1705"/>
                    </a:lnTo>
                    <a:lnTo>
                      <a:pt x="295" y="1701"/>
                    </a:lnTo>
                    <a:lnTo>
                      <a:pt x="272" y="1699"/>
                    </a:lnTo>
                    <a:lnTo>
                      <a:pt x="247" y="1698"/>
                    </a:lnTo>
                    <a:lnTo>
                      <a:pt x="222" y="1699"/>
                    </a:lnTo>
                    <a:lnTo>
                      <a:pt x="198" y="1701"/>
                    </a:lnTo>
                    <a:lnTo>
                      <a:pt x="173" y="1706"/>
                    </a:lnTo>
                    <a:lnTo>
                      <a:pt x="149" y="1713"/>
                    </a:lnTo>
                    <a:lnTo>
                      <a:pt x="126" y="1722"/>
                    </a:lnTo>
                    <a:lnTo>
                      <a:pt x="105" y="1733"/>
                    </a:lnTo>
                    <a:lnTo>
                      <a:pt x="85" y="1748"/>
                    </a:lnTo>
                    <a:lnTo>
                      <a:pt x="65" y="1766"/>
                    </a:lnTo>
                    <a:lnTo>
                      <a:pt x="48" y="1787"/>
                    </a:lnTo>
                    <a:lnTo>
                      <a:pt x="34" y="1811"/>
                    </a:lnTo>
                    <a:lnTo>
                      <a:pt x="21" y="1841"/>
                    </a:lnTo>
                    <a:lnTo>
                      <a:pt x="11" y="1874"/>
                    </a:lnTo>
                    <a:lnTo>
                      <a:pt x="4" y="1911"/>
                    </a:lnTo>
                    <a:lnTo>
                      <a:pt x="1" y="1953"/>
                    </a:lnTo>
                    <a:lnTo>
                      <a:pt x="0" y="2000"/>
                    </a:lnTo>
                    <a:lnTo>
                      <a:pt x="3" y="2052"/>
                    </a:lnTo>
                    <a:lnTo>
                      <a:pt x="10" y="2109"/>
                    </a:lnTo>
                    <a:lnTo>
                      <a:pt x="21" y="2171"/>
                    </a:lnTo>
                    <a:lnTo>
                      <a:pt x="37" y="2240"/>
                    </a:lnTo>
                    <a:lnTo>
                      <a:pt x="55" y="2310"/>
                    </a:lnTo>
                    <a:lnTo>
                      <a:pt x="73" y="2377"/>
                    </a:lnTo>
                    <a:lnTo>
                      <a:pt x="90" y="2440"/>
                    </a:lnTo>
                    <a:lnTo>
                      <a:pt x="108" y="2501"/>
                    </a:lnTo>
                    <a:lnTo>
                      <a:pt x="126" y="2561"/>
                    </a:lnTo>
                    <a:lnTo>
                      <a:pt x="145" y="2616"/>
                    </a:lnTo>
                    <a:lnTo>
                      <a:pt x="162" y="2671"/>
                    </a:lnTo>
                    <a:lnTo>
                      <a:pt x="180" y="2722"/>
                    </a:lnTo>
                    <a:lnTo>
                      <a:pt x="198" y="2772"/>
                    </a:lnTo>
                    <a:lnTo>
                      <a:pt x="217" y="2819"/>
                    </a:lnTo>
                    <a:lnTo>
                      <a:pt x="235" y="2865"/>
                    </a:lnTo>
                    <a:lnTo>
                      <a:pt x="255" y="2909"/>
                    </a:lnTo>
                    <a:lnTo>
                      <a:pt x="274" y="2952"/>
                    </a:lnTo>
                    <a:lnTo>
                      <a:pt x="293" y="2994"/>
                    </a:lnTo>
                    <a:lnTo>
                      <a:pt x="313" y="3035"/>
                    </a:lnTo>
                    <a:lnTo>
                      <a:pt x="334" y="3075"/>
                    </a:lnTo>
                    <a:lnTo>
                      <a:pt x="354" y="3113"/>
                    </a:lnTo>
                    <a:lnTo>
                      <a:pt x="376" y="3152"/>
                    </a:lnTo>
                    <a:lnTo>
                      <a:pt x="397" y="3189"/>
                    </a:lnTo>
                    <a:lnTo>
                      <a:pt x="420" y="3227"/>
                    </a:lnTo>
                    <a:lnTo>
                      <a:pt x="468" y="3302"/>
                    </a:lnTo>
                    <a:lnTo>
                      <a:pt x="516" y="3376"/>
                    </a:lnTo>
                    <a:lnTo>
                      <a:pt x="570" y="3453"/>
                    </a:lnTo>
                    <a:lnTo>
                      <a:pt x="626" y="3532"/>
                    </a:lnTo>
                    <a:lnTo>
                      <a:pt x="685" y="3615"/>
                    </a:lnTo>
                    <a:lnTo>
                      <a:pt x="750" y="3704"/>
                    </a:lnTo>
                    <a:lnTo>
                      <a:pt x="783" y="3752"/>
                    </a:lnTo>
                    <a:lnTo>
                      <a:pt x="815" y="3805"/>
                    </a:lnTo>
                    <a:lnTo>
                      <a:pt x="847" y="3862"/>
                    </a:lnTo>
                    <a:lnTo>
                      <a:pt x="880" y="3922"/>
                    </a:lnTo>
                    <a:lnTo>
                      <a:pt x="912" y="3986"/>
                    </a:lnTo>
                    <a:lnTo>
                      <a:pt x="942" y="4053"/>
                    </a:lnTo>
                    <a:lnTo>
                      <a:pt x="973" y="4121"/>
                    </a:lnTo>
                    <a:lnTo>
                      <a:pt x="1004" y="4192"/>
                    </a:lnTo>
                    <a:lnTo>
                      <a:pt x="1033" y="4265"/>
                    </a:lnTo>
                    <a:lnTo>
                      <a:pt x="1063" y="4339"/>
                    </a:lnTo>
                    <a:lnTo>
                      <a:pt x="1091" y="4414"/>
                    </a:lnTo>
                    <a:lnTo>
                      <a:pt x="1118" y="4489"/>
                    </a:lnTo>
                    <a:lnTo>
                      <a:pt x="1145" y="4565"/>
                    </a:lnTo>
                    <a:lnTo>
                      <a:pt x="1171" y="4640"/>
                    </a:lnTo>
                    <a:lnTo>
                      <a:pt x="1196" y="4715"/>
                    </a:lnTo>
                    <a:lnTo>
                      <a:pt x="1220" y="4788"/>
                    </a:lnTo>
                    <a:lnTo>
                      <a:pt x="1264" y="4930"/>
                    </a:lnTo>
                    <a:lnTo>
                      <a:pt x="1305" y="5064"/>
                    </a:lnTo>
                    <a:lnTo>
                      <a:pt x="1340" y="5185"/>
                    </a:lnTo>
                    <a:lnTo>
                      <a:pt x="1370" y="5291"/>
                    </a:lnTo>
                    <a:lnTo>
                      <a:pt x="1410" y="5446"/>
                    </a:lnTo>
                    <a:lnTo>
                      <a:pt x="1425" y="5503"/>
                    </a:lnTo>
                    <a:lnTo>
                      <a:pt x="1443" y="5507"/>
                    </a:lnTo>
                    <a:lnTo>
                      <a:pt x="1490" y="5513"/>
                    </a:lnTo>
                    <a:lnTo>
                      <a:pt x="1521" y="5518"/>
                    </a:lnTo>
                    <a:lnTo>
                      <a:pt x="1555" y="5521"/>
                    </a:lnTo>
                    <a:lnTo>
                      <a:pt x="1593" y="5525"/>
                    </a:lnTo>
                    <a:lnTo>
                      <a:pt x="1631" y="5526"/>
                    </a:lnTo>
                    <a:lnTo>
                      <a:pt x="1670" y="5527"/>
                    </a:lnTo>
                    <a:lnTo>
                      <a:pt x="1707" y="5525"/>
                    </a:lnTo>
                    <a:lnTo>
                      <a:pt x="1724" y="5523"/>
                    </a:lnTo>
                    <a:lnTo>
                      <a:pt x="1741" y="5520"/>
                    </a:lnTo>
                    <a:lnTo>
                      <a:pt x="1758" y="5517"/>
                    </a:lnTo>
                    <a:lnTo>
                      <a:pt x="1773" y="5513"/>
                    </a:lnTo>
                    <a:lnTo>
                      <a:pt x="1787" y="5509"/>
                    </a:lnTo>
                    <a:lnTo>
                      <a:pt x="1799" y="5503"/>
                    </a:lnTo>
                    <a:lnTo>
                      <a:pt x="1810" y="5496"/>
                    </a:lnTo>
                    <a:lnTo>
                      <a:pt x="1820" y="5488"/>
                    </a:lnTo>
                    <a:lnTo>
                      <a:pt x="1827" y="5479"/>
                    </a:lnTo>
                    <a:lnTo>
                      <a:pt x="1832" y="5470"/>
                    </a:lnTo>
                    <a:lnTo>
                      <a:pt x="1837" y="5459"/>
                    </a:lnTo>
                    <a:lnTo>
                      <a:pt x="1838" y="5446"/>
                    </a:lnTo>
                    <a:lnTo>
                      <a:pt x="1838" y="5432"/>
                    </a:lnTo>
                    <a:lnTo>
                      <a:pt x="1840" y="5410"/>
                    </a:lnTo>
                    <a:lnTo>
                      <a:pt x="1843" y="5383"/>
                    </a:lnTo>
                    <a:lnTo>
                      <a:pt x="1848" y="5350"/>
                    </a:lnTo>
                    <a:lnTo>
                      <a:pt x="1860" y="5272"/>
                    </a:lnTo>
                    <a:lnTo>
                      <a:pt x="1878" y="5176"/>
                    </a:lnTo>
                    <a:lnTo>
                      <a:pt x="1901" y="5066"/>
                    </a:lnTo>
                    <a:lnTo>
                      <a:pt x="1929" y="4944"/>
                    </a:lnTo>
                    <a:lnTo>
                      <a:pt x="1944" y="4879"/>
                    </a:lnTo>
                    <a:lnTo>
                      <a:pt x="1961" y="4812"/>
                    </a:lnTo>
                    <a:lnTo>
                      <a:pt x="1978" y="4744"/>
                    </a:lnTo>
                    <a:lnTo>
                      <a:pt x="1997" y="4674"/>
                    </a:lnTo>
                    <a:lnTo>
                      <a:pt x="2018" y="4602"/>
                    </a:lnTo>
                    <a:lnTo>
                      <a:pt x="2038" y="4530"/>
                    </a:lnTo>
                    <a:lnTo>
                      <a:pt x="2061" y="4457"/>
                    </a:lnTo>
                    <a:lnTo>
                      <a:pt x="2084" y="4383"/>
                    </a:lnTo>
                    <a:lnTo>
                      <a:pt x="2107" y="4310"/>
                    </a:lnTo>
                    <a:lnTo>
                      <a:pt x="2132" y="4238"/>
                    </a:lnTo>
                    <a:lnTo>
                      <a:pt x="2158" y="4165"/>
                    </a:lnTo>
                    <a:lnTo>
                      <a:pt x="2186" y="4094"/>
                    </a:lnTo>
                    <a:lnTo>
                      <a:pt x="2214" y="4024"/>
                    </a:lnTo>
                    <a:lnTo>
                      <a:pt x="2243" y="3955"/>
                    </a:lnTo>
                    <a:lnTo>
                      <a:pt x="2273" y="3889"/>
                    </a:lnTo>
                    <a:lnTo>
                      <a:pt x="2303" y="3825"/>
                    </a:lnTo>
                    <a:lnTo>
                      <a:pt x="2335" y="3763"/>
                    </a:lnTo>
                    <a:lnTo>
                      <a:pt x="2368" y="3703"/>
                    </a:lnTo>
                    <a:lnTo>
                      <a:pt x="2401" y="3648"/>
                    </a:lnTo>
                    <a:lnTo>
                      <a:pt x="2436" y="3596"/>
                    </a:lnTo>
                    <a:lnTo>
                      <a:pt x="2469" y="3544"/>
                    </a:lnTo>
                    <a:lnTo>
                      <a:pt x="2503" y="3493"/>
                    </a:lnTo>
                    <a:lnTo>
                      <a:pt x="2536" y="3440"/>
                    </a:lnTo>
                    <a:lnTo>
                      <a:pt x="2569" y="3386"/>
                    </a:lnTo>
                    <a:lnTo>
                      <a:pt x="2600" y="3330"/>
                    </a:lnTo>
                    <a:lnTo>
                      <a:pt x="2632" y="3274"/>
                    </a:lnTo>
                    <a:lnTo>
                      <a:pt x="2664" y="3218"/>
                    </a:lnTo>
                    <a:lnTo>
                      <a:pt x="2694" y="3160"/>
                    </a:lnTo>
                    <a:lnTo>
                      <a:pt x="2724" y="3102"/>
                    </a:lnTo>
                    <a:lnTo>
                      <a:pt x="2752" y="3044"/>
                    </a:lnTo>
                    <a:lnTo>
                      <a:pt x="2781" y="2986"/>
                    </a:lnTo>
                    <a:lnTo>
                      <a:pt x="2808" y="2928"/>
                    </a:lnTo>
                    <a:lnTo>
                      <a:pt x="2833" y="2870"/>
                    </a:lnTo>
                    <a:lnTo>
                      <a:pt x="2858" y="2812"/>
                    </a:lnTo>
                    <a:lnTo>
                      <a:pt x="2881" y="2756"/>
                    </a:lnTo>
                    <a:lnTo>
                      <a:pt x="2904" y="2699"/>
                    </a:lnTo>
                    <a:lnTo>
                      <a:pt x="2926" y="2643"/>
                    </a:lnTo>
                    <a:lnTo>
                      <a:pt x="2945" y="2588"/>
                    </a:lnTo>
                    <a:lnTo>
                      <a:pt x="2963" y="2534"/>
                    </a:lnTo>
                    <a:lnTo>
                      <a:pt x="2980" y="2481"/>
                    </a:lnTo>
                    <a:lnTo>
                      <a:pt x="2995" y="2430"/>
                    </a:lnTo>
                    <a:lnTo>
                      <a:pt x="3008" y="2380"/>
                    </a:lnTo>
                    <a:lnTo>
                      <a:pt x="3021" y="2332"/>
                    </a:lnTo>
                    <a:lnTo>
                      <a:pt x="3031" y="2286"/>
                    </a:lnTo>
                    <a:lnTo>
                      <a:pt x="3039" y="2242"/>
                    </a:lnTo>
                    <a:lnTo>
                      <a:pt x="3045" y="2198"/>
                    </a:lnTo>
                    <a:lnTo>
                      <a:pt x="3049" y="2159"/>
                    </a:lnTo>
                    <a:lnTo>
                      <a:pt x="3051" y="2120"/>
                    </a:lnTo>
                    <a:lnTo>
                      <a:pt x="3051" y="2085"/>
                    </a:lnTo>
                    <a:lnTo>
                      <a:pt x="3050" y="2052"/>
                    </a:lnTo>
                    <a:lnTo>
                      <a:pt x="3046" y="2023"/>
                    </a:lnTo>
                    <a:lnTo>
                      <a:pt x="3039" y="1995"/>
                    </a:lnTo>
                    <a:lnTo>
                      <a:pt x="3008" y="1889"/>
                    </a:lnTo>
                    <a:lnTo>
                      <a:pt x="2978" y="1780"/>
                    </a:lnTo>
                    <a:lnTo>
                      <a:pt x="2962" y="1726"/>
                    </a:lnTo>
                    <a:lnTo>
                      <a:pt x="2946" y="1674"/>
                    </a:lnTo>
                    <a:lnTo>
                      <a:pt x="2937" y="1649"/>
                    </a:lnTo>
                    <a:lnTo>
                      <a:pt x="2928" y="1625"/>
                    </a:lnTo>
                    <a:lnTo>
                      <a:pt x="2919" y="1603"/>
                    </a:lnTo>
                    <a:lnTo>
                      <a:pt x="2910" y="1580"/>
                    </a:lnTo>
                    <a:lnTo>
                      <a:pt x="2900" y="1560"/>
                    </a:lnTo>
                    <a:lnTo>
                      <a:pt x="2888" y="1540"/>
                    </a:lnTo>
                    <a:lnTo>
                      <a:pt x="2878" y="1522"/>
                    </a:lnTo>
                    <a:lnTo>
                      <a:pt x="2867" y="1506"/>
                    </a:lnTo>
                    <a:lnTo>
                      <a:pt x="2854" y="1491"/>
                    </a:lnTo>
                    <a:lnTo>
                      <a:pt x="2842" y="1478"/>
                    </a:lnTo>
                    <a:lnTo>
                      <a:pt x="2828" y="1466"/>
                    </a:lnTo>
                    <a:lnTo>
                      <a:pt x="2815" y="1457"/>
                    </a:lnTo>
                    <a:lnTo>
                      <a:pt x="2800" y="1451"/>
                    </a:lnTo>
                    <a:lnTo>
                      <a:pt x="2785" y="1446"/>
                    </a:lnTo>
                    <a:lnTo>
                      <a:pt x="2769" y="1444"/>
                    </a:lnTo>
                    <a:lnTo>
                      <a:pt x="2752" y="1444"/>
                    </a:lnTo>
                    <a:lnTo>
                      <a:pt x="2735" y="1446"/>
                    </a:lnTo>
                    <a:lnTo>
                      <a:pt x="2717" y="1452"/>
                    </a:lnTo>
                    <a:lnTo>
                      <a:pt x="2698" y="1460"/>
                    </a:lnTo>
                    <a:lnTo>
                      <a:pt x="2677" y="1471"/>
                    </a:lnTo>
                    <a:lnTo>
                      <a:pt x="2659" y="1479"/>
                    </a:lnTo>
                    <a:lnTo>
                      <a:pt x="2645" y="1477"/>
                    </a:lnTo>
                    <a:lnTo>
                      <a:pt x="2633" y="1465"/>
                    </a:lnTo>
                    <a:lnTo>
                      <a:pt x="2625" y="1445"/>
                    </a:lnTo>
                    <a:lnTo>
                      <a:pt x="2621" y="1418"/>
                    </a:lnTo>
                    <a:lnTo>
                      <a:pt x="2617" y="1383"/>
                    </a:lnTo>
                    <a:lnTo>
                      <a:pt x="2615" y="1342"/>
                    </a:lnTo>
                    <a:lnTo>
                      <a:pt x="2614" y="1294"/>
                    </a:lnTo>
                    <a:lnTo>
                      <a:pt x="2614" y="1184"/>
                    </a:lnTo>
                    <a:lnTo>
                      <a:pt x="2612" y="1058"/>
                    </a:lnTo>
                    <a:lnTo>
                      <a:pt x="2608" y="990"/>
                    </a:lnTo>
                    <a:lnTo>
                      <a:pt x="2603" y="919"/>
                    </a:lnTo>
                    <a:lnTo>
                      <a:pt x="2596" y="848"/>
                    </a:lnTo>
                    <a:lnTo>
                      <a:pt x="2586" y="776"/>
                    </a:lnTo>
                    <a:lnTo>
                      <a:pt x="2571" y="703"/>
                    </a:lnTo>
                    <a:lnTo>
                      <a:pt x="2554" y="631"/>
                    </a:lnTo>
                    <a:lnTo>
                      <a:pt x="2531" y="560"/>
                    </a:lnTo>
                    <a:lnTo>
                      <a:pt x="2504" y="489"/>
                    </a:lnTo>
                    <a:lnTo>
                      <a:pt x="2471" y="421"/>
                    </a:lnTo>
                    <a:lnTo>
                      <a:pt x="2433" y="357"/>
                    </a:lnTo>
                    <a:lnTo>
                      <a:pt x="2388" y="295"/>
                    </a:lnTo>
                    <a:lnTo>
                      <a:pt x="2336" y="237"/>
                    </a:lnTo>
                    <a:lnTo>
                      <a:pt x="2277" y="185"/>
                    </a:lnTo>
                    <a:lnTo>
                      <a:pt x="2211" y="138"/>
                    </a:lnTo>
                    <a:lnTo>
                      <a:pt x="2136" y="97"/>
                    </a:lnTo>
                    <a:lnTo>
                      <a:pt x="2052" y="62"/>
                    </a:lnTo>
                    <a:lnTo>
                      <a:pt x="1958" y="34"/>
                    </a:lnTo>
                    <a:lnTo>
                      <a:pt x="1855" y="14"/>
                    </a:lnTo>
                    <a:lnTo>
                      <a:pt x="1741" y="2"/>
                    </a:lnTo>
                    <a:lnTo>
                      <a:pt x="1617" y="0"/>
                    </a:lnTo>
                    <a:lnTo>
                      <a:pt x="1491" y="5"/>
                    </a:lnTo>
                    <a:lnTo>
                      <a:pt x="1373" y="12"/>
                    </a:lnTo>
                    <a:lnTo>
                      <a:pt x="1263" y="22"/>
                    </a:lnTo>
                    <a:lnTo>
                      <a:pt x="1161" y="34"/>
                    </a:lnTo>
                    <a:lnTo>
                      <a:pt x="1066" y="50"/>
                    </a:lnTo>
                    <a:lnTo>
                      <a:pt x="979" y="68"/>
                    </a:lnTo>
                    <a:lnTo>
                      <a:pt x="898" y="91"/>
                    </a:lnTo>
                    <a:lnTo>
                      <a:pt x="823" y="116"/>
                    </a:lnTo>
                    <a:lnTo>
                      <a:pt x="757" y="144"/>
                    </a:lnTo>
                    <a:lnTo>
                      <a:pt x="694" y="175"/>
                    </a:lnTo>
                    <a:lnTo>
                      <a:pt x="639" y="210"/>
                    </a:lnTo>
                    <a:lnTo>
                      <a:pt x="589" y="248"/>
                    </a:lnTo>
                    <a:lnTo>
                      <a:pt x="545" y="290"/>
                    </a:lnTo>
                    <a:lnTo>
                      <a:pt x="506" y="334"/>
                    </a:lnTo>
                    <a:lnTo>
                      <a:pt x="472" y="382"/>
                    </a:lnTo>
                    <a:lnTo>
                      <a:pt x="444" y="433"/>
                    </a:lnTo>
                    <a:lnTo>
                      <a:pt x="419" y="487"/>
                    </a:lnTo>
                    <a:lnTo>
                      <a:pt x="400" y="546"/>
                    </a:lnTo>
                    <a:lnTo>
                      <a:pt x="384" y="607"/>
                    </a:lnTo>
                    <a:lnTo>
                      <a:pt x="371" y="672"/>
                    </a:lnTo>
                    <a:lnTo>
                      <a:pt x="363" y="741"/>
                    </a:lnTo>
                    <a:lnTo>
                      <a:pt x="359" y="814"/>
                    </a:lnTo>
                    <a:lnTo>
                      <a:pt x="358" y="890"/>
                    </a:lnTo>
                    <a:lnTo>
                      <a:pt x="359" y="969"/>
                    </a:lnTo>
                    <a:lnTo>
                      <a:pt x="363" y="1052"/>
                    </a:lnTo>
                    <a:lnTo>
                      <a:pt x="370" y="1140"/>
                    </a:lnTo>
                    <a:lnTo>
                      <a:pt x="379" y="1230"/>
                    </a:lnTo>
                    <a:lnTo>
                      <a:pt x="391" y="1326"/>
                    </a:lnTo>
                    <a:lnTo>
                      <a:pt x="404" y="1424"/>
                    </a:lnTo>
                    <a:lnTo>
                      <a:pt x="419" y="1527"/>
                    </a:lnTo>
                    <a:lnTo>
                      <a:pt x="436" y="1633"/>
                    </a:lnTo>
                    <a:lnTo>
                      <a:pt x="453" y="1743"/>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39" name=""/>
              <p:cNvSpPr/>
              <p:nvPr/>
            </p:nvSpPr>
            <p:spPr>
              <a:xfrm>
                <a:off x="5080680" y="2302920"/>
                <a:ext cx="1080" cy="70920"/>
              </a:xfrm>
              <a:prstGeom prst="line">
                <a:avLst/>
              </a:prstGeom>
              <a:ln w="4680">
                <a:solidFill>
                  <a:srgbClr val="000000"/>
                </a:solidFill>
                <a:miter/>
              </a:ln>
            </p:spPr>
            <p:style>
              <a:lnRef idx="0"/>
              <a:fillRef idx="0"/>
              <a:effectRef idx="0"/>
              <a:fontRef idx="minor"/>
            </p:style>
            <p:txBody>
              <a:bodyPr lIns="93240" rIns="93240" tIns="24480" bIns="24480" anchor="t">
                <a:noAutofit/>
              </a:bodyPr>
              <a:p>
                <a:endParaRPr b="0" lang="en-US" sz="2400" spc="-1" strike="noStrike">
                  <a:solidFill>
                    <a:srgbClr val="ffffff"/>
                  </a:solidFill>
                  <a:latin typeface="Times New Roman"/>
                </a:endParaRPr>
              </a:p>
            </p:txBody>
          </p:sp>
          <p:sp>
            <p:nvSpPr>
              <p:cNvPr id="640" name=""/>
              <p:cNvSpPr/>
              <p:nvPr/>
            </p:nvSpPr>
            <p:spPr>
              <a:xfrm flipH="1">
                <a:off x="5103720" y="2307960"/>
                <a:ext cx="5760" cy="75960"/>
              </a:xfrm>
              <a:prstGeom prst="line">
                <a:avLst/>
              </a:prstGeom>
              <a:ln w="4680">
                <a:solidFill>
                  <a:srgbClr val="000000"/>
                </a:solidFill>
                <a:miter/>
              </a:ln>
            </p:spPr>
            <p:style>
              <a:lnRef idx="0"/>
              <a:fillRef idx="0"/>
              <a:effectRef idx="0"/>
              <a:fontRef idx="minor"/>
            </p:style>
            <p:txBody>
              <a:bodyPr lIns="93240" rIns="93240" tIns="29520" bIns="29520" anchor="t">
                <a:noAutofit/>
              </a:bodyPr>
              <a:p>
                <a:endParaRPr b="0" lang="en-US" sz="2400" spc="-1" strike="noStrike">
                  <a:solidFill>
                    <a:srgbClr val="ffffff"/>
                  </a:solidFill>
                  <a:latin typeface="Times New Roman"/>
                </a:endParaRPr>
              </a:p>
            </p:txBody>
          </p:sp>
          <p:sp>
            <p:nvSpPr>
              <p:cNvPr id="641" name=""/>
              <p:cNvSpPr/>
              <p:nvPr/>
            </p:nvSpPr>
            <p:spPr>
              <a:xfrm>
                <a:off x="4749840" y="2129040"/>
                <a:ext cx="70560" cy="44280"/>
              </a:xfrm>
              <a:custGeom>
                <a:avLst/>
                <a:gdLst/>
                <a:ahLst/>
                <a:rect l="l" t="t" r="r" b="b"/>
                <a:pathLst>
                  <a:path w="315" h="245">
                    <a:moveTo>
                      <a:pt x="315" y="0"/>
                    </a:moveTo>
                    <a:lnTo>
                      <a:pt x="298" y="0"/>
                    </a:lnTo>
                    <a:lnTo>
                      <a:pt x="253" y="4"/>
                    </a:lnTo>
                    <a:lnTo>
                      <a:pt x="225" y="7"/>
                    </a:lnTo>
                    <a:lnTo>
                      <a:pt x="193" y="13"/>
                    </a:lnTo>
                    <a:lnTo>
                      <a:pt x="159" y="21"/>
                    </a:lnTo>
                    <a:lnTo>
                      <a:pt x="126" y="31"/>
                    </a:lnTo>
                    <a:lnTo>
                      <a:pt x="110" y="37"/>
                    </a:lnTo>
                    <a:lnTo>
                      <a:pt x="94" y="43"/>
                    </a:lnTo>
                    <a:lnTo>
                      <a:pt x="78" y="51"/>
                    </a:lnTo>
                    <a:lnTo>
                      <a:pt x="65" y="59"/>
                    </a:lnTo>
                    <a:lnTo>
                      <a:pt x="51" y="69"/>
                    </a:lnTo>
                    <a:lnTo>
                      <a:pt x="39" y="80"/>
                    </a:lnTo>
                    <a:lnTo>
                      <a:pt x="28" y="91"/>
                    </a:lnTo>
                    <a:lnTo>
                      <a:pt x="19" y="103"/>
                    </a:lnTo>
                    <a:lnTo>
                      <a:pt x="11" y="117"/>
                    </a:lnTo>
                    <a:lnTo>
                      <a:pt x="6" y="132"/>
                    </a:lnTo>
                    <a:lnTo>
                      <a:pt x="1" y="147"/>
                    </a:lnTo>
                    <a:lnTo>
                      <a:pt x="0" y="164"/>
                    </a:lnTo>
                    <a:lnTo>
                      <a:pt x="1" y="182"/>
                    </a:lnTo>
                    <a:lnTo>
                      <a:pt x="4" y="202"/>
                    </a:lnTo>
                    <a:lnTo>
                      <a:pt x="10" y="223"/>
                    </a:lnTo>
                    <a:lnTo>
                      <a:pt x="18" y="245"/>
                    </a:lnTo>
                  </a:path>
                </a:pathLst>
              </a:custGeom>
              <a:noFill/>
              <a:ln w="4680">
                <a:solidFill>
                  <a:srgbClr val="000000"/>
                </a:solidFill>
                <a:round/>
              </a:ln>
            </p:spPr>
            <p:style>
              <a:lnRef idx="0"/>
              <a:fillRef idx="0"/>
              <a:effectRef idx="0"/>
              <a:fontRef idx="minor"/>
            </p:style>
            <p:txBody>
              <a:bodyPr wrap="none" lIns="93240" rIns="93240" tIns="-2160" bIns="-2160" anchor="t">
                <a:spAutoFit/>
              </a:bodyPr>
              <a:p>
                <a:endParaRPr b="0" lang="en-US" sz="2400" spc="-1" strike="noStrike">
                  <a:solidFill>
                    <a:srgbClr val="ffffff"/>
                  </a:solidFill>
                  <a:latin typeface="Times New Roman"/>
                </a:endParaRPr>
              </a:p>
            </p:txBody>
          </p:sp>
          <p:sp>
            <p:nvSpPr>
              <p:cNvPr id="642" name=""/>
              <p:cNvSpPr/>
              <p:nvPr/>
            </p:nvSpPr>
            <p:spPr>
              <a:xfrm>
                <a:off x="5369400" y="2088360"/>
                <a:ext cx="68760" cy="50400"/>
              </a:xfrm>
              <a:custGeom>
                <a:avLst/>
                <a:gdLst/>
                <a:ahLst/>
                <a:rect l="l" t="t" r="r" b="b"/>
                <a:pathLst>
                  <a:path w="310" h="276">
                    <a:moveTo>
                      <a:pt x="0" y="3"/>
                    </a:moveTo>
                    <a:lnTo>
                      <a:pt x="16" y="1"/>
                    </a:lnTo>
                    <a:lnTo>
                      <a:pt x="58" y="0"/>
                    </a:lnTo>
                    <a:lnTo>
                      <a:pt x="86" y="0"/>
                    </a:lnTo>
                    <a:lnTo>
                      <a:pt x="115" y="3"/>
                    </a:lnTo>
                    <a:lnTo>
                      <a:pt x="131" y="6"/>
                    </a:lnTo>
                    <a:lnTo>
                      <a:pt x="147" y="8"/>
                    </a:lnTo>
                    <a:lnTo>
                      <a:pt x="164" y="12"/>
                    </a:lnTo>
                    <a:lnTo>
                      <a:pt x="180" y="17"/>
                    </a:lnTo>
                    <a:lnTo>
                      <a:pt x="196" y="23"/>
                    </a:lnTo>
                    <a:lnTo>
                      <a:pt x="211" y="29"/>
                    </a:lnTo>
                    <a:lnTo>
                      <a:pt x="225" y="36"/>
                    </a:lnTo>
                    <a:lnTo>
                      <a:pt x="240" y="45"/>
                    </a:lnTo>
                    <a:lnTo>
                      <a:pt x="254" y="56"/>
                    </a:lnTo>
                    <a:lnTo>
                      <a:pt x="265" y="67"/>
                    </a:lnTo>
                    <a:lnTo>
                      <a:pt x="276" y="80"/>
                    </a:lnTo>
                    <a:lnTo>
                      <a:pt x="287" y="95"/>
                    </a:lnTo>
                    <a:lnTo>
                      <a:pt x="294" y="111"/>
                    </a:lnTo>
                    <a:lnTo>
                      <a:pt x="301" y="129"/>
                    </a:lnTo>
                    <a:lnTo>
                      <a:pt x="307" y="149"/>
                    </a:lnTo>
                    <a:lnTo>
                      <a:pt x="309" y="170"/>
                    </a:lnTo>
                    <a:lnTo>
                      <a:pt x="310" y="193"/>
                    </a:lnTo>
                    <a:lnTo>
                      <a:pt x="309" y="219"/>
                    </a:lnTo>
                    <a:lnTo>
                      <a:pt x="305" y="246"/>
                    </a:lnTo>
                    <a:lnTo>
                      <a:pt x="299" y="276"/>
                    </a:lnTo>
                  </a:path>
                </a:pathLst>
              </a:custGeom>
              <a:noFill/>
              <a:ln w="4680">
                <a:solidFill>
                  <a:srgbClr val="000000"/>
                </a:solidFill>
                <a:round/>
              </a:ln>
            </p:spPr>
            <p:style>
              <a:lnRef idx="0"/>
              <a:fillRef idx="0"/>
              <a:effectRef idx="0"/>
              <a:fontRef idx="minor"/>
            </p:style>
            <p:txBody>
              <a:bodyPr wrap="none" lIns="93240" rIns="93240" tIns="3960" bIns="3960" anchor="t">
                <a:spAutoFit/>
              </a:bodyPr>
              <a:p>
                <a:endParaRPr b="0" lang="en-US" sz="2400" spc="-1" strike="noStrike">
                  <a:solidFill>
                    <a:srgbClr val="ffffff"/>
                  </a:solidFill>
                  <a:latin typeface="Times New Roman"/>
                </a:endParaRPr>
              </a:p>
            </p:txBody>
          </p:sp>
          <p:sp>
            <p:nvSpPr>
              <p:cNvPr id="643" name=""/>
              <p:cNvSpPr/>
              <p:nvPr/>
            </p:nvSpPr>
            <p:spPr>
              <a:xfrm>
                <a:off x="5134320" y="2564640"/>
                <a:ext cx="19800" cy="69840"/>
              </a:xfrm>
              <a:custGeom>
                <a:avLst/>
                <a:gdLst/>
                <a:ahLst/>
                <a:rect l="l" t="t" r="r" b="b"/>
                <a:pathLst>
                  <a:path w="94" h="378">
                    <a:moveTo>
                      <a:pt x="0" y="0"/>
                    </a:moveTo>
                    <a:lnTo>
                      <a:pt x="8" y="8"/>
                    </a:lnTo>
                    <a:lnTo>
                      <a:pt x="27" y="32"/>
                    </a:lnTo>
                    <a:lnTo>
                      <a:pt x="40" y="49"/>
                    </a:lnTo>
                    <a:lnTo>
                      <a:pt x="52" y="69"/>
                    </a:lnTo>
                    <a:lnTo>
                      <a:pt x="65" y="92"/>
                    </a:lnTo>
                    <a:lnTo>
                      <a:pt x="76" y="118"/>
                    </a:lnTo>
                    <a:lnTo>
                      <a:pt x="81" y="132"/>
                    </a:lnTo>
                    <a:lnTo>
                      <a:pt x="85" y="145"/>
                    </a:lnTo>
                    <a:lnTo>
                      <a:pt x="88" y="160"/>
                    </a:lnTo>
                    <a:lnTo>
                      <a:pt x="92" y="175"/>
                    </a:lnTo>
                    <a:lnTo>
                      <a:pt x="93" y="191"/>
                    </a:lnTo>
                    <a:lnTo>
                      <a:pt x="94" y="207"/>
                    </a:lnTo>
                    <a:lnTo>
                      <a:pt x="94" y="223"/>
                    </a:lnTo>
                    <a:lnTo>
                      <a:pt x="93" y="238"/>
                    </a:lnTo>
                    <a:lnTo>
                      <a:pt x="91" y="255"/>
                    </a:lnTo>
                    <a:lnTo>
                      <a:pt x="86" y="272"/>
                    </a:lnTo>
                    <a:lnTo>
                      <a:pt x="81" y="289"/>
                    </a:lnTo>
                    <a:lnTo>
                      <a:pt x="74" y="308"/>
                    </a:lnTo>
                    <a:lnTo>
                      <a:pt x="65" y="325"/>
                    </a:lnTo>
                    <a:lnTo>
                      <a:pt x="54" y="343"/>
                    </a:lnTo>
                    <a:lnTo>
                      <a:pt x="42" y="361"/>
                    </a:lnTo>
                    <a:lnTo>
                      <a:pt x="27" y="378"/>
                    </a:lnTo>
                  </a:path>
                </a:pathLst>
              </a:custGeom>
              <a:noFill/>
              <a:ln w="4680">
                <a:solidFill>
                  <a:srgbClr val="000000"/>
                </a:solidFill>
                <a:round/>
              </a:ln>
            </p:spPr>
            <p:style>
              <a:lnRef idx="0"/>
              <a:fillRef idx="0"/>
              <a:effectRef idx="0"/>
              <a:fontRef idx="minor"/>
            </p:style>
            <p:txBody>
              <a:bodyPr wrap="none" lIns="93240" rIns="93240" tIns="23400" bIns="23400" anchor="t">
                <a:spAutoFit/>
              </a:bodyPr>
              <a:p>
                <a:endParaRPr b="0" lang="en-US" sz="2400" spc="-1" strike="noStrike">
                  <a:solidFill>
                    <a:srgbClr val="ffffff"/>
                  </a:solidFill>
                  <a:latin typeface="Times New Roman"/>
                </a:endParaRPr>
              </a:p>
            </p:txBody>
          </p:sp>
          <p:sp>
            <p:nvSpPr>
              <p:cNvPr id="644" name=""/>
              <p:cNvSpPr/>
              <p:nvPr/>
            </p:nvSpPr>
            <p:spPr>
              <a:xfrm>
                <a:off x="4943520" y="1944720"/>
                <a:ext cx="291600" cy="189000"/>
              </a:xfrm>
              <a:custGeom>
                <a:avLst/>
                <a:gdLst/>
                <a:ahLst/>
                <a:rect l="l" t="t" r="r" b="b"/>
                <a:pathLst>
                  <a:path w="1314" h="1029">
                    <a:moveTo>
                      <a:pt x="747" y="158"/>
                    </a:moveTo>
                    <a:lnTo>
                      <a:pt x="742" y="148"/>
                    </a:lnTo>
                    <a:lnTo>
                      <a:pt x="725" y="127"/>
                    </a:lnTo>
                    <a:lnTo>
                      <a:pt x="719" y="120"/>
                    </a:lnTo>
                    <a:lnTo>
                      <a:pt x="712" y="115"/>
                    </a:lnTo>
                    <a:lnTo>
                      <a:pt x="704" y="109"/>
                    </a:lnTo>
                    <a:lnTo>
                      <a:pt x="695" y="105"/>
                    </a:lnTo>
                    <a:lnTo>
                      <a:pt x="685" y="100"/>
                    </a:lnTo>
                    <a:lnTo>
                      <a:pt x="675" y="95"/>
                    </a:lnTo>
                    <a:lnTo>
                      <a:pt x="662" y="93"/>
                    </a:lnTo>
                    <a:lnTo>
                      <a:pt x="650" y="91"/>
                    </a:lnTo>
                    <a:lnTo>
                      <a:pt x="636" y="91"/>
                    </a:lnTo>
                    <a:lnTo>
                      <a:pt x="622" y="92"/>
                    </a:lnTo>
                    <a:lnTo>
                      <a:pt x="606" y="94"/>
                    </a:lnTo>
                    <a:lnTo>
                      <a:pt x="589" y="99"/>
                    </a:lnTo>
                    <a:lnTo>
                      <a:pt x="571" y="105"/>
                    </a:lnTo>
                    <a:lnTo>
                      <a:pt x="551" y="114"/>
                    </a:lnTo>
                    <a:lnTo>
                      <a:pt x="531" y="124"/>
                    </a:lnTo>
                    <a:lnTo>
                      <a:pt x="509" y="137"/>
                    </a:lnTo>
                    <a:lnTo>
                      <a:pt x="486" y="153"/>
                    </a:lnTo>
                    <a:lnTo>
                      <a:pt x="462" y="171"/>
                    </a:lnTo>
                    <a:lnTo>
                      <a:pt x="436" y="193"/>
                    </a:lnTo>
                    <a:lnTo>
                      <a:pt x="410" y="218"/>
                    </a:lnTo>
                    <a:lnTo>
                      <a:pt x="381" y="246"/>
                    </a:lnTo>
                    <a:lnTo>
                      <a:pt x="352" y="277"/>
                    </a:lnTo>
                    <a:lnTo>
                      <a:pt x="320" y="312"/>
                    </a:lnTo>
                    <a:lnTo>
                      <a:pt x="288" y="351"/>
                    </a:lnTo>
                    <a:lnTo>
                      <a:pt x="255" y="392"/>
                    </a:lnTo>
                    <a:lnTo>
                      <a:pt x="225" y="430"/>
                    </a:lnTo>
                    <a:lnTo>
                      <a:pt x="197" y="468"/>
                    </a:lnTo>
                    <a:lnTo>
                      <a:pt x="170" y="505"/>
                    </a:lnTo>
                    <a:lnTo>
                      <a:pt x="146" y="540"/>
                    </a:lnTo>
                    <a:lnTo>
                      <a:pt x="123" y="574"/>
                    </a:lnTo>
                    <a:lnTo>
                      <a:pt x="102" y="607"/>
                    </a:lnTo>
                    <a:lnTo>
                      <a:pt x="84" y="640"/>
                    </a:lnTo>
                    <a:lnTo>
                      <a:pt x="67" y="671"/>
                    </a:lnTo>
                    <a:lnTo>
                      <a:pt x="53" y="700"/>
                    </a:lnTo>
                    <a:lnTo>
                      <a:pt x="39" y="729"/>
                    </a:lnTo>
                    <a:lnTo>
                      <a:pt x="28" y="756"/>
                    </a:lnTo>
                    <a:lnTo>
                      <a:pt x="19" y="782"/>
                    </a:lnTo>
                    <a:lnTo>
                      <a:pt x="12" y="807"/>
                    </a:lnTo>
                    <a:lnTo>
                      <a:pt x="6" y="830"/>
                    </a:lnTo>
                    <a:lnTo>
                      <a:pt x="3" y="852"/>
                    </a:lnTo>
                    <a:lnTo>
                      <a:pt x="0" y="874"/>
                    </a:lnTo>
                    <a:lnTo>
                      <a:pt x="2" y="893"/>
                    </a:lnTo>
                    <a:lnTo>
                      <a:pt x="3" y="911"/>
                    </a:lnTo>
                    <a:lnTo>
                      <a:pt x="7" y="928"/>
                    </a:lnTo>
                    <a:lnTo>
                      <a:pt x="13" y="944"/>
                    </a:lnTo>
                    <a:lnTo>
                      <a:pt x="22" y="959"/>
                    </a:lnTo>
                    <a:lnTo>
                      <a:pt x="31" y="973"/>
                    </a:lnTo>
                    <a:lnTo>
                      <a:pt x="44" y="984"/>
                    </a:lnTo>
                    <a:lnTo>
                      <a:pt x="57" y="994"/>
                    </a:lnTo>
                    <a:lnTo>
                      <a:pt x="72" y="1003"/>
                    </a:lnTo>
                    <a:lnTo>
                      <a:pt x="90" y="1011"/>
                    </a:lnTo>
                    <a:lnTo>
                      <a:pt x="109" y="1018"/>
                    </a:lnTo>
                    <a:lnTo>
                      <a:pt x="131" y="1023"/>
                    </a:lnTo>
                    <a:lnTo>
                      <a:pt x="153" y="1026"/>
                    </a:lnTo>
                    <a:lnTo>
                      <a:pt x="180" y="1028"/>
                    </a:lnTo>
                    <a:lnTo>
                      <a:pt x="207" y="1029"/>
                    </a:lnTo>
                    <a:lnTo>
                      <a:pt x="234" y="1028"/>
                    </a:lnTo>
                    <a:lnTo>
                      <a:pt x="262" y="1026"/>
                    </a:lnTo>
                    <a:lnTo>
                      <a:pt x="288" y="1023"/>
                    </a:lnTo>
                    <a:lnTo>
                      <a:pt x="316" y="1018"/>
                    </a:lnTo>
                    <a:lnTo>
                      <a:pt x="340" y="1014"/>
                    </a:lnTo>
                    <a:lnTo>
                      <a:pt x="365" y="1007"/>
                    </a:lnTo>
                    <a:lnTo>
                      <a:pt x="390" y="999"/>
                    </a:lnTo>
                    <a:lnTo>
                      <a:pt x="414" y="991"/>
                    </a:lnTo>
                    <a:lnTo>
                      <a:pt x="437" y="982"/>
                    </a:lnTo>
                    <a:lnTo>
                      <a:pt x="459" y="973"/>
                    </a:lnTo>
                    <a:lnTo>
                      <a:pt x="481" y="962"/>
                    </a:lnTo>
                    <a:lnTo>
                      <a:pt x="501" y="951"/>
                    </a:lnTo>
                    <a:lnTo>
                      <a:pt x="541" y="930"/>
                    </a:lnTo>
                    <a:lnTo>
                      <a:pt x="576" y="907"/>
                    </a:lnTo>
                    <a:lnTo>
                      <a:pt x="609" y="884"/>
                    </a:lnTo>
                    <a:lnTo>
                      <a:pt x="637" y="861"/>
                    </a:lnTo>
                    <a:lnTo>
                      <a:pt x="661" y="841"/>
                    </a:lnTo>
                    <a:lnTo>
                      <a:pt x="683" y="822"/>
                    </a:lnTo>
                    <a:lnTo>
                      <a:pt x="710" y="795"/>
                    </a:lnTo>
                    <a:lnTo>
                      <a:pt x="720" y="784"/>
                    </a:lnTo>
                    <a:lnTo>
                      <a:pt x="734" y="795"/>
                    </a:lnTo>
                    <a:lnTo>
                      <a:pt x="770" y="822"/>
                    </a:lnTo>
                    <a:lnTo>
                      <a:pt x="796" y="840"/>
                    </a:lnTo>
                    <a:lnTo>
                      <a:pt x="825" y="860"/>
                    </a:lnTo>
                    <a:lnTo>
                      <a:pt x="858" y="882"/>
                    </a:lnTo>
                    <a:lnTo>
                      <a:pt x="895" y="903"/>
                    </a:lnTo>
                    <a:lnTo>
                      <a:pt x="933" y="925"/>
                    </a:lnTo>
                    <a:lnTo>
                      <a:pt x="973" y="945"/>
                    </a:lnTo>
                    <a:lnTo>
                      <a:pt x="1012" y="964"/>
                    </a:lnTo>
                    <a:lnTo>
                      <a:pt x="1054" y="979"/>
                    </a:lnTo>
                    <a:lnTo>
                      <a:pt x="1075" y="986"/>
                    </a:lnTo>
                    <a:lnTo>
                      <a:pt x="1095" y="992"/>
                    </a:lnTo>
                    <a:lnTo>
                      <a:pt x="1114" y="997"/>
                    </a:lnTo>
                    <a:lnTo>
                      <a:pt x="1135" y="1000"/>
                    </a:lnTo>
                    <a:lnTo>
                      <a:pt x="1154" y="1003"/>
                    </a:lnTo>
                    <a:lnTo>
                      <a:pt x="1173" y="1004"/>
                    </a:lnTo>
                    <a:lnTo>
                      <a:pt x="1192" y="1003"/>
                    </a:lnTo>
                    <a:lnTo>
                      <a:pt x="1210" y="1002"/>
                    </a:lnTo>
                    <a:lnTo>
                      <a:pt x="1227" y="998"/>
                    </a:lnTo>
                    <a:lnTo>
                      <a:pt x="1241" y="992"/>
                    </a:lnTo>
                    <a:lnTo>
                      <a:pt x="1255" y="983"/>
                    </a:lnTo>
                    <a:lnTo>
                      <a:pt x="1267" y="973"/>
                    </a:lnTo>
                    <a:lnTo>
                      <a:pt x="1278" y="960"/>
                    </a:lnTo>
                    <a:lnTo>
                      <a:pt x="1287" y="945"/>
                    </a:lnTo>
                    <a:lnTo>
                      <a:pt x="1295" y="928"/>
                    </a:lnTo>
                    <a:lnTo>
                      <a:pt x="1301" y="910"/>
                    </a:lnTo>
                    <a:lnTo>
                      <a:pt x="1306" y="891"/>
                    </a:lnTo>
                    <a:lnTo>
                      <a:pt x="1309" y="871"/>
                    </a:lnTo>
                    <a:lnTo>
                      <a:pt x="1312" y="848"/>
                    </a:lnTo>
                    <a:lnTo>
                      <a:pt x="1313" y="825"/>
                    </a:lnTo>
                    <a:lnTo>
                      <a:pt x="1314" y="800"/>
                    </a:lnTo>
                    <a:lnTo>
                      <a:pt x="1313" y="775"/>
                    </a:lnTo>
                    <a:lnTo>
                      <a:pt x="1311" y="749"/>
                    </a:lnTo>
                    <a:lnTo>
                      <a:pt x="1308" y="723"/>
                    </a:lnTo>
                    <a:lnTo>
                      <a:pt x="1305" y="696"/>
                    </a:lnTo>
                    <a:lnTo>
                      <a:pt x="1300" y="669"/>
                    </a:lnTo>
                    <a:lnTo>
                      <a:pt x="1295" y="641"/>
                    </a:lnTo>
                    <a:lnTo>
                      <a:pt x="1289" y="613"/>
                    </a:lnTo>
                    <a:lnTo>
                      <a:pt x="1275" y="558"/>
                    </a:lnTo>
                    <a:lnTo>
                      <a:pt x="1260" y="504"/>
                    </a:lnTo>
                    <a:lnTo>
                      <a:pt x="1241" y="453"/>
                    </a:lnTo>
                    <a:lnTo>
                      <a:pt x="1222" y="404"/>
                    </a:lnTo>
                    <a:lnTo>
                      <a:pt x="1213" y="381"/>
                    </a:lnTo>
                    <a:lnTo>
                      <a:pt x="1203" y="360"/>
                    </a:lnTo>
                    <a:lnTo>
                      <a:pt x="1193" y="339"/>
                    </a:lnTo>
                    <a:lnTo>
                      <a:pt x="1182" y="321"/>
                    </a:lnTo>
                    <a:lnTo>
                      <a:pt x="1162" y="284"/>
                    </a:lnTo>
                    <a:lnTo>
                      <a:pt x="1139" y="245"/>
                    </a:lnTo>
                    <a:lnTo>
                      <a:pt x="1117" y="204"/>
                    </a:lnTo>
                    <a:lnTo>
                      <a:pt x="1093" y="166"/>
                    </a:lnTo>
                    <a:lnTo>
                      <a:pt x="1067" y="127"/>
                    </a:lnTo>
                    <a:lnTo>
                      <a:pt x="1041" y="92"/>
                    </a:lnTo>
                    <a:lnTo>
                      <a:pt x="1027" y="76"/>
                    </a:lnTo>
                    <a:lnTo>
                      <a:pt x="1014" y="61"/>
                    </a:lnTo>
                    <a:lnTo>
                      <a:pt x="1000" y="48"/>
                    </a:lnTo>
                    <a:lnTo>
                      <a:pt x="986" y="35"/>
                    </a:lnTo>
                    <a:lnTo>
                      <a:pt x="972" y="24"/>
                    </a:lnTo>
                    <a:lnTo>
                      <a:pt x="958" y="16"/>
                    </a:lnTo>
                    <a:lnTo>
                      <a:pt x="943" y="8"/>
                    </a:lnTo>
                    <a:lnTo>
                      <a:pt x="929" y="4"/>
                    </a:lnTo>
                    <a:lnTo>
                      <a:pt x="914" y="1"/>
                    </a:lnTo>
                    <a:lnTo>
                      <a:pt x="899" y="0"/>
                    </a:lnTo>
                    <a:lnTo>
                      <a:pt x="884" y="2"/>
                    </a:lnTo>
                    <a:lnTo>
                      <a:pt x="870" y="7"/>
                    </a:lnTo>
                    <a:lnTo>
                      <a:pt x="854" y="15"/>
                    </a:lnTo>
                    <a:lnTo>
                      <a:pt x="839" y="25"/>
                    </a:lnTo>
                    <a:lnTo>
                      <a:pt x="823" y="39"/>
                    </a:lnTo>
                    <a:lnTo>
                      <a:pt x="808" y="56"/>
                    </a:lnTo>
                    <a:lnTo>
                      <a:pt x="793" y="75"/>
                    </a:lnTo>
                    <a:lnTo>
                      <a:pt x="778" y="99"/>
                    </a:lnTo>
                    <a:lnTo>
                      <a:pt x="762" y="126"/>
                    </a:lnTo>
                    <a:lnTo>
                      <a:pt x="747" y="158"/>
                    </a:lnTo>
                    <a:close/>
                  </a:path>
                </a:pathLst>
              </a:custGeom>
              <a:solidFill>
                <a:srgbClr val="ffffff"/>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45" name=""/>
              <p:cNvSpPr/>
              <p:nvPr/>
            </p:nvSpPr>
            <p:spPr>
              <a:xfrm>
                <a:off x="4943520" y="1944720"/>
                <a:ext cx="291600" cy="189000"/>
              </a:xfrm>
              <a:custGeom>
                <a:avLst/>
                <a:gdLst/>
                <a:ahLst/>
                <a:rect l="l" t="t" r="r" b="b"/>
                <a:pathLst>
                  <a:path w="1314" h="1029">
                    <a:moveTo>
                      <a:pt x="747" y="158"/>
                    </a:moveTo>
                    <a:lnTo>
                      <a:pt x="742" y="148"/>
                    </a:lnTo>
                    <a:lnTo>
                      <a:pt x="725" y="127"/>
                    </a:lnTo>
                    <a:lnTo>
                      <a:pt x="719" y="120"/>
                    </a:lnTo>
                    <a:lnTo>
                      <a:pt x="712" y="115"/>
                    </a:lnTo>
                    <a:lnTo>
                      <a:pt x="704" y="109"/>
                    </a:lnTo>
                    <a:lnTo>
                      <a:pt x="695" y="105"/>
                    </a:lnTo>
                    <a:lnTo>
                      <a:pt x="685" y="100"/>
                    </a:lnTo>
                    <a:lnTo>
                      <a:pt x="675" y="95"/>
                    </a:lnTo>
                    <a:lnTo>
                      <a:pt x="662" y="93"/>
                    </a:lnTo>
                    <a:lnTo>
                      <a:pt x="650" y="91"/>
                    </a:lnTo>
                    <a:lnTo>
                      <a:pt x="636" y="91"/>
                    </a:lnTo>
                    <a:lnTo>
                      <a:pt x="622" y="92"/>
                    </a:lnTo>
                    <a:lnTo>
                      <a:pt x="606" y="94"/>
                    </a:lnTo>
                    <a:lnTo>
                      <a:pt x="589" y="99"/>
                    </a:lnTo>
                    <a:lnTo>
                      <a:pt x="571" y="105"/>
                    </a:lnTo>
                    <a:lnTo>
                      <a:pt x="551" y="114"/>
                    </a:lnTo>
                    <a:lnTo>
                      <a:pt x="531" y="124"/>
                    </a:lnTo>
                    <a:lnTo>
                      <a:pt x="509" y="137"/>
                    </a:lnTo>
                    <a:lnTo>
                      <a:pt x="486" y="153"/>
                    </a:lnTo>
                    <a:lnTo>
                      <a:pt x="462" y="171"/>
                    </a:lnTo>
                    <a:lnTo>
                      <a:pt x="436" y="193"/>
                    </a:lnTo>
                    <a:lnTo>
                      <a:pt x="410" y="218"/>
                    </a:lnTo>
                    <a:lnTo>
                      <a:pt x="381" y="246"/>
                    </a:lnTo>
                    <a:lnTo>
                      <a:pt x="352" y="277"/>
                    </a:lnTo>
                    <a:lnTo>
                      <a:pt x="320" y="312"/>
                    </a:lnTo>
                    <a:lnTo>
                      <a:pt x="288" y="351"/>
                    </a:lnTo>
                    <a:lnTo>
                      <a:pt x="255" y="392"/>
                    </a:lnTo>
                    <a:lnTo>
                      <a:pt x="225" y="430"/>
                    </a:lnTo>
                    <a:lnTo>
                      <a:pt x="197" y="468"/>
                    </a:lnTo>
                    <a:lnTo>
                      <a:pt x="170" y="505"/>
                    </a:lnTo>
                    <a:lnTo>
                      <a:pt x="146" y="540"/>
                    </a:lnTo>
                    <a:lnTo>
                      <a:pt x="123" y="574"/>
                    </a:lnTo>
                    <a:lnTo>
                      <a:pt x="102" y="607"/>
                    </a:lnTo>
                    <a:lnTo>
                      <a:pt x="84" y="640"/>
                    </a:lnTo>
                    <a:lnTo>
                      <a:pt x="67" y="671"/>
                    </a:lnTo>
                    <a:lnTo>
                      <a:pt x="53" y="700"/>
                    </a:lnTo>
                    <a:lnTo>
                      <a:pt x="39" y="729"/>
                    </a:lnTo>
                    <a:lnTo>
                      <a:pt x="28" y="756"/>
                    </a:lnTo>
                    <a:lnTo>
                      <a:pt x="19" y="782"/>
                    </a:lnTo>
                    <a:lnTo>
                      <a:pt x="12" y="807"/>
                    </a:lnTo>
                    <a:lnTo>
                      <a:pt x="6" y="830"/>
                    </a:lnTo>
                    <a:lnTo>
                      <a:pt x="3" y="852"/>
                    </a:lnTo>
                    <a:lnTo>
                      <a:pt x="0" y="874"/>
                    </a:lnTo>
                    <a:lnTo>
                      <a:pt x="2" y="893"/>
                    </a:lnTo>
                    <a:lnTo>
                      <a:pt x="3" y="911"/>
                    </a:lnTo>
                    <a:lnTo>
                      <a:pt x="7" y="928"/>
                    </a:lnTo>
                    <a:lnTo>
                      <a:pt x="13" y="944"/>
                    </a:lnTo>
                    <a:lnTo>
                      <a:pt x="22" y="959"/>
                    </a:lnTo>
                    <a:lnTo>
                      <a:pt x="31" y="973"/>
                    </a:lnTo>
                    <a:lnTo>
                      <a:pt x="44" y="984"/>
                    </a:lnTo>
                    <a:lnTo>
                      <a:pt x="57" y="994"/>
                    </a:lnTo>
                    <a:lnTo>
                      <a:pt x="72" y="1003"/>
                    </a:lnTo>
                    <a:lnTo>
                      <a:pt x="90" y="1011"/>
                    </a:lnTo>
                    <a:lnTo>
                      <a:pt x="109" y="1018"/>
                    </a:lnTo>
                    <a:lnTo>
                      <a:pt x="131" y="1023"/>
                    </a:lnTo>
                    <a:lnTo>
                      <a:pt x="153" y="1026"/>
                    </a:lnTo>
                    <a:lnTo>
                      <a:pt x="180" y="1028"/>
                    </a:lnTo>
                    <a:lnTo>
                      <a:pt x="207" y="1029"/>
                    </a:lnTo>
                    <a:lnTo>
                      <a:pt x="234" y="1028"/>
                    </a:lnTo>
                    <a:lnTo>
                      <a:pt x="262" y="1026"/>
                    </a:lnTo>
                    <a:lnTo>
                      <a:pt x="288" y="1023"/>
                    </a:lnTo>
                    <a:lnTo>
                      <a:pt x="316" y="1018"/>
                    </a:lnTo>
                    <a:lnTo>
                      <a:pt x="340" y="1014"/>
                    </a:lnTo>
                    <a:lnTo>
                      <a:pt x="365" y="1007"/>
                    </a:lnTo>
                    <a:lnTo>
                      <a:pt x="390" y="999"/>
                    </a:lnTo>
                    <a:lnTo>
                      <a:pt x="414" y="991"/>
                    </a:lnTo>
                    <a:lnTo>
                      <a:pt x="437" y="982"/>
                    </a:lnTo>
                    <a:lnTo>
                      <a:pt x="459" y="973"/>
                    </a:lnTo>
                    <a:lnTo>
                      <a:pt x="481" y="962"/>
                    </a:lnTo>
                    <a:lnTo>
                      <a:pt x="501" y="951"/>
                    </a:lnTo>
                    <a:lnTo>
                      <a:pt x="541" y="930"/>
                    </a:lnTo>
                    <a:lnTo>
                      <a:pt x="576" y="907"/>
                    </a:lnTo>
                    <a:lnTo>
                      <a:pt x="609" y="884"/>
                    </a:lnTo>
                    <a:lnTo>
                      <a:pt x="637" y="861"/>
                    </a:lnTo>
                    <a:lnTo>
                      <a:pt x="661" y="841"/>
                    </a:lnTo>
                    <a:lnTo>
                      <a:pt x="683" y="822"/>
                    </a:lnTo>
                    <a:lnTo>
                      <a:pt x="710" y="795"/>
                    </a:lnTo>
                    <a:lnTo>
                      <a:pt x="720" y="784"/>
                    </a:lnTo>
                    <a:lnTo>
                      <a:pt x="734" y="795"/>
                    </a:lnTo>
                    <a:lnTo>
                      <a:pt x="770" y="822"/>
                    </a:lnTo>
                    <a:lnTo>
                      <a:pt x="796" y="840"/>
                    </a:lnTo>
                    <a:lnTo>
                      <a:pt x="825" y="860"/>
                    </a:lnTo>
                    <a:lnTo>
                      <a:pt x="858" y="882"/>
                    </a:lnTo>
                    <a:lnTo>
                      <a:pt x="895" y="903"/>
                    </a:lnTo>
                    <a:lnTo>
                      <a:pt x="933" y="925"/>
                    </a:lnTo>
                    <a:lnTo>
                      <a:pt x="973" y="945"/>
                    </a:lnTo>
                    <a:lnTo>
                      <a:pt x="1012" y="964"/>
                    </a:lnTo>
                    <a:lnTo>
                      <a:pt x="1054" y="979"/>
                    </a:lnTo>
                    <a:lnTo>
                      <a:pt x="1075" y="986"/>
                    </a:lnTo>
                    <a:lnTo>
                      <a:pt x="1095" y="992"/>
                    </a:lnTo>
                    <a:lnTo>
                      <a:pt x="1114" y="997"/>
                    </a:lnTo>
                    <a:lnTo>
                      <a:pt x="1135" y="1000"/>
                    </a:lnTo>
                    <a:lnTo>
                      <a:pt x="1154" y="1003"/>
                    </a:lnTo>
                    <a:lnTo>
                      <a:pt x="1173" y="1004"/>
                    </a:lnTo>
                    <a:lnTo>
                      <a:pt x="1192" y="1003"/>
                    </a:lnTo>
                    <a:lnTo>
                      <a:pt x="1210" y="1002"/>
                    </a:lnTo>
                    <a:lnTo>
                      <a:pt x="1227" y="998"/>
                    </a:lnTo>
                    <a:lnTo>
                      <a:pt x="1241" y="992"/>
                    </a:lnTo>
                    <a:lnTo>
                      <a:pt x="1255" y="983"/>
                    </a:lnTo>
                    <a:lnTo>
                      <a:pt x="1267" y="973"/>
                    </a:lnTo>
                    <a:lnTo>
                      <a:pt x="1278" y="960"/>
                    </a:lnTo>
                    <a:lnTo>
                      <a:pt x="1287" y="945"/>
                    </a:lnTo>
                    <a:lnTo>
                      <a:pt x="1295" y="928"/>
                    </a:lnTo>
                    <a:lnTo>
                      <a:pt x="1301" y="910"/>
                    </a:lnTo>
                    <a:lnTo>
                      <a:pt x="1306" y="891"/>
                    </a:lnTo>
                    <a:lnTo>
                      <a:pt x="1309" y="871"/>
                    </a:lnTo>
                    <a:lnTo>
                      <a:pt x="1312" y="848"/>
                    </a:lnTo>
                    <a:lnTo>
                      <a:pt x="1313" y="825"/>
                    </a:lnTo>
                    <a:lnTo>
                      <a:pt x="1314" y="800"/>
                    </a:lnTo>
                    <a:lnTo>
                      <a:pt x="1313" y="775"/>
                    </a:lnTo>
                    <a:lnTo>
                      <a:pt x="1311" y="749"/>
                    </a:lnTo>
                    <a:lnTo>
                      <a:pt x="1308" y="723"/>
                    </a:lnTo>
                    <a:lnTo>
                      <a:pt x="1305" y="696"/>
                    </a:lnTo>
                    <a:lnTo>
                      <a:pt x="1300" y="669"/>
                    </a:lnTo>
                    <a:lnTo>
                      <a:pt x="1295" y="641"/>
                    </a:lnTo>
                    <a:lnTo>
                      <a:pt x="1289" y="613"/>
                    </a:lnTo>
                    <a:lnTo>
                      <a:pt x="1275" y="558"/>
                    </a:lnTo>
                    <a:lnTo>
                      <a:pt x="1260" y="504"/>
                    </a:lnTo>
                    <a:lnTo>
                      <a:pt x="1241" y="453"/>
                    </a:lnTo>
                    <a:lnTo>
                      <a:pt x="1222" y="404"/>
                    </a:lnTo>
                    <a:lnTo>
                      <a:pt x="1213" y="381"/>
                    </a:lnTo>
                    <a:lnTo>
                      <a:pt x="1203" y="360"/>
                    </a:lnTo>
                    <a:lnTo>
                      <a:pt x="1193" y="339"/>
                    </a:lnTo>
                    <a:lnTo>
                      <a:pt x="1182" y="321"/>
                    </a:lnTo>
                    <a:lnTo>
                      <a:pt x="1162" y="284"/>
                    </a:lnTo>
                    <a:lnTo>
                      <a:pt x="1139" y="245"/>
                    </a:lnTo>
                    <a:lnTo>
                      <a:pt x="1117" y="204"/>
                    </a:lnTo>
                    <a:lnTo>
                      <a:pt x="1093" y="166"/>
                    </a:lnTo>
                    <a:lnTo>
                      <a:pt x="1067" y="127"/>
                    </a:lnTo>
                    <a:lnTo>
                      <a:pt x="1041" y="92"/>
                    </a:lnTo>
                    <a:lnTo>
                      <a:pt x="1027" y="76"/>
                    </a:lnTo>
                    <a:lnTo>
                      <a:pt x="1014" y="61"/>
                    </a:lnTo>
                    <a:lnTo>
                      <a:pt x="1000" y="48"/>
                    </a:lnTo>
                    <a:lnTo>
                      <a:pt x="986" y="35"/>
                    </a:lnTo>
                    <a:lnTo>
                      <a:pt x="972" y="24"/>
                    </a:lnTo>
                    <a:lnTo>
                      <a:pt x="958" y="16"/>
                    </a:lnTo>
                    <a:lnTo>
                      <a:pt x="943" y="8"/>
                    </a:lnTo>
                    <a:lnTo>
                      <a:pt x="929" y="4"/>
                    </a:lnTo>
                    <a:lnTo>
                      <a:pt x="914" y="1"/>
                    </a:lnTo>
                    <a:lnTo>
                      <a:pt x="899" y="0"/>
                    </a:lnTo>
                    <a:lnTo>
                      <a:pt x="884" y="2"/>
                    </a:lnTo>
                    <a:lnTo>
                      <a:pt x="870" y="7"/>
                    </a:lnTo>
                    <a:lnTo>
                      <a:pt x="854" y="15"/>
                    </a:lnTo>
                    <a:lnTo>
                      <a:pt x="839" y="25"/>
                    </a:lnTo>
                    <a:lnTo>
                      <a:pt x="823" y="39"/>
                    </a:lnTo>
                    <a:lnTo>
                      <a:pt x="808" y="56"/>
                    </a:lnTo>
                    <a:lnTo>
                      <a:pt x="793" y="75"/>
                    </a:lnTo>
                    <a:lnTo>
                      <a:pt x="778" y="99"/>
                    </a:lnTo>
                    <a:lnTo>
                      <a:pt x="762" y="126"/>
                    </a:lnTo>
                    <a:lnTo>
                      <a:pt x="747" y="158"/>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46" name=""/>
              <p:cNvSpPr/>
              <p:nvPr/>
            </p:nvSpPr>
            <p:spPr>
              <a:xfrm>
                <a:off x="5069880" y="2019600"/>
                <a:ext cx="28800" cy="43200"/>
              </a:xfrm>
              <a:custGeom>
                <a:avLst/>
                <a:gdLst/>
                <a:ahLst/>
                <a:rect l="l" t="t" r="r" b="b"/>
                <a:pathLst>
                  <a:path w="136" h="229">
                    <a:moveTo>
                      <a:pt x="47" y="228"/>
                    </a:moveTo>
                    <a:lnTo>
                      <a:pt x="53" y="229"/>
                    </a:lnTo>
                    <a:lnTo>
                      <a:pt x="59" y="228"/>
                    </a:lnTo>
                    <a:lnTo>
                      <a:pt x="65" y="227"/>
                    </a:lnTo>
                    <a:lnTo>
                      <a:pt x="71" y="225"/>
                    </a:lnTo>
                    <a:lnTo>
                      <a:pt x="77" y="221"/>
                    </a:lnTo>
                    <a:lnTo>
                      <a:pt x="84" y="217"/>
                    </a:lnTo>
                    <a:lnTo>
                      <a:pt x="89" y="211"/>
                    </a:lnTo>
                    <a:lnTo>
                      <a:pt x="95" y="204"/>
                    </a:lnTo>
                    <a:lnTo>
                      <a:pt x="105" y="188"/>
                    </a:lnTo>
                    <a:lnTo>
                      <a:pt x="115" y="170"/>
                    </a:lnTo>
                    <a:lnTo>
                      <a:pt x="120" y="160"/>
                    </a:lnTo>
                    <a:lnTo>
                      <a:pt x="123" y="150"/>
                    </a:lnTo>
                    <a:lnTo>
                      <a:pt x="127" y="140"/>
                    </a:lnTo>
                    <a:lnTo>
                      <a:pt x="129" y="128"/>
                    </a:lnTo>
                    <a:lnTo>
                      <a:pt x="133" y="104"/>
                    </a:lnTo>
                    <a:lnTo>
                      <a:pt x="136" y="83"/>
                    </a:lnTo>
                    <a:lnTo>
                      <a:pt x="136" y="71"/>
                    </a:lnTo>
                    <a:lnTo>
                      <a:pt x="135" y="61"/>
                    </a:lnTo>
                    <a:lnTo>
                      <a:pt x="133" y="52"/>
                    </a:lnTo>
                    <a:lnTo>
                      <a:pt x="132" y="43"/>
                    </a:lnTo>
                    <a:lnTo>
                      <a:pt x="130" y="35"/>
                    </a:lnTo>
                    <a:lnTo>
                      <a:pt x="128" y="27"/>
                    </a:lnTo>
                    <a:lnTo>
                      <a:pt x="124" y="20"/>
                    </a:lnTo>
                    <a:lnTo>
                      <a:pt x="121" y="15"/>
                    </a:lnTo>
                    <a:lnTo>
                      <a:pt x="116" y="10"/>
                    </a:lnTo>
                    <a:lnTo>
                      <a:pt x="112" y="6"/>
                    </a:lnTo>
                    <a:lnTo>
                      <a:pt x="107" y="3"/>
                    </a:lnTo>
                    <a:lnTo>
                      <a:pt x="102" y="1"/>
                    </a:lnTo>
                    <a:lnTo>
                      <a:pt x="95" y="0"/>
                    </a:lnTo>
                    <a:lnTo>
                      <a:pt x="88" y="0"/>
                    </a:lnTo>
                    <a:lnTo>
                      <a:pt x="81" y="2"/>
                    </a:lnTo>
                    <a:lnTo>
                      <a:pt x="75" y="4"/>
                    </a:lnTo>
                    <a:lnTo>
                      <a:pt x="67" y="9"/>
                    </a:lnTo>
                    <a:lnTo>
                      <a:pt x="60" y="14"/>
                    </a:lnTo>
                    <a:lnTo>
                      <a:pt x="52" y="19"/>
                    </a:lnTo>
                    <a:lnTo>
                      <a:pt x="45" y="26"/>
                    </a:lnTo>
                    <a:lnTo>
                      <a:pt x="38" y="33"/>
                    </a:lnTo>
                    <a:lnTo>
                      <a:pt x="31" y="42"/>
                    </a:lnTo>
                    <a:lnTo>
                      <a:pt x="26" y="51"/>
                    </a:lnTo>
                    <a:lnTo>
                      <a:pt x="20" y="60"/>
                    </a:lnTo>
                    <a:lnTo>
                      <a:pt x="14" y="70"/>
                    </a:lnTo>
                    <a:lnTo>
                      <a:pt x="10" y="81"/>
                    </a:lnTo>
                    <a:lnTo>
                      <a:pt x="7" y="92"/>
                    </a:lnTo>
                    <a:lnTo>
                      <a:pt x="3" y="103"/>
                    </a:lnTo>
                    <a:lnTo>
                      <a:pt x="1" y="116"/>
                    </a:lnTo>
                    <a:lnTo>
                      <a:pt x="0" y="127"/>
                    </a:lnTo>
                    <a:lnTo>
                      <a:pt x="0" y="138"/>
                    </a:lnTo>
                    <a:lnTo>
                      <a:pt x="0" y="150"/>
                    </a:lnTo>
                    <a:lnTo>
                      <a:pt x="1" y="160"/>
                    </a:lnTo>
                    <a:lnTo>
                      <a:pt x="2" y="170"/>
                    </a:lnTo>
                    <a:lnTo>
                      <a:pt x="4" y="179"/>
                    </a:lnTo>
                    <a:lnTo>
                      <a:pt x="8" y="187"/>
                    </a:lnTo>
                    <a:lnTo>
                      <a:pt x="11" y="195"/>
                    </a:lnTo>
                    <a:lnTo>
                      <a:pt x="14" y="203"/>
                    </a:lnTo>
                    <a:lnTo>
                      <a:pt x="19" y="210"/>
                    </a:lnTo>
                    <a:lnTo>
                      <a:pt x="25" y="214"/>
                    </a:lnTo>
                    <a:lnTo>
                      <a:pt x="29" y="220"/>
                    </a:lnTo>
                    <a:lnTo>
                      <a:pt x="35" y="223"/>
                    </a:lnTo>
                    <a:lnTo>
                      <a:pt x="42" y="226"/>
                    </a:lnTo>
                    <a:lnTo>
                      <a:pt x="47" y="228"/>
                    </a:lnTo>
                    <a:close/>
                  </a:path>
                </a:pathLst>
              </a:custGeom>
              <a:solidFill>
                <a:srgbClr val="000000"/>
              </a:solidFill>
              <a:ln w="0">
                <a:noFill/>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47" name=""/>
              <p:cNvSpPr/>
              <p:nvPr/>
            </p:nvSpPr>
            <p:spPr>
              <a:xfrm>
                <a:off x="5069880" y="2019600"/>
                <a:ext cx="28800" cy="43200"/>
              </a:xfrm>
              <a:custGeom>
                <a:avLst/>
                <a:gdLst/>
                <a:ahLst/>
                <a:rect l="l" t="t" r="r" b="b"/>
                <a:pathLst>
                  <a:path w="136" h="229">
                    <a:moveTo>
                      <a:pt x="47" y="228"/>
                    </a:moveTo>
                    <a:lnTo>
                      <a:pt x="53" y="229"/>
                    </a:lnTo>
                    <a:lnTo>
                      <a:pt x="59" y="228"/>
                    </a:lnTo>
                    <a:lnTo>
                      <a:pt x="65" y="227"/>
                    </a:lnTo>
                    <a:lnTo>
                      <a:pt x="71" y="225"/>
                    </a:lnTo>
                    <a:lnTo>
                      <a:pt x="77" y="221"/>
                    </a:lnTo>
                    <a:lnTo>
                      <a:pt x="84" y="217"/>
                    </a:lnTo>
                    <a:lnTo>
                      <a:pt x="89" y="211"/>
                    </a:lnTo>
                    <a:lnTo>
                      <a:pt x="95" y="204"/>
                    </a:lnTo>
                    <a:lnTo>
                      <a:pt x="105" y="188"/>
                    </a:lnTo>
                    <a:lnTo>
                      <a:pt x="115" y="170"/>
                    </a:lnTo>
                    <a:lnTo>
                      <a:pt x="120" y="160"/>
                    </a:lnTo>
                    <a:lnTo>
                      <a:pt x="123" y="150"/>
                    </a:lnTo>
                    <a:lnTo>
                      <a:pt x="127" y="140"/>
                    </a:lnTo>
                    <a:lnTo>
                      <a:pt x="129" y="128"/>
                    </a:lnTo>
                    <a:lnTo>
                      <a:pt x="133" y="104"/>
                    </a:lnTo>
                    <a:lnTo>
                      <a:pt x="136" y="83"/>
                    </a:lnTo>
                    <a:lnTo>
                      <a:pt x="136" y="71"/>
                    </a:lnTo>
                    <a:lnTo>
                      <a:pt x="135" y="61"/>
                    </a:lnTo>
                    <a:lnTo>
                      <a:pt x="133" y="52"/>
                    </a:lnTo>
                    <a:lnTo>
                      <a:pt x="132" y="43"/>
                    </a:lnTo>
                    <a:lnTo>
                      <a:pt x="130" y="35"/>
                    </a:lnTo>
                    <a:lnTo>
                      <a:pt x="128" y="27"/>
                    </a:lnTo>
                    <a:lnTo>
                      <a:pt x="124" y="20"/>
                    </a:lnTo>
                    <a:lnTo>
                      <a:pt x="121" y="15"/>
                    </a:lnTo>
                    <a:lnTo>
                      <a:pt x="116" y="10"/>
                    </a:lnTo>
                    <a:lnTo>
                      <a:pt x="112" y="6"/>
                    </a:lnTo>
                    <a:lnTo>
                      <a:pt x="107" y="3"/>
                    </a:lnTo>
                    <a:lnTo>
                      <a:pt x="102" y="1"/>
                    </a:lnTo>
                    <a:lnTo>
                      <a:pt x="95" y="0"/>
                    </a:lnTo>
                    <a:lnTo>
                      <a:pt x="88" y="0"/>
                    </a:lnTo>
                    <a:lnTo>
                      <a:pt x="81" y="2"/>
                    </a:lnTo>
                    <a:lnTo>
                      <a:pt x="75" y="4"/>
                    </a:lnTo>
                    <a:lnTo>
                      <a:pt x="67" y="9"/>
                    </a:lnTo>
                    <a:lnTo>
                      <a:pt x="60" y="14"/>
                    </a:lnTo>
                    <a:lnTo>
                      <a:pt x="52" y="19"/>
                    </a:lnTo>
                    <a:lnTo>
                      <a:pt x="45" y="26"/>
                    </a:lnTo>
                    <a:lnTo>
                      <a:pt x="38" y="33"/>
                    </a:lnTo>
                    <a:lnTo>
                      <a:pt x="31" y="42"/>
                    </a:lnTo>
                    <a:lnTo>
                      <a:pt x="26" y="51"/>
                    </a:lnTo>
                    <a:lnTo>
                      <a:pt x="20" y="60"/>
                    </a:lnTo>
                    <a:lnTo>
                      <a:pt x="14" y="70"/>
                    </a:lnTo>
                    <a:lnTo>
                      <a:pt x="10" y="81"/>
                    </a:lnTo>
                    <a:lnTo>
                      <a:pt x="7" y="92"/>
                    </a:lnTo>
                    <a:lnTo>
                      <a:pt x="3" y="103"/>
                    </a:lnTo>
                    <a:lnTo>
                      <a:pt x="1" y="116"/>
                    </a:lnTo>
                    <a:lnTo>
                      <a:pt x="0" y="127"/>
                    </a:lnTo>
                    <a:lnTo>
                      <a:pt x="0" y="138"/>
                    </a:lnTo>
                    <a:lnTo>
                      <a:pt x="0" y="150"/>
                    </a:lnTo>
                    <a:lnTo>
                      <a:pt x="1" y="160"/>
                    </a:lnTo>
                    <a:lnTo>
                      <a:pt x="2" y="170"/>
                    </a:lnTo>
                    <a:lnTo>
                      <a:pt x="4" y="179"/>
                    </a:lnTo>
                    <a:lnTo>
                      <a:pt x="8" y="187"/>
                    </a:lnTo>
                    <a:lnTo>
                      <a:pt x="11" y="195"/>
                    </a:lnTo>
                    <a:lnTo>
                      <a:pt x="14" y="203"/>
                    </a:lnTo>
                    <a:lnTo>
                      <a:pt x="19" y="210"/>
                    </a:lnTo>
                    <a:lnTo>
                      <a:pt x="25" y="214"/>
                    </a:lnTo>
                    <a:lnTo>
                      <a:pt x="29" y="220"/>
                    </a:lnTo>
                    <a:lnTo>
                      <a:pt x="35" y="223"/>
                    </a:lnTo>
                    <a:lnTo>
                      <a:pt x="42" y="226"/>
                    </a:lnTo>
                    <a:lnTo>
                      <a:pt x="47" y="228"/>
                    </a:lnTo>
                  </a:path>
                </a:pathLst>
              </a:custGeom>
              <a:noFill/>
              <a:ln w="4680">
                <a:solidFill>
                  <a:srgbClr val="000000"/>
                </a:solidFill>
                <a:round/>
              </a:ln>
            </p:spPr>
            <p:style>
              <a:lnRef idx="0"/>
              <a:fillRef idx="0"/>
              <a:effectRef idx="0"/>
              <a:fontRef idx="minor"/>
            </p:style>
            <p:txBody>
              <a:bodyPr wrap="none" lIns="93240" rIns="93240" tIns="-3240" bIns="-3240" anchor="t">
                <a:spAutoFit/>
              </a:bodyPr>
              <a:p>
                <a:endParaRPr b="0" lang="en-US" sz="2400" spc="-1" strike="noStrike">
                  <a:solidFill>
                    <a:srgbClr val="ffffff"/>
                  </a:solidFill>
                  <a:latin typeface="Times New Roman"/>
                </a:endParaRPr>
              </a:p>
            </p:txBody>
          </p:sp>
          <p:sp>
            <p:nvSpPr>
              <p:cNvPr id="648" name=""/>
              <p:cNvSpPr/>
              <p:nvPr/>
            </p:nvSpPr>
            <p:spPr>
              <a:xfrm>
                <a:off x="5114520" y="2028600"/>
                <a:ext cx="25560" cy="41760"/>
              </a:xfrm>
              <a:custGeom>
                <a:avLst/>
                <a:gdLst/>
                <a:ahLst/>
                <a:rect l="l" t="t" r="r" b="b"/>
                <a:pathLst>
                  <a:path w="122" h="224">
                    <a:moveTo>
                      <a:pt x="88" y="224"/>
                    </a:moveTo>
                    <a:lnTo>
                      <a:pt x="94" y="222"/>
                    </a:lnTo>
                    <a:lnTo>
                      <a:pt x="99" y="219"/>
                    </a:lnTo>
                    <a:lnTo>
                      <a:pt x="104" y="214"/>
                    </a:lnTo>
                    <a:lnTo>
                      <a:pt x="108" y="210"/>
                    </a:lnTo>
                    <a:lnTo>
                      <a:pt x="112" y="204"/>
                    </a:lnTo>
                    <a:lnTo>
                      <a:pt x="115" y="197"/>
                    </a:lnTo>
                    <a:lnTo>
                      <a:pt x="118" y="189"/>
                    </a:lnTo>
                    <a:lnTo>
                      <a:pt x="120" y="181"/>
                    </a:lnTo>
                    <a:lnTo>
                      <a:pt x="121" y="172"/>
                    </a:lnTo>
                    <a:lnTo>
                      <a:pt x="122" y="163"/>
                    </a:lnTo>
                    <a:lnTo>
                      <a:pt x="122" y="153"/>
                    </a:lnTo>
                    <a:lnTo>
                      <a:pt x="122" y="143"/>
                    </a:lnTo>
                    <a:lnTo>
                      <a:pt x="120" y="120"/>
                    </a:lnTo>
                    <a:lnTo>
                      <a:pt x="115" y="97"/>
                    </a:lnTo>
                    <a:lnTo>
                      <a:pt x="108" y="75"/>
                    </a:lnTo>
                    <a:lnTo>
                      <a:pt x="101" y="54"/>
                    </a:lnTo>
                    <a:lnTo>
                      <a:pt x="90" y="36"/>
                    </a:lnTo>
                    <a:lnTo>
                      <a:pt x="80" y="21"/>
                    </a:lnTo>
                    <a:lnTo>
                      <a:pt x="74" y="16"/>
                    </a:lnTo>
                    <a:lnTo>
                      <a:pt x="69" y="10"/>
                    </a:lnTo>
                    <a:lnTo>
                      <a:pt x="63" y="5"/>
                    </a:lnTo>
                    <a:lnTo>
                      <a:pt x="57" y="3"/>
                    </a:lnTo>
                    <a:lnTo>
                      <a:pt x="51" y="1"/>
                    </a:lnTo>
                    <a:lnTo>
                      <a:pt x="45" y="0"/>
                    </a:lnTo>
                    <a:lnTo>
                      <a:pt x="39" y="0"/>
                    </a:lnTo>
                    <a:lnTo>
                      <a:pt x="34" y="0"/>
                    </a:lnTo>
                    <a:lnTo>
                      <a:pt x="28" y="2"/>
                    </a:lnTo>
                    <a:lnTo>
                      <a:pt x="23" y="5"/>
                    </a:lnTo>
                    <a:lnTo>
                      <a:pt x="19" y="9"/>
                    </a:lnTo>
                    <a:lnTo>
                      <a:pt x="14" y="13"/>
                    </a:lnTo>
                    <a:lnTo>
                      <a:pt x="11" y="19"/>
                    </a:lnTo>
                    <a:lnTo>
                      <a:pt x="8" y="26"/>
                    </a:lnTo>
                    <a:lnTo>
                      <a:pt x="5" y="34"/>
                    </a:lnTo>
                    <a:lnTo>
                      <a:pt x="3" y="42"/>
                    </a:lnTo>
                    <a:lnTo>
                      <a:pt x="2" y="51"/>
                    </a:lnTo>
                    <a:lnTo>
                      <a:pt x="1" y="60"/>
                    </a:lnTo>
                    <a:lnTo>
                      <a:pt x="0" y="70"/>
                    </a:lnTo>
                    <a:lnTo>
                      <a:pt x="0" y="80"/>
                    </a:lnTo>
                    <a:lnTo>
                      <a:pt x="2" y="102"/>
                    </a:lnTo>
                    <a:lnTo>
                      <a:pt x="6" y="125"/>
                    </a:lnTo>
                    <a:lnTo>
                      <a:pt x="13" y="147"/>
                    </a:lnTo>
                    <a:lnTo>
                      <a:pt x="21" y="168"/>
                    </a:lnTo>
                    <a:lnTo>
                      <a:pt x="31" y="186"/>
                    </a:lnTo>
                    <a:lnTo>
                      <a:pt x="42" y="201"/>
                    </a:lnTo>
                    <a:lnTo>
                      <a:pt x="47" y="206"/>
                    </a:lnTo>
                    <a:lnTo>
                      <a:pt x="53" y="212"/>
                    </a:lnTo>
                    <a:lnTo>
                      <a:pt x="59" y="216"/>
                    </a:lnTo>
                    <a:lnTo>
                      <a:pt x="64" y="220"/>
                    </a:lnTo>
                    <a:lnTo>
                      <a:pt x="71" y="222"/>
                    </a:lnTo>
                    <a:lnTo>
                      <a:pt x="77" y="224"/>
                    </a:lnTo>
                    <a:lnTo>
                      <a:pt x="82" y="224"/>
                    </a:lnTo>
                    <a:lnTo>
                      <a:pt x="88" y="224"/>
                    </a:lnTo>
                    <a:close/>
                  </a:path>
                </a:pathLst>
              </a:custGeom>
              <a:solidFill>
                <a:srgbClr val="000000"/>
              </a:solidFill>
              <a:ln w="0">
                <a:noFill/>
              </a:ln>
            </p:spPr>
            <p:style>
              <a:lnRef idx="0"/>
              <a:fillRef idx="0"/>
              <a:effectRef idx="0"/>
              <a:fontRef idx="minor"/>
            </p:style>
            <p:txBody>
              <a:bodyPr wrap="none" lIns="93240" rIns="93240" tIns="-4680" bIns="-4680" anchor="t">
                <a:spAutoFit/>
              </a:bodyPr>
              <a:p>
                <a:endParaRPr b="0" lang="en-US" sz="2400" spc="-1" strike="noStrike">
                  <a:solidFill>
                    <a:srgbClr val="ffffff"/>
                  </a:solidFill>
                  <a:latin typeface="Times New Roman"/>
                </a:endParaRPr>
              </a:p>
            </p:txBody>
          </p:sp>
          <p:sp>
            <p:nvSpPr>
              <p:cNvPr id="649" name=""/>
              <p:cNvSpPr/>
              <p:nvPr/>
            </p:nvSpPr>
            <p:spPr>
              <a:xfrm>
                <a:off x="5114520" y="2028600"/>
                <a:ext cx="25560" cy="41760"/>
              </a:xfrm>
              <a:custGeom>
                <a:avLst/>
                <a:gdLst/>
                <a:ahLst/>
                <a:rect l="l" t="t" r="r" b="b"/>
                <a:pathLst>
                  <a:path w="122" h="224">
                    <a:moveTo>
                      <a:pt x="88" y="224"/>
                    </a:moveTo>
                    <a:lnTo>
                      <a:pt x="94" y="222"/>
                    </a:lnTo>
                    <a:lnTo>
                      <a:pt x="99" y="219"/>
                    </a:lnTo>
                    <a:lnTo>
                      <a:pt x="104" y="214"/>
                    </a:lnTo>
                    <a:lnTo>
                      <a:pt x="108" y="210"/>
                    </a:lnTo>
                    <a:lnTo>
                      <a:pt x="112" y="204"/>
                    </a:lnTo>
                    <a:lnTo>
                      <a:pt x="115" y="197"/>
                    </a:lnTo>
                    <a:lnTo>
                      <a:pt x="118" y="189"/>
                    </a:lnTo>
                    <a:lnTo>
                      <a:pt x="120" y="181"/>
                    </a:lnTo>
                    <a:lnTo>
                      <a:pt x="121" y="172"/>
                    </a:lnTo>
                    <a:lnTo>
                      <a:pt x="122" y="163"/>
                    </a:lnTo>
                    <a:lnTo>
                      <a:pt x="122" y="153"/>
                    </a:lnTo>
                    <a:lnTo>
                      <a:pt x="122" y="143"/>
                    </a:lnTo>
                    <a:lnTo>
                      <a:pt x="120" y="120"/>
                    </a:lnTo>
                    <a:lnTo>
                      <a:pt x="115" y="97"/>
                    </a:lnTo>
                    <a:lnTo>
                      <a:pt x="108" y="75"/>
                    </a:lnTo>
                    <a:lnTo>
                      <a:pt x="101" y="54"/>
                    </a:lnTo>
                    <a:lnTo>
                      <a:pt x="90" y="36"/>
                    </a:lnTo>
                    <a:lnTo>
                      <a:pt x="80" y="21"/>
                    </a:lnTo>
                    <a:lnTo>
                      <a:pt x="74" y="16"/>
                    </a:lnTo>
                    <a:lnTo>
                      <a:pt x="69" y="10"/>
                    </a:lnTo>
                    <a:lnTo>
                      <a:pt x="63" y="5"/>
                    </a:lnTo>
                    <a:lnTo>
                      <a:pt x="57" y="3"/>
                    </a:lnTo>
                    <a:lnTo>
                      <a:pt x="51" y="1"/>
                    </a:lnTo>
                    <a:lnTo>
                      <a:pt x="45" y="0"/>
                    </a:lnTo>
                    <a:lnTo>
                      <a:pt x="39" y="0"/>
                    </a:lnTo>
                    <a:lnTo>
                      <a:pt x="34" y="0"/>
                    </a:lnTo>
                    <a:lnTo>
                      <a:pt x="28" y="2"/>
                    </a:lnTo>
                    <a:lnTo>
                      <a:pt x="23" y="5"/>
                    </a:lnTo>
                    <a:lnTo>
                      <a:pt x="19" y="9"/>
                    </a:lnTo>
                    <a:lnTo>
                      <a:pt x="14" y="13"/>
                    </a:lnTo>
                    <a:lnTo>
                      <a:pt x="11" y="19"/>
                    </a:lnTo>
                    <a:lnTo>
                      <a:pt x="8" y="26"/>
                    </a:lnTo>
                    <a:lnTo>
                      <a:pt x="5" y="34"/>
                    </a:lnTo>
                    <a:lnTo>
                      <a:pt x="3" y="42"/>
                    </a:lnTo>
                    <a:lnTo>
                      <a:pt x="2" y="51"/>
                    </a:lnTo>
                    <a:lnTo>
                      <a:pt x="1" y="60"/>
                    </a:lnTo>
                    <a:lnTo>
                      <a:pt x="0" y="70"/>
                    </a:lnTo>
                    <a:lnTo>
                      <a:pt x="0" y="80"/>
                    </a:lnTo>
                    <a:lnTo>
                      <a:pt x="2" y="102"/>
                    </a:lnTo>
                    <a:lnTo>
                      <a:pt x="6" y="125"/>
                    </a:lnTo>
                    <a:lnTo>
                      <a:pt x="13" y="147"/>
                    </a:lnTo>
                    <a:lnTo>
                      <a:pt x="21" y="168"/>
                    </a:lnTo>
                    <a:lnTo>
                      <a:pt x="31" y="186"/>
                    </a:lnTo>
                    <a:lnTo>
                      <a:pt x="42" y="201"/>
                    </a:lnTo>
                    <a:lnTo>
                      <a:pt x="47" y="206"/>
                    </a:lnTo>
                    <a:lnTo>
                      <a:pt x="53" y="212"/>
                    </a:lnTo>
                    <a:lnTo>
                      <a:pt x="59" y="216"/>
                    </a:lnTo>
                    <a:lnTo>
                      <a:pt x="64" y="220"/>
                    </a:lnTo>
                    <a:lnTo>
                      <a:pt x="71" y="222"/>
                    </a:lnTo>
                    <a:lnTo>
                      <a:pt x="77" y="224"/>
                    </a:lnTo>
                    <a:lnTo>
                      <a:pt x="82" y="224"/>
                    </a:lnTo>
                    <a:lnTo>
                      <a:pt x="88" y="224"/>
                    </a:lnTo>
                  </a:path>
                </a:pathLst>
              </a:custGeom>
              <a:noFill/>
              <a:ln w="4680">
                <a:solidFill>
                  <a:srgbClr val="000000"/>
                </a:solidFill>
                <a:round/>
              </a:ln>
            </p:spPr>
            <p:style>
              <a:lnRef idx="0"/>
              <a:fillRef idx="0"/>
              <a:effectRef idx="0"/>
              <a:fontRef idx="minor"/>
            </p:style>
            <p:txBody>
              <a:bodyPr wrap="none" lIns="93240" rIns="93240" tIns="-4680" bIns="-4680" anchor="t">
                <a:spAutoFit/>
              </a:bodyPr>
              <a:p>
                <a:endParaRPr b="0" lang="en-US" sz="2400" spc="-1" strike="noStrike">
                  <a:solidFill>
                    <a:srgbClr val="ffffff"/>
                  </a:solidFill>
                  <a:latin typeface="Times New Roman"/>
                </a:endParaRPr>
              </a:p>
            </p:txBody>
          </p:sp>
          <p:sp>
            <p:nvSpPr>
              <p:cNvPr id="650" name=""/>
              <p:cNvSpPr/>
              <p:nvPr/>
            </p:nvSpPr>
            <p:spPr>
              <a:xfrm>
                <a:off x="4880520" y="2078280"/>
                <a:ext cx="411480" cy="156960"/>
              </a:xfrm>
              <a:custGeom>
                <a:avLst/>
                <a:gdLst/>
                <a:ahLst/>
                <a:rect l="l" t="t" r="r" b="b"/>
                <a:pathLst>
                  <a:path w="1850" h="849">
                    <a:moveTo>
                      <a:pt x="1057" y="0"/>
                    </a:moveTo>
                    <a:lnTo>
                      <a:pt x="1091" y="10"/>
                    </a:lnTo>
                    <a:lnTo>
                      <a:pt x="1181" y="38"/>
                    </a:lnTo>
                    <a:lnTo>
                      <a:pt x="1241" y="59"/>
                    </a:lnTo>
                    <a:lnTo>
                      <a:pt x="1308" y="84"/>
                    </a:lnTo>
                    <a:lnTo>
                      <a:pt x="1379" y="112"/>
                    </a:lnTo>
                    <a:lnTo>
                      <a:pt x="1453" y="144"/>
                    </a:lnTo>
                    <a:lnTo>
                      <a:pt x="1490" y="161"/>
                    </a:lnTo>
                    <a:lnTo>
                      <a:pt x="1527" y="178"/>
                    </a:lnTo>
                    <a:lnTo>
                      <a:pt x="1563" y="197"/>
                    </a:lnTo>
                    <a:lnTo>
                      <a:pt x="1598" y="217"/>
                    </a:lnTo>
                    <a:lnTo>
                      <a:pt x="1633" y="236"/>
                    </a:lnTo>
                    <a:lnTo>
                      <a:pt x="1665" y="256"/>
                    </a:lnTo>
                    <a:lnTo>
                      <a:pt x="1697" y="278"/>
                    </a:lnTo>
                    <a:lnTo>
                      <a:pt x="1725" y="299"/>
                    </a:lnTo>
                    <a:lnTo>
                      <a:pt x="1752" y="322"/>
                    </a:lnTo>
                    <a:lnTo>
                      <a:pt x="1776" y="345"/>
                    </a:lnTo>
                    <a:lnTo>
                      <a:pt x="1798" y="368"/>
                    </a:lnTo>
                    <a:lnTo>
                      <a:pt x="1816" y="391"/>
                    </a:lnTo>
                    <a:lnTo>
                      <a:pt x="1829" y="415"/>
                    </a:lnTo>
                    <a:lnTo>
                      <a:pt x="1841" y="440"/>
                    </a:lnTo>
                    <a:lnTo>
                      <a:pt x="1847" y="465"/>
                    </a:lnTo>
                    <a:lnTo>
                      <a:pt x="1850" y="490"/>
                    </a:lnTo>
                    <a:lnTo>
                      <a:pt x="1848" y="515"/>
                    </a:lnTo>
                    <a:lnTo>
                      <a:pt x="1847" y="539"/>
                    </a:lnTo>
                    <a:lnTo>
                      <a:pt x="1846" y="562"/>
                    </a:lnTo>
                    <a:lnTo>
                      <a:pt x="1844" y="583"/>
                    </a:lnTo>
                    <a:lnTo>
                      <a:pt x="1841" y="604"/>
                    </a:lnTo>
                    <a:lnTo>
                      <a:pt x="1837" y="623"/>
                    </a:lnTo>
                    <a:lnTo>
                      <a:pt x="1833" y="642"/>
                    </a:lnTo>
                    <a:lnTo>
                      <a:pt x="1827" y="659"/>
                    </a:lnTo>
                    <a:lnTo>
                      <a:pt x="1821" y="676"/>
                    </a:lnTo>
                    <a:lnTo>
                      <a:pt x="1815" y="692"/>
                    </a:lnTo>
                    <a:lnTo>
                      <a:pt x="1808" y="707"/>
                    </a:lnTo>
                    <a:lnTo>
                      <a:pt x="1800" y="720"/>
                    </a:lnTo>
                    <a:lnTo>
                      <a:pt x="1791" y="733"/>
                    </a:lnTo>
                    <a:lnTo>
                      <a:pt x="1781" y="744"/>
                    </a:lnTo>
                    <a:lnTo>
                      <a:pt x="1770" y="756"/>
                    </a:lnTo>
                    <a:lnTo>
                      <a:pt x="1759" y="766"/>
                    </a:lnTo>
                    <a:lnTo>
                      <a:pt x="1748" y="775"/>
                    </a:lnTo>
                    <a:lnTo>
                      <a:pt x="1734" y="783"/>
                    </a:lnTo>
                    <a:lnTo>
                      <a:pt x="1720" y="791"/>
                    </a:lnTo>
                    <a:lnTo>
                      <a:pt x="1706" y="797"/>
                    </a:lnTo>
                    <a:lnTo>
                      <a:pt x="1691" y="802"/>
                    </a:lnTo>
                    <a:lnTo>
                      <a:pt x="1675" y="808"/>
                    </a:lnTo>
                    <a:lnTo>
                      <a:pt x="1658" y="812"/>
                    </a:lnTo>
                    <a:lnTo>
                      <a:pt x="1640" y="816"/>
                    </a:lnTo>
                    <a:lnTo>
                      <a:pt x="1622" y="818"/>
                    </a:lnTo>
                    <a:lnTo>
                      <a:pt x="1601" y="820"/>
                    </a:lnTo>
                    <a:lnTo>
                      <a:pt x="1581" y="821"/>
                    </a:lnTo>
                    <a:lnTo>
                      <a:pt x="1560" y="821"/>
                    </a:lnTo>
                    <a:lnTo>
                      <a:pt x="1538" y="821"/>
                    </a:lnTo>
                    <a:lnTo>
                      <a:pt x="1514" y="820"/>
                    </a:lnTo>
                    <a:lnTo>
                      <a:pt x="1490" y="819"/>
                    </a:lnTo>
                    <a:lnTo>
                      <a:pt x="1465" y="817"/>
                    </a:lnTo>
                    <a:lnTo>
                      <a:pt x="383" y="844"/>
                    </a:lnTo>
                    <a:lnTo>
                      <a:pt x="358" y="846"/>
                    </a:lnTo>
                    <a:lnTo>
                      <a:pt x="333" y="848"/>
                    </a:lnTo>
                    <a:lnTo>
                      <a:pt x="311" y="849"/>
                    </a:lnTo>
                    <a:lnTo>
                      <a:pt x="288" y="849"/>
                    </a:lnTo>
                    <a:lnTo>
                      <a:pt x="266" y="849"/>
                    </a:lnTo>
                    <a:lnTo>
                      <a:pt x="246" y="848"/>
                    </a:lnTo>
                    <a:lnTo>
                      <a:pt x="227" y="845"/>
                    </a:lnTo>
                    <a:lnTo>
                      <a:pt x="208" y="843"/>
                    </a:lnTo>
                    <a:lnTo>
                      <a:pt x="189" y="840"/>
                    </a:lnTo>
                    <a:lnTo>
                      <a:pt x="172" y="835"/>
                    </a:lnTo>
                    <a:lnTo>
                      <a:pt x="157" y="829"/>
                    </a:lnTo>
                    <a:lnTo>
                      <a:pt x="142" y="824"/>
                    </a:lnTo>
                    <a:lnTo>
                      <a:pt x="127" y="818"/>
                    </a:lnTo>
                    <a:lnTo>
                      <a:pt x="114" y="810"/>
                    </a:lnTo>
                    <a:lnTo>
                      <a:pt x="101" y="802"/>
                    </a:lnTo>
                    <a:lnTo>
                      <a:pt x="89" y="793"/>
                    </a:lnTo>
                    <a:lnTo>
                      <a:pt x="77" y="783"/>
                    </a:lnTo>
                    <a:lnTo>
                      <a:pt x="67" y="772"/>
                    </a:lnTo>
                    <a:lnTo>
                      <a:pt x="58" y="760"/>
                    </a:lnTo>
                    <a:lnTo>
                      <a:pt x="49" y="748"/>
                    </a:lnTo>
                    <a:lnTo>
                      <a:pt x="41" y="734"/>
                    </a:lnTo>
                    <a:lnTo>
                      <a:pt x="33" y="719"/>
                    </a:lnTo>
                    <a:lnTo>
                      <a:pt x="27" y="703"/>
                    </a:lnTo>
                    <a:lnTo>
                      <a:pt x="21" y="686"/>
                    </a:lnTo>
                    <a:lnTo>
                      <a:pt x="16" y="669"/>
                    </a:lnTo>
                    <a:lnTo>
                      <a:pt x="12" y="650"/>
                    </a:lnTo>
                    <a:lnTo>
                      <a:pt x="8" y="631"/>
                    </a:lnTo>
                    <a:lnTo>
                      <a:pt x="5" y="610"/>
                    </a:lnTo>
                    <a:lnTo>
                      <a:pt x="2" y="589"/>
                    </a:lnTo>
                    <a:lnTo>
                      <a:pt x="1" y="566"/>
                    </a:lnTo>
                    <a:lnTo>
                      <a:pt x="0" y="542"/>
                    </a:lnTo>
                    <a:lnTo>
                      <a:pt x="0" y="517"/>
                    </a:lnTo>
                    <a:lnTo>
                      <a:pt x="2" y="491"/>
                    </a:lnTo>
                    <a:lnTo>
                      <a:pt x="8" y="466"/>
                    </a:lnTo>
                    <a:lnTo>
                      <a:pt x="19" y="442"/>
                    </a:lnTo>
                    <a:lnTo>
                      <a:pt x="34" y="417"/>
                    </a:lnTo>
                    <a:lnTo>
                      <a:pt x="51" y="394"/>
                    </a:lnTo>
                    <a:lnTo>
                      <a:pt x="73" y="371"/>
                    </a:lnTo>
                    <a:lnTo>
                      <a:pt x="97" y="348"/>
                    </a:lnTo>
                    <a:lnTo>
                      <a:pt x="124" y="326"/>
                    </a:lnTo>
                    <a:lnTo>
                      <a:pt x="152" y="304"/>
                    </a:lnTo>
                    <a:lnTo>
                      <a:pt x="184" y="282"/>
                    </a:lnTo>
                    <a:lnTo>
                      <a:pt x="217" y="262"/>
                    </a:lnTo>
                    <a:lnTo>
                      <a:pt x="251" y="243"/>
                    </a:lnTo>
                    <a:lnTo>
                      <a:pt x="286" y="223"/>
                    </a:lnTo>
                    <a:lnTo>
                      <a:pt x="322" y="204"/>
                    </a:lnTo>
                    <a:lnTo>
                      <a:pt x="358" y="187"/>
                    </a:lnTo>
                    <a:lnTo>
                      <a:pt x="396" y="170"/>
                    </a:lnTo>
                    <a:lnTo>
                      <a:pt x="469" y="138"/>
                    </a:lnTo>
                    <a:lnTo>
                      <a:pt x="541" y="110"/>
                    </a:lnTo>
                    <a:lnTo>
                      <a:pt x="608" y="86"/>
                    </a:lnTo>
                    <a:lnTo>
                      <a:pt x="668" y="65"/>
                    </a:lnTo>
                    <a:lnTo>
                      <a:pt x="757" y="36"/>
                    </a:lnTo>
                    <a:lnTo>
                      <a:pt x="791" y="27"/>
                    </a:lnTo>
                    <a:lnTo>
                      <a:pt x="1057" y="0"/>
                    </a:lnTo>
                    <a:close/>
                  </a:path>
                </a:pathLst>
              </a:custGeom>
              <a:solidFill>
                <a:srgbClr val="ffcc99"/>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1" name=""/>
              <p:cNvSpPr/>
              <p:nvPr/>
            </p:nvSpPr>
            <p:spPr>
              <a:xfrm>
                <a:off x="4880520" y="2078280"/>
                <a:ext cx="411480" cy="156960"/>
              </a:xfrm>
              <a:custGeom>
                <a:avLst/>
                <a:gdLst/>
                <a:ahLst/>
                <a:rect l="l" t="t" r="r" b="b"/>
                <a:pathLst>
                  <a:path w="1850" h="849">
                    <a:moveTo>
                      <a:pt x="1057" y="0"/>
                    </a:moveTo>
                    <a:lnTo>
                      <a:pt x="1091" y="10"/>
                    </a:lnTo>
                    <a:lnTo>
                      <a:pt x="1181" y="38"/>
                    </a:lnTo>
                    <a:lnTo>
                      <a:pt x="1241" y="59"/>
                    </a:lnTo>
                    <a:lnTo>
                      <a:pt x="1308" y="84"/>
                    </a:lnTo>
                    <a:lnTo>
                      <a:pt x="1379" y="112"/>
                    </a:lnTo>
                    <a:lnTo>
                      <a:pt x="1453" y="144"/>
                    </a:lnTo>
                    <a:lnTo>
                      <a:pt x="1490" y="161"/>
                    </a:lnTo>
                    <a:lnTo>
                      <a:pt x="1527" y="178"/>
                    </a:lnTo>
                    <a:lnTo>
                      <a:pt x="1563" y="197"/>
                    </a:lnTo>
                    <a:lnTo>
                      <a:pt x="1598" y="217"/>
                    </a:lnTo>
                    <a:lnTo>
                      <a:pt x="1633" y="236"/>
                    </a:lnTo>
                    <a:lnTo>
                      <a:pt x="1665" y="256"/>
                    </a:lnTo>
                    <a:lnTo>
                      <a:pt x="1697" y="278"/>
                    </a:lnTo>
                    <a:lnTo>
                      <a:pt x="1725" y="299"/>
                    </a:lnTo>
                    <a:lnTo>
                      <a:pt x="1752" y="322"/>
                    </a:lnTo>
                    <a:lnTo>
                      <a:pt x="1776" y="345"/>
                    </a:lnTo>
                    <a:lnTo>
                      <a:pt x="1798" y="368"/>
                    </a:lnTo>
                    <a:lnTo>
                      <a:pt x="1816" y="391"/>
                    </a:lnTo>
                    <a:lnTo>
                      <a:pt x="1829" y="415"/>
                    </a:lnTo>
                    <a:lnTo>
                      <a:pt x="1841" y="440"/>
                    </a:lnTo>
                    <a:lnTo>
                      <a:pt x="1847" y="465"/>
                    </a:lnTo>
                    <a:lnTo>
                      <a:pt x="1850" y="490"/>
                    </a:lnTo>
                    <a:lnTo>
                      <a:pt x="1848" y="515"/>
                    </a:lnTo>
                    <a:lnTo>
                      <a:pt x="1847" y="539"/>
                    </a:lnTo>
                    <a:lnTo>
                      <a:pt x="1846" y="562"/>
                    </a:lnTo>
                    <a:lnTo>
                      <a:pt x="1844" y="583"/>
                    </a:lnTo>
                    <a:lnTo>
                      <a:pt x="1841" y="604"/>
                    </a:lnTo>
                    <a:lnTo>
                      <a:pt x="1837" y="623"/>
                    </a:lnTo>
                    <a:lnTo>
                      <a:pt x="1833" y="642"/>
                    </a:lnTo>
                    <a:lnTo>
                      <a:pt x="1827" y="659"/>
                    </a:lnTo>
                    <a:lnTo>
                      <a:pt x="1821" y="676"/>
                    </a:lnTo>
                    <a:lnTo>
                      <a:pt x="1815" y="692"/>
                    </a:lnTo>
                    <a:lnTo>
                      <a:pt x="1808" y="707"/>
                    </a:lnTo>
                    <a:lnTo>
                      <a:pt x="1800" y="720"/>
                    </a:lnTo>
                    <a:lnTo>
                      <a:pt x="1791" y="733"/>
                    </a:lnTo>
                    <a:lnTo>
                      <a:pt x="1781" y="744"/>
                    </a:lnTo>
                    <a:lnTo>
                      <a:pt x="1770" y="756"/>
                    </a:lnTo>
                    <a:lnTo>
                      <a:pt x="1759" y="766"/>
                    </a:lnTo>
                    <a:lnTo>
                      <a:pt x="1748" y="775"/>
                    </a:lnTo>
                    <a:lnTo>
                      <a:pt x="1734" y="783"/>
                    </a:lnTo>
                    <a:lnTo>
                      <a:pt x="1720" y="791"/>
                    </a:lnTo>
                    <a:lnTo>
                      <a:pt x="1706" y="797"/>
                    </a:lnTo>
                    <a:lnTo>
                      <a:pt x="1691" y="802"/>
                    </a:lnTo>
                    <a:lnTo>
                      <a:pt x="1675" y="808"/>
                    </a:lnTo>
                    <a:lnTo>
                      <a:pt x="1658" y="812"/>
                    </a:lnTo>
                    <a:lnTo>
                      <a:pt x="1640" y="816"/>
                    </a:lnTo>
                    <a:lnTo>
                      <a:pt x="1622" y="818"/>
                    </a:lnTo>
                    <a:lnTo>
                      <a:pt x="1601" y="820"/>
                    </a:lnTo>
                    <a:lnTo>
                      <a:pt x="1581" y="821"/>
                    </a:lnTo>
                    <a:lnTo>
                      <a:pt x="1560" y="821"/>
                    </a:lnTo>
                    <a:lnTo>
                      <a:pt x="1538" y="821"/>
                    </a:lnTo>
                    <a:lnTo>
                      <a:pt x="1514" y="820"/>
                    </a:lnTo>
                    <a:lnTo>
                      <a:pt x="1490" y="819"/>
                    </a:lnTo>
                    <a:lnTo>
                      <a:pt x="1465" y="817"/>
                    </a:lnTo>
                    <a:lnTo>
                      <a:pt x="383" y="844"/>
                    </a:lnTo>
                    <a:lnTo>
                      <a:pt x="358" y="846"/>
                    </a:lnTo>
                    <a:lnTo>
                      <a:pt x="333" y="848"/>
                    </a:lnTo>
                    <a:lnTo>
                      <a:pt x="311" y="849"/>
                    </a:lnTo>
                    <a:lnTo>
                      <a:pt x="288" y="849"/>
                    </a:lnTo>
                    <a:lnTo>
                      <a:pt x="266" y="849"/>
                    </a:lnTo>
                    <a:lnTo>
                      <a:pt x="246" y="848"/>
                    </a:lnTo>
                    <a:lnTo>
                      <a:pt x="227" y="845"/>
                    </a:lnTo>
                    <a:lnTo>
                      <a:pt x="208" y="843"/>
                    </a:lnTo>
                    <a:lnTo>
                      <a:pt x="189" y="840"/>
                    </a:lnTo>
                    <a:lnTo>
                      <a:pt x="172" y="835"/>
                    </a:lnTo>
                    <a:lnTo>
                      <a:pt x="157" y="829"/>
                    </a:lnTo>
                    <a:lnTo>
                      <a:pt x="142" y="824"/>
                    </a:lnTo>
                    <a:lnTo>
                      <a:pt x="127" y="818"/>
                    </a:lnTo>
                    <a:lnTo>
                      <a:pt x="114" y="810"/>
                    </a:lnTo>
                    <a:lnTo>
                      <a:pt x="101" y="802"/>
                    </a:lnTo>
                    <a:lnTo>
                      <a:pt x="89" y="793"/>
                    </a:lnTo>
                    <a:lnTo>
                      <a:pt x="77" y="783"/>
                    </a:lnTo>
                    <a:lnTo>
                      <a:pt x="67" y="772"/>
                    </a:lnTo>
                    <a:lnTo>
                      <a:pt x="58" y="760"/>
                    </a:lnTo>
                    <a:lnTo>
                      <a:pt x="49" y="748"/>
                    </a:lnTo>
                    <a:lnTo>
                      <a:pt x="41" y="734"/>
                    </a:lnTo>
                    <a:lnTo>
                      <a:pt x="33" y="719"/>
                    </a:lnTo>
                    <a:lnTo>
                      <a:pt x="27" y="703"/>
                    </a:lnTo>
                    <a:lnTo>
                      <a:pt x="21" y="686"/>
                    </a:lnTo>
                    <a:lnTo>
                      <a:pt x="16" y="669"/>
                    </a:lnTo>
                    <a:lnTo>
                      <a:pt x="12" y="650"/>
                    </a:lnTo>
                    <a:lnTo>
                      <a:pt x="8" y="631"/>
                    </a:lnTo>
                    <a:lnTo>
                      <a:pt x="5" y="610"/>
                    </a:lnTo>
                    <a:lnTo>
                      <a:pt x="2" y="589"/>
                    </a:lnTo>
                    <a:lnTo>
                      <a:pt x="1" y="566"/>
                    </a:lnTo>
                    <a:lnTo>
                      <a:pt x="0" y="542"/>
                    </a:lnTo>
                    <a:lnTo>
                      <a:pt x="0" y="517"/>
                    </a:lnTo>
                    <a:lnTo>
                      <a:pt x="2" y="491"/>
                    </a:lnTo>
                    <a:lnTo>
                      <a:pt x="8" y="466"/>
                    </a:lnTo>
                    <a:lnTo>
                      <a:pt x="19" y="442"/>
                    </a:lnTo>
                    <a:lnTo>
                      <a:pt x="34" y="417"/>
                    </a:lnTo>
                    <a:lnTo>
                      <a:pt x="51" y="394"/>
                    </a:lnTo>
                    <a:lnTo>
                      <a:pt x="73" y="371"/>
                    </a:lnTo>
                    <a:lnTo>
                      <a:pt x="97" y="348"/>
                    </a:lnTo>
                    <a:lnTo>
                      <a:pt x="124" y="326"/>
                    </a:lnTo>
                    <a:lnTo>
                      <a:pt x="152" y="304"/>
                    </a:lnTo>
                    <a:lnTo>
                      <a:pt x="184" y="282"/>
                    </a:lnTo>
                    <a:lnTo>
                      <a:pt x="217" y="262"/>
                    </a:lnTo>
                    <a:lnTo>
                      <a:pt x="251" y="243"/>
                    </a:lnTo>
                    <a:lnTo>
                      <a:pt x="286" y="223"/>
                    </a:lnTo>
                    <a:lnTo>
                      <a:pt x="322" y="204"/>
                    </a:lnTo>
                    <a:lnTo>
                      <a:pt x="358" y="187"/>
                    </a:lnTo>
                    <a:lnTo>
                      <a:pt x="396" y="170"/>
                    </a:lnTo>
                    <a:lnTo>
                      <a:pt x="469" y="138"/>
                    </a:lnTo>
                    <a:lnTo>
                      <a:pt x="541" y="110"/>
                    </a:lnTo>
                    <a:lnTo>
                      <a:pt x="608" y="86"/>
                    </a:lnTo>
                    <a:lnTo>
                      <a:pt x="668" y="65"/>
                    </a:lnTo>
                    <a:lnTo>
                      <a:pt x="757" y="36"/>
                    </a:lnTo>
                    <a:lnTo>
                      <a:pt x="791" y="27"/>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2" name=""/>
              <p:cNvSpPr/>
              <p:nvPr/>
            </p:nvSpPr>
            <p:spPr>
              <a:xfrm>
                <a:off x="4899240" y="2197440"/>
                <a:ext cx="373320" cy="91440"/>
              </a:xfrm>
              <a:custGeom>
                <a:avLst/>
                <a:gdLst/>
                <a:ahLst/>
                <a:rect l="l" t="t" r="r" b="b"/>
                <a:pathLst>
                  <a:path w="1686" h="501">
                    <a:moveTo>
                      <a:pt x="1686" y="10"/>
                    </a:moveTo>
                    <a:lnTo>
                      <a:pt x="1671" y="8"/>
                    </a:lnTo>
                    <a:lnTo>
                      <a:pt x="1632" y="2"/>
                    </a:lnTo>
                    <a:lnTo>
                      <a:pt x="1606" y="0"/>
                    </a:lnTo>
                    <a:lnTo>
                      <a:pt x="1574" y="0"/>
                    </a:lnTo>
                    <a:lnTo>
                      <a:pt x="1558" y="0"/>
                    </a:lnTo>
                    <a:lnTo>
                      <a:pt x="1540" y="1"/>
                    </a:lnTo>
                    <a:lnTo>
                      <a:pt x="1523" y="3"/>
                    </a:lnTo>
                    <a:lnTo>
                      <a:pt x="1505" y="5"/>
                    </a:lnTo>
                    <a:lnTo>
                      <a:pt x="1485" y="9"/>
                    </a:lnTo>
                    <a:lnTo>
                      <a:pt x="1466" y="13"/>
                    </a:lnTo>
                    <a:lnTo>
                      <a:pt x="1447" y="19"/>
                    </a:lnTo>
                    <a:lnTo>
                      <a:pt x="1428" y="26"/>
                    </a:lnTo>
                    <a:lnTo>
                      <a:pt x="1408" y="34"/>
                    </a:lnTo>
                    <a:lnTo>
                      <a:pt x="1389" y="43"/>
                    </a:lnTo>
                    <a:lnTo>
                      <a:pt x="1370" y="53"/>
                    </a:lnTo>
                    <a:lnTo>
                      <a:pt x="1352" y="65"/>
                    </a:lnTo>
                    <a:lnTo>
                      <a:pt x="1334" y="79"/>
                    </a:lnTo>
                    <a:lnTo>
                      <a:pt x="1315" y="94"/>
                    </a:lnTo>
                    <a:lnTo>
                      <a:pt x="1297" y="111"/>
                    </a:lnTo>
                    <a:lnTo>
                      <a:pt x="1281" y="130"/>
                    </a:lnTo>
                    <a:lnTo>
                      <a:pt x="1266" y="151"/>
                    </a:lnTo>
                    <a:lnTo>
                      <a:pt x="1250" y="173"/>
                    </a:lnTo>
                    <a:lnTo>
                      <a:pt x="1236" y="198"/>
                    </a:lnTo>
                    <a:lnTo>
                      <a:pt x="1224" y="225"/>
                    </a:lnTo>
                    <a:lnTo>
                      <a:pt x="1210" y="253"/>
                    </a:lnTo>
                    <a:lnTo>
                      <a:pt x="1198" y="278"/>
                    </a:lnTo>
                    <a:lnTo>
                      <a:pt x="1185" y="301"/>
                    </a:lnTo>
                    <a:lnTo>
                      <a:pt x="1173" y="324"/>
                    </a:lnTo>
                    <a:lnTo>
                      <a:pt x="1160" y="345"/>
                    </a:lnTo>
                    <a:lnTo>
                      <a:pt x="1148" y="363"/>
                    </a:lnTo>
                    <a:lnTo>
                      <a:pt x="1135" y="380"/>
                    </a:lnTo>
                    <a:lnTo>
                      <a:pt x="1124" y="396"/>
                    </a:lnTo>
                    <a:lnTo>
                      <a:pt x="1111" y="410"/>
                    </a:lnTo>
                    <a:lnTo>
                      <a:pt x="1100" y="423"/>
                    </a:lnTo>
                    <a:lnTo>
                      <a:pt x="1089" y="434"/>
                    </a:lnTo>
                    <a:lnTo>
                      <a:pt x="1076" y="446"/>
                    </a:lnTo>
                    <a:lnTo>
                      <a:pt x="1065" y="455"/>
                    </a:lnTo>
                    <a:lnTo>
                      <a:pt x="1054" y="463"/>
                    </a:lnTo>
                    <a:lnTo>
                      <a:pt x="1042" y="469"/>
                    </a:lnTo>
                    <a:lnTo>
                      <a:pt x="1031" y="476"/>
                    </a:lnTo>
                    <a:lnTo>
                      <a:pt x="1019" y="482"/>
                    </a:lnTo>
                    <a:lnTo>
                      <a:pt x="1007" y="486"/>
                    </a:lnTo>
                    <a:lnTo>
                      <a:pt x="996" y="490"/>
                    </a:lnTo>
                    <a:lnTo>
                      <a:pt x="985" y="493"/>
                    </a:lnTo>
                    <a:lnTo>
                      <a:pt x="962" y="498"/>
                    </a:lnTo>
                    <a:lnTo>
                      <a:pt x="938" y="500"/>
                    </a:lnTo>
                    <a:lnTo>
                      <a:pt x="892" y="501"/>
                    </a:lnTo>
                    <a:lnTo>
                      <a:pt x="843" y="500"/>
                    </a:lnTo>
                    <a:lnTo>
                      <a:pt x="793" y="501"/>
                    </a:lnTo>
                    <a:lnTo>
                      <a:pt x="745" y="500"/>
                    </a:lnTo>
                    <a:lnTo>
                      <a:pt x="723" y="498"/>
                    </a:lnTo>
                    <a:lnTo>
                      <a:pt x="699" y="493"/>
                    </a:lnTo>
                    <a:lnTo>
                      <a:pt x="688" y="490"/>
                    </a:lnTo>
                    <a:lnTo>
                      <a:pt x="676" y="486"/>
                    </a:lnTo>
                    <a:lnTo>
                      <a:pt x="665" y="482"/>
                    </a:lnTo>
                    <a:lnTo>
                      <a:pt x="654" y="476"/>
                    </a:lnTo>
                    <a:lnTo>
                      <a:pt x="641" y="469"/>
                    </a:lnTo>
                    <a:lnTo>
                      <a:pt x="630" y="463"/>
                    </a:lnTo>
                    <a:lnTo>
                      <a:pt x="619" y="455"/>
                    </a:lnTo>
                    <a:lnTo>
                      <a:pt x="607" y="446"/>
                    </a:lnTo>
                    <a:lnTo>
                      <a:pt x="595" y="434"/>
                    </a:lnTo>
                    <a:lnTo>
                      <a:pt x="583" y="423"/>
                    </a:lnTo>
                    <a:lnTo>
                      <a:pt x="572" y="410"/>
                    </a:lnTo>
                    <a:lnTo>
                      <a:pt x="560" y="396"/>
                    </a:lnTo>
                    <a:lnTo>
                      <a:pt x="548" y="380"/>
                    </a:lnTo>
                    <a:lnTo>
                      <a:pt x="536" y="363"/>
                    </a:lnTo>
                    <a:lnTo>
                      <a:pt x="523" y="345"/>
                    </a:lnTo>
                    <a:lnTo>
                      <a:pt x="512" y="324"/>
                    </a:lnTo>
                    <a:lnTo>
                      <a:pt x="500" y="301"/>
                    </a:lnTo>
                    <a:lnTo>
                      <a:pt x="487" y="278"/>
                    </a:lnTo>
                    <a:lnTo>
                      <a:pt x="475" y="253"/>
                    </a:lnTo>
                    <a:lnTo>
                      <a:pt x="462" y="225"/>
                    </a:lnTo>
                    <a:lnTo>
                      <a:pt x="449" y="198"/>
                    </a:lnTo>
                    <a:lnTo>
                      <a:pt x="435" y="173"/>
                    </a:lnTo>
                    <a:lnTo>
                      <a:pt x="419" y="151"/>
                    </a:lnTo>
                    <a:lnTo>
                      <a:pt x="403" y="130"/>
                    </a:lnTo>
                    <a:lnTo>
                      <a:pt x="387" y="111"/>
                    </a:lnTo>
                    <a:lnTo>
                      <a:pt x="369" y="94"/>
                    </a:lnTo>
                    <a:lnTo>
                      <a:pt x="352" y="79"/>
                    </a:lnTo>
                    <a:lnTo>
                      <a:pt x="333" y="65"/>
                    </a:lnTo>
                    <a:lnTo>
                      <a:pt x="315" y="53"/>
                    </a:lnTo>
                    <a:lnTo>
                      <a:pt x="296" y="43"/>
                    </a:lnTo>
                    <a:lnTo>
                      <a:pt x="276" y="34"/>
                    </a:lnTo>
                    <a:lnTo>
                      <a:pt x="257" y="26"/>
                    </a:lnTo>
                    <a:lnTo>
                      <a:pt x="238" y="19"/>
                    </a:lnTo>
                    <a:lnTo>
                      <a:pt x="218" y="13"/>
                    </a:lnTo>
                    <a:lnTo>
                      <a:pt x="199" y="9"/>
                    </a:lnTo>
                    <a:lnTo>
                      <a:pt x="181" y="5"/>
                    </a:lnTo>
                    <a:lnTo>
                      <a:pt x="162" y="3"/>
                    </a:lnTo>
                    <a:lnTo>
                      <a:pt x="145" y="1"/>
                    </a:lnTo>
                    <a:lnTo>
                      <a:pt x="127" y="0"/>
                    </a:lnTo>
                    <a:lnTo>
                      <a:pt x="111" y="0"/>
                    </a:lnTo>
                    <a:lnTo>
                      <a:pt x="80" y="0"/>
                    </a:lnTo>
                    <a:lnTo>
                      <a:pt x="53" y="2"/>
                    </a:lnTo>
                    <a:lnTo>
                      <a:pt x="13" y="8"/>
                    </a:lnTo>
                    <a:lnTo>
                      <a:pt x="0" y="10"/>
                    </a:lnTo>
                    <a:lnTo>
                      <a:pt x="1686" y="10"/>
                    </a:lnTo>
                    <a:close/>
                  </a:path>
                </a:pathLst>
              </a:custGeom>
              <a:solidFill>
                <a:srgbClr val="ffcc99"/>
              </a:solidFill>
              <a:ln w="0">
                <a:noFill/>
              </a:ln>
            </p:spPr>
            <p:style>
              <a:lnRef idx="0"/>
              <a:fillRef idx="0"/>
              <a:effectRef idx="0"/>
              <a:fontRef idx="minor"/>
            </p:style>
            <p:txBody>
              <a:bodyPr wrap="none" lIns="93240" rIns="93240" tIns="45000" bIns="45000" anchor="t">
                <a:spAutoFit/>
              </a:bodyPr>
              <a:p>
                <a:endParaRPr b="0" lang="en-US" sz="2400" spc="-1" strike="noStrike">
                  <a:solidFill>
                    <a:srgbClr val="ffffff"/>
                  </a:solidFill>
                  <a:latin typeface="Times New Roman"/>
                </a:endParaRPr>
              </a:p>
            </p:txBody>
          </p:sp>
          <p:sp>
            <p:nvSpPr>
              <p:cNvPr id="653" name=""/>
              <p:cNvSpPr/>
              <p:nvPr/>
            </p:nvSpPr>
            <p:spPr>
              <a:xfrm>
                <a:off x="4899240" y="2197440"/>
                <a:ext cx="373320" cy="91440"/>
              </a:xfrm>
              <a:custGeom>
                <a:avLst/>
                <a:gdLst/>
                <a:ahLst/>
                <a:rect l="l" t="t" r="r" b="b"/>
                <a:pathLst>
                  <a:path w="1686" h="501">
                    <a:moveTo>
                      <a:pt x="1686" y="10"/>
                    </a:moveTo>
                    <a:lnTo>
                      <a:pt x="1671" y="8"/>
                    </a:lnTo>
                    <a:lnTo>
                      <a:pt x="1632" y="2"/>
                    </a:lnTo>
                    <a:lnTo>
                      <a:pt x="1606" y="0"/>
                    </a:lnTo>
                    <a:lnTo>
                      <a:pt x="1574" y="0"/>
                    </a:lnTo>
                    <a:lnTo>
                      <a:pt x="1558" y="0"/>
                    </a:lnTo>
                    <a:lnTo>
                      <a:pt x="1540" y="1"/>
                    </a:lnTo>
                    <a:lnTo>
                      <a:pt x="1523" y="3"/>
                    </a:lnTo>
                    <a:lnTo>
                      <a:pt x="1505" y="5"/>
                    </a:lnTo>
                    <a:lnTo>
                      <a:pt x="1485" y="9"/>
                    </a:lnTo>
                    <a:lnTo>
                      <a:pt x="1466" y="13"/>
                    </a:lnTo>
                    <a:lnTo>
                      <a:pt x="1447" y="19"/>
                    </a:lnTo>
                    <a:lnTo>
                      <a:pt x="1428" y="26"/>
                    </a:lnTo>
                    <a:lnTo>
                      <a:pt x="1408" y="34"/>
                    </a:lnTo>
                    <a:lnTo>
                      <a:pt x="1389" y="43"/>
                    </a:lnTo>
                    <a:lnTo>
                      <a:pt x="1370" y="53"/>
                    </a:lnTo>
                    <a:lnTo>
                      <a:pt x="1352" y="65"/>
                    </a:lnTo>
                    <a:lnTo>
                      <a:pt x="1334" y="79"/>
                    </a:lnTo>
                    <a:lnTo>
                      <a:pt x="1315" y="94"/>
                    </a:lnTo>
                    <a:lnTo>
                      <a:pt x="1297" y="111"/>
                    </a:lnTo>
                    <a:lnTo>
                      <a:pt x="1281" y="130"/>
                    </a:lnTo>
                    <a:lnTo>
                      <a:pt x="1266" y="151"/>
                    </a:lnTo>
                    <a:lnTo>
                      <a:pt x="1250" y="173"/>
                    </a:lnTo>
                    <a:lnTo>
                      <a:pt x="1236" y="198"/>
                    </a:lnTo>
                    <a:lnTo>
                      <a:pt x="1224" y="225"/>
                    </a:lnTo>
                    <a:lnTo>
                      <a:pt x="1210" y="253"/>
                    </a:lnTo>
                    <a:lnTo>
                      <a:pt x="1198" y="278"/>
                    </a:lnTo>
                    <a:lnTo>
                      <a:pt x="1185" y="301"/>
                    </a:lnTo>
                    <a:lnTo>
                      <a:pt x="1173" y="324"/>
                    </a:lnTo>
                    <a:lnTo>
                      <a:pt x="1160" y="345"/>
                    </a:lnTo>
                    <a:lnTo>
                      <a:pt x="1148" y="363"/>
                    </a:lnTo>
                    <a:lnTo>
                      <a:pt x="1135" y="380"/>
                    </a:lnTo>
                    <a:lnTo>
                      <a:pt x="1124" y="396"/>
                    </a:lnTo>
                    <a:lnTo>
                      <a:pt x="1111" y="410"/>
                    </a:lnTo>
                    <a:lnTo>
                      <a:pt x="1100" y="423"/>
                    </a:lnTo>
                    <a:lnTo>
                      <a:pt x="1089" y="434"/>
                    </a:lnTo>
                    <a:lnTo>
                      <a:pt x="1076" y="446"/>
                    </a:lnTo>
                    <a:lnTo>
                      <a:pt x="1065" y="455"/>
                    </a:lnTo>
                    <a:lnTo>
                      <a:pt x="1054" y="463"/>
                    </a:lnTo>
                    <a:lnTo>
                      <a:pt x="1042" y="469"/>
                    </a:lnTo>
                    <a:lnTo>
                      <a:pt x="1031" y="476"/>
                    </a:lnTo>
                    <a:lnTo>
                      <a:pt x="1019" y="482"/>
                    </a:lnTo>
                    <a:lnTo>
                      <a:pt x="1007" y="486"/>
                    </a:lnTo>
                    <a:lnTo>
                      <a:pt x="996" y="490"/>
                    </a:lnTo>
                    <a:lnTo>
                      <a:pt x="985" y="493"/>
                    </a:lnTo>
                    <a:lnTo>
                      <a:pt x="962" y="498"/>
                    </a:lnTo>
                    <a:lnTo>
                      <a:pt x="938" y="500"/>
                    </a:lnTo>
                    <a:lnTo>
                      <a:pt x="892" y="501"/>
                    </a:lnTo>
                    <a:lnTo>
                      <a:pt x="843" y="500"/>
                    </a:lnTo>
                    <a:lnTo>
                      <a:pt x="793" y="501"/>
                    </a:lnTo>
                    <a:lnTo>
                      <a:pt x="745" y="500"/>
                    </a:lnTo>
                    <a:lnTo>
                      <a:pt x="723" y="498"/>
                    </a:lnTo>
                    <a:lnTo>
                      <a:pt x="699" y="493"/>
                    </a:lnTo>
                    <a:lnTo>
                      <a:pt x="688" y="490"/>
                    </a:lnTo>
                    <a:lnTo>
                      <a:pt x="676" y="486"/>
                    </a:lnTo>
                    <a:lnTo>
                      <a:pt x="665" y="482"/>
                    </a:lnTo>
                    <a:lnTo>
                      <a:pt x="654" y="476"/>
                    </a:lnTo>
                    <a:lnTo>
                      <a:pt x="641" y="469"/>
                    </a:lnTo>
                    <a:lnTo>
                      <a:pt x="630" y="463"/>
                    </a:lnTo>
                    <a:lnTo>
                      <a:pt x="619" y="455"/>
                    </a:lnTo>
                    <a:lnTo>
                      <a:pt x="607" y="446"/>
                    </a:lnTo>
                    <a:lnTo>
                      <a:pt x="595" y="434"/>
                    </a:lnTo>
                    <a:lnTo>
                      <a:pt x="583" y="423"/>
                    </a:lnTo>
                    <a:lnTo>
                      <a:pt x="572" y="410"/>
                    </a:lnTo>
                    <a:lnTo>
                      <a:pt x="560" y="396"/>
                    </a:lnTo>
                    <a:lnTo>
                      <a:pt x="548" y="380"/>
                    </a:lnTo>
                    <a:lnTo>
                      <a:pt x="536" y="363"/>
                    </a:lnTo>
                    <a:lnTo>
                      <a:pt x="523" y="345"/>
                    </a:lnTo>
                    <a:lnTo>
                      <a:pt x="512" y="324"/>
                    </a:lnTo>
                    <a:lnTo>
                      <a:pt x="500" y="301"/>
                    </a:lnTo>
                    <a:lnTo>
                      <a:pt x="487" y="278"/>
                    </a:lnTo>
                    <a:lnTo>
                      <a:pt x="475" y="253"/>
                    </a:lnTo>
                    <a:lnTo>
                      <a:pt x="462" y="225"/>
                    </a:lnTo>
                    <a:lnTo>
                      <a:pt x="449" y="198"/>
                    </a:lnTo>
                    <a:lnTo>
                      <a:pt x="435" y="173"/>
                    </a:lnTo>
                    <a:lnTo>
                      <a:pt x="419" y="151"/>
                    </a:lnTo>
                    <a:lnTo>
                      <a:pt x="403" y="130"/>
                    </a:lnTo>
                    <a:lnTo>
                      <a:pt x="387" y="111"/>
                    </a:lnTo>
                    <a:lnTo>
                      <a:pt x="369" y="94"/>
                    </a:lnTo>
                    <a:lnTo>
                      <a:pt x="352" y="79"/>
                    </a:lnTo>
                    <a:lnTo>
                      <a:pt x="333" y="65"/>
                    </a:lnTo>
                    <a:lnTo>
                      <a:pt x="315" y="53"/>
                    </a:lnTo>
                    <a:lnTo>
                      <a:pt x="296" y="43"/>
                    </a:lnTo>
                    <a:lnTo>
                      <a:pt x="276" y="34"/>
                    </a:lnTo>
                    <a:lnTo>
                      <a:pt x="257" y="26"/>
                    </a:lnTo>
                    <a:lnTo>
                      <a:pt x="238" y="19"/>
                    </a:lnTo>
                    <a:lnTo>
                      <a:pt x="218" y="13"/>
                    </a:lnTo>
                    <a:lnTo>
                      <a:pt x="199" y="9"/>
                    </a:lnTo>
                    <a:lnTo>
                      <a:pt x="181" y="5"/>
                    </a:lnTo>
                    <a:lnTo>
                      <a:pt x="162" y="3"/>
                    </a:lnTo>
                    <a:lnTo>
                      <a:pt x="145" y="1"/>
                    </a:lnTo>
                    <a:lnTo>
                      <a:pt x="127" y="0"/>
                    </a:lnTo>
                    <a:lnTo>
                      <a:pt x="111" y="0"/>
                    </a:lnTo>
                    <a:lnTo>
                      <a:pt x="80" y="0"/>
                    </a:lnTo>
                    <a:lnTo>
                      <a:pt x="53" y="2"/>
                    </a:lnTo>
                    <a:lnTo>
                      <a:pt x="13" y="8"/>
                    </a:lnTo>
                    <a:lnTo>
                      <a:pt x="0" y="10"/>
                    </a:lnTo>
                  </a:path>
                </a:pathLst>
              </a:custGeom>
              <a:noFill/>
              <a:ln w="4680">
                <a:solidFill>
                  <a:srgbClr val="000000"/>
                </a:solidFill>
                <a:round/>
              </a:ln>
            </p:spPr>
            <p:style>
              <a:lnRef idx="0"/>
              <a:fillRef idx="0"/>
              <a:effectRef idx="0"/>
              <a:fontRef idx="minor"/>
            </p:style>
            <p:txBody>
              <a:bodyPr wrap="none" lIns="93240" rIns="93240" tIns="45000" bIns="45000" anchor="t">
                <a:spAutoFit/>
              </a:bodyPr>
              <a:p>
                <a:endParaRPr b="0" lang="en-US" sz="2400" spc="-1" strike="noStrike">
                  <a:solidFill>
                    <a:srgbClr val="ffffff"/>
                  </a:solidFill>
                  <a:latin typeface="Times New Roman"/>
                </a:endParaRPr>
              </a:p>
            </p:txBody>
          </p:sp>
          <p:sp>
            <p:nvSpPr>
              <p:cNvPr id="654" name=""/>
              <p:cNvSpPr/>
              <p:nvPr/>
            </p:nvSpPr>
            <p:spPr>
              <a:xfrm>
                <a:off x="4676400" y="1615680"/>
                <a:ext cx="843120" cy="561600"/>
              </a:xfrm>
              <a:custGeom>
                <a:avLst/>
                <a:gdLst/>
                <a:ahLst/>
                <a:rect l="l" t="t" r="r" b="b"/>
                <a:pathLst>
                  <a:path w="3786" h="3046">
                    <a:moveTo>
                      <a:pt x="3369" y="1175"/>
                    </a:moveTo>
                    <a:lnTo>
                      <a:pt x="3376" y="1183"/>
                    </a:lnTo>
                    <a:lnTo>
                      <a:pt x="3383" y="1191"/>
                    </a:lnTo>
                    <a:lnTo>
                      <a:pt x="3392" y="1196"/>
                    </a:lnTo>
                    <a:lnTo>
                      <a:pt x="3401" y="1203"/>
                    </a:lnTo>
                    <a:lnTo>
                      <a:pt x="3410" y="1208"/>
                    </a:lnTo>
                    <a:lnTo>
                      <a:pt x="3420" y="1212"/>
                    </a:lnTo>
                    <a:lnTo>
                      <a:pt x="3431" y="1216"/>
                    </a:lnTo>
                    <a:lnTo>
                      <a:pt x="3441" y="1218"/>
                    </a:lnTo>
                    <a:lnTo>
                      <a:pt x="3463" y="1222"/>
                    </a:lnTo>
                    <a:lnTo>
                      <a:pt x="3486" y="1225"/>
                    </a:lnTo>
                    <a:lnTo>
                      <a:pt x="3509" y="1225"/>
                    </a:lnTo>
                    <a:lnTo>
                      <a:pt x="3531" y="1224"/>
                    </a:lnTo>
                    <a:lnTo>
                      <a:pt x="3553" y="1221"/>
                    </a:lnTo>
                    <a:lnTo>
                      <a:pt x="3573" y="1218"/>
                    </a:lnTo>
                    <a:lnTo>
                      <a:pt x="3592" y="1215"/>
                    </a:lnTo>
                    <a:lnTo>
                      <a:pt x="3609" y="1211"/>
                    </a:lnTo>
                    <a:lnTo>
                      <a:pt x="3632" y="1204"/>
                    </a:lnTo>
                    <a:lnTo>
                      <a:pt x="3641" y="1202"/>
                    </a:lnTo>
                    <a:lnTo>
                      <a:pt x="3649" y="1213"/>
                    </a:lnTo>
                    <a:lnTo>
                      <a:pt x="3670" y="1244"/>
                    </a:lnTo>
                    <a:lnTo>
                      <a:pt x="3698" y="1288"/>
                    </a:lnTo>
                    <a:lnTo>
                      <a:pt x="3729" y="1339"/>
                    </a:lnTo>
                    <a:lnTo>
                      <a:pt x="3743" y="1367"/>
                    </a:lnTo>
                    <a:lnTo>
                      <a:pt x="3756" y="1393"/>
                    </a:lnTo>
                    <a:lnTo>
                      <a:pt x="3766" y="1418"/>
                    </a:lnTo>
                    <a:lnTo>
                      <a:pt x="3774" y="1440"/>
                    </a:lnTo>
                    <a:lnTo>
                      <a:pt x="3776" y="1451"/>
                    </a:lnTo>
                    <a:lnTo>
                      <a:pt x="3777" y="1461"/>
                    </a:lnTo>
                    <a:lnTo>
                      <a:pt x="3778" y="1470"/>
                    </a:lnTo>
                    <a:lnTo>
                      <a:pt x="3777" y="1478"/>
                    </a:lnTo>
                    <a:lnTo>
                      <a:pt x="3775" y="1485"/>
                    </a:lnTo>
                    <a:lnTo>
                      <a:pt x="3773" y="1490"/>
                    </a:lnTo>
                    <a:lnTo>
                      <a:pt x="3768" y="1495"/>
                    </a:lnTo>
                    <a:lnTo>
                      <a:pt x="3761" y="1498"/>
                    </a:lnTo>
                    <a:lnTo>
                      <a:pt x="3763" y="1528"/>
                    </a:lnTo>
                    <a:lnTo>
                      <a:pt x="3766" y="1607"/>
                    </a:lnTo>
                    <a:lnTo>
                      <a:pt x="3769" y="1721"/>
                    </a:lnTo>
                    <a:lnTo>
                      <a:pt x="3774" y="1855"/>
                    </a:lnTo>
                    <a:lnTo>
                      <a:pt x="3778" y="1993"/>
                    </a:lnTo>
                    <a:lnTo>
                      <a:pt x="3783" y="2122"/>
                    </a:lnTo>
                    <a:lnTo>
                      <a:pt x="3785" y="2227"/>
                    </a:lnTo>
                    <a:lnTo>
                      <a:pt x="3786" y="2293"/>
                    </a:lnTo>
                    <a:lnTo>
                      <a:pt x="3786" y="2301"/>
                    </a:lnTo>
                    <a:lnTo>
                      <a:pt x="3784" y="2304"/>
                    </a:lnTo>
                    <a:lnTo>
                      <a:pt x="3782" y="2303"/>
                    </a:lnTo>
                    <a:lnTo>
                      <a:pt x="3780" y="2298"/>
                    </a:lnTo>
                    <a:lnTo>
                      <a:pt x="3771" y="2278"/>
                    </a:lnTo>
                    <a:lnTo>
                      <a:pt x="3758" y="2246"/>
                    </a:lnTo>
                    <a:lnTo>
                      <a:pt x="3729" y="2154"/>
                    </a:lnTo>
                    <a:lnTo>
                      <a:pt x="3693" y="2043"/>
                    </a:lnTo>
                    <a:lnTo>
                      <a:pt x="3674" y="1985"/>
                    </a:lnTo>
                    <a:lnTo>
                      <a:pt x="3655" y="1930"/>
                    </a:lnTo>
                    <a:lnTo>
                      <a:pt x="3636" y="1878"/>
                    </a:lnTo>
                    <a:lnTo>
                      <a:pt x="3618" y="1834"/>
                    </a:lnTo>
                    <a:lnTo>
                      <a:pt x="3609" y="1815"/>
                    </a:lnTo>
                    <a:lnTo>
                      <a:pt x="3601" y="1799"/>
                    </a:lnTo>
                    <a:lnTo>
                      <a:pt x="3593" y="1785"/>
                    </a:lnTo>
                    <a:lnTo>
                      <a:pt x="3585" y="1775"/>
                    </a:lnTo>
                    <a:lnTo>
                      <a:pt x="3578" y="1768"/>
                    </a:lnTo>
                    <a:lnTo>
                      <a:pt x="3571" y="1765"/>
                    </a:lnTo>
                    <a:lnTo>
                      <a:pt x="3564" y="1765"/>
                    </a:lnTo>
                    <a:lnTo>
                      <a:pt x="3560" y="1771"/>
                    </a:lnTo>
                    <a:lnTo>
                      <a:pt x="3554" y="1779"/>
                    </a:lnTo>
                    <a:lnTo>
                      <a:pt x="3551" y="1788"/>
                    </a:lnTo>
                    <a:lnTo>
                      <a:pt x="3547" y="1797"/>
                    </a:lnTo>
                    <a:lnTo>
                      <a:pt x="3545" y="1806"/>
                    </a:lnTo>
                    <a:lnTo>
                      <a:pt x="3542" y="1826"/>
                    </a:lnTo>
                    <a:lnTo>
                      <a:pt x="3541" y="1848"/>
                    </a:lnTo>
                    <a:lnTo>
                      <a:pt x="3542" y="1869"/>
                    </a:lnTo>
                    <a:lnTo>
                      <a:pt x="3544" y="1892"/>
                    </a:lnTo>
                    <a:lnTo>
                      <a:pt x="3547" y="1915"/>
                    </a:lnTo>
                    <a:lnTo>
                      <a:pt x="3552" y="1937"/>
                    </a:lnTo>
                    <a:lnTo>
                      <a:pt x="3563" y="1978"/>
                    </a:lnTo>
                    <a:lnTo>
                      <a:pt x="3575" y="2012"/>
                    </a:lnTo>
                    <a:lnTo>
                      <a:pt x="3584" y="2035"/>
                    </a:lnTo>
                    <a:lnTo>
                      <a:pt x="3587" y="2043"/>
                    </a:lnTo>
                    <a:lnTo>
                      <a:pt x="3465" y="2865"/>
                    </a:lnTo>
                    <a:lnTo>
                      <a:pt x="3457" y="2834"/>
                    </a:lnTo>
                    <a:lnTo>
                      <a:pt x="3436" y="2756"/>
                    </a:lnTo>
                    <a:lnTo>
                      <a:pt x="3420" y="2703"/>
                    </a:lnTo>
                    <a:lnTo>
                      <a:pt x="3403" y="2646"/>
                    </a:lnTo>
                    <a:lnTo>
                      <a:pt x="3382" y="2584"/>
                    </a:lnTo>
                    <a:lnTo>
                      <a:pt x="3359" y="2521"/>
                    </a:lnTo>
                    <a:lnTo>
                      <a:pt x="3347" y="2489"/>
                    </a:lnTo>
                    <a:lnTo>
                      <a:pt x="3334" y="2458"/>
                    </a:lnTo>
                    <a:lnTo>
                      <a:pt x="3321" y="2428"/>
                    </a:lnTo>
                    <a:lnTo>
                      <a:pt x="3307" y="2399"/>
                    </a:lnTo>
                    <a:lnTo>
                      <a:pt x="3292" y="2371"/>
                    </a:lnTo>
                    <a:lnTo>
                      <a:pt x="3278" y="2344"/>
                    </a:lnTo>
                    <a:lnTo>
                      <a:pt x="3262" y="2319"/>
                    </a:lnTo>
                    <a:lnTo>
                      <a:pt x="3247" y="2296"/>
                    </a:lnTo>
                    <a:lnTo>
                      <a:pt x="3231" y="2276"/>
                    </a:lnTo>
                    <a:lnTo>
                      <a:pt x="3214" y="2257"/>
                    </a:lnTo>
                    <a:lnTo>
                      <a:pt x="3198" y="2243"/>
                    </a:lnTo>
                    <a:lnTo>
                      <a:pt x="3181" y="2230"/>
                    </a:lnTo>
                    <a:lnTo>
                      <a:pt x="3164" y="2221"/>
                    </a:lnTo>
                    <a:lnTo>
                      <a:pt x="3146" y="2217"/>
                    </a:lnTo>
                    <a:lnTo>
                      <a:pt x="3129" y="2215"/>
                    </a:lnTo>
                    <a:lnTo>
                      <a:pt x="3111" y="2218"/>
                    </a:lnTo>
                    <a:lnTo>
                      <a:pt x="3077" y="2228"/>
                    </a:lnTo>
                    <a:lnTo>
                      <a:pt x="3048" y="2238"/>
                    </a:lnTo>
                    <a:lnTo>
                      <a:pt x="3021" y="2247"/>
                    </a:lnTo>
                    <a:lnTo>
                      <a:pt x="2999" y="2256"/>
                    </a:lnTo>
                    <a:lnTo>
                      <a:pt x="2980" y="2265"/>
                    </a:lnTo>
                    <a:lnTo>
                      <a:pt x="2963" y="2273"/>
                    </a:lnTo>
                    <a:lnTo>
                      <a:pt x="2949" y="2280"/>
                    </a:lnTo>
                    <a:lnTo>
                      <a:pt x="2938" y="2287"/>
                    </a:lnTo>
                    <a:lnTo>
                      <a:pt x="2921" y="2299"/>
                    </a:lnTo>
                    <a:lnTo>
                      <a:pt x="2912" y="2307"/>
                    </a:lnTo>
                    <a:lnTo>
                      <a:pt x="2908" y="2313"/>
                    </a:lnTo>
                    <a:lnTo>
                      <a:pt x="2907" y="2315"/>
                    </a:lnTo>
                    <a:lnTo>
                      <a:pt x="2689" y="2261"/>
                    </a:lnTo>
                    <a:lnTo>
                      <a:pt x="2680" y="1867"/>
                    </a:lnTo>
                    <a:lnTo>
                      <a:pt x="2679" y="1864"/>
                    </a:lnTo>
                    <a:lnTo>
                      <a:pt x="2677" y="1855"/>
                    </a:lnTo>
                    <a:lnTo>
                      <a:pt x="2669" y="1839"/>
                    </a:lnTo>
                    <a:lnTo>
                      <a:pt x="2654" y="1815"/>
                    </a:lnTo>
                    <a:lnTo>
                      <a:pt x="2644" y="1800"/>
                    </a:lnTo>
                    <a:lnTo>
                      <a:pt x="2632" y="1783"/>
                    </a:lnTo>
                    <a:lnTo>
                      <a:pt x="2616" y="1765"/>
                    </a:lnTo>
                    <a:lnTo>
                      <a:pt x="2597" y="1743"/>
                    </a:lnTo>
                    <a:lnTo>
                      <a:pt x="2575" y="1721"/>
                    </a:lnTo>
                    <a:lnTo>
                      <a:pt x="2549" y="1696"/>
                    </a:lnTo>
                    <a:lnTo>
                      <a:pt x="2519" y="1667"/>
                    </a:lnTo>
                    <a:lnTo>
                      <a:pt x="2487" y="1638"/>
                    </a:lnTo>
                    <a:lnTo>
                      <a:pt x="2482" y="1642"/>
                    </a:lnTo>
                    <a:lnTo>
                      <a:pt x="2466" y="1656"/>
                    </a:lnTo>
                    <a:lnTo>
                      <a:pt x="2453" y="1666"/>
                    </a:lnTo>
                    <a:lnTo>
                      <a:pt x="2434" y="1676"/>
                    </a:lnTo>
                    <a:lnTo>
                      <a:pt x="2411" y="1689"/>
                    </a:lnTo>
                    <a:lnTo>
                      <a:pt x="2381" y="1701"/>
                    </a:lnTo>
                    <a:lnTo>
                      <a:pt x="2345" y="1715"/>
                    </a:lnTo>
                    <a:lnTo>
                      <a:pt x="2303" y="1730"/>
                    </a:lnTo>
                    <a:lnTo>
                      <a:pt x="2253" y="1743"/>
                    </a:lnTo>
                    <a:lnTo>
                      <a:pt x="2195" y="1757"/>
                    </a:lnTo>
                    <a:lnTo>
                      <a:pt x="2128" y="1771"/>
                    </a:lnTo>
                    <a:lnTo>
                      <a:pt x="2053" y="1784"/>
                    </a:lnTo>
                    <a:lnTo>
                      <a:pt x="2011" y="1790"/>
                    </a:lnTo>
                    <a:lnTo>
                      <a:pt x="1966" y="1796"/>
                    </a:lnTo>
                    <a:lnTo>
                      <a:pt x="1920" y="1801"/>
                    </a:lnTo>
                    <a:lnTo>
                      <a:pt x="1870" y="1807"/>
                    </a:lnTo>
                    <a:lnTo>
                      <a:pt x="1859" y="1798"/>
                    </a:lnTo>
                    <a:lnTo>
                      <a:pt x="1829" y="1772"/>
                    </a:lnTo>
                    <a:lnTo>
                      <a:pt x="1810" y="1754"/>
                    </a:lnTo>
                    <a:lnTo>
                      <a:pt x="1787" y="1733"/>
                    </a:lnTo>
                    <a:lnTo>
                      <a:pt x="1765" y="1709"/>
                    </a:lnTo>
                    <a:lnTo>
                      <a:pt x="1741" y="1683"/>
                    </a:lnTo>
                    <a:lnTo>
                      <a:pt x="1717" y="1655"/>
                    </a:lnTo>
                    <a:lnTo>
                      <a:pt x="1694" y="1625"/>
                    </a:lnTo>
                    <a:lnTo>
                      <a:pt x="1684" y="1611"/>
                    </a:lnTo>
                    <a:lnTo>
                      <a:pt x="1674" y="1595"/>
                    </a:lnTo>
                    <a:lnTo>
                      <a:pt x="1665" y="1580"/>
                    </a:lnTo>
                    <a:lnTo>
                      <a:pt x="1657" y="1564"/>
                    </a:lnTo>
                    <a:lnTo>
                      <a:pt x="1649" y="1548"/>
                    </a:lnTo>
                    <a:lnTo>
                      <a:pt x="1642" y="1532"/>
                    </a:lnTo>
                    <a:lnTo>
                      <a:pt x="1638" y="1516"/>
                    </a:lnTo>
                    <a:lnTo>
                      <a:pt x="1633" y="1501"/>
                    </a:lnTo>
                    <a:lnTo>
                      <a:pt x="1630" y="1485"/>
                    </a:lnTo>
                    <a:lnTo>
                      <a:pt x="1629" y="1470"/>
                    </a:lnTo>
                    <a:lnTo>
                      <a:pt x="1629" y="1454"/>
                    </a:lnTo>
                    <a:lnTo>
                      <a:pt x="1630" y="1439"/>
                    </a:lnTo>
                    <a:lnTo>
                      <a:pt x="1636" y="1411"/>
                    </a:lnTo>
                    <a:lnTo>
                      <a:pt x="1641" y="1389"/>
                    </a:lnTo>
                    <a:lnTo>
                      <a:pt x="1648" y="1372"/>
                    </a:lnTo>
                    <a:lnTo>
                      <a:pt x="1654" y="1361"/>
                    </a:lnTo>
                    <a:lnTo>
                      <a:pt x="1662" y="1352"/>
                    </a:lnTo>
                    <a:lnTo>
                      <a:pt x="1658" y="1355"/>
                    </a:lnTo>
                    <a:lnTo>
                      <a:pt x="1651" y="1361"/>
                    </a:lnTo>
                    <a:lnTo>
                      <a:pt x="1640" y="1368"/>
                    </a:lnTo>
                    <a:lnTo>
                      <a:pt x="1624" y="1376"/>
                    </a:lnTo>
                    <a:lnTo>
                      <a:pt x="1602" y="1385"/>
                    </a:lnTo>
                    <a:lnTo>
                      <a:pt x="1573" y="1394"/>
                    </a:lnTo>
                    <a:lnTo>
                      <a:pt x="1537" y="1403"/>
                    </a:lnTo>
                    <a:lnTo>
                      <a:pt x="1517" y="1407"/>
                    </a:lnTo>
                    <a:lnTo>
                      <a:pt x="1494" y="1411"/>
                    </a:lnTo>
                    <a:lnTo>
                      <a:pt x="1468" y="1414"/>
                    </a:lnTo>
                    <a:lnTo>
                      <a:pt x="1441" y="1417"/>
                    </a:lnTo>
                    <a:lnTo>
                      <a:pt x="1416" y="1418"/>
                    </a:lnTo>
                    <a:lnTo>
                      <a:pt x="1396" y="1418"/>
                    </a:lnTo>
                    <a:lnTo>
                      <a:pt x="1383" y="1415"/>
                    </a:lnTo>
                    <a:lnTo>
                      <a:pt x="1373" y="1411"/>
                    </a:lnTo>
                    <a:lnTo>
                      <a:pt x="1368" y="1405"/>
                    </a:lnTo>
                    <a:lnTo>
                      <a:pt x="1368" y="1397"/>
                    </a:lnTo>
                    <a:lnTo>
                      <a:pt x="1371" y="1389"/>
                    </a:lnTo>
                    <a:lnTo>
                      <a:pt x="1378" y="1379"/>
                    </a:lnTo>
                    <a:lnTo>
                      <a:pt x="1387" y="1369"/>
                    </a:lnTo>
                    <a:lnTo>
                      <a:pt x="1400" y="1358"/>
                    </a:lnTo>
                    <a:lnTo>
                      <a:pt x="1415" y="1345"/>
                    </a:lnTo>
                    <a:lnTo>
                      <a:pt x="1432" y="1331"/>
                    </a:lnTo>
                    <a:lnTo>
                      <a:pt x="1470" y="1304"/>
                    </a:lnTo>
                    <a:lnTo>
                      <a:pt x="1512" y="1277"/>
                    </a:lnTo>
                    <a:lnTo>
                      <a:pt x="1596" y="1225"/>
                    </a:lnTo>
                    <a:lnTo>
                      <a:pt x="1659" y="1184"/>
                    </a:lnTo>
                    <a:lnTo>
                      <a:pt x="1670" y="1177"/>
                    </a:lnTo>
                    <a:lnTo>
                      <a:pt x="1676" y="1170"/>
                    </a:lnTo>
                    <a:lnTo>
                      <a:pt x="1679" y="1167"/>
                    </a:lnTo>
                    <a:lnTo>
                      <a:pt x="1679" y="1165"/>
                    </a:lnTo>
                    <a:lnTo>
                      <a:pt x="1674" y="1163"/>
                    </a:lnTo>
                    <a:lnTo>
                      <a:pt x="1665" y="1165"/>
                    </a:lnTo>
                    <a:lnTo>
                      <a:pt x="1651" y="1169"/>
                    </a:lnTo>
                    <a:lnTo>
                      <a:pt x="1631" y="1175"/>
                    </a:lnTo>
                    <a:lnTo>
                      <a:pt x="1587" y="1188"/>
                    </a:lnTo>
                    <a:lnTo>
                      <a:pt x="1544" y="1199"/>
                    </a:lnTo>
                    <a:lnTo>
                      <a:pt x="1504" y="1208"/>
                    </a:lnTo>
                    <a:lnTo>
                      <a:pt x="1464" y="1213"/>
                    </a:lnTo>
                    <a:lnTo>
                      <a:pt x="1428" y="1218"/>
                    </a:lnTo>
                    <a:lnTo>
                      <a:pt x="1394" y="1221"/>
                    </a:lnTo>
                    <a:lnTo>
                      <a:pt x="1361" y="1221"/>
                    </a:lnTo>
                    <a:lnTo>
                      <a:pt x="1331" y="1221"/>
                    </a:lnTo>
                    <a:lnTo>
                      <a:pt x="1302" y="1220"/>
                    </a:lnTo>
                    <a:lnTo>
                      <a:pt x="1276" y="1217"/>
                    </a:lnTo>
                    <a:lnTo>
                      <a:pt x="1252" y="1213"/>
                    </a:lnTo>
                    <a:lnTo>
                      <a:pt x="1230" y="1210"/>
                    </a:lnTo>
                    <a:lnTo>
                      <a:pt x="1192" y="1201"/>
                    </a:lnTo>
                    <a:lnTo>
                      <a:pt x="1163" y="1192"/>
                    </a:lnTo>
                    <a:lnTo>
                      <a:pt x="1144" y="1185"/>
                    </a:lnTo>
                    <a:lnTo>
                      <a:pt x="1131" y="1180"/>
                    </a:lnTo>
                    <a:lnTo>
                      <a:pt x="1129" y="1179"/>
                    </a:lnTo>
                    <a:lnTo>
                      <a:pt x="1129" y="1180"/>
                    </a:lnTo>
                    <a:lnTo>
                      <a:pt x="1131" y="1183"/>
                    </a:lnTo>
                    <a:lnTo>
                      <a:pt x="1136" y="1187"/>
                    </a:lnTo>
                    <a:lnTo>
                      <a:pt x="1152" y="1202"/>
                    </a:lnTo>
                    <a:lnTo>
                      <a:pt x="1177" y="1226"/>
                    </a:lnTo>
                    <a:lnTo>
                      <a:pt x="1211" y="1260"/>
                    </a:lnTo>
                    <a:lnTo>
                      <a:pt x="1254" y="1308"/>
                    </a:lnTo>
                    <a:lnTo>
                      <a:pt x="1277" y="1336"/>
                    </a:lnTo>
                    <a:lnTo>
                      <a:pt x="1299" y="1362"/>
                    </a:lnTo>
                    <a:lnTo>
                      <a:pt x="1316" y="1386"/>
                    </a:lnTo>
                    <a:lnTo>
                      <a:pt x="1330" y="1409"/>
                    </a:lnTo>
                    <a:lnTo>
                      <a:pt x="1342" y="1430"/>
                    </a:lnTo>
                    <a:lnTo>
                      <a:pt x="1350" y="1449"/>
                    </a:lnTo>
                    <a:lnTo>
                      <a:pt x="1356" y="1466"/>
                    </a:lnTo>
                    <a:lnTo>
                      <a:pt x="1359" y="1482"/>
                    </a:lnTo>
                    <a:lnTo>
                      <a:pt x="1360" y="1496"/>
                    </a:lnTo>
                    <a:lnTo>
                      <a:pt x="1360" y="1508"/>
                    </a:lnTo>
                    <a:lnTo>
                      <a:pt x="1357" y="1519"/>
                    </a:lnTo>
                    <a:lnTo>
                      <a:pt x="1351" y="1528"/>
                    </a:lnTo>
                    <a:lnTo>
                      <a:pt x="1345" y="1535"/>
                    </a:lnTo>
                    <a:lnTo>
                      <a:pt x="1336" y="1539"/>
                    </a:lnTo>
                    <a:lnTo>
                      <a:pt x="1327" y="1543"/>
                    </a:lnTo>
                    <a:lnTo>
                      <a:pt x="1316" y="1545"/>
                    </a:lnTo>
                    <a:lnTo>
                      <a:pt x="1303" y="1545"/>
                    </a:lnTo>
                    <a:lnTo>
                      <a:pt x="1291" y="1543"/>
                    </a:lnTo>
                    <a:lnTo>
                      <a:pt x="1277" y="1539"/>
                    </a:lnTo>
                    <a:lnTo>
                      <a:pt x="1263" y="1533"/>
                    </a:lnTo>
                    <a:lnTo>
                      <a:pt x="1247" y="1527"/>
                    </a:lnTo>
                    <a:lnTo>
                      <a:pt x="1232" y="1518"/>
                    </a:lnTo>
                    <a:lnTo>
                      <a:pt x="1216" y="1507"/>
                    </a:lnTo>
                    <a:lnTo>
                      <a:pt x="1200" y="1495"/>
                    </a:lnTo>
                    <a:lnTo>
                      <a:pt x="1184" y="1481"/>
                    </a:lnTo>
                    <a:lnTo>
                      <a:pt x="1169" y="1465"/>
                    </a:lnTo>
                    <a:lnTo>
                      <a:pt x="1153" y="1448"/>
                    </a:lnTo>
                    <a:lnTo>
                      <a:pt x="1138" y="1429"/>
                    </a:lnTo>
                    <a:lnTo>
                      <a:pt x="1124" y="1407"/>
                    </a:lnTo>
                    <a:lnTo>
                      <a:pt x="1111" y="1385"/>
                    </a:lnTo>
                    <a:lnTo>
                      <a:pt x="1098" y="1361"/>
                    </a:lnTo>
                    <a:lnTo>
                      <a:pt x="1087" y="1335"/>
                    </a:lnTo>
                    <a:lnTo>
                      <a:pt x="1080" y="1319"/>
                    </a:lnTo>
                    <a:lnTo>
                      <a:pt x="1075" y="1308"/>
                    </a:lnTo>
                    <a:lnTo>
                      <a:pt x="1070" y="1304"/>
                    </a:lnTo>
                    <a:lnTo>
                      <a:pt x="1067" y="1304"/>
                    </a:lnTo>
                    <a:lnTo>
                      <a:pt x="1064" y="1310"/>
                    </a:lnTo>
                    <a:lnTo>
                      <a:pt x="1062" y="1320"/>
                    </a:lnTo>
                    <a:lnTo>
                      <a:pt x="1061" y="1335"/>
                    </a:lnTo>
                    <a:lnTo>
                      <a:pt x="1061" y="1352"/>
                    </a:lnTo>
                    <a:lnTo>
                      <a:pt x="1061" y="1448"/>
                    </a:lnTo>
                    <a:lnTo>
                      <a:pt x="1060" y="1561"/>
                    </a:lnTo>
                    <a:lnTo>
                      <a:pt x="1059" y="1588"/>
                    </a:lnTo>
                    <a:lnTo>
                      <a:pt x="1056" y="1615"/>
                    </a:lnTo>
                    <a:lnTo>
                      <a:pt x="1053" y="1639"/>
                    </a:lnTo>
                    <a:lnTo>
                      <a:pt x="1050" y="1662"/>
                    </a:lnTo>
                    <a:lnTo>
                      <a:pt x="1044" y="1681"/>
                    </a:lnTo>
                    <a:lnTo>
                      <a:pt x="1037" y="1697"/>
                    </a:lnTo>
                    <a:lnTo>
                      <a:pt x="1029" y="1710"/>
                    </a:lnTo>
                    <a:lnTo>
                      <a:pt x="1020" y="1718"/>
                    </a:lnTo>
                    <a:lnTo>
                      <a:pt x="1009" y="1723"/>
                    </a:lnTo>
                    <a:lnTo>
                      <a:pt x="996" y="1722"/>
                    </a:lnTo>
                    <a:lnTo>
                      <a:pt x="981" y="1715"/>
                    </a:lnTo>
                    <a:lnTo>
                      <a:pt x="964" y="1703"/>
                    </a:lnTo>
                    <a:lnTo>
                      <a:pt x="945" y="1683"/>
                    </a:lnTo>
                    <a:lnTo>
                      <a:pt x="924" y="1657"/>
                    </a:lnTo>
                    <a:lnTo>
                      <a:pt x="900" y="1624"/>
                    </a:lnTo>
                    <a:lnTo>
                      <a:pt x="873" y="1583"/>
                    </a:lnTo>
                    <a:lnTo>
                      <a:pt x="864" y="1569"/>
                    </a:lnTo>
                    <a:lnTo>
                      <a:pt x="857" y="1558"/>
                    </a:lnTo>
                    <a:lnTo>
                      <a:pt x="851" y="1552"/>
                    </a:lnTo>
                    <a:lnTo>
                      <a:pt x="849" y="1549"/>
                    </a:lnTo>
                    <a:lnTo>
                      <a:pt x="847" y="1550"/>
                    </a:lnTo>
                    <a:lnTo>
                      <a:pt x="848" y="1555"/>
                    </a:lnTo>
                    <a:lnTo>
                      <a:pt x="849" y="1562"/>
                    </a:lnTo>
                    <a:lnTo>
                      <a:pt x="852" y="1572"/>
                    </a:lnTo>
                    <a:lnTo>
                      <a:pt x="862" y="1598"/>
                    </a:lnTo>
                    <a:lnTo>
                      <a:pt x="876" y="1633"/>
                    </a:lnTo>
                    <a:lnTo>
                      <a:pt x="893" y="1674"/>
                    </a:lnTo>
                    <a:lnTo>
                      <a:pt x="913" y="1720"/>
                    </a:lnTo>
                    <a:lnTo>
                      <a:pt x="953" y="1814"/>
                    </a:lnTo>
                    <a:lnTo>
                      <a:pt x="993" y="1900"/>
                    </a:lnTo>
                    <a:lnTo>
                      <a:pt x="1021" y="1964"/>
                    </a:lnTo>
                    <a:lnTo>
                      <a:pt x="1034" y="1989"/>
                    </a:lnTo>
                    <a:lnTo>
                      <a:pt x="1022" y="1978"/>
                    </a:lnTo>
                    <a:lnTo>
                      <a:pt x="996" y="1953"/>
                    </a:lnTo>
                    <a:lnTo>
                      <a:pt x="978" y="1936"/>
                    </a:lnTo>
                    <a:lnTo>
                      <a:pt x="958" y="1919"/>
                    </a:lnTo>
                    <a:lnTo>
                      <a:pt x="937" y="1902"/>
                    </a:lnTo>
                    <a:lnTo>
                      <a:pt x="916" y="1886"/>
                    </a:lnTo>
                    <a:lnTo>
                      <a:pt x="894" y="1873"/>
                    </a:lnTo>
                    <a:lnTo>
                      <a:pt x="875" y="1861"/>
                    </a:lnTo>
                    <a:lnTo>
                      <a:pt x="865" y="1857"/>
                    </a:lnTo>
                    <a:lnTo>
                      <a:pt x="856" y="1853"/>
                    </a:lnTo>
                    <a:lnTo>
                      <a:pt x="848" y="1851"/>
                    </a:lnTo>
                    <a:lnTo>
                      <a:pt x="841" y="1851"/>
                    </a:lnTo>
                    <a:lnTo>
                      <a:pt x="834" y="1851"/>
                    </a:lnTo>
                    <a:lnTo>
                      <a:pt x="829" y="1853"/>
                    </a:lnTo>
                    <a:lnTo>
                      <a:pt x="824" y="1858"/>
                    </a:lnTo>
                    <a:lnTo>
                      <a:pt x="820" y="1864"/>
                    </a:lnTo>
                    <a:lnTo>
                      <a:pt x="817" y="1872"/>
                    </a:lnTo>
                    <a:lnTo>
                      <a:pt x="816" y="1881"/>
                    </a:lnTo>
                    <a:lnTo>
                      <a:pt x="817" y="1893"/>
                    </a:lnTo>
                    <a:lnTo>
                      <a:pt x="818" y="1907"/>
                    </a:lnTo>
                    <a:lnTo>
                      <a:pt x="822" y="1923"/>
                    </a:lnTo>
                    <a:lnTo>
                      <a:pt x="826" y="1940"/>
                    </a:lnTo>
                    <a:lnTo>
                      <a:pt x="832" y="1958"/>
                    </a:lnTo>
                    <a:lnTo>
                      <a:pt x="839" y="1976"/>
                    </a:lnTo>
                    <a:lnTo>
                      <a:pt x="856" y="2016"/>
                    </a:lnTo>
                    <a:lnTo>
                      <a:pt x="876" y="2057"/>
                    </a:lnTo>
                    <a:lnTo>
                      <a:pt x="899" y="2100"/>
                    </a:lnTo>
                    <a:lnTo>
                      <a:pt x="924" y="2143"/>
                    </a:lnTo>
                    <a:lnTo>
                      <a:pt x="950" y="2185"/>
                    </a:lnTo>
                    <a:lnTo>
                      <a:pt x="977" y="2227"/>
                    </a:lnTo>
                    <a:lnTo>
                      <a:pt x="1028" y="2304"/>
                    </a:lnTo>
                    <a:lnTo>
                      <a:pt x="1072" y="2366"/>
                    </a:lnTo>
                    <a:lnTo>
                      <a:pt x="1103" y="2408"/>
                    </a:lnTo>
                    <a:lnTo>
                      <a:pt x="1114" y="2424"/>
                    </a:lnTo>
                    <a:lnTo>
                      <a:pt x="873" y="2533"/>
                    </a:lnTo>
                    <a:lnTo>
                      <a:pt x="866" y="2505"/>
                    </a:lnTo>
                    <a:lnTo>
                      <a:pt x="846" y="2432"/>
                    </a:lnTo>
                    <a:lnTo>
                      <a:pt x="832" y="2385"/>
                    </a:lnTo>
                    <a:lnTo>
                      <a:pt x="817" y="2331"/>
                    </a:lnTo>
                    <a:lnTo>
                      <a:pt x="800" y="2277"/>
                    </a:lnTo>
                    <a:lnTo>
                      <a:pt x="782" y="2221"/>
                    </a:lnTo>
                    <a:lnTo>
                      <a:pt x="763" y="2168"/>
                    </a:lnTo>
                    <a:lnTo>
                      <a:pt x="744" y="2118"/>
                    </a:lnTo>
                    <a:lnTo>
                      <a:pt x="735" y="2095"/>
                    </a:lnTo>
                    <a:lnTo>
                      <a:pt x="724" y="2075"/>
                    </a:lnTo>
                    <a:lnTo>
                      <a:pt x="715" y="2055"/>
                    </a:lnTo>
                    <a:lnTo>
                      <a:pt x="706" y="2040"/>
                    </a:lnTo>
                    <a:lnTo>
                      <a:pt x="697" y="2026"/>
                    </a:lnTo>
                    <a:lnTo>
                      <a:pt x="688" y="2015"/>
                    </a:lnTo>
                    <a:lnTo>
                      <a:pt x="680" y="2007"/>
                    </a:lnTo>
                    <a:lnTo>
                      <a:pt x="671" y="2002"/>
                    </a:lnTo>
                    <a:lnTo>
                      <a:pt x="663" y="2002"/>
                    </a:lnTo>
                    <a:lnTo>
                      <a:pt x="656" y="2006"/>
                    </a:lnTo>
                    <a:lnTo>
                      <a:pt x="650" y="2012"/>
                    </a:lnTo>
                    <a:lnTo>
                      <a:pt x="644" y="2025"/>
                    </a:lnTo>
                    <a:lnTo>
                      <a:pt x="620" y="2084"/>
                    </a:lnTo>
                    <a:lnTo>
                      <a:pt x="601" y="2144"/>
                    </a:lnTo>
                    <a:lnTo>
                      <a:pt x="583" y="2205"/>
                    </a:lnTo>
                    <a:lnTo>
                      <a:pt x="567" y="2268"/>
                    </a:lnTo>
                    <a:lnTo>
                      <a:pt x="552" y="2330"/>
                    </a:lnTo>
                    <a:lnTo>
                      <a:pt x="540" y="2391"/>
                    </a:lnTo>
                    <a:lnTo>
                      <a:pt x="529" y="2453"/>
                    </a:lnTo>
                    <a:lnTo>
                      <a:pt x="520" y="2514"/>
                    </a:lnTo>
                    <a:lnTo>
                      <a:pt x="512" y="2573"/>
                    </a:lnTo>
                    <a:lnTo>
                      <a:pt x="507" y="2631"/>
                    </a:lnTo>
                    <a:lnTo>
                      <a:pt x="501" y="2686"/>
                    </a:lnTo>
                    <a:lnTo>
                      <a:pt x="497" y="2739"/>
                    </a:lnTo>
                    <a:lnTo>
                      <a:pt x="490" y="2836"/>
                    </a:lnTo>
                    <a:lnTo>
                      <a:pt x="484" y="2918"/>
                    </a:lnTo>
                    <a:lnTo>
                      <a:pt x="482" y="2953"/>
                    </a:lnTo>
                    <a:lnTo>
                      <a:pt x="480" y="2983"/>
                    </a:lnTo>
                    <a:lnTo>
                      <a:pt x="476" y="3008"/>
                    </a:lnTo>
                    <a:lnTo>
                      <a:pt x="473" y="3026"/>
                    </a:lnTo>
                    <a:lnTo>
                      <a:pt x="469" y="3039"/>
                    </a:lnTo>
                    <a:lnTo>
                      <a:pt x="466" y="3046"/>
                    </a:lnTo>
                    <a:lnTo>
                      <a:pt x="460" y="3045"/>
                    </a:lnTo>
                    <a:lnTo>
                      <a:pt x="455" y="3038"/>
                    </a:lnTo>
                    <a:lnTo>
                      <a:pt x="448" y="3024"/>
                    </a:lnTo>
                    <a:lnTo>
                      <a:pt x="439" y="3001"/>
                    </a:lnTo>
                    <a:lnTo>
                      <a:pt x="430" y="2969"/>
                    </a:lnTo>
                    <a:lnTo>
                      <a:pt x="417" y="2929"/>
                    </a:lnTo>
                    <a:lnTo>
                      <a:pt x="390" y="2822"/>
                    </a:lnTo>
                    <a:lnTo>
                      <a:pt x="354" y="2674"/>
                    </a:lnTo>
                    <a:lnTo>
                      <a:pt x="220" y="2128"/>
                    </a:lnTo>
                    <a:lnTo>
                      <a:pt x="82" y="2016"/>
                    </a:lnTo>
                    <a:lnTo>
                      <a:pt x="247" y="1771"/>
                    </a:lnTo>
                    <a:lnTo>
                      <a:pt x="136" y="1692"/>
                    </a:lnTo>
                    <a:lnTo>
                      <a:pt x="287" y="1565"/>
                    </a:lnTo>
                    <a:lnTo>
                      <a:pt x="0" y="1431"/>
                    </a:lnTo>
                    <a:lnTo>
                      <a:pt x="247" y="1350"/>
                    </a:lnTo>
                    <a:lnTo>
                      <a:pt x="220" y="1280"/>
                    </a:lnTo>
                    <a:lnTo>
                      <a:pt x="302" y="1308"/>
                    </a:lnTo>
                    <a:lnTo>
                      <a:pt x="274" y="1213"/>
                    </a:lnTo>
                    <a:lnTo>
                      <a:pt x="356" y="1241"/>
                    </a:lnTo>
                    <a:lnTo>
                      <a:pt x="341" y="1102"/>
                    </a:lnTo>
                    <a:lnTo>
                      <a:pt x="435" y="1093"/>
                    </a:lnTo>
                    <a:lnTo>
                      <a:pt x="434" y="1090"/>
                    </a:lnTo>
                    <a:lnTo>
                      <a:pt x="432" y="1081"/>
                    </a:lnTo>
                    <a:lnTo>
                      <a:pt x="430" y="1067"/>
                    </a:lnTo>
                    <a:lnTo>
                      <a:pt x="425" y="1050"/>
                    </a:lnTo>
                    <a:lnTo>
                      <a:pt x="420" y="1031"/>
                    </a:lnTo>
                    <a:lnTo>
                      <a:pt x="413" y="1010"/>
                    </a:lnTo>
                    <a:lnTo>
                      <a:pt x="405" y="989"/>
                    </a:lnTo>
                    <a:lnTo>
                      <a:pt x="396" y="968"/>
                    </a:lnTo>
                    <a:lnTo>
                      <a:pt x="392" y="959"/>
                    </a:lnTo>
                    <a:lnTo>
                      <a:pt x="390" y="952"/>
                    </a:lnTo>
                    <a:lnTo>
                      <a:pt x="391" y="947"/>
                    </a:lnTo>
                    <a:lnTo>
                      <a:pt x="395" y="943"/>
                    </a:lnTo>
                    <a:lnTo>
                      <a:pt x="399" y="941"/>
                    </a:lnTo>
                    <a:lnTo>
                      <a:pt x="405" y="940"/>
                    </a:lnTo>
                    <a:lnTo>
                      <a:pt x="412" y="940"/>
                    </a:lnTo>
                    <a:lnTo>
                      <a:pt x="418" y="941"/>
                    </a:lnTo>
                    <a:lnTo>
                      <a:pt x="434" y="944"/>
                    </a:lnTo>
                    <a:lnTo>
                      <a:pt x="448" y="948"/>
                    </a:lnTo>
                    <a:lnTo>
                      <a:pt x="458" y="952"/>
                    </a:lnTo>
                    <a:lnTo>
                      <a:pt x="463" y="954"/>
                    </a:lnTo>
                    <a:lnTo>
                      <a:pt x="490" y="833"/>
                    </a:lnTo>
                    <a:lnTo>
                      <a:pt x="544" y="806"/>
                    </a:lnTo>
                    <a:lnTo>
                      <a:pt x="537" y="801"/>
                    </a:lnTo>
                    <a:lnTo>
                      <a:pt x="519" y="789"/>
                    </a:lnTo>
                    <a:lnTo>
                      <a:pt x="508" y="781"/>
                    </a:lnTo>
                    <a:lnTo>
                      <a:pt x="495" y="772"/>
                    </a:lnTo>
                    <a:lnTo>
                      <a:pt x="483" y="761"/>
                    </a:lnTo>
                    <a:lnTo>
                      <a:pt x="471" y="748"/>
                    </a:lnTo>
                    <a:lnTo>
                      <a:pt x="458" y="736"/>
                    </a:lnTo>
                    <a:lnTo>
                      <a:pt x="447" y="721"/>
                    </a:lnTo>
                    <a:lnTo>
                      <a:pt x="438" y="707"/>
                    </a:lnTo>
                    <a:lnTo>
                      <a:pt x="430" y="691"/>
                    </a:lnTo>
                    <a:lnTo>
                      <a:pt x="427" y="685"/>
                    </a:lnTo>
                    <a:lnTo>
                      <a:pt x="426" y="677"/>
                    </a:lnTo>
                    <a:lnTo>
                      <a:pt x="425" y="669"/>
                    </a:lnTo>
                    <a:lnTo>
                      <a:pt x="425" y="661"/>
                    </a:lnTo>
                    <a:lnTo>
                      <a:pt x="425" y="653"/>
                    </a:lnTo>
                    <a:lnTo>
                      <a:pt x="427" y="645"/>
                    </a:lnTo>
                    <a:lnTo>
                      <a:pt x="431" y="638"/>
                    </a:lnTo>
                    <a:lnTo>
                      <a:pt x="435" y="630"/>
                    </a:lnTo>
                    <a:lnTo>
                      <a:pt x="446" y="615"/>
                    </a:lnTo>
                    <a:lnTo>
                      <a:pt x="455" y="602"/>
                    </a:lnTo>
                    <a:lnTo>
                      <a:pt x="465" y="589"/>
                    </a:lnTo>
                    <a:lnTo>
                      <a:pt x="475" y="579"/>
                    </a:lnTo>
                    <a:lnTo>
                      <a:pt x="493" y="561"/>
                    </a:lnTo>
                    <a:lnTo>
                      <a:pt x="510" y="548"/>
                    </a:lnTo>
                    <a:lnTo>
                      <a:pt x="524" y="539"/>
                    </a:lnTo>
                    <a:lnTo>
                      <a:pt x="534" y="534"/>
                    </a:lnTo>
                    <a:lnTo>
                      <a:pt x="541" y="531"/>
                    </a:lnTo>
                    <a:lnTo>
                      <a:pt x="544" y="530"/>
                    </a:lnTo>
                    <a:lnTo>
                      <a:pt x="543" y="532"/>
                    </a:lnTo>
                    <a:lnTo>
                      <a:pt x="541" y="539"/>
                    </a:lnTo>
                    <a:lnTo>
                      <a:pt x="537" y="551"/>
                    </a:lnTo>
                    <a:lnTo>
                      <a:pt x="537" y="567"/>
                    </a:lnTo>
                    <a:lnTo>
                      <a:pt x="537" y="576"/>
                    </a:lnTo>
                    <a:lnTo>
                      <a:pt x="539" y="585"/>
                    </a:lnTo>
                    <a:lnTo>
                      <a:pt x="541" y="596"/>
                    </a:lnTo>
                    <a:lnTo>
                      <a:pt x="544" y="606"/>
                    </a:lnTo>
                    <a:lnTo>
                      <a:pt x="548" y="619"/>
                    </a:lnTo>
                    <a:lnTo>
                      <a:pt x="554" y="631"/>
                    </a:lnTo>
                    <a:lnTo>
                      <a:pt x="561" y="644"/>
                    </a:lnTo>
                    <a:lnTo>
                      <a:pt x="571" y="657"/>
                    </a:lnTo>
                    <a:lnTo>
                      <a:pt x="580" y="669"/>
                    </a:lnTo>
                    <a:lnTo>
                      <a:pt x="588" y="677"/>
                    </a:lnTo>
                    <a:lnTo>
                      <a:pt x="596" y="681"/>
                    </a:lnTo>
                    <a:lnTo>
                      <a:pt x="603" y="685"/>
                    </a:lnTo>
                    <a:lnTo>
                      <a:pt x="608" y="685"/>
                    </a:lnTo>
                    <a:lnTo>
                      <a:pt x="613" y="683"/>
                    </a:lnTo>
                    <a:lnTo>
                      <a:pt x="617" y="680"/>
                    </a:lnTo>
                    <a:lnTo>
                      <a:pt x="621" y="675"/>
                    </a:lnTo>
                    <a:lnTo>
                      <a:pt x="627" y="662"/>
                    </a:lnTo>
                    <a:lnTo>
                      <a:pt x="633" y="644"/>
                    </a:lnTo>
                    <a:lnTo>
                      <a:pt x="637" y="623"/>
                    </a:lnTo>
                    <a:lnTo>
                      <a:pt x="644" y="603"/>
                    </a:lnTo>
                    <a:lnTo>
                      <a:pt x="645" y="594"/>
                    </a:lnTo>
                    <a:lnTo>
                      <a:pt x="648" y="588"/>
                    </a:lnTo>
                    <a:lnTo>
                      <a:pt x="651" y="586"/>
                    </a:lnTo>
                    <a:lnTo>
                      <a:pt x="653" y="585"/>
                    </a:lnTo>
                    <a:lnTo>
                      <a:pt x="655" y="585"/>
                    </a:lnTo>
                    <a:lnTo>
                      <a:pt x="658" y="585"/>
                    </a:lnTo>
                    <a:lnTo>
                      <a:pt x="663" y="586"/>
                    </a:lnTo>
                    <a:lnTo>
                      <a:pt x="669" y="590"/>
                    </a:lnTo>
                    <a:lnTo>
                      <a:pt x="675" y="595"/>
                    </a:lnTo>
                    <a:lnTo>
                      <a:pt x="680" y="601"/>
                    </a:lnTo>
                    <a:lnTo>
                      <a:pt x="692" y="614"/>
                    </a:lnTo>
                    <a:lnTo>
                      <a:pt x="701" y="628"/>
                    </a:lnTo>
                    <a:lnTo>
                      <a:pt x="707" y="638"/>
                    </a:lnTo>
                    <a:lnTo>
                      <a:pt x="710" y="643"/>
                    </a:lnTo>
                    <a:lnTo>
                      <a:pt x="721" y="631"/>
                    </a:lnTo>
                    <a:lnTo>
                      <a:pt x="752" y="604"/>
                    </a:lnTo>
                    <a:lnTo>
                      <a:pt x="773" y="586"/>
                    </a:lnTo>
                    <a:lnTo>
                      <a:pt x="799" y="567"/>
                    </a:lnTo>
                    <a:lnTo>
                      <a:pt x="829" y="547"/>
                    </a:lnTo>
                    <a:lnTo>
                      <a:pt x="862" y="529"/>
                    </a:lnTo>
                    <a:lnTo>
                      <a:pt x="880" y="520"/>
                    </a:lnTo>
                    <a:lnTo>
                      <a:pt x="898" y="512"/>
                    </a:lnTo>
                    <a:lnTo>
                      <a:pt x="916" y="504"/>
                    </a:lnTo>
                    <a:lnTo>
                      <a:pt x="935" y="497"/>
                    </a:lnTo>
                    <a:lnTo>
                      <a:pt x="956" y="492"/>
                    </a:lnTo>
                    <a:lnTo>
                      <a:pt x="976" y="486"/>
                    </a:lnTo>
                    <a:lnTo>
                      <a:pt x="998" y="483"/>
                    </a:lnTo>
                    <a:lnTo>
                      <a:pt x="1018" y="480"/>
                    </a:lnTo>
                    <a:lnTo>
                      <a:pt x="1041" y="479"/>
                    </a:lnTo>
                    <a:lnTo>
                      <a:pt x="1062" y="479"/>
                    </a:lnTo>
                    <a:lnTo>
                      <a:pt x="1085" y="480"/>
                    </a:lnTo>
                    <a:lnTo>
                      <a:pt x="1107" y="484"/>
                    </a:lnTo>
                    <a:lnTo>
                      <a:pt x="1130" y="489"/>
                    </a:lnTo>
                    <a:lnTo>
                      <a:pt x="1153" y="497"/>
                    </a:lnTo>
                    <a:lnTo>
                      <a:pt x="1177" y="506"/>
                    </a:lnTo>
                    <a:lnTo>
                      <a:pt x="1199" y="518"/>
                    </a:lnTo>
                    <a:lnTo>
                      <a:pt x="764" y="354"/>
                    </a:lnTo>
                    <a:lnTo>
                      <a:pt x="800" y="342"/>
                    </a:lnTo>
                    <a:lnTo>
                      <a:pt x="899" y="311"/>
                    </a:lnTo>
                    <a:lnTo>
                      <a:pt x="966" y="292"/>
                    </a:lnTo>
                    <a:lnTo>
                      <a:pt x="1043" y="271"/>
                    </a:lnTo>
                    <a:lnTo>
                      <a:pt x="1085" y="261"/>
                    </a:lnTo>
                    <a:lnTo>
                      <a:pt x="1128" y="251"/>
                    </a:lnTo>
                    <a:lnTo>
                      <a:pt x="1173" y="241"/>
                    </a:lnTo>
                    <a:lnTo>
                      <a:pt x="1218" y="232"/>
                    </a:lnTo>
                    <a:lnTo>
                      <a:pt x="1265" y="224"/>
                    </a:lnTo>
                    <a:lnTo>
                      <a:pt x="1313" y="216"/>
                    </a:lnTo>
                    <a:lnTo>
                      <a:pt x="1361" y="209"/>
                    </a:lnTo>
                    <a:lnTo>
                      <a:pt x="1409" y="203"/>
                    </a:lnTo>
                    <a:lnTo>
                      <a:pt x="1458" y="199"/>
                    </a:lnTo>
                    <a:lnTo>
                      <a:pt x="1505" y="195"/>
                    </a:lnTo>
                    <a:lnTo>
                      <a:pt x="1553" y="193"/>
                    </a:lnTo>
                    <a:lnTo>
                      <a:pt x="1599" y="194"/>
                    </a:lnTo>
                    <a:lnTo>
                      <a:pt x="1645" y="195"/>
                    </a:lnTo>
                    <a:lnTo>
                      <a:pt x="1689" y="200"/>
                    </a:lnTo>
                    <a:lnTo>
                      <a:pt x="1732" y="206"/>
                    </a:lnTo>
                    <a:lnTo>
                      <a:pt x="1774" y="214"/>
                    </a:lnTo>
                    <a:lnTo>
                      <a:pt x="1812" y="225"/>
                    </a:lnTo>
                    <a:lnTo>
                      <a:pt x="1850" y="237"/>
                    </a:lnTo>
                    <a:lnTo>
                      <a:pt x="1884" y="254"/>
                    </a:lnTo>
                    <a:lnTo>
                      <a:pt x="1915" y="273"/>
                    </a:lnTo>
                    <a:lnTo>
                      <a:pt x="1904" y="266"/>
                    </a:lnTo>
                    <a:lnTo>
                      <a:pt x="1892" y="259"/>
                    </a:lnTo>
                    <a:lnTo>
                      <a:pt x="1880" y="253"/>
                    </a:lnTo>
                    <a:lnTo>
                      <a:pt x="1868" y="249"/>
                    </a:lnTo>
                    <a:lnTo>
                      <a:pt x="1842" y="240"/>
                    </a:lnTo>
                    <a:lnTo>
                      <a:pt x="1816" y="234"/>
                    </a:lnTo>
                    <a:lnTo>
                      <a:pt x="1790" y="229"/>
                    </a:lnTo>
                    <a:lnTo>
                      <a:pt x="1764" y="226"/>
                    </a:lnTo>
                    <a:lnTo>
                      <a:pt x="1739" y="224"/>
                    </a:lnTo>
                    <a:lnTo>
                      <a:pt x="1715" y="224"/>
                    </a:lnTo>
                    <a:lnTo>
                      <a:pt x="1692" y="224"/>
                    </a:lnTo>
                    <a:lnTo>
                      <a:pt x="1671" y="225"/>
                    </a:lnTo>
                    <a:lnTo>
                      <a:pt x="1653" y="227"/>
                    </a:lnTo>
                    <a:lnTo>
                      <a:pt x="1636" y="228"/>
                    </a:lnTo>
                    <a:lnTo>
                      <a:pt x="1613" y="232"/>
                    </a:lnTo>
                    <a:lnTo>
                      <a:pt x="1604" y="234"/>
                    </a:lnTo>
                    <a:lnTo>
                      <a:pt x="1441" y="0"/>
                    </a:lnTo>
                    <a:lnTo>
                      <a:pt x="1478" y="4"/>
                    </a:lnTo>
                    <a:lnTo>
                      <a:pt x="1578" y="13"/>
                    </a:lnTo>
                    <a:lnTo>
                      <a:pt x="1646" y="21"/>
                    </a:lnTo>
                    <a:lnTo>
                      <a:pt x="1724" y="31"/>
                    </a:lnTo>
                    <a:lnTo>
                      <a:pt x="1809" y="43"/>
                    </a:lnTo>
                    <a:lnTo>
                      <a:pt x="1900" y="58"/>
                    </a:lnTo>
                    <a:lnTo>
                      <a:pt x="1946" y="67"/>
                    </a:lnTo>
                    <a:lnTo>
                      <a:pt x="1994" y="76"/>
                    </a:lnTo>
                    <a:lnTo>
                      <a:pt x="2042" y="86"/>
                    </a:lnTo>
                    <a:lnTo>
                      <a:pt x="2090" y="98"/>
                    </a:lnTo>
                    <a:lnTo>
                      <a:pt x="2138" y="109"/>
                    </a:lnTo>
                    <a:lnTo>
                      <a:pt x="2185" y="122"/>
                    </a:lnTo>
                    <a:lnTo>
                      <a:pt x="2232" y="135"/>
                    </a:lnTo>
                    <a:lnTo>
                      <a:pt x="2277" y="150"/>
                    </a:lnTo>
                    <a:lnTo>
                      <a:pt x="2322" y="165"/>
                    </a:lnTo>
                    <a:lnTo>
                      <a:pt x="2365" y="182"/>
                    </a:lnTo>
                    <a:lnTo>
                      <a:pt x="2407" y="199"/>
                    </a:lnTo>
                    <a:lnTo>
                      <a:pt x="2447" y="217"/>
                    </a:lnTo>
                    <a:lnTo>
                      <a:pt x="2484" y="236"/>
                    </a:lnTo>
                    <a:lnTo>
                      <a:pt x="2518" y="257"/>
                    </a:lnTo>
                    <a:lnTo>
                      <a:pt x="2551" y="278"/>
                    </a:lnTo>
                    <a:lnTo>
                      <a:pt x="2581" y="300"/>
                    </a:lnTo>
                    <a:lnTo>
                      <a:pt x="2608" y="324"/>
                    </a:lnTo>
                    <a:lnTo>
                      <a:pt x="2635" y="346"/>
                    </a:lnTo>
                    <a:lnTo>
                      <a:pt x="2660" y="369"/>
                    </a:lnTo>
                    <a:lnTo>
                      <a:pt x="2684" y="392"/>
                    </a:lnTo>
                    <a:lnTo>
                      <a:pt x="2729" y="436"/>
                    </a:lnTo>
                    <a:lnTo>
                      <a:pt x="2769" y="478"/>
                    </a:lnTo>
                    <a:lnTo>
                      <a:pt x="2804" y="519"/>
                    </a:lnTo>
                    <a:lnTo>
                      <a:pt x="2834" y="557"/>
                    </a:lnTo>
                    <a:lnTo>
                      <a:pt x="2862" y="593"/>
                    </a:lnTo>
                    <a:lnTo>
                      <a:pt x="2885" y="626"/>
                    </a:lnTo>
                    <a:lnTo>
                      <a:pt x="2905" y="656"/>
                    </a:lnTo>
                    <a:lnTo>
                      <a:pt x="2921" y="682"/>
                    </a:lnTo>
                    <a:lnTo>
                      <a:pt x="2934" y="706"/>
                    </a:lnTo>
                    <a:lnTo>
                      <a:pt x="2944" y="727"/>
                    </a:lnTo>
                    <a:lnTo>
                      <a:pt x="2957" y="754"/>
                    </a:lnTo>
                    <a:lnTo>
                      <a:pt x="2961" y="763"/>
                    </a:lnTo>
                    <a:lnTo>
                      <a:pt x="2964" y="753"/>
                    </a:lnTo>
                    <a:lnTo>
                      <a:pt x="2973" y="727"/>
                    </a:lnTo>
                    <a:lnTo>
                      <a:pt x="2980" y="708"/>
                    </a:lnTo>
                    <a:lnTo>
                      <a:pt x="2989" y="688"/>
                    </a:lnTo>
                    <a:lnTo>
                      <a:pt x="3000" y="666"/>
                    </a:lnTo>
                    <a:lnTo>
                      <a:pt x="3012" y="644"/>
                    </a:lnTo>
                    <a:lnTo>
                      <a:pt x="3028" y="620"/>
                    </a:lnTo>
                    <a:lnTo>
                      <a:pt x="3045" y="597"/>
                    </a:lnTo>
                    <a:lnTo>
                      <a:pt x="3055" y="586"/>
                    </a:lnTo>
                    <a:lnTo>
                      <a:pt x="3066" y="576"/>
                    </a:lnTo>
                    <a:lnTo>
                      <a:pt x="3077" y="565"/>
                    </a:lnTo>
                    <a:lnTo>
                      <a:pt x="3088" y="555"/>
                    </a:lnTo>
                    <a:lnTo>
                      <a:pt x="3101" y="546"/>
                    </a:lnTo>
                    <a:lnTo>
                      <a:pt x="3114" y="537"/>
                    </a:lnTo>
                    <a:lnTo>
                      <a:pt x="3128" y="529"/>
                    </a:lnTo>
                    <a:lnTo>
                      <a:pt x="3143" y="522"/>
                    </a:lnTo>
                    <a:lnTo>
                      <a:pt x="3159" y="515"/>
                    </a:lnTo>
                    <a:lnTo>
                      <a:pt x="3174" y="510"/>
                    </a:lnTo>
                    <a:lnTo>
                      <a:pt x="3191" y="506"/>
                    </a:lnTo>
                    <a:lnTo>
                      <a:pt x="3208" y="503"/>
                    </a:lnTo>
                    <a:lnTo>
                      <a:pt x="3227" y="502"/>
                    </a:lnTo>
                    <a:lnTo>
                      <a:pt x="3242" y="502"/>
                    </a:lnTo>
                    <a:lnTo>
                      <a:pt x="3258" y="503"/>
                    </a:lnTo>
                    <a:lnTo>
                      <a:pt x="3273" y="506"/>
                    </a:lnTo>
                    <a:lnTo>
                      <a:pt x="3288" y="510"/>
                    </a:lnTo>
                    <a:lnTo>
                      <a:pt x="3300" y="515"/>
                    </a:lnTo>
                    <a:lnTo>
                      <a:pt x="3314" y="522"/>
                    </a:lnTo>
                    <a:lnTo>
                      <a:pt x="3325" y="529"/>
                    </a:lnTo>
                    <a:lnTo>
                      <a:pt x="3338" y="538"/>
                    </a:lnTo>
                    <a:lnTo>
                      <a:pt x="3348" y="547"/>
                    </a:lnTo>
                    <a:lnTo>
                      <a:pt x="3358" y="556"/>
                    </a:lnTo>
                    <a:lnTo>
                      <a:pt x="3368" y="567"/>
                    </a:lnTo>
                    <a:lnTo>
                      <a:pt x="3385" y="589"/>
                    </a:lnTo>
                    <a:lnTo>
                      <a:pt x="3400" y="612"/>
                    </a:lnTo>
                    <a:lnTo>
                      <a:pt x="3412" y="635"/>
                    </a:lnTo>
                    <a:lnTo>
                      <a:pt x="3424" y="657"/>
                    </a:lnTo>
                    <a:lnTo>
                      <a:pt x="3432" y="679"/>
                    </a:lnTo>
                    <a:lnTo>
                      <a:pt x="3440" y="698"/>
                    </a:lnTo>
                    <a:lnTo>
                      <a:pt x="3448" y="728"/>
                    </a:lnTo>
                    <a:lnTo>
                      <a:pt x="3451" y="739"/>
                    </a:lnTo>
                    <a:lnTo>
                      <a:pt x="3440" y="741"/>
                    </a:lnTo>
                    <a:lnTo>
                      <a:pt x="3411" y="753"/>
                    </a:lnTo>
                    <a:lnTo>
                      <a:pt x="3393" y="763"/>
                    </a:lnTo>
                    <a:lnTo>
                      <a:pt x="3375" y="775"/>
                    </a:lnTo>
                    <a:lnTo>
                      <a:pt x="3365" y="783"/>
                    </a:lnTo>
                    <a:lnTo>
                      <a:pt x="3356" y="792"/>
                    </a:lnTo>
                    <a:lnTo>
                      <a:pt x="3347" y="801"/>
                    </a:lnTo>
                    <a:lnTo>
                      <a:pt x="3339" y="813"/>
                    </a:lnTo>
                    <a:lnTo>
                      <a:pt x="3331" y="824"/>
                    </a:lnTo>
                    <a:lnTo>
                      <a:pt x="3323" y="838"/>
                    </a:lnTo>
                    <a:lnTo>
                      <a:pt x="3316" y="853"/>
                    </a:lnTo>
                    <a:lnTo>
                      <a:pt x="3312" y="868"/>
                    </a:lnTo>
                    <a:lnTo>
                      <a:pt x="3307" y="885"/>
                    </a:lnTo>
                    <a:lnTo>
                      <a:pt x="3304" y="904"/>
                    </a:lnTo>
                    <a:lnTo>
                      <a:pt x="3301" y="923"/>
                    </a:lnTo>
                    <a:lnTo>
                      <a:pt x="3301" y="944"/>
                    </a:lnTo>
                    <a:lnTo>
                      <a:pt x="3303" y="967"/>
                    </a:lnTo>
                    <a:lnTo>
                      <a:pt x="3306" y="992"/>
                    </a:lnTo>
                    <a:lnTo>
                      <a:pt x="3310" y="1018"/>
                    </a:lnTo>
                    <a:lnTo>
                      <a:pt x="3318" y="1045"/>
                    </a:lnTo>
                    <a:lnTo>
                      <a:pt x="3327" y="1075"/>
                    </a:lnTo>
                    <a:lnTo>
                      <a:pt x="3339" y="1107"/>
                    </a:lnTo>
                    <a:lnTo>
                      <a:pt x="3352" y="1140"/>
                    </a:lnTo>
                    <a:lnTo>
                      <a:pt x="3369" y="1175"/>
                    </a:lnTo>
                    <a:close/>
                  </a:path>
                </a:pathLst>
              </a:custGeom>
              <a:solidFill>
                <a:srgbClr val="996633"/>
              </a:solidFill>
              <a:ln w="0">
                <a:noFill/>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5" name=""/>
              <p:cNvSpPr/>
              <p:nvPr/>
            </p:nvSpPr>
            <p:spPr>
              <a:xfrm>
                <a:off x="4676400" y="1615680"/>
                <a:ext cx="843120" cy="561600"/>
              </a:xfrm>
              <a:custGeom>
                <a:avLst/>
                <a:gdLst/>
                <a:ahLst/>
                <a:rect l="l" t="t" r="r" b="b"/>
                <a:pathLst>
                  <a:path w="3786" h="3046">
                    <a:moveTo>
                      <a:pt x="3369" y="1175"/>
                    </a:moveTo>
                    <a:lnTo>
                      <a:pt x="3376" y="1183"/>
                    </a:lnTo>
                    <a:lnTo>
                      <a:pt x="3383" y="1191"/>
                    </a:lnTo>
                    <a:lnTo>
                      <a:pt x="3392" y="1196"/>
                    </a:lnTo>
                    <a:lnTo>
                      <a:pt x="3401" y="1203"/>
                    </a:lnTo>
                    <a:lnTo>
                      <a:pt x="3410" y="1208"/>
                    </a:lnTo>
                    <a:lnTo>
                      <a:pt x="3420" y="1212"/>
                    </a:lnTo>
                    <a:lnTo>
                      <a:pt x="3431" y="1216"/>
                    </a:lnTo>
                    <a:lnTo>
                      <a:pt x="3441" y="1218"/>
                    </a:lnTo>
                    <a:lnTo>
                      <a:pt x="3463" y="1222"/>
                    </a:lnTo>
                    <a:lnTo>
                      <a:pt x="3486" y="1225"/>
                    </a:lnTo>
                    <a:lnTo>
                      <a:pt x="3509" y="1225"/>
                    </a:lnTo>
                    <a:lnTo>
                      <a:pt x="3531" y="1224"/>
                    </a:lnTo>
                    <a:lnTo>
                      <a:pt x="3553" y="1221"/>
                    </a:lnTo>
                    <a:lnTo>
                      <a:pt x="3573" y="1218"/>
                    </a:lnTo>
                    <a:lnTo>
                      <a:pt x="3592" y="1215"/>
                    </a:lnTo>
                    <a:lnTo>
                      <a:pt x="3609" y="1211"/>
                    </a:lnTo>
                    <a:lnTo>
                      <a:pt x="3632" y="1204"/>
                    </a:lnTo>
                    <a:lnTo>
                      <a:pt x="3641" y="1202"/>
                    </a:lnTo>
                    <a:lnTo>
                      <a:pt x="3649" y="1213"/>
                    </a:lnTo>
                    <a:lnTo>
                      <a:pt x="3670" y="1244"/>
                    </a:lnTo>
                    <a:lnTo>
                      <a:pt x="3698" y="1288"/>
                    </a:lnTo>
                    <a:lnTo>
                      <a:pt x="3729" y="1339"/>
                    </a:lnTo>
                    <a:lnTo>
                      <a:pt x="3743" y="1367"/>
                    </a:lnTo>
                    <a:lnTo>
                      <a:pt x="3756" y="1393"/>
                    </a:lnTo>
                    <a:lnTo>
                      <a:pt x="3766" y="1418"/>
                    </a:lnTo>
                    <a:lnTo>
                      <a:pt x="3774" y="1440"/>
                    </a:lnTo>
                    <a:lnTo>
                      <a:pt x="3776" y="1451"/>
                    </a:lnTo>
                    <a:lnTo>
                      <a:pt x="3777" y="1461"/>
                    </a:lnTo>
                    <a:lnTo>
                      <a:pt x="3778" y="1470"/>
                    </a:lnTo>
                    <a:lnTo>
                      <a:pt x="3777" y="1478"/>
                    </a:lnTo>
                    <a:lnTo>
                      <a:pt x="3775" y="1485"/>
                    </a:lnTo>
                    <a:lnTo>
                      <a:pt x="3773" y="1490"/>
                    </a:lnTo>
                    <a:lnTo>
                      <a:pt x="3768" y="1495"/>
                    </a:lnTo>
                    <a:lnTo>
                      <a:pt x="3761" y="1498"/>
                    </a:lnTo>
                    <a:lnTo>
                      <a:pt x="3763" y="1528"/>
                    </a:lnTo>
                    <a:lnTo>
                      <a:pt x="3766" y="1607"/>
                    </a:lnTo>
                    <a:lnTo>
                      <a:pt x="3769" y="1721"/>
                    </a:lnTo>
                    <a:lnTo>
                      <a:pt x="3774" y="1855"/>
                    </a:lnTo>
                    <a:lnTo>
                      <a:pt x="3778" y="1993"/>
                    </a:lnTo>
                    <a:lnTo>
                      <a:pt x="3783" y="2122"/>
                    </a:lnTo>
                    <a:lnTo>
                      <a:pt x="3785" y="2227"/>
                    </a:lnTo>
                    <a:lnTo>
                      <a:pt x="3786" y="2293"/>
                    </a:lnTo>
                    <a:lnTo>
                      <a:pt x="3786" y="2301"/>
                    </a:lnTo>
                    <a:lnTo>
                      <a:pt x="3784" y="2304"/>
                    </a:lnTo>
                    <a:lnTo>
                      <a:pt x="3782" y="2303"/>
                    </a:lnTo>
                    <a:lnTo>
                      <a:pt x="3780" y="2298"/>
                    </a:lnTo>
                    <a:lnTo>
                      <a:pt x="3771" y="2278"/>
                    </a:lnTo>
                    <a:lnTo>
                      <a:pt x="3758" y="2246"/>
                    </a:lnTo>
                    <a:lnTo>
                      <a:pt x="3729" y="2154"/>
                    </a:lnTo>
                    <a:lnTo>
                      <a:pt x="3693" y="2043"/>
                    </a:lnTo>
                    <a:lnTo>
                      <a:pt x="3674" y="1985"/>
                    </a:lnTo>
                    <a:lnTo>
                      <a:pt x="3655" y="1930"/>
                    </a:lnTo>
                    <a:lnTo>
                      <a:pt x="3636" y="1878"/>
                    </a:lnTo>
                    <a:lnTo>
                      <a:pt x="3618" y="1834"/>
                    </a:lnTo>
                    <a:lnTo>
                      <a:pt x="3609" y="1815"/>
                    </a:lnTo>
                    <a:lnTo>
                      <a:pt x="3601" y="1799"/>
                    </a:lnTo>
                    <a:lnTo>
                      <a:pt x="3593" y="1785"/>
                    </a:lnTo>
                    <a:lnTo>
                      <a:pt x="3585" y="1775"/>
                    </a:lnTo>
                    <a:lnTo>
                      <a:pt x="3578" y="1768"/>
                    </a:lnTo>
                    <a:lnTo>
                      <a:pt x="3571" y="1765"/>
                    </a:lnTo>
                    <a:lnTo>
                      <a:pt x="3564" y="1765"/>
                    </a:lnTo>
                    <a:lnTo>
                      <a:pt x="3560" y="1771"/>
                    </a:lnTo>
                    <a:lnTo>
                      <a:pt x="3554" y="1779"/>
                    </a:lnTo>
                    <a:lnTo>
                      <a:pt x="3551" y="1788"/>
                    </a:lnTo>
                    <a:lnTo>
                      <a:pt x="3547" y="1797"/>
                    </a:lnTo>
                    <a:lnTo>
                      <a:pt x="3545" y="1806"/>
                    </a:lnTo>
                    <a:lnTo>
                      <a:pt x="3542" y="1826"/>
                    </a:lnTo>
                    <a:lnTo>
                      <a:pt x="3541" y="1848"/>
                    </a:lnTo>
                    <a:lnTo>
                      <a:pt x="3542" y="1869"/>
                    </a:lnTo>
                    <a:lnTo>
                      <a:pt x="3544" y="1892"/>
                    </a:lnTo>
                    <a:lnTo>
                      <a:pt x="3547" y="1915"/>
                    </a:lnTo>
                    <a:lnTo>
                      <a:pt x="3552" y="1937"/>
                    </a:lnTo>
                    <a:lnTo>
                      <a:pt x="3563" y="1978"/>
                    </a:lnTo>
                    <a:lnTo>
                      <a:pt x="3575" y="2012"/>
                    </a:lnTo>
                    <a:lnTo>
                      <a:pt x="3584" y="2035"/>
                    </a:lnTo>
                    <a:lnTo>
                      <a:pt x="3587" y="2043"/>
                    </a:lnTo>
                    <a:lnTo>
                      <a:pt x="3465" y="2865"/>
                    </a:lnTo>
                    <a:lnTo>
                      <a:pt x="3457" y="2834"/>
                    </a:lnTo>
                    <a:lnTo>
                      <a:pt x="3436" y="2756"/>
                    </a:lnTo>
                    <a:lnTo>
                      <a:pt x="3420" y="2703"/>
                    </a:lnTo>
                    <a:lnTo>
                      <a:pt x="3403" y="2646"/>
                    </a:lnTo>
                    <a:lnTo>
                      <a:pt x="3382" y="2584"/>
                    </a:lnTo>
                    <a:lnTo>
                      <a:pt x="3359" y="2521"/>
                    </a:lnTo>
                    <a:lnTo>
                      <a:pt x="3347" y="2489"/>
                    </a:lnTo>
                    <a:lnTo>
                      <a:pt x="3334" y="2458"/>
                    </a:lnTo>
                    <a:lnTo>
                      <a:pt x="3321" y="2428"/>
                    </a:lnTo>
                    <a:lnTo>
                      <a:pt x="3307" y="2399"/>
                    </a:lnTo>
                    <a:lnTo>
                      <a:pt x="3292" y="2371"/>
                    </a:lnTo>
                    <a:lnTo>
                      <a:pt x="3278" y="2344"/>
                    </a:lnTo>
                    <a:lnTo>
                      <a:pt x="3262" y="2319"/>
                    </a:lnTo>
                    <a:lnTo>
                      <a:pt x="3247" y="2296"/>
                    </a:lnTo>
                    <a:lnTo>
                      <a:pt x="3231" y="2276"/>
                    </a:lnTo>
                    <a:lnTo>
                      <a:pt x="3214" y="2257"/>
                    </a:lnTo>
                    <a:lnTo>
                      <a:pt x="3198" y="2243"/>
                    </a:lnTo>
                    <a:lnTo>
                      <a:pt x="3181" y="2230"/>
                    </a:lnTo>
                    <a:lnTo>
                      <a:pt x="3164" y="2221"/>
                    </a:lnTo>
                    <a:lnTo>
                      <a:pt x="3146" y="2217"/>
                    </a:lnTo>
                    <a:lnTo>
                      <a:pt x="3129" y="2215"/>
                    </a:lnTo>
                    <a:lnTo>
                      <a:pt x="3111" y="2218"/>
                    </a:lnTo>
                    <a:lnTo>
                      <a:pt x="3077" y="2228"/>
                    </a:lnTo>
                    <a:lnTo>
                      <a:pt x="3048" y="2238"/>
                    </a:lnTo>
                    <a:lnTo>
                      <a:pt x="3021" y="2247"/>
                    </a:lnTo>
                    <a:lnTo>
                      <a:pt x="2999" y="2256"/>
                    </a:lnTo>
                    <a:lnTo>
                      <a:pt x="2980" y="2265"/>
                    </a:lnTo>
                    <a:lnTo>
                      <a:pt x="2963" y="2273"/>
                    </a:lnTo>
                    <a:lnTo>
                      <a:pt x="2949" y="2280"/>
                    </a:lnTo>
                    <a:lnTo>
                      <a:pt x="2938" y="2287"/>
                    </a:lnTo>
                    <a:lnTo>
                      <a:pt x="2921" y="2299"/>
                    </a:lnTo>
                    <a:lnTo>
                      <a:pt x="2912" y="2307"/>
                    </a:lnTo>
                    <a:lnTo>
                      <a:pt x="2908" y="2313"/>
                    </a:lnTo>
                    <a:lnTo>
                      <a:pt x="2907" y="2315"/>
                    </a:lnTo>
                    <a:lnTo>
                      <a:pt x="2689" y="2261"/>
                    </a:lnTo>
                    <a:lnTo>
                      <a:pt x="2680" y="1867"/>
                    </a:lnTo>
                    <a:lnTo>
                      <a:pt x="2679" y="1864"/>
                    </a:lnTo>
                    <a:lnTo>
                      <a:pt x="2677" y="1855"/>
                    </a:lnTo>
                    <a:lnTo>
                      <a:pt x="2669" y="1839"/>
                    </a:lnTo>
                    <a:lnTo>
                      <a:pt x="2654" y="1815"/>
                    </a:lnTo>
                    <a:lnTo>
                      <a:pt x="2644" y="1800"/>
                    </a:lnTo>
                    <a:lnTo>
                      <a:pt x="2632" y="1783"/>
                    </a:lnTo>
                    <a:lnTo>
                      <a:pt x="2616" y="1765"/>
                    </a:lnTo>
                    <a:lnTo>
                      <a:pt x="2597" y="1743"/>
                    </a:lnTo>
                    <a:lnTo>
                      <a:pt x="2575" y="1721"/>
                    </a:lnTo>
                    <a:lnTo>
                      <a:pt x="2549" y="1696"/>
                    </a:lnTo>
                    <a:lnTo>
                      <a:pt x="2519" y="1667"/>
                    </a:lnTo>
                    <a:lnTo>
                      <a:pt x="2487" y="1638"/>
                    </a:lnTo>
                    <a:lnTo>
                      <a:pt x="2482" y="1642"/>
                    </a:lnTo>
                    <a:lnTo>
                      <a:pt x="2466" y="1656"/>
                    </a:lnTo>
                    <a:lnTo>
                      <a:pt x="2453" y="1666"/>
                    </a:lnTo>
                    <a:lnTo>
                      <a:pt x="2434" y="1676"/>
                    </a:lnTo>
                    <a:lnTo>
                      <a:pt x="2411" y="1689"/>
                    </a:lnTo>
                    <a:lnTo>
                      <a:pt x="2381" y="1701"/>
                    </a:lnTo>
                    <a:lnTo>
                      <a:pt x="2345" y="1715"/>
                    </a:lnTo>
                    <a:lnTo>
                      <a:pt x="2303" y="1730"/>
                    </a:lnTo>
                    <a:lnTo>
                      <a:pt x="2253" y="1743"/>
                    </a:lnTo>
                    <a:lnTo>
                      <a:pt x="2195" y="1757"/>
                    </a:lnTo>
                    <a:lnTo>
                      <a:pt x="2128" y="1771"/>
                    </a:lnTo>
                    <a:lnTo>
                      <a:pt x="2053" y="1784"/>
                    </a:lnTo>
                    <a:lnTo>
                      <a:pt x="2011" y="1790"/>
                    </a:lnTo>
                    <a:lnTo>
                      <a:pt x="1966" y="1796"/>
                    </a:lnTo>
                    <a:lnTo>
                      <a:pt x="1920" y="1801"/>
                    </a:lnTo>
                    <a:lnTo>
                      <a:pt x="1870" y="1807"/>
                    </a:lnTo>
                    <a:lnTo>
                      <a:pt x="1859" y="1798"/>
                    </a:lnTo>
                    <a:lnTo>
                      <a:pt x="1829" y="1772"/>
                    </a:lnTo>
                    <a:lnTo>
                      <a:pt x="1810" y="1754"/>
                    </a:lnTo>
                    <a:lnTo>
                      <a:pt x="1787" y="1733"/>
                    </a:lnTo>
                    <a:lnTo>
                      <a:pt x="1765" y="1709"/>
                    </a:lnTo>
                    <a:lnTo>
                      <a:pt x="1741" y="1683"/>
                    </a:lnTo>
                    <a:lnTo>
                      <a:pt x="1717" y="1655"/>
                    </a:lnTo>
                    <a:lnTo>
                      <a:pt x="1694" y="1625"/>
                    </a:lnTo>
                    <a:lnTo>
                      <a:pt x="1684" y="1611"/>
                    </a:lnTo>
                    <a:lnTo>
                      <a:pt x="1674" y="1595"/>
                    </a:lnTo>
                    <a:lnTo>
                      <a:pt x="1665" y="1580"/>
                    </a:lnTo>
                    <a:lnTo>
                      <a:pt x="1657" y="1564"/>
                    </a:lnTo>
                    <a:lnTo>
                      <a:pt x="1649" y="1548"/>
                    </a:lnTo>
                    <a:lnTo>
                      <a:pt x="1642" y="1532"/>
                    </a:lnTo>
                    <a:lnTo>
                      <a:pt x="1638" y="1516"/>
                    </a:lnTo>
                    <a:lnTo>
                      <a:pt x="1633" y="1501"/>
                    </a:lnTo>
                    <a:lnTo>
                      <a:pt x="1630" y="1485"/>
                    </a:lnTo>
                    <a:lnTo>
                      <a:pt x="1629" y="1470"/>
                    </a:lnTo>
                    <a:lnTo>
                      <a:pt x="1629" y="1454"/>
                    </a:lnTo>
                    <a:lnTo>
                      <a:pt x="1630" y="1439"/>
                    </a:lnTo>
                    <a:lnTo>
                      <a:pt x="1636" y="1411"/>
                    </a:lnTo>
                    <a:lnTo>
                      <a:pt x="1641" y="1389"/>
                    </a:lnTo>
                    <a:lnTo>
                      <a:pt x="1648" y="1372"/>
                    </a:lnTo>
                    <a:lnTo>
                      <a:pt x="1654" y="1361"/>
                    </a:lnTo>
                    <a:lnTo>
                      <a:pt x="1662" y="1352"/>
                    </a:lnTo>
                    <a:lnTo>
                      <a:pt x="1658" y="1355"/>
                    </a:lnTo>
                    <a:lnTo>
                      <a:pt x="1651" y="1361"/>
                    </a:lnTo>
                    <a:lnTo>
                      <a:pt x="1640" y="1368"/>
                    </a:lnTo>
                    <a:lnTo>
                      <a:pt x="1624" y="1376"/>
                    </a:lnTo>
                    <a:lnTo>
                      <a:pt x="1602" y="1385"/>
                    </a:lnTo>
                    <a:lnTo>
                      <a:pt x="1573" y="1394"/>
                    </a:lnTo>
                    <a:lnTo>
                      <a:pt x="1537" y="1403"/>
                    </a:lnTo>
                    <a:lnTo>
                      <a:pt x="1517" y="1407"/>
                    </a:lnTo>
                    <a:lnTo>
                      <a:pt x="1494" y="1411"/>
                    </a:lnTo>
                    <a:lnTo>
                      <a:pt x="1468" y="1414"/>
                    </a:lnTo>
                    <a:lnTo>
                      <a:pt x="1441" y="1417"/>
                    </a:lnTo>
                    <a:lnTo>
                      <a:pt x="1416" y="1418"/>
                    </a:lnTo>
                    <a:lnTo>
                      <a:pt x="1396" y="1418"/>
                    </a:lnTo>
                    <a:lnTo>
                      <a:pt x="1383" y="1415"/>
                    </a:lnTo>
                    <a:lnTo>
                      <a:pt x="1373" y="1411"/>
                    </a:lnTo>
                    <a:lnTo>
                      <a:pt x="1368" y="1405"/>
                    </a:lnTo>
                    <a:lnTo>
                      <a:pt x="1368" y="1397"/>
                    </a:lnTo>
                    <a:lnTo>
                      <a:pt x="1371" y="1389"/>
                    </a:lnTo>
                    <a:lnTo>
                      <a:pt x="1378" y="1379"/>
                    </a:lnTo>
                    <a:lnTo>
                      <a:pt x="1387" y="1369"/>
                    </a:lnTo>
                    <a:lnTo>
                      <a:pt x="1400" y="1358"/>
                    </a:lnTo>
                    <a:lnTo>
                      <a:pt x="1415" y="1345"/>
                    </a:lnTo>
                    <a:lnTo>
                      <a:pt x="1432" y="1331"/>
                    </a:lnTo>
                    <a:lnTo>
                      <a:pt x="1470" y="1304"/>
                    </a:lnTo>
                    <a:lnTo>
                      <a:pt x="1512" y="1277"/>
                    </a:lnTo>
                    <a:lnTo>
                      <a:pt x="1596" y="1225"/>
                    </a:lnTo>
                    <a:lnTo>
                      <a:pt x="1659" y="1184"/>
                    </a:lnTo>
                    <a:lnTo>
                      <a:pt x="1670" y="1177"/>
                    </a:lnTo>
                    <a:lnTo>
                      <a:pt x="1676" y="1170"/>
                    </a:lnTo>
                    <a:lnTo>
                      <a:pt x="1679" y="1167"/>
                    </a:lnTo>
                    <a:lnTo>
                      <a:pt x="1679" y="1165"/>
                    </a:lnTo>
                    <a:lnTo>
                      <a:pt x="1674" y="1163"/>
                    </a:lnTo>
                    <a:lnTo>
                      <a:pt x="1665" y="1165"/>
                    </a:lnTo>
                    <a:lnTo>
                      <a:pt x="1651" y="1169"/>
                    </a:lnTo>
                    <a:lnTo>
                      <a:pt x="1631" y="1175"/>
                    </a:lnTo>
                    <a:lnTo>
                      <a:pt x="1587" y="1188"/>
                    </a:lnTo>
                    <a:lnTo>
                      <a:pt x="1544" y="1199"/>
                    </a:lnTo>
                    <a:lnTo>
                      <a:pt x="1504" y="1208"/>
                    </a:lnTo>
                    <a:lnTo>
                      <a:pt x="1464" y="1213"/>
                    </a:lnTo>
                    <a:lnTo>
                      <a:pt x="1428" y="1218"/>
                    </a:lnTo>
                    <a:lnTo>
                      <a:pt x="1394" y="1221"/>
                    </a:lnTo>
                    <a:lnTo>
                      <a:pt x="1361" y="1221"/>
                    </a:lnTo>
                    <a:lnTo>
                      <a:pt x="1331" y="1221"/>
                    </a:lnTo>
                    <a:lnTo>
                      <a:pt x="1302" y="1220"/>
                    </a:lnTo>
                    <a:lnTo>
                      <a:pt x="1276" y="1217"/>
                    </a:lnTo>
                    <a:lnTo>
                      <a:pt x="1252" y="1213"/>
                    </a:lnTo>
                    <a:lnTo>
                      <a:pt x="1230" y="1210"/>
                    </a:lnTo>
                    <a:lnTo>
                      <a:pt x="1192" y="1201"/>
                    </a:lnTo>
                    <a:lnTo>
                      <a:pt x="1163" y="1192"/>
                    </a:lnTo>
                    <a:lnTo>
                      <a:pt x="1144" y="1185"/>
                    </a:lnTo>
                    <a:lnTo>
                      <a:pt x="1131" y="1180"/>
                    </a:lnTo>
                    <a:lnTo>
                      <a:pt x="1129" y="1179"/>
                    </a:lnTo>
                    <a:lnTo>
                      <a:pt x="1129" y="1180"/>
                    </a:lnTo>
                    <a:lnTo>
                      <a:pt x="1131" y="1183"/>
                    </a:lnTo>
                    <a:lnTo>
                      <a:pt x="1136" y="1187"/>
                    </a:lnTo>
                    <a:lnTo>
                      <a:pt x="1152" y="1202"/>
                    </a:lnTo>
                    <a:lnTo>
                      <a:pt x="1177" y="1226"/>
                    </a:lnTo>
                    <a:lnTo>
                      <a:pt x="1211" y="1260"/>
                    </a:lnTo>
                    <a:lnTo>
                      <a:pt x="1254" y="1308"/>
                    </a:lnTo>
                    <a:lnTo>
                      <a:pt x="1277" y="1336"/>
                    </a:lnTo>
                    <a:lnTo>
                      <a:pt x="1299" y="1362"/>
                    </a:lnTo>
                    <a:lnTo>
                      <a:pt x="1316" y="1386"/>
                    </a:lnTo>
                    <a:lnTo>
                      <a:pt x="1330" y="1409"/>
                    </a:lnTo>
                    <a:lnTo>
                      <a:pt x="1342" y="1430"/>
                    </a:lnTo>
                    <a:lnTo>
                      <a:pt x="1350" y="1449"/>
                    </a:lnTo>
                    <a:lnTo>
                      <a:pt x="1356" y="1466"/>
                    </a:lnTo>
                    <a:lnTo>
                      <a:pt x="1359" y="1482"/>
                    </a:lnTo>
                    <a:lnTo>
                      <a:pt x="1360" y="1496"/>
                    </a:lnTo>
                    <a:lnTo>
                      <a:pt x="1360" y="1508"/>
                    </a:lnTo>
                    <a:lnTo>
                      <a:pt x="1357" y="1519"/>
                    </a:lnTo>
                    <a:lnTo>
                      <a:pt x="1351" y="1528"/>
                    </a:lnTo>
                    <a:lnTo>
                      <a:pt x="1345" y="1535"/>
                    </a:lnTo>
                    <a:lnTo>
                      <a:pt x="1336" y="1539"/>
                    </a:lnTo>
                    <a:lnTo>
                      <a:pt x="1327" y="1543"/>
                    </a:lnTo>
                    <a:lnTo>
                      <a:pt x="1316" y="1545"/>
                    </a:lnTo>
                    <a:lnTo>
                      <a:pt x="1303" y="1545"/>
                    </a:lnTo>
                    <a:lnTo>
                      <a:pt x="1291" y="1543"/>
                    </a:lnTo>
                    <a:lnTo>
                      <a:pt x="1277" y="1539"/>
                    </a:lnTo>
                    <a:lnTo>
                      <a:pt x="1263" y="1533"/>
                    </a:lnTo>
                    <a:lnTo>
                      <a:pt x="1247" y="1527"/>
                    </a:lnTo>
                    <a:lnTo>
                      <a:pt x="1232" y="1518"/>
                    </a:lnTo>
                    <a:lnTo>
                      <a:pt x="1216" y="1507"/>
                    </a:lnTo>
                    <a:lnTo>
                      <a:pt x="1200" y="1495"/>
                    </a:lnTo>
                    <a:lnTo>
                      <a:pt x="1184" y="1481"/>
                    </a:lnTo>
                    <a:lnTo>
                      <a:pt x="1169" y="1465"/>
                    </a:lnTo>
                    <a:lnTo>
                      <a:pt x="1153" y="1448"/>
                    </a:lnTo>
                    <a:lnTo>
                      <a:pt x="1138" y="1429"/>
                    </a:lnTo>
                    <a:lnTo>
                      <a:pt x="1124" y="1407"/>
                    </a:lnTo>
                    <a:lnTo>
                      <a:pt x="1111" y="1385"/>
                    </a:lnTo>
                    <a:lnTo>
                      <a:pt x="1098" y="1361"/>
                    </a:lnTo>
                    <a:lnTo>
                      <a:pt x="1087" y="1335"/>
                    </a:lnTo>
                    <a:lnTo>
                      <a:pt x="1080" y="1319"/>
                    </a:lnTo>
                    <a:lnTo>
                      <a:pt x="1075" y="1308"/>
                    </a:lnTo>
                    <a:lnTo>
                      <a:pt x="1070" y="1304"/>
                    </a:lnTo>
                    <a:lnTo>
                      <a:pt x="1067" y="1304"/>
                    </a:lnTo>
                    <a:lnTo>
                      <a:pt x="1064" y="1310"/>
                    </a:lnTo>
                    <a:lnTo>
                      <a:pt x="1062" y="1320"/>
                    </a:lnTo>
                    <a:lnTo>
                      <a:pt x="1061" y="1335"/>
                    </a:lnTo>
                    <a:lnTo>
                      <a:pt x="1061" y="1352"/>
                    </a:lnTo>
                    <a:lnTo>
                      <a:pt x="1061" y="1448"/>
                    </a:lnTo>
                    <a:lnTo>
                      <a:pt x="1060" y="1561"/>
                    </a:lnTo>
                    <a:lnTo>
                      <a:pt x="1059" y="1588"/>
                    </a:lnTo>
                    <a:lnTo>
                      <a:pt x="1056" y="1615"/>
                    </a:lnTo>
                    <a:lnTo>
                      <a:pt x="1053" y="1639"/>
                    </a:lnTo>
                    <a:lnTo>
                      <a:pt x="1050" y="1662"/>
                    </a:lnTo>
                    <a:lnTo>
                      <a:pt x="1044" y="1681"/>
                    </a:lnTo>
                    <a:lnTo>
                      <a:pt x="1037" y="1697"/>
                    </a:lnTo>
                    <a:lnTo>
                      <a:pt x="1029" y="1710"/>
                    </a:lnTo>
                    <a:lnTo>
                      <a:pt x="1020" y="1718"/>
                    </a:lnTo>
                    <a:lnTo>
                      <a:pt x="1009" y="1723"/>
                    </a:lnTo>
                    <a:lnTo>
                      <a:pt x="996" y="1722"/>
                    </a:lnTo>
                    <a:lnTo>
                      <a:pt x="981" y="1715"/>
                    </a:lnTo>
                    <a:lnTo>
                      <a:pt x="964" y="1703"/>
                    </a:lnTo>
                    <a:lnTo>
                      <a:pt x="945" y="1683"/>
                    </a:lnTo>
                    <a:lnTo>
                      <a:pt x="924" y="1657"/>
                    </a:lnTo>
                    <a:lnTo>
                      <a:pt x="900" y="1624"/>
                    </a:lnTo>
                    <a:lnTo>
                      <a:pt x="873" y="1583"/>
                    </a:lnTo>
                    <a:lnTo>
                      <a:pt x="864" y="1569"/>
                    </a:lnTo>
                    <a:lnTo>
                      <a:pt x="857" y="1558"/>
                    </a:lnTo>
                    <a:lnTo>
                      <a:pt x="851" y="1552"/>
                    </a:lnTo>
                    <a:lnTo>
                      <a:pt x="849" y="1549"/>
                    </a:lnTo>
                    <a:lnTo>
                      <a:pt x="847" y="1550"/>
                    </a:lnTo>
                    <a:lnTo>
                      <a:pt x="848" y="1555"/>
                    </a:lnTo>
                    <a:lnTo>
                      <a:pt x="849" y="1562"/>
                    </a:lnTo>
                    <a:lnTo>
                      <a:pt x="852" y="1572"/>
                    </a:lnTo>
                    <a:lnTo>
                      <a:pt x="862" y="1598"/>
                    </a:lnTo>
                    <a:lnTo>
                      <a:pt x="876" y="1633"/>
                    </a:lnTo>
                    <a:lnTo>
                      <a:pt x="893" y="1674"/>
                    </a:lnTo>
                    <a:lnTo>
                      <a:pt x="913" y="1720"/>
                    </a:lnTo>
                    <a:lnTo>
                      <a:pt x="953" y="1814"/>
                    </a:lnTo>
                    <a:lnTo>
                      <a:pt x="993" y="1900"/>
                    </a:lnTo>
                    <a:lnTo>
                      <a:pt x="1021" y="1964"/>
                    </a:lnTo>
                    <a:lnTo>
                      <a:pt x="1034" y="1989"/>
                    </a:lnTo>
                    <a:lnTo>
                      <a:pt x="1022" y="1978"/>
                    </a:lnTo>
                    <a:lnTo>
                      <a:pt x="996" y="1953"/>
                    </a:lnTo>
                    <a:lnTo>
                      <a:pt x="978" y="1936"/>
                    </a:lnTo>
                    <a:lnTo>
                      <a:pt x="958" y="1919"/>
                    </a:lnTo>
                    <a:lnTo>
                      <a:pt x="937" y="1902"/>
                    </a:lnTo>
                    <a:lnTo>
                      <a:pt x="916" y="1886"/>
                    </a:lnTo>
                    <a:lnTo>
                      <a:pt x="894" y="1873"/>
                    </a:lnTo>
                    <a:lnTo>
                      <a:pt x="875" y="1861"/>
                    </a:lnTo>
                    <a:lnTo>
                      <a:pt x="865" y="1857"/>
                    </a:lnTo>
                    <a:lnTo>
                      <a:pt x="856" y="1853"/>
                    </a:lnTo>
                    <a:lnTo>
                      <a:pt x="848" y="1851"/>
                    </a:lnTo>
                    <a:lnTo>
                      <a:pt x="841" y="1851"/>
                    </a:lnTo>
                    <a:lnTo>
                      <a:pt x="834" y="1851"/>
                    </a:lnTo>
                    <a:lnTo>
                      <a:pt x="829" y="1853"/>
                    </a:lnTo>
                    <a:lnTo>
                      <a:pt x="824" y="1858"/>
                    </a:lnTo>
                    <a:lnTo>
                      <a:pt x="820" y="1864"/>
                    </a:lnTo>
                    <a:lnTo>
                      <a:pt x="817" y="1872"/>
                    </a:lnTo>
                    <a:lnTo>
                      <a:pt x="816" y="1881"/>
                    </a:lnTo>
                    <a:lnTo>
                      <a:pt x="817" y="1893"/>
                    </a:lnTo>
                    <a:lnTo>
                      <a:pt x="818" y="1907"/>
                    </a:lnTo>
                    <a:lnTo>
                      <a:pt x="822" y="1923"/>
                    </a:lnTo>
                    <a:lnTo>
                      <a:pt x="826" y="1940"/>
                    </a:lnTo>
                    <a:lnTo>
                      <a:pt x="832" y="1958"/>
                    </a:lnTo>
                    <a:lnTo>
                      <a:pt x="839" y="1976"/>
                    </a:lnTo>
                    <a:lnTo>
                      <a:pt x="856" y="2016"/>
                    </a:lnTo>
                    <a:lnTo>
                      <a:pt x="876" y="2057"/>
                    </a:lnTo>
                    <a:lnTo>
                      <a:pt x="899" y="2100"/>
                    </a:lnTo>
                    <a:lnTo>
                      <a:pt x="924" y="2143"/>
                    </a:lnTo>
                    <a:lnTo>
                      <a:pt x="950" y="2185"/>
                    </a:lnTo>
                    <a:lnTo>
                      <a:pt x="977" y="2227"/>
                    </a:lnTo>
                    <a:lnTo>
                      <a:pt x="1028" y="2304"/>
                    </a:lnTo>
                    <a:lnTo>
                      <a:pt x="1072" y="2366"/>
                    </a:lnTo>
                    <a:lnTo>
                      <a:pt x="1103" y="2408"/>
                    </a:lnTo>
                    <a:lnTo>
                      <a:pt x="1114" y="2424"/>
                    </a:lnTo>
                    <a:lnTo>
                      <a:pt x="873" y="2533"/>
                    </a:lnTo>
                    <a:lnTo>
                      <a:pt x="866" y="2505"/>
                    </a:lnTo>
                    <a:lnTo>
                      <a:pt x="846" y="2432"/>
                    </a:lnTo>
                    <a:lnTo>
                      <a:pt x="832" y="2385"/>
                    </a:lnTo>
                    <a:lnTo>
                      <a:pt x="817" y="2331"/>
                    </a:lnTo>
                    <a:lnTo>
                      <a:pt x="800" y="2277"/>
                    </a:lnTo>
                    <a:lnTo>
                      <a:pt x="782" y="2221"/>
                    </a:lnTo>
                    <a:lnTo>
                      <a:pt x="763" y="2168"/>
                    </a:lnTo>
                    <a:lnTo>
                      <a:pt x="744" y="2118"/>
                    </a:lnTo>
                    <a:lnTo>
                      <a:pt x="735" y="2095"/>
                    </a:lnTo>
                    <a:lnTo>
                      <a:pt x="724" y="2075"/>
                    </a:lnTo>
                    <a:lnTo>
                      <a:pt x="715" y="2055"/>
                    </a:lnTo>
                    <a:lnTo>
                      <a:pt x="706" y="2040"/>
                    </a:lnTo>
                    <a:lnTo>
                      <a:pt x="697" y="2026"/>
                    </a:lnTo>
                    <a:lnTo>
                      <a:pt x="688" y="2015"/>
                    </a:lnTo>
                    <a:lnTo>
                      <a:pt x="680" y="2007"/>
                    </a:lnTo>
                    <a:lnTo>
                      <a:pt x="671" y="2002"/>
                    </a:lnTo>
                    <a:lnTo>
                      <a:pt x="663" y="2002"/>
                    </a:lnTo>
                    <a:lnTo>
                      <a:pt x="656" y="2006"/>
                    </a:lnTo>
                    <a:lnTo>
                      <a:pt x="650" y="2012"/>
                    </a:lnTo>
                    <a:lnTo>
                      <a:pt x="644" y="2025"/>
                    </a:lnTo>
                    <a:lnTo>
                      <a:pt x="620" y="2084"/>
                    </a:lnTo>
                    <a:lnTo>
                      <a:pt x="601" y="2144"/>
                    </a:lnTo>
                    <a:lnTo>
                      <a:pt x="583" y="2205"/>
                    </a:lnTo>
                    <a:lnTo>
                      <a:pt x="567" y="2268"/>
                    </a:lnTo>
                    <a:lnTo>
                      <a:pt x="552" y="2330"/>
                    </a:lnTo>
                    <a:lnTo>
                      <a:pt x="540" y="2391"/>
                    </a:lnTo>
                    <a:lnTo>
                      <a:pt x="529" y="2453"/>
                    </a:lnTo>
                    <a:lnTo>
                      <a:pt x="520" y="2514"/>
                    </a:lnTo>
                    <a:lnTo>
                      <a:pt x="512" y="2573"/>
                    </a:lnTo>
                    <a:lnTo>
                      <a:pt x="507" y="2631"/>
                    </a:lnTo>
                    <a:lnTo>
                      <a:pt x="501" y="2686"/>
                    </a:lnTo>
                    <a:lnTo>
                      <a:pt x="497" y="2739"/>
                    </a:lnTo>
                    <a:lnTo>
                      <a:pt x="490" y="2836"/>
                    </a:lnTo>
                    <a:lnTo>
                      <a:pt x="484" y="2918"/>
                    </a:lnTo>
                    <a:lnTo>
                      <a:pt x="482" y="2953"/>
                    </a:lnTo>
                    <a:lnTo>
                      <a:pt x="480" y="2983"/>
                    </a:lnTo>
                    <a:lnTo>
                      <a:pt x="476" y="3008"/>
                    </a:lnTo>
                    <a:lnTo>
                      <a:pt x="473" y="3026"/>
                    </a:lnTo>
                    <a:lnTo>
                      <a:pt x="469" y="3039"/>
                    </a:lnTo>
                    <a:lnTo>
                      <a:pt x="466" y="3046"/>
                    </a:lnTo>
                    <a:lnTo>
                      <a:pt x="460" y="3045"/>
                    </a:lnTo>
                    <a:lnTo>
                      <a:pt x="455" y="3038"/>
                    </a:lnTo>
                    <a:lnTo>
                      <a:pt x="448" y="3024"/>
                    </a:lnTo>
                    <a:lnTo>
                      <a:pt x="439" y="3001"/>
                    </a:lnTo>
                    <a:lnTo>
                      <a:pt x="430" y="2969"/>
                    </a:lnTo>
                    <a:lnTo>
                      <a:pt x="417" y="2929"/>
                    </a:lnTo>
                    <a:lnTo>
                      <a:pt x="390" y="2822"/>
                    </a:lnTo>
                    <a:lnTo>
                      <a:pt x="354" y="2674"/>
                    </a:lnTo>
                    <a:lnTo>
                      <a:pt x="220" y="2128"/>
                    </a:lnTo>
                    <a:lnTo>
                      <a:pt x="82" y="2016"/>
                    </a:lnTo>
                    <a:lnTo>
                      <a:pt x="247" y="1771"/>
                    </a:lnTo>
                    <a:lnTo>
                      <a:pt x="136" y="1692"/>
                    </a:lnTo>
                    <a:lnTo>
                      <a:pt x="287" y="1565"/>
                    </a:lnTo>
                    <a:lnTo>
                      <a:pt x="0" y="1431"/>
                    </a:lnTo>
                    <a:lnTo>
                      <a:pt x="247" y="1350"/>
                    </a:lnTo>
                    <a:lnTo>
                      <a:pt x="220" y="1280"/>
                    </a:lnTo>
                    <a:lnTo>
                      <a:pt x="302" y="1308"/>
                    </a:lnTo>
                    <a:lnTo>
                      <a:pt x="274" y="1213"/>
                    </a:lnTo>
                    <a:lnTo>
                      <a:pt x="356" y="1241"/>
                    </a:lnTo>
                    <a:lnTo>
                      <a:pt x="341" y="1102"/>
                    </a:lnTo>
                    <a:lnTo>
                      <a:pt x="435" y="1093"/>
                    </a:lnTo>
                    <a:lnTo>
                      <a:pt x="434" y="1090"/>
                    </a:lnTo>
                    <a:lnTo>
                      <a:pt x="432" y="1081"/>
                    </a:lnTo>
                    <a:lnTo>
                      <a:pt x="430" y="1067"/>
                    </a:lnTo>
                    <a:lnTo>
                      <a:pt x="425" y="1050"/>
                    </a:lnTo>
                    <a:lnTo>
                      <a:pt x="420" y="1031"/>
                    </a:lnTo>
                    <a:lnTo>
                      <a:pt x="413" y="1010"/>
                    </a:lnTo>
                    <a:lnTo>
                      <a:pt x="405" y="989"/>
                    </a:lnTo>
                    <a:lnTo>
                      <a:pt x="396" y="968"/>
                    </a:lnTo>
                    <a:lnTo>
                      <a:pt x="392" y="959"/>
                    </a:lnTo>
                    <a:lnTo>
                      <a:pt x="390" y="952"/>
                    </a:lnTo>
                    <a:lnTo>
                      <a:pt x="391" y="947"/>
                    </a:lnTo>
                    <a:lnTo>
                      <a:pt x="395" y="943"/>
                    </a:lnTo>
                    <a:lnTo>
                      <a:pt x="399" y="941"/>
                    </a:lnTo>
                    <a:lnTo>
                      <a:pt x="405" y="940"/>
                    </a:lnTo>
                    <a:lnTo>
                      <a:pt x="412" y="940"/>
                    </a:lnTo>
                    <a:lnTo>
                      <a:pt x="418" y="941"/>
                    </a:lnTo>
                    <a:lnTo>
                      <a:pt x="434" y="944"/>
                    </a:lnTo>
                    <a:lnTo>
                      <a:pt x="448" y="948"/>
                    </a:lnTo>
                    <a:lnTo>
                      <a:pt x="458" y="952"/>
                    </a:lnTo>
                    <a:lnTo>
                      <a:pt x="463" y="954"/>
                    </a:lnTo>
                    <a:lnTo>
                      <a:pt x="490" y="833"/>
                    </a:lnTo>
                    <a:lnTo>
                      <a:pt x="544" y="806"/>
                    </a:lnTo>
                    <a:lnTo>
                      <a:pt x="537" y="801"/>
                    </a:lnTo>
                    <a:lnTo>
                      <a:pt x="519" y="789"/>
                    </a:lnTo>
                    <a:lnTo>
                      <a:pt x="508" y="781"/>
                    </a:lnTo>
                    <a:lnTo>
                      <a:pt x="495" y="772"/>
                    </a:lnTo>
                    <a:lnTo>
                      <a:pt x="483" y="761"/>
                    </a:lnTo>
                    <a:lnTo>
                      <a:pt x="471" y="748"/>
                    </a:lnTo>
                    <a:lnTo>
                      <a:pt x="458" y="736"/>
                    </a:lnTo>
                    <a:lnTo>
                      <a:pt x="447" y="721"/>
                    </a:lnTo>
                    <a:lnTo>
                      <a:pt x="438" y="707"/>
                    </a:lnTo>
                    <a:lnTo>
                      <a:pt x="430" y="691"/>
                    </a:lnTo>
                    <a:lnTo>
                      <a:pt x="427" y="685"/>
                    </a:lnTo>
                    <a:lnTo>
                      <a:pt x="426" y="677"/>
                    </a:lnTo>
                    <a:lnTo>
                      <a:pt x="425" y="669"/>
                    </a:lnTo>
                    <a:lnTo>
                      <a:pt x="425" y="661"/>
                    </a:lnTo>
                    <a:lnTo>
                      <a:pt x="425" y="653"/>
                    </a:lnTo>
                    <a:lnTo>
                      <a:pt x="427" y="645"/>
                    </a:lnTo>
                    <a:lnTo>
                      <a:pt x="431" y="638"/>
                    </a:lnTo>
                    <a:lnTo>
                      <a:pt x="435" y="630"/>
                    </a:lnTo>
                    <a:lnTo>
                      <a:pt x="446" y="615"/>
                    </a:lnTo>
                    <a:lnTo>
                      <a:pt x="455" y="602"/>
                    </a:lnTo>
                    <a:lnTo>
                      <a:pt x="465" y="589"/>
                    </a:lnTo>
                    <a:lnTo>
                      <a:pt x="475" y="579"/>
                    </a:lnTo>
                    <a:lnTo>
                      <a:pt x="493" y="561"/>
                    </a:lnTo>
                    <a:lnTo>
                      <a:pt x="510" y="548"/>
                    </a:lnTo>
                    <a:lnTo>
                      <a:pt x="524" y="539"/>
                    </a:lnTo>
                    <a:lnTo>
                      <a:pt x="534" y="534"/>
                    </a:lnTo>
                    <a:lnTo>
                      <a:pt x="541" y="531"/>
                    </a:lnTo>
                    <a:lnTo>
                      <a:pt x="544" y="530"/>
                    </a:lnTo>
                    <a:lnTo>
                      <a:pt x="543" y="532"/>
                    </a:lnTo>
                    <a:lnTo>
                      <a:pt x="541" y="539"/>
                    </a:lnTo>
                    <a:lnTo>
                      <a:pt x="537" y="551"/>
                    </a:lnTo>
                    <a:lnTo>
                      <a:pt x="537" y="567"/>
                    </a:lnTo>
                    <a:lnTo>
                      <a:pt x="537" y="576"/>
                    </a:lnTo>
                    <a:lnTo>
                      <a:pt x="539" y="585"/>
                    </a:lnTo>
                    <a:lnTo>
                      <a:pt x="541" y="596"/>
                    </a:lnTo>
                    <a:lnTo>
                      <a:pt x="544" y="606"/>
                    </a:lnTo>
                    <a:lnTo>
                      <a:pt x="548" y="619"/>
                    </a:lnTo>
                    <a:lnTo>
                      <a:pt x="554" y="631"/>
                    </a:lnTo>
                    <a:lnTo>
                      <a:pt x="561" y="644"/>
                    </a:lnTo>
                    <a:lnTo>
                      <a:pt x="571" y="657"/>
                    </a:lnTo>
                    <a:lnTo>
                      <a:pt x="580" y="669"/>
                    </a:lnTo>
                    <a:lnTo>
                      <a:pt x="588" y="677"/>
                    </a:lnTo>
                    <a:lnTo>
                      <a:pt x="596" y="681"/>
                    </a:lnTo>
                    <a:lnTo>
                      <a:pt x="603" y="685"/>
                    </a:lnTo>
                    <a:lnTo>
                      <a:pt x="608" y="685"/>
                    </a:lnTo>
                    <a:lnTo>
                      <a:pt x="613" y="683"/>
                    </a:lnTo>
                    <a:lnTo>
                      <a:pt x="617" y="680"/>
                    </a:lnTo>
                    <a:lnTo>
                      <a:pt x="621" y="675"/>
                    </a:lnTo>
                    <a:lnTo>
                      <a:pt x="627" y="662"/>
                    </a:lnTo>
                    <a:lnTo>
                      <a:pt x="633" y="644"/>
                    </a:lnTo>
                    <a:lnTo>
                      <a:pt x="637" y="623"/>
                    </a:lnTo>
                    <a:lnTo>
                      <a:pt x="644" y="603"/>
                    </a:lnTo>
                    <a:lnTo>
                      <a:pt x="645" y="594"/>
                    </a:lnTo>
                    <a:lnTo>
                      <a:pt x="648" y="588"/>
                    </a:lnTo>
                    <a:lnTo>
                      <a:pt x="651" y="586"/>
                    </a:lnTo>
                    <a:lnTo>
                      <a:pt x="653" y="585"/>
                    </a:lnTo>
                    <a:lnTo>
                      <a:pt x="655" y="585"/>
                    </a:lnTo>
                    <a:lnTo>
                      <a:pt x="658" y="585"/>
                    </a:lnTo>
                    <a:lnTo>
                      <a:pt x="663" y="586"/>
                    </a:lnTo>
                    <a:lnTo>
                      <a:pt x="669" y="590"/>
                    </a:lnTo>
                    <a:lnTo>
                      <a:pt x="675" y="595"/>
                    </a:lnTo>
                    <a:lnTo>
                      <a:pt x="680" y="601"/>
                    </a:lnTo>
                    <a:lnTo>
                      <a:pt x="692" y="614"/>
                    </a:lnTo>
                    <a:lnTo>
                      <a:pt x="701" y="628"/>
                    </a:lnTo>
                    <a:lnTo>
                      <a:pt x="707" y="638"/>
                    </a:lnTo>
                    <a:lnTo>
                      <a:pt x="710" y="643"/>
                    </a:lnTo>
                    <a:lnTo>
                      <a:pt x="721" y="631"/>
                    </a:lnTo>
                    <a:lnTo>
                      <a:pt x="752" y="604"/>
                    </a:lnTo>
                    <a:lnTo>
                      <a:pt x="773" y="586"/>
                    </a:lnTo>
                    <a:lnTo>
                      <a:pt x="799" y="567"/>
                    </a:lnTo>
                    <a:lnTo>
                      <a:pt x="829" y="547"/>
                    </a:lnTo>
                    <a:lnTo>
                      <a:pt x="862" y="529"/>
                    </a:lnTo>
                    <a:lnTo>
                      <a:pt x="880" y="520"/>
                    </a:lnTo>
                    <a:lnTo>
                      <a:pt x="898" y="512"/>
                    </a:lnTo>
                    <a:lnTo>
                      <a:pt x="916" y="504"/>
                    </a:lnTo>
                    <a:lnTo>
                      <a:pt x="935" y="497"/>
                    </a:lnTo>
                    <a:lnTo>
                      <a:pt x="956" y="492"/>
                    </a:lnTo>
                    <a:lnTo>
                      <a:pt x="976" y="486"/>
                    </a:lnTo>
                    <a:lnTo>
                      <a:pt x="998" y="483"/>
                    </a:lnTo>
                    <a:lnTo>
                      <a:pt x="1018" y="480"/>
                    </a:lnTo>
                    <a:lnTo>
                      <a:pt x="1041" y="479"/>
                    </a:lnTo>
                    <a:lnTo>
                      <a:pt x="1062" y="479"/>
                    </a:lnTo>
                    <a:lnTo>
                      <a:pt x="1085" y="480"/>
                    </a:lnTo>
                    <a:lnTo>
                      <a:pt x="1107" y="484"/>
                    </a:lnTo>
                    <a:lnTo>
                      <a:pt x="1130" y="489"/>
                    </a:lnTo>
                    <a:lnTo>
                      <a:pt x="1153" y="497"/>
                    </a:lnTo>
                    <a:lnTo>
                      <a:pt x="1177" y="506"/>
                    </a:lnTo>
                    <a:lnTo>
                      <a:pt x="1199" y="518"/>
                    </a:lnTo>
                    <a:lnTo>
                      <a:pt x="764" y="354"/>
                    </a:lnTo>
                    <a:lnTo>
                      <a:pt x="800" y="342"/>
                    </a:lnTo>
                    <a:lnTo>
                      <a:pt x="899" y="311"/>
                    </a:lnTo>
                    <a:lnTo>
                      <a:pt x="966" y="292"/>
                    </a:lnTo>
                    <a:lnTo>
                      <a:pt x="1043" y="271"/>
                    </a:lnTo>
                    <a:lnTo>
                      <a:pt x="1085" y="261"/>
                    </a:lnTo>
                    <a:lnTo>
                      <a:pt x="1128" y="251"/>
                    </a:lnTo>
                    <a:lnTo>
                      <a:pt x="1173" y="241"/>
                    </a:lnTo>
                    <a:lnTo>
                      <a:pt x="1218" y="232"/>
                    </a:lnTo>
                    <a:lnTo>
                      <a:pt x="1265" y="224"/>
                    </a:lnTo>
                    <a:lnTo>
                      <a:pt x="1313" y="216"/>
                    </a:lnTo>
                    <a:lnTo>
                      <a:pt x="1361" y="209"/>
                    </a:lnTo>
                    <a:lnTo>
                      <a:pt x="1409" y="203"/>
                    </a:lnTo>
                    <a:lnTo>
                      <a:pt x="1458" y="199"/>
                    </a:lnTo>
                    <a:lnTo>
                      <a:pt x="1505" y="195"/>
                    </a:lnTo>
                    <a:lnTo>
                      <a:pt x="1553" y="193"/>
                    </a:lnTo>
                    <a:lnTo>
                      <a:pt x="1599" y="194"/>
                    </a:lnTo>
                    <a:lnTo>
                      <a:pt x="1645" y="195"/>
                    </a:lnTo>
                    <a:lnTo>
                      <a:pt x="1689" y="200"/>
                    </a:lnTo>
                    <a:lnTo>
                      <a:pt x="1732" y="206"/>
                    </a:lnTo>
                    <a:lnTo>
                      <a:pt x="1774" y="214"/>
                    </a:lnTo>
                    <a:lnTo>
                      <a:pt x="1812" y="225"/>
                    </a:lnTo>
                    <a:lnTo>
                      <a:pt x="1850" y="237"/>
                    </a:lnTo>
                    <a:lnTo>
                      <a:pt x="1884" y="254"/>
                    </a:lnTo>
                    <a:lnTo>
                      <a:pt x="1915" y="273"/>
                    </a:lnTo>
                    <a:lnTo>
                      <a:pt x="1904" y="266"/>
                    </a:lnTo>
                    <a:lnTo>
                      <a:pt x="1892" y="259"/>
                    </a:lnTo>
                    <a:lnTo>
                      <a:pt x="1880" y="253"/>
                    </a:lnTo>
                    <a:lnTo>
                      <a:pt x="1868" y="249"/>
                    </a:lnTo>
                    <a:lnTo>
                      <a:pt x="1842" y="240"/>
                    </a:lnTo>
                    <a:lnTo>
                      <a:pt x="1816" y="234"/>
                    </a:lnTo>
                    <a:lnTo>
                      <a:pt x="1790" y="229"/>
                    </a:lnTo>
                    <a:lnTo>
                      <a:pt x="1764" y="226"/>
                    </a:lnTo>
                    <a:lnTo>
                      <a:pt x="1739" y="224"/>
                    </a:lnTo>
                    <a:lnTo>
                      <a:pt x="1715" y="224"/>
                    </a:lnTo>
                    <a:lnTo>
                      <a:pt x="1692" y="224"/>
                    </a:lnTo>
                    <a:lnTo>
                      <a:pt x="1671" y="225"/>
                    </a:lnTo>
                    <a:lnTo>
                      <a:pt x="1653" y="227"/>
                    </a:lnTo>
                    <a:lnTo>
                      <a:pt x="1636" y="228"/>
                    </a:lnTo>
                    <a:lnTo>
                      <a:pt x="1613" y="232"/>
                    </a:lnTo>
                    <a:lnTo>
                      <a:pt x="1604" y="234"/>
                    </a:lnTo>
                    <a:lnTo>
                      <a:pt x="1441" y="0"/>
                    </a:lnTo>
                    <a:lnTo>
                      <a:pt x="1478" y="4"/>
                    </a:lnTo>
                    <a:lnTo>
                      <a:pt x="1578" y="13"/>
                    </a:lnTo>
                    <a:lnTo>
                      <a:pt x="1646" y="21"/>
                    </a:lnTo>
                    <a:lnTo>
                      <a:pt x="1724" y="31"/>
                    </a:lnTo>
                    <a:lnTo>
                      <a:pt x="1809" y="43"/>
                    </a:lnTo>
                    <a:lnTo>
                      <a:pt x="1900" y="58"/>
                    </a:lnTo>
                    <a:lnTo>
                      <a:pt x="1946" y="67"/>
                    </a:lnTo>
                    <a:lnTo>
                      <a:pt x="1994" y="76"/>
                    </a:lnTo>
                    <a:lnTo>
                      <a:pt x="2042" y="86"/>
                    </a:lnTo>
                    <a:lnTo>
                      <a:pt x="2090" y="98"/>
                    </a:lnTo>
                    <a:lnTo>
                      <a:pt x="2138" y="109"/>
                    </a:lnTo>
                    <a:lnTo>
                      <a:pt x="2185" y="122"/>
                    </a:lnTo>
                    <a:lnTo>
                      <a:pt x="2232" y="135"/>
                    </a:lnTo>
                    <a:lnTo>
                      <a:pt x="2277" y="150"/>
                    </a:lnTo>
                    <a:lnTo>
                      <a:pt x="2322" y="165"/>
                    </a:lnTo>
                    <a:lnTo>
                      <a:pt x="2365" y="182"/>
                    </a:lnTo>
                    <a:lnTo>
                      <a:pt x="2407" y="199"/>
                    </a:lnTo>
                    <a:lnTo>
                      <a:pt x="2447" y="217"/>
                    </a:lnTo>
                    <a:lnTo>
                      <a:pt x="2484" y="236"/>
                    </a:lnTo>
                    <a:lnTo>
                      <a:pt x="2518" y="257"/>
                    </a:lnTo>
                    <a:lnTo>
                      <a:pt x="2551" y="278"/>
                    </a:lnTo>
                    <a:lnTo>
                      <a:pt x="2581" y="300"/>
                    </a:lnTo>
                    <a:lnTo>
                      <a:pt x="2608" y="324"/>
                    </a:lnTo>
                    <a:lnTo>
                      <a:pt x="2635" y="346"/>
                    </a:lnTo>
                    <a:lnTo>
                      <a:pt x="2660" y="369"/>
                    </a:lnTo>
                    <a:lnTo>
                      <a:pt x="2684" y="392"/>
                    </a:lnTo>
                    <a:lnTo>
                      <a:pt x="2729" y="436"/>
                    </a:lnTo>
                    <a:lnTo>
                      <a:pt x="2769" y="478"/>
                    </a:lnTo>
                    <a:lnTo>
                      <a:pt x="2804" y="519"/>
                    </a:lnTo>
                    <a:lnTo>
                      <a:pt x="2834" y="557"/>
                    </a:lnTo>
                    <a:lnTo>
                      <a:pt x="2862" y="593"/>
                    </a:lnTo>
                    <a:lnTo>
                      <a:pt x="2885" y="626"/>
                    </a:lnTo>
                    <a:lnTo>
                      <a:pt x="2905" y="656"/>
                    </a:lnTo>
                    <a:lnTo>
                      <a:pt x="2921" y="682"/>
                    </a:lnTo>
                    <a:lnTo>
                      <a:pt x="2934" y="706"/>
                    </a:lnTo>
                    <a:lnTo>
                      <a:pt x="2944" y="727"/>
                    </a:lnTo>
                    <a:lnTo>
                      <a:pt x="2957" y="754"/>
                    </a:lnTo>
                    <a:lnTo>
                      <a:pt x="2961" y="763"/>
                    </a:lnTo>
                    <a:lnTo>
                      <a:pt x="2964" y="753"/>
                    </a:lnTo>
                    <a:lnTo>
                      <a:pt x="2973" y="727"/>
                    </a:lnTo>
                    <a:lnTo>
                      <a:pt x="2980" y="708"/>
                    </a:lnTo>
                    <a:lnTo>
                      <a:pt x="2989" y="688"/>
                    </a:lnTo>
                    <a:lnTo>
                      <a:pt x="3000" y="666"/>
                    </a:lnTo>
                    <a:lnTo>
                      <a:pt x="3012" y="644"/>
                    </a:lnTo>
                    <a:lnTo>
                      <a:pt x="3028" y="620"/>
                    </a:lnTo>
                    <a:lnTo>
                      <a:pt x="3045" y="597"/>
                    </a:lnTo>
                    <a:lnTo>
                      <a:pt x="3055" y="586"/>
                    </a:lnTo>
                    <a:lnTo>
                      <a:pt x="3066" y="576"/>
                    </a:lnTo>
                    <a:lnTo>
                      <a:pt x="3077" y="565"/>
                    </a:lnTo>
                    <a:lnTo>
                      <a:pt x="3088" y="555"/>
                    </a:lnTo>
                    <a:lnTo>
                      <a:pt x="3101" y="546"/>
                    </a:lnTo>
                    <a:lnTo>
                      <a:pt x="3114" y="537"/>
                    </a:lnTo>
                    <a:lnTo>
                      <a:pt x="3128" y="529"/>
                    </a:lnTo>
                    <a:lnTo>
                      <a:pt x="3143" y="522"/>
                    </a:lnTo>
                    <a:lnTo>
                      <a:pt x="3159" y="515"/>
                    </a:lnTo>
                    <a:lnTo>
                      <a:pt x="3174" y="510"/>
                    </a:lnTo>
                    <a:lnTo>
                      <a:pt x="3191" y="506"/>
                    </a:lnTo>
                    <a:lnTo>
                      <a:pt x="3208" y="503"/>
                    </a:lnTo>
                    <a:lnTo>
                      <a:pt x="3227" y="502"/>
                    </a:lnTo>
                    <a:lnTo>
                      <a:pt x="3242" y="502"/>
                    </a:lnTo>
                    <a:lnTo>
                      <a:pt x="3258" y="503"/>
                    </a:lnTo>
                    <a:lnTo>
                      <a:pt x="3273" y="506"/>
                    </a:lnTo>
                    <a:lnTo>
                      <a:pt x="3288" y="510"/>
                    </a:lnTo>
                    <a:lnTo>
                      <a:pt x="3300" y="515"/>
                    </a:lnTo>
                    <a:lnTo>
                      <a:pt x="3314" y="522"/>
                    </a:lnTo>
                    <a:lnTo>
                      <a:pt x="3325" y="529"/>
                    </a:lnTo>
                    <a:lnTo>
                      <a:pt x="3338" y="538"/>
                    </a:lnTo>
                    <a:lnTo>
                      <a:pt x="3348" y="547"/>
                    </a:lnTo>
                    <a:lnTo>
                      <a:pt x="3358" y="556"/>
                    </a:lnTo>
                    <a:lnTo>
                      <a:pt x="3368" y="567"/>
                    </a:lnTo>
                    <a:lnTo>
                      <a:pt x="3385" y="589"/>
                    </a:lnTo>
                    <a:lnTo>
                      <a:pt x="3400" y="612"/>
                    </a:lnTo>
                    <a:lnTo>
                      <a:pt x="3412" y="635"/>
                    </a:lnTo>
                    <a:lnTo>
                      <a:pt x="3424" y="657"/>
                    </a:lnTo>
                    <a:lnTo>
                      <a:pt x="3432" y="679"/>
                    </a:lnTo>
                    <a:lnTo>
                      <a:pt x="3440" y="698"/>
                    </a:lnTo>
                    <a:lnTo>
                      <a:pt x="3448" y="728"/>
                    </a:lnTo>
                    <a:lnTo>
                      <a:pt x="3451" y="739"/>
                    </a:lnTo>
                    <a:lnTo>
                      <a:pt x="3440" y="741"/>
                    </a:lnTo>
                    <a:lnTo>
                      <a:pt x="3411" y="753"/>
                    </a:lnTo>
                    <a:lnTo>
                      <a:pt x="3393" y="763"/>
                    </a:lnTo>
                    <a:lnTo>
                      <a:pt x="3375" y="775"/>
                    </a:lnTo>
                    <a:lnTo>
                      <a:pt x="3365" y="783"/>
                    </a:lnTo>
                    <a:lnTo>
                      <a:pt x="3356" y="792"/>
                    </a:lnTo>
                    <a:lnTo>
                      <a:pt x="3347" y="801"/>
                    </a:lnTo>
                    <a:lnTo>
                      <a:pt x="3339" y="813"/>
                    </a:lnTo>
                    <a:lnTo>
                      <a:pt x="3331" y="824"/>
                    </a:lnTo>
                    <a:lnTo>
                      <a:pt x="3323" y="838"/>
                    </a:lnTo>
                    <a:lnTo>
                      <a:pt x="3316" y="853"/>
                    </a:lnTo>
                    <a:lnTo>
                      <a:pt x="3312" y="868"/>
                    </a:lnTo>
                    <a:lnTo>
                      <a:pt x="3307" y="885"/>
                    </a:lnTo>
                    <a:lnTo>
                      <a:pt x="3304" y="904"/>
                    </a:lnTo>
                    <a:lnTo>
                      <a:pt x="3301" y="923"/>
                    </a:lnTo>
                    <a:lnTo>
                      <a:pt x="3301" y="944"/>
                    </a:lnTo>
                    <a:lnTo>
                      <a:pt x="3303" y="967"/>
                    </a:lnTo>
                    <a:lnTo>
                      <a:pt x="3306" y="992"/>
                    </a:lnTo>
                    <a:lnTo>
                      <a:pt x="3310" y="1018"/>
                    </a:lnTo>
                    <a:lnTo>
                      <a:pt x="3318" y="1045"/>
                    </a:lnTo>
                    <a:lnTo>
                      <a:pt x="3327" y="1075"/>
                    </a:lnTo>
                    <a:lnTo>
                      <a:pt x="3339" y="1107"/>
                    </a:lnTo>
                    <a:lnTo>
                      <a:pt x="3352" y="1140"/>
                    </a:lnTo>
                    <a:lnTo>
                      <a:pt x="3369" y="1175"/>
                    </a:lnTo>
                  </a:path>
                </a:pathLst>
              </a:custGeom>
              <a:noFill/>
              <a:ln w="4680">
                <a:solidFill>
                  <a:srgbClr val="000000"/>
                </a:solidFill>
                <a:round/>
              </a:ln>
            </p:spPr>
            <p:style>
              <a:lnRef idx="0"/>
              <a:fillRef idx="0"/>
              <a:effectRef idx="0"/>
              <a:fontRef idx="minor"/>
            </p:style>
            <p:txBody>
              <a:bodyPr wrap="none" lIns="93240" rIns="93240" tIns="46440" bIns="46440" anchor="t">
                <a:spAutoFit/>
              </a:bodyPr>
              <a:p>
                <a:endParaRPr b="0" lang="en-US" sz="2400" spc="-1" strike="noStrike">
                  <a:solidFill>
                    <a:srgbClr val="ffffff"/>
                  </a:solidFill>
                  <a:latin typeface="Times New Roman"/>
                </a:endParaRPr>
              </a:p>
            </p:txBody>
          </p:sp>
          <p:sp>
            <p:nvSpPr>
              <p:cNvPr id="656" name=""/>
              <p:cNvSpPr/>
              <p:nvPr/>
            </p:nvSpPr>
            <p:spPr>
              <a:xfrm>
                <a:off x="4917600" y="1896480"/>
                <a:ext cx="139320" cy="82440"/>
              </a:xfrm>
              <a:custGeom>
                <a:avLst/>
                <a:gdLst/>
                <a:ahLst/>
                <a:rect l="l" t="t" r="r" b="b"/>
                <a:pathLst>
                  <a:path w="625" h="444">
                    <a:moveTo>
                      <a:pt x="625" y="36"/>
                    </a:moveTo>
                    <a:lnTo>
                      <a:pt x="610" y="31"/>
                    </a:lnTo>
                    <a:lnTo>
                      <a:pt x="568" y="20"/>
                    </a:lnTo>
                    <a:lnTo>
                      <a:pt x="540" y="13"/>
                    </a:lnTo>
                    <a:lnTo>
                      <a:pt x="507" y="7"/>
                    </a:lnTo>
                    <a:lnTo>
                      <a:pt x="470" y="4"/>
                    </a:lnTo>
                    <a:lnTo>
                      <a:pt x="431" y="1"/>
                    </a:lnTo>
                    <a:lnTo>
                      <a:pt x="409" y="0"/>
                    </a:lnTo>
                    <a:lnTo>
                      <a:pt x="389" y="1"/>
                    </a:lnTo>
                    <a:lnTo>
                      <a:pt x="367" y="3"/>
                    </a:lnTo>
                    <a:lnTo>
                      <a:pt x="346" y="5"/>
                    </a:lnTo>
                    <a:lnTo>
                      <a:pt x="323" y="9"/>
                    </a:lnTo>
                    <a:lnTo>
                      <a:pt x="302" y="14"/>
                    </a:lnTo>
                    <a:lnTo>
                      <a:pt x="279" y="20"/>
                    </a:lnTo>
                    <a:lnTo>
                      <a:pt x="257" y="26"/>
                    </a:lnTo>
                    <a:lnTo>
                      <a:pt x="236" y="36"/>
                    </a:lnTo>
                    <a:lnTo>
                      <a:pt x="214" y="45"/>
                    </a:lnTo>
                    <a:lnTo>
                      <a:pt x="193" y="57"/>
                    </a:lnTo>
                    <a:lnTo>
                      <a:pt x="172" y="70"/>
                    </a:lnTo>
                    <a:lnTo>
                      <a:pt x="152" y="85"/>
                    </a:lnTo>
                    <a:lnTo>
                      <a:pt x="133" y="101"/>
                    </a:lnTo>
                    <a:lnTo>
                      <a:pt x="113" y="121"/>
                    </a:lnTo>
                    <a:lnTo>
                      <a:pt x="95" y="141"/>
                    </a:lnTo>
                    <a:lnTo>
                      <a:pt x="40" y="211"/>
                    </a:lnTo>
                    <a:lnTo>
                      <a:pt x="10" y="251"/>
                    </a:lnTo>
                    <a:lnTo>
                      <a:pt x="2" y="261"/>
                    </a:lnTo>
                    <a:lnTo>
                      <a:pt x="0" y="266"/>
                    </a:lnTo>
                    <a:lnTo>
                      <a:pt x="0" y="266"/>
                    </a:lnTo>
                    <a:lnTo>
                      <a:pt x="5" y="264"/>
                    </a:lnTo>
                    <a:lnTo>
                      <a:pt x="17" y="249"/>
                    </a:lnTo>
                    <a:lnTo>
                      <a:pt x="34" y="231"/>
                    </a:lnTo>
                    <a:lnTo>
                      <a:pt x="48" y="215"/>
                    </a:lnTo>
                    <a:lnTo>
                      <a:pt x="53" y="208"/>
                    </a:lnTo>
                    <a:lnTo>
                      <a:pt x="159" y="444"/>
                    </a:lnTo>
                    <a:lnTo>
                      <a:pt x="164" y="428"/>
                    </a:lnTo>
                    <a:lnTo>
                      <a:pt x="181" y="387"/>
                    </a:lnTo>
                    <a:lnTo>
                      <a:pt x="195" y="360"/>
                    </a:lnTo>
                    <a:lnTo>
                      <a:pt x="212" y="328"/>
                    </a:lnTo>
                    <a:lnTo>
                      <a:pt x="232" y="294"/>
                    </a:lnTo>
                    <a:lnTo>
                      <a:pt x="257" y="259"/>
                    </a:lnTo>
                    <a:lnTo>
                      <a:pt x="271" y="241"/>
                    </a:lnTo>
                    <a:lnTo>
                      <a:pt x="286" y="223"/>
                    </a:lnTo>
                    <a:lnTo>
                      <a:pt x="302" y="205"/>
                    </a:lnTo>
                    <a:lnTo>
                      <a:pt x="320" y="188"/>
                    </a:lnTo>
                    <a:lnTo>
                      <a:pt x="338" y="169"/>
                    </a:lnTo>
                    <a:lnTo>
                      <a:pt x="357" y="152"/>
                    </a:lnTo>
                    <a:lnTo>
                      <a:pt x="378" y="137"/>
                    </a:lnTo>
                    <a:lnTo>
                      <a:pt x="400" y="121"/>
                    </a:lnTo>
                    <a:lnTo>
                      <a:pt x="423" y="106"/>
                    </a:lnTo>
                    <a:lnTo>
                      <a:pt x="448" y="92"/>
                    </a:lnTo>
                    <a:lnTo>
                      <a:pt x="474" y="80"/>
                    </a:lnTo>
                    <a:lnTo>
                      <a:pt x="501" y="67"/>
                    </a:lnTo>
                    <a:lnTo>
                      <a:pt x="529" y="57"/>
                    </a:lnTo>
                    <a:lnTo>
                      <a:pt x="560" y="48"/>
                    </a:lnTo>
                    <a:lnTo>
                      <a:pt x="592" y="41"/>
                    </a:lnTo>
                    <a:lnTo>
                      <a:pt x="625" y="36"/>
                    </a:lnTo>
                    <a:close/>
                  </a:path>
                </a:pathLst>
              </a:custGeom>
              <a:solidFill>
                <a:srgbClr val="000000"/>
              </a:solidFill>
              <a:ln w="0">
                <a:noFill/>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57" name=""/>
              <p:cNvSpPr/>
              <p:nvPr/>
            </p:nvSpPr>
            <p:spPr>
              <a:xfrm>
                <a:off x="4917600" y="1896480"/>
                <a:ext cx="139320" cy="82440"/>
              </a:xfrm>
              <a:custGeom>
                <a:avLst/>
                <a:gdLst/>
                <a:ahLst/>
                <a:rect l="l" t="t" r="r" b="b"/>
                <a:pathLst>
                  <a:path w="625" h="444">
                    <a:moveTo>
                      <a:pt x="625" y="36"/>
                    </a:moveTo>
                    <a:lnTo>
                      <a:pt x="610" y="31"/>
                    </a:lnTo>
                    <a:lnTo>
                      <a:pt x="568" y="20"/>
                    </a:lnTo>
                    <a:lnTo>
                      <a:pt x="540" y="13"/>
                    </a:lnTo>
                    <a:lnTo>
                      <a:pt x="507" y="7"/>
                    </a:lnTo>
                    <a:lnTo>
                      <a:pt x="470" y="4"/>
                    </a:lnTo>
                    <a:lnTo>
                      <a:pt x="431" y="1"/>
                    </a:lnTo>
                    <a:lnTo>
                      <a:pt x="409" y="0"/>
                    </a:lnTo>
                    <a:lnTo>
                      <a:pt x="389" y="1"/>
                    </a:lnTo>
                    <a:lnTo>
                      <a:pt x="367" y="3"/>
                    </a:lnTo>
                    <a:lnTo>
                      <a:pt x="346" y="5"/>
                    </a:lnTo>
                    <a:lnTo>
                      <a:pt x="323" y="9"/>
                    </a:lnTo>
                    <a:lnTo>
                      <a:pt x="302" y="14"/>
                    </a:lnTo>
                    <a:lnTo>
                      <a:pt x="279" y="20"/>
                    </a:lnTo>
                    <a:lnTo>
                      <a:pt x="257" y="26"/>
                    </a:lnTo>
                    <a:lnTo>
                      <a:pt x="236" y="36"/>
                    </a:lnTo>
                    <a:lnTo>
                      <a:pt x="214" y="45"/>
                    </a:lnTo>
                    <a:lnTo>
                      <a:pt x="193" y="57"/>
                    </a:lnTo>
                    <a:lnTo>
                      <a:pt x="172" y="70"/>
                    </a:lnTo>
                    <a:lnTo>
                      <a:pt x="152" y="85"/>
                    </a:lnTo>
                    <a:lnTo>
                      <a:pt x="133" y="101"/>
                    </a:lnTo>
                    <a:lnTo>
                      <a:pt x="113" y="121"/>
                    </a:lnTo>
                    <a:lnTo>
                      <a:pt x="95" y="141"/>
                    </a:lnTo>
                    <a:lnTo>
                      <a:pt x="40" y="211"/>
                    </a:lnTo>
                    <a:lnTo>
                      <a:pt x="10" y="251"/>
                    </a:lnTo>
                    <a:lnTo>
                      <a:pt x="2" y="261"/>
                    </a:lnTo>
                    <a:lnTo>
                      <a:pt x="0" y="266"/>
                    </a:lnTo>
                    <a:lnTo>
                      <a:pt x="0" y="266"/>
                    </a:lnTo>
                    <a:lnTo>
                      <a:pt x="5" y="264"/>
                    </a:lnTo>
                    <a:lnTo>
                      <a:pt x="17" y="249"/>
                    </a:lnTo>
                    <a:lnTo>
                      <a:pt x="34" y="231"/>
                    </a:lnTo>
                    <a:lnTo>
                      <a:pt x="48" y="215"/>
                    </a:lnTo>
                    <a:lnTo>
                      <a:pt x="53" y="208"/>
                    </a:lnTo>
                    <a:lnTo>
                      <a:pt x="159" y="444"/>
                    </a:lnTo>
                    <a:lnTo>
                      <a:pt x="164" y="428"/>
                    </a:lnTo>
                    <a:lnTo>
                      <a:pt x="181" y="387"/>
                    </a:lnTo>
                    <a:lnTo>
                      <a:pt x="195" y="360"/>
                    </a:lnTo>
                    <a:lnTo>
                      <a:pt x="212" y="328"/>
                    </a:lnTo>
                    <a:lnTo>
                      <a:pt x="232" y="294"/>
                    </a:lnTo>
                    <a:lnTo>
                      <a:pt x="257" y="259"/>
                    </a:lnTo>
                    <a:lnTo>
                      <a:pt x="271" y="241"/>
                    </a:lnTo>
                    <a:lnTo>
                      <a:pt x="286" y="223"/>
                    </a:lnTo>
                    <a:lnTo>
                      <a:pt x="302" y="205"/>
                    </a:lnTo>
                    <a:lnTo>
                      <a:pt x="320" y="188"/>
                    </a:lnTo>
                    <a:lnTo>
                      <a:pt x="338" y="169"/>
                    </a:lnTo>
                    <a:lnTo>
                      <a:pt x="357" y="152"/>
                    </a:lnTo>
                    <a:lnTo>
                      <a:pt x="378" y="137"/>
                    </a:lnTo>
                    <a:lnTo>
                      <a:pt x="400" y="121"/>
                    </a:lnTo>
                    <a:lnTo>
                      <a:pt x="423" y="106"/>
                    </a:lnTo>
                    <a:lnTo>
                      <a:pt x="448" y="92"/>
                    </a:lnTo>
                    <a:lnTo>
                      <a:pt x="474" y="80"/>
                    </a:lnTo>
                    <a:lnTo>
                      <a:pt x="501" y="67"/>
                    </a:lnTo>
                    <a:lnTo>
                      <a:pt x="529" y="57"/>
                    </a:lnTo>
                    <a:lnTo>
                      <a:pt x="560" y="48"/>
                    </a:lnTo>
                    <a:lnTo>
                      <a:pt x="592" y="41"/>
                    </a:lnTo>
                    <a:lnTo>
                      <a:pt x="625" y="36"/>
                    </a:lnTo>
                  </a:path>
                </a:pathLst>
              </a:custGeom>
              <a:noFill/>
              <a:ln w="4680">
                <a:solidFill>
                  <a:srgbClr val="000000"/>
                </a:solidFill>
                <a:round/>
              </a:ln>
            </p:spPr>
            <p:style>
              <a:lnRef idx="0"/>
              <a:fillRef idx="0"/>
              <a:effectRef idx="0"/>
              <a:fontRef idx="minor"/>
            </p:style>
            <p:txBody>
              <a:bodyPr wrap="none" lIns="93240" rIns="93240" tIns="36000" bIns="36000" anchor="t">
                <a:spAutoFit/>
              </a:bodyPr>
              <a:p>
                <a:endParaRPr b="0" lang="en-US" sz="2400" spc="-1" strike="noStrike">
                  <a:solidFill>
                    <a:srgbClr val="ffffff"/>
                  </a:solidFill>
                  <a:latin typeface="Times New Roman"/>
                </a:endParaRPr>
              </a:p>
            </p:txBody>
          </p:sp>
          <p:sp>
            <p:nvSpPr>
              <p:cNvPr id="658" name=""/>
              <p:cNvSpPr/>
              <p:nvPr/>
            </p:nvSpPr>
            <p:spPr>
              <a:xfrm>
                <a:off x="4994640" y="2442600"/>
                <a:ext cx="223920" cy="55800"/>
              </a:xfrm>
              <a:custGeom>
                <a:avLst/>
                <a:gdLst/>
                <a:ahLst/>
                <a:rect l="l" t="t" r="r" b="b"/>
                <a:pathLst>
                  <a:path w="1014" h="305">
                    <a:moveTo>
                      <a:pt x="0" y="305"/>
                    </a:moveTo>
                    <a:lnTo>
                      <a:pt x="1" y="291"/>
                    </a:lnTo>
                    <a:lnTo>
                      <a:pt x="8" y="257"/>
                    </a:lnTo>
                    <a:lnTo>
                      <a:pt x="16" y="235"/>
                    </a:lnTo>
                    <a:lnTo>
                      <a:pt x="27" y="208"/>
                    </a:lnTo>
                    <a:lnTo>
                      <a:pt x="34" y="195"/>
                    </a:lnTo>
                    <a:lnTo>
                      <a:pt x="43" y="181"/>
                    </a:lnTo>
                    <a:lnTo>
                      <a:pt x="52" y="166"/>
                    </a:lnTo>
                    <a:lnTo>
                      <a:pt x="63" y="153"/>
                    </a:lnTo>
                    <a:lnTo>
                      <a:pt x="76" y="138"/>
                    </a:lnTo>
                    <a:lnTo>
                      <a:pt x="91" y="124"/>
                    </a:lnTo>
                    <a:lnTo>
                      <a:pt x="107" y="110"/>
                    </a:lnTo>
                    <a:lnTo>
                      <a:pt x="124" y="96"/>
                    </a:lnTo>
                    <a:lnTo>
                      <a:pt x="144" y="84"/>
                    </a:lnTo>
                    <a:lnTo>
                      <a:pt x="164" y="71"/>
                    </a:lnTo>
                    <a:lnTo>
                      <a:pt x="188" y="59"/>
                    </a:lnTo>
                    <a:lnTo>
                      <a:pt x="214" y="47"/>
                    </a:lnTo>
                    <a:lnTo>
                      <a:pt x="241" y="37"/>
                    </a:lnTo>
                    <a:lnTo>
                      <a:pt x="272" y="28"/>
                    </a:lnTo>
                    <a:lnTo>
                      <a:pt x="305" y="20"/>
                    </a:lnTo>
                    <a:lnTo>
                      <a:pt x="340" y="13"/>
                    </a:lnTo>
                    <a:lnTo>
                      <a:pt x="377" y="8"/>
                    </a:lnTo>
                    <a:lnTo>
                      <a:pt x="418" y="3"/>
                    </a:lnTo>
                    <a:lnTo>
                      <a:pt x="461" y="1"/>
                    </a:lnTo>
                    <a:lnTo>
                      <a:pt x="508" y="0"/>
                    </a:lnTo>
                    <a:lnTo>
                      <a:pt x="553" y="1"/>
                    </a:lnTo>
                    <a:lnTo>
                      <a:pt x="597" y="3"/>
                    </a:lnTo>
                    <a:lnTo>
                      <a:pt x="637" y="6"/>
                    </a:lnTo>
                    <a:lnTo>
                      <a:pt x="674" y="12"/>
                    </a:lnTo>
                    <a:lnTo>
                      <a:pt x="709" y="18"/>
                    </a:lnTo>
                    <a:lnTo>
                      <a:pt x="742" y="25"/>
                    </a:lnTo>
                    <a:lnTo>
                      <a:pt x="773" y="34"/>
                    </a:lnTo>
                    <a:lnTo>
                      <a:pt x="801" y="43"/>
                    </a:lnTo>
                    <a:lnTo>
                      <a:pt x="826" y="52"/>
                    </a:lnTo>
                    <a:lnTo>
                      <a:pt x="850" y="63"/>
                    </a:lnTo>
                    <a:lnTo>
                      <a:pt x="871" y="75"/>
                    </a:lnTo>
                    <a:lnTo>
                      <a:pt x="891" y="86"/>
                    </a:lnTo>
                    <a:lnTo>
                      <a:pt x="909" y="98"/>
                    </a:lnTo>
                    <a:lnTo>
                      <a:pt x="925" y="111"/>
                    </a:lnTo>
                    <a:lnTo>
                      <a:pt x="938" y="123"/>
                    </a:lnTo>
                    <a:lnTo>
                      <a:pt x="951" y="136"/>
                    </a:lnTo>
                    <a:lnTo>
                      <a:pt x="962" y="148"/>
                    </a:lnTo>
                    <a:lnTo>
                      <a:pt x="972" y="161"/>
                    </a:lnTo>
                    <a:lnTo>
                      <a:pt x="980" y="173"/>
                    </a:lnTo>
                    <a:lnTo>
                      <a:pt x="988" y="186"/>
                    </a:lnTo>
                    <a:lnTo>
                      <a:pt x="1000" y="208"/>
                    </a:lnTo>
                    <a:lnTo>
                      <a:pt x="1006" y="229"/>
                    </a:lnTo>
                    <a:lnTo>
                      <a:pt x="1014" y="260"/>
                    </a:lnTo>
                    <a:lnTo>
                      <a:pt x="1014" y="271"/>
                    </a:lnTo>
                  </a:path>
                </a:pathLst>
              </a:custGeom>
              <a:noFill/>
              <a:ln w="1440">
                <a:solidFill>
                  <a:srgbClr val="000000"/>
                </a:solidFill>
                <a:round/>
              </a:ln>
            </p:spPr>
            <p:style>
              <a:lnRef idx="0"/>
              <a:fillRef idx="0"/>
              <a:effectRef idx="0"/>
              <a:fontRef idx="minor"/>
            </p:style>
            <p:txBody>
              <a:bodyPr wrap="none" lIns="93240" rIns="93240" tIns="9360" bIns="9360" anchor="t">
                <a:spAutoFit/>
              </a:bodyPr>
              <a:p>
                <a:endParaRPr b="0" lang="en-US" sz="2400" spc="-1" strike="noStrike">
                  <a:solidFill>
                    <a:srgbClr val="ffffff"/>
                  </a:solidFill>
                  <a:latin typeface="Times New Roman"/>
                </a:endParaRPr>
              </a:p>
            </p:txBody>
          </p:sp>
        </p:grpSp>
        <p:grpSp>
          <p:nvGrpSpPr>
            <p:cNvPr id="659" name=""/>
            <p:cNvGrpSpPr/>
            <p:nvPr/>
          </p:nvGrpSpPr>
          <p:grpSpPr>
            <a:xfrm>
              <a:off x="6842160" y="1539720"/>
              <a:ext cx="1616040" cy="3417840"/>
              <a:chOff x="6842160" y="1539720"/>
              <a:chExt cx="1616040" cy="3417840"/>
            </a:xfrm>
          </p:grpSpPr>
          <p:sp>
            <p:nvSpPr>
              <p:cNvPr id="660" name=""/>
              <p:cNvSpPr/>
              <p:nvPr/>
            </p:nvSpPr>
            <p:spPr>
              <a:xfrm>
                <a:off x="7077240" y="3543840"/>
                <a:ext cx="179280" cy="280440"/>
              </a:xfrm>
              <a:custGeom>
                <a:avLst/>
                <a:gdLst/>
                <a:ahLst/>
                <a:rect l="l" t="t" r="r" b="b"/>
                <a:pathLst>
                  <a:path w="117" h="236">
                    <a:moveTo>
                      <a:pt x="9" y="0"/>
                    </a:moveTo>
                    <a:lnTo>
                      <a:pt x="0" y="112"/>
                    </a:lnTo>
                    <a:lnTo>
                      <a:pt x="11" y="135"/>
                    </a:lnTo>
                    <a:lnTo>
                      <a:pt x="19" y="156"/>
                    </a:lnTo>
                    <a:lnTo>
                      <a:pt x="25" y="175"/>
                    </a:lnTo>
                    <a:lnTo>
                      <a:pt x="32" y="192"/>
                    </a:lnTo>
                    <a:lnTo>
                      <a:pt x="38" y="200"/>
                    </a:lnTo>
                    <a:lnTo>
                      <a:pt x="44" y="208"/>
                    </a:lnTo>
                    <a:lnTo>
                      <a:pt x="50" y="213"/>
                    </a:lnTo>
                    <a:lnTo>
                      <a:pt x="57" y="219"/>
                    </a:lnTo>
                    <a:lnTo>
                      <a:pt x="67" y="225"/>
                    </a:lnTo>
                    <a:lnTo>
                      <a:pt x="79" y="229"/>
                    </a:lnTo>
                    <a:lnTo>
                      <a:pt x="92" y="233"/>
                    </a:lnTo>
                    <a:lnTo>
                      <a:pt x="107" y="236"/>
                    </a:lnTo>
                    <a:lnTo>
                      <a:pt x="107" y="233"/>
                    </a:lnTo>
                    <a:lnTo>
                      <a:pt x="109" y="233"/>
                    </a:lnTo>
                    <a:lnTo>
                      <a:pt x="111" y="229"/>
                    </a:lnTo>
                    <a:lnTo>
                      <a:pt x="111" y="229"/>
                    </a:lnTo>
                    <a:lnTo>
                      <a:pt x="111" y="227"/>
                    </a:lnTo>
                    <a:lnTo>
                      <a:pt x="113" y="227"/>
                    </a:lnTo>
                    <a:lnTo>
                      <a:pt x="113" y="225"/>
                    </a:lnTo>
                    <a:lnTo>
                      <a:pt x="113" y="223"/>
                    </a:lnTo>
                    <a:lnTo>
                      <a:pt x="113" y="223"/>
                    </a:lnTo>
                    <a:lnTo>
                      <a:pt x="113" y="221"/>
                    </a:lnTo>
                    <a:lnTo>
                      <a:pt x="113" y="219"/>
                    </a:lnTo>
                    <a:lnTo>
                      <a:pt x="111" y="215"/>
                    </a:lnTo>
                    <a:lnTo>
                      <a:pt x="109" y="215"/>
                    </a:lnTo>
                    <a:lnTo>
                      <a:pt x="109" y="213"/>
                    </a:lnTo>
                    <a:lnTo>
                      <a:pt x="107" y="213"/>
                    </a:lnTo>
                    <a:lnTo>
                      <a:pt x="107" y="212"/>
                    </a:lnTo>
                    <a:lnTo>
                      <a:pt x="107" y="210"/>
                    </a:lnTo>
                    <a:lnTo>
                      <a:pt x="105" y="208"/>
                    </a:lnTo>
                    <a:lnTo>
                      <a:pt x="105" y="206"/>
                    </a:lnTo>
                    <a:lnTo>
                      <a:pt x="105" y="206"/>
                    </a:lnTo>
                    <a:lnTo>
                      <a:pt x="102" y="204"/>
                    </a:lnTo>
                    <a:lnTo>
                      <a:pt x="100" y="202"/>
                    </a:lnTo>
                    <a:lnTo>
                      <a:pt x="98" y="202"/>
                    </a:lnTo>
                    <a:lnTo>
                      <a:pt x="96" y="200"/>
                    </a:lnTo>
                    <a:lnTo>
                      <a:pt x="94" y="200"/>
                    </a:lnTo>
                    <a:lnTo>
                      <a:pt x="90" y="198"/>
                    </a:lnTo>
                    <a:lnTo>
                      <a:pt x="88" y="198"/>
                    </a:lnTo>
                    <a:lnTo>
                      <a:pt x="86" y="198"/>
                    </a:lnTo>
                    <a:lnTo>
                      <a:pt x="84" y="198"/>
                    </a:lnTo>
                    <a:lnTo>
                      <a:pt x="84" y="198"/>
                    </a:lnTo>
                    <a:lnTo>
                      <a:pt x="82" y="196"/>
                    </a:lnTo>
                    <a:lnTo>
                      <a:pt x="82" y="196"/>
                    </a:lnTo>
                    <a:lnTo>
                      <a:pt x="82" y="196"/>
                    </a:lnTo>
                    <a:lnTo>
                      <a:pt x="82" y="196"/>
                    </a:lnTo>
                    <a:lnTo>
                      <a:pt x="81" y="196"/>
                    </a:lnTo>
                    <a:lnTo>
                      <a:pt x="81" y="196"/>
                    </a:lnTo>
                    <a:lnTo>
                      <a:pt x="81" y="196"/>
                    </a:lnTo>
                    <a:lnTo>
                      <a:pt x="81" y="192"/>
                    </a:lnTo>
                    <a:lnTo>
                      <a:pt x="81" y="190"/>
                    </a:lnTo>
                    <a:lnTo>
                      <a:pt x="81" y="188"/>
                    </a:lnTo>
                    <a:lnTo>
                      <a:pt x="82" y="188"/>
                    </a:lnTo>
                    <a:lnTo>
                      <a:pt x="82" y="187"/>
                    </a:lnTo>
                    <a:lnTo>
                      <a:pt x="82" y="185"/>
                    </a:lnTo>
                    <a:lnTo>
                      <a:pt x="82" y="183"/>
                    </a:lnTo>
                    <a:lnTo>
                      <a:pt x="82" y="181"/>
                    </a:lnTo>
                    <a:lnTo>
                      <a:pt x="82" y="179"/>
                    </a:lnTo>
                    <a:lnTo>
                      <a:pt x="81" y="179"/>
                    </a:lnTo>
                    <a:lnTo>
                      <a:pt x="81" y="177"/>
                    </a:lnTo>
                    <a:lnTo>
                      <a:pt x="79" y="175"/>
                    </a:lnTo>
                    <a:lnTo>
                      <a:pt x="77" y="173"/>
                    </a:lnTo>
                    <a:lnTo>
                      <a:pt x="75" y="171"/>
                    </a:lnTo>
                    <a:lnTo>
                      <a:pt x="75" y="169"/>
                    </a:lnTo>
                    <a:lnTo>
                      <a:pt x="75" y="169"/>
                    </a:lnTo>
                    <a:lnTo>
                      <a:pt x="75" y="167"/>
                    </a:lnTo>
                    <a:lnTo>
                      <a:pt x="73" y="165"/>
                    </a:lnTo>
                    <a:lnTo>
                      <a:pt x="73" y="164"/>
                    </a:lnTo>
                    <a:lnTo>
                      <a:pt x="75" y="164"/>
                    </a:lnTo>
                    <a:lnTo>
                      <a:pt x="75" y="162"/>
                    </a:lnTo>
                    <a:lnTo>
                      <a:pt x="75" y="164"/>
                    </a:lnTo>
                    <a:lnTo>
                      <a:pt x="79" y="164"/>
                    </a:lnTo>
                    <a:lnTo>
                      <a:pt x="79" y="167"/>
                    </a:lnTo>
                    <a:lnTo>
                      <a:pt x="81" y="167"/>
                    </a:lnTo>
                    <a:lnTo>
                      <a:pt x="81" y="167"/>
                    </a:lnTo>
                    <a:lnTo>
                      <a:pt x="100" y="171"/>
                    </a:lnTo>
                    <a:lnTo>
                      <a:pt x="105" y="169"/>
                    </a:lnTo>
                    <a:lnTo>
                      <a:pt x="105" y="167"/>
                    </a:lnTo>
                    <a:lnTo>
                      <a:pt x="109" y="165"/>
                    </a:lnTo>
                    <a:lnTo>
                      <a:pt x="111" y="162"/>
                    </a:lnTo>
                    <a:lnTo>
                      <a:pt x="113" y="156"/>
                    </a:lnTo>
                    <a:lnTo>
                      <a:pt x="115" y="148"/>
                    </a:lnTo>
                    <a:lnTo>
                      <a:pt x="117" y="139"/>
                    </a:lnTo>
                    <a:lnTo>
                      <a:pt x="117" y="131"/>
                    </a:lnTo>
                    <a:lnTo>
                      <a:pt x="115" y="125"/>
                    </a:lnTo>
                    <a:lnTo>
                      <a:pt x="115" y="121"/>
                    </a:lnTo>
                    <a:lnTo>
                      <a:pt x="115" y="119"/>
                    </a:lnTo>
                    <a:lnTo>
                      <a:pt x="115" y="117"/>
                    </a:lnTo>
                    <a:lnTo>
                      <a:pt x="113" y="117"/>
                    </a:lnTo>
                    <a:lnTo>
                      <a:pt x="113" y="116"/>
                    </a:lnTo>
                    <a:lnTo>
                      <a:pt x="113" y="114"/>
                    </a:lnTo>
                    <a:lnTo>
                      <a:pt x="113" y="114"/>
                    </a:lnTo>
                    <a:lnTo>
                      <a:pt x="113" y="112"/>
                    </a:lnTo>
                    <a:lnTo>
                      <a:pt x="113" y="110"/>
                    </a:lnTo>
                    <a:lnTo>
                      <a:pt x="109" y="104"/>
                    </a:lnTo>
                    <a:lnTo>
                      <a:pt x="90" y="16"/>
                    </a:lnTo>
                    <a:lnTo>
                      <a:pt x="84" y="12"/>
                    </a:lnTo>
                    <a:lnTo>
                      <a:pt x="77" y="8"/>
                    </a:lnTo>
                    <a:lnTo>
                      <a:pt x="69" y="8"/>
                    </a:lnTo>
                    <a:lnTo>
                      <a:pt x="61" y="10"/>
                    </a:lnTo>
                    <a:lnTo>
                      <a:pt x="54" y="10"/>
                    </a:lnTo>
                    <a:lnTo>
                      <a:pt x="46" y="12"/>
                    </a:lnTo>
                    <a:lnTo>
                      <a:pt x="40" y="10"/>
                    </a:lnTo>
                    <a:lnTo>
                      <a:pt x="34" y="8"/>
                    </a:lnTo>
                    <a:lnTo>
                      <a:pt x="31" y="8"/>
                    </a:lnTo>
                    <a:lnTo>
                      <a:pt x="27" y="8"/>
                    </a:lnTo>
                    <a:lnTo>
                      <a:pt x="23" y="8"/>
                    </a:lnTo>
                    <a:lnTo>
                      <a:pt x="21" y="6"/>
                    </a:lnTo>
                    <a:lnTo>
                      <a:pt x="19" y="6"/>
                    </a:lnTo>
                    <a:lnTo>
                      <a:pt x="15" y="4"/>
                    </a:lnTo>
                    <a:lnTo>
                      <a:pt x="13" y="2"/>
                    </a:lnTo>
                    <a:lnTo>
                      <a:pt x="9" y="0"/>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7077240" y="3543840"/>
                <a:ext cx="179280" cy="280440"/>
              </a:xfrm>
              <a:custGeom>
                <a:avLst/>
                <a:gdLst/>
                <a:ahLst/>
                <a:rect l="l" t="t" r="r" b="b"/>
                <a:pathLst>
                  <a:path w="117" h="236">
                    <a:moveTo>
                      <a:pt x="9" y="0"/>
                    </a:moveTo>
                    <a:lnTo>
                      <a:pt x="0" y="112"/>
                    </a:lnTo>
                    <a:lnTo>
                      <a:pt x="11" y="135"/>
                    </a:lnTo>
                    <a:lnTo>
                      <a:pt x="19" y="156"/>
                    </a:lnTo>
                    <a:lnTo>
                      <a:pt x="25" y="175"/>
                    </a:lnTo>
                    <a:lnTo>
                      <a:pt x="32" y="192"/>
                    </a:lnTo>
                    <a:lnTo>
                      <a:pt x="38" y="200"/>
                    </a:lnTo>
                    <a:lnTo>
                      <a:pt x="44" y="208"/>
                    </a:lnTo>
                    <a:lnTo>
                      <a:pt x="50" y="213"/>
                    </a:lnTo>
                    <a:lnTo>
                      <a:pt x="57" y="219"/>
                    </a:lnTo>
                    <a:lnTo>
                      <a:pt x="67" y="225"/>
                    </a:lnTo>
                    <a:lnTo>
                      <a:pt x="79" y="229"/>
                    </a:lnTo>
                    <a:lnTo>
                      <a:pt x="92" y="233"/>
                    </a:lnTo>
                    <a:lnTo>
                      <a:pt x="107" y="236"/>
                    </a:lnTo>
                    <a:lnTo>
                      <a:pt x="107" y="233"/>
                    </a:lnTo>
                    <a:lnTo>
                      <a:pt x="109" y="233"/>
                    </a:lnTo>
                    <a:lnTo>
                      <a:pt x="111" y="229"/>
                    </a:lnTo>
                    <a:lnTo>
                      <a:pt x="111" y="227"/>
                    </a:lnTo>
                    <a:lnTo>
                      <a:pt x="113" y="227"/>
                    </a:lnTo>
                    <a:lnTo>
                      <a:pt x="113" y="225"/>
                    </a:lnTo>
                    <a:lnTo>
                      <a:pt x="113" y="223"/>
                    </a:lnTo>
                    <a:lnTo>
                      <a:pt x="113" y="221"/>
                    </a:lnTo>
                    <a:lnTo>
                      <a:pt x="113" y="219"/>
                    </a:lnTo>
                    <a:lnTo>
                      <a:pt x="111" y="215"/>
                    </a:lnTo>
                    <a:lnTo>
                      <a:pt x="109" y="215"/>
                    </a:lnTo>
                    <a:lnTo>
                      <a:pt x="109" y="213"/>
                    </a:lnTo>
                    <a:lnTo>
                      <a:pt x="107" y="213"/>
                    </a:lnTo>
                    <a:lnTo>
                      <a:pt x="107" y="212"/>
                    </a:lnTo>
                    <a:lnTo>
                      <a:pt x="107" y="210"/>
                    </a:lnTo>
                    <a:lnTo>
                      <a:pt x="105" y="208"/>
                    </a:lnTo>
                    <a:lnTo>
                      <a:pt x="105" y="206"/>
                    </a:lnTo>
                    <a:lnTo>
                      <a:pt x="102" y="204"/>
                    </a:lnTo>
                    <a:lnTo>
                      <a:pt x="100" y="202"/>
                    </a:lnTo>
                    <a:lnTo>
                      <a:pt x="98" y="202"/>
                    </a:lnTo>
                    <a:lnTo>
                      <a:pt x="96" y="200"/>
                    </a:lnTo>
                    <a:lnTo>
                      <a:pt x="94" y="200"/>
                    </a:lnTo>
                    <a:lnTo>
                      <a:pt x="90" y="198"/>
                    </a:lnTo>
                    <a:lnTo>
                      <a:pt x="88" y="198"/>
                    </a:lnTo>
                    <a:lnTo>
                      <a:pt x="86" y="198"/>
                    </a:lnTo>
                    <a:lnTo>
                      <a:pt x="84" y="198"/>
                    </a:lnTo>
                    <a:lnTo>
                      <a:pt x="82" y="196"/>
                    </a:lnTo>
                    <a:lnTo>
                      <a:pt x="81" y="196"/>
                    </a:lnTo>
                    <a:lnTo>
                      <a:pt x="81" y="192"/>
                    </a:lnTo>
                    <a:lnTo>
                      <a:pt x="81" y="190"/>
                    </a:lnTo>
                    <a:lnTo>
                      <a:pt x="81" y="188"/>
                    </a:lnTo>
                    <a:lnTo>
                      <a:pt x="82" y="188"/>
                    </a:lnTo>
                    <a:lnTo>
                      <a:pt x="82" y="187"/>
                    </a:lnTo>
                    <a:lnTo>
                      <a:pt x="82" y="185"/>
                    </a:lnTo>
                    <a:lnTo>
                      <a:pt x="82" y="183"/>
                    </a:lnTo>
                    <a:lnTo>
                      <a:pt x="82" y="181"/>
                    </a:lnTo>
                    <a:lnTo>
                      <a:pt x="82" y="179"/>
                    </a:lnTo>
                    <a:lnTo>
                      <a:pt x="81" y="179"/>
                    </a:lnTo>
                    <a:lnTo>
                      <a:pt x="81" y="177"/>
                    </a:lnTo>
                    <a:lnTo>
                      <a:pt x="79" y="175"/>
                    </a:lnTo>
                    <a:lnTo>
                      <a:pt x="77" y="173"/>
                    </a:lnTo>
                    <a:lnTo>
                      <a:pt x="75" y="171"/>
                    </a:lnTo>
                    <a:lnTo>
                      <a:pt x="75" y="169"/>
                    </a:lnTo>
                    <a:lnTo>
                      <a:pt x="75" y="167"/>
                    </a:lnTo>
                    <a:lnTo>
                      <a:pt x="73" y="165"/>
                    </a:lnTo>
                    <a:lnTo>
                      <a:pt x="73" y="164"/>
                    </a:lnTo>
                    <a:lnTo>
                      <a:pt x="75" y="164"/>
                    </a:lnTo>
                    <a:lnTo>
                      <a:pt x="75" y="162"/>
                    </a:lnTo>
                    <a:lnTo>
                      <a:pt x="75" y="164"/>
                    </a:lnTo>
                    <a:lnTo>
                      <a:pt x="79" y="164"/>
                    </a:lnTo>
                    <a:lnTo>
                      <a:pt x="79" y="167"/>
                    </a:lnTo>
                    <a:lnTo>
                      <a:pt x="81" y="167"/>
                    </a:lnTo>
                    <a:lnTo>
                      <a:pt x="100" y="171"/>
                    </a:lnTo>
                    <a:lnTo>
                      <a:pt x="105" y="169"/>
                    </a:lnTo>
                    <a:lnTo>
                      <a:pt x="105" y="167"/>
                    </a:lnTo>
                    <a:lnTo>
                      <a:pt x="109" y="165"/>
                    </a:lnTo>
                    <a:lnTo>
                      <a:pt x="111" y="162"/>
                    </a:lnTo>
                    <a:lnTo>
                      <a:pt x="113" y="156"/>
                    </a:lnTo>
                    <a:lnTo>
                      <a:pt x="115" y="148"/>
                    </a:lnTo>
                    <a:lnTo>
                      <a:pt x="117" y="139"/>
                    </a:lnTo>
                    <a:lnTo>
                      <a:pt x="117" y="131"/>
                    </a:lnTo>
                    <a:lnTo>
                      <a:pt x="115" y="125"/>
                    </a:lnTo>
                    <a:lnTo>
                      <a:pt x="115" y="121"/>
                    </a:lnTo>
                    <a:lnTo>
                      <a:pt x="115" y="119"/>
                    </a:lnTo>
                    <a:lnTo>
                      <a:pt x="115" y="117"/>
                    </a:lnTo>
                    <a:lnTo>
                      <a:pt x="113" y="117"/>
                    </a:lnTo>
                    <a:lnTo>
                      <a:pt x="113" y="116"/>
                    </a:lnTo>
                    <a:lnTo>
                      <a:pt x="113" y="114"/>
                    </a:lnTo>
                    <a:lnTo>
                      <a:pt x="113" y="112"/>
                    </a:lnTo>
                    <a:lnTo>
                      <a:pt x="113" y="110"/>
                    </a:lnTo>
                    <a:lnTo>
                      <a:pt x="109" y="104"/>
                    </a:lnTo>
                    <a:lnTo>
                      <a:pt x="90" y="16"/>
                    </a:lnTo>
                    <a:lnTo>
                      <a:pt x="84" y="12"/>
                    </a:lnTo>
                    <a:lnTo>
                      <a:pt x="77" y="8"/>
                    </a:lnTo>
                    <a:lnTo>
                      <a:pt x="69" y="8"/>
                    </a:lnTo>
                    <a:lnTo>
                      <a:pt x="61" y="10"/>
                    </a:lnTo>
                    <a:lnTo>
                      <a:pt x="54" y="10"/>
                    </a:lnTo>
                    <a:lnTo>
                      <a:pt x="46" y="12"/>
                    </a:lnTo>
                    <a:lnTo>
                      <a:pt x="40" y="10"/>
                    </a:lnTo>
                    <a:lnTo>
                      <a:pt x="34" y="8"/>
                    </a:lnTo>
                    <a:lnTo>
                      <a:pt x="31" y="8"/>
                    </a:lnTo>
                    <a:lnTo>
                      <a:pt x="27" y="8"/>
                    </a:lnTo>
                    <a:lnTo>
                      <a:pt x="23" y="8"/>
                    </a:lnTo>
                    <a:lnTo>
                      <a:pt x="21" y="6"/>
                    </a:lnTo>
                    <a:lnTo>
                      <a:pt x="19" y="6"/>
                    </a:lnTo>
                    <a:lnTo>
                      <a:pt x="15" y="4"/>
                    </a:lnTo>
                    <a:lnTo>
                      <a:pt x="13" y="2"/>
                    </a:lnTo>
                    <a:lnTo>
                      <a:pt x="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7350120" y="1707120"/>
                <a:ext cx="657360" cy="1096200"/>
              </a:xfrm>
              <a:custGeom>
                <a:avLst/>
                <a:gdLst/>
                <a:ahLst/>
                <a:rect l="l" t="t" r="r" b="b"/>
                <a:pathLst>
                  <a:path w="428" h="921">
                    <a:moveTo>
                      <a:pt x="384" y="259"/>
                    </a:moveTo>
                    <a:lnTo>
                      <a:pt x="388" y="257"/>
                    </a:lnTo>
                    <a:lnTo>
                      <a:pt x="390" y="255"/>
                    </a:lnTo>
                    <a:lnTo>
                      <a:pt x="392" y="249"/>
                    </a:lnTo>
                    <a:lnTo>
                      <a:pt x="394" y="244"/>
                    </a:lnTo>
                    <a:lnTo>
                      <a:pt x="396" y="238"/>
                    </a:lnTo>
                    <a:lnTo>
                      <a:pt x="398" y="232"/>
                    </a:lnTo>
                    <a:lnTo>
                      <a:pt x="400" y="228"/>
                    </a:lnTo>
                    <a:lnTo>
                      <a:pt x="405" y="228"/>
                    </a:lnTo>
                    <a:lnTo>
                      <a:pt x="415" y="228"/>
                    </a:lnTo>
                    <a:lnTo>
                      <a:pt x="421" y="232"/>
                    </a:lnTo>
                    <a:lnTo>
                      <a:pt x="427" y="236"/>
                    </a:lnTo>
                    <a:lnTo>
                      <a:pt x="428" y="244"/>
                    </a:lnTo>
                    <a:lnTo>
                      <a:pt x="428" y="251"/>
                    </a:lnTo>
                    <a:lnTo>
                      <a:pt x="428" y="259"/>
                    </a:lnTo>
                    <a:lnTo>
                      <a:pt x="427" y="268"/>
                    </a:lnTo>
                    <a:lnTo>
                      <a:pt x="423" y="280"/>
                    </a:lnTo>
                    <a:lnTo>
                      <a:pt x="413" y="303"/>
                    </a:lnTo>
                    <a:lnTo>
                      <a:pt x="402" y="326"/>
                    </a:lnTo>
                    <a:lnTo>
                      <a:pt x="392" y="351"/>
                    </a:lnTo>
                    <a:lnTo>
                      <a:pt x="384" y="372"/>
                    </a:lnTo>
                    <a:lnTo>
                      <a:pt x="379" y="395"/>
                    </a:lnTo>
                    <a:lnTo>
                      <a:pt x="375" y="416"/>
                    </a:lnTo>
                    <a:lnTo>
                      <a:pt x="371" y="435"/>
                    </a:lnTo>
                    <a:lnTo>
                      <a:pt x="367" y="455"/>
                    </a:lnTo>
                    <a:lnTo>
                      <a:pt x="361" y="472"/>
                    </a:lnTo>
                    <a:lnTo>
                      <a:pt x="354" y="489"/>
                    </a:lnTo>
                    <a:lnTo>
                      <a:pt x="342" y="506"/>
                    </a:lnTo>
                    <a:lnTo>
                      <a:pt x="327" y="524"/>
                    </a:lnTo>
                    <a:lnTo>
                      <a:pt x="269" y="558"/>
                    </a:lnTo>
                    <a:lnTo>
                      <a:pt x="271" y="574"/>
                    </a:lnTo>
                    <a:lnTo>
                      <a:pt x="273" y="589"/>
                    </a:lnTo>
                    <a:lnTo>
                      <a:pt x="275" y="602"/>
                    </a:lnTo>
                    <a:lnTo>
                      <a:pt x="281" y="618"/>
                    </a:lnTo>
                    <a:lnTo>
                      <a:pt x="286" y="633"/>
                    </a:lnTo>
                    <a:lnTo>
                      <a:pt x="294" y="646"/>
                    </a:lnTo>
                    <a:lnTo>
                      <a:pt x="304" y="662"/>
                    </a:lnTo>
                    <a:lnTo>
                      <a:pt x="315" y="675"/>
                    </a:lnTo>
                    <a:lnTo>
                      <a:pt x="349" y="686"/>
                    </a:lnTo>
                    <a:lnTo>
                      <a:pt x="384" y="685"/>
                    </a:lnTo>
                    <a:lnTo>
                      <a:pt x="379" y="723"/>
                    </a:lnTo>
                    <a:lnTo>
                      <a:pt x="371" y="758"/>
                    </a:lnTo>
                    <a:lnTo>
                      <a:pt x="361" y="790"/>
                    </a:lnTo>
                    <a:lnTo>
                      <a:pt x="352" y="821"/>
                    </a:lnTo>
                    <a:lnTo>
                      <a:pt x="340" y="848"/>
                    </a:lnTo>
                    <a:lnTo>
                      <a:pt x="329" y="871"/>
                    </a:lnTo>
                    <a:lnTo>
                      <a:pt x="313" y="888"/>
                    </a:lnTo>
                    <a:lnTo>
                      <a:pt x="298" y="904"/>
                    </a:lnTo>
                    <a:lnTo>
                      <a:pt x="290" y="909"/>
                    </a:lnTo>
                    <a:lnTo>
                      <a:pt x="282" y="915"/>
                    </a:lnTo>
                    <a:lnTo>
                      <a:pt x="273" y="917"/>
                    </a:lnTo>
                    <a:lnTo>
                      <a:pt x="265" y="921"/>
                    </a:lnTo>
                    <a:lnTo>
                      <a:pt x="256" y="921"/>
                    </a:lnTo>
                    <a:lnTo>
                      <a:pt x="246" y="921"/>
                    </a:lnTo>
                    <a:lnTo>
                      <a:pt x="234" y="919"/>
                    </a:lnTo>
                    <a:lnTo>
                      <a:pt x="225" y="917"/>
                    </a:lnTo>
                    <a:lnTo>
                      <a:pt x="213" y="913"/>
                    </a:lnTo>
                    <a:lnTo>
                      <a:pt x="204" y="907"/>
                    </a:lnTo>
                    <a:lnTo>
                      <a:pt x="192" y="902"/>
                    </a:lnTo>
                    <a:lnTo>
                      <a:pt x="181" y="894"/>
                    </a:lnTo>
                    <a:lnTo>
                      <a:pt x="156" y="873"/>
                    </a:lnTo>
                    <a:lnTo>
                      <a:pt x="131" y="846"/>
                    </a:lnTo>
                    <a:lnTo>
                      <a:pt x="127" y="833"/>
                    </a:lnTo>
                    <a:lnTo>
                      <a:pt x="121" y="817"/>
                    </a:lnTo>
                    <a:lnTo>
                      <a:pt x="112" y="804"/>
                    </a:lnTo>
                    <a:lnTo>
                      <a:pt x="102" y="788"/>
                    </a:lnTo>
                    <a:lnTo>
                      <a:pt x="90" y="773"/>
                    </a:lnTo>
                    <a:lnTo>
                      <a:pt x="81" y="760"/>
                    </a:lnTo>
                    <a:lnTo>
                      <a:pt x="73" y="744"/>
                    </a:lnTo>
                    <a:lnTo>
                      <a:pt x="69" y="731"/>
                    </a:lnTo>
                    <a:lnTo>
                      <a:pt x="58" y="696"/>
                    </a:lnTo>
                    <a:lnTo>
                      <a:pt x="95" y="692"/>
                    </a:lnTo>
                    <a:lnTo>
                      <a:pt x="115" y="669"/>
                    </a:lnTo>
                    <a:lnTo>
                      <a:pt x="129" y="641"/>
                    </a:lnTo>
                    <a:lnTo>
                      <a:pt x="136" y="627"/>
                    </a:lnTo>
                    <a:lnTo>
                      <a:pt x="140" y="612"/>
                    </a:lnTo>
                    <a:lnTo>
                      <a:pt x="144" y="597"/>
                    </a:lnTo>
                    <a:lnTo>
                      <a:pt x="144" y="581"/>
                    </a:lnTo>
                    <a:lnTo>
                      <a:pt x="142" y="566"/>
                    </a:lnTo>
                    <a:lnTo>
                      <a:pt x="138" y="552"/>
                    </a:lnTo>
                    <a:lnTo>
                      <a:pt x="133" y="539"/>
                    </a:lnTo>
                    <a:lnTo>
                      <a:pt x="123" y="527"/>
                    </a:lnTo>
                    <a:lnTo>
                      <a:pt x="106" y="506"/>
                    </a:lnTo>
                    <a:lnTo>
                      <a:pt x="92" y="483"/>
                    </a:lnTo>
                    <a:lnTo>
                      <a:pt x="81" y="462"/>
                    </a:lnTo>
                    <a:lnTo>
                      <a:pt x="71" y="439"/>
                    </a:lnTo>
                    <a:lnTo>
                      <a:pt x="65" y="414"/>
                    </a:lnTo>
                    <a:lnTo>
                      <a:pt x="60" y="389"/>
                    </a:lnTo>
                    <a:lnTo>
                      <a:pt x="54" y="362"/>
                    </a:lnTo>
                    <a:lnTo>
                      <a:pt x="50" y="334"/>
                    </a:lnTo>
                    <a:lnTo>
                      <a:pt x="48" y="328"/>
                    </a:lnTo>
                    <a:lnTo>
                      <a:pt x="46" y="322"/>
                    </a:lnTo>
                    <a:lnTo>
                      <a:pt x="44" y="315"/>
                    </a:lnTo>
                    <a:lnTo>
                      <a:pt x="39" y="307"/>
                    </a:lnTo>
                    <a:lnTo>
                      <a:pt x="29" y="293"/>
                    </a:lnTo>
                    <a:lnTo>
                      <a:pt x="19" y="278"/>
                    </a:lnTo>
                    <a:lnTo>
                      <a:pt x="10" y="265"/>
                    </a:lnTo>
                    <a:lnTo>
                      <a:pt x="2" y="251"/>
                    </a:lnTo>
                    <a:lnTo>
                      <a:pt x="0" y="245"/>
                    </a:lnTo>
                    <a:lnTo>
                      <a:pt x="0" y="240"/>
                    </a:lnTo>
                    <a:lnTo>
                      <a:pt x="2" y="234"/>
                    </a:lnTo>
                    <a:lnTo>
                      <a:pt x="4" y="230"/>
                    </a:lnTo>
                    <a:lnTo>
                      <a:pt x="10" y="226"/>
                    </a:lnTo>
                    <a:lnTo>
                      <a:pt x="15" y="222"/>
                    </a:lnTo>
                    <a:lnTo>
                      <a:pt x="21" y="219"/>
                    </a:lnTo>
                    <a:lnTo>
                      <a:pt x="29" y="217"/>
                    </a:lnTo>
                    <a:lnTo>
                      <a:pt x="35" y="215"/>
                    </a:lnTo>
                    <a:lnTo>
                      <a:pt x="40" y="215"/>
                    </a:lnTo>
                    <a:lnTo>
                      <a:pt x="46" y="217"/>
                    </a:lnTo>
                    <a:lnTo>
                      <a:pt x="54" y="219"/>
                    </a:lnTo>
                    <a:lnTo>
                      <a:pt x="58" y="220"/>
                    </a:lnTo>
                    <a:lnTo>
                      <a:pt x="60" y="219"/>
                    </a:lnTo>
                    <a:lnTo>
                      <a:pt x="62" y="217"/>
                    </a:lnTo>
                    <a:lnTo>
                      <a:pt x="62" y="215"/>
                    </a:lnTo>
                    <a:lnTo>
                      <a:pt x="62" y="213"/>
                    </a:lnTo>
                    <a:lnTo>
                      <a:pt x="62" y="211"/>
                    </a:lnTo>
                    <a:lnTo>
                      <a:pt x="64" y="209"/>
                    </a:lnTo>
                    <a:lnTo>
                      <a:pt x="64" y="207"/>
                    </a:lnTo>
                    <a:lnTo>
                      <a:pt x="64" y="205"/>
                    </a:lnTo>
                    <a:lnTo>
                      <a:pt x="64" y="176"/>
                    </a:lnTo>
                    <a:lnTo>
                      <a:pt x="65" y="148"/>
                    </a:lnTo>
                    <a:lnTo>
                      <a:pt x="67" y="119"/>
                    </a:lnTo>
                    <a:lnTo>
                      <a:pt x="73" y="90"/>
                    </a:lnTo>
                    <a:lnTo>
                      <a:pt x="77" y="78"/>
                    </a:lnTo>
                    <a:lnTo>
                      <a:pt x="83" y="65"/>
                    </a:lnTo>
                    <a:lnTo>
                      <a:pt x="90" y="54"/>
                    </a:lnTo>
                    <a:lnTo>
                      <a:pt x="98" y="42"/>
                    </a:lnTo>
                    <a:lnTo>
                      <a:pt x="108" y="32"/>
                    </a:lnTo>
                    <a:lnTo>
                      <a:pt x="119" y="25"/>
                    </a:lnTo>
                    <a:lnTo>
                      <a:pt x="133" y="15"/>
                    </a:lnTo>
                    <a:lnTo>
                      <a:pt x="148" y="9"/>
                    </a:lnTo>
                    <a:lnTo>
                      <a:pt x="171" y="4"/>
                    </a:lnTo>
                    <a:lnTo>
                      <a:pt x="198" y="2"/>
                    </a:lnTo>
                    <a:lnTo>
                      <a:pt x="229" y="0"/>
                    </a:lnTo>
                    <a:lnTo>
                      <a:pt x="259" y="2"/>
                    </a:lnTo>
                    <a:lnTo>
                      <a:pt x="290" y="6"/>
                    </a:lnTo>
                    <a:lnTo>
                      <a:pt x="319" y="13"/>
                    </a:lnTo>
                    <a:lnTo>
                      <a:pt x="332" y="17"/>
                    </a:lnTo>
                    <a:lnTo>
                      <a:pt x="344" y="23"/>
                    </a:lnTo>
                    <a:lnTo>
                      <a:pt x="355" y="31"/>
                    </a:lnTo>
                    <a:lnTo>
                      <a:pt x="365" y="36"/>
                    </a:lnTo>
                    <a:lnTo>
                      <a:pt x="375" y="48"/>
                    </a:lnTo>
                    <a:lnTo>
                      <a:pt x="382" y="57"/>
                    </a:lnTo>
                    <a:lnTo>
                      <a:pt x="388" y="71"/>
                    </a:lnTo>
                    <a:lnTo>
                      <a:pt x="394" y="84"/>
                    </a:lnTo>
                    <a:lnTo>
                      <a:pt x="396" y="98"/>
                    </a:lnTo>
                    <a:lnTo>
                      <a:pt x="400" y="111"/>
                    </a:lnTo>
                    <a:lnTo>
                      <a:pt x="400" y="126"/>
                    </a:lnTo>
                    <a:lnTo>
                      <a:pt x="400" y="142"/>
                    </a:lnTo>
                    <a:lnTo>
                      <a:pt x="398" y="174"/>
                    </a:lnTo>
                    <a:lnTo>
                      <a:pt x="394" y="205"/>
                    </a:lnTo>
                    <a:lnTo>
                      <a:pt x="390" y="234"/>
                    </a:lnTo>
                    <a:lnTo>
                      <a:pt x="384" y="259"/>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7350120" y="1707120"/>
                <a:ext cx="657360" cy="1096200"/>
              </a:xfrm>
              <a:custGeom>
                <a:avLst/>
                <a:gdLst/>
                <a:ahLst/>
                <a:rect l="l" t="t" r="r" b="b"/>
                <a:pathLst>
                  <a:path w="428" h="921">
                    <a:moveTo>
                      <a:pt x="384" y="259"/>
                    </a:moveTo>
                    <a:lnTo>
                      <a:pt x="388" y="257"/>
                    </a:lnTo>
                    <a:lnTo>
                      <a:pt x="390" y="255"/>
                    </a:lnTo>
                    <a:lnTo>
                      <a:pt x="392" y="249"/>
                    </a:lnTo>
                    <a:lnTo>
                      <a:pt x="394" y="244"/>
                    </a:lnTo>
                    <a:lnTo>
                      <a:pt x="396" y="238"/>
                    </a:lnTo>
                    <a:lnTo>
                      <a:pt x="398" y="232"/>
                    </a:lnTo>
                    <a:lnTo>
                      <a:pt x="400" y="228"/>
                    </a:lnTo>
                    <a:lnTo>
                      <a:pt x="405" y="228"/>
                    </a:lnTo>
                    <a:lnTo>
                      <a:pt x="415" y="228"/>
                    </a:lnTo>
                    <a:lnTo>
                      <a:pt x="421" y="232"/>
                    </a:lnTo>
                    <a:lnTo>
                      <a:pt x="427" y="236"/>
                    </a:lnTo>
                    <a:lnTo>
                      <a:pt x="428" y="244"/>
                    </a:lnTo>
                    <a:lnTo>
                      <a:pt x="428" y="251"/>
                    </a:lnTo>
                    <a:lnTo>
                      <a:pt x="428" y="259"/>
                    </a:lnTo>
                    <a:lnTo>
                      <a:pt x="427" y="268"/>
                    </a:lnTo>
                    <a:lnTo>
                      <a:pt x="423" y="280"/>
                    </a:lnTo>
                    <a:lnTo>
                      <a:pt x="413" y="303"/>
                    </a:lnTo>
                    <a:lnTo>
                      <a:pt x="402" y="326"/>
                    </a:lnTo>
                    <a:lnTo>
                      <a:pt x="392" y="351"/>
                    </a:lnTo>
                    <a:lnTo>
                      <a:pt x="384" y="372"/>
                    </a:lnTo>
                    <a:lnTo>
                      <a:pt x="379" y="395"/>
                    </a:lnTo>
                    <a:lnTo>
                      <a:pt x="375" y="416"/>
                    </a:lnTo>
                    <a:lnTo>
                      <a:pt x="371" y="435"/>
                    </a:lnTo>
                    <a:lnTo>
                      <a:pt x="367" y="455"/>
                    </a:lnTo>
                    <a:lnTo>
                      <a:pt x="361" y="472"/>
                    </a:lnTo>
                    <a:lnTo>
                      <a:pt x="354" y="489"/>
                    </a:lnTo>
                    <a:lnTo>
                      <a:pt x="342" y="506"/>
                    </a:lnTo>
                    <a:lnTo>
                      <a:pt x="327" y="524"/>
                    </a:lnTo>
                    <a:lnTo>
                      <a:pt x="269" y="558"/>
                    </a:lnTo>
                    <a:lnTo>
                      <a:pt x="271" y="574"/>
                    </a:lnTo>
                    <a:lnTo>
                      <a:pt x="273" y="589"/>
                    </a:lnTo>
                    <a:lnTo>
                      <a:pt x="275" y="602"/>
                    </a:lnTo>
                    <a:lnTo>
                      <a:pt x="281" y="618"/>
                    </a:lnTo>
                    <a:lnTo>
                      <a:pt x="286" y="633"/>
                    </a:lnTo>
                    <a:lnTo>
                      <a:pt x="294" y="646"/>
                    </a:lnTo>
                    <a:lnTo>
                      <a:pt x="304" y="662"/>
                    </a:lnTo>
                    <a:lnTo>
                      <a:pt x="315" y="675"/>
                    </a:lnTo>
                    <a:lnTo>
                      <a:pt x="384" y="685"/>
                    </a:lnTo>
                    <a:lnTo>
                      <a:pt x="379" y="723"/>
                    </a:lnTo>
                    <a:lnTo>
                      <a:pt x="371" y="758"/>
                    </a:lnTo>
                    <a:lnTo>
                      <a:pt x="361" y="790"/>
                    </a:lnTo>
                    <a:lnTo>
                      <a:pt x="352" y="821"/>
                    </a:lnTo>
                    <a:lnTo>
                      <a:pt x="340" y="848"/>
                    </a:lnTo>
                    <a:lnTo>
                      <a:pt x="329" y="871"/>
                    </a:lnTo>
                    <a:lnTo>
                      <a:pt x="313" y="888"/>
                    </a:lnTo>
                    <a:lnTo>
                      <a:pt x="298" y="904"/>
                    </a:lnTo>
                    <a:lnTo>
                      <a:pt x="290" y="909"/>
                    </a:lnTo>
                    <a:lnTo>
                      <a:pt x="282" y="915"/>
                    </a:lnTo>
                    <a:lnTo>
                      <a:pt x="273" y="917"/>
                    </a:lnTo>
                    <a:lnTo>
                      <a:pt x="265" y="921"/>
                    </a:lnTo>
                    <a:lnTo>
                      <a:pt x="256" y="921"/>
                    </a:lnTo>
                    <a:lnTo>
                      <a:pt x="246" y="921"/>
                    </a:lnTo>
                    <a:lnTo>
                      <a:pt x="234" y="919"/>
                    </a:lnTo>
                    <a:lnTo>
                      <a:pt x="225" y="917"/>
                    </a:lnTo>
                    <a:lnTo>
                      <a:pt x="213" y="913"/>
                    </a:lnTo>
                    <a:lnTo>
                      <a:pt x="204" y="907"/>
                    </a:lnTo>
                    <a:lnTo>
                      <a:pt x="192" y="902"/>
                    </a:lnTo>
                    <a:lnTo>
                      <a:pt x="181" y="894"/>
                    </a:lnTo>
                    <a:lnTo>
                      <a:pt x="156" y="873"/>
                    </a:lnTo>
                    <a:lnTo>
                      <a:pt x="131" y="846"/>
                    </a:lnTo>
                    <a:lnTo>
                      <a:pt x="127" y="833"/>
                    </a:lnTo>
                    <a:lnTo>
                      <a:pt x="121" y="817"/>
                    </a:lnTo>
                    <a:lnTo>
                      <a:pt x="112" y="804"/>
                    </a:lnTo>
                    <a:lnTo>
                      <a:pt x="102" y="788"/>
                    </a:lnTo>
                    <a:lnTo>
                      <a:pt x="90" y="773"/>
                    </a:lnTo>
                    <a:lnTo>
                      <a:pt x="81" y="760"/>
                    </a:lnTo>
                    <a:lnTo>
                      <a:pt x="73" y="744"/>
                    </a:lnTo>
                    <a:lnTo>
                      <a:pt x="69" y="731"/>
                    </a:lnTo>
                    <a:lnTo>
                      <a:pt x="81" y="717"/>
                    </a:lnTo>
                    <a:lnTo>
                      <a:pt x="98" y="696"/>
                    </a:lnTo>
                    <a:lnTo>
                      <a:pt x="115" y="669"/>
                    </a:lnTo>
                    <a:lnTo>
                      <a:pt x="129" y="641"/>
                    </a:lnTo>
                    <a:lnTo>
                      <a:pt x="136" y="627"/>
                    </a:lnTo>
                    <a:lnTo>
                      <a:pt x="140" y="612"/>
                    </a:lnTo>
                    <a:lnTo>
                      <a:pt x="144" y="597"/>
                    </a:lnTo>
                    <a:lnTo>
                      <a:pt x="144" y="581"/>
                    </a:lnTo>
                    <a:lnTo>
                      <a:pt x="142" y="566"/>
                    </a:lnTo>
                    <a:lnTo>
                      <a:pt x="138" y="552"/>
                    </a:lnTo>
                    <a:lnTo>
                      <a:pt x="133" y="539"/>
                    </a:lnTo>
                    <a:lnTo>
                      <a:pt x="123" y="527"/>
                    </a:lnTo>
                    <a:lnTo>
                      <a:pt x="106" y="506"/>
                    </a:lnTo>
                    <a:lnTo>
                      <a:pt x="92" y="483"/>
                    </a:lnTo>
                    <a:lnTo>
                      <a:pt x="81" y="462"/>
                    </a:lnTo>
                    <a:lnTo>
                      <a:pt x="71" y="439"/>
                    </a:lnTo>
                    <a:lnTo>
                      <a:pt x="65" y="414"/>
                    </a:lnTo>
                    <a:lnTo>
                      <a:pt x="60" y="389"/>
                    </a:lnTo>
                    <a:lnTo>
                      <a:pt x="54" y="362"/>
                    </a:lnTo>
                    <a:lnTo>
                      <a:pt x="50" y="334"/>
                    </a:lnTo>
                    <a:lnTo>
                      <a:pt x="48" y="328"/>
                    </a:lnTo>
                    <a:lnTo>
                      <a:pt x="46" y="322"/>
                    </a:lnTo>
                    <a:lnTo>
                      <a:pt x="44" y="315"/>
                    </a:lnTo>
                    <a:lnTo>
                      <a:pt x="39" y="307"/>
                    </a:lnTo>
                    <a:lnTo>
                      <a:pt x="29" y="293"/>
                    </a:lnTo>
                    <a:lnTo>
                      <a:pt x="19" y="278"/>
                    </a:lnTo>
                    <a:lnTo>
                      <a:pt x="10" y="265"/>
                    </a:lnTo>
                    <a:lnTo>
                      <a:pt x="2" y="251"/>
                    </a:lnTo>
                    <a:lnTo>
                      <a:pt x="0" y="245"/>
                    </a:lnTo>
                    <a:lnTo>
                      <a:pt x="0" y="240"/>
                    </a:lnTo>
                    <a:lnTo>
                      <a:pt x="2" y="234"/>
                    </a:lnTo>
                    <a:lnTo>
                      <a:pt x="4" y="230"/>
                    </a:lnTo>
                    <a:lnTo>
                      <a:pt x="10" y="226"/>
                    </a:lnTo>
                    <a:lnTo>
                      <a:pt x="15" y="222"/>
                    </a:lnTo>
                    <a:lnTo>
                      <a:pt x="21" y="219"/>
                    </a:lnTo>
                    <a:lnTo>
                      <a:pt x="29" y="217"/>
                    </a:lnTo>
                    <a:lnTo>
                      <a:pt x="35" y="215"/>
                    </a:lnTo>
                    <a:lnTo>
                      <a:pt x="40" y="215"/>
                    </a:lnTo>
                    <a:lnTo>
                      <a:pt x="46" y="217"/>
                    </a:lnTo>
                    <a:lnTo>
                      <a:pt x="54" y="219"/>
                    </a:lnTo>
                    <a:lnTo>
                      <a:pt x="58" y="220"/>
                    </a:lnTo>
                    <a:lnTo>
                      <a:pt x="60" y="219"/>
                    </a:lnTo>
                    <a:lnTo>
                      <a:pt x="62" y="217"/>
                    </a:lnTo>
                    <a:lnTo>
                      <a:pt x="62" y="215"/>
                    </a:lnTo>
                    <a:lnTo>
                      <a:pt x="62" y="213"/>
                    </a:lnTo>
                    <a:lnTo>
                      <a:pt x="62" y="211"/>
                    </a:lnTo>
                    <a:lnTo>
                      <a:pt x="64" y="209"/>
                    </a:lnTo>
                    <a:lnTo>
                      <a:pt x="64" y="207"/>
                    </a:lnTo>
                    <a:lnTo>
                      <a:pt x="64" y="205"/>
                    </a:lnTo>
                    <a:lnTo>
                      <a:pt x="64" y="176"/>
                    </a:lnTo>
                    <a:lnTo>
                      <a:pt x="65" y="148"/>
                    </a:lnTo>
                    <a:lnTo>
                      <a:pt x="67" y="119"/>
                    </a:lnTo>
                    <a:lnTo>
                      <a:pt x="73" y="90"/>
                    </a:lnTo>
                    <a:lnTo>
                      <a:pt x="77" y="78"/>
                    </a:lnTo>
                    <a:lnTo>
                      <a:pt x="83" y="65"/>
                    </a:lnTo>
                    <a:lnTo>
                      <a:pt x="90" y="54"/>
                    </a:lnTo>
                    <a:lnTo>
                      <a:pt x="98" y="42"/>
                    </a:lnTo>
                    <a:lnTo>
                      <a:pt x="108" y="32"/>
                    </a:lnTo>
                    <a:lnTo>
                      <a:pt x="119" y="25"/>
                    </a:lnTo>
                    <a:lnTo>
                      <a:pt x="133" y="15"/>
                    </a:lnTo>
                    <a:lnTo>
                      <a:pt x="148" y="9"/>
                    </a:lnTo>
                    <a:lnTo>
                      <a:pt x="171" y="4"/>
                    </a:lnTo>
                    <a:lnTo>
                      <a:pt x="198" y="2"/>
                    </a:lnTo>
                    <a:lnTo>
                      <a:pt x="229" y="0"/>
                    </a:lnTo>
                    <a:lnTo>
                      <a:pt x="259" y="2"/>
                    </a:lnTo>
                    <a:lnTo>
                      <a:pt x="290" y="6"/>
                    </a:lnTo>
                    <a:lnTo>
                      <a:pt x="319" y="13"/>
                    </a:lnTo>
                    <a:lnTo>
                      <a:pt x="332" y="17"/>
                    </a:lnTo>
                    <a:lnTo>
                      <a:pt x="344" y="23"/>
                    </a:lnTo>
                    <a:lnTo>
                      <a:pt x="355" y="31"/>
                    </a:lnTo>
                    <a:lnTo>
                      <a:pt x="365" y="36"/>
                    </a:lnTo>
                    <a:lnTo>
                      <a:pt x="375" y="48"/>
                    </a:lnTo>
                    <a:lnTo>
                      <a:pt x="382" y="57"/>
                    </a:lnTo>
                    <a:lnTo>
                      <a:pt x="388" y="71"/>
                    </a:lnTo>
                    <a:lnTo>
                      <a:pt x="394" y="84"/>
                    </a:lnTo>
                    <a:lnTo>
                      <a:pt x="396" y="98"/>
                    </a:lnTo>
                    <a:lnTo>
                      <a:pt x="400" y="111"/>
                    </a:lnTo>
                    <a:lnTo>
                      <a:pt x="400" y="126"/>
                    </a:lnTo>
                    <a:lnTo>
                      <a:pt x="400" y="142"/>
                    </a:lnTo>
                    <a:lnTo>
                      <a:pt x="398" y="174"/>
                    </a:lnTo>
                    <a:lnTo>
                      <a:pt x="394" y="205"/>
                    </a:lnTo>
                    <a:lnTo>
                      <a:pt x="390" y="234"/>
                    </a:lnTo>
                    <a:lnTo>
                      <a:pt x="384" y="2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201160" y="3569760"/>
                <a:ext cx="176040" cy="280080"/>
              </a:xfrm>
              <a:custGeom>
                <a:avLst/>
                <a:gdLst/>
                <a:ahLst/>
                <a:rect l="l" t="t" r="r" b="b"/>
                <a:pathLst>
                  <a:path w="115" h="236">
                    <a:moveTo>
                      <a:pt x="107" y="0"/>
                    </a:moveTo>
                    <a:lnTo>
                      <a:pt x="115" y="109"/>
                    </a:lnTo>
                    <a:lnTo>
                      <a:pt x="113" y="195"/>
                    </a:lnTo>
                    <a:lnTo>
                      <a:pt x="111" y="199"/>
                    </a:lnTo>
                    <a:lnTo>
                      <a:pt x="101" y="203"/>
                    </a:lnTo>
                    <a:lnTo>
                      <a:pt x="92" y="211"/>
                    </a:lnTo>
                    <a:lnTo>
                      <a:pt x="82" y="216"/>
                    </a:lnTo>
                    <a:lnTo>
                      <a:pt x="71" y="220"/>
                    </a:lnTo>
                    <a:lnTo>
                      <a:pt x="57" y="226"/>
                    </a:lnTo>
                    <a:lnTo>
                      <a:pt x="46" y="230"/>
                    </a:lnTo>
                    <a:lnTo>
                      <a:pt x="32" y="232"/>
                    </a:lnTo>
                    <a:lnTo>
                      <a:pt x="21" y="234"/>
                    </a:lnTo>
                    <a:lnTo>
                      <a:pt x="9" y="236"/>
                    </a:lnTo>
                    <a:lnTo>
                      <a:pt x="9" y="232"/>
                    </a:lnTo>
                    <a:lnTo>
                      <a:pt x="7" y="232"/>
                    </a:lnTo>
                    <a:lnTo>
                      <a:pt x="5" y="228"/>
                    </a:lnTo>
                    <a:lnTo>
                      <a:pt x="4" y="226"/>
                    </a:lnTo>
                    <a:lnTo>
                      <a:pt x="4" y="226"/>
                    </a:lnTo>
                    <a:lnTo>
                      <a:pt x="4" y="224"/>
                    </a:lnTo>
                    <a:lnTo>
                      <a:pt x="4" y="224"/>
                    </a:lnTo>
                    <a:lnTo>
                      <a:pt x="4" y="222"/>
                    </a:lnTo>
                    <a:lnTo>
                      <a:pt x="4" y="222"/>
                    </a:lnTo>
                    <a:lnTo>
                      <a:pt x="4" y="220"/>
                    </a:lnTo>
                    <a:lnTo>
                      <a:pt x="4" y="218"/>
                    </a:lnTo>
                    <a:lnTo>
                      <a:pt x="5" y="214"/>
                    </a:lnTo>
                    <a:lnTo>
                      <a:pt x="5" y="214"/>
                    </a:lnTo>
                    <a:lnTo>
                      <a:pt x="7" y="213"/>
                    </a:lnTo>
                    <a:lnTo>
                      <a:pt x="7" y="211"/>
                    </a:lnTo>
                    <a:lnTo>
                      <a:pt x="9" y="209"/>
                    </a:lnTo>
                    <a:lnTo>
                      <a:pt x="9" y="209"/>
                    </a:lnTo>
                    <a:lnTo>
                      <a:pt x="9" y="207"/>
                    </a:lnTo>
                    <a:lnTo>
                      <a:pt x="11" y="205"/>
                    </a:lnTo>
                    <a:lnTo>
                      <a:pt x="11" y="203"/>
                    </a:lnTo>
                    <a:lnTo>
                      <a:pt x="15" y="201"/>
                    </a:lnTo>
                    <a:lnTo>
                      <a:pt x="15" y="201"/>
                    </a:lnTo>
                    <a:lnTo>
                      <a:pt x="17" y="199"/>
                    </a:lnTo>
                    <a:lnTo>
                      <a:pt x="21" y="199"/>
                    </a:lnTo>
                    <a:lnTo>
                      <a:pt x="23" y="199"/>
                    </a:lnTo>
                    <a:lnTo>
                      <a:pt x="25" y="197"/>
                    </a:lnTo>
                    <a:lnTo>
                      <a:pt x="28" y="197"/>
                    </a:lnTo>
                    <a:lnTo>
                      <a:pt x="30" y="197"/>
                    </a:lnTo>
                    <a:lnTo>
                      <a:pt x="32" y="197"/>
                    </a:lnTo>
                    <a:lnTo>
                      <a:pt x="32" y="195"/>
                    </a:lnTo>
                    <a:lnTo>
                      <a:pt x="32" y="195"/>
                    </a:lnTo>
                    <a:lnTo>
                      <a:pt x="32" y="195"/>
                    </a:lnTo>
                    <a:lnTo>
                      <a:pt x="34" y="195"/>
                    </a:lnTo>
                    <a:lnTo>
                      <a:pt x="34" y="195"/>
                    </a:lnTo>
                    <a:lnTo>
                      <a:pt x="34" y="195"/>
                    </a:lnTo>
                    <a:lnTo>
                      <a:pt x="36" y="195"/>
                    </a:lnTo>
                    <a:lnTo>
                      <a:pt x="36" y="195"/>
                    </a:lnTo>
                    <a:lnTo>
                      <a:pt x="36" y="191"/>
                    </a:lnTo>
                    <a:lnTo>
                      <a:pt x="36" y="190"/>
                    </a:lnTo>
                    <a:lnTo>
                      <a:pt x="34" y="188"/>
                    </a:lnTo>
                    <a:lnTo>
                      <a:pt x="34" y="186"/>
                    </a:lnTo>
                    <a:lnTo>
                      <a:pt x="34" y="184"/>
                    </a:lnTo>
                    <a:lnTo>
                      <a:pt x="34" y="184"/>
                    </a:lnTo>
                    <a:lnTo>
                      <a:pt x="34" y="182"/>
                    </a:lnTo>
                    <a:lnTo>
                      <a:pt x="34" y="180"/>
                    </a:lnTo>
                    <a:lnTo>
                      <a:pt x="34" y="178"/>
                    </a:lnTo>
                    <a:lnTo>
                      <a:pt x="36" y="176"/>
                    </a:lnTo>
                    <a:lnTo>
                      <a:pt x="36" y="174"/>
                    </a:lnTo>
                    <a:lnTo>
                      <a:pt x="38" y="172"/>
                    </a:lnTo>
                    <a:lnTo>
                      <a:pt x="40" y="172"/>
                    </a:lnTo>
                    <a:lnTo>
                      <a:pt x="40" y="170"/>
                    </a:lnTo>
                    <a:lnTo>
                      <a:pt x="42" y="168"/>
                    </a:lnTo>
                    <a:lnTo>
                      <a:pt x="42" y="166"/>
                    </a:lnTo>
                    <a:lnTo>
                      <a:pt x="42" y="166"/>
                    </a:lnTo>
                    <a:lnTo>
                      <a:pt x="42" y="165"/>
                    </a:lnTo>
                    <a:lnTo>
                      <a:pt x="42" y="163"/>
                    </a:lnTo>
                    <a:lnTo>
                      <a:pt x="40" y="163"/>
                    </a:lnTo>
                    <a:lnTo>
                      <a:pt x="40" y="159"/>
                    </a:lnTo>
                    <a:lnTo>
                      <a:pt x="40" y="163"/>
                    </a:lnTo>
                    <a:lnTo>
                      <a:pt x="38" y="163"/>
                    </a:lnTo>
                    <a:lnTo>
                      <a:pt x="38" y="166"/>
                    </a:lnTo>
                    <a:lnTo>
                      <a:pt x="36" y="166"/>
                    </a:lnTo>
                    <a:lnTo>
                      <a:pt x="36" y="166"/>
                    </a:lnTo>
                    <a:lnTo>
                      <a:pt x="17" y="170"/>
                    </a:lnTo>
                    <a:lnTo>
                      <a:pt x="11" y="168"/>
                    </a:lnTo>
                    <a:lnTo>
                      <a:pt x="11" y="166"/>
                    </a:lnTo>
                    <a:lnTo>
                      <a:pt x="7" y="165"/>
                    </a:lnTo>
                    <a:lnTo>
                      <a:pt x="5" y="161"/>
                    </a:lnTo>
                    <a:lnTo>
                      <a:pt x="4" y="153"/>
                    </a:lnTo>
                    <a:lnTo>
                      <a:pt x="2" y="145"/>
                    </a:lnTo>
                    <a:lnTo>
                      <a:pt x="0" y="138"/>
                    </a:lnTo>
                    <a:lnTo>
                      <a:pt x="0" y="130"/>
                    </a:lnTo>
                    <a:lnTo>
                      <a:pt x="0" y="124"/>
                    </a:lnTo>
                    <a:lnTo>
                      <a:pt x="2" y="120"/>
                    </a:lnTo>
                    <a:lnTo>
                      <a:pt x="2" y="119"/>
                    </a:lnTo>
                    <a:lnTo>
                      <a:pt x="2" y="117"/>
                    </a:lnTo>
                    <a:lnTo>
                      <a:pt x="2" y="115"/>
                    </a:lnTo>
                    <a:lnTo>
                      <a:pt x="2" y="115"/>
                    </a:lnTo>
                    <a:lnTo>
                      <a:pt x="4" y="113"/>
                    </a:lnTo>
                    <a:lnTo>
                      <a:pt x="4" y="111"/>
                    </a:lnTo>
                    <a:lnTo>
                      <a:pt x="4" y="111"/>
                    </a:lnTo>
                    <a:lnTo>
                      <a:pt x="4" y="109"/>
                    </a:lnTo>
                    <a:lnTo>
                      <a:pt x="7" y="103"/>
                    </a:lnTo>
                    <a:lnTo>
                      <a:pt x="25" y="15"/>
                    </a:lnTo>
                    <a:lnTo>
                      <a:pt x="32" y="9"/>
                    </a:lnTo>
                    <a:lnTo>
                      <a:pt x="40" y="7"/>
                    </a:lnTo>
                    <a:lnTo>
                      <a:pt x="48" y="7"/>
                    </a:lnTo>
                    <a:lnTo>
                      <a:pt x="55" y="7"/>
                    </a:lnTo>
                    <a:lnTo>
                      <a:pt x="63" y="9"/>
                    </a:lnTo>
                    <a:lnTo>
                      <a:pt x="69" y="9"/>
                    </a:lnTo>
                    <a:lnTo>
                      <a:pt x="76" y="9"/>
                    </a:lnTo>
                    <a:lnTo>
                      <a:pt x="82" y="7"/>
                    </a:lnTo>
                    <a:lnTo>
                      <a:pt x="86" y="7"/>
                    </a:lnTo>
                    <a:lnTo>
                      <a:pt x="90" y="7"/>
                    </a:lnTo>
                    <a:lnTo>
                      <a:pt x="92" y="5"/>
                    </a:lnTo>
                    <a:lnTo>
                      <a:pt x="96" y="5"/>
                    </a:lnTo>
                    <a:lnTo>
                      <a:pt x="98" y="3"/>
                    </a:lnTo>
                    <a:lnTo>
                      <a:pt x="100" y="3"/>
                    </a:lnTo>
                    <a:lnTo>
                      <a:pt x="103" y="1"/>
                    </a:lnTo>
                    <a:lnTo>
                      <a:pt x="107" y="0"/>
                    </a:lnTo>
                    <a:close/>
                  </a:path>
                </a:pathLst>
              </a:custGeom>
              <a:solidFill>
                <a:srgbClr val="c19c7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8201160" y="3569760"/>
                <a:ext cx="176040" cy="280080"/>
              </a:xfrm>
              <a:custGeom>
                <a:avLst/>
                <a:gdLst/>
                <a:ahLst/>
                <a:rect l="l" t="t" r="r" b="b"/>
                <a:pathLst>
                  <a:path w="115" h="236">
                    <a:moveTo>
                      <a:pt x="107" y="0"/>
                    </a:moveTo>
                    <a:lnTo>
                      <a:pt x="115" y="109"/>
                    </a:lnTo>
                    <a:lnTo>
                      <a:pt x="113" y="195"/>
                    </a:lnTo>
                    <a:lnTo>
                      <a:pt x="111" y="199"/>
                    </a:lnTo>
                    <a:lnTo>
                      <a:pt x="101" y="203"/>
                    </a:lnTo>
                    <a:lnTo>
                      <a:pt x="92" y="211"/>
                    </a:lnTo>
                    <a:lnTo>
                      <a:pt x="82" y="216"/>
                    </a:lnTo>
                    <a:lnTo>
                      <a:pt x="71" y="220"/>
                    </a:lnTo>
                    <a:lnTo>
                      <a:pt x="57" y="226"/>
                    </a:lnTo>
                    <a:lnTo>
                      <a:pt x="46" y="230"/>
                    </a:lnTo>
                    <a:lnTo>
                      <a:pt x="32" y="232"/>
                    </a:lnTo>
                    <a:lnTo>
                      <a:pt x="21" y="234"/>
                    </a:lnTo>
                    <a:lnTo>
                      <a:pt x="9" y="236"/>
                    </a:lnTo>
                    <a:lnTo>
                      <a:pt x="9" y="232"/>
                    </a:lnTo>
                    <a:lnTo>
                      <a:pt x="7" y="232"/>
                    </a:lnTo>
                    <a:lnTo>
                      <a:pt x="5" y="228"/>
                    </a:lnTo>
                    <a:lnTo>
                      <a:pt x="4" y="226"/>
                    </a:lnTo>
                    <a:lnTo>
                      <a:pt x="4" y="224"/>
                    </a:lnTo>
                    <a:lnTo>
                      <a:pt x="4" y="222"/>
                    </a:lnTo>
                    <a:lnTo>
                      <a:pt x="4" y="220"/>
                    </a:lnTo>
                    <a:lnTo>
                      <a:pt x="4" y="218"/>
                    </a:lnTo>
                    <a:lnTo>
                      <a:pt x="5" y="214"/>
                    </a:lnTo>
                    <a:lnTo>
                      <a:pt x="7" y="213"/>
                    </a:lnTo>
                    <a:lnTo>
                      <a:pt x="7" y="211"/>
                    </a:lnTo>
                    <a:lnTo>
                      <a:pt x="9" y="209"/>
                    </a:lnTo>
                    <a:lnTo>
                      <a:pt x="9" y="207"/>
                    </a:lnTo>
                    <a:lnTo>
                      <a:pt x="11" y="205"/>
                    </a:lnTo>
                    <a:lnTo>
                      <a:pt x="11" y="203"/>
                    </a:lnTo>
                    <a:lnTo>
                      <a:pt x="15" y="201"/>
                    </a:lnTo>
                    <a:lnTo>
                      <a:pt x="17" y="199"/>
                    </a:lnTo>
                    <a:lnTo>
                      <a:pt x="21" y="199"/>
                    </a:lnTo>
                    <a:lnTo>
                      <a:pt x="23" y="199"/>
                    </a:lnTo>
                    <a:lnTo>
                      <a:pt x="25" y="197"/>
                    </a:lnTo>
                    <a:lnTo>
                      <a:pt x="28" y="197"/>
                    </a:lnTo>
                    <a:lnTo>
                      <a:pt x="30" y="197"/>
                    </a:lnTo>
                    <a:lnTo>
                      <a:pt x="32" y="197"/>
                    </a:lnTo>
                    <a:lnTo>
                      <a:pt x="32" y="195"/>
                    </a:lnTo>
                    <a:lnTo>
                      <a:pt x="34" y="195"/>
                    </a:lnTo>
                    <a:lnTo>
                      <a:pt x="36" y="195"/>
                    </a:lnTo>
                    <a:lnTo>
                      <a:pt x="36" y="191"/>
                    </a:lnTo>
                    <a:lnTo>
                      <a:pt x="36" y="190"/>
                    </a:lnTo>
                    <a:lnTo>
                      <a:pt x="34" y="188"/>
                    </a:lnTo>
                    <a:lnTo>
                      <a:pt x="34" y="186"/>
                    </a:lnTo>
                    <a:lnTo>
                      <a:pt x="34" y="184"/>
                    </a:lnTo>
                    <a:lnTo>
                      <a:pt x="34" y="182"/>
                    </a:lnTo>
                    <a:lnTo>
                      <a:pt x="34" y="180"/>
                    </a:lnTo>
                    <a:lnTo>
                      <a:pt x="34" y="178"/>
                    </a:lnTo>
                    <a:lnTo>
                      <a:pt x="36" y="176"/>
                    </a:lnTo>
                    <a:lnTo>
                      <a:pt x="36" y="174"/>
                    </a:lnTo>
                    <a:lnTo>
                      <a:pt x="38" y="172"/>
                    </a:lnTo>
                    <a:lnTo>
                      <a:pt x="40" y="172"/>
                    </a:lnTo>
                    <a:lnTo>
                      <a:pt x="40" y="170"/>
                    </a:lnTo>
                    <a:lnTo>
                      <a:pt x="42" y="168"/>
                    </a:lnTo>
                    <a:lnTo>
                      <a:pt x="42" y="166"/>
                    </a:lnTo>
                    <a:lnTo>
                      <a:pt x="42" y="165"/>
                    </a:lnTo>
                    <a:lnTo>
                      <a:pt x="42" y="163"/>
                    </a:lnTo>
                    <a:lnTo>
                      <a:pt x="40" y="163"/>
                    </a:lnTo>
                    <a:lnTo>
                      <a:pt x="40" y="159"/>
                    </a:lnTo>
                    <a:lnTo>
                      <a:pt x="40" y="163"/>
                    </a:lnTo>
                    <a:lnTo>
                      <a:pt x="38" y="163"/>
                    </a:lnTo>
                    <a:lnTo>
                      <a:pt x="38" y="166"/>
                    </a:lnTo>
                    <a:lnTo>
                      <a:pt x="36" y="166"/>
                    </a:lnTo>
                    <a:lnTo>
                      <a:pt x="17" y="170"/>
                    </a:lnTo>
                    <a:lnTo>
                      <a:pt x="11" y="168"/>
                    </a:lnTo>
                    <a:lnTo>
                      <a:pt x="11" y="166"/>
                    </a:lnTo>
                    <a:lnTo>
                      <a:pt x="7" y="165"/>
                    </a:lnTo>
                    <a:lnTo>
                      <a:pt x="5" y="161"/>
                    </a:lnTo>
                    <a:lnTo>
                      <a:pt x="4" y="153"/>
                    </a:lnTo>
                    <a:lnTo>
                      <a:pt x="2" y="145"/>
                    </a:lnTo>
                    <a:lnTo>
                      <a:pt x="0" y="138"/>
                    </a:lnTo>
                    <a:lnTo>
                      <a:pt x="0" y="130"/>
                    </a:lnTo>
                    <a:lnTo>
                      <a:pt x="0" y="124"/>
                    </a:lnTo>
                    <a:lnTo>
                      <a:pt x="2" y="120"/>
                    </a:lnTo>
                    <a:lnTo>
                      <a:pt x="2" y="119"/>
                    </a:lnTo>
                    <a:lnTo>
                      <a:pt x="2" y="117"/>
                    </a:lnTo>
                    <a:lnTo>
                      <a:pt x="2" y="115"/>
                    </a:lnTo>
                    <a:lnTo>
                      <a:pt x="4" y="113"/>
                    </a:lnTo>
                    <a:lnTo>
                      <a:pt x="4" y="111"/>
                    </a:lnTo>
                    <a:lnTo>
                      <a:pt x="4" y="109"/>
                    </a:lnTo>
                    <a:lnTo>
                      <a:pt x="7" y="103"/>
                    </a:lnTo>
                    <a:lnTo>
                      <a:pt x="25" y="15"/>
                    </a:lnTo>
                    <a:lnTo>
                      <a:pt x="32" y="9"/>
                    </a:lnTo>
                    <a:lnTo>
                      <a:pt x="40" y="7"/>
                    </a:lnTo>
                    <a:lnTo>
                      <a:pt x="48" y="7"/>
                    </a:lnTo>
                    <a:lnTo>
                      <a:pt x="55" y="7"/>
                    </a:lnTo>
                    <a:lnTo>
                      <a:pt x="63" y="9"/>
                    </a:lnTo>
                    <a:lnTo>
                      <a:pt x="69" y="9"/>
                    </a:lnTo>
                    <a:lnTo>
                      <a:pt x="76" y="9"/>
                    </a:lnTo>
                    <a:lnTo>
                      <a:pt x="82" y="7"/>
                    </a:lnTo>
                    <a:lnTo>
                      <a:pt x="86" y="7"/>
                    </a:lnTo>
                    <a:lnTo>
                      <a:pt x="90" y="7"/>
                    </a:lnTo>
                    <a:lnTo>
                      <a:pt x="92" y="5"/>
                    </a:lnTo>
                    <a:lnTo>
                      <a:pt x="96" y="5"/>
                    </a:lnTo>
                    <a:lnTo>
                      <a:pt x="98" y="3"/>
                    </a:lnTo>
                    <a:lnTo>
                      <a:pt x="100" y="3"/>
                    </a:lnTo>
                    <a:lnTo>
                      <a:pt x="103" y="1"/>
                    </a:lnTo>
                    <a:lnTo>
                      <a:pt x="1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7596360" y="2025720"/>
                <a:ext cx="74520" cy="131400"/>
              </a:xfrm>
              <a:custGeom>
                <a:avLst/>
                <a:gdLst/>
                <a:ahLst/>
                <a:rect l="l" t="t" r="r" b="b"/>
                <a:pathLst>
                  <a:path w="49" h="110">
                    <a:moveTo>
                      <a:pt x="49" y="0"/>
                    </a:moveTo>
                    <a:lnTo>
                      <a:pt x="36" y="41"/>
                    </a:lnTo>
                    <a:lnTo>
                      <a:pt x="34" y="45"/>
                    </a:lnTo>
                    <a:lnTo>
                      <a:pt x="32" y="48"/>
                    </a:lnTo>
                    <a:lnTo>
                      <a:pt x="30" y="52"/>
                    </a:lnTo>
                    <a:lnTo>
                      <a:pt x="28" y="56"/>
                    </a:lnTo>
                    <a:lnTo>
                      <a:pt x="25" y="60"/>
                    </a:lnTo>
                    <a:lnTo>
                      <a:pt x="23" y="64"/>
                    </a:lnTo>
                    <a:lnTo>
                      <a:pt x="19" y="68"/>
                    </a:lnTo>
                    <a:lnTo>
                      <a:pt x="15" y="71"/>
                    </a:lnTo>
                    <a:lnTo>
                      <a:pt x="15" y="73"/>
                    </a:lnTo>
                    <a:lnTo>
                      <a:pt x="13" y="75"/>
                    </a:lnTo>
                    <a:lnTo>
                      <a:pt x="11" y="79"/>
                    </a:lnTo>
                    <a:lnTo>
                      <a:pt x="7" y="83"/>
                    </a:lnTo>
                    <a:lnTo>
                      <a:pt x="3" y="85"/>
                    </a:lnTo>
                    <a:lnTo>
                      <a:pt x="1" y="89"/>
                    </a:lnTo>
                    <a:lnTo>
                      <a:pt x="0" y="91"/>
                    </a:lnTo>
                    <a:lnTo>
                      <a:pt x="0" y="94"/>
                    </a:lnTo>
                    <a:lnTo>
                      <a:pt x="0" y="96"/>
                    </a:lnTo>
                    <a:lnTo>
                      <a:pt x="1" y="96"/>
                    </a:lnTo>
                    <a:lnTo>
                      <a:pt x="1" y="98"/>
                    </a:lnTo>
                    <a:lnTo>
                      <a:pt x="1" y="100"/>
                    </a:lnTo>
                    <a:lnTo>
                      <a:pt x="3" y="102"/>
                    </a:lnTo>
                    <a:lnTo>
                      <a:pt x="3" y="104"/>
                    </a:lnTo>
                    <a:lnTo>
                      <a:pt x="5" y="104"/>
                    </a:lnTo>
                    <a:lnTo>
                      <a:pt x="7" y="106"/>
                    </a:lnTo>
                    <a:lnTo>
                      <a:pt x="9" y="106"/>
                    </a:lnTo>
                    <a:lnTo>
                      <a:pt x="11" y="108"/>
                    </a:lnTo>
                    <a:lnTo>
                      <a:pt x="13" y="108"/>
                    </a:lnTo>
                    <a:lnTo>
                      <a:pt x="13" y="110"/>
                    </a:lnTo>
                    <a:lnTo>
                      <a:pt x="15" y="110"/>
                    </a:lnTo>
                    <a:lnTo>
                      <a:pt x="17" y="110"/>
                    </a:lnTo>
                    <a:lnTo>
                      <a:pt x="19" y="108"/>
                    </a:lnTo>
                    <a:lnTo>
                      <a:pt x="21" y="108"/>
                    </a:lnTo>
                    <a:lnTo>
                      <a:pt x="23" y="108"/>
                    </a:lnTo>
                    <a:lnTo>
                      <a:pt x="32"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7707240" y="2037960"/>
                <a:ext cx="71640" cy="123840"/>
              </a:xfrm>
              <a:custGeom>
                <a:avLst/>
                <a:gdLst/>
                <a:ahLst/>
                <a:rect l="l" t="t" r="r" b="b"/>
                <a:pathLst>
                  <a:path w="46" h="104">
                    <a:moveTo>
                      <a:pt x="13" y="104"/>
                    </a:moveTo>
                    <a:lnTo>
                      <a:pt x="21" y="100"/>
                    </a:lnTo>
                    <a:lnTo>
                      <a:pt x="30" y="102"/>
                    </a:lnTo>
                    <a:lnTo>
                      <a:pt x="38" y="100"/>
                    </a:lnTo>
                    <a:lnTo>
                      <a:pt x="38" y="98"/>
                    </a:lnTo>
                    <a:lnTo>
                      <a:pt x="40" y="98"/>
                    </a:lnTo>
                    <a:lnTo>
                      <a:pt x="44" y="94"/>
                    </a:lnTo>
                    <a:lnTo>
                      <a:pt x="44" y="92"/>
                    </a:lnTo>
                    <a:lnTo>
                      <a:pt x="44" y="90"/>
                    </a:lnTo>
                    <a:lnTo>
                      <a:pt x="44" y="88"/>
                    </a:lnTo>
                    <a:lnTo>
                      <a:pt x="44" y="86"/>
                    </a:lnTo>
                    <a:lnTo>
                      <a:pt x="46" y="84"/>
                    </a:lnTo>
                    <a:lnTo>
                      <a:pt x="46" y="83"/>
                    </a:lnTo>
                    <a:lnTo>
                      <a:pt x="44" y="79"/>
                    </a:lnTo>
                    <a:lnTo>
                      <a:pt x="42" y="75"/>
                    </a:lnTo>
                    <a:lnTo>
                      <a:pt x="40" y="73"/>
                    </a:lnTo>
                    <a:lnTo>
                      <a:pt x="40" y="69"/>
                    </a:lnTo>
                    <a:lnTo>
                      <a:pt x="38" y="67"/>
                    </a:lnTo>
                    <a:lnTo>
                      <a:pt x="38" y="63"/>
                    </a:lnTo>
                    <a:lnTo>
                      <a:pt x="32" y="60"/>
                    </a:lnTo>
                    <a:lnTo>
                      <a:pt x="30" y="54"/>
                    </a:lnTo>
                    <a:lnTo>
                      <a:pt x="26" y="50"/>
                    </a:lnTo>
                    <a:lnTo>
                      <a:pt x="23" y="46"/>
                    </a:lnTo>
                    <a:lnTo>
                      <a:pt x="21" y="40"/>
                    </a:lnTo>
                    <a:lnTo>
                      <a:pt x="17" y="37"/>
                    </a:lnTo>
                    <a:lnTo>
                      <a:pt x="13" y="31"/>
                    </a:lnTo>
                    <a:lnTo>
                      <a:pt x="7" y="2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7601040" y="2136240"/>
                <a:ext cx="171360" cy="35640"/>
              </a:xfrm>
              <a:custGeom>
                <a:avLst/>
                <a:gdLst/>
                <a:ahLst/>
                <a:rect l="l" t="t" r="r" b="b"/>
                <a:pathLst>
                  <a:path w="112" h="30">
                    <a:moveTo>
                      <a:pt x="0" y="0"/>
                    </a:moveTo>
                    <a:lnTo>
                      <a:pt x="2" y="0"/>
                    </a:lnTo>
                    <a:lnTo>
                      <a:pt x="4" y="0"/>
                    </a:lnTo>
                    <a:lnTo>
                      <a:pt x="6" y="0"/>
                    </a:lnTo>
                    <a:lnTo>
                      <a:pt x="10" y="0"/>
                    </a:lnTo>
                    <a:lnTo>
                      <a:pt x="12" y="0"/>
                    </a:lnTo>
                    <a:lnTo>
                      <a:pt x="14" y="0"/>
                    </a:lnTo>
                    <a:lnTo>
                      <a:pt x="16" y="0"/>
                    </a:lnTo>
                    <a:lnTo>
                      <a:pt x="16" y="1"/>
                    </a:lnTo>
                    <a:lnTo>
                      <a:pt x="18" y="1"/>
                    </a:lnTo>
                    <a:lnTo>
                      <a:pt x="20" y="3"/>
                    </a:lnTo>
                    <a:lnTo>
                      <a:pt x="22" y="3"/>
                    </a:lnTo>
                    <a:lnTo>
                      <a:pt x="22" y="5"/>
                    </a:lnTo>
                    <a:lnTo>
                      <a:pt x="23" y="7"/>
                    </a:lnTo>
                    <a:lnTo>
                      <a:pt x="25" y="7"/>
                    </a:lnTo>
                    <a:lnTo>
                      <a:pt x="25" y="9"/>
                    </a:lnTo>
                    <a:lnTo>
                      <a:pt x="27" y="11"/>
                    </a:lnTo>
                    <a:lnTo>
                      <a:pt x="29" y="13"/>
                    </a:lnTo>
                    <a:lnTo>
                      <a:pt x="29" y="15"/>
                    </a:lnTo>
                    <a:lnTo>
                      <a:pt x="29" y="17"/>
                    </a:lnTo>
                    <a:lnTo>
                      <a:pt x="31" y="21"/>
                    </a:lnTo>
                    <a:lnTo>
                      <a:pt x="33" y="25"/>
                    </a:lnTo>
                    <a:lnTo>
                      <a:pt x="39" y="28"/>
                    </a:lnTo>
                    <a:lnTo>
                      <a:pt x="46" y="30"/>
                    </a:lnTo>
                    <a:lnTo>
                      <a:pt x="54" y="30"/>
                    </a:lnTo>
                    <a:lnTo>
                      <a:pt x="62" y="30"/>
                    </a:lnTo>
                    <a:lnTo>
                      <a:pt x="70" y="28"/>
                    </a:lnTo>
                    <a:lnTo>
                      <a:pt x="77" y="25"/>
                    </a:lnTo>
                    <a:lnTo>
                      <a:pt x="79" y="21"/>
                    </a:lnTo>
                    <a:lnTo>
                      <a:pt x="81" y="17"/>
                    </a:lnTo>
                    <a:lnTo>
                      <a:pt x="83" y="15"/>
                    </a:lnTo>
                    <a:lnTo>
                      <a:pt x="83" y="13"/>
                    </a:lnTo>
                    <a:lnTo>
                      <a:pt x="85" y="11"/>
                    </a:lnTo>
                    <a:lnTo>
                      <a:pt x="85" y="9"/>
                    </a:lnTo>
                    <a:lnTo>
                      <a:pt x="87" y="7"/>
                    </a:lnTo>
                    <a:lnTo>
                      <a:pt x="89" y="5"/>
                    </a:lnTo>
                    <a:lnTo>
                      <a:pt x="91" y="3"/>
                    </a:lnTo>
                    <a:lnTo>
                      <a:pt x="93" y="1"/>
                    </a:lnTo>
                    <a:lnTo>
                      <a:pt x="95" y="1"/>
                    </a:lnTo>
                    <a:lnTo>
                      <a:pt x="95" y="0"/>
                    </a:lnTo>
                    <a:lnTo>
                      <a:pt x="96" y="0"/>
                    </a:lnTo>
                    <a:lnTo>
                      <a:pt x="98" y="0"/>
                    </a:lnTo>
                    <a:lnTo>
                      <a:pt x="100" y="0"/>
                    </a:lnTo>
                    <a:lnTo>
                      <a:pt x="102"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69" name=""/>
              <p:cNvSpPr/>
              <p:nvPr/>
            </p:nvSpPr>
            <p:spPr>
              <a:xfrm>
                <a:off x="7601040" y="2136240"/>
                <a:ext cx="171360" cy="35640"/>
              </a:xfrm>
              <a:custGeom>
                <a:avLst/>
                <a:gdLst/>
                <a:ahLst/>
                <a:rect l="l" t="t" r="r" b="b"/>
                <a:pathLst>
                  <a:path w="112" h="30">
                    <a:moveTo>
                      <a:pt x="0" y="0"/>
                    </a:moveTo>
                    <a:lnTo>
                      <a:pt x="2" y="0"/>
                    </a:lnTo>
                    <a:lnTo>
                      <a:pt x="4" y="0"/>
                    </a:lnTo>
                    <a:lnTo>
                      <a:pt x="6" y="0"/>
                    </a:lnTo>
                    <a:lnTo>
                      <a:pt x="10" y="0"/>
                    </a:lnTo>
                    <a:lnTo>
                      <a:pt x="12" y="0"/>
                    </a:lnTo>
                    <a:lnTo>
                      <a:pt x="14" y="0"/>
                    </a:lnTo>
                    <a:lnTo>
                      <a:pt x="16" y="0"/>
                    </a:lnTo>
                    <a:lnTo>
                      <a:pt x="16" y="1"/>
                    </a:lnTo>
                    <a:lnTo>
                      <a:pt x="18" y="1"/>
                    </a:lnTo>
                    <a:lnTo>
                      <a:pt x="20" y="3"/>
                    </a:lnTo>
                    <a:lnTo>
                      <a:pt x="22" y="3"/>
                    </a:lnTo>
                    <a:lnTo>
                      <a:pt x="22" y="5"/>
                    </a:lnTo>
                    <a:lnTo>
                      <a:pt x="23" y="7"/>
                    </a:lnTo>
                    <a:lnTo>
                      <a:pt x="25" y="7"/>
                    </a:lnTo>
                    <a:lnTo>
                      <a:pt x="25" y="9"/>
                    </a:lnTo>
                    <a:lnTo>
                      <a:pt x="27" y="11"/>
                    </a:lnTo>
                    <a:lnTo>
                      <a:pt x="29" y="13"/>
                    </a:lnTo>
                    <a:lnTo>
                      <a:pt x="29" y="15"/>
                    </a:lnTo>
                    <a:lnTo>
                      <a:pt x="29" y="17"/>
                    </a:lnTo>
                    <a:lnTo>
                      <a:pt x="31" y="21"/>
                    </a:lnTo>
                    <a:lnTo>
                      <a:pt x="33" y="25"/>
                    </a:lnTo>
                    <a:lnTo>
                      <a:pt x="39" y="28"/>
                    </a:lnTo>
                    <a:lnTo>
                      <a:pt x="46" y="30"/>
                    </a:lnTo>
                    <a:lnTo>
                      <a:pt x="54" y="30"/>
                    </a:lnTo>
                    <a:lnTo>
                      <a:pt x="62" y="30"/>
                    </a:lnTo>
                    <a:lnTo>
                      <a:pt x="70" y="28"/>
                    </a:lnTo>
                    <a:lnTo>
                      <a:pt x="77" y="25"/>
                    </a:lnTo>
                    <a:lnTo>
                      <a:pt x="79" y="21"/>
                    </a:lnTo>
                    <a:lnTo>
                      <a:pt x="81" y="17"/>
                    </a:lnTo>
                    <a:lnTo>
                      <a:pt x="83" y="15"/>
                    </a:lnTo>
                    <a:lnTo>
                      <a:pt x="83" y="13"/>
                    </a:lnTo>
                    <a:lnTo>
                      <a:pt x="85" y="11"/>
                    </a:lnTo>
                    <a:lnTo>
                      <a:pt x="85" y="9"/>
                    </a:lnTo>
                    <a:lnTo>
                      <a:pt x="87" y="7"/>
                    </a:lnTo>
                    <a:lnTo>
                      <a:pt x="89" y="5"/>
                    </a:lnTo>
                    <a:lnTo>
                      <a:pt x="91" y="3"/>
                    </a:lnTo>
                    <a:lnTo>
                      <a:pt x="93" y="1"/>
                    </a:lnTo>
                    <a:lnTo>
                      <a:pt x="95" y="1"/>
                    </a:lnTo>
                    <a:lnTo>
                      <a:pt x="95" y="0"/>
                    </a:lnTo>
                    <a:lnTo>
                      <a:pt x="96" y="0"/>
                    </a:lnTo>
                    <a:lnTo>
                      <a:pt x="98" y="0"/>
                    </a:lnTo>
                    <a:lnTo>
                      <a:pt x="100" y="0"/>
                    </a:lnTo>
                    <a:lnTo>
                      <a:pt x="102"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70" name=""/>
              <p:cNvSpPr/>
              <p:nvPr/>
            </p:nvSpPr>
            <p:spPr>
              <a:xfrm>
                <a:off x="7532640" y="2323440"/>
                <a:ext cx="274680" cy="66240"/>
              </a:xfrm>
              <a:custGeom>
                <a:avLst/>
                <a:gdLst/>
                <a:ahLst/>
                <a:rect l="l" t="t" r="r" b="b"/>
                <a:pathLst>
                  <a:path w="179" h="56">
                    <a:moveTo>
                      <a:pt x="167" y="29"/>
                    </a:moveTo>
                    <a:lnTo>
                      <a:pt x="179" y="11"/>
                    </a:lnTo>
                    <a:lnTo>
                      <a:pt x="177" y="17"/>
                    </a:lnTo>
                    <a:lnTo>
                      <a:pt x="171" y="23"/>
                    </a:lnTo>
                    <a:lnTo>
                      <a:pt x="165" y="29"/>
                    </a:lnTo>
                    <a:lnTo>
                      <a:pt x="160" y="34"/>
                    </a:lnTo>
                    <a:lnTo>
                      <a:pt x="152" y="40"/>
                    </a:lnTo>
                    <a:lnTo>
                      <a:pt x="142" y="44"/>
                    </a:lnTo>
                    <a:lnTo>
                      <a:pt x="135" y="48"/>
                    </a:lnTo>
                    <a:lnTo>
                      <a:pt x="127" y="50"/>
                    </a:lnTo>
                    <a:lnTo>
                      <a:pt x="121" y="54"/>
                    </a:lnTo>
                    <a:lnTo>
                      <a:pt x="114" y="56"/>
                    </a:lnTo>
                    <a:lnTo>
                      <a:pt x="102" y="56"/>
                    </a:lnTo>
                    <a:lnTo>
                      <a:pt x="92" y="54"/>
                    </a:lnTo>
                    <a:lnTo>
                      <a:pt x="81" y="50"/>
                    </a:lnTo>
                    <a:lnTo>
                      <a:pt x="69" y="48"/>
                    </a:lnTo>
                    <a:lnTo>
                      <a:pt x="60" y="44"/>
                    </a:lnTo>
                    <a:lnTo>
                      <a:pt x="50" y="40"/>
                    </a:lnTo>
                    <a:lnTo>
                      <a:pt x="42" y="36"/>
                    </a:lnTo>
                    <a:lnTo>
                      <a:pt x="35" y="33"/>
                    </a:lnTo>
                    <a:lnTo>
                      <a:pt x="29" y="27"/>
                    </a:lnTo>
                    <a:lnTo>
                      <a:pt x="21" y="23"/>
                    </a:lnTo>
                    <a:lnTo>
                      <a:pt x="16" y="17"/>
                    </a:lnTo>
                    <a:lnTo>
                      <a:pt x="10" y="13"/>
                    </a:lnTo>
                    <a:lnTo>
                      <a:pt x="6" y="8"/>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71" name=""/>
              <p:cNvSpPr/>
              <p:nvPr/>
            </p:nvSpPr>
            <p:spPr>
              <a:xfrm>
                <a:off x="7277040" y="1602360"/>
                <a:ext cx="768600" cy="670320"/>
              </a:xfrm>
              <a:custGeom>
                <a:avLst/>
                <a:gdLst/>
                <a:ahLst/>
                <a:rect l="l" t="t" r="r" b="b"/>
                <a:pathLst>
                  <a:path w="501" h="564">
                    <a:moveTo>
                      <a:pt x="390" y="293"/>
                    </a:moveTo>
                    <a:lnTo>
                      <a:pt x="392" y="214"/>
                    </a:lnTo>
                    <a:lnTo>
                      <a:pt x="386" y="220"/>
                    </a:lnTo>
                    <a:lnTo>
                      <a:pt x="380" y="228"/>
                    </a:lnTo>
                    <a:lnTo>
                      <a:pt x="373" y="234"/>
                    </a:lnTo>
                    <a:lnTo>
                      <a:pt x="367" y="239"/>
                    </a:lnTo>
                    <a:lnTo>
                      <a:pt x="359" y="245"/>
                    </a:lnTo>
                    <a:lnTo>
                      <a:pt x="354" y="253"/>
                    </a:lnTo>
                    <a:lnTo>
                      <a:pt x="346" y="261"/>
                    </a:lnTo>
                    <a:lnTo>
                      <a:pt x="342" y="268"/>
                    </a:lnTo>
                    <a:lnTo>
                      <a:pt x="334" y="276"/>
                    </a:lnTo>
                    <a:lnTo>
                      <a:pt x="329" y="284"/>
                    </a:lnTo>
                    <a:lnTo>
                      <a:pt x="319" y="289"/>
                    </a:lnTo>
                    <a:lnTo>
                      <a:pt x="311" y="291"/>
                    </a:lnTo>
                    <a:lnTo>
                      <a:pt x="300" y="295"/>
                    </a:lnTo>
                    <a:lnTo>
                      <a:pt x="290" y="295"/>
                    </a:lnTo>
                    <a:lnTo>
                      <a:pt x="279" y="295"/>
                    </a:lnTo>
                    <a:lnTo>
                      <a:pt x="267" y="295"/>
                    </a:lnTo>
                    <a:lnTo>
                      <a:pt x="244" y="291"/>
                    </a:lnTo>
                    <a:lnTo>
                      <a:pt x="223" y="284"/>
                    </a:lnTo>
                    <a:lnTo>
                      <a:pt x="202" y="278"/>
                    </a:lnTo>
                    <a:lnTo>
                      <a:pt x="186" y="270"/>
                    </a:lnTo>
                    <a:lnTo>
                      <a:pt x="184" y="270"/>
                    </a:lnTo>
                    <a:lnTo>
                      <a:pt x="184" y="270"/>
                    </a:lnTo>
                    <a:lnTo>
                      <a:pt x="183" y="270"/>
                    </a:lnTo>
                    <a:lnTo>
                      <a:pt x="183" y="270"/>
                    </a:lnTo>
                    <a:lnTo>
                      <a:pt x="183" y="270"/>
                    </a:lnTo>
                    <a:lnTo>
                      <a:pt x="181" y="270"/>
                    </a:lnTo>
                    <a:lnTo>
                      <a:pt x="181" y="270"/>
                    </a:lnTo>
                    <a:lnTo>
                      <a:pt x="179" y="270"/>
                    </a:lnTo>
                    <a:lnTo>
                      <a:pt x="177" y="268"/>
                    </a:lnTo>
                    <a:lnTo>
                      <a:pt x="175" y="268"/>
                    </a:lnTo>
                    <a:lnTo>
                      <a:pt x="175" y="268"/>
                    </a:lnTo>
                    <a:lnTo>
                      <a:pt x="173" y="268"/>
                    </a:lnTo>
                    <a:lnTo>
                      <a:pt x="173" y="266"/>
                    </a:lnTo>
                    <a:lnTo>
                      <a:pt x="173" y="266"/>
                    </a:lnTo>
                    <a:lnTo>
                      <a:pt x="173" y="266"/>
                    </a:lnTo>
                    <a:lnTo>
                      <a:pt x="171" y="266"/>
                    </a:lnTo>
                    <a:lnTo>
                      <a:pt x="171" y="266"/>
                    </a:lnTo>
                    <a:lnTo>
                      <a:pt x="169" y="266"/>
                    </a:lnTo>
                    <a:lnTo>
                      <a:pt x="169" y="276"/>
                    </a:lnTo>
                    <a:lnTo>
                      <a:pt x="167" y="285"/>
                    </a:lnTo>
                    <a:lnTo>
                      <a:pt x="163" y="291"/>
                    </a:lnTo>
                    <a:lnTo>
                      <a:pt x="158" y="297"/>
                    </a:lnTo>
                    <a:lnTo>
                      <a:pt x="150" y="303"/>
                    </a:lnTo>
                    <a:lnTo>
                      <a:pt x="142" y="307"/>
                    </a:lnTo>
                    <a:lnTo>
                      <a:pt x="135" y="308"/>
                    </a:lnTo>
                    <a:lnTo>
                      <a:pt x="125" y="308"/>
                    </a:lnTo>
                    <a:lnTo>
                      <a:pt x="125" y="316"/>
                    </a:lnTo>
                    <a:lnTo>
                      <a:pt x="123" y="322"/>
                    </a:lnTo>
                    <a:lnTo>
                      <a:pt x="121" y="330"/>
                    </a:lnTo>
                    <a:lnTo>
                      <a:pt x="119" y="335"/>
                    </a:lnTo>
                    <a:lnTo>
                      <a:pt x="117" y="343"/>
                    </a:lnTo>
                    <a:lnTo>
                      <a:pt x="115" y="349"/>
                    </a:lnTo>
                    <a:lnTo>
                      <a:pt x="113" y="355"/>
                    </a:lnTo>
                    <a:lnTo>
                      <a:pt x="113" y="362"/>
                    </a:lnTo>
                    <a:lnTo>
                      <a:pt x="123" y="475"/>
                    </a:lnTo>
                    <a:lnTo>
                      <a:pt x="123" y="487"/>
                    </a:lnTo>
                    <a:lnTo>
                      <a:pt x="127" y="498"/>
                    </a:lnTo>
                    <a:lnTo>
                      <a:pt x="131" y="510"/>
                    </a:lnTo>
                    <a:lnTo>
                      <a:pt x="136" y="521"/>
                    </a:lnTo>
                    <a:lnTo>
                      <a:pt x="144" y="531"/>
                    </a:lnTo>
                    <a:lnTo>
                      <a:pt x="154" y="541"/>
                    </a:lnTo>
                    <a:lnTo>
                      <a:pt x="161" y="550"/>
                    </a:lnTo>
                    <a:lnTo>
                      <a:pt x="169" y="560"/>
                    </a:lnTo>
                    <a:lnTo>
                      <a:pt x="169" y="562"/>
                    </a:lnTo>
                    <a:lnTo>
                      <a:pt x="167" y="564"/>
                    </a:lnTo>
                    <a:lnTo>
                      <a:pt x="163" y="564"/>
                    </a:lnTo>
                    <a:lnTo>
                      <a:pt x="160" y="564"/>
                    </a:lnTo>
                    <a:lnTo>
                      <a:pt x="144" y="562"/>
                    </a:lnTo>
                    <a:lnTo>
                      <a:pt x="125" y="552"/>
                    </a:lnTo>
                    <a:lnTo>
                      <a:pt x="115" y="546"/>
                    </a:lnTo>
                    <a:lnTo>
                      <a:pt x="104" y="539"/>
                    </a:lnTo>
                    <a:lnTo>
                      <a:pt x="92" y="529"/>
                    </a:lnTo>
                    <a:lnTo>
                      <a:pt x="81" y="520"/>
                    </a:lnTo>
                    <a:lnTo>
                      <a:pt x="67" y="506"/>
                    </a:lnTo>
                    <a:lnTo>
                      <a:pt x="56" y="491"/>
                    </a:lnTo>
                    <a:lnTo>
                      <a:pt x="44" y="472"/>
                    </a:lnTo>
                    <a:lnTo>
                      <a:pt x="35" y="452"/>
                    </a:lnTo>
                    <a:lnTo>
                      <a:pt x="33" y="443"/>
                    </a:lnTo>
                    <a:lnTo>
                      <a:pt x="29" y="429"/>
                    </a:lnTo>
                    <a:lnTo>
                      <a:pt x="25" y="414"/>
                    </a:lnTo>
                    <a:lnTo>
                      <a:pt x="21" y="397"/>
                    </a:lnTo>
                    <a:lnTo>
                      <a:pt x="15" y="379"/>
                    </a:lnTo>
                    <a:lnTo>
                      <a:pt x="12" y="364"/>
                    </a:lnTo>
                    <a:lnTo>
                      <a:pt x="8" y="349"/>
                    </a:lnTo>
                    <a:lnTo>
                      <a:pt x="6" y="337"/>
                    </a:lnTo>
                    <a:lnTo>
                      <a:pt x="2" y="301"/>
                    </a:lnTo>
                    <a:lnTo>
                      <a:pt x="0" y="266"/>
                    </a:lnTo>
                    <a:lnTo>
                      <a:pt x="0" y="236"/>
                    </a:lnTo>
                    <a:lnTo>
                      <a:pt x="2" y="209"/>
                    </a:lnTo>
                    <a:lnTo>
                      <a:pt x="6" y="197"/>
                    </a:lnTo>
                    <a:lnTo>
                      <a:pt x="8" y="188"/>
                    </a:lnTo>
                    <a:lnTo>
                      <a:pt x="14" y="178"/>
                    </a:lnTo>
                    <a:lnTo>
                      <a:pt x="19" y="168"/>
                    </a:lnTo>
                    <a:lnTo>
                      <a:pt x="25" y="163"/>
                    </a:lnTo>
                    <a:lnTo>
                      <a:pt x="35" y="157"/>
                    </a:lnTo>
                    <a:lnTo>
                      <a:pt x="42" y="151"/>
                    </a:lnTo>
                    <a:lnTo>
                      <a:pt x="54" y="149"/>
                    </a:lnTo>
                    <a:lnTo>
                      <a:pt x="52" y="138"/>
                    </a:lnTo>
                    <a:lnTo>
                      <a:pt x="54" y="126"/>
                    </a:lnTo>
                    <a:lnTo>
                      <a:pt x="54" y="115"/>
                    </a:lnTo>
                    <a:lnTo>
                      <a:pt x="58" y="103"/>
                    </a:lnTo>
                    <a:lnTo>
                      <a:pt x="62" y="94"/>
                    </a:lnTo>
                    <a:lnTo>
                      <a:pt x="65" y="84"/>
                    </a:lnTo>
                    <a:lnTo>
                      <a:pt x="71" y="76"/>
                    </a:lnTo>
                    <a:lnTo>
                      <a:pt x="79" y="69"/>
                    </a:lnTo>
                    <a:lnTo>
                      <a:pt x="87" y="61"/>
                    </a:lnTo>
                    <a:lnTo>
                      <a:pt x="94" y="55"/>
                    </a:lnTo>
                    <a:lnTo>
                      <a:pt x="104" y="49"/>
                    </a:lnTo>
                    <a:lnTo>
                      <a:pt x="113" y="46"/>
                    </a:lnTo>
                    <a:lnTo>
                      <a:pt x="125" y="42"/>
                    </a:lnTo>
                    <a:lnTo>
                      <a:pt x="135" y="42"/>
                    </a:lnTo>
                    <a:lnTo>
                      <a:pt x="146" y="42"/>
                    </a:lnTo>
                    <a:lnTo>
                      <a:pt x="160" y="42"/>
                    </a:lnTo>
                    <a:lnTo>
                      <a:pt x="173" y="30"/>
                    </a:lnTo>
                    <a:lnTo>
                      <a:pt x="188" y="21"/>
                    </a:lnTo>
                    <a:lnTo>
                      <a:pt x="206" y="13"/>
                    </a:lnTo>
                    <a:lnTo>
                      <a:pt x="223" y="7"/>
                    </a:lnTo>
                    <a:lnTo>
                      <a:pt x="240" y="1"/>
                    </a:lnTo>
                    <a:lnTo>
                      <a:pt x="259" y="0"/>
                    </a:lnTo>
                    <a:lnTo>
                      <a:pt x="277" y="0"/>
                    </a:lnTo>
                    <a:lnTo>
                      <a:pt x="296" y="1"/>
                    </a:lnTo>
                    <a:lnTo>
                      <a:pt x="315" y="5"/>
                    </a:lnTo>
                    <a:lnTo>
                      <a:pt x="332" y="11"/>
                    </a:lnTo>
                    <a:lnTo>
                      <a:pt x="348" y="19"/>
                    </a:lnTo>
                    <a:lnTo>
                      <a:pt x="363" y="30"/>
                    </a:lnTo>
                    <a:lnTo>
                      <a:pt x="379" y="42"/>
                    </a:lnTo>
                    <a:lnTo>
                      <a:pt x="390" y="59"/>
                    </a:lnTo>
                    <a:lnTo>
                      <a:pt x="402" y="76"/>
                    </a:lnTo>
                    <a:lnTo>
                      <a:pt x="409" y="97"/>
                    </a:lnTo>
                    <a:lnTo>
                      <a:pt x="415" y="101"/>
                    </a:lnTo>
                    <a:lnTo>
                      <a:pt x="423" y="105"/>
                    </a:lnTo>
                    <a:lnTo>
                      <a:pt x="428" y="109"/>
                    </a:lnTo>
                    <a:lnTo>
                      <a:pt x="434" y="113"/>
                    </a:lnTo>
                    <a:lnTo>
                      <a:pt x="438" y="119"/>
                    </a:lnTo>
                    <a:lnTo>
                      <a:pt x="444" y="122"/>
                    </a:lnTo>
                    <a:lnTo>
                      <a:pt x="448" y="128"/>
                    </a:lnTo>
                    <a:lnTo>
                      <a:pt x="453" y="134"/>
                    </a:lnTo>
                    <a:lnTo>
                      <a:pt x="457" y="140"/>
                    </a:lnTo>
                    <a:lnTo>
                      <a:pt x="461" y="145"/>
                    </a:lnTo>
                    <a:lnTo>
                      <a:pt x="465" y="153"/>
                    </a:lnTo>
                    <a:lnTo>
                      <a:pt x="467" y="159"/>
                    </a:lnTo>
                    <a:lnTo>
                      <a:pt x="471" y="165"/>
                    </a:lnTo>
                    <a:lnTo>
                      <a:pt x="473" y="170"/>
                    </a:lnTo>
                    <a:lnTo>
                      <a:pt x="476" y="178"/>
                    </a:lnTo>
                    <a:lnTo>
                      <a:pt x="478" y="184"/>
                    </a:lnTo>
                    <a:lnTo>
                      <a:pt x="473" y="316"/>
                    </a:lnTo>
                    <a:lnTo>
                      <a:pt x="501" y="387"/>
                    </a:lnTo>
                    <a:lnTo>
                      <a:pt x="482" y="491"/>
                    </a:lnTo>
                    <a:lnTo>
                      <a:pt x="475" y="500"/>
                    </a:lnTo>
                    <a:lnTo>
                      <a:pt x="469" y="510"/>
                    </a:lnTo>
                    <a:lnTo>
                      <a:pt x="461" y="516"/>
                    </a:lnTo>
                    <a:lnTo>
                      <a:pt x="455" y="521"/>
                    </a:lnTo>
                    <a:lnTo>
                      <a:pt x="448" y="529"/>
                    </a:lnTo>
                    <a:lnTo>
                      <a:pt x="442" y="535"/>
                    </a:lnTo>
                    <a:lnTo>
                      <a:pt x="434" y="543"/>
                    </a:lnTo>
                    <a:lnTo>
                      <a:pt x="427" y="554"/>
                    </a:lnTo>
                    <a:lnTo>
                      <a:pt x="421" y="550"/>
                    </a:lnTo>
                    <a:lnTo>
                      <a:pt x="413" y="544"/>
                    </a:lnTo>
                    <a:lnTo>
                      <a:pt x="405" y="539"/>
                    </a:lnTo>
                    <a:lnTo>
                      <a:pt x="400" y="533"/>
                    </a:lnTo>
                    <a:lnTo>
                      <a:pt x="392" y="527"/>
                    </a:lnTo>
                    <a:lnTo>
                      <a:pt x="384" y="521"/>
                    </a:lnTo>
                    <a:lnTo>
                      <a:pt x="379" y="518"/>
                    </a:lnTo>
                    <a:lnTo>
                      <a:pt x="371" y="514"/>
                    </a:lnTo>
                    <a:lnTo>
                      <a:pt x="382" y="506"/>
                    </a:lnTo>
                    <a:lnTo>
                      <a:pt x="392" y="500"/>
                    </a:lnTo>
                    <a:lnTo>
                      <a:pt x="400" y="493"/>
                    </a:lnTo>
                    <a:lnTo>
                      <a:pt x="405" y="483"/>
                    </a:lnTo>
                    <a:lnTo>
                      <a:pt x="409" y="474"/>
                    </a:lnTo>
                    <a:lnTo>
                      <a:pt x="411" y="464"/>
                    </a:lnTo>
                    <a:lnTo>
                      <a:pt x="413" y="452"/>
                    </a:lnTo>
                    <a:lnTo>
                      <a:pt x="413" y="441"/>
                    </a:lnTo>
                    <a:lnTo>
                      <a:pt x="411" y="414"/>
                    </a:lnTo>
                    <a:lnTo>
                      <a:pt x="405" y="385"/>
                    </a:lnTo>
                    <a:lnTo>
                      <a:pt x="400" y="353"/>
                    </a:lnTo>
                    <a:lnTo>
                      <a:pt x="394" y="316"/>
                    </a:lnTo>
                    <a:lnTo>
                      <a:pt x="39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7561440" y="2229840"/>
                <a:ext cx="255600" cy="73440"/>
              </a:xfrm>
              <a:custGeom>
                <a:avLst/>
                <a:gdLst/>
                <a:ahLst/>
                <a:rect l="l" t="t" r="r" b="b"/>
                <a:pathLst>
                  <a:path w="166" h="62">
                    <a:moveTo>
                      <a:pt x="166" y="0"/>
                    </a:moveTo>
                    <a:lnTo>
                      <a:pt x="154" y="4"/>
                    </a:lnTo>
                    <a:lnTo>
                      <a:pt x="144" y="8"/>
                    </a:lnTo>
                    <a:lnTo>
                      <a:pt x="137" y="8"/>
                    </a:lnTo>
                    <a:lnTo>
                      <a:pt x="129" y="8"/>
                    </a:lnTo>
                    <a:lnTo>
                      <a:pt x="123" y="8"/>
                    </a:lnTo>
                    <a:lnTo>
                      <a:pt x="120" y="6"/>
                    </a:lnTo>
                    <a:lnTo>
                      <a:pt x="114" y="4"/>
                    </a:lnTo>
                    <a:lnTo>
                      <a:pt x="106" y="2"/>
                    </a:lnTo>
                    <a:lnTo>
                      <a:pt x="102" y="0"/>
                    </a:lnTo>
                    <a:lnTo>
                      <a:pt x="98" y="4"/>
                    </a:lnTo>
                    <a:lnTo>
                      <a:pt x="96" y="8"/>
                    </a:lnTo>
                    <a:lnTo>
                      <a:pt x="93" y="10"/>
                    </a:lnTo>
                    <a:lnTo>
                      <a:pt x="91" y="12"/>
                    </a:lnTo>
                    <a:lnTo>
                      <a:pt x="89" y="12"/>
                    </a:lnTo>
                    <a:lnTo>
                      <a:pt x="87" y="14"/>
                    </a:lnTo>
                    <a:lnTo>
                      <a:pt x="83" y="14"/>
                    </a:lnTo>
                    <a:lnTo>
                      <a:pt x="77" y="14"/>
                    </a:lnTo>
                    <a:lnTo>
                      <a:pt x="73" y="10"/>
                    </a:lnTo>
                    <a:lnTo>
                      <a:pt x="73" y="8"/>
                    </a:lnTo>
                    <a:lnTo>
                      <a:pt x="50" y="0"/>
                    </a:lnTo>
                    <a:lnTo>
                      <a:pt x="45" y="6"/>
                    </a:lnTo>
                    <a:lnTo>
                      <a:pt x="39" y="8"/>
                    </a:lnTo>
                    <a:lnTo>
                      <a:pt x="35" y="10"/>
                    </a:lnTo>
                    <a:lnTo>
                      <a:pt x="29" y="12"/>
                    </a:lnTo>
                    <a:lnTo>
                      <a:pt x="23" y="12"/>
                    </a:lnTo>
                    <a:lnTo>
                      <a:pt x="16" y="10"/>
                    </a:lnTo>
                    <a:lnTo>
                      <a:pt x="10" y="8"/>
                    </a:lnTo>
                    <a:lnTo>
                      <a:pt x="0" y="6"/>
                    </a:lnTo>
                    <a:lnTo>
                      <a:pt x="35" y="31"/>
                    </a:lnTo>
                    <a:lnTo>
                      <a:pt x="35" y="35"/>
                    </a:lnTo>
                    <a:lnTo>
                      <a:pt x="37" y="39"/>
                    </a:lnTo>
                    <a:lnTo>
                      <a:pt x="39" y="42"/>
                    </a:lnTo>
                    <a:lnTo>
                      <a:pt x="43" y="46"/>
                    </a:lnTo>
                    <a:lnTo>
                      <a:pt x="45" y="48"/>
                    </a:lnTo>
                    <a:lnTo>
                      <a:pt x="47" y="50"/>
                    </a:lnTo>
                    <a:lnTo>
                      <a:pt x="48" y="54"/>
                    </a:lnTo>
                    <a:lnTo>
                      <a:pt x="50" y="58"/>
                    </a:lnTo>
                    <a:lnTo>
                      <a:pt x="56" y="60"/>
                    </a:lnTo>
                    <a:lnTo>
                      <a:pt x="64" y="60"/>
                    </a:lnTo>
                    <a:lnTo>
                      <a:pt x="71" y="60"/>
                    </a:lnTo>
                    <a:lnTo>
                      <a:pt x="77" y="60"/>
                    </a:lnTo>
                    <a:lnTo>
                      <a:pt x="85" y="62"/>
                    </a:lnTo>
                    <a:lnTo>
                      <a:pt x="93" y="62"/>
                    </a:lnTo>
                    <a:lnTo>
                      <a:pt x="98" y="62"/>
                    </a:lnTo>
                    <a:lnTo>
                      <a:pt x="106" y="62"/>
                    </a:lnTo>
                    <a:lnTo>
                      <a:pt x="106" y="60"/>
                    </a:lnTo>
                    <a:lnTo>
                      <a:pt x="114" y="56"/>
                    </a:lnTo>
                    <a:lnTo>
                      <a:pt x="120" y="52"/>
                    </a:lnTo>
                    <a:lnTo>
                      <a:pt x="123" y="48"/>
                    </a:lnTo>
                    <a:lnTo>
                      <a:pt x="127" y="44"/>
                    </a:lnTo>
                    <a:lnTo>
                      <a:pt x="129" y="42"/>
                    </a:lnTo>
                    <a:lnTo>
                      <a:pt x="131" y="41"/>
                    </a:lnTo>
                    <a:lnTo>
                      <a:pt x="133" y="39"/>
                    </a:lnTo>
                    <a:lnTo>
                      <a:pt x="133" y="37"/>
                    </a:lnTo>
                    <a:lnTo>
                      <a:pt x="137" y="37"/>
                    </a:lnTo>
                    <a:lnTo>
                      <a:pt x="141" y="33"/>
                    </a:lnTo>
                    <a:lnTo>
                      <a:pt x="144" y="29"/>
                    </a:lnTo>
                    <a:lnTo>
                      <a:pt x="148" y="23"/>
                    </a:lnTo>
                    <a:lnTo>
                      <a:pt x="152" y="17"/>
                    </a:lnTo>
                    <a:lnTo>
                      <a:pt x="156" y="12"/>
                    </a:lnTo>
                    <a:lnTo>
                      <a:pt x="160" y="6"/>
                    </a:lnTo>
                    <a:lnTo>
                      <a:pt x="164" y="2"/>
                    </a:lnTo>
                    <a:lnTo>
                      <a:pt x="166" y="0"/>
                    </a:lnTo>
                    <a:close/>
                  </a:path>
                </a:pathLst>
              </a:custGeom>
              <a:solidFill>
                <a:srgbClr val="ff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73" name=""/>
              <p:cNvSpPr/>
              <p:nvPr/>
            </p:nvSpPr>
            <p:spPr>
              <a:xfrm>
                <a:off x="7561440" y="2229840"/>
                <a:ext cx="255600" cy="73440"/>
              </a:xfrm>
              <a:custGeom>
                <a:avLst/>
                <a:gdLst/>
                <a:ahLst/>
                <a:rect l="l" t="t" r="r" b="b"/>
                <a:pathLst>
                  <a:path w="166" h="62">
                    <a:moveTo>
                      <a:pt x="166" y="0"/>
                    </a:moveTo>
                    <a:lnTo>
                      <a:pt x="154" y="4"/>
                    </a:lnTo>
                    <a:lnTo>
                      <a:pt x="144" y="8"/>
                    </a:lnTo>
                    <a:lnTo>
                      <a:pt x="137" y="8"/>
                    </a:lnTo>
                    <a:lnTo>
                      <a:pt x="129" y="8"/>
                    </a:lnTo>
                    <a:lnTo>
                      <a:pt x="123" y="8"/>
                    </a:lnTo>
                    <a:lnTo>
                      <a:pt x="120" y="6"/>
                    </a:lnTo>
                    <a:lnTo>
                      <a:pt x="114" y="4"/>
                    </a:lnTo>
                    <a:lnTo>
                      <a:pt x="106" y="2"/>
                    </a:lnTo>
                    <a:lnTo>
                      <a:pt x="102" y="0"/>
                    </a:lnTo>
                    <a:lnTo>
                      <a:pt x="98" y="4"/>
                    </a:lnTo>
                    <a:lnTo>
                      <a:pt x="96" y="8"/>
                    </a:lnTo>
                    <a:lnTo>
                      <a:pt x="93" y="10"/>
                    </a:lnTo>
                    <a:lnTo>
                      <a:pt x="91" y="12"/>
                    </a:lnTo>
                    <a:lnTo>
                      <a:pt x="89" y="12"/>
                    </a:lnTo>
                    <a:lnTo>
                      <a:pt x="87" y="14"/>
                    </a:lnTo>
                    <a:lnTo>
                      <a:pt x="83" y="14"/>
                    </a:lnTo>
                    <a:lnTo>
                      <a:pt x="77" y="14"/>
                    </a:lnTo>
                    <a:lnTo>
                      <a:pt x="73" y="10"/>
                    </a:lnTo>
                    <a:lnTo>
                      <a:pt x="73" y="8"/>
                    </a:lnTo>
                    <a:lnTo>
                      <a:pt x="50" y="0"/>
                    </a:lnTo>
                    <a:lnTo>
                      <a:pt x="45" y="6"/>
                    </a:lnTo>
                    <a:lnTo>
                      <a:pt x="39" y="8"/>
                    </a:lnTo>
                    <a:lnTo>
                      <a:pt x="35" y="10"/>
                    </a:lnTo>
                    <a:lnTo>
                      <a:pt x="29" y="12"/>
                    </a:lnTo>
                    <a:lnTo>
                      <a:pt x="23" y="12"/>
                    </a:lnTo>
                    <a:lnTo>
                      <a:pt x="16" y="10"/>
                    </a:lnTo>
                    <a:lnTo>
                      <a:pt x="10" y="8"/>
                    </a:lnTo>
                    <a:lnTo>
                      <a:pt x="0" y="6"/>
                    </a:lnTo>
                    <a:lnTo>
                      <a:pt x="35" y="31"/>
                    </a:lnTo>
                    <a:lnTo>
                      <a:pt x="35" y="35"/>
                    </a:lnTo>
                    <a:lnTo>
                      <a:pt x="37" y="39"/>
                    </a:lnTo>
                    <a:lnTo>
                      <a:pt x="39" y="42"/>
                    </a:lnTo>
                    <a:lnTo>
                      <a:pt x="43" y="46"/>
                    </a:lnTo>
                    <a:lnTo>
                      <a:pt x="45" y="48"/>
                    </a:lnTo>
                    <a:lnTo>
                      <a:pt x="47" y="50"/>
                    </a:lnTo>
                    <a:lnTo>
                      <a:pt x="48" y="54"/>
                    </a:lnTo>
                    <a:lnTo>
                      <a:pt x="50" y="58"/>
                    </a:lnTo>
                    <a:lnTo>
                      <a:pt x="56" y="60"/>
                    </a:lnTo>
                    <a:lnTo>
                      <a:pt x="64" y="60"/>
                    </a:lnTo>
                    <a:lnTo>
                      <a:pt x="71" y="60"/>
                    </a:lnTo>
                    <a:lnTo>
                      <a:pt x="77" y="60"/>
                    </a:lnTo>
                    <a:lnTo>
                      <a:pt x="85" y="62"/>
                    </a:lnTo>
                    <a:lnTo>
                      <a:pt x="93" y="62"/>
                    </a:lnTo>
                    <a:lnTo>
                      <a:pt x="98" y="62"/>
                    </a:lnTo>
                    <a:lnTo>
                      <a:pt x="106" y="62"/>
                    </a:lnTo>
                    <a:lnTo>
                      <a:pt x="106" y="60"/>
                    </a:lnTo>
                    <a:lnTo>
                      <a:pt x="114" y="56"/>
                    </a:lnTo>
                    <a:lnTo>
                      <a:pt x="120" y="52"/>
                    </a:lnTo>
                    <a:lnTo>
                      <a:pt x="123" y="48"/>
                    </a:lnTo>
                    <a:lnTo>
                      <a:pt x="127" y="44"/>
                    </a:lnTo>
                    <a:lnTo>
                      <a:pt x="129" y="42"/>
                    </a:lnTo>
                    <a:lnTo>
                      <a:pt x="131" y="41"/>
                    </a:lnTo>
                    <a:lnTo>
                      <a:pt x="133" y="39"/>
                    </a:lnTo>
                    <a:lnTo>
                      <a:pt x="133" y="37"/>
                    </a:lnTo>
                    <a:lnTo>
                      <a:pt x="137" y="37"/>
                    </a:lnTo>
                    <a:lnTo>
                      <a:pt x="141" y="33"/>
                    </a:lnTo>
                    <a:lnTo>
                      <a:pt x="144" y="29"/>
                    </a:lnTo>
                    <a:lnTo>
                      <a:pt x="148" y="23"/>
                    </a:lnTo>
                    <a:lnTo>
                      <a:pt x="152" y="17"/>
                    </a:lnTo>
                    <a:lnTo>
                      <a:pt x="156" y="12"/>
                    </a:lnTo>
                    <a:lnTo>
                      <a:pt x="160" y="6"/>
                    </a:lnTo>
                    <a:lnTo>
                      <a:pt x="164" y="2"/>
                    </a:lnTo>
                    <a:lnTo>
                      <a:pt x="166" y="0"/>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74" name=""/>
              <p:cNvSpPr/>
              <p:nvPr/>
            </p:nvSpPr>
            <p:spPr>
              <a:xfrm>
                <a:off x="7696440" y="2181960"/>
                <a:ext cx="10800" cy="39240"/>
              </a:xfrm>
              <a:custGeom>
                <a:avLst/>
                <a:gdLst/>
                <a:ahLst/>
                <a:rect l="l" t="t" r="r" b="b"/>
                <a:pathLst>
                  <a:path w="8" h="33">
                    <a:moveTo>
                      <a:pt x="0" y="0"/>
                    </a:moveTo>
                    <a:lnTo>
                      <a:pt x="0" y="6"/>
                    </a:lnTo>
                    <a:lnTo>
                      <a:pt x="0" y="10"/>
                    </a:lnTo>
                    <a:lnTo>
                      <a:pt x="0" y="13"/>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75" name=""/>
              <p:cNvSpPr/>
              <p:nvPr/>
            </p:nvSpPr>
            <p:spPr>
              <a:xfrm>
                <a:off x="7696440" y="2181960"/>
                <a:ext cx="10800" cy="39240"/>
              </a:xfrm>
              <a:custGeom>
                <a:avLst/>
                <a:gdLst/>
                <a:ahLst/>
                <a:rect l="l" t="t" r="r" b="b"/>
                <a:pathLst>
                  <a:path w="8" h="33">
                    <a:moveTo>
                      <a:pt x="0" y="0"/>
                    </a:moveTo>
                    <a:lnTo>
                      <a:pt x="0" y="6"/>
                    </a:lnTo>
                    <a:lnTo>
                      <a:pt x="0" y="10"/>
                    </a:lnTo>
                    <a:lnTo>
                      <a:pt x="0" y="13"/>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76" name=""/>
              <p:cNvSpPr/>
              <p:nvPr/>
            </p:nvSpPr>
            <p:spPr>
              <a:xfrm>
                <a:off x="7659720" y="2189160"/>
                <a:ext cx="17640" cy="33120"/>
              </a:xfrm>
              <a:custGeom>
                <a:avLst/>
                <a:gdLst/>
                <a:ahLst/>
                <a:rect l="l" t="t" r="r" b="b"/>
                <a:pathLst>
                  <a:path w="11" h="28">
                    <a:moveTo>
                      <a:pt x="11" y="0"/>
                    </a:moveTo>
                    <a:lnTo>
                      <a:pt x="11" y="4"/>
                    </a:lnTo>
                    <a:lnTo>
                      <a:pt x="11" y="9"/>
                    </a:lnTo>
                    <a:lnTo>
                      <a:pt x="9" y="13"/>
                    </a:lnTo>
                    <a:lnTo>
                      <a:pt x="7" y="17"/>
                    </a:lnTo>
                    <a:lnTo>
                      <a:pt x="7" y="21"/>
                    </a:lnTo>
                    <a:lnTo>
                      <a:pt x="6" y="23"/>
                    </a:lnTo>
                    <a:lnTo>
                      <a:pt x="2" y="25"/>
                    </a:lnTo>
                    <a:lnTo>
                      <a:pt x="0" y="2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7" name=""/>
              <p:cNvSpPr/>
              <p:nvPr/>
            </p:nvSpPr>
            <p:spPr>
              <a:xfrm>
                <a:off x="7659720" y="2189160"/>
                <a:ext cx="17640" cy="33120"/>
              </a:xfrm>
              <a:custGeom>
                <a:avLst/>
                <a:gdLst/>
                <a:ahLst/>
                <a:rect l="l" t="t" r="r" b="b"/>
                <a:pathLst>
                  <a:path w="11" h="28">
                    <a:moveTo>
                      <a:pt x="11" y="0"/>
                    </a:moveTo>
                    <a:lnTo>
                      <a:pt x="11" y="4"/>
                    </a:lnTo>
                    <a:lnTo>
                      <a:pt x="11" y="9"/>
                    </a:lnTo>
                    <a:lnTo>
                      <a:pt x="9" y="13"/>
                    </a:lnTo>
                    <a:lnTo>
                      <a:pt x="7" y="17"/>
                    </a:lnTo>
                    <a:lnTo>
                      <a:pt x="7" y="21"/>
                    </a:lnTo>
                    <a:lnTo>
                      <a:pt x="6" y="23"/>
                    </a:lnTo>
                    <a:lnTo>
                      <a:pt x="2" y="25"/>
                    </a:lnTo>
                    <a:lnTo>
                      <a:pt x="0" y="2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8" name=""/>
              <p:cNvSpPr/>
              <p:nvPr/>
            </p:nvSpPr>
            <p:spPr>
              <a:xfrm>
                <a:off x="7642440" y="2298600"/>
                <a:ext cx="98280" cy="7200"/>
              </a:xfrm>
              <a:custGeom>
                <a:avLst/>
                <a:gdLst/>
                <a:ahLst/>
                <a:rect l="l" t="t" r="r" b="b"/>
                <a:pathLst>
                  <a:path w="64" h="6">
                    <a:moveTo>
                      <a:pt x="64" y="0"/>
                    </a:moveTo>
                    <a:lnTo>
                      <a:pt x="56" y="2"/>
                    </a:lnTo>
                    <a:lnTo>
                      <a:pt x="48" y="4"/>
                    </a:lnTo>
                    <a:lnTo>
                      <a:pt x="41" y="6"/>
                    </a:lnTo>
                    <a:lnTo>
                      <a:pt x="33" y="6"/>
                    </a:lnTo>
                    <a:lnTo>
                      <a:pt x="25" y="6"/>
                    </a:lnTo>
                    <a:lnTo>
                      <a:pt x="18" y="4"/>
                    </a:lnTo>
                    <a:lnTo>
                      <a:pt x="8" y="4"/>
                    </a:lnTo>
                    <a:lnTo>
                      <a:pt x="0" y="0"/>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79" name=""/>
              <p:cNvSpPr/>
              <p:nvPr/>
            </p:nvSpPr>
            <p:spPr>
              <a:xfrm>
                <a:off x="7459920" y="1843560"/>
                <a:ext cx="61560" cy="94680"/>
              </a:xfrm>
              <a:custGeom>
                <a:avLst/>
                <a:gdLst/>
                <a:ahLst/>
                <a:rect l="l" t="t" r="r" b="b"/>
                <a:pathLst>
                  <a:path w="41" h="79">
                    <a:moveTo>
                      <a:pt x="0" y="79"/>
                    </a:moveTo>
                    <a:lnTo>
                      <a:pt x="4" y="71"/>
                    </a:lnTo>
                    <a:lnTo>
                      <a:pt x="14" y="54"/>
                    </a:lnTo>
                    <a:lnTo>
                      <a:pt x="23" y="31"/>
                    </a:lnTo>
                    <a:lnTo>
                      <a:pt x="35" y="11"/>
                    </a:lnTo>
                    <a:lnTo>
                      <a:pt x="41" y="0"/>
                    </a:lnTo>
                    <a:lnTo>
                      <a:pt x="39" y="4"/>
                    </a:lnTo>
                    <a:lnTo>
                      <a:pt x="25" y="27"/>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7459920" y="1843560"/>
                <a:ext cx="61560" cy="94680"/>
              </a:xfrm>
              <a:custGeom>
                <a:avLst/>
                <a:gdLst/>
                <a:ahLst/>
                <a:rect l="l" t="t" r="r" b="b"/>
                <a:pathLst>
                  <a:path w="41" h="79">
                    <a:moveTo>
                      <a:pt x="0" y="79"/>
                    </a:moveTo>
                    <a:lnTo>
                      <a:pt x="4" y="71"/>
                    </a:lnTo>
                    <a:lnTo>
                      <a:pt x="14" y="54"/>
                    </a:lnTo>
                    <a:lnTo>
                      <a:pt x="23" y="31"/>
                    </a:lnTo>
                    <a:lnTo>
                      <a:pt x="35" y="11"/>
                    </a:lnTo>
                    <a:lnTo>
                      <a:pt x="41" y="0"/>
                    </a:lnTo>
                    <a:lnTo>
                      <a:pt x="39" y="4"/>
                    </a:lnTo>
                    <a:lnTo>
                      <a:pt x="25" y="27"/>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842160" y="1539720"/>
                <a:ext cx="1569960" cy="309960"/>
              </a:xfrm>
              <a:custGeom>
                <a:avLst/>
                <a:gdLst/>
                <a:ahLst/>
                <a:rect l="l" t="t" r="r" b="b"/>
                <a:pathLst>
                  <a:path w="1023" h="261">
                    <a:moveTo>
                      <a:pt x="495" y="2"/>
                    </a:moveTo>
                    <a:lnTo>
                      <a:pt x="585" y="3"/>
                    </a:lnTo>
                    <a:lnTo>
                      <a:pt x="610" y="5"/>
                    </a:lnTo>
                    <a:lnTo>
                      <a:pt x="635" y="7"/>
                    </a:lnTo>
                    <a:lnTo>
                      <a:pt x="658" y="9"/>
                    </a:lnTo>
                    <a:lnTo>
                      <a:pt x="683" y="11"/>
                    </a:lnTo>
                    <a:lnTo>
                      <a:pt x="705" y="13"/>
                    </a:lnTo>
                    <a:lnTo>
                      <a:pt x="728" y="15"/>
                    </a:lnTo>
                    <a:lnTo>
                      <a:pt x="749" y="19"/>
                    </a:lnTo>
                    <a:lnTo>
                      <a:pt x="772" y="21"/>
                    </a:lnTo>
                    <a:lnTo>
                      <a:pt x="793" y="26"/>
                    </a:lnTo>
                    <a:lnTo>
                      <a:pt x="812" y="28"/>
                    </a:lnTo>
                    <a:lnTo>
                      <a:pt x="833" y="32"/>
                    </a:lnTo>
                    <a:lnTo>
                      <a:pt x="852" y="36"/>
                    </a:lnTo>
                    <a:lnTo>
                      <a:pt x="868" y="40"/>
                    </a:lnTo>
                    <a:lnTo>
                      <a:pt x="887" y="46"/>
                    </a:lnTo>
                    <a:lnTo>
                      <a:pt x="902" y="49"/>
                    </a:lnTo>
                    <a:lnTo>
                      <a:pt x="918" y="55"/>
                    </a:lnTo>
                    <a:lnTo>
                      <a:pt x="933" y="59"/>
                    </a:lnTo>
                    <a:lnTo>
                      <a:pt x="947" y="65"/>
                    </a:lnTo>
                    <a:lnTo>
                      <a:pt x="960" y="71"/>
                    </a:lnTo>
                    <a:lnTo>
                      <a:pt x="972" y="76"/>
                    </a:lnTo>
                    <a:lnTo>
                      <a:pt x="981" y="82"/>
                    </a:lnTo>
                    <a:lnTo>
                      <a:pt x="991" y="88"/>
                    </a:lnTo>
                    <a:lnTo>
                      <a:pt x="1000" y="92"/>
                    </a:lnTo>
                    <a:lnTo>
                      <a:pt x="1006" y="99"/>
                    </a:lnTo>
                    <a:lnTo>
                      <a:pt x="1012" y="105"/>
                    </a:lnTo>
                    <a:lnTo>
                      <a:pt x="1018" y="111"/>
                    </a:lnTo>
                    <a:lnTo>
                      <a:pt x="1020" y="119"/>
                    </a:lnTo>
                    <a:lnTo>
                      <a:pt x="1023" y="124"/>
                    </a:lnTo>
                    <a:lnTo>
                      <a:pt x="1023" y="132"/>
                    </a:lnTo>
                    <a:lnTo>
                      <a:pt x="1023" y="138"/>
                    </a:lnTo>
                    <a:lnTo>
                      <a:pt x="1020" y="145"/>
                    </a:lnTo>
                    <a:lnTo>
                      <a:pt x="1018" y="151"/>
                    </a:lnTo>
                    <a:lnTo>
                      <a:pt x="1014" y="157"/>
                    </a:lnTo>
                    <a:lnTo>
                      <a:pt x="1008" y="163"/>
                    </a:lnTo>
                    <a:lnTo>
                      <a:pt x="1000" y="170"/>
                    </a:lnTo>
                    <a:lnTo>
                      <a:pt x="993" y="176"/>
                    </a:lnTo>
                    <a:lnTo>
                      <a:pt x="983" y="182"/>
                    </a:lnTo>
                    <a:lnTo>
                      <a:pt x="973" y="188"/>
                    </a:lnTo>
                    <a:lnTo>
                      <a:pt x="962" y="193"/>
                    </a:lnTo>
                    <a:lnTo>
                      <a:pt x="950" y="199"/>
                    </a:lnTo>
                    <a:lnTo>
                      <a:pt x="935" y="205"/>
                    </a:lnTo>
                    <a:lnTo>
                      <a:pt x="922" y="209"/>
                    </a:lnTo>
                    <a:lnTo>
                      <a:pt x="906" y="214"/>
                    </a:lnTo>
                    <a:lnTo>
                      <a:pt x="891" y="218"/>
                    </a:lnTo>
                    <a:lnTo>
                      <a:pt x="874" y="224"/>
                    </a:lnTo>
                    <a:lnTo>
                      <a:pt x="856" y="228"/>
                    </a:lnTo>
                    <a:lnTo>
                      <a:pt x="837" y="232"/>
                    </a:lnTo>
                    <a:lnTo>
                      <a:pt x="818" y="236"/>
                    </a:lnTo>
                    <a:lnTo>
                      <a:pt x="797" y="239"/>
                    </a:lnTo>
                    <a:lnTo>
                      <a:pt x="776" y="243"/>
                    </a:lnTo>
                    <a:lnTo>
                      <a:pt x="756" y="245"/>
                    </a:lnTo>
                    <a:lnTo>
                      <a:pt x="733" y="249"/>
                    </a:lnTo>
                    <a:lnTo>
                      <a:pt x="710" y="251"/>
                    </a:lnTo>
                    <a:lnTo>
                      <a:pt x="687" y="253"/>
                    </a:lnTo>
                    <a:lnTo>
                      <a:pt x="664" y="255"/>
                    </a:lnTo>
                    <a:lnTo>
                      <a:pt x="639" y="257"/>
                    </a:lnTo>
                    <a:lnTo>
                      <a:pt x="614" y="259"/>
                    </a:lnTo>
                    <a:lnTo>
                      <a:pt x="589" y="261"/>
                    </a:lnTo>
                    <a:lnTo>
                      <a:pt x="564" y="261"/>
                    </a:lnTo>
                    <a:lnTo>
                      <a:pt x="537" y="261"/>
                    </a:lnTo>
                    <a:lnTo>
                      <a:pt x="512" y="261"/>
                    </a:lnTo>
                    <a:lnTo>
                      <a:pt x="484" y="261"/>
                    </a:lnTo>
                    <a:lnTo>
                      <a:pt x="459" y="261"/>
                    </a:lnTo>
                    <a:lnTo>
                      <a:pt x="434" y="261"/>
                    </a:lnTo>
                    <a:lnTo>
                      <a:pt x="409" y="259"/>
                    </a:lnTo>
                    <a:lnTo>
                      <a:pt x="384" y="257"/>
                    </a:lnTo>
                    <a:lnTo>
                      <a:pt x="359" y="255"/>
                    </a:lnTo>
                    <a:lnTo>
                      <a:pt x="336" y="253"/>
                    </a:lnTo>
                    <a:lnTo>
                      <a:pt x="313" y="251"/>
                    </a:lnTo>
                    <a:lnTo>
                      <a:pt x="290" y="249"/>
                    </a:lnTo>
                    <a:lnTo>
                      <a:pt x="267" y="245"/>
                    </a:lnTo>
                    <a:lnTo>
                      <a:pt x="247" y="243"/>
                    </a:lnTo>
                    <a:lnTo>
                      <a:pt x="226" y="239"/>
                    </a:lnTo>
                    <a:lnTo>
                      <a:pt x="205" y="236"/>
                    </a:lnTo>
                    <a:lnTo>
                      <a:pt x="186" y="232"/>
                    </a:lnTo>
                    <a:lnTo>
                      <a:pt x="167" y="228"/>
                    </a:lnTo>
                    <a:lnTo>
                      <a:pt x="149" y="224"/>
                    </a:lnTo>
                    <a:lnTo>
                      <a:pt x="132" y="218"/>
                    </a:lnTo>
                    <a:lnTo>
                      <a:pt x="117" y="214"/>
                    </a:lnTo>
                    <a:lnTo>
                      <a:pt x="101" y="209"/>
                    </a:lnTo>
                    <a:lnTo>
                      <a:pt x="88" y="205"/>
                    </a:lnTo>
                    <a:lnTo>
                      <a:pt x="73" y="199"/>
                    </a:lnTo>
                    <a:lnTo>
                      <a:pt x="61" y="193"/>
                    </a:lnTo>
                    <a:lnTo>
                      <a:pt x="50" y="188"/>
                    </a:lnTo>
                    <a:lnTo>
                      <a:pt x="40" y="182"/>
                    </a:lnTo>
                    <a:lnTo>
                      <a:pt x="30" y="176"/>
                    </a:lnTo>
                    <a:lnTo>
                      <a:pt x="23" y="170"/>
                    </a:lnTo>
                    <a:lnTo>
                      <a:pt x="15" y="163"/>
                    </a:lnTo>
                    <a:lnTo>
                      <a:pt x="9" y="157"/>
                    </a:lnTo>
                    <a:lnTo>
                      <a:pt x="5" y="151"/>
                    </a:lnTo>
                    <a:lnTo>
                      <a:pt x="3" y="145"/>
                    </a:lnTo>
                    <a:lnTo>
                      <a:pt x="0" y="138"/>
                    </a:lnTo>
                    <a:lnTo>
                      <a:pt x="0" y="132"/>
                    </a:lnTo>
                    <a:lnTo>
                      <a:pt x="0" y="124"/>
                    </a:lnTo>
                    <a:lnTo>
                      <a:pt x="2" y="119"/>
                    </a:lnTo>
                    <a:lnTo>
                      <a:pt x="5" y="113"/>
                    </a:lnTo>
                    <a:lnTo>
                      <a:pt x="9" y="107"/>
                    </a:lnTo>
                    <a:lnTo>
                      <a:pt x="13" y="101"/>
                    </a:lnTo>
                    <a:lnTo>
                      <a:pt x="19" y="94"/>
                    </a:lnTo>
                    <a:lnTo>
                      <a:pt x="26" y="88"/>
                    </a:lnTo>
                    <a:lnTo>
                      <a:pt x="34" y="82"/>
                    </a:lnTo>
                    <a:lnTo>
                      <a:pt x="44" y="78"/>
                    </a:lnTo>
                    <a:lnTo>
                      <a:pt x="55" y="71"/>
                    </a:lnTo>
                    <a:lnTo>
                      <a:pt x="65" y="67"/>
                    </a:lnTo>
                    <a:lnTo>
                      <a:pt x="76" y="61"/>
                    </a:lnTo>
                    <a:lnTo>
                      <a:pt x="90" y="57"/>
                    </a:lnTo>
                    <a:lnTo>
                      <a:pt x="103" y="51"/>
                    </a:lnTo>
                    <a:lnTo>
                      <a:pt x="117" y="48"/>
                    </a:lnTo>
                    <a:lnTo>
                      <a:pt x="132" y="42"/>
                    </a:lnTo>
                    <a:lnTo>
                      <a:pt x="149" y="38"/>
                    </a:lnTo>
                    <a:lnTo>
                      <a:pt x="165" y="34"/>
                    </a:lnTo>
                    <a:lnTo>
                      <a:pt x="182" y="30"/>
                    </a:lnTo>
                    <a:lnTo>
                      <a:pt x="201" y="26"/>
                    </a:lnTo>
                    <a:lnTo>
                      <a:pt x="219" y="23"/>
                    </a:lnTo>
                    <a:lnTo>
                      <a:pt x="238" y="19"/>
                    </a:lnTo>
                    <a:lnTo>
                      <a:pt x="257" y="17"/>
                    </a:lnTo>
                    <a:lnTo>
                      <a:pt x="278" y="13"/>
                    </a:lnTo>
                    <a:lnTo>
                      <a:pt x="299" y="11"/>
                    </a:lnTo>
                    <a:lnTo>
                      <a:pt x="320" y="9"/>
                    </a:lnTo>
                    <a:lnTo>
                      <a:pt x="343" y="7"/>
                    </a:lnTo>
                    <a:lnTo>
                      <a:pt x="365" y="5"/>
                    </a:lnTo>
                    <a:lnTo>
                      <a:pt x="388" y="3"/>
                    </a:lnTo>
                    <a:lnTo>
                      <a:pt x="411" y="2"/>
                    </a:lnTo>
                    <a:lnTo>
                      <a:pt x="436" y="0"/>
                    </a:lnTo>
                    <a:lnTo>
                      <a:pt x="480" y="0"/>
                    </a:lnTo>
                    <a:lnTo>
                      <a:pt x="463" y="0"/>
                    </a:lnTo>
                    <a:lnTo>
                      <a:pt x="464" y="0"/>
                    </a:lnTo>
                    <a:lnTo>
                      <a:pt x="463" y="0"/>
                    </a:lnTo>
                    <a:lnTo>
                      <a:pt x="461" y="0"/>
                    </a:lnTo>
                    <a:lnTo>
                      <a:pt x="459" y="0"/>
                    </a:lnTo>
                    <a:lnTo>
                      <a:pt x="463" y="0"/>
                    </a:lnTo>
                    <a:lnTo>
                      <a:pt x="225" y="36"/>
                    </a:lnTo>
                    <a:lnTo>
                      <a:pt x="149" y="61"/>
                    </a:lnTo>
                    <a:lnTo>
                      <a:pt x="136" y="63"/>
                    </a:lnTo>
                    <a:lnTo>
                      <a:pt x="123" y="67"/>
                    </a:lnTo>
                    <a:lnTo>
                      <a:pt x="111" y="69"/>
                    </a:lnTo>
                    <a:lnTo>
                      <a:pt x="99" y="74"/>
                    </a:lnTo>
                    <a:lnTo>
                      <a:pt x="90" y="76"/>
                    </a:lnTo>
                    <a:lnTo>
                      <a:pt x="80" y="80"/>
                    </a:lnTo>
                    <a:lnTo>
                      <a:pt x="71" y="82"/>
                    </a:lnTo>
                    <a:lnTo>
                      <a:pt x="65" y="86"/>
                    </a:lnTo>
                    <a:lnTo>
                      <a:pt x="57" y="90"/>
                    </a:lnTo>
                    <a:lnTo>
                      <a:pt x="53" y="94"/>
                    </a:lnTo>
                    <a:lnTo>
                      <a:pt x="48" y="97"/>
                    </a:lnTo>
                    <a:lnTo>
                      <a:pt x="44" y="101"/>
                    </a:lnTo>
                    <a:lnTo>
                      <a:pt x="42" y="105"/>
                    </a:lnTo>
                    <a:lnTo>
                      <a:pt x="40" y="109"/>
                    </a:lnTo>
                    <a:lnTo>
                      <a:pt x="40" y="113"/>
                    </a:lnTo>
                    <a:lnTo>
                      <a:pt x="40" y="117"/>
                    </a:lnTo>
                    <a:lnTo>
                      <a:pt x="42" y="120"/>
                    </a:lnTo>
                    <a:lnTo>
                      <a:pt x="44" y="124"/>
                    </a:lnTo>
                    <a:lnTo>
                      <a:pt x="48" y="128"/>
                    </a:lnTo>
                    <a:lnTo>
                      <a:pt x="53" y="132"/>
                    </a:lnTo>
                    <a:lnTo>
                      <a:pt x="61" y="136"/>
                    </a:lnTo>
                    <a:lnTo>
                      <a:pt x="67" y="140"/>
                    </a:lnTo>
                    <a:lnTo>
                      <a:pt x="76" y="144"/>
                    </a:lnTo>
                    <a:lnTo>
                      <a:pt x="86" y="147"/>
                    </a:lnTo>
                    <a:lnTo>
                      <a:pt x="96" y="149"/>
                    </a:lnTo>
                    <a:lnTo>
                      <a:pt x="107" y="153"/>
                    </a:lnTo>
                    <a:lnTo>
                      <a:pt x="119" y="157"/>
                    </a:lnTo>
                    <a:lnTo>
                      <a:pt x="132" y="159"/>
                    </a:lnTo>
                    <a:lnTo>
                      <a:pt x="146" y="163"/>
                    </a:lnTo>
                    <a:lnTo>
                      <a:pt x="161" y="165"/>
                    </a:lnTo>
                    <a:lnTo>
                      <a:pt x="178" y="167"/>
                    </a:lnTo>
                    <a:lnTo>
                      <a:pt x="194" y="170"/>
                    </a:lnTo>
                    <a:lnTo>
                      <a:pt x="211" y="174"/>
                    </a:lnTo>
                    <a:lnTo>
                      <a:pt x="228" y="176"/>
                    </a:lnTo>
                    <a:lnTo>
                      <a:pt x="247" y="178"/>
                    </a:lnTo>
                    <a:lnTo>
                      <a:pt x="267" y="180"/>
                    </a:lnTo>
                    <a:lnTo>
                      <a:pt x="286" y="182"/>
                    </a:lnTo>
                    <a:lnTo>
                      <a:pt x="307" y="184"/>
                    </a:lnTo>
                    <a:lnTo>
                      <a:pt x="328" y="184"/>
                    </a:lnTo>
                    <a:lnTo>
                      <a:pt x="349" y="186"/>
                    </a:lnTo>
                    <a:lnTo>
                      <a:pt x="370" y="188"/>
                    </a:lnTo>
                    <a:lnTo>
                      <a:pt x="393" y="188"/>
                    </a:lnTo>
                    <a:lnTo>
                      <a:pt x="416" y="190"/>
                    </a:lnTo>
                    <a:lnTo>
                      <a:pt x="439" y="190"/>
                    </a:lnTo>
                    <a:lnTo>
                      <a:pt x="463" y="190"/>
                    </a:lnTo>
                    <a:lnTo>
                      <a:pt x="486" y="190"/>
                    </a:lnTo>
                    <a:lnTo>
                      <a:pt x="512" y="190"/>
                    </a:lnTo>
                    <a:lnTo>
                      <a:pt x="536" y="190"/>
                    </a:lnTo>
                    <a:lnTo>
                      <a:pt x="559" y="190"/>
                    </a:lnTo>
                    <a:lnTo>
                      <a:pt x="584" y="190"/>
                    </a:lnTo>
                    <a:lnTo>
                      <a:pt x="607" y="190"/>
                    </a:lnTo>
                    <a:lnTo>
                      <a:pt x="630" y="188"/>
                    </a:lnTo>
                    <a:lnTo>
                      <a:pt x="651" y="188"/>
                    </a:lnTo>
                    <a:lnTo>
                      <a:pt x="674" y="186"/>
                    </a:lnTo>
                    <a:lnTo>
                      <a:pt x="695" y="184"/>
                    </a:lnTo>
                    <a:lnTo>
                      <a:pt x="716" y="184"/>
                    </a:lnTo>
                    <a:lnTo>
                      <a:pt x="737" y="182"/>
                    </a:lnTo>
                    <a:lnTo>
                      <a:pt x="756" y="180"/>
                    </a:lnTo>
                    <a:lnTo>
                      <a:pt x="776" y="178"/>
                    </a:lnTo>
                    <a:lnTo>
                      <a:pt x="795" y="176"/>
                    </a:lnTo>
                    <a:lnTo>
                      <a:pt x="812" y="174"/>
                    </a:lnTo>
                    <a:lnTo>
                      <a:pt x="829" y="170"/>
                    </a:lnTo>
                    <a:lnTo>
                      <a:pt x="845" y="167"/>
                    </a:lnTo>
                    <a:lnTo>
                      <a:pt x="862" y="165"/>
                    </a:lnTo>
                    <a:lnTo>
                      <a:pt x="877" y="163"/>
                    </a:lnTo>
                    <a:lnTo>
                      <a:pt x="891" y="159"/>
                    </a:lnTo>
                    <a:lnTo>
                      <a:pt x="904" y="157"/>
                    </a:lnTo>
                    <a:lnTo>
                      <a:pt x="916" y="153"/>
                    </a:lnTo>
                    <a:lnTo>
                      <a:pt x="927" y="149"/>
                    </a:lnTo>
                    <a:lnTo>
                      <a:pt x="937" y="147"/>
                    </a:lnTo>
                    <a:lnTo>
                      <a:pt x="947" y="144"/>
                    </a:lnTo>
                    <a:lnTo>
                      <a:pt x="956" y="140"/>
                    </a:lnTo>
                    <a:lnTo>
                      <a:pt x="964" y="136"/>
                    </a:lnTo>
                    <a:lnTo>
                      <a:pt x="970" y="132"/>
                    </a:lnTo>
                    <a:lnTo>
                      <a:pt x="975" y="128"/>
                    </a:lnTo>
                    <a:lnTo>
                      <a:pt x="979" y="124"/>
                    </a:lnTo>
                    <a:lnTo>
                      <a:pt x="981" y="120"/>
                    </a:lnTo>
                    <a:lnTo>
                      <a:pt x="983" y="117"/>
                    </a:lnTo>
                    <a:lnTo>
                      <a:pt x="985" y="113"/>
                    </a:lnTo>
                    <a:lnTo>
                      <a:pt x="983" y="109"/>
                    </a:lnTo>
                    <a:lnTo>
                      <a:pt x="983" y="105"/>
                    </a:lnTo>
                    <a:lnTo>
                      <a:pt x="979" y="101"/>
                    </a:lnTo>
                    <a:lnTo>
                      <a:pt x="977" y="97"/>
                    </a:lnTo>
                    <a:lnTo>
                      <a:pt x="972" y="94"/>
                    </a:lnTo>
                    <a:lnTo>
                      <a:pt x="966" y="90"/>
                    </a:lnTo>
                    <a:lnTo>
                      <a:pt x="960" y="88"/>
                    </a:lnTo>
                    <a:lnTo>
                      <a:pt x="954" y="84"/>
                    </a:lnTo>
                    <a:lnTo>
                      <a:pt x="945" y="80"/>
                    </a:lnTo>
                    <a:lnTo>
                      <a:pt x="937" y="78"/>
                    </a:lnTo>
                    <a:lnTo>
                      <a:pt x="927" y="74"/>
                    </a:lnTo>
                    <a:lnTo>
                      <a:pt x="848" y="48"/>
                    </a:lnTo>
                    <a:lnTo>
                      <a:pt x="768" y="33"/>
                    </a:lnTo>
                    <a:lnTo>
                      <a:pt x="690" y="21"/>
                    </a:lnTo>
                  </a:path>
                </a:pathLst>
              </a:custGeom>
              <a:gradFill rotWithShape="0">
                <a:gsLst>
                  <a:gs pos="0">
                    <a:srgbClr val="996633"/>
                  </a:gs>
                  <a:gs pos="50000">
                    <a:srgbClr val="ffcc00"/>
                  </a:gs>
                  <a:gs pos="100000">
                    <a:srgbClr val="9966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7317000" y="1933200"/>
                <a:ext cx="679320" cy="184320"/>
              </a:xfrm>
              <a:custGeom>
                <a:avLst/>
                <a:gdLst/>
                <a:ahLst/>
                <a:rect l="l" t="t" r="r" b="b"/>
                <a:pathLst>
                  <a:path w="443" h="155">
                    <a:moveTo>
                      <a:pt x="441" y="11"/>
                    </a:moveTo>
                    <a:cubicBezTo>
                      <a:pt x="394" y="13"/>
                      <a:pt x="290" y="15"/>
                      <a:pt x="245" y="45"/>
                    </a:cubicBezTo>
                    <a:cubicBezTo>
                      <a:pt x="243" y="48"/>
                      <a:pt x="239" y="55"/>
                      <a:pt x="235" y="55"/>
                    </a:cubicBezTo>
                    <a:cubicBezTo>
                      <a:pt x="231" y="55"/>
                      <a:pt x="223" y="51"/>
                      <a:pt x="223" y="51"/>
                    </a:cubicBezTo>
                    <a:cubicBezTo>
                      <a:pt x="218" y="52"/>
                      <a:pt x="212" y="57"/>
                      <a:pt x="207" y="55"/>
                    </a:cubicBezTo>
                    <a:cubicBezTo>
                      <a:pt x="189" y="49"/>
                      <a:pt x="172" y="36"/>
                      <a:pt x="153" y="31"/>
                    </a:cubicBezTo>
                    <a:cubicBezTo>
                      <a:pt x="119" y="22"/>
                      <a:pt x="87" y="19"/>
                      <a:pt x="51" y="17"/>
                    </a:cubicBezTo>
                    <a:cubicBezTo>
                      <a:pt x="35" y="14"/>
                      <a:pt x="43" y="16"/>
                      <a:pt x="27" y="11"/>
                    </a:cubicBezTo>
                    <a:cubicBezTo>
                      <a:pt x="25" y="10"/>
                      <a:pt x="21" y="9"/>
                      <a:pt x="21" y="9"/>
                    </a:cubicBezTo>
                    <a:cubicBezTo>
                      <a:pt x="18" y="13"/>
                      <a:pt x="0" y="30"/>
                      <a:pt x="15" y="25"/>
                    </a:cubicBezTo>
                    <a:cubicBezTo>
                      <a:pt x="18" y="34"/>
                      <a:pt x="26" y="44"/>
                      <a:pt x="31" y="53"/>
                    </a:cubicBezTo>
                    <a:cubicBezTo>
                      <a:pt x="38" y="67"/>
                      <a:pt x="38" y="85"/>
                      <a:pt x="45" y="99"/>
                    </a:cubicBezTo>
                    <a:cubicBezTo>
                      <a:pt x="52" y="112"/>
                      <a:pt x="59" y="122"/>
                      <a:pt x="67" y="135"/>
                    </a:cubicBezTo>
                    <a:cubicBezTo>
                      <a:pt x="75" y="146"/>
                      <a:pt x="99" y="151"/>
                      <a:pt x="111" y="155"/>
                    </a:cubicBezTo>
                    <a:cubicBezTo>
                      <a:pt x="136" y="152"/>
                      <a:pt x="156" y="145"/>
                      <a:pt x="179" y="137"/>
                    </a:cubicBezTo>
                    <a:cubicBezTo>
                      <a:pt x="187" y="129"/>
                      <a:pt x="192" y="125"/>
                      <a:pt x="199" y="115"/>
                    </a:cubicBezTo>
                    <a:cubicBezTo>
                      <a:pt x="205" y="107"/>
                      <a:pt x="201" y="89"/>
                      <a:pt x="211" y="83"/>
                    </a:cubicBezTo>
                    <a:cubicBezTo>
                      <a:pt x="214" y="81"/>
                      <a:pt x="226" y="78"/>
                      <a:pt x="231" y="77"/>
                    </a:cubicBezTo>
                    <a:cubicBezTo>
                      <a:pt x="254" y="82"/>
                      <a:pt x="246" y="108"/>
                      <a:pt x="259" y="121"/>
                    </a:cubicBezTo>
                    <a:cubicBezTo>
                      <a:pt x="276" y="138"/>
                      <a:pt x="306" y="146"/>
                      <a:pt x="329" y="149"/>
                    </a:cubicBezTo>
                    <a:cubicBezTo>
                      <a:pt x="345" y="148"/>
                      <a:pt x="371" y="151"/>
                      <a:pt x="387" y="141"/>
                    </a:cubicBezTo>
                    <a:cubicBezTo>
                      <a:pt x="388" y="139"/>
                      <a:pt x="389" y="137"/>
                      <a:pt x="391" y="135"/>
                    </a:cubicBezTo>
                    <a:cubicBezTo>
                      <a:pt x="393" y="133"/>
                      <a:pt x="395" y="133"/>
                      <a:pt x="397" y="131"/>
                    </a:cubicBezTo>
                    <a:cubicBezTo>
                      <a:pt x="409" y="116"/>
                      <a:pt x="407" y="93"/>
                      <a:pt x="411" y="75"/>
                    </a:cubicBezTo>
                    <a:cubicBezTo>
                      <a:pt x="412" y="65"/>
                      <a:pt x="411" y="51"/>
                      <a:pt x="419" y="43"/>
                    </a:cubicBezTo>
                    <a:cubicBezTo>
                      <a:pt x="423" y="39"/>
                      <a:pt x="426" y="36"/>
                      <a:pt x="431" y="33"/>
                    </a:cubicBezTo>
                    <a:cubicBezTo>
                      <a:pt x="435" y="31"/>
                      <a:pt x="443" y="29"/>
                      <a:pt x="443" y="29"/>
                    </a:cubicBezTo>
                    <a:cubicBezTo>
                      <a:pt x="441" y="6"/>
                      <a:pt x="441" y="0"/>
                      <a:pt x="441" y="11"/>
                    </a:cubicBezTo>
                    <a:close/>
                  </a:path>
                </a:pathLst>
              </a:custGeom>
              <a:gradFill rotWithShape="0">
                <a:gsLst>
                  <a:gs pos="0">
                    <a:srgbClr val="03030f"/>
                  </a:gs>
                  <a:gs pos="100000">
                    <a:srgbClr val="3333ff"/>
                  </a:gs>
                </a:gsLst>
                <a:lin ang="5400000"/>
              </a:gradFill>
              <a:ln w="28440">
                <a:solidFill>
                  <a:srgbClr val="00928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7093080" y="2496960"/>
                <a:ext cx="1365120" cy="2460600"/>
              </a:xfrm>
              <a:custGeom>
                <a:avLst/>
                <a:gdLst/>
                <a:ahLst/>
                <a:rect l="l" t="t" r="r" b="b"/>
                <a:pathLst>
                  <a:path w="890" h="2069">
                    <a:moveTo>
                      <a:pt x="30" y="149"/>
                    </a:moveTo>
                    <a:lnTo>
                      <a:pt x="22" y="207"/>
                    </a:lnTo>
                    <a:lnTo>
                      <a:pt x="18" y="274"/>
                    </a:lnTo>
                    <a:lnTo>
                      <a:pt x="16" y="343"/>
                    </a:lnTo>
                    <a:lnTo>
                      <a:pt x="16" y="416"/>
                    </a:lnTo>
                    <a:lnTo>
                      <a:pt x="13" y="485"/>
                    </a:lnTo>
                    <a:lnTo>
                      <a:pt x="13" y="548"/>
                    </a:lnTo>
                    <a:lnTo>
                      <a:pt x="11" y="577"/>
                    </a:lnTo>
                    <a:lnTo>
                      <a:pt x="9" y="604"/>
                    </a:lnTo>
                    <a:lnTo>
                      <a:pt x="4" y="629"/>
                    </a:lnTo>
                    <a:lnTo>
                      <a:pt x="0" y="648"/>
                    </a:lnTo>
                    <a:lnTo>
                      <a:pt x="7" y="928"/>
                    </a:lnTo>
                    <a:lnTo>
                      <a:pt x="130" y="1049"/>
                    </a:lnTo>
                    <a:lnTo>
                      <a:pt x="124" y="1030"/>
                    </a:lnTo>
                    <a:lnTo>
                      <a:pt x="121" y="1001"/>
                    </a:lnTo>
                    <a:lnTo>
                      <a:pt x="119" y="961"/>
                    </a:lnTo>
                    <a:lnTo>
                      <a:pt x="119" y="911"/>
                    </a:lnTo>
                    <a:lnTo>
                      <a:pt x="119" y="794"/>
                    </a:lnTo>
                    <a:lnTo>
                      <a:pt x="124" y="660"/>
                    </a:lnTo>
                    <a:lnTo>
                      <a:pt x="128" y="524"/>
                    </a:lnTo>
                    <a:lnTo>
                      <a:pt x="133" y="401"/>
                    </a:lnTo>
                    <a:lnTo>
                      <a:pt x="134" y="301"/>
                    </a:lnTo>
                    <a:lnTo>
                      <a:pt x="130" y="241"/>
                    </a:lnTo>
                    <a:lnTo>
                      <a:pt x="138" y="272"/>
                    </a:lnTo>
                    <a:lnTo>
                      <a:pt x="154" y="309"/>
                    </a:lnTo>
                    <a:lnTo>
                      <a:pt x="169" y="347"/>
                    </a:lnTo>
                    <a:lnTo>
                      <a:pt x="184" y="389"/>
                    </a:lnTo>
                    <a:lnTo>
                      <a:pt x="192" y="410"/>
                    </a:lnTo>
                    <a:lnTo>
                      <a:pt x="197" y="431"/>
                    </a:lnTo>
                    <a:lnTo>
                      <a:pt x="201" y="454"/>
                    </a:lnTo>
                    <a:lnTo>
                      <a:pt x="206" y="478"/>
                    </a:lnTo>
                    <a:lnTo>
                      <a:pt x="206" y="501"/>
                    </a:lnTo>
                    <a:lnTo>
                      <a:pt x="203" y="524"/>
                    </a:lnTo>
                    <a:lnTo>
                      <a:pt x="197" y="548"/>
                    </a:lnTo>
                    <a:lnTo>
                      <a:pt x="189" y="572"/>
                    </a:lnTo>
                    <a:lnTo>
                      <a:pt x="178" y="616"/>
                    </a:lnTo>
                    <a:lnTo>
                      <a:pt x="166" y="662"/>
                    </a:lnTo>
                    <a:lnTo>
                      <a:pt x="156" y="708"/>
                    </a:lnTo>
                    <a:lnTo>
                      <a:pt x="147" y="756"/>
                    </a:lnTo>
                    <a:lnTo>
                      <a:pt x="140" y="804"/>
                    </a:lnTo>
                    <a:lnTo>
                      <a:pt x="134" y="852"/>
                    </a:lnTo>
                    <a:lnTo>
                      <a:pt x="130" y="902"/>
                    </a:lnTo>
                    <a:lnTo>
                      <a:pt x="126" y="951"/>
                    </a:lnTo>
                    <a:lnTo>
                      <a:pt x="121" y="1053"/>
                    </a:lnTo>
                    <a:lnTo>
                      <a:pt x="119" y="1155"/>
                    </a:lnTo>
                    <a:lnTo>
                      <a:pt x="121" y="1258"/>
                    </a:lnTo>
                    <a:lnTo>
                      <a:pt x="124" y="1360"/>
                    </a:lnTo>
                    <a:lnTo>
                      <a:pt x="133" y="1560"/>
                    </a:lnTo>
                    <a:lnTo>
                      <a:pt x="143" y="1748"/>
                    </a:lnTo>
                    <a:lnTo>
                      <a:pt x="147" y="1836"/>
                    </a:lnTo>
                    <a:lnTo>
                      <a:pt x="152" y="1919"/>
                    </a:lnTo>
                    <a:lnTo>
                      <a:pt x="154" y="1995"/>
                    </a:lnTo>
                    <a:lnTo>
                      <a:pt x="295" y="2059"/>
                    </a:lnTo>
                    <a:lnTo>
                      <a:pt x="603" y="2069"/>
                    </a:lnTo>
                    <a:lnTo>
                      <a:pt x="754" y="1995"/>
                    </a:lnTo>
                    <a:lnTo>
                      <a:pt x="759" y="1932"/>
                    </a:lnTo>
                    <a:lnTo>
                      <a:pt x="762" y="1857"/>
                    </a:lnTo>
                    <a:lnTo>
                      <a:pt x="764" y="1773"/>
                    </a:lnTo>
                    <a:lnTo>
                      <a:pt x="764" y="1686"/>
                    </a:lnTo>
                    <a:lnTo>
                      <a:pt x="764" y="1644"/>
                    </a:lnTo>
                    <a:lnTo>
                      <a:pt x="762" y="1604"/>
                    </a:lnTo>
                    <a:lnTo>
                      <a:pt x="759" y="1565"/>
                    </a:lnTo>
                    <a:lnTo>
                      <a:pt x="754" y="1529"/>
                    </a:lnTo>
                    <a:lnTo>
                      <a:pt x="736" y="1402"/>
                    </a:lnTo>
                    <a:lnTo>
                      <a:pt x="721" y="1268"/>
                    </a:lnTo>
                    <a:lnTo>
                      <a:pt x="705" y="1132"/>
                    </a:lnTo>
                    <a:lnTo>
                      <a:pt x="684" y="994"/>
                    </a:lnTo>
                    <a:lnTo>
                      <a:pt x="674" y="926"/>
                    </a:lnTo>
                    <a:lnTo>
                      <a:pt x="661" y="861"/>
                    </a:lnTo>
                    <a:lnTo>
                      <a:pt x="646" y="796"/>
                    </a:lnTo>
                    <a:lnTo>
                      <a:pt x="628" y="733"/>
                    </a:lnTo>
                    <a:lnTo>
                      <a:pt x="611" y="673"/>
                    </a:lnTo>
                    <a:lnTo>
                      <a:pt x="590" y="616"/>
                    </a:lnTo>
                    <a:lnTo>
                      <a:pt x="569" y="562"/>
                    </a:lnTo>
                    <a:lnTo>
                      <a:pt x="543" y="512"/>
                    </a:lnTo>
                    <a:lnTo>
                      <a:pt x="541" y="502"/>
                    </a:lnTo>
                    <a:lnTo>
                      <a:pt x="541" y="491"/>
                    </a:lnTo>
                    <a:lnTo>
                      <a:pt x="543" y="481"/>
                    </a:lnTo>
                    <a:lnTo>
                      <a:pt x="544" y="470"/>
                    </a:lnTo>
                    <a:lnTo>
                      <a:pt x="553" y="447"/>
                    </a:lnTo>
                    <a:lnTo>
                      <a:pt x="562" y="424"/>
                    </a:lnTo>
                    <a:lnTo>
                      <a:pt x="570" y="401"/>
                    </a:lnTo>
                    <a:lnTo>
                      <a:pt x="579" y="383"/>
                    </a:lnTo>
                    <a:lnTo>
                      <a:pt x="579" y="376"/>
                    </a:lnTo>
                    <a:lnTo>
                      <a:pt x="581" y="368"/>
                    </a:lnTo>
                    <a:lnTo>
                      <a:pt x="579" y="364"/>
                    </a:lnTo>
                    <a:lnTo>
                      <a:pt x="576" y="360"/>
                    </a:lnTo>
                    <a:lnTo>
                      <a:pt x="588" y="353"/>
                    </a:lnTo>
                    <a:lnTo>
                      <a:pt x="597" y="347"/>
                    </a:lnTo>
                    <a:lnTo>
                      <a:pt x="602" y="341"/>
                    </a:lnTo>
                    <a:lnTo>
                      <a:pt x="609" y="334"/>
                    </a:lnTo>
                    <a:lnTo>
                      <a:pt x="618" y="318"/>
                    </a:lnTo>
                    <a:lnTo>
                      <a:pt x="623" y="305"/>
                    </a:lnTo>
                    <a:lnTo>
                      <a:pt x="623" y="291"/>
                    </a:lnTo>
                    <a:lnTo>
                      <a:pt x="623" y="278"/>
                    </a:lnTo>
                    <a:lnTo>
                      <a:pt x="618" y="266"/>
                    </a:lnTo>
                    <a:lnTo>
                      <a:pt x="618" y="257"/>
                    </a:lnTo>
                    <a:lnTo>
                      <a:pt x="620" y="265"/>
                    </a:lnTo>
                    <a:lnTo>
                      <a:pt x="620" y="270"/>
                    </a:lnTo>
                    <a:lnTo>
                      <a:pt x="623" y="278"/>
                    </a:lnTo>
                    <a:lnTo>
                      <a:pt x="620" y="288"/>
                    </a:lnTo>
                    <a:lnTo>
                      <a:pt x="620" y="297"/>
                    </a:lnTo>
                    <a:lnTo>
                      <a:pt x="618" y="307"/>
                    </a:lnTo>
                    <a:lnTo>
                      <a:pt x="616" y="320"/>
                    </a:lnTo>
                    <a:lnTo>
                      <a:pt x="614" y="334"/>
                    </a:lnTo>
                    <a:lnTo>
                      <a:pt x="614" y="360"/>
                    </a:lnTo>
                    <a:lnTo>
                      <a:pt x="616" y="393"/>
                    </a:lnTo>
                    <a:lnTo>
                      <a:pt x="623" y="431"/>
                    </a:lnTo>
                    <a:lnTo>
                      <a:pt x="628" y="470"/>
                    </a:lnTo>
                    <a:lnTo>
                      <a:pt x="635" y="504"/>
                    </a:lnTo>
                    <a:lnTo>
                      <a:pt x="644" y="535"/>
                    </a:lnTo>
                    <a:lnTo>
                      <a:pt x="651" y="558"/>
                    </a:lnTo>
                    <a:lnTo>
                      <a:pt x="654" y="568"/>
                    </a:lnTo>
                    <a:lnTo>
                      <a:pt x="698" y="859"/>
                    </a:lnTo>
                    <a:lnTo>
                      <a:pt x="715" y="877"/>
                    </a:lnTo>
                    <a:lnTo>
                      <a:pt x="736" y="902"/>
                    </a:lnTo>
                    <a:lnTo>
                      <a:pt x="761" y="930"/>
                    </a:lnTo>
                    <a:lnTo>
                      <a:pt x="788" y="965"/>
                    </a:lnTo>
                    <a:lnTo>
                      <a:pt x="815" y="1001"/>
                    </a:lnTo>
                    <a:lnTo>
                      <a:pt x="841" y="1040"/>
                    </a:lnTo>
                    <a:lnTo>
                      <a:pt x="866" y="1078"/>
                    </a:lnTo>
                    <a:lnTo>
                      <a:pt x="890" y="1113"/>
                    </a:lnTo>
                    <a:lnTo>
                      <a:pt x="869" y="1007"/>
                    </a:lnTo>
                    <a:lnTo>
                      <a:pt x="844" y="902"/>
                    </a:lnTo>
                    <a:lnTo>
                      <a:pt x="816" y="796"/>
                    </a:lnTo>
                    <a:lnTo>
                      <a:pt x="790" y="692"/>
                    </a:lnTo>
                    <a:lnTo>
                      <a:pt x="764" y="591"/>
                    </a:lnTo>
                    <a:lnTo>
                      <a:pt x="741" y="491"/>
                    </a:lnTo>
                    <a:lnTo>
                      <a:pt x="719" y="393"/>
                    </a:lnTo>
                    <a:lnTo>
                      <a:pt x="702" y="295"/>
                    </a:lnTo>
                    <a:lnTo>
                      <a:pt x="693" y="234"/>
                    </a:lnTo>
                    <a:lnTo>
                      <a:pt x="687" y="178"/>
                    </a:lnTo>
                    <a:lnTo>
                      <a:pt x="680" y="126"/>
                    </a:lnTo>
                    <a:lnTo>
                      <a:pt x="672" y="82"/>
                    </a:lnTo>
                    <a:lnTo>
                      <a:pt x="665" y="63"/>
                    </a:lnTo>
                    <a:lnTo>
                      <a:pt x="659" y="46"/>
                    </a:lnTo>
                    <a:lnTo>
                      <a:pt x="652" y="30"/>
                    </a:lnTo>
                    <a:lnTo>
                      <a:pt x="642" y="19"/>
                    </a:lnTo>
                    <a:lnTo>
                      <a:pt x="630" y="9"/>
                    </a:lnTo>
                    <a:lnTo>
                      <a:pt x="616" y="4"/>
                    </a:lnTo>
                    <a:lnTo>
                      <a:pt x="600" y="0"/>
                    </a:lnTo>
                    <a:lnTo>
                      <a:pt x="581" y="0"/>
                    </a:lnTo>
                    <a:lnTo>
                      <a:pt x="576" y="0"/>
                    </a:lnTo>
                    <a:lnTo>
                      <a:pt x="572" y="2"/>
                    </a:lnTo>
                    <a:lnTo>
                      <a:pt x="569" y="4"/>
                    </a:lnTo>
                    <a:lnTo>
                      <a:pt x="562" y="7"/>
                    </a:lnTo>
                    <a:lnTo>
                      <a:pt x="553" y="19"/>
                    </a:lnTo>
                    <a:lnTo>
                      <a:pt x="543" y="34"/>
                    </a:lnTo>
                    <a:lnTo>
                      <a:pt x="520" y="73"/>
                    </a:lnTo>
                    <a:lnTo>
                      <a:pt x="499" y="119"/>
                    </a:lnTo>
                    <a:lnTo>
                      <a:pt x="478" y="165"/>
                    </a:lnTo>
                    <a:lnTo>
                      <a:pt x="456" y="205"/>
                    </a:lnTo>
                    <a:lnTo>
                      <a:pt x="445" y="222"/>
                    </a:lnTo>
                    <a:lnTo>
                      <a:pt x="434" y="234"/>
                    </a:lnTo>
                    <a:lnTo>
                      <a:pt x="430" y="240"/>
                    </a:lnTo>
                    <a:lnTo>
                      <a:pt x="426" y="243"/>
                    </a:lnTo>
                    <a:lnTo>
                      <a:pt x="421" y="245"/>
                    </a:lnTo>
                    <a:lnTo>
                      <a:pt x="415" y="245"/>
                    </a:lnTo>
                    <a:lnTo>
                      <a:pt x="408" y="245"/>
                    </a:lnTo>
                    <a:lnTo>
                      <a:pt x="402" y="241"/>
                    </a:lnTo>
                    <a:lnTo>
                      <a:pt x="396" y="240"/>
                    </a:lnTo>
                    <a:lnTo>
                      <a:pt x="387" y="234"/>
                    </a:lnTo>
                    <a:lnTo>
                      <a:pt x="374" y="222"/>
                    </a:lnTo>
                    <a:lnTo>
                      <a:pt x="358" y="207"/>
                    </a:lnTo>
                    <a:lnTo>
                      <a:pt x="328" y="169"/>
                    </a:lnTo>
                    <a:lnTo>
                      <a:pt x="300" y="126"/>
                    </a:lnTo>
                    <a:lnTo>
                      <a:pt x="270" y="82"/>
                    </a:lnTo>
                    <a:lnTo>
                      <a:pt x="240" y="44"/>
                    </a:lnTo>
                    <a:lnTo>
                      <a:pt x="225" y="29"/>
                    </a:lnTo>
                    <a:lnTo>
                      <a:pt x="212" y="17"/>
                    </a:lnTo>
                    <a:lnTo>
                      <a:pt x="203" y="11"/>
                    </a:lnTo>
                    <a:lnTo>
                      <a:pt x="197" y="9"/>
                    </a:lnTo>
                    <a:lnTo>
                      <a:pt x="190" y="5"/>
                    </a:lnTo>
                    <a:lnTo>
                      <a:pt x="184" y="5"/>
                    </a:lnTo>
                    <a:lnTo>
                      <a:pt x="158" y="4"/>
                    </a:lnTo>
                    <a:lnTo>
                      <a:pt x="134" y="5"/>
                    </a:lnTo>
                    <a:lnTo>
                      <a:pt x="115" y="9"/>
                    </a:lnTo>
                    <a:lnTo>
                      <a:pt x="98" y="15"/>
                    </a:lnTo>
                    <a:lnTo>
                      <a:pt x="80" y="23"/>
                    </a:lnTo>
                    <a:lnTo>
                      <a:pt x="67" y="32"/>
                    </a:lnTo>
                    <a:lnTo>
                      <a:pt x="56" y="44"/>
                    </a:lnTo>
                    <a:lnTo>
                      <a:pt x="48" y="55"/>
                    </a:lnTo>
                    <a:lnTo>
                      <a:pt x="42" y="67"/>
                    </a:lnTo>
                    <a:lnTo>
                      <a:pt x="35" y="78"/>
                    </a:lnTo>
                    <a:lnTo>
                      <a:pt x="30" y="92"/>
                    </a:lnTo>
                    <a:lnTo>
                      <a:pt x="28" y="105"/>
                    </a:lnTo>
                    <a:lnTo>
                      <a:pt x="26" y="117"/>
                    </a:lnTo>
                    <a:lnTo>
                      <a:pt x="26" y="128"/>
                    </a:lnTo>
                    <a:lnTo>
                      <a:pt x="28" y="140"/>
                    </a:lnTo>
                    <a:lnTo>
                      <a:pt x="30" y="149"/>
                    </a:lnTo>
                    <a:close/>
                  </a:path>
                </a:pathLst>
              </a:custGeom>
              <a:solidFill>
                <a:srgbClr val="003e4d"/>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7518600" y="2538720"/>
                <a:ext cx="74520" cy="5616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685" name=""/>
              <p:cNvSpPr/>
              <p:nvPr/>
            </p:nvSpPr>
            <p:spPr>
              <a:xfrm>
                <a:off x="7570800" y="2571840"/>
                <a:ext cx="7452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6" name=""/>
              <p:cNvSpPr/>
              <p:nvPr/>
            </p:nvSpPr>
            <p:spPr>
              <a:xfrm>
                <a:off x="7623360" y="260496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7" name=""/>
              <p:cNvSpPr/>
              <p:nvPr/>
            </p:nvSpPr>
            <p:spPr>
              <a:xfrm>
                <a:off x="7675560" y="263844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88" name=""/>
              <p:cNvSpPr/>
              <p:nvPr/>
            </p:nvSpPr>
            <p:spPr>
              <a:xfrm>
                <a:off x="7766280" y="2554560"/>
                <a:ext cx="72720" cy="5652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9" name=""/>
              <p:cNvSpPr/>
              <p:nvPr/>
            </p:nvSpPr>
            <p:spPr>
              <a:xfrm>
                <a:off x="7724880" y="2601360"/>
                <a:ext cx="73080" cy="5760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90" name=""/>
              <p:cNvSpPr/>
              <p:nvPr/>
            </p:nvSpPr>
            <p:spPr>
              <a:xfrm>
                <a:off x="7810560" y="2511720"/>
                <a:ext cx="73080" cy="5616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691" name=""/>
              <p:cNvSpPr/>
              <p:nvPr/>
            </p:nvSpPr>
            <p:spPr>
              <a:xfrm>
                <a:off x="7466040" y="2504160"/>
                <a:ext cx="71640" cy="55440"/>
              </a:xfrm>
              <a:prstGeom prst="ellipse">
                <a:avLst/>
              </a:prstGeom>
              <a:gradFill rotWithShape="0">
                <a:gsLst>
                  <a:gs pos="0">
                    <a:srgbClr val="fefefe"/>
                  </a:gs>
                  <a:gs pos="100000">
                    <a:srgbClr val="969696"/>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92" name=""/>
            <p:cNvGrpSpPr/>
            <p:nvPr/>
          </p:nvGrpSpPr>
          <p:grpSpPr>
            <a:xfrm>
              <a:off x="5576760" y="1615680"/>
              <a:ext cx="1379160" cy="3530160"/>
              <a:chOff x="5576760" y="1615680"/>
              <a:chExt cx="1379160" cy="3530160"/>
            </a:xfrm>
          </p:grpSpPr>
          <p:sp>
            <p:nvSpPr>
              <p:cNvPr id="693" name=""/>
              <p:cNvSpPr/>
              <p:nvPr/>
            </p:nvSpPr>
            <p:spPr>
              <a:xfrm>
                <a:off x="5576760" y="4442400"/>
                <a:ext cx="654120" cy="501120"/>
              </a:xfrm>
              <a:custGeom>
                <a:avLst/>
                <a:gdLst/>
                <a:ahLst/>
                <a:rect l="l" t="t" r="r" b="b"/>
                <a:pathLst>
                  <a:path w="455" h="384">
                    <a:moveTo>
                      <a:pt x="259" y="10"/>
                    </a:moveTo>
                    <a:lnTo>
                      <a:pt x="259" y="42"/>
                    </a:lnTo>
                    <a:lnTo>
                      <a:pt x="259" y="75"/>
                    </a:lnTo>
                    <a:lnTo>
                      <a:pt x="263" y="100"/>
                    </a:lnTo>
                    <a:lnTo>
                      <a:pt x="263" y="125"/>
                    </a:lnTo>
                    <a:lnTo>
                      <a:pt x="259" y="150"/>
                    </a:lnTo>
                    <a:lnTo>
                      <a:pt x="256" y="175"/>
                    </a:lnTo>
                    <a:lnTo>
                      <a:pt x="248" y="202"/>
                    </a:lnTo>
                    <a:lnTo>
                      <a:pt x="230" y="221"/>
                    </a:lnTo>
                    <a:lnTo>
                      <a:pt x="150" y="267"/>
                    </a:lnTo>
                    <a:lnTo>
                      <a:pt x="129" y="273"/>
                    </a:lnTo>
                    <a:lnTo>
                      <a:pt x="108" y="278"/>
                    </a:lnTo>
                    <a:lnTo>
                      <a:pt x="92" y="284"/>
                    </a:lnTo>
                    <a:lnTo>
                      <a:pt x="53" y="296"/>
                    </a:lnTo>
                    <a:lnTo>
                      <a:pt x="52" y="300"/>
                    </a:lnTo>
                    <a:lnTo>
                      <a:pt x="0" y="351"/>
                    </a:lnTo>
                    <a:lnTo>
                      <a:pt x="19" y="369"/>
                    </a:lnTo>
                    <a:lnTo>
                      <a:pt x="31" y="369"/>
                    </a:lnTo>
                    <a:lnTo>
                      <a:pt x="44" y="371"/>
                    </a:lnTo>
                    <a:lnTo>
                      <a:pt x="58" y="372"/>
                    </a:lnTo>
                    <a:lnTo>
                      <a:pt x="71" y="376"/>
                    </a:lnTo>
                    <a:lnTo>
                      <a:pt x="87" y="380"/>
                    </a:lnTo>
                    <a:lnTo>
                      <a:pt x="100" y="382"/>
                    </a:lnTo>
                    <a:lnTo>
                      <a:pt x="114" y="384"/>
                    </a:lnTo>
                    <a:lnTo>
                      <a:pt x="127" y="384"/>
                    </a:lnTo>
                    <a:lnTo>
                      <a:pt x="236" y="371"/>
                    </a:lnTo>
                    <a:lnTo>
                      <a:pt x="273" y="340"/>
                    </a:lnTo>
                    <a:lnTo>
                      <a:pt x="305" y="317"/>
                    </a:lnTo>
                    <a:lnTo>
                      <a:pt x="342" y="311"/>
                    </a:lnTo>
                    <a:lnTo>
                      <a:pt x="348" y="317"/>
                    </a:lnTo>
                    <a:lnTo>
                      <a:pt x="350" y="326"/>
                    </a:lnTo>
                    <a:lnTo>
                      <a:pt x="350" y="338"/>
                    </a:lnTo>
                    <a:lnTo>
                      <a:pt x="348" y="348"/>
                    </a:lnTo>
                    <a:lnTo>
                      <a:pt x="346" y="359"/>
                    </a:lnTo>
                    <a:lnTo>
                      <a:pt x="344" y="369"/>
                    </a:lnTo>
                    <a:lnTo>
                      <a:pt x="344" y="376"/>
                    </a:lnTo>
                    <a:lnTo>
                      <a:pt x="350" y="376"/>
                    </a:lnTo>
                    <a:lnTo>
                      <a:pt x="354" y="378"/>
                    </a:lnTo>
                    <a:lnTo>
                      <a:pt x="357" y="380"/>
                    </a:lnTo>
                    <a:lnTo>
                      <a:pt x="363" y="382"/>
                    </a:lnTo>
                    <a:lnTo>
                      <a:pt x="369" y="382"/>
                    </a:lnTo>
                    <a:lnTo>
                      <a:pt x="379" y="384"/>
                    </a:lnTo>
                    <a:lnTo>
                      <a:pt x="388" y="384"/>
                    </a:lnTo>
                    <a:lnTo>
                      <a:pt x="400" y="384"/>
                    </a:lnTo>
                    <a:lnTo>
                      <a:pt x="402" y="371"/>
                    </a:lnTo>
                    <a:lnTo>
                      <a:pt x="404" y="357"/>
                    </a:lnTo>
                    <a:lnTo>
                      <a:pt x="405" y="342"/>
                    </a:lnTo>
                    <a:lnTo>
                      <a:pt x="409" y="330"/>
                    </a:lnTo>
                    <a:lnTo>
                      <a:pt x="419" y="301"/>
                    </a:lnTo>
                    <a:lnTo>
                      <a:pt x="430" y="277"/>
                    </a:lnTo>
                    <a:lnTo>
                      <a:pt x="440" y="248"/>
                    </a:lnTo>
                    <a:lnTo>
                      <a:pt x="448" y="223"/>
                    </a:lnTo>
                    <a:lnTo>
                      <a:pt x="452" y="207"/>
                    </a:lnTo>
                    <a:lnTo>
                      <a:pt x="453" y="196"/>
                    </a:lnTo>
                    <a:lnTo>
                      <a:pt x="455" y="181"/>
                    </a:lnTo>
                    <a:lnTo>
                      <a:pt x="453" y="167"/>
                    </a:lnTo>
                    <a:lnTo>
                      <a:pt x="450" y="159"/>
                    </a:lnTo>
                    <a:lnTo>
                      <a:pt x="446" y="154"/>
                    </a:lnTo>
                    <a:lnTo>
                      <a:pt x="444" y="144"/>
                    </a:lnTo>
                    <a:lnTo>
                      <a:pt x="436" y="119"/>
                    </a:lnTo>
                    <a:lnTo>
                      <a:pt x="427" y="90"/>
                    </a:lnTo>
                    <a:lnTo>
                      <a:pt x="421" y="62"/>
                    </a:lnTo>
                    <a:lnTo>
                      <a:pt x="415" y="33"/>
                    </a:lnTo>
                    <a:lnTo>
                      <a:pt x="411" y="14"/>
                    </a:lnTo>
                    <a:lnTo>
                      <a:pt x="409" y="0"/>
                    </a:lnTo>
                    <a:lnTo>
                      <a:pt x="2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6171120" y="4321800"/>
                <a:ext cx="368640" cy="824040"/>
              </a:xfrm>
              <a:custGeom>
                <a:avLst/>
                <a:gdLst/>
                <a:ahLst/>
                <a:rect l="l" t="t" r="r" b="b"/>
                <a:pathLst>
                  <a:path w="256" h="631">
                    <a:moveTo>
                      <a:pt x="256" y="0"/>
                    </a:moveTo>
                    <a:lnTo>
                      <a:pt x="256" y="25"/>
                    </a:lnTo>
                    <a:lnTo>
                      <a:pt x="254" y="54"/>
                    </a:lnTo>
                    <a:lnTo>
                      <a:pt x="252" y="86"/>
                    </a:lnTo>
                    <a:lnTo>
                      <a:pt x="246" y="123"/>
                    </a:lnTo>
                    <a:lnTo>
                      <a:pt x="240" y="156"/>
                    </a:lnTo>
                    <a:lnTo>
                      <a:pt x="231" y="184"/>
                    </a:lnTo>
                    <a:lnTo>
                      <a:pt x="225" y="196"/>
                    </a:lnTo>
                    <a:lnTo>
                      <a:pt x="221" y="205"/>
                    </a:lnTo>
                    <a:lnTo>
                      <a:pt x="211" y="215"/>
                    </a:lnTo>
                    <a:lnTo>
                      <a:pt x="206" y="217"/>
                    </a:lnTo>
                    <a:lnTo>
                      <a:pt x="206" y="228"/>
                    </a:lnTo>
                    <a:lnTo>
                      <a:pt x="208" y="240"/>
                    </a:lnTo>
                    <a:lnTo>
                      <a:pt x="208" y="250"/>
                    </a:lnTo>
                    <a:lnTo>
                      <a:pt x="209" y="263"/>
                    </a:lnTo>
                    <a:lnTo>
                      <a:pt x="211" y="276"/>
                    </a:lnTo>
                    <a:lnTo>
                      <a:pt x="211" y="290"/>
                    </a:lnTo>
                    <a:lnTo>
                      <a:pt x="211" y="303"/>
                    </a:lnTo>
                    <a:lnTo>
                      <a:pt x="211" y="315"/>
                    </a:lnTo>
                    <a:lnTo>
                      <a:pt x="208" y="317"/>
                    </a:lnTo>
                    <a:lnTo>
                      <a:pt x="204" y="321"/>
                    </a:lnTo>
                    <a:lnTo>
                      <a:pt x="202" y="328"/>
                    </a:lnTo>
                    <a:lnTo>
                      <a:pt x="202" y="338"/>
                    </a:lnTo>
                    <a:lnTo>
                      <a:pt x="204" y="359"/>
                    </a:lnTo>
                    <a:lnTo>
                      <a:pt x="209" y="384"/>
                    </a:lnTo>
                    <a:lnTo>
                      <a:pt x="217" y="413"/>
                    </a:lnTo>
                    <a:lnTo>
                      <a:pt x="223" y="436"/>
                    </a:lnTo>
                    <a:lnTo>
                      <a:pt x="227" y="457"/>
                    </a:lnTo>
                    <a:lnTo>
                      <a:pt x="231" y="468"/>
                    </a:lnTo>
                    <a:lnTo>
                      <a:pt x="217" y="484"/>
                    </a:lnTo>
                    <a:lnTo>
                      <a:pt x="208" y="501"/>
                    </a:lnTo>
                    <a:lnTo>
                      <a:pt x="200" y="518"/>
                    </a:lnTo>
                    <a:lnTo>
                      <a:pt x="192" y="535"/>
                    </a:lnTo>
                    <a:lnTo>
                      <a:pt x="186" y="553"/>
                    </a:lnTo>
                    <a:lnTo>
                      <a:pt x="179" y="568"/>
                    </a:lnTo>
                    <a:lnTo>
                      <a:pt x="169" y="585"/>
                    </a:lnTo>
                    <a:lnTo>
                      <a:pt x="156" y="601"/>
                    </a:lnTo>
                    <a:lnTo>
                      <a:pt x="73" y="631"/>
                    </a:lnTo>
                    <a:lnTo>
                      <a:pt x="62" y="616"/>
                    </a:lnTo>
                    <a:lnTo>
                      <a:pt x="48" y="597"/>
                    </a:lnTo>
                    <a:lnTo>
                      <a:pt x="33" y="570"/>
                    </a:lnTo>
                    <a:lnTo>
                      <a:pt x="19" y="541"/>
                    </a:lnTo>
                    <a:lnTo>
                      <a:pt x="8" y="511"/>
                    </a:lnTo>
                    <a:lnTo>
                      <a:pt x="2" y="484"/>
                    </a:lnTo>
                    <a:lnTo>
                      <a:pt x="0" y="472"/>
                    </a:lnTo>
                    <a:lnTo>
                      <a:pt x="0" y="461"/>
                    </a:lnTo>
                    <a:lnTo>
                      <a:pt x="2" y="451"/>
                    </a:lnTo>
                    <a:lnTo>
                      <a:pt x="6" y="443"/>
                    </a:lnTo>
                    <a:lnTo>
                      <a:pt x="15" y="428"/>
                    </a:lnTo>
                    <a:lnTo>
                      <a:pt x="25" y="407"/>
                    </a:lnTo>
                    <a:lnTo>
                      <a:pt x="35" y="384"/>
                    </a:lnTo>
                    <a:lnTo>
                      <a:pt x="42" y="359"/>
                    </a:lnTo>
                    <a:lnTo>
                      <a:pt x="52" y="332"/>
                    </a:lnTo>
                    <a:lnTo>
                      <a:pt x="60" y="303"/>
                    </a:lnTo>
                    <a:lnTo>
                      <a:pt x="65" y="273"/>
                    </a:lnTo>
                    <a:lnTo>
                      <a:pt x="69" y="242"/>
                    </a:lnTo>
                    <a:lnTo>
                      <a:pt x="73" y="213"/>
                    </a:lnTo>
                    <a:lnTo>
                      <a:pt x="75" y="184"/>
                    </a:lnTo>
                    <a:lnTo>
                      <a:pt x="75" y="157"/>
                    </a:lnTo>
                    <a:lnTo>
                      <a:pt x="75" y="132"/>
                    </a:lnTo>
                    <a:lnTo>
                      <a:pt x="71" y="111"/>
                    </a:lnTo>
                    <a:lnTo>
                      <a:pt x="63" y="92"/>
                    </a:lnTo>
                    <a:lnTo>
                      <a:pt x="60" y="85"/>
                    </a:lnTo>
                    <a:lnTo>
                      <a:pt x="56" y="79"/>
                    </a:lnTo>
                    <a:lnTo>
                      <a:pt x="52" y="75"/>
                    </a:lnTo>
                    <a:lnTo>
                      <a:pt x="46" y="71"/>
                    </a:lnTo>
                    <a:lnTo>
                      <a:pt x="54" y="67"/>
                    </a:lnTo>
                    <a:lnTo>
                      <a:pt x="54" y="60"/>
                    </a:lnTo>
                    <a:lnTo>
                      <a:pt x="73" y="54"/>
                    </a:lnTo>
                    <a:lnTo>
                      <a:pt x="96" y="44"/>
                    </a:lnTo>
                    <a:lnTo>
                      <a:pt x="125" y="35"/>
                    </a:lnTo>
                    <a:lnTo>
                      <a:pt x="156" y="25"/>
                    </a:lnTo>
                    <a:lnTo>
                      <a:pt x="186" y="14"/>
                    </a:lnTo>
                    <a:lnTo>
                      <a:pt x="213" y="6"/>
                    </a:lnTo>
                    <a:lnTo>
                      <a:pt x="227" y="2"/>
                    </a:lnTo>
                    <a:lnTo>
                      <a:pt x="238" y="0"/>
                    </a:lnTo>
                    <a:lnTo>
                      <a:pt x="248" y="0"/>
                    </a:lnTo>
                    <a:lnTo>
                      <a:pt x="2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6171120" y="4321800"/>
                <a:ext cx="368640" cy="824040"/>
              </a:xfrm>
              <a:custGeom>
                <a:avLst/>
                <a:gdLst/>
                <a:ahLst/>
                <a:rect l="l" t="t" r="r" b="b"/>
                <a:pathLst>
                  <a:path w="256" h="631">
                    <a:moveTo>
                      <a:pt x="256" y="0"/>
                    </a:moveTo>
                    <a:lnTo>
                      <a:pt x="256" y="25"/>
                    </a:lnTo>
                    <a:lnTo>
                      <a:pt x="254" y="54"/>
                    </a:lnTo>
                    <a:lnTo>
                      <a:pt x="252" y="86"/>
                    </a:lnTo>
                    <a:lnTo>
                      <a:pt x="246" y="123"/>
                    </a:lnTo>
                    <a:lnTo>
                      <a:pt x="240" y="156"/>
                    </a:lnTo>
                    <a:lnTo>
                      <a:pt x="231" y="184"/>
                    </a:lnTo>
                    <a:lnTo>
                      <a:pt x="225" y="196"/>
                    </a:lnTo>
                    <a:lnTo>
                      <a:pt x="221" y="205"/>
                    </a:lnTo>
                    <a:lnTo>
                      <a:pt x="211" y="215"/>
                    </a:lnTo>
                    <a:lnTo>
                      <a:pt x="206" y="217"/>
                    </a:lnTo>
                    <a:lnTo>
                      <a:pt x="206" y="228"/>
                    </a:lnTo>
                    <a:lnTo>
                      <a:pt x="208" y="240"/>
                    </a:lnTo>
                    <a:lnTo>
                      <a:pt x="208" y="250"/>
                    </a:lnTo>
                    <a:lnTo>
                      <a:pt x="209" y="263"/>
                    </a:lnTo>
                    <a:lnTo>
                      <a:pt x="211" y="276"/>
                    </a:lnTo>
                    <a:lnTo>
                      <a:pt x="211" y="290"/>
                    </a:lnTo>
                    <a:lnTo>
                      <a:pt x="211" y="303"/>
                    </a:lnTo>
                    <a:lnTo>
                      <a:pt x="211" y="315"/>
                    </a:lnTo>
                    <a:lnTo>
                      <a:pt x="208" y="317"/>
                    </a:lnTo>
                    <a:lnTo>
                      <a:pt x="204" y="321"/>
                    </a:lnTo>
                    <a:lnTo>
                      <a:pt x="202" y="328"/>
                    </a:lnTo>
                    <a:lnTo>
                      <a:pt x="202" y="338"/>
                    </a:lnTo>
                    <a:lnTo>
                      <a:pt x="204" y="359"/>
                    </a:lnTo>
                    <a:lnTo>
                      <a:pt x="209" y="384"/>
                    </a:lnTo>
                    <a:lnTo>
                      <a:pt x="217" y="413"/>
                    </a:lnTo>
                    <a:lnTo>
                      <a:pt x="223" y="436"/>
                    </a:lnTo>
                    <a:lnTo>
                      <a:pt x="227" y="457"/>
                    </a:lnTo>
                    <a:lnTo>
                      <a:pt x="231" y="468"/>
                    </a:lnTo>
                    <a:lnTo>
                      <a:pt x="217" y="484"/>
                    </a:lnTo>
                    <a:lnTo>
                      <a:pt x="208" y="501"/>
                    </a:lnTo>
                    <a:lnTo>
                      <a:pt x="200" y="518"/>
                    </a:lnTo>
                    <a:lnTo>
                      <a:pt x="192" y="535"/>
                    </a:lnTo>
                    <a:lnTo>
                      <a:pt x="186" y="553"/>
                    </a:lnTo>
                    <a:lnTo>
                      <a:pt x="179" y="568"/>
                    </a:lnTo>
                    <a:lnTo>
                      <a:pt x="169" y="585"/>
                    </a:lnTo>
                    <a:lnTo>
                      <a:pt x="156" y="601"/>
                    </a:lnTo>
                    <a:lnTo>
                      <a:pt x="73" y="631"/>
                    </a:lnTo>
                    <a:lnTo>
                      <a:pt x="62" y="616"/>
                    </a:lnTo>
                    <a:lnTo>
                      <a:pt x="48" y="597"/>
                    </a:lnTo>
                    <a:lnTo>
                      <a:pt x="33" y="570"/>
                    </a:lnTo>
                    <a:lnTo>
                      <a:pt x="19" y="541"/>
                    </a:lnTo>
                    <a:lnTo>
                      <a:pt x="8" y="511"/>
                    </a:lnTo>
                    <a:lnTo>
                      <a:pt x="2" y="484"/>
                    </a:lnTo>
                    <a:lnTo>
                      <a:pt x="0" y="472"/>
                    </a:lnTo>
                    <a:lnTo>
                      <a:pt x="0" y="461"/>
                    </a:lnTo>
                    <a:lnTo>
                      <a:pt x="2" y="451"/>
                    </a:lnTo>
                    <a:lnTo>
                      <a:pt x="6" y="443"/>
                    </a:lnTo>
                    <a:lnTo>
                      <a:pt x="15" y="428"/>
                    </a:lnTo>
                    <a:lnTo>
                      <a:pt x="25" y="407"/>
                    </a:lnTo>
                    <a:lnTo>
                      <a:pt x="35" y="384"/>
                    </a:lnTo>
                    <a:lnTo>
                      <a:pt x="42" y="359"/>
                    </a:lnTo>
                    <a:lnTo>
                      <a:pt x="52" y="332"/>
                    </a:lnTo>
                    <a:lnTo>
                      <a:pt x="60" y="303"/>
                    </a:lnTo>
                    <a:lnTo>
                      <a:pt x="65" y="273"/>
                    </a:lnTo>
                    <a:lnTo>
                      <a:pt x="69" y="242"/>
                    </a:lnTo>
                    <a:lnTo>
                      <a:pt x="73" y="213"/>
                    </a:lnTo>
                    <a:lnTo>
                      <a:pt x="75" y="184"/>
                    </a:lnTo>
                    <a:lnTo>
                      <a:pt x="75" y="157"/>
                    </a:lnTo>
                    <a:lnTo>
                      <a:pt x="75" y="132"/>
                    </a:lnTo>
                    <a:lnTo>
                      <a:pt x="71" y="111"/>
                    </a:lnTo>
                    <a:lnTo>
                      <a:pt x="63" y="92"/>
                    </a:lnTo>
                    <a:lnTo>
                      <a:pt x="60" y="85"/>
                    </a:lnTo>
                    <a:lnTo>
                      <a:pt x="56" y="79"/>
                    </a:lnTo>
                    <a:lnTo>
                      <a:pt x="52" y="75"/>
                    </a:lnTo>
                    <a:lnTo>
                      <a:pt x="46" y="71"/>
                    </a:lnTo>
                    <a:lnTo>
                      <a:pt x="54" y="67"/>
                    </a:lnTo>
                    <a:lnTo>
                      <a:pt x="54" y="60"/>
                    </a:lnTo>
                    <a:lnTo>
                      <a:pt x="73" y="54"/>
                    </a:lnTo>
                    <a:lnTo>
                      <a:pt x="96" y="44"/>
                    </a:lnTo>
                    <a:lnTo>
                      <a:pt x="125" y="35"/>
                    </a:lnTo>
                    <a:lnTo>
                      <a:pt x="156" y="25"/>
                    </a:lnTo>
                    <a:lnTo>
                      <a:pt x="186" y="14"/>
                    </a:lnTo>
                    <a:lnTo>
                      <a:pt x="213" y="6"/>
                    </a:lnTo>
                    <a:lnTo>
                      <a:pt x="227" y="2"/>
                    </a:lnTo>
                    <a:lnTo>
                      <a:pt x="238" y="0"/>
                    </a:lnTo>
                    <a:lnTo>
                      <a:pt x="248" y="0"/>
                    </a:lnTo>
                    <a:lnTo>
                      <a:pt x="2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826240" y="3106080"/>
                <a:ext cx="890280" cy="1433160"/>
              </a:xfrm>
              <a:custGeom>
                <a:avLst/>
                <a:gdLst/>
                <a:ahLst/>
                <a:rect l="l" t="t" r="r" b="b"/>
                <a:pathLst>
                  <a:path w="620" h="1098">
                    <a:moveTo>
                      <a:pt x="557" y="0"/>
                    </a:moveTo>
                    <a:lnTo>
                      <a:pt x="542" y="18"/>
                    </a:lnTo>
                    <a:lnTo>
                      <a:pt x="528" y="33"/>
                    </a:lnTo>
                    <a:lnTo>
                      <a:pt x="515" y="48"/>
                    </a:lnTo>
                    <a:lnTo>
                      <a:pt x="503" y="60"/>
                    </a:lnTo>
                    <a:lnTo>
                      <a:pt x="492" y="71"/>
                    </a:lnTo>
                    <a:lnTo>
                      <a:pt x="478" y="81"/>
                    </a:lnTo>
                    <a:lnTo>
                      <a:pt x="461" y="89"/>
                    </a:lnTo>
                    <a:lnTo>
                      <a:pt x="438" y="92"/>
                    </a:lnTo>
                    <a:lnTo>
                      <a:pt x="401" y="100"/>
                    </a:lnTo>
                    <a:lnTo>
                      <a:pt x="363" y="106"/>
                    </a:lnTo>
                    <a:lnTo>
                      <a:pt x="325" y="110"/>
                    </a:lnTo>
                    <a:lnTo>
                      <a:pt x="286" y="112"/>
                    </a:lnTo>
                    <a:lnTo>
                      <a:pt x="246" y="110"/>
                    </a:lnTo>
                    <a:lnTo>
                      <a:pt x="207" y="106"/>
                    </a:lnTo>
                    <a:lnTo>
                      <a:pt x="171" y="100"/>
                    </a:lnTo>
                    <a:lnTo>
                      <a:pt x="134" y="89"/>
                    </a:lnTo>
                    <a:lnTo>
                      <a:pt x="134" y="112"/>
                    </a:lnTo>
                    <a:lnTo>
                      <a:pt x="134" y="135"/>
                    </a:lnTo>
                    <a:lnTo>
                      <a:pt x="134" y="156"/>
                    </a:lnTo>
                    <a:lnTo>
                      <a:pt x="136" y="179"/>
                    </a:lnTo>
                    <a:lnTo>
                      <a:pt x="138" y="202"/>
                    </a:lnTo>
                    <a:lnTo>
                      <a:pt x="140" y="225"/>
                    </a:lnTo>
                    <a:lnTo>
                      <a:pt x="144" y="246"/>
                    </a:lnTo>
                    <a:lnTo>
                      <a:pt x="148" y="267"/>
                    </a:lnTo>
                    <a:lnTo>
                      <a:pt x="142" y="298"/>
                    </a:lnTo>
                    <a:lnTo>
                      <a:pt x="138" y="327"/>
                    </a:lnTo>
                    <a:lnTo>
                      <a:pt x="133" y="357"/>
                    </a:lnTo>
                    <a:lnTo>
                      <a:pt x="129" y="386"/>
                    </a:lnTo>
                    <a:lnTo>
                      <a:pt x="125" y="415"/>
                    </a:lnTo>
                    <a:lnTo>
                      <a:pt x="119" y="444"/>
                    </a:lnTo>
                    <a:lnTo>
                      <a:pt x="117" y="474"/>
                    </a:lnTo>
                    <a:lnTo>
                      <a:pt x="113" y="503"/>
                    </a:lnTo>
                    <a:lnTo>
                      <a:pt x="110" y="522"/>
                    </a:lnTo>
                    <a:lnTo>
                      <a:pt x="108" y="538"/>
                    </a:lnTo>
                    <a:lnTo>
                      <a:pt x="108" y="557"/>
                    </a:lnTo>
                    <a:lnTo>
                      <a:pt x="108" y="574"/>
                    </a:lnTo>
                    <a:lnTo>
                      <a:pt x="106" y="591"/>
                    </a:lnTo>
                    <a:lnTo>
                      <a:pt x="106" y="609"/>
                    </a:lnTo>
                    <a:lnTo>
                      <a:pt x="106" y="626"/>
                    </a:lnTo>
                    <a:lnTo>
                      <a:pt x="106" y="645"/>
                    </a:lnTo>
                    <a:lnTo>
                      <a:pt x="102" y="670"/>
                    </a:lnTo>
                    <a:lnTo>
                      <a:pt x="96" y="695"/>
                    </a:lnTo>
                    <a:lnTo>
                      <a:pt x="86" y="720"/>
                    </a:lnTo>
                    <a:lnTo>
                      <a:pt x="77" y="745"/>
                    </a:lnTo>
                    <a:lnTo>
                      <a:pt x="69" y="770"/>
                    </a:lnTo>
                    <a:lnTo>
                      <a:pt x="58" y="793"/>
                    </a:lnTo>
                    <a:lnTo>
                      <a:pt x="48" y="818"/>
                    </a:lnTo>
                    <a:lnTo>
                      <a:pt x="40" y="841"/>
                    </a:lnTo>
                    <a:lnTo>
                      <a:pt x="29" y="866"/>
                    </a:lnTo>
                    <a:lnTo>
                      <a:pt x="23" y="891"/>
                    </a:lnTo>
                    <a:lnTo>
                      <a:pt x="17" y="916"/>
                    </a:lnTo>
                    <a:lnTo>
                      <a:pt x="12" y="941"/>
                    </a:lnTo>
                    <a:lnTo>
                      <a:pt x="8" y="966"/>
                    </a:lnTo>
                    <a:lnTo>
                      <a:pt x="4" y="992"/>
                    </a:lnTo>
                    <a:lnTo>
                      <a:pt x="2" y="1017"/>
                    </a:lnTo>
                    <a:lnTo>
                      <a:pt x="0" y="1044"/>
                    </a:lnTo>
                    <a:lnTo>
                      <a:pt x="4" y="1054"/>
                    </a:lnTo>
                    <a:lnTo>
                      <a:pt x="10" y="1060"/>
                    </a:lnTo>
                    <a:lnTo>
                      <a:pt x="19" y="1067"/>
                    </a:lnTo>
                    <a:lnTo>
                      <a:pt x="29" y="1075"/>
                    </a:lnTo>
                    <a:lnTo>
                      <a:pt x="42" y="1081"/>
                    </a:lnTo>
                    <a:lnTo>
                      <a:pt x="56" y="1087"/>
                    </a:lnTo>
                    <a:lnTo>
                      <a:pt x="73" y="1088"/>
                    </a:lnTo>
                    <a:lnTo>
                      <a:pt x="86" y="1094"/>
                    </a:lnTo>
                    <a:lnTo>
                      <a:pt x="119" y="1098"/>
                    </a:lnTo>
                    <a:lnTo>
                      <a:pt x="152" y="1098"/>
                    </a:lnTo>
                    <a:lnTo>
                      <a:pt x="165" y="1098"/>
                    </a:lnTo>
                    <a:lnTo>
                      <a:pt x="179" y="1096"/>
                    </a:lnTo>
                    <a:lnTo>
                      <a:pt x="188" y="1092"/>
                    </a:lnTo>
                    <a:lnTo>
                      <a:pt x="198" y="1088"/>
                    </a:lnTo>
                    <a:lnTo>
                      <a:pt x="200" y="1087"/>
                    </a:lnTo>
                    <a:lnTo>
                      <a:pt x="202" y="1085"/>
                    </a:lnTo>
                    <a:lnTo>
                      <a:pt x="204" y="1083"/>
                    </a:lnTo>
                    <a:lnTo>
                      <a:pt x="206" y="1081"/>
                    </a:lnTo>
                    <a:lnTo>
                      <a:pt x="206" y="1079"/>
                    </a:lnTo>
                    <a:lnTo>
                      <a:pt x="206" y="1075"/>
                    </a:lnTo>
                    <a:lnTo>
                      <a:pt x="206" y="1073"/>
                    </a:lnTo>
                    <a:lnTo>
                      <a:pt x="206" y="1069"/>
                    </a:lnTo>
                    <a:lnTo>
                      <a:pt x="231" y="1062"/>
                    </a:lnTo>
                    <a:lnTo>
                      <a:pt x="255" y="1054"/>
                    </a:lnTo>
                    <a:lnTo>
                      <a:pt x="280" y="1044"/>
                    </a:lnTo>
                    <a:lnTo>
                      <a:pt x="309" y="1037"/>
                    </a:lnTo>
                    <a:lnTo>
                      <a:pt x="323" y="1035"/>
                    </a:lnTo>
                    <a:lnTo>
                      <a:pt x="336" y="1033"/>
                    </a:lnTo>
                    <a:lnTo>
                      <a:pt x="348" y="1035"/>
                    </a:lnTo>
                    <a:lnTo>
                      <a:pt x="361" y="1037"/>
                    </a:lnTo>
                    <a:lnTo>
                      <a:pt x="373" y="1042"/>
                    </a:lnTo>
                    <a:lnTo>
                      <a:pt x="384" y="1050"/>
                    </a:lnTo>
                    <a:lnTo>
                      <a:pt x="396" y="1060"/>
                    </a:lnTo>
                    <a:lnTo>
                      <a:pt x="405" y="1073"/>
                    </a:lnTo>
                    <a:lnTo>
                      <a:pt x="424" y="1083"/>
                    </a:lnTo>
                    <a:lnTo>
                      <a:pt x="442" y="1088"/>
                    </a:lnTo>
                    <a:lnTo>
                      <a:pt x="457" y="1088"/>
                    </a:lnTo>
                    <a:lnTo>
                      <a:pt x="469" y="1088"/>
                    </a:lnTo>
                    <a:lnTo>
                      <a:pt x="482" y="1085"/>
                    </a:lnTo>
                    <a:lnTo>
                      <a:pt x="494" y="1079"/>
                    </a:lnTo>
                    <a:lnTo>
                      <a:pt x="501" y="1069"/>
                    </a:lnTo>
                    <a:lnTo>
                      <a:pt x="511" y="1058"/>
                    </a:lnTo>
                    <a:lnTo>
                      <a:pt x="519" y="1046"/>
                    </a:lnTo>
                    <a:lnTo>
                      <a:pt x="526" y="1031"/>
                    </a:lnTo>
                    <a:lnTo>
                      <a:pt x="532" y="1014"/>
                    </a:lnTo>
                    <a:lnTo>
                      <a:pt x="536" y="998"/>
                    </a:lnTo>
                    <a:lnTo>
                      <a:pt x="544" y="960"/>
                    </a:lnTo>
                    <a:lnTo>
                      <a:pt x="545" y="918"/>
                    </a:lnTo>
                    <a:lnTo>
                      <a:pt x="549" y="875"/>
                    </a:lnTo>
                    <a:lnTo>
                      <a:pt x="549" y="837"/>
                    </a:lnTo>
                    <a:lnTo>
                      <a:pt x="547" y="797"/>
                    </a:lnTo>
                    <a:lnTo>
                      <a:pt x="545" y="762"/>
                    </a:lnTo>
                    <a:lnTo>
                      <a:pt x="544" y="712"/>
                    </a:lnTo>
                    <a:lnTo>
                      <a:pt x="544" y="697"/>
                    </a:lnTo>
                    <a:lnTo>
                      <a:pt x="540" y="682"/>
                    </a:lnTo>
                    <a:lnTo>
                      <a:pt x="538" y="668"/>
                    </a:lnTo>
                    <a:lnTo>
                      <a:pt x="538" y="653"/>
                    </a:lnTo>
                    <a:lnTo>
                      <a:pt x="538" y="637"/>
                    </a:lnTo>
                    <a:lnTo>
                      <a:pt x="540" y="605"/>
                    </a:lnTo>
                    <a:lnTo>
                      <a:pt x="544" y="574"/>
                    </a:lnTo>
                    <a:lnTo>
                      <a:pt x="549" y="542"/>
                    </a:lnTo>
                    <a:lnTo>
                      <a:pt x="557" y="511"/>
                    </a:lnTo>
                    <a:lnTo>
                      <a:pt x="567" y="480"/>
                    </a:lnTo>
                    <a:lnTo>
                      <a:pt x="574" y="453"/>
                    </a:lnTo>
                    <a:lnTo>
                      <a:pt x="582" y="417"/>
                    </a:lnTo>
                    <a:lnTo>
                      <a:pt x="590" y="382"/>
                    </a:lnTo>
                    <a:lnTo>
                      <a:pt x="595" y="348"/>
                    </a:lnTo>
                    <a:lnTo>
                      <a:pt x="601" y="311"/>
                    </a:lnTo>
                    <a:lnTo>
                      <a:pt x="607" y="275"/>
                    </a:lnTo>
                    <a:lnTo>
                      <a:pt x="611" y="240"/>
                    </a:lnTo>
                    <a:lnTo>
                      <a:pt x="617" y="206"/>
                    </a:lnTo>
                    <a:lnTo>
                      <a:pt x="620" y="169"/>
                    </a:lnTo>
                    <a:lnTo>
                      <a:pt x="620" y="160"/>
                    </a:lnTo>
                    <a:lnTo>
                      <a:pt x="620" y="148"/>
                    </a:lnTo>
                    <a:lnTo>
                      <a:pt x="618" y="137"/>
                    </a:lnTo>
                    <a:lnTo>
                      <a:pt x="615" y="129"/>
                    </a:lnTo>
                    <a:lnTo>
                      <a:pt x="607" y="106"/>
                    </a:lnTo>
                    <a:lnTo>
                      <a:pt x="597" y="85"/>
                    </a:lnTo>
                    <a:lnTo>
                      <a:pt x="588" y="62"/>
                    </a:lnTo>
                    <a:lnTo>
                      <a:pt x="576" y="41"/>
                    </a:lnTo>
                    <a:lnTo>
                      <a:pt x="565" y="20"/>
                    </a:lnTo>
                    <a:lnTo>
                      <a:pt x="557" y="0"/>
                    </a:lnTo>
                    <a:close/>
                  </a:path>
                </a:pathLst>
              </a:custGeom>
              <a:solidFill>
                <a:srgbClr val="c11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26240" y="3106080"/>
                <a:ext cx="890280" cy="1433160"/>
              </a:xfrm>
              <a:custGeom>
                <a:avLst/>
                <a:gdLst/>
                <a:ahLst/>
                <a:rect l="l" t="t" r="r" b="b"/>
                <a:pathLst>
                  <a:path w="620" h="1098">
                    <a:moveTo>
                      <a:pt x="557" y="0"/>
                    </a:moveTo>
                    <a:lnTo>
                      <a:pt x="542" y="18"/>
                    </a:lnTo>
                    <a:lnTo>
                      <a:pt x="528" y="33"/>
                    </a:lnTo>
                    <a:lnTo>
                      <a:pt x="515" y="48"/>
                    </a:lnTo>
                    <a:lnTo>
                      <a:pt x="503" y="60"/>
                    </a:lnTo>
                    <a:lnTo>
                      <a:pt x="492" y="71"/>
                    </a:lnTo>
                    <a:lnTo>
                      <a:pt x="478" y="81"/>
                    </a:lnTo>
                    <a:lnTo>
                      <a:pt x="461" y="89"/>
                    </a:lnTo>
                    <a:lnTo>
                      <a:pt x="438" y="92"/>
                    </a:lnTo>
                    <a:lnTo>
                      <a:pt x="401" y="100"/>
                    </a:lnTo>
                    <a:lnTo>
                      <a:pt x="363" y="106"/>
                    </a:lnTo>
                    <a:lnTo>
                      <a:pt x="325" y="110"/>
                    </a:lnTo>
                    <a:lnTo>
                      <a:pt x="286" y="112"/>
                    </a:lnTo>
                    <a:lnTo>
                      <a:pt x="246" y="110"/>
                    </a:lnTo>
                    <a:lnTo>
                      <a:pt x="207" y="106"/>
                    </a:lnTo>
                    <a:lnTo>
                      <a:pt x="171" y="100"/>
                    </a:lnTo>
                    <a:lnTo>
                      <a:pt x="134" y="89"/>
                    </a:lnTo>
                    <a:lnTo>
                      <a:pt x="134" y="112"/>
                    </a:lnTo>
                    <a:lnTo>
                      <a:pt x="134" y="135"/>
                    </a:lnTo>
                    <a:lnTo>
                      <a:pt x="134" y="156"/>
                    </a:lnTo>
                    <a:lnTo>
                      <a:pt x="136" y="179"/>
                    </a:lnTo>
                    <a:lnTo>
                      <a:pt x="138" y="202"/>
                    </a:lnTo>
                    <a:lnTo>
                      <a:pt x="140" y="225"/>
                    </a:lnTo>
                    <a:lnTo>
                      <a:pt x="144" y="246"/>
                    </a:lnTo>
                    <a:lnTo>
                      <a:pt x="148" y="267"/>
                    </a:lnTo>
                    <a:lnTo>
                      <a:pt x="142" y="298"/>
                    </a:lnTo>
                    <a:lnTo>
                      <a:pt x="138" y="327"/>
                    </a:lnTo>
                    <a:lnTo>
                      <a:pt x="133" y="357"/>
                    </a:lnTo>
                    <a:lnTo>
                      <a:pt x="129" y="386"/>
                    </a:lnTo>
                    <a:lnTo>
                      <a:pt x="125" y="415"/>
                    </a:lnTo>
                    <a:lnTo>
                      <a:pt x="119" y="444"/>
                    </a:lnTo>
                    <a:lnTo>
                      <a:pt x="117" y="474"/>
                    </a:lnTo>
                    <a:lnTo>
                      <a:pt x="113" y="503"/>
                    </a:lnTo>
                    <a:lnTo>
                      <a:pt x="110" y="522"/>
                    </a:lnTo>
                    <a:lnTo>
                      <a:pt x="108" y="538"/>
                    </a:lnTo>
                    <a:lnTo>
                      <a:pt x="108" y="557"/>
                    </a:lnTo>
                    <a:lnTo>
                      <a:pt x="108" y="574"/>
                    </a:lnTo>
                    <a:lnTo>
                      <a:pt x="106" y="591"/>
                    </a:lnTo>
                    <a:lnTo>
                      <a:pt x="106" y="609"/>
                    </a:lnTo>
                    <a:lnTo>
                      <a:pt x="106" y="626"/>
                    </a:lnTo>
                    <a:lnTo>
                      <a:pt x="106" y="645"/>
                    </a:lnTo>
                    <a:lnTo>
                      <a:pt x="102" y="670"/>
                    </a:lnTo>
                    <a:lnTo>
                      <a:pt x="96" y="695"/>
                    </a:lnTo>
                    <a:lnTo>
                      <a:pt x="86" y="720"/>
                    </a:lnTo>
                    <a:lnTo>
                      <a:pt x="77" y="745"/>
                    </a:lnTo>
                    <a:lnTo>
                      <a:pt x="69" y="770"/>
                    </a:lnTo>
                    <a:lnTo>
                      <a:pt x="58" y="793"/>
                    </a:lnTo>
                    <a:lnTo>
                      <a:pt x="48" y="818"/>
                    </a:lnTo>
                    <a:lnTo>
                      <a:pt x="40" y="841"/>
                    </a:lnTo>
                    <a:lnTo>
                      <a:pt x="29" y="866"/>
                    </a:lnTo>
                    <a:lnTo>
                      <a:pt x="23" y="891"/>
                    </a:lnTo>
                    <a:lnTo>
                      <a:pt x="17" y="916"/>
                    </a:lnTo>
                    <a:lnTo>
                      <a:pt x="12" y="941"/>
                    </a:lnTo>
                    <a:lnTo>
                      <a:pt x="8" y="966"/>
                    </a:lnTo>
                    <a:lnTo>
                      <a:pt x="4" y="992"/>
                    </a:lnTo>
                    <a:lnTo>
                      <a:pt x="2" y="1017"/>
                    </a:lnTo>
                    <a:lnTo>
                      <a:pt x="0" y="1044"/>
                    </a:lnTo>
                    <a:lnTo>
                      <a:pt x="4" y="1054"/>
                    </a:lnTo>
                    <a:lnTo>
                      <a:pt x="10" y="1060"/>
                    </a:lnTo>
                    <a:lnTo>
                      <a:pt x="19" y="1067"/>
                    </a:lnTo>
                    <a:lnTo>
                      <a:pt x="29" y="1075"/>
                    </a:lnTo>
                    <a:lnTo>
                      <a:pt x="42" y="1081"/>
                    </a:lnTo>
                    <a:lnTo>
                      <a:pt x="56" y="1087"/>
                    </a:lnTo>
                    <a:lnTo>
                      <a:pt x="73" y="1088"/>
                    </a:lnTo>
                    <a:lnTo>
                      <a:pt x="86" y="1094"/>
                    </a:lnTo>
                    <a:lnTo>
                      <a:pt x="119" y="1098"/>
                    </a:lnTo>
                    <a:lnTo>
                      <a:pt x="152" y="1098"/>
                    </a:lnTo>
                    <a:lnTo>
                      <a:pt x="165" y="1098"/>
                    </a:lnTo>
                    <a:lnTo>
                      <a:pt x="179" y="1096"/>
                    </a:lnTo>
                    <a:lnTo>
                      <a:pt x="188" y="1092"/>
                    </a:lnTo>
                    <a:lnTo>
                      <a:pt x="198" y="1088"/>
                    </a:lnTo>
                    <a:lnTo>
                      <a:pt x="200" y="1087"/>
                    </a:lnTo>
                    <a:lnTo>
                      <a:pt x="202" y="1085"/>
                    </a:lnTo>
                    <a:lnTo>
                      <a:pt x="204" y="1083"/>
                    </a:lnTo>
                    <a:lnTo>
                      <a:pt x="206" y="1081"/>
                    </a:lnTo>
                    <a:lnTo>
                      <a:pt x="206" y="1079"/>
                    </a:lnTo>
                    <a:lnTo>
                      <a:pt x="206" y="1075"/>
                    </a:lnTo>
                    <a:lnTo>
                      <a:pt x="206" y="1073"/>
                    </a:lnTo>
                    <a:lnTo>
                      <a:pt x="206" y="1069"/>
                    </a:lnTo>
                    <a:lnTo>
                      <a:pt x="231" y="1062"/>
                    </a:lnTo>
                    <a:lnTo>
                      <a:pt x="255" y="1054"/>
                    </a:lnTo>
                    <a:lnTo>
                      <a:pt x="280" y="1044"/>
                    </a:lnTo>
                    <a:lnTo>
                      <a:pt x="309" y="1037"/>
                    </a:lnTo>
                    <a:lnTo>
                      <a:pt x="323" y="1035"/>
                    </a:lnTo>
                    <a:lnTo>
                      <a:pt x="336" y="1033"/>
                    </a:lnTo>
                    <a:lnTo>
                      <a:pt x="348" y="1035"/>
                    </a:lnTo>
                    <a:lnTo>
                      <a:pt x="361" y="1037"/>
                    </a:lnTo>
                    <a:lnTo>
                      <a:pt x="373" y="1042"/>
                    </a:lnTo>
                    <a:lnTo>
                      <a:pt x="384" y="1050"/>
                    </a:lnTo>
                    <a:lnTo>
                      <a:pt x="396" y="1060"/>
                    </a:lnTo>
                    <a:lnTo>
                      <a:pt x="405" y="1073"/>
                    </a:lnTo>
                    <a:lnTo>
                      <a:pt x="424" y="1083"/>
                    </a:lnTo>
                    <a:lnTo>
                      <a:pt x="442" y="1088"/>
                    </a:lnTo>
                    <a:lnTo>
                      <a:pt x="457" y="1088"/>
                    </a:lnTo>
                    <a:lnTo>
                      <a:pt x="469" y="1088"/>
                    </a:lnTo>
                    <a:lnTo>
                      <a:pt x="482" y="1085"/>
                    </a:lnTo>
                    <a:lnTo>
                      <a:pt x="494" y="1079"/>
                    </a:lnTo>
                    <a:lnTo>
                      <a:pt x="501" y="1069"/>
                    </a:lnTo>
                    <a:lnTo>
                      <a:pt x="511" y="1058"/>
                    </a:lnTo>
                    <a:lnTo>
                      <a:pt x="519" y="1046"/>
                    </a:lnTo>
                    <a:lnTo>
                      <a:pt x="526" y="1031"/>
                    </a:lnTo>
                    <a:lnTo>
                      <a:pt x="532" y="1014"/>
                    </a:lnTo>
                    <a:lnTo>
                      <a:pt x="536" y="998"/>
                    </a:lnTo>
                    <a:lnTo>
                      <a:pt x="544" y="960"/>
                    </a:lnTo>
                    <a:lnTo>
                      <a:pt x="545" y="918"/>
                    </a:lnTo>
                    <a:lnTo>
                      <a:pt x="549" y="875"/>
                    </a:lnTo>
                    <a:lnTo>
                      <a:pt x="549" y="837"/>
                    </a:lnTo>
                    <a:lnTo>
                      <a:pt x="547" y="797"/>
                    </a:lnTo>
                    <a:lnTo>
                      <a:pt x="545" y="762"/>
                    </a:lnTo>
                    <a:lnTo>
                      <a:pt x="544" y="712"/>
                    </a:lnTo>
                    <a:lnTo>
                      <a:pt x="544" y="697"/>
                    </a:lnTo>
                    <a:lnTo>
                      <a:pt x="540" y="682"/>
                    </a:lnTo>
                    <a:lnTo>
                      <a:pt x="538" y="668"/>
                    </a:lnTo>
                    <a:lnTo>
                      <a:pt x="538" y="653"/>
                    </a:lnTo>
                    <a:lnTo>
                      <a:pt x="538" y="637"/>
                    </a:lnTo>
                    <a:lnTo>
                      <a:pt x="540" y="605"/>
                    </a:lnTo>
                    <a:lnTo>
                      <a:pt x="544" y="574"/>
                    </a:lnTo>
                    <a:lnTo>
                      <a:pt x="549" y="542"/>
                    </a:lnTo>
                    <a:lnTo>
                      <a:pt x="557" y="511"/>
                    </a:lnTo>
                    <a:lnTo>
                      <a:pt x="567" y="480"/>
                    </a:lnTo>
                    <a:lnTo>
                      <a:pt x="574" y="453"/>
                    </a:lnTo>
                    <a:lnTo>
                      <a:pt x="582" y="417"/>
                    </a:lnTo>
                    <a:lnTo>
                      <a:pt x="590" y="382"/>
                    </a:lnTo>
                    <a:lnTo>
                      <a:pt x="595" y="348"/>
                    </a:lnTo>
                    <a:lnTo>
                      <a:pt x="601" y="311"/>
                    </a:lnTo>
                    <a:lnTo>
                      <a:pt x="607" y="275"/>
                    </a:lnTo>
                    <a:lnTo>
                      <a:pt x="611" y="240"/>
                    </a:lnTo>
                    <a:lnTo>
                      <a:pt x="617" y="206"/>
                    </a:lnTo>
                    <a:lnTo>
                      <a:pt x="620" y="169"/>
                    </a:lnTo>
                    <a:lnTo>
                      <a:pt x="620" y="160"/>
                    </a:lnTo>
                    <a:lnTo>
                      <a:pt x="620" y="148"/>
                    </a:lnTo>
                    <a:lnTo>
                      <a:pt x="618" y="137"/>
                    </a:lnTo>
                    <a:lnTo>
                      <a:pt x="615" y="129"/>
                    </a:lnTo>
                    <a:lnTo>
                      <a:pt x="607" y="106"/>
                    </a:lnTo>
                    <a:lnTo>
                      <a:pt x="597" y="85"/>
                    </a:lnTo>
                    <a:lnTo>
                      <a:pt x="588" y="62"/>
                    </a:lnTo>
                    <a:lnTo>
                      <a:pt x="576" y="41"/>
                    </a:lnTo>
                    <a:lnTo>
                      <a:pt x="565" y="20"/>
                    </a:lnTo>
                    <a:lnTo>
                      <a:pt x="55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015240" y="2969280"/>
                <a:ext cx="487440" cy="252720"/>
              </a:xfrm>
              <a:custGeom>
                <a:avLst/>
                <a:gdLst/>
                <a:ahLst/>
                <a:rect l="l" t="t" r="r" b="b"/>
                <a:pathLst>
                  <a:path w="340" h="194">
                    <a:moveTo>
                      <a:pt x="0" y="194"/>
                    </a:moveTo>
                    <a:lnTo>
                      <a:pt x="169" y="98"/>
                    </a:lnTo>
                    <a:lnTo>
                      <a:pt x="278" y="34"/>
                    </a:lnTo>
                    <a:lnTo>
                      <a:pt x="332" y="4"/>
                    </a:lnTo>
                    <a:lnTo>
                      <a:pt x="340" y="0"/>
                    </a:lnTo>
                    <a:lnTo>
                      <a:pt x="305" y="21"/>
                    </a:lnTo>
                    <a:lnTo>
                      <a:pt x="232" y="61"/>
                    </a:lnTo>
                    <a:lnTo>
                      <a:pt x="128" y="119"/>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970600" y="3454200"/>
                <a:ext cx="74160" cy="489240"/>
              </a:xfrm>
              <a:custGeom>
                <a:avLst/>
                <a:gdLst/>
                <a:ahLst/>
                <a:rect l="l" t="t" r="r" b="b"/>
                <a:pathLst>
                  <a:path w="52" h="374">
                    <a:moveTo>
                      <a:pt x="0" y="369"/>
                    </a:moveTo>
                    <a:lnTo>
                      <a:pt x="0" y="370"/>
                    </a:lnTo>
                    <a:lnTo>
                      <a:pt x="0" y="361"/>
                    </a:lnTo>
                    <a:lnTo>
                      <a:pt x="0" y="353"/>
                    </a:lnTo>
                    <a:lnTo>
                      <a:pt x="0" y="342"/>
                    </a:lnTo>
                    <a:lnTo>
                      <a:pt x="0" y="332"/>
                    </a:lnTo>
                    <a:lnTo>
                      <a:pt x="0" y="321"/>
                    </a:lnTo>
                    <a:lnTo>
                      <a:pt x="0" y="311"/>
                    </a:lnTo>
                    <a:lnTo>
                      <a:pt x="2" y="298"/>
                    </a:lnTo>
                    <a:lnTo>
                      <a:pt x="4" y="286"/>
                    </a:lnTo>
                    <a:lnTo>
                      <a:pt x="4" y="273"/>
                    </a:lnTo>
                    <a:lnTo>
                      <a:pt x="6" y="263"/>
                    </a:lnTo>
                    <a:lnTo>
                      <a:pt x="8" y="250"/>
                    </a:lnTo>
                    <a:lnTo>
                      <a:pt x="8" y="236"/>
                    </a:lnTo>
                    <a:lnTo>
                      <a:pt x="10" y="211"/>
                    </a:lnTo>
                    <a:lnTo>
                      <a:pt x="15" y="184"/>
                    </a:lnTo>
                    <a:lnTo>
                      <a:pt x="19" y="157"/>
                    </a:lnTo>
                    <a:lnTo>
                      <a:pt x="21" y="129"/>
                    </a:lnTo>
                    <a:lnTo>
                      <a:pt x="25" y="106"/>
                    </a:lnTo>
                    <a:lnTo>
                      <a:pt x="29" y="81"/>
                    </a:lnTo>
                    <a:lnTo>
                      <a:pt x="36" y="37"/>
                    </a:lnTo>
                    <a:lnTo>
                      <a:pt x="42" y="0"/>
                    </a:lnTo>
                    <a:lnTo>
                      <a:pt x="52" y="0"/>
                    </a:lnTo>
                    <a:lnTo>
                      <a:pt x="46" y="37"/>
                    </a:lnTo>
                    <a:lnTo>
                      <a:pt x="38" y="83"/>
                    </a:lnTo>
                    <a:lnTo>
                      <a:pt x="34" y="106"/>
                    </a:lnTo>
                    <a:lnTo>
                      <a:pt x="31" y="131"/>
                    </a:lnTo>
                    <a:lnTo>
                      <a:pt x="27" y="157"/>
                    </a:lnTo>
                    <a:lnTo>
                      <a:pt x="21" y="186"/>
                    </a:lnTo>
                    <a:lnTo>
                      <a:pt x="19" y="211"/>
                    </a:lnTo>
                    <a:lnTo>
                      <a:pt x="17" y="238"/>
                    </a:lnTo>
                    <a:lnTo>
                      <a:pt x="15" y="250"/>
                    </a:lnTo>
                    <a:lnTo>
                      <a:pt x="15" y="263"/>
                    </a:lnTo>
                    <a:lnTo>
                      <a:pt x="13" y="275"/>
                    </a:lnTo>
                    <a:lnTo>
                      <a:pt x="10" y="288"/>
                    </a:lnTo>
                    <a:lnTo>
                      <a:pt x="10" y="298"/>
                    </a:lnTo>
                    <a:lnTo>
                      <a:pt x="10" y="311"/>
                    </a:lnTo>
                    <a:lnTo>
                      <a:pt x="8" y="322"/>
                    </a:lnTo>
                    <a:lnTo>
                      <a:pt x="8" y="332"/>
                    </a:lnTo>
                    <a:lnTo>
                      <a:pt x="8" y="342"/>
                    </a:lnTo>
                    <a:lnTo>
                      <a:pt x="8" y="353"/>
                    </a:lnTo>
                    <a:lnTo>
                      <a:pt x="8" y="359"/>
                    </a:lnTo>
                    <a:lnTo>
                      <a:pt x="8" y="369"/>
                    </a:lnTo>
                    <a:lnTo>
                      <a:pt x="8" y="370"/>
                    </a:lnTo>
                    <a:lnTo>
                      <a:pt x="8" y="372"/>
                    </a:lnTo>
                    <a:lnTo>
                      <a:pt x="8" y="372"/>
                    </a:lnTo>
                    <a:lnTo>
                      <a:pt x="8" y="374"/>
                    </a:lnTo>
                    <a:lnTo>
                      <a:pt x="6" y="374"/>
                    </a:lnTo>
                    <a:lnTo>
                      <a:pt x="4" y="374"/>
                    </a:lnTo>
                    <a:lnTo>
                      <a:pt x="2" y="372"/>
                    </a:lnTo>
                    <a:lnTo>
                      <a:pt x="0" y="372"/>
                    </a:lnTo>
                    <a:lnTo>
                      <a:pt x="0" y="370"/>
                    </a:lnTo>
                    <a:lnTo>
                      <a:pt x="0" y="3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817600" y="3936960"/>
                <a:ext cx="166320" cy="537480"/>
              </a:xfrm>
              <a:custGeom>
                <a:avLst/>
                <a:gdLst/>
                <a:ahLst/>
                <a:rect l="l" t="t" r="r" b="b"/>
                <a:pathLst>
                  <a:path w="116" h="412">
                    <a:moveTo>
                      <a:pt x="0" y="408"/>
                    </a:moveTo>
                    <a:lnTo>
                      <a:pt x="0" y="406"/>
                    </a:lnTo>
                    <a:lnTo>
                      <a:pt x="0" y="395"/>
                    </a:lnTo>
                    <a:lnTo>
                      <a:pt x="2" y="385"/>
                    </a:lnTo>
                    <a:lnTo>
                      <a:pt x="2" y="374"/>
                    </a:lnTo>
                    <a:lnTo>
                      <a:pt x="4" y="366"/>
                    </a:lnTo>
                    <a:lnTo>
                      <a:pt x="4" y="355"/>
                    </a:lnTo>
                    <a:lnTo>
                      <a:pt x="6" y="347"/>
                    </a:lnTo>
                    <a:lnTo>
                      <a:pt x="6" y="337"/>
                    </a:lnTo>
                    <a:lnTo>
                      <a:pt x="8" y="328"/>
                    </a:lnTo>
                    <a:lnTo>
                      <a:pt x="10" y="320"/>
                    </a:lnTo>
                    <a:lnTo>
                      <a:pt x="12" y="310"/>
                    </a:lnTo>
                    <a:lnTo>
                      <a:pt x="12" y="301"/>
                    </a:lnTo>
                    <a:lnTo>
                      <a:pt x="14" y="293"/>
                    </a:lnTo>
                    <a:lnTo>
                      <a:pt x="18" y="284"/>
                    </a:lnTo>
                    <a:lnTo>
                      <a:pt x="19" y="278"/>
                    </a:lnTo>
                    <a:lnTo>
                      <a:pt x="21" y="268"/>
                    </a:lnTo>
                    <a:lnTo>
                      <a:pt x="23" y="261"/>
                    </a:lnTo>
                    <a:lnTo>
                      <a:pt x="27" y="245"/>
                    </a:lnTo>
                    <a:lnTo>
                      <a:pt x="31" y="232"/>
                    </a:lnTo>
                    <a:lnTo>
                      <a:pt x="33" y="216"/>
                    </a:lnTo>
                    <a:lnTo>
                      <a:pt x="39" y="203"/>
                    </a:lnTo>
                    <a:lnTo>
                      <a:pt x="46" y="191"/>
                    </a:lnTo>
                    <a:lnTo>
                      <a:pt x="48" y="178"/>
                    </a:lnTo>
                    <a:lnTo>
                      <a:pt x="54" y="165"/>
                    </a:lnTo>
                    <a:lnTo>
                      <a:pt x="58" y="155"/>
                    </a:lnTo>
                    <a:lnTo>
                      <a:pt x="67" y="130"/>
                    </a:lnTo>
                    <a:lnTo>
                      <a:pt x="77" y="111"/>
                    </a:lnTo>
                    <a:lnTo>
                      <a:pt x="81" y="101"/>
                    </a:lnTo>
                    <a:lnTo>
                      <a:pt x="85" y="90"/>
                    </a:lnTo>
                    <a:lnTo>
                      <a:pt x="89" y="80"/>
                    </a:lnTo>
                    <a:lnTo>
                      <a:pt x="92" y="71"/>
                    </a:lnTo>
                    <a:lnTo>
                      <a:pt x="96" y="63"/>
                    </a:lnTo>
                    <a:lnTo>
                      <a:pt x="98" y="53"/>
                    </a:lnTo>
                    <a:lnTo>
                      <a:pt x="100" y="49"/>
                    </a:lnTo>
                    <a:lnTo>
                      <a:pt x="102" y="44"/>
                    </a:lnTo>
                    <a:lnTo>
                      <a:pt x="102" y="38"/>
                    </a:lnTo>
                    <a:lnTo>
                      <a:pt x="104" y="34"/>
                    </a:lnTo>
                    <a:lnTo>
                      <a:pt x="104" y="32"/>
                    </a:lnTo>
                    <a:lnTo>
                      <a:pt x="106" y="24"/>
                    </a:lnTo>
                    <a:lnTo>
                      <a:pt x="106" y="21"/>
                    </a:lnTo>
                    <a:lnTo>
                      <a:pt x="106" y="17"/>
                    </a:lnTo>
                    <a:lnTo>
                      <a:pt x="106" y="13"/>
                    </a:lnTo>
                    <a:lnTo>
                      <a:pt x="106" y="9"/>
                    </a:lnTo>
                    <a:lnTo>
                      <a:pt x="108" y="3"/>
                    </a:lnTo>
                    <a:lnTo>
                      <a:pt x="108" y="0"/>
                    </a:lnTo>
                    <a:lnTo>
                      <a:pt x="116" y="0"/>
                    </a:lnTo>
                    <a:lnTo>
                      <a:pt x="116" y="3"/>
                    </a:lnTo>
                    <a:lnTo>
                      <a:pt x="116" y="9"/>
                    </a:lnTo>
                    <a:lnTo>
                      <a:pt x="116" y="13"/>
                    </a:lnTo>
                    <a:lnTo>
                      <a:pt x="114" y="19"/>
                    </a:lnTo>
                    <a:lnTo>
                      <a:pt x="114" y="23"/>
                    </a:lnTo>
                    <a:lnTo>
                      <a:pt x="114" y="28"/>
                    </a:lnTo>
                    <a:lnTo>
                      <a:pt x="114" y="32"/>
                    </a:lnTo>
                    <a:lnTo>
                      <a:pt x="114" y="36"/>
                    </a:lnTo>
                    <a:lnTo>
                      <a:pt x="112" y="40"/>
                    </a:lnTo>
                    <a:lnTo>
                      <a:pt x="112" y="46"/>
                    </a:lnTo>
                    <a:lnTo>
                      <a:pt x="110" y="51"/>
                    </a:lnTo>
                    <a:lnTo>
                      <a:pt x="108" y="55"/>
                    </a:lnTo>
                    <a:lnTo>
                      <a:pt x="104" y="67"/>
                    </a:lnTo>
                    <a:lnTo>
                      <a:pt x="102" y="76"/>
                    </a:lnTo>
                    <a:lnTo>
                      <a:pt x="98" y="84"/>
                    </a:lnTo>
                    <a:lnTo>
                      <a:pt x="94" y="94"/>
                    </a:lnTo>
                    <a:lnTo>
                      <a:pt x="91" y="103"/>
                    </a:lnTo>
                    <a:lnTo>
                      <a:pt x="85" y="113"/>
                    </a:lnTo>
                    <a:lnTo>
                      <a:pt x="77" y="136"/>
                    </a:lnTo>
                    <a:lnTo>
                      <a:pt x="67" y="157"/>
                    </a:lnTo>
                    <a:lnTo>
                      <a:pt x="64" y="168"/>
                    </a:lnTo>
                    <a:lnTo>
                      <a:pt x="58" y="182"/>
                    </a:lnTo>
                    <a:lnTo>
                      <a:pt x="52" y="191"/>
                    </a:lnTo>
                    <a:lnTo>
                      <a:pt x="48" y="207"/>
                    </a:lnTo>
                    <a:lnTo>
                      <a:pt x="43" y="218"/>
                    </a:lnTo>
                    <a:lnTo>
                      <a:pt x="39" y="234"/>
                    </a:lnTo>
                    <a:lnTo>
                      <a:pt x="33" y="249"/>
                    </a:lnTo>
                    <a:lnTo>
                      <a:pt x="31" y="262"/>
                    </a:lnTo>
                    <a:lnTo>
                      <a:pt x="29" y="272"/>
                    </a:lnTo>
                    <a:lnTo>
                      <a:pt x="27" y="280"/>
                    </a:lnTo>
                    <a:lnTo>
                      <a:pt x="25" y="285"/>
                    </a:lnTo>
                    <a:lnTo>
                      <a:pt x="23" y="295"/>
                    </a:lnTo>
                    <a:lnTo>
                      <a:pt x="23" y="303"/>
                    </a:lnTo>
                    <a:lnTo>
                      <a:pt x="21" y="310"/>
                    </a:lnTo>
                    <a:lnTo>
                      <a:pt x="19" y="320"/>
                    </a:lnTo>
                    <a:lnTo>
                      <a:pt x="18" y="328"/>
                    </a:lnTo>
                    <a:lnTo>
                      <a:pt x="18" y="339"/>
                    </a:lnTo>
                    <a:lnTo>
                      <a:pt x="16" y="347"/>
                    </a:lnTo>
                    <a:lnTo>
                      <a:pt x="14" y="356"/>
                    </a:lnTo>
                    <a:lnTo>
                      <a:pt x="12" y="366"/>
                    </a:lnTo>
                    <a:lnTo>
                      <a:pt x="12" y="376"/>
                    </a:lnTo>
                    <a:lnTo>
                      <a:pt x="12" y="385"/>
                    </a:lnTo>
                    <a:lnTo>
                      <a:pt x="10" y="397"/>
                    </a:lnTo>
                    <a:lnTo>
                      <a:pt x="10" y="408"/>
                    </a:lnTo>
                    <a:lnTo>
                      <a:pt x="10" y="406"/>
                    </a:lnTo>
                    <a:lnTo>
                      <a:pt x="10" y="408"/>
                    </a:lnTo>
                    <a:lnTo>
                      <a:pt x="10" y="410"/>
                    </a:lnTo>
                    <a:lnTo>
                      <a:pt x="8" y="410"/>
                    </a:lnTo>
                    <a:lnTo>
                      <a:pt x="6" y="412"/>
                    </a:lnTo>
                    <a:lnTo>
                      <a:pt x="4" y="412"/>
                    </a:lnTo>
                    <a:lnTo>
                      <a:pt x="2" y="410"/>
                    </a:lnTo>
                    <a:lnTo>
                      <a:pt x="0" y="408"/>
                    </a:lnTo>
                    <a:lnTo>
                      <a:pt x="0" y="406"/>
                    </a:lnTo>
                    <a:lnTo>
                      <a:pt x="0"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856120" y="2393640"/>
                <a:ext cx="1099800" cy="1199880"/>
              </a:xfrm>
              <a:custGeom>
                <a:avLst/>
                <a:gdLst/>
                <a:ahLst/>
                <a:rect l="l" t="t" r="r" b="b"/>
                <a:pathLst>
                  <a:path w="765" h="918">
                    <a:moveTo>
                      <a:pt x="219" y="181"/>
                    </a:moveTo>
                    <a:lnTo>
                      <a:pt x="229" y="221"/>
                    </a:lnTo>
                    <a:lnTo>
                      <a:pt x="236" y="261"/>
                    </a:lnTo>
                    <a:lnTo>
                      <a:pt x="244" y="302"/>
                    </a:lnTo>
                    <a:lnTo>
                      <a:pt x="250" y="344"/>
                    </a:lnTo>
                    <a:lnTo>
                      <a:pt x="256" y="384"/>
                    </a:lnTo>
                    <a:lnTo>
                      <a:pt x="261" y="426"/>
                    </a:lnTo>
                    <a:lnTo>
                      <a:pt x="267" y="467"/>
                    </a:lnTo>
                    <a:lnTo>
                      <a:pt x="271" y="509"/>
                    </a:lnTo>
                    <a:lnTo>
                      <a:pt x="275" y="542"/>
                    </a:lnTo>
                    <a:lnTo>
                      <a:pt x="277" y="574"/>
                    </a:lnTo>
                    <a:lnTo>
                      <a:pt x="281" y="607"/>
                    </a:lnTo>
                    <a:lnTo>
                      <a:pt x="284" y="639"/>
                    </a:lnTo>
                    <a:lnTo>
                      <a:pt x="286" y="672"/>
                    </a:lnTo>
                    <a:lnTo>
                      <a:pt x="288" y="705"/>
                    </a:lnTo>
                    <a:lnTo>
                      <a:pt x="290" y="737"/>
                    </a:lnTo>
                    <a:lnTo>
                      <a:pt x="290" y="770"/>
                    </a:lnTo>
                    <a:lnTo>
                      <a:pt x="290" y="781"/>
                    </a:lnTo>
                    <a:lnTo>
                      <a:pt x="292" y="791"/>
                    </a:lnTo>
                    <a:lnTo>
                      <a:pt x="292" y="803"/>
                    </a:lnTo>
                    <a:lnTo>
                      <a:pt x="292" y="814"/>
                    </a:lnTo>
                    <a:lnTo>
                      <a:pt x="290" y="824"/>
                    </a:lnTo>
                    <a:lnTo>
                      <a:pt x="290" y="835"/>
                    </a:lnTo>
                    <a:lnTo>
                      <a:pt x="286" y="845"/>
                    </a:lnTo>
                    <a:lnTo>
                      <a:pt x="284" y="856"/>
                    </a:lnTo>
                    <a:lnTo>
                      <a:pt x="284" y="860"/>
                    </a:lnTo>
                    <a:lnTo>
                      <a:pt x="282" y="866"/>
                    </a:lnTo>
                    <a:lnTo>
                      <a:pt x="282" y="872"/>
                    </a:lnTo>
                    <a:lnTo>
                      <a:pt x="281" y="875"/>
                    </a:lnTo>
                    <a:lnTo>
                      <a:pt x="281" y="881"/>
                    </a:lnTo>
                    <a:lnTo>
                      <a:pt x="281" y="887"/>
                    </a:lnTo>
                    <a:lnTo>
                      <a:pt x="279" y="893"/>
                    </a:lnTo>
                    <a:lnTo>
                      <a:pt x="279" y="897"/>
                    </a:lnTo>
                    <a:lnTo>
                      <a:pt x="258" y="900"/>
                    </a:lnTo>
                    <a:lnTo>
                      <a:pt x="236" y="906"/>
                    </a:lnTo>
                    <a:lnTo>
                      <a:pt x="217" y="910"/>
                    </a:lnTo>
                    <a:lnTo>
                      <a:pt x="196" y="914"/>
                    </a:lnTo>
                    <a:lnTo>
                      <a:pt x="175" y="916"/>
                    </a:lnTo>
                    <a:lnTo>
                      <a:pt x="154" y="918"/>
                    </a:lnTo>
                    <a:lnTo>
                      <a:pt x="133" y="918"/>
                    </a:lnTo>
                    <a:lnTo>
                      <a:pt x="112" y="918"/>
                    </a:lnTo>
                    <a:lnTo>
                      <a:pt x="106" y="916"/>
                    </a:lnTo>
                    <a:lnTo>
                      <a:pt x="100" y="916"/>
                    </a:lnTo>
                    <a:lnTo>
                      <a:pt x="94" y="914"/>
                    </a:lnTo>
                    <a:lnTo>
                      <a:pt x="89" y="912"/>
                    </a:lnTo>
                    <a:lnTo>
                      <a:pt x="83" y="910"/>
                    </a:lnTo>
                    <a:lnTo>
                      <a:pt x="79" y="906"/>
                    </a:lnTo>
                    <a:lnTo>
                      <a:pt x="73" y="904"/>
                    </a:lnTo>
                    <a:lnTo>
                      <a:pt x="67" y="902"/>
                    </a:lnTo>
                    <a:lnTo>
                      <a:pt x="71" y="875"/>
                    </a:lnTo>
                    <a:lnTo>
                      <a:pt x="75" y="849"/>
                    </a:lnTo>
                    <a:lnTo>
                      <a:pt x="79" y="824"/>
                    </a:lnTo>
                    <a:lnTo>
                      <a:pt x="81" y="797"/>
                    </a:lnTo>
                    <a:lnTo>
                      <a:pt x="85" y="772"/>
                    </a:lnTo>
                    <a:lnTo>
                      <a:pt x="89" y="745"/>
                    </a:lnTo>
                    <a:lnTo>
                      <a:pt x="92" y="720"/>
                    </a:lnTo>
                    <a:lnTo>
                      <a:pt x="98" y="693"/>
                    </a:lnTo>
                    <a:lnTo>
                      <a:pt x="100" y="674"/>
                    </a:lnTo>
                    <a:lnTo>
                      <a:pt x="102" y="655"/>
                    </a:lnTo>
                    <a:lnTo>
                      <a:pt x="106" y="637"/>
                    </a:lnTo>
                    <a:lnTo>
                      <a:pt x="110" y="618"/>
                    </a:lnTo>
                    <a:lnTo>
                      <a:pt x="113" y="599"/>
                    </a:lnTo>
                    <a:lnTo>
                      <a:pt x="115" y="580"/>
                    </a:lnTo>
                    <a:lnTo>
                      <a:pt x="117" y="561"/>
                    </a:lnTo>
                    <a:lnTo>
                      <a:pt x="117" y="542"/>
                    </a:lnTo>
                    <a:lnTo>
                      <a:pt x="119" y="526"/>
                    </a:lnTo>
                    <a:lnTo>
                      <a:pt x="117" y="511"/>
                    </a:lnTo>
                    <a:lnTo>
                      <a:pt x="117" y="495"/>
                    </a:lnTo>
                    <a:lnTo>
                      <a:pt x="117" y="480"/>
                    </a:lnTo>
                    <a:lnTo>
                      <a:pt x="117" y="465"/>
                    </a:lnTo>
                    <a:lnTo>
                      <a:pt x="119" y="451"/>
                    </a:lnTo>
                    <a:lnTo>
                      <a:pt x="125" y="436"/>
                    </a:lnTo>
                    <a:lnTo>
                      <a:pt x="133" y="423"/>
                    </a:lnTo>
                    <a:lnTo>
                      <a:pt x="133" y="405"/>
                    </a:lnTo>
                    <a:lnTo>
                      <a:pt x="133" y="386"/>
                    </a:lnTo>
                    <a:lnTo>
                      <a:pt x="131" y="367"/>
                    </a:lnTo>
                    <a:lnTo>
                      <a:pt x="131" y="350"/>
                    </a:lnTo>
                    <a:lnTo>
                      <a:pt x="133" y="330"/>
                    </a:lnTo>
                    <a:lnTo>
                      <a:pt x="133" y="311"/>
                    </a:lnTo>
                    <a:lnTo>
                      <a:pt x="133" y="294"/>
                    </a:lnTo>
                    <a:lnTo>
                      <a:pt x="133" y="275"/>
                    </a:lnTo>
                    <a:lnTo>
                      <a:pt x="131" y="271"/>
                    </a:lnTo>
                    <a:lnTo>
                      <a:pt x="131" y="269"/>
                    </a:lnTo>
                    <a:lnTo>
                      <a:pt x="131" y="265"/>
                    </a:lnTo>
                    <a:lnTo>
                      <a:pt x="129" y="263"/>
                    </a:lnTo>
                    <a:lnTo>
                      <a:pt x="127" y="261"/>
                    </a:lnTo>
                    <a:lnTo>
                      <a:pt x="127" y="259"/>
                    </a:lnTo>
                    <a:lnTo>
                      <a:pt x="123" y="256"/>
                    </a:lnTo>
                    <a:lnTo>
                      <a:pt x="121" y="254"/>
                    </a:lnTo>
                    <a:lnTo>
                      <a:pt x="123" y="284"/>
                    </a:lnTo>
                    <a:lnTo>
                      <a:pt x="125" y="311"/>
                    </a:lnTo>
                    <a:lnTo>
                      <a:pt x="127" y="334"/>
                    </a:lnTo>
                    <a:lnTo>
                      <a:pt x="125" y="355"/>
                    </a:lnTo>
                    <a:lnTo>
                      <a:pt x="123" y="373"/>
                    </a:lnTo>
                    <a:lnTo>
                      <a:pt x="121" y="384"/>
                    </a:lnTo>
                    <a:lnTo>
                      <a:pt x="119" y="390"/>
                    </a:lnTo>
                    <a:lnTo>
                      <a:pt x="115" y="394"/>
                    </a:lnTo>
                    <a:lnTo>
                      <a:pt x="112" y="396"/>
                    </a:lnTo>
                    <a:lnTo>
                      <a:pt x="108" y="398"/>
                    </a:lnTo>
                    <a:lnTo>
                      <a:pt x="108" y="411"/>
                    </a:lnTo>
                    <a:lnTo>
                      <a:pt x="108" y="424"/>
                    </a:lnTo>
                    <a:lnTo>
                      <a:pt x="108" y="438"/>
                    </a:lnTo>
                    <a:lnTo>
                      <a:pt x="106" y="451"/>
                    </a:lnTo>
                    <a:lnTo>
                      <a:pt x="104" y="463"/>
                    </a:lnTo>
                    <a:lnTo>
                      <a:pt x="102" y="476"/>
                    </a:lnTo>
                    <a:lnTo>
                      <a:pt x="98" y="490"/>
                    </a:lnTo>
                    <a:lnTo>
                      <a:pt x="94" y="503"/>
                    </a:lnTo>
                    <a:lnTo>
                      <a:pt x="96" y="511"/>
                    </a:lnTo>
                    <a:lnTo>
                      <a:pt x="98" y="520"/>
                    </a:lnTo>
                    <a:lnTo>
                      <a:pt x="98" y="530"/>
                    </a:lnTo>
                    <a:lnTo>
                      <a:pt x="100" y="540"/>
                    </a:lnTo>
                    <a:lnTo>
                      <a:pt x="100" y="549"/>
                    </a:lnTo>
                    <a:lnTo>
                      <a:pt x="102" y="559"/>
                    </a:lnTo>
                    <a:lnTo>
                      <a:pt x="102" y="568"/>
                    </a:lnTo>
                    <a:lnTo>
                      <a:pt x="102" y="578"/>
                    </a:lnTo>
                    <a:lnTo>
                      <a:pt x="104" y="601"/>
                    </a:lnTo>
                    <a:lnTo>
                      <a:pt x="104" y="624"/>
                    </a:lnTo>
                    <a:lnTo>
                      <a:pt x="102" y="647"/>
                    </a:lnTo>
                    <a:lnTo>
                      <a:pt x="100" y="670"/>
                    </a:lnTo>
                    <a:lnTo>
                      <a:pt x="96" y="693"/>
                    </a:lnTo>
                    <a:lnTo>
                      <a:pt x="92" y="716"/>
                    </a:lnTo>
                    <a:lnTo>
                      <a:pt x="89" y="739"/>
                    </a:lnTo>
                    <a:lnTo>
                      <a:pt x="85" y="762"/>
                    </a:lnTo>
                    <a:lnTo>
                      <a:pt x="81" y="755"/>
                    </a:lnTo>
                    <a:lnTo>
                      <a:pt x="77" y="747"/>
                    </a:lnTo>
                    <a:lnTo>
                      <a:pt x="73" y="739"/>
                    </a:lnTo>
                    <a:lnTo>
                      <a:pt x="69" y="732"/>
                    </a:lnTo>
                    <a:lnTo>
                      <a:pt x="65" y="724"/>
                    </a:lnTo>
                    <a:lnTo>
                      <a:pt x="62" y="714"/>
                    </a:lnTo>
                    <a:lnTo>
                      <a:pt x="60" y="707"/>
                    </a:lnTo>
                    <a:lnTo>
                      <a:pt x="56" y="699"/>
                    </a:lnTo>
                    <a:lnTo>
                      <a:pt x="46" y="666"/>
                    </a:lnTo>
                    <a:lnTo>
                      <a:pt x="39" y="641"/>
                    </a:lnTo>
                    <a:lnTo>
                      <a:pt x="35" y="622"/>
                    </a:lnTo>
                    <a:lnTo>
                      <a:pt x="31" y="607"/>
                    </a:lnTo>
                    <a:lnTo>
                      <a:pt x="29" y="591"/>
                    </a:lnTo>
                    <a:lnTo>
                      <a:pt x="27" y="572"/>
                    </a:lnTo>
                    <a:lnTo>
                      <a:pt x="23" y="547"/>
                    </a:lnTo>
                    <a:lnTo>
                      <a:pt x="19" y="513"/>
                    </a:lnTo>
                    <a:lnTo>
                      <a:pt x="17" y="490"/>
                    </a:lnTo>
                    <a:lnTo>
                      <a:pt x="16" y="457"/>
                    </a:lnTo>
                    <a:lnTo>
                      <a:pt x="12" y="419"/>
                    </a:lnTo>
                    <a:lnTo>
                      <a:pt x="6" y="377"/>
                    </a:lnTo>
                    <a:lnTo>
                      <a:pt x="2" y="334"/>
                    </a:lnTo>
                    <a:lnTo>
                      <a:pt x="0" y="296"/>
                    </a:lnTo>
                    <a:lnTo>
                      <a:pt x="0" y="263"/>
                    </a:lnTo>
                    <a:lnTo>
                      <a:pt x="2" y="242"/>
                    </a:lnTo>
                    <a:lnTo>
                      <a:pt x="10" y="223"/>
                    </a:lnTo>
                    <a:lnTo>
                      <a:pt x="17" y="204"/>
                    </a:lnTo>
                    <a:lnTo>
                      <a:pt x="25" y="185"/>
                    </a:lnTo>
                    <a:lnTo>
                      <a:pt x="37" y="167"/>
                    </a:lnTo>
                    <a:lnTo>
                      <a:pt x="48" y="150"/>
                    </a:lnTo>
                    <a:lnTo>
                      <a:pt x="62" y="137"/>
                    </a:lnTo>
                    <a:lnTo>
                      <a:pt x="69" y="131"/>
                    </a:lnTo>
                    <a:lnTo>
                      <a:pt x="77" y="127"/>
                    </a:lnTo>
                    <a:lnTo>
                      <a:pt x="87" y="123"/>
                    </a:lnTo>
                    <a:lnTo>
                      <a:pt x="98" y="121"/>
                    </a:lnTo>
                    <a:lnTo>
                      <a:pt x="104" y="119"/>
                    </a:lnTo>
                    <a:lnTo>
                      <a:pt x="115" y="117"/>
                    </a:lnTo>
                    <a:lnTo>
                      <a:pt x="129" y="114"/>
                    </a:lnTo>
                    <a:lnTo>
                      <a:pt x="142" y="110"/>
                    </a:lnTo>
                    <a:lnTo>
                      <a:pt x="154" y="106"/>
                    </a:lnTo>
                    <a:lnTo>
                      <a:pt x="163" y="100"/>
                    </a:lnTo>
                    <a:lnTo>
                      <a:pt x="167" y="98"/>
                    </a:lnTo>
                    <a:lnTo>
                      <a:pt x="169" y="94"/>
                    </a:lnTo>
                    <a:lnTo>
                      <a:pt x="169" y="91"/>
                    </a:lnTo>
                    <a:lnTo>
                      <a:pt x="169" y="87"/>
                    </a:lnTo>
                    <a:lnTo>
                      <a:pt x="165" y="83"/>
                    </a:lnTo>
                    <a:lnTo>
                      <a:pt x="163" y="81"/>
                    </a:lnTo>
                    <a:lnTo>
                      <a:pt x="160" y="79"/>
                    </a:lnTo>
                    <a:lnTo>
                      <a:pt x="158" y="77"/>
                    </a:lnTo>
                    <a:lnTo>
                      <a:pt x="154" y="75"/>
                    </a:lnTo>
                    <a:lnTo>
                      <a:pt x="150" y="73"/>
                    </a:lnTo>
                    <a:lnTo>
                      <a:pt x="146" y="73"/>
                    </a:lnTo>
                    <a:lnTo>
                      <a:pt x="142" y="73"/>
                    </a:lnTo>
                    <a:lnTo>
                      <a:pt x="154" y="66"/>
                    </a:lnTo>
                    <a:lnTo>
                      <a:pt x="167" y="58"/>
                    </a:lnTo>
                    <a:lnTo>
                      <a:pt x="179" y="54"/>
                    </a:lnTo>
                    <a:lnTo>
                      <a:pt x="192" y="50"/>
                    </a:lnTo>
                    <a:lnTo>
                      <a:pt x="206" y="48"/>
                    </a:lnTo>
                    <a:lnTo>
                      <a:pt x="219" y="46"/>
                    </a:lnTo>
                    <a:lnTo>
                      <a:pt x="233" y="45"/>
                    </a:lnTo>
                    <a:lnTo>
                      <a:pt x="248" y="43"/>
                    </a:lnTo>
                    <a:lnTo>
                      <a:pt x="252" y="43"/>
                    </a:lnTo>
                    <a:lnTo>
                      <a:pt x="252" y="48"/>
                    </a:lnTo>
                    <a:lnTo>
                      <a:pt x="252" y="58"/>
                    </a:lnTo>
                    <a:lnTo>
                      <a:pt x="250" y="66"/>
                    </a:lnTo>
                    <a:lnTo>
                      <a:pt x="248" y="75"/>
                    </a:lnTo>
                    <a:lnTo>
                      <a:pt x="240" y="96"/>
                    </a:lnTo>
                    <a:lnTo>
                      <a:pt x="231" y="117"/>
                    </a:lnTo>
                    <a:lnTo>
                      <a:pt x="221" y="139"/>
                    </a:lnTo>
                    <a:lnTo>
                      <a:pt x="215" y="156"/>
                    </a:lnTo>
                    <a:lnTo>
                      <a:pt x="213" y="164"/>
                    </a:lnTo>
                    <a:lnTo>
                      <a:pt x="213" y="171"/>
                    </a:lnTo>
                    <a:lnTo>
                      <a:pt x="215" y="177"/>
                    </a:lnTo>
                    <a:lnTo>
                      <a:pt x="219" y="181"/>
                    </a:lnTo>
                    <a:close/>
                    <a:moveTo>
                      <a:pt x="548" y="244"/>
                    </a:moveTo>
                    <a:lnTo>
                      <a:pt x="544" y="261"/>
                    </a:lnTo>
                    <a:lnTo>
                      <a:pt x="540" y="269"/>
                    </a:lnTo>
                    <a:lnTo>
                      <a:pt x="538" y="271"/>
                    </a:lnTo>
                    <a:lnTo>
                      <a:pt x="536" y="269"/>
                    </a:lnTo>
                    <a:lnTo>
                      <a:pt x="534" y="265"/>
                    </a:lnTo>
                    <a:lnTo>
                      <a:pt x="534" y="267"/>
                    </a:lnTo>
                    <a:lnTo>
                      <a:pt x="538" y="273"/>
                    </a:lnTo>
                    <a:lnTo>
                      <a:pt x="542" y="290"/>
                    </a:lnTo>
                    <a:lnTo>
                      <a:pt x="544" y="304"/>
                    </a:lnTo>
                    <a:lnTo>
                      <a:pt x="544" y="315"/>
                    </a:lnTo>
                    <a:lnTo>
                      <a:pt x="542" y="329"/>
                    </a:lnTo>
                    <a:lnTo>
                      <a:pt x="540" y="340"/>
                    </a:lnTo>
                    <a:lnTo>
                      <a:pt x="534" y="365"/>
                    </a:lnTo>
                    <a:lnTo>
                      <a:pt x="524" y="390"/>
                    </a:lnTo>
                    <a:lnTo>
                      <a:pt x="517" y="413"/>
                    </a:lnTo>
                    <a:lnTo>
                      <a:pt x="509" y="438"/>
                    </a:lnTo>
                    <a:lnTo>
                      <a:pt x="507" y="449"/>
                    </a:lnTo>
                    <a:lnTo>
                      <a:pt x="505" y="463"/>
                    </a:lnTo>
                    <a:lnTo>
                      <a:pt x="505" y="474"/>
                    </a:lnTo>
                    <a:lnTo>
                      <a:pt x="507" y="486"/>
                    </a:lnTo>
                    <a:lnTo>
                      <a:pt x="509" y="488"/>
                    </a:lnTo>
                    <a:lnTo>
                      <a:pt x="513" y="490"/>
                    </a:lnTo>
                    <a:lnTo>
                      <a:pt x="515" y="492"/>
                    </a:lnTo>
                    <a:lnTo>
                      <a:pt x="517" y="494"/>
                    </a:lnTo>
                    <a:lnTo>
                      <a:pt x="519" y="495"/>
                    </a:lnTo>
                    <a:lnTo>
                      <a:pt x="521" y="497"/>
                    </a:lnTo>
                    <a:lnTo>
                      <a:pt x="523" y="499"/>
                    </a:lnTo>
                    <a:lnTo>
                      <a:pt x="524" y="503"/>
                    </a:lnTo>
                    <a:lnTo>
                      <a:pt x="548" y="532"/>
                    </a:lnTo>
                    <a:lnTo>
                      <a:pt x="569" y="563"/>
                    </a:lnTo>
                    <a:lnTo>
                      <a:pt x="586" y="595"/>
                    </a:lnTo>
                    <a:lnTo>
                      <a:pt x="599" y="628"/>
                    </a:lnTo>
                    <a:lnTo>
                      <a:pt x="607" y="645"/>
                    </a:lnTo>
                    <a:lnTo>
                      <a:pt x="611" y="662"/>
                    </a:lnTo>
                    <a:lnTo>
                      <a:pt x="615" y="682"/>
                    </a:lnTo>
                    <a:lnTo>
                      <a:pt x="619" y="699"/>
                    </a:lnTo>
                    <a:lnTo>
                      <a:pt x="621" y="716"/>
                    </a:lnTo>
                    <a:lnTo>
                      <a:pt x="621" y="735"/>
                    </a:lnTo>
                    <a:lnTo>
                      <a:pt x="619" y="755"/>
                    </a:lnTo>
                    <a:lnTo>
                      <a:pt x="617" y="772"/>
                    </a:lnTo>
                    <a:lnTo>
                      <a:pt x="617" y="776"/>
                    </a:lnTo>
                    <a:lnTo>
                      <a:pt x="615" y="778"/>
                    </a:lnTo>
                    <a:lnTo>
                      <a:pt x="613" y="778"/>
                    </a:lnTo>
                    <a:lnTo>
                      <a:pt x="613" y="779"/>
                    </a:lnTo>
                    <a:lnTo>
                      <a:pt x="611" y="781"/>
                    </a:lnTo>
                    <a:lnTo>
                      <a:pt x="609" y="781"/>
                    </a:lnTo>
                    <a:lnTo>
                      <a:pt x="607" y="783"/>
                    </a:lnTo>
                    <a:lnTo>
                      <a:pt x="603" y="783"/>
                    </a:lnTo>
                    <a:lnTo>
                      <a:pt x="582" y="793"/>
                    </a:lnTo>
                    <a:lnTo>
                      <a:pt x="559" y="801"/>
                    </a:lnTo>
                    <a:lnTo>
                      <a:pt x="536" y="806"/>
                    </a:lnTo>
                    <a:lnTo>
                      <a:pt x="515" y="814"/>
                    </a:lnTo>
                    <a:lnTo>
                      <a:pt x="492" y="820"/>
                    </a:lnTo>
                    <a:lnTo>
                      <a:pt x="469" y="827"/>
                    </a:lnTo>
                    <a:lnTo>
                      <a:pt x="448" y="835"/>
                    </a:lnTo>
                    <a:lnTo>
                      <a:pt x="427" y="847"/>
                    </a:lnTo>
                    <a:lnTo>
                      <a:pt x="415" y="849"/>
                    </a:lnTo>
                    <a:lnTo>
                      <a:pt x="405" y="850"/>
                    </a:lnTo>
                    <a:lnTo>
                      <a:pt x="394" y="852"/>
                    </a:lnTo>
                    <a:lnTo>
                      <a:pt x="384" y="854"/>
                    </a:lnTo>
                    <a:lnTo>
                      <a:pt x="373" y="856"/>
                    </a:lnTo>
                    <a:lnTo>
                      <a:pt x="363" y="858"/>
                    </a:lnTo>
                    <a:lnTo>
                      <a:pt x="352" y="860"/>
                    </a:lnTo>
                    <a:lnTo>
                      <a:pt x="342" y="862"/>
                    </a:lnTo>
                    <a:lnTo>
                      <a:pt x="344" y="852"/>
                    </a:lnTo>
                    <a:lnTo>
                      <a:pt x="348" y="841"/>
                    </a:lnTo>
                    <a:lnTo>
                      <a:pt x="352" y="831"/>
                    </a:lnTo>
                    <a:lnTo>
                      <a:pt x="354" y="820"/>
                    </a:lnTo>
                    <a:lnTo>
                      <a:pt x="355" y="810"/>
                    </a:lnTo>
                    <a:lnTo>
                      <a:pt x="357" y="801"/>
                    </a:lnTo>
                    <a:lnTo>
                      <a:pt x="357" y="789"/>
                    </a:lnTo>
                    <a:lnTo>
                      <a:pt x="355" y="778"/>
                    </a:lnTo>
                    <a:lnTo>
                      <a:pt x="355" y="770"/>
                    </a:lnTo>
                    <a:lnTo>
                      <a:pt x="355" y="762"/>
                    </a:lnTo>
                    <a:lnTo>
                      <a:pt x="355" y="755"/>
                    </a:lnTo>
                    <a:lnTo>
                      <a:pt x="354" y="747"/>
                    </a:lnTo>
                    <a:lnTo>
                      <a:pt x="354" y="737"/>
                    </a:lnTo>
                    <a:lnTo>
                      <a:pt x="354" y="730"/>
                    </a:lnTo>
                    <a:lnTo>
                      <a:pt x="352" y="722"/>
                    </a:lnTo>
                    <a:lnTo>
                      <a:pt x="352" y="714"/>
                    </a:lnTo>
                    <a:lnTo>
                      <a:pt x="354" y="630"/>
                    </a:lnTo>
                    <a:lnTo>
                      <a:pt x="355" y="547"/>
                    </a:lnTo>
                    <a:lnTo>
                      <a:pt x="357" y="465"/>
                    </a:lnTo>
                    <a:lnTo>
                      <a:pt x="357" y="382"/>
                    </a:lnTo>
                    <a:lnTo>
                      <a:pt x="359" y="300"/>
                    </a:lnTo>
                    <a:lnTo>
                      <a:pt x="363" y="215"/>
                    </a:lnTo>
                    <a:lnTo>
                      <a:pt x="367" y="133"/>
                    </a:lnTo>
                    <a:lnTo>
                      <a:pt x="375" y="50"/>
                    </a:lnTo>
                    <a:lnTo>
                      <a:pt x="375" y="48"/>
                    </a:lnTo>
                    <a:lnTo>
                      <a:pt x="375" y="45"/>
                    </a:lnTo>
                    <a:lnTo>
                      <a:pt x="375" y="43"/>
                    </a:lnTo>
                    <a:lnTo>
                      <a:pt x="375" y="41"/>
                    </a:lnTo>
                    <a:lnTo>
                      <a:pt x="375" y="39"/>
                    </a:lnTo>
                    <a:lnTo>
                      <a:pt x="377" y="35"/>
                    </a:lnTo>
                    <a:lnTo>
                      <a:pt x="377" y="33"/>
                    </a:lnTo>
                    <a:lnTo>
                      <a:pt x="377" y="31"/>
                    </a:lnTo>
                    <a:lnTo>
                      <a:pt x="384" y="25"/>
                    </a:lnTo>
                    <a:lnTo>
                      <a:pt x="396" y="20"/>
                    </a:lnTo>
                    <a:lnTo>
                      <a:pt x="409" y="14"/>
                    </a:lnTo>
                    <a:lnTo>
                      <a:pt x="423" y="8"/>
                    </a:lnTo>
                    <a:lnTo>
                      <a:pt x="436" y="4"/>
                    </a:lnTo>
                    <a:lnTo>
                      <a:pt x="450" y="2"/>
                    </a:lnTo>
                    <a:lnTo>
                      <a:pt x="461" y="0"/>
                    </a:lnTo>
                    <a:lnTo>
                      <a:pt x="473" y="2"/>
                    </a:lnTo>
                    <a:lnTo>
                      <a:pt x="469" y="6"/>
                    </a:lnTo>
                    <a:lnTo>
                      <a:pt x="467" y="10"/>
                    </a:lnTo>
                    <a:lnTo>
                      <a:pt x="463" y="14"/>
                    </a:lnTo>
                    <a:lnTo>
                      <a:pt x="459" y="20"/>
                    </a:lnTo>
                    <a:lnTo>
                      <a:pt x="455" y="25"/>
                    </a:lnTo>
                    <a:lnTo>
                      <a:pt x="453" y="29"/>
                    </a:lnTo>
                    <a:lnTo>
                      <a:pt x="452" y="35"/>
                    </a:lnTo>
                    <a:lnTo>
                      <a:pt x="450" y="39"/>
                    </a:lnTo>
                    <a:lnTo>
                      <a:pt x="453" y="41"/>
                    </a:lnTo>
                    <a:lnTo>
                      <a:pt x="459" y="43"/>
                    </a:lnTo>
                    <a:lnTo>
                      <a:pt x="463" y="43"/>
                    </a:lnTo>
                    <a:lnTo>
                      <a:pt x="469" y="43"/>
                    </a:lnTo>
                    <a:lnTo>
                      <a:pt x="473" y="45"/>
                    </a:lnTo>
                    <a:lnTo>
                      <a:pt x="478" y="45"/>
                    </a:lnTo>
                    <a:lnTo>
                      <a:pt x="482" y="45"/>
                    </a:lnTo>
                    <a:lnTo>
                      <a:pt x="488" y="45"/>
                    </a:lnTo>
                    <a:lnTo>
                      <a:pt x="507" y="48"/>
                    </a:lnTo>
                    <a:lnTo>
                      <a:pt x="528" y="56"/>
                    </a:lnTo>
                    <a:lnTo>
                      <a:pt x="549" y="66"/>
                    </a:lnTo>
                    <a:lnTo>
                      <a:pt x="572" y="79"/>
                    </a:lnTo>
                    <a:lnTo>
                      <a:pt x="592" y="93"/>
                    </a:lnTo>
                    <a:lnTo>
                      <a:pt x="611" y="110"/>
                    </a:lnTo>
                    <a:lnTo>
                      <a:pt x="619" y="117"/>
                    </a:lnTo>
                    <a:lnTo>
                      <a:pt x="624" y="127"/>
                    </a:lnTo>
                    <a:lnTo>
                      <a:pt x="630" y="135"/>
                    </a:lnTo>
                    <a:lnTo>
                      <a:pt x="634" y="144"/>
                    </a:lnTo>
                    <a:lnTo>
                      <a:pt x="645" y="164"/>
                    </a:lnTo>
                    <a:lnTo>
                      <a:pt x="657" y="177"/>
                    </a:lnTo>
                    <a:lnTo>
                      <a:pt x="665" y="188"/>
                    </a:lnTo>
                    <a:lnTo>
                      <a:pt x="674" y="200"/>
                    </a:lnTo>
                    <a:lnTo>
                      <a:pt x="680" y="213"/>
                    </a:lnTo>
                    <a:lnTo>
                      <a:pt x="686" y="225"/>
                    </a:lnTo>
                    <a:lnTo>
                      <a:pt x="690" y="240"/>
                    </a:lnTo>
                    <a:lnTo>
                      <a:pt x="692" y="254"/>
                    </a:lnTo>
                    <a:lnTo>
                      <a:pt x="695" y="271"/>
                    </a:lnTo>
                    <a:lnTo>
                      <a:pt x="703" y="304"/>
                    </a:lnTo>
                    <a:lnTo>
                      <a:pt x="711" y="329"/>
                    </a:lnTo>
                    <a:lnTo>
                      <a:pt x="717" y="350"/>
                    </a:lnTo>
                    <a:lnTo>
                      <a:pt x="722" y="367"/>
                    </a:lnTo>
                    <a:lnTo>
                      <a:pt x="730" y="386"/>
                    </a:lnTo>
                    <a:lnTo>
                      <a:pt x="736" y="405"/>
                    </a:lnTo>
                    <a:lnTo>
                      <a:pt x="745" y="430"/>
                    </a:lnTo>
                    <a:lnTo>
                      <a:pt x="755" y="463"/>
                    </a:lnTo>
                    <a:lnTo>
                      <a:pt x="759" y="484"/>
                    </a:lnTo>
                    <a:lnTo>
                      <a:pt x="761" y="520"/>
                    </a:lnTo>
                    <a:lnTo>
                      <a:pt x="761" y="568"/>
                    </a:lnTo>
                    <a:lnTo>
                      <a:pt x="763" y="620"/>
                    </a:lnTo>
                    <a:lnTo>
                      <a:pt x="763" y="674"/>
                    </a:lnTo>
                    <a:lnTo>
                      <a:pt x="765" y="722"/>
                    </a:lnTo>
                    <a:lnTo>
                      <a:pt x="765" y="758"/>
                    </a:lnTo>
                    <a:lnTo>
                      <a:pt x="765" y="779"/>
                    </a:lnTo>
                    <a:lnTo>
                      <a:pt x="757" y="783"/>
                    </a:lnTo>
                    <a:lnTo>
                      <a:pt x="747" y="787"/>
                    </a:lnTo>
                    <a:lnTo>
                      <a:pt x="738" y="789"/>
                    </a:lnTo>
                    <a:lnTo>
                      <a:pt x="728" y="791"/>
                    </a:lnTo>
                    <a:lnTo>
                      <a:pt x="709" y="789"/>
                    </a:lnTo>
                    <a:lnTo>
                      <a:pt x="690" y="787"/>
                    </a:lnTo>
                    <a:lnTo>
                      <a:pt x="670" y="783"/>
                    </a:lnTo>
                    <a:lnTo>
                      <a:pt x="655" y="779"/>
                    </a:lnTo>
                    <a:lnTo>
                      <a:pt x="640" y="776"/>
                    </a:lnTo>
                    <a:lnTo>
                      <a:pt x="630" y="776"/>
                    </a:lnTo>
                    <a:lnTo>
                      <a:pt x="632" y="741"/>
                    </a:lnTo>
                    <a:lnTo>
                      <a:pt x="634" y="701"/>
                    </a:lnTo>
                    <a:lnTo>
                      <a:pt x="636" y="659"/>
                    </a:lnTo>
                    <a:lnTo>
                      <a:pt x="638" y="614"/>
                    </a:lnTo>
                    <a:lnTo>
                      <a:pt x="638" y="572"/>
                    </a:lnTo>
                    <a:lnTo>
                      <a:pt x="638" y="530"/>
                    </a:lnTo>
                    <a:lnTo>
                      <a:pt x="636" y="492"/>
                    </a:lnTo>
                    <a:lnTo>
                      <a:pt x="630" y="457"/>
                    </a:lnTo>
                    <a:lnTo>
                      <a:pt x="619" y="419"/>
                    </a:lnTo>
                    <a:lnTo>
                      <a:pt x="607" y="390"/>
                    </a:lnTo>
                    <a:lnTo>
                      <a:pt x="596" y="369"/>
                    </a:lnTo>
                    <a:lnTo>
                      <a:pt x="586" y="352"/>
                    </a:lnTo>
                    <a:lnTo>
                      <a:pt x="576" y="332"/>
                    </a:lnTo>
                    <a:lnTo>
                      <a:pt x="567" y="311"/>
                    </a:lnTo>
                    <a:lnTo>
                      <a:pt x="557" y="282"/>
                    </a:lnTo>
                    <a:lnTo>
                      <a:pt x="548" y="244"/>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856120" y="2450520"/>
                <a:ext cx="420480" cy="1143000"/>
              </a:xfrm>
              <a:custGeom>
                <a:avLst/>
                <a:gdLst/>
                <a:ahLst/>
                <a:rect l="l" t="t" r="r" b="b"/>
                <a:pathLst>
                  <a:path w="292" h="875">
                    <a:moveTo>
                      <a:pt x="219" y="138"/>
                    </a:moveTo>
                    <a:lnTo>
                      <a:pt x="229" y="178"/>
                    </a:lnTo>
                    <a:lnTo>
                      <a:pt x="236" y="218"/>
                    </a:lnTo>
                    <a:lnTo>
                      <a:pt x="244" y="259"/>
                    </a:lnTo>
                    <a:lnTo>
                      <a:pt x="250" y="301"/>
                    </a:lnTo>
                    <a:lnTo>
                      <a:pt x="256" y="341"/>
                    </a:lnTo>
                    <a:lnTo>
                      <a:pt x="261" y="383"/>
                    </a:lnTo>
                    <a:lnTo>
                      <a:pt x="267" y="424"/>
                    </a:lnTo>
                    <a:lnTo>
                      <a:pt x="271" y="466"/>
                    </a:lnTo>
                    <a:lnTo>
                      <a:pt x="275" y="499"/>
                    </a:lnTo>
                    <a:lnTo>
                      <a:pt x="277" y="531"/>
                    </a:lnTo>
                    <a:lnTo>
                      <a:pt x="281" y="564"/>
                    </a:lnTo>
                    <a:lnTo>
                      <a:pt x="284" y="596"/>
                    </a:lnTo>
                    <a:lnTo>
                      <a:pt x="286" y="629"/>
                    </a:lnTo>
                    <a:lnTo>
                      <a:pt x="288" y="662"/>
                    </a:lnTo>
                    <a:lnTo>
                      <a:pt x="290" y="694"/>
                    </a:lnTo>
                    <a:lnTo>
                      <a:pt x="290" y="727"/>
                    </a:lnTo>
                    <a:lnTo>
                      <a:pt x="290" y="738"/>
                    </a:lnTo>
                    <a:lnTo>
                      <a:pt x="292" y="748"/>
                    </a:lnTo>
                    <a:lnTo>
                      <a:pt x="292" y="760"/>
                    </a:lnTo>
                    <a:lnTo>
                      <a:pt x="292" y="771"/>
                    </a:lnTo>
                    <a:lnTo>
                      <a:pt x="290" y="781"/>
                    </a:lnTo>
                    <a:lnTo>
                      <a:pt x="290" y="792"/>
                    </a:lnTo>
                    <a:lnTo>
                      <a:pt x="286" y="802"/>
                    </a:lnTo>
                    <a:lnTo>
                      <a:pt x="284" y="813"/>
                    </a:lnTo>
                    <a:lnTo>
                      <a:pt x="284" y="817"/>
                    </a:lnTo>
                    <a:lnTo>
                      <a:pt x="282" y="823"/>
                    </a:lnTo>
                    <a:lnTo>
                      <a:pt x="282" y="829"/>
                    </a:lnTo>
                    <a:lnTo>
                      <a:pt x="281" y="832"/>
                    </a:lnTo>
                    <a:lnTo>
                      <a:pt x="281" y="838"/>
                    </a:lnTo>
                    <a:lnTo>
                      <a:pt x="281" y="844"/>
                    </a:lnTo>
                    <a:lnTo>
                      <a:pt x="279" y="850"/>
                    </a:lnTo>
                    <a:lnTo>
                      <a:pt x="279" y="854"/>
                    </a:lnTo>
                    <a:lnTo>
                      <a:pt x="258" y="857"/>
                    </a:lnTo>
                    <a:lnTo>
                      <a:pt x="236" y="863"/>
                    </a:lnTo>
                    <a:lnTo>
                      <a:pt x="217" y="867"/>
                    </a:lnTo>
                    <a:lnTo>
                      <a:pt x="196" y="871"/>
                    </a:lnTo>
                    <a:lnTo>
                      <a:pt x="175" y="873"/>
                    </a:lnTo>
                    <a:lnTo>
                      <a:pt x="154" y="875"/>
                    </a:lnTo>
                    <a:lnTo>
                      <a:pt x="133" y="875"/>
                    </a:lnTo>
                    <a:lnTo>
                      <a:pt x="112" y="875"/>
                    </a:lnTo>
                    <a:lnTo>
                      <a:pt x="106" y="873"/>
                    </a:lnTo>
                    <a:lnTo>
                      <a:pt x="100" y="873"/>
                    </a:lnTo>
                    <a:lnTo>
                      <a:pt x="94" y="871"/>
                    </a:lnTo>
                    <a:lnTo>
                      <a:pt x="89" y="869"/>
                    </a:lnTo>
                    <a:lnTo>
                      <a:pt x="83" y="867"/>
                    </a:lnTo>
                    <a:lnTo>
                      <a:pt x="79" y="863"/>
                    </a:lnTo>
                    <a:lnTo>
                      <a:pt x="73" y="861"/>
                    </a:lnTo>
                    <a:lnTo>
                      <a:pt x="67" y="859"/>
                    </a:lnTo>
                    <a:lnTo>
                      <a:pt x="71" y="832"/>
                    </a:lnTo>
                    <a:lnTo>
                      <a:pt x="75" y="806"/>
                    </a:lnTo>
                    <a:lnTo>
                      <a:pt x="79" y="781"/>
                    </a:lnTo>
                    <a:lnTo>
                      <a:pt x="81" y="754"/>
                    </a:lnTo>
                    <a:lnTo>
                      <a:pt x="85" y="729"/>
                    </a:lnTo>
                    <a:lnTo>
                      <a:pt x="89" y="702"/>
                    </a:lnTo>
                    <a:lnTo>
                      <a:pt x="92" y="677"/>
                    </a:lnTo>
                    <a:lnTo>
                      <a:pt x="98" y="650"/>
                    </a:lnTo>
                    <a:lnTo>
                      <a:pt x="100" y="631"/>
                    </a:lnTo>
                    <a:lnTo>
                      <a:pt x="102" y="612"/>
                    </a:lnTo>
                    <a:lnTo>
                      <a:pt x="106" y="594"/>
                    </a:lnTo>
                    <a:lnTo>
                      <a:pt x="110" y="575"/>
                    </a:lnTo>
                    <a:lnTo>
                      <a:pt x="113" y="556"/>
                    </a:lnTo>
                    <a:lnTo>
                      <a:pt x="115" y="537"/>
                    </a:lnTo>
                    <a:lnTo>
                      <a:pt x="117" y="518"/>
                    </a:lnTo>
                    <a:lnTo>
                      <a:pt x="117" y="499"/>
                    </a:lnTo>
                    <a:lnTo>
                      <a:pt x="119" y="483"/>
                    </a:lnTo>
                    <a:lnTo>
                      <a:pt x="117" y="468"/>
                    </a:lnTo>
                    <a:lnTo>
                      <a:pt x="117" y="452"/>
                    </a:lnTo>
                    <a:lnTo>
                      <a:pt x="117" y="437"/>
                    </a:lnTo>
                    <a:lnTo>
                      <a:pt x="117" y="422"/>
                    </a:lnTo>
                    <a:lnTo>
                      <a:pt x="119" y="408"/>
                    </a:lnTo>
                    <a:lnTo>
                      <a:pt x="125" y="393"/>
                    </a:lnTo>
                    <a:lnTo>
                      <a:pt x="133" y="380"/>
                    </a:lnTo>
                    <a:lnTo>
                      <a:pt x="133" y="362"/>
                    </a:lnTo>
                    <a:lnTo>
                      <a:pt x="133" y="343"/>
                    </a:lnTo>
                    <a:lnTo>
                      <a:pt x="131" y="324"/>
                    </a:lnTo>
                    <a:lnTo>
                      <a:pt x="131" y="307"/>
                    </a:lnTo>
                    <a:lnTo>
                      <a:pt x="133" y="287"/>
                    </a:lnTo>
                    <a:lnTo>
                      <a:pt x="133" y="268"/>
                    </a:lnTo>
                    <a:lnTo>
                      <a:pt x="133" y="251"/>
                    </a:lnTo>
                    <a:lnTo>
                      <a:pt x="133" y="232"/>
                    </a:lnTo>
                    <a:lnTo>
                      <a:pt x="131" y="228"/>
                    </a:lnTo>
                    <a:lnTo>
                      <a:pt x="131" y="226"/>
                    </a:lnTo>
                    <a:lnTo>
                      <a:pt x="131" y="222"/>
                    </a:lnTo>
                    <a:lnTo>
                      <a:pt x="129" y="220"/>
                    </a:lnTo>
                    <a:lnTo>
                      <a:pt x="127" y="218"/>
                    </a:lnTo>
                    <a:lnTo>
                      <a:pt x="127" y="216"/>
                    </a:lnTo>
                    <a:lnTo>
                      <a:pt x="123" y="213"/>
                    </a:lnTo>
                    <a:lnTo>
                      <a:pt x="121" y="211"/>
                    </a:lnTo>
                    <a:lnTo>
                      <a:pt x="123" y="241"/>
                    </a:lnTo>
                    <a:lnTo>
                      <a:pt x="125" y="268"/>
                    </a:lnTo>
                    <a:lnTo>
                      <a:pt x="127" y="291"/>
                    </a:lnTo>
                    <a:lnTo>
                      <a:pt x="125" y="312"/>
                    </a:lnTo>
                    <a:lnTo>
                      <a:pt x="123" y="330"/>
                    </a:lnTo>
                    <a:lnTo>
                      <a:pt x="121" y="341"/>
                    </a:lnTo>
                    <a:lnTo>
                      <a:pt x="119" y="347"/>
                    </a:lnTo>
                    <a:lnTo>
                      <a:pt x="115" y="351"/>
                    </a:lnTo>
                    <a:lnTo>
                      <a:pt x="112" y="353"/>
                    </a:lnTo>
                    <a:lnTo>
                      <a:pt x="108" y="355"/>
                    </a:lnTo>
                    <a:lnTo>
                      <a:pt x="108" y="368"/>
                    </a:lnTo>
                    <a:lnTo>
                      <a:pt x="108" y="381"/>
                    </a:lnTo>
                    <a:lnTo>
                      <a:pt x="108" y="395"/>
                    </a:lnTo>
                    <a:lnTo>
                      <a:pt x="106" y="408"/>
                    </a:lnTo>
                    <a:lnTo>
                      <a:pt x="104" y="420"/>
                    </a:lnTo>
                    <a:lnTo>
                      <a:pt x="102" y="433"/>
                    </a:lnTo>
                    <a:lnTo>
                      <a:pt x="98" y="447"/>
                    </a:lnTo>
                    <a:lnTo>
                      <a:pt x="94" y="460"/>
                    </a:lnTo>
                    <a:lnTo>
                      <a:pt x="96" y="468"/>
                    </a:lnTo>
                    <a:lnTo>
                      <a:pt x="98" y="477"/>
                    </a:lnTo>
                    <a:lnTo>
                      <a:pt x="98" y="487"/>
                    </a:lnTo>
                    <a:lnTo>
                      <a:pt x="100" y="497"/>
                    </a:lnTo>
                    <a:lnTo>
                      <a:pt x="100" y="506"/>
                    </a:lnTo>
                    <a:lnTo>
                      <a:pt x="102" y="516"/>
                    </a:lnTo>
                    <a:lnTo>
                      <a:pt x="102" y="525"/>
                    </a:lnTo>
                    <a:lnTo>
                      <a:pt x="102" y="535"/>
                    </a:lnTo>
                    <a:lnTo>
                      <a:pt x="104" y="558"/>
                    </a:lnTo>
                    <a:lnTo>
                      <a:pt x="104" y="581"/>
                    </a:lnTo>
                    <a:lnTo>
                      <a:pt x="102" y="604"/>
                    </a:lnTo>
                    <a:lnTo>
                      <a:pt x="100" y="627"/>
                    </a:lnTo>
                    <a:lnTo>
                      <a:pt x="96" y="650"/>
                    </a:lnTo>
                    <a:lnTo>
                      <a:pt x="92" y="673"/>
                    </a:lnTo>
                    <a:lnTo>
                      <a:pt x="89" y="696"/>
                    </a:lnTo>
                    <a:lnTo>
                      <a:pt x="85" y="719"/>
                    </a:lnTo>
                    <a:lnTo>
                      <a:pt x="81" y="712"/>
                    </a:lnTo>
                    <a:lnTo>
                      <a:pt x="77" y="704"/>
                    </a:lnTo>
                    <a:lnTo>
                      <a:pt x="73" y="696"/>
                    </a:lnTo>
                    <a:lnTo>
                      <a:pt x="69" y="689"/>
                    </a:lnTo>
                    <a:lnTo>
                      <a:pt x="65" y="681"/>
                    </a:lnTo>
                    <a:lnTo>
                      <a:pt x="62" y="671"/>
                    </a:lnTo>
                    <a:lnTo>
                      <a:pt x="60" y="664"/>
                    </a:lnTo>
                    <a:lnTo>
                      <a:pt x="56" y="656"/>
                    </a:lnTo>
                    <a:lnTo>
                      <a:pt x="46" y="623"/>
                    </a:lnTo>
                    <a:lnTo>
                      <a:pt x="39" y="598"/>
                    </a:lnTo>
                    <a:lnTo>
                      <a:pt x="35" y="579"/>
                    </a:lnTo>
                    <a:lnTo>
                      <a:pt x="31" y="564"/>
                    </a:lnTo>
                    <a:lnTo>
                      <a:pt x="29" y="548"/>
                    </a:lnTo>
                    <a:lnTo>
                      <a:pt x="27" y="529"/>
                    </a:lnTo>
                    <a:lnTo>
                      <a:pt x="23" y="504"/>
                    </a:lnTo>
                    <a:lnTo>
                      <a:pt x="19" y="470"/>
                    </a:lnTo>
                    <a:lnTo>
                      <a:pt x="17" y="447"/>
                    </a:lnTo>
                    <a:lnTo>
                      <a:pt x="16" y="414"/>
                    </a:lnTo>
                    <a:lnTo>
                      <a:pt x="12" y="376"/>
                    </a:lnTo>
                    <a:lnTo>
                      <a:pt x="6" y="334"/>
                    </a:lnTo>
                    <a:lnTo>
                      <a:pt x="2" y="291"/>
                    </a:lnTo>
                    <a:lnTo>
                      <a:pt x="0" y="253"/>
                    </a:lnTo>
                    <a:lnTo>
                      <a:pt x="0" y="220"/>
                    </a:lnTo>
                    <a:lnTo>
                      <a:pt x="2" y="199"/>
                    </a:lnTo>
                    <a:lnTo>
                      <a:pt x="10" y="180"/>
                    </a:lnTo>
                    <a:lnTo>
                      <a:pt x="17" y="161"/>
                    </a:lnTo>
                    <a:lnTo>
                      <a:pt x="25" y="142"/>
                    </a:lnTo>
                    <a:lnTo>
                      <a:pt x="37" y="124"/>
                    </a:lnTo>
                    <a:lnTo>
                      <a:pt x="48" y="107"/>
                    </a:lnTo>
                    <a:lnTo>
                      <a:pt x="62" y="94"/>
                    </a:lnTo>
                    <a:lnTo>
                      <a:pt x="69" y="88"/>
                    </a:lnTo>
                    <a:lnTo>
                      <a:pt x="77" y="84"/>
                    </a:lnTo>
                    <a:lnTo>
                      <a:pt x="87" y="80"/>
                    </a:lnTo>
                    <a:lnTo>
                      <a:pt x="98" y="78"/>
                    </a:lnTo>
                    <a:lnTo>
                      <a:pt x="104" y="76"/>
                    </a:lnTo>
                    <a:lnTo>
                      <a:pt x="115" y="74"/>
                    </a:lnTo>
                    <a:lnTo>
                      <a:pt x="129" y="71"/>
                    </a:lnTo>
                    <a:lnTo>
                      <a:pt x="142" y="67"/>
                    </a:lnTo>
                    <a:lnTo>
                      <a:pt x="154" y="63"/>
                    </a:lnTo>
                    <a:lnTo>
                      <a:pt x="163" y="57"/>
                    </a:lnTo>
                    <a:lnTo>
                      <a:pt x="167" y="55"/>
                    </a:lnTo>
                    <a:lnTo>
                      <a:pt x="169" y="51"/>
                    </a:lnTo>
                    <a:lnTo>
                      <a:pt x="169" y="48"/>
                    </a:lnTo>
                    <a:lnTo>
                      <a:pt x="169" y="44"/>
                    </a:lnTo>
                    <a:lnTo>
                      <a:pt x="165" y="40"/>
                    </a:lnTo>
                    <a:lnTo>
                      <a:pt x="163" y="38"/>
                    </a:lnTo>
                    <a:lnTo>
                      <a:pt x="160" y="36"/>
                    </a:lnTo>
                    <a:lnTo>
                      <a:pt x="158" y="34"/>
                    </a:lnTo>
                    <a:lnTo>
                      <a:pt x="154" y="32"/>
                    </a:lnTo>
                    <a:lnTo>
                      <a:pt x="150" y="30"/>
                    </a:lnTo>
                    <a:lnTo>
                      <a:pt x="146" y="30"/>
                    </a:lnTo>
                    <a:lnTo>
                      <a:pt x="142" y="30"/>
                    </a:lnTo>
                    <a:lnTo>
                      <a:pt x="154" y="23"/>
                    </a:lnTo>
                    <a:lnTo>
                      <a:pt x="167" y="15"/>
                    </a:lnTo>
                    <a:lnTo>
                      <a:pt x="179" y="11"/>
                    </a:lnTo>
                    <a:lnTo>
                      <a:pt x="192" y="7"/>
                    </a:lnTo>
                    <a:lnTo>
                      <a:pt x="206" y="5"/>
                    </a:lnTo>
                    <a:lnTo>
                      <a:pt x="219" y="3"/>
                    </a:lnTo>
                    <a:lnTo>
                      <a:pt x="233" y="2"/>
                    </a:lnTo>
                    <a:lnTo>
                      <a:pt x="248" y="0"/>
                    </a:lnTo>
                    <a:lnTo>
                      <a:pt x="252" y="0"/>
                    </a:lnTo>
                    <a:lnTo>
                      <a:pt x="252" y="5"/>
                    </a:lnTo>
                    <a:lnTo>
                      <a:pt x="252" y="15"/>
                    </a:lnTo>
                    <a:lnTo>
                      <a:pt x="250" y="23"/>
                    </a:lnTo>
                    <a:lnTo>
                      <a:pt x="248" y="32"/>
                    </a:lnTo>
                    <a:lnTo>
                      <a:pt x="240" y="53"/>
                    </a:lnTo>
                    <a:lnTo>
                      <a:pt x="231" y="74"/>
                    </a:lnTo>
                    <a:lnTo>
                      <a:pt x="221" y="96"/>
                    </a:lnTo>
                    <a:lnTo>
                      <a:pt x="215" y="113"/>
                    </a:lnTo>
                    <a:lnTo>
                      <a:pt x="213" y="121"/>
                    </a:lnTo>
                    <a:lnTo>
                      <a:pt x="213" y="128"/>
                    </a:lnTo>
                    <a:lnTo>
                      <a:pt x="215" y="134"/>
                    </a:lnTo>
                    <a:lnTo>
                      <a:pt x="219"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6348240" y="2393640"/>
                <a:ext cx="607680" cy="1125360"/>
              </a:xfrm>
              <a:custGeom>
                <a:avLst/>
                <a:gdLst/>
                <a:ahLst/>
                <a:rect l="l" t="t" r="r" b="b"/>
                <a:pathLst>
                  <a:path w="423" h="862">
                    <a:moveTo>
                      <a:pt x="206" y="244"/>
                    </a:moveTo>
                    <a:lnTo>
                      <a:pt x="202" y="261"/>
                    </a:lnTo>
                    <a:lnTo>
                      <a:pt x="198" y="269"/>
                    </a:lnTo>
                    <a:lnTo>
                      <a:pt x="196" y="271"/>
                    </a:lnTo>
                    <a:lnTo>
                      <a:pt x="194" y="269"/>
                    </a:lnTo>
                    <a:lnTo>
                      <a:pt x="192" y="265"/>
                    </a:lnTo>
                    <a:lnTo>
                      <a:pt x="192" y="267"/>
                    </a:lnTo>
                    <a:lnTo>
                      <a:pt x="196" y="273"/>
                    </a:lnTo>
                    <a:lnTo>
                      <a:pt x="200" y="290"/>
                    </a:lnTo>
                    <a:lnTo>
                      <a:pt x="202" y="304"/>
                    </a:lnTo>
                    <a:lnTo>
                      <a:pt x="202" y="315"/>
                    </a:lnTo>
                    <a:lnTo>
                      <a:pt x="200" y="329"/>
                    </a:lnTo>
                    <a:lnTo>
                      <a:pt x="198" y="340"/>
                    </a:lnTo>
                    <a:lnTo>
                      <a:pt x="192" y="365"/>
                    </a:lnTo>
                    <a:lnTo>
                      <a:pt x="182" y="390"/>
                    </a:lnTo>
                    <a:lnTo>
                      <a:pt x="175" y="413"/>
                    </a:lnTo>
                    <a:lnTo>
                      <a:pt x="167" y="438"/>
                    </a:lnTo>
                    <a:lnTo>
                      <a:pt x="165" y="449"/>
                    </a:lnTo>
                    <a:lnTo>
                      <a:pt x="163" y="463"/>
                    </a:lnTo>
                    <a:lnTo>
                      <a:pt x="163" y="474"/>
                    </a:lnTo>
                    <a:lnTo>
                      <a:pt x="165" y="486"/>
                    </a:lnTo>
                    <a:lnTo>
                      <a:pt x="167" y="488"/>
                    </a:lnTo>
                    <a:lnTo>
                      <a:pt x="171" y="490"/>
                    </a:lnTo>
                    <a:lnTo>
                      <a:pt x="173" y="492"/>
                    </a:lnTo>
                    <a:lnTo>
                      <a:pt x="175" y="494"/>
                    </a:lnTo>
                    <a:lnTo>
                      <a:pt x="177" y="495"/>
                    </a:lnTo>
                    <a:lnTo>
                      <a:pt x="179" y="497"/>
                    </a:lnTo>
                    <a:lnTo>
                      <a:pt x="181" y="499"/>
                    </a:lnTo>
                    <a:lnTo>
                      <a:pt x="182" y="503"/>
                    </a:lnTo>
                    <a:lnTo>
                      <a:pt x="206" y="532"/>
                    </a:lnTo>
                    <a:lnTo>
                      <a:pt x="227" y="563"/>
                    </a:lnTo>
                    <a:lnTo>
                      <a:pt x="244" y="595"/>
                    </a:lnTo>
                    <a:lnTo>
                      <a:pt x="257" y="628"/>
                    </a:lnTo>
                    <a:lnTo>
                      <a:pt x="265" y="645"/>
                    </a:lnTo>
                    <a:lnTo>
                      <a:pt x="269" y="662"/>
                    </a:lnTo>
                    <a:lnTo>
                      <a:pt x="273" y="682"/>
                    </a:lnTo>
                    <a:lnTo>
                      <a:pt x="277" y="699"/>
                    </a:lnTo>
                    <a:lnTo>
                      <a:pt x="279" y="716"/>
                    </a:lnTo>
                    <a:lnTo>
                      <a:pt x="279" y="735"/>
                    </a:lnTo>
                    <a:lnTo>
                      <a:pt x="277" y="755"/>
                    </a:lnTo>
                    <a:lnTo>
                      <a:pt x="275" y="772"/>
                    </a:lnTo>
                    <a:lnTo>
                      <a:pt x="275" y="776"/>
                    </a:lnTo>
                    <a:lnTo>
                      <a:pt x="273" y="778"/>
                    </a:lnTo>
                    <a:lnTo>
                      <a:pt x="271" y="778"/>
                    </a:lnTo>
                    <a:lnTo>
                      <a:pt x="271" y="779"/>
                    </a:lnTo>
                    <a:lnTo>
                      <a:pt x="269" y="781"/>
                    </a:lnTo>
                    <a:lnTo>
                      <a:pt x="267" y="781"/>
                    </a:lnTo>
                    <a:lnTo>
                      <a:pt x="265" y="783"/>
                    </a:lnTo>
                    <a:lnTo>
                      <a:pt x="261" y="783"/>
                    </a:lnTo>
                    <a:lnTo>
                      <a:pt x="240" y="793"/>
                    </a:lnTo>
                    <a:lnTo>
                      <a:pt x="217" y="801"/>
                    </a:lnTo>
                    <a:lnTo>
                      <a:pt x="194" y="806"/>
                    </a:lnTo>
                    <a:lnTo>
                      <a:pt x="173" y="814"/>
                    </a:lnTo>
                    <a:lnTo>
                      <a:pt x="150" y="820"/>
                    </a:lnTo>
                    <a:lnTo>
                      <a:pt x="127" y="827"/>
                    </a:lnTo>
                    <a:lnTo>
                      <a:pt x="106" y="835"/>
                    </a:lnTo>
                    <a:lnTo>
                      <a:pt x="85" y="847"/>
                    </a:lnTo>
                    <a:lnTo>
                      <a:pt x="73" y="849"/>
                    </a:lnTo>
                    <a:lnTo>
                      <a:pt x="63" y="850"/>
                    </a:lnTo>
                    <a:lnTo>
                      <a:pt x="52" y="852"/>
                    </a:lnTo>
                    <a:lnTo>
                      <a:pt x="42" y="854"/>
                    </a:lnTo>
                    <a:lnTo>
                      <a:pt x="31" y="856"/>
                    </a:lnTo>
                    <a:lnTo>
                      <a:pt x="21" y="858"/>
                    </a:lnTo>
                    <a:lnTo>
                      <a:pt x="10" y="860"/>
                    </a:lnTo>
                    <a:lnTo>
                      <a:pt x="0" y="862"/>
                    </a:lnTo>
                    <a:lnTo>
                      <a:pt x="2" y="852"/>
                    </a:lnTo>
                    <a:lnTo>
                      <a:pt x="6" y="841"/>
                    </a:lnTo>
                    <a:lnTo>
                      <a:pt x="10" y="831"/>
                    </a:lnTo>
                    <a:lnTo>
                      <a:pt x="12" y="820"/>
                    </a:lnTo>
                    <a:lnTo>
                      <a:pt x="13" y="810"/>
                    </a:lnTo>
                    <a:lnTo>
                      <a:pt x="15" y="801"/>
                    </a:lnTo>
                    <a:lnTo>
                      <a:pt x="15" y="789"/>
                    </a:lnTo>
                    <a:lnTo>
                      <a:pt x="13" y="778"/>
                    </a:lnTo>
                    <a:lnTo>
                      <a:pt x="13" y="770"/>
                    </a:lnTo>
                    <a:lnTo>
                      <a:pt x="13" y="762"/>
                    </a:lnTo>
                    <a:lnTo>
                      <a:pt x="13" y="755"/>
                    </a:lnTo>
                    <a:lnTo>
                      <a:pt x="12" y="747"/>
                    </a:lnTo>
                    <a:lnTo>
                      <a:pt x="12" y="737"/>
                    </a:lnTo>
                    <a:lnTo>
                      <a:pt x="12" y="730"/>
                    </a:lnTo>
                    <a:lnTo>
                      <a:pt x="10" y="722"/>
                    </a:lnTo>
                    <a:lnTo>
                      <a:pt x="10" y="714"/>
                    </a:lnTo>
                    <a:lnTo>
                      <a:pt x="12" y="630"/>
                    </a:lnTo>
                    <a:lnTo>
                      <a:pt x="13" y="547"/>
                    </a:lnTo>
                    <a:lnTo>
                      <a:pt x="15" y="465"/>
                    </a:lnTo>
                    <a:lnTo>
                      <a:pt x="15" y="382"/>
                    </a:lnTo>
                    <a:lnTo>
                      <a:pt x="17" y="300"/>
                    </a:lnTo>
                    <a:lnTo>
                      <a:pt x="21" y="215"/>
                    </a:lnTo>
                    <a:lnTo>
                      <a:pt x="25" y="133"/>
                    </a:lnTo>
                    <a:lnTo>
                      <a:pt x="33" y="50"/>
                    </a:lnTo>
                    <a:lnTo>
                      <a:pt x="33" y="48"/>
                    </a:lnTo>
                    <a:lnTo>
                      <a:pt x="33" y="45"/>
                    </a:lnTo>
                    <a:lnTo>
                      <a:pt x="33" y="43"/>
                    </a:lnTo>
                    <a:lnTo>
                      <a:pt x="33" y="41"/>
                    </a:lnTo>
                    <a:lnTo>
                      <a:pt x="33" y="39"/>
                    </a:lnTo>
                    <a:lnTo>
                      <a:pt x="35" y="35"/>
                    </a:lnTo>
                    <a:lnTo>
                      <a:pt x="35" y="33"/>
                    </a:lnTo>
                    <a:lnTo>
                      <a:pt x="35" y="31"/>
                    </a:lnTo>
                    <a:lnTo>
                      <a:pt x="42" y="25"/>
                    </a:lnTo>
                    <a:lnTo>
                      <a:pt x="54" y="20"/>
                    </a:lnTo>
                    <a:lnTo>
                      <a:pt x="67" y="14"/>
                    </a:lnTo>
                    <a:lnTo>
                      <a:pt x="81" y="8"/>
                    </a:lnTo>
                    <a:lnTo>
                      <a:pt x="94" y="4"/>
                    </a:lnTo>
                    <a:lnTo>
                      <a:pt x="108" y="2"/>
                    </a:lnTo>
                    <a:lnTo>
                      <a:pt x="119" y="0"/>
                    </a:lnTo>
                    <a:lnTo>
                      <a:pt x="131" y="2"/>
                    </a:lnTo>
                    <a:lnTo>
                      <a:pt x="127" y="6"/>
                    </a:lnTo>
                    <a:lnTo>
                      <a:pt x="125" y="10"/>
                    </a:lnTo>
                    <a:lnTo>
                      <a:pt x="121" y="14"/>
                    </a:lnTo>
                    <a:lnTo>
                      <a:pt x="117" y="20"/>
                    </a:lnTo>
                    <a:lnTo>
                      <a:pt x="113" y="25"/>
                    </a:lnTo>
                    <a:lnTo>
                      <a:pt x="111" y="29"/>
                    </a:lnTo>
                    <a:lnTo>
                      <a:pt x="110" y="35"/>
                    </a:lnTo>
                    <a:lnTo>
                      <a:pt x="108" y="39"/>
                    </a:lnTo>
                    <a:lnTo>
                      <a:pt x="111" y="41"/>
                    </a:lnTo>
                    <a:lnTo>
                      <a:pt x="117" y="43"/>
                    </a:lnTo>
                    <a:lnTo>
                      <a:pt x="121" y="43"/>
                    </a:lnTo>
                    <a:lnTo>
                      <a:pt x="127" y="43"/>
                    </a:lnTo>
                    <a:lnTo>
                      <a:pt x="131" y="45"/>
                    </a:lnTo>
                    <a:lnTo>
                      <a:pt x="136" y="45"/>
                    </a:lnTo>
                    <a:lnTo>
                      <a:pt x="140" y="45"/>
                    </a:lnTo>
                    <a:lnTo>
                      <a:pt x="146" y="45"/>
                    </a:lnTo>
                    <a:lnTo>
                      <a:pt x="165" y="48"/>
                    </a:lnTo>
                    <a:lnTo>
                      <a:pt x="186" y="56"/>
                    </a:lnTo>
                    <a:lnTo>
                      <a:pt x="207" y="66"/>
                    </a:lnTo>
                    <a:lnTo>
                      <a:pt x="230" y="79"/>
                    </a:lnTo>
                    <a:lnTo>
                      <a:pt x="250" y="93"/>
                    </a:lnTo>
                    <a:lnTo>
                      <a:pt x="269" y="110"/>
                    </a:lnTo>
                    <a:lnTo>
                      <a:pt x="277" y="117"/>
                    </a:lnTo>
                    <a:lnTo>
                      <a:pt x="282" y="127"/>
                    </a:lnTo>
                    <a:lnTo>
                      <a:pt x="288" y="135"/>
                    </a:lnTo>
                    <a:lnTo>
                      <a:pt x="292" y="144"/>
                    </a:lnTo>
                    <a:lnTo>
                      <a:pt x="303" y="164"/>
                    </a:lnTo>
                    <a:lnTo>
                      <a:pt x="315" y="177"/>
                    </a:lnTo>
                    <a:lnTo>
                      <a:pt x="323" y="188"/>
                    </a:lnTo>
                    <a:lnTo>
                      <a:pt x="332" y="200"/>
                    </a:lnTo>
                    <a:lnTo>
                      <a:pt x="338" y="213"/>
                    </a:lnTo>
                    <a:lnTo>
                      <a:pt x="344" y="225"/>
                    </a:lnTo>
                    <a:lnTo>
                      <a:pt x="348" y="240"/>
                    </a:lnTo>
                    <a:lnTo>
                      <a:pt x="350" y="254"/>
                    </a:lnTo>
                    <a:lnTo>
                      <a:pt x="353" y="271"/>
                    </a:lnTo>
                    <a:lnTo>
                      <a:pt x="361" y="304"/>
                    </a:lnTo>
                    <a:lnTo>
                      <a:pt x="369" y="329"/>
                    </a:lnTo>
                    <a:lnTo>
                      <a:pt x="375" y="350"/>
                    </a:lnTo>
                    <a:lnTo>
                      <a:pt x="380" y="367"/>
                    </a:lnTo>
                    <a:lnTo>
                      <a:pt x="388" y="386"/>
                    </a:lnTo>
                    <a:lnTo>
                      <a:pt x="394" y="405"/>
                    </a:lnTo>
                    <a:lnTo>
                      <a:pt x="403" y="430"/>
                    </a:lnTo>
                    <a:lnTo>
                      <a:pt x="413" y="463"/>
                    </a:lnTo>
                    <a:lnTo>
                      <a:pt x="417" y="484"/>
                    </a:lnTo>
                    <a:lnTo>
                      <a:pt x="419" y="520"/>
                    </a:lnTo>
                    <a:lnTo>
                      <a:pt x="419" y="568"/>
                    </a:lnTo>
                    <a:lnTo>
                      <a:pt x="421" y="620"/>
                    </a:lnTo>
                    <a:lnTo>
                      <a:pt x="421" y="674"/>
                    </a:lnTo>
                    <a:lnTo>
                      <a:pt x="423" y="722"/>
                    </a:lnTo>
                    <a:lnTo>
                      <a:pt x="423" y="758"/>
                    </a:lnTo>
                    <a:lnTo>
                      <a:pt x="423" y="779"/>
                    </a:lnTo>
                    <a:lnTo>
                      <a:pt x="415" y="783"/>
                    </a:lnTo>
                    <a:lnTo>
                      <a:pt x="405" y="787"/>
                    </a:lnTo>
                    <a:lnTo>
                      <a:pt x="396" y="789"/>
                    </a:lnTo>
                    <a:lnTo>
                      <a:pt x="386" y="791"/>
                    </a:lnTo>
                    <a:lnTo>
                      <a:pt x="367" y="789"/>
                    </a:lnTo>
                    <a:lnTo>
                      <a:pt x="348" y="787"/>
                    </a:lnTo>
                    <a:lnTo>
                      <a:pt x="328" y="783"/>
                    </a:lnTo>
                    <a:lnTo>
                      <a:pt x="313" y="779"/>
                    </a:lnTo>
                    <a:lnTo>
                      <a:pt x="298" y="776"/>
                    </a:lnTo>
                    <a:lnTo>
                      <a:pt x="288" y="776"/>
                    </a:lnTo>
                    <a:lnTo>
                      <a:pt x="290" y="741"/>
                    </a:lnTo>
                    <a:lnTo>
                      <a:pt x="292" y="701"/>
                    </a:lnTo>
                    <a:lnTo>
                      <a:pt x="294" y="659"/>
                    </a:lnTo>
                    <a:lnTo>
                      <a:pt x="296" y="614"/>
                    </a:lnTo>
                    <a:lnTo>
                      <a:pt x="296" y="572"/>
                    </a:lnTo>
                    <a:lnTo>
                      <a:pt x="296" y="530"/>
                    </a:lnTo>
                    <a:lnTo>
                      <a:pt x="294" y="492"/>
                    </a:lnTo>
                    <a:lnTo>
                      <a:pt x="288" y="457"/>
                    </a:lnTo>
                    <a:lnTo>
                      <a:pt x="277" y="419"/>
                    </a:lnTo>
                    <a:lnTo>
                      <a:pt x="265" y="390"/>
                    </a:lnTo>
                    <a:lnTo>
                      <a:pt x="254" y="369"/>
                    </a:lnTo>
                    <a:lnTo>
                      <a:pt x="244" y="352"/>
                    </a:lnTo>
                    <a:lnTo>
                      <a:pt x="234" y="332"/>
                    </a:lnTo>
                    <a:lnTo>
                      <a:pt x="225" y="311"/>
                    </a:lnTo>
                    <a:lnTo>
                      <a:pt x="215" y="282"/>
                    </a:lnTo>
                    <a:lnTo>
                      <a:pt x="206"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165360" y="2630160"/>
                <a:ext cx="117000" cy="905400"/>
              </a:xfrm>
              <a:custGeom>
                <a:avLst/>
                <a:gdLst/>
                <a:ahLst/>
                <a:rect l="l" t="t" r="r" b="b"/>
                <a:pathLst>
                  <a:path w="81" h="693">
                    <a:moveTo>
                      <a:pt x="71" y="683"/>
                    </a:moveTo>
                    <a:lnTo>
                      <a:pt x="67" y="687"/>
                    </a:lnTo>
                    <a:lnTo>
                      <a:pt x="69" y="679"/>
                    </a:lnTo>
                    <a:lnTo>
                      <a:pt x="69" y="669"/>
                    </a:lnTo>
                    <a:lnTo>
                      <a:pt x="69" y="662"/>
                    </a:lnTo>
                    <a:lnTo>
                      <a:pt x="69" y="652"/>
                    </a:lnTo>
                    <a:lnTo>
                      <a:pt x="71" y="643"/>
                    </a:lnTo>
                    <a:lnTo>
                      <a:pt x="71" y="635"/>
                    </a:lnTo>
                    <a:lnTo>
                      <a:pt x="71" y="623"/>
                    </a:lnTo>
                    <a:lnTo>
                      <a:pt x="71" y="614"/>
                    </a:lnTo>
                    <a:lnTo>
                      <a:pt x="71" y="591"/>
                    </a:lnTo>
                    <a:lnTo>
                      <a:pt x="69" y="572"/>
                    </a:lnTo>
                    <a:lnTo>
                      <a:pt x="69" y="547"/>
                    </a:lnTo>
                    <a:lnTo>
                      <a:pt x="67" y="526"/>
                    </a:lnTo>
                    <a:lnTo>
                      <a:pt x="67" y="503"/>
                    </a:lnTo>
                    <a:lnTo>
                      <a:pt x="66" y="480"/>
                    </a:lnTo>
                    <a:lnTo>
                      <a:pt x="64" y="455"/>
                    </a:lnTo>
                    <a:lnTo>
                      <a:pt x="62" y="432"/>
                    </a:lnTo>
                    <a:lnTo>
                      <a:pt x="60" y="407"/>
                    </a:lnTo>
                    <a:lnTo>
                      <a:pt x="56" y="382"/>
                    </a:lnTo>
                    <a:lnTo>
                      <a:pt x="56" y="357"/>
                    </a:lnTo>
                    <a:lnTo>
                      <a:pt x="54" y="332"/>
                    </a:lnTo>
                    <a:lnTo>
                      <a:pt x="50" y="309"/>
                    </a:lnTo>
                    <a:lnTo>
                      <a:pt x="44" y="282"/>
                    </a:lnTo>
                    <a:lnTo>
                      <a:pt x="43" y="259"/>
                    </a:lnTo>
                    <a:lnTo>
                      <a:pt x="41" y="236"/>
                    </a:lnTo>
                    <a:lnTo>
                      <a:pt x="37" y="213"/>
                    </a:lnTo>
                    <a:lnTo>
                      <a:pt x="33" y="190"/>
                    </a:lnTo>
                    <a:lnTo>
                      <a:pt x="31" y="167"/>
                    </a:lnTo>
                    <a:lnTo>
                      <a:pt x="25" y="146"/>
                    </a:lnTo>
                    <a:lnTo>
                      <a:pt x="21" y="125"/>
                    </a:lnTo>
                    <a:lnTo>
                      <a:pt x="19" y="105"/>
                    </a:lnTo>
                    <a:lnTo>
                      <a:pt x="16" y="84"/>
                    </a:lnTo>
                    <a:lnTo>
                      <a:pt x="12" y="67"/>
                    </a:lnTo>
                    <a:lnTo>
                      <a:pt x="10" y="50"/>
                    </a:lnTo>
                    <a:lnTo>
                      <a:pt x="8" y="32"/>
                    </a:lnTo>
                    <a:lnTo>
                      <a:pt x="2" y="17"/>
                    </a:lnTo>
                    <a:lnTo>
                      <a:pt x="0" y="2"/>
                    </a:lnTo>
                    <a:lnTo>
                      <a:pt x="10" y="0"/>
                    </a:lnTo>
                    <a:lnTo>
                      <a:pt x="12" y="15"/>
                    </a:lnTo>
                    <a:lnTo>
                      <a:pt x="14" y="29"/>
                    </a:lnTo>
                    <a:lnTo>
                      <a:pt x="18" y="48"/>
                    </a:lnTo>
                    <a:lnTo>
                      <a:pt x="21" y="65"/>
                    </a:lnTo>
                    <a:lnTo>
                      <a:pt x="25" y="82"/>
                    </a:lnTo>
                    <a:lnTo>
                      <a:pt x="29" y="103"/>
                    </a:lnTo>
                    <a:lnTo>
                      <a:pt x="33" y="123"/>
                    </a:lnTo>
                    <a:lnTo>
                      <a:pt x="37" y="146"/>
                    </a:lnTo>
                    <a:lnTo>
                      <a:pt x="39" y="167"/>
                    </a:lnTo>
                    <a:lnTo>
                      <a:pt x="43" y="190"/>
                    </a:lnTo>
                    <a:lnTo>
                      <a:pt x="44" y="211"/>
                    </a:lnTo>
                    <a:lnTo>
                      <a:pt x="50" y="236"/>
                    </a:lnTo>
                    <a:lnTo>
                      <a:pt x="54" y="259"/>
                    </a:lnTo>
                    <a:lnTo>
                      <a:pt x="56" y="282"/>
                    </a:lnTo>
                    <a:lnTo>
                      <a:pt x="58" y="307"/>
                    </a:lnTo>
                    <a:lnTo>
                      <a:pt x="62" y="330"/>
                    </a:lnTo>
                    <a:lnTo>
                      <a:pt x="64" y="357"/>
                    </a:lnTo>
                    <a:lnTo>
                      <a:pt x="66" y="380"/>
                    </a:lnTo>
                    <a:lnTo>
                      <a:pt x="69" y="407"/>
                    </a:lnTo>
                    <a:lnTo>
                      <a:pt x="71" y="430"/>
                    </a:lnTo>
                    <a:lnTo>
                      <a:pt x="73" y="453"/>
                    </a:lnTo>
                    <a:lnTo>
                      <a:pt x="75" y="478"/>
                    </a:lnTo>
                    <a:lnTo>
                      <a:pt x="77" y="501"/>
                    </a:lnTo>
                    <a:lnTo>
                      <a:pt x="79" y="526"/>
                    </a:lnTo>
                    <a:lnTo>
                      <a:pt x="79" y="547"/>
                    </a:lnTo>
                    <a:lnTo>
                      <a:pt x="81" y="572"/>
                    </a:lnTo>
                    <a:lnTo>
                      <a:pt x="81" y="591"/>
                    </a:lnTo>
                    <a:lnTo>
                      <a:pt x="81" y="614"/>
                    </a:lnTo>
                    <a:lnTo>
                      <a:pt x="81" y="623"/>
                    </a:lnTo>
                    <a:lnTo>
                      <a:pt x="81" y="635"/>
                    </a:lnTo>
                    <a:lnTo>
                      <a:pt x="81" y="643"/>
                    </a:lnTo>
                    <a:lnTo>
                      <a:pt x="81" y="652"/>
                    </a:lnTo>
                    <a:lnTo>
                      <a:pt x="81" y="662"/>
                    </a:lnTo>
                    <a:lnTo>
                      <a:pt x="81" y="669"/>
                    </a:lnTo>
                    <a:lnTo>
                      <a:pt x="79" y="679"/>
                    </a:lnTo>
                    <a:lnTo>
                      <a:pt x="79" y="689"/>
                    </a:lnTo>
                    <a:lnTo>
                      <a:pt x="75" y="693"/>
                    </a:lnTo>
                    <a:lnTo>
                      <a:pt x="79" y="689"/>
                    </a:lnTo>
                    <a:lnTo>
                      <a:pt x="79" y="691"/>
                    </a:lnTo>
                    <a:lnTo>
                      <a:pt x="77" y="691"/>
                    </a:lnTo>
                    <a:lnTo>
                      <a:pt x="77" y="693"/>
                    </a:lnTo>
                    <a:lnTo>
                      <a:pt x="75" y="693"/>
                    </a:lnTo>
                    <a:lnTo>
                      <a:pt x="73" y="693"/>
                    </a:lnTo>
                    <a:lnTo>
                      <a:pt x="71" y="693"/>
                    </a:lnTo>
                    <a:lnTo>
                      <a:pt x="69" y="691"/>
                    </a:lnTo>
                    <a:lnTo>
                      <a:pt x="69" y="689"/>
                    </a:lnTo>
                    <a:lnTo>
                      <a:pt x="67" y="689"/>
                    </a:lnTo>
                    <a:lnTo>
                      <a:pt x="67" y="687"/>
                    </a:lnTo>
                    <a:lnTo>
                      <a:pt x="71"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212880" y="2453400"/>
                <a:ext cx="5400" cy="3960"/>
              </a:xfrm>
              <a:custGeom>
                <a:avLst/>
                <a:gdLst/>
                <a:ahLst/>
                <a:rect l="l" t="t" r="r" b="b"/>
                <a:pathLst>
                  <a:path w="4" h="3">
                    <a:moveTo>
                      <a:pt x="0" y="0"/>
                    </a:moveTo>
                    <a:lnTo>
                      <a:pt x="2" y="1"/>
                    </a:lnTo>
                    <a:lnTo>
                      <a:pt x="4" y="3"/>
                    </a:lnTo>
                    <a:lnTo>
                      <a:pt x="2" y="1"/>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706" name=""/>
              <p:cNvSpPr/>
              <p:nvPr/>
            </p:nvSpPr>
            <p:spPr>
              <a:xfrm>
                <a:off x="6154920" y="2447640"/>
                <a:ext cx="73800" cy="190440"/>
              </a:xfrm>
              <a:custGeom>
                <a:avLst/>
                <a:gdLst/>
                <a:ahLst/>
                <a:rect l="l" t="t" r="r" b="b"/>
                <a:pathLst>
                  <a:path w="51" h="146">
                    <a:moveTo>
                      <a:pt x="5" y="142"/>
                    </a:moveTo>
                    <a:lnTo>
                      <a:pt x="7" y="144"/>
                    </a:lnTo>
                    <a:lnTo>
                      <a:pt x="5" y="144"/>
                    </a:lnTo>
                    <a:lnTo>
                      <a:pt x="5" y="142"/>
                    </a:lnTo>
                    <a:lnTo>
                      <a:pt x="3" y="140"/>
                    </a:lnTo>
                    <a:lnTo>
                      <a:pt x="2" y="140"/>
                    </a:lnTo>
                    <a:lnTo>
                      <a:pt x="2" y="138"/>
                    </a:lnTo>
                    <a:lnTo>
                      <a:pt x="2" y="136"/>
                    </a:lnTo>
                    <a:lnTo>
                      <a:pt x="0" y="132"/>
                    </a:lnTo>
                    <a:lnTo>
                      <a:pt x="0" y="130"/>
                    </a:lnTo>
                    <a:lnTo>
                      <a:pt x="0" y="128"/>
                    </a:lnTo>
                    <a:lnTo>
                      <a:pt x="0" y="126"/>
                    </a:lnTo>
                    <a:lnTo>
                      <a:pt x="0" y="126"/>
                    </a:lnTo>
                    <a:lnTo>
                      <a:pt x="0" y="123"/>
                    </a:lnTo>
                    <a:lnTo>
                      <a:pt x="2" y="119"/>
                    </a:lnTo>
                    <a:lnTo>
                      <a:pt x="2" y="115"/>
                    </a:lnTo>
                    <a:lnTo>
                      <a:pt x="3" y="111"/>
                    </a:lnTo>
                    <a:lnTo>
                      <a:pt x="5" y="105"/>
                    </a:lnTo>
                    <a:lnTo>
                      <a:pt x="7" y="99"/>
                    </a:lnTo>
                    <a:lnTo>
                      <a:pt x="9" y="94"/>
                    </a:lnTo>
                    <a:lnTo>
                      <a:pt x="15" y="82"/>
                    </a:lnTo>
                    <a:lnTo>
                      <a:pt x="17" y="71"/>
                    </a:lnTo>
                    <a:lnTo>
                      <a:pt x="23" y="61"/>
                    </a:lnTo>
                    <a:lnTo>
                      <a:pt x="28" y="50"/>
                    </a:lnTo>
                    <a:lnTo>
                      <a:pt x="30" y="44"/>
                    </a:lnTo>
                    <a:lnTo>
                      <a:pt x="32" y="38"/>
                    </a:lnTo>
                    <a:lnTo>
                      <a:pt x="34" y="34"/>
                    </a:lnTo>
                    <a:lnTo>
                      <a:pt x="36" y="30"/>
                    </a:lnTo>
                    <a:lnTo>
                      <a:pt x="38" y="25"/>
                    </a:lnTo>
                    <a:lnTo>
                      <a:pt x="40" y="19"/>
                    </a:lnTo>
                    <a:lnTo>
                      <a:pt x="40" y="15"/>
                    </a:lnTo>
                    <a:lnTo>
                      <a:pt x="40" y="13"/>
                    </a:lnTo>
                    <a:lnTo>
                      <a:pt x="42" y="11"/>
                    </a:lnTo>
                    <a:lnTo>
                      <a:pt x="42" y="9"/>
                    </a:lnTo>
                    <a:lnTo>
                      <a:pt x="42" y="7"/>
                    </a:lnTo>
                    <a:lnTo>
                      <a:pt x="40" y="5"/>
                    </a:lnTo>
                    <a:lnTo>
                      <a:pt x="40" y="4"/>
                    </a:lnTo>
                    <a:lnTo>
                      <a:pt x="48" y="0"/>
                    </a:lnTo>
                    <a:lnTo>
                      <a:pt x="50" y="0"/>
                    </a:lnTo>
                    <a:lnTo>
                      <a:pt x="50" y="2"/>
                    </a:lnTo>
                    <a:lnTo>
                      <a:pt x="50" y="4"/>
                    </a:lnTo>
                    <a:lnTo>
                      <a:pt x="51" y="5"/>
                    </a:lnTo>
                    <a:lnTo>
                      <a:pt x="51" y="7"/>
                    </a:lnTo>
                    <a:lnTo>
                      <a:pt x="51" y="9"/>
                    </a:lnTo>
                    <a:lnTo>
                      <a:pt x="51" y="11"/>
                    </a:lnTo>
                    <a:lnTo>
                      <a:pt x="51" y="13"/>
                    </a:lnTo>
                    <a:lnTo>
                      <a:pt x="50" y="17"/>
                    </a:lnTo>
                    <a:lnTo>
                      <a:pt x="50" y="23"/>
                    </a:lnTo>
                    <a:lnTo>
                      <a:pt x="48" y="25"/>
                    </a:lnTo>
                    <a:lnTo>
                      <a:pt x="46" y="32"/>
                    </a:lnTo>
                    <a:lnTo>
                      <a:pt x="44" y="36"/>
                    </a:lnTo>
                    <a:lnTo>
                      <a:pt x="42" y="40"/>
                    </a:lnTo>
                    <a:lnTo>
                      <a:pt x="40" y="48"/>
                    </a:lnTo>
                    <a:lnTo>
                      <a:pt x="38" y="53"/>
                    </a:lnTo>
                    <a:lnTo>
                      <a:pt x="32" y="63"/>
                    </a:lnTo>
                    <a:lnTo>
                      <a:pt x="26" y="75"/>
                    </a:lnTo>
                    <a:lnTo>
                      <a:pt x="23" y="86"/>
                    </a:lnTo>
                    <a:lnTo>
                      <a:pt x="17" y="98"/>
                    </a:lnTo>
                    <a:lnTo>
                      <a:pt x="17" y="103"/>
                    </a:lnTo>
                    <a:lnTo>
                      <a:pt x="15" y="107"/>
                    </a:lnTo>
                    <a:lnTo>
                      <a:pt x="15" y="113"/>
                    </a:lnTo>
                    <a:lnTo>
                      <a:pt x="13" y="117"/>
                    </a:lnTo>
                    <a:lnTo>
                      <a:pt x="11" y="121"/>
                    </a:lnTo>
                    <a:lnTo>
                      <a:pt x="9" y="126"/>
                    </a:lnTo>
                    <a:lnTo>
                      <a:pt x="9" y="126"/>
                    </a:lnTo>
                    <a:lnTo>
                      <a:pt x="9" y="128"/>
                    </a:lnTo>
                    <a:lnTo>
                      <a:pt x="9" y="130"/>
                    </a:lnTo>
                    <a:lnTo>
                      <a:pt x="9" y="132"/>
                    </a:lnTo>
                    <a:lnTo>
                      <a:pt x="11" y="132"/>
                    </a:lnTo>
                    <a:lnTo>
                      <a:pt x="11" y="134"/>
                    </a:lnTo>
                    <a:lnTo>
                      <a:pt x="13" y="136"/>
                    </a:lnTo>
                    <a:lnTo>
                      <a:pt x="17" y="140"/>
                    </a:lnTo>
                    <a:lnTo>
                      <a:pt x="13" y="136"/>
                    </a:lnTo>
                    <a:lnTo>
                      <a:pt x="15" y="138"/>
                    </a:lnTo>
                    <a:lnTo>
                      <a:pt x="17" y="138"/>
                    </a:lnTo>
                    <a:lnTo>
                      <a:pt x="17" y="140"/>
                    </a:lnTo>
                    <a:lnTo>
                      <a:pt x="17" y="142"/>
                    </a:lnTo>
                    <a:lnTo>
                      <a:pt x="15" y="144"/>
                    </a:lnTo>
                    <a:lnTo>
                      <a:pt x="13" y="144"/>
                    </a:lnTo>
                    <a:lnTo>
                      <a:pt x="13" y="146"/>
                    </a:lnTo>
                    <a:lnTo>
                      <a:pt x="11" y="146"/>
                    </a:lnTo>
                    <a:lnTo>
                      <a:pt x="9" y="146"/>
                    </a:lnTo>
                    <a:lnTo>
                      <a:pt x="7" y="144"/>
                    </a:lnTo>
                    <a:lnTo>
                      <a:pt x="5"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377760" y="3527640"/>
                <a:ext cx="9000" cy="2160"/>
              </a:xfrm>
              <a:custGeom>
                <a:avLst/>
                <a:gdLst/>
                <a:ahLst/>
                <a:rect l="l" t="t" r="r" b="b"/>
                <a:pathLst>
                  <a:path w="6" h="2">
                    <a:moveTo>
                      <a:pt x="6" y="2"/>
                    </a:moveTo>
                    <a:lnTo>
                      <a:pt x="4" y="2"/>
                    </a:lnTo>
                    <a:lnTo>
                      <a:pt x="2" y="0"/>
                    </a:lnTo>
                    <a:lnTo>
                      <a:pt x="0" y="0"/>
                    </a:lnTo>
                    <a:lnTo>
                      <a:pt x="2" y="0"/>
                    </a:lnTo>
                    <a:lnTo>
                      <a:pt x="6"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708" name=""/>
              <p:cNvSpPr/>
              <p:nvPr/>
            </p:nvSpPr>
            <p:spPr>
              <a:xfrm>
                <a:off x="6359760" y="2608560"/>
                <a:ext cx="29880" cy="928080"/>
              </a:xfrm>
              <a:custGeom>
                <a:avLst/>
                <a:gdLst/>
                <a:ahLst/>
                <a:rect l="l" t="t" r="r" b="b"/>
                <a:pathLst>
                  <a:path w="21" h="711">
                    <a:moveTo>
                      <a:pt x="17" y="7"/>
                    </a:moveTo>
                    <a:lnTo>
                      <a:pt x="19" y="3"/>
                    </a:lnTo>
                    <a:lnTo>
                      <a:pt x="17" y="28"/>
                    </a:lnTo>
                    <a:lnTo>
                      <a:pt x="17" y="61"/>
                    </a:lnTo>
                    <a:lnTo>
                      <a:pt x="15" y="101"/>
                    </a:lnTo>
                    <a:lnTo>
                      <a:pt x="13" y="151"/>
                    </a:lnTo>
                    <a:lnTo>
                      <a:pt x="13" y="203"/>
                    </a:lnTo>
                    <a:lnTo>
                      <a:pt x="13" y="259"/>
                    </a:lnTo>
                    <a:lnTo>
                      <a:pt x="9" y="320"/>
                    </a:lnTo>
                    <a:lnTo>
                      <a:pt x="9" y="378"/>
                    </a:lnTo>
                    <a:lnTo>
                      <a:pt x="7" y="410"/>
                    </a:lnTo>
                    <a:lnTo>
                      <a:pt x="7" y="437"/>
                    </a:lnTo>
                    <a:lnTo>
                      <a:pt x="7" y="468"/>
                    </a:lnTo>
                    <a:lnTo>
                      <a:pt x="7" y="497"/>
                    </a:lnTo>
                    <a:lnTo>
                      <a:pt x="7" y="523"/>
                    </a:lnTo>
                    <a:lnTo>
                      <a:pt x="7" y="550"/>
                    </a:lnTo>
                    <a:lnTo>
                      <a:pt x="9" y="573"/>
                    </a:lnTo>
                    <a:lnTo>
                      <a:pt x="9" y="598"/>
                    </a:lnTo>
                    <a:lnTo>
                      <a:pt x="9" y="619"/>
                    </a:lnTo>
                    <a:lnTo>
                      <a:pt x="13" y="639"/>
                    </a:lnTo>
                    <a:lnTo>
                      <a:pt x="13" y="648"/>
                    </a:lnTo>
                    <a:lnTo>
                      <a:pt x="13" y="656"/>
                    </a:lnTo>
                    <a:lnTo>
                      <a:pt x="13" y="663"/>
                    </a:lnTo>
                    <a:lnTo>
                      <a:pt x="13" y="673"/>
                    </a:lnTo>
                    <a:lnTo>
                      <a:pt x="13" y="679"/>
                    </a:lnTo>
                    <a:lnTo>
                      <a:pt x="15" y="685"/>
                    </a:lnTo>
                    <a:lnTo>
                      <a:pt x="15" y="690"/>
                    </a:lnTo>
                    <a:lnTo>
                      <a:pt x="17" y="696"/>
                    </a:lnTo>
                    <a:lnTo>
                      <a:pt x="17" y="700"/>
                    </a:lnTo>
                    <a:lnTo>
                      <a:pt x="19" y="702"/>
                    </a:lnTo>
                    <a:lnTo>
                      <a:pt x="19" y="704"/>
                    </a:lnTo>
                    <a:lnTo>
                      <a:pt x="21" y="706"/>
                    </a:lnTo>
                    <a:lnTo>
                      <a:pt x="13" y="711"/>
                    </a:lnTo>
                    <a:lnTo>
                      <a:pt x="13" y="710"/>
                    </a:lnTo>
                    <a:lnTo>
                      <a:pt x="13" y="708"/>
                    </a:lnTo>
                    <a:lnTo>
                      <a:pt x="9" y="708"/>
                    </a:lnTo>
                    <a:lnTo>
                      <a:pt x="9" y="706"/>
                    </a:lnTo>
                    <a:lnTo>
                      <a:pt x="7" y="702"/>
                    </a:lnTo>
                    <a:lnTo>
                      <a:pt x="7" y="696"/>
                    </a:lnTo>
                    <a:lnTo>
                      <a:pt x="5" y="692"/>
                    </a:lnTo>
                    <a:lnTo>
                      <a:pt x="4" y="685"/>
                    </a:lnTo>
                    <a:lnTo>
                      <a:pt x="4" y="681"/>
                    </a:lnTo>
                    <a:lnTo>
                      <a:pt x="4" y="673"/>
                    </a:lnTo>
                    <a:lnTo>
                      <a:pt x="2" y="665"/>
                    </a:lnTo>
                    <a:lnTo>
                      <a:pt x="2" y="656"/>
                    </a:lnTo>
                    <a:lnTo>
                      <a:pt x="2" y="648"/>
                    </a:lnTo>
                    <a:lnTo>
                      <a:pt x="2" y="640"/>
                    </a:lnTo>
                    <a:lnTo>
                      <a:pt x="2" y="619"/>
                    </a:lnTo>
                    <a:lnTo>
                      <a:pt x="0" y="598"/>
                    </a:lnTo>
                    <a:lnTo>
                      <a:pt x="0" y="573"/>
                    </a:lnTo>
                    <a:lnTo>
                      <a:pt x="0" y="550"/>
                    </a:lnTo>
                    <a:lnTo>
                      <a:pt x="0" y="523"/>
                    </a:lnTo>
                    <a:lnTo>
                      <a:pt x="0" y="497"/>
                    </a:lnTo>
                    <a:lnTo>
                      <a:pt x="0" y="468"/>
                    </a:lnTo>
                    <a:lnTo>
                      <a:pt x="0" y="437"/>
                    </a:lnTo>
                    <a:lnTo>
                      <a:pt x="0" y="408"/>
                    </a:lnTo>
                    <a:lnTo>
                      <a:pt x="0" y="378"/>
                    </a:lnTo>
                    <a:lnTo>
                      <a:pt x="0" y="320"/>
                    </a:lnTo>
                    <a:lnTo>
                      <a:pt x="2" y="259"/>
                    </a:lnTo>
                    <a:lnTo>
                      <a:pt x="2" y="203"/>
                    </a:lnTo>
                    <a:lnTo>
                      <a:pt x="4" y="151"/>
                    </a:lnTo>
                    <a:lnTo>
                      <a:pt x="4" y="101"/>
                    </a:lnTo>
                    <a:lnTo>
                      <a:pt x="7" y="61"/>
                    </a:lnTo>
                    <a:lnTo>
                      <a:pt x="7" y="28"/>
                    </a:lnTo>
                    <a:lnTo>
                      <a:pt x="9" y="3"/>
                    </a:lnTo>
                    <a:lnTo>
                      <a:pt x="13" y="0"/>
                    </a:lnTo>
                    <a:lnTo>
                      <a:pt x="9" y="3"/>
                    </a:lnTo>
                    <a:lnTo>
                      <a:pt x="9" y="3"/>
                    </a:lnTo>
                    <a:lnTo>
                      <a:pt x="13" y="0"/>
                    </a:lnTo>
                    <a:lnTo>
                      <a:pt x="13" y="0"/>
                    </a:lnTo>
                    <a:lnTo>
                      <a:pt x="15" y="0"/>
                    </a:lnTo>
                    <a:lnTo>
                      <a:pt x="17" y="0"/>
                    </a:lnTo>
                    <a:lnTo>
                      <a:pt x="19" y="3"/>
                    </a:lnTo>
                    <a:lnTo>
                      <a:pt x="19" y="3"/>
                    </a:lnTo>
                    <a:lnTo>
                      <a:pt x="1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372000" y="2431440"/>
                <a:ext cx="33840" cy="185040"/>
              </a:xfrm>
              <a:custGeom>
                <a:avLst/>
                <a:gdLst/>
                <a:ahLst/>
                <a:rect l="l" t="t" r="r" b="b"/>
                <a:pathLst>
                  <a:path w="23" h="142">
                    <a:moveTo>
                      <a:pt x="23" y="2"/>
                    </a:moveTo>
                    <a:lnTo>
                      <a:pt x="23" y="4"/>
                    </a:lnTo>
                    <a:lnTo>
                      <a:pt x="23" y="6"/>
                    </a:lnTo>
                    <a:lnTo>
                      <a:pt x="21" y="12"/>
                    </a:lnTo>
                    <a:lnTo>
                      <a:pt x="20" y="16"/>
                    </a:lnTo>
                    <a:lnTo>
                      <a:pt x="20" y="19"/>
                    </a:lnTo>
                    <a:lnTo>
                      <a:pt x="20" y="23"/>
                    </a:lnTo>
                    <a:lnTo>
                      <a:pt x="20" y="27"/>
                    </a:lnTo>
                    <a:lnTo>
                      <a:pt x="20" y="31"/>
                    </a:lnTo>
                    <a:lnTo>
                      <a:pt x="20" y="37"/>
                    </a:lnTo>
                    <a:lnTo>
                      <a:pt x="21" y="54"/>
                    </a:lnTo>
                    <a:lnTo>
                      <a:pt x="23" y="75"/>
                    </a:lnTo>
                    <a:lnTo>
                      <a:pt x="23" y="83"/>
                    </a:lnTo>
                    <a:lnTo>
                      <a:pt x="23" y="94"/>
                    </a:lnTo>
                    <a:lnTo>
                      <a:pt x="23" y="98"/>
                    </a:lnTo>
                    <a:lnTo>
                      <a:pt x="23" y="104"/>
                    </a:lnTo>
                    <a:lnTo>
                      <a:pt x="23" y="108"/>
                    </a:lnTo>
                    <a:lnTo>
                      <a:pt x="21" y="113"/>
                    </a:lnTo>
                    <a:lnTo>
                      <a:pt x="20" y="117"/>
                    </a:lnTo>
                    <a:lnTo>
                      <a:pt x="20" y="121"/>
                    </a:lnTo>
                    <a:lnTo>
                      <a:pt x="18" y="127"/>
                    </a:lnTo>
                    <a:lnTo>
                      <a:pt x="18" y="129"/>
                    </a:lnTo>
                    <a:lnTo>
                      <a:pt x="16" y="133"/>
                    </a:lnTo>
                    <a:lnTo>
                      <a:pt x="14" y="138"/>
                    </a:lnTo>
                    <a:lnTo>
                      <a:pt x="12" y="138"/>
                    </a:lnTo>
                    <a:lnTo>
                      <a:pt x="10" y="140"/>
                    </a:lnTo>
                    <a:lnTo>
                      <a:pt x="8" y="142"/>
                    </a:lnTo>
                    <a:lnTo>
                      <a:pt x="0" y="138"/>
                    </a:lnTo>
                    <a:lnTo>
                      <a:pt x="4" y="138"/>
                    </a:lnTo>
                    <a:lnTo>
                      <a:pt x="4" y="135"/>
                    </a:lnTo>
                    <a:lnTo>
                      <a:pt x="4" y="133"/>
                    </a:lnTo>
                    <a:lnTo>
                      <a:pt x="4" y="131"/>
                    </a:lnTo>
                    <a:lnTo>
                      <a:pt x="6" y="129"/>
                    </a:lnTo>
                    <a:lnTo>
                      <a:pt x="8" y="127"/>
                    </a:lnTo>
                    <a:lnTo>
                      <a:pt x="10" y="123"/>
                    </a:lnTo>
                    <a:lnTo>
                      <a:pt x="10" y="119"/>
                    </a:lnTo>
                    <a:lnTo>
                      <a:pt x="10" y="115"/>
                    </a:lnTo>
                    <a:lnTo>
                      <a:pt x="12" y="111"/>
                    </a:lnTo>
                    <a:lnTo>
                      <a:pt x="12" y="108"/>
                    </a:lnTo>
                    <a:lnTo>
                      <a:pt x="12" y="104"/>
                    </a:lnTo>
                    <a:lnTo>
                      <a:pt x="12" y="98"/>
                    </a:lnTo>
                    <a:lnTo>
                      <a:pt x="12" y="94"/>
                    </a:lnTo>
                    <a:lnTo>
                      <a:pt x="12" y="83"/>
                    </a:lnTo>
                    <a:lnTo>
                      <a:pt x="12" y="75"/>
                    </a:lnTo>
                    <a:lnTo>
                      <a:pt x="10" y="56"/>
                    </a:lnTo>
                    <a:lnTo>
                      <a:pt x="10" y="37"/>
                    </a:lnTo>
                    <a:lnTo>
                      <a:pt x="10" y="31"/>
                    </a:lnTo>
                    <a:lnTo>
                      <a:pt x="10" y="27"/>
                    </a:lnTo>
                    <a:lnTo>
                      <a:pt x="10" y="23"/>
                    </a:lnTo>
                    <a:lnTo>
                      <a:pt x="10" y="17"/>
                    </a:lnTo>
                    <a:lnTo>
                      <a:pt x="10" y="14"/>
                    </a:lnTo>
                    <a:lnTo>
                      <a:pt x="12" y="8"/>
                    </a:lnTo>
                    <a:lnTo>
                      <a:pt x="12" y="4"/>
                    </a:lnTo>
                    <a:lnTo>
                      <a:pt x="14" y="2"/>
                    </a:lnTo>
                    <a:lnTo>
                      <a:pt x="14" y="2"/>
                    </a:lnTo>
                    <a:lnTo>
                      <a:pt x="14" y="2"/>
                    </a:lnTo>
                    <a:lnTo>
                      <a:pt x="16" y="0"/>
                    </a:lnTo>
                    <a:lnTo>
                      <a:pt x="18" y="0"/>
                    </a:lnTo>
                    <a:lnTo>
                      <a:pt x="20" y="0"/>
                    </a:lnTo>
                    <a:lnTo>
                      <a:pt x="21" y="0"/>
                    </a:lnTo>
                    <a:lnTo>
                      <a:pt x="23" y="2"/>
                    </a:lnTo>
                    <a:lnTo>
                      <a:pt x="23" y="2"/>
                    </a:lnTo>
                    <a:lnTo>
                      <a:pt x="23" y="4"/>
                    </a:lnTo>
                    <a:lnTo>
                      <a:pt x="2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409080" y="2404440"/>
                <a:ext cx="112680" cy="26640"/>
              </a:xfrm>
              <a:custGeom>
                <a:avLst/>
                <a:gdLst/>
                <a:ahLst/>
                <a:rect l="l" t="t" r="r" b="b"/>
                <a:pathLst>
                  <a:path w="79" h="21">
                    <a:moveTo>
                      <a:pt x="79" y="21"/>
                    </a:moveTo>
                    <a:lnTo>
                      <a:pt x="31" y="8"/>
                    </a:lnTo>
                    <a:lnTo>
                      <a:pt x="8" y="2"/>
                    </a:lnTo>
                    <a:lnTo>
                      <a:pt x="0" y="0"/>
                    </a:lnTo>
                    <a:lnTo>
                      <a:pt x="12" y="2"/>
                    </a:lnTo>
                    <a:lnTo>
                      <a:pt x="27" y="8"/>
                    </a:lnTo>
                    <a:lnTo>
                      <a:pt x="46" y="12"/>
                    </a:lnTo>
                    <a:lnTo>
                      <a:pt x="66" y="17"/>
                    </a:lnTo>
                    <a:lnTo>
                      <a:pt x="79"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11" name=""/>
              <p:cNvSpPr/>
              <p:nvPr/>
            </p:nvSpPr>
            <p:spPr>
              <a:xfrm>
                <a:off x="6707880" y="2853000"/>
                <a:ext cx="1440" cy="380880"/>
              </a:xfrm>
              <a:custGeom>
                <a:avLst/>
                <a:gdLst/>
                <a:ahLst/>
                <a:rect l="l" t="t" r="r" b="b"/>
                <a:pathLst>
                  <a:path w="0" h="291">
                    <a:moveTo>
                      <a:pt x="0" y="0"/>
                    </a:moveTo>
                    <a:lnTo>
                      <a:pt x="0" y="140"/>
                    </a:lnTo>
                    <a:lnTo>
                      <a:pt x="0" y="232"/>
                    </a:lnTo>
                    <a:lnTo>
                      <a:pt x="0" y="282"/>
                    </a:lnTo>
                    <a:lnTo>
                      <a:pt x="0" y="291"/>
                    </a:lnTo>
                    <a:lnTo>
                      <a:pt x="0" y="262"/>
                    </a:lnTo>
                    <a:lnTo>
                      <a:pt x="0" y="203"/>
                    </a:lnTo>
                    <a:lnTo>
                      <a:pt x="0" y="1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180120" y="2615400"/>
                <a:ext cx="197280" cy="718560"/>
              </a:xfrm>
              <a:custGeom>
                <a:avLst/>
                <a:gdLst/>
                <a:ahLst/>
                <a:rect l="l" t="t" r="r" b="b"/>
                <a:pathLst>
                  <a:path w="138" h="551">
                    <a:moveTo>
                      <a:pt x="50" y="511"/>
                    </a:moveTo>
                    <a:lnTo>
                      <a:pt x="50" y="482"/>
                    </a:lnTo>
                    <a:lnTo>
                      <a:pt x="50" y="455"/>
                    </a:lnTo>
                    <a:lnTo>
                      <a:pt x="50" y="430"/>
                    </a:lnTo>
                    <a:lnTo>
                      <a:pt x="50" y="405"/>
                    </a:lnTo>
                    <a:lnTo>
                      <a:pt x="48" y="382"/>
                    </a:lnTo>
                    <a:lnTo>
                      <a:pt x="48" y="359"/>
                    </a:lnTo>
                    <a:lnTo>
                      <a:pt x="46" y="338"/>
                    </a:lnTo>
                    <a:lnTo>
                      <a:pt x="46" y="317"/>
                    </a:lnTo>
                    <a:lnTo>
                      <a:pt x="46" y="298"/>
                    </a:lnTo>
                    <a:lnTo>
                      <a:pt x="44" y="280"/>
                    </a:lnTo>
                    <a:lnTo>
                      <a:pt x="42" y="263"/>
                    </a:lnTo>
                    <a:lnTo>
                      <a:pt x="36" y="248"/>
                    </a:lnTo>
                    <a:lnTo>
                      <a:pt x="34" y="231"/>
                    </a:lnTo>
                    <a:lnTo>
                      <a:pt x="34" y="215"/>
                    </a:lnTo>
                    <a:lnTo>
                      <a:pt x="33" y="202"/>
                    </a:lnTo>
                    <a:lnTo>
                      <a:pt x="31" y="186"/>
                    </a:lnTo>
                    <a:lnTo>
                      <a:pt x="29" y="175"/>
                    </a:lnTo>
                    <a:lnTo>
                      <a:pt x="27" y="163"/>
                    </a:lnTo>
                    <a:lnTo>
                      <a:pt x="25" y="150"/>
                    </a:lnTo>
                    <a:lnTo>
                      <a:pt x="23" y="138"/>
                    </a:lnTo>
                    <a:lnTo>
                      <a:pt x="17" y="115"/>
                    </a:lnTo>
                    <a:lnTo>
                      <a:pt x="13" y="94"/>
                    </a:lnTo>
                    <a:lnTo>
                      <a:pt x="8" y="75"/>
                    </a:lnTo>
                    <a:lnTo>
                      <a:pt x="4" y="54"/>
                    </a:lnTo>
                    <a:lnTo>
                      <a:pt x="2" y="44"/>
                    </a:lnTo>
                    <a:lnTo>
                      <a:pt x="0" y="33"/>
                    </a:lnTo>
                    <a:lnTo>
                      <a:pt x="0" y="23"/>
                    </a:lnTo>
                    <a:lnTo>
                      <a:pt x="0" y="14"/>
                    </a:lnTo>
                    <a:lnTo>
                      <a:pt x="2" y="16"/>
                    </a:lnTo>
                    <a:lnTo>
                      <a:pt x="6" y="16"/>
                    </a:lnTo>
                    <a:lnTo>
                      <a:pt x="9" y="18"/>
                    </a:lnTo>
                    <a:lnTo>
                      <a:pt x="13" y="19"/>
                    </a:lnTo>
                    <a:lnTo>
                      <a:pt x="17" y="19"/>
                    </a:lnTo>
                    <a:lnTo>
                      <a:pt x="21" y="21"/>
                    </a:lnTo>
                    <a:lnTo>
                      <a:pt x="25" y="21"/>
                    </a:lnTo>
                    <a:lnTo>
                      <a:pt x="31" y="23"/>
                    </a:lnTo>
                    <a:lnTo>
                      <a:pt x="34" y="23"/>
                    </a:lnTo>
                    <a:lnTo>
                      <a:pt x="36" y="25"/>
                    </a:lnTo>
                    <a:lnTo>
                      <a:pt x="44" y="25"/>
                    </a:lnTo>
                    <a:lnTo>
                      <a:pt x="46" y="25"/>
                    </a:lnTo>
                    <a:lnTo>
                      <a:pt x="50" y="25"/>
                    </a:lnTo>
                    <a:lnTo>
                      <a:pt x="54" y="25"/>
                    </a:lnTo>
                    <a:lnTo>
                      <a:pt x="59" y="25"/>
                    </a:lnTo>
                    <a:lnTo>
                      <a:pt x="63" y="25"/>
                    </a:lnTo>
                    <a:lnTo>
                      <a:pt x="69" y="25"/>
                    </a:lnTo>
                    <a:lnTo>
                      <a:pt x="73" y="25"/>
                    </a:lnTo>
                    <a:lnTo>
                      <a:pt x="77" y="23"/>
                    </a:lnTo>
                    <a:lnTo>
                      <a:pt x="81" y="23"/>
                    </a:lnTo>
                    <a:lnTo>
                      <a:pt x="88" y="21"/>
                    </a:lnTo>
                    <a:lnTo>
                      <a:pt x="92" y="21"/>
                    </a:lnTo>
                    <a:lnTo>
                      <a:pt x="96" y="19"/>
                    </a:lnTo>
                    <a:lnTo>
                      <a:pt x="100" y="19"/>
                    </a:lnTo>
                    <a:lnTo>
                      <a:pt x="106" y="18"/>
                    </a:lnTo>
                    <a:lnTo>
                      <a:pt x="111" y="16"/>
                    </a:lnTo>
                    <a:lnTo>
                      <a:pt x="115" y="14"/>
                    </a:lnTo>
                    <a:lnTo>
                      <a:pt x="119" y="12"/>
                    </a:lnTo>
                    <a:lnTo>
                      <a:pt x="125" y="8"/>
                    </a:lnTo>
                    <a:lnTo>
                      <a:pt x="129" y="6"/>
                    </a:lnTo>
                    <a:lnTo>
                      <a:pt x="134" y="2"/>
                    </a:lnTo>
                    <a:lnTo>
                      <a:pt x="138" y="0"/>
                    </a:lnTo>
                    <a:lnTo>
                      <a:pt x="138" y="16"/>
                    </a:lnTo>
                    <a:lnTo>
                      <a:pt x="138" y="33"/>
                    </a:lnTo>
                    <a:lnTo>
                      <a:pt x="138" y="46"/>
                    </a:lnTo>
                    <a:lnTo>
                      <a:pt x="138" y="64"/>
                    </a:lnTo>
                    <a:lnTo>
                      <a:pt x="138" y="79"/>
                    </a:lnTo>
                    <a:lnTo>
                      <a:pt x="138" y="94"/>
                    </a:lnTo>
                    <a:lnTo>
                      <a:pt x="138" y="112"/>
                    </a:lnTo>
                    <a:lnTo>
                      <a:pt x="134" y="129"/>
                    </a:lnTo>
                    <a:lnTo>
                      <a:pt x="130" y="198"/>
                    </a:lnTo>
                    <a:lnTo>
                      <a:pt x="127" y="269"/>
                    </a:lnTo>
                    <a:lnTo>
                      <a:pt x="127" y="288"/>
                    </a:lnTo>
                    <a:lnTo>
                      <a:pt x="125" y="305"/>
                    </a:lnTo>
                    <a:lnTo>
                      <a:pt x="125" y="323"/>
                    </a:lnTo>
                    <a:lnTo>
                      <a:pt x="125" y="340"/>
                    </a:lnTo>
                    <a:lnTo>
                      <a:pt x="125" y="357"/>
                    </a:lnTo>
                    <a:lnTo>
                      <a:pt x="123" y="373"/>
                    </a:lnTo>
                    <a:lnTo>
                      <a:pt x="123" y="390"/>
                    </a:lnTo>
                    <a:lnTo>
                      <a:pt x="123" y="409"/>
                    </a:lnTo>
                    <a:lnTo>
                      <a:pt x="123" y="426"/>
                    </a:lnTo>
                    <a:lnTo>
                      <a:pt x="125" y="442"/>
                    </a:lnTo>
                    <a:lnTo>
                      <a:pt x="125" y="457"/>
                    </a:lnTo>
                    <a:lnTo>
                      <a:pt x="125" y="474"/>
                    </a:lnTo>
                    <a:lnTo>
                      <a:pt x="127" y="490"/>
                    </a:lnTo>
                    <a:lnTo>
                      <a:pt x="127" y="505"/>
                    </a:lnTo>
                    <a:lnTo>
                      <a:pt x="127" y="520"/>
                    </a:lnTo>
                    <a:lnTo>
                      <a:pt x="129" y="534"/>
                    </a:lnTo>
                    <a:lnTo>
                      <a:pt x="125" y="538"/>
                    </a:lnTo>
                    <a:lnTo>
                      <a:pt x="119" y="539"/>
                    </a:lnTo>
                    <a:lnTo>
                      <a:pt x="117" y="541"/>
                    </a:lnTo>
                    <a:lnTo>
                      <a:pt x="113" y="543"/>
                    </a:lnTo>
                    <a:lnTo>
                      <a:pt x="111" y="543"/>
                    </a:lnTo>
                    <a:lnTo>
                      <a:pt x="107" y="545"/>
                    </a:lnTo>
                    <a:lnTo>
                      <a:pt x="104" y="547"/>
                    </a:lnTo>
                    <a:lnTo>
                      <a:pt x="100" y="547"/>
                    </a:lnTo>
                    <a:lnTo>
                      <a:pt x="98" y="549"/>
                    </a:lnTo>
                    <a:lnTo>
                      <a:pt x="94" y="549"/>
                    </a:lnTo>
                    <a:lnTo>
                      <a:pt x="92" y="549"/>
                    </a:lnTo>
                    <a:lnTo>
                      <a:pt x="90" y="551"/>
                    </a:lnTo>
                    <a:lnTo>
                      <a:pt x="84" y="551"/>
                    </a:lnTo>
                    <a:lnTo>
                      <a:pt x="81" y="551"/>
                    </a:lnTo>
                    <a:lnTo>
                      <a:pt x="81" y="551"/>
                    </a:lnTo>
                    <a:lnTo>
                      <a:pt x="77" y="549"/>
                    </a:lnTo>
                    <a:lnTo>
                      <a:pt x="75" y="549"/>
                    </a:lnTo>
                    <a:lnTo>
                      <a:pt x="71" y="549"/>
                    </a:lnTo>
                    <a:lnTo>
                      <a:pt x="69" y="547"/>
                    </a:lnTo>
                    <a:lnTo>
                      <a:pt x="67" y="545"/>
                    </a:lnTo>
                    <a:lnTo>
                      <a:pt x="65" y="543"/>
                    </a:lnTo>
                    <a:lnTo>
                      <a:pt x="61" y="541"/>
                    </a:lnTo>
                    <a:lnTo>
                      <a:pt x="59" y="539"/>
                    </a:lnTo>
                    <a:lnTo>
                      <a:pt x="57" y="536"/>
                    </a:lnTo>
                    <a:lnTo>
                      <a:pt x="56" y="534"/>
                    </a:lnTo>
                    <a:lnTo>
                      <a:pt x="54" y="528"/>
                    </a:lnTo>
                    <a:lnTo>
                      <a:pt x="54" y="524"/>
                    </a:lnTo>
                    <a:lnTo>
                      <a:pt x="52" y="522"/>
                    </a:lnTo>
                    <a:lnTo>
                      <a:pt x="52" y="515"/>
                    </a:lnTo>
                    <a:lnTo>
                      <a:pt x="50"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174000" y="2608560"/>
                <a:ext cx="212400" cy="45720"/>
              </a:xfrm>
              <a:custGeom>
                <a:avLst/>
                <a:gdLst/>
                <a:ahLst/>
                <a:rect l="l" t="t" r="r" b="b"/>
                <a:pathLst>
                  <a:path w="148" h="36">
                    <a:moveTo>
                      <a:pt x="138" y="5"/>
                    </a:moveTo>
                    <a:lnTo>
                      <a:pt x="146" y="7"/>
                    </a:lnTo>
                    <a:lnTo>
                      <a:pt x="142" y="11"/>
                    </a:lnTo>
                    <a:lnTo>
                      <a:pt x="134" y="15"/>
                    </a:lnTo>
                    <a:lnTo>
                      <a:pt x="131" y="17"/>
                    </a:lnTo>
                    <a:lnTo>
                      <a:pt x="127" y="21"/>
                    </a:lnTo>
                    <a:lnTo>
                      <a:pt x="121" y="23"/>
                    </a:lnTo>
                    <a:lnTo>
                      <a:pt x="115" y="24"/>
                    </a:lnTo>
                    <a:lnTo>
                      <a:pt x="110" y="26"/>
                    </a:lnTo>
                    <a:lnTo>
                      <a:pt x="106" y="26"/>
                    </a:lnTo>
                    <a:lnTo>
                      <a:pt x="100" y="28"/>
                    </a:lnTo>
                    <a:lnTo>
                      <a:pt x="96" y="30"/>
                    </a:lnTo>
                    <a:lnTo>
                      <a:pt x="92" y="30"/>
                    </a:lnTo>
                    <a:lnTo>
                      <a:pt x="85" y="32"/>
                    </a:lnTo>
                    <a:lnTo>
                      <a:pt x="83" y="32"/>
                    </a:lnTo>
                    <a:lnTo>
                      <a:pt x="77" y="34"/>
                    </a:lnTo>
                    <a:lnTo>
                      <a:pt x="73" y="34"/>
                    </a:lnTo>
                    <a:lnTo>
                      <a:pt x="67" y="36"/>
                    </a:lnTo>
                    <a:lnTo>
                      <a:pt x="61" y="36"/>
                    </a:lnTo>
                    <a:lnTo>
                      <a:pt x="58" y="36"/>
                    </a:lnTo>
                    <a:lnTo>
                      <a:pt x="54" y="36"/>
                    </a:lnTo>
                    <a:lnTo>
                      <a:pt x="50" y="34"/>
                    </a:lnTo>
                    <a:lnTo>
                      <a:pt x="46" y="34"/>
                    </a:lnTo>
                    <a:lnTo>
                      <a:pt x="38" y="34"/>
                    </a:lnTo>
                    <a:lnTo>
                      <a:pt x="37" y="32"/>
                    </a:lnTo>
                    <a:lnTo>
                      <a:pt x="33" y="32"/>
                    </a:lnTo>
                    <a:lnTo>
                      <a:pt x="27" y="30"/>
                    </a:lnTo>
                    <a:lnTo>
                      <a:pt x="23" y="30"/>
                    </a:lnTo>
                    <a:lnTo>
                      <a:pt x="19" y="28"/>
                    </a:lnTo>
                    <a:lnTo>
                      <a:pt x="15" y="28"/>
                    </a:lnTo>
                    <a:lnTo>
                      <a:pt x="10" y="26"/>
                    </a:lnTo>
                    <a:lnTo>
                      <a:pt x="6" y="24"/>
                    </a:lnTo>
                    <a:lnTo>
                      <a:pt x="4" y="23"/>
                    </a:lnTo>
                    <a:lnTo>
                      <a:pt x="0" y="23"/>
                    </a:lnTo>
                    <a:lnTo>
                      <a:pt x="4" y="13"/>
                    </a:lnTo>
                    <a:lnTo>
                      <a:pt x="6" y="15"/>
                    </a:lnTo>
                    <a:lnTo>
                      <a:pt x="10" y="17"/>
                    </a:lnTo>
                    <a:lnTo>
                      <a:pt x="13" y="19"/>
                    </a:lnTo>
                    <a:lnTo>
                      <a:pt x="17" y="19"/>
                    </a:lnTo>
                    <a:lnTo>
                      <a:pt x="23" y="21"/>
                    </a:lnTo>
                    <a:lnTo>
                      <a:pt x="27" y="21"/>
                    </a:lnTo>
                    <a:lnTo>
                      <a:pt x="31" y="23"/>
                    </a:lnTo>
                    <a:lnTo>
                      <a:pt x="35" y="23"/>
                    </a:lnTo>
                    <a:lnTo>
                      <a:pt x="38" y="24"/>
                    </a:lnTo>
                    <a:lnTo>
                      <a:pt x="40" y="24"/>
                    </a:lnTo>
                    <a:lnTo>
                      <a:pt x="48" y="24"/>
                    </a:lnTo>
                    <a:lnTo>
                      <a:pt x="50" y="24"/>
                    </a:lnTo>
                    <a:lnTo>
                      <a:pt x="54" y="26"/>
                    </a:lnTo>
                    <a:lnTo>
                      <a:pt x="58" y="26"/>
                    </a:lnTo>
                    <a:lnTo>
                      <a:pt x="61" y="26"/>
                    </a:lnTo>
                    <a:lnTo>
                      <a:pt x="65" y="26"/>
                    </a:lnTo>
                    <a:lnTo>
                      <a:pt x="71" y="24"/>
                    </a:lnTo>
                    <a:lnTo>
                      <a:pt x="75" y="24"/>
                    </a:lnTo>
                    <a:lnTo>
                      <a:pt x="81" y="24"/>
                    </a:lnTo>
                    <a:lnTo>
                      <a:pt x="85" y="23"/>
                    </a:lnTo>
                    <a:lnTo>
                      <a:pt x="86" y="23"/>
                    </a:lnTo>
                    <a:lnTo>
                      <a:pt x="94" y="21"/>
                    </a:lnTo>
                    <a:lnTo>
                      <a:pt x="98" y="21"/>
                    </a:lnTo>
                    <a:lnTo>
                      <a:pt x="102" y="19"/>
                    </a:lnTo>
                    <a:lnTo>
                      <a:pt x="106" y="17"/>
                    </a:lnTo>
                    <a:lnTo>
                      <a:pt x="111" y="15"/>
                    </a:lnTo>
                    <a:lnTo>
                      <a:pt x="117" y="13"/>
                    </a:lnTo>
                    <a:lnTo>
                      <a:pt x="121" y="11"/>
                    </a:lnTo>
                    <a:lnTo>
                      <a:pt x="127" y="9"/>
                    </a:lnTo>
                    <a:lnTo>
                      <a:pt x="131" y="5"/>
                    </a:lnTo>
                    <a:lnTo>
                      <a:pt x="134" y="3"/>
                    </a:lnTo>
                    <a:lnTo>
                      <a:pt x="142" y="3"/>
                    </a:lnTo>
                    <a:lnTo>
                      <a:pt x="148" y="5"/>
                    </a:lnTo>
                    <a:lnTo>
                      <a:pt x="142" y="3"/>
                    </a:lnTo>
                    <a:lnTo>
                      <a:pt x="142" y="0"/>
                    </a:lnTo>
                    <a:lnTo>
                      <a:pt x="142" y="0"/>
                    </a:lnTo>
                    <a:lnTo>
                      <a:pt x="144" y="0"/>
                    </a:lnTo>
                    <a:lnTo>
                      <a:pt x="146" y="3"/>
                    </a:lnTo>
                    <a:lnTo>
                      <a:pt x="148" y="3"/>
                    </a:lnTo>
                    <a:lnTo>
                      <a:pt x="148" y="5"/>
                    </a:lnTo>
                    <a:lnTo>
                      <a:pt x="146" y="7"/>
                    </a:lnTo>
                    <a:lnTo>
                      <a:pt x="138"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14" name=""/>
              <p:cNvSpPr/>
              <p:nvPr/>
            </p:nvSpPr>
            <p:spPr>
              <a:xfrm>
                <a:off x="6245640" y="3277440"/>
                <a:ext cx="124560" cy="61920"/>
              </a:xfrm>
              <a:custGeom>
                <a:avLst/>
                <a:gdLst/>
                <a:ahLst/>
                <a:rect l="l" t="t" r="r" b="b"/>
                <a:pathLst>
                  <a:path w="86" h="48">
                    <a:moveTo>
                      <a:pt x="8" y="4"/>
                    </a:moveTo>
                    <a:lnTo>
                      <a:pt x="8" y="4"/>
                    </a:lnTo>
                    <a:lnTo>
                      <a:pt x="10" y="8"/>
                    </a:lnTo>
                    <a:lnTo>
                      <a:pt x="10" y="13"/>
                    </a:lnTo>
                    <a:lnTo>
                      <a:pt x="11" y="17"/>
                    </a:lnTo>
                    <a:lnTo>
                      <a:pt x="11" y="21"/>
                    </a:lnTo>
                    <a:lnTo>
                      <a:pt x="13" y="25"/>
                    </a:lnTo>
                    <a:lnTo>
                      <a:pt x="15" y="27"/>
                    </a:lnTo>
                    <a:lnTo>
                      <a:pt x="17" y="31"/>
                    </a:lnTo>
                    <a:lnTo>
                      <a:pt x="19" y="32"/>
                    </a:lnTo>
                    <a:lnTo>
                      <a:pt x="21" y="34"/>
                    </a:lnTo>
                    <a:lnTo>
                      <a:pt x="23" y="34"/>
                    </a:lnTo>
                    <a:lnTo>
                      <a:pt x="25" y="36"/>
                    </a:lnTo>
                    <a:lnTo>
                      <a:pt x="27" y="38"/>
                    </a:lnTo>
                    <a:lnTo>
                      <a:pt x="29" y="38"/>
                    </a:lnTo>
                    <a:lnTo>
                      <a:pt x="31" y="38"/>
                    </a:lnTo>
                    <a:lnTo>
                      <a:pt x="35" y="40"/>
                    </a:lnTo>
                    <a:lnTo>
                      <a:pt x="35" y="40"/>
                    </a:lnTo>
                    <a:lnTo>
                      <a:pt x="36" y="40"/>
                    </a:lnTo>
                    <a:lnTo>
                      <a:pt x="42" y="40"/>
                    </a:lnTo>
                    <a:lnTo>
                      <a:pt x="46" y="38"/>
                    </a:lnTo>
                    <a:lnTo>
                      <a:pt x="46" y="38"/>
                    </a:lnTo>
                    <a:lnTo>
                      <a:pt x="50" y="38"/>
                    </a:lnTo>
                    <a:lnTo>
                      <a:pt x="52" y="36"/>
                    </a:lnTo>
                    <a:lnTo>
                      <a:pt x="56" y="36"/>
                    </a:lnTo>
                    <a:lnTo>
                      <a:pt x="60" y="34"/>
                    </a:lnTo>
                    <a:lnTo>
                      <a:pt x="61" y="34"/>
                    </a:lnTo>
                    <a:lnTo>
                      <a:pt x="65" y="32"/>
                    </a:lnTo>
                    <a:lnTo>
                      <a:pt x="69" y="31"/>
                    </a:lnTo>
                    <a:lnTo>
                      <a:pt x="71" y="29"/>
                    </a:lnTo>
                    <a:lnTo>
                      <a:pt x="77" y="27"/>
                    </a:lnTo>
                    <a:lnTo>
                      <a:pt x="81" y="23"/>
                    </a:lnTo>
                    <a:lnTo>
                      <a:pt x="86" y="31"/>
                    </a:lnTo>
                    <a:lnTo>
                      <a:pt x="81" y="34"/>
                    </a:lnTo>
                    <a:lnTo>
                      <a:pt x="77" y="36"/>
                    </a:lnTo>
                    <a:lnTo>
                      <a:pt x="73" y="38"/>
                    </a:lnTo>
                    <a:lnTo>
                      <a:pt x="69" y="40"/>
                    </a:lnTo>
                    <a:lnTo>
                      <a:pt x="67" y="42"/>
                    </a:lnTo>
                    <a:lnTo>
                      <a:pt x="61" y="42"/>
                    </a:lnTo>
                    <a:lnTo>
                      <a:pt x="60" y="44"/>
                    </a:lnTo>
                    <a:lnTo>
                      <a:pt x="56" y="46"/>
                    </a:lnTo>
                    <a:lnTo>
                      <a:pt x="52" y="48"/>
                    </a:lnTo>
                    <a:lnTo>
                      <a:pt x="48" y="48"/>
                    </a:lnTo>
                    <a:lnTo>
                      <a:pt x="46" y="48"/>
                    </a:lnTo>
                    <a:lnTo>
                      <a:pt x="44" y="48"/>
                    </a:lnTo>
                    <a:lnTo>
                      <a:pt x="38" y="48"/>
                    </a:lnTo>
                    <a:lnTo>
                      <a:pt x="35" y="48"/>
                    </a:lnTo>
                    <a:lnTo>
                      <a:pt x="33" y="48"/>
                    </a:lnTo>
                    <a:lnTo>
                      <a:pt x="29" y="48"/>
                    </a:lnTo>
                    <a:lnTo>
                      <a:pt x="27" y="48"/>
                    </a:lnTo>
                    <a:lnTo>
                      <a:pt x="23" y="46"/>
                    </a:lnTo>
                    <a:lnTo>
                      <a:pt x="19" y="44"/>
                    </a:lnTo>
                    <a:lnTo>
                      <a:pt x="15" y="42"/>
                    </a:lnTo>
                    <a:lnTo>
                      <a:pt x="13" y="40"/>
                    </a:lnTo>
                    <a:lnTo>
                      <a:pt x="10" y="38"/>
                    </a:lnTo>
                    <a:lnTo>
                      <a:pt x="8" y="34"/>
                    </a:lnTo>
                    <a:lnTo>
                      <a:pt x="6" y="31"/>
                    </a:lnTo>
                    <a:lnTo>
                      <a:pt x="4" y="29"/>
                    </a:lnTo>
                    <a:lnTo>
                      <a:pt x="2" y="25"/>
                    </a:lnTo>
                    <a:lnTo>
                      <a:pt x="2" y="19"/>
                    </a:lnTo>
                    <a:lnTo>
                      <a:pt x="0" y="15"/>
                    </a:lnTo>
                    <a:lnTo>
                      <a:pt x="0" y="11"/>
                    </a:lnTo>
                    <a:lnTo>
                      <a:pt x="0" y="4"/>
                    </a:lnTo>
                    <a:lnTo>
                      <a:pt x="0" y="4"/>
                    </a:lnTo>
                    <a:lnTo>
                      <a:pt x="0" y="2"/>
                    </a:lnTo>
                    <a:lnTo>
                      <a:pt x="0" y="0"/>
                    </a:lnTo>
                    <a:lnTo>
                      <a:pt x="2" y="0"/>
                    </a:lnTo>
                    <a:lnTo>
                      <a:pt x="4" y="0"/>
                    </a:lnTo>
                    <a:lnTo>
                      <a:pt x="6" y="0"/>
                    </a:lnTo>
                    <a:lnTo>
                      <a:pt x="8" y="2"/>
                    </a:lnTo>
                    <a:lnTo>
                      <a:pt x="8" y="4"/>
                    </a:lnTo>
                    <a:lnTo>
                      <a:pt x="8"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5" name=""/>
              <p:cNvSpPr/>
              <p:nvPr/>
            </p:nvSpPr>
            <p:spPr>
              <a:xfrm>
                <a:off x="5859000" y="4498920"/>
                <a:ext cx="147240" cy="43200"/>
              </a:xfrm>
              <a:custGeom>
                <a:avLst/>
                <a:gdLst/>
                <a:ahLst/>
                <a:rect l="l" t="t" r="r" b="b"/>
                <a:pathLst>
                  <a:path w="102" h="33">
                    <a:moveTo>
                      <a:pt x="94" y="33"/>
                    </a:moveTo>
                    <a:lnTo>
                      <a:pt x="96" y="33"/>
                    </a:lnTo>
                    <a:lnTo>
                      <a:pt x="85" y="33"/>
                    </a:lnTo>
                    <a:lnTo>
                      <a:pt x="71" y="31"/>
                    </a:lnTo>
                    <a:lnTo>
                      <a:pt x="65" y="31"/>
                    </a:lnTo>
                    <a:lnTo>
                      <a:pt x="58" y="29"/>
                    </a:lnTo>
                    <a:lnTo>
                      <a:pt x="52" y="27"/>
                    </a:lnTo>
                    <a:lnTo>
                      <a:pt x="48" y="27"/>
                    </a:lnTo>
                    <a:lnTo>
                      <a:pt x="38" y="25"/>
                    </a:lnTo>
                    <a:lnTo>
                      <a:pt x="35" y="21"/>
                    </a:lnTo>
                    <a:lnTo>
                      <a:pt x="29" y="21"/>
                    </a:lnTo>
                    <a:lnTo>
                      <a:pt x="23" y="20"/>
                    </a:lnTo>
                    <a:lnTo>
                      <a:pt x="17" y="16"/>
                    </a:lnTo>
                    <a:lnTo>
                      <a:pt x="12" y="14"/>
                    </a:lnTo>
                    <a:lnTo>
                      <a:pt x="4" y="12"/>
                    </a:lnTo>
                    <a:lnTo>
                      <a:pt x="0" y="8"/>
                    </a:lnTo>
                    <a:lnTo>
                      <a:pt x="4" y="0"/>
                    </a:lnTo>
                    <a:lnTo>
                      <a:pt x="10" y="4"/>
                    </a:lnTo>
                    <a:lnTo>
                      <a:pt x="14" y="6"/>
                    </a:lnTo>
                    <a:lnTo>
                      <a:pt x="19" y="8"/>
                    </a:lnTo>
                    <a:lnTo>
                      <a:pt x="25" y="10"/>
                    </a:lnTo>
                    <a:lnTo>
                      <a:pt x="31" y="12"/>
                    </a:lnTo>
                    <a:lnTo>
                      <a:pt x="38" y="14"/>
                    </a:lnTo>
                    <a:lnTo>
                      <a:pt x="44" y="16"/>
                    </a:lnTo>
                    <a:lnTo>
                      <a:pt x="50" y="18"/>
                    </a:lnTo>
                    <a:lnTo>
                      <a:pt x="54" y="18"/>
                    </a:lnTo>
                    <a:lnTo>
                      <a:pt x="60" y="20"/>
                    </a:lnTo>
                    <a:lnTo>
                      <a:pt x="67" y="21"/>
                    </a:lnTo>
                    <a:lnTo>
                      <a:pt x="73" y="21"/>
                    </a:lnTo>
                    <a:lnTo>
                      <a:pt x="85" y="25"/>
                    </a:lnTo>
                    <a:lnTo>
                      <a:pt x="98" y="27"/>
                    </a:lnTo>
                    <a:lnTo>
                      <a:pt x="102" y="29"/>
                    </a:lnTo>
                    <a:lnTo>
                      <a:pt x="98" y="27"/>
                    </a:lnTo>
                    <a:lnTo>
                      <a:pt x="100" y="27"/>
                    </a:lnTo>
                    <a:lnTo>
                      <a:pt x="102" y="27"/>
                    </a:lnTo>
                    <a:lnTo>
                      <a:pt x="102" y="29"/>
                    </a:lnTo>
                    <a:lnTo>
                      <a:pt x="102" y="31"/>
                    </a:lnTo>
                    <a:lnTo>
                      <a:pt x="102" y="33"/>
                    </a:lnTo>
                    <a:lnTo>
                      <a:pt x="102" y="33"/>
                    </a:lnTo>
                    <a:lnTo>
                      <a:pt x="100" y="33"/>
                    </a:lnTo>
                    <a:lnTo>
                      <a:pt x="98" y="33"/>
                    </a:lnTo>
                    <a:lnTo>
                      <a:pt x="96" y="33"/>
                    </a:lnTo>
                    <a:lnTo>
                      <a:pt x="94" y="3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16" name=""/>
              <p:cNvSpPr/>
              <p:nvPr/>
            </p:nvSpPr>
            <p:spPr>
              <a:xfrm>
                <a:off x="6499800" y="1920600"/>
                <a:ext cx="105480" cy="105120"/>
              </a:xfrm>
              <a:custGeom>
                <a:avLst/>
                <a:gdLst/>
                <a:ahLst/>
                <a:rect l="l" t="t" r="r" b="b"/>
                <a:pathLst>
                  <a:path w="73" h="80">
                    <a:moveTo>
                      <a:pt x="38" y="80"/>
                    </a:moveTo>
                    <a:lnTo>
                      <a:pt x="34" y="80"/>
                    </a:lnTo>
                    <a:lnTo>
                      <a:pt x="32" y="80"/>
                    </a:lnTo>
                    <a:lnTo>
                      <a:pt x="30" y="80"/>
                    </a:lnTo>
                    <a:lnTo>
                      <a:pt x="28" y="80"/>
                    </a:lnTo>
                    <a:lnTo>
                      <a:pt x="28" y="80"/>
                    </a:lnTo>
                    <a:lnTo>
                      <a:pt x="27" y="78"/>
                    </a:lnTo>
                    <a:lnTo>
                      <a:pt x="25" y="78"/>
                    </a:lnTo>
                    <a:lnTo>
                      <a:pt x="23" y="78"/>
                    </a:lnTo>
                    <a:lnTo>
                      <a:pt x="21" y="75"/>
                    </a:lnTo>
                    <a:lnTo>
                      <a:pt x="19" y="75"/>
                    </a:lnTo>
                    <a:lnTo>
                      <a:pt x="19" y="75"/>
                    </a:lnTo>
                    <a:lnTo>
                      <a:pt x="17" y="75"/>
                    </a:lnTo>
                    <a:lnTo>
                      <a:pt x="15" y="73"/>
                    </a:lnTo>
                    <a:lnTo>
                      <a:pt x="11" y="69"/>
                    </a:lnTo>
                    <a:lnTo>
                      <a:pt x="9" y="67"/>
                    </a:lnTo>
                    <a:lnTo>
                      <a:pt x="7" y="63"/>
                    </a:lnTo>
                    <a:lnTo>
                      <a:pt x="5" y="59"/>
                    </a:lnTo>
                    <a:lnTo>
                      <a:pt x="4" y="55"/>
                    </a:lnTo>
                    <a:lnTo>
                      <a:pt x="4" y="53"/>
                    </a:lnTo>
                    <a:lnTo>
                      <a:pt x="2" y="48"/>
                    </a:lnTo>
                    <a:lnTo>
                      <a:pt x="0" y="46"/>
                    </a:lnTo>
                    <a:lnTo>
                      <a:pt x="0" y="44"/>
                    </a:lnTo>
                    <a:lnTo>
                      <a:pt x="0" y="42"/>
                    </a:lnTo>
                    <a:lnTo>
                      <a:pt x="0" y="42"/>
                    </a:lnTo>
                    <a:lnTo>
                      <a:pt x="0" y="40"/>
                    </a:lnTo>
                    <a:lnTo>
                      <a:pt x="0" y="38"/>
                    </a:lnTo>
                    <a:lnTo>
                      <a:pt x="0" y="34"/>
                    </a:lnTo>
                    <a:lnTo>
                      <a:pt x="2" y="32"/>
                    </a:lnTo>
                    <a:lnTo>
                      <a:pt x="4" y="28"/>
                    </a:lnTo>
                    <a:lnTo>
                      <a:pt x="4" y="25"/>
                    </a:lnTo>
                    <a:lnTo>
                      <a:pt x="5" y="21"/>
                    </a:lnTo>
                    <a:lnTo>
                      <a:pt x="7" y="19"/>
                    </a:lnTo>
                    <a:lnTo>
                      <a:pt x="9" y="15"/>
                    </a:lnTo>
                    <a:lnTo>
                      <a:pt x="11" y="11"/>
                    </a:lnTo>
                    <a:lnTo>
                      <a:pt x="15" y="9"/>
                    </a:lnTo>
                    <a:lnTo>
                      <a:pt x="17" y="7"/>
                    </a:lnTo>
                    <a:lnTo>
                      <a:pt x="19" y="7"/>
                    </a:lnTo>
                    <a:lnTo>
                      <a:pt x="23" y="4"/>
                    </a:lnTo>
                    <a:lnTo>
                      <a:pt x="25" y="2"/>
                    </a:lnTo>
                    <a:lnTo>
                      <a:pt x="27" y="2"/>
                    </a:lnTo>
                    <a:lnTo>
                      <a:pt x="28" y="2"/>
                    </a:lnTo>
                    <a:lnTo>
                      <a:pt x="28" y="2"/>
                    </a:lnTo>
                    <a:lnTo>
                      <a:pt x="30" y="2"/>
                    </a:lnTo>
                    <a:lnTo>
                      <a:pt x="32" y="0"/>
                    </a:lnTo>
                    <a:lnTo>
                      <a:pt x="34" y="0"/>
                    </a:lnTo>
                    <a:lnTo>
                      <a:pt x="38" y="0"/>
                    </a:lnTo>
                    <a:lnTo>
                      <a:pt x="40" y="0"/>
                    </a:lnTo>
                    <a:lnTo>
                      <a:pt x="40" y="2"/>
                    </a:lnTo>
                    <a:lnTo>
                      <a:pt x="42" y="2"/>
                    </a:lnTo>
                    <a:lnTo>
                      <a:pt x="44" y="2"/>
                    </a:lnTo>
                    <a:lnTo>
                      <a:pt x="46" y="2"/>
                    </a:lnTo>
                    <a:lnTo>
                      <a:pt x="50" y="2"/>
                    </a:lnTo>
                    <a:lnTo>
                      <a:pt x="50" y="4"/>
                    </a:lnTo>
                    <a:lnTo>
                      <a:pt x="52" y="4"/>
                    </a:lnTo>
                    <a:lnTo>
                      <a:pt x="53" y="7"/>
                    </a:lnTo>
                    <a:lnTo>
                      <a:pt x="55" y="7"/>
                    </a:lnTo>
                    <a:lnTo>
                      <a:pt x="57" y="7"/>
                    </a:lnTo>
                    <a:lnTo>
                      <a:pt x="59" y="9"/>
                    </a:lnTo>
                    <a:lnTo>
                      <a:pt x="61" y="11"/>
                    </a:lnTo>
                    <a:lnTo>
                      <a:pt x="65" y="15"/>
                    </a:lnTo>
                    <a:lnTo>
                      <a:pt x="67" y="19"/>
                    </a:lnTo>
                    <a:lnTo>
                      <a:pt x="69" y="21"/>
                    </a:lnTo>
                    <a:lnTo>
                      <a:pt x="69" y="25"/>
                    </a:lnTo>
                    <a:lnTo>
                      <a:pt x="71" y="27"/>
                    </a:lnTo>
                    <a:lnTo>
                      <a:pt x="71" y="28"/>
                    </a:lnTo>
                    <a:lnTo>
                      <a:pt x="73" y="30"/>
                    </a:lnTo>
                    <a:lnTo>
                      <a:pt x="73" y="32"/>
                    </a:lnTo>
                    <a:lnTo>
                      <a:pt x="73" y="34"/>
                    </a:lnTo>
                    <a:lnTo>
                      <a:pt x="73" y="38"/>
                    </a:lnTo>
                    <a:lnTo>
                      <a:pt x="73" y="40"/>
                    </a:lnTo>
                    <a:lnTo>
                      <a:pt x="73" y="42"/>
                    </a:lnTo>
                    <a:lnTo>
                      <a:pt x="73" y="42"/>
                    </a:lnTo>
                    <a:lnTo>
                      <a:pt x="73" y="44"/>
                    </a:lnTo>
                    <a:lnTo>
                      <a:pt x="73" y="46"/>
                    </a:lnTo>
                    <a:lnTo>
                      <a:pt x="73" y="48"/>
                    </a:lnTo>
                    <a:lnTo>
                      <a:pt x="71" y="53"/>
                    </a:lnTo>
                    <a:lnTo>
                      <a:pt x="69" y="55"/>
                    </a:lnTo>
                    <a:lnTo>
                      <a:pt x="69" y="59"/>
                    </a:lnTo>
                    <a:lnTo>
                      <a:pt x="67" y="63"/>
                    </a:lnTo>
                    <a:lnTo>
                      <a:pt x="65" y="67"/>
                    </a:lnTo>
                    <a:lnTo>
                      <a:pt x="61" y="69"/>
                    </a:lnTo>
                    <a:lnTo>
                      <a:pt x="61" y="71"/>
                    </a:lnTo>
                    <a:lnTo>
                      <a:pt x="59" y="73"/>
                    </a:lnTo>
                    <a:lnTo>
                      <a:pt x="57" y="73"/>
                    </a:lnTo>
                    <a:lnTo>
                      <a:pt x="57" y="75"/>
                    </a:lnTo>
                    <a:lnTo>
                      <a:pt x="55" y="75"/>
                    </a:lnTo>
                    <a:lnTo>
                      <a:pt x="53" y="75"/>
                    </a:lnTo>
                    <a:lnTo>
                      <a:pt x="52" y="75"/>
                    </a:lnTo>
                    <a:lnTo>
                      <a:pt x="50" y="78"/>
                    </a:lnTo>
                    <a:lnTo>
                      <a:pt x="46" y="78"/>
                    </a:lnTo>
                    <a:lnTo>
                      <a:pt x="44" y="80"/>
                    </a:lnTo>
                    <a:lnTo>
                      <a:pt x="42" y="80"/>
                    </a:lnTo>
                    <a:lnTo>
                      <a:pt x="40" y="80"/>
                    </a:lnTo>
                    <a:lnTo>
                      <a:pt x="40" y="80"/>
                    </a:lnTo>
                    <a:lnTo>
                      <a:pt x="38" y="8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499800" y="1920600"/>
                <a:ext cx="105480" cy="105120"/>
              </a:xfrm>
              <a:custGeom>
                <a:avLst/>
                <a:gdLst/>
                <a:ahLst/>
                <a:rect l="l" t="t" r="r" b="b"/>
                <a:pathLst>
                  <a:path w="73" h="80">
                    <a:moveTo>
                      <a:pt x="38" y="80"/>
                    </a:moveTo>
                    <a:lnTo>
                      <a:pt x="34" y="80"/>
                    </a:lnTo>
                    <a:lnTo>
                      <a:pt x="32" y="80"/>
                    </a:lnTo>
                    <a:lnTo>
                      <a:pt x="30" y="80"/>
                    </a:lnTo>
                    <a:lnTo>
                      <a:pt x="28" y="80"/>
                    </a:lnTo>
                    <a:lnTo>
                      <a:pt x="27" y="78"/>
                    </a:lnTo>
                    <a:lnTo>
                      <a:pt x="25" y="78"/>
                    </a:lnTo>
                    <a:lnTo>
                      <a:pt x="23" y="78"/>
                    </a:lnTo>
                    <a:lnTo>
                      <a:pt x="21" y="75"/>
                    </a:lnTo>
                    <a:lnTo>
                      <a:pt x="19" y="75"/>
                    </a:lnTo>
                    <a:lnTo>
                      <a:pt x="17" y="75"/>
                    </a:lnTo>
                    <a:lnTo>
                      <a:pt x="15" y="73"/>
                    </a:lnTo>
                    <a:lnTo>
                      <a:pt x="11" y="69"/>
                    </a:lnTo>
                    <a:lnTo>
                      <a:pt x="9" y="67"/>
                    </a:lnTo>
                    <a:lnTo>
                      <a:pt x="7" y="63"/>
                    </a:lnTo>
                    <a:lnTo>
                      <a:pt x="5" y="59"/>
                    </a:lnTo>
                    <a:lnTo>
                      <a:pt x="4" y="55"/>
                    </a:lnTo>
                    <a:lnTo>
                      <a:pt x="4" y="53"/>
                    </a:lnTo>
                    <a:lnTo>
                      <a:pt x="2" y="48"/>
                    </a:lnTo>
                    <a:lnTo>
                      <a:pt x="0" y="46"/>
                    </a:lnTo>
                    <a:lnTo>
                      <a:pt x="0" y="44"/>
                    </a:lnTo>
                    <a:lnTo>
                      <a:pt x="0" y="42"/>
                    </a:lnTo>
                    <a:lnTo>
                      <a:pt x="0" y="40"/>
                    </a:lnTo>
                    <a:lnTo>
                      <a:pt x="0" y="38"/>
                    </a:lnTo>
                    <a:lnTo>
                      <a:pt x="0" y="34"/>
                    </a:lnTo>
                    <a:lnTo>
                      <a:pt x="2" y="32"/>
                    </a:lnTo>
                    <a:lnTo>
                      <a:pt x="4" y="28"/>
                    </a:lnTo>
                    <a:lnTo>
                      <a:pt x="4" y="25"/>
                    </a:lnTo>
                    <a:lnTo>
                      <a:pt x="5" y="21"/>
                    </a:lnTo>
                    <a:lnTo>
                      <a:pt x="7" y="19"/>
                    </a:lnTo>
                    <a:lnTo>
                      <a:pt x="9" y="15"/>
                    </a:lnTo>
                    <a:lnTo>
                      <a:pt x="11" y="11"/>
                    </a:lnTo>
                    <a:lnTo>
                      <a:pt x="15" y="9"/>
                    </a:lnTo>
                    <a:lnTo>
                      <a:pt x="17" y="7"/>
                    </a:lnTo>
                    <a:lnTo>
                      <a:pt x="19" y="7"/>
                    </a:lnTo>
                    <a:lnTo>
                      <a:pt x="23" y="4"/>
                    </a:lnTo>
                    <a:lnTo>
                      <a:pt x="25" y="2"/>
                    </a:lnTo>
                    <a:lnTo>
                      <a:pt x="27" y="2"/>
                    </a:lnTo>
                    <a:lnTo>
                      <a:pt x="28" y="2"/>
                    </a:lnTo>
                    <a:lnTo>
                      <a:pt x="30" y="2"/>
                    </a:lnTo>
                    <a:lnTo>
                      <a:pt x="32" y="0"/>
                    </a:lnTo>
                    <a:lnTo>
                      <a:pt x="34" y="0"/>
                    </a:lnTo>
                    <a:lnTo>
                      <a:pt x="38" y="0"/>
                    </a:lnTo>
                    <a:lnTo>
                      <a:pt x="40" y="0"/>
                    </a:lnTo>
                    <a:lnTo>
                      <a:pt x="40" y="2"/>
                    </a:lnTo>
                    <a:lnTo>
                      <a:pt x="42" y="2"/>
                    </a:lnTo>
                    <a:lnTo>
                      <a:pt x="44" y="2"/>
                    </a:lnTo>
                    <a:lnTo>
                      <a:pt x="46" y="2"/>
                    </a:lnTo>
                    <a:lnTo>
                      <a:pt x="50" y="2"/>
                    </a:lnTo>
                    <a:lnTo>
                      <a:pt x="50" y="4"/>
                    </a:lnTo>
                    <a:lnTo>
                      <a:pt x="52" y="4"/>
                    </a:lnTo>
                    <a:lnTo>
                      <a:pt x="53" y="7"/>
                    </a:lnTo>
                    <a:lnTo>
                      <a:pt x="55" y="7"/>
                    </a:lnTo>
                    <a:lnTo>
                      <a:pt x="57" y="7"/>
                    </a:lnTo>
                    <a:lnTo>
                      <a:pt x="59" y="9"/>
                    </a:lnTo>
                    <a:lnTo>
                      <a:pt x="61" y="11"/>
                    </a:lnTo>
                    <a:lnTo>
                      <a:pt x="65" y="15"/>
                    </a:lnTo>
                    <a:lnTo>
                      <a:pt x="67" y="19"/>
                    </a:lnTo>
                    <a:lnTo>
                      <a:pt x="69" y="21"/>
                    </a:lnTo>
                    <a:lnTo>
                      <a:pt x="69" y="25"/>
                    </a:lnTo>
                    <a:lnTo>
                      <a:pt x="71" y="27"/>
                    </a:lnTo>
                    <a:lnTo>
                      <a:pt x="71" y="28"/>
                    </a:lnTo>
                    <a:lnTo>
                      <a:pt x="73" y="30"/>
                    </a:lnTo>
                    <a:lnTo>
                      <a:pt x="73" y="32"/>
                    </a:lnTo>
                    <a:lnTo>
                      <a:pt x="73" y="34"/>
                    </a:lnTo>
                    <a:lnTo>
                      <a:pt x="73" y="38"/>
                    </a:lnTo>
                    <a:lnTo>
                      <a:pt x="73" y="40"/>
                    </a:lnTo>
                    <a:lnTo>
                      <a:pt x="73" y="42"/>
                    </a:lnTo>
                    <a:lnTo>
                      <a:pt x="73" y="44"/>
                    </a:lnTo>
                    <a:lnTo>
                      <a:pt x="73" y="46"/>
                    </a:lnTo>
                    <a:lnTo>
                      <a:pt x="73" y="48"/>
                    </a:lnTo>
                    <a:lnTo>
                      <a:pt x="71" y="53"/>
                    </a:lnTo>
                    <a:lnTo>
                      <a:pt x="69" y="55"/>
                    </a:lnTo>
                    <a:lnTo>
                      <a:pt x="69" y="59"/>
                    </a:lnTo>
                    <a:lnTo>
                      <a:pt x="67" y="63"/>
                    </a:lnTo>
                    <a:lnTo>
                      <a:pt x="65" y="67"/>
                    </a:lnTo>
                    <a:lnTo>
                      <a:pt x="61" y="69"/>
                    </a:lnTo>
                    <a:lnTo>
                      <a:pt x="61" y="71"/>
                    </a:lnTo>
                    <a:lnTo>
                      <a:pt x="59" y="73"/>
                    </a:lnTo>
                    <a:lnTo>
                      <a:pt x="57" y="73"/>
                    </a:lnTo>
                    <a:lnTo>
                      <a:pt x="57" y="75"/>
                    </a:lnTo>
                    <a:lnTo>
                      <a:pt x="55" y="75"/>
                    </a:lnTo>
                    <a:lnTo>
                      <a:pt x="53" y="75"/>
                    </a:lnTo>
                    <a:lnTo>
                      <a:pt x="52" y="75"/>
                    </a:lnTo>
                    <a:lnTo>
                      <a:pt x="50" y="78"/>
                    </a:lnTo>
                    <a:lnTo>
                      <a:pt x="46" y="78"/>
                    </a:lnTo>
                    <a:lnTo>
                      <a:pt x="44" y="80"/>
                    </a:lnTo>
                    <a:lnTo>
                      <a:pt x="42" y="80"/>
                    </a:lnTo>
                    <a:lnTo>
                      <a:pt x="40" y="80"/>
                    </a:lnTo>
                    <a:lnTo>
                      <a:pt x="38"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067440" y="1923480"/>
                <a:ext cx="100800" cy="104040"/>
              </a:xfrm>
              <a:custGeom>
                <a:avLst/>
                <a:gdLst/>
                <a:ahLst/>
                <a:rect l="l" t="t" r="r" b="b"/>
                <a:pathLst>
                  <a:path w="71" h="80">
                    <a:moveTo>
                      <a:pt x="35" y="80"/>
                    </a:moveTo>
                    <a:lnTo>
                      <a:pt x="33" y="80"/>
                    </a:lnTo>
                    <a:lnTo>
                      <a:pt x="33" y="80"/>
                    </a:lnTo>
                    <a:lnTo>
                      <a:pt x="31" y="80"/>
                    </a:lnTo>
                    <a:lnTo>
                      <a:pt x="29" y="80"/>
                    </a:lnTo>
                    <a:lnTo>
                      <a:pt x="27" y="80"/>
                    </a:lnTo>
                    <a:lnTo>
                      <a:pt x="25" y="78"/>
                    </a:lnTo>
                    <a:lnTo>
                      <a:pt x="23" y="78"/>
                    </a:lnTo>
                    <a:lnTo>
                      <a:pt x="21" y="78"/>
                    </a:lnTo>
                    <a:lnTo>
                      <a:pt x="21" y="76"/>
                    </a:lnTo>
                    <a:lnTo>
                      <a:pt x="19" y="73"/>
                    </a:lnTo>
                    <a:lnTo>
                      <a:pt x="17" y="73"/>
                    </a:lnTo>
                    <a:lnTo>
                      <a:pt x="15" y="73"/>
                    </a:lnTo>
                    <a:lnTo>
                      <a:pt x="14" y="71"/>
                    </a:lnTo>
                    <a:lnTo>
                      <a:pt x="12" y="69"/>
                    </a:lnTo>
                    <a:lnTo>
                      <a:pt x="10" y="69"/>
                    </a:lnTo>
                    <a:lnTo>
                      <a:pt x="8" y="65"/>
                    </a:lnTo>
                    <a:lnTo>
                      <a:pt x="6" y="63"/>
                    </a:lnTo>
                    <a:lnTo>
                      <a:pt x="4" y="59"/>
                    </a:lnTo>
                    <a:lnTo>
                      <a:pt x="2" y="55"/>
                    </a:lnTo>
                    <a:lnTo>
                      <a:pt x="0" y="51"/>
                    </a:lnTo>
                    <a:lnTo>
                      <a:pt x="0" y="48"/>
                    </a:lnTo>
                    <a:lnTo>
                      <a:pt x="0" y="46"/>
                    </a:lnTo>
                    <a:lnTo>
                      <a:pt x="0" y="44"/>
                    </a:lnTo>
                    <a:lnTo>
                      <a:pt x="0" y="42"/>
                    </a:lnTo>
                    <a:lnTo>
                      <a:pt x="0" y="40"/>
                    </a:lnTo>
                    <a:lnTo>
                      <a:pt x="0" y="40"/>
                    </a:lnTo>
                    <a:lnTo>
                      <a:pt x="0" y="38"/>
                    </a:lnTo>
                    <a:lnTo>
                      <a:pt x="0" y="34"/>
                    </a:lnTo>
                    <a:lnTo>
                      <a:pt x="0" y="32"/>
                    </a:lnTo>
                    <a:lnTo>
                      <a:pt x="0" y="28"/>
                    </a:lnTo>
                    <a:lnTo>
                      <a:pt x="2" y="25"/>
                    </a:lnTo>
                    <a:lnTo>
                      <a:pt x="4" y="21"/>
                    </a:lnTo>
                    <a:lnTo>
                      <a:pt x="6" y="17"/>
                    </a:lnTo>
                    <a:lnTo>
                      <a:pt x="8" y="15"/>
                    </a:lnTo>
                    <a:lnTo>
                      <a:pt x="10" y="11"/>
                    </a:lnTo>
                    <a:lnTo>
                      <a:pt x="12" y="11"/>
                    </a:lnTo>
                    <a:lnTo>
                      <a:pt x="14" y="9"/>
                    </a:lnTo>
                    <a:lnTo>
                      <a:pt x="15" y="7"/>
                    </a:lnTo>
                    <a:lnTo>
                      <a:pt x="15" y="5"/>
                    </a:lnTo>
                    <a:lnTo>
                      <a:pt x="17" y="5"/>
                    </a:lnTo>
                    <a:lnTo>
                      <a:pt x="19" y="5"/>
                    </a:lnTo>
                    <a:lnTo>
                      <a:pt x="21" y="5"/>
                    </a:lnTo>
                    <a:lnTo>
                      <a:pt x="21" y="2"/>
                    </a:lnTo>
                    <a:lnTo>
                      <a:pt x="23" y="2"/>
                    </a:lnTo>
                    <a:lnTo>
                      <a:pt x="25" y="2"/>
                    </a:lnTo>
                    <a:lnTo>
                      <a:pt x="27" y="0"/>
                    </a:lnTo>
                    <a:lnTo>
                      <a:pt x="29" y="0"/>
                    </a:lnTo>
                    <a:lnTo>
                      <a:pt x="31" y="0"/>
                    </a:lnTo>
                    <a:lnTo>
                      <a:pt x="33" y="0"/>
                    </a:lnTo>
                    <a:lnTo>
                      <a:pt x="33" y="0"/>
                    </a:lnTo>
                    <a:lnTo>
                      <a:pt x="35" y="0"/>
                    </a:lnTo>
                    <a:lnTo>
                      <a:pt x="37" y="0"/>
                    </a:lnTo>
                    <a:lnTo>
                      <a:pt x="39" y="0"/>
                    </a:lnTo>
                    <a:lnTo>
                      <a:pt x="40" y="0"/>
                    </a:lnTo>
                    <a:lnTo>
                      <a:pt x="44" y="0"/>
                    </a:lnTo>
                    <a:lnTo>
                      <a:pt x="44" y="0"/>
                    </a:lnTo>
                    <a:lnTo>
                      <a:pt x="46" y="2"/>
                    </a:lnTo>
                    <a:lnTo>
                      <a:pt x="48" y="2"/>
                    </a:lnTo>
                    <a:lnTo>
                      <a:pt x="50" y="2"/>
                    </a:lnTo>
                    <a:lnTo>
                      <a:pt x="50" y="5"/>
                    </a:lnTo>
                    <a:lnTo>
                      <a:pt x="52" y="5"/>
                    </a:lnTo>
                    <a:lnTo>
                      <a:pt x="54" y="5"/>
                    </a:lnTo>
                    <a:lnTo>
                      <a:pt x="56" y="5"/>
                    </a:lnTo>
                    <a:lnTo>
                      <a:pt x="56" y="7"/>
                    </a:lnTo>
                    <a:lnTo>
                      <a:pt x="58" y="9"/>
                    </a:lnTo>
                    <a:lnTo>
                      <a:pt x="60" y="11"/>
                    </a:lnTo>
                    <a:lnTo>
                      <a:pt x="62" y="11"/>
                    </a:lnTo>
                    <a:lnTo>
                      <a:pt x="64" y="15"/>
                    </a:lnTo>
                    <a:lnTo>
                      <a:pt x="65" y="17"/>
                    </a:lnTo>
                    <a:lnTo>
                      <a:pt x="67" y="21"/>
                    </a:lnTo>
                    <a:lnTo>
                      <a:pt x="69" y="25"/>
                    </a:lnTo>
                    <a:lnTo>
                      <a:pt x="69" y="28"/>
                    </a:lnTo>
                    <a:lnTo>
                      <a:pt x="71" y="32"/>
                    </a:lnTo>
                    <a:lnTo>
                      <a:pt x="71" y="34"/>
                    </a:lnTo>
                    <a:lnTo>
                      <a:pt x="71" y="38"/>
                    </a:lnTo>
                    <a:lnTo>
                      <a:pt x="71" y="40"/>
                    </a:lnTo>
                    <a:lnTo>
                      <a:pt x="71" y="40"/>
                    </a:lnTo>
                    <a:lnTo>
                      <a:pt x="71" y="42"/>
                    </a:lnTo>
                    <a:lnTo>
                      <a:pt x="71" y="44"/>
                    </a:lnTo>
                    <a:lnTo>
                      <a:pt x="71" y="46"/>
                    </a:lnTo>
                    <a:lnTo>
                      <a:pt x="71" y="48"/>
                    </a:lnTo>
                    <a:lnTo>
                      <a:pt x="69" y="51"/>
                    </a:lnTo>
                    <a:lnTo>
                      <a:pt x="69" y="55"/>
                    </a:lnTo>
                    <a:lnTo>
                      <a:pt x="67" y="59"/>
                    </a:lnTo>
                    <a:lnTo>
                      <a:pt x="65" y="63"/>
                    </a:lnTo>
                    <a:lnTo>
                      <a:pt x="64" y="65"/>
                    </a:lnTo>
                    <a:lnTo>
                      <a:pt x="62" y="69"/>
                    </a:lnTo>
                    <a:lnTo>
                      <a:pt x="60" y="69"/>
                    </a:lnTo>
                    <a:lnTo>
                      <a:pt x="58" y="71"/>
                    </a:lnTo>
                    <a:lnTo>
                      <a:pt x="56" y="73"/>
                    </a:lnTo>
                    <a:lnTo>
                      <a:pt x="54" y="73"/>
                    </a:lnTo>
                    <a:lnTo>
                      <a:pt x="52" y="73"/>
                    </a:lnTo>
                    <a:lnTo>
                      <a:pt x="50" y="76"/>
                    </a:lnTo>
                    <a:lnTo>
                      <a:pt x="50" y="78"/>
                    </a:lnTo>
                    <a:lnTo>
                      <a:pt x="48" y="78"/>
                    </a:lnTo>
                    <a:lnTo>
                      <a:pt x="46" y="78"/>
                    </a:lnTo>
                    <a:lnTo>
                      <a:pt x="44" y="80"/>
                    </a:lnTo>
                    <a:lnTo>
                      <a:pt x="44" y="80"/>
                    </a:lnTo>
                    <a:lnTo>
                      <a:pt x="40" y="80"/>
                    </a:lnTo>
                    <a:lnTo>
                      <a:pt x="39" y="80"/>
                    </a:lnTo>
                    <a:lnTo>
                      <a:pt x="37" y="80"/>
                    </a:lnTo>
                    <a:lnTo>
                      <a:pt x="35" y="8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067440" y="1923480"/>
                <a:ext cx="100800" cy="104040"/>
              </a:xfrm>
              <a:custGeom>
                <a:avLst/>
                <a:gdLst/>
                <a:ahLst/>
                <a:rect l="l" t="t" r="r" b="b"/>
                <a:pathLst>
                  <a:path w="71" h="80">
                    <a:moveTo>
                      <a:pt x="35" y="80"/>
                    </a:moveTo>
                    <a:lnTo>
                      <a:pt x="33" y="80"/>
                    </a:lnTo>
                    <a:lnTo>
                      <a:pt x="31" y="80"/>
                    </a:lnTo>
                    <a:lnTo>
                      <a:pt x="29" y="80"/>
                    </a:lnTo>
                    <a:lnTo>
                      <a:pt x="27" y="80"/>
                    </a:lnTo>
                    <a:lnTo>
                      <a:pt x="25" y="78"/>
                    </a:lnTo>
                    <a:lnTo>
                      <a:pt x="23" y="78"/>
                    </a:lnTo>
                    <a:lnTo>
                      <a:pt x="21" y="78"/>
                    </a:lnTo>
                    <a:lnTo>
                      <a:pt x="21" y="76"/>
                    </a:lnTo>
                    <a:lnTo>
                      <a:pt x="19" y="73"/>
                    </a:lnTo>
                    <a:lnTo>
                      <a:pt x="17" y="73"/>
                    </a:lnTo>
                    <a:lnTo>
                      <a:pt x="15" y="73"/>
                    </a:lnTo>
                    <a:lnTo>
                      <a:pt x="14" y="71"/>
                    </a:lnTo>
                    <a:lnTo>
                      <a:pt x="12" y="69"/>
                    </a:lnTo>
                    <a:lnTo>
                      <a:pt x="10" y="69"/>
                    </a:lnTo>
                    <a:lnTo>
                      <a:pt x="8" y="65"/>
                    </a:lnTo>
                    <a:lnTo>
                      <a:pt x="6" y="63"/>
                    </a:lnTo>
                    <a:lnTo>
                      <a:pt x="4" y="59"/>
                    </a:lnTo>
                    <a:lnTo>
                      <a:pt x="2" y="55"/>
                    </a:lnTo>
                    <a:lnTo>
                      <a:pt x="0" y="51"/>
                    </a:lnTo>
                    <a:lnTo>
                      <a:pt x="0" y="48"/>
                    </a:lnTo>
                    <a:lnTo>
                      <a:pt x="0" y="46"/>
                    </a:lnTo>
                    <a:lnTo>
                      <a:pt x="0" y="44"/>
                    </a:lnTo>
                    <a:lnTo>
                      <a:pt x="0" y="42"/>
                    </a:lnTo>
                    <a:lnTo>
                      <a:pt x="0" y="40"/>
                    </a:lnTo>
                    <a:lnTo>
                      <a:pt x="0" y="38"/>
                    </a:lnTo>
                    <a:lnTo>
                      <a:pt x="0" y="34"/>
                    </a:lnTo>
                    <a:lnTo>
                      <a:pt x="0" y="32"/>
                    </a:lnTo>
                    <a:lnTo>
                      <a:pt x="0" y="28"/>
                    </a:lnTo>
                    <a:lnTo>
                      <a:pt x="2" y="25"/>
                    </a:lnTo>
                    <a:lnTo>
                      <a:pt x="4" y="21"/>
                    </a:lnTo>
                    <a:lnTo>
                      <a:pt x="6" y="17"/>
                    </a:lnTo>
                    <a:lnTo>
                      <a:pt x="8" y="15"/>
                    </a:lnTo>
                    <a:lnTo>
                      <a:pt x="10" y="11"/>
                    </a:lnTo>
                    <a:lnTo>
                      <a:pt x="12" y="11"/>
                    </a:lnTo>
                    <a:lnTo>
                      <a:pt x="14" y="9"/>
                    </a:lnTo>
                    <a:lnTo>
                      <a:pt x="15" y="7"/>
                    </a:lnTo>
                    <a:lnTo>
                      <a:pt x="15" y="5"/>
                    </a:lnTo>
                    <a:lnTo>
                      <a:pt x="17" y="5"/>
                    </a:lnTo>
                    <a:lnTo>
                      <a:pt x="19" y="5"/>
                    </a:lnTo>
                    <a:lnTo>
                      <a:pt x="21" y="5"/>
                    </a:lnTo>
                    <a:lnTo>
                      <a:pt x="21" y="2"/>
                    </a:lnTo>
                    <a:lnTo>
                      <a:pt x="23" y="2"/>
                    </a:lnTo>
                    <a:lnTo>
                      <a:pt x="25" y="2"/>
                    </a:lnTo>
                    <a:lnTo>
                      <a:pt x="27" y="0"/>
                    </a:lnTo>
                    <a:lnTo>
                      <a:pt x="29" y="0"/>
                    </a:lnTo>
                    <a:lnTo>
                      <a:pt x="31" y="0"/>
                    </a:lnTo>
                    <a:lnTo>
                      <a:pt x="33" y="0"/>
                    </a:lnTo>
                    <a:lnTo>
                      <a:pt x="35" y="0"/>
                    </a:lnTo>
                    <a:lnTo>
                      <a:pt x="37" y="0"/>
                    </a:lnTo>
                    <a:lnTo>
                      <a:pt x="39" y="0"/>
                    </a:lnTo>
                    <a:lnTo>
                      <a:pt x="40" y="0"/>
                    </a:lnTo>
                    <a:lnTo>
                      <a:pt x="44" y="0"/>
                    </a:lnTo>
                    <a:lnTo>
                      <a:pt x="46" y="2"/>
                    </a:lnTo>
                    <a:lnTo>
                      <a:pt x="48" y="2"/>
                    </a:lnTo>
                    <a:lnTo>
                      <a:pt x="50" y="2"/>
                    </a:lnTo>
                    <a:lnTo>
                      <a:pt x="50" y="5"/>
                    </a:lnTo>
                    <a:lnTo>
                      <a:pt x="52" y="5"/>
                    </a:lnTo>
                    <a:lnTo>
                      <a:pt x="54" y="5"/>
                    </a:lnTo>
                    <a:lnTo>
                      <a:pt x="56" y="5"/>
                    </a:lnTo>
                    <a:lnTo>
                      <a:pt x="56" y="7"/>
                    </a:lnTo>
                    <a:lnTo>
                      <a:pt x="58" y="9"/>
                    </a:lnTo>
                    <a:lnTo>
                      <a:pt x="60" y="11"/>
                    </a:lnTo>
                    <a:lnTo>
                      <a:pt x="62" y="11"/>
                    </a:lnTo>
                    <a:lnTo>
                      <a:pt x="64" y="15"/>
                    </a:lnTo>
                    <a:lnTo>
                      <a:pt x="65" y="17"/>
                    </a:lnTo>
                    <a:lnTo>
                      <a:pt x="67" y="21"/>
                    </a:lnTo>
                    <a:lnTo>
                      <a:pt x="69" y="25"/>
                    </a:lnTo>
                    <a:lnTo>
                      <a:pt x="69" y="28"/>
                    </a:lnTo>
                    <a:lnTo>
                      <a:pt x="71" y="32"/>
                    </a:lnTo>
                    <a:lnTo>
                      <a:pt x="71" y="34"/>
                    </a:lnTo>
                    <a:lnTo>
                      <a:pt x="71" y="38"/>
                    </a:lnTo>
                    <a:lnTo>
                      <a:pt x="71" y="40"/>
                    </a:lnTo>
                    <a:lnTo>
                      <a:pt x="71" y="42"/>
                    </a:lnTo>
                    <a:lnTo>
                      <a:pt x="71" y="44"/>
                    </a:lnTo>
                    <a:lnTo>
                      <a:pt x="71" y="46"/>
                    </a:lnTo>
                    <a:lnTo>
                      <a:pt x="71" y="48"/>
                    </a:lnTo>
                    <a:lnTo>
                      <a:pt x="69" y="51"/>
                    </a:lnTo>
                    <a:lnTo>
                      <a:pt x="69" y="55"/>
                    </a:lnTo>
                    <a:lnTo>
                      <a:pt x="67" y="59"/>
                    </a:lnTo>
                    <a:lnTo>
                      <a:pt x="65" y="63"/>
                    </a:lnTo>
                    <a:lnTo>
                      <a:pt x="64" y="65"/>
                    </a:lnTo>
                    <a:lnTo>
                      <a:pt x="62" y="69"/>
                    </a:lnTo>
                    <a:lnTo>
                      <a:pt x="60" y="69"/>
                    </a:lnTo>
                    <a:lnTo>
                      <a:pt x="58" y="71"/>
                    </a:lnTo>
                    <a:lnTo>
                      <a:pt x="56" y="73"/>
                    </a:lnTo>
                    <a:lnTo>
                      <a:pt x="54" y="73"/>
                    </a:lnTo>
                    <a:lnTo>
                      <a:pt x="52" y="73"/>
                    </a:lnTo>
                    <a:lnTo>
                      <a:pt x="50" y="76"/>
                    </a:lnTo>
                    <a:lnTo>
                      <a:pt x="50" y="78"/>
                    </a:lnTo>
                    <a:lnTo>
                      <a:pt x="48" y="78"/>
                    </a:lnTo>
                    <a:lnTo>
                      <a:pt x="46" y="78"/>
                    </a:lnTo>
                    <a:lnTo>
                      <a:pt x="44" y="80"/>
                    </a:lnTo>
                    <a:lnTo>
                      <a:pt x="40" y="80"/>
                    </a:lnTo>
                    <a:lnTo>
                      <a:pt x="39" y="80"/>
                    </a:lnTo>
                    <a:lnTo>
                      <a:pt x="37" y="80"/>
                    </a:lnTo>
                    <a:lnTo>
                      <a:pt x="35"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006240" y="1738440"/>
                <a:ext cx="625320" cy="906480"/>
              </a:xfrm>
              <a:custGeom>
                <a:avLst/>
                <a:gdLst/>
                <a:ahLst/>
                <a:rect l="l" t="t" r="r" b="b"/>
                <a:pathLst>
                  <a:path w="436" h="694">
                    <a:moveTo>
                      <a:pt x="351" y="199"/>
                    </a:moveTo>
                    <a:lnTo>
                      <a:pt x="353" y="199"/>
                    </a:lnTo>
                    <a:lnTo>
                      <a:pt x="357" y="197"/>
                    </a:lnTo>
                    <a:lnTo>
                      <a:pt x="361" y="197"/>
                    </a:lnTo>
                    <a:lnTo>
                      <a:pt x="369" y="195"/>
                    </a:lnTo>
                    <a:lnTo>
                      <a:pt x="372" y="193"/>
                    </a:lnTo>
                    <a:lnTo>
                      <a:pt x="374" y="193"/>
                    </a:lnTo>
                    <a:lnTo>
                      <a:pt x="378" y="193"/>
                    </a:lnTo>
                    <a:lnTo>
                      <a:pt x="384" y="193"/>
                    </a:lnTo>
                    <a:lnTo>
                      <a:pt x="388" y="193"/>
                    </a:lnTo>
                    <a:lnTo>
                      <a:pt x="394" y="193"/>
                    </a:lnTo>
                    <a:lnTo>
                      <a:pt x="397" y="193"/>
                    </a:lnTo>
                    <a:lnTo>
                      <a:pt x="401" y="193"/>
                    </a:lnTo>
                    <a:lnTo>
                      <a:pt x="407" y="193"/>
                    </a:lnTo>
                    <a:lnTo>
                      <a:pt x="411" y="193"/>
                    </a:lnTo>
                    <a:lnTo>
                      <a:pt x="415" y="195"/>
                    </a:lnTo>
                    <a:lnTo>
                      <a:pt x="419" y="197"/>
                    </a:lnTo>
                    <a:lnTo>
                      <a:pt x="420" y="199"/>
                    </a:lnTo>
                    <a:lnTo>
                      <a:pt x="424" y="201"/>
                    </a:lnTo>
                    <a:lnTo>
                      <a:pt x="430" y="205"/>
                    </a:lnTo>
                    <a:lnTo>
                      <a:pt x="430" y="209"/>
                    </a:lnTo>
                    <a:lnTo>
                      <a:pt x="432" y="211"/>
                    </a:lnTo>
                    <a:lnTo>
                      <a:pt x="434" y="215"/>
                    </a:lnTo>
                    <a:lnTo>
                      <a:pt x="436" y="220"/>
                    </a:lnTo>
                    <a:lnTo>
                      <a:pt x="436" y="226"/>
                    </a:lnTo>
                    <a:lnTo>
                      <a:pt x="436" y="230"/>
                    </a:lnTo>
                    <a:lnTo>
                      <a:pt x="436" y="238"/>
                    </a:lnTo>
                    <a:lnTo>
                      <a:pt x="434" y="245"/>
                    </a:lnTo>
                    <a:lnTo>
                      <a:pt x="432" y="253"/>
                    </a:lnTo>
                    <a:lnTo>
                      <a:pt x="430" y="261"/>
                    </a:lnTo>
                    <a:lnTo>
                      <a:pt x="430" y="270"/>
                    </a:lnTo>
                    <a:lnTo>
                      <a:pt x="426" y="276"/>
                    </a:lnTo>
                    <a:lnTo>
                      <a:pt x="422" y="284"/>
                    </a:lnTo>
                    <a:lnTo>
                      <a:pt x="420" y="291"/>
                    </a:lnTo>
                    <a:lnTo>
                      <a:pt x="419" y="297"/>
                    </a:lnTo>
                    <a:lnTo>
                      <a:pt x="415" y="303"/>
                    </a:lnTo>
                    <a:lnTo>
                      <a:pt x="411" y="307"/>
                    </a:lnTo>
                    <a:lnTo>
                      <a:pt x="407" y="316"/>
                    </a:lnTo>
                    <a:lnTo>
                      <a:pt x="405" y="320"/>
                    </a:lnTo>
                    <a:lnTo>
                      <a:pt x="401" y="326"/>
                    </a:lnTo>
                    <a:lnTo>
                      <a:pt x="397" y="330"/>
                    </a:lnTo>
                    <a:lnTo>
                      <a:pt x="394" y="337"/>
                    </a:lnTo>
                    <a:lnTo>
                      <a:pt x="390" y="341"/>
                    </a:lnTo>
                    <a:lnTo>
                      <a:pt x="386" y="347"/>
                    </a:lnTo>
                    <a:lnTo>
                      <a:pt x="382" y="351"/>
                    </a:lnTo>
                    <a:lnTo>
                      <a:pt x="372" y="362"/>
                    </a:lnTo>
                    <a:lnTo>
                      <a:pt x="365" y="368"/>
                    </a:lnTo>
                    <a:lnTo>
                      <a:pt x="357" y="378"/>
                    </a:lnTo>
                    <a:lnTo>
                      <a:pt x="349" y="387"/>
                    </a:lnTo>
                    <a:lnTo>
                      <a:pt x="340" y="397"/>
                    </a:lnTo>
                    <a:lnTo>
                      <a:pt x="332" y="405"/>
                    </a:lnTo>
                    <a:lnTo>
                      <a:pt x="326" y="410"/>
                    </a:lnTo>
                    <a:lnTo>
                      <a:pt x="324" y="414"/>
                    </a:lnTo>
                    <a:lnTo>
                      <a:pt x="319" y="420"/>
                    </a:lnTo>
                    <a:lnTo>
                      <a:pt x="315" y="426"/>
                    </a:lnTo>
                    <a:lnTo>
                      <a:pt x="311" y="431"/>
                    </a:lnTo>
                    <a:lnTo>
                      <a:pt x="307" y="437"/>
                    </a:lnTo>
                    <a:lnTo>
                      <a:pt x="303" y="443"/>
                    </a:lnTo>
                    <a:lnTo>
                      <a:pt x="301" y="451"/>
                    </a:lnTo>
                    <a:lnTo>
                      <a:pt x="298" y="458"/>
                    </a:lnTo>
                    <a:lnTo>
                      <a:pt x="294" y="466"/>
                    </a:lnTo>
                    <a:lnTo>
                      <a:pt x="292" y="474"/>
                    </a:lnTo>
                    <a:lnTo>
                      <a:pt x="292" y="483"/>
                    </a:lnTo>
                    <a:lnTo>
                      <a:pt x="290" y="489"/>
                    </a:lnTo>
                    <a:lnTo>
                      <a:pt x="286" y="499"/>
                    </a:lnTo>
                    <a:lnTo>
                      <a:pt x="286" y="508"/>
                    </a:lnTo>
                    <a:lnTo>
                      <a:pt x="284" y="516"/>
                    </a:lnTo>
                    <a:lnTo>
                      <a:pt x="280" y="527"/>
                    </a:lnTo>
                    <a:lnTo>
                      <a:pt x="280" y="533"/>
                    </a:lnTo>
                    <a:lnTo>
                      <a:pt x="280" y="543"/>
                    </a:lnTo>
                    <a:lnTo>
                      <a:pt x="278" y="552"/>
                    </a:lnTo>
                    <a:lnTo>
                      <a:pt x="278" y="560"/>
                    </a:lnTo>
                    <a:lnTo>
                      <a:pt x="276" y="568"/>
                    </a:lnTo>
                    <a:lnTo>
                      <a:pt x="276" y="577"/>
                    </a:lnTo>
                    <a:lnTo>
                      <a:pt x="275" y="583"/>
                    </a:lnTo>
                    <a:lnTo>
                      <a:pt x="275" y="598"/>
                    </a:lnTo>
                    <a:lnTo>
                      <a:pt x="275" y="612"/>
                    </a:lnTo>
                    <a:lnTo>
                      <a:pt x="273" y="629"/>
                    </a:lnTo>
                    <a:lnTo>
                      <a:pt x="273" y="637"/>
                    </a:lnTo>
                    <a:lnTo>
                      <a:pt x="275" y="639"/>
                    </a:lnTo>
                    <a:lnTo>
                      <a:pt x="275" y="642"/>
                    </a:lnTo>
                    <a:lnTo>
                      <a:pt x="275" y="646"/>
                    </a:lnTo>
                    <a:lnTo>
                      <a:pt x="273" y="650"/>
                    </a:lnTo>
                    <a:lnTo>
                      <a:pt x="271" y="652"/>
                    </a:lnTo>
                    <a:lnTo>
                      <a:pt x="267" y="658"/>
                    </a:lnTo>
                    <a:lnTo>
                      <a:pt x="263" y="658"/>
                    </a:lnTo>
                    <a:lnTo>
                      <a:pt x="259" y="662"/>
                    </a:lnTo>
                    <a:lnTo>
                      <a:pt x="253" y="666"/>
                    </a:lnTo>
                    <a:lnTo>
                      <a:pt x="248" y="669"/>
                    </a:lnTo>
                    <a:lnTo>
                      <a:pt x="244" y="671"/>
                    </a:lnTo>
                    <a:lnTo>
                      <a:pt x="238" y="675"/>
                    </a:lnTo>
                    <a:lnTo>
                      <a:pt x="230" y="679"/>
                    </a:lnTo>
                    <a:lnTo>
                      <a:pt x="223" y="683"/>
                    </a:lnTo>
                    <a:lnTo>
                      <a:pt x="215" y="685"/>
                    </a:lnTo>
                    <a:lnTo>
                      <a:pt x="211" y="687"/>
                    </a:lnTo>
                    <a:lnTo>
                      <a:pt x="202" y="689"/>
                    </a:lnTo>
                    <a:lnTo>
                      <a:pt x="194" y="690"/>
                    </a:lnTo>
                    <a:lnTo>
                      <a:pt x="188" y="692"/>
                    </a:lnTo>
                    <a:lnTo>
                      <a:pt x="178" y="694"/>
                    </a:lnTo>
                    <a:lnTo>
                      <a:pt x="173" y="694"/>
                    </a:lnTo>
                    <a:lnTo>
                      <a:pt x="167" y="694"/>
                    </a:lnTo>
                    <a:lnTo>
                      <a:pt x="157" y="694"/>
                    </a:lnTo>
                    <a:lnTo>
                      <a:pt x="154" y="694"/>
                    </a:lnTo>
                    <a:lnTo>
                      <a:pt x="148" y="694"/>
                    </a:lnTo>
                    <a:lnTo>
                      <a:pt x="142" y="692"/>
                    </a:lnTo>
                    <a:lnTo>
                      <a:pt x="134" y="690"/>
                    </a:lnTo>
                    <a:lnTo>
                      <a:pt x="130" y="689"/>
                    </a:lnTo>
                    <a:lnTo>
                      <a:pt x="127" y="687"/>
                    </a:lnTo>
                    <a:lnTo>
                      <a:pt x="123" y="683"/>
                    </a:lnTo>
                    <a:lnTo>
                      <a:pt x="121" y="679"/>
                    </a:lnTo>
                    <a:lnTo>
                      <a:pt x="119" y="673"/>
                    </a:lnTo>
                    <a:lnTo>
                      <a:pt x="119" y="671"/>
                    </a:lnTo>
                    <a:lnTo>
                      <a:pt x="119" y="669"/>
                    </a:lnTo>
                    <a:lnTo>
                      <a:pt x="119" y="664"/>
                    </a:lnTo>
                    <a:lnTo>
                      <a:pt x="121" y="660"/>
                    </a:lnTo>
                    <a:lnTo>
                      <a:pt x="121" y="648"/>
                    </a:lnTo>
                    <a:lnTo>
                      <a:pt x="121" y="635"/>
                    </a:lnTo>
                    <a:lnTo>
                      <a:pt x="125" y="618"/>
                    </a:lnTo>
                    <a:lnTo>
                      <a:pt x="127" y="598"/>
                    </a:lnTo>
                    <a:lnTo>
                      <a:pt x="129" y="589"/>
                    </a:lnTo>
                    <a:lnTo>
                      <a:pt x="129" y="579"/>
                    </a:lnTo>
                    <a:lnTo>
                      <a:pt x="130" y="568"/>
                    </a:lnTo>
                    <a:lnTo>
                      <a:pt x="130" y="558"/>
                    </a:lnTo>
                    <a:lnTo>
                      <a:pt x="132" y="547"/>
                    </a:lnTo>
                    <a:lnTo>
                      <a:pt x="132" y="535"/>
                    </a:lnTo>
                    <a:lnTo>
                      <a:pt x="132" y="527"/>
                    </a:lnTo>
                    <a:lnTo>
                      <a:pt x="132" y="514"/>
                    </a:lnTo>
                    <a:lnTo>
                      <a:pt x="132" y="504"/>
                    </a:lnTo>
                    <a:lnTo>
                      <a:pt x="132" y="493"/>
                    </a:lnTo>
                    <a:lnTo>
                      <a:pt x="132" y="485"/>
                    </a:lnTo>
                    <a:lnTo>
                      <a:pt x="130" y="474"/>
                    </a:lnTo>
                    <a:lnTo>
                      <a:pt x="129" y="464"/>
                    </a:lnTo>
                    <a:lnTo>
                      <a:pt x="127" y="454"/>
                    </a:lnTo>
                    <a:lnTo>
                      <a:pt x="125" y="445"/>
                    </a:lnTo>
                    <a:lnTo>
                      <a:pt x="121" y="439"/>
                    </a:lnTo>
                    <a:lnTo>
                      <a:pt x="121" y="431"/>
                    </a:lnTo>
                    <a:lnTo>
                      <a:pt x="117" y="424"/>
                    </a:lnTo>
                    <a:lnTo>
                      <a:pt x="111" y="418"/>
                    </a:lnTo>
                    <a:lnTo>
                      <a:pt x="106" y="412"/>
                    </a:lnTo>
                    <a:lnTo>
                      <a:pt x="100" y="408"/>
                    </a:lnTo>
                    <a:lnTo>
                      <a:pt x="94" y="401"/>
                    </a:lnTo>
                    <a:lnTo>
                      <a:pt x="88" y="397"/>
                    </a:lnTo>
                    <a:lnTo>
                      <a:pt x="82" y="391"/>
                    </a:lnTo>
                    <a:lnTo>
                      <a:pt x="79" y="385"/>
                    </a:lnTo>
                    <a:lnTo>
                      <a:pt x="75" y="378"/>
                    </a:lnTo>
                    <a:lnTo>
                      <a:pt x="69" y="372"/>
                    </a:lnTo>
                    <a:lnTo>
                      <a:pt x="63" y="364"/>
                    </a:lnTo>
                    <a:lnTo>
                      <a:pt x="57" y="357"/>
                    </a:lnTo>
                    <a:lnTo>
                      <a:pt x="54" y="351"/>
                    </a:lnTo>
                    <a:lnTo>
                      <a:pt x="48" y="345"/>
                    </a:lnTo>
                    <a:lnTo>
                      <a:pt x="42" y="339"/>
                    </a:lnTo>
                    <a:lnTo>
                      <a:pt x="40" y="330"/>
                    </a:lnTo>
                    <a:lnTo>
                      <a:pt x="34" y="324"/>
                    </a:lnTo>
                    <a:lnTo>
                      <a:pt x="31" y="318"/>
                    </a:lnTo>
                    <a:lnTo>
                      <a:pt x="29" y="309"/>
                    </a:lnTo>
                    <a:lnTo>
                      <a:pt x="25" y="305"/>
                    </a:lnTo>
                    <a:lnTo>
                      <a:pt x="21" y="297"/>
                    </a:lnTo>
                    <a:lnTo>
                      <a:pt x="17" y="291"/>
                    </a:lnTo>
                    <a:lnTo>
                      <a:pt x="13" y="284"/>
                    </a:lnTo>
                    <a:lnTo>
                      <a:pt x="11" y="278"/>
                    </a:lnTo>
                    <a:lnTo>
                      <a:pt x="8" y="272"/>
                    </a:lnTo>
                    <a:lnTo>
                      <a:pt x="6" y="266"/>
                    </a:lnTo>
                    <a:lnTo>
                      <a:pt x="4" y="261"/>
                    </a:lnTo>
                    <a:lnTo>
                      <a:pt x="2" y="255"/>
                    </a:lnTo>
                    <a:lnTo>
                      <a:pt x="2" y="249"/>
                    </a:lnTo>
                    <a:lnTo>
                      <a:pt x="0" y="243"/>
                    </a:lnTo>
                    <a:lnTo>
                      <a:pt x="0" y="239"/>
                    </a:lnTo>
                    <a:lnTo>
                      <a:pt x="0" y="236"/>
                    </a:lnTo>
                    <a:lnTo>
                      <a:pt x="0" y="230"/>
                    </a:lnTo>
                    <a:lnTo>
                      <a:pt x="0" y="228"/>
                    </a:lnTo>
                    <a:lnTo>
                      <a:pt x="0" y="226"/>
                    </a:lnTo>
                    <a:lnTo>
                      <a:pt x="2" y="222"/>
                    </a:lnTo>
                    <a:lnTo>
                      <a:pt x="2" y="218"/>
                    </a:lnTo>
                    <a:lnTo>
                      <a:pt x="4" y="215"/>
                    </a:lnTo>
                    <a:lnTo>
                      <a:pt x="6" y="213"/>
                    </a:lnTo>
                    <a:lnTo>
                      <a:pt x="8" y="211"/>
                    </a:lnTo>
                    <a:lnTo>
                      <a:pt x="9" y="207"/>
                    </a:lnTo>
                    <a:lnTo>
                      <a:pt x="11" y="203"/>
                    </a:lnTo>
                    <a:lnTo>
                      <a:pt x="13" y="201"/>
                    </a:lnTo>
                    <a:lnTo>
                      <a:pt x="15" y="197"/>
                    </a:lnTo>
                    <a:lnTo>
                      <a:pt x="17" y="193"/>
                    </a:lnTo>
                    <a:lnTo>
                      <a:pt x="19" y="193"/>
                    </a:lnTo>
                    <a:lnTo>
                      <a:pt x="21" y="188"/>
                    </a:lnTo>
                    <a:lnTo>
                      <a:pt x="25" y="186"/>
                    </a:lnTo>
                    <a:lnTo>
                      <a:pt x="27" y="184"/>
                    </a:lnTo>
                    <a:lnTo>
                      <a:pt x="29" y="182"/>
                    </a:lnTo>
                    <a:lnTo>
                      <a:pt x="31" y="180"/>
                    </a:lnTo>
                    <a:lnTo>
                      <a:pt x="33" y="178"/>
                    </a:lnTo>
                    <a:lnTo>
                      <a:pt x="38" y="174"/>
                    </a:lnTo>
                    <a:lnTo>
                      <a:pt x="40" y="172"/>
                    </a:lnTo>
                    <a:lnTo>
                      <a:pt x="42" y="172"/>
                    </a:lnTo>
                    <a:lnTo>
                      <a:pt x="44" y="170"/>
                    </a:lnTo>
                    <a:lnTo>
                      <a:pt x="48" y="168"/>
                    </a:lnTo>
                    <a:lnTo>
                      <a:pt x="50" y="167"/>
                    </a:lnTo>
                    <a:lnTo>
                      <a:pt x="54" y="167"/>
                    </a:lnTo>
                    <a:lnTo>
                      <a:pt x="56" y="167"/>
                    </a:lnTo>
                    <a:lnTo>
                      <a:pt x="59" y="165"/>
                    </a:lnTo>
                    <a:lnTo>
                      <a:pt x="61" y="165"/>
                    </a:lnTo>
                    <a:lnTo>
                      <a:pt x="65" y="165"/>
                    </a:lnTo>
                    <a:lnTo>
                      <a:pt x="67" y="167"/>
                    </a:lnTo>
                    <a:lnTo>
                      <a:pt x="71" y="167"/>
                    </a:lnTo>
                    <a:lnTo>
                      <a:pt x="73" y="167"/>
                    </a:lnTo>
                    <a:lnTo>
                      <a:pt x="75" y="168"/>
                    </a:lnTo>
                    <a:lnTo>
                      <a:pt x="77" y="170"/>
                    </a:lnTo>
                    <a:lnTo>
                      <a:pt x="79" y="168"/>
                    </a:lnTo>
                    <a:lnTo>
                      <a:pt x="81" y="168"/>
                    </a:lnTo>
                    <a:lnTo>
                      <a:pt x="81" y="167"/>
                    </a:lnTo>
                    <a:lnTo>
                      <a:pt x="81" y="163"/>
                    </a:lnTo>
                    <a:lnTo>
                      <a:pt x="82" y="159"/>
                    </a:lnTo>
                    <a:lnTo>
                      <a:pt x="82" y="153"/>
                    </a:lnTo>
                    <a:lnTo>
                      <a:pt x="82" y="147"/>
                    </a:lnTo>
                    <a:lnTo>
                      <a:pt x="82" y="136"/>
                    </a:lnTo>
                    <a:lnTo>
                      <a:pt x="82" y="121"/>
                    </a:lnTo>
                    <a:lnTo>
                      <a:pt x="82" y="113"/>
                    </a:lnTo>
                    <a:lnTo>
                      <a:pt x="86" y="103"/>
                    </a:lnTo>
                    <a:lnTo>
                      <a:pt x="86" y="96"/>
                    </a:lnTo>
                    <a:lnTo>
                      <a:pt x="86" y="90"/>
                    </a:lnTo>
                    <a:lnTo>
                      <a:pt x="88" y="80"/>
                    </a:lnTo>
                    <a:lnTo>
                      <a:pt x="90" y="73"/>
                    </a:lnTo>
                    <a:lnTo>
                      <a:pt x="94" y="63"/>
                    </a:lnTo>
                    <a:lnTo>
                      <a:pt x="98" y="57"/>
                    </a:lnTo>
                    <a:lnTo>
                      <a:pt x="102" y="48"/>
                    </a:lnTo>
                    <a:lnTo>
                      <a:pt x="106" y="42"/>
                    </a:lnTo>
                    <a:lnTo>
                      <a:pt x="111" y="32"/>
                    </a:lnTo>
                    <a:lnTo>
                      <a:pt x="119" y="26"/>
                    </a:lnTo>
                    <a:lnTo>
                      <a:pt x="125" y="21"/>
                    </a:lnTo>
                    <a:lnTo>
                      <a:pt x="132" y="13"/>
                    </a:lnTo>
                    <a:lnTo>
                      <a:pt x="144" y="11"/>
                    </a:lnTo>
                    <a:lnTo>
                      <a:pt x="154" y="7"/>
                    </a:lnTo>
                    <a:lnTo>
                      <a:pt x="167" y="2"/>
                    </a:lnTo>
                    <a:lnTo>
                      <a:pt x="177" y="0"/>
                    </a:lnTo>
                    <a:lnTo>
                      <a:pt x="192" y="0"/>
                    </a:lnTo>
                    <a:lnTo>
                      <a:pt x="209" y="0"/>
                    </a:lnTo>
                    <a:lnTo>
                      <a:pt x="223" y="0"/>
                    </a:lnTo>
                    <a:lnTo>
                      <a:pt x="238" y="0"/>
                    </a:lnTo>
                    <a:lnTo>
                      <a:pt x="250" y="0"/>
                    </a:lnTo>
                    <a:lnTo>
                      <a:pt x="263" y="2"/>
                    </a:lnTo>
                    <a:lnTo>
                      <a:pt x="276" y="5"/>
                    </a:lnTo>
                    <a:lnTo>
                      <a:pt x="288" y="7"/>
                    </a:lnTo>
                    <a:lnTo>
                      <a:pt x="296" y="11"/>
                    </a:lnTo>
                    <a:lnTo>
                      <a:pt x="305" y="11"/>
                    </a:lnTo>
                    <a:lnTo>
                      <a:pt x="315" y="15"/>
                    </a:lnTo>
                    <a:lnTo>
                      <a:pt x="323" y="19"/>
                    </a:lnTo>
                    <a:lnTo>
                      <a:pt x="328" y="23"/>
                    </a:lnTo>
                    <a:lnTo>
                      <a:pt x="336" y="28"/>
                    </a:lnTo>
                    <a:lnTo>
                      <a:pt x="340" y="32"/>
                    </a:lnTo>
                    <a:lnTo>
                      <a:pt x="344" y="38"/>
                    </a:lnTo>
                    <a:lnTo>
                      <a:pt x="349" y="44"/>
                    </a:lnTo>
                    <a:lnTo>
                      <a:pt x="353" y="48"/>
                    </a:lnTo>
                    <a:lnTo>
                      <a:pt x="357" y="55"/>
                    </a:lnTo>
                    <a:lnTo>
                      <a:pt x="359" y="61"/>
                    </a:lnTo>
                    <a:lnTo>
                      <a:pt x="361" y="69"/>
                    </a:lnTo>
                    <a:lnTo>
                      <a:pt x="363" y="76"/>
                    </a:lnTo>
                    <a:lnTo>
                      <a:pt x="363" y="84"/>
                    </a:lnTo>
                    <a:lnTo>
                      <a:pt x="365" y="92"/>
                    </a:lnTo>
                    <a:lnTo>
                      <a:pt x="365" y="101"/>
                    </a:lnTo>
                    <a:lnTo>
                      <a:pt x="365" y="111"/>
                    </a:lnTo>
                    <a:lnTo>
                      <a:pt x="363" y="121"/>
                    </a:lnTo>
                    <a:lnTo>
                      <a:pt x="363" y="130"/>
                    </a:lnTo>
                    <a:lnTo>
                      <a:pt x="361" y="140"/>
                    </a:lnTo>
                    <a:lnTo>
                      <a:pt x="359" y="151"/>
                    </a:lnTo>
                    <a:lnTo>
                      <a:pt x="359" y="163"/>
                    </a:lnTo>
                    <a:lnTo>
                      <a:pt x="357" y="174"/>
                    </a:lnTo>
                    <a:lnTo>
                      <a:pt x="355" y="186"/>
                    </a:lnTo>
                    <a:lnTo>
                      <a:pt x="351" y="19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006240" y="1738440"/>
                <a:ext cx="625320" cy="906480"/>
              </a:xfrm>
              <a:custGeom>
                <a:avLst/>
                <a:gdLst/>
                <a:ahLst/>
                <a:rect l="l" t="t" r="r" b="b"/>
                <a:pathLst>
                  <a:path w="436" h="694">
                    <a:moveTo>
                      <a:pt x="351" y="199"/>
                    </a:moveTo>
                    <a:lnTo>
                      <a:pt x="353" y="199"/>
                    </a:lnTo>
                    <a:lnTo>
                      <a:pt x="357" y="197"/>
                    </a:lnTo>
                    <a:lnTo>
                      <a:pt x="361" y="197"/>
                    </a:lnTo>
                    <a:lnTo>
                      <a:pt x="369" y="195"/>
                    </a:lnTo>
                    <a:lnTo>
                      <a:pt x="372" y="193"/>
                    </a:lnTo>
                    <a:lnTo>
                      <a:pt x="374" y="193"/>
                    </a:lnTo>
                    <a:lnTo>
                      <a:pt x="378" y="193"/>
                    </a:lnTo>
                    <a:lnTo>
                      <a:pt x="384" y="193"/>
                    </a:lnTo>
                    <a:lnTo>
                      <a:pt x="388" y="193"/>
                    </a:lnTo>
                    <a:lnTo>
                      <a:pt x="394" y="193"/>
                    </a:lnTo>
                    <a:lnTo>
                      <a:pt x="397" y="193"/>
                    </a:lnTo>
                    <a:lnTo>
                      <a:pt x="401" y="193"/>
                    </a:lnTo>
                    <a:lnTo>
                      <a:pt x="407" y="193"/>
                    </a:lnTo>
                    <a:lnTo>
                      <a:pt x="411" y="193"/>
                    </a:lnTo>
                    <a:lnTo>
                      <a:pt x="415" y="195"/>
                    </a:lnTo>
                    <a:lnTo>
                      <a:pt x="419" y="197"/>
                    </a:lnTo>
                    <a:lnTo>
                      <a:pt x="420" y="199"/>
                    </a:lnTo>
                    <a:lnTo>
                      <a:pt x="424" y="201"/>
                    </a:lnTo>
                    <a:lnTo>
                      <a:pt x="430" y="205"/>
                    </a:lnTo>
                    <a:lnTo>
                      <a:pt x="430" y="209"/>
                    </a:lnTo>
                    <a:lnTo>
                      <a:pt x="432" y="211"/>
                    </a:lnTo>
                    <a:lnTo>
                      <a:pt x="434" y="215"/>
                    </a:lnTo>
                    <a:lnTo>
                      <a:pt x="436" y="220"/>
                    </a:lnTo>
                    <a:lnTo>
                      <a:pt x="436" y="226"/>
                    </a:lnTo>
                    <a:lnTo>
                      <a:pt x="436" y="230"/>
                    </a:lnTo>
                    <a:lnTo>
                      <a:pt x="436" y="238"/>
                    </a:lnTo>
                    <a:lnTo>
                      <a:pt x="434" y="245"/>
                    </a:lnTo>
                    <a:lnTo>
                      <a:pt x="432" y="253"/>
                    </a:lnTo>
                    <a:lnTo>
                      <a:pt x="430" y="261"/>
                    </a:lnTo>
                    <a:lnTo>
                      <a:pt x="430" y="270"/>
                    </a:lnTo>
                    <a:lnTo>
                      <a:pt x="426" y="276"/>
                    </a:lnTo>
                    <a:lnTo>
                      <a:pt x="422" y="284"/>
                    </a:lnTo>
                    <a:lnTo>
                      <a:pt x="420" y="291"/>
                    </a:lnTo>
                    <a:lnTo>
                      <a:pt x="419" y="297"/>
                    </a:lnTo>
                    <a:lnTo>
                      <a:pt x="415" y="303"/>
                    </a:lnTo>
                    <a:lnTo>
                      <a:pt x="411" y="307"/>
                    </a:lnTo>
                    <a:lnTo>
                      <a:pt x="407" y="316"/>
                    </a:lnTo>
                    <a:lnTo>
                      <a:pt x="405" y="320"/>
                    </a:lnTo>
                    <a:lnTo>
                      <a:pt x="401" y="326"/>
                    </a:lnTo>
                    <a:lnTo>
                      <a:pt x="397" y="330"/>
                    </a:lnTo>
                    <a:lnTo>
                      <a:pt x="394" y="337"/>
                    </a:lnTo>
                    <a:lnTo>
                      <a:pt x="390" y="341"/>
                    </a:lnTo>
                    <a:lnTo>
                      <a:pt x="386" y="347"/>
                    </a:lnTo>
                    <a:lnTo>
                      <a:pt x="382" y="351"/>
                    </a:lnTo>
                    <a:lnTo>
                      <a:pt x="372" y="362"/>
                    </a:lnTo>
                    <a:lnTo>
                      <a:pt x="365" y="368"/>
                    </a:lnTo>
                    <a:lnTo>
                      <a:pt x="357" y="378"/>
                    </a:lnTo>
                    <a:lnTo>
                      <a:pt x="349" y="387"/>
                    </a:lnTo>
                    <a:lnTo>
                      <a:pt x="340" y="397"/>
                    </a:lnTo>
                    <a:lnTo>
                      <a:pt x="332" y="405"/>
                    </a:lnTo>
                    <a:lnTo>
                      <a:pt x="326" y="410"/>
                    </a:lnTo>
                    <a:lnTo>
                      <a:pt x="324" y="414"/>
                    </a:lnTo>
                    <a:lnTo>
                      <a:pt x="319" y="420"/>
                    </a:lnTo>
                    <a:lnTo>
                      <a:pt x="315" y="426"/>
                    </a:lnTo>
                    <a:lnTo>
                      <a:pt x="311" y="431"/>
                    </a:lnTo>
                    <a:lnTo>
                      <a:pt x="307" y="437"/>
                    </a:lnTo>
                    <a:lnTo>
                      <a:pt x="303" y="443"/>
                    </a:lnTo>
                    <a:lnTo>
                      <a:pt x="301" y="451"/>
                    </a:lnTo>
                    <a:lnTo>
                      <a:pt x="298" y="458"/>
                    </a:lnTo>
                    <a:lnTo>
                      <a:pt x="294" y="466"/>
                    </a:lnTo>
                    <a:lnTo>
                      <a:pt x="292" y="474"/>
                    </a:lnTo>
                    <a:lnTo>
                      <a:pt x="292" y="483"/>
                    </a:lnTo>
                    <a:lnTo>
                      <a:pt x="290" y="489"/>
                    </a:lnTo>
                    <a:lnTo>
                      <a:pt x="286" y="499"/>
                    </a:lnTo>
                    <a:lnTo>
                      <a:pt x="286" y="508"/>
                    </a:lnTo>
                    <a:lnTo>
                      <a:pt x="284" y="516"/>
                    </a:lnTo>
                    <a:lnTo>
                      <a:pt x="280" y="527"/>
                    </a:lnTo>
                    <a:lnTo>
                      <a:pt x="280" y="533"/>
                    </a:lnTo>
                    <a:lnTo>
                      <a:pt x="280" y="543"/>
                    </a:lnTo>
                    <a:lnTo>
                      <a:pt x="278" y="552"/>
                    </a:lnTo>
                    <a:lnTo>
                      <a:pt x="278" y="560"/>
                    </a:lnTo>
                    <a:lnTo>
                      <a:pt x="276" y="568"/>
                    </a:lnTo>
                    <a:lnTo>
                      <a:pt x="276" y="577"/>
                    </a:lnTo>
                    <a:lnTo>
                      <a:pt x="275" y="583"/>
                    </a:lnTo>
                    <a:lnTo>
                      <a:pt x="275" y="598"/>
                    </a:lnTo>
                    <a:lnTo>
                      <a:pt x="275" y="612"/>
                    </a:lnTo>
                    <a:lnTo>
                      <a:pt x="273" y="629"/>
                    </a:lnTo>
                    <a:lnTo>
                      <a:pt x="273" y="637"/>
                    </a:lnTo>
                    <a:lnTo>
                      <a:pt x="275" y="639"/>
                    </a:lnTo>
                    <a:lnTo>
                      <a:pt x="275" y="642"/>
                    </a:lnTo>
                    <a:lnTo>
                      <a:pt x="275" y="646"/>
                    </a:lnTo>
                    <a:lnTo>
                      <a:pt x="273" y="650"/>
                    </a:lnTo>
                    <a:lnTo>
                      <a:pt x="271" y="652"/>
                    </a:lnTo>
                    <a:lnTo>
                      <a:pt x="267" y="658"/>
                    </a:lnTo>
                    <a:lnTo>
                      <a:pt x="263" y="658"/>
                    </a:lnTo>
                    <a:lnTo>
                      <a:pt x="259" y="662"/>
                    </a:lnTo>
                    <a:lnTo>
                      <a:pt x="253" y="666"/>
                    </a:lnTo>
                    <a:lnTo>
                      <a:pt x="248" y="669"/>
                    </a:lnTo>
                    <a:lnTo>
                      <a:pt x="244" y="671"/>
                    </a:lnTo>
                    <a:lnTo>
                      <a:pt x="238" y="675"/>
                    </a:lnTo>
                    <a:lnTo>
                      <a:pt x="230" y="679"/>
                    </a:lnTo>
                    <a:lnTo>
                      <a:pt x="223" y="683"/>
                    </a:lnTo>
                    <a:lnTo>
                      <a:pt x="215" y="685"/>
                    </a:lnTo>
                    <a:lnTo>
                      <a:pt x="211" y="687"/>
                    </a:lnTo>
                    <a:lnTo>
                      <a:pt x="202" y="689"/>
                    </a:lnTo>
                    <a:lnTo>
                      <a:pt x="194" y="690"/>
                    </a:lnTo>
                    <a:lnTo>
                      <a:pt x="188" y="692"/>
                    </a:lnTo>
                    <a:lnTo>
                      <a:pt x="178" y="694"/>
                    </a:lnTo>
                    <a:lnTo>
                      <a:pt x="173" y="694"/>
                    </a:lnTo>
                    <a:lnTo>
                      <a:pt x="167" y="694"/>
                    </a:lnTo>
                    <a:lnTo>
                      <a:pt x="157" y="694"/>
                    </a:lnTo>
                    <a:lnTo>
                      <a:pt x="154" y="694"/>
                    </a:lnTo>
                    <a:lnTo>
                      <a:pt x="148" y="694"/>
                    </a:lnTo>
                    <a:lnTo>
                      <a:pt x="142" y="692"/>
                    </a:lnTo>
                    <a:lnTo>
                      <a:pt x="134" y="690"/>
                    </a:lnTo>
                    <a:lnTo>
                      <a:pt x="130" y="689"/>
                    </a:lnTo>
                    <a:lnTo>
                      <a:pt x="127" y="687"/>
                    </a:lnTo>
                    <a:lnTo>
                      <a:pt x="123" y="683"/>
                    </a:lnTo>
                    <a:lnTo>
                      <a:pt x="121" y="679"/>
                    </a:lnTo>
                    <a:lnTo>
                      <a:pt x="119" y="673"/>
                    </a:lnTo>
                    <a:lnTo>
                      <a:pt x="119" y="671"/>
                    </a:lnTo>
                    <a:lnTo>
                      <a:pt x="119" y="669"/>
                    </a:lnTo>
                    <a:lnTo>
                      <a:pt x="119" y="664"/>
                    </a:lnTo>
                    <a:lnTo>
                      <a:pt x="121" y="660"/>
                    </a:lnTo>
                    <a:lnTo>
                      <a:pt x="121" y="648"/>
                    </a:lnTo>
                    <a:lnTo>
                      <a:pt x="121" y="635"/>
                    </a:lnTo>
                    <a:lnTo>
                      <a:pt x="125" y="618"/>
                    </a:lnTo>
                    <a:lnTo>
                      <a:pt x="127" y="598"/>
                    </a:lnTo>
                    <a:lnTo>
                      <a:pt x="129" y="589"/>
                    </a:lnTo>
                    <a:lnTo>
                      <a:pt x="129" y="579"/>
                    </a:lnTo>
                    <a:lnTo>
                      <a:pt x="130" y="568"/>
                    </a:lnTo>
                    <a:lnTo>
                      <a:pt x="130" y="558"/>
                    </a:lnTo>
                    <a:lnTo>
                      <a:pt x="132" y="547"/>
                    </a:lnTo>
                    <a:lnTo>
                      <a:pt x="132" y="535"/>
                    </a:lnTo>
                    <a:lnTo>
                      <a:pt x="132" y="527"/>
                    </a:lnTo>
                    <a:lnTo>
                      <a:pt x="132" y="514"/>
                    </a:lnTo>
                    <a:lnTo>
                      <a:pt x="132" y="504"/>
                    </a:lnTo>
                    <a:lnTo>
                      <a:pt x="132" y="493"/>
                    </a:lnTo>
                    <a:lnTo>
                      <a:pt x="132" y="485"/>
                    </a:lnTo>
                    <a:lnTo>
                      <a:pt x="130" y="474"/>
                    </a:lnTo>
                    <a:lnTo>
                      <a:pt x="129" y="464"/>
                    </a:lnTo>
                    <a:lnTo>
                      <a:pt x="127" y="454"/>
                    </a:lnTo>
                    <a:lnTo>
                      <a:pt x="125" y="445"/>
                    </a:lnTo>
                    <a:lnTo>
                      <a:pt x="121" y="439"/>
                    </a:lnTo>
                    <a:lnTo>
                      <a:pt x="121" y="431"/>
                    </a:lnTo>
                    <a:lnTo>
                      <a:pt x="117" y="424"/>
                    </a:lnTo>
                    <a:lnTo>
                      <a:pt x="111" y="418"/>
                    </a:lnTo>
                    <a:lnTo>
                      <a:pt x="106" y="412"/>
                    </a:lnTo>
                    <a:lnTo>
                      <a:pt x="100" y="408"/>
                    </a:lnTo>
                    <a:lnTo>
                      <a:pt x="94" y="401"/>
                    </a:lnTo>
                    <a:lnTo>
                      <a:pt x="88" y="397"/>
                    </a:lnTo>
                    <a:lnTo>
                      <a:pt x="82" y="391"/>
                    </a:lnTo>
                    <a:lnTo>
                      <a:pt x="79" y="385"/>
                    </a:lnTo>
                    <a:lnTo>
                      <a:pt x="75" y="378"/>
                    </a:lnTo>
                    <a:lnTo>
                      <a:pt x="69" y="372"/>
                    </a:lnTo>
                    <a:lnTo>
                      <a:pt x="63" y="364"/>
                    </a:lnTo>
                    <a:lnTo>
                      <a:pt x="57" y="357"/>
                    </a:lnTo>
                    <a:lnTo>
                      <a:pt x="54" y="351"/>
                    </a:lnTo>
                    <a:lnTo>
                      <a:pt x="48" y="345"/>
                    </a:lnTo>
                    <a:lnTo>
                      <a:pt x="42" y="339"/>
                    </a:lnTo>
                    <a:lnTo>
                      <a:pt x="40" y="330"/>
                    </a:lnTo>
                    <a:lnTo>
                      <a:pt x="34" y="324"/>
                    </a:lnTo>
                    <a:lnTo>
                      <a:pt x="31" y="318"/>
                    </a:lnTo>
                    <a:lnTo>
                      <a:pt x="29" y="309"/>
                    </a:lnTo>
                    <a:lnTo>
                      <a:pt x="25" y="305"/>
                    </a:lnTo>
                    <a:lnTo>
                      <a:pt x="21" y="297"/>
                    </a:lnTo>
                    <a:lnTo>
                      <a:pt x="17" y="291"/>
                    </a:lnTo>
                    <a:lnTo>
                      <a:pt x="13" y="284"/>
                    </a:lnTo>
                    <a:lnTo>
                      <a:pt x="11" y="278"/>
                    </a:lnTo>
                    <a:lnTo>
                      <a:pt x="8" y="272"/>
                    </a:lnTo>
                    <a:lnTo>
                      <a:pt x="6" y="266"/>
                    </a:lnTo>
                    <a:lnTo>
                      <a:pt x="4" y="261"/>
                    </a:lnTo>
                    <a:lnTo>
                      <a:pt x="2" y="255"/>
                    </a:lnTo>
                    <a:lnTo>
                      <a:pt x="2" y="249"/>
                    </a:lnTo>
                    <a:lnTo>
                      <a:pt x="0" y="243"/>
                    </a:lnTo>
                    <a:lnTo>
                      <a:pt x="0" y="239"/>
                    </a:lnTo>
                    <a:lnTo>
                      <a:pt x="0" y="236"/>
                    </a:lnTo>
                    <a:lnTo>
                      <a:pt x="0" y="230"/>
                    </a:lnTo>
                    <a:lnTo>
                      <a:pt x="0" y="228"/>
                    </a:lnTo>
                    <a:lnTo>
                      <a:pt x="0" y="226"/>
                    </a:lnTo>
                    <a:lnTo>
                      <a:pt x="2" y="222"/>
                    </a:lnTo>
                    <a:lnTo>
                      <a:pt x="2" y="218"/>
                    </a:lnTo>
                    <a:lnTo>
                      <a:pt x="4" y="215"/>
                    </a:lnTo>
                    <a:lnTo>
                      <a:pt x="6" y="213"/>
                    </a:lnTo>
                    <a:lnTo>
                      <a:pt x="8" y="211"/>
                    </a:lnTo>
                    <a:lnTo>
                      <a:pt x="9" y="207"/>
                    </a:lnTo>
                    <a:lnTo>
                      <a:pt x="11" y="203"/>
                    </a:lnTo>
                    <a:lnTo>
                      <a:pt x="13" y="201"/>
                    </a:lnTo>
                    <a:lnTo>
                      <a:pt x="15" y="197"/>
                    </a:lnTo>
                    <a:lnTo>
                      <a:pt x="17" y="193"/>
                    </a:lnTo>
                    <a:lnTo>
                      <a:pt x="19" y="193"/>
                    </a:lnTo>
                    <a:lnTo>
                      <a:pt x="21" y="188"/>
                    </a:lnTo>
                    <a:lnTo>
                      <a:pt x="25" y="186"/>
                    </a:lnTo>
                    <a:lnTo>
                      <a:pt x="27" y="184"/>
                    </a:lnTo>
                    <a:lnTo>
                      <a:pt x="29" y="182"/>
                    </a:lnTo>
                    <a:lnTo>
                      <a:pt x="31" y="180"/>
                    </a:lnTo>
                    <a:lnTo>
                      <a:pt x="33" y="178"/>
                    </a:lnTo>
                    <a:lnTo>
                      <a:pt x="38" y="174"/>
                    </a:lnTo>
                    <a:lnTo>
                      <a:pt x="40" y="172"/>
                    </a:lnTo>
                    <a:lnTo>
                      <a:pt x="42" y="172"/>
                    </a:lnTo>
                    <a:lnTo>
                      <a:pt x="44" y="170"/>
                    </a:lnTo>
                    <a:lnTo>
                      <a:pt x="48" y="168"/>
                    </a:lnTo>
                    <a:lnTo>
                      <a:pt x="50" y="167"/>
                    </a:lnTo>
                    <a:lnTo>
                      <a:pt x="54" y="167"/>
                    </a:lnTo>
                    <a:lnTo>
                      <a:pt x="56" y="167"/>
                    </a:lnTo>
                    <a:lnTo>
                      <a:pt x="59" y="165"/>
                    </a:lnTo>
                    <a:lnTo>
                      <a:pt x="61" y="165"/>
                    </a:lnTo>
                    <a:lnTo>
                      <a:pt x="65" y="165"/>
                    </a:lnTo>
                    <a:lnTo>
                      <a:pt x="67" y="167"/>
                    </a:lnTo>
                    <a:lnTo>
                      <a:pt x="71" y="167"/>
                    </a:lnTo>
                    <a:lnTo>
                      <a:pt x="73" y="167"/>
                    </a:lnTo>
                    <a:lnTo>
                      <a:pt x="75" y="168"/>
                    </a:lnTo>
                    <a:lnTo>
                      <a:pt x="77" y="170"/>
                    </a:lnTo>
                    <a:lnTo>
                      <a:pt x="79" y="168"/>
                    </a:lnTo>
                    <a:lnTo>
                      <a:pt x="81" y="168"/>
                    </a:lnTo>
                    <a:lnTo>
                      <a:pt x="81" y="167"/>
                    </a:lnTo>
                    <a:lnTo>
                      <a:pt x="81" y="163"/>
                    </a:lnTo>
                    <a:lnTo>
                      <a:pt x="82" y="159"/>
                    </a:lnTo>
                    <a:lnTo>
                      <a:pt x="82" y="153"/>
                    </a:lnTo>
                    <a:lnTo>
                      <a:pt x="82" y="147"/>
                    </a:lnTo>
                    <a:lnTo>
                      <a:pt x="82" y="136"/>
                    </a:lnTo>
                    <a:lnTo>
                      <a:pt x="82" y="121"/>
                    </a:lnTo>
                    <a:lnTo>
                      <a:pt x="82" y="113"/>
                    </a:lnTo>
                    <a:lnTo>
                      <a:pt x="86" y="103"/>
                    </a:lnTo>
                    <a:lnTo>
                      <a:pt x="86" y="96"/>
                    </a:lnTo>
                    <a:lnTo>
                      <a:pt x="86" y="90"/>
                    </a:lnTo>
                    <a:lnTo>
                      <a:pt x="88" y="80"/>
                    </a:lnTo>
                    <a:lnTo>
                      <a:pt x="90" y="73"/>
                    </a:lnTo>
                    <a:lnTo>
                      <a:pt x="94" y="63"/>
                    </a:lnTo>
                    <a:lnTo>
                      <a:pt x="98" y="57"/>
                    </a:lnTo>
                    <a:lnTo>
                      <a:pt x="102" y="48"/>
                    </a:lnTo>
                    <a:lnTo>
                      <a:pt x="106" y="42"/>
                    </a:lnTo>
                    <a:lnTo>
                      <a:pt x="111" y="32"/>
                    </a:lnTo>
                    <a:lnTo>
                      <a:pt x="119" y="26"/>
                    </a:lnTo>
                    <a:lnTo>
                      <a:pt x="125" y="21"/>
                    </a:lnTo>
                    <a:lnTo>
                      <a:pt x="132" y="13"/>
                    </a:lnTo>
                    <a:lnTo>
                      <a:pt x="144" y="11"/>
                    </a:lnTo>
                    <a:lnTo>
                      <a:pt x="154" y="7"/>
                    </a:lnTo>
                    <a:lnTo>
                      <a:pt x="167" y="2"/>
                    </a:lnTo>
                    <a:lnTo>
                      <a:pt x="177" y="0"/>
                    </a:lnTo>
                    <a:lnTo>
                      <a:pt x="192" y="0"/>
                    </a:lnTo>
                    <a:lnTo>
                      <a:pt x="209" y="0"/>
                    </a:lnTo>
                    <a:lnTo>
                      <a:pt x="223" y="0"/>
                    </a:lnTo>
                    <a:lnTo>
                      <a:pt x="238" y="0"/>
                    </a:lnTo>
                    <a:lnTo>
                      <a:pt x="250" y="0"/>
                    </a:lnTo>
                    <a:lnTo>
                      <a:pt x="263" y="2"/>
                    </a:lnTo>
                    <a:lnTo>
                      <a:pt x="276" y="5"/>
                    </a:lnTo>
                    <a:lnTo>
                      <a:pt x="288" y="7"/>
                    </a:lnTo>
                    <a:lnTo>
                      <a:pt x="296" y="11"/>
                    </a:lnTo>
                    <a:lnTo>
                      <a:pt x="305" y="11"/>
                    </a:lnTo>
                    <a:lnTo>
                      <a:pt x="315" y="15"/>
                    </a:lnTo>
                    <a:lnTo>
                      <a:pt x="323" y="19"/>
                    </a:lnTo>
                    <a:lnTo>
                      <a:pt x="328" y="23"/>
                    </a:lnTo>
                    <a:lnTo>
                      <a:pt x="336" y="28"/>
                    </a:lnTo>
                    <a:lnTo>
                      <a:pt x="340" y="32"/>
                    </a:lnTo>
                    <a:lnTo>
                      <a:pt x="344" y="38"/>
                    </a:lnTo>
                    <a:lnTo>
                      <a:pt x="349" y="44"/>
                    </a:lnTo>
                    <a:lnTo>
                      <a:pt x="353" y="48"/>
                    </a:lnTo>
                    <a:lnTo>
                      <a:pt x="357" y="55"/>
                    </a:lnTo>
                    <a:lnTo>
                      <a:pt x="359" y="61"/>
                    </a:lnTo>
                    <a:lnTo>
                      <a:pt x="361" y="69"/>
                    </a:lnTo>
                    <a:lnTo>
                      <a:pt x="363" y="76"/>
                    </a:lnTo>
                    <a:lnTo>
                      <a:pt x="363" y="84"/>
                    </a:lnTo>
                    <a:lnTo>
                      <a:pt x="365" y="92"/>
                    </a:lnTo>
                    <a:lnTo>
                      <a:pt x="365" y="101"/>
                    </a:lnTo>
                    <a:lnTo>
                      <a:pt x="365" y="111"/>
                    </a:lnTo>
                    <a:lnTo>
                      <a:pt x="363" y="121"/>
                    </a:lnTo>
                    <a:lnTo>
                      <a:pt x="363" y="130"/>
                    </a:lnTo>
                    <a:lnTo>
                      <a:pt x="361" y="140"/>
                    </a:lnTo>
                    <a:lnTo>
                      <a:pt x="359" y="151"/>
                    </a:lnTo>
                    <a:lnTo>
                      <a:pt x="359" y="163"/>
                    </a:lnTo>
                    <a:lnTo>
                      <a:pt x="357" y="174"/>
                    </a:lnTo>
                    <a:lnTo>
                      <a:pt x="355" y="186"/>
                    </a:lnTo>
                    <a:lnTo>
                      <a:pt x="351"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224760" y="1986840"/>
                <a:ext cx="173880" cy="144360"/>
              </a:xfrm>
              <a:custGeom>
                <a:avLst/>
                <a:gdLst/>
                <a:ahLst/>
                <a:rect l="l" t="t" r="r" b="b"/>
                <a:pathLst>
                  <a:path w="121" h="111">
                    <a:moveTo>
                      <a:pt x="50" y="0"/>
                    </a:moveTo>
                    <a:lnTo>
                      <a:pt x="50" y="36"/>
                    </a:lnTo>
                    <a:lnTo>
                      <a:pt x="44" y="36"/>
                    </a:lnTo>
                    <a:lnTo>
                      <a:pt x="38" y="38"/>
                    </a:lnTo>
                    <a:lnTo>
                      <a:pt x="34" y="40"/>
                    </a:lnTo>
                    <a:lnTo>
                      <a:pt x="28" y="44"/>
                    </a:lnTo>
                    <a:lnTo>
                      <a:pt x="25" y="46"/>
                    </a:lnTo>
                    <a:lnTo>
                      <a:pt x="21" y="48"/>
                    </a:lnTo>
                    <a:lnTo>
                      <a:pt x="19" y="49"/>
                    </a:lnTo>
                    <a:lnTo>
                      <a:pt x="17" y="51"/>
                    </a:lnTo>
                    <a:lnTo>
                      <a:pt x="15" y="53"/>
                    </a:lnTo>
                    <a:lnTo>
                      <a:pt x="13" y="55"/>
                    </a:lnTo>
                    <a:lnTo>
                      <a:pt x="11" y="57"/>
                    </a:lnTo>
                    <a:lnTo>
                      <a:pt x="9" y="59"/>
                    </a:lnTo>
                    <a:lnTo>
                      <a:pt x="5" y="61"/>
                    </a:lnTo>
                    <a:lnTo>
                      <a:pt x="3" y="63"/>
                    </a:lnTo>
                    <a:lnTo>
                      <a:pt x="3" y="65"/>
                    </a:lnTo>
                    <a:lnTo>
                      <a:pt x="2" y="67"/>
                    </a:lnTo>
                    <a:lnTo>
                      <a:pt x="2" y="69"/>
                    </a:lnTo>
                    <a:lnTo>
                      <a:pt x="0" y="71"/>
                    </a:lnTo>
                    <a:lnTo>
                      <a:pt x="0" y="74"/>
                    </a:lnTo>
                    <a:lnTo>
                      <a:pt x="0" y="76"/>
                    </a:lnTo>
                    <a:lnTo>
                      <a:pt x="0" y="78"/>
                    </a:lnTo>
                    <a:lnTo>
                      <a:pt x="0" y="82"/>
                    </a:lnTo>
                    <a:lnTo>
                      <a:pt x="0" y="84"/>
                    </a:lnTo>
                    <a:lnTo>
                      <a:pt x="0" y="86"/>
                    </a:lnTo>
                    <a:lnTo>
                      <a:pt x="0" y="88"/>
                    </a:lnTo>
                    <a:lnTo>
                      <a:pt x="0" y="90"/>
                    </a:lnTo>
                    <a:lnTo>
                      <a:pt x="0" y="92"/>
                    </a:lnTo>
                    <a:lnTo>
                      <a:pt x="0" y="94"/>
                    </a:lnTo>
                    <a:lnTo>
                      <a:pt x="2" y="96"/>
                    </a:lnTo>
                    <a:lnTo>
                      <a:pt x="2" y="97"/>
                    </a:lnTo>
                    <a:lnTo>
                      <a:pt x="3" y="99"/>
                    </a:lnTo>
                    <a:lnTo>
                      <a:pt x="3" y="101"/>
                    </a:lnTo>
                    <a:lnTo>
                      <a:pt x="3" y="103"/>
                    </a:lnTo>
                    <a:lnTo>
                      <a:pt x="5" y="105"/>
                    </a:lnTo>
                    <a:lnTo>
                      <a:pt x="9" y="105"/>
                    </a:lnTo>
                    <a:lnTo>
                      <a:pt x="11" y="107"/>
                    </a:lnTo>
                    <a:lnTo>
                      <a:pt x="13" y="107"/>
                    </a:lnTo>
                    <a:lnTo>
                      <a:pt x="15" y="107"/>
                    </a:lnTo>
                    <a:lnTo>
                      <a:pt x="15" y="109"/>
                    </a:lnTo>
                    <a:lnTo>
                      <a:pt x="17" y="109"/>
                    </a:lnTo>
                    <a:lnTo>
                      <a:pt x="19" y="109"/>
                    </a:lnTo>
                    <a:lnTo>
                      <a:pt x="23" y="107"/>
                    </a:lnTo>
                    <a:lnTo>
                      <a:pt x="96" y="109"/>
                    </a:lnTo>
                    <a:lnTo>
                      <a:pt x="98" y="111"/>
                    </a:lnTo>
                    <a:lnTo>
                      <a:pt x="101" y="111"/>
                    </a:lnTo>
                    <a:lnTo>
                      <a:pt x="103" y="111"/>
                    </a:lnTo>
                    <a:lnTo>
                      <a:pt x="107" y="109"/>
                    </a:lnTo>
                    <a:lnTo>
                      <a:pt x="109" y="109"/>
                    </a:lnTo>
                    <a:lnTo>
                      <a:pt x="111" y="109"/>
                    </a:lnTo>
                    <a:lnTo>
                      <a:pt x="111" y="107"/>
                    </a:lnTo>
                    <a:lnTo>
                      <a:pt x="113" y="107"/>
                    </a:lnTo>
                    <a:lnTo>
                      <a:pt x="115" y="105"/>
                    </a:lnTo>
                    <a:lnTo>
                      <a:pt x="117" y="103"/>
                    </a:lnTo>
                    <a:lnTo>
                      <a:pt x="117" y="101"/>
                    </a:lnTo>
                    <a:lnTo>
                      <a:pt x="119" y="99"/>
                    </a:lnTo>
                    <a:lnTo>
                      <a:pt x="119" y="97"/>
                    </a:lnTo>
                    <a:lnTo>
                      <a:pt x="119" y="96"/>
                    </a:lnTo>
                    <a:lnTo>
                      <a:pt x="121" y="94"/>
                    </a:lnTo>
                    <a:lnTo>
                      <a:pt x="121" y="92"/>
                    </a:lnTo>
                    <a:lnTo>
                      <a:pt x="121" y="90"/>
                    </a:lnTo>
                    <a:lnTo>
                      <a:pt x="121" y="88"/>
                    </a:lnTo>
                    <a:lnTo>
                      <a:pt x="121" y="86"/>
                    </a:lnTo>
                    <a:lnTo>
                      <a:pt x="121" y="84"/>
                    </a:lnTo>
                    <a:lnTo>
                      <a:pt x="121" y="82"/>
                    </a:lnTo>
                    <a:lnTo>
                      <a:pt x="121" y="78"/>
                    </a:lnTo>
                    <a:lnTo>
                      <a:pt x="121" y="76"/>
                    </a:lnTo>
                    <a:lnTo>
                      <a:pt x="121" y="74"/>
                    </a:lnTo>
                    <a:lnTo>
                      <a:pt x="119" y="71"/>
                    </a:lnTo>
                    <a:lnTo>
                      <a:pt x="117" y="69"/>
                    </a:lnTo>
                    <a:lnTo>
                      <a:pt x="115" y="65"/>
                    </a:lnTo>
                    <a:lnTo>
                      <a:pt x="113" y="63"/>
                    </a:lnTo>
                    <a:lnTo>
                      <a:pt x="111" y="61"/>
                    </a:lnTo>
                    <a:lnTo>
                      <a:pt x="107" y="59"/>
                    </a:lnTo>
                    <a:lnTo>
                      <a:pt x="107" y="57"/>
                    </a:lnTo>
                    <a:lnTo>
                      <a:pt x="103" y="55"/>
                    </a:lnTo>
                    <a:lnTo>
                      <a:pt x="101" y="53"/>
                    </a:lnTo>
                    <a:lnTo>
                      <a:pt x="98" y="53"/>
                    </a:lnTo>
                    <a:lnTo>
                      <a:pt x="96" y="49"/>
                    </a:lnTo>
                    <a:lnTo>
                      <a:pt x="90" y="46"/>
                    </a:lnTo>
                    <a:lnTo>
                      <a:pt x="86" y="44"/>
                    </a:lnTo>
                    <a:lnTo>
                      <a:pt x="80" y="40"/>
                    </a:lnTo>
                    <a:lnTo>
                      <a:pt x="76" y="40"/>
                    </a:lnTo>
                    <a:lnTo>
                      <a:pt x="71" y="36"/>
                    </a:lnTo>
                    <a:lnTo>
                      <a:pt x="73" y="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229080" y="2106000"/>
                <a:ext cx="160560" cy="57600"/>
              </a:xfrm>
              <a:custGeom>
                <a:avLst/>
                <a:gdLst/>
                <a:ahLst/>
                <a:rect l="l" t="t" r="r" b="b"/>
                <a:pathLst>
                  <a:path w="112" h="44">
                    <a:moveTo>
                      <a:pt x="0" y="0"/>
                    </a:moveTo>
                    <a:lnTo>
                      <a:pt x="0" y="0"/>
                    </a:lnTo>
                    <a:lnTo>
                      <a:pt x="2" y="0"/>
                    </a:lnTo>
                    <a:lnTo>
                      <a:pt x="6" y="0"/>
                    </a:lnTo>
                    <a:lnTo>
                      <a:pt x="8" y="0"/>
                    </a:lnTo>
                    <a:lnTo>
                      <a:pt x="12" y="0"/>
                    </a:lnTo>
                    <a:lnTo>
                      <a:pt x="12" y="0"/>
                    </a:lnTo>
                    <a:lnTo>
                      <a:pt x="14" y="0"/>
                    </a:lnTo>
                    <a:lnTo>
                      <a:pt x="16" y="0"/>
                    </a:lnTo>
                    <a:lnTo>
                      <a:pt x="16" y="2"/>
                    </a:lnTo>
                    <a:lnTo>
                      <a:pt x="18" y="2"/>
                    </a:lnTo>
                    <a:lnTo>
                      <a:pt x="20" y="4"/>
                    </a:lnTo>
                    <a:lnTo>
                      <a:pt x="22" y="4"/>
                    </a:lnTo>
                    <a:lnTo>
                      <a:pt x="22" y="5"/>
                    </a:lnTo>
                    <a:lnTo>
                      <a:pt x="23" y="7"/>
                    </a:lnTo>
                    <a:lnTo>
                      <a:pt x="25" y="7"/>
                    </a:lnTo>
                    <a:lnTo>
                      <a:pt x="25" y="9"/>
                    </a:lnTo>
                    <a:lnTo>
                      <a:pt x="27" y="11"/>
                    </a:lnTo>
                    <a:lnTo>
                      <a:pt x="29" y="13"/>
                    </a:lnTo>
                    <a:lnTo>
                      <a:pt x="29" y="15"/>
                    </a:lnTo>
                    <a:lnTo>
                      <a:pt x="29" y="17"/>
                    </a:lnTo>
                    <a:lnTo>
                      <a:pt x="31" y="21"/>
                    </a:lnTo>
                    <a:lnTo>
                      <a:pt x="33" y="25"/>
                    </a:lnTo>
                    <a:lnTo>
                      <a:pt x="35" y="27"/>
                    </a:lnTo>
                    <a:lnTo>
                      <a:pt x="35" y="32"/>
                    </a:lnTo>
                    <a:lnTo>
                      <a:pt x="37" y="32"/>
                    </a:lnTo>
                    <a:lnTo>
                      <a:pt x="37" y="34"/>
                    </a:lnTo>
                    <a:lnTo>
                      <a:pt x="39" y="36"/>
                    </a:lnTo>
                    <a:lnTo>
                      <a:pt x="39" y="36"/>
                    </a:lnTo>
                    <a:lnTo>
                      <a:pt x="39" y="38"/>
                    </a:lnTo>
                    <a:lnTo>
                      <a:pt x="41" y="38"/>
                    </a:lnTo>
                    <a:lnTo>
                      <a:pt x="43" y="40"/>
                    </a:lnTo>
                    <a:lnTo>
                      <a:pt x="45" y="42"/>
                    </a:lnTo>
                    <a:lnTo>
                      <a:pt x="47" y="44"/>
                    </a:lnTo>
                    <a:lnTo>
                      <a:pt x="47" y="44"/>
                    </a:lnTo>
                    <a:lnTo>
                      <a:pt x="48" y="44"/>
                    </a:lnTo>
                    <a:lnTo>
                      <a:pt x="54" y="44"/>
                    </a:lnTo>
                    <a:lnTo>
                      <a:pt x="58" y="44"/>
                    </a:lnTo>
                    <a:lnTo>
                      <a:pt x="58" y="44"/>
                    </a:lnTo>
                    <a:lnTo>
                      <a:pt x="62" y="44"/>
                    </a:lnTo>
                    <a:lnTo>
                      <a:pt x="64" y="44"/>
                    </a:lnTo>
                    <a:lnTo>
                      <a:pt x="66" y="44"/>
                    </a:lnTo>
                    <a:lnTo>
                      <a:pt x="68" y="44"/>
                    </a:lnTo>
                    <a:lnTo>
                      <a:pt x="68" y="42"/>
                    </a:lnTo>
                    <a:lnTo>
                      <a:pt x="70" y="42"/>
                    </a:lnTo>
                    <a:lnTo>
                      <a:pt x="70" y="40"/>
                    </a:lnTo>
                    <a:lnTo>
                      <a:pt x="72" y="40"/>
                    </a:lnTo>
                    <a:lnTo>
                      <a:pt x="72" y="38"/>
                    </a:lnTo>
                    <a:lnTo>
                      <a:pt x="73" y="38"/>
                    </a:lnTo>
                    <a:lnTo>
                      <a:pt x="75" y="36"/>
                    </a:lnTo>
                    <a:lnTo>
                      <a:pt x="75" y="36"/>
                    </a:lnTo>
                    <a:lnTo>
                      <a:pt x="75" y="34"/>
                    </a:lnTo>
                    <a:lnTo>
                      <a:pt x="77" y="32"/>
                    </a:lnTo>
                    <a:lnTo>
                      <a:pt x="77" y="27"/>
                    </a:lnTo>
                    <a:lnTo>
                      <a:pt x="81" y="25"/>
                    </a:lnTo>
                    <a:lnTo>
                      <a:pt x="81" y="21"/>
                    </a:lnTo>
                    <a:lnTo>
                      <a:pt x="83" y="17"/>
                    </a:lnTo>
                    <a:lnTo>
                      <a:pt x="85" y="15"/>
                    </a:lnTo>
                    <a:lnTo>
                      <a:pt x="85" y="13"/>
                    </a:lnTo>
                    <a:lnTo>
                      <a:pt x="87" y="11"/>
                    </a:lnTo>
                    <a:lnTo>
                      <a:pt x="87" y="9"/>
                    </a:lnTo>
                    <a:lnTo>
                      <a:pt x="89" y="7"/>
                    </a:lnTo>
                    <a:lnTo>
                      <a:pt x="91" y="5"/>
                    </a:lnTo>
                    <a:lnTo>
                      <a:pt x="93" y="4"/>
                    </a:lnTo>
                    <a:lnTo>
                      <a:pt x="93" y="2"/>
                    </a:lnTo>
                    <a:lnTo>
                      <a:pt x="95" y="2"/>
                    </a:lnTo>
                    <a:lnTo>
                      <a:pt x="95" y="0"/>
                    </a:lnTo>
                    <a:lnTo>
                      <a:pt x="96" y="0"/>
                    </a:lnTo>
                    <a:lnTo>
                      <a:pt x="98" y="0"/>
                    </a:lnTo>
                    <a:lnTo>
                      <a:pt x="100" y="0"/>
                    </a:lnTo>
                    <a:lnTo>
                      <a:pt x="104" y="0"/>
                    </a:lnTo>
                    <a:lnTo>
                      <a:pt x="104" y="0"/>
                    </a:lnTo>
                    <a:lnTo>
                      <a:pt x="106" y="0"/>
                    </a:lnTo>
                    <a:lnTo>
                      <a:pt x="108" y="0"/>
                    </a:lnTo>
                    <a:lnTo>
                      <a:pt x="112" y="0"/>
                    </a:lnTo>
                    <a:lnTo>
                      <a:pt x="0" y="0"/>
                    </a:lnTo>
                    <a:close/>
                  </a:path>
                </a:pathLst>
              </a:custGeom>
              <a:solidFill>
                <a:srgbClr val="ffcc9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4" name=""/>
              <p:cNvSpPr/>
              <p:nvPr/>
            </p:nvSpPr>
            <p:spPr>
              <a:xfrm>
                <a:off x="6229080" y="2106000"/>
                <a:ext cx="160560" cy="41400"/>
              </a:xfrm>
              <a:custGeom>
                <a:avLst/>
                <a:gdLst/>
                <a:ahLst/>
                <a:rect l="l" t="t" r="r" b="b"/>
                <a:pathLst>
                  <a:path w="112" h="32">
                    <a:moveTo>
                      <a:pt x="0" y="0"/>
                    </a:moveTo>
                    <a:lnTo>
                      <a:pt x="2" y="0"/>
                    </a:lnTo>
                    <a:lnTo>
                      <a:pt x="6" y="0"/>
                    </a:lnTo>
                    <a:lnTo>
                      <a:pt x="8" y="0"/>
                    </a:lnTo>
                    <a:lnTo>
                      <a:pt x="12" y="0"/>
                    </a:lnTo>
                    <a:lnTo>
                      <a:pt x="14" y="0"/>
                    </a:lnTo>
                    <a:lnTo>
                      <a:pt x="16" y="0"/>
                    </a:lnTo>
                    <a:lnTo>
                      <a:pt x="16" y="2"/>
                    </a:lnTo>
                    <a:lnTo>
                      <a:pt x="18" y="2"/>
                    </a:lnTo>
                    <a:lnTo>
                      <a:pt x="20" y="4"/>
                    </a:lnTo>
                    <a:lnTo>
                      <a:pt x="22" y="4"/>
                    </a:lnTo>
                    <a:lnTo>
                      <a:pt x="22" y="5"/>
                    </a:lnTo>
                    <a:lnTo>
                      <a:pt x="23" y="7"/>
                    </a:lnTo>
                    <a:lnTo>
                      <a:pt x="25" y="7"/>
                    </a:lnTo>
                    <a:lnTo>
                      <a:pt x="25" y="9"/>
                    </a:lnTo>
                    <a:lnTo>
                      <a:pt x="27" y="11"/>
                    </a:lnTo>
                    <a:lnTo>
                      <a:pt x="29" y="13"/>
                    </a:lnTo>
                    <a:lnTo>
                      <a:pt x="29" y="15"/>
                    </a:lnTo>
                    <a:lnTo>
                      <a:pt x="29" y="17"/>
                    </a:lnTo>
                    <a:lnTo>
                      <a:pt x="31" y="21"/>
                    </a:lnTo>
                    <a:lnTo>
                      <a:pt x="35" y="25"/>
                    </a:lnTo>
                    <a:lnTo>
                      <a:pt x="41" y="30"/>
                    </a:lnTo>
                    <a:lnTo>
                      <a:pt x="47" y="32"/>
                    </a:lnTo>
                    <a:lnTo>
                      <a:pt x="56" y="32"/>
                    </a:lnTo>
                    <a:lnTo>
                      <a:pt x="62" y="32"/>
                    </a:lnTo>
                    <a:lnTo>
                      <a:pt x="70" y="30"/>
                    </a:lnTo>
                    <a:lnTo>
                      <a:pt x="77" y="25"/>
                    </a:lnTo>
                    <a:lnTo>
                      <a:pt x="81" y="21"/>
                    </a:lnTo>
                    <a:lnTo>
                      <a:pt x="83" y="17"/>
                    </a:lnTo>
                    <a:lnTo>
                      <a:pt x="85" y="15"/>
                    </a:lnTo>
                    <a:lnTo>
                      <a:pt x="85" y="13"/>
                    </a:lnTo>
                    <a:lnTo>
                      <a:pt x="87" y="11"/>
                    </a:lnTo>
                    <a:lnTo>
                      <a:pt x="87" y="9"/>
                    </a:lnTo>
                    <a:lnTo>
                      <a:pt x="89" y="7"/>
                    </a:lnTo>
                    <a:lnTo>
                      <a:pt x="91" y="5"/>
                    </a:lnTo>
                    <a:lnTo>
                      <a:pt x="93" y="4"/>
                    </a:lnTo>
                    <a:lnTo>
                      <a:pt x="93" y="2"/>
                    </a:lnTo>
                    <a:lnTo>
                      <a:pt x="95" y="2"/>
                    </a:lnTo>
                    <a:lnTo>
                      <a:pt x="95" y="0"/>
                    </a:lnTo>
                    <a:lnTo>
                      <a:pt x="96" y="0"/>
                    </a:lnTo>
                    <a:lnTo>
                      <a:pt x="98" y="0"/>
                    </a:lnTo>
                    <a:lnTo>
                      <a:pt x="100" y="0"/>
                    </a:lnTo>
                    <a:lnTo>
                      <a:pt x="104" y="0"/>
                    </a:lnTo>
                    <a:lnTo>
                      <a:pt x="106" y="0"/>
                    </a:lnTo>
                    <a:lnTo>
                      <a:pt x="108" y="0"/>
                    </a:lnTo>
                    <a:lnTo>
                      <a:pt x="112"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25" name=""/>
              <p:cNvSpPr/>
              <p:nvPr/>
            </p:nvSpPr>
            <p:spPr>
              <a:xfrm>
                <a:off x="6064200" y="1692360"/>
                <a:ext cx="57960" cy="102600"/>
              </a:xfrm>
              <a:custGeom>
                <a:avLst/>
                <a:gdLst/>
                <a:ahLst/>
                <a:rect l="l" t="t" r="r" b="b"/>
                <a:pathLst>
                  <a:path w="41" h="79">
                    <a:moveTo>
                      <a:pt x="0" y="79"/>
                    </a:moveTo>
                    <a:lnTo>
                      <a:pt x="4" y="73"/>
                    </a:lnTo>
                    <a:lnTo>
                      <a:pt x="14" y="54"/>
                    </a:lnTo>
                    <a:lnTo>
                      <a:pt x="25" y="33"/>
                    </a:lnTo>
                    <a:lnTo>
                      <a:pt x="35" y="12"/>
                    </a:lnTo>
                    <a:lnTo>
                      <a:pt x="41" y="0"/>
                    </a:lnTo>
                    <a:lnTo>
                      <a:pt x="39" y="4"/>
                    </a:lnTo>
                    <a:lnTo>
                      <a:pt x="27" y="29"/>
                    </a:lnTo>
                    <a:lnTo>
                      <a:pt x="0" y="7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180120" y="2278800"/>
                <a:ext cx="253800" cy="122760"/>
              </a:xfrm>
              <a:custGeom>
                <a:avLst/>
                <a:gdLst/>
                <a:ahLst/>
                <a:rect l="l" t="t" r="r" b="b"/>
                <a:pathLst>
                  <a:path w="177" h="94">
                    <a:moveTo>
                      <a:pt x="177" y="17"/>
                    </a:moveTo>
                    <a:lnTo>
                      <a:pt x="175" y="19"/>
                    </a:lnTo>
                    <a:lnTo>
                      <a:pt x="171" y="31"/>
                    </a:lnTo>
                    <a:lnTo>
                      <a:pt x="169" y="40"/>
                    </a:lnTo>
                    <a:lnTo>
                      <a:pt x="165" y="46"/>
                    </a:lnTo>
                    <a:lnTo>
                      <a:pt x="159" y="54"/>
                    </a:lnTo>
                    <a:lnTo>
                      <a:pt x="155" y="62"/>
                    </a:lnTo>
                    <a:lnTo>
                      <a:pt x="152" y="67"/>
                    </a:lnTo>
                    <a:lnTo>
                      <a:pt x="150" y="71"/>
                    </a:lnTo>
                    <a:lnTo>
                      <a:pt x="146" y="75"/>
                    </a:lnTo>
                    <a:lnTo>
                      <a:pt x="142" y="77"/>
                    </a:lnTo>
                    <a:lnTo>
                      <a:pt x="138" y="81"/>
                    </a:lnTo>
                    <a:lnTo>
                      <a:pt x="134" y="85"/>
                    </a:lnTo>
                    <a:lnTo>
                      <a:pt x="129" y="86"/>
                    </a:lnTo>
                    <a:lnTo>
                      <a:pt x="127" y="90"/>
                    </a:lnTo>
                    <a:lnTo>
                      <a:pt x="123" y="92"/>
                    </a:lnTo>
                    <a:lnTo>
                      <a:pt x="119" y="92"/>
                    </a:lnTo>
                    <a:lnTo>
                      <a:pt x="115" y="94"/>
                    </a:lnTo>
                    <a:lnTo>
                      <a:pt x="109" y="94"/>
                    </a:lnTo>
                    <a:lnTo>
                      <a:pt x="104" y="94"/>
                    </a:lnTo>
                    <a:lnTo>
                      <a:pt x="98" y="94"/>
                    </a:lnTo>
                    <a:lnTo>
                      <a:pt x="94" y="92"/>
                    </a:lnTo>
                    <a:lnTo>
                      <a:pt x="88" y="90"/>
                    </a:lnTo>
                    <a:lnTo>
                      <a:pt x="81" y="86"/>
                    </a:lnTo>
                    <a:lnTo>
                      <a:pt x="79" y="85"/>
                    </a:lnTo>
                    <a:lnTo>
                      <a:pt x="73" y="81"/>
                    </a:lnTo>
                    <a:lnTo>
                      <a:pt x="67" y="79"/>
                    </a:lnTo>
                    <a:lnTo>
                      <a:pt x="61" y="77"/>
                    </a:lnTo>
                    <a:lnTo>
                      <a:pt x="57" y="73"/>
                    </a:lnTo>
                    <a:lnTo>
                      <a:pt x="52" y="71"/>
                    </a:lnTo>
                    <a:lnTo>
                      <a:pt x="48" y="65"/>
                    </a:lnTo>
                    <a:lnTo>
                      <a:pt x="42" y="58"/>
                    </a:lnTo>
                    <a:lnTo>
                      <a:pt x="34" y="50"/>
                    </a:lnTo>
                    <a:lnTo>
                      <a:pt x="27" y="44"/>
                    </a:lnTo>
                    <a:lnTo>
                      <a:pt x="21" y="35"/>
                    </a:lnTo>
                    <a:lnTo>
                      <a:pt x="15" y="29"/>
                    </a:lnTo>
                    <a:lnTo>
                      <a:pt x="11" y="23"/>
                    </a:lnTo>
                    <a:lnTo>
                      <a:pt x="8" y="15"/>
                    </a:lnTo>
                    <a:lnTo>
                      <a:pt x="4" y="10"/>
                    </a:lnTo>
                    <a:lnTo>
                      <a:pt x="0" y="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896440" y="1615680"/>
                <a:ext cx="843840" cy="780840"/>
              </a:xfrm>
              <a:custGeom>
                <a:avLst/>
                <a:gdLst/>
                <a:ahLst/>
                <a:rect l="l" t="t" r="r" b="b"/>
                <a:pathLst>
                  <a:path w="588" h="598">
                    <a:moveTo>
                      <a:pt x="417" y="226"/>
                    </a:moveTo>
                    <a:lnTo>
                      <a:pt x="419" y="147"/>
                    </a:lnTo>
                    <a:lnTo>
                      <a:pt x="415" y="153"/>
                    </a:lnTo>
                    <a:lnTo>
                      <a:pt x="405" y="159"/>
                    </a:lnTo>
                    <a:lnTo>
                      <a:pt x="401" y="165"/>
                    </a:lnTo>
                    <a:lnTo>
                      <a:pt x="394" y="170"/>
                    </a:lnTo>
                    <a:lnTo>
                      <a:pt x="386" y="178"/>
                    </a:lnTo>
                    <a:lnTo>
                      <a:pt x="378" y="184"/>
                    </a:lnTo>
                    <a:lnTo>
                      <a:pt x="373" y="193"/>
                    </a:lnTo>
                    <a:lnTo>
                      <a:pt x="369" y="201"/>
                    </a:lnTo>
                    <a:lnTo>
                      <a:pt x="365" y="209"/>
                    </a:lnTo>
                    <a:lnTo>
                      <a:pt x="357" y="215"/>
                    </a:lnTo>
                    <a:lnTo>
                      <a:pt x="352" y="220"/>
                    </a:lnTo>
                    <a:lnTo>
                      <a:pt x="344" y="224"/>
                    </a:lnTo>
                    <a:lnTo>
                      <a:pt x="336" y="226"/>
                    </a:lnTo>
                    <a:lnTo>
                      <a:pt x="325" y="228"/>
                    </a:lnTo>
                    <a:lnTo>
                      <a:pt x="315" y="228"/>
                    </a:lnTo>
                    <a:lnTo>
                      <a:pt x="304" y="228"/>
                    </a:lnTo>
                    <a:lnTo>
                      <a:pt x="279" y="226"/>
                    </a:lnTo>
                    <a:lnTo>
                      <a:pt x="257" y="220"/>
                    </a:lnTo>
                    <a:lnTo>
                      <a:pt x="232" y="213"/>
                    </a:lnTo>
                    <a:lnTo>
                      <a:pt x="213" y="203"/>
                    </a:lnTo>
                    <a:lnTo>
                      <a:pt x="209" y="203"/>
                    </a:lnTo>
                    <a:lnTo>
                      <a:pt x="207" y="203"/>
                    </a:lnTo>
                    <a:lnTo>
                      <a:pt x="206" y="203"/>
                    </a:lnTo>
                    <a:lnTo>
                      <a:pt x="204" y="201"/>
                    </a:lnTo>
                    <a:lnTo>
                      <a:pt x="202" y="201"/>
                    </a:lnTo>
                    <a:lnTo>
                      <a:pt x="200" y="199"/>
                    </a:lnTo>
                    <a:lnTo>
                      <a:pt x="198" y="199"/>
                    </a:lnTo>
                    <a:lnTo>
                      <a:pt x="198" y="199"/>
                    </a:lnTo>
                    <a:lnTo>
                      <a:pt x="198" y="209"/>
                    </a:lnTo>
                    <a:lnTo>
                      <a:pt x="194" y="216"/>
                    </a:lnTo>
                    <a:lnTo>
                      <a:pt x="190" y="226"/>
                    </a:lnTo>
                    <a:lnTo>
                      <a:pt x="184" y="230"/>
                    </a:lnTo>
                    <a:lnTo>
                      <a:pt x="179" y="236"/>
                    </a:lnTo>
                    <a:lnTo>
                      <a:pt x="171" y="241"/>
                    </a:lnTo>
                    <a:lnTo>
                      <a:pt x="163" y="241"/>
                    </a:lnTo>
                    <a:lnTo>
                      <a:pt x="152" y="241"/>
                    </a:lnTo>
                    <a:lnTo>
                      <a:pt x="152" y="249"/>
                    </a:lnTo>
                    <a:lnTo>
                      <a:pt x="152" y="257"/>
                    </a:lnTo>
                    <a:lnTo>
                      <a:pt x="150" y="262"/>
                    </a:lnTo>
                    <a:lnTo>
                      <a:pt x="148" y="270"/>
                    </a:lnTo>
                    <a:lnTo>
                      <a:pt x="146" y="276"/>
                    </a:lnTo>
                    <a:lnTo>
                      <a:pt x="142" y="282"/>
                    </a:lnTo>
                    <a:lnTo>
                      <a:pt x="142" y="287"/>
                    </a:lnTo>
                    <a:lnTo>
                      <a:pt x="140" y="295"/>
                    </a:lnTo>
                    <a:lnTo>
                      <a:pt x="144" y="299"/>
                    </a:lnTo>
                    <a:lnTo>
                      <a:pt x="144" y="305"/>
                    </a:lnTo>
                    <a:lnTo>
                      <a:pt x="146" y="312"/>
                    </a:lnTo>
                    <a:lnTo>
                      <a:pt x="144" y="320"/>
                    </a:lnTo>
                    <a:lnTo>
                      <a:pt x="142" y="339"/>
                    </a:lnTo>
                    <a:lnTo>
                      <a:pt x="136" y="360"/>
                    </a:lnTo>
                    <a:lnTo>
                      <a:pt x="131" y="380"/>
                    </a:lnTo>
                    <a:lnTo>
                      <a:pt x="127" y="401"/>
                    </a:lnTo>
                    <a:lnTo>
                      <a:pt x="125" y="414"/>
                    </a:lnTo>
                    <a:lnTo>
                      <a:pt x="127" y="426"/>
                    </a:lnTo>
                    <a:lnTo>
                      <a:pt x="134" y="439"/>
                    </a:lnTo>
                    <a:lnTo>
                      <a:pt x="146" y="456"/>
                    </a:lnTo>
                    <a:lnTo>
                      <a:pt x="159" y="474"/>
                    </a:lnTo>
                    <a:lnTo>
                      <a:pt x="173" y="493"/>
                    </a:lnTo>
                    <a:lnTo>
                      <a:pt x="186" y="512"/>
                    </a:lnTo>
                    <a:lnTo>
                      <a:pt x="196" y="531"/>
                    </a:lnTo>
                    <a:lnTo>
                      <a:pt x="198" y="537"/>
                    </a:lnTo>
                    <a:lnTo>
                      <a:pt x="200" y="548"/>
                    </a:lnTo>
                    <a:lnTo>
                      <a:pt x="200" y="552"/>
                    </a:lnTo>
                    <a:lnTo>
                      <a:pt x="198" y="560"/>
                    </a:lnTo>
                    <a:lnTo>
                      <a:pt x="181" y="562"/>
                    </a:lnTo>
                    <a:lnTo>
                      <a:pt x="158" y="566"/>
                    </a:lnTo>
                    <a:lnTo>
                      <a:pt x="131" y="570"/>
                    </a:lnTo>
                    <a:lnTo>
                      <a:pt x="104" y="579"/>
                    </a:lnTo>
                    <a:lnTo>
                      <a:pt x="73" y="585"/>
                    </a:lnTo>
                    <a:lnTo>
                      <a:pt x="46" y="593"/>
                    </a:lnTo>
                    <a:lnTo>
                      <a:pt x="21" y="596"/>
                    </a:lnTo>
                    <a:lnTo>
                      <a:pt x="0" y="598"/>
                    </a:lnTo>
                    <a:lnTo>
                      <a:pt x="6" y="585"/>
                    </a:lnTo>
                    <a:lnTo>
                      <a:pt x="10" y="570"/>
                    </a:lnTo>
                    <a:lnTo>
                      <a:pt x="13" y="556"/>
                    </a:lnTo>
                    <a:lnTo>
                      <a:pt x="17" y="537"/>
                    </a:lnTo>
                    <a:lnTo>
                      <a:pt x="21" y="499"/>
                    </a:lnTo>
                    <a:lnTo>
                      <a:pt x="23" y="458"/>
                    </a:lnTo>
                    <a:lnTo>
                      <a:pt x="25" y="416"/>
                    </a:lnTo>
                    <a:lnTo>
                      <a:pt x="27" y="378"/>
                    </a:lnTo>
                    <a:lnTo>
                      <a:pt x="33" y="343"/>
                    </a:lnTo>
                    <a:lnTo>
                      <a:pt x="40" y="314"/>
                    </a:lnTo>
                    <a:lnTo>
                      <a:pt x="52" y="278"/>
                    </a:lnTo>
                    <a:lnTo>
                      <a:pt x="67" y="241"/>
                    </a:lnTo>
                    <a:lnTo>
                      <a:pt x="81" y="203"/>
                    </a:lnTo>
                    <a:lnTo>
                      <a:pt x="98" y="165"/>
                    </a:lnTo>
                    <a:lnTo>
                      <a:pt x="117" y="126"/>
                    </a:lnTo>
                    <a:lnTo>
                      <a:pt x="136" y="90"/>
                    </a:lnTo>
                    <a:lnTo>
                      <a:pt x="148" y="73"/>
                    </a:lnTo>
                    <a:lnTo>
                      <a:pt x="159" y="55"/>
                    </a:lnTo>
                    <a:lnTo>
                      <a:pt x="175" y="38"/>
                    </a:lnTo>
                    <a:lnTo>
                      <a:pt x="188" y="21"/>
                    </a:lnTo>
                    <a:lnTo>
                      <a:pt x="198" y="13"/>
                    </a:lnTo>
                    <a:lnTo>
                      <a:pt x="209" y="7"/>
                    </a:lnTo>
                    <a:lnTo>
                      <a:pt x="225" y="3"/>
                    </a:lnTo>
                    <a:lnTo>
                      <a:pt x="244" y="0"/>
                    </a:lnTo>
                    <a:lnTo>
                      <a:pt x="261" y="0"/>
                    </a:lnTo>
                    <a:lnTo>
                      <a:pt x="280" y="0"/>
                    </a:lnTo>
                    <a:lnTo>
                      <a:pt x="302" y="0"/>
                    </a:lnTo>
                    <a:lnTo>
                      <a:pt x="323" y="3"/>
                    </a:lnTo>
                    <a:lnTo>
                      <a:pt x="365" y="11"/>
                    </a:lnTo>
                    <a:lnTo>
                      <a:pt x="403" y="19"/>
                    </a:lnTo>
                    <a:lnTo>
                      <a:pt x="419" y="26"/>
                    </a:lnTo>
                    <a:lnTo>
                      <a:pt x="436" y="30"/>
                    </a:lnTo>
                    <a:lnTo>
                      <a:pt x="448" y="38"/>
                    </a:lnTo>
                    <a:lnTo>
                      <a:pt x="459" y="44"/>
                    </a:lnTo>
                    <a:lnTo>
                      <a:pt x="463" y="48"/>
                    </a:lnTo>
                    <a:lnTo>
                      <a:pt x="473" y="57"/>
                    </a:lnTo>
                    <a:lnTo>
                      <a:pt x="480" y="67"/>
                    </a:lnTo>
                    <a:lnTo>
                      <a:pt x="488" y="76"/>
                    </a:lnTo>
                    <a:lnTo>
                      <a:pt x="494" y="88"/>
                    </a:lnTo>
                    <a:lnTo>
                      <a:pt x="497" y="99"/>
                    </a:lnTo>
                    <a:lnTo>
                      <a:pt x="501" y="107"/>
                    </a:lnTo>
                    <a:lnTo>
                      <a:pt x="507" y="117"/>
                    </a:lnTo>
                    <a:lnTo>
                      <a:pt x="588" y="548"/>
                    </a:lnTo>
                    <a:lnTo>
                      <a:pt x="559" y="550"/>
                    </a:lnTo>
                    <a:lnTo>
                      <a:pt x="532" y="554"/>
                    </a:lnTo>
                    <a:lnTo>
                      <a:pt x="507" y="562"/>
                    </a:lnTo>
                    <a:lnTo>
                      <a:pt x="478" y="568"/>
                    </a:lnTo>
                    <a:lnTo>
                      <a:pt x="451" y="570"/>
                    </a:lnTo>
                    <a:lnTo>
                      <a:pt x="426" y="570"/>
                    </a:lnTo>
                    <a:lnTo>
                      <a:pt x="415" y="570"/>
                    </a:lnTo>
                    <a:lnTo>
                      <a:pt x="401" y="568"/>
                    </a:lnTo>
                    <a:lnTo>
                      <a:pt x="388" y="562"/>
                    </a:lnTo>
                    <a:lnTo>
                      <a:pt x="373" y="556"/>
                    </a:lnTo>
                    <a:lnTo>
                      <a:pt x="375" y="550"/>
                    </a:lnTo>
                    <a:lnTo>
                      <a:pt x="376" y="548"/>
                    </a:lnTo>
                    <a:lnTo>
                      <a:pt x="378" y="541"/>
                    </a:lnTo>
                    <a:lnTo>
                      <a:pt x="380" y="537"/>
                    </a:lnTo>
                    <a:lnTo>
                      <a:pt x="382" y="533"/>
                    </a:lnTo>
                    <a:lnTo>
                      <a:pt x="386" y="527"/>
                    </a:lnTo>
                    <a:lnTo>
                      <a:pt x="392" y="520"/>
                    </a:lnTo>
                    <a:lnTo>
                      <a:pt x="400" y="512"/>
                    </a:lnTo>
                    <a:lnTo>
                      <a:pt x="403" y="504"/>
                    </a:lnTo>
                    <a:lnTo>
                      <a:pt x="409" y="495"/>
                    </a:lnTo>
                    <a:lnTo>
                      <a:pt x="413" y="489"/>
                    </a:lnTo>
                    <a:lnTo>
                      <a:pt x="415" y="479"/>
                    </a:lnTo>
                    <a:lnTo>
                      <a:pt x="419" y="472"/>
                    </a:lnTo>
                    <a:lnTo>
                      <a:pt x="423" y="462"/>
                    </a:lnTo>
                    <a:lnTo>
                      <a:pt x="425" y="456"/>
                    </a:lnTo>
                    <a:lnTo>
                      <a:pt x="426" y="447"/>
                    </a:lnTo>
                    <a:lnTo>
                      <a:pt x="432" y="414"/>
                    </a:lnTo>
                    <a:lnTo>
                      <a:pt x="434" y="385"/>
                    </a:lnTo>
                    <a:lnTo>
                      <a:pt x="432" y="355"/>
                    </a:lnTo>
                    <a:lnTo>
                      <a:pt x="430" y="328"/>
                    </a:lnTo>
                    <a:lnTo>
                      <a:pt x="426" y="301"/>
                    </a:lnTo>
                    <a:lnTo>
                      <a:pt x="423" y="276"/>
                    </a:lnTo>
                    <a:lnTo>
                      <a:pt x="421" y="249"/>
                    </a:lnTo>
                    <a:lnTo>
                      <a:pt x="417" y="226"/>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5896440" y="1615680"/>
                <a:ext cx="843840" cy="780840"/>
              </a:xfrm>
              <a:custGeom>
                <a:avLst/>
                <a:gdLst/>
                <a:ahLst/>
                <a:rect l="l" t="t" r="r" b="b"/>
                <a:pathLst>
                  <a:path w="588" h="598">
                    <a:moveTo>
                      <a:pt x="417" y="226"/>
                    </a:moveTo>
                    <a:lnTo>
                      <a:pt x="419" y="147"/>
                    </a:lnTo>
                    <a:lnTo>
                      <a:pt x="415" y="153"/>
                    </a:lnTo>
                    <a:lnTo>
                      <a:pt x="405" y="159"/>
                    </a:lnTo>
                    <a:lnTo>
                      <a:pt x="401" y="165"/>
                    </a:lnTo>
                    <a:lnTo>
                      <a:pt x="394" y="170"/>
                    </a:lnTo>
                    <a:lnTo>
                      <a:pt x="386" y="178"/>
                    </a:lnTo>
                    <a:lnTo>
                      <a:pt x="378" y="184"/>
                    </a:lnTo>
                    <a:lnTo>
                      <a:pt x="373" y="193"/>
                    </a:lnTo>
                    <a:lnTo>
                      <a:pt x="369" y="201"/>
                    </a:lnTo>
                    <a:lnTo>
                      <a:pt x="365" y="209"/>
                    </a:lnTo>
                    <a:lnTo>
                      <a:pt x="357" y="215"/>
                    </a:lnTo>
                    <a:lnTo>
                      <a:pt x="352" y="220"/>
                    </a:lnTo>
                    <a:lnTo>
                      <a:pt x="344" y="224"/>
                    </a:lnTo>
                    <a:lnTo>
                      <a:pt x="336" y="226"/>
                    </a:lnTo>
                    <a:lnTo>
                      <a:pt x="325" y="228"/>
                    </a:lnTo>
                    <a:lnTo>
                      <a:pt x="315" y="228"/>
                    </a:lnTo>
                    <a:lnTo>
                      <a:pt x="304" y="228"/>
                    </a:lnTo>
                    <a:lnTo>
                      <a:pt x="279" y="226"/>
                    </a:lnTo>
                    <a:lnTo>
                      <a:pt x="257" y="220"/>
                    </a:lnTo>
                    <a:lnTo>
                      <a:pt x="232" y="213"/>
                    </a:lnTo>
                    <a:lnTo>
                      <a:pt x="213" y="203"/>
                    </a:lnTo>
                    <a:lnTo>
                      <a:pt x="209" y="203"/>
                    </a:lnTo>
                    <a:lnTo>
                      <a:pt x="207" y="203"/>
                    </a:lnTo>
                    <a:lnTo>
                      <a:pt x="206" y="203"/>
                    </a:lnTo>
                    <a:lnTo>
                      <a:pt x="204" y="201"/>
                    </a:lnTo>
                    <a:lnTo>
                      <a:pt x="202" y="201"/>
                    </a:lnTo>
                    <a:lnTo>
                      <a:pt x="200" y="199"/>
                    </a:lnTo>
                    <a:lnTo>
                      <a:pt x="198" y="199"/>
                    </a:lnTo>
                    <a:lnTo>
                      <a:pt x="198" y="209"/>
                    </a:lnTo>
                    <a:lnTo>
                      <a:pt x="194" y="216"/>
                    </a:lnTo>
                    <a:lnTo>
                      <a:pt x="190" y="226"/>
                    </a:lnTo>
                    <a:lnTo>
                      <a:pt x="184" y="230"/>
                    </a:lnTo>
                    <a:lnTo>
                      <a:pt x="179" y="236"/>
                    </a:lnTo>
                    <a:lnTo>
                      <a:pt x="171" y="241"/>
                    </a:lnTo>
                    <a:lnTo>
                      <a:pt x="163" y="241"/>
                    </a:lnTo>
                    <a:lnTo>
                      <a:pt x="152" y="241"/>
                    </a:lnTo>
                    <a:lnTo>
                      <a:pt x="152" y="249"/>
                    </a:lnTo>
                    <a:lnTo>
                      <a:pt x="152" y="257"/>
                    </a:lnTo>
                    <a:lnTo>
                      <a:pt x="150" y="262"/>
                    </a:lnTo>
                    <a:lnTo>
                      <a:pt x="148" y="270"/>
                    </a:lnTo>
                    <a:lnTo>
                      <a:pt x="146" y="276"/>
                    </a:lnTo>
                    <a:lnTo>
                      <a:pt x="142" y="282"/>
                    </a:lnTo>
                    <a:lnTo>
                      <a:pt x="142" y="287"/>
                    </a:lnTo>
                    <a:lnTo>
                      <a:pt x="140" y="295"/>
                    </a:lnTo>
                    <a:lnTo>
                      <a:pt x="144" y="299"/>
                    </a:lnTo>
                    <a:lnTo>
                      <a:pt x="144" y="305"/>
                    </a:lnTo>
                    <a:lnTo>
                      <a:pt x="146" y="312"/>
                    </a:lnTo>
                    <a:lnTo>
                      <a:pt x="144" y="320"/>
                    </a:lnTo>
                    <a:lnTo>
                      <a:pt x="142" y="339"/>
                    </a:lnTo>
                    <a:lnTo>
                      <a:pt x="136" y="360"/>
                    </a:lnTo>
                    <a:lnTo>
                      <a:pt x="131" y="380"/>
                    </a:lnTo>
                    <a:lnTo>
                      <a:pt x="127" y="401"/>
                    </a:lnTo>
                    <a:lnTo>
                      <a:pt x="125" y="414"/>
                    </a:lnTo>
                    <a:lnTo>
                      <a:pt x="127" y="426"/>
                    </a:lnTo>
                    <a:lnTo>
                      <a:pt x="134" y="439"/>
                    </a:lnTo>
                    <a:lnTo>
                      <a:pt x="146" y="456"/>
                    </a:lnTo>
                    <a:lnTo>
                      <a:pt x="159" y="474"/>
                    </a:lnTo>
                    <a:lnTo>
                      <a:pt x="173" y="493"/>
                    </a:lnTo>
                    <a:lnTo>
                      <a:pt x="186" y="512"/>
                    </a:lnTo>
                    <a:lnTo>
                      <a:pt x="196" y="531"/>
                    </a:lnTo>
                    <a:lnTo>
                      <a:pt x="198" y="537"/>
                    </a:lnTo>
                    <a:lnTo>
                      <a:pt x="200" y="548"/>
                    </a:lnTo>
                    <a:lnTo>
                      <a:pt x="200" y="552"/>
                    </a:lnTo>
                    <a:lnTo>
                      <a:pt x="198" y="560"/>
                    </a:lnTo>
                    <a:lnTo>
                      <a:pt x="181" y="562"/>
                    </a:lnTo>
                    <a:lnTo>
                      <a:pt x="158" y="566"/>
                    </a:lnTo>
                    <a:lnTo>
                      <a:pt x="131" y="570"/>
                    </a:lnTo>
                    <a:lnTo>
                      <a:pt x="104" y="579"/>
                    </a:lnTo>
                    <a:lnTo>
                      <a:pt x="73" y="585"/>
                    </a:lnTo>
                    <a:lnTo>
                      <a:pt x="46" y="593"/>
                    </a:lnTo>
                    <a:lnTo>
                      <a:pt x="21" y="596"/>
                    </a:lnTo>
                    <a:lnTo>
                      <a:pt x="0" y="598"/>
                    </a:lnTo>
                    <a:lnTo>
                      <a:pt x="6" y="585"/>
                    </a:lnTo>
                    <a:lnTo>
                      <a:pt x="10" y="570"/>
                    </a:lnTo>
                    <a:lnTo>
                      <a:pt x="13" y="556"/>
                    </a:lnTo>
                    <a:lnTo>
                      <a:pt x="17" y="537"/>
                    </a:lnTo>
                    <a:lnTo>
                      <a:pt x="21" y="499"/>
                    </a:lnTo>
                    <a:lnTo>
                      <a:pt x="23" y="458"/>
                    </a:lnTo>
                    <a:lnTo>
                      <a:pt x="25" y="416"/>
                    </a:lnTo>
                    <a:lnTo>
                      <a:pt x="27" y="378"/>
                    </a:lnTo>
                    <a:lnTo>
                      <a:pt x="33" y="343"/>
                    </a:lnTo>
                    <a:lnTo>
                      <a:pt x="40" y="314"/>
                    </a:lnTo>
                    <a:lnTo>
                      <a:pt x="52" y="278"/>
                    </a:lnTo>
                    <a:lnTo>
                      <a:pt x="67" y="241"/>
                    </a:lnTo>
                    <a:lnTo>
                      <a:pt x="81" y="203"/>
                    </a:lnTo>
                    <a:lnTo>
                      <a:pt x="98" y="165"/>
                    </a:lnTo>
                    <a:lnTo>
                      <a:pt x="117" y="126"/>
                    </a:lnTo>
                    <a:lnTo>
                      <a:pt x="136" y="90"/>
                    </a:lnTo>
                    <a:lnTo>
                      <a:pt x="148" y="73"/>
                    </a:lnTo>
                    <a:lnTo>
                      <a:pt x="159" y="55"/>
                    </a:lnTo>
                    <a:lnTo>
                      <a:pt x="175" y="38"/>
                    </a:lnTo>
                    <a:lnTo>
                      <a:pt x="188" y="21"/>
                    </a:lnTo>
                    <a:lnTo>
                      <a:pt x="198" y="13"/>
                    </a:lnTo>
                    <a:lnTo>
                      <a:pt x="209" y="7"/>
                    </a:lnTo>
                    <a:lnTo>
                      <a:pt x="225" y="3"/>
                    </a:lnTo>
                    <a:lnTo>
                      <a:pt x="244" y="0"/>
                    </a:lnTo>
                    <a:lnTo>
                      <a:pt x="261" y="0"/>
                    </a:lnTo>
                    <a:lnTo>
                      <a:pt x="280" y="0"/>
                    </a:lnTo>
                    <a:lnTo>
                      <a:pt x="302" y="0"/>
                    </a:lnTo>
                    <a:lnTo>
                      <a:pt x="323" y="3"/>
                    </a:lnTo>
                    <a:lnTo>
                      <a:pt x="365" y="11"/>
                    </a:lnTo>
                    <a:lnTo>
                      <a:pt x="403" y="19"/>
                    </a:lnTo>
                    <a:lnTo>
                      <a:pt x="419" y="26"/>
                    </a:lnTo>
                    <a:lnTo>
                      <a:pt x="436" y="30"/>
                    </a:lnTo>
                    <a:lnTo>
                      <a:pt x="448" y="38"/>
                    </a:lnTo>
                    <a:lnTo>
                      <a:pt x="459" y="44"/>
                    </a:lnTo>
                    <a:lnTo>
                      <a:pt x="463" y="48"/>
                    </a:lnTo>
                    <a:lnTo>
                      <a:pt x="473" y="57"/>
                    </a:lnTo>
                    <a:lnTo>
                      <a:pt x="480" y="67"/>
                    </a:lnTo>
                    <a:lnTo>
                      <a:pt x="488" y="76"/>
                    </a:lnTo>
                    <a:lnTo>
                      <a:pt x="494" y="88"/>
                    </a:lnTo>
                    <a:lnTo>
                      <a:pt x="497" y="99"/>
                    </a:lnTo>
                    <a:lnTo>
                      <a:pt x="501" y="107"/>
                    </a:lnTo>
                    <a:lnTo>
                      <a:pt x="507" y="117"/>
                    </a:lnTo>
                    <a:lnTo>
                      <a:pt x="588" y="548"/>
                    </a:lnTo>
                    <a:lnTo>
                      <a:pt x="559" y="550"/>
                    </a:lnTo>
                    <a:lnTo>
                      <a:pt x="532" y="554"/>
                    </a:lnTo>
                    <a:lnTo>
                      <a:pt x="507" y="562"/>
                    </a:lnTo>
                    <a:lnTo>
                      <a:pt x="478" y="568"/>
                    </a:lnTo>
                    <a:lnTo>
                      <a:pt x="451" y="570"/>
                    </a:lnTo>
                    <a:lnTo>
                      <a:pt x="426" y="570"/>
                    </a:lnTo>
                    <a:lnTo>
                      <a:pt x="415" y="570"/>
                    </a:lnTo>
                    <a:lnTo>
                      <a:pt x="401" y="568"/>
                    </a:lnTo>
                    <a:lnTo>
                      <a:pt x="388" y="562"/>
                    </a:lnTo>
                    <a:lnTo>
                      <a:pt x="373" y="556"/>
                    </a:lnTo>
                    <a:lnTo>
                      <a:pt x="375" y="550"/>
                    </a:lnTo>
                    <a:lnTo>
                      <a:pt x="376" y="548"/>
                    </a:lnTo>
                    <a:lnTo>
                      <a:pt x="378" y="541"/>
                    </a:lnTo>
                    <a:lnTo>
                      <a:pt x="380" y="537"/>
                    </a:lnTo>
                    <a:lnTo>
                      <a:pt x="382" y="533"/>
                    </a:lnTo>
                    <a:lnTo>
                      <a:pt x="386" y="527"/>
                    </a:lnTo>
                    <a:lnTo>
                      <a:pt x="392" y="520"/>
                    </a:lnTo>
                    <a:lnTo>
                      <a:pt x="400" y="512"/>
                    </a:lnTo>
                    <a:lnTo>
                      <a:pt x="403" y="504"/>
                    </a:lnTo>
                    <a:lnTo>
                      <a:pt x="409" y="495"/>
                    </a:lnTo>
                    <a:lnTo>
                      <a:pt x="413" y="489"/>
                    </a:lnTo>
                    <a:lnTo>
                      <a:pt x="415" y="479"/>
                    </a:lnTo>
                    <a:lnTo>
                      <a:pt x="419" y="472"/>
                    </a:lnTo>
                    <a:lnTo>
                      <a:pt x="423" y="462"/>
                    </a:lnTo>
                    <a:lnTo>
                      <a:pt x="425" y="456"/>
                    </a:lnTo>
                    <a:lnTo>
                      <a:pt x="426" y="447"/>
                    </a:lnTo>
                    <a:lnTo>
                      <a:pt x="432" y="414"/>
                    </a:lnTo>
                    <a:lnTo>
                      <a:pt x="434" y="385"/>
                    </a:lnTo>
                    <a:lnTo>
                      <a:pt x="432" y="355"/>
                    </a:lnTo>
                    <a:lnTo>
                      <a:pt x="430" y="328"/>
                    </a:lnTo>
                    <a:lnTo>
                      <a:pt x="426" y="301"/>
                    </a:lnTo>
                    <a:lnTo>
                      <a:pt x="423" y="276"/>
                    </a:lnTo>
                    <a:lnTo>
                      <a:pt x="421" y="249"/>
                    </a:lnTo>
                    <a:lnTo>
                      <a:pt x="417" y="2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210000" y="2211120"/>
                <a:ext cx="206280" cy="78120"/>
              </a:xfrm>
              <a:custGeom>
                <a:avLst/>
                <a:gdLst/>
                <a:ahLst/>
                <a:rect l="l" t="t" r="r" b="b"/>
                <a:pathLst>
                  <a:path w="144" h="60">
                    <a:moveTo>
                      <a:pt x="144" y="21"/>
                    </a:moveTo>
                    <a:lnTo>
                      <a:pt x="138" y="19"/>
                    </a:lnTo>
                    <a:lnTo>
                      <a:pt x="131" y="16"/>
                    </a:lnTo>
                    <a:lnTo>
                      <a:pt x="125" y="12"/>
                    </a:lnTo>
                    <a:lnTo>
                      <a:pt x="117" y="8"/>
                    </a:lnTo>
                    <a:lnTo>
                      <a:pt x="109" y="4"/>
                    </a:lnTo>
                    <a:lnTo>
                      <a:pt x="104" y="2"/>
                    </a:lnTo>
                    <a:lnTo>
                      <a:pt x="96" y="2"/>
                    </a:lnTo>
                    <a:lnTo>
                      <a:pt x="90" y="0"/>
                    </a:lnTo>
                    <a:lnTo>
                      <a:pt x="88" y="2"/>
                    </a:lnTo>
                    <a:lnTo>
                      <a:pt x="86" y="2"/>
                    </a:lnTo>
                    <a:lnTo>
                      <a:pt x="85" y="6"/>
                    </a:lnTo>
                    <a:lnTo>
                      <a:pt x="83" y="8"/>
                    </a:lnTo>
                    <a:lnTo>
                      <a:pt x="79" y="10"/>
                    </a:lnTo>
                    <a:lnTo>
                      <a:pt x="77" y="12"/>
                    </a:lnTo>
                    <a:lnTo>
                      <a:pt x="75" y="12"/>
                    </a:lnTo>
                    <a:lnTo>
                      <a:pt x="73" y="12"/>
                    </a:lnTo>
                    <a:lnTo>
                      <a:pt x="71" y="12"/>
                    </a:lnTo>
                    <a:lnTo>
                      <a:pt x="69" y="12"/>
                    </a:lnTo>
                    <a:lnTo>
                      <a:pt x="67" y="12"/>
                    </a:lnTo>
                    <a:lnTo>
                      <a:pt x="63" y="10"/>
                    </a:lnTo>
                    <a:lnTo>
                      <a:pt x="61" y="8"/>
                    </a:lnTo>
                    <a:lnTo>
                      <a:pt x="61" y="6"/>
                    </a:lnTo>
                    <a:lnTo>
                      <a:pt x="60" y="4"/>
                    </a:lnTo>
                    <a:lnTo>
                      <a:pt x="48" y="4"/>
                    </a:lnTo>
                    <a:lnTo>
                      <a:pt x="48" y="0"/>
                    </a:lnTo>
                    <a:lnTo>
                      <a:pt x="38" y="0"/>
                    </a:lnTo>
                    <a:lnTo>
                      <a:pt x="29" y="8"/>
                    </a:lnTo>
                    <a:lnTo>
                      <a:pt x="25" y="8"/>
                    </a:lnTo>
                    <a:lnTo>
                      <a:pt x="23" y="10"/>
                    </a:lnTo>
                    <a:lnTo>
                      <a:pt x="19" y="10"/>
                    </a:lnTo>
                    <a:lnTo>
                      <a:pt x="13" y="12"/>
                    </a:lnTo>
                    <a:lnTo>
                      <a:pt x="12" y="14"/>
                    </a:lnTo>
                    <a:lnTo>
                      <a:pt x="8" y="16"/>
                    </a:lnTo>
                    <a:lnTo>
                      <a:pt x="4" y="16"/>
                    </a:lnTo>
                    <a:lnTo>
                      <a:pt x="0" y="18"/>
                    </a:lnTo>
                    <a:lnTo>
                      <a:pt x="2" y="19"/>
                    </a:lnTo>
                    <a:lnTo>
                      <a:pt x="4" y="23"/>
                    </a:lnTo>
                    <a:lnTo>
                      <a:pt x="6" y="25"/>
                    </a:lnTo>
                    <a:lnTo>
                      <a:pt x="10" y="27"/>
                    </a:lnTo>
                    <a:lnTo>
                      <a:pt x="12" y="29"/>
                    </a:lnTo>
                    <a:lnTo>
                      <a:pt x="13" y="31"/>
                    </a:lnTo>
                    <a:lnTo>
                      <a:pt x="19" y="33"/>
                    </a:lnTo>
                    <a:lnTo>
                      <a:pt x="23" y="35"/>
                    </a:lnTo>
                    <a:lnTo>
                      <a:pt x="23" y="37"/>
                    </a:lnTo>
                    <a:lnTo>
                      <a:pt x="25" y="41"/>
                    </a:lnTo>
                    <a:lnTo>
                      <a:pt x="27" y="46"/>
                    </a:lnTo>
                    <a:lnTo>
                      <a:pt x="29" y="46"/>
                    </a:lnTo>
                    <a:lnTo>
                      <a:pt x="33" y="48"/>
                    </a:lnTo>
                    <a:lnTo>
                      <a:pt x="36" y="50"/>
                    </a:lnTo>
                    <a:lnTo>
                      <a:pt x="38" y="52"/>
                    </a:lnTo>
                    <a:lnTo>
                      <a:pt x="38" y="56"/>
                    </a:lnTo>
                    <a:lnTo>
                      <a:pt x="46" y="58"/>
                    </a:lnTo>
                    <a:lnTo>
                      <a:pt x="54" y="58"/>
                    </a:lnTo>
                    <a:lnTo>
                      <a:pt x="60" y="60"/>
                    </a:lnTo>
                    <a:lnTo>
                      <a:pt x="67" y="60"/>
                    </a:lnTo>
                    <a:lnTo>
                      <a:pt x="73" y="60"/>
                    </a:lnTo>
                    <a:lnTo>
                      <a:pt x="81" y="60"/>
                    </a:lnTo>
                    <a:lnTo>
                      <a:pt x="88" y="60"/>
                    </a:lnTo>
                    <a:lnTo>
                      <a:pt x="96" y="60"/>
                    </a:lnTo>
                    <a:lnTo>
                      <a:pt x="96" y="58"/>
                    </a:lnTo>
                    <a:lnTo>
                      <a:pt x="98" y="56"/>
                    </a:lnTo>
                    <a:lnTo>
                      <a:pt x="102" y="54"/>
                    </a:lnTo>
                    <a:lnTo>
                      <a:pt x="104" y="52"/>
                    </a:lnTo>
                    <a:lnTo>
                      <a:pt x="106" y="48"/>
                    </a:lnTo>
                    <a:lnTo>
                      <a:pt x="109" y="46"/>
                    </a:lnTo>
                    <a:lnTo>
                      <a:pt x="111" y="46"/>
                    </a:lnTo>
                    <a:lnTo>
                      <a:pt x="111" y="43"/>
                    </a:lnTo>
                    <a:lnTo>
                      <a:pt x="113" y="43"/>
                    </a:lnTo>
                    <a:lnTo>
                      <a:pt x="117" y="41"/>
                    </a:lnTo>
                    <a:lnTo>
                      <a:pt x="117" y="41"/>
                    </a:lnTo>
                    <a:lnTo>
                      <a:pt x="117" y="39"/>
                    </a:lnTo>
                    <a:lnTo>
                      <a:pt x="119" y="39"/>
                    </a:lnTo>
                    <a:lnTo>
                      <a:pt x="121" y="37"/>
                    </a:lnTo>
                    <a:lnTo>
                      <a:pt x="121" y="35"/>
                    </a:lnTo>
                    <a:lnTo>
                      <a:pt x="121" y="35"/>
                    </a:lnTo>
                    <a:lnTo>
                      <a:pt x="123" y="35"/>
                    </a:lnTo>
                    <a:lnTo>
                      <a:pt x="125" y="35"/>
                    </a:lnTo>
                    <a:lnTo>
                      <a:pt x="127" y="33"/>
                    </a:lnTo>
                    <a:lnTo>
                      <a:pt x="129" y="31"/>
                    </a:lnTo>
                    <a:lnTo>
                      <a:pt x="131" y="29"/>
                    </a:lnTo>
                    <a:lnTo>
                      <a:pt x="134" y="27"/>
                    </a:lnTo>
                    <a:lnTo>
                      <a:pt x="138" y="25"/>
                    </a:lnTo>
                    <a:lnTo>
                      <a:pt x="144" y="21"/>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30" name=""/>
              <p:cNvSpPr/>
              <p:nvPr/>
            </p:nvSpPr>
            <p:spPr>
              <a:xfrm>
                <a:off x="6210000" y="2211120"/>
                <a:ext cx="206280" cy="78120"/>
              </a:xfrm>
              <a:custGeom>
                <a:avLst/>
                <a:gdLst/>
                <a:ahLst/>
                <a:rect l="l" t="t" r="r" b="b"/>
                <a:pathLst>
                  <a:path w="144" h="60">
                    <a:moveTo>
                      <a:pt x="144" y="21"/>
                    </a:moveTo>
                    <a:lnTo>
                      <a:pt x="138" y="19"/>
                    </a:lnTo>
                    <a:lnTo>
                      <a:pt x="131" y="16"/>
                    </a:lnTo>
                    <a:lnTo>
                      <a:pt x="125" y="12"/>
                    </a:lnTo>
                    <a:lnTo>
                      <a:pt x="117" y="8"/>
                    </a:lnTo>
                    <a:lnTo>
                      <a:pt x="109" y="4"/>
                    </a:lnTo>
                    <a:lnTo>
                      <a:pt x="104" y="2"/>
                    </a:lnTo>
                    <a:lnTo>
                      <a:pt x="96" y="2"/>
                    </a:lnTo>
                    <a:lnTo>
                      <a:pt x="90" y="0"/>
                    </a:lnTo>
                    <a:lnTo>
                      <a:pt x="88" y="2"/>
                    </a:lnTo>
                    <a:lnTo>
                      <a:pt x="86" y="2"/>
                    </a:lnTo>
                    <a:lnTo>
                      <a:pt x="85" y="6"/>
                    </a:lnTo>
                    <a:lnTo>
                      <a:pt x="83" y="8"/>
                    </a:lnTo>
                    <a:lnTo>
                      <a:pt x="79" y="10"/>
                    </a:lnTo>
                    <a:lnTo>
                      <a:pt x="77" y="12"/>
                    </a:lnTo>
                    <a:lnTo>
                      <a:pt x="75" y="12"/>
                    </a:lnTo>
                    <a:lnTo>
                      <a:pt x="73" y="12"/>
                    </a:lnTo>
                    <a:lnTo>
                      <a:pt x="71" y="12"/>
                    </a:lnTo>
                    <a:lnTo>
                      <a:pt x="69" y="12"/>
                    </a:lnTo>
                    <a:lnTo>
                      <a:pt x="67" y="12"/>
                    </a:lnTo>
                    <a:lnTo>
                      <a:pt x="63" y="10"/>
                    </a:lnTo>
                    <a:lnTo>
                      <a:pt x="61" y="8"/>
                    </a:lnTo>
                    <a:lnTo>
                      <a:pt x="61" y="6"/>
                    </a:lnTo>
                    <a:lnTo>
                      <a:pt x="60" y="4"/>
                    </a:lnTo>
                    <a:lnTo>
                      <a:pt x="48" y="4"/>
                    </a:lnTo>
                    <a:lnTo>
                      <a:pt x="48" y="0"/>
                    </a:lnTo>
                    <a:lnTo>
                      <a:pt x="38" y="0"/>
                    </a:lnTo>
                    <a:lnTo>
                      <a:pt x="29" y="8"/>
                    </a:lnTo>
                    <a:lnTo>
                      <a:pt x="25" y="8"/>
                    </a:lnTo>
                    <a:lnTo>
                      <a:pt x="23" y="10"/>
                    </a:lnTo>
                    <a:lnTo>
                      <a:pt x="19" y="10"/>
                    </a:lnTo>
                    <a:lnTo>
                      <a:pt x="13" y="12"/>
                    </a:lnTo>
                    <a:lnTo>
                      <a:pt x="12" y="14"/>
                    </a:lnTo>
                    <a:lnTo>
                      <a:pt x="8" y="16"/>
                    </a:lnTo>
                    <a:lnTo>
                      <a:pt x="4" y="16"/>
                    </a:lnTo>
                    <a:lnTo>
                      <a:pt x="0" y="18"/>
                    </a:lnTo>
                    <a:lnTo>
                      <a:pt x="2" y="19"/>
                    </a:lnTo>
                    <a:lnTo>
                      <a:pt x="4" y="23"/>
                    </a:lnTo>
                    <a:lnTo>
                      <a:pt x="6" y="25"/>
                    </a:lnTo>
                    <a:lnTo>
                      <a:pt x="10" y="27"/>
                    </a:lnTo>
                    <a:lnTo>
                      <a:pt x="12" y="29"/>
                    </a:lnTo>
                    <a:lnTo>
                      <a:pt x="13" y="31"/>
                    </a:lnTo>
                    <a:lnTo>
                      <a:pt x="19" y="33"/>
                    </a:lnTo>
                    <a:lnTo>
                      <a:pt x="23" y="35"/>
                    </a:lnTo>
                    <a:lnTo>
                      <a:pt x="23" y="37"/>
                    </a:lnTo>
                    <a:lnTo>
                      <a:pt x="25" y="41"/>
                    </a:lnTo>
                    <a:lnTo>
                      <a:pt x="27" y="46"/>
                    </a:lnTo>
                    <a:lnTo>
                      <a:pt x="29" y="46"/>
                    </a:lnTo>
                    <a:lnTo>
                      <a:pt x="33" y="48"/>
                    </a:lnTo>
                    <a:lnTo>
                      <a:pt x="36" y="50"/>
                    </a:lnTo>
                    <a:lnTo>
                      <a:pt x="38" y="52"/>
                    </a:lnTo>
                    <a:lnTo>
                      <a:pt x="38" y="56"/>
                    </a:lnTo>
                    <a:lnTo>
                      <a:pt x="46" y="58"/>
                    </a:lnTo>
                    <a:lnTo>
                      <a:pt x="54" y="58"/>
                    </a:lnTo>
                    <a:lnTo>
                      <a:pt x="60" y="60"/>
                    </a:lnTo>
                    <a:lnTo>
                      <a:pt x="67" y="60"/>
                    </a:lnTo>
                    <a:lnTo>
                      <a:pt x="73" y="60"/>
                    </a:lnTo>
                    <a:lnTo>
                      <a:pt x="81" y="60"/>
                    </a:lnTo>
                    <a:lnTo>
                      <a:pt x="88" y="60"/>
                    </a:lnTo>
                    <a:lnTo>
                      <a:pt x="96" y="60"/>
                    </a:lnTo>
                    <a:lnTo>
                      <a:pt x="96" y="58"/>
                    </a:lnTo>
                    <a:lnTo>
                      <a:pt x="98" y="56"/>
                    </a:lnTo>
                    <a:lnTo>
                      <a:pt x="102" y="54"/>
                    </a:lnTo>
                    <a:lnTo>
                      <a:pt x="104" y="52"/>
                    </a:lnTo>
                    <a:lnTo>
                      <a:pt x="106" y="48"/>
                    </a:lnTo>
                    <a:lnTo>
                      <a:pt x="109" y="46"/>
                    </a:lnTo>
                    <a:lnTo>
                      <a:pt x="111" y="46"/>
                    </a:lnTo>
                    <a:lnTo>
                      <a:pt x="111" y="43"/>
                    </a:lnTo>
                    <a:lnTo>
                      <a:pt x="113" y="43"/>
                    </a:lnTo>
                    <a:lnTo>
                      <a:pt x="117" y="41"/>
                    </a:lnTo>
                    <a:lnTo>
                      <a:pt x="117" y="39"/>
                    </a:lnTo>
                    <a:lnTo>
                      <a:pt x="119" y="39"/>
                    </a:lnTo>
                    <a:lnTo>
                      <a:pt x="121" y="37"/>
                    </a:lnTo>
                    <a:lnTo>
                      <a:pt x="121" y="35"/>
                    </a:lnTo>
                    <a:lnTo>
                      <a:pt x="123" y="35"/>
                    </a:lnTo>
                    <a:lnTo>
                      <a:pt x="125" y="35"/>
                    </a:lnTo>
                    <a:lnTo>
                      <a:pt x="127" y="33"/>
                    </a:lnTo>
                    <a:lnTo>
                      <a:pt x="129" y="31"/>
                    </a:lnTo>
                    <a:lnTo>
                      <a:pt x="131" y="29"/>
                    </a:lnTo>
                    <a:lnTo>
                      <a:pt x="134" y="27"/>
                    </a:lnTo>
                    <a:lnTo>
                      <a:pt x="138" y="25"/>
                    </a:lnTo>
                    <a:lnTo>
                      <a:pt x="144" y="21"/>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31" name=""/>
              <p:cNvSpPr/>
              <p:nvPr/>
            </p:nvSpPr>
            <p:spPr>
              <a:xfrm>
                <a:off x="6147720" y="1949040"/>
                <a:ext cx="106560" cy="53640"/>
              </a:xfrm>
              <a:custGeom>
                <a:avLst/>
                <a:gdLst/>
                <a:ahLst/>
                <a:rect l="l" t="t" r="r" b="b"/>
                <a:pathLst>
                  <a:path w="75" h="42">
                    <a:moveTo>
                      <a:pt x="75" y="25"/>
                    </a:moveTo>
                    <a:lnTo>
                      <a:pt x="65" y="13"/>
                    </a:lnTo>
                    <a:lnTo>
                      <a:pt x="36" y="0"/>
                    </a:lnTo>
                    <a:lnTo>
                      <a:pt x="2" y="11"/>
                    </a:lnTo>
                    <a:lnTo>
                      <a:pt x="2" y="13"/>
                    </a:lnTo>
                    <a:lnTo>
                      <a:pt x="0" y="17"/>
                    </a:lnTo>
                    <a:lnTo>
                      <a:pt x="2" y="21"/>
                    </a:lnTo>
                    <a:lnTo>
                      <a:pt x="6" y="23"/>
                    </a:lnTo>
                    <a:lnTo>
                      <a:pt x="8" y="29"/>
                    </a:lnTo>
                    <a:lnTo>
                      <a:pt x="9" y="32"/>
                    </a:lnTo>
                    <a:lnTo>
                      <a:pt x="13" y="32"/>
                    </a:lnTo>
                    <a:lnTo>
                      <a:pt x="15" y="32"/>
                    </a:lnTo>
                    <a:lnTo>
                      <a:pt x="21" y="36"/>
                    </a:lnTo>
                    <a:lnTo>
                      <a:pt x="25" y="38"/>
                    </a:lnTo>
                    <a:lnTo>
                      <a:pt x="29" y="38"/>
                    </a:lnTo>
                    <a:lnTo>
                      <a:pt x="32" y="42"/>
                    </a:lnTo>
                    <a:lnTo>
                      <a:pt x="34" y="42"/>
                    </a:lnTo>
                    <a:lnTo>
                      <a:pt x="40" y="42"/>
                    </a:lnTo>
                    <a:lnTo>
                      <a:pt x="46" y="38"/>
                    </a:lnTo>
                    <a:lnTo>
                      <a:pt x="52" y="36"/>
                    </a:lnTo>
                    <a:lnTo>
                      <a:pt x="63" y="32"/>
                    </a:lnTo>
                    <a:lnTo>
                      <a:pt x="75"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2" name=""/>
              <p:cNvSpPr/>
              <p:nvPr/>
            </p:nvSpPr>
            <p:spPr>
              <a:xfrm>
                <a:off x="6147720" y="1949040"/>
                <a:ext cx="106560" cy="53640"/>
              </a:xfrm>
              <a:custGeom>
                <a:avLst/>
                <a:gdLst/>
                <a:ahLst/>
                <a:rect l="l" t="t" r="r" b="b"/>
                <a:pathLst>
                  <a:path w="75" h="42">
                    <a:moveTo>
                      <a:pt x="75" y="25"/>
                    </a:moveTo>
                    <a:lnTo>
                      <a:pt x="65" y="13"/>
                    </a:lnTo>
                    <a:lnTo>
                      <a:pt x="36" y="0"/>
                    </a:lnTo>
                    <a:lnTo>
                      <a:pt x="2" y="11"/>
                    </a:lnTo>
                    <a:lnTo>
                      <a:pt x="2" y="13"/>
                    </a:lnTo>
                    <a:lnTo>
                      <a:pt x="0" y="17"/>
                    </a:lnTo>
                    <a:lnTo>
                      <a:pt x="2" y="21"/>
                    </a:lnTo>
                    <a:lnTo>
                      <a:pt x="6" y="23"/>
                    </a:lnTo>
                    <a:lnTo>
                      <a:pt x="8" y="29"/>
                    </a:lnTo>
                    <a:lnTo>
                      <a:pt x="9" y="32"/>
                    </a:lnTo>
                    <a:lnTo>
                      <a:pt x="13" y="32"/>
                    </a:lnTo>
                    <a:lnTo>
                      <a:pt x="15" y="32"/>
                    </a:lnTo>
                    <a:lnTo>
                      <a:pt x="21" y="36"/>
                    </a:lnTo>
                    <a:lnTo>
                      <a:pt x="25" y="38"/>
                    </a:lnTo>
                    <a:lnTo>
                      <a:pt x="29" y="38"/>
                    </a:lnTo>
                    <a:lnTo>
                      <a:pt x="32" y="42"/>
                    </a:lnTo>
                    <a:lnTo>
                      <a:pt x="34" y="42"/>
                    </a:lnTo>
                    <a:lnTo>
                      <a:pt x="40" y="42"/>
                    </a:lnTo>
                    <a:lnTo>
                      <a:pt x="46" y="38"/>
                    </a:lnTo>
                    <a:lnTo>
                      <a:pt x="52" y="36"/>
                    </a:lnTo>
                    <a:lnTo>
                      <a:pt x="63" y="32"/>
                    </a:lnTo>
                    <a:lnTo>
                      <a:pt x="75" y="25"/>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3" name=""/>
              <p:cNvSpPr/>
              <p:nvPr/>
            </p:nvSpPr>
            <p:spPr>
              <a:xfrm>
                <a:off x="6177240" y="1950480"/>
                <a:ext cx="51840" cy="33840"/>
              </a:xfrm>
              <a:custGeom>
                <a:avLst/>
                <a:gdLst/>
                <a:ahLst/>
                <a:rect l="l" t="t" r="r" b="b"/>
                <a:pathLst>
                  <a:path w="36" h="25">
                    <a:moveTo>
                      <a:pt x="6" y="19"/>
                    </a:moveTo>
                    <a:lnTo>
                      <a:pt x="4" y="19"/>
                    </a:lnTo>
                    <a:lnTo>
                      <a:pt x="4" y="17"/>
                    </a:lnTo>
                    <a:lnTo>
                      <a:pt x="2" y="17"/>
                    </a:lnTo>
                    <a:lnTo>
                      <a:pt x="4" y="15"/>
                    </a:lnTo>
                    <a:lnTo>
                      <a:pt x="2" y="11"/>
                    </a:lnTo>
                    <a:lnTo>
                      <a:pt x="0" y="9"/>
                    </a:lnTo>
                    <a:lnTo>
                      <a:pt x="4" y="7"/>
                    </a:lnTo>
                    <a:lnTo>
                      <a:pt x="4" y="4"/>
                    </a:lnTo>
                    <a:lnTo>
                      <a:pt x="6" y="4"/>
                    </a:lnTo>
                    <a:lnTo>
                      <a:pt x="10" y="2"/>
                    </a:lnTo>
                    <a:lnTo>
                      <a:pt x="11" y="2"/>
                    </a:lnTo>
                    <a:lnTo>
                      <a:pt x="17" y="0"/>
                    </a:lnTo>
                    <a:lnTo>
                      <a:pt x="19" y="0"/>
                    </a:lnTo>
                    <a:lnTo>
                      <a:pt x="21" y="0"/>
                    </a:lnTo>
                    <a:lnTo>
                      <a:pt x="23" y="2"/>
                    </a:lnTo>
                    <a:lnTo>
                      <a:pt x="25" y="2"/>
                    </a:lnTo>
                    <a:lnTo>
                      <a:pt x="27" y="4"/>
                    </a:lnTo>
                    <a:lnTo>
                      <a:pt x="29" y="4"/>
                    </a:lnTo>
                    <a:lnTo>
                      <a:pt x="31" y="4"/>
                    </a:lnTo>
                    <a:lnTo>
                      <a:pt x="33" y="5"/>
                    </a:lnTo>
                    <a:lnTo>
                      <a:pt x="35" y="7"/>
                    </a:lnTo>
                    <a:lnTo>
                      <a:pt x="35" y="9"/>
                    </a:lnTo>
                    <a:lnTo>
                      <a:pt x="35" y="9"/>
                    </a:lnTo>
                    <a:lnTo>
                      <a:pt x="35" y="11"/>
                    </a:lnTo>
                    <a:lnTo>
                      <a:pt x="36" y="11"/>
                    </a:lnTo>
                    <a:lnTo>
                      <a:pt x="35" y="13"/>
                    </a:lnTo>
                    <a:lnTo>
                      <a:pt x="35" y="15"/>
                    </a:lnTo>
                    <a:lnTo>
                      <a:pt x="35" y="17"/>
                    </a:lnTo>
                    <a:lnTo>
                      <a:pt x="33" y="17"/>
                    </a:lnTo>
                    <a:lnTo>
                      <a:pt x="33" y="19"/>
                    </a:lnTo>
                    <a:lnTo>
                      <a:pt x="29" y="23"/>
                    </a:lnTo>
                    <a:lnTo>
                      <a:pt x="27" y="23"/>
                    </a:lnTo>
                    <a:lnTo>
                      <a:pt x="21" y="23"/>
                    </a:lnTo>
                    <a:lnTo>
                      <a:pt x="19" y="23"/>
                    </a:lnTo>
                    <a:lnTo>
                      <a:pt x="17" y="25"/>
                    </a:lnTo>
                    <a:lnTo>
                      <a:pt x="13" y="23"/>
                    </a:lnTo>
                    <a:lnTo>
                      <a:pt x="11" y="21"/>
                    </a:lnTo>
                    <a:lnTo>
                      <a:pt x="11" y="23"/>
                    </a:lnTo>
                    <a:lnTo>
                      <a:pt x="10" y="23"/>
                    </a:lnTo>
                    <a:lnTo>
                      <a:pt x="8" y="21"/>
                    </a:lnTo>
                    <a:lnTo>
                      <a:pt x="6" y="19"/>
                    </a:lnTo>
                    <a:lnTo>
                      <a:pt x="6"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734" name=""/>
              <p:cNvSpPr/>
              <p:nvPr/>
            </p:nvSpPr>
            <p:spPr>
              <a:xfrm>
                <a:off x="6336360" y="1949040"/>
                <a:ext cx="114120" cy="56520"/>
              </a:xfrm>
              <a:custGeom>
                <a:avLst/>
                <a:gdLst/>
                <a:ahLst/>
                <a:rect l="l" t="t" r="r" b="b"/>
                <a:pathLst>
                  <a:path w="79" h="44">
                    <a:moveTo>
                      <a:pt x="0" y="27"/>
                    </a:moveTo>
                    <a:lnTo>
                      <a:pt x="12" y="17"/>
                    </a:lnTo>
                    <a:lnTo>
                      <a:pt x="16" y="9"/>
                    </a:lnTo>
                    <a:lnTo>
                      <a:pt x="39" y="0"/>
                    </a:lnTo>
                    <a:lnTo>
                      <a:pt x="62" y="4"/>
                    </a:lnTo>
                    <a:lnTo>
                      <a:pt x="66" y="6"/>
                    </a:lnTo>
                    <a:lnTo>
                      <a:pt x="69" y="9"/>
                    </a:lnTo>
                    <a:lnTo>
                      <a:pt x="73" y="13"/>
                    </a:lnTo>
                    <a:lnTo>
                      <a:pt x="77" y="13"/>
                    </a:lnTo>
                    <a:lnTo>
                      <a:pt x="79" y="13"/>
                    </a:lnTo>
                    <a:lnTo>
                      <a:pt x="79" y="19"/>
                    </a:lnTo>
                    <a:lnTo>
                      <a:pt x="77" y="23"/>
                    </a:lnTo>
                    <a:lnTo>
                      <a:pt x="71" y="27"/>
                    </a:lnTo>
                    <a:lnTo>
                      <a:pt x="43" y="44"/>
                    </a:lnTo>
                    <a:lnTo>
                      <a:pt x="33" y="44"/>
                    </a:lnTo>
                    <a:lnTo>
                      <a:pt x="21" y="38"/>
                    </a:lnTo>
                    <a:lnTo>
                      <a:pt x="14" y="32"/>
                    </a:lnTo>
                    <a:lnTo>
                      <a:pt x="0" y="2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5" name=""/>
              <p:cNvSpPr/>
              <p:nvPr/>
            </p:nvSpPr>
            <p:spPr>
              <a:xfrm>
                <a:off x="6336360" y="1949040"/>
                <a:ext cx="114120" cy="56520"/>
              </a:xfrm>
              <a:custGeom>
                <a:avLst/>
                <a:gdLst/>
                <a:ahLst/>
                <a:rect l="l" t="t" r="r" b="b"/>
                <a:pathLst>
                  <a:path w="79" h="44">
                    <a:moveTo>
                      <a:pt x="0" y="27"/>
                    </a:moveTo>
                    <a:lnTo>
                      <a:pt x="12" y="17"/>
                    </a:lnTo>
                    <a:lnTo>
                      <a:pt x="16" y="9"/>
                    </a:lnTo>
                    <a:lnTo>
                      <a:pt x="39" y="0"/>
                    </a:lnTo>
                    <a:lnTo>
                      <a:pt x="62" y="4"/>
                    </a:lnTo>
                    <a:lnTo>
                      <a:pt x="66" y="6"/>
                    </a:lnTo>
                    <a:lnTo>
                      <a:pt x="69" y="9"/>
                    </a:lnTo>
                    <a:lnTo>
                      <a:pt x="73" y="13"/>
                    </a:lnTo>
                    <a:lnTo>
                      <a:pt x="77" y="13"/>
                    </a:lnTo>
                    <a:lnTo>
                      <a:pt x="79" y="13"/>
                    </a:lnTo>
                    <a:lnTo>
                      <a:pt x="79" y="19"/>
                    </a:lnTo>
                    <a:lnTo>
                      <a:pt x="77" y="23"/>
                    </a:lnTo>
                    <a:lnTo>
                      <a:pt x="71" y="27"/>
                    </a:lnTo>
                    <a:lnTo>
                      <a:pt x="43" y="44"/>
                    </a:lnTo>
                    <a:lnTo>
                      <a:pt x="33" y="44"/>
                    </a:lnTo>
                    <a:lnTo>
                      <a:pt x="21" y="38"/>
                    </a:lnTo>
                    <a:lnTo>
                      <a:pt x="14" y="32"/>
                    </a:lnTo>
                    <a:lnTo>
                      <a:pt x="0" y="27"/>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6" name=""/>
              <p:cNvSpPr/>
              <p:nvPr/>
            </p:nvSpPr>
            <p:spPr>
              <a:xfrm>
                <a:off x="6372000" y="1955880"/>
                <a:ext cx="50400" cy="30600"/>
              </a:xfrm>
              <a:custGeom>
                <a:avLst/>
                <a:gdLst/>
                <a:ahLst/>
                <a:rect l="l" t="t" r="r" b="b"/>
                <a:pathLst>
                  <a:path w="35" h="23">
                    <a:moveTo>
                      <a:pt x="29" y="23"/>
                    </a:moveTo>
                    <a:lnTo>
                      <a:pt x="31" y="23"/>
                    </a:lnTo>
                    <a:lnTo>
                      <a:pt x="31" y="21"/>
                    </a:lnTo>
                    <a:lnTo>
                      <a:pt x="33" y="21"/>
                    </a:lnTo>
                    <a:lnTo>
                      <a:pt x="33" y="19"/>
                    </a:lnTo>
                    <a:lnTo>
                      <a:pt x="35" y="17"/>
                    </a:lnTo>
                    <a:lnTo>
                      <a:pt x="33" y="17"/>
                    </a:lnTo>
                    <a:lnTo>
                      <a:pt x="35" y="15"/>
                    </a:lnTo>
                    <a:lnTo>
                      <a:pt x="35" y="13"/>
                    </a:lnTo>
                    <a:lnTo>
                      <a:pt x="33" y="11"/>
                    </a:lnTo>
                    <a:lnTo>
                      <a:pt x="33" y="7"/>
                    </a:lnTo>
                    <a:lnTo>
                      <a:pt x="29" y="5"/>
                    </a:lnTo>
                    <a:lnTo>
                      <a:pt x="27" y="3"/>
                    </a:lnTo>
                    <a:lnTo>
                      <a:pt x="23" y="1"/>
                    </a:lnTo>
                    <a:lnTo>
                      <a:pt x="21" y="0"/>
                    </a:lnTo>
                    <a:lnTo>
                      <a:pt x="20" y="0"/>
                    </a:lnTo>
                    <a:lnTo>
                      <a:pt x="16" y="0"/>
                    </a:lnTo>
                    <a:lnTo>
                      <a:pt x="16" y="0"/>
                    </a:lnTo>
                    <a:lnTo>
                      <a:pt x="14" y="0"/>
                    </a:lnTo>
                    <a:lnTo>
                      <a:pt x="12" y="0"/>
                    </a:lnTo>
                    <a:lnTo>
                      <a:pt x="10" y="1"/>
                    </a:lnTo>
                    <a:lnTo>
                      <a:pt x="8" y="1"/>
                    </a:lnTo>
                    <a:lnTo>
                      <a:pt x="6" y="1"/>
                    </a:lnTo>
                    <a:lnTo>
                      <a:pt x="6" y="3"/>
                    </a:lnTo>
                    <a:lnTo>
                      <a:pt x="4" y="3"/>
                    </a:lnTo>
                    <a:lnTo>
                      <a:pt x="4" y="5"/>
                    </a:lnTo>
                    <a:lnTo>
                      <a:pt x="2" y="5"/>
                    </a:lnTo>
                    <a:lnTo>
                      <a:pt x="2" y="7"/>
                    </a:lnTo>
                    <a:lnTo>
                      <a:pt x="0" y="9"/>
                    </a:lnTo>
                    <a:lnTo>
                      <a:pt x="2" y="11"/>
                    </a:lnTo>
                    <a:lnTo>
                      <a:pt x="2" y="15"/>
                    </a:lnTo>
                    <a:lnTo>
                      <a:pt x="4" y="17"/>
                    </a:lnTo>
                    <a:lnTo>
                      <a:pt x="6" y="19"/>
                    </a:lnTo>
                    <a:lnTo>
                      <a:pt x="8" y="21"/>
                    </a:lnTo>
                    <a:lnTo>
                      <a:pt x="12" y="23"/>
                    </a:lnTo>
                    <a:lnTo>
                      <a:pt x="16" y="23"/>
                    </a:lnTo>
                    <a:lnTo>
                      <a:pt x="16" y="23"/>
                    </a:lnTo>
                    <a:lnTo>
                      <a:pt x="18" y="23"/>
                    </a:lnTo>
                    <a:lnTo>
                      <a:pt x="20" y="23"/>
                    </a:lnTo>
                    <a:lnTo>
                      <a:pt x="21" y="23"/>
                    </a:lnTo>
                    <a:lnTo>
                      <a:pt x="23" y="23"/>
                    </a:lnTo>
                    <a:lnTo>
                      <a:pt x="25" y="23"/>
                    </a:lnTo>
                    <a:lnTo>
                      <a:pt x="27" y="23"/>
                    </a:lnTo>
                    <a:lnTo>
                      <a:pt x="29" y="2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737" name=""/>
              <p:cNvSpPr/>
              <p:nvPr/>
            </p:nvSpPr>
            <p:spPr>
              <a:xfrm>
                <a:off x="6119280" y="1870920"/>
                <a:ext cx="132120" cy="44640"/>
              </a:xfrm>
              <a:custGeom>
                <a:avLst/>
                <a:gdLst/>
                <a:ahLst/>
                <a:rect l="l" t="t" r="r" b="b"/>
                <a:pathLst>
                  <a:path w="92" h="35">
                    <a:moveTo>
                      <a:pt x="92" y="27"/>
                    </a:moveTo>
                    <a:lnTo>
                      <a:pt x="21" y="0"/>
                    </a:lnTo>
                    <a:lnTo>
                      <a:pt x="0" y="29"/>
                    </a:lnTo>
                    <a:lnTo>
                      <a:pt x="76" y="35"/>
                    </a:lnTo>
                    <a:lnTo>
                      <a:pt x="92"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8" name=""/>
              <p:cNvSpPr/>
              <p:nvPr/>
            </p:nvSpPr>
            <p:spPr>
              <a:xfrm>
                <a:off x="6363000" y="1864080"/>
                <a:ext cx="108360" cy="65880"/>
              </a:xfrm>
              <a:custGeom>
                <a:avLst/>
                <a:gdLst/>
                <a:ahLst/>
                <a:rect l="l" t="t" r="r" b="b"/>
                <a:pathLst>
                  <a:path w="76" h="51">
                    <a:moveTo>
                      <a:pt x="0" y="5"/>
                    </a:moveTo>
                    <a:lnTo>
                      <a:pt x="0" y="5"/>
                    </a:lnTo>
                    <a:lnTo>
                      <a:pt x="3" y="3"/>
                    </a:lnTo>
                    <a:lnTo>
                      <a:pt x="7" y="0"/>
                    </a:lnTo>
                    <a:lnTo>
                      <a:pt x="13" y="0"/>
                    </a:lnTo>
                    <a:lnTo>
                      <a:pt x="17" y="0"/>
                    </a:lnTo>
                    <a:lnTo>
                      <a:pt x="23" y="0"/>
                    </a:lnTo>
                    <a:lnTo>
                      <a:pt x="25" y="0"/>
                    </a:lnTo>
                    <a:lnTo>
                      <a:pt x="28" y="0"/>
                    </a:lnTo>
                    <a:lnTo>
                      <a:pt x="30" y="0"/>
                    </a:lnTo>
                    <a:lnTo>
                      <a:pt x="32" y="0"/>
                    </a:lnTo>
                    <a:lnTo>
                      <a:pt x="36" y="0"/>
                    </a:lnTo>
                    <a:lnTo>
                      <a:pt x="40" y="0"/>
                    </a:lnTo>
                    <a:lnTo>
                      <a:pt x="42" y="3"/>
                    </a:lnTo>
                    <a:lnTo>
                      <a:pt x="44" y="3"/>
                    </a:lnTo>
                    <a:lnTo>
                      <a:pt x="46" y="5"/>
                    </a:lnTo>
                    <a:lnTo>
                      <a:pt x="48" y="5"/>
                    </a:lnTo>
                    <a:lnTo>
                      <a:pt x="51" y="5"/>
                    </a:lnTo>
                    <a:lnTo>
                      <a:pt x="53" y="7"/>
                    </a:lnTo>
                    <a:lnTo>
                      <a:pt x="57" y="9"/>
                    </a:lnTo>
                    <a:lnTo>
                      <a:pt x="59" y="11"/>
                    </a:lnTo>
                    <a:lnTo>
                      <a:pt x="61" y="15"/>
                    </a:lnTo>
                    <a:lnTo>
                      <a:pt x="65" y="17"/>
                    </a:lnTo>
                    <a:lnTo>
                      <a:pt x="71" y="25"/>
                    </a:lnTo>
                    <a:lnTo>
                      <a:pt x="75" y="30"/>
                    </a:lnTo>
                    <a:lnTo>
                      <a:pt x="76" y="30"/>
                    </a:lnTo>
                    <a:lnTo>
                      <a:pt x="75" y="28"/>
                    </a:lnTo>
                    <a:lnTo>
                      <a:pt x="73" y="26"/>
                    </a:lnTo>
                    <a:lnTo>
                      <a:pt x="71" y="25"/>
                    </a:lnTo>
                    <a:lnTo>
                      <a:pt x="69" y="25"/>
                    </a:lnTo>
                    <a:lnTo>
                      <a:pt x="55" y="51"/>
                    </a:lnTo>
                    <a:lnTo>
                      <a:pt x="55" y="51"/>
                    </a:lnTo>
                    <a:lnTo>
                      <a:pt x="51" y="44"/>
                    </a:lnTo>
                    <a:lnTo>
                      <a:pt x="51" y="42"/>
                    </a:lnTo>
                    <a:lnTo>
                      <a:pt x="50" y="40"/>
                    </a:lnTo>
                    <a:lnTo>
                      <a:pt x="46" y="34"/>
                    </a:lnTo>
                    <a:lnTo>
                      <a:pt x="44" y="30"/>
                    </a:lnTo>
                    <a:lnTo>
                      <a:pt x="44" y="28"/>
                    </a:lnTo>
                    <a:lnTo>
                      <a:pt x="42" y="26"/>
                    </a:lnTo>
                    <a:lnTo>
                      <a:pt x="40" y="25"/>
                    </a:lnTo>
                    <a:lnTo>
                      <a:pt x="38" y="23"/>
                    </a:lnTo>
                    <a:lnTo>
                      <a:pt x="32" y="21"/>
                    </a:lnTo>
                    <a:lnTo>
                      <a:pt x="32" y="19"/>
                    </a:lnTo>
                    <a:lnTo>
                      <a:pt x="28" y="17"/>
                    </a:lnTo>
                    <a:lnTo>
                      <a:pt x="27" y="15"/>
                    </a:lnTo>
                    <a:lnTo>
                      <a:pt x="23" y="11"/>
                    </a:lnTo>
                    <a:lnTo>
                      <a:pt x="21" y="9"/>
                    </a:lnTo>
                    <a:lnTo>
                      <a:pt x="17" y="9"/>
                    </a:lnTo>
                    <a:lnTo>
                      <a:pt x="13" y="7"/>
                    </a:lnTo>
                    <a:lnTo>
                      <a:pt x="11" y="5"/>
                    </a:lnTo>
                    <a:lnTo>
                      <a:pt x="5" y="5"/>
                    </a:lnTo>
                    <a:lnTo>
                      <a:pt x="2" y="5"/>
                    </a:lnTo>
                    <a:lnTo>
                      <a:pt x="0" y="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6363000" y="1864080"/>
                <a:ext cx="108360" cy="65880"/>
              </a:xfrm>
              <a:custGeom>
                <a:avLst/>
                <a:gdLst/>
                <a:ahLst/>
                <a:rect l="l" t="t" r="r" b="b"/>
                <a:pathLst>
                  <a:path w="76" h="51">
                    <a:moveTo>
                      <a:pt x="0" y="5"/>
                    </a:moveTo>
                    <a:lnTo>
                      <a:pt x="3" y="3"/>
                    </a:lnTo>
                    <a:lnTo>
                      <a:pt x="7" y="0"/>
                    </a:lnTo>
                    <a:lnTo>
                      <a:pt x="13" y="0"/>
                    </a:lnTo>
                    <a:lnTo>
                      <a:pt x="17" y="0"/>
                    </a:lnTo>
                    <a:lnTo>
                      <a:pt x="23" y="0"/>
                    </a:lnTo>
                    <a:lnTo>
                      <a:pt x="25" y="0"/>
                    </a:lnTo>
                    <a:lnTo>
                      <a:pt x="28" y="0"/>
                    </a:lnTo>
                    <a:lnTo>
                      <a:pt x="30" y="0"/>
                    </a:lnTo>
                    <a:lnTo>
                      <a:pt x="32" y="0"/>
                    </a:lnTo>
                    <a:lnTo>
                      <a:pt x="36" y="0"/>
                    </a:lnTo>
                    <a:lnTo>
                      <a:pt x="40" y="0"/>
                    </a:lnTo>
                    <a:lnTo>
                      <a:pt x="42" y="3"/>
                    </a:lnTo>
                    <a:lnTo>
                      <a:pt x="44" y="3"/>
                    </a:lnTo>
                    <a:lnTo>
                      <a:pt x="46" y="5"/>
                    </a:lnTo>
                    <a:lnTo>
                      <a:pt x="48" y="5"/>
                    </a:lnTo>
                    <a:lnTo>
                      <a:pt x="51" y="5"/>
                    </a:lnTo>
                    <a:lnTo>
                      <a:pt x="53" y="7"/>
                    </a:lnTo>
                    <a:lnTo>
                      <a:pt x="57" y="9"/>
                    </a:lnTo>
                    <a:lnTo>
                      <a:pt x="59" y="11"/>
                    </a:lnTo>
                    <a:lnTo>
                      <a:pt x="61" y="15"/>
                    </a:lnTo>
                    <a:lnTo>
                      <a:pt x="65" y="17"/>
                    </a:lnTo>
                    <a:lnTo>
                      <a:pt x="71" y="25"/>
                    </a:lnTo>
                    <a:lnTo>
                      <a:pt x="75" y="30"/>
                    </a:lnTo>
                    <a:lnTo>
                      <a:pt x="76" y="30"/>
                    </a:lnTo>
                    <a:lnTo>
                      <a:pt x="75" y="28"/>
                    </a:lnTo>
                    <a:lnTo>
                      <a:pt x="73" y="26"/>
                    </a:lnTo>
                    <a:lnTo>
                      <a:pt x="71" y="25"/>
                    </a:lnTo>
                    <a:lnTo>
                      <a:pt x="69" y="25"/>
                    </a:lnTo>
                    <a:lnTo>
                      <a:pt x="55" y="51"/>
                    </a:lnTo>
                    <a:lnTo>
                      <a:pt x="51" y="44"/>
                    </a:lnTo>
                    <a:lnTo>
                      <a:pt x="51" y="42"/>
                    </a:lnTo>
                    <a:lnTo>
                      <a:pt x="50" y="40"/>
                    </a:lnTo>
                    <a:lnTo>
                      <a:pt x="46" y="34"/>
                    </a:lnTo>
                    <a:lnTo>
                      <a:pt x="44" y="30"/>
                    </a:lnTo>
                    <a:lnTo>
                      <a:pt x="44" y="28"/>
                    </a:lnTo>
                    <a:lnTo>
                      <a:pt x="42" y="26"/>
                    </a:lnTo>
                    <a:lnTo>
                      <a:pt x="40" y="25"/>
                    </a:lnTo>
                    <a:lnTo>
                      <a:pt x="38" y="23"/>
                    </a:lnTo>
                    <a:lnTo>
                      <a:pt x="32" y="21"/>
                    </a:lnTo>
                    <a:lnTo>
                      <a:pt x="32" y="19"/>
                    </a:lnTo>
                    <a:lnTo>
                      <a:pt x="28" y="17"/>
                    </a:lnTo>
                    <a:lnTo>
                      <a:pt x="27" y="15"/>
                    </a:lnTo>
                    <a:lnTo>
                      <a:pt x="23" y="11"/>
                    </a:lnTo>
                    <a:lnTo>
                      <a:pt x="21" y="9"/>
                    </a:lnTo>
                    <a:lnTo>
                      <a:pt x="17" y="9"/>
                    </a:lnTo>
                    <a:lnTo>
                      <a:pt x="13" y="7"/>
                    </a:lnTo>
                    <a:lnTo>
                      <a:pt x="11" y="5"/>
                    </a:lnTo>
                    <a:lnTo>
                      <a:pt x="5" y="5"/>
                    </a:lnTo>
                    <a:lnTo>
                      <a:pt x="2" y="5"/>
                    </a:lnTo>
                    <a:lnTo>
                      <a:pt x="0" y="5"/>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0" name=""/>
              <p:cNvSpPr/>
              <p:nvPr/>
            </p:nvSpPr>
            <p:spPr>
              <a:xfrm>
                <a:off x="6339240" y="1920600"/>
                <a:ext cx="102240" cy="38880"/>
              </a:xfrm>
              <a:custGeom>
                <a:avLst/>
                <a:gdLst/>
                <a:ahLst/>
                <a:rect l="l" t="t" r="r" b="b"/>
                <a:pathLst>
                  <a:path w="71" h="30">
                    <a:moveTo>
                      <a:pt x="0" y="30"/>
                    </a:moveTo>
                    <a:lnTo>
                      <a:pt x="0" y="28"/>
                    </a:lnTo>
                    <a:lnTo>
                      <a:pt x="4" y="25"/>
                    </a:lnTo>
                    <a:lnTo>
                      <a:pt x="6" y="21"/>
                    </a:lnTo>
                    <a:lnTo>
                      <a:pt x="8" y="17"/>
                    </a:lnTo>
                    <a:lnTo>
                      <a:pt x="10" y="13"/>
                    </a:lnTo>
                    <a:lnTo>
                      <a:pt x="12" y="11"/>
                    </a:lnTo>
                    <a:lnTo>
                      <a:pt x="14" y="9"/>
                    </a:lnTo>
                    <a:lnTo>
                      <a:pt x="16" y="7"/>
                    </a:lnTo>
                    <a:lnTo>
                      <a:pt x="18" y="7"/>
                    </a:lnTo>
                    <a:lnTo>
                      <a:pt x="18" y="4"/>
                    </a:lnTo>
                    <a:lnTo>
                      <a:pt x="19" y="4"/>
                    </a:lnTo>
                    <a:lnTo>
                      <a:pt x="19" y="2"/>
                    </a:lnTo>
                    <a:lnTo>
                      <a:pt x="21" y="2"/>
                    </a:lnTo>
                    <a:lnTo>
                      <a:pt x="23" y="2"/>
                    </a:lnTo>
                    <a:lnTo>
                      <a:pt x="27" y="2"/>
                    </a:lnTo>
                    <a:lnTo>
                      <a:pt x="27" y="0"/>
                    </a:lnTo>
                    <a:lnTo>
                      <a:pt x="31" y="0"/>
                    </a:lnTo>
                    <a:lnTo>
                      <a:pt x="33" y="0"/>
                    </a:lnTo>
                    <a:lnTo>
                      <a:pt x="35" y="0"/>
                    </a:lnTo>
                    <a:lnTo>
                      <a:pt x="37" y="2"/>
                    </a:lnTo>
                    <a:lnTo>
                      <a:pt x="41" y="2"/>
                    </a:lnTo>
                    <a:lnTo>
                      <a:pt x="44" y="4"/>
                    </a:lnTo>
                    <a:lnTo>
                      <a:pt x="48" y="7"/>
                    </a:lnTo>
                    <a:lnTo>
                      <a:pt x="52" y="7"/>
                    </a:lnTo>
                    <a:lnTo>
                      <a:pt x="56" y="9"/>
                    </a:lnTo>
                    <a:lnTo>
                      <a:pt x="60" y="11"/>
                    </a:lnTo>
                    <a:lnTo>
                      <a:pt x="62" y="13"/>
                    </a:lnTo>
                    <a:lnTo>
                      <a:pt x="66" y="13"/>
                    </a:lnTo>
                    <a:lnTo>
                      <a:pt x="67" y="15"/>
                    </a:lnTo>
                    <a:lnTo>
                      <a:pt x="67" y="17"/>
                    </a:lnTo>
                    <a:lnTo>
                      <a:pt x="69" y="19"/>
                    </a:lnTo>
                    <a:lnTo>
                      <a:pt x="69" y="21"/>
                    </a:lnTo>
                    <a:lnTo>
                      <a:pt x="71" y="23"/>
                    </a:lnTo>
                  </a:path>
                </a:pathLst>
              </a:custGeom>
              <a:noFill/>
              <a:ln w="0">
                <a:solidFill>
                  <a:srgbClr val="996633"/>
                </a:solid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741" name=""/>
              <p:cNvSpPr/>
              <p:nvPr/>
            </p:nvSpPr>
            <p:spPr>
              <a:xfrm>
                <a:off x="6153120" y="1915560"/>
                <a:ext cx="95040" cy="34920"/>
              </a:xfrm>
              <a:custGeom>
                <a:avLst/>
                <a:gdLst/>
                <a:ahLst/>
                <a:rect l="l" t="t" r="r" b="b"/>
                <a:pathLst>
                  <a:path w="67" h="27">
                    <a:moveTo>
                      <a:pt x="67" y="27"/>
                    </a:moveTo>
                    <a:lnTo>
                      <a:pt x="61" y="19"/>
                    </a:lnTo>
                    <a:lnTo>
                      <a:pt x="53" y="13"/>
                    </a:lnTo>
                    <a:lnTo>
                      <a:pt x="46" y="8"/>
                    </a:lnTo>
                    <a:lnTo>
                      <a:pt x="38" y="2"/>
                    </a:lnTo>
                    <a:lnTo>
                      <a:pt x="30" y="0"/>
                    </a:lnTo>
                    <a:lnTo>
                      <a:pt x="21" y="2"/>
                    </a:lnTo>
                    <a:lnTo>
                      <a:pt x="15" y="6"/>
                    </a:lnTo>
                    <a:lnTo>
                      <a:pt x="5" y="13"/>
                    </a:lnTo>
                    <a:lnTo>
                      <a:pt x="5" y="15"/>
                    </a:lnTo>
                    <a:lnTo>
                      <a:pt x="4" y="17"/>
                    </a:lnTo>
                    <a:lnTo>
                      <a:pt x="4" y="19"/>
                    </a:lnTo>
                    <a:lnTo>
                      <a:pt x="2" y="21"/>
                    </a:lnTo>
                    <a:lnTo>
                      <a:pt x="0" y="23"/>
                    </a:lnTo>
                  </a:path>
                </a:pathLst>
              </a:custGeom>
              <a:noFill/>
              <a:ln w="0">
                <a:solidFill>
                  <a:srgbClr val="996633"/>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 name=""/>
              <p:cNvSpPr/>
              <p:nvPr/>
            </p:nvSpPr>
            <p:spPr>
              <a:xfrm>
                <a:off x="6318360" y="2156040"/>
                <a:ext cx="10440" cy="43200"/>
              </a:xfrm>
              <a:custGeom>
                <a:avLst/>
                <a:gdLst/>
                <a:ahLst/>
                <a:rect l="l" t="t" r="r" b="b"/>
                <a:pathLst>
                  <a:path w="8" h="33">
                    <a:moveTo>
                      <a:pt x="0" y="0"/>
                    </a:moveTo>
                    <a:lnTo>
                      <a:pt x="0" y="6"/>
                    </a:lnTo>
                    <a:lnTo>
                      <a:pt x="0" y="10"/>
                    </a:lnTo>
                    <a:lnTo>
                      <a:pt x="0" y="14"/>
                    </a:lnTo>
                    <a:lnTo>
                      <a:pt x="2" y="17"/>
                    </a:lnTo>
                    <a:lnTo>
                      <a:pt x="4" y="23"/>
                    </a:lnTo>
                    <a:lnTo>
                      <a:pt x="4" y="27"/>
                    </a:lnTo>
                    <a:lnTo>
                      <a:pt x="6" y="31"/>
                    </a:lnTo>
                    <a:lnTo>
                      <a:pt x="8" y="33"/>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43" name=""/>
              <p:cNvSpPr/>
              <p:nvPr/>
            </p:nvSpPr>
            <p:spPr>
              <a:xfrm>
                <a:off x="6287040" y="2163960"/>
                <a:ext cx="13320" cy="37800"/>
              </a:xfrm>
              <a:custGeom>
                <a:avLst/>
                <a:gdLst/>
                <a:ahLst/>
                <a:rect l="l" t="t" r="r" b="b"/>
                <a:pathLst>
                  <a:path w="9" h="29">
                    <a:moveTo>
                      <a:pt x="9" y="0"/>
                    </a:moveTo>
                    <a:lnTo>
                      <a:pt x="9" y="4"/>
                    </a:lnTo>
                    <a:lnTo>
                      <a:pt x="9" y="9"/>
                    </a:lnTo>
                    <a:lnTo>
                      <a:pt x="7" y="13"/>
                    </a:lnTo>
                    <a:lnTo>
                      <a:pt x="6" y="17"/>
                    </a:lnTo>
                    <a:lnTo>
                      <a:pt x="6" y="21"/>
                    </a:lnTo>
                    <a:lnTo>
                      <a:pt x="4" y="23"/>
                    </a:lnTo>
                    <a:lnTo>
                      <a:pt x="2" y="25"/>
                    </a:lnTo>
                    <a:lnTo>
                      <a:pt x="0" y="29"/>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4" name=""/>
              <p:cNvSpPr/>
              <p:nvPr/>
            </p:nvSpPr>
            <p:spPr>
              <a:xfrm>
                <a:off x="6279840" y="2243520"/>
                <a:ext cx="56520" cy="1440"/>
              </a:xfrm>
              <a:custGeom>
                <a:avLst/>
                <a:gdLst/>
                <a:ahLst/>
                <a:rect l="l" t="t" r="r" b="b"/>
                <a:pathLst>
                  <a:path w="40" h="0">
                    <a:moveTo>
                      <a:pt x="40" y="0"/>
                    </a:moveTo>
                    <a:lnTo>
                      <a:pt x="35" y="0"/>
                    </a:lnTo>
                    <a:lnTo>
                      <a:pt x="29" y="0"/>
                    </a:lnTo>
                    <a:lnTo>
                      <a:pt x="25" y="0"/>
                    </a:lnTo>
                    <a:lnTo>
                      <a:pt x="21" y="0"/>
                    </a:lnTo>
                    <a:lnTo>
                      <a:pt x="13" y="0"/>
                    </a:lnTo>
                    <a:lnTo>
                      <a:pt x="12" y="0"/>
                    </a:lnTo>
                    <a:lnTo>
                      <a:pt x="6"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a:off x="6599160" y="2570760"/>
                <a:ext cx="69840" cy="1440"/>
              </a:xfrm>
              <a:custGeom>
                <a:avLst/>
                <a:gdLst/>
                <a:ahLst/>
                <a:rect l="l" t="t" r="r" b="b"/>
                <a:pathLst>
                  <a:path w="48" h="0">
                    <a:moveTo>
                      <a:pt x="0" y="0"/>
                    </a:moveTo>
                    <a:lnTo>
                      <a:pt x="29" y="0"/>
                    </a:lnTo>
                    <a:lnTo>
                      <a:pt x="44" y="0"/>
                    </a:lnTo>
                    <a:lnTo>
                      <a:pt x="48" y="0"/>
                    </a:lnTo>
                    <a:lnTo>
                      <a:pt x="42" y="0"/>
                    </a:lnTo>
                    <a:lnTo>
                      <a:pt x="31" y="0"/>
                    </a:lnTo>
                    <a:lnTo>
                      <a:pt x="17"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 name=""/>
              <p:cNvSpPr/>
              <p:nvPr/>
            </p:nvSpPr>
            <p:spPr>
              <a:xfrm>
                <a:off x="6599160" y="2570760"/>
                <a:ext cx="69840" cy="1440"/>
              </a:xfrm>
              <a:custGeom>
                <a:avLst/>
                <a:gdLst/>
                <a:ahLst/>
                <a:rect l="l" t="t" r="r" b="b"/>
                <a:pathLst>
                  <a:path w="48" h="0">
                    <a:moveTo>
                      <a:pt x="0" y="0"/>
                    </a:moveTo>
                    <a:lnTo>
                      <a:pt x="29" y="0"/>
                    </a:lnTo>
                    <a:lnTo>
                      <a:pt x="44" y="0"/>
                    </a:lnTo>
                    <a:lnTo>
                      <a:pt x="48" y="0"/>
                    </a:lnTo>
                    <a:lnTo>
                      <a:pt x="42" y="0"/>
                    </a:lnTo>
                    <a:lnTo>
                      <a:pt x="31" y="0"/>
                    </a:lnTo>
                    <a:lnTo>
                      <a:pt x="17" y="0"/>
                    </a:lnTo>
                    <a:lnTo>
                      <a:pt x="6"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6363000" y="2525040"/>
                <a:ext cx="274680" cy="331920"/>
              </a:xfrm>
              <a:custGeom>
                <a:avLst/>
                <a:gdLst/>
                <a:ahLst/>
                <a:rect l="l" t="t" r="r" b="b"/>
                <a:pathLst>
                  <a:path w="192" h="255">
                    <a:moveTo>
                      <a:pt x="153" y="21"/>
                    </a:moveTo>
                    <a:lnTo>
                      <a:pt x="142" y="19"/>
                    </a:lnTo>
                    <a:lnTo>
                      <a:pt x="128" y="16"/>
                    </a:lnTo>
                    <a:lnTo>
                      <a:pt x="115" y="12"/>
                    </a:lnTo>
                    <a:lnTo>
                      <a:pt x="100" y="8"/>
                    </a:lnTo>
                    <a:lnTo>
                      <a:pt x="86" y="4"/>
                    </a:lnTo>
                    <a:lnTo>
                      <a:pt x="71" y="2"/>
                    </a:lnTo>
                    <a:lnTo>
                      <a:pt x="59" y="0"/>
                    </a:lnTo>
                    <a:lnTo>
                      <a:pt x="50" y="0"/>
                    </a:lnTo>
                    <a:lnTo>
                      <a:pt x="55" y="8"/>
                    </a:lnTo>
                    <a:lnTo>
                      <a:pt x="61" y="12"/>
                    </a:lnTo>
                    <a:lnTo>
                      <a:pt x="69" y="23"/>
                    </a:lnTo>
                    <a:lnTo>
                      <a:pt x="76" y="29"/>
                    </a:lnTo>
                    <a:lnTo>
                      <a:pt x="84" y="37"/>
                    </a:lnTo>
                    <a:lnTo>
                      <a:pt x="90" y="44"/>
                    </a:lnTo>
                    <a:lnTo>
                      <a:pt x="96" y="50"/>
                    </a:lnTo>
                    <a:lnTo>
                      <a:pt x="101" y="54"/>
                    </a:lnTo>
                    <a:lnTo>
                      <a:pt x="101" y="71"/>
                    </a:lnTo>
                    <a:lnTo>
                      <a:pt x="92" y="71"/>
                    </a:lnTo>
                    <a:lnTo>
                      <a:pt x="80" y="71"/>
                    </a:lnTo>
                    <a:lnTo>
                      <a:pt x="69" y="69"/>
                    </a:lnTo>
                    <a:lnTo>
                      <a:pt x="57" y="69"/>
                    </a:lnTo>
                    <a:lnTo>
                      <a:pt x="46" y="69"/>
                    </a:lnTo>
                    <a:lnTo>
                      <a:pt x="36" y="69"/>
                    </a:lnTo>
                    <a:lnTo>
                      <a:pt x="27" y="69"/>
                    </a:lnTo>
                    <a:lnTo>
                      <a:pt x="17" y="71"/>
                    </a:lnTo>
                    <a:lnTo>
                      <a:pt x="17" y="92"/>
                    </a:lnTo>
                    <a:lnTo>
                      <a:pt x="21" y="94"/>
                    </a:lnTo>
                    <a:lnTo>
                      <a:pt x="25" y="98"/>
                    </a:lnTo>
                    <a:lnTo>
                      <a:pt x="30" y="102"/>
                    </a:lnTo>
                    <a:lnTo>
                      <a:pt x="32" y="106"/>
                    </a:lnTo>
                    <a:lnTo>
                      <a:pt x="40" y="110"/>
                    </a:lnTo>
                    <a:lnTo>
                      <a:pt x="44" y="113"/>
                    </a:lnTo>
                    <a:lnTo>
                      <a:pt x="46" y="115"/>
                    </a:lnTo>
                    <a:lnTo>
                      <a:pt x="50" y="117"/>
                    </a:lnTo>
                    <a:lnTo>
                      <a:pt x="44" y="123"/>
                    </a:lnTo>
                    <a:lnTo>
                      <a:pt x="42" y="127"/>
                    </a:lnTo>
                    <a:lnTo>
                      <a:pt x="36" y="127"/>
                    </a:lnTo>
                    <a:lnTo>
                      <a:pt x="30" y="127"/>
                    </a:lnTo>
                    <a:lnTo>
                      <a:pt x="23" y="125"/>
                    </a:lnTo>
                    <a:lnTo>
                      <a:pt x="15" y="123"/>
                    </a:lnTo>
                    <a:lnTo>
                      <a:pt x="7" y="119"/>
                    </a:lnTo>
                    <a:lnTo>
                      <a:pt x="0" y="117"/>
                    </a:lnTo>
                    <a:lnTo>
                      <a:pt x="0" y="127"/>
                    </a:lnTo>
                    <a:lnTo>
                      <a:pt x="0" y="138"/>
                    </a:lnTo>
                    <a:lnTo>
                      <a:pt x="3" y="148"/>
                    </a:lnTo>
                    <a:lnTo>
                      <a:pt x="7" y="158"/>
                    </a:lnTo>
                    <a:lnTo>
                      <a:pt x="11" y="169"/>
                    </a:lnTo>
                    <a:lnTo>
                      <a:pt x="11" y="179"/>
                    </a:lnTo>
                    <a:lnTo>
                      <a:pt x="13" y="188"/>
                    </a:lnTo>
                    <a:lnTo>
                      <a:pt x="11" y="194"/>
                    </a:lnTo>
                    <a:lnTo>
                      <a:pt x="19" y="211"/>
                    </a:lnTo>
                    <a:lnTo>
                      <a:pt x="28" y="227"/>
                    </a:lnTo>
                    <a:lnTo>
                      <a:pt x="40" y="238"/>
                    </a:lnTo>
                    <a:lnTo>
                      <a:pt x="50" y="248"/>
                    </a:lnTo>
                    <a:lnTo>
                      <a:pt x="57" y="250"/>
                    </a:lnTo>
                    <a:lnTo>
                      <a:pt x="65" y="253"/>
                    </a:lnTo>
                    <a:lnTo>
                      <a:pt x="73" y="255"/>
                    </a:lnTo>
                    <a:lnTo>
                      <a:pt x="78" y="255"/>
                    </a:lnTo>
                    <a:lnTo>
                      <a:pt x="88" y="255"/>
                    </a:lnTo>
                    <a:lnTo>
                      <a:pt x="96" y="253"/>
                    </a:lnTo>
                    <a:lnTo>
                      <a:pt x="105" y="250"/>
                    </a:lnTo>
                    <a:lnTo>
                      <a:pt x="115" y="246"/>
                    </a:lnTo>
                    <a:lnTo>
                      <a:pt x="113" y="244"/>
                    </a:lnTo>
                    <a:lnTo>
                      <a:pt x="111" y="242"/>
                    </a:lnTo>
                    <a:lnTo>
                      <a:pt x="107" y="240"/>
                    </a:lnTo>
                    <a:lnTo>
                      <a:pt x="103" y="238"/>
                    </a:lnTo>
                    <a:lnTo>
                      <a:pt x="101" y="236"/>
                    </a:lnTo>
                    <a:lnTo>
                      <a:pt x="98" y="234"/>
                    </a:lnTo>
                    <a:lnTo>
                      <a:pt x="96" y="234"/>
                    </a:lnTo>
                    <a:lnTo>
                      <a:pt x="105" y="240"/>
                    </a:lnTo>
                    <a:lnTo>
                      <a:pt x="115" y="246"/>
                    </a:lnTo>
                    <a:lnTo>
                      <a:pt x="124" y="252"/>
                    </a:lnTo>
                    <a:lnTo>
                      <a:pt x="136" y="255"/>
                    </a:lnTo>
                    <a:lnTo>
                      <a:pt x="146" y="255"/>
                    </a:lnTo>
                    <a:lnTo>
                      <a:pt x="157" y="255"/>
                    </a:lnTo>
                    <a:lnTo>
                      <a:pt x="169" y="252"/>
                    </a:lnTo>
                    <a:lnTo>
                      <a:pt x="178" y="246"/>
                    </a:lnTo>
                    <a:lnTo>
                      <a:pt x="172" y="238"/>
                    </a:lnTo>
                    <a:lnTo>
                      <a:pt x="169" y="229"/>
                    </a:lnTo>
                    <a:lnTo>
                      <a:pt x="161" y="221"/>
                    </a:lnTo>
                    <a:lnTo>
                      <a:pt x="153" y="211"/>
                    </a:lnTo>
                    <a:lnTo>
                      <a:pt x="144" y="202"/>
                    </a:lnTo>
                    <a:lnTo>
                      <a:pt x="136" y="192"/>
                    </a:lnTo>
                    <a:lnTo>
                      <a:pt x="128" y="184"/>
                    </a:lnTo>
                    <a:lnTo>
                      <a:pt x="123" y="175"/>
                    </a:lnTo>
                    <a:lnTo>
                      <a:pt x="128" y="177"/>
                    </a:lnTo>
                    <a:lnTo>
                      <a:pt x="136" y="177"/>
                    </a:lnTo>
                    <a:lnTo>
                      <a:pt x="144" y="179"/>
                    </a:lnTo>
                    <a:lnTo>
                      <a:pt x="149" y="181"/>
                    </a:lnTo>
                    <a:lnTo>
                      <a:pt x="157" y="181"/>
                    </a:lnTo>
                    <a:lnTo>
                      <a:pt x="165" y="184"/>
                    </a:lnTo>
                    <a:lnTo>
                      <a:pt x="171" y="186"/>
                    </a:lnTo>
                    <a:lnTo>
                      <a:pt x="178" y="188"/>
                    </a:lnTo>
                    <a:lnTo>
                      <a:pt x="174" y="184"/>
                    </a:lnTo>
                    <a:lnTo>
                      <a:pt x="171" y="177"/>
                    </a:lnTo>
                    <a:lnTo>
                      <a:pt x="165" y="169"/>
                    </a:lnTo>
                    <a:lnTo>
                      <a:pt x="157" y="161"/>
                    </a:lnTo>
                    <a:lnTo>
                      <a:pt x="149" y="154"/>
                    </a:lnTo>
                    <a:lnTo>
                      <a:pt x="144" y="146"/>
                    </a:lnTo>
                    <a:lnTo>
                      <a:pt x="138" y="138"/>
                    </a:lnTo>
                    <a:lnTo>
                      <a:pt x="136" y="131"/>
                    </a:lnTo>
                    <a:lnTo>
                      <a:pt x="161" y="131"/>
                    </a:lnTo>
                    <a:lnTo>
                      <a:pt x="159" y="125"/>
                    </a:lnTo>
                    <a:lnTo>
                      <a:pt x="155" y="117"/>
                    </a:lnTo>
                    <a:lnTo>
                      <a:pt x="149" y="113"/>
                    </a:lnTo>
                    <a:lnTo>
                      <a:pt x="144" y="104"/>
                    </a:lnTo>
                    <a:lnTo>
                      <a:pt x="138" y="98"/>
                    </a:lnTo>
                    <a:lnTo>
                      <a:pt x="134" y="90"/>
                    </a:lnTo>
                    <a:lnTo>
                      <a:pt x="128" y="85"/>
                    </a:lnTo>
                    <a:lnTo>
                      <a:pt x="126" y="79"/>
                    </a:lnTo>
                    <a:lnTo>
                      <a:pt x="136" y="79"/>
                    </a:lnTo>
                    <a:lnTo>
                      <a:pt x="146" y="79"/>
                    </a:lnTo>
                    <a:lnTo>
                      <a:pt x="155" y="81"/>
                    </a:lnTo>
                    <a:lnTo>
                      <a:pt x="163" y="81"/>
                    </a:lnTo>
                    <a:lnTo>
                      <a:pt x="171" y="81"/>
                    </a:lnTo>
                    <a:lnTo>
                      <a:pt x="176" y="81"/>
                    </a:lnTo>
                    <a:lnTo>
                      <a:pt x="184" y="81"/>
                    </a:lnTo>
                    <a:lnTo>
                      <a:pt x="192" y="79"/>
                    </a:lnTo>
                    <a:lnTo>
                      <a:pt x="186" y="73"/>
                    </a:lnTo>
                    <a:lnTo>
                      <a:pt x="178" y="67"/>
                    </a:lnTo>
                    <a:lnTo>
                      <a:pt x="171" y="60"/>
                    </a:lnTo>
                    <a:lnTo>
                      <a:pt x="163" y="54"/>
                    </a:lnTo>
                    <a:lnTo>
                      <a:pt x="151" y="46"/>
                    </a:lnTo>
                    <a:lnTo>
                      <a:pt x="142" y="39"/>
                    </a:lnTo>
                    <a:lnTo>
                      <a:pt x="130" y="31"/>
                    </a:lnTo>
                    <a:lnTo>
                      <a:pt x="123" y="27"/>
                    </a:lnTo>
                    <a:lnTo>
                      <a:pt x="126" y="29"/>
                    </a:lnTo>
                    <a:lnTo>
                      <a:pt x="134" y="31"/>
                    </a:lnTo>
                    <a:lnTo>
                      <a:pt x="138" y="33"/>
                    </a:lnTo>
                    <a:lnTo>
                      <a:pt x="144" y="35"/>
                    </a:lnTo>
                    <a:lnTo>
                      <a:pt x="149" y="37"/>
                    </a:lnTo>
                    <a:lnTo>
                      <a:pt x="153" y="39"/>
                    </a:lnTo>
                    <a:lnTo>
                      <a:pt x="161" y="39"/>
                    </a:lnTo>
                    <a:lnTo>
                      <a:pt x="167" y="40"/>
                    </a:lnTo>
                    <a:lnTo>
                      <a:pt x="165" y="35"/>
                    </a:lnTo>
                    <a:lnTo>
                      <a:pt x="161" y="29"/>
                    </a:lnTo>
                    <a:lnTo>
                      <a:pt x="157" y="25"/>
                    </a:lnTo>
                    <a:lnTo>
                      <a:pt x="153" y="23"/>
                    </a:lnTo>
                    <a:lnTo>
                      <a:pt x="149" y="21"/>
                    </a:lnTo>
                    <a:lnTo>
                      <a:pt x="149" y="19"/>
                    </a:lnTo>
                    <a:lnTo>
                      <a:pt x="153"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409080" y="2581560"/>
                <a:ext cx="167760" cy="209160"/>
              </a:xfrm>
              <a:custGeom>
                <a:avLst/>
                <a:gdLst/>
                <a:ahLst/>
                <a:rect l="l" t="t" r="r" b="b"/>
                <a:pathLst>
                  <a:path w="117" h="160">
                    <a:moveTo>
                      <a:pt x="98" y="66"/>
                    </a:moveTo>
                    <a:lnTo>
                      <a:pt x="89" y="58"/>
                    </a:lnTo>
                    <a:lnTo>
                      <a:pt x="77" y="50"/>
                    </a:lnTo>
                    <a:lnTo>
                      <a:pt x="64" y="41"/>
                    </a:lnTo>
                    <a:lnTo>
                      <a:pt x="52" y="31"/>
                    </a:lnTo>
                    <a:lnTo>
                      <a:pt x="39" y="23"/>
                    </a:lnTo>
                    <a:lnTo>
                      <a:pt x="25" y="12"/>
                    </a:lnTo>
                    <a:lnTo>
                      <a:pt x="12" y="6"/>
                    </a:lnTo>
                    <a:lnTo>
                      <a:pt x="0" y="0"/>
                    </a:lnTo>
                    <a:lnTo>
                      <a:pt x="0" y="10"/>
                    </a:lnTo>
                    <a:lnTo>
                      <a:pt x="0" y="16"/>
                    </a:lnTo>
                    <a:lnTo>
                      <a:pt x="8" y="25"/>
                    </a:lnTo>
                    <a:lnTo>
                      <a:pt x="12" y="33"/>
                    </a:lnTo>
                    <a:lnTo>
                      <a:pt x="18" y="41"/>
                    </a:lnTo>
                    <a:lnTo>
                      <a:pt x="23" y="50"/>
                    </a:lnTo>
                    <a:lnTo>
                      <a:pt x="29" y="58"/>
                    </a:lnTo>
                    <a:lnTo>
                      <a:pt x="33" y="66"/>
                    </a:lnTo>
                    <a:lnTo>
                      <a:pt x="0" y="66"/>
                    </a:lnTo>
                    <a:lnTo>
                      <a:pt x="4" y="73"/>
                    </a:lnTo>
                    <a:lnTo>
                      <a:pt x="10" y="79"/>
                    </a:lnTo>
                    <a:lnTo>
                      <a:pt x="14" y="85"/>
                    </a:lnTo>
                    <a:lnTo>
                      <a:pt x="19" y="92"/>
                    </a:lnTo>
                    <a:lnTo>
                      <a:pt x="25" y="98"/>
                    </a:lnTo>
                    <a:lnTo>
                      <a:pt x="31" y="104"/>
                    </a:lnTo>
                    <a:lnTo>
                      <a:pt x="37" y="108"/>
                    </a:lnTo>
                    <a:lnTo>
                      <a:pt x="43" y="114"/>
                    </a:lnTo>
                    <a:lnTo>
                      <a:pt x="41" y="125"/>
                    </a:lnTo>
                    <a:lnTo>
                      <a:pt x="41" y="135"/>
                    </a:lnTo>
                    <a:lnTo>
                      <a:pt x="43" y="144"/>
                    </a:lnTo>
                    <a:lnTo>
                      <a:pt x="46" y="148"/>
                    </a:lnTo>
                    <a:lnTo>
                      <a:pt x="54" y="154"/>
                    </a:lnTo>
                    <a:lnTo>
                      <a:pt x="60" y="158"/>
                    </a:lnTo>
                    <a:lnTo>
                      <a:pt x="71" y="160"/>
                    </a:lnTo>
                    <a:lnTo>
                      <a:pt x="85" y="160"/>
                    </a:lnTo>
                    <a:lnTo>
                      <a:pt x="85" y="158"/>
                    </a:lnTo>
                    <a:lnTo>
                      <a:pt x="85" y="154"/>
                    </a:lnTo>
                    <a:lnTo>
                      <a:pt x="83" y="152"/>
                    </a:lnTo>
                    <a:lnTo>
                      <a:pt x="81" y="148"/>
                    </a:lnTo>
                    <a:lnTo>
                      <a:pt x="77" y="146"/>
                    </a:lnTo>
                    <a:lnTo>
                      <a:pt x="75" y="142"/>
                    </a:lnTo>
                    <a:lnTo>
                      <a:pt x="73" y="140"/>
                    </a:lnTo>
                    <a:lnTo>
                      <a:pt x="71" y="137"/>
                    </a:lnTo>
                    <a:lnTo>
                      <a:pt x="75" y="137"/>
                    </a:lnTo>
                    <a:lnTo>
                      <a:pt x="79" y="137"/>
                    </a:lnTo>
                    <a:lnTo>
                      <a:pt x="83" y="135"/>
                    </a:lnTo>
                    <a:lnTo>
                      <a:pt x="85" y="135"/>
                    </a:lnTo>
                    <a:lnTo>
                      <a:pt x="89" y="133"/>
                    </a:lnTo>
                    <a:lnTo>
                      <a:pt x="92" y="131"/>
                    </a:lnTo>
                    <a:lnTo>
                      <a:pt x="94" y="129"/>
                    </a:lnTo>
                    <a:lnTo>
                      <a:pt x="98" y="127"/>
                    </a:lnTo>
                    <a:lnTo>
                      <a:pt x="96" y="121"/>
                    </a:lnTo>
                    <a:lnTo>
                      <a:pt x="92" y="115"/>
                    </a:lnTo>
                    <a:lnTo>
                      <a:pt x="91" y="108"/>
                    </a:lnTo>
                    <a:lnTo>
                      <a:pt x="87" y="104"/>
                    </a:lnTo>
                    <a:lnTo>
                      <a:pt x="81" y="98"/>
                    </a:lnTo>
                    <a:lnTo>
                      <a:pt x="75" y="94"/>
                    </a:lnTo>
                    <a:lnTo>
                      <a:pt x="68" y="91"/>
                    </a:lnTo>
                    <a:lnTo>
                      <a:pt x="62" y="91"/>
                    </a:lnTo>
                    <a:lnTo>
                      <a:pt x="64" y="94"/>
                    </a:lnTo>
                    <a:lnTo>
                      <a:pt x="66" y="98"/>
                    </a:lnTo>
                    <a:lnTo>
                      <a:pt x="69" y="102"/>
                    </a:lnTo>
                    <a:lnTo>
                      <a:pt x="71" y="102"/>
                    </a:lnTo>
                    <a:lnTo>
                      <a:pt x="75" y="104"/>
                    </a:lnTo>
                    <a:lnTo>
                      <a:pt x="81" y="104"/>
                    </a:lnTo>
                    <a:lnTo>
                      <a:pt x="85" y="104"/>
                    </a:lnTo>
                    <a:lnTo>
                      <a:pt x="91" y="104"/>
                    </a:lnTo>
                    <a:lnTo>
                      <a:pt x="92" y="94"/>
                    </a:lnTo>
                    <a:lnTo>
                      <a:pt x="92" y="89"/>
                    </a:lnTo>
                    <a:lnTo>
                      <a:pt x="94" y="87"/>
                    </a:lnTo>
                    <a:lnTo>
                      <a:pt x="96" y="85"/>
                    </a:lnTo>
                    <a:lnTo>
                      <a:pt x="98" y="85"/>
                    </a:lnTo>
                    <a:lnTo>
                      <a:pt x="104" y="85"/>
                    </a:lnTo>
                    <a:lnTo>
                      <a:pt x="108" y="85"/>
                    </a:lnTo>
                    <a:lnTo>
                      <a:pt x="117" y="81"/>
                    </a:lnTo>
                    <a:lnTo>
                      <a:pt x="116" y="77"/>
                    </a:lnTo>
                    <a:lnTo>
                      <a:pt x="114" y="73"/>
                    </a:lnTo>
                    <a:lnTo>
                      <a:pt x="110" y="69"/>
                    </a:lnTo>
                    <a:lnTo>
                      <a:pt x="106" y="69"/>
                    </a:lnTo>
                    <a:lnTo>
                      <a:pt x="104" y="66"/>
                    </a:lnTo>
                    <a:lnTo>
                      <a:pt x="102" y="64"/>
                    </a:lnTo>
                    <a:lnTo>
                      <a:pt x="98" y="64"/>
                    </a:lnTo>
                    <a:lnTo>
                      <a:pt x="98"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767280" y="3394800"/>
                <a:ext cx="161640" cy="305280"/>
              </a:xfrm>
              <a:custGeom>
                <a:avLst/>
                <a:gdLst/>
                <a:ahLst/>
                <a:rect l="l" t="t" r="r" b="b"/>
                <a:pathLst>
                  <a:path w="113" h="234">
                    <a:moveTo>
                      <a:pt x="113" y="109"/>
                    </a:moveTo>
                    <a:lnTo>
                      <a:pt x="109" y="194"/>
                    </a:lnTo>
                    <a:lnTo>
                      <a:pt x="108" y="198"/>
                    </a:lnTo>
                    <a:lnTo>
                      <a:pt x="100" y="203"/>
                    </a:lnTo>
                    <a:lnTo>
                      <a:pt x="90" y="209"/>
                    </a:lnTo>
                    <a:lnTo>
                      <a:pt x="79" y="215"/>
                    </a:lnTo>
                    <a:lnTo>
                      <a:pt x="67" y="221"/>
                    </a:lnTo>
                    <a:lnTo>
                      <a:pt x="56" y="225"/>
                    </a:lnTo>
                    <a:lnTo>
                      <a:pt x="42" y="228"/>
                    </a:lnTo>
                    <a:lnTo>
                      <a:pt x="31" y="232"/>
                    </a:lnTo>
                    <a:lnTo>
                      <a:pt x="17" y="234"/>
                    </a:lnTo>
                    <a:lnTo>
                      <a:pt x="8" y="234"/>
                    </a:lnTo>
                    <a:lnTo>
                      <a:pt x="8" y="230"/>
                    </a:lnTo>
                    <a:lnTo>
                      <a:pt x="4" y="230"/>
                    </a:lnTo>
                    <a:lnTo>
                      <a:pt x="2" y="226"/>
                    </a:lnTo>
                    <a:lnTo>
                      <a:pt x="2" y="226"/>
                    </a:lnTo>
                    <a:lnTo>
                      <a:pt x="2" y="225"/>
                    </a:lnTo>
                    <a:lnTo>
                      <a:pt x="0" y="225"/>
                    </a:lnTo>
                    <a:lnTo>
                      <a:pt x="0" y="223"/>
                    </a:lnTo>
                    <a:lnTo>
                      <a:pt x="0" y="223"/>
                    </a:lnTo>
                    <a:lnTo>
                      <a:pt x="0" y="221"/>
                    </a:lnTo>
                    <a:lnTo>
                      <a:pt x="0" y="219"/>
                    </a:lnTo>
                    <a:lnTo>
                      <a:pt x="0" y="219"/>
                    </a:lnTo>
                    <a:lnTo>
                      <a:pt x="2" y="215"/>
                    </a:lnTo>
                    <a:lnTo>
                      <a:pt x="4" y="213"/>
                    </a:lnTo>
                    <a:lnTo>
                      <a:pt x="4" y="211"/>
                    </a:lnTo>
                    <a:lnTo>
                      <a:pt x="6" y="211"/>
                    </a:lnTo>
                    <a:lnTo>
                      <a:pt x="6" y="209"/>
                    </a:lnTo>
                    <a:lnTo>
                      <a:pt x="6" y="207"/>
                    </a:lnTo>
                    <a:lnTo>
                      <a:pt x="8" y="205"/>
                    </a:lnTo>
                    <a:lnTo>
                      <a:pt x="8" y="203"/>
                    </a:lnTo>
                    <a:lnTo>
                      <a:pt x="8" y="203"/>
                    </a:lnTo>
                    <a:lnTo>
                      <a:pt x="11" y="202"/>
                    </a:lnTo>
                    <a:lnTo>
                      <a:pt x="13" y="200"/>
                    </a:lnTo>
                    <a:lnTo>
                      <a:pt x="15" y="200"/>
                    </a:lnTo>
                    <a:lnTo>
                      <a:pt x="17" y="198"/>
                    </a:lnTo>
                    <a:lnTo>
                      <a:pt x="19" y="198"/>
                    </a:lnTo>
                    <a:lnTo>
                      <a:pt x="23" y="198"/>
                    </a:lnTo>
                    <a:lnTo>
                      <a:pt x="25" y="196"/>
                    </a:lnTo>
                    <a:lnTo>
                      <a:pt x="27" y="196"/>
                    </a:lnTo>
                    <a:lnTo>
                      <a:pt x="29" y="196"/>
                    </a:lnTo>
                    <a:lnTo>
                      <a:pt x="29" y="196"/>
                    </a:lnTo>
                    <a:lnTo>
                      <a:pt x="31" y="196"/>
                    </a:lnTo>
                    <a:lnTo>
                      <a:pt x="31" y="194"/>
                    </a:lnTo>
                    <a:lnTo>
                      <a:pt x="31" y="194"/>
                    </a:lnTo>
                    <a:lnTo>
                      <a:pt x="31" y="194"/>
                    </a:lnTo>
                    <a:lnTo>
                      <a:pt x="33" y="194"/>
                    </a:lnTo>
                    <a:lnTo>
                      <a:pt x="33" y="194"/>
                    </a:lnTo>
                    <a:lnTo>
                      <a:pt x="35" y="194"/>
                    </a:lnTo>
                    <a:lnTo>
                      <a:pt x="35" y="190"/>
                    </a:lnTo>
                    <a:lnTo>
                      <a:pt x="33" y="188"/>
                    </a:lnTo>
                    <a:lnTo>
                      <a:pt x="33" y="188"/>
                    </a:lnTo>
                    <a:lnTo>
                      <a:pt x="31" y="186"/>
                    </a:lnTo>
                    <a:lnTo>
                      <a:pt x="31" y="184"/>
                    </a:lnTo>
                    <a:lnTo>
                      <a:pt x="31" y="182"/>
                    </a:lnTo>
                    <a:lnTo>
                      <a:pt x="31" y="180"/>
                    </a:lnTo>
                    <a:lnTo>
                      <a:pt x="33" y="179"/>
                    </a:lnTo>
                    <a:lnTo>
                      <a:pt x="33" y="177"/>
                    </a:lnTo>
                    <a:lnTo>
                      <a:pt x="35" y="177"/>
                    </a:lnTo>
                    <a:lnTo>
                      <a:pt x="35" y="175"/>
                    </a:lnTo>
                    <a:lnTo>
                      <a:pt x="35" y="173"/>
                    </a:lnTo>
                    <a:lnTo>
                      <a:pt x="36" y="171"/>
                    </a:lnTo>
                    <a:lnTo>
                      <a:pt x="38" y="169"/>
                    </a:lnTo>
                    <a:lnTo>
                      <a:pt x="38" y="169"/>
                    </a:lnTo>
                    <a:lnTo>
                      <a:pt x="38" y="167"/>
                    </a:lnTo>
                    <a:lnTo>
                      <a:pt x="40" y="165"/>
                    </a:lnTo>
                    <a:lnTo>
                      <a:pt x="40" y="163"/>
                    </a:lnTo>
                    <a:lnTo>
                      <a:pt x="40" y="161"/>
                    </a:lnTo>
                    <a:lnTo>
                      <a:pt x="38" y="161"/>
                    </a:lnTo>
                    <a:lnTo>
                      <a:pt x="38" y="159"/>
                    </a:lnTo>
                    <a:lnTo>
                      <a:pt x="38" y="161"/>
                    </a:lnTo>
                    <a:lnTo>
                      <a:pt x="36" y="161"/>
                    </a:lnTo>
                    <a:lnTo>
                      <a:pt x="36" y="165"/>
                    </a:lnTo>
                    <a:lnTo>
                      <a:pt x="35" y="165"/>
                    </a:lnTo>
                    <a:lnTo>
                      <a:pt x="35" y="167"/>
                    </a:lnTo>
                    <a:lnTo>
                      <a:pt x="29" y="111"/>
                    </a:lnTo>
                    <a:lnTo>
                      <a:pt x="5" y="89"/>
                    </a:lnTo>
                    <a:lnTo>
                      <a:pt x="23" y="13"/>
                    </a:lnTo>
                    <a:lnTo>
                      <a:pt x="51" y="23"/>
                    </a:lnTo>
                    <a:lnTo>
                      <a:pt x="101" y="21"/>
                    </a:lnTo>
                    <a:lnTo>
                      <a:pt x="100" y="0"/>
                    </a:lnTo>
                    <a:lnTo>
                      <a:pt x="113" y="109"/>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
            <p:cNvSpPr/>
            <p:nvPr/>
          </p:nvSpPr>
          <p:spPr>
            <a:xfrm>
              <a:off x="692280" y="5300280"/>
              <a:ext cx="1150920" cy="642960"/>
            </a:xfrm>
            <a:prstGeom prst="rect">
              <a:avLst/>
            </a:prstGeom>
            <a:gradFill rotWithShape="0">
              <a:gsLst>
                <a:gs pos="0">
                  <a:srgbClr val="750000"/>
                </a:gs>
                <a:gs pos="50000">
                  <a:srgbClr val="ff0000"/>
                </a:gs>
                <a:gs pos="100000">
                  <a:srgbClr val="750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uper Bad</a:t>
              </a:r>
              <a:endParaRPr b="0" lang="en-US" sz="1800" spc="-1" strike="noStrike">
                <a:solidFill>
                  <a:srgbClr val="ffffff"/>
                </a:solidFill>
                <a:latin typeface="Times New Roman"/>
              </a:endParaRPr>
            </a:p>
          </p:txBody>
        </p:sp>
        <p:sp>
          <p:nvSpPr>
            <p:cNvPr id="755" name=""/>
            <p:cNvSpPr/>
            <p:nvPr/>
          </p:nvSpPr>
          <p:spPr>
            <a:xfrm>
              <a:off x="1987560" y="5300280"/>
              <a:ext cx="5040360" cy="642960"/>
            </a:xfrm>
            <a:prstGeom prst="rect">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corecard Maximum Benefit</a:t>
              </a:r>
              <a:endParaRPr b="0" lang="en-US" sz="1800" spc="-1" strike="noStrike">
                <a:solidFill>
                  <a:srgbClr val="ffffff"/>
                </a:solidFill>
                <a:latin typeface="Times New Roman"/>
              </a:endParaRPr>
            </a:p>
          </p:txBody>
        </p:sp>
        <p:sp>
          <p:nvSpPr>
            <p:cNvPr id="756" name=""/>
            <p:cNvSpPr/>
            <p:nvPr/>
          </p:nvSpPr>
          <p:spPr>
            <a:xfrm>
              <a:off x="7172280" y="5300280"/>
              <a:ext cx="1150920" cy="642960"/>
            </a:xfrm>
            <a:prstGeom prst="rect">
              <a:avLst/>
            </a:prstGeom>
            <a:gradFill rotWithShape="0">
              <a:gsLst>
                <a:gs pos="0">
                  <a:srgbClr val="007546"/>
                </a:gs>
                <a:gs pos="50000">
                  <a:srgbClr val="00ff99"/>
                </a:gs>
                <a:gs pos="100000">
                  <a:srgbClr val="007546"/>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Arial"/>
                </a:rPr>
                <a:t>Super Good</a:t>
              </a:r>
              <a:endParaRPr b="0" lang="en-US" sz="1800" spc="-1" strike="noStrike">
                <a:solidFill>
                  <a:srgbClr val="ffffff"/>
                </a:solidFill>
                <a:latin typeface="Times New Roman"/>
              </a:endParaRPr>
            </a:p>
          </p:txBody>
        </p:sp>
      </p:grpSp>
      <p:sp>
        <p:nvSpPr>
          <p:cNvPr id="3" name="PlaceHolder 2"/>
          <p:cNvSpPr>
            <a:spLocks noGrp="1"/>
          </p:cNvSpPr>
          <p:nvPr>
            <p:ph type="sldNum" idx="1"/>
          </p:nvPr>
        </p:nvSpPr>
        <p:spPr/>
        <p:txBody>
          <a:bodyPr/>
          <a:p>
            <a:fld id="{10A52463-E400-4085-8E20-4B98EF9FD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152280"/>
            <a:ext cx="8820000" cy="99072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3c000"/>
                </a:solidFill>
                <a:latin typeface="Arial"/>
              </a:rPr>
              <a:t>Different score cards for different purposes</a:t>
            </a:r>
            <a:br>
              <a:rPr sz="3200"/>
            </a:br>
            <a:endParaRPr b="1" lang="en-US" sz="3200" spc="-1" strike="noStrike">
              <a:solidFill>
                <a:srgbClr val="ffffff"/>
              </a:solidFill>
              <a:latin typeface="Arial"/>
            </a:endParaRPr>
          </a:p>
        </p:txBody>
      </p:sp>
      <p:sp>
        <p:nvSpPr>
          <p:cNvPr id="758" name="PlaceHolder 2"/>
          <p:cNvSpPr>
            <a:spLocks noGrp="1"/>
          </p:cNvSpPr>
          <p:nvPr>
            <p:ph/>
          </p:nvPr>
        </p:nvSpPr>
        <p:spPr>
          <a:xfrm>
            <a:off x="322200" y="1557000"/>
            <a:ext cx="8313840" cy="4560840"/>
          </a:xfrm>
          <a:prstGeom prst="rect">
            <a:avLst/>
          </a:prstGeom>
          <a:noFill/>
          <a:ln w="0">
            <a:noFill/>
          </a:ln>
        </p:spPr>
        <p:txBody>
          <a:bodyPr lIns="0" rIns="0" tIns="0" bIns="0" anchor="t">
            <a:normAutofit/>
          </a:bodyPr>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l Application Risk Scorecard</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pplicants past performance</a:t>
            </a:r>
            <a:endParaRPr b="1" lang="en-US" sz="20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accounts</a:t>
            </a:r>
            <a:endParaRPr b="1" lang="en-US" sz="2000" spc="-1" strike="noStrike">
              <a:solidFill>
                <a:srgbClr val="ffffff"/>
              </a:solidFill>
              <a:latin typeface="Arial"/>
            </a:endParaRPr>
          </a:p>
          <a:p>
            <a:pPr lvl="4" marL="1789200" indent="0">
              <a:lnSpc>
                <a:spcPts val="22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l Behaviour Risk Scorecard (Behaviour and Collections Scoring)</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isting Business</a:t>
            </a:r>
            <a:endParaRPr b="1" lang="en-US" sz="20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ccount holders past performance</a:t>
            </a:r>
            <a:endParaRPr b="1" lang="en-US" sz="2000" spc="-1" strike="noStrike">
              <a:solidFill>
                <a:srgbClr val="ffffff"/>
              </a:solidFill>
              <a:latin typeface="Arial"/>
            </a:endParaRPr>
          </a:p>
          <a:p>
            <a:pPr lvl="4" marL="1789200" indent="0">
              <a:lnSpc>
                <a:spcPts val="22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ts val="22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rnal Credit Bureau Scorecard</a:t>
            </a:r>
            <a:endParaRPr b="1" lang="en-US" sz="2400" spc="-1" strike="noStrike">
              <a:solidFill>
                <a:srgbClr val="ffffff"/>
              </a:solidFill>
              <a:latin typeface="Arial"/>
            </a:endParaRPr>
          </a:p>
          <a:p>
            <a:pPr lvl="1" marL="743040" indent="-360360">
              <a:lnSpc>
                <a:spcPts val="22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d on account holders external credit activity</a:t>
            </a:r>
            <a:endParaRPr b="1" lang="en-US" sz="2000" spc="-1" strike="noStrike">
              <a:solidFill>
                <a:srgbClr val="ffffff"/>
              </a:solidFill>
              <a:latin typeface="Arial"/>
            </a:endParaRPr>
          </a:p>
        </p:txBody>
      </p:sp>
      <p:grpSp>
        <p:nvGrpSpPr>
          <p:cNvPr id="759" name=""/>
          <p:cNvGrpSpPr/>
          <p:nvPr/>
        </p:nvGrpSpPr>
        <p:grpSpPr>
          <a:xfrm>
            <a:off x="7543800" y="3429000"/>
            <a:ext cx="1341360" cy="2895120"/>
            <a:chOff x="7543800" y="3429000"/>
            <a:chExt cx="1341360" cy="2895120"/>
          </a:xfrm>
        </p:grpSpPr>
        <p:sp>
          <p:nvSpPr>
            <p:cNvPr id="760" name=""/>
            <p:cNvSpPr/>
            <p:nvPr/>
          </p:nvSpPr>
          <p:spPr>
            <a:xfrm>
              <a:off x="7794360" y="5061600"/>
              <a:ext cx="1090800" cy="124704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490600" y="5165640"/>
              <a:ext cx="30348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484840" y="5145480"/>
              <a:ext cx="264600" cy="91872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7750080" y="5035320"/>
              <a:ext cx="98604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b00"/>
                </a:gs>
                <a:gs pos="100000">
                  <a:srgbClr val="fe5b00"/>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rot="20280000">
              <a:off x="8078040" y="617076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5" name=""/>
            <p:cNvSpPr/>
            <p:nvPr/>
          </p:nvSpPr>
          <p:spPr>
            <a:xfrm rot="20280000">
              <a:off x="7949520" y="579420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6" name=""/>
            <p:cNvSpPr/>
            <p:nvPr/>
          </p:nvSpPr>
          <p:spPr>
            <a:xfrm rot="20280000">
              <a:off x="7835040" y="542160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767" name=""/>
            <p:cNvSpPr/>
            <p:nvPr/>
          </p:nvSpPr>
          <p:spPr>
            <a:xfrm>
              <a:off x="8000640" y="5337360"/>
              <a:ext cx="40032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8061480" y="5369760"/>
              <a:ext cx="336240" cy="31176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H="1">
              <a:off x="8112240" y="5444640"/>
              <a:ext cx="25740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a:off x="8125200" y="5502960"/>
              <a:ext cx="24444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1" name=""/>
            <p:cNvGrpSpPr/>
            <p:nvPr/>
          </p:nvGrpSpPr>
          <p:grpSpPr>
            <a:xfrm>
              <a:off x="8199360" y="5624640"/>
              <a:ext cx="339480" cy="426960"/>
              <a:chOff x="8199360" y="5624640"/>
              <a:chExt cx="339480" cy="426960"/>
            </a:xfrm>
          </p:grpSpPr>
          <p:grpSp>
            <p:nvGrpSpPr>
              <p:cNvPr id="772" name=""/>
              <p:cNvGrpSpPr/>
              <p:nvPr/>
            </p:nvGrpSpPr>
            <p:grpSpPr>
              <a:xfrm>
                <a:off x="8199360" y="5636880"/>
                <a:ext cx="168840" cy="288720"/>
                <a:chOff x="8199360" y="5636880"/>
                <a:chExt cx="168840" cy="288720"/>
              </a:xfrm>
            </p:grpSpPr>
            <p:sp>
              <p:nvSpPr>
                <p:cNvPr id="773"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lnTo>
                        <a:pt x="342" y="366"/>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path>
                  </a:pathLst>
                </a:custGeom>
                <a:noFill/>
                <a:ln cap="rnd" w="792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5" name=""/>
              <p:cNvGrpSpPr/>
              <p:nvPr/>
            </p:nvGrpSpPr>
            <p:grpSpPr>
              <a:xfrm>
                <a:off x="8325000" y="5624640"/>
                <a:ext cx="201960" cy="262800"/>
                <a:chOff x="8325000" y="5624640"/>
                <a:chExt cx="201960" cy="262800"/>
              </a:xfrm>
            </p:grpSpPr>
            <p:sp>
              <p:nvSpPr>
                <p:cNvPr id="776"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lnTo>
                        <a:pt x="0" y="323"/>
                      </a:lnTo>
                      <a:close/>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path>
                  </a:pathLst>
                </a:custGeom>
                <a:noFill/>
                <a:ln cap="rnd" w="792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8" name=""/>
              <p:cNvGrpSpPr/>
              <p:nvPr/>
            </p:nvGrpSpPr>
            <p:grpSpPr>
              <a:xfrm>
                <a:off x="8208000" y="5737320"/>
                <a:ext cx="330840" cy="314280"/>
                <a:chOff x="8208000" y="5737320"/>
                <a:chExt cx="330840" cy="314280"/>
              </a:xfrm>
            </p:grpSpPr>
            <p:sp>
              <p:nvSpPr>
                <p:cNvPr id="779"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lnTo>
                        <a:pt x="0" y="475"/>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path>
                  </a:pathLst>
                </a:custGeom>
                <a:noFill/>
                <a:ln cap="rnd" w="792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
              <p:cNvSpPr/>
              <p:nvPr/>
            </p:nvSpPr>
            <p:spPr>
              <a:xfrm rot="21333600">
                <a:off x="8277120" y="5885280"/>
                <a:ext cx="5040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2" name=""/>
              <p:cNvSpPr/>
              <p:nvPr/>
            </p:nvSpPr>
            <p:spPr>
              <a:xfrm rot="21333600">
                <a:off x="8330760" y="58093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3" name=""/>
              <p:cNvSpPr/>
              <p:nvPr/>
            </p:nvSpPr>
            <p:spPr>
              <a:xfrm rot="21333600">
                <a:off x="8284320" y="588672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4" name=""/>
              <p:cNvSpPr/>
              <p:nvPr/>
            </p:nvSpPr>
            <p:spPr>
              <a:xfrm rot="21333600">
                <a:off x="8338320" y="5812560"/>
                <a:ext cx="50400" cy="44640"/>
              </a:xfrm>
              <a:prstGeom prst="ellipse">
                <a:avLst/>
              </a:prstGeom>
              <a:solidFill>
                <a:srgbClr val="fc0128"/>
              </a:solidFill>
              <a:ln w="792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 name=""/>
              <p:cNvSpPr/>
              <p:nvPr/>
            </p:nvSpPr>
            <p:spPr>
              <a:xfrm rot="21333600">
                <a:off x="8360640" y="5937480"/>
                <a:ext cx="50400" cy="44640"/>
              </a:xfrm>
              <a:prstGeom prst="ellipse">
                <a:avLst/>
              </a:prstGeom>
              <a:solidFill>
                <a:srgbClr val="0000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 name=""/>
              <p:cNvSpPr/>
              <p:nvPr/>
            </p:nvSpPr>
            <p:spPr>
              <a:xfrm rot="21333600">
                <a:off x="8414280" y="58615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7" name=""/>
              <p:cNvSpPr/>
              <p:nvPr/>
            </p:nvSpPr>
            <p:spPr>
              <a:xfrm rot="21333600">
                <a:off x="8367840" y="593856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88" name=""/>
              <p:cNvSpPr/>
              <p:nvPr/>
            </p:nvSpPr>
            <p:spPr>
              <a:xfrm rot="21333600">
                <a:off x="8421480" y="586260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nvGrpSpPr>
              <p:cNvPr id="789" name=""/>
              <p:cNvGrpSpPr/>
              <p:nvPr/>
            </p:nvGrpSpPr>
            <p:grpSpPr>
              <a:xfrm>
                <a:off x="8199360" y="5636880"/>
                <a:ext cx="168840" cy="288720"/>
                <a:chOff x="8199360" y="5636880"/>
                <a:chExt cx="168840" cy="288720"/>
              </a:xfrm>
            </p:grpSpPr>
            <p:sp>
              <p:nvSpPr>
                <p:cNvPr id="790"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lnTo>
                        <a:pt x="342" y="366"/>
                      </a:lnTo>
                      <a:close/>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21333600">
                  <a:off x="8209800" y="5641920"/>
                  <a:ext cx="147600" cy="277920"/>
                </a:xfrm>
                <a:custGeom>
                  <a:avLst/>
                  <a:gdLst/>
                  <a:ahLst/>
                  <a:rect l="l" t="t" r="r" b="b"/>
                  <a:pathLst>
                    <a:path w="412" h="793">
                      <a:moveTo>
                        <a:pt x="342" y="366"/>
                      </a:moveTo>
                      <a:lnTo>
                        <a:pt x="412" y="0"/>
                      </a:lnTo>
                      <a:lnTo>
                        <a:pt x="121" y="352"/>
                      </a:lnTo>
                      <a:lnTo>
                        <a:pt x="0" y="793"/>
                      </a:lnTo>
                    </a:path>
                  </a:pathLst>
                </a:custGeom>
                <a:noFill/>
                <a:ln cap="rnd" w="792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2" name=""/>
              <p:cNvGrpSpPr/>
              <p:nvPr/>
            </p:nvGrpSpPr>
            <p:grpSpPr>
              <a:xfrm>
                <a:off x="8325000" y="5624640"/>
                <a:ext cx="201960" cy="262800"/>
                <a:chOff x="8325000" y="5624640"/>
                <a:chExt cx="201960" cy="262800"/>
              </a:xfrm>
            </p:grpSpPr>
            <p:sp>
              <p:nvSpPr>
                <p:cNvPr id="793"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lnTo>
                        <a:pt x="0" y="323"/>
                      </a:lnTo>
                      <a:close/>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21333600">
                  <a:off x="8334360" y="5631120"/>
                  <a:ext cx="183240" cy="249480"/>
                </a:xfrm>
                <a:custGeom>
                  <a:avLst/>
                  <a:gdLst/>
                  <a:ahLst/>
                  <a:rect l="l" t="t" r="r" b="b"/>
                  <a:pathLst>
                    <a:path w="512" h="712">
                      <a:moveTo>
                        <a:pt x="0" y="323"/>
                      </a:moveTo>
                      <a:lnTo>
                        <a:pt x="60" y="0"/>
                      </a:lnTo>
                      <a:lnTo>
                        <a:pt x="512" y="342"/>
                      </a:lnTo>
                      <a:lnTo>
                        <a:pt x="512" y="712"/>
                      </a:lnTo>
                    </a:path>
                  </a:pathLst>
                </a:custGeom>
                <a:noFill/>
                <a:ln cap="rnd" w="7920">
                  <a:solidFill>
                    <a:srgbClr val="eaec5e"/>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95" name=""/>
              <p:cNvGrpSpPr/>
              <p:nvPr/>
            </p:nvGrpSpPr>
            <p:grpSpPr>
              <a:xfrm>
                <a:off x="8208000" y="5737320"/>
                <a:ext cx="330840" cy="314280"/>
                <a:chOff x="8208000" y="5737320"/>
                <a:chExt cx="330840" cy="314280"/>
              </a:xfrm>
            </p:grpSpPr>
            <p:sp>
              <p:nvSpPr>
                <p:cNvPr id="796"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lnTo>
                        <a:pt x="0" y="475"/>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rot="21333600">
                  <a:off x="8218800" y="5748480"/>
                  <a:ext cx="309240" cy="291240"/>
                </a:xfrm>
                <a:custGeom>
                  <a:avLst/>
                  <a:gdLst/>
                  <a:ahLst/>
                  <a:rect l="l" t="t" r="r" b="b"/>
                  <a:pathLst>
                    <a:path w="864" h="831">
                      <a:moveTo>
                        <a:pt x="0" y="475"/>
                      </a:moveTo>
                      <a:lnTo>
                        <a:pt x="362" y="0"/>
                      </a:lnTo>
                      <a:lnTo>
                        <a:pt x="864" y="389"/>
                      </a:lnTo>
                      <a:lnTo>
                        <a:pt x="508" y="831"/>
                      </a:lnTo>
                      <a:lnTo>
                        <a:pt x="0" y="465"/>
                      </a:lnTo>
                    </a:path>
                  </a:pathLst>
                </a:custGeom>
                <a:noFill/>
                <a:ln cap="rnd" w="792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8" name=""/>
              <p:cNvSpPr/>
              <p:nvPr/>
            </p:nvSpPr>
            <p:spPr>
              <a:xfrm rot="21333600">
                <a:off x="8277120" y="5885280"/>
                <a:ext cx="5040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99" name=""/>
              <p:cNvSpPr/>
              <p:nvPr/>
            </p:nvSpPr>
            <p:spPr>
              <a:xfrm rot="21333600">
                <a:off x="8330760" y="58093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0" name=""/>
              <p:cNvSpPr/>
              <p:nvPr/>
            </p:nvSpPr>
            <p:spPr>
              <a:xfrm rot="21333600">
                <a:off x="8284320" y="588672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1" name=""/>
              <p:cNvSpPr/>
              <p:nvPr/>
            </p:nvSpPr>
            <p:spPr>
              <a:xfrm rot="21333600">
                <a:off x="8338320" y="5812560"/>
                <a:ext cx="50400" cy="44640"/>
              </a:xfrm>
              <a:prstGeom prst="ellipse">
                <a:avLst/>
              </a:prstGeom>
              <a:solidFill>
                <a:srgbClr val="fc0128"/>
              </a:solidFill>
              <a:ln w="792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2" name=""/>
              <p:cNvSpPr/>
              <p:nvPr/>
            </p:nvSpPr>
            <p:spPr>
              <a:xfrm rot="21333600">
                <a:off x="8360640" y="5937480"/>
                <a:ext cx="50400" cy="44640"/>
              </a:xfrm>
              <a:prstGeom prst="ellipse">
                <a:avLst/>
              </a:prstGeom>
              <a:solidFill>
                <a:srgbClr val="0000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3" name=""/>
              <p:cNvSpPr/>
              <p:nvPr/>
            </p:nvSpPr>
            <p:spPr>
              <a:xfrm rot="21333600">
                <a:off x="8414280" y="5861520"/>
                <a:ext cx="50040" cy="464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4" name=""/>
              <p:cNvSpPr/>
              <p:nvPr/>
            </p:nvSpPr>
            <p:spPr>
              <a:xfrm rot="21333600">
                <a:off x="8367840" y="593856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5" name=""/>
              <p:cNvSpPr/>
              <p:nvPr/>
            </p:nvSpPr>
            <p:spPr>
              <a:xfrm rot="21333600">
                <a:off x="8421480" y="5862600"/>
                <a:ext cx="50400" cy="46440"/>
              </a:xfrm>
              <a:prstGeom prst="ellipse">
                <a:avLst/>
              </a:prstGeom>
              <a:solidFill>
                <a:srgbClr val="fc0128"/>
              </a:solidFill>
              <a:ln w="7920">
                <a:solidFill>
                  <a:srgbClr val="fc0128"/>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sp>
          <p:nvSpPr>
            <p:cNvPr id="806" name=""/>
            <p:cNvSpPr/>
            <p:nvPr/>
          </p:nvSpPr>
          <p:spPr>
            <a:xfrm>
              <a:off x="7691040" y="4267080"/>
              <a:ext cx="1090800" cy="124740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8388000" y="4371840"/>
              <a:ext cx="30348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8382240" y="4351320"/>
              <a:ext cx="264240" cy="91836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7646400" y="4241520"/>
              <a:ext cx="98712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b00"/>
                </a:gs>
                <a:gs pos="100000">
                  <a:srgbClr val="fe5b00"/>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rot="20280000">
              <a:off x="7974360" y="5376960"/>
              <a:ext cx="5148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11" name=""/>
            <p:cNvSpPr/>
            <p:nvPr/>
          </p:nvSpPr>
          <p:spPr>
            <a:xfrm rot="20280000">
              <a:off x="7846200" y="500040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812" name=""/>
            <p:cNvSpPr/>
            <p:nvPr/>
          </p:nvSpPr>
          <p:spPr>
            <a:xfrm rot="20280000">
              <a:off x="7731000" y="462708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13" name=""/>
            <p:cNvSpPr/>
            <p:nvPr/>
          </p:nvSpPr>
          <p:spPr>
            <a:xfrm>
              <a:off x="7896960" y="4543560"/>
              <a:ext cx="39996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7957800" y="4575600"/>
              <a:ext cx="336240" cy="31212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a:off x="8008920" y="4650480"/>
              <a:ext cx="25704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a:off x="8022600" y="4708440"/>
              <a:ext cx="24336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7" name=""/>
            <p:cNvGrpSpPr/>
            <p:nvPr/>
          </p:nvGrpSpPr>
          <p:grpSpPr>
            <a:xfrm>
              <a:off x="8101080" y="4935600"/>
              <a:ext cx="130320" cy="87120"/>
              <a:chOff x="8101080" y="4935600"/>
              <a:chExt cx="130320" cy="87120"/>
            </a:xfrm>
          </p:grpSpPr>
          <p:sp>
            <p:nvSpPr>
              <p:cNvPr id="818" name=""/>
              <p:cNvSpPr/>
              <p:nvPr/>
            </p:nvSpPr>
            <p:spPr>
              <a:xfrm rot="20334600">
                <a:off x="8105040" y="4955760"/>
                <a:ext cx="121680" cy="46080"/>
              </a:xfrm>
              <a:custGeom>
                <a:avLst/>
                <a:gdLst/>
                <a:ahLst/>
                <a:rect l="l" t="t" r="r" b="b"/>
                <a:pathLst>
                  <a:path w="149" h="67">
                    <a:moveTo>
                      <a:pt x="0" y="46"/>
                    </a:moveTo>
                    <a:lnTo>
                      <a:pt x="8" y="39"/>
                    </a:lnTo>
                    <a:lnTo>
                      <a:pt x="14" y="35"/>
                    </a:lnTo>
                    <a:lnTo>
                      <a:pt x="20" y="33"/>
                    </a:lnTo>
                    <a:lnTo>
                      <a:pt x="27" y="31"/>
                    </a:lnTo>
                    <a:lnTo>
                      <a:pt x="34" y="32"/>
                    </a:lnTo>
                    <a:lnTo>
                      <a:pt x="42" y="35"/>
                    </a:lnTo>
                    <a:lnTo>
                      <a:pt x="46" y="38"/>
                    </a:lnTo>
                    <a:lnTo>
                      <a:pt x="50" y="44"/>
                    </a:lnTo>
                    <a:lnTo>
                      <a:pt x="58" y="52"/>
                    </a:lnTo>
                    <a:lnTo>
                      <a:pt x="65" y="58"/>
                    </a:lnTo>
                    <a:lnTo>
                      <a:pt x="74" y="62"/>
                    </a:lnTo>
                    <a:lnTo>
                      <a:pt x="81" y="65"/>
                    </a:lnTo>
                    <a:lnTo>
                      <a:pt x="89" y="66"/>
                    </a:lnTo>
                    <a:lnTo>
                      <a:pt x="98" y="66"/>
                    </a:lnTo>
                    <a:lnTo>
                      <a:pt x="110" y="66"/>
                    </a:lnTo>
                    <a:lnTo>
                      <a:pt x="120" y="65"/>
                    </a:lnTo>
                    <a:lnTo>
                      <a:pt x="130" y="63"/>
                    </a:lnTo>
                    <a:lnTo>
                      <a:pt x="139" y="62"/>
                    </a:lnTo>
                    <a:lnTo>
                      <a:pt x="145" y="59"/>
                    </a:lnTo>
                    <a:lnTo>
                      <a:pt x="148" y="60"/>
                    </a:lnTo>
                    <a:lnTo>
                      <a:pt x="145" y="38"/>
                    </a:lnTo>
                    <a:lnTo>
                      <a:pt x="142" y="29"/>
                    </a:lnTo>
                    <a:lnTo>
                      <a:pt x="139" y="22"/>
                    </a:lnTo>
                    <a:lnTo>
                      <a:pt x="134" y="14"/>
                    </a:lnTo>
                    <a:lnTo>
                      <a:pt x="128" y="10"/>
                    </a:lnTo>
                    <a:lnTo>
                      <a:pt x="121" y="5"/>
                    </a:lnTo>
                    <a:lnTo>
                      <a:pt x="111" y="3"/>
                    </a:lnTo>
                    <a:lnTo>
                      <a:pt x="95" y="0"/>
                    </a:lnTo>
                    <a:lnTo>
                      <a:pt x="79" y="0"/>
                    </a:lnTo>
                    <a:lnTo>
                      <a:pt x="66" y="2"/>
                    </a:lnTo>
                    <a:lnTo>
                      <a:pt x="55" y="4"/>
                    </a:lnTo>
                    <a:lnTo>
                      <a:pt x="45" y="8"/>
                    </a:lnTo>
                    <a:lnTo>
                      <a:pt x="34" y="13"/>
                    </a:lnTo>
                    <a:lnTo>
                      <a:pt x="25" y="18"/>
                    </a:lnTo>
                    <a:lnTo>
                      <a:pt x="16" y="26"/>
                    </a:lnTo>
                    <a:lnTo>
                      <a:pt x="9" y="33"/>
                    </a:lnTo>
                    <a:lnTo>
                      <a:pt x="0" y="46"/>
                    </a:lnTo>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9" name=""/>
              <p:cNvSpPr/>
              <p:nvPr/>
            </p:nvSpPr>
            <p:spPr>
              <a:xfrm rot="20334600">
                <a:off x="8107560" y="4969440"/>
                <a:ext cx="121680" cy="32400"/>
              </a:xfrm>
              <a:custGeom>
                <a:avLst/>
                <a:gdLst/>
                <a:ahLst/>
                <a:rect l="l" t="t" r="r" b="b"/>
                <a:pathLst>
                  <a:path w="149" h="47">
                    <a:moveTo>
                      <a:pt x="0" y="27"/>
                    </a:moveTo>
                    <a:lnTo>
                      <a:pt x="8" y="20"/>
                    </a:lnTo>
                    <a:lnTo>
                      <a:pt x="14" y="16"/>
                    </a:lnTo>
                    <a:lnTo>
                      <a:pt x="20" y="14"/>
                    </a:lnTo>
                    <a:lnTo>
                      <a:pt x="27" y="12"/>
                    </a:lnTo>
                    <a:lnTo>
                      <a:pt x="34" y="14"/>
                    </a:lnTo>
                    <a:lnTo>
                      <a:pt x="41" y="16"/>
                    </a:lnTo>
                    <a:lnTo>
                      <a:pt x="46" y="20"/>
                    </a:lnTo>
                    <a:lnTo>
                      <a:pt x="50" y="25"/>
                    </a:lnTo>
                    <a:lnTo>
                      <a:pt x="58" y="32"/>
                    </a:lnTo>
                    <a:lnTo>
                      <a:pt x="65" y="38"/>
                    </a:lnTo>
                    <a:lnTo>
                      <a:pt x="74" y="42"/>
                    </a:lnTo>
                    <a:lnTo>
                      <a:pt x="81" y="45"/>
                    </a:lnTo>
                    <a:lnTo>
                      <a:pt x="88" y="46"/>
                    </a:lnTo>
                    <a:lnTo>
                      <a:pt x="98" y="46"/>
                    </a:lnTo>
                    <a:lnTo>
                      <a:pt x="109" y="46"/>
                    </a:lnTo>
                    <a:lnTo>
                      <a:pt x="120" y="45"/>
                    </a:lnTo>
                    <a:lnTo>
                      <a:pt x="130" y="43"/>
                    </a:lnTo>
                    <a:lnTo>
                      <a:pt x="139" y="42"/>
                    </a:lnTo>
                    <a:lnTo>
                      <a:pt x="145" y="39"/>
                    </a:lnTo>
                    <a:lnTo>
                      <a:pt x="148" y="40"/>
                    </a:lnTo>
                    <a:lnTo>
                      <a:pt x="144" y="35"/>
                    </a:lnTo>
                    <a:lnTo>
                      <a:pt x="139" y="32"/>
                    </a:lnTo>
                    <a:lnTo>
                      <a:pt x="135" y="26"/>
                    </a:lnTo>
                    <a:lnTo>
                      <a:pt x="126" y="20"/>
                    </a:lnTo>
                    <a:lnTo>
                      <a:pt x="117" y="14"/>
                    </a:lnTo>
                    <a:lnTo>
                      <a:pt x="106" y="8"/>
                    </a:lnTo>
                    <a:lnTo>
                      <a:pt x="97" y="5"/>
                    </a:lnTo>
                    <a:lnTo>
                      <a:pt x="86" y="3"/>
                    </a:lnTo>
                    <a:lnTo>
                      <a:pt x="75" y="2"/>
                    </a:lnTo>
                    <a:lnTo>
                      <a:pt x="64" y="0"/>
                    </a:lnTo>
                    <a:lnTo>
                      <a:pt x="49" y="0"/>
                    </a:lnTo>
                    <a:lnTo>
                      <a:pt x="37" y="2"/>
                    </a:lnTo>
                    <a:lnTo>
                      <a:pt x="28" y="5"/>
                    </a:lnTo>
                    <a:lnTo>
                      <a:pt x="19" y="9"/>
                    </a:lnTo>
                    <a:lnTo>
                      <a:pt x="11" y="14"/>
                    </a:lnTo>
                    <a:lnTo>
                      <a:pt x="0" y="27"/>
                    </a:lnTo>
                  </a:path>
                </a:pathLst>
              </a:custGeom>
              <a:solidFill>
                <a:srgbClr val="008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sp>
          <p:nvSpPr>
            <p:cNvPr id="820" name=""/>
            <p:cNvSpPr/>
            <p:nvPr/>
          </p:nvSpPr>
          <p:spPr>
            <a:xfrm rot="20334600">
              <a:off x="8123760" y="4993560"/>
              <a:ext cx="309240" cy="246240"/>
            </a:xfrm>
            <a:custGeom>
              <a:avLst/>
              <a:gdLst/>
              <a:ahLst/>
              <a:rect l="l" t="t" r="r" b="b"/>
              <a:pathLst>
                <a:path w="378" h="357">
                  <a:moveTo>
                    <a:pt x="192" y="39"/>
                  </a:moveTo>
                  <a:lnTo>
                    <a:pt x="203" y="36"/>
                  </a:lnTo>
                  <a:lnTo>
                    <a:pt x="212" y="32"/>
                  </a:lnTo>
                  <a:lnTo>
                    <a:pt x="221" y="27"/>
                  </a:lnTo>
                  <a:lnTo>
                    <a:pt x="227" y="20"/>
                  </a:lnTo>
                  <a:lnTo>
                    <a:pt x="234" y="14"/>
                  </a:lnTo>
                  <a:lnTo>
                    <a:pt x="242" y="8"/>
                  </a:lnTo>
                  <a:lnTo>
                    <a:pt x="248" y="5"/>
                  </a:lnTo>
                  <a:lnTo>
                    <a:pt x="256" y="3"/>
                  </a:lnTo>
                  <a:lnTo>
                    <a:pt x="263" y="1"/>
                  </a:lnTo>
                  <a:lnTo>
                    <a:pt x="272" y="0"/>
                  </a:lnTo>
                  <a:lnTo>
                    <a:pt x="281" y="0"/>
                  </a:lnTo>
                  <a:lnTo>
                    <a:pt x="292" y="2"/>
                  </a:lnTo>
                  <a:lnTo>
                    <a:pt x="301" y="3"/>
                  </a:lnTo>
                  <a:lnTo>
                    <a:pt x="310" y="5"/>
                  </a:lnTo>
                  <a:lnTo>
                    <a:pt x="319" y="9"/>
                  </a:lnTo>
                  <a:lnTo>
                    <a:pt x="326" y="13"/>
                  </a:lnTo>
                  <a:lnTo>
                    <a:pt x="336" y="20"/>
                  </a:lnTo>
                  <a:lnTo>
                    <a:pt x="342" y="24"/>
                  </a:lnTo>
                  <a:lnTo>
                    <a:pt x="348" y="32"/>
                  </a:lnTo>
                  <a:lnTo>
                    <a:pt x="354" y="39"/>
                  </a:lnTo>
                  <a:lnTo>
                    <a:pt x="360" y="49"/>
                  </a:lnTo>
                  <a:lnTo>
                    <a:pt x="364" y="57"/>
                  </a:lnTo>
                  <a:lnTo>
                    <a:pt x="369" y="67"/>
                  </a:lnTo>
                  <a:lnTo>
                    <a:pt x="371" y="74"/>
                  </a:lnTo>
                  <a:lnTo>
                    <a:pt x="374" y="86"/>
                  </a:lnTo>
                  <a:lnTo>
                    <a:pt x="376" y="94"/>
                  </a:lnTo>
                  <a:lnTo>
                    <a:pt x="377" y="107"/>
                  </a:lnTo>
                  <a:lnTo>
                    <a:pt x="377" y="115"/>
                  </a:lnTo>
                  <a:lnTo>
                    <a:pt x="377" y="131"/>
                  </a:lnTo>
                  <a:lnTo>
                    <a:pt x="376" y="146"/>
                  </a:lnTo>
                  <a:lnTo>
                    <a:pt x="374" y="158"/>
                  </a:lnTo>
                  <a:lnTo>
                    <a:pt x="373" y="170"/>
                  </a:lnTo>
                  <a:lnTo>
                    <a:pt x="370" y="181"/>
                  </a:lnTo>
                  <a:lnTo>
                    <a:pt x="367" y="191"/>
                  </a:lnTo>
                  <a:lnTo>
                    <a:pt x="363" y="201"/>
                  </a:lnTo>
                  <a:lnTo>
                    <a:pt x="360" y="211"/>
                  </a:lnTo>
                  <a:lnTo>
                    <a:pt x="355" y="221"/>
                  </a:lnTo>
                  <a:lnTo>
                    <a:pt x="350" y="233"/>
                  </a:lnTo>
                  <a:lnTo>
                    <a:pt x="344" y="243"/>
                  </a:lnTo>
                  <a:lnTo>
                    <a:pt x="338" y="254"/>
                  </a:lnTo>
                  <a:lnTo>
                    <a:pt x="332" y="262"/>
                  </a:lnTo>
                  <a:lnTo>
                    <a:pt x="326" y="269"/>
                  </a:lnTo>
                  <a:lnTo>
                    <a:pt x="317" y="280"/>
                  </a:lnTo>
                  <a:lnTo>
                    <a:pt x="308" y="291"/>
                  </a:lnTo>
                  <a:lnTo>
                    <a:pt x="298" y="303"/>
                  </a:lnTo>
                  <a:lnTo>
                    <a:pt x="290" y="313"/>
                  </a:lnTo>
                  <a:lnTo>
                    <a:pt x="279" y="325"/>
                  </a:lnTo>
                  <a:lnTo>
                    <a:pt x="266" y="337"/>
                  </a:lnTo>
                  <a:lnTo>
                    <a:pt x="246" y="347"/>
                  </a:lnTo>
                  <a:lnTo>
                    <a:pt x="229" y="354"/>
                  </a:lnTo>
                  <a:lnTo>
                    <a:pt x="214" y="355"/>
                  </a:lnTo>
                  <a:lnTo>
                    <a:pt x="204" y="356"/>
                  </a:lnTo>
                  <a:lnTo>
                    <a:pt x="193" y="354"/>
                  </a:lnTo>
                  <a:lnTo>
                    <a:pt x="183" y="352"/>
                  </a:lnTo>
                  <a:lnTo>
                    <a:pt x="174" y="350"/>
                  </a:lnTo>
                  <a:lnTo>
                    <a:pt x="166" y="349"/>
                  </a:lnTo>
                  <a:lnTo>
                    <a:pt x="152" y="352"/>
                  </a:lnTo>
                  <a:lnTo>
                    <a:pt x="139" y="352"/>
                  </a:lnTo>
                  <a:lnTo>
                    <a:pt x="131" y="350"/>
                  </a:lnTo>
                  <a:lnTo>
                    <a:pt x="120" y="346"/>
                  </a:lnTo>
                  <a:lnTo>
                    <a:pt x="114" y="342"/>
                  </a:lnTo>
                  <a:lnTo>
                    <a:pt x="102" y="330"/>
                  </a:lnTo>
                  <a:lnTo>
                    <a:pt x="77" y="297"/>
                  </a:lnTo>
                  <a:lnTo>
                    <a:pt x="67" y="285"/>
                  </a:lnTo>
                  <a:lnTo>
                    <a:pt x="58" y="274"/>
                  </a:lnTo>
                  <a:lnTo>
                    <a:pt x="52" y="265"/>
                  </a:lnTo>
                  <a:lnTo>
                    <a:pt x="45" y="255"/>
                  </a:lnTo>
                  <a:lnTo>
                    <a:pt x="38" y="246"/>
                  </a:lnTo>
                  <a:lnTo>
                    <a:pt x="30" y="234"/>
                  </a:lnTo>
                  <a:lnTo>
                    <a:pt x="22" y="223"/>
                  </a:lnTo>
                  <a:lnTo>
                    <a:pt x="18" y="214"/>
                  </a:lnTo>
                  <a:lnTo>
                    <a:pt x="15" y="205"/>
                  </a:lnTo>
                  <a:lnTo>
                    <a:pt x="9" y="192"/>
                  </a:lnTo>
                  <a:lnTo>
                    <a:pt x="7" y="179"/>
                  </a:lnTo>
                  <a:lnTo>
                    <a:pt x="4" y="170"/>
                  </a:lnTo>
                  <a:lnTo>
                    <a:pt x="2" y="160"/>
                  </a:lnTo>
                  <a:lnTo>
                    <a:pt x="0" y="148"/>
                  </a:lnTo>
                  <a:lnTo>
                    <a:pt x="0" y="139"/>
                  </a:lnTo>
                  <a:lnTo>
                    <a:pt x="0" y="124"/>
                  </a:lnTo>
                  <a:lnTo>
                    <a:pt x="1" y="114"/>
                  </a:lnTo>
                  <a:lnTo>
                    <a:pt x="2" y="103"/>
                  </a:lnTo>
                  <a:lnTo>
                    <a:pt x="5" y="91"/>
                  </a:lnTo>
                  <a:lnTo>
                    <a:pt x="8" y="80"/>
                  </a:lnTo>
                  <a:lnTo>
                    <a:pt x="11" y="71"/>
                  </a:lnTo>
                  <a:lnTo>
                    <a:pt x="16" y="61"/>
                  </a:lnTo>
                  <a:lnTo>
                    <a:pt x="21" y="52"/>
                  </a:lnTo>
                  <a:lnTo>
                    <a:pt x="28" y="44"/>
                  </a:lnTo>
                  <a:lnTo>
                    <a:pt x="36" y="35"/>
                  </a:lnTo>
                  <a:lnTo>
                    <a:pt x="43" y="28"/>
                  </a:lnTo>
                  <a:lnTo>
                    <a:pt x="52" y="20"/>
                  </a:lnTo>
                  <a:lnTo>
                    <a:pt x="63" y="14"/>
                  </a:lnTo>
                  <a:lnTo>
                    <a:pt x="73" y="8"/>
                  </a:lnTo>
                  <a:lnTo>
                    <a:pt x="84" y="5"/>
                  </a:lnTo>
                  <a:lnTo>
                    <a:pt x="95" y="2"/>
                  </a:lnTo>
                  <a:lnTo>
                    <a:pt x="103" y="0"/>
                  </a:lnTo>
                  <a:lnTo>
                    <a:pt x="112" y="0"/>
                  </a:lnTo>
                  <a:lnTo>
                    <a:pt x="123" y="2"/>
                  </a:lnTo>
                  <a:lnTo>
                    <a:pt x="134" y="4"/>
                  </a:lnTo>
                  <a:lnTo>
                    <a:pt x="141" y="7"/>
                  </a:lnTo>
                  <a:lnTo>
                    <a:pt x="146" y="10"/>
                  </a:lnTo>
                  <a:lnTo>
                    <a:pt x="153" y="14"/>
                  </a:lnTo>
                  <a:lnTo>
                    <a:pt x="160" y="20"/>
                  </a:lnTo>
                  <a:lnTo>
                    <a:pt x="167" y="27"/>
                  </a:lnTo>
                  <a:lnTo>
                    <a:pt x="174" y="32"/>
                  </a:lnTo>
                  <a:lnTo>
                    <a:pt x="180" y="36"/>
                  </a:lnTo>
                  <a:lnTo>
                    <a:pt x="192" y="39"/>
                  </a:lnTo>
                </a:path>
              </a:pathLst>
            </a:custGeom>
            <a:gradFill rotWithShape="0">
              <a:gsLst>
                <a:gs pos="0">
                  <a:srgbClr val="fc0128"/>
                </a:gs>
                <a:gs pos="100000">
                  <a:srgbClr val="960017"/>
                </a:gs>
              </a:gsLst>
              <a:lin ang="8100000"/>
            </a:gra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1" name=""/>
            <p:cNvGrpSpPr/>
            <p:nvPr/>
          </p:nvGrpSpPr>
          <p:grpSpPr>
            <a:xfrm>
              <a:off x="8205120" y="4969800"/>
              <a:ext cx="96120" cy="72720"/>
              <a:chOff x="8205120" y="4969800"/>
              <a:chExt cx="96120" cy="72720"/>
            </a:xfrm>
          </p:grpSpPr>
          <p:sp>
            <p:nvSpPr>
              <p:cNvPr id="822" name=""/>
              <p:cNvSpPr/>
              <p:nvPr/>
            </p:nvSpPr>
            <p:spPr>
              <a:xfrm rot="20334600">
                <a:off x="8224200" y="5017320"/>
                <a:ext cx="45360" cy="8640"/>
              </a:xfrm>
              <a:custGeom>
                <a:avLst/>
                <a:gdLst/>
                <a:ahLst/>
                <a:rect l="l" t="t" r="r" b="b"/>
                <a:pathLst>
                  <a:path w="56" h="13">
                    <a:moveTo>
                      <a:pt x="33" y="3"/>
                    </a:moveTo>
                    <a:lnTo>
                      <a:pt x="41" y="5"/>
                    </a:lnTo>
                    <a:lnTo>
                      <a:pt x="46" y="5"/>
                    </a:lnTo>
                    <a:lnTo>
                      <a:pt x="55" y="1"/>
                    </a:lnTo>
                    <a:lnTo>
                      <a:pt x="44" y="8"/>
                    </a:lnTo>
                    <a:lnTo>
                      <a:pt x="37" y="11"/>
                    </a:lnTo>
                    <a:lnTo>
                      <a:pt x="28" y="12"/>
                    </a:lnTo>
                    <a:lnTo>
                      <a:pt x="20" y="12"/>
                    </a:lnTo>
                    <a:lnTo>
                      <a:pt x="12" y="8"/>
                    </a:lnTo>
                    <a:lnTo>
                      <a:pt x="5" y="3"/>
                    </a:lnTo>
                    <a:lnTo>
                      <a:pt x="0" y="0"/>
                    </a:lnTo>
                    <a:lnTo>
                      <a:pt x="11" y="5"/>
                    </a:lnTo>
                    <a:lnTo>
                      <a:pt x="19" y="6"/>
                    </a:lnTo>
                    <a:lnTo>
                      <a:pt x="26" y="6"/>
                    </a:lnTo>
                    <a:lnTo>
                      <a:pt x="33" y="3"/>
                    </a:lnTo>
                  </a:path>
                </a:pathLst>
              </a:custGeom>
              <a:solidFill>
                <a:srgbClr val="8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nvGrpSpPr>
              <p:cNvPr id="823" name=""/>
              <p:cNvGrpSpPr/>
              <p:nvPr/>
            </p:nvGrpSpPr>
            <p:grpSpPr>
              <a:xfrm>
                <a:off x="8225640" y="4969800"/>
                <a:ext cx="49680" cy="56160"/>
                <a:chOff x="8225640" y="4969800"/>
                <a:chExt cx="49680" cy="56160"/>
              </a:xfrm>
            </p:grpSpPr>
            <p:sp>
              <p:nvSpPr>
                <p:cNvPr id="824" name=""/>
                <p:cNvSpPr/>
                <p:nvPr/>
              </p:nvSpPr>
              <p:spPr>
                <a:xfrm rot="20334600">
                  <a:off x="8232840" y="4974480"/>
                  <a:ext cx="34920" cy="46800"/>
                </a:xfrm>
                <a:custGeom>
                  <a:avLst/>
                  <a:gdLst/>
                  <a:ahLst/>
                  <a:rect l="l" t="t" r="r" b="b"/>
                  <a:pathLst>
                    <a:path w="43" h="68">
                      <a:moveTo>
                        <a:pt x="2" y="67"/>
                      </a:moveTo>
                      <a:lnTo>
                        <a:pt x="0" y="57"/>
                      </a:lnTo>
                      <a:lnTo>
                        <a:pt x="2" y="45"/>
                      </a:lnTo>
                      <a:lnTo>
                        <a:pt x="5" y="35"/>
                      </a:lnTo>
                      <a:lnTo>
                        <a:pt x="8" y="25"/>
                      </a:lnTo>
                      <a:lnTo>
                        <a:pt x="12" y="17"/>
                      </a:lnTo>
                      <a:lnTo>
                        <a:pt x="18" y="8"/>
                      </a:lnTo>
                      <a:lnTo>
                        <a:pt x="24" y="0"/>
                      </a:lnTo>
                      <a:lnTo>
                        <a:pt x="42" y="9"/>
                      </a:lnTo>
                      <a:lnTo>
                        <a:pt x="36" y="15"/>
                      </a:lnTo>
                      <a:lnTo>
                        <a:pt x="28" y="26"/>
                      </a:lnTo>
                      <a:lnTo>
                        <a:pt x="22" y="35"/>
                      </a:lnTo>
                      <a:lnTo>
                        <a:pt x="18" y="45"/>
                      </a:lnTo>
                      <a:lnTo>
                        <a:pt x="15" y="56"/>
                      </a:lnTo>
                      <a:lnTo>
                        <a:pt x="13" y="67"/>
                      </a:lnTo>
                      <a:lnTo>
                        <a:pt x="2" y="67"/>
                      </a:lnTo>
                    </a:path>
                  </a:pathLst>
                </a:custGeom>
                <a:solidFill>
                  <a:srgbClr val="5f3f1f"/>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825" name=""/>
                <p:cNvSpPr/>
                <p:nvPr/>
              </p:nvSpPr>
              <p:spPr>
                <a:xfrm rot="20334600">
                  <a:off x="8243640" y="4977000"/>
                  <a:ext cx="24840" cy="42120"/>
                </a:xfrm>
                <a:custGeom>
                  <a:avLst/>
                  <a:gdLst/>
                  <a:ahLst/>
                  <a:rect l="l" t="t" r="r" b="b"/>
                  <a:pathLst>
                    <a:path w="31" h="61">
                      <a:moveTo>
                        <a:pt x="0" y="60"/>
                      </a:moveTo>
                      <a:lnTo>
                        <a:pt x="1" y="53"/>
                      </a:lnTo>
                      <a:lnTo>
                        <a:pt x="2" y="41"/>
                      </a:lnTo>
                      <a:lnTo>
                        <a:pt x="6" y="29"/>
                      </a:lnTo>
                      <a:lnTo>
                        <a:pt x="10" y="20"/>
                      </a:lnTo>
                      <a:lnTo>
                        <a:pt x="15" y="12"/>
                      </a:lnTo>
                      <a:lnTo>
                        <a:pt x="19" y="4"/>
                      </a:lnTo>
                      <a:lnTo>
                        <a:pt x="23" y="0"/>
                      </a:lnTo>
                      <a:lnTo>
                        <a:pt x="30" y="3"/>
                      </a:lnTo>
                      <a:lnTo>
                        <a:pt x="25" y="9"/>
                      </a:lnTo>
                      <a:lnTo>
                        <a:pt x="16" y="19"/>
                      </a:lnTo>
                      <a:lnTo>
                        <a:pt x="10" y="28"/>
                      </a:lnTo>
                      <a:lnTo>
                        <a:pt x="6" y="38"/>
                      </a:lnTo>
                      <a:lnTo>
                        <a:pt x="3" y="49"/>
                      </a:lnTo>
                      <a:lnTo>
                        <a:pt x="2" y="60"/>
                      </a:lnTo>
                      <a:lnTo>
                        <a:pt x="0" y="60"/>
                      </a:lnTo>
                    </a:path>
                  </a:pathLst>
                </a:custGeom>
                <a:solidFill>
                  <a:srgbClr val="3f1f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826" name=""/>
              <p:cNvSpPr/>
              <p:nvPr/>
            </p:nvSpPr>
            <p:spPr>
              <a:xfrm rot="20334600">
                <a:off x="8206200" y="5001840"/>
                <a:ext cx="93600" cy="24480"/>
              </a:xfrm>
              <a:custGeom>
                <a:avLst/>
                <a:gdLst/>
                <a:ahLst/>
                <a:rect l="l" t="t" r="r" b="b"/>
                <a:pathLst>
                  <a:path w="115" h="36">
                    <a:moveTo>
                      <a:pt x="0" y="4"/>
                    </a:moveTo>
                    <a:lnTo>
                      <a:pt x="7" y="8"/>
                    </a:lnTo>
                    <a:lnTo>
                      <a:pt x="14" y="13"/>
                    </a:lnTo>
                    <a:lnTo>
                      <a:pt x="22" y="19"/>
                    </a:lnTo>
                    <a:lnTo>
                      <a:pt x="30" y="27"/>
                    </a:lnTo>
                    <a:lnTo>
                      <a:pt x="37" y="31"/>
                    </a:lnTo>
                    <a:lnTo>
                      <a:pt x="45" y="34"/>
                    </a:lnTo>
                    <a:lnTo>
                      <a:pt x="51" y="35"/>
                    </a:lnTo>
                    <a:lnTo>
                      <a:pt x="59" y="33"/>
                    </a:lnTo>
                    <a:lnTo>
                      <a:pt x="65" y="31"/>
                    </a:lnTo>
                    <a:lnTo>
                      <a:pt x="72" y="27"/>
                    </a:lnTo>
                    <a:lnTo>
                      <a:pt x="76" y="25"/>
                    </a:lnTo>
                    <a:lnTo>
                      <a:pt x="83" y="19"/>
                    </a:lnTo>
                    <a:lnTo>
                      <a:pt x="87" y="15"/>
                    </a:lnTo>
                    <a:lnTo>
                      <a:pt x="92" y="10"/>
                    </a:lnTo>
                    <a:lnTo>
                      <a:pt x="97" y="7"/>
                    </a:lnTo>
                    <a:lnTo>
                      <a:pt x="103" y="3"/>
                    </a:lnTo>
                    <a:lnTo>
                      <a:pt x="109" y="1"/>
                    </a:lnTo>
                    <a:lnTo>
                      <a:pt x="114" y="0"/>
                    </a:lnTo>
                  </a:path>
                </a:pathLst>
              </a:custGeom>
              <a:noFill/>
              <a:ln cap="rnd" w="12600">
                <a:solidFill>
                  <a:srgbClr val="8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sp>
          <p:nvSpPr>
            <p:cNvPr id="827" name=""/>
            <p:cNvSpPr/>
            <p:nvPr/>
          </p:nvSpPr>
          <p:spPr>
            <a:xfrm rot="20334600">
              <a:off x="8245440" y="4979880"/>
              <a:ext cx="114480" cy="119880"/>
            </a:xfrm>
            <a:custGeom>
              <a:avLst/>
              <a:gdLst/>
              <a:ahLst/>
              <a:rect l="l" t="t" r="r" b="b"/>
              <a:pathLst>
                <a:path w="140" h="174">
                  <a:moveTo>
                    <a:pt x="0" y="40"/>
                  </a:moveTo>
                  <a:lnTo>
                    <a:pt x="24" y="58"/>
                  </a:lnTo>
                  <a:lnTo>
                    <a:pt x="45" y="94"/>
                  </a:lnTo>
                  <a:lnTo>
                    <a:pt x="58" y="131"/>
                  </a:lnTo>
                  <a:lnTo>
                    <a:pt x="64" y="173"/>
                  </a:lnTo>
                  <a:lnTo>
                    <a:pt x="109" y="106"/>
                  </a:lnTo>
                  <a:lnTo>
                    <a:pt x="139" y="55"/>
                  </a:lnTo>
                  <a:lnTo>
                    <a:pt x="139" y="18"/>
                  </a:lnTo>
                  <a:lnTo>
                    <a:pt x="112" y="3"/>
                  </a:lnTo>
                  <a:lnTo>
                    <a:pt x="82" y="0"/>
                  </a:lnTo>
                  <a:lnTo>
                    <a:pt x="64" y="12"/>
                  </a:lnTo>
                  <a:lnTo>
                    <a:pt x="36" y="33"/>
                  </a:lnTo>
                  <a:lnTo>
                    <a:pt x="21" y="40"/>
                  </a:lnTo>
                  <a:lnTo>
                    <a:pt x="0" y="40"/>
                  </a:lnTo>
                </a:path>
              </a:pathLst>
            </a:custGeom>
            <a:gradFill rotWithShape="0">
              <a:gsLst>
                <a:gs pos="0">
                  <a:srgbClr val="fc0128"/>
                </a:gs>
                <a:gs pos="100000">
                  <a:srgbClr val="9600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rot="21294600">
              <a:off x="8154360" y="5031360"/>
              <a:ext cx="65520" cy="31320"/>
            </a:xfrm>
            <a:prstGeom prst="ellipse">
              <a:avLst/>
            </a:prstGeom>
            <a:solidFill>
              <a:srgbClr val="ff1f3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829" name=""/>
            <p:cNvSpPr/>
            <p:nvPr/>
          </p:nvSpPr>
          <p:spPr>
            <a:xfrm rot="20334600">
              <a:off x="8167680" y="5031000"/>
              <a:ext cx="31680" cy="21240"/>
            </a:xfrm>
            <a:prstGeom prst="ellipse">
              <a:avLst/>
            </a:prstGeom>
            <a:solidFill>
              <a:srgbClr val="ff7f9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30" name=""/>
            <p:cNvSpPr/>
            <p:nvPr/>
          </p:nvSpPr>
          <p:spPr>
            <a:xfrm rot="20334600">
              <a:off x="8161200" y="5032800"/>
              <a:ext cx="20880" cy="11880"/>
            </a:xfrm>
            <a:prstGeom prst="ellipse">
              <a:avLst/>
            </a:prstGeom>
            <a:solidFill>
              <a:srgbClr val="ffbfb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831" name=""/>
            <p:cNvSpPr/>
            <p:nvPr/>
          </p:nvSpPr>
          <p:spPr>
            <a:xfrm rot="20334600">
              <a:off x="8135640" y="5044320"/>
              <a:ext cx="107640" cy="218880"/>
            </a:xfrm>
            <a:custGeom>
              <a:avLst/>
              <a:gdLst/>
              <a:ahLst/>
              <a:rect l="l" t="t" r="r" b="b"/>
              <a:pathLst>
                <a:path w="131" h="316">
                  <a:moveTo>
                    <a:pt x="70" y="0"/>
                  </a:moveTo>
                  <a:lnTo>
                    <a:pt x="33" y="24"/>
                  </a:lnTo>
                  <a:lnTo>
                    <a:pt x="0" y="79"/>
                  </a:lnTo>
                  <a:lnTo>
                    <a:pt x="0" y="121"/>
                  </a:lnTo>
                  <a:lnTo>
                    <a:pt x="15" y="173"/>
                  </a:lnTo>
                  <a:lnTo>
                    <a:pt x="45" y="218"/>
                  </a:lnTo>
                  <a:lnTo>
                    <a:pt x="73" y="267"/>
                  </a:lnTo>
                  <a:lnTo>
                    <a:pt x="94" y="294"/>
                  </a:lnTo>
                  <a:lnTo>
                    <a:pt x="109" y="312"/>
                  </a:lnTo>
                  <a:lnTo>
                    <a:pt x="130" y="315"/>
                  </a:lnTo>
                  <a:lnTo>
                    <a:pt x="130" y="309"/>
                  </a:lnTo>
                  <a:lnTo>
                    <a:pt x="112" y="297"/>
                  </a:lnTo>
                  <a:lnTo>
                    <a:pt x="82" y="255"/>
                  </a:lnTo>
                  <a:lnTo>
                    <a:pt x="61" y="221"/>
                  </a:lnTo>
                  <a:lnTo>
                    <a:pt x="33" y="176"/>
                  </a:lnTo>
                  <a:lnTo>
                    <a:pt x="18" y="130"/>
                  </a:lnTo>
                  <a:lnTo>
                    <a:pt x="18" y="88"/>
                  </a:lnTo>
                  <a:lnTo>
                    <a:pt x="39" y="39"/>
                  </a:lnTo>
                  <a:lnTo>
                    <a:pt x="73" y="21"/>
                  </a:lnTo>
                </a:path>
              </a:pathLst>
            </a:custGeom>
            <a:gradFill rotWithShape="0">
              <a:gsLst>
                <a:gs pos="0">
                  <a:srgbClr val="aa4319"/>
                </a:gs>
                <a:gs pos="100000">
                  <a:srgbClr val="a22f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587360" y="3454920"/>
              <a:ext cx="1090800" cy="1247040"/>
            </a:xfrm>
            <a:custGeom>
              <a:avLst/>
              <a:gdLst/>
              <a:ahLst/>
              <a:rect l="l" t="t" r="r" b="b"/>
              <a:pathLst>
                <a:path w="1376" h="1641">
                  <a:moveTo>
                    <a:pt x="436" y="1640"/>
                  </a:moveTo>
                  <a:lnTo>
                    <a:pt x="576" y="1640"/>
                  </a:lnTo>
                  <a:lnTo>
                    <a:pt x="1375" y="1409"/>
                  </a:lnTo>
                  <a:lnTo>
                    <a:pt x="1102" y="0"/>
                  </a:lnTo>
                  <a:lnTo>
                    <a:pt x="0" y="457"/>
                  </a:lnTo>
                  <a:lnTo>
                    <a:pt x="436" y="1640"/>
                  </a:lnTo>
                </a:path>
              </a:pathLst>
            </a:custGeom>
            <a:gradFill rotWithShape="0">
              <a:gsLst>
                <a:gs pos="0">
                  <a:srgbClr val="4b1b00"/>
                </a:gs>
                <a:gs pos="100000">
                  <a:srgbClr val="fe5b00"/>
                </a:gs>
              </a:gsLst>
              <a:lin ang="135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8284320" y="3558960"/>
              <a:ext cx="303120" cy="928800"/>
            </a:xfrm>
            <a:custGeom>
              <a:avLst/>
              <a:gdLst/>
              <a:ahLst/>
              <a:rect l="l" t="t" r="r" b="b"/>
              <a:pathLst>
                <a:path w="382" h="1222">
                  <a:moveTo>
                    <a:pt x="0" y="21"/>
                  </a:moveTo>
                  <a:lnTo>
                    <a:pt x="90" y="0"/>
                  </a:lnTo>
                  <a:lnTo>
                    <a:pt x="381" y="1200"/>
                  </a:lnTo>
                  <a:lnTo>
                    <a:pt x="295" y="1221"/>
                  </a:lnTo>
                  <a:lnTo>
                    <a:pt x="0" y="26"/>
                  </a:lnTo>
                </a:path>
              </a:pathLst>
            </a:custGeom>
            <a:gradFill rotWithShape="0">
              <a:gsLst>
                <a:gs pos="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8278200" y="3538800"/>
              <a:ext cx="264600" cy="918720"/>
            </a:xfrm>
            <a:custGeom>
              <a:avLst/>
              <a:gdLst/>
              <a:ahLst/>
              <a:rect l="l" t="t" r="r" b="b"/>
              <a:pathLst>
                <a:path w="334" h="1209">
                  <a:moveTo>
                    <a:pt x="0" y="13"/>
                  </a:moveTo>
                  <a:lnTo>
                    <a:pt x="47" y="0"/>
                  </a:lnTo>
                  <a:lnTo>
                    <a:pt x="333" y="1199"/>
                  </a:lnTo>
                  <a:lnTo>
                    <a:pt x="295" y="1208"/>
                  </a:lnTo>
                  <a:lnTo>
                    <a:pt x="0" y="13"/>
                  </a:lnTo>
                </a:path>
              </a:pathLst>
            </a:custGeom>
            <a:gradFill rotWithShape="0">
              <a:gsLst>
                <a:gs pos="0">
                  <a:srgbClr val="fefef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543800" y="3429000"/>
              <a:ext cx="986040" cy="1288800"/>
            </a:xfrm>
            <a:custGeom>
              <a:avLst/>
              <a:gdLst/>
              <a:ahLst/>
              <a:rect l="l" t="t" r="r" b="b"/>
              <a:pathLst>
                <a:path w="1244" h="1696">
                  <a:moveTo>
                    <a:pt x="0" y="457"/>
                  </a:moveTo>
                  <a:lnTo>
                    <a:pt x="884" y="0"/>
                  </a:lnTo>
                  <a:lnTo>
                    <a:pt x="1243" y="1430"/>
                  </a:lnTo>
                  <a:lnTo>
                    <a:pt x="427" y="1695"/>
                  </a:lnTo>
                  <a:lnTo>
                    <a:pt x="0" y="457"/>
                  </a:lnTo>
                </a:path>
              </a:pathLst>
            </a:custGeom>
            <a:gradFill rotWithShape="0">
              <a:gsLst>
                <a:gs pos="0">
                  <a:srgbClr val="4b1d04"/>
                </a:gs>
                <a:gs pos="100000">
                  <a:srgbClr val="ff650f"/>
                </a:gs>
              </a:gsLst>
              <a:lin ang="8100000"/>
            </a:gradFill>
            <a:ln cap="rnd" w="12600">
              <a:solidFill>
                <a:srgbClr val="6eebc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rot="20280000">
              <a:off x="7871400" y="456408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7" name=""/>
            <p:cNvSpPr/>
            <p:nvPr/>
          </p:nvSpPr>
          <p:spPr>
            <a:xfrm rot="20280000">
              <a:off x="7742880" y="4187520"/>
              <a:ext cx="50760" cy="5544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8" name=""/>
            <p:cNvSpPr/>
            <p:nvPr/>
          </p:nvSpPr>
          <p:spPr>
            <a:xfrm rot="20280000">
              <a:off x="7628400" y="3814920"/>
              <a:ext cx="50760" cy="55080"/>
            </a:xfrm>
            <a:prstGeom prst="ellipse">
              <a:avLst/>
            </a:prstGeom>
            <a:solidFill>
              <a:srgbClr val="868686"/>
            </a:solidFill>
            <a:ln w="1260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839" name=""/>
            <p:cNvSpPr/>
            <p:nvPr/>
          </p:nvSpPr>
          <p:spPr>
            <a:xfrm>
              <a:off x="7794360" y="3730680"/>
              <a:ext cx="399960" cy="363600"/>
            </a:xfrm>
            <a:custGeom>
              <a:avLst/>
              <a:gdLst/>
              <a:ahLst/>
              <a:rect l="l" t="t" r="r" b="b"/>
              <a:pathLst>
                <a:path w="505" h="479">
                  <a:moveTo>
                    <a:pt x="0" y="184"/>
                  </a:moveTo>
                  <a:lnTo>
                    <a:pt x="81" y="478"/>
                  </a:lnTo>
                  <a:lnTo>
                    <a:pt x="504" y="307"/>
                  </a:lnTo>
                  <a:lnTo>
                    <a:pt x="436" y="0"/>
                  </a:lnTo>
                  <a:lnTo>
                    <a:pt x="0" y="184"/>
                  </a:lnTo>
                </a:path>
              </a:pathLst>
            </a:custGeom>
            <a:gradFill rotWithShape="0">
              <a:gsLst>
                <a:gs pos="0">
                  <a:srgbClr val="56565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7855200" y="3763080"/>
              <a:ext cx="336240" cy="311760"/>
            </a:xfrm>
            <a:custGeom>
              <a:avLst/>
              <a:gdLst/>
              <a:ahLst/>
              <a:rect l="l" t="t" r="r" b="b"/>
              <a:pathLst>
                <a:path w="424" h="411">
                  <a:moveTo>
                    <a:pt x="64" y="410"/>
                  </a:moveTo>
                  <a:lnTo>
                    <a:pt x="0" y="158"/>
                  </a:lnTo>
                  <a:lnTo>
                    <a:pt x="367" y="0"/>
                  </a:lnTo>
                  <a:lnTo>
                    <a:pt x="423" y="261"/>
                  </a:lnTo>
                  <a:lnTo>
                    <a:pt x="64" y="410"/>
                  </a:lnTo>
                </a:path>
              </a:pathLst>
            </a:custGeom>
            <a:gradFill rotWithShape="0">
              <a:gsLst>
                <a:gs pos="0">
                  <a:srgbClr val="676767"/>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H="1">
              <a:off x="7905600" y="3837960"/>
              <a:ext cx="257400" cy="993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flipH="1">
              <a:off x="7918560" y="3896280"/>
              <a:ext cx="244440" cy="93960"/>
            </a:xfrm>
            <a:prstGeom prst="line">
              <a:avLst/>
            </a:prstGeom>
            <a:ln w="1260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rot="20068800">
              <a:off x="8045280" y="4125600"/>
              <a:ext cx="260280" cy="27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4" name=""/>
            <p:cNvGrpSpPr/>
            <p:nvPr/>
          </p:nvGrpSpPr>
          <p:grpSpPr>
            <a:xfrm>
              <a:off x="7970040" y="4133520"/>
              <a:ext cx="354960" cy="363240"/>
              <a:chOff x="7970040" y="4133520"/>
              <a:chExt cx="354960" cy="363240"/>
            </a:xfrm>
          </p:grpSpPr>
          <p:grpSp>
            <p:nvGrpSpPr>
              <p:cNvPr id="845" name=""/>
              <p:cNvGrpSpPr/>
              <p:nvPr/>
            </p:nvGrpSpPr>
            <p:grpSpPr>
              <a:xfrm>
                <a:off x="7970040" y="4133520"/>
                <a:ext cx="354960" cy="363240"/>
                <a:chOff x="7970040" y="4133520"/>
                <a:chExt cx="354960" cy="363240"/>
              </a:xfrm>
            </p:grpSpPr>
            <p:sp>
              <p:nvSpPr>
                <p:cNvPr id="846"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81"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882"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83"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884"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85"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86"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87"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888"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89"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91"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92"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3"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94"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95"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96"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897" name=""/>
              <p:cNvSpPr/>
              <p:nvPr/>
            </p:nvSpPr>
            <p:spPr>
              <a:xfrm rot="20068800">
                <a:off x="8040600" y="4240800"/>
                <a:ext cx="89280" cy="95400"/>
              </a:xfrm>
              <a:prstGeom prst="ellips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8" name=""/>
              <p:cNvSpPr/>
              <p:nvPr/>
            </p:nvSpPr>
            <p:spPr>
              <a:xfrm rot="20068800">
                <a:off x="8092440" y="422856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sp>
          <p:nvSpPr>
            <p:cNvPr id="899" name=""/>
            <p:cNvSpPr/>
            <p:nvPr/>
          </p:nvSpPr>
          <p:spPr>
            <a:xfrm rot="20068800">
              <a:off x="8045280" y="4125600"/>
              <a:ext cx="260280" cy="27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0" name=""/>
            <p:cNvGrpSpPr/>
            <p:nvPr/>
          </p:nvGrpSpPr>
          <p:grpSpPr>
            <a:xfrm>
              <a:off x="7970040" y="4133520"/>
              <a:ext cx="354960" cy="363240"/>
              <a:chOff x="7970040" y="4133520"/>
              <a:chExt cx="354960" cy="363240"/>
            </a:xfrm>
          </p:grpSpPr>
          <p:sp>
            <p:nvSpPr>
              <p:cNvPr id="901"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36"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37"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938"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39"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940"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41"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2"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43"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44"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45"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46"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47"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48"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9"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50"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51"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952" name=""/>
            <p:cNvSpPr/>
            <p:nvPr/>
          </p:nvSpPr>
          <p:spPr>
            <a:xfrm rot="20068800">
              <a:off x="8038800" y="4239360"/>
              <a:ext cx="89640" cy="9576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53" name=""/>
            <p:cNvSpPr/>
            <p:nvPr/>
          </p:nvSpPr>
          <p:spPr>
            <a:xfrm rot="20068800">
              <a:off x="8092080" y="422928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nvGrpSpPr>
            <p:cNvPr id="954" name=""/>
            <p:cNvGrpSpPr/>
            <p:nvPr/>
          </p:nvGrpSpPr>
          <p:grpSpPr>
            <a:xfrm>
              <a:off x="7970040" y="4133520"/>
              <a:ext cx="354960" cy="363240"/>
              <a:chOff x="7970040" y="4133520"/>
              <a:chExt cx="354960" cy="363240"/>
            </a:xfrm>
          </p:grpSpPr>
          <p:sp>
            <p:nvSpPr>
              <p:cNvPr id="955" name=""/>
              <p:cNvSpPr/>
              <p:nvPr/>
            </p:nvSpPr>
            <p:spPr>
              <a:xfrm rot="20068800">
                <a:off x="8017200" y="4175640"/>
                <a:ext cx="260280" cy="278640"/>
              </a:xfrm>
              <a:custGeom>
                <a:avLst/>
                <a:gdLst/>
                <a:ahLst/>
                <a:rect l="l" t="t" r="r" b="b"/>
                <a:pathLst>
                  <a:path w="850" h="849">
                    <a:moveTo>
                      <a:pt x="425" y="0"/>
                    </a:moveTo>
                    <a:lnTo>
                      <a:pt x="342" y="8"/>
                    </a:lnTo>
                    <a:lnTo>
                      <a:pt x="259" y="33"/>
                    </a:lnTo>
                    <a:lnTo>
                      <a:pt x="183" y="75"/>
                    </a:lnTo>
                    <a:lnTo>
                      <a:pt x="125" y="125"/>
                    </a:lnTo>
                    <a:lnTo>
                      <a:pt x="75" y="191"/>
                    </a:lnTo>
                    <a:lnTo>
                      <a:pt x="33" y="258"/>
                    </a:lnTo>
                    <a:lnTo>
                      <a:pt x="8" y="341"/>
                    </a:lnTo>
                    <a:lnTo>
                      <a:pt x="0" y="424"/>
                    </a:lnTo>
                    <a:lnTo>
                      <a:pt x="8" y="516"/>
                    </a:lnTo>
                    <a:lnTo>
                      <a:pt x="33" y="591"/>
                    </a:lnTo>
                    <a:lnTo>
                      <a:pt x="75" y="666"/>
                    </a:lnTo>
                    <a:lnTo>
                      <a:pt x="125" y="724"/>
                    </a:lnTo>
                    <a:lnTo>
                      <a:pt x="183" y="783"/>
                    </a:lnTo>
                    <a:lnTo>
                      <a:pt x="259" y="816"/>
                    </a:lnTo>
                    <a:lnTo>
                      <a:pt x="342" y="841"/>
                    </a:lnTo>
                    <a:lnTo>
                      <a:pt x="425" y="849"/>
                    </a:lnTo>
                    <a:lnTo>
                      <a:pt x="509" y="841"/>
                    </a:lnTo>
                    <a:lnTo>
                      <a:pt x="592" y="816"/>
                    </a:lnTo>
                    <a:lnTo>
                      <a:pt x="659" y="783"/>
                    </a:lnTo>
                    <a:lnTo>
                      <a:pt x="725" y="724"/>
                    </a:lnTo>
                    <a:lnTo>
                      <a:pt x="775" y="666"/>
                    </a:lnTo>
                    <a:lnTo>
                      <a:pt x="817" y="591"/>
                    </a:lnTo>
                    <a:lnTo>
                      <a:pt x="842" y="516"/>
                    </a:lnTo>
                    <a:lnTo>
                      <a:pt x="850" y="424"/>
                    </a:lnTo>
                    <a:lnTo>
                      <a:pt x="842" y="341"/>
                    </a:lnTo>
                    <a:lnTo>
                      <a:pt x="817" y="258"/>
                    </a:lnTo>
                    <a:lnTo>
                      <a:pt x="775" y="191"/>
                    </a:lnTo>
                    <a:lnTo>
                      <a:pt x="725" y="125"/>
                    </a:lnTo>
                    <a:lnTo>
                      <a:pt x="659" y="75"/>
                    </a:lnTo>
                    <a:lnTo>
                      <a:pt x="592" y="33"/>
                    </a:lnTo>
                    <a:lnTo>
                      <a:pt x="509" y="8"/>
                    </a:lnTo>
                    <a:lnTo>
                      <a:pt x="425" y="0"/>
                    </a:lnTo>
                    <a:close/>
                  </a:path>
                </a:pathLst>
              </a:custGeom>
              <a:solidFill>
                <a:srgbClr val="fafd0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rot="20068800">
                <a:off x="8022240" y="4180680"/>
                <a:ext cx="250200" cy="268200"/>
              </a:xfrm>
              <a:custGeom>
                <a:avLst/>
                <a:gdLst/>
                <a:ahLst/>
                <a:rect l="l" t="t" r="r" b="b"/>
                <a:pathLst>
                  <a:path w="817" h="817">
                    <a:moveTo>
                      <a:pt x="408" y="0"/>
                    </a:moveTo>
                    <a:lnTo>
                      <a:pt x="325" y="9"/>
                    </a:lnTo>
                    <a:lnTo>
                      <a:pt x="250" y="34"/>
                    </a:lnTo>
                    <a:lnTo>
                      <a:pt x="175" y="67"/>
                    </a:lnTo>
                    <a:lnTo>
                      <a:pt x="116" y="117"/>
                    </a:lnTo>
                    <a:lnTo>
                      <a:pt x="66" y="184"/>
                    </a:lnTo>
                    <a:lnTo>
                      <a:pt x="33" y="250"/>
                    </a:lnTo>
                    <a:lnTo>
                      <a:pt x="8" y="325"/>
                    </a:lnTo>
                    <a:lnTo>
                      <a:pt x="0" y="408"/>
                    </a:lnTo>
                    <a:lnTo>
                      <a:pt x="8" y="492"/>
                    </a:lnTo>
                    <a:lnTo>
                      <a:pt x="33" y="575"/>
                    </a:lnTo>
                    <a:lnTo>
                      <a:pt x="66" y="642"/>
                    </a:lnTo>
                    <a:lnTo>
                      <a:pt x="116" y="700"/>
                    </a:lnTo>
                    <a:lnTo>
                      <a:pt x="175" y="750"/>
                    </a:lnTo>
                    <a:lnTo>
                      <a:pt x="250" y="783"/>
                    </a:lnTo>
                    <a:lnTo>
                      <a:pt x="325" y="808"/>
                    </a:lnTo>
                    <a:lnTo>
                      <a:pt x="408" y="817"/>
                    </a:lnTo>
                    <a:lnTo>
                      <a:pt x="492" y="808"/>
                    </a:lnTo>
                    <a:lnTo>
                      <a:pt x="567" y="783"/>
                    </a:lnTo>
                    <a:lnTo>
                      <a:pt x="633" y="750"/>
                    </a:lnTo>
                    <a:lnTo>
                      <a:pt x="700" y="700"/>
                    </a:lnTo>
                    <a:lnTo>
                      <a:pt x="750" y="642"/>
                    </a:lnTo>
                    <a:lnTo>
                      <a:pt x="783" y="575"/>
                    </a:lnTo>
                    <a:lnTo>
                      <a:pt x="808" y="492"/>
                    </a:lnTo>
                    <a:lnTo>
                      <a:pt x="817" y="408"/>
                    </a:lnTo>
                    <a:lnTo>
                      <a:pt x="808" y="325"/>
                    </a:lnTo>
                    <a:lnTo>
                      <a:pt x="783" y="250"/>
                    </a:lnTo>
                    <a:lnTo>
                      <a:pt x="750" y="184"/>
                    </a:lnTo>
                    <a:lnTo>
                      <a:pt x="700" y="117"/>
                    </a:lnTo>
                    <a:lnTo>
                      <a:pt x="633" y="67"/>
                    </a:lnTo>
                    <a:lnTo>
                      <a:pt x="567" y="34"/>
                    </a:lnTo>
                    <a:lnTo>
                      <a:pt x="492" y="9"/>
                    </a:lnTo>
                    <a:lnTo>
                      <a:pt x="408" y="0"/>
                    </a:lnTo>
                    <a:close/>
                  </a:path>
                </a:pathLst>
              </a:custGeom>
              <a:solidFill>
                <a:srgbClr val="faf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rot="20068800">
                <a:off x="8024760" y="4183560"/>
                <a:ext cx="245160" cy="262440"/>
              </a:xfrm>
              <a:custGeom>
                <a:avLst/>
                <a:gdLst/>
                <a:ahLst/>
                <a:rect l="l" t="t" r="r" b="b"/>
                <a:pathLst>
                  <a:path w="800" h="799">
                    <a:moveTo>
                      <a:pt x="400" y="0"/>
                    </a:moveTo>
                    <a:lnTo>
                      <a:pt x="317" y="8"/>
                    </a:lnTo>
                    <a:lnTo>
                      <a:pt x="242" y="33"/>
                    </a:lnTo>
                    <a:lnTo>
                      <a:pt x="175" y="66"/>
                    </a:lnTo>
                    <a:lnTo>
                      <a:pt x="117" y="116"/>
                    </a:lnTo>
                    <a:lnTo>
                      <a:pt x="67" y="175"/>
                    </a:lnTo>
                    <a:lnTo>
                      <a:pt x="33" y="250"/>
                    </a:lnTo>
                    <a:lnTo>
                      <a:pt x="8" y="325"/>
                    </a:lnTo>
                    <a:lnTo>
                      <a:pt x="0" y="399"/>
                    </a:lnTo>
                    <a:lnTo>
                      <a:pt x="8" y="483"/>
                    </a:lnTo>
                    <a:lnTo>
                      <a:pt x="33" y="558"/>
                    </a:lnTo>
                    <a:lnTo>
                      <a:pt x="67" y="624"/>
                    </a:lnTo>
                    <a:lnTo>
                      <a:pt x="117" y="683"/>
                    </a:lnTo>
                    <a:lnTo>
                      <a:pt x="175" y="733"/>
                    </a:lnTo>
                    <a:lnTo>
                      <a:pt x="242" y="766"/>
                    </a:lnTo>
                    <a:lnTo>
                      <a:pt x="317" y="791"/>
                    </a:lnTo>
                    <a:lnTo>
                      <a:pt x="400" y="799"/>
                    </a:lnTo>
                    <a:lnTo>
                      <a:pt x="484" y="791"/>
                    </a:lnTo>
                    <a:lnTo>
                      <a:pt x="559" y="766"/>
                    </a:lnTo>
                    <a:lnTo>
                      <a:pt x="625" y="733"/>
                    </a:lnTo>
                    <a:lnTo>
                      <a:pt x="684" y="683"/>
                    </a:lnTo>
                    <a:lnTo>
                      <a:pt x="734" y="624"/>
                    </a:lnTo>
                    <a:lnTo>
                      <a:pt x="767" y="558"/>
                    </a:lnTo>
                    <a:lnTo>
                      <a:pt x="792" y="483"/>
                    </a:lnTo>
                    <a:lnTo>
                      <a:pt x="800" y="399"/>
                    </a:lnTo>
                    <a:lnTo>
                      <a:pt x="792" y="325"/>
                    </a:lnTo>
                    <a:lnTo>
                      <a:pt x="767" y="250"/>
                    </a:lnTo>
                    <a:lnTo>
                      <a:pt x="734" y="175"/>
                    </a:lnTo>
                    <a:lnTo>
                      <a:pt x="684" y="116"/>
                    </a:lnTo>
                    <a:lnTo>
                      <a:pt x="625" y="66"/>
                    </a:lnTo>
                    <a:lnTo>
                      <a:pt x="559" y="33"/>
                    </a:lnTo>
                    <a:lnTo>
                      <a:pt x="484" y="8"/>
                    </a:lnTo>
                    <a:lnTo>
                      <a:pt x="400" y="0"/>
                    </a:lnTo>
                    <a:close/>
                  </a:path>
                </a:pathLst>
              </a:custGeom>
              <a:solidFill>
                <a:srgbClr val="faf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rot="20068800">
                <a:off x="8027640" y="4186440"/>
                <a:ext cx="240120" cy="257040"/>
              </a:xfrm>
              <a:custGeom>
                <a:avLst/>
                <a:gdLst/>
                <a:ahLst/>
                <a:rect l="l" t="t" r="r" b="b"/>
                <a:pathLst>
                  <a:path w="784" h="783">
                    <a:moveTo>
                      <a:pt x="392" y="0"/>
                    </a:moveTo>
                    <a:lnTo>
                      <a:pt x="309" y="8"/>
                    </a:lnTo>
                    <a:lnTo>
                      <a:pt x="234" y="33"/>
                    </a:lnTo>
                    <a:lnTo>
                      <a:pt x="167" y="67"/>
                    </a:lnTo>
                    <a:lnTo>
                      <a:pt x="109" y="117"/>
                    </a:lnTo>
                    <a:lnTo>
                      <a:pt x="67" y="175"/>
                    </a:lnTo>
                    <a:lnTo>
                      <a:pt x="34" y="242"/>
                    </a:lnTo>
                    <a:lnTo>
                      <a:pt x="9" y="317"/>
                    </a:lnTo>
                    <a:lnTo>
                      <a:pt x="0" y="391"/>
                    </a:lnTo>
                    <a:lnTo>
                      <a:pt x="9" y="475"/>
                    </a:lnTo>
                    <a:lnTo>
                      <a:pt x="34" y="550"/>
                    </a:lnTo>
                    <a:lnTo>
                      <a:pt x="67" y="616"/>
                    </a:lnTo>
                    <a:lnTo>
                      <a:pt x="109" y="675"/>
                    </a:lnTo>
                    <a:lnTo>
                      <a:pt x="167" y="716"/>
                    </a:lnTo>
                    <a:lnTo>
                      <a:pt x="234" y="750"/>
                    </a:lnTo>
                    <a:lnTo>
                      <a:pt x="309" y="775"/>
                    </a:lnTo>
                    <a:lnTo>
                      <a:pt x="392" y="783"/>
                    </a:lnTo>
                    <a:lnTo>
                      <a:pt x="476" y="775"/>
                    </a:lnTo>
                    <a:lnTo>
                      <a:pt x="542" y="750"/>
                    </a:lnTo>
                    <a:lnTo>
                      <a:pt x="609" y="716"/>
                    </a:lnTo>
                    <a:lnTo>
                      <a:pt x="667" y="675"/>
                    </a:lnTo>
                    <a:lnTo>
                      <a:pt x="717" y="616"/>
                    </a:lnTo>
                    <a:lnTo>
                      <a:pt x="751" y="550"/>
                    </a:lnTo>
                    <a:lnTo>
                      <a:pt x="776" y="475"/>
                    </a:lnTo>
                    <a:lnTo>
                      <a:pt x="784" y="391"/>
                    </a:lnTo>
                    <a:lnTo>
                      <a:pt x="776" y="317"/>
                    </a:lnTo>
                    <a:lnTo>
                      <a:pt x="751" y="242"/>
                    </a:lnTo>
                    <a:lnTo>
                      <a:pt x="717" y="175"/>
                    </a:lnTo>
                    <a:lnTo>
                      <a:pt x="667" y="117"/>
                    </a:lnTo>
                    <a:lnTo>
                      <a:pt x="609" y="67"/>
                    </a:lnTo>
                    <a:lnTo>
                      <a:pt x="542" y="33"/>
                    </a:lnTo>
                    <a:lnTo>
                      <a:pt x="476" y="8"/>
                    </a:lnTo>
                    <a:lnTo>
                      <a:pt x="392" y="0"/>
                    </a:lnTo>
                    <a:close/>
                  </a:path>
                </a:pathLst>
              </a:custGeom>
              <a:solidFill>
                <a:srgbClr val="fafd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rot="20068800">
                <a:off x="8029800" y="4189320"/>
                <a:ext cx="235080" cy="251640"/>
              </a:xfrm>
              <a:custGeom>
                <a:avLst/>
                <a:gdLst/>
                <a:ahLst/>
                <a:rect l="l" t="t" r="r" b="b"/>
                <a:pathLst>
                  <a:path w="767" h="767">
                    <a:moveTo>
                      <a:pt x="383" y="0"/>
                    </a:moveTo>
                    <a:lnTo>
                      <a:pt x="308" y="9"/>
                    </a:lnTo>
                    <a:lnTo>
                      <a:pt x="233" y="34"/>
                    </a:lnTo>
                    <a:lnTo>
                      <a:pt x="167" y="67"/>
                    </a:lnTo>
                    <a:lnTo>
                      <a:pt x="108" y="117"/>
                    </a:lnTo>
                    <a:lnTo>
                      <a:pt x="66" y="167"/>
                    </a:lnTo>
                    <a:lnTo>
                      <a:pt x="33" y="234"/>
                    </a:lnTo>
                    <a:lnTo>
                      <a:pt x="8" y="309"/>
                    </a:lnTo>
                    <a:lnTo>
                      <a:pt x="0" y="383"/>
                    </a:lnTo>
                    <a:lnTo>
                      <a:pt x="8" y="458"/>
                    </a:lnTo>
                    <a:lnTo>
                      <a:pt x="33" y="533"/>
                    </a:lnTo>
                    <a:lnTo>
                      <a:pt x="66" y="600"/>
                    </a:lnTo>
                    <a:lnTo>
                      <a:pt x="108" y="658"/>
                    </a:lnTo>
                    <a:lnTo>
                      <a:pt x="167" y="700"/>
                    </a:lnTo>
                    <a:lnTo>
                      <a:pt x="233" y="742"/>
                    </a:lnTo>
                    <a:lnTo>
                      <a:pt x="308" y="758"/>
                    </a:lnTo>
                    <a:lnTo>
                      <a:pt x="383" y="767"/>
                    </a:lnTo>
                    <a:lnTo>
                      <a:pt x="458" y="758"/>
                    </a:lnTo>
                    <a:lnTo>
                      <a:pt x="533" y="742"/>
                    </a:lnTo>
                    <a:lnTo>
                      <a:pt x="600" y="700"/>
                    </a:lnTo>
                    <a:lnTo>
                      <a:pt x="650" y="658"/>
                    </a:lnTo>
                    <a:lnTo>
                      <a:pt x="700" y="600"/>
                    </a:lnTo>
                    <a:lnTo>
                      <a:pt x="733" y="533"/>
                    </a:lnTo>
                    <a:lnTo>
                      <a:pt x="758" y="458"/>
                    </a:lnTo>
                    <a:lnTo>
                      <a:pt x="767" y="383"/>
                    </a:lnTo>
                    <a:lnTo>
                      <a:pt x="758" y="309"/>
                    </a:lnTo>
                    <a:lnTo>
                      <a:pt x="733" y="234"/>
                    </a:lnTo>
                    <a:lnTo>
                      <a:pt x="700" y="167"/>
                    </a:lnTo>
                    <a:lnTo>
                      <a:pt x="650" y="117"/>
                    </a:lnTo>
                    <a:lnTo>
                      <a:pt x="600" y="67"/>
                    </a:lnTo>
                    <a:lnTo>
                      <a:pt x="533" y="34"/>
                    </a:lnTo>
                    <a:lnTo>
                      <a:pt x="458" y="9"/>
                    </a:lnTo>
                    <a:lnTo>
                      <a:pt x="383" y="0"/>
                    </a:lnTo>
                    <a:close/>
                  </a:path>
                </a:pathLst>
              </a:custGeom>
              <a:solidFill>
                <a:srgbClr val="fafd2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20068800">
                <a:off x="8032680" y="4192200"/>
                <a:ext cx="229680" cy="245880"/>
              </a:xfrm>
              <a:custGeom>
                <a:avLst/>
                <a:gdLst/>
                <a:ahLst/>
                <a:rect l="l" t="t" r="r" b="b"/>
                <a:pathLst>
                  <a:path w="750" h="749">
                    <a:moveTo>
                      <a:pt x="375" y="0"/>
                    </a:moveTo>
                    <a:lnTo>
                      <a:pt x="300" y="8"/>
                    </a:lnTo>
                    <a:lnTo>
                      <a:pt x="225" y="33"/>
                    </a:lnTo>
                    <a:lnTo>
                      <a:pt x="159" y="66"/>
                    </a:lnTo>
                    <a:lnTo>
                      <a:pt x="108" y="108"/>
                    </a:lnTo>
                    <a:lnTo>
                      <a:pt x="58" y="166"/>
                    </a:lnTo>
                    <a:lnTo>
                      <a:pt x="25" y="225"/>
                    </a:lnTo>
                    <a:lnTo>
                      <a:pt x="8" y="300"/>
                    </a:lnTo>
                    <a:lnTo>
                      <a:pt x="0" y="374"/>
                    </a:lnTo>
                    <a:lnTo>
                      <a:pt x="8" y="449"/>
                    </a:lnTo>
                    <a:lnTo>
                      <a:pt x="25" y="524"/>
                    </a:lnTo>
                    <a:lnTo>
                      <a:pt x="58" y="591"/>
                    </a:lnTo>
                    <a:lnTo>
                      <a:pt x="108" y="641"/>
                    </a:lnTo>
                    <a:lnTo>
                      <a:pt x="159" y="691"/>
                    </a:lnTo>
                    <a:lnTo>
                      <a:pt x="225" y="724"/>
                    </a:lnTo>
                    <a:lnTo>
                      <a:pt x="300" y="741"/>
                    </a:lnTo>
                    <a:lnTo>
                      <a:pt x="375" y="749"/>
                    </a:lnTo>
                    <a:lnTo>
                      <a:pt x="450" y="741"/>
                    </a:lnTo>
                    <a:lnTo>
                      <a:pt x="525" y="724"/>
                    </a:lnTo>
                    <a:lnTo>
                      <a:pt x="584" y="691"/>
                    </a:lnTo>
                    <a:lnTo>
                      <a:pt x="642" y="641"/>
                    </a:lnTo>
                    <a:lnTo>
                      <a:pt x="684" y="591"/>
                    </a:lnTo>
                    <a:lnTo>
                      <a:pt x="725" y="524"/>
                    </a:lnTo>
                    <a:lnTo>
                      <a:pt x="742" y="449"/>
                    </a:lnTo>
                    <a:lnTo>
                      <a:pt x="750" y="374"/>
                    </a:lnTo>
                    <a:lnTo>
                      <a:pt x="742" y="300"/>
                    </a:lnTo>
                    <a:lnTo>
                      <a:pt x="725" y="225"/>
                    </a:lnTo>
                    <a:lnTo>
                      <a:pt x="684" y="166"/>
                    </a:lnTo>
                    <a:lnTo>
                      <a:pt x="642" y="108"/>
                    </a:lnTo>
                    <a:lnTo>
                      <a:pt x="584" y="66"/>
                    </a:lnTo>
                    <a:lnTo>
                      <a:pt x="525" y="33"/>
                    </a:lnTo>
                    <a:lnTo>
                      <a:pt x="450" y="8"/>
                    </a:lnTo>
                    <a:lnTo>
                      <a:pt x="375" y="0"/>
                    </a:lnTo>
                    <a:close/>
                  </a:path>
                </a:pathLst>
              </a:custGeom>
              <a:solidFill>
                <a:srgbClr val="fafd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20068800">
                <a:off x="8034840" y="4194360"/>
                <a:ext cx="224640" cy="240480"/>
              </a:xfrm>
              <a:custGeom>
                <a:avLst/>
                <a:gdLst/>
                <a:ahLst/>
                <a:rect l="l" t="t" r="r" b="b"/>
                <a:pathLst>
                  <a:path w="734" h="733">
                    <a:moveTo>
                      <a:pt x="367" y="0"/>
                    </a:moveTo>
                    <a:lnTo>
                      <a:pt x="292" y="8"/>
                    </a:lnTo>
                    <a:lnTo>
                      <a:pt x="226" y="33"/>
                    </a:lnTo>
                    <a:lnTo>
                      <a:pt x="159" y="67"/>
                    </a:lnTo>
                    <a:lnTo>
                      <a:pt x="109" y="108"/>
                    </a:lnTo>
                    <a:lnTo>
                      <a:pt x="59" y="167"/>
                    </a:lnTo>
                    <a:lnTo>
                      <a:pt x="25" y="225"/>
                    </a:lnTo>
                    <a:lnTo>
                      <a:pt x="9" y="292"/>
                    </a:lnTo>
                    <a:lnTo>
                      <a:pt x="0" y="366"/>
                    </a:lnTo>
                    <a:lnTo>
                      <a:pt x="9" y="441"/>
                    </a:lnTo>
                    <a:lnTo>
                      <a:pt x="25" y="508"/>
                    </a:lnTo>
                    <a:lnTo>
                      <a:pt x="59" y="575"/>
                    </a:lnTo>
                    <a:lnTo>
                      <a:pt x="109" y="625"/>
                    </a:lnTo>
                    <a:lnTo>
                      <a:pt x="159" y="675"/>
                    </a:lnTo>
                    <a:lnTo>
                      <a:pt x="226" y="708"/>
                    </a:lnTo>
                    <a:lnTo>
                      <a:pt x="292" y="725"/>
                    </a:lnTo>
                    <a:lnTo>
                      <a:pt x="367" y="733"/>
                    </a:lnTo>
                    <a:lnTo>
                      <a:pt x="442" y="725"/>
                    </a:lnTo>
                    <a:lnTo>
                      <a:pt x="509" y="708"/>
                    </a:lnTo>
                    <a:lnTo>
                      <a:pt x="576" y="675"/>
                    </a:lnTo>
                    <a:lnTo>
                      <a:pt x="626" y="625"/>
                    </a:lnTo>
                    <a:lnTo>
                      <a:pt x="667" y="575"/>
                    </a:lnTo>
                    <a:lnTo>
                      <a:pt x="709" y="508"/>
                    </a:lnTo>
                    <a:lnTo>
                      <a:pt x="726" y="441"/>
                    </a:lnTo>
                    <a:lnTo>
                      <a:pt x="734" y="366"/>
                    </a:lnTo>
                    <a:lnTo>
                      <a:pt x="726" y="292"/>
                    </a:lnTo>
                    <a:lnTo>
                      <a:pt x="709" y="225"/>
                    </a:lnTo>
                    <a:lnTo>
                      <a:pt x="667" y="167"/>
                    </a:lnTo>
                    <a:lnTo>
                      <a:pt x="626" y="108"/>
                    </a:lnTo>
                    <a:lnTo>
                      <a:pt x="576" y="67"/>
                    </a:lnTo>
                    <a:lnTo>
                      <a:pt x="509" y="33"/>
                    </a:lnTo>
                    <a:lnTo>
                      <a:pt x="442" y="8"/>
                    </a:lnTo>
                    <a:lnTo>
                      <a:pt x="367" y="0"/>
                    </a:lnTo>
                    <a:close/>
                  </a:path>
                </a:pathLst>
              </a:custGeom>
              <a:solidFill>
                <a:srgbClr val="fafd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20068800">
                <a:off x="8037720" y="4197240"/>
                <a:ext cx="219600" cy="235440"/>
              </a:xfrm>
              <a:custGeom>
                <a:avLst/>
                <a:gdLst/>
                <a:ahLst/>
                <a:rect l="l" t="t" r="r" b="b"/>
                <a:pathLst>
                  <a:path w="717" h="717">
                    <a:moveTo>
                      <a:pt x="358" y="0"/>
                    </a:moveTo>
                    <a:lnTo>
                      <a:pt x="283" y="9"/>
                    </a:lnTo>
                    <a:lnTo>
                      <a:pt x="217" y="25"/>
                    </a:lnTo>
                    <a:lnTo>
                      <a:pt x="158" y="59"/>
                    </a:lnTo>
                    <a:lnTo>
                      <a:pt x="108" y="109"/>
                    </a:lnTo>
                    <a:lnTo>
                      <a:pt x="58" y="159"/>
                    </a:lnTo>
                    <a:lnTo>
                      <a:pt x="25" y="217"/>
                    </a:lnTo>
                    <a:lnTo>
                      <a:pt x="8" y="284"/>
                    </a:lnTo>
                    <a:lnTo>
                      <a:pt x="0" y="358"/>
                    </a:lnTo>
                    <a:lnTo>
                      <a:pt x="8" y="433"/>
                    </a:lnTo>
                    <a:lnTo>
                      <a:pt x="25" y="500"/>
                    </a:lnTo>
                    <a:lnTo>
                      <a:pt x="58" y="567"/>
                    </a:lnTo>
                    <a:lnTo>
                      <a:pt x="108" y="617"/>
                    </a:lnTo>
                    <a:lnTo>
                      <a:pt x="158" y="658"/>
                    </a:lnTo>
                    <a:lnTo>
                      <a:pt x="217" y="692"/>
                    </a:lnTo>
                    <a:lnTo>
                      <a:pt x="283" y="708"/>
                    </a:lnTo>
                    <a:lnTo>
                      <a:pt x="358" y="717"/>
                    </a:lnTo>
                    <a:lnTo>
                      <a:pt x="433" y="708"/>
                    </a:lnTo>
                    <a:lnTo>
                      <a:pt x="500" y="692"/>
                    </a:lnTo>
                    <a:lnTo>
                      <a:pt x="558" y="658"/>
                    </a:lnTo>
                    <a:lnTo>
                      <a:pt x="617" y="617"/>
                    </a:lnTo>
                    <a:lnTo>
                      <a:pt x="658" y="567"/>
                    </a:lnTo>
                    <a:lnTo>
                      <a:pt x="692" y="500"/>
                    </a:lnTo>
                    <a:lnTo>
                      <a:pt x="708" y="433"/>
                    </a:lnTo>
                    <a:lnTo>
                      <a:pt x="717" y="358"/>
                    </a:lnTo>
                    <a:lnTo>
                      <a:pt x="708" y="284"/>
                    </a:lnTo>
                    <a:lnTo>
                      <a:pt x="692" y="217"/>
                    </a:lnTo>
                    <a:lnTo>
                      <a:pt x="658" y="159"/>
                    </a:lnTo>
                    <a:lnTo>
                      <a:pt x="617" y="109"/>
                    </a:lnTo>
                    <a:lnTo>
                      <a:pt x="558" y="59"/>
                    </a:lnTo>
                    <a:lnTo>
                      <a:pt x="500" y="25"/>
                    </a:lnTo>
                    <a:lnTo>
                      <a:pt x="433" y="9"/>
                    </a:lnTo>
                    <a:lnTo>
                      <a:pt x="358" y="0"/>
                    </a:lnTo>
                    <a:close/>
                  </a:path>
                </a:pathLst>
              </a:custGeom>
              <a:solidFill>
                <a:srgbClr val="fafd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20068800">
                <a:off x="8040240" y="4200480"/>
                <a:ext cx="214200" cy="229320"/>
              </a:xfrm>
              <a:custGeom>
                <a:avLst/>
                <a:gdLst/>
                <a:ahLst/>
                <a:rect l="l" t="t" r="r" b="b"/>
                <a:pathLst>
                  <a:path w="700" h="699">
                    <a:moveTo>
                      <a:pt x="350" y="0"/>
                    </a:moveTo>
                    <a:lnTo>
                      <a:pt x="275" y="8"/>
                    </a:lnTo>
                    <a:lnTo>
                      <a:pt x="209" y="25"/>
                    </a:lnTo>
                    <a:lnTo>
                      <a:pt x="150" y="58"/>
                    </a:lnTo>
                    <a:lnTo>
                      <a:pt x="100" y="100"/>
                    </a:lnTo>
                    <a:lnTo>
                      <a:pt x="58" y="158"/>
                    </a:lnTo>
                    <a:lnTo>
                      <a:pt x="25" y="216"/>
                    </a:lnTo>
                    <a:lnTo>
                      <a:pt x="8" y="283"/>
                    </a:lnTo>
                    <a:lnTo>
                      <a:pt x="0" y="349"/>
                    </a:lnTo>
                    <a:lnTo>
                      <a:pt x="8" y="424"/>
                    </a:lnTo>
                    <a:lnTo>
                      <a:pt x="25" y="491"/>
                    </a:lnTo>
                    <a:lnTo>
                      <a:pt x="58" y="549"/>
                    </a:lnTo>
                    <a:lnTo>
                      <a:pt x="100" y="599"/>
                    </a:lnTo>
                    <a:lnTo>
                      <a:pt x="150" y="641"/>
                    </a:lnTo>
                    <a:lnTo>
                      <a:pt x="209" y="674"/>
                    </a:lnTo>
                    <a:lnTo>
                      <a:pt x="275" y="691"/>
                    </a:lnTo>
                    <a:lnTo>
                      <a:pt x="350" y="699"/>
                    </a:lnTo>
                    <a:lnTo>
                      <a:pt x="417" y="691"/>
                    </a:lnTo>
                    <a:lnTo>
                      <a:pt x="484" y="674"/>
                    </a:lnTo>
                    <a:lnTo>
                      <a:pt x="542" y="641"/>
                    </a:lnTo>
                    <a:lnTo>
                      <a:pt x="600" y="599"/>
                    </a:lnTo>
                    <a:lnTo>
                      <a:pt x="642" y="549"/>
                    </a:lnTo>
                    <a:lnTo>
                      <a:pt x="675" y="491"/>
                    </a:lnTo>
                    <a:lnTo>
                      <a:pt x="692" y="424"/>
                    </a:lnTo>
                    <a:lnTo>
                      <a:pt x="700" y="349"/>
                    </a:lnTo>
                    <a:lnTo>
                      <a:pt x="692" y="283"/>
                    </a:lnTo>
                    <a:lnTo>
                      <a:pt x="675" y="216"/>
                    </a:lnTo>
                    <a:lnTo>
                      <a:pt x="642" y="158"/>
                    </a:lnTo>
                    <a:lnTo>
                      <a:pt x="600" y="100"/>
                    </a:lnTo>
                    <a:lnTo>
                      <a:pt x="542" y="58"/>
                    </a:lnTo>
                    <a:lnTo>
                      <a:pt x="484" y="25"/>
                    </a:lnTo>
                    <a:lnTo>
                      <a:pt x="417" y="8"/>
                    </a:lnTo>
                    <a:lnTo>
                      <a:pt x="350" y="0"/>
                    </a:lnTo>
                    <a:close/>
                  </a:path>
                </a:pathLst>
              </a:custGeom>
              <a:solidFill>
                <a:srgbClr val="fafd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20068800">
                <a:off x="8042400" y="4203000"/>
                <a:ext cx="209520" cy="224280"/>
              </a:xfrm>
              <a:custGeom>
                <a:avLst/>
                <a:gdLst/>
                <a:ahLst/>
                <a:rect l="l" t="t" r="r" b="b"/>
                <a:pathLst>
                  <a:path w="684" h="683">
                    <a:moveTo>
                      <a:pt x="342" y="0"/>
                    </a:moveTo>
                    <a:lnTo>
                      <a:pt x="276" y="8"/>
                    </a:lnTo>
                    <a:lnTo>
                      <a:pt x="209" y="25"/>
                    </a:lnTo>
                    <a:lnTo>
                      <a:pt x="151" y="58"/>
                    </a:lnTo>
                    <a:lnTo>
                      <a:pt x="100" y="100"/>
                    </a:lnTo>
                    <a:lnTo>
                      <a:pt x="59" y="150"/>
                    </a:lnTo>
                    <a:lnTo>
                      <a:pt x="25" y="208"/>
                    </a:lnTo>
                    <a:lnTo>
                      <a:pt x="9" y="275"/>
                    </a:lnTo>
                    <a:lnTo>
                      <a:pt x="0" y="341"/>
                    </a:lnTo>
                    <a:lnTo>
                      <a:pt x="9" y="416"/>
                    </a:lnTo>
                    <a:lnTo>
                      <a:pt x="25" y="483"/>
                    </a:lnTo>
                    <a:lnTo>
                      <a:pt x="59" y="541"/>
                    </a:lnTo>
                    <a:lnTo>
                      <a:pt x="100" y="591"/>
                    </a:lnTo>
                    <a:lnTo>
                      <a:pt x="151" y="625"/>
                    </a:lnTo>
                    <a:lnTo>
                      <a:pt x="209" y="658"/>
                    </a:lnTo>
                    <a:lnTo>
                      <a:pt x="276" y="675"/>
                    </a:lnTo>
                    <a:lnTo>
                      <a:pt x="342" y="683"/>
                    </a:lnTo>
                    <a:lnTo>
                      <a:pt x="409" y="675"/>
                    </a:lnTo>
                    <a:lnTo>
                      <a:pt x="476" y="658"/>
                    </a:lnTo>
                    <a:lnTo>
                      <a:pt x="534" y="625"/>
                    </a:lnTo>
                    <a:lnTo>
                      <a:pt x="584" y="591"/>
                    </a:lnTo>
                    <a:lnTo>
                      <a:pt x="626" y="541"/>
                    </a:lnTo>
                    <a:lnTo>
                      <a:pt x="659" y="483"/>
                    </a:lnTo>
                    <a:lnTo>
                      <a:pt x="676" y="416"/>
                    </a:lnTo>
                    <a:lnTo>
                      <a:pt x="684" y="341"/>
                    </a:lnTo>
                    <a:lnTo>
                      <a:pt x="676" y="275"/>
                    </a:lnTo>
                    <a:lnTo>
                      <a:pt x="659" y="208"/>
                    </a:lnTo>
                    <a:lnTo>
                      <a:pt x="626" y="150"/>
                    </a:lnTo>
                    <a:lnTo>
                      <a:pt x="584" y="100"/>
                    </a:lnTo>
                    <a:lnTo>
                      <a:pt x="534" y="58"/>
                    </a:lnTo>
                    <a:lnTo>
                      <a:pt x="476" y="25"/>
                    </a:lnTo>
                    <a:lnTo>
                      <a:pt x="409" y="8"/>
                    </a:lnTo>
                    <a:lnTo>
                      <a:pt x="342" y="0"/>
                    </a:lnTo>
                    <a:close/>
                  </a:path>
                </a:pathLst>
              </a:custGeom>
              <a:solidFill>
                <a:srgbClr val="faf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rot="20068800">
                <a:off x="8045280" y="4205520"/>
                <a:ext cx="204120" cy="218880"/>
              </a:xfrm>
              <a:custGeom>
                <a:avLst/>
                <a:gdLst/>
                <a:ahLst/>
                <a:rect l="l" t="t" r="r" b="b"/>
                <a:pathLst>
                  <a:path w="667" h="667">
                    <a:moveTo>
                      <a:pt x="333" y="0"/>
                    </a:moveTo>
                    <a:lnTo>
                      <a:pt x="267" y="9"/>
                    </a:lnTo>
                    <a:lnTo>
                      <a:pt x="200" y="25"/>
                    </a:lnTo>
                    <a:lnTo>
                      <a:pt x="142" y="59"/>
                    </a:lnTo>
                    <a:lnTo>
                      <a:pt x="91" y="100"/>
                    </a:lnTo>
                    <a:lnTo>
                      <a:pt x="58" y="150"/>
                    </a:lnTo>
                    <a:lnTo>
                      <a:pt x="25" y="209"/>
                    </a:lnTo>
                    <a:lnTo>
                      <a:pt x="8" y="267"/>
                    </a:lnTo>
                    <a:lnTo>
                      <a:pt x="0" y="333"/>
                    </a:lnTo>
                    <a:lnTo>
                      <a:pt x="8" y="400"/>
                    </a:lnTo>
                    <a:lnTo>
                      <a:pt x="25" y="467"/>
                    </a:lnTo>
                    <a:lnTo>
                      <a:pt x="58" y="525"/>
                    </a:lnTo>
                    <a:lnTo>
                      <a:pt x="91" y="575"/>
                    </a:lnTo>
                    <a:lnTo>
                      <a:pt x="142" y="608"/>
                    </a:lnTo>
                    <a:lnTo>
                      <a:pt x="200" y="642"/>
                    </a:lnTo>
                    <a:lnTo>
                      <a:pt x="267" y="658"/>
                    </a:lnTo>
                    <a:lnTo>
                      <a:pt x="333" y="667"/>
                    </a:lnTo>
                    <a:lnTo>
                      <a:pt x="400" y="658"/>
                    </a:lnTo>
                    <a:lnTo>
                      <a:pt x="467" y="642"/>
                    </a:lnTo>
                    <a:lnTo>
                      <a:pt x="517" y="608"/>
                    </a:lnTo>
                    <a:lnTo>
                      <a:pt x="567" y="575"/>
                    </a:lnTo>
                    <a:lnTo>
                      <a:pt x="608" y="525"/>
                    </a:lnTo>
                    <a:lnTo>
                      <a:pt x="642" y="467"/>
                    </a:lnTo>
                    <a:lnTo>
                      <a:pt x="658" y="400"/>
                    </a:lnTo>
                    <a:lnTo>
                      <a:pt x="667" y="333"/>
                    </a:lnTo>
                    <a:lnTo>
                      <a:pt x="658" y="267"/>
                    </a:lnTo>
                    <a:lnTo>
                      <a:pt x="642" y="209"/>
                    </a:lnTo>
                    <a:lnTo>
                      <a:pt x="608" y="150"/>
                    </a:lnTo>
                    <a:lnTo>
                      <a:pt x="567" y="100"/>
                    </a:lnTo>
                    <a:lnTo>
                      <a:pt x="517" y="59"/>
                    </a:lnTo>
                    <a:lnTo>
                      <a:pt x="467" y="25"/>
                    </a:lnTo>
                    <a:lnTo>
                      <a:pt x="400" y="9"/>
                    </a:lnTo>
                    <a:lnTo>
                      <a:pt x="333" y="0"/>
                    </a:lnTo>
                    <a:close/>
                  </a:path>
                </a:pathLst>
              </a:custGeom>
              <a:solidFill>
                <a:srgbClr val="fafd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rot="20068800">
                <a:off x="8047800" y="4208400"/>
                <a:ext cx="199080" cy="213120"/>
              </a:xfrm>
              <a:custGeom>
                <a:avLst/>
                <a:gdLst/>
                <a:ahLst/>
                <a:rect l="l" t="t" r="r" b="b"/>
                <a:pathLst>
                  <a:path w="650" h="649">
                    <a:moveTo>
                      <a:pt x="325" y="0"/>
                    </a:moveTo>
                    <a:lnTo>
                      <a:pt x="259" y="8"/>
                    </a:lnTo>
                    <a:lnTo>
                      <a:pt x="200" y="25"/>
                    </a:lnTo>
                    <a:lnTo>
                      <a:pt x="142" y="58"/>
                    </a:lnTo>
                    <a:lnTo>
                      <a:pt x="92" y="100"/>
                    </a:lnTo>
                    <a:lnTo>
                      <a:pt x="58" y="141"/>
                    </a:lnTo>
                    <a:lnTo>
                      <a:pt x="25" y="200"/>
                    </a:lnTo>
                    <a:lnTo>
                      <a:pt x="8" y="258"/>
                    </a:lnTo>
                    <a:lnTo>
                      <a:pt x="0" y="324"/>
                    </a:lnTo>
                    <a:lnTo>
                      <a:pt x="8" y="391"/>
                    </a:lnTo>
                    <a:lnTo>
                      <a:pt x="25" y="458"/>
                    </a:lnTo>
                    <a:lnTo>
                      <a:pt x="58" y="508"/>
                    </a:lnTo>
                    <a:lnTo>
                      <a:pt x="92" y="558"/>
                    </a:lnTo>
                    <a:lnTo>
                      <a:pt x="142" y="599"/>
                    </a:lnTo>
                    <a:lnTo>
                      <a:pt x="200" y="624"/>
                    </a:lnTo>
                    <a:lnTo>
                      <a:pt x="259" y="641"/>
                    </a:lnTo>
                    <a:lnTo>
                      <a:pt x="325" y="649"/>
                    </a:lnTo>
                    <a:lnTo>
                      <a:pt x="392" y="641"/>
                    </a:lnTo>
                    <a:lnTo>
                      <a:pt x="450" y="624"/>
                    </a:lnTo>
                    <a:lnTo>
                      <a:pt x="509" y="599"/>
                    </a:lnTo>
                    <a:lnTo>
                      <a:pt x="559" y="558"/>
                    </a:lnTo>
                    <a:lnTo>
                      <a:pt x="592" y="508"/>
                    </a:lnTo>
                    <a:lnTo>
                      <a:pt x="625" y="458"/>
                    </a:lnTo>
                    <a:lnTo>
                      <a:pt x="642" y="391"/>
                    </a:lnTo>
                    <a:lnTo>
                      <a:pt x="650" y="324"/>
                    </a:lnTo>
                    <a:lnTo>
                      <a:pt x="642" y="258"/>
                    </a:lnTo>
                    <a:lnTo>
                      <a:pt x="625" y="200"/>
                    </a:lnTo>
                    <a:lnTo>
                      <a:pt x="592" y="141"/>
                    </a:lnTo>
                    <a:lnTo>
                      <a:pt x="559" y="100"/>
                    </a:lnTo>
                    <a:lnTo>
                      <a:pt x="509" y="58"/>
                    </a:lnTo>
                    <a:lnTo>
                      <a:pt x="450" y="25"/>
                    </a:lnTo>
                    <a:lnTo>
                      <a:pt x="392" y="8"/>
                    </a:lnTo>
                    <a:lnTo>
                      <a:pt x="325" y="0"/>
                    </a:lnTo>
                    <a:close/>
                  </a:path>
                </a:pathLst>
              </a:custGeom>
              <a:solidFill>
                <a:srgbClr val="faf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rot="20068800">
                <a:off x="8050680" y="4210560"/>
                <a:ext cx="196560" cy="210600"/>
              </a:xfrm>
              <a:custGeom>
                <a:avLst/>
                <a:gdLst/>
                <a:ahLst/>
                <a:rect l="l" t="t" r="r" b="b"/>
                <a:pathLst>
                  <a:path w="642" h="641">
                    <a:moveTo>
                      <a:pt x="317" y="0"/>
                    </a:moveTo>
                    <a:lnTo>
                      <a:pt x="251" y="8"/>
                    </a:lnTo>
                    <a:lnTo>
                      <a:pt x="192" y="25"/>
                    </a:lnTo>
                    <a:lnTo>
                      <a:pt x="142" y="58"/>
                    </a:lnTo>
                    <a:lnTo>
                      <a:pt x="92" y="92"/>
                    </a:lnTo>
                    <a:lnTo>
                      <a:pt x="59" y="142"/>
                    </a:lnTo>
                    <a:lnTo>
                      <a:pt x="25" y="192"/>
                    </a:lnTo>
                    <a:lnTo>
                      <a:pt x="9" y="250"/>
                    </a:lnTo>
                    <a:lnTo>
                      <a:pt x="0" y="316"/>
                    </a:lnTo>
                    <a:lnTo>
                      <a:pt x="9" y="383"/>
                    </a:lnTo>
                    <a:lnTo>
                      <a:pt x="25" y="441"/>
                    </a:lnTo>
                    <a:lnTo>
                      <a:pt x="59" y="500"/>
                    </a:lnTo>
                    <a:lnTo>
                      <a:pt x="92" y="550"/>
                    </a:lnTo>
                    <a:lnTo>
                      <a:pt x="142" y="583"/>
                    </a:lnTo>
                    <a:lnTo>
                      <a:pt x="192" y="616"/>
                    </a:lnTo>
                    <a:lnTo>
                      <a:pt x="251" y="633"/>
                    </a:lnTo>
                    <a:lnTo>
                      <a:pt x="317" y="641"/>
                    </a:lnTo>
                    <a:lnTo>
                      <a:pt x="384" y="633"/>
                    </a:lnTo>
                    <a:lnTo>
                      <a:pt x="442" y="616"/>
                    </a:lnTo>
                    <a:lnTo>
                      <a:pt x="501" y="583"/>
                    </a:lnTo>
                    <a:lnTo>
                      <a:pt x="542" y="550"/>
                    </a:lnTo>
                    <a:lnTo>
                      <a:pt x="584" y="500"/>
                    </a:lnTo>
                    <a:lnTo>
                      <a:pt x="617" y="441"/>
                    </a:lnTo>
                    <a:lnTo>
                      <a:pt x="634" y="383"/>
                    </a:lnTo>
                    <a:lnTo>
                      <a:pt x="642" y="316"/>
                    </a:lnTo>
                    <a:lnTo>
                      <a:pt x="634" y="250"/>
                    </a:lnTo>
                    <a:lnTo>
                      <a:pt x="617" y="192"/>
                    </a:lnTo>
                    <a:lnTo>
                      <a:pt x="584" y="142"/>
                    </a:lnTo>
                    <a:lnTo>
                      <a:pt x="542" y="92"/>
                    </a:lnTo>
                    <a:lnTo>
                      <a:pt x="501" y="58"/>
                    </a:lnTo>
                    <a:lnTo>
                      <a:pt x="442" y="25"/>
                    </a:lnTo>
                    <a:lnTo>
                      <a:pt x="384" y="8"/>
                    </a:lnTo>
                    <a:lnTo>
                      <a:pt x="317" y="0"/>
                    </a:lnTo>
                    <a:close/>
                  </a:path>
                </a:pathLst>
              </a:custGeom>
              <a:solidFill>
                <a:srgbClr val="fafd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rot="20068800">
                <a:off x="8053200" y="4212720"/>
                <a:ext cx="191520" cy="205200"/>
              </a:xfrm>
              <a:custGeom>
                <a:avLst/>
                <a:gdLst/>
                <a:ahLst/>
                <a:rect l="l" t="t" r="r" b="b"/>
                <a:pathLst>
                  <a:path w="625" h="625">
                    <a:moveTo>
                      <a:pt x="308" y="0"/>
                    </a:moveTo>
                    <a:lnTo>
                      <a:pt x="242" y="9"/>
                    </a:lnTo>
                    <a:lnTo>
                      <a:pt x="183" y="25"/>
                    </a:lnTo>
                    <a:lnTo>
                      <a:pt x="133" y="50"/>
                    </a:lnTo>
                    <a:lnTo>
                      <a:pt x="92" y="92"/>
                    </a:lnTo>
                    <a:lnTo>
                      <a:pt x="50" y="142"/>
                    </a:lnTo>
                    <a:lnTo>
                      <a:pt x="25" y="192"/>
                    </a:lnTo>
                    <a:lnTo>
                      <a:pt x="8" y="250"/>
                    </a:lnTo>
                    <a:lnTo>
                      <a:pt x="0" y="308"/>
                    </a:lnTo>
                    <a:lnTo>
                      <a:pt x="8" y="375"/>
                    </a:lnTo>
                    <a:lnTo>
                      <a:pt x="25" y="433"/>
                    </a:lnTo>
                    <a:lnTo>
                      <a:pt x="50" y="483"/>
                    </a:lnTo>
                    <a:lnTo>
                      <a:pt x="92" y="533"/>
                    </a:lnTo>
                    <a:lnTo>
                      <a:pt x="133" y="575"/>
                    </a:lnTo>
                    <a:lnTo>
                      <a:pt x="183" y="600"/>
                    </a:lnTo>
                    <a:lnTo>
                      <a:pt x="242" y="617"/>
                    </a:lnTo>
                    <a:lnTo>
                      <a:pt x="308" y="625"/>
                    </a:lnTo>
                    <a:lnTo>
                      <a:pt x="375" y="617"/>
                    </a:lnTo>
                    <a:lnTo>
                      <a:pt x="433" y="600"/>
                    </a:lnTo>
                    <a:lnTo>
                      <a:pt x="483" y="575"/>
                    </a:lnTo>
                    <a:lnTo>
                      <a:pt x="533" y="533"/>
                    </a:lnTo>
                    <a:lnTo>
                      <a:pt x="575" y="483"/>
                    </a:lnTo>
                    <a:lnTo>
                      <a:pt x="600" y="433"/>
                    </a:lnTo>
                    <a:lnTo>
                      <a:pt x="617" y="375"/>
                    </a:lnTo>
                    <a:lnTo>
                      <a:pt x="625" y="308"/>
                    </a:lnTo>
                    <a:lnTo>
                      <a:pt x="617" y="250"/>
                    </a:lnTo>
                    <a:lnTo>
                      <a:pt x="600" y="192"/>
                    </a:lnTo>
                    <a:lnTo>
                      <a:pt x="575" y="142"/>
                    </a:lnTo>
                    <a:lnTo>
                      <a:pt x="533" y="92"/>
                    </a:lnTo>
                    <a:lnTo>
                      <a:pt x="483" y="50"/>
                    </a:lnTo>
                    <a:lnTo>
                      <a:pt x="433" y="25"/>
                    </a:lnTo>
                    <a:lnTo>
                      <a:pt x="375" y="9"/>
                    </a:lnTo>
                    <a:lnTo>
                      <a:pt x="308" y="0"/>
                    </a:lnTo>
                    <a:close/>
                  </a:path>
                </a:pathLst>
              </a:custGeom>
              <a:solidFill>
                <a:srgbClr val="fafd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rot="20068800">
                <a:off x="8056080" y="4215960"/>
                <a:ext cx="186480" cy="199440"/>
              </a:xfrm>
              <a:custGeom>
                <a:avLst/>
                <a:gdLst/>
                <a:ahLst/>
                <a:rect l="l" t="t" r="r" b="b"/>
                <a:pathLst>
                  <a:path w="609" h="608">
                    <a:moveTo>
                      <a:pt x="300" y="0"/>
                    </a:moveTo>
                    <a:lnTo>
                      <a:pt x="242" y="8"/>
                    </a:lnTo>
                    <a:lnTo>
                      <a:pt x="184" y="25"/>
                    </a:lnTo>
                    <a:lnTo>
                      <a:pt x="134" y="50"/>
                    </a:lnTo>
                    <a:lnTo>
                      <a:pt x="92" y="91"/>
                    </a:lnTo>
                    <a:lnTo>
                      <a:pt x="50" y="133"/>
                    </a:lnTo>
                    <a:lnTo>
                      <a:pt x="25" y="183"/>
                    </a:lnTo>
                    <a:lnTo>
                      <a:pt x="8" y="241"/>
                    </a:lnTo>
                    <a:lnTo>
                      <a:pt x="0" y="299"/>
                    </a:lnTo>
                    <a:lnTo>
                      <a:pt x="8" y="366"/>
                    </a:lnTo>
                    <a:lnTo>
                      <a:pt x="25" y="424"/>
                    </a:lnTo>
                    <a:lnTo>
                      <a:pt x="50" y="474"/>
                    </a:lnTo>
                    <a:lnTo>
                      <a:pt x="92" y="516"/>
                    </a:lnTo>
                    <a:lnTo>
                      <a:pt x="134" y="558"/>
                    </a:lnTo>
                    <a:lnTo>
                      <a:pt x="184" y="583"/>
                    </a:lnTo>
                    <a:lnTo>
                      <a:pt x="242" y="599"/>
                    </a:lnTo>
                    <a:lnTo>
                      <a:pt x="300" y="608"/>
                    </a:lnTo>
                    <a:lnTo>
                      <a:pt x="359" y="599"/>
                    </a:lnTo>
                    <a:lnTo>
                      <a:pt x="417" y="583"/>
                    </a:lnTo>
                    <a:lnTo>
                      <a:pt x="475" y="558"/>
                    </a:lnTo>
                    <a:lnTo>
                      <a:pt x="517" y="516"/>
                    </a:lnTo>
                    <a:lnTo>
                      <a:pt x="559" y="474"/>
                    </a:lnTo>
                    <a:lnTo>
                      <a:pt x="584" y="424"/>
                    </a:lnTo>
                    <a:lnTo>
                      <a:pt x="600" y="366"/>
                    </a:lnTo>
                    <a:lnTo>
                      <a:pt x="609" y="299"/>
                    </a:lnTo>
                    <a:lnTo>
                      <a:pt x="600" y="241"/>
                    </a:lnTo>
                    <a:lnTo>
                      <a:pt x="584" y="183"/>
                    </a:lnTo>
                    <a:lnTo>
                      <a:pt x="559" y="133"/>
                    </a:lnTo>
                    <a:lnTo>
                      <a:pt x="517" y="91"/>
                    </a:lnTo>
                    <a:lnTo>
                      <a:pt x="475" y="50"/>
                    </a:lnTo>
                    <a:lnTo>
                      <a:pt x="417" y="25"/>
                    </a:lnTo>
                    <a:lnTo>
                      <a:pt x="359" y="8"/>
                    </a:lnTo>
                    <a:lnTo>
                      <a:pt x="300" y="0"/>
                    </a:lnTo>
                    <a:close/>
                  </a:path>
                </a:pathLst>
              </a:custGeom>
              <a:solidFill>
                <a:srgbClr val="fafd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rot="20068800">
                <a:off x="8058600" y="4218840"/>
                <a:ext cx="181440" cy="194040"/>
              </a:xfrm>
              <a:custGeom>
                <a:avLst/>
                <a:gdLst/>
                <a:ahLst/>
                <a:rect l="l" t="t" r="r" b="b"/>
                <a:pathLst>
                  <a:path w="592" h="591">
                    <a:moveTo>
                      <a:pt x="292" y="0"/>
                    </a:moveTo>
                    <a:lnTo>
                      <a:pt x="234" y="8"/>
                    </a:lnTo>
                    <a:lnTo>
                      <a:pt x="176" y="25"/>
                    </a:lnTo>
                    <a:lnTo>
                      <a:pt x="126" y="50"/>
                    </a:lnTo>
                    <a:lnTo>
                      <a:pt x="84" y="83"/>
                    </a:lnTo>
                    <a:lnTo>
                      <a:pt x="50" y="133"/>
                    </a:lnTo>
                    <a:lnTo>
                      <a:pt x="25" y="183"/>
                    </a:lnTo>
                    <a:lnTo>
                      <a:pt x="9" y="233"/>
                    </a:lnTo>
                    <a:lnTo>
                      <a:pt x="0" y="291"/>
                    </a:lnTo>
                    <a:lnTo>
                      <a:pt x="9" y="350"/>
                    </a:lnTo>
                    <a:lnTo>
                      <a:pt x="25" y="408"/>
                    </a:lnTo>
                    <a:lnTo>
                      <a:pt x="50" y="458"/>
                    </a:lnTo>
                    <a:lnTo>
                      <a:pt x="84" y="508"/>
                    </a:lnTo>
                    <a:lnTo>
                      <a:pt x="126" y="541"/>
                    </a:lnTo>
                    <a:lnTo>
                      <a:pt x="176" y="566"/>
                    </a:lnTo>
                    <a:lnTo>
                      <a:pt x="234" y="583"/>
                    </a:lnTo>
                    <a:lnTo>
                      <a:pt x="292" y="591"/>
                    </a:lnTo>
                    <a:lnTo>
                      <a:pt x="351" y="583"/>
                    </a:lnTo>
                    <a:lnTo>
                      <a:pt x="409" y="566"/>
                    </a:lnTo>
                    <a:lnTo>
                      <a:pt x="459" y="541"/>
                    </a:lnTo>
                    <a:lnTo>
                      <a:pt x="509" y="508"/>
                    </a:lnTo>
                    <a:lnTo>
                      <a:pt x="542" y="458"/>
                    </a:lnTo>
                    <a:lnTo>
                      <a:pt x="567" y="408"/>
                    </a:lnTo>
                    <a:lnTo>
                      <a:pt x="584" y="350"/>
                    </a:lnTo>
                    <a:lnTo>
                      <a:pt x="592" y="291"/>
                    </a:lnTo>
                    <a:lnTo>
                      <a:pt x="584" y="233"/>
                    </a:lnTo>
                    <a:lnTo>
                      <a:pt x="567" y="183"/>
                    </a:lnTo>
                    <a:lnTo>
                      <a:pt x="542" y="133"/>
                    </a:lnTo>
                    <a:lnTo>
                      <a:pt x="509" y="83"/>
                    </a:lnTo>
                    <a:lnTo>
                      <a:pt x="459" y="50"/>
                    </a:lnTo>
                    <a:lnTo>
                      <a:pt x="409" y="25"/>
                    </a:lnTo>
                    <a:lnTo>
                      <a:pt x="351" y="8"/>
                    </a:lnTo>
                    <a:lnTo>
                      <a:pt x="292" y="0"/>
                    </a:lnTo>
                    <a:close/>
                  </a:path>
                </a:pathLst>
              </a:custGeom>
              <a:solidFill>
                <a:srgbClr val="fafd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rot="20068800">
                <a:off x="8061120" y="4221360"/>
                <a:ext cx="176040" cy="188640"/>
              </a:xfrm>
              <a:custGeom>
                <a:avLst/>
                <a:gdLst/>
                <a:ahLst/>
                <a:rect l="l" t="t" r="r" b="b"/>
                <a:pathLst>
                  <a:path w="575" h="575">
                    <a:moveTo>
                      <a:pt x="283" y="0"/>
                    </a:moveTo>
                    <a:lnTo>
                      <a:pt x="225" y="9"/>
                    </a:lnTo>
                    <a:lnTo>
                      <a:pt x="175" y="25"/>
                    </a:lnTo>
                    <a:lnTo>
                      <a:pt x="125" y="50"/>
                    </a:lnTo>
                    <a:lnTo>
                      <a:pt x="83" y="84"/>
                    </a:lnTo>
                    <a:lnTo>
                      <a:pt x="50" y="125"/>
                    </a:lnTo>
                    <a:lnTo>
                      <a:pt x="25" y="175"/>
                    </a:lnTo>
                    <a:lnTo>
                      <a:pt x="8" y="225"/>
                    </a:lnTo>
                    <a:lnTo>
                      <a:pt x="0" y="283"/>
                    </a:lnTo>
                    <a:lnTo>
                      <a:pt x="8" y="342"/>
                    </a:lnTo>
                    <a:lnTo>
                      <a:pt x="25" y="400"/>
                    </a:lnTo>
                    <a:lnTo>
                      <a:pt x="50" y="450"/>
                    </a:lnTo>
                    <a:lnTo>
                      <a:pt x="83" y="492"/>
                    </a:lnTo>
                    <a:lnTo>
                      <a:pt x="125" y="525"/>
                    </a:lnTo>
                    <a:lnTo>
                      <a:pt x="175" y="550"/>
                    </a:lnTo>
                    <a:lnTo>
                      <a:pt x="225" y="567"/>
                    </a:lnTo>
                    <a:lnTo>
                      <a:pt x="283" y="575"/>
                    </a:lnTo>
                    <a:lnTo>
                      <a:pt x="342" y="567"/>
                    </a:lnTo>
                    <a:lnTo>
                      <a:pt x="400" y="550"/>
                    </a:lnTo>
                    <a:lnTo>
                      <a:pt x="442" y="525"/>
                    </a:lnTo>
                    <a:lnTo>
                      <a:pt x="492" y="492"/>
                    </a:lnTo>
                    <a:lnTo>
                      <a:pt x="525" y="450"/>
                    </a:lnTo>
                    <a:lnTo>
                      <a:pt x="550" y="400"/>
                    </a:lnTo>
                    <a:lnTo>
                      <a:pt x="567" y="342"/>
                    </a:lnTo>
                    <a:lnTo>
                      <a:pt x="575" y="283"/>
                    </a:lnTo>
                    <a:lnTo>
                      <a:pt x="567" y="225"/>
                    </a:lnTo>
                    <a:lnTo>
                      <a:pt x="550" y="175"/>
                    </a:lnTo>
                    <a:lnTo>
                      <a:pt x="525" y="125"/>
                    </a:lnTo>
                    <a:lnTo>
                      <a:pt x="492" y="84"/>
                    </a:lnTo>
                    <a:lnTo>
                      <a:pt x="442" y="50"/>
                    </a:lnTo>
                    <a:lnTo>
                      <a:pt x="400" y="25"/>
                    </a:lnTo>
                    <a:lnTo>
                      <a:pt x="342" y="9"/>
                    </a:lnTo>
                    <a:lnTo>
                      <a:pt x="283" y="0"/>
                    </a:lnTo>
                    <a:close/>
                  </a:path>
                </a:pathLst>
              </a:custGeom>
              <a:solidFill>
                <a:srgbClr val="fbfd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rot="20068800">
                <a:off x="8063640" y="4223880"/>
                <a:ext cx="171360" cy="183240"/>
              </a:xfrm>
              <a:custGeom>
                <a:avLst/>
                <a:gdLst/>
                <a:ahLst/>
                <a:rect l="l" t="t" r="r" b="b"/>
                <a:pathLst>
                  <a:path w="559" h="558">
                    <a:moveTo>
                      <a:pt x="275" y="0"/>
                    </a:moveTo>
                    <a:lnTo>
                      <a:pt x="217" y="8"/>
                    </a:lnTo>
                    <a:lnTo>
                      <a:pt x="167" y="25"/>
                    </a:lnTo>
                    <a:lnTo>
                      <a:pt x="117" y="50"/>
                    </a:lnTo>
                    <a:lnTo>
                      <a:pt x="75" y="83"/>
                    </a:lnTo>
                    <a:lnTo>
                      <a:pt x="42" y="125"/>
                    </a:lnTo>
                    <a:lnTo>
                      <a:pt x="25" y="166"/>
                    </a:lnTo>
                    <a:lnTo>
                      <a:pt x="8" y="216"/>
                    </a:lnTo>
                    <a:lnTo>
                      <a:pt x="0" y="274"/>
                    </a:lnTo>
                    <a:lnTo>
                      <a:pt x="8" y="333"/>
                    </a:lnTo>
                    <a:lnTo>
                      <a:pt x="25" y="383"/>
                    </a:lnTo>
                    <a:lnTo>
                      <a:pt x="42" y="433"/>
                    </a:lnTo>
                    <a:lnTo>
                      <a:pt x="75" y="474"/>
                    </a:lnTo>
                    <a:lnTo>
                      <a:pt x="117" y="508"/>
                    </a:lnTo>
                    <a:lnTo>
                      <a:pt x="167" y="533"/>
                    </a:lnTo>
                    <a:lnTo>
                      <a:pt x="217" y="549"/>
                    </a:lnTo>
                    <a:lnTo>
                      <a:pt x="275" y="558"/>
                    </a:lnTo>
                    <a:lnTo>
                      <a:pt x="334" y="549"/>
                    </a:lnTo>
                    <a:lnTo>
                      <a:pt x="384" y="533"/>
                    </a:lnTo>
                    <a:lnTo>
                      <a:pt x="434" y="508"/>
                    </a:lnTo>
                    <a:lnTo>
                      <a:pt x="475" y="474"/>
                    </a:lnTo>
                    <a:lnTo>
                      <a:pt x="509" y="433"/>
                    </a:lnTo>
                    <a:lnTo>
                      <a:pt x="534" y="383"/>
                    </a:lnTo>
                    <a:lnTo>
                      <a:pt x="550" y="333"/>
                    </a:lnTo>
                    <a:lnTo>
                      <a:pt x="559" y="274"/>
                    </a:lnTo>
                    <a:lnTo>
                      <a:pt x="550" y="216"/>
                    </a:lnTo>
                    <a:lnTo>
                      <a:pt x="534" y="166"/>
                    </a:lnTo>
                    <a:lnTo>
                      <a:pt x="509" y="125"/>
                    </a:lnTo>
                    <a:lnTo>
                      <a:pt x="475" y="83"/>
                    </a:lnTo>
                    <a:lnTo>
                      <a:pt x="434" y="50"/>
                    </a:lnTo>
                    <a:lnTo>
                      <a:pt x="384" y="25"/>
                    </a:lnTo>
                    <a:lnTo>
                      <a:pt x="334" y="8"/>
                    </a:lnTo>
                    <a:lnTo>
                      <a:pt x="275" y="0"/>
                    </a:lnTo>
                    <a:close/>
                  </a:path>
                </a:pathLst>
              </a:custGeom>
              <a:solidFill>
                <a:srgbClr val="fbf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rot="20068800">
                <a:off x="8065800" y="4227120"/>
                <a:ext cx="165960" cy="177480"/>
              </a:xfrm>
              <a:custGeom>
                <a:avLst/>
                <a:gdLst/>
                <a:ahLst/>
                <a:rect l="l" t="t" r="r" b="b"/>
                <a:pathLst>
                  <a:path w="542" h="541">
                    <a:moveTo>
                      <a:pt x="267" y="0"/>
                    </a:moveTo>
                    <a:lnTo>
                      <a:pt x="209" y="8"/>
                    </a:lnTo>
                    <a:lnTo>
                      <a:pt x="159" y="25"/>
                    </a:lnTo>
                    <a:lnTo>
                      <a:pt x="117" y="50"/>
                    </a:lnTo>
                    <a:lnTo>
                      <a:pt x="76" y="83"/>
                    </a:lnTo>
                    <a:lnTo>
                      <a:pt x="42" y="117"/>
                    </a:lnTo>
                    <a:lnTo>
                      <a:pt x="25" y="167"/>
                    </a:lnTo>
                    <a:lnTo>
                      <a:pt x="9" y="217"/>
                    </a:lnTo>
                    <a:lnTo>
                      <a:pt x="0" y="266"/>
                    </a:lnTo>
                    <a:lnTo>
                      <a:pt x="9" y="325"/>
                    </a:lnTo>
                    <a:lnTo>
                      <a:pt x="25" y="375"/>
                    </a:lnTo>
                    <a:lnTo>
                      <a:pt x="42" y="425"/>
                    </a:lnTo>
                    <a:lnTo>
                      <a:pt x="76" y="466"/>
                    </a:lnTo>
                    <a:lnTo>
                      <a:pt x="117" y="500"/>
                    </a:lnTo>
                    <a:lnTo>
                      <a:pt x="159" y="525"/>
                    </a:lnTo>
                    <a:lnTo>
                      <a:pt x="209" y="533"/>
                    </a:lnTo>
                    <a:lnTo>
                      <a:pt x="267" y="541"/>
                    </a:lnTo>
                    <a:lnTo>
                      <a:pt x="326" y="533"/>
                    </a:lnTo>
                    <a:lnTo>
                      <a:pt x="376" y="525"/>
                    </a:lnTo>
                    <a:lnTo>
                      <a:pt x="417" y="500"/>
                    </a:lnTo>
                    <a:lnTo>
                      <a:pt x="459" y="466"/>
                    </a:lnTo>
                    <a:lnTo>
                      <a:pt x="492" y="425"/>
                    </a:lnTo>
                    <a:lnTo>
                      <a:pt x="517" y="375"/>
                    </a:lnTo>
                    <a:lnTo>
                      <a:pt x="534" y="325"/>
                    </a:lnTo>
                    <a:lnTo>
                      <a:pt x="542" y="266"/>
                    </a:lnTo>
                    <a:lnTo>
                      <a:pt x="534" y="217"/>
                    </a:lnTo>
                    <a:lnTo>
                      <a:pt x="517" y="167"/>
                    </a:lnTo>
                    <a:lnTo>
                      <a:pt x="492" y="117"/>
                    </a:lnTo>
                    <a:lnTo>
                      <a:pt x="459" y="83"/>
                    </a:lnTo>
                    <a:lnTo>
                      <a:pt x="417" y="50"/>
                    </a:lnTo>
                    <a:lnTo>
                      <a:pt x="376" y="25"/>
                    </a:lnTo>
                    <a:lnTo>
                      <a:pt x="326" y="8"/>
                    </a:lnTo>
                    <a:lnTo>
                      <a:pt x="267" y="0"/>
                    </a:lnTo>
                    <a:close/>
                  </a:path>
                </a:pathLst>
              </a:custGeom>
              <a:solidFill>
                <a:srgbClr val="fbfd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rot="20068800">
                <a:off x="8069040" y="4229280"/>
                <a:ext cx="160920" cy="172440"/>
              </a:xfrm>
              <a:custGeom>
                <a:avLst/>
                <a:gdLst/>
                <a:ahLst/>
                <a:rect l="l" t="t" r="r" b="b"/>
                <a:pathLst>
                  <a:path w="525" h="525">
                    <a:moveTo>
                      <a:pt x="258" y="0"/>
                    </a:moveTo>
                    <a:lnTo>
                      <a:pt x="208" y="9"/>
                    </a:lnTo>
                    <a:lnTo>
                      <a:pt x="158" y="17"/>
                    </a:lnTo>
                    <a:lnTo>
                      <a:pt x="117" y="42"/>
                    </a:lnTo>
                    <a:lnTo>
                      <a:pt x="75" y="75"/>
                    </a:lnTo>
                    <a:lnTo>
                      <a:pt x="42" y="117"/>
                    </a:lnTo>
                    <a:lnTo>
                      <a:pt x="16" y="159"/>
                    </a:lnTo>
                    <a:lnTo>
                      <a:pt x="8" y="209"/>
                    </a:lnTo>
                    <a:lnTo>
                      <a:pt x="0" y="258"/>
                    </a:lnTo>
                    <a:lnTo>
                      <a:pt x="8" y="317"/>
                    </a:lnTo>
                    <a:lnTo>
                      <a:pt x="16" y="367"/>
                    </a:lnTo>
                    <a:lnTo>
                      <a:pt x="42" y="408"/>
                    </a:lnTo>
                    <a:lnTo>
                      <a:pt x="75" y="450"/>
                    </a:lnTo>
                    <a:lnTo>
                      <a:pt x="117" y="483"/>
                    </a:lnTo>
                    <a:lnTo>
                      <a:pt x="158" y="508"/>
                    </a:lnTo>
                    <a:lnTo>
                      <a:pt x="208" y="517"/>
                    </a:lnTo>
                    <a:lnTo>
                      <a:pt x="258" y="525"/>
                    </a:lnTo>
                    <a:lnTo>
                      <a:pt x="317" y="517"/>
                    </a:lnTo>
                    <a:lnTo>
                      <a:pt x="367" y="508"/>
                    </a:lnTo>
                    <a:lnTo>
                      <a:pt x="408" y="483"/>
                    </a:lnTo>
                    <a:lnTo>
                      <a:pt x="450" y="450"/>
                    </a:lnTo>
                    <a:lnTo>
                      <a:pt x="483" y="408"/>
                    </a:lnTo>
                    <a:lnTo>
                      <a:pt x="508" y="367"/>
                    </a:lnTo>
                    <a:lnTo>
                      <a:pt x="517" y="317"/>
                    </a:lnTo>
                    <a:lnTo>
                      <a:pt x="525" y="258"/>
                    </a:lnTo>
                    <a:lnTo>
                      <a:pt x="517" y="209"/>
                    </a:lnTo>
                    <a:lnTo>
                      <a:pt x="508" y="159"/>
                    </a:lnTo>
                    <a:lnTo>
                      <a:pt x="483" y="117"/>
                    </a:lnTo>
                    <a:lnTo>
                      <a:pt x="450" y="75"/>
                    </a:lnTo>
                    <a:lnTo>
                      <a:pt x="408" y="42"/>
                    </a:lnTo>
                    <a:lnTo>
                      <a:pt x="367" y="17"/>
                    </a:lnTo>
                    <a:lnTo>
                      <a:pt x="317" y="9"/>
                    </a:lnTo>
                    <a:lnTo>
                      <a:pt x="258" y="0"/>
                    </a:lnTo>
                    <a:close/>
                  </a:path>
                </a:pathLst>
              </a:custGeom>
              <a:solidFill>
                <a:srgbClr val="fbf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rot="20068800">
                <a:off x="8071200" y="4232520"/>
                <a:ext cx="155880" cy="166680"/>
              </a:xfrm>
              <a:custGeom>
                <a:avLst/>
                <a:gdLst/>
                <a:ahLst/>
                <a:rect l="l" t="t" r="r" b="b"/>
                <a:pathLst>
                  <a:path w="509" h="508">
                    <a:moveTo>
                      <a:pt x="250" y="0"/>
                    </a:moveTo>
                    <a:lnTo>
                      <a:pt x="200" y="8"/>
                    </a:lnTo>
                    <a:lnTo>
                      <a:pt x="150" y="16"/>
                    </a:lnTo>
                    <a:lnTo>
                      <a:pt x="109" y="41"/>
                    </a:lnTo>
                    <a:lnTo>
                      <a:pt x="75" y="75"/>
                    </a:lnTo>
                    <a:lnTo>
                      <a:pt x="42" y="116"/>
                    </a:lnTo>
                    <a:lnTo>
                      <a:pt x="17" y="158"/>
                    </a:lnTo>
                    <a:lnTo>
                      <a:pt x="8" y="200"/>
                    </a:lnTo>
                    <a:lnTo>
                      <a:pt x="0" y="249"/>
                    </a:lnTo>
                    <a:lnTo>
                      <a:pt x="8" y="308"/>
                    </a:lnTo>
                    <a:lnTo>
                      <a:pt x="17" y="349"/>
                    </a:lnTo>
                    <a:lnTo>
                      <a:pt x="42" y="399"/>
                    </a:lnTo>
                    <a:lnTo>
                      <a:pt x="75" y="433"/>
                    </a:lnTo>
                    <a:lnTo>
                      <a:pt x="109" y="466"/>
                    </a:lnTo>
                    <a:lnTo>
                      <a:pt x="150" y="491"/>
                    </a:lnTo>
                    <a:lnTo>
                      <a:pt x="200" y="499"/>
                    </a:lnTo>
                    <a:lnTo>
                      <a:pt x="250" y="508"/>
                    </a:lnTo>
                    <a:lnTo>
                      <a:pt x="300" y="499"/>
                    </a:lnTo>
                    <a:lnTo>
                      <a:pt x="350" y="491"/>
                    </a:lnTo>
                    <a:lnTo>
                      <a:pt x="392" y="466"/>
                    </a:lnTo>
                    <a:lnTo>
                      <a:pt x="434" y="433"/>
                    </a:lnTo>
                    <a:lnTo>
                      <a:pt x="467" y="399"/>
                    </a:lnTo>
                    <a:lnTo>
                      <a:pt x="492" y="349"/>
                    </a:lnTo>
                    <a:lnTo>
                      <a:pt x="500" y="308"/>
                    </a:lnTo>
                    <a:lnTo>
                      <a:pt x="509" y="249"/>
                    </a:lnTo>
                    <a:lnTo>
                      <a:pt x="500" y="200"/>
                    </a:lnTo>
                    <a:lnTo>
                      <a:pt x="492" y="158"/>
                    </a:lnTo>
                    <a:lnTo>
                      <a:pt x="467" y="116"/>
                    </a:lnTo>
                    <a:lnTo>
                      <a:pt x="434" y="75"/>
                    </a:lnTo>
                    <a:lnTo>
                      <a:pt x="392" y="41"/>
                    </a:lnTo>
                    <a:lnTo>
                      <a:pt x="350" y="16"/>
                    </a:lnTo>
                    <a:lnTo>
                      <a:pt x="300" y="8"/>
                    </a:lnTo>
                    <a:lnTo>
                      <a:pt x="250" y="0"/>
                    </a:lnTo>
                    <a:close/>
                  </a:path>
                </a:pathLst>
              </a:custGeom>
              <a:solidFill>
                <a:srgbClr val="fbfd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rot="20068800">
                <a:off x="8073720" y="4235040"/>
                <a:ext cx="150840" cy="161280"/>
              </a:xfrm>
              <a:custGeom>
                <a:avLst/>
                <a:gdLst/>
                <a:ahLst/>
                <a:rect l="l" t="t" r="r" b="b"/>
                <a:pathLst>
                  <a:path w="492" h="491">
                    <a:moveTo>
                      <a:pt x="242" y="0"/>
                    </a:moveTo>
                    <a:lnTo>
                      <a:pt x="192" y="8"/>
                    </a:lnTo>
                    <a:lnTo>
                      <a:pt x="151" y="17"/>
                    </a:lnTo>
                    <a:lnTo>
                      <a:pt x="76" y="75"/>
                    </a:lnTo>
                    <a:lnTo>
                      <a:pt x="17" y="150"/>
                    </a:lnTo>
                    <a:lnTo>
                      <a:pt x="9" y="192"/>
                    </a:lnTo>
                    <a:lnTo>
                      <a:pt x="0" y="241"/>
                    </a:lnTo>
                    <a:lnTo>
                      <a:pt x="9" y="291"/>
                    </a:lnTo>
                    <a:lnTo>
                      <a:pt x="17" y="341"/>
                    </a:lnTo>
                    <a:lnTo>
                      <a:pt x="76" y="416"/>
                    </a:lnTo>
                    <a:lnTo>
                      <a:pt x="109" y="450"/>
                    </a:lnTo>
                    <a:lnTo>
                      <a:pt x="151" y="475"/>
                    </a:lnTo>
                    <a:lnTo>
                      <a:pt x="192" y="483"/>
                    </a:lnTo>
                    <a:lnTo>
                      <a:pt x="242" y="491"/>
                    </a:lnTo>
                    <a:lnTo>
                      <a:pt x="292" y="483"/>
                    </a:lnTo>
                    <a:lnTo>
                      <a:pt x="342" y="475"/>
                    </a:lnTo>
                    <a:lnTo>
                      <a:pt x="384" y="450"/>
                    </a:lnTo>
                    <a:lnTo>
                      <a:pt x="417" y="416"/>
                    </a:lnTo>
                    <a:lnTo>
                      <a:pt x="451" y="383"/>
                    </a:lnTo>
                    <a:lnTo>
                      <a:pt x="476" y="341"/>
                    </a:lnTo>
                    <a:lnTo>
                      <a:pt x="484" y="291"/>
                    </a:lnTo>
                    <a:lnTo>
                      <a:pt x="492" y="241"/>
                    </a:lnTo>
                    <a:lnTo>
                      <a:pt x="484" y="192"/>
                    </a:lnTo>
                    <a:lnTo>
                      <a:pt x="476" y="150"/>
                    </a:lnTo>
                    <a:lnTo>
                      <a:pt x="451" y="108"/>
                    </a:lnTo>
                    <a:lnTo>
                      <a:pt x="417" y="75"/>
                    </a:lnTo>
                    <a:lnTo>
                      <a:pt x="342" y="17"/>
                    </a:lnTo>
                    <a:lnTo>
                      <a:pt x="292" y="8"/>
                    </a:lnTo>
                    <a:lnTo>
                      <a:pt x="242" y="0"/>
                    </a:lnTo>
                    <a:close/>
                  </a:path>
                </a:pathLst>
              </a:custGeom>
              <a:solidFill>
                <a:srgbClr val="fbf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rot="20068800">
                <a:off x="8076600" y="4237560"/>
                <a:ext cx="145440" cy="155880"/>
              </a:xfrm>
              <a:custGeom>
                <a:avLst/>
                <a:gdLst/>
                <a:ahLst/>
                <a:rect l="l" t="t" r="r" b="b"/>
                <a:pathLst>
                  <a:path w="475" h="475">
                    <a:moveTo>
                      <a:pt x="233" y="0"/>
                    </a:moveTo>
                    <a:lnTo>
                      <a:pt x="183" y="9"/>
                    </a:lnTo>
                    <a:lnTo>
                      <a:pt x="142" y="17"/>
                    </a:lnTo>
                    <a:lnTo>
                      <a:pt x="67" y="67"/>
                    </a:lnTo>
                    <a:lnTo>
                      <a:pt x="17" y="142"/>
                    </a:lnTo>
                    <a:lnTo>
                      <a:pt x="8" y="192"/>
                    </a:lnTo>
                    <a:lnTo>
                      <a:pt x="0" y="233"/>
                    </a:lnTo>
                    <a:lnTo>
                      <a:pt x="8" y="283"/>
                    </a:lnTo>
                    <a:lnTo>
                      <a:pt x="17" y="333"/>
                    </a:lnTo>
                    <a:lnTo>
                      <a:pt x="67" y="408"/>
                    </a:lnTo>
                    <a:lnTo>
                      <a:pt x="142" y="458"/>
                    </a:lnTo>
                    <a:lnTo>
                      <a:pt x="183" y="467"/>
                    </a:lnTo>
                    <a:lnTo>
                      <a:pt x="233" y="475"/>
                    </a:lnTo>
                    <a:lnTo>
                      <a:pt x="283" y="467"/>
                    </a:lnTo>
                    <a:lnTo>
                      <a:pt x="325" y="458"/>
                    </a:lnTo>
                    <a:lnTo>
                      <a:pt x="408" y="408"/>
                    </a:lnTo>
                    <a:lnTo>
                      <a:pt x="458" y="333"/>
                    </a:lnTo>
                    <a:lnTo>
                      <a:pt x="467" y="283"/>
                    </a:lnTo>
                    <a:lnTo>
                      <a:pt x="475" y="233"/>
                    </a:lnTo>
                    <a:lnTo>
                      <a:pt x="467" y="192"/>
                    </a:lnTo>
                    <a:lnTo>
                      <a:pt x="458" y="142"/>
                    </a:lnTo>
                    <a:lnTo>
                      <a:pt x="408" y="67"/>
                    </a:lnTo>
                    <a:lnTo>
                      <a:pt x="325" y="17"/>
                    </a:lnTo>
                    <a:lnTo>
                      <a:pt x="283" y="9"/>
                    </a:lnTo>
                    <a:lnTo>
                      <a:pt x="233" y="0"/>
                    </a:lnTo>
                    <a:close/>
                  </a:path>
                </a:pathLst>
              </a:custGeom>
              <a:solidFill>
                <a:srgbClr val="fbfd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rot="20068800">
                <a:off x="8078760" y="4240440"/>
                <a:ext cx="140400" cy="150120"/>
              </a:xfrm>
              <a:custGeom>
                <a:avLst/>
                <a:gdLst/>
                <a:ahLst/>
                <a:rect l="l" t="t" r="r" b="b"/>
                <a:pathLst>
                  <a:path w="459" h="458">
                    <a:moveTo>
                      <a:pt x="225" y="0"/>
                    </a:moveTo>
                    <a:lnTo>
                      <a:pt x="184" y="8"/>
                    </a:lnTo>
                    <a:lnTo>
                      <a:pt x="134" y="16"/>
                    </a:lnTo>
                    <a:lnTo>
                      <a:pt x="67" y="66"/>
                    </a:lnTo>
                    <a:lnTo>
                      <a:pt x="17" y="133"/>
                    </a:lnTo>
                    <a:lnTo>
                      <a:pt x="9" y="183"/>
                    </a:lnTo>
                    <a:lnTo>
                      <a:pt x="0" y="224"/>
                    </a:lnTo>
                    <a:lnTo>
                      <a:pt x="9" y="274"/>
                    </a:lnTo>
                    <a:lnTo>
                      <a:pt x="17" y="316"/>
                    </a:lnTo>
                    <a:lnTo>
                      <a:pt x="67" y="391"/>
                    </a:lnTo>
                    <a:lnTo>
                      <a:pt x="134" y="441"/>
                    </a:lnTo>
                    <a:lnTo>
                      <a:pt x="184" y="449"/>
                    </a:lnTo>
                    <a:lnTo>
                      <a:pt x="225" y="458"/>
                    </a:lnTo>
                    <a:lnTo>
                      <a:pt x="275" y="449"/>
                    </a:lnTo>
                    <a:lnTo>
                      <a:pt x="317" y="441"/>
                    </a:lnTo>
                    <a:lnTo>
                      <a:pt x="392" y="391"/>
                    </a:lnTo>
                    <a:lnTo>
                      <a:pt x="442" y="316"/>
                    </a:lnTo>
                    <a:lnTo>
                      <a:pt x="450" y="274"/>
                    </a:lnTo>
                    <a:lnTo>
                      <a:pt x="459" y="224"/>
                    </a:lnTo>
                    <a:lnTo>
                      <a:pt x="450" y="183"/>
                    </a:lnTo>
                    <a:lnTo>
                      <a:pt x="442" y="133"/>
                    </a:lnTo>
                    <a:lnTo>
                      <a:pt x="392" y="66"/>
                    </a:lnTo>
                    <a:lnTo>
                      <a:pt x="317" y="16"/>
                    </a:lnTo>
                    <a:lnTo>
                      <a:pt x="275" y="8"/>
                    </a:lnTo>
                    <a:lnTo>
                      <a:pt x="225" y="0"/>
                    </a:lnTo>
                    <a:close/>
                  </a:path>
                </a:pathLst>
              </a:custGeom>
              <a:solidFill>
                <a:srgbClr val="fcfd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rot="20068800">
                <a:off x="8082000" y="4242960"/>
                <a:ext cx="135000" cy="144720"/>
              </a:xfrm>
              <a:custGeom>
                <a:avLst/>
                <a:gdLst/>
                <a:ahLst/>
                <a:rect l="l" t="t" r="r" b="b"/>
                <a:pathLst>
                  <a:path w="441" h="441">
                    <a:moveTo>
                      <a:pt x="216" y="0"/>
                    </a:moveTo>
                    <a:lnTo>
                      <a:pt x="175" y="8"/>
                    </a:lnTo>
                    <a:lnTo>
                      <a:pt x="133" y="17"/>
                    </a:lnTo>
                    <a:lnTo>
                      <a:pt x="58" y="67"/>
                    </a:lnTo>
                    <a:lnTo>
                      <a:pt x="16" y="133"/>
                    </a:lnTo>
                    <a:lnTo>
                      <a:pt x="8" y="175"/>
                    </a:lnTo>
                    <a:lnTo>
                      <a:pt x="0" y="216"/>
                    </a:lnTo>
                    <a:lnTo>
                      <a:pt x="8" y="266"/>
                    </a:lnTo>
                    <a:lnTo>
                      <a:pt x="16" y="308"/>
                    </a:lnTo>
                    <a:lnTo>
                      <a:pt x="58" y="383"/>
                    </a:lnTo>
                    <a:lnTo>
                      <a:pt x="133" y="425"/>
                    </a:lnTo>
                    <a:lnTo>
                      <a:pt x="175" y="441"/>
                    </a:lnTo>
                    <a:lnTo>
                      <a:pt x="216" y="441"/>
                    </a:lnTo>
                    <a:lnTo>
                      <a:pt x="258" y="441"/>
                    </a:lnTo>
                    <a:lnTo>
                      <a:pt x="308" y="425"/>
                    </a:lnTo>
                    <a:lnTo>
                      <a:pt x="375" y="383"/>
                    </a:lnTo>
                    <a:lnTo>
                      <a:pt x="425" y="308"/>
                    </a:lnTo>
                    <a:lnTo>
                      <a:pt x="433" y="266"/>
                    </a:lnTo>
                    <a:lnTo>
                      <a:pt x="441" y="216"/>
                    </a:lnTo>
                    <a:lnTo>
                      <a:pt x="433" y="175"/>
                    </a:lnTo>
                    <a:lnTo>
                      <a:pt x="425" y="133"/>
                    </a:lnTo>
                    <a:lnTo>
                      <a:pt x="375" y="67"/>
                    </a:lnTo>
                    <a:lnTo>
                      <a:pt x="308" y="17"/>
                    </a:lnTo>
                    <a:lnTo>
                      <a:pt x="258" y="8"/>
                    </a:lnTo>
                    <a:lnTo>
                      <a:pt x="216" y="0"/>
                    </a:lnTo>
                    <a:close/>
                  </a:path>
                </a:pathLst>
              </a:custGeom>
              <a:solidFill>
                <a:srgbClr val="fcf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rot="20068800">
                <a:off x="8083800" y="4246200"/>
                <a:ext cx="129960" cy="139320"/>
              </a:xfrm>
              <a:custGeom>
                <a:avLst/>
                <a:gdLst/>
                <a:ahLst/>
                <a:rect l="l" t="t" r="r" b="b"/>
                <a:pathLst>
                  <a:path w="425" h="425">
                    <a:moveTo>
                      <a:pt x="217" y="0"/>
                    </a:moveTo>
                    <a:lnTo>
                      <a:pt x="175" y="9"/>
                    </a:lnTo>
                    <a:lnTo>
                      <a:pt x="133" y="17"/>
                    </a:lnTo>
                    <a:lnTo>
                      <a:pt x="58" y="67"/>
                    </a:lnTo>
                    <a:lnTo>
                      <a:pt x="17" y="134"/>
                    </a:lnTo>
                    <a:lnTo>
                      <a:pt x="8" y="175"/>
                    </a:lnTo>
                    <a:lnTo>
                      <a:pt x="0" y="217"/>
                    </a:lnTo>
                    <a:lnTo>
                      <a:pt x="8" y="258"/>
                    </a:lnTo>
                    <a:lnTo>
                      <a:pt x="17" y="300"/>
                    </a:lnTo>
                    <a:lnTo>
                      <a:pt x="58" y="367"/>
                    </a:lnTo>
                    <a:lnTo>
                      <a:pt x="133" y="408"/>
                    </a:lnTo>
                    <a:lnTo>
                      <a:pt x="175" y="425"/>
                    </a:lnTo>
                    <a:lnTo>
                      <a:pt x="217" y="425"/>
                    </a:lnTo>
                    <a:lnTo>
                      <a:pt x="258" y="425"/>
                    </a:lnTo>
                    <a:lnTo>
                      <a:pt x="300" y="408"/>
                    </a:lnTo>
                    <a:lnTo>
                      <a:pt x="367" y="367"/>
                    </a:lnTo>
                    <a:lnTo>
                      <a:pt x="408" y="300"/>
                    </a:lnTo>
                    <a:lnTo>
                      <a:pt x="425" y="258"/>
                    </a:lnTo>
                    <a:lnTo>
                      <a:pt x="425" y="217"/>
                    </a:lnTo>
                    <a:lnTo>
                      <a:pt x="425" y="175"/>
                    </a:lnTo>
                    <a:lnTo>
                      <a:pt x="408" y="134"/>
                    </a:lnTo>
                    <a:lnTo>
                      <a:pt x="367" y="67"/>
                    </a:lnTo>
                    <a:lnTo>
                      <a:pt x="300" y="17"/>
                    </a:lnTo>
                    <a:lnTo>
                      <a:pt x="258" y="9"/>
                    </a:lnTo>
                    <a:lnTo>
                      <a:pt x="217" y="0"/>
                    </a:lnTo>
                    <a:close/>
                  </a:path>
                </a:pathLst>
              </a:custGeom>
              <a:solidFill>
                <a:srgbClr val="fcf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rot="20068800">
                <a:off x="8086680" y="4248720"/>
                <a:ext cx="125280" cy="133920"/>
              </a:xfrm>
              <a:custGeom>
                <a:avLst/>
                <a:gdLst/>
                <a:ahLst/>
                <a:rect l="l" t="t" r="r" b="b"/>
                <a:pathLst>
                  <a:path w="409" h="408">
                    <a:moveTo>
                      <a:pt x="209" y="0"/>
                    </a:moveTo>
                    <a:lnTo>
                      <a:pt x="167" y="8"/>
                    </a:lnTo>
                    <a:lnTo>
                      <a:pt x="125" y="16"/>
                    </a:lnTo>
                    <a:lnTo>
                      <a:pt x="59" y="58"/>
                    </a:lnTo>
                    <a:lnTo>
                      <a:pt x="17" y="125"/>
                    </a:lnTo>
                    <a:lnTo>
                      <a:pt x="9" y="166"/>
                    </a:lnTo>
                    <a:lnTo>
                      <a:pt x="0" y="208"/>
                    </a:lnTo>
                    <a:lnTo>
                      <a:pt x="9" y="249"/>
                    </a:lnTo>
                    <a:lnTo>
                      <a:pt x="17" y="283"/>
                    </a:lnTo>
                    <a:lnTo>
                      <a:pt x="59" y="349"/>
                    </a:lnTo>
                    <a:lnTo>
                      <a:pt x="125" y="391"/>
                    </a:lnTo>
                    <a:lnTo>
                      <a:pt x="167" y="408"/>
                    </a:lnTo>
                    <a:lnTo>
                      <a:pt x="209" y="408"/>
                    </a:lnTo>
                    <a:lnTo>
                      <a:pt x="250" y="408"/>
                    </a:lnTo>
                    <a:lnTo>
                      <a:pt x="284" y="391"/>
                    </a:lnTo>
                    <a:lnTo>
                      <a:pt x="350" y="349"/>
                    </a:lnTo>
                    <a:lnTo>
                      <a:pt x="392" y="283"/>
                    </a:lnTo>
                    <a:lnTo>
                      <a:pt x="409" y="249"/>
                    </a:lnTo>
                    <a:lnTo>
                      <a:pt x="409" y="208"/>
                    </a:lnTo>
                    <a:lnTo>
                      <a:pt x="409" y="166"/>
                    </a:lnTo>
                    <a:lnTo>
                      <a:pt x="392" y="125"/>
                    </a:lnTo>
                    <a:lnTo>
                      <a:pt x="350" y="58"/>
                    </a:lnTo>
                    <a:lnTo>
                      <a:pt x="284" y="16"/>
                    </a:lnTo>
                    <a:lnTo>
                      <a:pt x="250" y="8"/>
                    </a:lnTo>
                    <a:lnTo>
                      <a:pt x="209" y="0"/>
                    </a:lnTo>
                    <a:close/>
                  </a:path>
                </a:pathLst>
              </a:custGeom>
              <a:solidFill>
                <a:srgbClr val="fcfe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rot="20068800">
                <a:off x="8089200" y="4251600"/>
                <a:ext cx="119520" cy="128160"/>
              </a:xfrm>
              <a:custGeom>
                <a:avLst/>
                <a:gdLst/>
                <a:ahLst/>
                <a:rect l="l" t="t" r="r" b="b"/>
                <a:pathLst>
                  <a:path w="391" h="391">
                    <a:moveTo>
                      <a:pt x="200" y="0"/>
                    </a:moveTo>
                    <a:lnTo>
                      <a:pt x="158" y="8"/>
                    </a:lnTo>
                    <a:lnTo>
                      <a:pt x="116" y="17"/>
                    </a:lnTo>
                    <a:lnTo>
                      <a:pt x="58" y="58"/>
                    </a:lnTo>
                    <a:lnTo>
                      <a:pt x="16" y="125"/>
                    </a:lnTo>
                    <a:lnTo>
                      <a:pt x="0" y="200"/>
                    </a:lnTo>
                    <a:lnTo>
                      <a:pt x="16" y="275"/>
                    </a:lnTo>
                    <a:lnTo>
                      <a:pt x="58" y="333"/>
                    </a:lnTo>
                    <a:lnTo>
                      <a:pt x="116" y="375"/>
                    </a:lnTo>
                    <a:lnTo>
                      <a:pt x="200" y="391"/>
                    </a:lnTo>
                    <a:lnTo>
                      <a:pt x="275" y="375"/>
                    </a:lnTo>
                    <a:lnTo>
                      <a:pt x="333" y="333"/>
                    </a:lnTo>
                    <a:lnTo>
                      <a:pt x="375" y="275"/>
                    </a:lnTo>
                    <a:lnTo>
                      <a:pt x="391" y="241"/>
                    </a:lnTo>
                    <a:lnTo>
                      <a:pt x="391" y="200"/>
                    </a:lnTo>
                    <a:lnTo>
                      <a:pt x="391" y="158"/>
                    </a:lnTo>
                    <a:lnTo>
                      <a:pt x="375" y="125"/>
                    </a:lnTo>
                    <a:lnTo>
                      <a:pt x="333" y="58"/>
                    </a:lnTo>
                    <a:lnTo>
                      <a:pt x="275" y="17"/>
                    </a:lnTo>
                    <a:lnTo>
                      <a:pt x="233" y="8"/>
                    </a:lnTo>
                    <a:lnTo>
                      <a:pt x="200" y="0"/>
                    </a:lnTo>
                    <a:close/>
                  </a:path>
                </a:pathLst>
              </a:custGeom>
              <a:solidFill>
                <a:srgbClr val="fcf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rot="20068800">
                <a:off x="8092080" y="4253760"/>
                <a:ext cx="114840" cy="123120"/>
              </a:xfrm>
              <a:custGeom>
                <a:avLst/>
                <a:gdLst/>
                <a:ahLst/>
                <a:rect l="l" t="t" r="r" b="b"/>
                <a:pathLst>
                  <a:path w="375" h="375">
                    <a:moveTo>
                      <a:pt x="192" y="0"/>
                    </a:moveTo>
                    <a:lnTo>
                      <a:pt x="117" y="17"/>
                    </a:lnTo>
                    <a:lnTo>
                      <a:pt x="58" y="59"/>
                    </a:lnTo>
                    <a:lnTo>
                      <a:pt x="17" y="117"/>
                    </a:lnTo>
                    <a:lnTo>
                      <a:pt x="0" y="192"/>
                    </a:lnTo>
                    <a:lnTo>
                      <a:pt x="17" y="267"/>
                    </a:lnTo>
                    <a:lnTo>
                      <a:pt x="58" y="325"/>
                    </a:lnTo>
                    <a:lnTo>
                      <a:pt x="117" y="358"/>
                    </a:lnTo>
                    <a:lnTo>
                      <a:pt x="192" y="375"/>
                    </a:lnTo>
                    <a:lnTo>
                      <a:pt x="267" y="358"/>
                    </a:lnTo>
                    <a:lnTo>
                      <a:pt x="325" y="325"/>
                    </a:lnTo>
                    <a:lnTo>
                      <a:pt x="358" y="267"/>
                    </a:lnTo>
                    <a:lnTo>
                      <a:pt x="375" y="192"/>
                    </a:lnTo>
                    <a:lnTo>
                      <a:pt x="358" y="117"/>
                    </a:lnTo>
                    <a:lnTo>
                      <a:pt x="325" y="59"/>
                    </a:lnTo>
                    <a:lnTo>
                      <a:pt x="267" y="17"/>
                    </a:lnTo>
                    <a:lnTo>
                      <a:pt x="192" y="0"/>
                    </a:lnTo>
                    <a:close/>
                  </a:path>
                </a:pathLst>
              </a:custGeom>
              <a:solidFill>
                <a:srgbClr val="fcfe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rot="20068800">
                <a:off x="8094240" y="4257360"/>
                <a:ext cx="109800" cy="117360"/>
              </a:xfrm>
              <a:custGeom>
                <a:avLst/>
                <a:gdLst/>
                <a:ahLst/>
                <a:rect l="l" t="t" r="r" b="b"/>
                <a:pathLst>
                  <a:path w="359" h="358">
                    <a:moveTo>
                      <a:pt x="184" y="0"/>
                    </a:moveTo>
                    <a:lnTo>
                      <a:pt x="109" y="16"/>
                    </a:lnTo>
                    <a:lnTo>
                      <a:pt x="50" y="58"/>
                    </a:lnTo>
                    <a:lnTo>
                      <a:pt x="17" y="116"/>
                    </a:lnTo>
                    <a:lnTo>
                      <a:pt x="0" y="183"/>
                    </a:lnTo>
                    <a:lnTo>
                      <a:pt x="17" y="249"/>
                    </a:lnTo>
                    <a:lnTo>
                      <a:pt x="50" y="308"/>
                    </a:lnTo>
                    <a:lnTo>
                      <a:pt x="109" y="341"/>
                    </a:lnTo>
                    <a:lnTo>
                      <a:pt x="184" y="358"/>
                    </a:lnTo>
                    <a:lnTo>
                      <a:pt x="250" y="341"/>
                    </a:lnTo>
                    <a:lnTo>
                      <a:pt x="309" y="308"/>
                    </a:lnTo>
                    <a:lnTo>
                      <a:pt x="342" y="249"/>
                    </a:lnTo>
                    <a:lnTo>
                      <a:pt x="359" y="183"/>
                    </a:lnTo>
                    <a:lnTo>
                      <a:pt x="342" y="116"/>
                    </a:lnTo>
                    <a:lnTo>
                      <a:pt x="309" y="58"/>
                    </a:lnTo>
                    <a:lnTo>
                      <a:pt x="250" y="16"/>
                    </a:lnTo>
                    <a:lnTo>
                      <a:pt x="184" y="0"/>
                    </a:lnTo>
                    <a:close/>
                  </a:path>
                </a:pathLst>
              </a:custGeom>
              <a:solidFill>
                <a:srgbClr val="fdfe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rot="20068800">
                <a:off x="8096760" y="4259880"/>
                <a:ext cx="104400" cy="111960"/>
              </a:xfrm>
              <a:custGeom>
                <a:avLst/>
                <a:gdLst/>
                <a:ahLst/>
                <a:rect l="l" t="t" r="r" b="b"/>
                <a:pathLst>
                  <a:path w="341" h="341">
                    <a:moveTo>
                      <a:pt x="175" y="0"/>
                    </a:moveTo>
                    <a:lnTo>
                      <a:pt x="108" y="17"/>
                    </a:lnTo>
                    <a:lnTo>
                      <a:pt x="50" y="50"/>
                    </a:lnTo>
                    <a:lnTo>
                      <a:pt x="16" y="108"/>
                    </a:lnTo>
                    <a:lnTo>
                      <a:pt x="0" y="175"/>
                    </a:lnTo>
                    <a:lnTo>
                      <a:pt x="16" y="241"/>
                    </a:lnTo>
                    <a:lnTo>
                      <a:pt x="50" y="291"/>
                    </a:lnTo>
                    <a:lnTo>
                      <a:pt x="108" y="325"/>
                    </a:lnTo>
                    <a:lnTo>
                      <a:pt x="175" y="341"/>
                    </a:lnTo>
                    <a:lnTo>
                      <a:pt x="241" y="325"/>
                    </a:lnTo>
                    <a:lnTo>
                      <a:pt x="291" y="291"/>
                    </a:lnTo>
                    <a:lnTo>
                      <a:pt x="325" y="241"/>
                    </a:lnTo>
                    <a:lnTo>
                      <a:pt x="341" y="175"/>
                    </a:lnTo>
                    <a:lnTo>
                      <a:pt x="325" y="108"/>
                    </a:lnTo>
                    <a:lnTo>
                      <a:pt x="291" y="50"/>
                    </a:lnTo>
                    <a:lnTo>
                      <a:pt x="241" y="17"/>
                    </a:lnTo>
                    <a:lnTo>
                      <a:pt x="175" y="0"/>
                    </a:lnTo>
                    <a:close/>
                  </a:path>
                </a:pathLst>
              </a:custGeom>
              <a:solidFill>
                <a:srgbClr val="fdfe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rot="20068800">
                <a:off x="8099640" y="4262400"/>
                <a:ext cx="99360" cy="106560"/>
              </a:xfrm>
              <a:custGeom>
                <a:avLst/>
                <a:gdLst/>
                <a:ahLst/>
                <a:rect l="l" t="t" r="r" b="b"/>
                <a:pathLst>
                  <a:path w="325" h="325">
                    <a:moveTo>
                      <a:pt x="167" y="0"/>
                    </a:moveTo>
                    <a:lnTo>
                      <a:pt x="100" y="17"/>
                    </a:lnTo>
                    <a:lnTo>
                      <a:pt x="50" y="50"/>
                    </a:lnTo>
                    <a:lnTo>
                      <a:pt x="8" y="100"/>
                    </a:lnTo>
                    <a:lnTo>
                      <a:pt x="0" y="167"/>
                    </a:lnTo>
                    <a:lnTo>
                      <a:pt x="8" y="233"/>
                    </a:lnTo>
                    <a:lnTo>
                      <a:pt x="50" y="283"/>
                    </a:lnTo>
                    <a:lnTo>
                      <a:pt x="100" y="317"/>
                    </a:lnTo>
                    <a:lnTo>
                      <a:pt x="167" y="325"/>
                    </a:lnTo>
                    <a:lnTo>
                      <a:pt x="225" y="317"/>
                    </a:lnTo>
                    <a:lnTo>
                      <a:pt x="275" y="283"/>
                    </a:lnTo>
                    <a:lnTo>
                      <a:pt x="308" y="233"/>
                    </a:lnTo>
                    <a:lnTo>
                      <a:pt x="325" y="167"/>
                    </a:lnTo>
                    <a:lnTo>
                      <a:pt x="308" y="100"/>
                    </a:lnTo>
                    <a:lnTo>
                      <a:pt x="275" y="50"/>
                    </a:lnTo>
                    <a:lnTo>
                      <a:pt x="225" y="17"/>
                    </a:lnTo>
                    <a:lnTo>
                      <a:pt x="167" y="0"/>
                    </a:lnTo>
                    <a:close/>
                  </a:path>
                </a:pathLst>
              </a:custGeom>
              <a:solidFill>
                <a:srgbClr val="fdfe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20068800">
                <a:off x="8102160" y="4265280"/>
                <a:ext cx="94680" cy="101160"/>
              </a:xfrm>
              <a:custGeom>
                <a:avLst/>
                <a:gdLst/>
                <a:ahLst/>
                <a:rect l="l" t="t" r="r" b="b"/>
                <a:pathLst>
                  <a:path w="309" h="308">
                    <a:moveTo>
                      <a:pt x="159" y="0"/>
                    </a:moveTo>
                    <a:lnTo>
                      <a:pt x="92" y="8"/>
                    </a:lnTo>
                    <a:lnTo>
                      <a:pt x="42" y="41"/>
                    </a:lnTo>
                    <a:lnTo>
                      <a:pt x="9" y="91"/>
                    </a:lnTo>
                    <a:lnTo>
                      <a:pt x="0" y="158"/>
                    </a:lnTo>
                    <a:lnTo>
                      <a:pt x="9" y="216"/>
                    </a:lnTo>
                    <a:lnTo>
                      <a:pt x="42" y="266"/>
                    </a:lnTo>
                    <a:lnTo>
                      <a:pt x="92" y="299"/>
                    </a:lnTo>
                    <a:lnTo>
                      <a:pt x="159" y="308"/>
                    </a:lnTo>
                    <a:lnTo>
                      <a:pt x="217" y="299"/>
                    </a:lnTo>
                    <a:lnTo>
                      <a:pt x="267" y="266"/>
                    </a:lnTo>
                    <a:lnTo>
                      <a:pt x="300" y="216"/>
                    </a:lnTo>
                    <a:lnTo>
                      <a:pt x="309" y="158"/>
                    </a:lnTo>
                    <a:lnTo>
                      <a:pt x="300" y="91"/>
                    </a:lnTo>
                    <a:lnTo>
                      <a:pt x="267" y="41"/>
                    </a:lnTo>
                    <a:lnTo>
                      <a:pt x="217" y="8"/>
                    </a:lnTo>
                    <a:lnTo>
                      <a:pt x="159" y="0"/>
                    </a:lnTo>
                    <a:close/>
                  </a:path>
                </a:pathLst>
              </a:custGeom>
              <a:solidFill>
                <a:srgbClr val="fdfe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20068800">
                <a:off x="8104680" y="4267800"/>
                <a:ext cx="88920" cy="95400"/>
              </a:xfrm>
              <a:custGeom>
                <a:avLst/>
                <a:gdLst/>
                <a:ahLst/>
                <a:rect l="l" t="t" r="r" b="b"/>
                <a:pathLst>
                  <a:path w="291" h="291">
                    <a:moveTo>
                      <a:pt x="150" y="0"/>
                    </a:moveTo>
                    <a:lnTo>
                      <a:pt x="91" y="8"/>
                    </a:lnTo>
                    <a:lnTo>
                      <a:pt x="41" y="42"/>
                    </a:lnTo>
                    <a:lnTo>
                      <a:pt x="8" y="92"/>
                    </a:lnTo>
                    <a:lnTo>
                      <a:pt x="0" y="150"/>
                    </a:lnTo>
                    <a:lnTo>
                      <a:pt x="8" y="208"/>
                    </a:lnTo>
                    <a:lnTo>
                      <a:pt x="41" y="250"/>
                    </a:lnTo>
                    <a:lnTo>
                      <a:pt x="91" y="283"/>
                    </a:lnTo>
                    <a:lnTo>
                      <a:pt x="150" y="291"/>
                    </a:lnTo>
                    <a:lnTo>
                      <a:pt x="200" y="283"/>
                    </a:lnTo>
                    <a:lnTo>
                      <a:pt x="250" y="250"/>
                    </a:lnTo>
                    <a:lnTo>
                      <a:pt x="283" y="208"/>
                    </a:lnTo>
                    <a:lnTo>
                      <a:pt x="291" y="150"/>
                    </a:lnTo>
                    <a:lnTo>
                      <a:pt x="283" y="92"/>
                    </a:lnTo>
                    <a:lnTo>
                      <a:pt x="250" y="42"/>
                    </a:lnTo>
                    <a:lnTo>
                      <a:pt x="200" y="8"/>
                    </a:lnTo>
                    <a:lnTo>
                      <a:pt x="150" y="0"/>
                    </a:lnTo>
                    <a:close/>
                  </a:path>
                </a:pathLst>
              </a:custGeom>
              <a:solidFill>
                <a:srgbClr val="fdfe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20068800">
                <a:off x="8106840" y="4270680"/>
                <a:ext cx="84240" cy="90360"/>
              </a:xfrm>
              <a:custGeom>
                <a:avLst/>
                <a:gdLst/>
                <a:ahLst/>
                <a:rect l="l" t="t" r="r" b="b"/>
                <a:pathLst>
                  <a:path w="275" h="275">
                    <a:moveTo>
                      <a:pt x="142" y="0"/>
                    </a:moveTo>
                    <a:lnTo>
                      <a:pt x="83" y="9"/>
                    </a:lnTo>
                    <a:lnTo>
                      <a:pt x="42" y="42"/>
                    </a:lnTo>
                    <a:lnTo>
                      <a:pt x="8" y="92"/>
                    </a:lnTo>
                    <a:lnTo>
                      <a:pt x="0" y="142"/>
                    </a:lnTo>
                    <a:lnTo>
                      <a:pt x="8" y="192"/>
                    </a:lnTo>
                    <a:lnTo>
                      <a:pt x="42" y="233"/>
                    </a:lnTo>
                    <a:lnTo>
                      <a:pt x="83" y="267"/>
                    </a:lnTo>
                    <a:lnTo>
                      <a:pt x="142" y="275"/>
                    </a:lnTo>
                    <a:lnTo>
                      <a:pt x="192" y="267"/>
                    </a:lnTo>
                    <a:lnTo>
                      <a:pt x="233" y="233"/>
                    </a:lnTo>
                    <a:lnTo>
                      <a:pt x="267" y="192"/>
                    </a:lnTo>
                    <a:lnTo>
                      <a:pt x="275" y="142"/>
                    </a:lnTo>
                    <a:lnTo>
                      <a:pt x="267" y="92"/>
                    </a:lnTo>
                    <a:lnTo>
                      <a:pt x="233" y="42"/>
                    </a:lnTo>
                    <a:lnTo>
                      <a:pt x="192" y="9"/>
                    </a:lnTo>
                    <a:lnTo>
                      <a:pt x="142" y="0"/>
                    </a:lnTo>
                    <a:close/>
                  </a:path>
                </a:pathLst>
              </a:custGeom>
              <a:solidFill>
                <a:srgbClr val="fdfed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90" name=""/>
              <p:cNvSpPr/>
              <p:nvPr/>
            </p:nvSpPr>
            <p:spPr>
              <a:xfrm rot="20068800">
                <a:off x="8109360" y="4273560"/>
                <a:ext cx="79200" cy="84600"/>
              </a:xfrm>
              <a:custGeom>
                <a:avLst/>
                <a:gdLst/>
                <a:ahLst/>
                <a:rect l="l" t="t" r="r" b="b"/>
                <a:pathLst>
                  <a:path w="259" h="258">
                    <a:moveTo>
                      <a:pt x="134" y="0"/>
                    </a:moveTo>
                    <a:lnTo>
                      <a:pt x="84" y="8"/>
                    </a:lnTo>
                    <a:lnTo>
                      <a:pt x="42" y="41"/>
                    </a:lnTo>
                    <a:lnTo>
                      <a:pt x="9" y="83"/>
                    </a:lnTo>
                    <a:lnTo>
                      <a:pt x="0" y="133"/>
                    </a:lnTo>
                    <a:lnTo>
                      <a:pt x="9" y="183"/>
                    </a:lnTo>
                    <a:lnTo>
                      <a:pt x="42" y="224"/>
                    </a:lnTo>
                    <a:lnTo>
                      <a:pt x="84" y="249"/>
                    </a:lnTo>
                    <a:lnTo>
                      <a:pt x="134" y="258"/>
                    </a:lnTo>
                    <a:lnTo>
                      <a:pt x="184" y="249"/>
                    </a:lnTo>
                    <a:lnTo>
                      <a:pt x="225" y="224"/>
                    </a:lnTo>
                    <a:lnTo>
                      <a:pt x="250" y="183"/>
                    </a:lnTo>
                    <a:lnTo>
                      <a:pt x="259" y="133"/>
                    </a:lnTo>
                    <a:lnTo>
                      <a:pt x="250" y="83"/>
                    </a:lnTo>
                    <a:lnTo>
                      <a:pt x="225" y="41"/>
                    </a:lnTo>
                    <a:lnTo>
                      <a:pt x="184" y="8"/>
                    </a:lnTo>
                    <a:lnTo>
                      <a:pt x="134" y="0"/>
                    </a:lnTo>
                    <a:close/>
                  </a:path>
                </a:pathLst>
              </a:custGeom>
              <a:solidFill>
                <a:srgbClr val="fdfee1"/>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91" name=""/>
              <p:cNvSpPr/>
              <p:nvPr/>
            </p:nvSpPr>
            <p:spPr>
              <a:xfrm rot="20068800">
                <a:off x="8112600" y="4276440"/>
                <a:ext cx="73800" cy="78840"/>
              </a:xfrm>
              <a:custGeom>
                <a:avLst/>
                <a:gdLst/>
                <a:ahLst/>
                <a:rect l="l" t="t" r="r" b="b"/>
                <a:pathLst>
                  <a:path w="241" h="241">
                    <a:moveTo>
                      <a:pt x="125" y="0"/>
                    </a:moveTo>
                    <a:lnTo>
                      <a:pt x="75" y="8"/>
                    </a:lnTo>
                    <a:lnTo>
                      <a:pt x="33" y="42"/>
                    </a:lnTo>
                    <a:lnTo>
                      <a:pt x="8" y="75"/>
                    </a:lnTo>
                    <a:lnTo>
                      <a:pt x="0" y="125"/>
                    </a:lnTo>
                    <a:lnTo>
                      <a:pt x="8" y="175"/>
                    </a:lnTo>
                    <a:lnTo>
                      <a:pt x="33" y="208"/>
                    </a:lnTo>
                    <a:lnTo>
                      <a:pt x="75" y="233"/>
                    </a:lnTo>
                    <a:lnTo>
                      <a:pt x="125" y="241"/>
                    </a:lnTo>
                    <a:lnTo>
                      <a:pt x="175" y="233"/>
                    </a:lnTo>
                    <a:lnTo>
                      <a:pt x="208" y="208"/>
                    </a:lnTo>
                    <a:lnTo>
                      <a:pt x="233" y="175"/>
                    </a:lnTo>
                    <a:lnTo>
                      <a:pt x="241" y="125"/>
                    </a:lnTo>
                    <a:lnTo>
                      <a:pt x="233" y="75"/>
                    </a:lnTo>
                    <a:lnTo>
                      <a:pt x="208" y="42"/>
                    </a:lnTo>
                    <a:lnTo>
                      <a:pt x="175" y="8"/>
                    </a:lnTo>
                    <a:lnTo>
                      <a:pt x="125" y="0"/>
                    </a:lnTo>
                    <a:close/>
                  </a:path>
                </a:pathLst>
              </a:custGeom>
              <a:solidFill>
                <a:srgbClr val="fefee4"/>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992" name=""/>
              <p:cNvSpPr/>
              <p:nvPr/>
            </p:nvSpPr>
            <p:spPr>
              <a:xfrm rot="20068800">
                <a:off x="8114400" y="4278600"/>
                <a:ext cx="68760" cy="73800"/>
              </a:xfrm>
              <a:custGeom>
                <a:avLst/>
                <a:gdLst/>
                <a:ahLst/>
                <a:rect l="l" t="t" r="r" b="b"/>
                <a:pathLst>
                  <a:path w="225" h="225">
                    <a:moveTo>
                      <a:pt x="117" y="0"/>
                    </a:moveTo>
                    <a:lnTo>
                      <a:pt x="67" y="9"/>
                    </a:lnTo>
                    <a:lnTo>
                      <a:pt x="33" y="34"/>
                    </a:lnTo>
                    <a:lnTo>
                      <a:pt x="8" y="67"/>
                    </a:lnTo>
                    <a:lnTo>
                      <a:pt x="0" y="117"/>
                    </a:lnTo>
                    <a:lnTo>
                      <a:pt x="8" y="158"/>
                    </a:lnTo>
                    <a:lnTo>
                      <a:pt x="33" y="200"/>
                    </a:lnTo>
                    <a:lnTo>
                      <a:pt x="67" y="217"/>
                    </a:lnTo>
                    <a:lnTo>
                      <a:pt x="117" y="225"/>
                    </a:lnTo>
                    <a:lnTo>
                      <a:pt x="158" y="217"/>
                    </a:lnTo>
                    <a:lnTo>
                      <a:pt x="192" y="200"/>
                    </a:lnTo>
                    <a:lnTo>
                      <a:pt x="217" y="158"/>
                    </a:lnTo>
                    <a:lnTo>
                      <a:pt x="225" y="117"/>
                    </a:lnTo>
                    <a:lnTo>
                      <a:pt x="217" y="67"/>
                    </a:lnTo>
                    <a:lnTo>
                      <a:pt x="192" y="34"/>
                    </a:lnTo>
                    <a:lnTo>
                      <a:pt x="158" y="9"/>
                    </a:lnTo>
                    <a:lnTo>
                      <a:pt x="117" y="0"/>
                    </a:lnTo>
                    <a:close/>
                  </a:path>
                </a:pathLst>
              </a:custGeom>
              <a:solidFill>
                <a:srgbClr val="fefee7"/>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93" name=""/>
              <p:cNvSpPr/>
              <p:nvPr/>
            </p:nvSpPr>
            <p:spPr>
              <a:xfrm rot="20068800">
                <a:off x="8117640" y="4280760"/>
                <a:ext cx="66240" cy="70920"/>
              </a:xfrm>
              <a:custGeom>
                <a:avLst/>
                <a:gdLst/>
                <a:ahLst/>
                <a:rect l="l" t="t" r="r" b="b"/>
                <a:pathLst>
                  <a:path w="217" h="216">
                    <a:moveTo>
                      <a:pt x="109" y="0"/>
                    </a:moveTo>
                    <a:lnTo>
                      <a:pt x="67" y="8"/>
                    </a:lnTo>
                    <a:lnTo>
                      <a:pt x="34" y="33"/>
                    </a:lnTo>
                    <a:lnTo>
                      <a:pt x="9" y="66"/>
                    </a:lnTo>
                    <a:lnTo>
                      <a:pt x="0" y="108"/>
                    </a:lnTo>
                    <a:lnTo>
                      <a:pt x="9" y="149"/>
                    </a:lnTo>
                    <a:lnTo>
                      <a:pt x="34" y="183"/>
                    </a:lnTo>
                    <a:lnTo>
                      <a:pt x="67" y="208"/>
                    </a:lnTo>
                    <a:lnTo>
                      <a:pt x="109" y="216"/>
                    </a:lnTo>
                    <a:lnTo>
                      <a:pt x="150" y="208"/>
                    </a:lnTo>
                    <a:lnTo>
                      <a:pt x="184" y="183"/>
                    </a:lnTo>
                    <a:lnTo>
                      <a:pt x="209" y="149"/>
                    </a:lnTo>
                    <a:lnTo>
                      <a:pt x="217" y="108"/>
                    </a:lnTo>
                    <a:lnTo>
                      <a:pt x="209" y="66"/>
                    </a:lnTo>
                    <a:lnTo>
                      <a:pt x="184" y="33"/>
                    </a:lnTo>
                    <a:lnTo>
                      <a:pt x="150" y="8"/>
                    </a:lnTo>
                    <a:lnTo>
                      <a:pt x="109" y="0"/>
                    </a:lnTo>
                    <a:close/>
                  </a:path>
                </a:pathLst>
              </a:custGeom>
              <a:solidFill>
                <a:srgbClr val="fefeea"/>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994" name=""/>
              <p:cNvSpPr/>
              <p:nvPr/>
            </p:nvSpPr>
            <p:spPr>
              <a:xfrm rot="20068800">
                <a:off x="8120160" y="4283280"/>
                <a:ext cx="61200" cy="65520"/>
              </a:xfrm>
              <a:custGeom>
                <a:avLst/>
                <a:gdLst/>
                <a:ahLst/>
                <a:rect l="l" t="t" r="r" b="b"/>
                <a:pathLst>
                  <a:path w="200" h="200">
                    <a:moveTo>
                      <a:pt x="100" y="0"/>
                    </a:moveTo>
                    <a:lnTo>
                      <a:pt x="58" y="8"/>
                    </a:lnTo>
                    <a:lnTo>
                      <a:pt x="25" y="25"/>
                    </a:lnTo>
                    <a:lnTo>
                      <a:pt x="8" y="58"/>
                    </a:lnTo>
                    <a:lnTo>
                      <a:pt x="0" y="100"/>
                    </a:lnTo>
                    <a:lnTo>
                      <a:pt x="8" y="133"/>
                    </a:lnTo>
                    <a:lnTo>
                      <a:pt x="25" y="166"/>
                    </a:lnTo>
                    <a:lnTo>
                      <a:pt x="58" y="191"/>
                    </a:lnTo>
                    <a:lnTo>
                      <a:pt x="100" y="200"/>
                    </a:lnTo>
                    <a:lnTo>
                      <a:pt x="133" y="191"/>
                    </a:lnTo>
                    <a:lnTo>
                      <a:pt x="166" y="166"/>
                    </a:lnTo>
                    <a:lnTo>
                      <a:pt x="191" y="133"/>
                    </a:lnTo>
                    <a:lnTo>
                      <a:pt x="200" y="100"/>
                    </a:lnTo>
                    <a:lnTo>
                      <a:pt x="191" y="58"/>
                    </a:lnTo>
                    <a:lnTo>
                      <a:pt x="166" y="25"/>
                    </a:lnTo>
                    <a:lnTo>
                      <a:pt x="133" y="8"/>
                    </a:lnTo>
                    <a:lnTo>
                      <a:pt x="100" y="0"/>
                    </a:lnTo>
                    <a:close/>
                  </a:path>
                </a:pathLst>
              </a:custGeom>
              <a:solidFill>
                <a:srgbClr val="fefeed"/>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5" name=""/>
              <p:cNvSpPr/>
              <p:nvPr/>
            </p:nvSpPr>
            <p:spPr>
              <a:xfrm rot="20068800">
                <a:off x="8123040" y="4286520"/>
                <a:ext cx="55800" cy="60120"/>
              </a:xfrm>
              <a:custGeom>
                <a:avLst/>
                <a:gdLst/>
                <a:ahLst/>
                <a:rect l="l" t="t" r="r" b="b"/>
                <a:pathLst>
                  <a:path w="183" h="183">
                    <a:moveTo>
                      <a:pt x="92" y="0"/>
                    </a:moveTo>
                    <a:lnTo>
                      <a:pt x="58" y="9"/>
                    </a:lnTo>
                    <a:lnTo>
                      <a:pt x="25" y="25"/>
                    </a:lnTo>
                    <a:lnTo>
                      <a:pt x="8" y="58"/>
                    </a:lnTo>
                    <a:lnTo>
                      <a:pt x="0" y="92"/>
                    </a:lnTo>
                    <a:lnTo>
                      <a:pt x="8" y="125"/>
                    </a:lnTo>
                    <a:lnTo>
                      <a:pt x="25" y="158"/>
                    </a:lnTo>
                    <a:lnTo>
                      <a:pt x="58" y="175"/>
                    </a:lnTo>
                    <a:lnTo>
                      <a:pt x="92" y="183"/>
                    </a:lnTo>
                    <a:lnTo>
                      <a:pt x="125" y="175"/>
                    </a:lnTo>
                    <a:lnTo>
                      <a:pt x="158" y="158"/>
                    </a:lnTo>
                    <a:lnTo>
                      <a:pt x="175" y="125"/>
                    </a:lnTo>
                    <a:lnTo>
                      <a:pt x="183" y="92"/>
                    </a:lnTo>
                    <a:lnTo>
                      <a:pt x="175" y="58"/>
                    </a:lnTo>
                    <a:lnTo>
                      <a:pt x="158" y="25"/>
                    </a:lnTo>
                    <a:lnTo>
                      <a:pt x="125" y="9"/>
                    </a:lnTo>
                    <a:lnTo>
                      <a:pt x="92" y="0"/>
                    </a:lnTo>
                    <a:close/>
                  </a:path>
                </a:pathLst>
              </a:custGeom>
              <a:solidFill>
                <a:srgbClr val="fefef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96" name=""/>
              <p:cNvSpPr/>
              <p:nvPr/>
            </p:nvSpPr>
            <p:spPr>
              <a:xfrm rot="20068800">
                <a:off x="8125200" y="4289400"/>
                <a:ext cx="51120" cy="54360"/>
              </a:xfrm>
              <a:custGeom>
                <a:avLst/>
                <a:gdLst/>
                <a:ahLst/>
                <a:rect l="l" t="t" r="r" b="b"/>
                <a:pathLst>
                  <a:path w="167" h="166">
                    <a:moveTo>
                      <a:pt x="84" y="0"/>
                    </a:moveTo>
                    <a:lnTo>
                      <a:pt x="50" y="8"/>
                    </a:lnTo>
                    <a:lnTo>
                      <a:pt x="25" y="25"/>
                    </a:lnTo>
                    <a:lnTo>
                      <a:pt x="9" y="49"/>
                    </a:lnTo>
                    <a:lnTo>
                      <a:pt x="0" y="83"/>
                    </a:lnTo>
                    <a:lnTo>
                      <a:pt x="9" y="116"/>
                    </a:lnTo>
                    <a:lnTo>
                      <a:pt x="25" y="141"/>
                    </a:lnTo>
                    <a:lnTo>
                      <a:pt x="50" y="158"/>
                    </a:lnTo>
                    <a:lnTo>
                      <a:pt x="84" y="166"/>
                    </a:lnTo>
                    <a:lnTo>
                      <a:pt x="117" y="158"/>
                    </a:lnTo>
                    <a:lnTo>
                      <a:pt x="142" y="141"/>
                    </a:lnTo>
                    <a:lnTo>
                      <a:pt x="159" y="116"/>
                    </a:lnTo>
                    <a:lnTo>
                      <a:pt x="167" y="83"/>
                    </a:lnTo>
                    <a:lnTo>
                      <a:pt x="159" y="49"/>
                    </a:lnTo>
                    <a:lnTo>
                      <a:pt x="142" y="25"/>
                    </a:lnTo>
                    <a:lnTo>
                      <a:pt x="117" y="8"/>
                    </a:lnTo>
                    <a:lnTo>
                      <a:pt x="84" y="0"/>
                    </a:lnTo>
                    <a:close/>
                  </a:path>
                </a:pathLst>
              </a:custGeom>
              <a:solidFill>
                <a:srgbClr val="fefef2"/>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97" name=""/>
              <p:cNvSpPr/>
              <p:nvPr/>
            </p:nvSpPr>
            <p:spPr>
              <a:xfrm rot="20068800">
                <a:off x="8128080" y="4291920"/>
                <a:ext cx="45720" cy="48960"/>
              </a:xfrm>
              <a:custGeom>
                <a:avLst/>
                <a:gdLst/>
                <a:ahLst/>
                <a:rect l="l" t="t" r="r" b="b"/>
                <a:pathLst>
                  <a:path w="150" h="150">
                    <a:moveTo>
                      <a:pt x="75" y="0"/>
                    </a:moveTo>
                    <a:lnTo>
                      <a:pt x="50" y="8"/>
                    </a:lnTo>
                    <a:lnTo>
                      <a:pt x="25" y="25"/>
                    </a:lnTo>
                    <a:lnTo>
                      <a:pt x="8" y="50"/>
                    </a:lnTo>
                    <a:lnTo>
                      <a:pt x="0" y="75"/>
                    </a:lnTo>
                    <a:lnTo>
                      <a:pt x="8" y="108"/>
                    </a:lnTo>
                    <a:lnTo>
                      <a:pt x="25" y="125"/>
                    </a:lnTo>
                    <a:lnTo>
                      <a:pt x="50" y="141"/>
                    </a:lnTo>
                    <a:lnTo>
                      <a:pt x="75" y="150"/>
                    </a:lnTo>
                    <a:lnTo>
                      <a:pt x="108" y="141"/>
                    </a:lnTo>
                    <a:lnTo>
                      <a:pt x="125" y="125"/>
                    </a:lnTo>
                    <a:lnTo>
                      <a:pt x="141" y="108"/>
                    </a:lnTo>
                    <a:lnTo>
                      <a:pt x="150" y="75"/>
                    </a:lnTo>
                    <a:lnTo>
                      <a:pt x="141" y="50"/>
                    </a:lnTo>
                    <a:lnTo>
                      <a:pt x="125" y="25"/>
                    </a:lnTo>
                    <a:lnTo>
                      <a:pt x="108" y="8"/>
                    </a:lnTo>
                    <a:lnTo>
                      <a:pt x="75" y="0"/>
                    </a:lnTo>
                    <a:close/>
                  </a:path>
                </a:pathLst>
              </a:custGeom>
              <a:solidFill>
                <a:srgbClr val="fefef4"/>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98" name=""/>
              <p:cNvSpPr/>
              <p:nvPr/>
            </p:nvSpPr>
            <p:spPr>
              <a:xfrm rot="20068800">
                <a:off x="8130600" y="4294440"/>
                <a:ext cx="40680" cy="43560"/>
              </a:xfrm>
              <a:custGeom>
                <a:avLst/>
                <a:gdLst/>
                <a:ahLst/>
                <a:rect l="l" t="t" r="r" b="b"/>
                <a:pathLst>
                  <a:path w="133" h="133">
                    <a:moveTo>
                      <a:pt x="67" y="0"/>
                    </a:moveTo>
                    <a:lnTo>
                      <a:pt x="42" y="9"/>
                    </a:lnTo>
                    <a:lnTo>
                      <a:pt x="17" y="25"/>
                    </a:lnTo>
                    <a:lnTo>
                      <a:pt x="8" y="42"/>
                    </a:lnTo>
                    <a:lnTo>
                      <a:pt x="0" y="67"/>
                    </a:lnTo>
                    <a:lnTo>
                      <a:pt x="8" y="92"/>
                    </a:lnTo>
                    <a:lnTo>
                      <a:pt x="17" y="117"/>
                    </a:lnTo>
                    <a:lnTo>
                      <a:pt x="42" y="125"/>
                    </a:lnTo>
                    <a:lnTo>
                      <a:pt x="67" y="133"/>
                    </a:lnTo>
                    <a:lnTo>
                      <a:pt x="92" y="125"/>
                    </a:lnTo>
                    <a:lnTo>
                      <a:pt x="117" y="117"/>
                    </a:lnTo>
                    <a:lnTo>
                      <a:pt x="125" y="92"/>
                    </a:lnTo>
                    <a:lnTo>
                      <a:pt x="133" y="67"/>
                    </a:lnTo>
                    <a:lnTo>
                      <a:pt x="125" y="42"/>
                    </a:lnTo>
                    <a:lnTo>
                      <a:pt x="117" y="25"/>
                    </a:lnTo>
                    <a:lnTo>
                      <a:pt x="92" y="9"/>
                    </a:lnTo>
                    <a:lnTo>
                      <a:pt x="67" y="0"/>
                    </a:lnTo>
                    <a:close/>
                  </a:path>
                </a:pathLst>
              </a:custGeom>
              <a:solidFill>
                <a:srgbClr val="fefef6"/>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99" name=""/>
              <p:cNvSpPr/>
              <p:nvPr/>
            </p:nvSpPr>
            <p:spPr>
              <a:xfrm rot="20068800">
                <a:off x="8133120" y="4297320"/>
                <a:ext cx="35640" cy="37800"/>
              </a:xfrm>
              <a:custGeom>
                <a:avLst/>
                <a:gdLst/>
                <a:ahLst/>
                <a:rect l="l" t="t" r="r" b="b"/>
                <a:pathLst>
                  <a:path w="117" h="116">
                    <a:moveTo>
                      <a:pt x="59" y="0"/>
                    </a:moveTo>
                    <a:lnTo>
                      <a:pt x="34" y="8"/>
                    </a:lnTo>
                    <a:lnTo>
                      <a:pt x="17" y="16"/>
                    </a:lnTo>
                    <a:lnTo>
                      <a:pt x="9" y="33"/>
                    </a:lnTo>
                    <a:lnTo>
                      <a:pt x="0" y="58"/>
                    </a:lnTo>
                    <a:lnTo>
                      <a:pt x="9" y="83"/>
                    </a:lnTo>
                    <a:lnTo>
                      <a:pt x="17" y="99"/>
                    </a:lnTo>
                    <a:lnTo>
                      <a:pt x="34" y="116"/>
                    </a:lnTo>
                    <a:lnTo>
                      <a:pt x="59" y="116"/>
                    </a:lnTo>
                    <a:lnTo>
                      <a:pt x="84" y="116"/>
                    </a:lnTo>
                    <a:lnTo>
                      <a:pt x="100" y="99"/>
                    </a:lnTo>
                    <a:lnTo>
                      <a:pt x="117" y="83"/>
                    </a:lnTo>
                    <a:lnTo>
                      <a:pt x="117" y="58"/>
                    </a:lnTo>
                    <a:lnTo>
                      <a:pt x="117" y="33"/>
                    </a:lnTo>
                    <a:lnTo>
                      <a:pt x="100" y="16"/>
                    </a:lnTo>
                    <a:lnTo>
                      <a:pt x="84" y="8"/>
                    </a:lnTo>
                    <a:lnTo>
                      <a:pt x="59" y="0"/>
                    </a:lnTo>
                    <a:close/>
                  </a:path>
                </a:pathLst>
              </a:custGeom>
              <a:solidFill>
                <a:srgbClr val="fefef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00" name=""/>
              <p:cNvSpPr/>
              <p:nvPr/>
            </p:nvSpPr>
            <p:spPr>
              <a:xfrm rot="20068800">
                <a:off x="8135640" y="4300200"/>
                <a:ext cx="30600" cy="32760"/>
              </a:xfrm>
              <a:custGeom>
                <a:avLst/>
                <a:gdLst/>
                <a:ahLst/>
                <a:rect l="l" t="t" r="r" b="b"/>
                <a:pathLst>
                  <a:path w="100" h="100">
                    <a:moveTo>
                      <a:pt x="50" y="0"/>
                    </a:moveTo>
                    <a:lnTo>
                      <a:pt x="33" y="8"/>
                    </a:lnTo>
                    <a:lnTo>
                      <a:pt x="16" y="16"/>
                    </a:lnTo>
                    <a:lnTo>
                      <a:pt x="8" y="33"/>
                    </a:lnTo>
                    <a:lnTo>
                      <a:pt x="0" y="50"/>
                    </a:lnTo>
                    <a:lnTo>
                      <a:pt x="8" y="66"/>
                    </a:lnTo>
                    <a:lnTo>
                      <a:pt x="16" y="83"/>
                    </a:lnTo>
                    <a:lnTo>
                      <a:pt x="33" y="100"/>
                    </a:lnTo>
                    <a:lnTo>
                      <a:pt x="50" y="100"/>
                    </a:lnTo>
                    <a:lnTo>
                      <a:pt x="66" y="100"/>
                    </a:lnTo>
                    <a:lnTo>
                      <a:pt x="83" y="83"/>
                    </a:lnTo>
                    <a:lnTo>
                      <a:pt x="100" y="66"/>
                    </a:lnTo>
                    <a:lnTo>
                      <a:pt x="100" y="50"/>
                    </a:lnTo>
                    <a:lnTo>
                      <a:pt x="100" y="33"/>
                    </a:lnTo>
                    <a:lnTo>
                      <a:pt x="83" y="16"/>
                    </a:lnTo>
                    <a:lnTo>
                      <a:pt x="66" y="8"/>
                    </a:lnTo>
                    <a:lnTo>
                      <a:pt x="50" y="0"/>
                    </a:lnTo>
                    <a:close/>
                  </a:path>
                </a:pathLst>
              </a:custGeom>
              <a:solidFill>
                <a:srgbClr val="fefef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1" name=""/>
              <p:cNvSpPr/>
              <p:nvPr/>
            </p:nvSpPr>
            <p:spPr>
              <a:xfrm rot="20068800">
                <a:off x="8137800" y="4302720"/>
                <a:ext cx="25200" cy="27000"/>
              </a:xfrm>
              <a:custGeom>
                <a:avLst/>
                <a:gdLst/>
                <a:ahLst/>
                <a:rect l="l" t="t" r="r" b="b"/>
                <a:pathLst>
                  <a:path w="83" h="83">
                    <a:moveTo>
                      <a:pt x="42" y="0"/>
                    </a:moveTo>
                    <a:lnTo>
                      <a:pt x="8" y="8"/>
                    </a:lnTo>
                    <a:lnTo>
                      <a:pt x="0" y="42"/>
                    </a:lnTo>
                    <a:lnTo>
                      <a:pt x="8" y="75"/>
                    </a:lnTo>
                    <a:lnTo>
                      <a:pt x="42" y="83"/>
                    </a:lnTo>
                    <a:lnTo>
                      <a:pt x="75" y="75"/>
                    </a:lnTo>
                    <a:lnTo>
                      <a:pt x="83" y="42"/>
                    </a:lnTo>
                    <a:lnTo>
                      <a:pt x="75" y="8"/>
                    </a:lnTo>
                    <a:lnTo>
                      <a:pt x="42" y="0"/>
                    </a:lnTo>
                    <a:close/>
                  </a:path>
                </a:pathLst>
              </a:custGeom>
              <a:solidFill>
                <a:srgbClr val="fefef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2" name=""/>
              <p:cNvSpPr/>
              <p:nvPr/>
            </p:nvSpPr>
            <p:spPr>
              <a:xfrm rot="20068800">
                <a:off x="8140680" y="4305240"/>
                <a:ext cx="20160" cy="21960"/>
              </a:xfrm>
              <a:custGeom>
                <a:avLst/>
                <a:gdLst/>
                <a:ahLst/>
                <a:rect l="l" t="t" r="r" b="b"/>
                <a:pathLst>
                  <a:path w="67" h="67">
                    <a:moveTo>
                      <a:pt x="34" y="0"/>
                    </a:moveTo>
                    <a:lnTo>
                      <a:pt x="9" y="9"/>
                    </a:lnTo>
                    <a:lnTo>
                      <a:pt x="0" y="34"/>
                    </a:lnTo>
                    <a:lnTo>
                      <a:pt x="9" y="59"/>
                    </a:lnTo>
                    <a:lnTo>
                      <a:pt x="34" y="67"/>
                    </a:lnTo>
                    <a:lnTo>
                      <a:pt x="59" y="59"/>
                    </a:lnTo>
                    <a:lnTo>
                      <a:pt x="67" y="34"/>
                    </a:lnTo>
                    <a:lnTo>
                      <a:pt x="59" y="9"/>
                    </a:lnTo>
                    <a:lnTo>
                      <a:pt x="34" y="0"/>
                    </a:lnTo>
                    <a:close/>
                  </a:path>
                </a:pathLst>
              </a:custGeom>
              <a:solidFill>
                <a:srgbClr val="fefef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03" name=""/>
              <p:cNvSpPr/>
              <p:nvPr/>
            </p:nvSpPr>
            <p:spPr>
              <a:xfrm rot="20068800">
                <a:off x="8143560" y="4308120"/>
                <a:ext cx="15120" cy="16200"/>
              </a:xfrm>
              <a:custGeom>
                <a:avLst/>
                <a:gdLst/>
                <a:ahLst/>
                <a:rect l="l" t="t" r="r" b="b"/>
                <a:pathLst>
                  <a:path w="50" h="50">
                    <a:moveTo>
                      <a:pt x="25" y="0"/>
                    </a:moveTo>
                    <a:lnTo>
                      <a:pt x="8" y="8"/>
                    </a:lnTo>
                    <a:lnTo>
                      <a:pt x="0" y="25"/>
                    </a:lnTo>
                    <a:lnTo>
                      <a:pt x="8" y="41"/>
                    </a:lnTo>
                    <a:lnTo>
                      <a:pt x="25" y="50"/>
                    </a:lnTo>
                    <a:lnTo>
                      <a:pt x="41" y="41"/>
                    </a:lnTo>
                    <a:lnTo>
                      <a:pt x="50" y="25"/>
                    </a:lnTo>
                    <a:lnTo>
                      <a:pt x="41" y="8"/>
                    </a:lnTo>
                    <a:lnTo>
                      <a:pt x="25" y="0"/>
                    </a:lnTo>
                    <a:close/>
                  </a:path>
                </a:pathLst>
              </a:custGeom>
              <a:solidFill>
                <a:srgbClr val="fefefc"/>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4" name=""/>
              <p:cNvSpPr/>
              <p:nvPr/>
            </p:nvSpPr>
            <p:spPr>
              <a:xfrm rot="20068800">
                <a:off x="8146080" y="4310640"/>
                <a:ext cx="10080" cy="10800"/>
              </a:xfrm>
              <a:custGeom>
                <a:avLst/>
                <a:gdLst/>
                <a:ahLst/>
                <a:rect l="l" t="t" r="r" b="b"/>
                <a:pathLst>
                  <a:path w="33" h="33">
                    <a:moveTo>
                      <a:pt x="17" y="0"/>
                    </a:moveTo>
                    <a:lnTo>
                      <a:pt x="8" y="8"/>
                    </a:lnTo>
                    <a:lnTo>
                      <a:pt x="0" y="17"/>
                    </a:lnTo>
                    <a:lnTo>
                      <a:pt x="8" y="25"/>
                    </a:lnTo>
                    <a:lnTo>
                      <a:pt x="17" y="33"/>
                    </a:lnTo>
                    <a:lnTo>
                      <a:pt x="25" y="25"/>
                    </a:lnTo>
                    <a:lnTo>
                      <a:pt x="33" y="17"/>
                    </a:lnTo>
                    <a:lnTo>
                      <a:pt x="25" y="8"/>
                    </a:lnTo>
                    <a:lnTo>
                      <a:pt x="17" y="0"/>
                    </a:lnTo>
                    <a:close/>
                  </a:path>
                </a:pathLst>
              </a:custGeom>
              <a:solidFill>
                <a:srgbClr val="fefef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05" name=""/>
              <p:cNvSpPr/>
              <p:nvPr/>
            </p:nvSpPr>
            <p:spPr>
              <a:xfrm rot="20068800">
                <a:off x="8148240" y="4313520"/>
                <a:ext cx="5040" cy="5400"/>
              </a:xfrm>
              <a:custGeom>
                <a:avLst/>
                <a:gdLst/>
                <a:ahLst/>
                <a:rect l="l" t="t" r="r" b="b"/>
                <a:pathLst>
                  <a:path w="17" h="17">
                    <a:moveTo>
                      <a:pt x="9" y="0"/>
                    </a:moveTo>
                    <a:lnTo>
                      <a:pt x="0" y="0"/>
                    </a:lnTo>
                    <a:lnTo>
                      <a:pt x="0" y="9"/>
                    </a:lnTo>
                    <a:lnTo>
                      <a:pt x="0" y="17"/>
                    </a:lnTo>
                    <a:lnTo>
                      <a:pt x="9" y="17"/>
                    </a:lnTo>
                    <a:lnTo>
                      <a:pt x="17" y="17"/>
                    </a:lnTo>
                    <a:lnTo>
                      <a:pt x="17" y="9"/>
                    </a:lnTo>
                    <a:lnTo>
                      <a:pt x="17" y="0"/>
                    </a:lnTo>
                    <a:lnTo>
                      <a:pt x="9" y="0"/>
                    </a:lnTo>
                    <a:close/>
                  </a:path>
                </a:pathLst>
              </a:cu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sp>
          <p:nvSpPr>
            <p:cNvPr id="1006" name=""/>
            <p:cNvSpPr/>
            <p:nvPr/>
          </p:nvSpPr>
          <p:spPr>
            <a:xfrm rot="20068800">
              <a:off x="8038800" y="4239360"/>
              <a:ext cx="89640" cy="9576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07" name=""/>
            <p:cNvSpPr/>
            <p:nvPr/>
          </p:nvSpPr>
          <p:spPr>
            <a:xfrm rot="20068800">
              <a:off x="8092080" y="4229280"/>
              <a:ext cx="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a:t>
              </a:r>
              <a:endParaRPr b="0" lang="en-US" sz="1400" spc="-1" strike="noStrike">
                <a:solidFill>
                  <a:srgbClr val="ffffff"/>
                </a:solidFill>
                <a:latin typeface="Times New Roman"/>
              </a:endParaRPr>
            </a:p>
          </p:txBody>
        </p:sp>
      </p:grpSp>
      <p:sp>
        <p:nvSpPr>
          <p:cNvPr id="4" name="PlaceHolder 3"/>
          <p:cNvSpPr>
            <a:spLocks noGrp="1"/>
          </p:cNvSpPr>
          <p:nvPr>
            <p:ph type="sldNum" idx="1"/>
          </p:nvPr>
        </p:nvSpPr>
        <p:spPr/>
        <p:txBody>
          <a:bodyPr/>
          <a:p>
            <a:fld id="{887AE59E-BA2A-43FC-B143-62AF52D241C7}" type="slidenum">
              <a:t>26</a:t>
            </a:fld>
          </a:p>
        </p:txBody>
      </p:sp>
    </p:spTree>
  </p:cSld>
  <p:transition spd="med">
    <p:pull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758">
                                            <p:txEl>
                                              <p:pRg st="0" end="0"/>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758">
                                            <p:txEl>
                                              <p:pRg st="1" end="1"/>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758">
                                            <p:txEl>
                                              <p:pRg st="2" end="2"/>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758">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499"/>
                                          </p:stCondLst>
                                        </p:cTn>
                                        <p:tgtEl>
                                          <p:spTgt spid="758">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499"/>
                                          </p:stCondLst>
                                        </p:cTn>
                                        <p:tgtEl>
                                          <p:spTgt spid="75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758">
                                            <p:txEl>
                                              <p:pRg st="8" end="8"/>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499"/>
                                          </p:stCondLst>
                                        </p:cTn>
                                        <p:tgtEl>
                                          <p:spTgt spid="7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669960"/>
            <a:ext cx="7842240" cy="54936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How It Works – Policy</a:t>
            </a:r>
            <a:br>
              <a:rPr sz="3200"/>
            </a:br>
            <a:endParaRPr b="1" lang="en-US" sz="3200" spc="-1" strike="noStrike">
              <a:solidFill>
                <a:srgbClr val="ffffff"/>
              </a:solidFill>
              <a:latin typeface="Arial"/>
            </a:endParaRPr>
          </a:p>
        </p:txBody>
      </p:sp>
      <p:grpSp>
        <p:nvGrpSpPr>
          <p:cNvPr id="1009" name=""/>
          <p:cNvGrpSpPr/>
          <p:nvPr/>
        </p:nvGrpSpPr>
        <p:grpSpPr>
          <a:xfrm>
            <a:off x="542880" y="1584360"/>
            <a:ext cx="8067600" cy="4818240"/>
            <a:chOff x="542880" y="1584360"/>
            <a:chExt cx="8067600" cy="4818240"/>
          </a:xfrm>
        </p:grpSpPr>
        <p:graphicFrame>
          <p:nvGraphicFramePr>
            <p:cNvPr id="1010" name=""/>
            <p:cNvGraphicFramePr/>
            <p:nvPr/>
          </p:nvGraphicFramePr>
          <p:xfrm>
            <a:off x="762120" y="1584360"/>
            <a:ext cx="7449840" cy="4502160"/>
          </p:xfrm>
          <a:graphic>
            <a:graphicData uri="http://schemas.openxmlformats.org/presentationml/2006/ole">
              <p:oleObj r:id="rId1" spid="">
                <p:embed/>
                <p:pic>
                  <p:nvPicPr>
                    <p:cNvPr id="1011" name="" descr=""/>
                    <p:cNvPicPr/>
                    <p:nvPr/>
                  </p:nvPicPr>
                  <p:blipFill>
                    <a:blip r:embed="rId2"/>
                    <a:stretch/>
                  </p:blipFill>
                  <p:spPr>
                    <a:xfrm>
                      <a:off x="762120" y="1584360"/>
                      <a:ext cx="7449840" cy="4502160"/>
                    </a:xfrm>
                    <a:prstGeom prst="rect">
                      <a:avLst/>
                    </a:prstGeom>
                    <a:ln w="0">
                      <a:noFill/>
                    </a:ln>
                  </p:spPr>
                </p:pic>
              </p:oleObj>
            </a:graphicData>
          </a:graphic>
        </p:graphicFrame>
        <p:sp>
          <p:nvSpPr>
            <p:cNvPr id="1012" name=""/>
            <p:cNvSpPr/>
            <p:nvPr/>
          </p:nvSpPr>
          <p:spPr>
            <a:xfrm rot="16200000">
              <a:off x="-149760" y="3485160"/>
              <a:ext cx="17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 Rate</a:t>
              </a:r>
              <a:endParaRPr b="0" lang="en-US" sz="1800" spc="-1" strike="noStrike">
                <a:solidFill>
                  <a:srgbClr val="ffffff"/>
                </a:solidFill>
                <a:latin typeface="Times New Roman"/>
              </a:endParaRPr>
            </a:p>
          </p:txBody>
        </p:sp>
        <p:sp>
          <p:nvSpPr>
            <p:cNvPr id="1013" name=""/>
            <p:cNvSpPr/>
            <p:nvPr/>
          </p:nvSpPr>
          <p:spPr>
            <a:xfrm>
              <a:off x="990720" y="5699160"/>
              <a:ext cx="1600200" cy="70344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Score</a:t>
              </a:r>
              <a:endParaRPr b="0" lang="en-US" sz="2000" spc="-1" strike="noStrike">
                <a:solidFill>
                  <a:srgbClr val="ffffff"/>
                </a:solidFill>
                <a:latin typeface="Times New Roman"/>
              </a:endParaRPr>
            </a:p>
          </p:txBody>
        </p:sp>
        <p:sp>
          <p:nvSpPr>
            <p:cNvPr id="1014" name=""/>
            <p:cNvSpPr/>
            <p:nvPr/>
          </p:nvSpPr>
          <p:spPr>
            <a:xfrm>
              <a:off x="7010280" y="5699160"/>
              <a:ext cx="1600200" cy="70344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Score</a:t>
              </a:r>
              <a:endParaRPr b="0" lang="en-US" sz="2000" spc="-1" strike="noStrike">
                <a:solidFill>
                  <a:srgbClr val="ffffff"/>
                </a:solidFill>
                <a:latin typeface="Times New Roman"/>
              </a:endParaRPr>
            </a:p>
          </p:txBody>
        </p:sp>
        <p:sp>
          <p:nvSpPr>
            <p:cNvPr id="1015" name=""/>
            <p:cNvSpPr/>
            <p:nvPr/>
          </p:nvSpPr>
          <p:spPr>
            <a:xfrm>
              <a:off x="2425680" y="6124680"/>
              <a:ext cx="4572000" cy="0"/>
            </a:xfrm>
            <a:prstGeom prst="line">
              <a:avLst/>
            </a:prstGeom>
            <a:ln w="1260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016" name=""/>
          <p:cNvGrpSpPr/>
          <p:nvPr/>
        </p:nvGrpSpPr>
        <p:grpSpPr>
          <a:xfrm>
            <a:off x="6019560" y="2886120"/>
            <a:ext cx="2743560" cy="3048120"/>
            <a:chOff x="6019560" y="2886120"/>
            <a:chExt cx="2743560" cy="3048120"/>
          </a:xfrm>
        </p:grpSpPr>
        <p:sp>
          <p:nvSpPr>
            <p:cNvPr id="1017" name=""/>
            <p:cNvSpPr/>
            <p:nvPr/>
          </p:nvSpPr>
          <p:spPr>
            <a:xfrm>
              <a:off x="6019920" y="3038760"/>
              <a:ext cx="0" cy="2895480"/>
            </a:xfrm>
            <a:prstGeom prst="line">
              <a:avLst/>
            </a:prstGeom>
            <a:ln w="936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018" name=""/>
            <p:cNvGrpSpPr/>
            <p:nvPr/>
          </p:nvGrpSpPr>
          <p:grpSpPr>
            <a:xfrm>
              <a:off x="6019560" y="2886120"/>
              <a:ext cx="2743560" cy="609840"/>
              <a:chOff x="6019560" y="2886120"/>
              <a:chExt cx="2743560" cy="609840"/>
            </a:xfrm>
          </p:grpSpPr>
          <p:sp>
            <p:nvSpPr>
              <p:cNvPr id="1019" name=""/>
              <p:cNvSpPr/>
              <p:nvPr/>
            </p:nvSpPr>
            <p:spPr>
              <a:xfrm flipH="1">
                <a:off x="6019560" y="3495960"/>
                <a:ext cx="2057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0" name=""/>
              <p:cNvSpPr/>
              <p:nvPr/>
            </p:nvSpPr>
            <p:spPr>
              <a:xfrm>
                <a:off x="6095880" y="2886120"/>
                <a:ext cx="26672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plified Underwri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 Low Risk Applications</a:t>
                </a:r>
                <a:endParaRPr b="0" lang="en-US" sz="1800" spc="-1" strike="noStrike">
                  <a:solidFill>
                    <a:srgbClr val="ffffff"/>
                  </a:solidFill>
                  <a:latin typeface="Times New Roman"/>
                </a:endParaRPr>
              </a:p>
            </p:txBody>
          </p:sp>
        </p:grpSp>
      </p:grpSp>
      <p:grpSp>
        <p:nvGrpSpPr>
          <p:cNvPr id="1021" name=""/>
          <p:cNvGrpSpPr/>
          <p:nvPr/>
        </p:nvGrpSpPr>
        <p:grpSpPr>
          <a:xfrm>
            <a:off x="1447920" y="1895400"/>
            <a:ext cx="3733560" cy="4038480"/>
            <a:chOff x="1447920" y="1895400"/>
            <a:chExt cx="3733560" cy="4038480"/>
          </a:xfrm>
        </p:grpSpPr>
        <p:sp>
          <p:nvSpPr>
            <p:cNvPr id="1022" name=""/>
            <p:cNvSpPr/>
            <p:nvPr/>
          </p:nvSpPr>
          <p:spPr>
            <a:xfrm>
              <a:off x="2743200" y="1895400"/>
              <a:ext cx="0" cy="4038480"/>
            </a:xfrm>
            <a:prstGeom prst="line">
              <a:avLst/>
            </a:prstGeom>
            <a:ln w="936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1023" name=""/>
            <p:cNvGrpSpPr/>
            <p:nvPr/>
          </p:nvGrpSpPr>
          <p:grpSpPr>
            <a:xfrm>
              <a:off x="1447920" y="1895400"/>
              <a:ext cx="3733560" cy="701280"/>
              <a:chOff x="1447920" y="1895400"/>
              <a:chExt cx="3733560" cy="701280"/>
            </a:xfrm>
          </p:grpSpPr>
          <p:sp>
            <p:nvSpPr>
              <p:cNvPr id="1024" name=""/>
              <p:cNvSpPr/>
              <p:nvPr/>
            </p:nvSpPr>
            <p:spPr>
              <a:xfrm flipH="1">
                <a:off x="1447920" y="1895400"/>
                <a:ext cx="121896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5" name=""/>
              <p:cNvSpPr/>
              <p:nvPr/>
            </p:nvSpPr>
            <p:spPr>
              <a:xfrm>
                <a:off x="2895480" y="2047680"/>
                <a:ext cx="228600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ject High Risk Apps To Lower Bad Debt</a:t>
                </a:r>
                <a:endParaRPr b="0" lang="en-US" sz="1800" spc="-1" strike="noStrike">
                  <a:solidFill>
                    <a:srgbClr val="ffffff"/>
                  </a:solidFill>
                  <a:latin typeface="Times New Roman"/>
                </a:endParaRPr>
              </a:p>
            </p:txBody>
          </p:sp>
          <p:sp>
            <p:nvSpPr>
              <p:cNvPr id="1026" name=""/>
              <p:cNvSpPr/>
              <p:nvPr/>
            </p:nvSpPr>
            <p:spPr>
              <a:xfrm flipH="1" flipV="1">
                <a:off x="2286000" y="1971000"/>
                <a:ext cx="533520" cy="381240"/>
              </a:xfrm>
              <a:prstGeom prst="line">
                <a:avLst/>
              </a:prstGeom>
              <a:ln w="936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1027" name=""/>
          <p:cNvSpPr/>
          <p:nvPr/>
        </p:nvSpPr>
        <p:spPr>
          <a:xfrm>
            <a:off x="1898640" y="1266840"/>
            <a:ext cx="4883040" cy="714240"/>
          </a:xfrm>
          <a:prstGeom prst="rect">
            <a:avLst/>
          </a:prstGeom>
          <a:noFill/>
          <a:ln w="0">
            <a:noFill/>
          </a:ln>
        </p:spPr>
        <p:style>
          <a:lnRef idx="0"/>
          <a:fillRef idx="0"/>
          <a:effectRef idx="0"/>
          <a:fontRef idx="minor"/>
        </p:style>
        <p:txBody>
          <a:bodyPr lIns="0" rIns="0" tIns="0" bIns="0" anchor="t">
            <a:noAutofit/>
          </a:bodyPr>
          <a:p>
            <a:pPr marL="380880" indent="-38088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ngsana New"/>
              </a:rPr>
              <a:t>Rank All Applications By Default Risk</a:t>
            </a:r>
            <a:endParaRPr b="0" lang="en-US" sz="1600" spc="-1" strike="noStrike">
              <a:solidFill>
                <a:srgbClr val="ffffff"/>
              </a:solidFill>
              <a:latin typeface="Times New Roman"/>
            </a:endParaRPr>
          </a:p>
          <a:p>
            <a:pPr marL="380880" indent="-38088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ngsana New"/>
              </a:rPr>
              <a:t>Set Cutoff To Achieve Approval Objectives</a:t>
            </a:r>
            <a:endParaRPr b="0" lang="en-US" sz="1600" spc="-1" strike="noStrike">
              <a:solidFill>
                <a:srgbClr val="ffffff"/>
              </a:solidFill>
              <a:latin typeface="Times New Roman"/>
            </a:endParaRPr>
          </a:p>
        </p:txBody>
      </p:sp>
      <p:grpSp>
        <p:nvGrpSpPr>
          <p:cNvPr id="1028" name=""/>
          <p:cNvGrpSpPr/>
          <p:nvPr/>
        </p:nvGrpSpPr>
        <p:grpSpPr>
          <a:xfrm>
            <a:off x="2743200" y="3405240"/>
            <a:ext cx="3200400" cy="609480"/>
            <a:chOff x="2743200" y="3405240"/>
            <a:chExt cx="3200400" cy="609480"/>
          </a:xfrm>
        </p:grpSpPr>
        <p:sp>
          <p:nvSpPr>
            <p:cNvPr id="1029" name=""/>
            <p:cNvSpPr/>
            <p:nvPr/>
          </p:nvSpPr>
          <p:spPr>
            <a:xfrm flipH="1">
              <a:off x="2743200" y="4014720"/>
              <a:ext cx="32004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0" name=""/>
            <p:cNvSpPr/>
            <p:nvPr/>
          </p:nvSpPr>
          <p:spPr>
            <a:xfrm>
              <a:off x="3352680" y="3405240"/>
              <a:ext cx="19814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ual Review Marginal Cases</a:t>
              </a:r>
              <a:endParaRPr b="0" lang="en-US" sz="1800" spc="-1" strike="noStrike">
                <a:solidFill>
                  <a:srgbClr val="ffffff"/>
                </a:solidFill>
                <a:latin typeface="Times New Roman"/>
              </a:endParaRPr>
            </a:p>
          </p:txBody>
        </p:sp>
      </p:grpSp>
      <p:sp>
        <p:nvSpPr>
          <p:cNvPr id="3" name="PlaceHolder 2"/>
          <p:cNvSpPr>
            <a:spLocks noGrp="1"/>
          </p:cNvSpPr>
          <p:nvPr>
            <p:ph type="sldNum" idx="1"/>
          </p:nvPr>
        </p:nvSpPr>
        <p:spPr/>
        <p:txBody>
          <a:bodyPr/>
          <a:p>
            <a:fld id="{D5653A53-863E-4FE6-8370-1DC3CAEDA705}" type="slidenum">
              <a:t>27</a:t>
            </a:fld>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21"/>
                                        </p:tgtEl>
                                        <p:attrNameLst>
                                          <p:attrName>style.visibility</p:attrName>
                                        </p:attrNameLst>
                                      </p:cBhvr>
                                      <p:to>
                                        <p:strVal val="visible"/>
                                      </p:to>
                                    </p:set>
                                    <p:anim calcmode="lin" valueType="num">
                                      <p:cBhvr additive="base">
                                        <p:cTn id="174" dur="500" fill="hold"/>
                                        <p:tgtEl>
                                          <p:spTgt spid="1021"/>
                                        </p:tgtEl>
                                        <p:attrNameLst>
                                          <p:attrName>ppt_x</p:attrName>
                                        </p:attrNameLst>
                                      </p:cBhvr>
                                      <p:tavLst>
                                        <p:tav tm="0">
                                          <p:val>
                                            <p:strVal val="0-#ppt_w/2"/>
                                          </p:val>
                                        </p:tav>
                                        <p:tav tm="100000">
                                          <p:val>
                                            <p:strVal val="#ppt_x"/>
                                          </p:val>
                                        </p:tav>
                                      </p:tavLst>
                                    </p:anim>
                                    <p:anim calcmode="lin" valueType="num">
                                      <p:cBhvr additive="base">
                                        <p:cTn id="175"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16"/>
                                        </p:tgtEl>
                                        <p:attrNameLst>
                                          <p:attrName>style.visibility</p:attrName>
                                        </p:attrNameLst>
                                      </p:cBhvr>
                                      <p:to>
                                        <p:strVal val="visible"/>
                                      </p:to>
                                    </p:set>
                                    <p:anim calcmode="lin" valueType="num">
                                      <p:cBhvr additive="base">
                                        <p:cTn id="180" dur="500" fill="hold"/>
                                        <p:tgtEl>
                                          <p:spTgt spid="1016"/>
                                        </p:tgtEl>
                                        <p:attrNameLst>
                                          <p:attrName>ppt_x</p:attrName>
                                        </p:attrNameLst>
                                      </p:cBhvr>
                                      <p:tavLst>
                                        <p:tav tm="0">
                                          <p:val>
                                            <p:strVal val="0-#ppt_w/2"/>
                                          </p:val>
                                        </p:tav>
                                        <p:tav tm="100000">
                                          <p:val>
                                            <p:strVal val="#ppt_x"/>
                                          </p:val>
                                        </p:tav>
                                      </p:tavLst>
                                    </p:anim>
                                    <p:anim calcmode="lin" valueType="num">
                                      <p:cBhvr additive="base">
                                        <p:cTn id="181"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28"/>
                                        </p:tgtEl>
                                        <p:attrNameLst>
                                          <p:attrName>style.visibility</p:attrName>
                                        </p:attrNameLst>
                                      </p:cBhvr>
                                      <p:to>
                                        <p:strVal val="visible"/>
                                      </p:to>
                                    </p:set>
                                    <p:anim calcmode="lin" valueType="num">
                                      <p:cBhvr additive="base">
                                        <p:cTn id="186" dur="500" fill="hold"/>
                                        <p:tgtEl>
                                          <p:spTgt spid="1028"/>
                                        </p:tgtEl>
                                        <p:attrNameLst>
                                          <p:attrName>ppt_x</p:attrName>
                                        </p:attrNameLst>
                                      </p:cBhvr>
                                      <p:tavLst>
                                        <p:tav tm="0">
                                          <p:val>
                                            <p:strVal val="0-#ppt_w/2"/>
                                          </p:val>
                                        </p:tav>
                                        <p:tav tm="100000">
                                          <p:val>
                                            <p:strVal val="#ppt_x"/>
                                          </p:val>
                                        </p:tav>
                                      </p:tavLst>
                                    </p:anim>
                                    <p:anim calcmode="lin" valueType="num">
                                      <p:cBhvr additive="base">
                                        <p:cTn id="187" dur="500" fill="hold"/>
                                        <p:tgtEl>
                                          <p:spTgt spid="10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10920" y="259920"/>
            <a:ext cx="7916760" cy="855720"/>
          </a:xfrm>
          <a:prstGeom prst="rect">
            <a:avLst/>
          </a:prstGeom>
          <a:noFill/>
          <a:ln w="0">
            <a:noFill/>
          </a:ln>
        </p:spPr>
        <p:txBody>
          <a:bodyPr lIns="0" rIns="0" tIns="0" bIns="0" anchor="b">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Recap - Key challenges</a:t>
            </a:r>
            <a:br>
              <a:rPr sz="3600"/>
            </a:br>
            <a:endParaRPr b="1" lang="en-US" sz="3600" spc="-1" strike="noStrike">
              <a:solidFill>
                <a:srgbClr val="ffffff"/>
              </a:solidFill>
              <a:latin typeface="Arial"/>
            </a:endParaRPr>
          </a:p>
        </p:txBody>
      </p:sp>
      <p:sp>
        <p:nvSpPr>
          <p:cNvPr id="1032" name="PlaceHolder 2"/>
          <p:cNvSpPr>
            <a:spLocks noGrp="1"/>
          </p:cNvSpPr>
          <p:nvPr>
            <p:ph/>
          </p:nvPr>
        </p:nvSpPr>
        <p:spPr>
          <a:xfrm>
            <a:off x="322200" y="1341000"/>
            <a:ext cx="8313840" cy="4776840"/>
          </a:xfrm>
          <a:prstGeom prst="rect">
            <a:avLst/>
          </a:prstGeom>
          <a:noFill/>
          <a:ln w="0">
            <a:noFill/>
          </a:ln>
        </p:spPr>
        <p:txBody>
          <a:bodyPr lIns="0" rIns="0" tIns="0" bIns="0" anchor="t">
            <a:normAutofit/>
          </a:bodyPr>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Management commitmen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ll-set &amp; human resource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haul of existing credit process</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ments in I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ce Data collection</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ization of Product Managemen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service concept to cost/benefit</a:t>
            </a:r>
            <a:endParaRPr b="1" lang="en-US" sz="2400" spc="-1" strike="noStrike">
              <a:solidFill>
                <a:srgbClr val="ffffff"/>
              </a:solidFill>
              <a:latin typeface="Arial"/>
            </a:endParaRPr>
          </a:p>
          <a:p>
            <a:pPr marL="380880" indent="-380880">
              <a:lnSpc>
                <a:spcPts val="36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credit data</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DFE2D337-E425-4784-ADC7-145DFDA67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pic>
        <p:nvPicPr>
          <p:cNvPr id="1033" name=":images%20for%20word:GIFS:ABN_AMRO-Eng_1-RGB" descr=""/>
          <p:cNvPicPr/>
          <p:nvPr/>
        </p:nvPicPr>
        <p:blipFill>
          <a:blip r:embed="rId1"/>
          <a:stretch/>
        </p:blipFill>
        <p:spPr>
          <a:xfrm>
            <a:off x="179280" y="2781360"/>
            <a:ext cx="8713800" cy="1079280"/>
          </a:xfrm>
          <a:prstGeom prst="rect">
            <a:avLst/>
          </a:prstGeom>
          <a:ln w="0">
            <a:noFill/>
          </a:ln>
        </p:spPr>
      </p:pic>
      <p:sp>
        <p:nvSpPr>
          <p:cNvPr id="1034" name=""/>
          <p:cNvSpPr/>
          <p:nvPr/>
        </p:nvSpPr>
        <p:spPr>
          <a:xfrm>
            <a:off x="0" y="177336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1035" name=""/>
          <p:cNvSpPr/>
          <p:nvPr/>
        </p:nvSpPr>
        <p:spPr>
          <a:xfrm>
            <a:off x="0" y="177336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1036" name=""/>
          <p:cNvSpPr/>
          <p:nvPr/>
        </p:nvSpPr>
        <p:spPr>
          <a:xfrm>
            <a:off x="1332000" y="3500280"/>
            <a:ext cx="655308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468360" y="3573360"/>
            <a:ext cx="8280360" cy="50796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611280" y="4365720"/>
            <a:ext cx="7848360" cy="117504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99"/>
                </a:solidFill>
                <a:uFillTx/>
                <a:latin typeface="Arial"/>
                <a:hlinkClick r:id="rId2"/>
              </a:rPr>
              <a:t>david.yong@nl.abnamro.com</a:t>
            </a:r>
            <a:endParaRPr b="0" lang="en-US" sz="2000" spc="-1" strike="noStrike">
              <a:solidFill>
                <a:srgbClr val="ffffff"/>
              </a:solidFill>
              <a:latin typeface="Times New Roman"/>
            </a:endParaRPr>
          </a:p>
          <a:p>
            <a:pPr algn="ctr">
              <a:lnSpc>
                <a:spcPts val="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9" name=""/>
          <p:cNvSpPr/>
          <p:nvPr/>
        </p:nvSpPr>
        <p:spPr>
          <a:xfrm>
            <a:off x="1258920" y="620640"/>
            <a:ext cx="6985080" cy="508320"/>
          </a:xfrm>
          <a:prstGeom prst="rect">
            <a:avLst/>
          </a:prstGeom>
          <a:noFill/>
          <a:ln w="0">
            <a:noFill/>
          </a:ln>
        </p:spPr>
        <p:style>
          <a:lnRef idx="0"/>
          <a:fillRef idx="0"/>
          <a:effectRef idx="0"/>
          <a:fontRef idx="minor"/>
        </p:style>
        <p:txBody>
          <a:bodyPr lIns="0" rIns="0" tIns="0" bIns="0" anchor="t">
            <a:spAutoFit/>
          </a:bodyPr>
          <a:p>
            <a:pPr algn="ctr">
              <a:lnSpc>
                <a:spcPts val="4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000"/>
                </a:solidFill>
                <a:latin typeface="Arial"/>
              </a:rPr>
              <a:t>Thank you</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C23CFFE5-C0DC-4102-A4F9-214E494C8C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BN AMRO Pakistan</a:t>
            </a:r>
            <a:br>
              <a:rPr sz="3600"/>
            </a:br>
            <a:endParaRPr b="1" lang="en-US" sz="3600" spc="-1" strike="noStrike">
              <a:solidFill>
                <a:srgbClr val="ffffff"/>
              </a:solidFill>
              <a:latin typeface="Arial"/>
            </a:endParaRPr>
          </a:p>
        </p:txBody>
      </p:sp>
      <p:sp>
        <p:nvSpPr>
          <p:cNvPr id="99" name="PlaceHolder 2"/>
          <p:cNvSpPr>
            <a:spLocks noGrp="1"/>
          </p:cNvSpPr>
          <p:nvPr>
            <p:ph/>
          </p:nvPr>
        </p:nvSpPr>
        <p:spPr>
          <a:xfrm>
            <a:off x="179280" y="1618920"/>
            <a:ext cx="8964720" cy="4498920"/>
          </a:xfrm>
          <a:prstGeom prst="rect">
            <a:avLst/>
          </a:prstGeom>
          <a:noFill/>
          <a:ln w="0">
            <a:noFill/>
          </a:ln>
        </p:spPr>
        <p:txBody>
          <a:bodyPr lIns="0" rIns="0" tIns="0" bIns="0" anchor="t">
            <a:normAutofit/>
          </a:bodyPr>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8: First foreign bank in Pakistan</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3: Expansion of branch network (7 branches in 3 citi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 Introduction LCY deposits &amp; penetration into Affluent segment</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9: Introduction Personal Loans &amp; Mortgag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2: Launch Commercial Banking focusing on Mid-sized Corporates</a:t>
            </a:r>
            <a:endParaRPr b="1" lang="en-US" sz="2000" spc="-1" strike="noStrike">
              <a:solidFill>
                <a:srgbClr val="ffffff"/>
              </a:solidFill>
              <a:latin typeface="Arial"/>
            </a:endParaRPr>
          </a:p>
          <a:p>
            <a:pPr marL="380880" indent="-380880">
              <a:lnSpc>
                <a:spcPts val="36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 Launch Credit Cards</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95BA257D-88F2-4CDB-840C-FFAB3DEA47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0"/>
            <a:ext cx="8097840" cy="1224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History of ABN AMRO </a:t>
            </a:r>
            <a:r>
              <a:rPr b="1" lang="en-US" sz="2400" spc="-1" strike="noStrike">
                <a:solidFill>
                  <a:srgbClr val="f3c000"/>
                </a:solidFill>
                <a:latin typeface="Arial"/>
              </a:rPr>
              <a:t>(1)</a:t>
            </a:r>
            <a:br>
              <a:rPr sz="2400"/>
            </a:br>
            <a:endParaRPr b="1" lang="en-US" sz="2400" spc="-1" strike="noStrike">
              <a:solidFill>
                <a:srgbClr val="ffffff"/>
              </a:solidFill>
              <a:latin typeface="Arial"/>
            </a:endParaRPr>
          </a:p>
        </p:txBody>
      </p:sp>
      <p:sp>
        <p:nvSpPr>
          <p:cNvPr id="101" name="PlaceHolder 2"/>
          <p:cNvSpPr>
            <a:spLocks noGrp="1"/>
          </p:cNvSpPr>
          <p:nvPr>
            <p:ph/>
          </p:nvPr>
        </p:nvSpPr>
        <p:spPr>
          <a:xfrm>
            <a:off x="539640" y="4038120"/>
            <a:ext cx="8375760" cy="2079720"/>
          </a:xfrm>
          <a:prstGeom prst="rect">
            <a:avLst/>
          </a:prstGeom>
          <a:noFill/>
          <a:ln w="0">
            <a:noFill/>
          </a:ln>
        </p:spPr>
        <p:txBody>
          <a:bodyPr lIns="0" rIns="0" tIns="0" bIns="0" anchor="t">
            <a:normAutofit/>
          </a:bodyPr>
          <a:p>
            <a:pPr marL="343080" indent="-343080">
              <a:lnSpc>
                <a:spcPct val="100000"/>
              </a:lnSpc>
              <a:spcBef>
                <a:spcPts val="601"/>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64, NHM merged with De Twentsche Bank to form Algemene Bank Nederland (ABN) while Amsterdamsche Bank and Rotterdamsche Bank joined to become Amsterdam-Rotterdam (Amro) Bank.</a:t>
            </a:r>
            <a:endParaRPr b="1" lang="en-US" sz="2400" spc="-1" strike="noStrike">
              <a:solidFill>
                <a:srgbClr val="ffffff"/>
              </a:solidFill>
              <a:latin typeface="Arial"/>
            </a:endParaRPr>
          </a:p>
          <a:p>
            <a:pPr marL="343080" indent="-343080">
              <a:lnSpc>
                <a:spcPct val="100000"/>
              </a:lnSpc>
              <a:spcBef>
                <a:spcPts val="601"/>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these two banks merged as ABN AMRO.</a:t>
            </a:r>
            <a:endParaRPr b="1" lang="en-US" sz="2400" spc="-1" strike="noStrike">
              <a:solidFill>
                <a:srgbClr val="ffffff"/>
              </a:solidFill>
              <a:latin typeface="Arial"/>
            </a:endParaRPr>
          </a:p>
        </p:txBody>
      </p:sp>
      <p:sp>
        <p:nvSpPr>
          <p:cNvPr id="102" name=""/>
          <p:cNvSpPr/>
          <p:nvPr/>
        </p:nvSpPr>
        <p:spPr>
          <a:xfrm>
            <a:off x="457200" y="1600200"/>
            <a:ext cx="57913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29 March 1824, King Willem I issued a royal decree creating the Nederlandsche Handel-Maatschappij (NHM) with the aim of reviving trade between the Netherlands and the Dutch East Indies.</a:t>
            </a:r>
            <a:endParaRPr b="0" lang="en-US" sz="2400" spc="-1" strike="noStrike">
              <a:solidFill>
                <a:srgbClr val="ffffff"/>
              </a:solidFill>
              <a:latin typeface="Times New Roman"/>
            </a:endParaRPr>
          </a:p>
        </p:txBody>
      </p:sp>
      <p:pic>
        <p:nvPicPr>
          <p:cNvPr id="103" name="" descr=""/>
          <p:cNvPicPr/>
          <p:nvPr/>
        </p:nvPicPr>
        <p:blipFill>
          <a:blip r:embed="rId1"/>
          <a:stretch/>
        </p:blipFill>
        <p:spPr>
          <a:xfrm>
            <a:off x="6629400" y="1676520"/>
            <a:ext cx="1333440" cy="1828800"/>
          </a:xfrm>
          <a:prstGeom prst="rect">
            <a:avLst/>
          </a:prstGeom>
          <a:ln w="0">
            <a:noFill/>
          </a:ln>
        </p:spPr>
      </p:pic>
      <p:sp>
        <p:nvSpPr>
          <p:cNvPr id="4" name="PlaceHolder 3"/>
          <p:cNvSpPr>
            <a:spLocks noGrp="1"/>
          </p:cNvSpPr>
          <p:nvPr>
            <p:ph type="sldNum" idx="1"/>
          </p:nvPr>
        </p:nvSpPr>
        <p:spPr/>
        <p:txBody>
          <a:bodyPr/>
          <a:p>
            <a:fld id="{48B01B0A-CABB-414C-8D74-E3071247A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0"/>
            <a:ext cx="8097840" cy="1224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ABN AMRO today...</a:t>
            </a:r>
            <a:br>
              <a:rPr sz="3600"/>
            </a:br>
            <a:endParaRPr b="1" lang="en-US" sz="3600" spc="-1" strike="noStrike">
              <a:solidFill>
                <a:srgbClr val="ffffff"/>
              </a:solidFill>
              <a:latin typeface="Arial"/>
            </a:endParaRPr>
          </a:p>
        </p:txBody>
      </p:sp>
      <p:sp>
        <p:nvSpPr>
          <p:cNvPr id="105" name="PlaceHolder 2"/>
          <p:cNvSpPr>
            <a:spLocks noGrp="1"/>
          </p:cNvSpPr>
          <p:nvPr>
            <p:ph/>
          </p:nvPr>
        </p:nvSpPr>
        <p:spPr>
          <a:xfrm>
            <a:off x="3047760" y="1371600"/>
            <a:ext cx="5894280" cy="4594320"/>
          </a:xfrm>
          <a:prstGeom prst="rect">
            <a:avLst/>
          </a:prstGeom>
          <a:noFill/>
          <a:ln w="0">
            <a:noFill/>
          </a:ln>
        </p:spPr>
        <p:txBody>
          <a:bodyPr lIns="0" rIns="0" tIns="0" bIns="0" anchor="t">
            <a:normAutofit/>
          </a:bodyPr>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s banking, fund management &amp; insurance.</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ks 11th in Europe and 18th in the world based on total assets.</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over 3,000 branches in more than 60 countries, a staff of about 97,000 FTEs and total assets of EUR 742.9 billion (as at 31 March 2005).</a:t>
            </a:r>
            <a:endParaRPr b="1" lang="en-US" sz="2400" spc="-1" strike="noStrike">
              <a:solidFill>
                <a:srgbClr val="ffffff"/>
              </a:solidFill>
              <a:latin typeface="Arial"/>
            </a:endParaRPr>
          </a:p>
          <a:p>
            <a:pPr marL="343080" indent="-343080">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listed on the Euronext and the New York Stock Exchange.</a:t>
            </a:r>
            <a:endParaRPr b="1" lang="en-US" sz="2400" spc="-1" strike="noStrike">
              <a:solidFill>
                <a:srgbClr val="ffffff"/>
              </a:solidFill>
              <a:latin typeface="Arial"/>
            </a:endParaRPr>
          </a:p>
        </p:txBody>
      </p:sp>
      <p:sp>
        <p:nvSpPr>
          <p:cNvPr id="106" name=""/>
          <p:cNvSpPr/>
          <p:nvPr/>
        </p:nvSpPr>
        <p:spPr>
          <a:xfrm rot="16200000">
            <a:off x="1326240" y="3626280"/>
            <a:ext cx="31896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Well- Positioned Bank **</a:t>
            </a:r>
            <a:endParaRPr b="0" lang="en-US" sz="1400" spc="-1" strike="noStrike">
              <a:solidFill>
                <a:srgbClr val="ffffff"/>
              </a:solidFill>
              <a:latin typeface="Times New Roman"/>
            </a:endParaRPr>
          </a:p>
        </p:txBody>
      </p:sp>
      <p:sp>
        <p:nvSpPr>
          <p:cNvPr id="107" name=""/>
          <p:cNvSpPr/>
          <p:nvPr/>
        </p:nvSpPr>
        <p:spPr>
          <a:xfrm>
            <a:off x="152280" y="5119560"/>
            <a:ext cx="2667240" cy="82404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u="sng">
                <a:solidFill>
                  <a:srgbClr val="999999"/>
                </a:solidFill>
                <a:uFillTx/>
                <a:latin typeface="Arial"/>
              </a:rPr>
              <a:t>Ranking</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Total assets</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Worldwide</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18</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European</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11</a:t>
            </a:r>
            <a:endParaRPr b="0" lang="en-US" sz="1200" spc="-1" strike="noStrike">
              <a:solidFill>
                <a:srgbClr val="ffffff"/>
              </a:solidFill>
              <a:latin typeface="Times New Roman"/>
            </a:endParaRPr>
          </a:p>
        </p:txBody>
      </p:sp>
      <p:sp>
        <p:nvSpPr>
          <p:cNvPr id="108" name=""/>
          <p:cNvSpPr/>
          <p:nvPr/>
        </p:nvSpPr>
        <p:spPr>
          <a:xfrm rot="16200000">
            <a:off x="1326240" y="2406960"/>
            <a:ext cx="31932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Solid Credit Rating </a:t>
            </a:r>
            <a:endParaRPr b="0" lang="en-US" sz="1400" spc="-1" strike="noStrike">
              <a:solidFill>
                <a:srgbClr val="ffffff"/>
              </a:solidFill>
              <a:latin typeface="Times New Roman"/>
            </a:endParaRPr>
          </a:p>
        </p:txBody>
      </p:sp>
      <p:sp>
        <p:nvSpPr>
          <p:cNvPr id="109" name=""/>
          <p:cNvSpPr/>
          <p:nvPr/>
        </p:nvSpPr>
        <p:spPr>
          <a:xfrm>
            <a:off x="152280" y="3900600"/>
            <a:ext cx="2667240" cy="82368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u="sng">
                <a:solidFill>
                  <a:srgbClr val="999999"/>
                </a:solidFill>
                <a:uFillTx/>
                <a:latin typeface="Arial"/>
              </a:rPr>
              <a:t>Long-Term</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Moody’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3</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Standard &amp; Poor</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Fitch IBCA</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A-</a:t>
            </a:r>
            <a:endParaRPr b="0" lang="en-US" sz="1200" spc="-1" strike="noStrike">
              <a:solidFill>
                <a:srgbClr val="ffffff"/>
              </a:solidFill>
              <a:latin typeface="Times New Roman"/>
            </a:endParaRPr>
          </a:p>
        </p:txBody>
      </p:sp>
      <p:sp>
        <p:nvSpPr>
          <p:cNvPr id="110" name=""/>
          <p:cNvSpPr/>
          <p:nvPr/>
        </p:nvSpPr>
        <p:spPr>
          <a:xfrm rot="16200000">
            <a:off x="1357920" y="1384920"/>
            <a:ext cx="25560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Global Resources *</a:t>
            </a:r>
            <a:endParaRPr b="0" lang="en-US" sz="1400" spc="-1" strike="noStrike">
              <a:solidFill>
                <a:srgbClr val="ffffff"/>
              </a:solidFill>
              <a:latin typeface="Times New Roman"/>
            </a:endParaRPr>
          </a:p>
        </p:txBody>
      </p:sp>
      <p:sp>
        <p:nvSpPr>
          <p:cNvPr id="111" name=""/>
          <p:cNvSpPr/>
          <p:nvPr/>
        </p:nvSpPr>
        <p:spPr>
          <a:xfrm>
            <a:off x="152280" y="2846520"/>
            <a:ext cx="2667240" cy="658800"/>
          </a:xfrm>
          <a:prstGeom prst="rect">
            <a:avLst/>
          </a:prstGeom>
          <a:solidFill>
            <a:srgbClr val="ffeb82"/>
          </a:solidFill>
          <a:ln w="0">
            <a:noFill/>
          </a:ln>
        </p:spPr>
        <p:style>
          <a:lnRef idx="0"/>
          <a:fillRef idx="0"/>
          <a:effectRef idx="0"/>
          <a:fontRef idx="minor"/>
        </p:style>
        <p:txBody>
          <a:bodyPr lIns="92160" rIns="92160" tIns="46080" bIns="46080" anchor="t">
            <a:noAutofit/>
          </a:bodyPr>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Employees worldwide</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97,000</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Branches and office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3,000</a:t>
            </a:r>
            <a:r>
              <a:rPr b="1" lang="en-US" sz="1200" spc="-1" strike="noStrike" baseline="30000">
                <a:solidFill>
                  <a:srgbClr val="999999"/>
                </a:solidFill>
                <a:latin typeface="Arial"/>
              </a:rPr>
              <a:t>+</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Countries/territorie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60</a:t>
            </a:r>
            <a:r>
              <a:rPr b="1" lang="en-US" sz="1200" spc="-1" strike="noStrike" baseline="30000">
                <a:solidFill>
                  <a:srgbClr val="999999"/>
                </a:solidFill>
                <a:latin typeface="Arial"/>
              </a:rPr>
              <a:t>+</a:t>
            </a:r>
            <a:endParaRPr b="0" lang="en-US" sz="1200" spc="-1" strike="noStrike">
              <a:solidFill>
                <a:srgbClr val="ffffff"/>
              </a:solidFill>
              <a:latin typeface="Times New Roman"/>
            </a:endParaRPr>
          </a:p>
        </p:txBody>
      </p:sp>
      <p:sp>
        <p:nvSpPr>
          <p:cNvPr id="112" name=""/>
          <p:cNvSpPr/>
          <p:nvPr/>
        </p:nvSpPr>
        <p:spPr>
          <a:xfrm rot="16200000">
            <a:off x="1326240" y="197280"/>
            <a:ext cx="318960" cy="2667240"/>
          </a:xfrm>
          <a:prstGeom prst="rect">
            <a:avLst/>
          </a:prstGeom>
          <a:solidFill>
            <a:srgbClr val="ffffff"/>
          </a:solidFill>
          <a:ln w="0">
            <a:noFill/>
          </a:ln>
        </p:spPr>
        <p:style>
          <a:lnRef idx="0"/>
          <a:fillRef idx="0"/>
          <a:effectRef idx="0"/>
          <a:fontRef idx="minor"/>
        </p:style>
        <p:txBody>
          <a:bodyPr lIns="92160" rIns="92160" tIns="46080" bIns="46080" anchor="t" anchorCtr="1" vert="eaVe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9999"/>
                </a:solidFill>
                <a:latin typeface="Arial"/>
              </a:rPr>
              <a:t>Strong Balance Sheet </a:t>
            </a:r>
            <a:r>
              <a:rPr b="1" lang="en-US" sz="1400" spc="-1" strike="noStrike" baseline="30000">
                <a:solidFill>
                  <a:srgbClr val="999999"/>
                </a:solidFill>
                <a:latin typeface="Arial"/>
              </a:rPr>
              <a:t>*</a:t>
            </a:r>
            <a:endParaRPr b="0" lang="en-US" sz="1400" spc="-1" strike="noStrike">
              <a:solidFill>
                <a:srgbClr val="ffffff"/>
              </a:solidFill>
              <a:latin typeface="Times New Roman"/>
            </a:endParaRPr>
          </a:p>
        </p:txBody>
      </p:sp>
      <p:sp>
        <p:nvSpPr>
          <p:cNvPr id="113" name=""/>
          <p:cNvSpPr/>
          <p:nvPr/>
        </p:nvSpPr>
        <p:spPr>
          <a:xfrm>
            <a:off x="152280" y="1690560"/>
            <a:ext cx="2667240" cy="824040"/>
          </a:xfrm>
          <a:prstGeom prst="rect">
            <a:avLst/>
          </a:prstGeom>
          <a:solidFill>
            <a:srgbClr val="ffeb82"/>
          </a:solidFill>
          <a:ln w="0">
            <a:noFill/>
          </a:ln>
        </p:spPr>
        <p:style>
          <a:lnRef idx="0"/>
          <a:fillRef idx="0"/>
          <a:effectRef idx="0"/>
          <a:fontRef idx="minor"/>
        </p:style>
        <p:txBody>
          <a:bodyPr lIns="92160" rIns="92160" tIns="46080" bIns="46080" anchor="t">
            <a:noAutofit/>
          </a:bodyPr>
          <a:p>
            <a:pPr algn="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	</a:t>
            </a:r>
            <a:r>
              <a:rPr b="1" lang="en-US" sz="1200" spc="-1" strike="noStrike" u="sng">
                <a:solidFill>
                  <a:srgbClr val="999999"/>
                </a:solidFill>
                <a:uFillTx/>
                <a:latin typeface="Arial"/>
              </a:rPr>
              <a:t>EUR (bln)</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Total asset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742.9</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Group capital</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35.6</a:t>
            </a:r>
            <a:endParaRPr b="0" lang="en-US" sz="1200" spc="-1" strike="noStrike">
              <a:solidFill>
                <a:srgbClr val="ffffff"/>
              </a:solidFill>
              <a:latin typeface="Times New Roman"/>
            </a:endParaRPr>
          </a:p>
          <a:p>
            <a:pPr>
              <a:lnSpc>
                <a:spcPct val="100000"/>
              </a:lnSpc>
              <a:tabLst>
                <a:tab algn="l" pos="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Arial"/>
              </a:rPr>
              <a:t>Risk weighted assets</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a:t>
            </a:r>
            <a:r>
              <a:rPr b="1" lang="en-US" sz="1200" spc="-1" strike="noStrike">
                <a:solidFill>
                  <a:srgbClr val="999999"/>
                </a:solidFill>
                <a:latin typeface="Arial"/>
              </a:rPr>
              <a:t>     245.6</a:t>
            </a:r>
            <a:endParaRPr b="0" lang="en-US" sz="1200" spc="-1" strike="noStrike">
              <a:solidFill>
                <a:srgbClr val="ffffff"/>
              </a:solidFill>
              <a:latin typeface="Times New Roman"/>
            </a:endParaRPr>
          </a:p>
        </p:txBody>
      </p:sp>
      <p:sp>
        <p:nvSpPr>
          <p:cNvPr id="114" name=""/>
          <p:cNvSpPr/>
          <p:nvPr/>
        </p:nvSpPr>
        <p:spPr>
          <a:xfrm>
            <a:off x="88920" y="6045120"/>
            <a:ext cx="383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as at  31 March 2005       ** The Banker, July 2004</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4729696-3805-4889-8041-3F77FF5F1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51920"/>
            <a:ext cx="7543800" cy="1143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Scope – </a:t>
            </a:r>
            <a:br>
              <a:rPr sz="3600"/>
            </a:br>
            <a:r>
              <a:rPr b="1" lang="en-US" sz="2800" spc="-1" strike="noStrike">
                <a:solidFill>
                  <a:srgbClr val="f3c000"/>
                </a:solidFill>
                <a:latin typeface="Arial"/>
              </a:rPr>
              <a:t>SME characteristics &amp; segmentation</a:t>
            </a:r>
            <a:endParaRPr b="1" lang="en-US" sz="2800" spc="-1" strike="noStrike">
              <a:solidFill>
                <a:srgbClr val="ffffff"/>
              </a:solidFill>
              <a:latin typeface="Arial"/>
            </a:endParaRPr>
          </a:p>
        </p:txBody>
      </p:sp>
      <p:sp>
        <p:nvSpPr>
          <p:cNvPr id="116" name="PlaceHolder 2"/>
          <p:cNvSpPr>
            <a:spLocks noGrp="1"/>
          </p:cNvSpPr>
          <p:nvPr>
            <p:ph/>
          </p:nvPr>
        </p:nvSpPr>
        <p:spPr>
          <a:xfrm>
            <a:off x="609480" y="1523880"/>
            <a:ext cx="8229600" cy="4114800"/>
          </a:xfrm>
          <a:prstGeom prst="rect">
            <a:avLst/>
          </a:prstGeom>
          <a:noFill/>
          <a:ln w="0">
            <a:noFill/>
          </a:ln>
        </p:spPr>
        <p:txBody>
          <a:bodyPr lIns="0" rIns="0" tIns="0" bIns="0" anchor="t">
            <a:normAutofit fontScale="93000"/>
          </a:bodyPr>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bone of econom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ily owned/dependent (informal)</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rious types of legal entit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ce of personal relationship with client</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financials</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ted revenues for taxation purposes</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vel of Owner’s commitment and equity</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 of (small) community network</a:t>
            </a:r>
            <a:endParaRPr b="1" lang="en-US" sz="2600" spc="-1" strike="noStrike">
              <a:solidFill>
                <a:srgbClr val="ffffff"/>
              </a:solidFill>
              <a:latin typeface="Arial"/>
            </a:endParaRPr>
          </a:p>
          <a:p>
            <a:pPr marL="353880" indent="-353880">
              <a:lnSpc>
                <a:spcPts val="2999"/>
              </a:lnSpc>
              <a:spcBef>
                <a:spcPts val="9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tial community</a:t>
            </a: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D6E3DF42-03A9-4170-B316-99D600553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3c000"/>
                </a:solidFill>
                <a:latin typeface="Arial"/>
              </a:rPr>
              <a:t>Target market definitions across our sample varied widely across markets and within markets</a:t>
            </a:r>
            <a:endParaRPr b="1" lang="en-US" sz="2400" spc="-1" strike="noStrike">
              <a:solidFill>
                <a:srgbClr val="ffffff"/>
              </a:solidFill>
              <a:latin typeface="Arial"/>
            </a:endParaRPr>
          </a:p>
        </p:txBody>
      </p:sp>
      <p:sp>
        <p:nvSpPr>
          <p:cNvPr id="118" name="Footnote"/>
          <p:cNvSpPr/>
          <p:nvPr/>
        </p:nvSpPr>
        <p:spPr>
          <a:xfrm>
            <a:off x="523800" y="6264360"/>
            <a:ext cx="8099640" cy="1220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ffffff"/>
                </a:solidFill>
                <a:latin typeface="Arial"/>
              </a:rPr>
              <a:t>Note: n = 32 banks</a:t>
            </a:r>
            <a:endParaRPr b="0" lang="en-US" sz="800" spc="-1" strike="noStrike">
              <a:solidFill>
                <a:srgbClr val="ffffff"/>
              </a:solidFill>
              <a:latin typeface="Times New Roman"/>
            </a:endParaRPr>
          </a:p>
        </p:txBody>
      </p:sp>
      <p:sp>
        <p:nvSpPr>
          <p:cNvPr id="119" name=""/>
          <p:cNvSpPr/>
          <p:nvPr/>
        </p:nvSpPr>
        <p:spPr>
          <a:xfrm>
            <a:off x="1042920" y="1413000"/>
            <a:ext cx="3443400" cy="43812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in SB segment definition</a:t>
            </a:r>
            <a:br>
              <a:rPr sz="1400"/>
            </a:br>
            <a:r>
              <a:rPr b="0" lang="en-US" sz="1400" spc="-1" strike="noStrike">
                <a:solidFill>
                  <a:srgbClr val="ffffff"/>
                </a:solidFill>
                <a:latin typeface="Arial Black"/>
              </a:rPr>
              <a:t>by geography</a:t>
            </a:r>
            <a:endParaRPr b="0" lang="en-US" sz="1400" spc="-1" strike="noStrike">
              <a:solidFill>
                <a:srgbClr val="ffffff"/>
              </a:solidFill>
              <a:latin typeface="Times New Roman"/>
            </a:endParaRPr>
          </a:p>
        </p:txBody>
      </p:sp>
      <p:sp>
        <p:nvSpPr>
          <p:cNvPr id="120" name=""/>
          <p:cNvSpPr/>
          <p:nvPr/>
        </p:nvSpPr>
        <p:spPr>
          <a:xfrm>
            <a:off x="1379520" y="5584680"/>
            <a:ext cx="3021120" cy="233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t-off turnover (</a:t>
            </a:r>
            <a:r>
              <a:rPr b="1" lang="en-US" sz="1000" spc="-1" strike="noStrike">
                <a:solidFill>
                  <a:srgbClr val="ffffff"/>
                </a:solidFill>
                <a:latin typeface="Euro Sign"/>
                <a:ea typeface="Euro Sign"/>
              </a:rPr>
              <a:t></a:t>
            </a:r>
            <a:r>
              <a:rPr b="1" lang="en-US" sz="1000" spc="-1" strike="noStrike">
                <a:solidFill>
                  <a:srgbClr val="ffffff"/>
                </a:solidFill>
                <a:latin typeface="Arial"/>
              </a:rPr>
              <a:t>MM)</a:t>
            </a:r>
            <a:endParaRPr b="0" lang="en-US" sz="1000" spc="-1" strike="noStrike">
              <a:solidFill>
                <a:srgbClr val="ffffff"/>
              </a:solidFill>
              <a:latin typeface="Times New Roman"/>
            </a:endParaRPr>
          </a:p>
        </p:txBody>
      </p:sp>
      <p:grpSp>
        <p:nvGrpSpPr>
          <p:cNvPr id="121" name=""/>
          <p:cNvGrpSpPr/>
          <p:nvPr/>
        </p:nvGrpSpPr>
        <p:grpSpPr>
          <a:xfrm>
            <a:off x="334800" y="2181240"/>
            <a:ext cx="878040" cy="2809800"/>
            <a:chOff x="334800" y="2181240"/>
            <a:chExt cx="878040" cy="2809800"/>
          </a:xfrm>
        </p:grpSpPr>
        <p:sp>
          <p:nvSpPr>
            <p:cNvPr id="122" name=""/>
            <p:cNvSpPr/>
            <p:nvPr/>
          </p:nvSpPr>
          <p:spPr>
            <a:xfrm>
              <a:off x="641880" y="2181240"/>
              <a:ext cx="570960" cy="35712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North America</a:t>
              </a:r>
              <a:br>
                <a:rPr sz="1200"/>
              </a:br>
              <a:r>
                <a:rPr b="0" lang="en-US" sz="1000" spc="-1" strike="noStrike">
                  <a:solidFill>
                    <a:srgbClr val="ffffff"/>
                  </a:solidFill>
                  <a:latin typeface="Arial"/>
                </a:rPr>
                <a:t>(10 banks)</a:t>
              </a:r>
              <a:endParaRPr b="0" lang="en-US" sz="1000" spc="-1" strike="noStrike">
                <a:solidFill>
                  <a:srgbClr val="ffffff"/>
                </a:solidFill>
                <a:latin typeface="Times New Roman"/>
              </a:endParaRPr>
            </a:p>
          </p:txBody>
        </p:sp>
        <p:sp>
          <p:nvSpPr>
            <p:cNvPr id="123" name=""/>
            <p:cNvSpPr/>
            <p:nvPr/>
          </p:nvSpPr>
          <p:spPr>
            <a:xfrm>
              <a:off x="651600" y="2800080"/>
              <a:ext cx="560880" cy="3128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Benelux</a:t>
              </a:r>
              <a:br>
                <a:rPr sz="1200"/>
              </a:br>
              <a:r>
                <a:rPr b="0" lang="en-US" sz="1000" spc="-1" strike="noStrike">
                  <a:solidFill>
                    <a:srgbClr val="ffffff"/>
                  </a:solidFill>
                  <a:latin typeface="Arial"/>
                </a:rPr>
                <a:t>(3 banks)</a:t>
              </a:r>
              <a:endParaRPr b="0" lang="en-US" sz="1000" spc="-1" strike="noStrike">
                <a:solidFill>
                  <a:srgbClr val="ffffff"/>
                </a:solidFill>
                <a:latin typeface="Times New Roman"/>
              </a:endParaRPr>
            </a:p>
          </p:txBody>
        </p:sp>
        <p:sp>
          <p:nvSpPr>
            <p:cNvPr id="124" name=""/>
            <p:cNvSpPr/>
            <p:nvPr/>
          </p:nvSpPr>
          <p:spPr>
            <a:xfrm>
              <a:off x="334800" y="3427200"/>
              <a:ext cx="878040" cy="32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UK</a:t>
              </a:r>
              <a:br>
                <a:rPr sz="1200"/>
              </a:br>
              <a:r>
                <a:rPr b="0" lang="en-US" sz="1000" spc="-1" strike="noStrike">
                  <a:solidFill>
                    <a:srgbClr val="ffffff"/>
                  </a:solidFill>
                  <a:latin typeface="Arial"/>
                </a:rPr>
                <a:t>(4 banks)</a:t>
              </a:r>
              <a:endParaRPr b="0" lang="en-US" sz="1000" spc="-1" strike="noStrike">
                <a:solidFill>
                  <a:srgbClr val="ffffff"/>
                </a:solidFill>
                <a:latin typeface="Times New Roman"/>
              </a:endParaRPr>
            </a:p>
          </p:txBody>
        </p:sp>
        <p:sp>
          <p:nvSpPr>
            <p:cNvPr id="125" name=""/>
            <p:cNvSpPr/>
            <p:nvPr/>
          </p:nvSpPr>
          <p:spPr>
            <a:xfrm>
              <a:off x="334800" y="4020840"/>
              <a:ext cx="878040" cy="32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Europe</a:t>
              </a:r>
              <a:br>
                <a:rPr sz="1200"/>
              </a:br>
              <a:r>
                <a:rPr b="0" lang="en-US" sz="1000" spc="-1" strike="noStrike">
                  <a:solidFill>
                    <a:srgbClr val="ffffff"/>
                  </a:solidFill>
                  <a:latin typeface="Arial"/>
                </a:rPr>
                <a:t>(12 banks)</a:t>
              </a:r>
              <a:endParaRPr b="0" lang="en-US" sz="1000" spc="-1" strike="noStrike">
                <a:solidFill>
                  <a:srgbClr val="ffffff"/>
                </a:solidFill>
                <a:latin typeface="Times New Roman"/>
              </a:endParaRPr>
            </a:p>
          </p:txBody>
        </p:sp>
        <p:sp>
          <p:nvSpPr>
            <p:cNvPr id="126" name=""/>
            <p:cNvSpPr/>
            <p:nvPr/>
          </p:nvSpPr>
          <p:spPr>
            <a:xfrm>
              <a:off x="334800" y="4665600"/>
              <a:ext cx="878040" cy="3254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Other</a:t>
              </a:r>
              <a:br>
                <a:rPr sz="1200"/>
              </a:br>
              <a:r>
                <a:rPr b="0" lang="en-US" sz="1000" spc="-1" strike="noStrike">
                  <a:solidFill>
                    <a:srgbClr val="ffffff"/>
                  </a:solidFill>
                  <a:latin typeface="Arial"/>
                </a:rPr>
                <a:t>(3 banks)</a:t>
              </a:r>
              <a:endParaRPr b="0" lang="en-US" sz="1000" spc="-1" strike="noStrike">
                <a:solidFill>
                  <a:srgbClr val="ffffff"/>
                </a:solidFill>
                <a:latin typeface="Times New Roman"/>
              </a:endParaRPr>
            </a:p>
          </p:txBody>
        </p:sp>
      </p:grpSp>
      <p:sp>
        <p:nvSpPr>
          <p:cNvPr id="127" name=""/>
          <p:cNvSpPr/>
          <p:nvPr/>
        </p:nvSpPr>
        <p:spPr>
          <a:xfrm>
            <a:off x="1301760" y="2158920"/>
            <a:ext cx="0" cy="30672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28" name=""/>
          <p:cNvSpPr/>
          <p:nvPr/>
        </p:nvSpPr>
        <p:spPr>
          <a:xfrm>
            <a:off x="1314360" y="5173560"/>
            <a:ext cx="301644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29" name=""/>
          <p:cNvSpPr/>
          <p:nvPr/>
        </p:nvSpPr>
        <p:spPr>
          <a:xfrm>
            <a:off x="1149480" y="51688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130" name=""/>
          <p:cNvSpPr/>
          <p:nvPr/>
        </p:nvSpPr>
        <p:spPr>
          <a:xfrm>
            <a:off x="1797120" y="51688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131" name=""/>
          <p:cNvSpPr/>
          <p:nvPr/>
        </p:nvSpPr>
        <p:spPr>
          <a:xfrm>
            <a:off x="2411280" y="5157720"/>
            <a:ext cx="30348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132" name=""/>
          <p:cNvSpPr/>
          <p:nvPr/>
        </p:nvSpPr>
        <p:spPr>
          <a:xfrm>
            <a:off x="3092400" y="5168880"/>
            <a:ext cx="3049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ffffff"/>
              </a:solidFill>
              <a:latin typeface="Times New Roman"/>
            </a:endParaRPr>
          </a:p>
        </p:txBody>
      </p:sp>
      <p:grpSp>
        <p:nvGrpSpPr>
          <p:cNvPr id="133" name=""/>
          <p:cNvGrpSpPr/>
          <p:nvPr/>
        </p:nvGrpSpPr>
        <p:grpSpPr>
          <a:xfrm>
            <a:off x="1947960" y="5180040"/>
            <a:ext cx="1944360" cy="36360"/>
            <a:chOff x="1947960" y="5180040"/>
            <a:chExt cx="1944360" cy="36360"/>
          </a:xfrm>
        </p:grpSpPr>
        <p:sp>
          <p:nvSpPr>
            <p:cNvPr id="134" name=""/>
            <p:cNvSpPr/>
            <p:nvPr/>
          </p:nvSpPr>
          <p:spPr>
            <a:xfrm>
              <a:off x="194796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5" name=""/>
            <p:cNvSpPr/>
            <p:nvPr/>
          </p:nvSpPr>
          <p:spPr>
            <a:xfrm>
              <a:off x="259596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6" name=""/>
            <p:cNvSpPr/>
            <p:nvPr/>
          </p:nvSpPr>
          <p:spPr>
            <a:xfrm>
              <a:off x="324432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7" name=""/>
            <p:cNvSpPr/>
            <p:nvPr/>
          </p:nvSpPr>
          <p:spPr>
            <a:xfrm>
              <a:off x="3892320" y="5180040"/>
              <a:ext cx="0" cy="363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38" name=""/>
          <p:cNvSpPr/>
          <p:nvPr/>
        </p:nvSpPr>
        <p:spPr>
          <a:xfrm>
            <a:off x="3741840" y="51688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139" name=""/>
          <p:cNvSpPr/>
          <p:nvPr/>
        </p:nvSpPr>
        <p:spPr>
          <a:xfrm>
            <a:off x="1752480" y="4964040"/>
            <a:ext cx="101628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0" name=""/>
          <p:cNvSpPr/>
          <p:nvPr/>
        </p:nvSpPr>
        <p:spPr>
          <a:xfrm>
            <a:off x="173988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1" name=""/>
          <p:cNvSpPr/>
          <p:nvPr/>
        </p:nvSpPr>
        <p:spPr>
          <a:xfrm>
            <a:off x="234144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2" name=""/>
          <p:cNvSpPr/>
          <p:nvPr/>
        </p:nvSpPr>
        <p:spPr>
          <a:xfrm>
            <a:off x="2770200" y="484488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3" name=""/>
          <p:cNvSpPr/>
          <p:nvPr/>
        </p:nvSpPr>
        <p:spPr>
          <a:xfrm>
            <a:off x="1655640" y="4324320"/>
            <a:ext cx="20685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4" name=""/>
          <p:cNvSpPr/>
          <p:nvPr/>
        </p:nvSpPr>
        <p:spPr>
          <a:xfrm>
            <a:off x="1641600" y="42051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5" name=""/>
          <p:cNvSpPr/>
          <p:nvPr/>
        </p:nvSpPr>
        <p:spPr>
          <a:xfrm>
            <a:off x="2255760" y="42051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6" name=""/>
          <p:cNvSpPr/>
          <p:nvPr/>
        </p:nvSpPr>
        <p:spPr>
          <a:xfrm>
            <a:off x="3722760" y="4230720"/>
            <a:ext cx="0" cy="2412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7" name=""/>
          <p:cNvSpPr/>
          <p:nvPr/>
        </p:nvSpPr>
        <p:spPr>
          <a:xfrm>
            <a:off x="1496880" y="3711600"/>
            <a:ext cx="7653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8" name=""/>
          <p:cNvSpPr/>
          <p:nvPr/>
        </p:nvSpPr>
        <p:spPr>
          <a:xfrm>
            <a:off x="149544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49" name=""/>
          <p:cNvSpPr/>
          <p:nvPr/>
        </p:nvSpPr>
        <p:spPr>
          <a:xfrm>
            <a:off x="183528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0" name=""/>
          <p:cNvSpPr/>
          <p:nvPr/>
        </p:nvSpPr>
        <p:spPr>
          <a:xfrm>
            <a:off x="2270160" y="359244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1" name=""/>
          <p:cNvSpPr/>
          <p:nvPr/>
        </p:nvSpPr>
        <p:spPr>
          <a:xfrm>
            <a:off x="2090880" y="2509920"/>
            <a:ext cx="177624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2" name=""/>
          <p:cNvSpPr/>
          <p:nvPr/>
        </p:nvSpPr>
        <p:spPr>
          <a:xfrm>
            <a:off x="2087640" y="238932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3" name=""/>
          <p:cNvSpPr/>
          <p:nvPr/>
        </p:nvSpPr>
        <p:spPr>
          <a:xfrm>
            <a:off x="3014640" y="2389320"/>
            <a:ext cx="0" cy="239760"/>
          </a:xfrm>
          <a:prstGeom prst="line">
            <a:avLst/>
          </a:prstGeom>
          <a:ln w="12600">
            <a:solidFill>
              <a:srgbClr val="ffff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4" name=""/>
          <p:cNvSpPr/>
          <p:nvPr/>
        </p:nvSpPr>
        <p:spPr>
          <a:xfrm>
            <a:off x="3865680" y="23907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55" name=""/>
          <p:cNvSpPr/>
          <p:nvPr/>
        </p:nvSpPr>
        <p:spPr>
          <a:xfrm>
            <a:off x="1584360" y="45784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2</a:t>
            </a:r>
            <a:endParaRPr b="0" lang="en-US" sz="900" spc="-1" strike="noStrike">
              <a:solidFill>
                <a:srgbClr val="ffffff"/>
              </a:solidFill>
              <a:latin typeface="Times New Roman"/>
            </a:endParaRPr>
          </a:p>
        </p:txBody>
      </p:sp>
      <p:sp>
        <p:nvSpPr>
          <p:cNvPr id="156" name=""/>
          <p:cNvSpPr/>
          <p:nvPr/>
        </p:nvSpPr>
        <p:spPr>
          <a:xfrm>
            <a:off x="2184480" y="4578480"/>
            <a:ext cx="30456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8</a:t>
            </a:r>
            <a:endParaRPr b="0" lang="en-US" sz="900" spc="-1" strike="noStrike">
              <a:solidFill>
                <a:srgbClr val="ffffff"/>
              </a:solidFill>
              <a:latin typeface="Times New Roman"/>
            </a:endParaRPr>
          </a:p>
        </p:txBody>
      </p:sp>
      <p:sp>
        <p:nvSpPr>
          <p:cNvPr id="157" name=""/>
          <p:cNvSpPr/>
          <p:nvPr/>
        </p:nvSpPr>
        <p:spPr>
          <a:xfrm>
            <a:off x="2619360" y="45784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4.3</a:t>
            </a:r>
            <a:endParaRPr b="0" lang="en-US" sz="900" spc="-1" strike="noStrike">
              <a:solidFill>
                <a:srgbClr val="ffffff"/>
              </a:solidFill>
              <a:latin typeface="Times New Roman"/>
            </a:endParaRPr>
          </a:p>
        </p:txBody>
      </p:sp>
      <p:sp>
        <p:nvSpPr>
          <p:cNvPr id="158" name=""/>
          <p:cNvSpPr/>
          <p:nvPr/>
        </p:nvSpPr>
        <p:spPr>
          <a:xfrm>
            <a:off x="1487520" y="3919680"/>
            <a:ext cx="3049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159" name=""/>
          <p:cNvSpPr/>
          <p:nvPr/>
        </p:nvSpPr>
        <p:spPr>
          <a:xfrm>
            <a:off x="2098800" y="391968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9</a:t>
            </a:r>
            <a:endParaRPr b="0" lang="en-US" sz="900" spc="-1" strike="noStrike">
              <a:solidFill>
                <a:srgbClr val="ffffff"/>
              </a:solidFill>
              <a:latin typeface="Times New Roman"/>
            </a:endParaRPr>
          </a:p>
        </p:txBody>
      </p:sp>
      <p:sp>
        <p:nvSpPr>
          <p:cNvPr id="160" name=""/>
          <p:cNvSpPr/>
          <p:nvPr/>
        </p:nvSpPr>
        <p:spPr>
          <a:xfrm>
            <a:off x="3570120" y="3946680"/>
            <a:ext cx="30348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7.5</a:t>
            </a:r>
            <a:endParaRPr b="0" lang="en-US" sz="900" spc="-1" strike="noStrike">
              <a:solidFill>
                <a:srgbClr val="ffffff"/>
              </a:solidFill>
              <a:latin typeface="Times New Roman"/>
            </a:endParaRPr>
          </a:p>
        </p:txBody>
      </p:sp>
      <p:sp>
        <p:nvSpPr>
          <p:cNvPr id="161" name=""/>
          <p:cNvSpPr/>
          <p:nvPr/>
        </p:nvSpPr>
        <p:spPr>
          <a:xfrm>
            <a:off x="1339920" y="3336840"/>
            <a:ext cx="3031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7</a:t>
            </a:r>
            <a:endParaRPr b="0" lang="en-US" sz="900" spc="-1" strike="noStrike">
              <a:solidFill>
                <a:srgbClr val="ffffff"/>
              </a:solidFill>
              <a:latin typeface="Times New Roman"/>
            </a:endParaRPr>
          </a:p>
        </p:txBody>
      </p:sp>
      <p:sp>
        <p:nvSpPr>
          <p:cNvPr id="162" name=""/>
          <p:cNvSpPr/>
          <p:nvPr/>
        </p:nvSpPr>
        <p:spPr>
          <a:xfrm>
            <a:off x="1677960" y="3336840"/>
            <a:ext cx="3049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1.6</a:t>
            </a:r>
            <a:endParaRPr b="0" lang="en-US" sz="900" spc="-1" strike="noStrike">
              <a:solidFill>
                <a:srgbClr val="ffffff"/>
              </a:solidFill>
              <a:latin typeface="Times New Roman"/>
            </a:endParaRPr>
          </a:p>
        </p:txBody>
      </p:sp>
      <p:sp>
        <p:nvSpPr>
          <p:cNvPr id="163" name=""/>
          <p:cNvSpPr/>
          <p:nvPr/>
        </p:nvSpPr>
        <p:spPr>
          <a:xfrm>
            <a:off x="2116080" y="3336840"/>
            <a:ext cx="30492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9</a:t>
            </a:r>
            <a:endParaRPr b="0" lang="en-US" sz="900" spc="-1" strike="noStrike">
              <a:solidFill>
                <a:srgbClr val="ffffff"/>
              </a:solidFill>
              <a:latin typeface="Times New Roman"/>
            </a:endParaRPr>
          </a:p>
        </p:txBody>
      </p:sp>
      <p:sp>
        <p:nvSpPr>
          <p:cNvPr id="164" name=""/>
          <p:cNvSpPr/>
          <p:nvPr/>
        </p:nvSpPr>
        <p:spPr>
          <a:xfrm>
            <a:off x="1935000" y="2108160"/>
            <a:ext cx="30348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3</a:t>
            </a:r>
            <a:endParaRPr b="0" lang="en-US" sz="900" spc="-1" strike="noStrike">
              <a:solidFill>
                <a:srgbClr val="ffffff"/>
              </a:solidFill>
              <a:latin typeface="Times New Roman"/>
            </a:endParaRPr>
          </a:p>
        </p:txBody>
      </p:sp>
      <p:sp>
        <p:nvSpPr>
          <p:cNvPr id="165" name=""/>
          <p:cNvSpPr/>
          <p:nvPr/>
        </p:nvSpPr>
        <p:spPr>
          <a:xfrm>
            <a:off x="2857680" y="2108160"/>
            <a:ext cx="304560" cy="327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5.3</a:t>
            </a:r>
            <a:endParaRPr b="0" lang="en-US" sz="900" spc="-1" strike="noStrike">
              <a:solidFill>
                <a:srgbClr val="ffffff"/>
              </a:solidFill>
              <a:latin typeface="Times New Roman"/>
            </a:endParaRPr>
          </a:p>
        </p:txBody>
      </p:sp>
      <p:sp>
        <p:nvSpPr>
          <p:cNvPr id="166" name=""/>
          <p:cNvSpPr/>
          <p:nvPr/>
        </p:nvSpPr>
        <p:spPr>
          <a:xfrm>
            <a:off x="3713040" y="2109960"/>
            <a:ext cx="303480" cy="3254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7.9</a:t>
            </a:r>
            <a:endParaRPr b="0" lang="en-US" sz="900" spc="-1" strike="noStrike">
              <a:solidFill>
                <a:srgbClr val="ffffff"/>
              </a:solidFill>
              <a:latin typeface="Times New Roman"/>
            </a:endParaRPr>
          </a:p>
        </p:txBody>
      </p:sp>
      <p:grpSp>
        <p:nvGrpSpPr>
          <p:cNvPr id="167" name=""/>
          <p:cNvGrpSpPr/>
          <p:nvPr/>
        </p:nvGrpSpPr>
        <p:grpSpPr>
          <a:xfrm>
            <a:off x="2241720" y="2955960"/>
            <a:ext cx="993240" cy="239760"/>
            <a:chOff x="2241720" y="2955960"/>
            <a:chExt cx="993240" cy="239760"/>
          </a:xfrm>
        </p:grpSpPr>
        <p:sp>
          <p:nvSpPr>
            <p:cNvPr id="168" name=""/>
            <p:cNvSpPr/>
            <p:nvPr/>
          </p:nvSpPr>
          <p:spPr>
            <a:xfrm>
              <a:off x="2262240" y="3075120"/>
              <a:ext cx="9669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69" name=""/>
            <p:cNvSpPr/>
            <p:nvPr/>
          </p:nvSpPr>
          <p:spPr>
            <a:xfrm>
              <a:off x="224172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70" name=""/>
            <p:cNvSpPr/>
            <p:nvPr/>
          </p:nvSpPr>
          <p:spPr>
            <a:xfrm>
              <a:off x="272412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71" name=""/>
            <p:cNvSpPr/>
            <p:nvPr/>
          </p:nvSpPr>
          <p:spPr>
            <a:xfrm>
              <a:off x="3234960" y="2955960"/>
              <a:ext cx="0" cy="23976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172" name=""/>
          <p:cNvSpPr/>
          <p:nvPr/>
        </p:nvSpPr>
        <p:spPr>
          <a:xfrm>
            <a:off x="210348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2.5</a:t>
            </a:r>
            <a:endParaRPr b="0" lang="en-US" sz="900" spc="-1" strike="noStrike">
              <a:solidFill>
                <a:srgbClr val="ffffff"/>
              </a:solidFill>
              <a:latin typeface="Times New Roman"/>
            </a:endParaRPr>
          </a:p>
        </p:txBody>
      </p:sp>
      <p:sp>
        <p:nvSpPr>
          <p:cNvPr id="173" name=""/>
          <p:cNvSpPr/>
          <p:nvPr/>
        </p:nvSpPr>
        <p:spPr>
          <a:xfrm>
            <a:off x="257328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4.2</a:t>
            </a:r>
            <a:endParaRPr b="0" lang="en-US" sz="900" spc="-1" strike="noStrike">
              <a:solidFill>
                <a:srgbClr val="ffffff"/>
              </a:solidFill>
              <a:latin typeface="Times New Roman"/>
            </a:endParaRPr>
          </a:p>
        </p:txBody>
      </p:sp>
      <p:sp>
        <p:nvSpPr>
          <p:cNvPr id="174" name=""/>
          <p:cNvSpPr/>
          <p:nvPr/>
        </p:nvSpPr>
        <p:spPr>
          <a:xfrm>
            <a:off x="3092400" y="2700360"/>
            <a:ext cx="303120" cy="326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6.0</a:t>
            </a:r>
            <a:endParaRPr b="0" lang="en-US" sz="900" spc="-1" strike="noStrike">
              <a:solidFill>
                <a:srgbClr val="ffffff"/>
              </a:solidFill>
              <a:latin typeface="Times New Roman"/>
            </a:endParaRPr>
          </a:p>
        </p:txBody>
      </p:sp>
      <p:sp>
        <p:nvSpPr>
          <p:cNvPr id="175" name=""/>
          <p:cNvSpPr/>
          <p:nvPr/>
        </p:nvSpPr>
        <p:spPr>
          <a:xfrm>
            <a:off x="2732760" y="1986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verage</a:t>
            </a:r>
            <a:endParaRPr b="0" lang="en-US" sz="1000" spc="-1" strike="noStrike">
              <a:solidFill>
                <a:srgbClr val="ffffff"/>
              </a:solidFill>
              <a:latin typeface="Times New Roman"/>
            </a:endParaRPr>
          </a:p>
        </p:txBody>
      </p:sp>
      <p:graphicFrame>
        <p:nvGraphicFramePr>
          <p:cNvPr id="176" name=""/>
          <p:cNvGraphicFramePr/>
          <p:nvPr/>
        </p:nvGraphicFramePr>
        <p:xfrm>
          <a:off x="4356000" y="1844640"/>
          <a:ext cx="4253040" cy="4068720"/>
        </p:xfrm>
        <a:graphic>
          <a:graphicData uri="http://schemas.openxmlformats.org/presentationml/2006/ole">
            <p:oleObj r:id="rId1" spid="">
              <p:embed/>
              <p:pic>
                <p:nvPicPr>
                  <p:cNvPr id="177" name="" descr=""/>
                  <p:cNvPicPr/>
                  <p:nvPr/>
                </p:nvPicPr>
                <p:blipFill>
                  <a:blip r:embed="rId2"/>
                  <a:stretch/>
                </p:blipFill>
                <p:spPr>
                  <a:xfrm>
                    <a:off x="4356000" y="1844640"/>
                    <a:ext cx="4253040" cy="4068720"/>
                  </a:xfrm>
                  <a:prstGeom prst="rect">
                    <a:avLst/>
                  </a:prstGeom>
                  <a:ln w="0">
                    <a:noFill/>
                  </a:ln>
                </p:spPr>
              </p:pic>
            </p:oleObj>
          </a:graphicData>
        </a:graphic>
      </p:graphicFrame>
      <p:sp>
        <p:nvSpPr>
          <p:cNvPr id="178" name=""/>
          <p:cNvSpPr/>
          <p:nvPr/>
        </p:nvSpPr>
        <p:spPr>
          <a:xfrm>
            <a:off x="4643280" y="1268280"/>
            <a:ext cx="4050000" cy="36216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pecialist segmentations observed</a:t>
            </a:r>
            <a:endParaRPr b="0" lang="en-US" sz="1400" spc="-1" strike="noStrike">
              <a:solidFill>
                <a:srgbClr val="ffffff"/>
              </a:solidFill>
              <a:latin typeface="Times New Roman"/>
            </a:endParaRPr>
          </a:p>
        </p:txBody>
      </p:sp>
      <p:sp>
        <p:nvSpPr>
          <p:cNvPr id="179" name=""/>
          <p:cNvSpPr/>
          <p:nvPr/>
        </p:nvSpPr>
        <p:spPr>
          <a:xfrm>
            <a:off x="5076720" y="1700280"/>
            <a:ext cx="317664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segments served according to web-site (e.g. 70% of the 23 banks had a defined ‘Agriculture’ offer)</a:t>
            </a:r>
            <a:endParaRPr b="0" lang="en-US" sz="1200" spc="-1" strike="noStrike">
              <a:solidFill>
                <a:srgbClr val="ffffff"/>
              </a:solidFill>
              <a:latin typeface="Times New Roman"/>
            </a:endParaRPr>
          </a:p>
        </p:txBody>
      </p:sp>
      <p:sp>
        <p:nvSpPr>
          <p:cNvPr id="180" name=""/>
          <p:cNvSpPr/>
          <p:nvPr/>
        </p:nvSpPr>
        <p:spPr>
          <a:xfrm>
            <a:off x="4532400" y="3925800"/>
            <a:ext cx="555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n-profit</a:t>
            </a:r>
            <a:endParaRPr b="0" lang="en-US" sz="1000" spc="-1" strike="noStrike">
              <a:solidFill>
                <a:srgbClr val="ffffff"/>
              </a:solidFill>
              <a:latin typeface="Times New Roman"/>
            </a:endParaRPr>
          </a:p>
        </p:txBody>
      </p:sp>
      <p:sp>
        <p:nvSpPr>
          <p:cNvPr id="181" name=""/>
          <p:cNvSpPr/>
          <p:nvPr/>
        </p:nvSpPr>
        <p:spPr>
          <a:xfrm>
            <a:off x="4546080" y="3198960"/>
            <a:ext cx="5403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norities</a:t>
            </a:r>
            <a:endParaRPr b="0" lang="en-US" sz="1000" spc="-1" strike="noStrike">
              <a:solidFill>
                <a:srgbClr val="ffffff"/>
              </a:solidFill>
              <a:latin typeface="Times New Roman"/>
            </a:endParaRPr>
          </a:p>
        </p:txBody>
      </p:sp>
      <p:sp>
        <p:nvSpPr>
          <p:cNvPr id="182" name=""/>
          <p:cNvSpPr/>
          <p:nvPr/>
        </p:nvSpPr>
        <p:spPr>
          <a:xfrm>
            <a:off x="4467960" y="2448000"/>
            <a:ext cx="6210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hises</a:t>
            </a:r>
            <a:endParaRPr b="0" lang="en-US" sz="1000" spc="-1" strike="noStrike">
              <a:solidFill>
                <a:srgbClr val="ffffff"/>
              </a:solidFill>
              <a:latin typeface="Times New Roman"/>
            </a:endParaRPr>
          </a:p>
        </p:txBody>
      </p:sp>
      <p:sp>
        <p:nvSpPr>
          <p:cNvPr id="183" name=""/>
          <p:cNvSpPr/>
          <p:nvPr/>
        </p:nvSpPr>
        <p:spPr>
          <a:xfrm>
            <a:off x="4483440" y="4724280"/>
            <a:ext cx="6040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griculture</a:t>
            </a:r>
            <a:endParaRPr b="0" lang="en-US" sz="1000" spc="-1" strike="noStrike">
              <a:solidFill>
                <a:srgbClr val="ffffff"/>
              </a:solidFill>
              <a:latin typeface="Times New Roman"/>
            </a:endParaRPr>
          </a:p>
        </p:txBody>
      </p:sp>
      <p:sp>
        <p:nvSpPr>
          <p:cNvPr id="184" name=""/>
          <p:cNvSpPr/>
          <p:nvPr/>
        </p:nvSpPr>
        <p:spPr>
          <a:xfrm>
            <a:off x="18072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081DC5CB-864F-44F4-92A8-019A2B8AC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3c000"/>
                </a:solidFill>
                <a:latin typeface="Arial"/>
              </a:rPr>
              <a:t>Players have positioned themselves as having a few products in each family – ‘simple and standard’</a:t>
            </a:r>
            <a:endParaRPr b="1" lang="en-US" sz="2400" spc="-1" strike="noStrike">
              <a:solidFill>
                <a:srgbClr val="ffffff"/>
              </a:solidFill>
              <a:latin typeface="Arial"/>
            </a:endParaRPr>
          </a:p>
        </p:txBody>
      </p:sp>
      <p:sp>
        <p:nvSpPr>
          <p:cNvPr id="186" name=""/>
          <p:cNvSpPr/>
          <p:nvPr/>
        </p:nvSpPr>
        <p:spPr>
          <a:xfrm>
            <a:off x="539640" y="1411560"/>
            <a:ext cx="3905280" cy="426600"/>
          </a:xfrm>
          <a:prstGeom prst="rect">
            <a:avLst/>
          </a:prstGeom>
          <a:noFill/>
          <a:ln w="0">
            <a:noFill/>
          </a:ln>
        </p:spPr>
        <p:style>
          <a:lnRef idx="0"/>
          <a:fillRef idx="0"/>
          <a:effectRef idx="0"/>
          <a:fontRef idx="minor"/>
        </p:style>
        <p:txBody>
          <a:bodyPr lIns="0" rIns="0" tIns="0" bIns="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implicity of external offering</a:t>
            </a:r>
            <a:br>
              <a:rPr sz="1400"/>
            </a:br>
            <a:r>
              <a:rPr b="0" lang="en-US" sz="1400" spc="-1" strike="noStrike">
                <a:solidFill>
                  <a:srgbClr val="ffffff"/>
                </a:solidFill>
                <a:latin typeface="Arial"/>
              </a:rPr>
              <a:t>(Products per family – according to web-site)</a:t>
            </a:r>
            <a:endParaRPr b="0" lang="en-US" sz="1400" spc="-1" strike="noStrike">
              <a:solidFill>
                <a:srgbClr val="ffffff"/>
              </a:solidFill>
              <a:latin typeface="Times New Roman"/>
            </a:endParaRPr>
          </a:p>
        </p:txBody>
      </p:sp>
      <p:graphicFrame>
        <p:nvGraphicFramePr>
          <p:cNvPr id="187" name=""/>
          <p:cNvGraphicFramePr/>
          <p:nvPr/>
        </p:nvGraphicFramePr>
        <p:xfrm>
          <a:off x="395280" y="2060640"/>
          <a:ext cx="4317840" cy="3752640"/>
        </p:xfrm>
        <a:graphic>
          <a:graphicData uri="http://schemas.openxmlformats.org/presentationml/2006/ole">
            <p:oleObj r:id="rId1" spid="">
              <p:embed/>
              <p:pic>
                <p:nvPicPr>
                  <p:cNvPr id="188" name="" descr=""/>
                  <p:cNvPicPr/>
                  <p:nvPr/>
                </p:nvPicPr>
                <p:blipFill>
                  <a:blip r:embed="rId2"/>
                  <a:stretch/>
                </p:blipFill>
                <p:spPr>
                  <a:xfrm>
                    <a:off x="395280" y="2060640"/>
                    <a:ext cx="4317840" cy="3752640"/>
                  </a:xfrm>
                  <a:prstGeom prst="rect">
                    <a:avLst/>
                  </a:prstGeom>
                  <a:ln w="0">
                    <a:noFill/>
                  </a:ln>
                </p:spPr>
              </p:pic>
            </p:oleObj>
          </a:graphicData>
        </a:graphic>
      </p:graphicFrame>
      <p:sp>
        <p:nvSpPr>
          <p:cNvPr id="189" name=""/>
          <p:cNvSpPr/>
          <p:nvPr/>
        </p:nvSpPr>
        <p:spPr>
          <a:xfrm>
            <a:off x="506160" y="187020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rods</a:t>
            </a:r>
            <a:endParaRPr b="0" lang="en-US" sz="1000" spc="-1" strike="noStrike">
              <a:solidFill>
                <a:srgbClr val="ffffff"/>
              </a:solidFill>
              <a:latin typeface="Times New Roman"/>
            </a:endParaRPr>
          </a:p>
        </p:txBody>
      </p:sp>
      <p:sp>
        <p:nvSpPr>
          <p:cNvPr id="190" name="Footnote"/>
          <p:cNvSpPr/>
          <p:nvPr/>
        </p:nvSpPr>
        <p:spPr>
          <a:xfrm>
            <a:off x="2195640" y="6115320"/>
            <a:ext cx="6443640" cy="1220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ffffff"/>
                </a:solidFill>
                <a:latin typeface="Arial"/>
              </a:rPr>
              <a:t>n = 18 banks</a:t>
            </a:r>
            <a:endParaRPr b="0" lang="en-US" sz="800" spc="-1" strike="noStrike">
              <a:solidFill>
                <a:srgbClr val="ffffff"/>
              </a:solidFill>
              <a:latin typeface="Times New Roman"/>
            </a:endParaRPr>
          </a:p>
        </p:txBody>
      </p:sp>
      <p:sp>
        <p:nvSpPr>
          <p:cNvPr id="191" name=""/>
          <p:cNvSpPr/>
          <p:nvPr/>
        </p:nvSpPr>
        <p:spPr>
          <a:xfrm>
            <a:off x="4730760" y="1797120"/>
            <a:ext cx="3887640" cy="3113640"/>
          </a:xfrm>
          <a:prstGeom prst="rect">
            <a:avLst/>
          </a:prstGeom>
          <a:noFill/>
          <a:ln w="0">
            <a:noFill/>
          </a:ln>
        </p:spPr>
        <p:style>
          <a:lnRef idx="0"/>
          <a:fillRef idx="0"/>
          <a:effectRef idx="0"/>
          <a:fontRef idx="minor"/>
        </p:style>
        <p:txBody>
          <a:bodyPr lIns="0" rIns="0" tIns="0" bIns="0" anchor="t">
            <a:spAutoFit/>
          </a:bodyPr>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ften standardised ‘core’ offer with segment variation injected via the communications mix</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ever, most players interviewed said they had many more products internally</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or record of product management and rationalisation</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players applied a variety of standard customer insight tools into SB product design</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rket sizing and projected profit pools research</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petitive research </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Mystery shopping’</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ing with local influencers or trade associations</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st practices would be banks that conducted SB-specific quantitative research around needs More specialist products such as leasing, factoring normally outsourced to sister companies</a:t>
            </a:r>
            <a:endParaRPr b="0" lang="en-US" sz="1000" spc="-1" strike="noStrike">
              <a:solidFill>
                <a:srgbClr val="ffffff"/>
              </a:solidFill>
              <a:latin typeface="Times New Roman"/>
            </a:endParaRPr>
          </a:p>
          <a:p>
            <a:pPr marL="157320" indent="-157320">
              <a:lnSpc>
                <a:spcPts val="1298"/>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ly a few offered external value-added products</a:t>
            </a:r>
            <a:endParaRPr b="0" lang="en-US" sz="1000" spc="-1" strike="noStrike">
              <a:solidFill>
                <a:srgbClr val="ffffff"/>
              </a:solidFill>
              <a:latin typeface="Times New Roman"/>
            </a:endParaRPr>
          </a:p>
          <a:p>
            <a:pPr lvl="1" marL="374760" indent="-200160">
              <a:lnSpc>
                <a:spcPts val="1298"/>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 advisory services</a:t>
            </a:r>
            <a:endParaRPr b="0" lang="en-US" sz="1000" spc="-1" strike="noStrike">
              <a:solidFill>
                <a:srgbClr val="ffffff"/>
              </a:solidFill>
              <a:latin typeface="Times New Roman"/>
            </a:endParaRPr>
          </a:p>
        </p:txBody>
      </p:sp>
      <p:sp>
        <p:nvSpPr>
          <p:cNvPr id="192" name=""/>
          <p:cNvSpPr/>
          <p:nvPr/>
        </p:nvSpPr>
        <p:spPr>
          <a:xfrm>
            <a:off x="5219640" y="1204920"/>
            <a:ext cx="2908440" cy="43812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bservations</a:t>
            </a:r>
            <a:endParaRPr b="0" lang="en-US" sz="1400" spc="-1" strike="noStrike">
              <a:solidFill>
                <a:srgbClr val="ffffff"/>
              </a:solidFill>
              <a:latin typeface="Times New Roman"/>
            </a:endParaRPr>
          </a:p>
        </p:txBody>
      </p:sp>
      <p:grpSp>
        <p:nvGrpSpPr>
          <p:cNvPr id="193" name=""/>
          <p:cNvGrpSpPr/>
          <p:nvPr/>
        </p:nvGrpSpPr>
        <p:grpSpPr>
          <a:xfrm>
            <a:off x="539640" y="5229360"/>
            <a:ext cx="741600" cy="680760"/>
            <a:chOff x="539640" y="5229360"/>
            <a:chExt cx="741600" cy="680760"/>
          </a:xfrm>
        </p:grpSpPr>
        <p:sp>
          <p:nvSpPr>
            <p:cNvPr id="194" name=""/>
            <p:cNvSpPr/>
            <p:nvPr/>
          </p:nvSpPr>
          <p:spPr>
            <a:xfrm>
              <a:off x="539640" y="5229360"/>
              <a:ext cx="741600" cy="680760"/>
            </a:xfrm>
            <a:prstGeom prst="rect">
              <a:avLst/>
            </a:prstGeom>
            <a:solidFill>
              <a:srgbClr val="003e4d"/>
            </a:solidFill>
            <a:ln w="1260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5" name=""/>
            <p:cNvGrpSpPr/>
            <p:nvPr/>
          </p:nvGrpSpPr>
          <p:grpSpPr>
            <a:xfrm>
              <a:off x="870840" y="5359320"/>
              <a:ext cx="73800" cy="408960"/>
              <a:chOff x="870840" y="5359320"/>
              <a:chExt cx="73800" cy="408960"/>
            </a:xfrm>
          </p:grpSpPr>
          <p:sp>
            <p:nvSpPr>
              <p:cNvPr id="196" name=""/>
              <p:cNvSpPr/>
              <p:nvPr/>
            </p:nvSpPr>
            <p:spPr>
              <a:xfrm>
                <a:off x="906840" y="5366880"/>
                <a:ext cx="0" cy="39492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7" name=""/>
              <p:cNvSpPr/>
              <p:nvPr/>
            </p:nvSpPr>
            <p:spPr>
              <a:xfrm>
                <a:off x="870840" y="576828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8" name=""/>
              <p:cNvSpPr/>
              <p:nvPr/>
            </p:nvSpPr>
            <p:spPr>
              <a:xfrm>
                <a:off x="870840" y="556200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99" name=""/>
              <p:cNvSpPr/>
              <p:nvPr/>
            </p:nvSpPr>
            <p:spPr>
              <a:xfrm>
                <a:off x="870840" y="5359320"/>
                <a:ext cx="7380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sp>
          <p:nvSpPr>
            <p:cNvPr id="200" name=""/>
            <p:cNvSpPr/>
            <p:nvPr/>
          </p:nvSpPr>
          <p:spPr>
            <a:xfrm>
              <a:off x="993600" y="527832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x</a:t>
              </a:r>
              <a:endParaRPr b="0" lang="en-US" sz="800" spc="-1" strike="noStrike">
                <a:solidFill>
                  <a:srgbClr val="ffffff"/>
                </a:solidFill>
                <a:latin typeface="Times New Roman"/>
              </a:endParaRPr>
            </a:p>
          </p:txBody>
        </p:sp>
        <p:sp>
          <p:nvSpPr>
            <p:cNvPr id="201" name=""/>
            <p:cNvSpPr/>
            <p:nvPr/>
          </p:nvSpPr>
          <p:spPr>
            <a:xfrm>
              <a:off x="993600" y="550188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vg</a:t>
              </a:r>
              <a:endParaRPr b="0" lang="en-US" sz="800" spc="-1" strike="noStrike">
                <a:solidFill>
                  <a:srgbClr val="ffffff"/>
                </a:solidFill>
                <a:latin typeface="Times New Roman"/>
              </a:endParaRPr>
            </a:p>
          </p:txBody>
        </p:sp>
        <p:sp>
          <p:nvSpPr>
            <p:cNvPr id="202" name=""/>
            <p:cNvSpPr/>
            <p:nvPr/>
          </p:nvSpPr>
          <p:spPr>
            <a:xfrm>
              <a:off x="993600" y="571644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a:t>
              </a:r>
              <a:endParaRPr b="0" lang="en-US" sz="800" spc="-1" strike="noStrike">
                <a:solidFill>
                  <a:srgbClr val="ffffff"/>
                </a:solidFill>
                <a:latin typeface="Times New Roman"/>
              </a:endParaRPr>
            </a:p>
          </p:txBody>
        </p:sp>
        <p:sp>
          <p:nvSpPr>
            <p:cNvPr id="203" name=""/>
            <p:cNvSpPr/>
            <p:nvPr/>
          </p:nvSpPr>
          <p:spPr>
            <a:xfrm>
              <a:off x="594000" y="5278320"/>
              <a:ext cx="25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a:t>
              </a:r>
              <a:endParaRPr b="0" lang="en-US" sz="800" spc="-1" strike="noStrike">
                <a:solidFill>
                  <a:srgbClr val="ffffff"/>
                </a:solidFill>
                <a:latin typeface="Times New Roman"/>
              </a:endParaRPr>
            </a:p>
          </p:txBody>
        </p:sp>
      </p:grpSp>
      <p:sp>
        <p:nvSpPr>
          <p:cNvPr id="204" name=""/>
          <p:cNvSpPr/>
          <p:nvPr/>
        </p:nvSpPr>
        <p:spPr>
          <a:xfrm>
            <a:off x="252000" y="5734080"/>
            <a:ext cx="1224360" cy="508320"/>
          </a:xfrm>
          <a:prstGeom prst="rect">
            <a:avLst/>
          </a:prstGeom>
          <a:noFill/>
          <a:ln w="0">
            <a:noFill/>
          </a:ln>
        </p:spPr>
        <p:style>
          <a:lnRef idx="0"/>
          <a:fillRef idx="0"/>
          <a:effectRef idx="0"/>
          <a:fontRef idx="minor"/>
        </p:style>
        <p:txBody>
          <a:bodyPr wrap="none" lIns="0" rIns="0" tIns="0" bIns="0" anchor="t">
            <a:spAutoFit/>
          </a:bodyPr>
          <a:p>
            <a:pPr algn="ct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rcer Oliver Wyman</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D47C3705-BBFF-4156-883F-B798D55828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e4d"/>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52280"/>
            <a:ext cx="7917120" cy="1116000"/>
          </a:xfrm>
          <a:prstGeom prst="rect">
            <a:avLst/>
          </a:prstGeom>
          <a:noFill/>
          <a:ln w="0">
            <a:noFill/>
          </a:ln>
        </p:spPr>
        <p:txBody>
          <a:bodyPr lIns="0" rIns="0" tIns="0" bIns="0" anchor="b">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000"/>
                </a:solidFill>
                <a:latin typeface="Arial"/>
              </a:rPr>
              <a:t>Overview</a:t>
            </a:r>
            <a:br>
              <a:rPr sz="3600"/>
            </a:br>
            <a:endParaRPr b="1" lang="en-US" sz="3600" spc="-1" strike="noStrike">
              <a:solidFill>
                <a:srgbClr val="ffffff"/>
              </a:solidFill>
              <a:latin typeface="Arial"/>
            </a:endParaRPr>
          </a:p>
        </p:txBody>
      </p:sp>
      <p:sp>
        <p:nvSpPr>
          <p:cNvPr id="206" name="PlaceHolder 2"/>
          <p:cNvSpPr>
            <a:spLocks noGrp="1"/>
          </p:cNvSpPr>
          <p:nvPr>
            <p:ph/>
          </p:nvPr>
        </p:nvSpPr>
        <p:spPr>
          <a:xfrm>
            <a:off x="321840" y="1268280"/>
            <a:ext cx="8821800" cy="4903920"/>
          </a:xfrm>
          <a:prstGeom prst="rect">
            <a:avLst/>
          </a:prstGeom>
          <a:noFill/>
          <a:ln w="0">
            <a:noFill/>
          </a:ln>
        </p:spPr>
        <p:txBody>
          <a:bodyPr lIns="0" rIns="0" tIns="0" bIns="0" anchor="t">
            <a:normAutofit/>
          </a:bodyPr>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Market BU’s (NL, US and Brazil) adopted Product Programmes for SME’s</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potential for further migration (NL &amp; Brazil)</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s across markets are similar and ‘traditional’</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markets: cautious start by other BU’s (India, Indonesia, Pakistan &amp; Taiwan)</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sharing across the Group</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off point program lending &amp; non- program lending to be determined per market</a:t>
            </a:r>
            <a:endParaRPr b="1" lang="en-US" sz="2400" spc="-1" strike="noStrike">
              <a:solidFill>
                <a:srgbClr val="ffffff"/>
              </a:solidFill>
              <a:latin typeface="Arial"/>
            </a:endParaRPr>
          </a:p>
          <a:p>
            <a:pPr marL="380880" indent="-380880">
              <a:lnSpc>
                <a:spcPts val="2999"/>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seeing 17 Product Programmes with ENR of EUR 2,8 Billion, with transition portfolio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B77D533-6E88-4FCA-933D-4ABC6A1CC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13:54:30Z</dcterms:created>
  <dc:creator>David H.L. Yong</dc:creator>
  <dc:description/>
  <cp:keywords/>
  <dc:language>en-US</dc:language>
  <cp:lastModifiedBy>numan ali</cp:lastModifiedBy>
  <cp:lastPrinted>2005-05-09T07:04:36Z</cp:lastPrinted>
  <dcterms:modified xsi:type="dcterms:W3CDTF">2005-05-09T11:17:20Z</dcterms:modified>
  <cp:revision>167</cp:revision>
  <dc:subject/>
  <dc:title>SME Portfolio Overview</dc:title>
</cp:coreProperties>
</file>