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68200" y="687240"/>
            <a:ext cx="4686120" cy="351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432320"/>
            <a:ext cx="51912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2D6A5-376E-4FB0-AD2D-F9281D48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8560" y="687240"/>
            <a:ext cx="4686120" cy="3515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32320"/>
            <a:ext cx="51912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ut d’abord, puisque nous sommes toujours en Janvier, permettez-moi de vous présentez mes meilleurs voeux pour 2004 et pour la Banque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uite à notre premier contact en Octobre, nous avons passé trois jours au sein de votre Institution en Novembre, et je tiens à vous remercier pour la qualité de l’accueil qui nous a été réservé.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ous avez entre les mains le fruit de ce diagnostic rapide : une proposition d’intervention dans trois domaines que nous estimons stratégiques pour la Banque dans le financement de l’Entrreprise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’objectif de cette réunion, c’est d’abord de vous présenter les grandes lignes de cette proposition, et ce qu’elle peut apporter sur le plan stratégique au CPA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uis bien sûr de recueillir vos commentaires, de répondre à vos questions, de vous donner les précisions techniques nécessaires, et je l’espère de vous convaincre, si besoin en était, de l’intérêt de l’offre proposée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216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512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512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216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34" t="0" r="0" b="7777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88725" t="93042" r="0" b="951"/>
          <a:stretch/>
        </p:blipFill>
        <p:spPr>
          <a:xfrm>
            <a:off x="7924680" y="63244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amuzafar@ifc.org" TargetMode="External"/><Relationship Id="rId2" Type="http://schemas.openxmlformats.org/officeDocument/2006/relationships/hyperlink" Target="mailto:acourcelle@ifc.or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09680" y="3809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IFC SME Banking Advisory Servi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May 10, 2005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: Banque MISR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143000"/>
          <a:ext cx="8726400" cy="5734080"/>
        </p:xfrm>
        <a:graphic>
          <a:graphicData uri="http://schemas.openxmlformats.org/drawingml/2006/table">
            <a:tbl>
              <a:tblPr/>
              <a:tblGrid>
                <a:gridCol w="2654280"/>
                <a:gridCol w="2438280"/>
                <a:gridCol w="1384560"/>
                <a:gridCol w="22492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mponent / Activ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rformance Indicato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pu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com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ac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 micro finance policy and procedu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gram policy and procedures manual develop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opted policy and procedu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ing staf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 training day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 credit officers train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T system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commended loan tracking sys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lemented loan tracking sys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 Business Pla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nducted 3 year financial analysis and projecti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sign loan produ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dividual loan produ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dividual loan produ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lemented in 5 branch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401 loans disburs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 6 million disburs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1.5 million outsta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98 active cli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% repay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ample 2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rocco: BCM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1143000"/>
          <a:ext cx="8458200" cy="5479920"/>
        </p:xfrm>
        <a:graphic>
          <a:graphicData uri="http://schemas.openxmlformats.org/drawingml/2006/table">
            <a:tbl>
              <a:tblPr/>
              <a:tblGrid>
                <a:gridCol w="2385720"/>
                <a:gridCol w="3000600"/>
                <a:gridCol w="30718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ject Activ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rformance Indicato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pu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com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rove credit underwriting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y developing a standardized risk rating system for commercia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roduction of credit scoring for retai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sle II compliant scorecard for commercia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 middle managers and staff trained on the risk rating sys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commendations for future implementation of credit scoring for retai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grated the rating system in the bank’s credit processes and information syste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00 companies rated representing ($2.5 billion equivalent of loans outstanding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rove banks collection practic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commendations for re-organizing the collection fun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reated a dedicated specialized department for commercial recovery of large non performing loans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300 million equivalent recommendations made within the first six months of activity)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 Cornerstone of the Econom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90% of businesses are SMEs (250,000 &gt; 5 employees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30% of GDP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80% of workforc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50% of FX earning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oncentrated in Trade (51%) and Services (34%)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Manufacturing (15%):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extil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ood Processing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Leather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etal products (auto. Spare parts, bicycles, elect. fans..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Wood &amp; Furnitur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arble/granit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Important vehicule of poverty reduction (employment to low income groups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Low productivit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466200" y="30492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s in Pakistan: a large market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Lack of finance is first barrier to growth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Limited access to formal credit: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&gt; 5 employees: less than 5%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&gt; 100 employees: less than 13% for working capital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Only 15% of aggregate banks loans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erceived by banks as high risk, costly, unprofitabl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nks have surplus liquidity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t largely untapped/underserved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IGNIFICANT MARKET POTENTIA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OPPORTUNITIES FOR BANKS TO ENTER THE SME MARKE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WITH APPROPRIATE TOOLS,  PRODUCTS, PROCESSES, ORGANIZATION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…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.AND SUPPORT FROM IFC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Banking in Pakistan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xt …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Expression of Interest by Bank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Diagnostic questionnaire and assessment visi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nking Advisory Proposal and Terms Of Reference (objective, deliverables, budget and time-plan, cost-sharing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onsultants selection and budget finalization 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dvisory Services Agreemen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ontracting consultant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roject kick-off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lease contac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IFC Islamabad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yesha Muzaffar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Black"/>
                <a:hlinkClick r:id="rId1"/>
              </a:rPr>
              <a:t>amuzaffar@ifc.org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IFC Cairo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ntoine Courcelle-Labrousse: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Black"/>
                <a:hlinkClick r:id="rId2"/>
              </a:rPr>
              <a:t>acourcelle@ifc.org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f you are interested…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Definition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219320"/>
          <a:ext cx="8534160" cy="40384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umber of Employe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venu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sset Ba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5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uropean Un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 &lt; X &lt; 2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50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34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0 manufact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 servic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4 MM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Mexic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 &lt; X &lt; 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outh Africa</a:t>
                      </a:r>
                      <a:r>
                        <a:rPr b="1" lang="en-GB" sz="1400" spc="-1" strike="noStrike" baseline="30000">
                          <a:solidFill>
                            <a:srgbClr val="003366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gt; 10-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100-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gt; US$ 0.05 MM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 USD 1 - 8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gt; USD 0.07 MM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0.3 – 3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250 manufact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 servic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USD 4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1.35 MM manufact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USD 0.7 MM servic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 &lt; X &lt; 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04920" y="5943600"/>
            <a:ext cx="8458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4280" y="55688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0-14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2640" y="55688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15-49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8080" y="556884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50-199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4400" y="55688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&gt; 200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0040" y="6019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ICR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50840" y="6019920"/>
            <a:ext cx="7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SMAL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6160" y="60199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EDI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3160" y="601992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LARG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Polici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MEs are Key for Economic Development…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They provide most of the employment opportunitie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They are flexible in economic downturn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They allow a homogeneous geographic development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marL="277560" indent="-27756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ME Development in a country requires: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 strong culture of Entrepreneurship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 business enabling environment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Low barriers to entry and development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dequate legal and regulatory framework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ccess to Finance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Financing Needs: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3" marL="129600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tart-Up: Self-financing, Family, Venture Capital, Micro-Finance, Government Guarantee Scheme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3" marL="129600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Growth: Banking and Specialized Financial Service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3" marL="129600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Maturity: Banking Services, Bond Markets, Stock Market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s and Economic Develop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Emerging Market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76320" y="1798560"/>
          <a:ext cx="45133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798560"/>
                    <a:ext cx="45133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437000" y="1798560"/>
          <a:ext cx="4321080" cy="483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7000" y="1798560"/>
                    <a:ext cx="432108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09480" y="1447200"/>
            <a:ext cx="36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timated SME Contribution to GD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9320" y="1324440"/>
            <a:ext cx="41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timated SME Contribution to Employ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FC Technical Assistanc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MENA region</a:t>
            </a:r>
            <a:endParaRPr b="0" lang="en-US" sz="2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3 year technical assistance program to support private sector developmen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Covering 22 countries, from Morocco to Pakistan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anaged by International Finance Corporation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US$100m co-financed by IFC and bilateral donor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5 Pillars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inancial Sector (SME banking, leasing, housing, banks corporate governance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ME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Business Enabling Environmen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rivatisation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ublic-Private Partnership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Banking Advisory Servi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OBJECTIVE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evelop the SME finance supply by improving the capacity of commercial banks to serve this market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ATIONALE 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MEs are a central factor for growth and job creation in developing countries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ccess to Finance is mandatory for SMEs growth and sustainabilit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here is a gap between where micro-finance ends and corporate banking starts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ME Banking has proven to be highly profitable when best</a:t>
            </a: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practices are applied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pe of Advisory Servi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nk SME Strategy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ME Definition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Market segmentation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Risk Managemen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redit Polic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Risk Rating/ Scoring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roduct Developmen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Organization Structur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d Debt Recovery and Collection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IT System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taff Training on new products/process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Micro-enterprises: micro-finance approach/products leveraging bank’s network and resour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mall-enterprises: scale-up retail banking: scoring, mass-market, packaged product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Medium: scale-down corporate banking: rating, semi-packaged, enhanced/simplified/streamlined corporate banking 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8600"/>
            <a:ext cx="53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 Sub-segments/approach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pleted and Ongoing Mandates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United Bank of Egypt (UBE), Egypt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ommercial International Bank (CIB), Egypt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Misr, Egypt (2 projects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Export Development Bank of Egypt (EDBE), Egypt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lexandria Businessman Association, Egypt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Commerciale du Maroc (BCM), Morocco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Centrale Populaire (BCP), Morocco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Internationale Arabe de Tunisie (BIAT), Tunisi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redit Populaire d’Algerie (CPA), Algeri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Ryad Bank, Saudi Arabi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1:35:45Z</dcterms:created>
  <dc:creator>Ghada Teima</dc:creator>
  <dc:description/>
  <dc:language>en-US</dc:language>
  <cp:lastModifiedBy>IFC User</cp:lastModifiedBy>
  <dcterms:modified xsi:type="dcterms:W3CDTF">2005-05-09T18:41:09Z</dcterms:modified>
  <cp:revision>131</cp:revision>
  <dc:subject/>
  <dc:title>Histoire</dc:title>
</cp:coreProperties>
</file>