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52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68200" y="687240"/>
            <a:ext cx="4686120" cy="351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5840" y="4432320"/>
            <a:ext cx="5191200" cy="420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lnSpc>
                <a:spcPct val="12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8862480"/>
            <a:ext cx="30528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970440" y="8862480"/>
            <a:ext cx="30528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A8E0AA-9F0A-4B74-B990-EE93333CC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68560" y="687240"/>
            <a:ext cx="4686120" cy="35150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5840" y="4432320"/>
            <a:ext cx="5191200" cy="420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lnSpc>
                <a:spcPct val="12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out d’abord, puisque nous sommes toujours en Janvier, permettez-moi de vous présentez mes meilleurs voeux pour 2004 et pour la Banque.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uite à notre premier contact en Octobre, nous avons passé trois jours au sein de votre Institution en Novembre, et je tiens à vous remercier pour la qualité de l’accueil qui nous a été réservé.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Vous avez entre les mains le fruit de ce diagnostic rapide : une proposition d’intervention dans trois domaines que nous estimons stratégiques pour la Banque dans le financement de l’Entrreprise.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’objectif de cette réunion, c’est d’abord de vous présenter les grandes lignes de cette proposition, et ce qu’elle peut apporter sur le plan stratégique au CPA.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uis bien sûr de recueillir vos commentaires, de répondre à vos questions, de vous donner les précisions techniques nécessaires, et je l’espère de vous convaincre, si besoin en était, de l’intérêt de l’offre proposée.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4587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216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243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5120" y="243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458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58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5120" y="458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216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216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216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216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4587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334" t="0" r="0" b="7777"/>
          <a:stretch/>
        </p:blipFill>
        <p:spPr>
          <a:xfrm>
            <a:off x="0" y="0"/>
            <a:ext cx="9144000" cy="6541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Click to edit the outline text format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Third Outline Level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88725" t="93042" r="0" b="951"/>
          <a:stretch/>
        </p:blipFill>
        <p:spPr>
          <a:xfrm>
            <a:off x="7924680" y="632448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amuzafar@ifc.org" TargetMode="External"/><Relationship Id="rId2" Type="http://schemas.openxmlformats.org/officeDocument/2006/relationships/hyperlink" Target="mailto:acourcelle@ifc.org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209680" y="3809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IFC SME Banking Advisory Service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May 10, 2005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gypt: Banque MISR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1143000"/>
          <a:ext cx="8726400" cy="5734080"/>
        </p:xfrm>
        <a:graphic>
          <a:graphicData uri="http://schemas.openxmlformats.org/drawingml/2006/table">
            <a:tbl>
              <a:tblPr/>
              <a:tblGrid>
                <a:gridCol w="2654280"/>
                <a:gridCol w="2438280"/>
                <a:gridCol w="1384560"/>
                <a:gridCol w="224928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rojec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omponent / Activiti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erformance Indicato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utpu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utcom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mpac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evelop micro finance policy and procedur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rogram policy and procedures manual develope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dopted policy and procedur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raining staf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 training day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 credit officers traine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T system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commended loan tracking system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mplemented loan tracking system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evelop Business Pla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onducted 3 year financial analysis and projection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esign loan produc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dividual loan produc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dividual loan produc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mplemented in 5 branch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401 loans disburse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$ 6 million disburse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$1.5 million outstand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98 active clien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% repaym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xample 2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rocco: BCM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04920" y="1143000"/>
          <a:ext cx="8458200" cy="5479920"/>
        </p:xfrm>
        <a:graphic>
          <a:graphicData uri="http://schemas.openxmlformats.org/drawingml/2006/table">
            <a:tbl>
              <a:tblPr/>
              <a:tblGrid>
                <a:gridCol w="2385720"/>
                <a:gridCol w="3000600"/>
                <a:gridCol w="307188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roject Activiti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erformance Indicato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utpu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utcom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mprove credit underwriting: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y developing a standardized risk rating system for commercial lend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troduction of credit scoring for retail lend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asle II compliant scorecard for commercial lend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 middle managers and staff trained on the risk rating system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commendations for future implementation of credit scoring for retail lend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tegrated the rating system in the bank’s credit processes and information system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00 companies rated representing ($2.5 billion equivalent of loans outstanding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mprove banks collection practic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commendations for re-organizing the collection func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reated a dedicated specialized department for commercial recovery of large non performing loans 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$300 million equivalent recommendations made within the first six months of activity)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A Cornerstone of the Economy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90% of businesses are SMEs (250,000 &gt; 5 employees)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30% of GDP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80% of workforce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50% of FX earnings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Concentrated in Trade (51%) and Services (34%) 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Manufacturing (15%): 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Textile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Food Processing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Leather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Metal products (auto. Spare parts, bicycles, elect. fans..)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Wood &amp; Furniture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Marble/granite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Important vehicule of poverty reduction (employment to low income groups)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Low productivity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466200" y="304920"/>
            <a:ext cx="50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Es in Pakistan: a large market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Lack of finance is first barrier to growth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Limited access to formal credit: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&gt; 5 employees: less than 5%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&gt; 100 employees: less than 13% for working capital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Only 15% of aggregate banks loans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Perceived by banks as high risk, costly, unprofitable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Banks have surplus liquidity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ut largely untapped/underserved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SIGNIFICANT MARKET POTENTIAL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OPPORTUNITIES FOR BANKS TO ENTER THE SME MARKET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WITH APPROPRIATE TOOLS,  PRODUCTS, PROCESSES, ORGANIZATION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…</a:t>
            </a: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.AND SUPPORT FROM IFC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E Banking in Pakistan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xt …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Expression of Interest by Bank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Diagnostic questionnaire and assessment visit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Banking Advisory Proposal and Terms Of Reference (objective, deliverables, budget and time-plan, cost-sharing)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Consultants selection and budget finalization 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Advisory Services Agreement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Contracting consultant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Project kick-off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Please contac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IFC Islamabad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Ayesha Muzaffar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 Black"/>
                <a:hlinkClick r:id="rId1"/>
              </a:rPr>
              <a:t>amuzaffar@ifc.org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IFC Cairo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Antoine Courcelle-Labrousse: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 Black"/>
                <a:hlinkClick r:id="rId2"/>
              </a:rPr>
              <a:t>acourcelle@ifc.org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f you are interested…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E Definition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219320"/>
          <a:ext cx="8534160" cy="403848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33624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Number of Employee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Revenue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Asset Bas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3362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United State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5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USD 5 M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European Un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0 &lt; X &lt; 25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USD 50M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USD 34 M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Canad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500 manufact.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50 service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USD 4 MM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Mexic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0 &lt; X &lt; 5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South Africa</a:t>
                      </a:r>
                      <a:r>
                        <a:rPr b="1" lang="en-GB" sz="1400" spc="-1" strike="noStrike" baseline="30000">
                          <a:solidFill>
                            <a:srgbClr val="003366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gt; 10-2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100-2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gt; US$ 0.05 MM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 USD 1 - 8 M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gt; USD 0.07 MM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USD 0.3 – 3 M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250 manufact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50 service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USD 4 M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 USD 1.35 MM manufact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USD 0.7 MM service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0 &lt; X &lt; 2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304920" y="5943600"/>
            <a:ext cx="845820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4280" y="556884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0-14 staff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72640" y="5568840"/>
            <a:ext cx="11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15-49 staff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98080" y="556884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50-199 staff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34400" y="556884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&gt; 200 staff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0040" y="60199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MICRO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50840" y="6019920"/>
            <a:ext cx="77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SMALL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16160" y="601992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MEDIU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83160" y="601992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LARG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E Policie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SMEs are Key for Economic Development…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1" marL="601560" indent="-23148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They provide most of the employment opportunities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1" marL="601560" indent="-23148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They are flexible in economic downturns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1" marL="601560" indent="-23148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They allow a homogeneous geographic development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1" marL="601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marL="277560" indent="-27756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SME Development in a country requires: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1" marL="601560" indent="-23148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A strong culture of Entrepreneurship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2" marL="925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1" marL="601560" indent="-23148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A business enabling environment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2" marL="925560" indent="-18504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Low barriers to entry and development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2" marL="925560" indent="-18504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Adequate legal and regulatory framework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2" marL="925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1" marL="601560" indent="-23148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Access to Finance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2" marL="925560" indent="-18504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Financing Needs: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3" marL="1296000" indent="-18504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Start-Up: Self-financing, Family, Venture Capital, Micro-Finance, Government Guarantee Schemes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3" marL="1296000" indent="-18504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Growth: Banking and Specialized Financial Services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  <a:p>
            <a:pPr lvl="3" marL="1296000" indent="-18504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Verdana"/>
              </a:rPr>
              <a:t>Maturity: Banking Services, Bond Markets, Stock Markets</a:t>
            </a:r>
            <a:endParaRPr b="0" lang="en-US" sz="15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Es and Economic Developm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Emerging Market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-76320" y="1798560"/>
          <a:ext cx="451332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1798560"/>
                    <a:ext cx="45133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437000" y="1798560"/>
          <a:ext cx="4321080" cy="483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37000" y="1798560"/>
                    <a:ext cx="4321080" cy="48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609480" y="1447200"/>
            <a:ext cx="36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stimated SME Contribution to GD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9320" y="1324440"/>
            <a:ext cx="41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stimated SME Contribution to Employmen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FC Technical Assistance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n MENA region</a:t>
            </a:r>
            <a:endParaRPr b="0" lang="en-US" sz="2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3 year technical assistance program to support private sector development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Covering 22 countries, from Morocco to Pakistan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Managed by International Finance Corporation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US$100m co-financed by IFC and bilateral donors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5 Pillars: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Financial Sector (SME banking, leasing, housing, banks corporate governance)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SMEs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Business Enabling Environment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Privatisations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Public-Private Partnerships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E Banking Advisory Service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OBJECTIVE: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Develop the SME finance supply by improving the capacity of commercial banks to serve this market 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RATIONALE :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SMEs are a central factor for growth and job creation in developing countries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Access to Finance is mandatory for SMEs growth and sustainability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There is a gap between where micro-finance ends and corporate banking starts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SME Banking has proven to be highly profitable when best</a:t>
            </a: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practices are applied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pe of Advisory Service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Bank SME Strategy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SME Definition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Market segmentation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Risk Management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Credit Policy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Risk Rating/ Scoring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Product Development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Organization Structure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Bad Debt Recovery and Collection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IT System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Staff Training on new products/processe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Micro-enterprises: micro-finance approach/products leveraging bank’s network and resource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Small-enterprises: scale-up retail banking: scoring, mass-market, packaged products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Medium: scale-down corporate banking: rating, semi-packaged, enhanced/simplified/streamlined corporate banking 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28600"/>
            <a:ext cx="53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 Sub-segments/approach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mpleted and Ongoing Mandates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United Bank of Egypt (UBE), Egypt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12120" indent="-312120"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Commercial International Bank (CIB), Egypt 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12120" indent="-312120"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Banque Misr, Egypt (2 projects)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12120" indent="-312120"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Export Development Bank of Egypt (EDBE), Egypt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12120" indent="-312120"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Alexandria Businessman Association, Egypt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12120" indent="-312120"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Banque Commerciale du Maroc (BCM), Morocco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12120" indent="-312120"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Banque Centrale Populaire (BCP), Morocco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12120" indent="-312120"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Banque Internationale Arabe de Tunisie (BIAT), Tunisia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12120" indent="-312120"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Credit Populaire d’Algerie (CPA), Algeria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12120" indent="-312120">
              <a:spcBef>
                <a:spcPts val="499"/>
              </a:spcBef>
              <a:spcAft>
                <a:spcPts val="1250"/>
              </a:spcAft>
              <a:buClr>
                <a:srgbClr val="0033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Ryad Bank, Saudi Arabia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1212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11:35:45Z</dcterms:created>
  <dc:creator>Ghada Teima</dc:creator>
  <dc:description/>
  <dc:language>en-US</dc:language>
  <cp:lastModifiedBy>IFC User</cp:lastModifiedBy>
  <dcterms:modified xsi:type="dcterms:W3CDTF">2005-05-09T18:41:09Z</dcterms:modified>
  <cp:revision>131</cp:revision>
  <dc:subject/>
  <dc:title>Histoire</dc:title>
</cp:coreProperties>
</file>