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9E1-5027-498D-A3C5-7BA45EECF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1C2C-69DF-4BD6-90D6-6BCB3CBE0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61840" y="247680"/>
            <a:ext cx="5073840" cy="3805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2520" y="4219200"/>
            <a:ext cx="59688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2346-E1C5-49BE-B003-85F9C23F2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61840" y="247680"/>
            <a:ext cx="5073840" cy="3805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2520" y="4219200"/>
            <a:ext cx="59688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37FF-3052-4495-8B1A-8D30039F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5840" y="8100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80520" y="4038120"/>
            <a:ext cx="6037560" cy="54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E8F0-F410-487C-B00C-E68C4FE9C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CF3B-D282-4A9E-9E33-819919EA5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FD86-8BA3-443E-A0AB-B693C0644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4E97-6C98-4CF6-96D1-9D67EC177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E0F2-0B4A-4D5A-9441-599778E33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6368-8FC2-4F4B-8B84-1B5056C96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0384-5BB1-41B0-A396-6E3CB72CA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AF2C-BF17-4BE4-B460-772BDB092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A10A-9CF8-4FD7-BC80-9B0BF4BDC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EBC4-DBDC-4DE8-A197-91CDC44F7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A74D-0A2D-4611-AFDE-64DAC42C9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8BC4-1505-4C63-8048-773F2B73E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457200" y="6326280"/>
            <a:ext cx="2133720" cy="455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1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58C2-CB00-47D0-AC92-247EEBB0A3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Focused and Coordinated Development of Small and Medium Enterprises (SMEs)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The Malaysian Experience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Conference on SME Financing: Issues and Strategies               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0 – 11 May 2005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Lahore, Pakistan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Presentation by Mr Marzunisham Oma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rector, SME Special Unit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entral Bank of Malaysia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572F-33EC-46E6-ABEA-0FC7FF7BC5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 Development Framework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itiatives to Enhance Access to Financing by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 of SME Special Unit at Bank Negara Malays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51460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sentation Outlin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45AD-633D-4536-831E-D9BF3813B0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Initiatives by Bank Negara Malaysia 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736800"/>
            <a:ext cx="8229600" cy="871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 Special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funds with allocation of RM 8.9b (USD 2.3b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= 3.75% to 5.0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22200"/>
            <a:ext cx="8153280" cy="871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redit Guarante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rovide guarantee to SMEs lacking collateral and track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7840"/>
            <a:ext cx="8229600" cy="871560"/>
          </a:xfrm>
          <a:prstGeom prst="rect">
            <a:avLst/>
          </a:prstGeom>
          <a:solidFill>
            <a:srgbClr val="000066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F Sdn B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urpose vehicle to assist Bumiputera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994280"/>
            <a:ext cx="8229600" cy="871560"/>
          </a:xfrm>
          <a:prstGeom prst="rect">
            <a:avLst/>
          </a:prstGeom>
          <a:solidFill>
            <a:srgbClr val="000066"/>
          </a:solidFill>
          <a:ln w="64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mall Debt Resolu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rovide assistance to viable SMEs constrained with NP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B609-1207-464F-94CA-54DF8D5812F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8280" y="2593080"/>
            <a:ext cx="4172040" cy="12862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nking Syste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Services to Enhance SME Fin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036440"/>
            <a:ext cx="4038120" cy="1325520"/>
            <a:chOff x="304920" y="1036440"/>
            <a:chExt cx="4038120" cy="1325520"/>
          </a:xfrm>
        </p:grpSpPr>
        <p:sp>
          <p:nvSpPr>
            <p:cNvPr id="105" name=""/>
            <p:cNvSpPr/>
            <p:nvPr/>
          </p:nvSpPr>
          <p:spPr>
            <a:xfrm>
              <a:off x="304920" y="1036440"/>
              <a:ext cx="4038120" cy="3301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SME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1371600"/>
              <a:ext cx="4038120" cy="99036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Provision of financing and ancillary services to S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24280" y="1085760"/>
            <a:ext cx="4114440" cy="1276200"/>
            <a:chOff x="4724280" y="1085760"/>
            <a:chExt cx="4114440" cy="1276200"/>
          </a:xfrm>
        </p:grpSpPr>
        <p:sp>
          <p:nvSpPr>
            <p:cNvPr id="108" name=""/>
            <p:cNvSpPr/>
            <p:nvPr/>
          </p:nvSpPr>
          <p:spPr>
            <a:xfrm>
              <a:off x="4724280" y="1085760"/>
              <a:ext cx="4114440" cy="3542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Bumiputera Development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4280" y="1447560"/>
              <a:ext cx="4114440" cy="91440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Address financing and developmental needs of Bumiputera entrepren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4133520"/>
            <a:ext cx="4038120" cy="1962000"/>
            <a:chOff x="304920" y="4133520"/>
            <a:chExt cx="4038120" cy="1962000"/>
          </a:xfrm>
        </p:grpSpPr>
        <p:sp>
          <p:nvSpPr>
            <p:cNvPr id="111" name=""/>
            <p:cNvSpPr/>
            <p:nvPr/>
          </p:nvSpPr>
          <p:spPr>
            <a:xfrm>
              <a:off x="304920" y="4133520"/>
              <a:ext cx="4038120" cy="3542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Complaints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4495680"/>
              <a:ext cx="4038120" cy="159984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Provide a dedicated channel for customers to raise complaints with banking instit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24280" y="4119480"/>
            <a:ext cx="4114440" cy="1976400"/>
            <a:chOff x="4724280" y="4119480"/>
            <a:chExt cx="4114440" cy="1976400"/>
          </a:xfrm>
        </p:grpSpPr>
        <p:sp>
          <p:nvSpPr>
            <p:cNvPr id="114" name=""/>
            <p:cNvSpPr/>
            <p:nvPr/>
          </p:nvSpPr>
          <p:spPr>
            <a:xfrm>
              <a:off x="4724280" y="4119480"/>
              <a:ext cx="4114440" cy="3542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Display of Client Ch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280" y="4495680"/>
              <a:ext cx="4114440" cy="160020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Display a Client Charter on the processing of loans application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-101520" algn="just">
                <a:lnSpc>
                  <a:spcPct val="110000"/>
                </a:lnSpc>
                <a:spcBef>
                  <a:spcPts val="238"/>
                </a:spcBef>
                <a:buClr>
                  <a:srgbClr val="9933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documents &amp; information required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-101520" algn="just">
                <a:lnSpc>
                  <a:spcPct val="110000"/>
                </a:lnSpc>
                <a:spcBef>
                  <a:spcPts val="238"/>
                </a:spcBef>
                <a:buClr>
                  <a:srgbClr val="9933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eligibility criteria; and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-101520" algn="just">
                <a:lnSpc>
                  <a:spcPct val="110000"/>
                </a:lnSpc>
                <a:spcBef>
                  <a:spcPts val="238"/>
                </a:spcBef>
                <a:buClr>
                  <a:srgbClr val="9933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processing time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705720" y="25146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357200" y="33048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10800000">
            <a:off x="6705720" y="3305160"/>
            <a:ext cx="838080" cy="6573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78720 h 657360"/>
              <a:gd name="textAreaBottom" fmla="*/ 563040 h 657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371600" y="2514600"/>
            <a:ext cx="838080" cy="685800"/>
          </a:xfrm>
          <a:custGeom>
            <a:avLst/>
            <a:gdLst>
              <a:gd name="textAreaLeft" fmla="*/ 279360 w 838080"/>
              <a:gd name="textAreaRight" fmla="*/ 717840 w 8380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anking System: Services for SMEs</a:t>
            </a: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432F-7E18-4896-82FF-FA7AD5CF1B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anking System: Main Provider of Financing to S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D8.3 b loans approved to 92,000 SMEs in 2004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0856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January – March 2005: USD2.1 b loans ap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D26.4 b loans disbursed in 2004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6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ans to SMEs accounted for 40% of outstanding business loa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6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/3 of total loans channeled to 3 main sector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0856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Wholesale and retail trade, restaurants and hotels, manufacturing and construction</a:t>
            </a: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Ls declined to 12% of total SME loa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F45B-99B3-4976-99A9-D8773586C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080" y="118800"/>
            <a:ext cx="84646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evelopment Financial Institutions             and Venture Capit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-368640"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lement role of banks, esp. to finance start-up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68640" indent="-368640"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velopment Financial Institutions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825840" indent="-274320">
              <a:spcBef>
                <a:spcPts val="15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2004, loans extended by 5 DFIs to SMEs amounted to USD0.8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8640" indent="-368640"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enture Capital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825840" indent="-274320">
              <a:spcBef>
                <a:spcPts val="15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funds established to promote venture capital indu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-274320">
              <a:spcBef>
                <a:spcPts val="15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CCs invested mainly in ICT, pharmaceuticals and manufactu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0B79-FFFE-4428-BBFC-DCAE4FF709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 Development Framewor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itiatives to Enhance Access to Financing by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 of SME Special Unit at Bank Negara Malays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114800"/>
            <a:ext cx="86104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sentation Outlin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2BD3-45FB-4A4B-B136-37B3EBB00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280" y="152280"/>
            <a:ext cx="806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ME Special Unit at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ank Negara Malaysia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8640" indent="-5486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stablished to lead BNM’s efforts to support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4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48640" indent="-5486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s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1103760" indent="-47052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Formulate strategies to enhance access to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3760" indent="-47052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Provide information and advisory services to S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3760" indent="-47052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Secretariat of National SME Development Counc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73A9-63BA-44FE-8894-0344D47120A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2480" y="2581200"/>
            <a:ext cx="5562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aramond"/>
              </a:rPr>
              <a:t>End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8B1C-9A50-4DC2-B863-22A2F0DE74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 Development Framework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itiatives to Enhance Access to Financing by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 of SME Special Unit at Bank Negara Malays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7920"/>
            <a:ext cx="861048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sentation Outlin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7E6D-455A-4A19-A0D6-DA1BF03DB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Importance of SMEs 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4600" y="1201320"/>
            <a:ext cx="839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rust of national economic polic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ngthen domestic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ote and diversify endogenous sources of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use dynamism into economic s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s as an impetus for broad-based growt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linkages between various subs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of dynamism and ag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genous enterprises which may evolve into  larger enterp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DAED-B3B7-4C90-812D-8974C9773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us of SMEs 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-3686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tential for SMEs to contribute more to domestic econom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3080" y="1752480"/>
          <a:ext cx="845820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52480"/>
                    <a:ext cx="8458200" cy="3581640"/>
                  </a:xfrm>
                  <a:prstGeom prst="rect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56386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* For Malaysia, based on SMEs in the manufacturing sector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D8F6-3C0B-42BC-8955-6FC724161D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86920"/>
            <a:ext cx="82454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NM SME Surve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assess state of SMEs, their requirements and iss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8,000 SMEs responde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sults: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ntribution to GD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estically orient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capacity; level of technology; access to markets and resources to upgrade skills &amp; production process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ahoma"/>
              </a:rPr>
              <a:t>62% indicated no problems obtaining financing </a:t>
            </a:r>
            <a:endParaRPr b="0" lang="en-US" sz="22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ahoma"/>
              </a:rPr>
              <a:t>Main sources are banks, own capital, and from family and friends</a:t>
            </a:r>
            <a:endParaRPr b="0" lang="en-US" sz="2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6890-7A9F-43B4-85DE-9177C6E8A9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87840" y="1587600"/>
            <a:ext cx="45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Enhance coordination and outreach of S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cros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sectors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20" y="4832280"/>
            <a:ext cx="285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Enh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cces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financing by S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0600" y="4178160"/>
            <a:ext cx="407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Enhance SM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apa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et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focus on qua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management &amp; mark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3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49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1560" y="2673360"/>
            <a:ext cx="917640" cy="450720"/>
          </a:xfrm>
          <a:custGeom>
            <a:avLst/>
            <a:gdLst>
              <a:gd name="textAreaLeft" fmla="*/ 183960 w 917640"/>
              <a:gd name="textAreaRight" fmla="*/ 633600 w 917640"/>
              <a:gd name="textAreaTop" fmla="*/ 60120 h 450720"/>
              <a:gd name="textAreaBottom" fmla="*/ 390600 h 45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0" hR="21600" stAng="10800000" swAng="5400000"/>
                <a:lnTo>
                  <a:pt x="10580" y="0"/>
                </a:lnTo>
                <a:arcTo wR="8660" hR="21600" stAng="-5400000" swAng="2336484"/>
                <a:lnTo>
                  <a:pt x="20698" y="12000"/>
                </a:lnTo>
                <a:lnTo>
                  <a:pt x="18280" y="21600"/>
                </a:lnTo>
                <a:lnTo>
                  <a:pt x="14058" y="12000"/>
                </a:lnTo>
                <a:lnTo>
                  <a:pt x="16418" y="12000"/>
                </a:lnTo>
                <a:arcTo wR="8660" hR="21600" stAng="-3063516" swAng="-2182850"/>
                <a:lnTo>
                  <a:pt x="9620" y="133"/>
                </a:lnTo>
                <a:arcTo wR="8660" hR="21600" stAng="-5553634" swAng="-5246366"/>
                <a:close/>
              </a:path>
              <a:path fill="darkenLess" w="21600" h="21600">
                <a:moveTo>
                  <a:pt x="0" y="21600"/>
                </a:moveTo>
                <a:arcTo wR="8660" hR="21600" stAng="10800000" swAng="5400000"/>
                <a:lnTo>
                  <a:pt x="8660" y="0"/>
                </a:lnTo>
                <a:arcTo wR="8660" hR="21600" stAng="-5400000" swAng="153634"/>
                <a:lnTo>
                  <a:pt x="9620" y="133"/>
                </a:lnTo>
                <a:arcTo wR="8660" hR="21600" stAng="-5553634" swAng="-5246366"/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4114800"/>
            <a:ext cx="458640" cy="677880"/>
          </a:xfrm>
          <a:custGeom>
            <a:avLst/>
            <a:gdLst>
              <a:gd name="textAreaLeft" fmla="*/ 61200 w 458640"/>
              <a:gd name="textAreaRight" fmla="*/ 397440 w 458640"/>
              <a:gd name="textAreaTop" fmla="*/ 132120 h 677880"/>
              <a:gd name="textAreaBottom" fmla="*/ 478080 h 6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33" stAng="-5400000" swAng="5400000"/>
                <a:lnTo>
                  <a:pt x="21600" y="11011"/>
                </a:lnTo>
                <a:arcTo wR="21600" hR="8433" stAng="0" swAng="2215055"/>
                <a:lnTo>
                  <a:pt x="9960" y="20650"/>
                </a:lnTo>
                <a:lnTo>
                  <a:pt x="0" y="18155"/>
                </a:lnTo>
                <a:lnTo>
                  <a:pt x="9960" y="13760"/>
                </a:lnTo>
                <a:lnTo>
                  <a:pt x="9960" y="15916"/>
                </a:lnTo>
                <a:arcTo wR="21600" hR="8433" stAng="2215055" swAng="-2007716"/>
                <a:lnTo>
                  <a:pt x="21346" y="9722"/>
                </a:lnTo>
                <a:arcTo wR="21600" hR="8433" stAng="-207338" swAng="-5192662"/>
                <a:close/>
              </a:path>
              <a:path fill="darkenLess" w="21600" h="21600">
                <a:moveTo>
                  <a:pt x="0" y="0"/>
                </a:moveTo>
                <a:arcTo wR="21600" hR="8433" stAng="-5400000" swAng="5400000"/>
                <a:lnTo>
                  <a:pt x="21600" y="11011"/>
                </a:lnTo>
                <a:arcTo wR="21600" hR="8433" stAng="0" swAng="-207338"/>
                <a:lnTo>
                  <a:pt x="21346" y="9722"/>
                </a:lnTo>
                <a:arcTo wR="21600" hR="8433" stAng="-207338" swAng="-5192662"/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22640" y="4045680"/>
            <a:ext cx="458640" cy="677880"/>
          </a:xfrm>
          <a:custGeom>
            <a:avLst/>
            <a:gdLst>
              <a:gd name="textAreaLeft" fmla="*/ 61200 w 458640"/>
              <a:gd name="textAreaRight" fmla="*/ 397440 w 458640"/>
              <a:gd name="textAreaTop" fmla="*/ 131760 h 677880"/>
              <a:gd name="textAreaBottom" fmla="*/ 47016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0" stAng="-5400000" swAng="-5400000"/>
                <a:lnTo>
                  <a:pt x="0" y="10780"/>
                </a:lnTo>
                <a:arcTo wR="21600" hR="8420" stAng="10800000" swAng="-2520152"/>
                <a:lnTo>
                  <a:pt x="13019" y="20907"/>
                </a:lnTo>
                <a:lnTo>
                  <a:pt x="21600" y="18020"/>
                </a:lnTo>
                <a:lnTo>
                  <a:pt x="13019" y="13747"/>
                </a:lnTo>
                <a:lnTo>
                  <a:pt x="13019" y="16147"/>
                </a:lnTo>
                <a:arcTo wR="21600" hR="8420" stAng="8279848" swAng="2330669"/>
                <a:lnTo>
                  <a:pt x="213" y="9600"/>
                </a:lnTo>
                <a:arcTo wR="21600" hR="8420" stAng="-10610517" swAng="5210517"/>
                <a:close/>
              </a:path>
              <a:path fill="darkenLess" w="21600" h="21600">
                <a:moveTo>
                  <a:pt x="21600" y="0"/>
                </a:moveTo>
                <a:arcTo wR="21600" hR="8420" stAng="-5400000" swAng="-5400000"/>
                <a:lnTo>
                  <a:pt x="0" y="8420"/>
                </a:lnTo>
                <a:arcTo wR="21600" hR="8420" stAng="10800000" swAng="-189483"/>
                <a:lnTo>
                  <a:pt x="213" y="9600"/>
                </a:lnTo>
                <a:arcTo wR="21600" hR="8420" stAng="-10610517" swAng="5210517"/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60680" y="2133720"/>
            <a:ext cx="3976560" cy="3429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167600">
            <a:off x="2470320" y="5013000"/>
            <a:ext cx="474480" cy="276120"/>
          </a:xfrm>
          <a:prstGeom prst="rightArrow">
            <a:avLst>
              <a:gd name="adj1" fmla="val 50000"/>
              <a:gd name="adj2" fmla="val 42960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15800">
            <a:off x="6483240" y="4719600"/>
            <a:ext cx="451080" cy="293760"/>
          </a:xfrm>
          <a:prstGeom prst="leftArrow">
            <a:avLst>
              <a:gd name="adj1" fmla="val 50000"/>
              <a:gd name="adj2" fmla="val 38388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476800">
            <a:off x="6261120" y="2733480"/>
            <a:ext cx="493560" cy="290520"/>
          </a:xfrm>
          <a:prstGeom prst="leftArrow">
            <a:avLst>
              <a:gd name="adj1" fmla="val 50000"/>
              <a:gd name="adj2" fmla="val 42472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284000">
            <a:off x="2285640" y="2790360"/>
            <a:ext cx="442800" cy="258840"/>
          </a:xfrm>
          <a:prstGeom prst="rightArrow">
            <a:avLst>
              <a:gd name="adj1" fmla="val 50000"/>
              <a:gd name="adj2" fmla="val 42768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5592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uild enab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infra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to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58680"/>
            <a:ext cx="86104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omprehensive and Coordinated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Approach to SME Developmen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2004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all &amp; Inwar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32767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nal &amp; External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4495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w Value Add &amp; Less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D2F5-3552-4CDD-B8B4-9D353A15AA7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522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40040"/>
            <a:ext cx="83059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57120">
              <a:lnSpc>
                <a:spcPct val="100000"/>
              </a:lnSpc>
              <a:spcBef>
                <a:spcPts val="1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r-Ministry Committee comprising 10 key Ministries and Agencies involved in SME develo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5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57120">
              <a:lnSpc>
                <a:spcPct val="100000"/>
              </a:lnSpc>
              <a:spcBef>
                <a:spcPts val="1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ired by Governor of Bank Negara Malay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97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ME Steering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57120">
              <a:lnSpc>
                <a:spcPct val="100000"/>
              </a:lnSpc>
              <a:spcBef>
                <a:spcPts val="1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ed in Oct 2002 to drive initiatives to strengthen infrastructure for SM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72B9-74DA-4726-B60D-37BDC5C71BB3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ational SME Development Counci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ed on 13 August 2004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ired by Prime Mini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 Negara Malaysia appointed as Secretari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bjective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e broad policies and strategi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direction for comprehensive development of SMEs across all sectors;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see coordination of and ensure effectiveness in policy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895F-F42C-4018-BCE4-98F7E32CB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ational SME Development Council: Initiativ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tions for SMEs in various sect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stablishment of a comprehensive National SME Databa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nhanced Management and Publication of SME Statistic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ordinated training and human resource developm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cess to financing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1463760" indent="-609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63760" indent="-609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est subsidy in place of special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63760" indent="-609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isation of SME lo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9662-850A-4404-A7DA-E340ACD76D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5:06:42Z</dcterms:created>
  <dc:creator>cczali</dc:creator>
  <dc:description/>
  <dc:language>en-US</dc:language>
  <cp:lastModifiedBy>numan ali</cp:lastModifiedBy>
  <dcterms:modified xsi:type="dcterms:W3CDTF">2005-05-09T11:19:58Z</dcterms:modified>
  <cp:revision>34</cp:revision>
  <dc:subject/>
  <dc:title>PowerPoint Presentation</dc:title>
</cp:coreProperties>
</file>