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2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ftr" idx="3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 type="sldNum" idx="4"/>
          </p:nvPr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121C3-E36D-4275-B74E-B289DFA472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58540-72FA-44E1-A9D5-C0A1D7C02E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861840" y="247680"/>
            <a:ext cx="5073840" cy="38052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2520" y="4219200"/>
            <a:ext cx="5968800" cy="521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04710-6E19-406F-A05C-D5F6ECA4C1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861840" y="247680"/>
            <a:ext cx="5073840" cy="38052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452520" y="4219200"/>
            <a:ext cx="5968800" cy="521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120BD-C0BA-4AD8-A439-D1A454592A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915840" y="8100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380520" y="4038120"/>
            <a:ext cx="6037560" cy="5419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Arial"/>
              <a:ea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98C458-C813-4F7F-8DA8-B95E17B0E7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458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520" y="3729960"/>
            <a:ext cx="8458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1A9EAA-EC04-4C3A-AC29-E78146B698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127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714560" y="1143000"/>
            <a:ext cx="4127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380520" y="3729960"/>
            <a:ext cx="4127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714560" y="3729960"/>
            <a:ext cx="4127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D7DAC5-14B3-4E2F-9A86-1BE75E24F8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272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40360" y="1143000"/>
            <a:ext cx="272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100560" y="1143000"/>
            <a:ext cx="272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80520" y="3729960"/>
            <a:ext cx="272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40360" y="3729960"/>
            <a:ext cx="272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100560" y="3729960"/>
            <a:ext cx="272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4CA7D4-8883-4A36-9D45-A9ECD36BA5E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380520" y="114300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171189-7701-4081-90BD-1752F04BFA5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3436F5-1C7C-4027-8183-537EDEA766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127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14560" y="1143000"/>
            <a:ext cx="4127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40CEC7-E5F8-4316-80C9-22233B6A23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36EC3A-F9BC-4C79-915B-F14FEB590B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380520" y="22860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B3FACB-B4EE-4926-AF78-84F07C1ACB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127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1143000"/>
            <a:ext cx="4127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520" y="3729960"/>
            <a:ext cx="4127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839FF7-379C-4B9A-9CE9-EB286A7F00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127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1143000"/>
            <a:ext cx="4127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714560" y="3729960"/>
            <a:ext cx="4127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254588-FB68-4E02-A48B-81D751967E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127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14560" y="1143000"/>
            <a:ext cx="4127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520" y="3729960"/>
            <a:ext cx="8458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DD8655-DC8A-481D-815B-C5B13AC310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6094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457200" y="6326280"/>
            <a:ext cx="2133720" cy="45540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0" y="6019920"/>
            <a:ext cx="9144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6019920"/>
            <a:ext cx="9144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601992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6019920"/>
            <a:ext cx="9144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6172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9144000" cy="6248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380520" y="114300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ff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sldNum" idx="1"/>
          </p:nvPr>
        </p:nvSpPr>
        <p:spPr>
          <a:xfrm>
            <a:off x="361944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44F1C-5A96-42BC-8746-D9FE9583899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Verdana"/>
              </a:rPr>
              <a:t>Focused and Coordinated Development of Small and Medium Enterprises (SMEs):</a:t>
            </a:r>
            <a:br>
              <a:rPr sz="2800"/>
            </a:br>
            <a:r>
              <a:rPr b="0" lang="en-US" sz="2800" spc="-1" strike="noStrike">
                <a:solidFill>
                  <a:srgbClr val="3333cc"/>
                </a:solidFill>
                <a:latin typeface="Verdana"/>
              </a:rPr>
              <a:t>The Malaysian Experience</a:t>
            </a:r>
            <a:br>
              <a:rPr sz="2800"/>
            </a:br>
            <a:br>
              <a:rPr sz="2800"/>
            </a:br>
            <a:r>
              <a:rPr b="0" lang="en-US" sz="2400" spc="-1" strike="noStrike">
                <a:solidFill>
                  <a:srgbClr val="cc0000"/>
                </a:solidFill>
                <a:latin typeface="Verdana"/>
              </a:rPr>
              <a:t>Conference on SME Financing: Issues and Strategies               </a:t>
            </a:r>
            <a:br>
              <a:rPr sz="2400"/>
            </a:br>
            <a:r>
              <a:rPr b="0" lang="en-US" sz="2400" spc="-1" strike="noStrike">
                <a:solidFill>
                  <a:srgbClr val="cc0000"/>
                </a:solidFill>
                <a:latin typeface="Verdana"/>
              </a:rPr>
              <a:t>10 – 11 May 2005</a:t>
            </a:r>
            <a:br>
              <a:rPr sz="2400"/>
            </a:br>
            <a:r>
              <a:rPr b="0" lang="en-US" sz="2400" spc="-1" strike="noStrike">
                <a:solidFill>
                  <a:srgbClr val="cc0000"/>
                </a:solidFill>
                <a:latin typeface="Verdana"/>
              </a:rPr>
              <a:t>Lahore, Pakistan</a:t>
            </a:r>
            <a:br>
              <a:rPr sz="2400"/>
            </a:br>
            <a:br>
              <a:rPr sz="2400"/>
            </a:b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Presentation by Mr Marzunisham Omar</a:t>
            </a:r>
            <a:br>
              <a:rPr sz="2000"/>
            </a:b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Director, SME Special Unit</a:t>
            </a:r>
            <a:br>
              <a:rPr sz="2000"/>
            </a:b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Central Bank of Malaysia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B97842-A4E4-4717-BE59-9EE62246F425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380520" y="114300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ME Development Framework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itiatives to Enhance Access to Financing by SM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ole of SME Special Unit at Bank Negara Malaysia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514600"/>
            <a:ext cx="8610480" cy="1143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380520" y="22860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Presentation Outline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627420-E66F-4E9B-8900-4EC045B4FE9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Verdana"/>
              </a:rPr>
              <a:t>Initiatives by Bank Negara Malaysia </a:t>
            </a:r>
            <a:endParaRPr b="0" lang="en-US" sz="3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9" name=""/>
          <p:cNvSpPr/>
          <p:nvPr/>
        </p:nvSpPr>
        <p:spPr>
          <a:xfrm>
            <a:off x="457200" y="3736800"/>
            <a:ext cx="8229600" cy="87156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3200" bIns="43200" anchor="ctr">
            <a:spAutoFit/>
          </a:bodyPr>
          <a:p>
            <a:pPr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ME Special Fu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5 funds with allocation of RM 8.9b (USD 2.3b),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i = 3.75% to 5.00 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33520" y="1222200"/>
            <a:ext cx="8153280" cy="87156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3200" bIns="43200" anchor="ctr">
            <a:spAutoFit/>
          </a:bodyPr>
          <a:p>
            <a:pPr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Credit Guarantee Corpo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Provide guarantee to SMEs lacking collateral and track reco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57200" y="2517840"/>
            <a:ext cx="8229600" cy="871560"/>
          </a:xfrm>
          <a:prstGeom prst="rect">
            <a:avLst/>
          </a:prstGeom>
          <a:solidFill>
            <a:srgbClr val="000066"/>
          </a:solidFill>
          <a:ln w="936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3200" bIns="43200" anchor="ctr">
            <a:spAutoFit/>
          </a:bodyPr>
          <a:p>
            <a:pPr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RF Sdn Bh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pecial purpose vehicle to assist Bumiputera enterpri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4994280"/>
            <a:ext cx="8229600" cy="871560"/>
          </a:xfrm>
          <a:prstGeom prst="rect">
            <a:avLst/>
          </a:prstGeom>
          <a:solidFill>
            <a:srgbClr val="000066"/>
          </a:solidFill>
          <a:ln w="648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3200" bIns="43200" anchor="ctr">
            <a:spAutoFit/>
          </a:bodyPr>
          <a:p>
            <a:pPr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Small Debt Resolution Sche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Provide assistance to viable SMEs constrained with NP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B56D06-E008-4714-BFA9-ABB5F397F3A1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2438280" y="2593080"/>
            <a:ext cx="4172040" cy="1286280"/>
          </a:xfrm>
          <a:prstGeom prst="ellipse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3200" bIns="432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Banking System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Other Services to Enhance SME Financ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304920" y="1036440"/>
            <a:ext cx="4038120" cy="1325520"/>
            <a:chOff x="304920" y="1036440"/>
            <a:chExt cx="4038120" cy="1325520"/>
          </a:xfrm>
        </p:grpSpPr>
        <p:sp>
          <p:nvSpPr>
            <p:cNvPr id="105" name=""/>
            <p:cNvSpPr/>
            <p:nvPr/>
          </p:nvSpPr>
          <p:spPr>
            <a:xfrm>
              <a:off x="304920" y="1036440"/>
              <a:ext cx="4038120" cy="330120"/>
            </a:xfrm>
            <a:prstGeom prst="rect">
              <a:avLst/>
            </a:prstGeom>
            <a:gradFill rotWithShape="0">
              <a:gsLst>
                <a:gs pos="0">
                  <a:srgbClr val="003399"/>
                </a:gs>
                <a:gs pos="50000">
                  <a:srgbClr val="2853a8"/>
                </a:gs>
                <a:gs pos="100000">
                  <a:srgbClr val="003399"/>
                </a:gs>
              </a:gsLst>
              <a:lin ang="5400000"/>
            </a:gradFill>
            <a:ln w="9360">
              <a:solidFill>
                <a:srgbClr val="b3b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3200" bIns="432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ecff"/>
                  </a:solidFill>
                  <a:latin typeface="Arial"/>
                </a:rPr>
                <a:t>SME Uni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04920" y="1371600"/>
              <a:ext cx="4038120" cy="990360"/>
            </a:xfrm>
            <a:prstGeom prst="rect">
              <a:avLst/>
            </a:prstGeom>
            <a:solidFill>
              <a:srgbClr val="fcfde3"/>
            </a:solidFill>
            <a:ln w="9360">
              <a:solidFill>
                <a:srgbClr val="b3b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43200" bIns="43200" anchor="ctr">
              <a:noAutofit/>
            </a:bodyPr>
            <a:p>
              <a:pPr algn="just">
                <a:lnSpc>
                  <a:spcPct val="110000"/>
                </a:lnSpc>
                <a:spcBef>
                  <a:spcPts val="264"/>
                </a:spcBef>
                <a:spcAft>
                  <a:spcPts val="88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Times New Roman"/>
                </a:rPr>
                <a:t>Provision of financing and ancillary services to SM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4724280" y="1085760"/>
            <a:ext cx="4114440" cy="1276200"/>
            <a:chOff x="4724280" y="1085760"/>
            <a:chExt cx="4114440" cy="1276200"/>
          </a:xfrm>
        </p:grpSpPr>
        <p:sp>
          <p:nvSpPr>
            <p:cNvPr id="108" name=""/>
            <p:cNvSpPr/>
            <p:nvPr/>
          </p:nvSpPr>
          <p:spPr>
            <a:xfrm>
              <a:off x="4724280" y="1085760"/>
              <a:ext cx="4114440" cy="354240"/>
            </a:xfrm>
            <a:prstGeom prst="rect">
              <a:avLst/>
            </a:prstGeom>
            <a:gradFill rotWithShape="0">
              <a:gsLst>
                <a:gs pos="0">
                  <a:srgbClr val="003399"/>
                </a:gs>
                <a:gs pos="50000">
                  <a:srgbClr val="2853a8"/>
                </a:gs>
                <a:gs pos="100000">
                  <a:srgbClr val="003399"/>
                </a:gs>
              </a:gsLst>
              <a:lin ang="5400000"/>
            </a:gradFill>
            <a:ln w="9360">
              <a:solidFill>
                <a:srgbClr val="b3b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3200" bIns="43200" anchor="ctr">
              <a:spAutoFit/>
            </a:bodyPr>
            <a:p>
              <a:pPr algn="ctr">
                <a:lnSpc>
                  <a:spcPct val="11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ecff"/>
                  </a:solidFill>
                  <a:latin typeface="Arial"/>
                </a:rPr>
                <a:t>Bumiputera Development Uni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724280" y="1447560"/>
              <a:ext cx="4114440" cy="914400"/>
            </a:xfrm>
            <a:prstGeom prst="rect">
              <a:avLst/>
            </a:prstGeom>
            <a:solidFill>
              <a:srgbClr val="fcfde3"/>
            </a:solidFill>
            <a:ln w="9360">
              <a:solidFill>
                <a:srgbClr val="b3b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43200" bIns="43200" anchor="ctr">
              <a:noAutofit/>
            </a:bodyPr>
            <a:p>
              <a:pPr algn="just">
                <a:lnSpc>
                  <a:spcPct val="110000"/>
                </a:lnSpc>
                <a:spcBef>
                  <a:spcPts val="264"/>
                </a:spcBef>
                <a:spcAft>
                  <a:spcPts val="88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Times New Roman"/>
                </a:rPr>
                <a:t>Address financing and developmental needs of Bumiputera entrepreneur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304920" y="4133520"/>
            <a:ext cx="4038120" cy="1962000"/>
            <a:chOff x="304920" y="4133520"/>
            <a:chExt cx="4038120" cy="1962000"/>
          </a:xfrm>
        </p:grpSpPr>
        <p:sp>
          <p:nvSpPr>
            <p:cNvPr id="111" name=""/>
            <p:cNvSpPr/>
            <p:nvPr/>
          </p:nvSpPr>
          <p:spPr>
            <a:xfrm>
              <a:off x="304920" y="4133520"/>
              <a:ext cx="4038120" cy="354240"/>
            </a:xfrm>
            <a:prstGeom prst="rect">
              <a:avLst/>
            </a:prstGeom>
            <a:gradFill rotWithShape="0">
              <a:gsLst>
                <a:gs pos="0">
                  <a:srgbClr val="003399"/>
                </a:gs>
                <a:gs pos="50000">
                  <a:srgbClr val="2853a8"/>
                </a:gs>
                <a:gs pos="100000">
                  <a:srgbClr val="003399"/>
                </a:gs>
              </a:gsLst>
              <a:lin ang="5400000"/>
            </a:gradFill>
            <a:ln w="9360">
              <a:solidFill>
                <a:srgbClr val="b3b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3200" bIns="43200" anchor="ctr">
              <a:spAutoFit/>
            </a:bodyPr>
            <a:p>
              <a:pPr algn="ctr">
                <a:lnSpc>
                  <a:spcPct val="11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ecff"/>
                  </a:solidFill>
                  <a:latin typeface="Arial"/>
                </a:rPr>
                <a:t>Complaints Un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04920" y="4495680"/>
              <a:ext cx="4038120" cy="1599840"/>
            </a:xfrm>
            <a:prstGeom prst="rect">
              <a:avLst/>
            </a:prstGeom>
            <a:solidFill>
              <a:srgbClr val="fcfde3"/>
            </a:solidFill>
            <a:ln w="9360">
              <a:solidFill>
                <a:srgbClr val="b3b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43200" bIns="43200" anchor="ctr">
              <a:noAutofit/>
            </a:bodyPr>
            <a:p>
              <a:pPr algn="just">
                <a:lnSpc>
                  <a:spcPct val="110000"/>
                </a:lnSpc>
                <a:spcBef>
                  <a:spcPts val="26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Times New Roman"/>
                </a:rPr>
                <a:t>Provide a dedicated channel for customers to raise complaints with banking institution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4724280" y="4119480"/>
            <a:ext cx="4114440" cy="1976400"/>
            <a:chOff x="4724280" y="4119480"/>
            <a:chExt cx="4114440" cy="1976400"/>
          </a:xfrm>
        </p:grpSpPr>
        <p:sp>
          <p:nvSpPr>
            <p:cNvPr id="114" name=""/>
            <p:cNvSpPr/>
            <p:nvPr/>
          </p:nvSpPr>
          <p:spPr>
            <a:xfrm>
              <a:off x="4724280" y="4119480"/>
              <a:ext cx="4114440" cy="354240"/>
            </a:xfrm>
            <a:prstGeom prst="rect">
              <a:avLst/>
            </a:prstGeom>
            <a:gradFill rotWithShape="0">
              <a:gsLst>
                <a:gs pos="0">
                  <a:srgbClr val="003399"/>
                </a:gs>
                <a:gs pos="50000">
                  <a:srgbClr val="2853a8"/>
                </a:gs>
                <a:gs pos="100000">
                  <a:srgbClr val="003399"/>
                </a:gs>
              </a:gsLst>
              <a:lin ang="5400000"/>
            </a:gradFill>
            <a:ln w="9360">
              <a:solidFill>
                <a:srgbClr val="b3b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3200" bIns="43200" anchor="ctr">
              <a:spAutoFit/>
            </a:bodyPr>
            <a:p>
              <a:pPr algn="ctr">
                <a:lnSpc>
                  <a:spcPct val="11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ecff"/>
                  </a:solidFill>
                  <a:latin typeface="Arial"/>
                </a:rPr>
                <a:t>Display of Client Char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24280" y="4495680"/>
              <a:ext cx="4114440" cy="1600200"/>
            </a:xfrm>
            <a:prstGeom prst="rect">
              <a:avLst/>
            </a:prstGeom>
            <a:solidFill>
              <a:srgbClr val="fcfde3"/>
            </a:solidFill>
            <a:ln w="9360">
              <a:solidFill>
                <a:srgbClr val="b3b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43200" bIns="43200" anchor="ctr">
              <a:noAutofit/>
            </a:bodyPr>
            <a:p>
              <a:pPr algn="just">
                <a:lnSpc>
                  <a:spcPct val="110000"/>
                </a:lnSpc>
                <a:spcBef>
                  <a:spcPts val="26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</a:rPr>
                <a:t>Display a Client Charter on the processing of loans applications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291960" indent="-101520" algn="just">
                <a:lnSpc>
                  <a:spcPct val="110000"/>
                </a:lnSpc>
                <a:spcBef>
                  <a:spcPts val="238"/>
                </a:spcBef>
                <a:buClr>
                  <a:srgbClr val="993300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993300"/>
                  </a:solidFill>
                  <a:latin typeface="Arial"/>
                </a:rPr>
                <a:t> </a:t>
              </a:r>
              <a:r>
                <a:rPr b="1" lang="en-US" sz="1300" spc="-1" strike="noStrike">
                  <a:solidFill>
                    <a:srgbClr val="993300"/>
                  </a:solidFill>
                  <a:latin typeface="Arial"/>
                </a:rPr>
                <a:t>documents &amp; information required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291960" indent="-101520" algn="just">
                <a:lnSpc>
                  <a:spcPct val="110000"/>
                </a:lnSpc>
                <a:spcBef>
                  <a:spcPts val="238"/>
                </a:spcBef>
                <a:buClr>
                  <a:srgbClr val="993300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993300"/>
                  </a:solidFill>
                  <a:latin typeface="Arial"/>
                </a:rPr>
                <a:t> </a:t>
              </a:r>
              <a:r>
                <a:rPr b="1" lang="en-US" sz="1300" spc="-1" strike="noStrike">
                  <a:solidFill>
                    <a:srgbClr val="993300"/>
                  </a:solidFill>
                  <a:latin typeface="Arial"/>
                </a:rPr>
                <a:t>eligibility criteria; and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291960" indent="-101520" algn="just">
                <a:lnSpc>
                  <a:spcPct val="110000"/>
                </a:lnSpc>
                <a:spcBef>
                  <a:spcPts val="238"/>
                </a:spcBef>
                <a:buClr>
                  <a:srgbClr val="993300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993300"/>
                  </a:solidFill>
                  <a:latin typeface="Arial"/>
                </a:rPr>
                <a:t> </a:t>
              </a:r>
              <a:r>
                <a:rPr b="1" lang="en-US" sz="1300" spc="-1" strike="noStrike">
                  <a:solidFill>
                    <a:srgbClr val="993300"/>
                  </a:solidFill>
                  <a:latin typeface="Arial"/>
                </a:rPr>
                <a:t>processing time.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705720" y="2514600"/>
            <a:ext cx="852480" cy="733320"/>
          </a:xfrm>
          <a:custGeom>
            <a:avLst/>
            <a:gdLst>
              <a:gd name="textAreaLeft" fmla="*/ 284040 w 852480"/>
              <a:gd name="textAreaRight" fmla="*/ 730440 w 852480"/>
              <a:gd name="textAreaTop" fmla="*/ 422280 h 733320"/>
              <a:gd name="textAreaBottom" fmla="*/ 628200 h 73332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ccffff"/>
              </a:gs>
              <a:gs pos="50000">
                <a:srgbClr val="86a8a8"/>
              </a:gs>
              <a:gs pos="100000">
                <a:srgbClr val="ccffff"/>
              </a:gs>
            </a:gsLst>
            <a:lin ang="13500000"/>
          </a:gra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3200" bIns="43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1357200" y="3304800"/>
            <a:ext cx="852480" cy="733320"/>
          </a:xfrm>
          <a:custGeom>
            <a:avLst/>
            <a:gdLst>
              <a:gd name="textAreaLeft" fmla="*/ 284040 w 852480"/>
              <a:gd name="textAreaRight" fmla="*/ 730440 w 852480"/>
              <a:gd name="textAreaTop" fmla="*/ 422280 h 733320"/>
              <a:gd name="textAreaBottom" fmla="*/ 628200 h 73332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ccffff"/>
              </a:gs>
              <a:gs pos="50000">
                <a:srgbClr val="86a8a8"/>
              </a:gs>
              <a:gs pos="100000">
                <a:srgbClr val="ccffff"/>
              </a:gs>
            </a:gsLst>
            <a:lin ang="13500000"/>
          </a:gra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3200" bIns="43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 rot="10800000">
            <a:off x="6705720" y="3305160"/>
            <a:ext cx="838080" cy="657360"/>
          </a:xfrm>
          <a:custGeom>
            <a:avLst/>
            <a:gdLst>
              <a:gd name="textAreaLeft" fmla="*/ 279360 w 838080"/>
              <a:gd name="textAreaRight" fmla="*/ 717840 w 838080"/>
              <a:gd name="textAreaTop" fmla="*/ 378720 h 657360"/>
              <a:gd name="textAreaBottom" fmla="*/ 563040 h 6573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ccffff"/>
              </a:gs>
              <a:gs pos="50000">
                <a:srgbClr val="86a8a8"/>
              </a:gs>
              <a:gs pos="100000">
                <a:srgbClr val="ccffff"/>
              </a:gs>
            </a:gsLst>
            <a:lin ang="13500000"/>
          </a:gra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3200" bIns="43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1371600" y="2514600"/>
            <a:ext cx="838080" cy="685800"/>
          </a:xfrm>
          <a:custGeom>
            <a:avLst/>
            <a:gdLst>
              <a:gd name="textAreaLeft" fmla="*/ 279360 w 838080"/>
              <a:gd name="textAreaRight" fmla="*/ 717840 w 838080"/>
              <a:gd name="textAreaTop" fmla="*/ 394920 h 685800"/>
              <a:gd name="textAreaBottom" fmla="*/ 587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ccffff"/>
              </a:gs>
              <a:gs pos="50000">
                <a:srgbClr val="86a8a8"/>
              </a:gs>
              <a:gs pos="100000">
                <a:srgbClr val="ccffff"/>
              </a:gs>
            </a:gsLst>
            <a:lin ang="13500000"/>
          </a:gra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3200" bIns="43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91440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Banking System: Services for SMEs</a:t>
            </a:r>
            <a:r>
              <a:rPr b="0" lang="en-US" sz="3200" spc="-1" strike="noStrike">
                <a:solidFill>
                  <a:srgbClr val="990033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2EC07A-4AFE-47A5-8D90-570422606AE4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Banking System: Main Provider of Financing to SMEs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60720" indent="-3607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USD8.3 b loans approved to 92,000 SMEs in 2004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808560" indent="-2685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ff"/>
                </a:solidFill>
                <a:latin typeface="Tahoma"/>
              </a:rPr>
              <a:t>January – March 2005: USD2.1 b loans ap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08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60720" indent="-3607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USD26.4 b loans disbursed in 2004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6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60720" indent="-3607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Loans to SMEs accounted for 40% of outstanding business loa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6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60720" indent="-3607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2/3 of total loans channeled to 3 main sectors 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808560" indent="-2685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ff"/>
                </a:solidFill>
                <a:latin typeface="Tahoma"/>
              </a:rPr>
              <a:t>Wholesale and retail trade, restaurants and hotels, manufacturing and construction</a:t>
            </a:r>
            <a:r>
              <a:rPr b="1" lang="en-US" sz="2400" spc="-1" strike="noStrike">
                <a:solidFill>
                  <a:srgbClr val="3399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60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60720" indent="-3607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PLs declined to 12% of total SME loa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9BFE4C-C66D-4EDE-AD13-950C27B21C4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98080" y="118800"/>
            <a:ext cx="8464680" cy="11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Development Financial Institutions             and Venture Capital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51920" y="1523880"/>
            <a:ext cx="8915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68640" indent="-368640">
              <a:spcBef>
                <a:spcPts val="174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mplement role of banks, esp. to finance start-up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68640" indent="-368640">
              <a:spcBef>
                <a:spcPts val="174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velopment Financial Institutions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825840" indent="-274320">
              <a:spcBef>
                <a:spcPts val="1500"/>
              </a:spcBef>
              <a:buClr>
                <a:srgbClr val="ff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2004, loans extended by 5 DFIs to SMEs amounted to USD0.8 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68640" indent="-368640">
              <a:spcBef>
                <a:spcPts val="174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Venture Capital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825840" indent="-274320">
              <a:spcBef>
                <a:spcPts val="1500"/>
              </a:spcBef>
              <a:buClr>
                <a:srgbClr val="ff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ral funds established to promote venture capital indust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25840" indent="-274320">
              <a:spcBef>
                <a:spcPts val="1500"/>
              </a:spcBef>
              <a:buClr>
                <a:srgbClr val="ff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CCs invested mainly in ICT, pharmaceuticals and manufactu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7570B7-AE5B-4475-9E6A-D2954A1546E5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380520" y="114300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ME Development Framework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itiatives to Enhance Access to Financing by SM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ole of SME Special Unit at Bank Negara Malaysia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26" name=""/>
          <p:cNvSpPr/>
          <p:nvPr/>
        </p:nvSpPr>
        <p:spPr>
          <a:xfrm>
            <a:off x="228600" y="4114800"/>
            <a:ext cx="8610480" cy="990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title"/>
          </p:nvPr>
        </p:nvSpPr>
        <p:spPr>
          <a:xfrm>
            <a:off x="380520" y="22860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Presentation Outline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EEBD5E-2824-4889-A869-CABD9E17439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8280" y="152280"/>
            <a:ext cx="80629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SME Special Unit at </a:t>
            </a:r>
            <a:br>
              <a:rPr sz="3200"/>
            </a:b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Bank Negara Malaysia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0" y="1676160"/>
            <a:ext cx="91440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48640" indent="-54864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stablished to lead BNM’s efforts to support SM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548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548640" indent="-54864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oles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1103760" indent="-470520">
              <a:spcBef>
                <a:spcPts val="700"/>
              </a:spcBef>
              <a:buClr>
                <a:srgbClr val="ff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ff"/>
                </a:solidFill>
                <a:latin typeface="Tahoma"/>
              </a:rPr>
              <a:t>Formulate strategies to enhance access to finan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1103760" indent="-470520">
              <a:spcBef>
                <a:spcPts val="700"/>
              </a:spcBef>
              <a:buClr>
                <a:srgbClr val="ff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ff"/>
                </a:solidFill>
                <a:latin typeface="Tahoma"/>
              </a:rPr>
              <a:t>Provide information and advisory services to S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1103760" indent="-470520">
              <a:spcBef>
                <a:spcPts val="700"/>
              </a:spcBef>
              <a:buClr>
                <a:srgbClr val="ff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ff"/>
                </a:solidFill>
                <a:latin typeface="Tahoma"/>
              </a:rPr>
              <a:t>Secretariat of National SME Development Counci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5055C9-5DE8-4C7F-9A00-4C92E7750367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752480" y="2581200"/>
            <a:ext cx="556272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aramond"/>
              </a:rPr>
              <a:t>End of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FC4B95-E744-48C4-AA21-217E2143057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380520" y="114300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ME Development Framework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itiatives to Enhance Access to Financing by SM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ole of SME Special Unit at Bank Negara Malaysia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1447920"/>
            <a:ext cx="8610480" cy="9144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380520" y="22860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Presentation Outline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CDE719-73F8-4713-A5FF-7A3A53B0C33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Importance of SMEs 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44600" y="1201320"/>
            <a:ext cx="8394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rust of national economic policy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engthen domestic de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mote and diversify endogenous sources of grow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use dynamism into economic sect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6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MEs as an impetus for broad-based growth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linkages between various subsecto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 of dynamism and ag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genous enterprises which may evolve into  larger enterpri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F506A8-FF9F-4BCF-941A-384F1CFBCB7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Status of SMEs 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8839440" cy="5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68640" indent="-368640"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Potential for SMEs to contribute more to domestic econom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343080" y="1752480"/>
          <a:ext cx="8458200" cy="3581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3080" y="1752480"/>
                    <a:ext cx="8458200" cy="3581640"/>
                  </a:xfrm>
                  <a:prstGeom prst="rect">
                    <a:avLst/>
                  </a:prstGeom>
                  <a:ln w="316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66" name=""/>
          <p:cNvSpPr/>
          <p:nvPr/>
        </p:nvSpPr>
        <p:spPr>
          <a:xfrm>
            <a:off x="152280" y="5638680"/>
            <a:ext cx="8763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Tahoma"/>
              </a:rPr>
              <a:t>* For Malaysia, based on SMEs in the manufacturing sector on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6991F2-2B98-461E-BC71-3FB1FE4A38EC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86920"/>
            <a:ext cx="82454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BNM SME Survey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7631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o assess state of SMEs, their requirements and issu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6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8,000 SMEs responded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Results: 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ntribution to GDP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mestically oriented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ained by capacity; level of technology; access to markets and resources to upgrade skills &amp; production process; 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nc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ff99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ff"/>
                </a:solidFill>
                <a:latin typeface="Tahoma"/>
              </a:rPr>
              <a:t>62% indicated no problems obtaining financing </a:t>
            </a:r>
            <a:endParaRPr b="0" lang="en-US" sz="2200" spc="-1" strike="noStrike">
              <a:solidFill>
                <a:srgbClr val="0066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ff99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ff"/>
                </a:solidFill>
                <a:latin typeface="Tahoma"/>
              </a:rPr>
              <a:t>Main sources are banks, own capital, and from family and friends</a:t>
            </a:r>
            <a:endParaRPr b="0" lang="en-US" sz="2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63BF8C-4EAC-4598-8845-DC72D67FDE0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4587840" y="1587600"/>
            <a:ext cx="4556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ahoma"/>
              </a:rPr>
              <a:t>Enhance coordination and outreach of SM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ahoma"/>
              </a:rPr>
              <a:t>develo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ahoma"/>
              </a:rPr>
              <a:t>across 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ahoma"/>
              </a:rPr>
              <a:t>sectors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3920" y="4832280"/>
            <a:ext cx="2853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ahoma"/>
              </a:rPr>
              <a:t>Enhan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ahoma"/>
              </a:rPr>
              <a:t>access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ahoma"/>
              </a:rPr>
              <a:t>financing by SM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070600" y="4178160"/>
            <a:ext cx="4073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ahoma"/>
              </a:rPr>
              <a:t>Enhance SME’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ahoma"/>
              </a:rPr>
              <a:t>capacity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ahoma"/>
              </a:rPr>
              <a:t>compete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ahoma"/>
              </a:rPr>
              <a:t>focus on quality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ahoma"/>
              </a:rPr>
              <a:t>management &amp; market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0" y="134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134928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111560" y="2673360"/>
            <a:ext cx="917640" cy="450720"/>
          </a:xfrm>
          <a:custGeom>
            <a:avLst/>
            <a:gdLst>
              <a:gd name="textAreaLeft" fmla="*/ 183960 w 917640"/>
              <a:gd name="textAreaRight" fmla="*/ 633600 w 917640"/>
              <a:gd name="textAreaTop" fmla="*/ 60120 h 450720"/>
              <a:gd name="textAreaBottom" fmla="*/ 390600 h 450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660" hR="21600" stAng="10800000" swAng="5400000"/>
                <a:lnTo>
                  <a:pt x="10580" y="0"/>
                </a:lnTo>
                <a:arcTo wR="8660" hR="21600" stAng="-5400000" swAng="2336484"/>
                <a:lnTo>
                  <a:pt x="20698" y="12000"/>
                </a:lnTo>
                <a:lnTo>
                  <a:pt x="18280" y="21600"/>
                </a:lnTo>
                <a:lnTo>
                  <a:pt x="14058" y="12000"/>
                </a:lnTo>
                <a:lnTo>
                  <a:pt x="16418" y="12000"/>
                </a:lnTo>
                <a:arcTo wR="8660" hR="21600" stAng="-3063516" swAng="-2182850"/>
                <a:lnTo>
                  <a:pt x="9620" y="133"/>
                </a:lnTo>
                <a:arcTo wR="8660" hR="21600" stAng="-5553634" swAng="-5246366"/>
                <a:close/>
              </a:path>
              <a:path fill="darkenLess" w="21600" h="21600">
                <a:moveTo>
                  <a:pt x="0" y="21600"/>
                </a:moveTo>
                <a:arcTo wR="8660" hR="21600" stAng="10800000" swAng="5400000"/>
                <a:lnTo>
                  <a:pt x="8660" y="0"/>
                </a:lnTo>
                <a:arcTo wR="8660" hR="21600" stAng="-5400000" swAng="153634"/>
                <a:lnTo>
                  <a:pt x="9620" y="133"/>
                </a:lnTo>
                <a:arcTo wR="8660" hR="21600" stAng="-5553634" swAng="-5246366"/>
                <a:close/>
              </a:path>
            </a:pathLst>
          </a:custGeom>
          <a:solidFill>
            <a:srgbClr val="ffff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484960" y="4114800"/>
            <a:ext cx="458640" cy="677880"/>
          </a:xfrm>
          <a:custGeom>
            <a:avLst/>
            <a:gdLst>
              <a:gd name="textAreaLeft" fmla="*/ 61200 w 458640"/>
              <a:gd name="textAreaRight" fmla="*/ 397440 w 458640"/>
              <a:gd name="textAreaTop" fmla="*/ 132120 h 677880"/>
              <a:gd name="textAreaBottom" fmla="*/ 478080 h 677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433" stAng="-5400000" swAng="5400000"/>
                <a:lnTo>
                  <a:pt x="21600" y="11011"/>
                </a:lnTo>
                <a:arcTo wR="21600" hR="8433" stAng="0" swAng="2215055"/>
                <a:lnTo>
                  <a:pt x="9960" y="20650"/>
                </a:lnTo>
                <a:lnTo>
                  <a:pt x="0" y="18155"/>
                </a:lnTo>
                <a:lnTo>
                  <a:pt x="9960" y="13760"/>
                </a:lnTo>
                <a:lnTo>
                  <a:pt x="9960" y="15916"/>
                </a:lnTo>
                <a:arcTo wR="21600" hR="8433" stAng="2215055" swAng="-2007716"/>
                <a:lnTo>
                  <a:pt x="21346" y="9722"/>
                </a:lnTo>
                <a:arcTo wR="21600" hR="8433" stAng="-207338" swAng="-5192662"/>
                <a:close/>
              </a:path>
              <a:path fill="darkenLess" w="21600" h="21600">
                <a:moveTo>
                  <a:pt x="0" y="0"/>
                </a:moveTo>
                <a:arcTo wR="21600" hR="8433" stAng="-5400000" swAng="5400000"/>
                <a:lnTo>
                  <a:pt x="21600" y="11011"/>
                </a:lnTo>
                <a:arcTo wR="21600" hR="8433" stAng="0" swAng="-207338"/>
                <a:lnTo>
                  <a:pt x="21346" y="9722"/>
                </a:lnTo>
                <a:arcTo wR="21600" hR="8433" stAng="-207338" swAng="-5192662"/>
                <a:close/>
              </a:path>
            </a:pathLst>
          </a:custGeom>
          <a:solidFill>
            <a:srgbClr val="ffff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3122640" y="4045680"/>
            <a:ext cx="458640" cy="677880"/>
          </a:xfrm>
          <a:custGeom>
            <a:avLst/>
            <a:gdLst>
              <a:gd name="textAreaLeft" fmla="*/ 61200 w 458640"/>
              <a:gd name="textAreaRight" fmla="*/ 397440 w 458640"/>
              <a:gd name="textAreaTop" fmla="*/ 131760 h 677880"/>
              <a:gd name="textAreaBottom" fmla="*/ 470160 h 677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420" stAng="-5400000" swAng="-5400000"/>
                <a:lnTo>
                  <a:pt x="0" y="10780"/>
                </a:lnTo>
                <a:arcTo wR="21600" hR="8420" stAng="10800000" swAng="-2520152"/>
                <a:lnTo>
                  <a:pt x="13019" y="20907"/>
                </a:lnTo>
                <a:lnTo>
                  <a:pt x="21600" y="18020"/>
                </a:lnTo>
                <a:lnTo>
                  <a:pt x="13019" y="13747"/>
                </a:lnTo>
                <a:lnTo>
                  <a:pt x="13019" y="16147"/>
                </a:lnTo>
                <a:arcTo wR="21600" hR="8420" stAng="8279848" swAng="2330669"/>
                <a:lnTo>
                  <a:pt x="213" y="9600"/>
                </a:lnTo>
                <a:arcTo wR="21600" hR="8420" stAng="-10610517" swAng="5210517"/>
                <a:close/>
              </a:path>
              <a:path fill="darkenLess" w="21600" h="21600">
                <a:moveTo>
                  <a:pt x="21600" y="0"/>
                </a:moveTo>
                <a:arcTo wR="21600" hR="8420" stAng="-5400000" swAng="-5400000"/>
                <a:lnTo>
                  <a:pt x="0" y="8420"/>
                </a:lnTo>
                <a:arcTo wR="21600" hR="8420" stAng="10800000" swAng="-189483"/>
                <a:lnTo>
                  <a:pt x="213" y="9600"/>
                </a:lnTo>
                <a:arcTo wR="21600" hR="8420" stAng="-10610517" swAng="5210517"/>
                <a:close/>
              </a:path>
            </a:pathLst>
          </a:custGeom>
          <a:solidFill>
            <a:srgbClr val="ffff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560680" y="2133720"/>
            <a:ext cx="3976560" cy="342900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rot="19167600">
            <a:off x="2470320" y="5013000"/>
            <a:ext cx="474480" cy="276120"/>
          </a:xfrm>
          <a:prstGeom prst="rightArrow">
            <a:avLst>
              <a:gd name="adj1" fmla="val 50000"/>
              <a:gd name="adj2" fmla="val 42960"/>
            </a:avLst>
          </a:prstGeom>
          <a:solidFill>
            <a:srgbClr val="cc0000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rot="1615800">
            <a:off x="6483240" y="4719600"/>
            <a:ext cx="451080" cy="293760"/>
          </a:xfrm>
          <a:prstGeom prst="leftArrow">
            <a:avLst>
              <a:gd name="adj1" fmla="val 50000"/>
              <a:gd name="adj2" fmla="val 38388"/>
            </a:avLst>
          </a:prstGeom>
          <a:solidFill>
            <a:srgbClr val="cc0000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20476800">
            <a:off x="6261120" y="2733480"/>
            <a:ext cx="493560" cy="290520"/>
          </a:xfrm>
          <a:prstGeom prst="leftArrow">
            <a:avLst>
              <a:gd name="adj1" fmla="val 50000"/>
              <a:gd name="adj2" fmla="val 42472"/>
            </a:avLst>
          </a:prstGeom>
          <a:solidFill>
            <a:srgbClr val="cc0000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284000">
            <a:off x="2285640" y="2790360"/>
            <a:ext cx="442800" cy="258840"/>
          </a:xfrm>
          <a:prstGeom prst="rightArrow">
            <a:avLst>
              <a:gd name="adj1" fmla="val 50000"/>
              <a:gd name="adj2" fmla="val 42768"/>
            </a:avLst>
          </a:prstGeom>
          <a:solidFill>
            <a:srgbClr val="cc0000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920" y="1555920"/>
            <a:ext cx="2590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ahoma"/>
              </a:rPr>
              <a:t>Build enab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ahoma"/>
              </a:rPr>
              <a:t>infrastructu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ahoma"/>
              </a:rPr>
              <a:t>to suppor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ahoma"/>
              </a:rPr>
              <a:t>S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ahoma"/>
              </a:rPr>
              <a:t>developm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28600" y="58680"/>
            <a:ext cx="8610480" cy="116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Comprehensive and Coordinated </a:t>
            </a:r>
            <a:br>
              <a:rPr sz="3200"/>
            </a:b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Approach to SME Development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4" name=""/>
          <p:cNvSpPr/>
          <p:nvPr/>
        </p:nvSpPr>
        <p:spPr>
          <a:xfrm>
            <a:off x="2895480" y="3200400"/>
            <a:ext cx="14479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mall &amp; Inward Look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495680" y="3276720"/>
            <a:ext cx="16765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Internal &amp; External Constrai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657600" y="4495680"/>
            <a:ext cx="17524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Low Value Add &amp; Less Competit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BD2B5E-0C32-44B1-9E5C-4FD02F045272}" type="slidenum">
              <a:t>6</a:t>
            </a:fld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609480" y="152280"/>
            <a:ext cx="838224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57200" y="2840040"/>
            <a:ext cx="8305920" cy="23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57120">
              <a:lnSpc>
                <a:spcPct val="100000"/>
              </a:lnSpc>
              <a:spcBef>
                <a:spcPts val="1400"/>
              </a:spcBef>
              <a:buClr>
                <a:srgbClr val="00ccff"/>
              </a:buClr>
              <a:buFont typeface="Wingdings" charset="2"/>
              <a:buChar char=""/>
              <a:tabLst>
                <a:tab algn="l" pos="1047600"/>
                <a:tab algn="l" pos="1879560"/>
                <a:tab algn="l" pos="1890720"/>
                <a:tab algn="l" pos="2521080"/>
                <a:tab algn="l" pos="3151080"/>
                <a:tab algn="l" pos="3781440"/>
                <a:tab algn="l" pos="4411800"/>
                <a:tab algn="l" pos="5041800"/>
                <a:tab algn="l" pos="5672160"/>
                <a:tab algn="l" pos="6302520"/>
                <a:tab algn="l" pos="6932520"/>
                <a:tab algn="l" pos="7562880"/>
                <a:tab algn="l" pos="8193240"/>
                <a:tab algn="l" pos="8823240"/>
                <a:tab algn="l" pos="9453600"/>
                <a:tab algn="l" pos="10083960"/>
                <a:tab algn="l" pos="1071396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r-Ministry Committee comprising 10 key Ministries and Agencies involved in SME developmen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5712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047600"/>
                <a:tab algn="l" pos="1879560"/>
                <a:tab algn="l" pos="1890720"/>
                <a:tab algn="l" pos="2521080"/>
                <a:tab algn="l" pos="3151080"/>
                <a:tab algn="l" pos="3781440"/>
                <a:tab algn="l" pos="4411800"/>
                <a:tab algn="l" pos="5041800"/>
                <a:tab algn="l" pos="5672160"/>
                <a:tab algn="l" pos="6302520"/>
                <a:tab algn="l" pos="6932520"/>
                <a:tab algn="l" pos="7562880"/>
                <a:tab algn="l" pos="8193240"/>
                <a:tab algn="l" pos="8823240"/>
                <a:tab algn="l" pos="9453600"/>
                <a:tab algn="l" pos="10083960"/>
                <a:tab algn="l" pos="107139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57120">
              <a:lnSpc>
                <a:spcPct val="100000"/>
              </a:lnSpc>
              <a:spcBef>
                <a:spcPts val="1400"/>
              </a:spcBef>
              <a:buClr>
                <a:srgbClr val="00ccff"/>
              </a:buClr>
              <a:buFont typeface="Wingdings" charset="2"/>
              <a:buChar char=""/>
              <a:tabLst>
                <a:tab algn="l" pos="1047600"/>
                <a:tab algn="l" pos="1879560"/>
                <a:tab algn="l" pos="1890720"/>
                <a:tab algn="l" pos="2521080"/>
                <a:tab algn="l" pos="3151080"/>
                <a:tab algn="l" pos="3781440"/>
                <a:tab algn="l" pos="4411800"/>
                <a:tab algn="l" pos="5041800"/>
                <a:tab algn="l" pos="5672160"/>
                <a:tab algn="l" pos="6302520"/>
                <a:tab algn="l" pos="6932520"/>
                <a:tab algn="l" pos="7562880"/>
                <a:tab algn="l" pos="8193240"/>
                <a:tab algn="l" pos="8823240"/>
                <a:tab algn="l" pos="9453600"/>
                <a:tab algn="l" pos="10083960"/>
                <a:tab algn="l" pos="1071396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haired by Governor of Bank Negara Malays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4920" y="149760"/>
            <a:ext cx="853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SME Steering Committ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57200" y="1371600"/>
            <a:ext cx="8229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57120">
              <a:lnSpc>
                <a:spcPct val="100000"/>
              </a:lnSpc>
              <a:spcBef>
                <a:spcPts val="1400"/>
              </a:spcBef>
              <a:buClr>
                <a:srgbClr val="00ccff"/>
              </a:buClr>
              <a:buFont typeface="Wingdings" charset="2"/>
              <a:buChar char=""/>
              <a:tabLst>
                <a:tab algn="l" pos="1047600"/>
                <a:tab algn="l" pos="1879560"/>
                <a:tab algn="l" pos="1890720"/>
                <a:tab algn="l" pos="2521080"/>
                <a:tab algn="l" pos="3151080"/>
                <a:tab algn="l" pos="3781440"/>
                <a:tab algn="l" pos="4411800"/>
                <a:tab algn="l" pos="5041800"/>
                <a:tab algn="l" pos="5672160"/>
                <a:tab algn="l" pos="6302520"/>
                <a:tab algn="l" pos="6932520"/>
                <a:tab algn="l" pos="7562880"/>
                <a:tab algn="l" pos="8193240"/>
                <a:tab algn="l" pos="8823240"/>
                <a:tab algn="l" pos="9453600"/>
                <a:tab algn="l" pos="10083960"/>
                <a:tab algn="l" pos="1071396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ed in Oct 2002 to drive initiatives to strengthen infrastructure for SME develop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DB8DE7-A557-403C-8525-63E70C3EA657}" type="slidenum">
              <a:t>7</a:t>
            </a:fld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45820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National SME Development Council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52280" y="1143000"/>
            <a:ext cx="88394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ed on 13 August 2004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ired by Prime Mini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k Negara Malaysia appointed as Secretari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bjective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mulate broad policies and strategies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direction for comprehensive development of SMEs across all sectors; and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see coordination of and ensure effectiveness in policy implemen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CCA039-B8E6-4E9C-ACA5-C177DDA13AA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National SME Development Council: Initiatives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52280" y="1143000"/>
            <a:ext cx="8839440" cy="43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476280" indent="-476280"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itions for SMEs in various sector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4762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cc"/>
              </a:solidFill>
              <a:latin typeface="Tahoma"/>
            </a:endParaRPr>
          </a:p>
          <a:p>
            <a:pPr marL="476280" indent="-476280"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Establishment of a comprehensive National SME Databas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4762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cc"/>
              </a:solidFill>
              <a:latin typeface="Tahoma"/>
            </a:endParaRPr>
          </a:p>
          <a:p>
            <a:pPr marL="476280" indent="-476280"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Enhanced Management and Publication of SME Statistic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4762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cc"/>
              </a:solidFill>
              <a:latin typeface="Tahoma"/>
            </a:endParaRPr>
          </a:p>
          <a:p>
            <a:pPr marL="476280" indent="-476280"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Coordinated training and human resource development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4762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cc"/>
              </a:solidFill>
              <a:latin typeface="Tahoma"/>
            </a:endParaRPr>
          </a:p>
          <a:p>
            <a:pPr marL="476280" indent="-476280"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cess to financing: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1463760" indent="-609840">
              <a:spcBef>
                <a:spcPts val="499"/>
              </a:spcBef>
              <a:buClr>
                <a:srgbClr val="ff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ME Ban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1463760" indent="-609840">
              <a:spcBef>
                <a:spcPts val="499"/>
              </a:spcBef>
              <a:buClr>
                <a:srgbClr val="ff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est subsidy in place of special fu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1463760" indent="-609840">
              <a:spcBef>
                <a:spcPts val="499"/>
              </a:spcBef>
              <a:buClr>
                <a:srgbClr val="ff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uritisation of SME lo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3F9B85-1061-489C-ABBE-6D431B12878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20T05:06:42Z</dcterms:created>
  <dc:creator>cczali</dc:creator>
  <dc:description/>
  <dc:language>en-US</dc:language>
  <cp:lastModifiedBy>numan ali</cp:lastModifiedBy>
  <dcterms:modified xsi:type="dcterms:W3CDTF">2005-05-09T11:19:58Z</dcterms:modified>
  <cp:revision>34</cp:revision>
  <dc:subject/>
  <dc:title>PowerPoint Presentation</dc:title>
</cp:coreProperties>
</file>