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2DD-3B55-4695-A6AE-8FC2AF64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7A7-2041-47D1-861E-5ED21D53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6C0-624A-4B65-8232-3117F6A8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A95-F567-4422-9C28-25D15DA3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EC3E-5AE8-4482-A8E7-9EE536FE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A0BD-7EFB-41D8-BA1E-B284B41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518B-49B2-4945-A207-4E303D1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B55D-CB3E-4E04-8D9E-37727AA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0C0-331F-45A7-AE23-1CCFD06C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6C0-24B5-4D6F-A31D-4FD3A6B7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9E60-BFD6-4E72-882B-827C959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CED-751F-4C3B-9E8F-F7D73C66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146-D62F-41C7-BF30-5F6E658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A2F7-12F6-48AE-9A8A-07ED04E2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3F11-0814-4110-89DB-FE5167CA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BC01-3478-4EA7-9D81-3AED966E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1F3C-0098-4430-83DE-ACE7B956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6BA3-6EB7-4284-BF8F-01989B28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AE77-3341-4BD3-983B-F4A7230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3500-AE50-4D16-9F70-B8A47AAC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81BC-154E-4FA0-B98E-E0DFD0B1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A923-112D-44D6-AE01-A50B5E64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417-C101-4293-9CF1-748074A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F1CD-997F-4A8F-84DF-3A90CFE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5B87-3521-48BB-8AD5-C4B39E7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90C1-9AE2-4437-9EA9-32D4B9D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4B21-FCB4-4EDC-83A3-CE70DE7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67EC-7DC9-4FBA-BD1E-58E4B6F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3504-83BB-47DC-AB1D-D2CDF207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4ECF-D740-47F7-A89F-2A6930AD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1EDB-EAC3-4CC9-BCEF-53BE4D7C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023F-FB77-403F-AB06-E531AA8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5812-6107-4000-BB75-118DCA5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66A-9423-4C7D-89E2-9A1A619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A606-0A45-49FD-95D7-B16EB6C5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CC5F-80E0-435B-BB12-7D750A9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B785-3BEA-42B8-861A-C0B0E985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1EF0-1EE8-4D82-8C1E-7A31658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0587-2888-421F-9148-A305DDBA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2177-F110-4A74-B5D8-2DA2A28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B68D-B037-4D11-ABEA-56B5C1A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1232-B370-4A0E-A9A9-B273B15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E84F-3136-4A1E-81C6-ED4E58CA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4B8A-DAA9-4622-B427-A512BE98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891-16E7-4B67-B23C-6BF71227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0154-8966-4B80-8D18-E4B51D5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8972-6F5B-4F4F-A93E-4997E20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5EA44-295F-4089-AF69-3F8C9C56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9759-8E61-4C58-9CC1-8844A7D6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68FB-6D3C-4756-9050-DD7C1D06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E9AE-A7FA-4F66-9312-2904E5D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E599-995A-4D16-A2EE-4B3377C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26EE-9990-45C6-A1FB-00AA80B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2AE0-4867-4FBB-B72D-A96FB9A2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5689-E185-41CB-A7C8-6737DD75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FE4-CE5E-40E6-A63D-54188D7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6C6B-1EF4-4770-9C7D-D720E2F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7D6CE-5BD2-4650-B927-B6FCA2DA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F057-4302-48F5-9BE1-346CB8B4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7D74-45A6-4B26-8332-1ED9EAD9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00C9-CE82-4573-ADAE-F7B78F80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B63D-4F16-42C9-9989-02F0AAD1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7267-257E-46BE-B397-8BB8726C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F48F-5999-47CE-82C3-CA4E307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1D9C1-8560-496C-AE49-2EAF701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37B2-DB25-40D4-8625-B902915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8D5-C7D3-4878-92C2-3192D6C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963C5-5DF3-48C6-A89E-E287EF7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9A31-4BA9-432B-B3CE-73B29B1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17507-DD72-4F6E-B68B-6F151D28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C132-0881-4838-A72D-3C861BB6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E73E-3AFB-4601-90AA-6807845F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644BA-B5C7-44D7-9549-45CECAD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CD0DC-137D-4A0A-8F27-F87B65DB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4741-14AE-43FC-8AF2-44108AB5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F6412-E3B0-41B7-A5BC-80DE4E6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6BA0-7B79-4A6B-B5F6-F1DEDF0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C6E-9E12-4F43-9C24-CDA483F0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C969-3B45-45F0-98DE-900F90E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3BA23-118A-4A89-B81B-013603ED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E9B3-C3F7-4541-ABA2-6577B878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CF0D-D6DD-475B-B96F-2427B917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A8D6-C574-4D7D-84E4-6D58C2F6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7EB4-24A7-4CB9-90F2-25C92563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CF535-5218-4C9D-9B55-010A7616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E0DE-421B-4313-B918-771AD2D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6166-5E16-47CE-8EA8-45FCD1B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E2DF3-8B74-4132-B0AE-F74CA7A8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B57-9B47-47E0-B9C2-0F048FE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852CA-B732-44B1-8834-993B12C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671B1-2264-480E-8B65-FC26FD9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C42E-8121-46A4-BF1E-320ECED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6A79A-D040-4DB6-BE71-336D598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F2AC1-710A-483F-9877-52BCD588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B888-AA20-49AC-9CD1-297A4A68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7948-18F7-463D-93AC-3001A4E9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B31-EAF8-4C93-8262-AF645A6F19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3EA5-3ADF-4B14-8D9A-69102124B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FD3F-5E84-41C0-BBCF-FB611CA20B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7D4-C691-4F2B-87A7-1A208367E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85F-4072-47A7-ADC6-D0F8BC2D91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9A7-D8BD-4580-A0F0-993719B19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8913-4D90-4CAD-875C-F198B44083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FC2-CED1-4871-86ED-91225ACBAF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162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"/>
          <p:cNvPicPr/>
          <p:nvPr/>
        </p:nvPicPr>
        <p:blipFill>
          <a:blip r:embed="rId2"/>
          <a:stretch/>
        </p:blipFill>
        <p:spPr>
          <a:xfrm>
            <a:off x="1409760" y="4014720"/>
            <a:ext cx="2781360" cy="1152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"/>
          <p:cNvPicPr/>
          <p:nvPr/>
        </p:nvPicPr>
        <p:blipFill>
          <a:blip r:embed="rId3"/>
          <a:stretch/>
        </p:blipFill>
        <p:spPr>
          <a:xfrm>
            <a:off x="1523880" y="2666880"/>
            <a:ext cx="2614680" cy="1141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"/>
          <p:cNvPicPr/>
          <p:nvPr/>
        </p:nvPicPr>
        <p:blipFill>
          <a:blip r:embed="rId4"/>
          <a:stretch/>
        </p:blipFill>
        <p:spPr>
          <a:xfrm>
            <a:off x="4862520" y="4006800"/>
            <a:ext cx="2529000" cy="1182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"/>
          <p:cNvPicPr/>
          <p:nvPr/>
        </p:nvPicPr>
        <p:blipFill>
          <a:blip r:embed="rId5"/>
          <a:stretch/>
        </p:blipFill>
        <p:spPr>
          <a:xfrm>
            <a:off x="4951440" y="2666880"/>
            <a:ext cx="2363760" cy="1170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6"/>
          <a:srcRect l="2549" t="0" r="1915" b="0"/>
          <a:stretch/>
        </p:blipFill>
        <p:spPr>
          <a:xfrm>
            <a:off x="1905120" y="152280"/>
            <a:ext cx="5715000" cy="121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6" name="Picture 14" descr=""/>
          <p:cNvPicPr/>
          <p:nvPr/>
        </p:nvPicPr>
        <p:blipFill>
          <a:blip r:embed="rId7"/>
          <a:stretch/>
        </p:blipFill>
        <p:spPr>
          <a:xfrm>
            <a:off x="1219320" y="1590840"/>
            <a:ext cx="6751440" cy="923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\\khifs\SBP\Finance\Currency\IDD MAIN FOLDER\Demonetization of Notes &amp; Coins\Banknotes Demonetization\Demonetization Rs. 10, 50, 100 &amp; 1000 (Old Design)\Media Campaign-Demonetization\Promotional Material\ATM Slide &amp; notice\SBP Logo-ATM Slide.png"/>
          <p:cNvPicPr/>
          <p:nvPr/>
        </p:nvPicPr>
        <p:blipFill>
          <a:blip r:embed="rId8"/>
          <a:stretch/>
        </p:blipFill>
        <p:spPr>
          <a:xfrm>
            <a:off x="0" y="5715000"/>
            <a:ext cx="9144000" cy="1163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9"/>
          <a:stretch/>
        </p:blipFill>
        <p:spPr>
          <a:xfrm>
            <a:off x="1981080" y="5334120"/>
            <a:ext cx="49388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8:03:24Z</dcterms:created>
  <dc:creator>Moaiz9048</dc:creator>
  <dc:description/>
  <dc:language>en-US</dc:language>
  <cp:lastModifiedBy>naveed8904</cp:lastModifiedBy>
  <dcterms:modified xsi:type="dcterms:W3CDTF">2016-11-10T11:24:13Z</dcterms:modified>
  <cp:revision>34</cp:revision>
  <dc:subject/>
  <dc:title>Slide 1</dc:title>
</cp:coreProperties>
</file>