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9AD-25E6-4385-83CB-5FCD3F44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836-1AAF-48C4-80D1-64BDFD32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B75-1DF8-4B1C-933F-99828A2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A5D-51F4-48A2-9481-F3A0A38C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C576-2F10-40D7-B8C1-F7CC6BF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87F4-C2BC-468E-9BD4-3724AF79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9F9B-6CA1-4647-BAFF-C31DC204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D11-36B8-4E94-B4C5-98D794A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D19-2F29-4318-90C8-B034CAD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B680-C64A-4BA5-BC41-8EC3487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7CD8-FBFE-40A6-B8C7-0C596D9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2A9-9098-4C5E-B261-D476F520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4A6-0151-472A-8DF6-1247F6F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501B-B96D-4FCD-BC5E-87AFC06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809C-5AAE-4BA6-8D7E-5CF4F716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3E5-08D5-42AA-AA48-FEF9F76B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13E1-EFE4-4EF0-8091-FDDD6BE8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0A12-8604-4A15-A610-3418154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A9CE-B212-44FC-AF04-D2074E69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2215-FC7B-4742-AFA0-8424CB6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5225-E37C-419A-B9D6-EC53479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CB4A-0D42-47A4-9B58-29E4784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838-D9A4-42AA-B7FB-38D64C95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2AA0-5075-41DA-8951-978A49E4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9C46-1BD6-45DD-8AAB-2D7E64E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681C-ABDA-40E3-A5E9-F248A5F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3E08-EAC6-441A-A9A6-3F5B3452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4D9D-815E-48FC-AB75-573C52C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D9A3-4215-4B6A-B0DD-C4C4A54A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A3D-A102-4674-A77E-5018BD8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2E60-4287-43F4-9B4A-F3AEA2B8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0364-EC51-42E2-999D-AEF814F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F699-079C-486C-8EC5-C4ED290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EA2-9FE6-48E6-B625-F4B1298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8775-8D36-4DE6-94D4-72F0A92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2A80-C568-45F3-935A-7D3B25AC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352C6-C159-49B0-A91F-F81592E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7D9F-D4CB-4A26-A911-B1903A9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A19A-4612-4CC6-9610-6995909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3CED-C4B9-4035-9F26-AC3A931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450A-0042-43BD-9FD8-216CC0D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296F-5E64-43D0-A131-F3FDE79A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A1C6-B1ED-46AF-8A38-2DE420B7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D125-7DB7-4662-ADD1-139954B6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61D-6BD0-4108-A1C3-B95B7BD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293A-1767-4B0F-A1C0-E8768D1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7003-8C14-4D1B-85D4-F6668D2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34F2-85B4-4260-B71E-0F3F307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0414-7B8C-4401-8F52-8565BB5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9EB20-8B21-47C7-9687-0133579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3374-C3CB-44DF-91B9-B4F20936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D081-F69F-4E31-9E8F-584FDA5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68DA-4F87-4AE1-9047-FE511B86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5E29-8B8E-48C1-AC29-BDE4B54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23D1-7DB4-4AD9-A878-CF4477C4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D1E-948D-4B83-9923-9624527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39F7-BB29-4981-AB24-86D30763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4F6F-7497-4BD4-8733-BC1FDBAD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4734-67C8-45BE-AEB1-7724E56D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AB33-C650-43A6-B68B-20D459A3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FC33-015B-4254-925D-B1719A5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D6CE-3803-4772-A818-6564BB0A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8675-8BFF-453A-8F05-A7E0B2C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F6C2-1629-4AB6-99EE-B2F91D64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175A-2523-4F0A-AF77-DA387AB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4F852-C7BC-4C8D-9BBF-A3DFCBA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1E3-D9DB-4D94-89E5-E7EF068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A9003-1A25-4C2B-AD2F-32900CC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95FC-D2E7-4482-9FEE-A36C14F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36BC-D20C-4300-8C79-EFC0811B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18FA-E16B-4B67-8EEB-8E24CBB8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FF81-36EF-4268-BED9-6D88373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9D8F4-873A-420D-8E16-129FD4C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8FFE1-FA84-459E-9B73-0E3C22C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3F8C-56F1-49A7-BAE1-5F9D4113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8B005-B4A1-4586-8B56-222C413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A7356-92DF-484D-B8DF-9F2E173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DD3-08FA-43FA-BB73-383FCF0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F034-E374-46EE-B8DF-B9D85C2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A098-4763-47CF-9EE2-CBAEAE2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4398-3476-4725-A6C8-A92522E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DAFA9-28F1-4AC2-B17A-D69F5C30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0DB8F-F56A-48DC-ADAC-DA5BDA9E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B488-B09F-4F9B-9C94-13C80366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8D27E-5FFE-41A5-87DC-82A38F3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FFBA-88F7-4A2D-A243-F5492ED2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68FD-7DB8-4BE6-A14C-476676A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59BEB-AA9E-444E-BB20-3AD432C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067-A3AE-4E54-8B3E-8C885C2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F7CF-213F-4539-B027-2DE4E672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8F17-8DA3-4650-B791-6E179594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DA6F7-F1B0-4F17-9449-CCEE0DC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C46E-BDCB-4A68-A866-911C8D9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610B-0F7B-4622-A809-C1B9366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706F-674F-417E-BD2A-B88DD7C5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24516-6FBD-401C-ACDE-32C59B5A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C31-DE45-4DCE-9C8F-363A3EC2E1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5395-52EA-49E7-BB14-674E5C468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DE9-A589-4DFF-877C-E68A77D58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165-0EAC-46E5-97B9-32E6BBE53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1A2-3600-49D3-BA3E-CF6F1A981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54BD-6181-4866-A4AD-AD4ED8D98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982-1462-4856-8D62-C8F001779D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51E-511B-4CC2-A863-87FE1057AC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0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1162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"/>
          <p:cNvPicPr/>
          <p:nvPr/>
        </p:nvPicPr>
        <p:blipFill>
          <a:blip r:embed="rId2"/>
          <a:stretch/>
        </p:blipFill>
        <p:spPr>
          <a:xfrm>
            <a:off x="1409760" y="4014720"/>
            <a:ext cx="2781360" cy="1152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"/>
          <p:cNvPicPr/>
          <p:nvPr/>
        </p:nvPicPr>
        <p:blipFill>
          <a:blip r:embed="rId3"/>
          <a:stretch/>
        </p:blipFill>
        <p:spPr>
          <a:xfrm>
            <a:off x="1523880" y="2666880"/>
            <a:ext cx="2614680" cy="114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"/>
          <p:cNvPicPr/>
          <p:nvPr/>
        </p:nvPicPr>
        <p:blipFill>
          <a:blip r:embed="rId4"/>
          <a:stretch/>
        </p:blipFill>
        <p:spPr>
          <a:xfrm>
            <a:off x="4862520" y="4006800"/>
            <a:ext cx="2529000" cy="118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/>
          <p:cNvPicPr/>
          <p:nvPr/>
        </p:nvPicPr>
        <p:blipFill>
          <a:blip r:embed="rId5"/>
          <a:stretch/>
        </p:blipFill>
        <p:spPr>
          <a:xfrm>
            <a:off x="4951440" y="2666880"/>
            <a:ext cx="2363760" cy="1170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6"/>
          <a:srcRect l="2549" t="0" r="1915" b="0"/>
          <a:stretch/>
        </p:blipFill>
        <p:spPr>
          <a:xfrm>
            <a:off x="1905120" y="152280"/>
            <a:ext cx="5715000" cy="121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6" name="Picture 14" descr=""/>
          <p:cNvPicPr/>
          <p:nvPr/>
        </p:nvPicPr>
        <p:blipFill>
          <a:blip r:embed="rId7"/>
          <a:stretch/>
        </p:blipFill>
        <p:spPr>
          <a:xfrm>
            <a:off x="1219320" y="1590840"/>
            <a:ext cx="6751440" cy="923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\\khifs\SBP\Finance\Currency\IDD MAIN FOLDER\Demonetization of Notes &amp; Coins\Banknotes Demonetization\Demonetization Rs. 10, 50, 100 &amp; 1000 (Old Design)\Media Campaign-Demonetization\Promotional Material\ATM Slide &amp; notice\SBP Logo-ATM Slide.png"/>
          <p:cNvPicPr/>
          <p:nvPr/>
        </p:nvPicPr>
        <p:blipFill>
          <a:blip r:embed="rId8"/>
          <a:stretch/>
        </p:blipFill>
        <p:spPr>
          <a:xfrm>
            <a:off x="0" y="5715000"/>
            <a:ext cx="9144000" cy="1163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9"/>
          <a:stretch/>
        </p:blipFill>
        <p:spPr>
          <a:xfrm>
            <a:off x="1981080" y="5334120"/>
            <a:ext cx="49388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8:03:24Z</dcterms:created>
  <dc:creator>Moaiz9048</dc:creator>
  <dc:description/>
  <dc:language>en-US</dc:language>
  <cp:lastModifiedBy>naveed8904</cp:lastModifiedBy>
  <dcterms:modified xsi:type="dcterms:W3CDTF">2016-11-10T11:24:13Z</dcterms:modified>
  <cp:revision>34</cp:revision>
  <dc:subject/>
  <dc:title>Slide 1</dc:title>
</cp:coreProperties>
</file>