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73E-7975-4371-B807-7951B9A8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8667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360" y="4312080"/>
            <a:ext cx="8667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958-4566-4777-BADD-60C2E459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431208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2040" y="431208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B17-A5EB-4E01-B14D-FF797C33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21120" y="236196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1520" y="236196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360" y="431208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21120" y="431208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851520" y="431208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FA9-CB26-4848-BC01-8022C756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0281-0CAD-426F-AF07-F548F1E3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360" y="2361960"/>
            <a:ext cx="86677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48F9-604E-4F10-83B5-9CCE17AC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8667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083E-23EC-42A4-88ED-87AE9B85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EEF0-CE96-4966-AE3D-AD7003CE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249A-3F19-4B87-95CD-D10D6066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360" y="761760"/>
            <a:ext cx="86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2F93-71E9-4E12-8F01-26E09DF1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431208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C054-BD6F-4783-A385-6D34E609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360" y="2361960"/>
            <a:ext cx="86677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C3C-40EC-4475-B302-7DED72B8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2040" y="431208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53F2-6CEE-40D4-9766-679713CF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4312080"/>
            <a:ext cx="8667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9AD2-AD35-495B-B450-B5AFB52B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8667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90360" y="4312080"/>
            <a:ext cx="8667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620F-C6CD-419A-A51F-E2473969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360" y="431208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2040" y="431208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1BCE-EFB7-4E26-9718-5072836B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21120" y="236196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1520" y="236196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90360" y="431208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21120" y="431208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851520" y="4312080"/>
            <a:ext cx="2790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C67F-D840-40F3-BE04-B48B8439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8667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92B-10CA-4DB9-BD4C-CC99B918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885-2427-4820-A27C-54E38844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3D5-60EE-44DA-BE99-53D23AB3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360" y="761760"/>
            <a:ext cx="86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00C-B0C8-4EEA-9D53-2E94C006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431208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377-76E3-4035-AB30-E101A73C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2040" y="431208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7BB-53EA-41B5-97DC-FB8931B0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2040" y="2361960"/>
            <a:ext cx="42296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312080"/>
            <a:ext cx="8667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ED0-D6C3-4A83-9B51-1350E7AC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466800" cy="6858000"/>
            <a:chOff x="0" y="0"/>
            <a:chExt cx="34668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254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2680" y="0"/>
              <a:ext cx="272412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825480" y="762120"/>
            <a:ext cx="553104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2361960"/>
            <a:ext cx="8667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94200" y="6550560"/>
            <a:ext cx="20638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70F-91C3-4BCE-950F-ADC03A1D1B7C}" type="datetime">
              <a:rPr b="0" lang="en-US" sz="1400" spc="-1" strike="noStrike">
                <a:solidFill>
                  <a:srgbClr val="003366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81320" y="6526800"/>
            <a:ext cx="31370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90000" y="6342480"/>
            <a:ext cx="6368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C5E9-72BC-42F2-B5C1-366673FB70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47320" y="1981080"/>
            <a:ext cx="8007480" cy="319320"/>
            <a:chOff x="247320" y="1981080"/>
            <a:chExt cx="8007480" cy="319320"/>
          </a:xfrm>
        </p:grpSpPr>
        <p:sp>
          <p:nvSpPr>
            <p:cNvPr id="10" name=""/>
            <p:cNvSpPr/>
            <p:nvPr/>
          </p:nvSpPr>
          <p:spPr>
            <a:xfrm>
              <a:off x="660240" y="1981080"/>
              <a:ext cx="759456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46960" y="1981080"/>
              <a:ext cx="42660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3040" y="990720"/>
            <a:ext cx="5613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935160" y="4889520"/>
            <a:ext cx="5283000" cy="318960"/>
            <a:chOff x="3935160" y="4889520"/>
            <a:chExt cx="5283000" cy="318960"/>
          </a:xfrm>
        </p:grpSpPr>
        <p:sp>
          <p:nvSpPr>
            <p:cNvPr id="51" name=""/>
            <p:cNvSpPr/>
            <p:nvPr/>
          </p:nvSpPr>
          <p:spPr>
            <a:xfrm flipH="1">
              <a:off x="3934800" y="4889520"/>
              <a:ext cx="50108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36280" y="4889520"/>
              <a:ext cx="2818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889360" y="6550560"/>
            <a:ext cx="20635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EBFD-06AE-4831-B042-AF95A3981AB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628960" y="6550560"/>
            <a:ext cx="35528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11160" y="6358320"/>
            <a:ext cx="6350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8573-042E-45C4-A097-B3B66433849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1014120" y="1425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4" name="SYMPOSIUM" descr=""/>
          <p:cNvPicPr/>
          <p:nvPr/>
        </p:nvPicPr>
        <p:blipFill>
          <a:blip r:embed="rId1"/>
          <a:stretch/>
        </p:blipFill>
        <p:spPr>
          <a:xfrm>
            <a:off x="1911240" y="533520"/>
            <a:ext cx="5861160" cy="720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827-ED8F-4A2A-B388-28E93A9D595E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nceptual Design of Poverty Reduction Strategy in Pakistan</a:t>
            </a: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371600" y="2590920"/>
          <a:ext cx="7823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90920"/>
                    <a:ext cx="7823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1295280" cy="13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489-79EF-4A19-83CF-46E13392ABC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A8054-4E42-4721-AAF2-64BDC4C46C74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438280" y="2590920"/>
          <a:ext cx="5681880" cy="15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590920"/>
                    <a:ext cx="5681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67680" y="63928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1295280" cy="13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BCE-D33A-4F87-9FE6-FD990877A52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8FD07-2E41-4633-994D-003FCA3A79FF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905120" y="2514600"/>
          <a:ext cx="70279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7027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67680" y="63928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9480" y="990720"/>
            <a:ext cx="1295640" cy="135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3C3-3DE5-4044-BC15-BD55704A8AE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75ACB-D95F-4460-A6CD-01CC497542F0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7920" y="2144880"/>
          <a:ext cx="815328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44880"/>
                    <a:ext cx="815328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520" y="990720"/>
            <a:ext cx="1295280" cy="1353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AD2-32BB-4984-8945-D2B1D7CB35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nceptual Design of Poverty Reduction Strategy in Pakistan</a:t>
            </a: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295280" y="2492280"/>
          <a:ext cx="83059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92280"/>
                    <a:ext cx="83059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9480" y="990720"/>
            <a:ext cx="1295640" cy="135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DFF-5BC5-4F11-9818-9F125F48ADB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CB514-58E5-4C8E-9E8B-8393C8657419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371600" y="2895480"/>
          <a:ext cx="80010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80010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3520" y="990720"/>
            <a:ext cx="1295280" cy="135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791-0E46-4E92-93D8-D6EC8C4901C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07B36-A798-43DA-8153-6A34C411DDCB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676520" y="2241720"/>
          <a:ext cx="776736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41720"/>
                    <a:ext cx="77673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1295640" cy="13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61B-95AA-4EEC-952D-4D6D6AD7C12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E2EB3-A86A-486B-81C9-D841774B0E23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523880" y="2819520"/>
          <a:ext cx="762012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19520"/>
                    <a:ext cx="762012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9480" y="990720"/>
            <a:ext cx="1295640" cy="135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F10-A6EC-4924-8876-2B8C6C412C4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2E445-E07C-4960-B127-7058C05D7A5C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71600" y="2895480"/>
          <a:ext cx="78487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78487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1295280" cy="13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97C-4A0F-4D04-B56C-BFBBA341DA5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48A3F-BB69-4A26-A014-227AA74C77AF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19320" y="2590920"/>
          <a:ext cx="830556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830556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1295280" cy="13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A45-18C8-4E3E-9FED-5101CD406BE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6FEB4-C84F-42E3-BBC3-CDD842491F77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362320" y="2514600"/>
          <a:ext cx="628020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628020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entury Gothic"/>
              </a:rPr>
              <a:t>Conceptual Design of Poverty Reduction Strategy in Pakista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67680" y="6392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1295280" cy="13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9FE-2D90-40BC-9DF3-1D2D77E4D47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7D4B7-9053-487A-8E8C-4DFDBDB38CB2}" type="datetime1">
              <a:rPr lang="en-US"/>
              <a:t>07/30/26</a:t>
            </a:fld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07:29:33Z</dcterms:created>
  <dc:creator>Muhammad Iqbal</dc:creator>
  <dc:description/>
  <dc:language>en-US</dc:language>
  <cp:lastModifiedBy>shazia parveen</cp:lastModifiedBy>
  <dcterms:modified xsi:type="dcterms:W3CDTF">2003-03-25T12:01:10Z</dcterms:modified>
  <cp:revision>32</cp:revision>
  <dc:subject/>
  <dc:title>Conceptual Design of Poverty Reduction Strategy in Pakistan</dc:title>
</cp:coreProperties>
</file>