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-greensmall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320" y="76320"/>
            <a:ext cx="1143000" cy="107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91600" y="586728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BANK OF PA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95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ing Public Sector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74880" y="3016080"/>
            <a:ext cx="75438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ews on Public Sector Ban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KISTAN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ng of Entry Barriers / Licen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Taxation on 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eralization of Foreign Exchange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eralization of Branch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ening of Capital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ing Mergers and 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ion of Banks &amp; Non Bank Financial In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/ Settle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 Long-Term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 Market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ing Out of Mandatory &amp; Concessional Credi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ansparency &amp; Discl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comes &amp;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moting Competitiv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essons For Other Developing Countr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ng Term Vision and Road Map has to be Sketched Out Before Reforms are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Takes Almost a Decade of Consistent, Uninterrupted Efforts to Bring About Sustainable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nomy and Competence of the Regulators has to be Ensured Both in Legal &amp; Substantive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economic Environment has to be Conducive and Suppor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ector Banks Cannot Be Improved in the Absence of Overall Financial Sector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tical Will to Take Unpopular and Tough Decisions Such as Large Scale Retrenchment is Sine Qua Non Fo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Professional Management is Required at all Levels of Decision Making in Restructured Financial In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n International Best Experiences Rather Than Ideological Rhetoric are The Best Guide For Building up Support and Implementing R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313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cy And Nature of Problems</a:t>
            </a:r>
            <a:br>
              <a:rPr sz="36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roeconomic Environment/Financi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ve Set of Direct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ce of Public Sector Banks and F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Aimed at Directed /  Subsidized L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Losses / Inflated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able Account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Disclosur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Address Legitimate Credit Needs of Various Productive Sectors in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fled Growth in Vital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wding Out of Private Sector as Public Sector Pre-empted Bank 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n Default Cases Languishing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313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cy And Nature of Problems</a:t>
            </a:r>
            <a:br>
              <a:rPr sz="36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roeconomic Environment/Financi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22096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termedi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-staffing and Over-bran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Custom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capit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ly Managed / Narrow Product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se to Lending to SMEs/Housing &amp; Other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ue Interference in Lending, Loan Recovery &amp;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533520"/>
            <a:ext cx="731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cy And Nature of Problem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Secto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152388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to Market Based Allocation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lization of Financi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ation of Government’s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Corporate Governance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ing of the Legal &amp; Regulator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to International Standards and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and Measured Policy &amp; Institution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ing in Resources &amp; Skills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lling Market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&amp; Judicial System R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orm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716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paration of Management and the Bo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t and Proper Test of Board Members &amp; Senior Management of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mit of 25% Representation on BOD by Majority Own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hibition on Concurrent Representation on BOD of Banks and Brokerage Ho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pendent Audit Committee of the Bo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04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comes &amp; Results: Financial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Strengthening Corporate Governance Practices and Internal Contr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Capit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Off-Site Monitoring-CA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ion of IAS and Other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Core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 Credit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Based Monetary &amp; Credi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comes &amp; Results: Financial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engthe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tory &amp; Supervisory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 Corrective 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lation of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Ownership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arring of Two Audit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ing Nominal Capital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Restrictions on Consumer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ctment of Enabling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Relief on Mort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in Corporate T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049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comes &amp;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engthe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tory &amp; Supervisory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71240" y="21333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Commercial Banks Already Privat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FI Liqui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Divestment (20%) in On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ector Share in Banking to Decline to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Sector Bo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lution of Non-performing Loan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ointment of Professional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ound Restructur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nalization of Staff / Bra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ening of Systems &amp; Internal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menting Capital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ersification &amp; New Produc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it Based Recruit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304920"/>
            <a:ext cx="6553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comes &amp;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Sector Banks -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6:58:42Z</dcterms:created>
  <dc:creator>IT</dc:creator>
  <dc:description/>
  <dc:language>en-US</dc:language>
  <cp:lastModifiedBy>khurshid anwar</cp:lastModifiedBy>
  <dcterms:modified xsi:type="dcterms:W3CDTF">2003-04-05T09:19:33Z</dcterms:modified>
  <cp:revision>62</cp:revision>
  <dc:subject/>
  <dc:title>PowerPoint Presentation</dc:title>
</cp:coreProperties>
</file>