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51A-B65D-40E8-8DA8-AE32E223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1B5-40D9-4C69-8BE1-48BEC17C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C120-71BC-4DAF-A3B0-093438C1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1D71-A31F-4DB9-A448-2C18D7D3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B386-2144-4086-B01E-E3A4A5F6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7775-C7DA-42E9-9F24-1DA09AA1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D20-CAAB-47E5-81EE-C8E17842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0DA-8399-4C4D-A0BF-60B38AC2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192-0DE3-4098-9C86-3778EB7E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B99-C177-4F8D-A0F0-14237C7B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F0FE-42EF-47C5-BD56-BA27969F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8977-01AA-452C-A8F2-8DE2C489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A8DA8721-FC52-455A-B3A8-A4FCE48AA569}" type="slidenum"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Lucida Sans Unicode"/>
              </a:rPr>
              <a:t>FINANCIAL SECTOR REF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arket based financial sector owned and managed mainly by the private sector but operating under a strong regulatory environ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reen_logo_0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0680" cy="76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E  BANK  OF  PAKIST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D785-3628-4A61-A423-AB7A25436F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Times New Roman"/>
              </a:rPr>
              <a:t>VII. Product Diversification and </a:t>
            </a:r>
            <a:r>
              <a:rPr b="1" i="1" lang="en-US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660066"/>
                </a:solidFill>
                <a:latin typeface="Times New Roman"/>
              </a:rPr>
              <a:t>Inno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mercial banks encouraged and facilitate to develop new products and services such as Mortgage financing, SME, Rural financial services, Consumer loans, Micro fin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lamic banking allowed to run parallel with conventional bank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380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Lucida Sans Unicode"/>
              </a:rPr>
              <a:t>FINANCIAL SECTOR REF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Green_logo_0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0680" cy="76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E  BANK  OF  PAKIST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93F-0DAF-4FA3-8ED5-7C28320A3E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1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Times New Roman"/>
              </a:rPr>
              <a:t>VIII. Increased Disclosure and  </a:t>
            </a:r>
            <a:r>
              <a:rPr b="1" i="1" lang="en-US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i="1" lang="en-US" sz="3400" spc="-1" strike="noStrike">
                <a:solidFill>
                  <a:srgbClr val="660066"/>
                </a:solidFill>
                <a:latin typeface="Times New Roman"/>
              </a:rPr>
              <a:t>Transparenc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Quarterly reporting and public dissemination of financial state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ndatory credit rating for all financial institutions and disclosure to publ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st of written-offs loans to be published along with the balance she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i-money laundering law being legisla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80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Lucida Sans Unicode"/>
              </a:rPr>
              <a:t>FINANCIAL SECTOR REF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Green_logo_0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0680" cy="76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E  BANK  OF  PAKIST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C8C1-308D-4650-8C58-E954B9E3CE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IX. Dealing with non-performing loans …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IRC set up to acquire non-performing loans and dispose them to third par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uidelines issued for bank boards to write off old irrecoverable loans in loss catego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Joint Creditor-borrower Committees in place to settle and restructure potentially but sick viable industrial uni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B acting forcefully against willful defaul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80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Lucida Sans Unicode"/>
              </a:rPr>
              <a:t>FINANCIAL SECTOR REF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Green_logo_0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0680" cy="76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E  BANK  OF  PAKIST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50CA-EF9A-497A-9494-EAE83E50C2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IX. Dealing with non-performing lo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lows of non-performing loans contained to less than 5 percent thus improving the quality of ass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visions against loan losses have been substantially enhanced and cover almost 60 percent of non-performing lo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ct criteria are enforced for classifying loans. Sock of Net NPL/Net advances ratio is down to 11 perc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380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Lucida Sans Unicode"/>
              </a:rPr>
              <a:t>FINANCIAL SECTOR REF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Green_logo_0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0680" cy="76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E  BANK  OF  PAKIST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F0C-180B-476E-BB73-FDE812326D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X. Strengthening Regulatory and Supervisory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gal and operational autonomy of SBP enshrined in constitu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CP made the sole regulator for non-bank finance compani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BP and SECP have developed management structure, technical expertise, technology and enforcement capacity compatible with international best practi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BP’s core central banking function of monetary policy, banking regulation and supervision, foreign exchange management separated from the retail and ancillar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80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Lucida Sans Unicode"/>
              </a:rPr>
              <a:t>FINANCIAL SECTOR REF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Green_logo_0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0680" cy="76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E  BANK  OF  PAKIST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DE58-8334-44EF-B1F6-482E4F0919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XI. Legal and Regulatory Infra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w and separate prudential regulations being introduced for Corporate, Consumer and SME lend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new foreclosure law for expeditions recovery of stuck up loans has been implem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nking Courts have been established for speedy disposal of ca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new corporate bankruptcy law is in the final stage of enact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nk branching policy has been liberalize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380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Lucida Sans Unicode"/>
              </a:rPr>
              <a:t>FINANCIAL SECTOR REF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Green_logo_0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0680" cy="76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E  BANK  OF  PAKIST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8716-93FC-485E-B9DB-E0A72C8DCE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Times New Roman"/>
              </a:rPr>
              <a:t>XII. Liberalization of foreign exchange reg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l current account transactions can be carried out without any prior approval or restri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ee floating exchange rate system determine the price of foreign currency vis-à-vis Rup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ial capital account convertibility achiev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eign exchange companies established to replace money chang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0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Lucida Sans Unicode"/>
              </a:rPr>
              <a:t>FINANCIAL SECTOR REF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Green_logo_0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0680" cy="76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E  BANK  OF  PAKIST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2C3-CB03-4B6A-923C-80D357054C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Lesson Learnt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(cont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ng term vision and road map have to be sketched out before reforms are initi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akes almost a decade of consistent, uninterrupted efforts to bring about sustainable re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nomy and competence of the regulators have to be ensured both in legal and substantive 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0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Lucida Sans Unicode"/>
              </a:rPr>
              <a:t>FINANCIAL SECTOR REF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Green_logo_0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0680" cy="76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E  BANK  OF  PAKIST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BE1-4CBB-474F-9511-C7AF27116C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Lesson Lear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tical will to take unpopular and tough decisions such as large scale retrenchment is sire qua non for 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professional management is required at all levels of decision making in financial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tional best experiences rather than ideological rhetoric are the best guide for bringing about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380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Lucida Sans Unicode"/>
              </a:rPr>
              <a:t>FINANCIAL SECTOR REF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Green_logo_0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0680" cy="76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E  BANK  OF  PAKIST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40A-CDC4-4B8F-85C5-B266315592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nsolidate the banking sector through mergers, acquisitions, liquidations so that a few but stronger banks provide full range of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ivatize nationalized commercial banks so that 80 percent of banking assets are in the private h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structure and strengthen non-banking finance companies and make them an integral part of financial services indus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uild institutional capacity of SBP and SECP in becoming effective regulators and supervisor of the financial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80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Lucida Sans Unicode"/>
              </a:rPr>
              <a:t>FINANCIAL SECTOR REF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reen_logo_0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0680" cy="76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E  BANK  OF  PAKIST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8447-358F-4D8B-A8D6-87BD8B4B4D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Times New Roman"/>
              </a:rPr>
              <a:t>I.</a:t>
            </a:r>
            <a:r>
              <a:rPr b="1" i="1" lang="en-US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660066"/>
                </a:solidFill>
                <a:latin typeface="Times New Roman"/>
              </a:rPr>
              <a:t>Restructuring and Privatization  of public sector financial instit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BL, MCB, AL-Falah Bank, ICP, mutual funds have been privatized, HBL, IDBP, NIT in the process of privatiz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jor improvements in transparency, governance, credit culture and efficiency of NCBs (reduction in staff, closure of branches, improved cost income ratio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osure, liquidation, mergers of Development finance Institutions have reduced the number to six from 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0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Lucida Sans Unicode"/>
              </a:rPr>
              <a:t>FINANCIAL SECTOR REF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Green_logo_0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0680" cy="76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E  BANK  OF  PAKIST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D5FF-BB07-4A4D-AA7A-EC5E561205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Times New Roman"/>
              </a:rPr>
              <a:t>II. Corporate Governance Ref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t and proper test for Board members and Chief Execu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liance with Code of Ethics and Business Pract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dependent Audit Committee of the Boar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ong Internal audit and contr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mitations on the family membership of Boar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flict of interest safegua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versight of the Board strengthen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nsparent procedure for selection of external auditors and quality control revie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80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Lucida Sans Unicode"/>
              </a:rPr>
              <a:t>FINANCIAL SECTOR REF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Green_logo_0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0680" cy="76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E  BANK  OF  PAKIST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8C6-7B39-4CFD-A2FC-5AD484931C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60066"/>
                </a:solidFill>
                <a:latin typeface="Times New Roman"/>
              </a:rPr>
              <a:t>II. Corporate Governance Reforms – Enfor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ense of a commercial bank cancelled – the first of its k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wnership and management changed in two b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rectors and bankers debarred from banking prof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large audit firms blackl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the composition of Boards of a few banks or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380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Lucida Sans Unicode"/>
              </a:rPr>
              <a:t>FINANCIAL SECTOR REF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Green_logo_0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0680" cy="76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E  BANK  OF  PAKIST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B7C-19D9-4BB9-86C9-092ED103F4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Times New Roman"/>
              </a:rPr>
              <a:t>III. Capital Adequa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nimum paid-up capital requirements raised to Rs 1 billion (about $ 17 millio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isk weighted capital adequacy ratio in excess of 8 percent for the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bordinated debt in form of Term Finance Certificate (TFCs) allowed as Tier-2 capi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80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Lucida Sans Unicode"/>
              </a:rPr>
              <a:t>FINANCIAL SECTOR REF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Green_logo_0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0680" cy="76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E  BANK  OF  PAKIST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4F1B-1359-4F65-A6C9-8A9ACA1D3F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Times New Roman"/>
              </a:rPr>
              <a:t>IV. Risk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ecurities and investments are marked to market continu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s allowed to raise funds through long term TFCs to match their long term assets e.g. for mortgage fina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 backed securitization has been all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currency derivatives such as Interest rate swaps under consid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 Information Bureau made on-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sector to set up CIBs for consumer loan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380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Lucida Sans Unicode"/>
              </a:rPr>
              <a:t>FINANCIAL SECTOR REF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_logo_0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0680" cy="76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E  BANK  OF  PAKIST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5239-7E56-43E4-8F77-55AF2F6D05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091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Times New Roman"/>
              </a:rPr>
              <a:t>V. Technology Upgra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al Time Gross Settlement (RTGS) under implementation to improve payment system infrastruc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-Clearing house and E-Commer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hared ATM networ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-line and automated branches by 200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Lucida Sans Unicode"/>
              </a:rPr>
              <a:t>FINANCIAL SECTOR REF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Green_logo_0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0680" cy="76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E  BANK  OF  PAKIST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1FB-58A1-4455-8CE5-8E3303CA2B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Times New Roman"/>
              </a:rPr>
              <a:t>VI. Deepening of Capital Mar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 year Pakistan Investment Bonds introduced as the benchmark for corporate bond issu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mercial paper allow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bt instruments of different tenors and structure are becoming avail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gnificant improvement in observance of internationally accepted standards and co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380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Lucida Sans Unicode"/>
              </a:rPr>
              <a:t>FINANCIAL SECTOR REF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Green_logo_0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0680" cy="76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E  BANK  OF  PAKIST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537-F562-4F7A-8579-09E0EE5256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9:07:55Z</dcterms:created>
  <dc:creator>Farrukh Moriani</dc:creator>
  <dc:description/>
  <dc:language>en-US</dc:language>
  <cp:lastModifiedBy>shazia parveen</cp:lastModifiedBy>
  <dcterms:modified xsi:type="dcterms:W3CDTF">2003-03-12T11:01:46Z</dcterms:modified>
  <cp:revision>37</cp:revision>
  <dc:subject/>
  <dc:title>FINANCIAL SECTOR REFORMS</dc:title>
</cp:coreProperties>
</file>