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60F-13F2-4121-A315-7E1AB07B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DD2-278D-47B1-88EA-A87F0C44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D2B-0DF6-4FCE-9B87-79EB10C4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3CE-5451-4CD1-BC04-48EBC15B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421-5C1D-411F-BF83-69A67E9B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54C-0230-4A18-BD67-9297C716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549-BA69-4596-A01B-C6A9A335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046-947D-485F-8CCC-86C7EFCE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E76-3811-4051-A7B6-08AA2F80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00F-579C-4B96-A2FC-876BAFA2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DFF-F7CB-44BA-8FA1-CE954AC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D35-77CB-4EB7-A263-1681F58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E3A7-87E9-474D-BBE4-F1444B623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ght of Payment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sight is a central bank function whereby the objectives of safety and efficiency are promoted by monitoring existing and planned systems, assessing them against these objectives, and where necessary, inducing desired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Calibri"/>
                <a:ea typeface="Arial"/>
              </a:rPr>
              <a:t>Mobile Ban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 for  a collaborative eff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le of non-bank especially mobile service providers (MSPs) well recogn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ch of MSPs is farther and wider than b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Ps compliment the banks as service provi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Ps permitted to act as business correspondents of b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 posi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74 banks approved to commence mobile banking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CI is operating Inter Bank Mobile Payment System which permit instantaneous interbank funds transfer using mob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ucial issue – interoper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Interbank Mobile Payment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bank Mobile Payment Service (IMPS) is an instant interbank electronic fund transfer service through mobile phones – launched in November, 201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S facilitates customers to use mobile instruments as a payment cha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er registered for the service could originate transaction using their mobile. Such transactions pass to the beneficiary bank through NPCI (Leverages on the National Financial Switch Platfor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-bank Settlement takes place next day in RTGS through C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dit risk to NPCI is addressed through exposure ceiling fo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6681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is to be supervised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cial Market Infrastructures (FMIs) operated by banks/non banks dealing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 sys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ing sys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cial instrument settlement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transfers and direct deb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 What ab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 cash means of payment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 bank market participants, and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ical innovations facilitating e-commer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ght Framework in Ind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8520" indent="0" algn="ctr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S &amp; S Act 2007 provides legal mandate for Oversigh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8520" indent="0" algn="ctr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8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0: Power to determine stand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8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1:  Notice of change in the Payment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to call for returns, documents or other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8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3: Access to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8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4: Power to enter and in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8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6: Power to carry out audit and insp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8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7: Power to issue dir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8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8: Power of Reserve Bank to give directions gener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8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9: Directions of RBI to be generally complied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8520" indent="0" algn="ctr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8520" indent="0" algn="ctr">
              <a:lnSpc>
                <a:spcPct val="80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9852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Oversight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fsite Surveill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mary role- CO  ( ROs at four metro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nual Self Assessment (Based on Core Principle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formation /Data  collected from regulated/authorised  ent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ata/Information collec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F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 being collected on: Cheques; ECS, and ATM.PoS,Mobile Banking; Pre-paid card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alisation of data colle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thers- Annual report, Audit reports, IS Audit repor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sessment Templat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798480" indent="-39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MI- based on CPSIPs; RSSS;RCC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798480" indent="-39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PS-CPs-I, II,V, VII, VIII, IX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le of DPSS Regional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Regional Offices at Met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ry out inspection of authorized ent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on cov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71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herence to polic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71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fl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71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ubmitted in self-assessment templ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ght of FM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ing Corporation of India (CCIL) : the only FMI in India  authorised under the PSS Act, 2007, to act as a central counterparty (CCP) in various market segments, such as Government securities, USD-INR forex and CB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sight of CCIL incl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 – legal, credit, liquid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CP/DR –operational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ss test – worst case scenari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Access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9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ets of access criteria - Centralized and decentralized payment syste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sed clearing systems – RTGS, NEFT, NE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98440" indent="-398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RAR=9%, Net NPA - 5%, Net-worth - Rs. 25 crore and Recommendation of regulatory depar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ntralized payment systems- MICR clearing and E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98440" indent="-398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RAR=9%, Net NPA-5% and Recommendation of regulatory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   depar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98480" indent="-39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G gives single window clearance for centralized payment system, includes approval for opening of current account, SGL account at Mumbai and INFINET memb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Financial Switch(NF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Switch to route ATM transactions in In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d by NP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9 Direct members and 46 indirect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ATMs 1041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Pay card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mestic card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FS infrastructure created would be lever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Calibri"/>
                <a:ea typeface="Arial"/>
              </a:rPr>
              <a:t>Mobile Ban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olicy consideration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ank led model vis-à-vis non-bank mod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dia have gone with bank led mod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hy did RBI go in for a bank-led mode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bile banking driver of financial inclus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cope of financial inclusion is beyond remittance (four basic service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ings, credit, remittance and insuranc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YC/AML- regulatory comfort with ban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stomer service issu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logo"/>
          <p:cNvPicPr/>
          <p:nvPr/>
        </p:nvPicPr>
        <p:blipFill>
          <a:blip r:embed="rId1"/>
          <a:stretch/>
        </p:blipFill>
        <p:spPr>
          <a:xfrm>
            <a:off x="0" y="0"/>
            <a:ext cx="90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5:46:53Z</dcterms:created>
  <dc:creator>Administrator</dc:creator>
  <dc:description/>
  <dc:language>en-US</dc:language>
  <cp:lastModifiedBy>OWNER</cp:lastModifiedBy>
  <dcterms:modified xsi:type="dcterms:W3CDTF">2012-11-16T09:18:47Z</dcterms:modified>
  <cp:revision>32</cp:revision>
  <dc:subject/>
  <dc:title>Oversight Framework in India</dc:title>
</cp:coreProperties>
</file>