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C7D-7585-4F86-B173-BABDA72CD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4A56-D9BF-42A5-8504-7F50F741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83A-D510-4B45-A4CF-0AA616E7FA3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3DE-3804-467E-B038-AFBB1116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32A-4A9B-4006-B534-FB93EA6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77C-8171-4BC7-84E9-06C83B6C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95F-CB75-4715-832F-FB8A9C85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589-F6C0-41AD-AB06-5C024D07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E9A-759C-4D25-9863-4677771C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F87-7B70-4E67-BE24-3F02288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47B-B30B-48A8-B981-CD97E091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B3C-AC9E-47AB-B76E-36E075CB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5CF-455C-4252-95EB-B934AE0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7E8-F2A9-467E-93EE-CF822C4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BF9-5883-4328-BCE0-742053F5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819-0BD6-45BD-9F6E-BFF8D805A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B4F5-A816-43E9-B014-E18ED69B7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86040"/>
            <a:ext cx="9144000" cy="1938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ments in India</a:t>
            </a:r>
            <a:br>
              <a:rPr sz="3200"/>
            </a:br>
            <a:br>
              <a:rPr sz="25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SAARC Payments Council Meeting</a:t>
            </a: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arch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0" y="5657760"/>
            <a:ext cx="4000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onstantia"/>
              </a:rPr>
              <a:t>3</a:t>
            </a:r>
            <a:r>
              <a:rPr b="1" lang="en-US" sz="1800" spc="-1" strike="noStrike" baseline="30000">
                <a:solidFill>
                  <a:srgbClr val="c0504d"/>
                </a:solidFill>
                <a:latin typeface="Constantia"/>
              </a:rPr>
              <a:t>rd</a:t>
            </a:r>
            <a:r>
              <a:rPr b="1" lang="en-US" sz="1800" spc="-1" strike="noStrike">
                <a:solidFill>
                  <a:srgbClr val="c0504d"/>
                </a:solidFill>
                <a:latin typeface="Constantia"/>
              </a:rPr>
              <a:t> March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RBI Golden logo prof.jpg"/>
          <p:cNvPicPr/>
          <p:nvPr/>
        </p:nvPicPr>
        <p:blipFill>
          <a:blip r:embed="rId1"/>
          <a:stretch/>
        </p:blipFill>
        <p:spPr>
          <a:xfrm>
            <a:off x="3857760" y="50004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RBI hindi Eng.png"/>
          <p:cNvPicPr/>
          <p:nvPr/>
        </p:nvPicPr>
        <p:blipFill>
          <a:blip r:embed="rId2"/>
          <a:stretch/>
        </p:blipFill>
        <p:spPr>
          <a:xfrm>
            <a:off x="2786040" y="1571760"/>
            <a:ext cx="318312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13413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DS –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stitutional mechanism for facilitating the financing of trade receivables of MSMEs from corporate buy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ient features of TRe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lls of exchange of MSMEs for acceptance by the buy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tion of corporate and other buyers viz., Government department and P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Other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sight of Payment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f-assessment template based on the CPSS-IOSCO Principles for FMIs has been introduced for all retail payment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tional seminar November 2014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key takea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for remittances/ financial inclusion need to be developed focusing: (i) safety; (ii) transparency and consumer protection; (iii) infrastructure; (iv) legal and regulatory environment; (v) governance and risk management and (vi) role of remittance service providers and public author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Cs for moving towards less cash, the 3 Cs i.e. Cost, Convenience and Confid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Other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2786040"/>
            <a:ext cx="9144000" cy="1938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  <a:ea typeface="Arial"/>
              </a:rPr>
              <a:t>Major Developments since last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  <a:ea typeface="Arial"/>
              </a:rPr>
              <a:t>Retail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Market Infra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  <a:ea typeface="Arial"/>
              </a:rPr>
              <a:t>Legal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  <a:ea typeface="Arial"/>
              </a:rPr>
              <a:t>Global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  <a:ea typeface="Arial"/>
              </a:rPr>
              <a:t>Indian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  <a:ea typeface="Arial"/>
              </a:rPr>
              <a:t>Other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B0DD-56C2-4D0F-AFF3-BF4CD37DD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1189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il payme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per based cle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6 MICR CPCs - covered under the three CTS gri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99 small clearing houses (ECCS) operating in the country – plan to subsume in 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nalisation of ATM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ATM transa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other banks’ ATMs reduced to 3 per month at six metr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wn bank ATMs five free transactions. The ceiling / cap on customer charges of Rs.20/- per transaction contin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ks can put in own policies for free transactions beyond prescrib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  <a:ea typeface="Arial"/>
              </a:rPr>
              <a:t>Major Developments since las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ail payment systems…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te label AT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nce of international credit/debit/prepaid cards now permit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Currency Conversion (DCC) permit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nking of cash supply from sponsor bank; now cash can be sourced from multiple b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paid Payment Instru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 of Semi-closed PPIs with full KYC enhanced to Rs. 1,00,000/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nks permitted to issue open system multiple PPI through KYC compliant accounts to family members and depend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nks can issue: another category of open system rupee denominated non-reloadable PPI to visiting NRIs and foreign nationals for for amounts upto Rs.200,00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  <a:ea typeface="Arial"/>
              </a:rPr>
              <a:t>Major Developments since las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ail payment systems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t Money Transf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tes non-bank customer to receive and withdraw money from ATM and B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B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ions for seamless customer enrolment for mobile banking services through multiple channels, viz. ATMs, internet banking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CI to set up a common platform for mobile banking registration on the N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an Banks Association (IBA) and NPCI to campaign for NU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st practices for handling customer griev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  <a:ea typeface="Arial"/>
              </a:rPr>
              <a:t>Major Developments since las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Market Infra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 Time Gross Settlement System (RTG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new features introduced since July 2014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Future value dated transactions  - Customers/ participants can initiate transaction 3 days in adva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Hybrid settlement – Off setting of transaction in every 5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earing Corporation of India Limited (CCI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P Clearing in OTC Products – Mandatory CCP Clearing in forex forward seg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est Rate Swaps (IRS) - Commenced CCP Guaranteed sett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al Entity Identifier (LEI) services – CCIL launched LOU for LEI serv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  <a:ea typeface="Arial"/>
              </a:rPr>
              <a:t>Major Developments since las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1494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ing for insolvency of the C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ction of funds in escr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inging the Trade Repository and Local Operating Unit under the purview of PSS 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Legal Amend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13413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OTC trades to CCP / central cle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egation of data – Trade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que identification globally – L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an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C : Mandatory CCP clearing for forex forwards; IRS to be review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 Repository: for RBI regulated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Operating Unit for LEI setup – endorsement by ROC 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Global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8600" y="1494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harat Bill Payment System (BB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n-India bill pay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ers interoperable and accessible bill payment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a network of agents under a single b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payment modes, and provides instant confirmation of pa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 Payments Corporation of India (NPC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ll function as authorized Bharat Bill Payment Central Unit (BBPCU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BPCU will set technical/ operational/business standards for BBPS processes and also facilitate clearing and settlement activities related to the BB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BPOUs will on-board merchants and /or facilitate payment aggreg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ffffff"/>
                </a:solidFill>
                <a:latin typeface="Arial"/>
                <a:ea typeface="Arial"/>
              </a:rPr>
              <a:t>Other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RBI Golden logo prof.jpg"/>
          <p:cNvPicPr/>
          <p:nvPr/>
        </p:nvPicPr>
        <p:blipFill>
          <a:blip r:embed="rId1"/>
          <a:stretch/>
        </p:blipFill>
        <p:spPr>
          <a:xfrm>
            <a:off x="0" y="4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05:45:24Z</dcterms:created>
  <dc:creator>Garde, Alka</dc:creator>
  <dc:description/>
  <dc:language>en-US</dc:language>
  <cp:lastModifiedBy>arshad8828</cp:lastModifiedBy>
  <dcterms:modified xsi:type="dcterms:W3CDTF">2015-02-23T09:17:18Z</dcterms:modified>
  <cp:revision>110</cp:revision>
  <dc:subject/>
  <dc:title>SAARC FINANCE CONFERENCE</dc:title>
</cp:coreProperties>
</file>