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CC29-D601-4BA3-A519-D9A692E3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C41A-EAB0-4FBC-BBE0-1CD7422A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C78-4172-42AB-BC69-7A8161FE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BD7-634D-4C96-9928-7DD6724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639-3D1C-449D-8087-F4B34259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6BA-38AD-4F35-9798-92C9CF44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108-EF6F-4FDE-90AE-02B3CED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EE0-A109-4923-BF3C-63E5A3F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403-CA17-40E6-B33F-50C4BA9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FC2-D188-42F5-A96C-E4AAA34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30E-F7C5-4380-B603-8CD5EBF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0CD-E97D-4D79-905C-644D7A3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FE9-8E4F-4EBF-ABF5-D404C6A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C0E-A513-43A3-AAD1-FE8758D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F55A-CFAB-4B23-A427-7E2AD0FE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181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AARC Payments Council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Kovalam, I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 December,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0" y="12952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  <a:ea typeface="SimSun"/>
              </a:rPr>
              <a:t>Recent Payment &amp; Settlement System Development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  <a:ea typeface="SimSun"/>
              </a:rPr>
              <a:t>in Sri Lank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in pip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Bank Computer Security Incident Response Team (Bank-csirt) is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hase of Common card and Payment Switch is being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E94-E84C-4877-9617-62059020A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88A9-363C-415B-9809-2A6FF287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1360" y="13712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BSL 01"/>
          <p:cNvPicPr/>
          <p:nvPr/>
        </p:nvPicPr>
        <p:blipFill>
          <a:blip r:embed="rId1"/>
          <a:stretch/>
        </p:blipFill>
        <p:spPr>
          <a:xfrm>
            <a:off x="250920" y="914400"/>
            <a:ext cx="432108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57200" y="4800600"/>
            <a:ext cx="3886200" cy="533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ntral Bank of Sri Lan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ational Payment &amp; Settlement System of Sri L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9B59-7665-4DA7-943C-2BC52470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s in RTGS System in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5" descr=""/>
          <p:cNvPicPr/>
          <p:nvPr/>
        </p:nvPicPr>
        <p:blipFill>
          <a:blip r:embed="rId1"/>
          <a:stretch/>
        </p:blipFill>
        <p:spPr>
          <a:xfrm>
            <a:off x="438120" y="1579680"/>
            <a:ext cx="8267760" cy="456552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937-4CBE-40EC-A669-41565FDE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que Imaging and Trun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55160" cy="455904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A006-88A1-42FC-BC3A-470C4FCC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Sri Lanka Interbank Pay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"/>
          <p:cNvPicPr/>
          <p:nvPr/>
        </p:nvPicPr>
        <p:blipFill>
          <a:blip r:embed="rId1"/>
          <a:stretch/>
        </p:blipFill>
        <p:spPr>
          <a:xfrm>
            <a:off x="396720" y="1596960"/>
            <a:ext cx="8309160" cy="453564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E52-02BD-47A6-9017-0686FC79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based payment mechanism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"/>
          <p:cNvPicPr/>
          <p:nvPr/>
        </p:nvPicPr>
        <p:blipFill>
          <a:blip r:embed="rId1"/>
          <a:stretch/>
        </p:blipFill>
        <p:spPr>
          <a:xfrm>
            <a:off x="341280" y="1584360"/>
            <a:ext cx="8285040" cy="454824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B76F-3644-4A8F-BC93-9859FDD8E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Regulating the Common ATM Swi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600"/>
            <a:ext cx="8183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rections were issued in 2013 with respect to the Common ATM Switch, nam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 algn="just">
              <a:spcBef>
                <a:spcPts val="45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irection No. 01 of 2013 – Operations of the Common ATM Switch -  was issued to impose certain prudential and obligatory requirements to the operator  as well as member banks of 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 algn="just">
              <a:spcBef>
                <a:spcPts val="45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irection No. 02 of 2013 –Fees Chargeable on the Transactions effected through the Common ATM Switch - issued to impose  upper limits for the fees that can be charged from customers by card issuers and interchange fee that can be charged from card  issuers by financial acquir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Revision of the Regulation on Payment Cards and Mobile Pa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600"/>
            <a:ext cx="8183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gulation on payment cards and mobile payment systems was revis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rder 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line the licens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regulatory powers relating to enforcing the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eligibility criteria to apply for a li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the classification of businesses relating to payment cards and mobile payment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guidelines are being revised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trengthening the Regulator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183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guidelines are being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anking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for Mobile Point-of-S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8:04:41Z</dcterms:created>
  <dc:creator>QandE</dc:creator>
  <dc:description/>
  <dc:language>en-US</dc:language>
  <cp:lastModifiedBy>arshad8828</cp:lastModifiedBy>
  <cp:lastPrinted>2009-07-30T10:33:36Z</cp:lastPrinted>
  <dcterms:modified xsi:type="dcterms:W3CDTF">2015-10-01T07:55:26Z</dcterms:modified>
  <cp:revision>3512</cp:revision>
  <dc:subject/>
  <dc:title>Slide 1</dc:title>
</cp:coreProperties>
</file>