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DA90-99B4-4904-AC0A-3BB0A44E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B14-255E-49AC-9EBC-6AD8870C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4852-52E3-4DB5-BE65-C02F413B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4A9-2BC3-4218-BEA1-D02D52E7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E4D-2476-4555-9AAB-34CD0C59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AD1E-F4ED-4E6B-8613-BE0682DD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CD69-299B-40CE-9F7E-9C5EA695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3C0-9DC2-4644-9409-890CA378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4D7E-1166-4B7F-97E6-4EE9D685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E1F9-1A8A-4CA5-9CCF-D3876FEA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355-4AA2-4671-9548-82ADF530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374-EA50-4DB7-B5B1-22BC9B82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3F50-F9EE-4EE6-844D-AC84257F6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 Afghanistan Ban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Central Bank of Afghanista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62520" y="50288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ww.centralbank.gov.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505320" y="685800"/>
            <a:ext cx="182880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e Pay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rational in 32 provinces out of 3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thly 6770 government employees are pa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imum 15,000 AFN per transa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 transaction per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ent Updates on Payments and Settlement Syste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819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SPC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cember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volam, In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 on Swit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bile Utility Bills Pay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bile payments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ational Card and Mobile Payment Switch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, local and intern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act Signed between DAB and BPC of Netherland on 18 August 2013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tract include supply and installation cos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ational Card and Mobile Payment Switch Projec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t….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and maintenance contract for 3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iguration and Customization – November 2013 to January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, Installation and Training – February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e Utility Bill Pay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BPS is an SMS based billing program that replaces the paper billing model utilized by DABS, and Customers have four following convenient and timely options for paying their bill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Hawala walle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h at Pashtany Ban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e Utility Bill Pay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 Cash at an MNO flagship store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) mHawala ag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y Service Provi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horized Hawala dealers 1169 of which 232 are in capital and 937 in 32 provi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censed money exchangers are 1242 of which 342 in Kabul and 900 in provin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8T15:23:20Z</dcterms:created>
  <dc:creator>Business Center</dc:creator>
  <dc:description/>
  <dc:language>en-US</dc:language>
  <cp:lastModifiedBy>arshad8828</cp:lastModifiedBy>
  <dcterms:modified xsi:type="dcterms:W3CDTF">2015-10-01T07:53:56Z</dcterms:modified>
  <cp:revision>65</cp:revision>
  <dc:subject/>
  <dc:title>Da Afghanistan Bank</dc:title>
</cp:coreProperties>
</file>